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7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28520" y="273600"/>
            <a:ext cx="8228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1604520"/>
            <a:ext cx="8228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8520" y="3682080"/>
            <a:ext cx="8228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28520" y="273600"/>
            <a:ext cx="8228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520" y="1604520"/>
            <a:ext cx="4015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5200" y="1604520"/>
            <a:ext cx="4015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520" y="3682080"/>
            <a:ext cx="4015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45200" y="3682080"/>
            <a:ext cx="4015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28520" y="273600"/>
            <a:ext cx="8228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96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934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852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96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934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28520" y="273600"/>
            <a:ext cx="8228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8520" y="1604520"/>
            <a:ext cx="8228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28520" y="273600"/>
            <a:ext cx="8228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8520" y="1604520"/>
            <a:ext cx="8228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8520" y="273600"/>
            <a:ext cx="8228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8520" y="1604520"/>
            <a:ext cx="4015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45200" y="1604520"/>
            <a:ext cx="4015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28520" y="273600"/>
            <a:ext cx="8228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28520" y="273600"/>
            <a:ext cx="8228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8520" y="273600"/>
            <a:ext cx="8228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520" y="1604520"/>
            <a:ext cx="4015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5200" y="1604520"/>
            <a:ext cx="4015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8520" y="3682080"/>
            <a:ext cx="4015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28520" y="273600"/>
            <a:ext cx="8228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8520" y="1604520"/>
            <a:ext cx="4015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5200" y="1604520"/>
            <a:ext cx="4015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45200" y="3682080"/>
            <a:ext cx="4015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28520" y="273600"/>
            <a:ext cx="8228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8520" y="1604520"/>
            <a:ext cx="4015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5200" y="1604520"/>
            <a:ext cx="4015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8520" y="3682080"/>
            <a:ext cx="8228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0080" y="1438200"/>
            <a:ext cx="7988400" cy="475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480" y="314280"/>
            <a:ext cx="9823320" cy="6305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9821880" y="6588000"/>
            <a:ext cx="4111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43080">
              <a:lnSpc>
                <a:spcPct val="90000"/>
              </a:lnSpc>
              <a:spcBef>
                <a:spcPts val="720"/>
              </a:spcBef>
            </a:pPr>
            <a:fld id="{0D835379-0F3D-4098-A043-84A8FF7B6895}" type="slidenum"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122400" y="6630840"/>
            <a:ext cx="1020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43080">
              <a:lnSpc>
                <a:spcPct val="90000"/>
              </a:lnSpc>
              <a:spcBef>
                <a:spcPts val="720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. Zalew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7280280" y="6607080"/>
            <a:ext cx="26100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9960" indent="-343080">
              <a:lnSpc>
                <a:spcPct val="90000"/>
              </a:lnSpc>
              <a:spcBef>
                <a:spcPts val="720"/>
              </a:spcBef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4 DECUS Sympo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77920" y="372960"/>
            <a:ext cx="1714680" cy="1428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149560" y="352440"/>
            <a:ext cx="689616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73240" y="215280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95520" y="2163600"/>
            <a:ext cx="70102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