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0560" y="139320"/>
            <a:ext cx="778356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50920" y="3500280"/>
            <a:ext cx="8640720" cy="3095640"/>
            <a:chOff x="250920" y="3500280"/>
            <a:chExt cx="8640720" cy="3095640"/>
          </a:xfrm>
        </p:grpSpPr>
        <p:sp>
          <p:nvSpPr>
            <p:cNvPr id="1" name=""/>
            <p:cNvSpPr/>
            <p:nvPr/>
          </p:nvSpPr>
          <p:spPr>
            <a:xfrm>
              <a:off x="250920" y="6164280"/>
              <a:ext cx="8640720" cy="431640"/>
            </a:xfrm>
            <a:prstGeom prst="roundRect">
              <a:avLst>
                <a:gd name="adj" fmla="val 1654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35f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556000" y="6307200"/>
              <a:ext cx="4020840" cy="246960"/>
              <a:chOff x="2556000" y="6307200"/>
              <a:chExt cx="4020840" cy="246960"/>
            </a:xfrm>
          </p:grpSpPr>
          <p:sp>
            <p:nvSpPr>
              <p:cNvPr id="3" name=""/>
              <p:cNvSpPr/>
              <p:nvPr/>
            </p:nvSpPr>
            <p:spPr>
              <a:xfrm>
                <a:off x="2556000" y="6307200"/>
                <a:ext cx="4020840" cy="244440"/>
              </a:xfrm>
              <a:prstGeom prst="roundRect">
                <a:avLst>
                  <a:gd name="adj" fmla="val 64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556720" y="6307200"/>
                <a:ext cx="3705120" cy="246960"/>
              </a:xfrm>
              <a:prstGeom prst="roundRect">
                <a:avLst>
                  <a:gd name="adj" fmla="val 64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808080"/>
                    </a:solidFill>
                    <a:latin typeface="Times New Roman"/>
                  </a:rPr>
                  <a:t>© 2003 </a:t>
                </a:r>
                <a:r>
                  <a:rPr b="1" lang="en-GB" sz="1000" spc="-1" strike="noStrike">
                    <a:solidFill>
                      <a:srgbClr val="808080"/>
                    </a:solidFill>
                    <a:latin typeface="Times New Roman"/>
                  </a:rPr>
                  <a:t>Peppercon AG</a:t>
                </a:r>
                <a:r>
                  <a:rPr b="0" lang="en-GB" sz="1000" spc="-1" strike="noStrike">
                    <a:solidFill>
                      <a:srgbClr val="808080"/>
                    </a:solidFill>
                    <a:latin typeface="Times New Roman"/>
                  </a:rPr>
                  <a:t> Zwickau/Germany – Keep Systems Runn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8386920" y="3500280"/>
              <a:ext cx="501480" cy="2697120"/>
              <a:chOff x="8386920" y="3500280"/>
              <a:chExt cx="501480" cy="2697120"/>
            </a:xfrm>
          </p:grpSpPr>
          <p:sp>
            <p:nvSpPr>
              <p:cNvPr id="6" name=""/>
              <p:cNvSpPr/>
              <p:nvPr/>
            </p:nvSpPr>
            <p:spPr>
              <a:xfrm>
                <a:off x="8386920" y="5964480"/>
                <a:ext cx="501480" cy="232920"/>
              </a:xfrm>
              <a:custGeom>
                <a:avLst/>
                <a:gdLst/>
                <a:ahLst/>
                <a:rect l="l" t="t" r="r" b="b"/>
                <a:pathLst>
                  <a:path w="1399" h="648">
                    <a:moveTo>
                      <a:pt x="177" y="523"/>
                    </a:moveTo>
                    <a:lnTo>
                      <a:pt x="177" y="248"/>
                    </a:lnTo>
                    <a:lnTo>
                      <a:pt x="191" y="237"/>
                    </a:lnTo>
                    <a:lnTo>
                      <a:pt x="206" y="201"/>
                    </a:lnTo>
                    <a:lnTo>
                      <a:pt x="206" y="191"/>
                    </a:lnTo>
                    <a:lnTo>
                      <a:pt x="280" y="144"/>
                    </a:lnTo>
                    <a:lnTo>
                      <a:pt x="309" y="134"/>
                    </a:lnTo>
                    <a:lnTo>
                      <a:pt x="353" y="124"/>
                    </a:lnTo>
                    <a:lnTo>
                      <a:pt x="473" y="124"/>
                    </a:lnTo>
                    <a:lnTo>
                      <a:pt x="487" y="134"/>
                    </a:lnTo>
                    <a:lnTo>
                      <a:pt x="516" y="144"/>
                    </a:lnTo>
                    <a:lnTo>
                      <a:pt x="529" y="144"/>
                    </a:lnTo>
                    <a:lnTo>
                      <a:pt x="604" y="191"/>
                    </a:lnTo>
                    <a:lnTo>
                      <a:pt x="604" y="201"/>
                    </a:lnTo>
                    <a:lnTo>
                      <a:pt x="618" y="237"/>
                    </a:lnTo>
                    <a:lnTo>
                      <a:pt x="633" y="248"/>
                    </a:lnTo>
                    <a:lnTo>
                      <a:pt x="633" y="523"/>
                    </a:lnTo>
                    <a:lnTo>
                      <a:pt x="177" y="523"/>
                    </a:lnTo>
                    <a:lnTo>
                      <a:pt x="177" y="523"/>
                    </a:lnTo>
                    <a:close/>
                    <a:moveTo>
                      <a:pt x="0" y="637"/>
                    </a:moveTo>
                    <a:lnTo>
                      <a:pt x="0" y="219"/>
                    </a:lnTo>
                    <a:lnTo>
                      <a:pt x="14" y="172"/>
                    </a:lnTo>
                    <a:lnTo>
                      <a:pt x="29" y="162"/>
                    </a:lnTo>
                    <a:lnTo>
                      <a:pt x="72" y="106"/>
                    </a:lnTo>
                    <a:lnTo>
                      <a:pt x="72" y="95"/>
                    </a:lnTo>
                    <a:lnTo>
                      <a:pt x="149" y="48"/>
                    </a:lnTo>
                    <a:lnTo>
                      <a:pt x="191" y="29"/>
                    </a:lnTo>
                    <a:lnTo>
                      <a:pt x="220" y="19"/>
                    </a:lnTo>
                    <a:lnTo>
                      <a:pt x="324" y="0"/>
                    </a:lnTo>
                    <a:lnTo>
                      <a:pt x="502" y="0"/>
                    </a:lnTo>
                    <a:lnTo>
                      <a:pt x="618" y="29"/>
                    </a:lnTo>
                    <a:lnTo>
                      <a:pt x="662" y="48"/>
                    </a:lnTo>
                    <a:lnTo>
                      <a:pt x="736" y="95"/>
                    </a:lnTo>
                    <a:lnTo>
                      <a:pt x="765" y="124"/>
                    </a:lnTo>
                    <a:lnTo>
                      <a:pt x="780" y="144"/>
                    </a:lnTo>
                    <a:lnTo>
                      <a:pt x="808" y="201"/>
                    </a:lnTo>
                    <a:lnTo>
                      <a:pt x="808" y="523"/>
                    </a:lnTo>
                    <a:lnTo>
                      <a:pt x="1384" y="523"/>
                    </a:lnTo>
                    <a:lnTo>
                      <a:pt x="1398" y="532"/>
                    </a:lnTo>
                    <a:lnTo>
                      <a:pt x="1398" y="637"/>
                    </a:lnTo>
                    <a:lnTo>
                      <a:pt x="1384" y="647"/>
                    </a:lnTo>
                    <a:lnTo>
                      <a:pt x="14" y="647"/>
                    </a:lnTo>
                    <a:lnTo>
                      <a:pt x="0" y="637"/>
                    </a:lnTo>
                    <a:lnTo>
                      <a:pt x="0" y="637"/>
                    </a:lnTo>
                    <a:close/>
                  </a:path>
                </a:pathLst>
              </a:custGeom>
              <a:solidFill>
                <a:srgbClr val="e35f55">
                  <a:alpha val="8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386920" y="5670720"/>
                <a:ext cx="501480" cy="232920"/>
              </a:xfrm>
              <a:custGeom>
                <a:avLst/>
                <a:gdLst/>
                <a:ahLst/>
                <a:rect l="l" t="t" r="r" b="b"/>
                <a:pathLst>
                  <a:path w="1399" h="648">
                    <a:moveTo>
                      <a:pt x="0" y="637"/>
                    </a:moveTo>
                    <a:lnTo>
                      <a:pt x="0" y="30"/>
                    </a:lnTo>
                    <a:lnTo>
                      <a:pt x="14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77" y="524"/>
                    </a:lnTo>
                    <a:lnTo>
                      <a:pt x="590" y="524"/>
                    </a:lnTo>
                    <a:lnTo>
                      <a:pt x="590" y="49"/>
                    </a:lnTo>
                    <a:lnTo>
                      <a:pt x="604" y="38"/>
                    </a:lnTo>
                    <a:lnTo>
                      <a:pt x="751" y="38"/>
                    </a:lnTo>
                    <a:lnTo>
                      <a:pt x="765" y="49"/>
                    </a:lnTo>
                    <a:lnTo>
                      <a:pt x="765" y="524"/>
                    </a:lnTo>
                    <a:lnTo>
                      <a:pt x="1219" y="524"/>
                    </a:lnTo>
                    <a:lnTo>
                      <a:pt x="1219" y="11"/>
                    </a:lnTo>
                    <a:lnTo>
                      <a:pt x="1234" y="0"/>
                    </a:lnTo>
                    <a:lnTo>
                      <a:pt x="1384" y="0"/>
                    </a:lnTo>
                    <a:lnTo>
                      <a:pt x="1398" y="11"/>
                    </a:lnTo>
                    <a:lnTo>
                      <a:pt x="1398" y="637"/>
                    </a:lnTo>
                    <a:lnTo>
                      <a:pt x="1384" y="647"/>
                    </a:lnTo>
                    <a:lnTo>
                      <a:pt x="14" y="647"/>
                    </a:lnTo>
                    <a:lnTo>
                      <a:pt x="0" y="637"/>
                    </a:lnTo>
                  </a:path>
                </a:pathLst>
              </a:custGeom>
              <a:solidFill>
                <a:srgbClr val="e35f55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386920" y="5377320"/>
                <a:ext cx="501480" cy="232920"/>
              </a:xfrm>
              <a:custGeom>
                <a:avLst/>
                <a:gdLst/>
                <a:ahLst/>
                <a:rect l="l" t="t" r="r" b="b"/>
                <a:pathLst>
                  <a:path w="1399" h="649">
                    <a:moveTo>
                      <a:pt x="177" y="525"/>
                    </a:moveTo>
                    <a:lnTo>
                      <a:pt x="177" y="249"/>
                    </a:lnTo>
                    <a:lnTo>
                      <a:pt x="191" y="239"/>
                    </a:lnTo>
                    <a:lnTo>
                      <a:pt x="206" y="201"/>
                    </a:lnTo>
                    <a:lnTo>
                      <a:pt x="206" y="191"/>
                    </a:lnTo>
                    <a:lnTo>
                      <a:pt x="280" y="144"/>
                    </a:lnTo>
                    <a:lnTo>
                      <a:pt x="309" y="134"/>
                    </a:lnTo>
                    <a:lnTo>
                      <a:pt x="353" y="124"/>
                    </a:lnTo>
                    <a:lnTo>
                      <a:pt x="473" y="124"/>
                    </a:lnTo>
                    <a:lnTo>
                      <a:pt x="487" y="134"/>
                    </a:lnTo>
                    <a:lnTo>
                      <a:pt x="516" y="144"/>
                    </a:lnTo>
                    <a:lnTo>
                      <a:pt x="529" y="144"/>
                    </a:lnTo>
                    <a:lnTo>
                      <a:pt x="604" y="191"/>
                    </a:lnTo>
                    <a:lnTo>
                      <a:pt x="604" y="201"/>
                    </a:lnTo>
                    <a:lnTo>
                      <a:pt x="618" y="239"/>
                    </a:lnTo>
                    <a:lnTo>
                      <a:pt x="633" y="249"/>
                    </a:lnTo>
                    <a:lnTo>
                      <a:pt x="633" y="525"/>
                    </a:lnTo>
                    <a:lnTo>
                      <a:pt x="177" y="525"/>
                    </a:lnTo>
                    <a:lnTo>
                      <a:pt x="177" y="525"/>
                    </a:lnTo>
                    <a:close/>
                    <a:moveTo>
                      <a:pt x="0" y="639"/>
                    </a:moveTo>
                    <a:lnTo>
                      <a:pt x="0" y="220"/>
                    </a:lnTo>
                    <a:lnTo>
                      <a:pt x="14" y="173"/>
                    </a:lnTo>
                    <a:lnTo>
                      <a:pt x="29" y="16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149" y="49"/>
                    </a:lnTo>
                    <a:lnTo>
                      <a:pt x="191" y="29"/>
                    </a:lnTo>
                    <a:lnTo>
                      <a:pt x="220" y="20"/>
                    </a:lnTo>
                    <a:lnTo>
                      <a:pt x="324" y="0"/>
                    </a:lnTo>
                    <a:lnTo>
                      <a:pt x="502" y="0"/>
                    </a:lnTo>
                    <a:lnTo>
                      <a:pt x="618" y="29"/>
                    </a:lnTo>
                    <a:lnTo>
                      <a:pt x="662" y="49"/>
                    </a:lnTo>
                    <a:lnTo>
                      <a:pt x="736" y="96"/>
                    </a:lnTo>
                    <a:lnTo>
                      <a:pt x="765" y="124"/>
                    </a:lnTo>
                    <a:lnTo>
                      <a:pt x="780" y="144"/>
                    </a:lnTo>
                    <a:lnTo>
                      <a:pt x="808" y="201"/>
                    </a:lnTo>
                    <a:lnTo>
                      <a:pt x="808" y="525"/>
                    </a:lnTo>
                    <a:lnTo>
                      <a:pt x="1384" y="525"/>
                    </a:lnTo>
                    <a:lnTo>
                      <a:pt x="1398" y="535"/>
                    </a:lnTo>
                    <a:lnTo>
                      <a:pt x="1398" y="639"/>
                    </a:lnTo>
                    <a:lnTo>
                      <a:pt x="1384" y="648"/>
                    </a:lnTo>
                    <a:lnTo>
                      <a:pt x="14" y="648"/>
                    </a:lnTo>
                    <a:lnTo>
                      <a:pt x="0" y="639"/>
                    </a:lnTo>
                    <a:lnTo>
                      <a:pt x="0" y="639"/>
                    </a:lnTo>
                    <a:close/>
                  </a:path>
                </a:pathLst>
              </a:custGeom>
              <a:solidFill>
                <a:srgbClr val="e35f55">
                  <a:alpha val="8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86920" y="5083560"/>
                <a:ext cx="501480" cy="233280"/>
              </a:xfrm>
              <a:custGeom>
                <a:avLst/>
                <a:gdLst/>
                <a:ahLst/>
                <a:rect l="l" t="t" r="r" b="b"/>
                <a:pathLst>
                  <a:path w="1399" h="648">
                    <a:moveTo>
                      <a:pt x="177" y="523"/>
                    </a:moveTo>
                    <a:lnTo>
                      <a:pt x="177" y="247"/>
                    </a:lnTo>
                    <a:lnTo>
                      <a:pt x="191" y="238"/>
                    </a:lnTo>
                    <a:lnTo>
                      <a:pt x="206" y="200"/>
                    </a:lnTo>
                    <a:lnTo>
                      <a:pt x="206" y="191"/>
                    </a:lnTo>
                    <a:lnTo>
                      <a:pt x="280" y="143"/>
                    </a:lnTo>
                    <a:lnTo>
                      <a:pt x="309" y="133"/>
                    </a:lnTo>
                    <a:lnTo>
                      <a:pt x="353" y="124"/>
                    </a:lnTo>
                    <a:lnTo>
                      <a:pt x="473" y="124"/>
                    </a:lnTo>
                    <a:lnTo>
                      <a:pt x="487" y="133"/>
                    </a:lnTo>
                    <a:lnTo>
                      <a:pt x="516" y="143"/>
                    </a:lnTo>
                    <a:lnTo>
                      <a:pt x="529" y="143"/>
                    </a:lnTo>
                    <a:lnTo>
                      <a:pt x="604" y="191"/>
                    </a:lnTo>
                    <a:lnTo>
                      <a:pt x="604" y="200"/>
                    </a:lnTo>
                    <a:lnTo>
                      <a:pt x="618" y="238"/>
                    </a:lnTo>
                    <a:lnTo>
                      <a:pt x="633" y="247"/>
                    </a:lnTo>
                    <a:lnTo>
                      <a:pt x="633" y="523"/>
                    </a:lnTo>
                    <a:lnTo>
                      <a:pt x="177" y="523"/>
                    </a:lnTo>
                    <a:lnTo>
                      <a:pt x="177" y="523"/>
                    </a:lnTo>
                    <a:close/>
                    <a:moveTo>
                      <a:pt x="0" y="638"/>
                    </a:moveTo>
                    <a:lnTo>
                      <a:pt x="0" y="219"/>
                    </a:lnTo>
                    <a:lnTo>
                      <a:pt x="14" y="171"/>
                    </a:lnTo>
                    <a:lnTo>
                      <a:pt x="29" y="162"/>
                    </a:lnTo>
                    <a:lnTo>
                      <a:pt x="72" y="105"/>
                    </a:lnTo>
                    <a:lnTo>
                      <a:pt x="72" y="95"/>
                    </a:lnTo>
                    <a:lnTo>
                      <a:pt x="149" y="47"/>
                    </a:lnTo>
                    <a:lnTo>
                      <a:pt x="191" y="29"/>
                    </a:lnTo>
                    <a:lnTo>
                      <a:pt x="220" y="19"/>
                    </a:lnTo>
                    <a:lnTo>
                      <a:pt x="324" y="0"/>
                    </a:lnTo>
                    <a:lnTo>
                      <a:pt x="502" y="0"/>
                    </a:lnTo>
                    <a:lnTo>
                      <a:pt x="618" y="29"/>
                    </a:lnTo>
                    <a:lnTo>
                      <a:pt x="662" y="47"/>
                    </a:lnTo>
                    <a:lnTo>
                      <a:pt x="736" y="95"/>
                    </a:lnTo>
                    <a:lnTo>
                      <a:pt x="765" y="124"/>
                    </a:lnTo>
                    <a:lnTo>
                      <a:pt x="780" y="143"/>
                    </a:lnTo>
                    <a:lnTo>
                      <a:pt x="808" y="200"/>
                    </a:lnTo>
                    <a:lnTo>
                      <a:pt x="808" y="523"/>
                    </a:lnTo>
                    <a:lnTo>
                      <a:pt x="1384" y="523"/>
                    </a:lnTo>
                    <a:lnTo>
                      <a:pt x="1398" y="532"/>
                    </a:lnTo>
                    <a:lnTo>
                      <a:pt x="1398" y="638"/>
                    </a:lnTo>
                    <a:lnTo>
                      <a:pt x="1384" y="647"/>
                    </a:lnTo>
                    <a:lnTo>
                      <a:pt x="14" y="647"/>
                    </a:lnTo>
                    <a:lnTo>
                      <a:pt x="0" y="638"/>
                    </a:lnTo>
                    <a:lnTo>
                      <a:pt x="0" y="638"/>
                    </a:lnTo>
                    <a:close/>
                  </a:path>
                </a:pathLst>
              </a:custGeom>
              <a:solidFill>
                <a:srgbClr val="e35f55">
                  <a:alpha val="8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86920" y="4788720"/>
                <a:ext cx="501480" cy="232920"/>
              </a:xfrm>
              <a:custGeom>
                <a:avLst/>
                <a:gdLst/>
                <a:ahLst/>
                <a:rect l="l" t="t" r="r" b="b"/>
                <a:pathLst>
                  <a:path w="1399" h="648">
                    <a:moveTo>
                      <a:pt x="0" y="638"/>
                    </a:moveTo>
                    <a:lnTo>
                      <a:pt x="0" y="29"/>
                    </a:lnTo>
                    <a:lnTo>
                      <a:pt x="14" y="19"/>
                    </a:lnTo>
                    <a:lnTo>
                      <a:pt x="164" y="19"/>
                    </a:lnTo>
                    <a:lnTo>
                      <a:pt x="177" y="29"/>
                    </a:lnTo>
                    <a:lnTo>
                      <a:pt x="177" y="525"/>
                    </a:lnTo>
                    <a:lnTo>
                      <a:pt x="590" y="525"/>
                    </a:lnTo>
                    <a:lnTo>
                      <a:pt x="590" y="47"/>
                    </a:lnTo>
                    <a:lnTo>
                      <a:pt x="604" y="38"/>
                    </a:lnTo>
                    <a:lnTo>
                      <a:pt x="751" y="38"/>
                    </a:lnTo>
                    <a:lnTo>
                      <a:pt x="765" y="47"/>
                    </a:lnTo>
                    <a:lnTo>
                      <a:pt x="765" y="525"/>
                    </a:lnTo>
                    <a:lnTo>
                      <a:pt x="1219" y="525"/>
                    </a:lnTo>
                    <a:lnTo>
                      <a:pt x="1219" y="9"/>
                    </a:lnTo>
                    <a:lnTo>
                      <a:pt x="1234" y="0"/>
                    </a:lnTo>
                    <a:lnTo>
                      <a:pt x="1384" y="0"/>
                    </a:lnTo>
                    <a:lnTo>
                      <a:pt x="1398" y="9"/>
                    </a:lnTo>
                    <a:lnTo>
                      <a:pt x="1398" y="638"/>
                    </a:lnTo>
                    <a:lnTo>
                      <a:pt x="1384" y="647"/>
                    </a:lnTo>
                    <a:lnTo>
                      <a:pt x="14" y="647"/>
                    </a:lnTo>
                    <a:lnTo>
                      <a:pt x="0" y="638"/>
                    </a:lnTo>
                  </a:path>
                </a:pathLst>
              </a:custGeom>
              <a:solidFill>
                <a:srgbClr val="e35f55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386920" y="4463280"/>
                <a:ext cx="501480" cy="263160"/>
              </a:xfrm>
              <a:custGeom>
                <a:avLst/>
                <a:gdLst/>
                <a:ahLst/>
                <a:rect l="l" t="t" r="r" b="b"/>
                <a:pathLst>
                  <a:path w="1399" h="732">
                    <a:moveTo>
                      <a:pt x="177" y="607"/>
                    </a:moveTo>
                    <a:lnTo>
                      <a:pt x="177" y="274"/>
                    </a:lnTo>
                    <a:lnTo>
                      <a:pt x="191" y="265"/>
                    </a:lnTo>
                    <a:lnTo>
                      <a:pt x="206" y="227"/>
                    </a:lnTo>
                    <a:lnTo>
                      <a:pt x="206" y="218"/>
                    </a:lnTo>
                    <a:lnTo>
                      <a:pt x="266" y="179"/>
                    </a:lnTo>
                    <a:lnTo>
                      <a:pt x="280" y="179"/>
                    </a:lnTo>
                    <a:lnTo>
                      <a:pt x="324" y="170"/>
                    </a:lnTo>
                    <a:lnTo>
                      <a:pt x="338" y="160"/>
                    </a:lnTo>
                    <a:lnTo>
                      <a:pt x="473" y="160"/>
                    </a:lnTo>
                    <a:lnTo>
                      <a:pt x="516" y="170"/>
                    </a:lnTo>
                    <a:lnTo>
                      <a:pt x="544" y="179"/>
                    </a:lnTo>
                    <a:lnTo>
                      <a:pt x="604" y="218"/>
                    </a:lnTo>
                    <a:lnTo>
                      <a:pt x="618" y="236"/>
                    </a:lnTo>
                    <a:lnTo>
                      <a:pt x="633" y="274"/>
                    </a:lnTo>
                    <a:lnTo>
                      <a:pt x="633" y="607"/>
                    </a:lnTo>
                    <a:lnTo>
                      <a:pt x="177" y="607"/>
                    </a:lnTo>
                    <a:lnTo>
                      <a:pt x="177" y="607"/>
                    </a:lnTo>
                    <a:close/>
                    <a:moveTo>
                      <a:pt x="0" y="720"/>
                    </a:moveTo>
                    <a:lnTo>
                      <a:pt x="0" y="246"/>
                    </a:lnTo>
                    <a:lnTo>
                      <a:pt x="58" y="141"/>
                    </a:lnTo>
                    <a:lnTo>
                      <a:pt x="87" y="113"/>
                    </a:lnTo>
                    <a:lnTo>
                      <a:pt x="132" y="85"/>
                    </a:lnTo>
                    <a:lnTo>
                      <a:pt x="177" y="66"/>
                    </a:lnTo>
                    <a:lnTo>
                      <a:pt x="237" y="47"/>
                    </a:lnTo>
                    <a:lnTo>
                      <a:pt x="295" y="37"/>
                    </a:lnTo>
                    <a:lnTo>
                      <a:pt x="456" y="37"/>
                    </a:lnTo>
                    <a:lnTo>
                      <a:pt x="573" y="66"/>
                    </a:lnTo>
                    <a:lnTo>
                      <a:pt x="676" y="132"/>
                    </a:lnTo>
                    <a:lnTo>
                      <a:pt x="705" y="170"/>
                    </a:lnTo>
                    <a:lnTo>
                      <a:pt x="705" y="179"/>
                    </a:lnTo>
                    <a:lnTo>
                      <a:pt x="722" y="170"/>
                    </a:lnTo>
                    <a:lnTo>
                      <a:pt x="751" y="132"/>
                    </a:lnTo>
                    <a:lnTo>
                      <a:pt x="751" y="124"/>
                    </a:lnTo>
                    <a:lnTo>
                      <a:pt x="808" y="85"/>
                    </a:lnTo>
                    <a:lnTo>
                      <a:pt x="840" y="75"/>
                    </a:lnTo>
                    <a:lnTo>
                      <a:pt x="940" y="56"/>
                    </a:lnTo>
                    <a:lnTo>
                      <a:pt x="1190" y="56"/>
                    </a:lnTo>
                    <a:lnTo>
                      <a:pt x="1263" y="47"/>
                    </a:lnTo>
                    <a:lnTo>
                      <a:pt x="1292" y="37"/>
                    </a:lnTo>
                    <a:lnTo>
                      <a:pt x="1355" y="0"/>
                    </a:lnTo>
                    <a:lnTo>
                      <a:pt x="1384" y="0"/>
                    </a:lnTo>
                    <a:lnTo>
                      <a:pt x="1398" y="9"/>
                    </a:lnTo>
                    <a:lnTo>
                      <a:pt x="1398" y="141"/>
                    </a:lnTo>
                    <a:lnTo>
                      <a:pt x="1384" y="150"/>
                    </a:lnTo>
                    <a:lnTo>
                      <a:pt x="1249" y="179"/>
                    </a:lnTo>
                    <a:lnTo>
                      <a:pt x="954" y="179"/>
                    </a:lnTo>
                    <a:lnTo>
                      <a:pt x="911" y="189"/>
                    </a:lnTo>
                    <a:lnTo>
                      <a:pt x="882" y="198"/>
                    </a:lnTo>
                    <a:lnTo>
                      <a:pt x="840" y="227"/>
                    </a:lnTo>
                    <a:lnTo>
                      <a:pt x="840" y="236"/>
                    </a:lnTo>
                    <a:lnTo>
                      <a:pt x="823" y="265"/>
                    </a:lnTo>
                    <a:lnTo>
                      <a:pt x="808" y="274"/>
                    </a:lnTo>
                    <a:lnTo>
                      <a:pt x="808" y="607"/>
                    </a:lnTo>
                    <a:lnTo>
                      <a:pt x="1384" y="607"/>
                    </a:lnTo>
                    <a:lnTo>
                      <a:pt x="1398" y="616"/>
                    </a:lnTo>
                    <a:lnTo>
                      <a:pt x="1398" y="720"/>
                    </a:lnTo>
                    <a:lnTo>
                      <a:pt x="1384" y="731"/>
                    </a:lnTo>
                    <a:lnTo>
                      <a:pt x="14" y="731"/>
                    </a:lnTo>
                    <a:lnTo>
                      <a:pt x="0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e35f55">
                  <a:alpha val="8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86920" y="4149360"/>
                <a:ext cx="501480" cy="280800"/>
              </a:xfrm>
              <a:custGeom>
                <a:avLst/>
                <a:gdLst/>
                <a:ahLst/>
                <a:rect l="l" t="t" r="r" b="b"/>
                <a:pathLst>
                  <a:path w="1399" h="780">
                    <a:moveTo>
                      <a:pt x="0" y="427"/>
                    </a:moveTo>
                    <a:lnTo>
                      <a:pt x="0" y="294"/>
                    </a:lnTo>
                    <a:lnTo>
                      <a:pt x="72" y="162"/>
                    </a:lnTo>
                    <a:lnTo>
                      <a:pt x="103" y="133"/>
                    </a:lnTo>
                    <a:lnTo>
                      <a:pt x="177" y="86"/>
                    </a:lnTo>
                    <a:lnTo>
                      <a:pt x="220" y="66"/>
                    </a:lnTo>
                    <a:lnTo>
                      <a:pt x="309" y="38"/>
                    </a:lnTo>
                    <a:lnTo>
                      <a:pt x="398" y="19"/>
                    </a:lnTo>
                    <a:lnTo>
                      <a:pt x="441" y="19"/>
                    </a:lnTo>
                    <a:lnTo>
                      <a:pt x="456" y="28"/>
                    </a:lnTo>
                    <a:lnTo>
                      <a:pt x="456" y="133"/>
                    </a:lnTo>
                    <a:lnTo>
                      <a:pt x="441" y="143"/>
                    </a:lnTo>
                    <a:lnTo>
                      <a:pt x="413" y="153"/>
                    </a:lnTo>
                    <a:lnTo>
                      <a:pt x="324" y="172"/>
                    </a:lnTo>
                    <a:lnTo>
                      <a:pt x="309" y="172"/>
                    </a:lnTo>
                    <a:lnTo>
                      <a:pt x="237" y="219"/>
                    </a:lnTo>
                    <a:lnTo>
                      <a:pt x="206" y="255"/>
                    </a:lnTo>
                    <a:lnTo>
                      <a:pt x="177" y="324"/>
                    </a:lnTo>
                    <a:lnTo>
                      <a:pt x="177" y="427"/>
                    </a:lnTo>
                    <a:lnTo>
                      <a:pt x="220" y="512"/>
                    </a:lnTo>
                    <a:lnTo>
                      <a:pt x="252" y="541"/>
                    </a:lnTo>
                    <a:lnTo>
                      <a:pt x="324" y="589"/>
                    </a:lnTo>
                    <a:lnTo>
                      <a:pt x="369" y="608"/>
                    </a:lnTo>
                    <a:lnTo>
                      <a:pt x="427" y="627"/>
                    </a:lnTo>
                    <a:lnTo>
                      <a:pt x="516" y="647"/>
                    </a:lnTo>
                    <a:lnTo>
                      <a:pt x="604" y="656"/>
                    </a:lnTo>
                    <a:lnTo>
                      <a:pt x="794" y="656"/>
                    </a:lnTo>
                    <a:lnTo>
                      <a:pt x="1000" y="618"/>
                    </a:lnTo>
                    <a:lnTo>
                      <a:pt x="1103" y="570"/>
                    </a:lnTo>
                    <a:lnTo>
                      <a:pt x="1118" y="561"/>
                    </a:lnTo>
                    <a:lnTo>
                      <a:pt x="1161" y="523"/>
                    </a:lnTo>
                    <a:lnTo>
                      <a:pt x="1219" y="417"/>
                    </a:lnTo>
                    <a:lnTo>
                      <a:pt x="1219" y="315"/>
                    </a:lnTo>
                    <a:lnTo>
                      <a:pt x="1204" y="277"/>
                    </a:lnTo>
                    <a:lnTo>
                      <a:pt x="1161" y="219"/>
                    </a:lnTo>
                    <a:lnTo>
                      <a:pt x="1103" y="181"/>
                    </a:lnTo>
                    <a:lnTo>
                      <a:pt x="1058" y="162"/>
                    </a:lnTo>
                    <a:lnTo>
                      <a:pt x="896" y="133"/>
                    </a:lnTo>
                    <a:lnTo>
                      <a:pt x="869" y="124"/>
                    </a:lnTo>
                    <a:lnTo>
                      <a:pt x="854" y="115"/>
                    </a:lnTo>
                    <a:lnTo>
                      <a:pt x="854" y="10"/>
                    </a:lnTo>
                    <a:lnTo>
                      <a:pt x="869" y="0"/>
                    </a:lnTo>
                    <a:lnTo>
                      <a:pt x="925" y="0"/>
                    </a:lnTo>
                    <a:lnTo>
                      <a:pt x="1072" y="28"/>
                    </a:lnTo>
                    <a:lnTo>
                      <a:pt x="1161" y="57"/>
                    </a:lnTo>
                    <a:lnTo>
                      <a:pt x="1204" y="77"/>
                    </a:lnTo>
                    <a:lnTo>
                      <a:pt x="1292" y="133"/>
                    </a:lnTo>
                    <a:lnTo>
                      <a:pt x="1323" y="162"/>
                    </a:lnTo>
                    <a:lnTo>
                      <a:pt x="1355" y="201"/>
                    </a:lnTo>
                    <a:lnTo>
                      <a:pt x="1384" y="255"/>
                    </a:lnTo>
                    <a:lnTo>
                      <a:pt x="1398" y="305"/>
                    </a:lnTo>
                    <a:lnTo>
                      <a:pt x="1398" y="437"/>
                    </a:lnTo>
                    <a:lnTo>
                      <a:pt x="1355" y="532"/>
                    </a:lnTo>
                    <a:lnTo>
                      <a:pt x="1307" y="599"/>
                    </a:lnTo>
                    <a:lnTo>
                      <a:pt x="1161" y="694"/>
                    </a:lnTo>
                    <a:lnTo>
                      <a:pt x="1118" y="713"/>
                    </a:lnTo>
                    <a:lnTo>
                      <a:pt x="1000" y="751"/>
                    </a:lnTo>
                    <a:lnTo>
                      <a:pt x="954" y="761"/>
                    </a:lnTo>
                    <a:lnTo>
                      <a:pt x="808" y="779"/>
                    </a:lnTo>
                    <a:lnTo>
                      <a:pt x="604" y="779"/>
                    </a:lnTo>
                    <a:lnTo>
                      <a:pt x="398" y="742"/>
                    </a:lnTo>
                    <a:lnTo>
                      <a:pt x="324" y="723"/>
                    </a:lnTo>
                    <a:lnTo>
                      <a:pt x="220" y="685"/>
                    </a:lnTo>
                    <a:lnTo>
                      <a:pt x="103" y="608"/>
                    </a:lnTo>
                    <a:lnTo>
                      <a:pt x="72" y="580"/>
                    </a:lnTo>
                    <a:lnTo>
                      <a:pt x="43" y="541"/>
                    </a:lnTo>
                    <a:lnTo>
                      <a:pt x="14" y="485"/>
                    </a:lnTo>
                    <a:lnTo>
                      <a:pt x="0" y="427"/>
                    </a:lnTo>
                  </a:path>
                </a:pathLst>
              </a:custGeom>
              <a:solidFill>
                <a:srgbClr val="e35f55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386920" y="3801600"/>
                <a:ext cx="501480" cy="313920"/>
              </a:xfrm>
              <a:custGeom>
                <a:avLst/>
                <a:gdLst/>
                <a:ahLst/>
                <a:rect l="l" t="t" r="r" b="b"/>
                <a:pathLst>
                  <a:path w="1399" h="872">
                    <a:moveTo>
                      <a:pt x="177" y="490"/>
                    </a:moveTo>
                    <a:lnTo>
                      <a:pt x="177" y="385"/>
                    </a:lnTo>
                    <a:lnTo>
                      <a:pt x="252" y="254"/>
                    </a:lnTo>
                    <a:lnTo>
                      <a:pt x="369" y="178"/>
                    </a:lnTo>
                    <a:lnTo>
                      <a:pt x="604" y="121"/>
                    </a:lnTo>
                    <a:lnTo>
                      <a:pt x="808" y="121"/>
                    </a:lnTo>
                    <a:lnTo>
                      <a:pt x="954" y="150"/>
                    </a:lnTo>
                    <a:lnTo>
                      <a:pt x="985" y="159"/>
                    </a:lnTo>
                    <a:lnTo>
                      <a:pt x="1029" y="178"/>
                    </a:lnTo>
                    <a:lnTo>
                      <a:pt x="1146" y="254"/>
                    </a:lnTo>
                    <a:lnTo>
                      <a:pt x="1219" y="376"/>
                    </a:lnTo>
                    <a:lnTo>
                      <a:pt x="1219" y="481"/>
                    </a:lnTo>
                    <a:lnTo>
                      <a:pt x="1204" y="529"/>
                    </a:lnTo>
                    <a:lnTo>
                      <a:pt x="1190" y="558"/>
                    </a:lnTo>
                    <a:lnTo>
                      <a:pt x="1161" y="596"/>
                    </a:lnTo>
                    <a:lnTo>
                      <a:pt x="1132" y="624"/>
                    </a:lnTo>
                    <a:lnTo>
                      <a:pt x="1029" y="691"/>
                    </a:lnTo>
                    <a:lnTo>
                      <a:pt x="911" y="729"/>
                    </a:lnTo>
                    <a:lnTo>
                      <a:pt x="869" y="738"/>
                    </a:lnTo>
                    <a:lnTo>
                      <a:pt x="794" y="747"/>
                    </a:lnTo>
                    <a:lnTo>
                      <a:pt x="604" y="747"/>
                    </a:lnTo>
                    <a:lnTo>
                      <a:pt x="369" y="691"/>
                    </a:lnTo>
                    <a:lnTo>
                      <a:pt x="252" y="614"/>
                    </a:lnTo>
                    <a:lnTo>
                      <a:pt x="177" y="490"/>
                    </a:lnTo>
                    <a:lnTo>
                      <a:pt x="177" y="490"/>
                    </a:lnTo>
                    <a:close/>
                    <a:moveTo>
                      <a:pt x="0" y="500"/>
                    </a:moveTo>
                    <a:lnTo>
                      <a:pt x="0" y="367"/>
                    </a:lnTo>
                    <a:lnTo>
                      <a:pt x="87" y="197"/>
                    </a:lnTo>
                    <a:lnTo>
                      <a:pt x="118" y="168"/>
                    </a:lnTo>
                    <a:lnTo>
                      <a:pt x="252" y="84"/>
                    </a:lnTo>
                    <a:lnTo>
                      <a:pt x="295" y="64"/>
                    </a:lnTo>
                    <a:lnTo>
                      <a:pt x="413" y="26"/>
                    </a:lnTo>
                    <a:lnTo>
                      <a:pt x="456" y="17"/>
                    </a:lnTo>
                    <a:lnTo>
                      <a:pt x="590" y="0"/>
                    </a:lnTo>
                    <a:lnTo>
                      <a:pt x="808" y="0"/>
                    </a:lnTo>
                    <a:lnTo>
                      <a:pt x="1103" y="64"/>
                    </a:lnTo>
                    <a:lnTo>
                      <a:pt x="1161" y="93"/>
                    </a:lnTo>
                    <a:lnTo>
                      <a:pt x="1263" y="159"/>
                    </a:lnTo>
                    <a:lnTo>
                      <a:pt x="1323" y="216"/>
                    </a:lnTo>
                    <a:lnTo>
                      <a:pt x="1369" y="281"/>
                    </a:lnTo>
                    <a:lnTo>
                      <a:pt x="1398" y="367"/>
                    </a:lnTo>
                    <a:lnTo>
                      <a:pt x="1398" y="500"/>
                    </a:lnTo>
                    <a:lnTo>
                      <a:pt x="1355" y="596"/>
                    </a:lnTo>
                    <a:lnTo>
                      <a:pt x="1338" y="614"/>
                    </a:lnTo>
                    <a:lnTo>
                      <a:pt x="1323" y="643"/>
                    </a:lnTo>
                    <a:lnTo>
                      <a:pt x="1323" y="653"/>
                    </a:lnTo>
                    <a:lnTo>
                      <a:pt x="1263" y="709"/>
                    </a:lnTo>
                    <a:lnTo>
                      <a:pt x="1161" y="776"/>
                    </a:lnTo>
                    <a:lnTo>
                      <a:pt x="1103" y="805"/>
                    </a:lnTo>
                    <a:lnTo>
                      <a:pt x="985" y="843"/>
                    </a:lnTo>
                    <a:lnTo>
                      <a:pt x="940" y="853"/>
                    </a:lnTo>
                    <a:lnTo>
                      <a:pt x="794" y="871"/>
                    </a:lnTo>
                    <a:lnTo>
                      <a:pt x="604" y="871"/>
                    </a:lnTo>
                    <a:lnTo>
                      <a:pt x="398" y="833"/>
                    </a:lnTo>
                    <a:lnTo>
                      <a:pt x="237" y="776"/>
                    </a:lnTo>
                    <a:lnTo>
                      <a:pt x="132" y="709"/>
                    </a:lnTo>
                    <a:lnTo>
                      <a:pt x="58" y="614"/>
                    </a:lnTo>
                    <a:lnTo>
                      <a:pt x="0" y="500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e35f55">
                  <a:alpha val="8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386920" y="3500280"/>
                <a:ext cx="501480" cy="260280"/>
              </a:xfrm>
              <a:custGeom>
                <a:avLst/>
                <a:gdLst/>
                <a:ahLst/>
                <a:rect l="l" t="t" r="r" b="b"/>
                <a:pathLst>
                  <a:path w="1399" h="724">
                    <a:moveTo>
                      <a:pt x="0" y="714"/>
                    </a:moveTo>
                    <a:lnTo>
                      <a:pt x="0" y="590"/>
                    </a:lnTo>
                    <a:lnTo>
                      <a:pt x="29" y="571"/>
                    </a:lnTo>
                    <a:lnTo>
                      <a:pt x="118" y="532"/>
                    </a:lnTo>
                    <a:lnTo>
                      <a:pt x="132" y="532"/>
                    </a:lnTo>
                    <a:lnTo>
                      <a:pt x="164" y="523"/>
                    </a:lnTo>
                    <a:lnTo>
                      <a:pt x="338" y="447"/>
                    </a:lnTo>
                    <a:lnTo>
                      <a:pt x="369" y="437"/>
                    </a:lnTo>
                    <a:lnTo>
                      <a:pt x="413" y="418"/>
                    </a:lnTo>
                    <a:lnTo>
                      <a:pt x="441" y="399"/>
                    </a:lnTo>
                    <a:lnTo>
                      <a:pt x="691" y="293"/>
                    </a:lnTo>
                    <a:lnTo>
                      <a:pt x="780" y="265"/>
                    </a:lnTo>
                    <a:lnTo>
                      <a:pt x="823" y="246"/>
                    </a:lnTo>
                    <a:lnTo>
                      <a:pt x="854" y="227"/>
                    </a:lnTo>
                    <a:lnTo>
                      <a:pt x="1072" y="143"/>
                    </a:lnTo>
                    <a:lnTo>
                      <a:pt x="1103" y="124"/>
                    </a:lnTo>
                    <a:lnTo>
                      <a:pt x="14" y="124"/>
                    </a:lnTo>
                    <a:lnTo>
                      <a:pt x="0" y="112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384" y="0"/>
                    </a:lnTo>
                    <a:lnTo>
                      <a:pt x="1398" y="9"/>
                    </a:lnTo>
                    <a:lnTo>
                      <a:pt x="1398" y="143"/>
                    </a:lnTo>
                    <a:lnTo>
                      <a:pt x="1384" y="151"/>
                    </a:lnTo>
                    <a:lnTo>
                      <a:pt x="1292" y="180"/>
                    </a:lnTo>
                    <a:lnTo>
                      <a:pt x="1249" y="198"/>
                    </a:lnTo>
                    <a:lnTo>
                      <a:pt x="1219" y="217"/>
                    </a:lnTo>
                    <a:lnTo>
                      <a:pt x="794" y="390"/>
                    </a:lnTo>
                    <a:lnTo>
                      <a:pt x="765" y="399"/>
                    </a:lnTo>
                    <a:lnTo>
                      <a:pt x="722" y="418"/>
                    </a:lnTo>
                    <a:lnTo>
                      <a:pt x="691" y="437"/>
                    </a:lnTo>
                    <a:lnTo>
                      <a:pt x="441" y="542"/>
                    </a:lnTo>
                    <a:lnTo>
                      <a:pt x="353" y="571"/>
                    </a:lnTo>
                    <a:lnTo>
                      <a:pt x="309" y="590"/>
                    </a:lnTo>
                    <a:lnTo>
                      <a:pt x="295" y="599"/>
                    </a:lnTo>
                    <a:lnTo>
                      <a:pt x="1384" y="599"/>
                    </a:lnTo>
                    <a:lnTo>
                      <a:pt x="1398" y="609"/>
                    </a:lnTo>
                    <a:lnTo>
                      <a:pt x="1398" y="714"/>
                    </a:lnTo>
                    <a:lnTo>
                      <a:pt x="1384" y="723"/>
                    </a:lnTo>
                    <a:lnTo>
                      <a:pt x="14" y="723"/>
                    </a:lnTo>
                    <a:lnTo>
                      <a:pt x="0" y="714"/>
                    </a:lnTo>
                  </a:path>
                </a:pathLst>
              </a:custGeom>
              <a:solidFill>
                <a:srgbClr val="e35f55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7596360" y="0"/>
            <a:ext cx="1547640" cy="1413000"/>
          </a:xfrm>
          <a:prstGeom prst="roundRect">
            <a:avLst>
              <a:gd name="adj" fmla="val 111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2768400"/>
            <a:ext cx="777240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KVM/IP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br>
              <a:rPr sz="4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Peppercon AG - Confidential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: Thomas Breit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527560" cy="18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M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entication +autho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66520" y="1599840"/>
            <a:ext cx="6016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-b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ent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yself (dev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group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ssignment for groups a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lusters of de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ach cluster find assignment for groups a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o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0640" y="1600200"/>
            <a:ext cx="1904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ignmen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ignm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ignmen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uster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ignmen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fi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1752480"/>
            <a:ext cx="0" cy="4191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28954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205740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42900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1055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94360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205740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5909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3623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289548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320040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342900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4956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37339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449568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480060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3733920"/>
            <a:ext cx="0" cy="533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42670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40384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5105520"/>
            <a:ext cx="0" cy="228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53341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5943600"/>
            <a:ext cx="0" cy="228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617220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334120"/>
            <a:ext cx="0" cy="304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56386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50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MX / ERLA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74680" y="1359000"/>
            <a:ext cx="8717040" cy="54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523880"/>
            <a:ext cx="4267440" cy="1067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LA SW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16960" y="53341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M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3280" y="320040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conf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6240" y="5181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1200" y="51055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2920" y="2590920"/>
            <a:ext cx="110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F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F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v4/IPv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11480" y="2666880"/>
            <a:ext cx="110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v4/IPv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960" y="4267080"/>
            <a:ext cx="6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581280"/>
            <a:ext cx="1905120" cy="13716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2000" y="1905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1752480"/>
            <a:ext cx="19432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FB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1523880"/>
            <a:ext cx="2209680" cy="1067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tive Win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FB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362320" y="25905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733920" y="2362320"/>
            <a:ext cx="45720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259056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4191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5257800"/>
            <a:ext cx="12952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666520" y="4724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33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066680" y="403812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648320"/>
            <a:ext cx="175248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038120" y="495288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257800" y="342900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9600" y="5562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9528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0"/>
            <a:ext cx="3809880" cy="533520"/>
          </a:xfrm>
          <a:prstGeom prst="rect">
            <a:avLst/>
          </a:prstGeom>
          <a:solidFill>
            <a:srgbClr val="00b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819520"/>
            <a:ext cx="1371600" cy="1447560"/>
          </a:xfrm>
          <a:custGeom>
            <a:avLst/>
            <a:gdLst/>
            <a:ahLst/>
            <a:rect l="l" t="t" r="r" b="b"/>
            <a:pathLst>
              <a:path w="864" h="912">
                <a:moveTo>
                  <a:pt x="0" y="0"/>
                </a:moveTo>
                <a:lnTo>
                  <a:pt x="864" y="0"/>
                </a:lnTo>
                <a:lnTo>
                  <a:pt x="864" y="432"/>
                </a:lnTo>
                <a:lnTo>
                  <a:pt x="480" y="432"/>
                </a:lnTo>
                <a:lnTo>
                  <a:pt x="480" y="912"/>
                </a:lnTo>
                <a:lnTo>
                  <a:pt x="0" y="912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50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LA SW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9080" y="5395320"/>
            <a:ext cx="1096920" cy="366120"/>
          </a:xfrm>
          <a:prstGeom prst="roundRect">
            <a:avLst>
              <a:gd name="adj" fmla="val 28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5395320"/>
            <a:ext cx="1096920" cy="366120"/>
          </a:xfrm>
          <a:prstGeom prst="roundRect">
            <a:avLst>
              <a:gd name="adj" fmla="val 28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82920" y="5395320"/>
            <a:ext cx="1096920" cy="366120"/>
          </a:xfrm>
          <a:prstGeom prst="roundRect">
            <a:avLst>
              <a:gd name="adj" fmla="val 28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9840" y="5395320"/>
            <a:ext cx="2743200" cy="366120"/>
          </a:xfrm>
          <a:prstGeom prst="roundRect">
            <a:avLst>
              <a:gd name="adj" fmla="val 28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267080"/>
            <a:ext cx="6019560" cy="854280"/>
          </a:xfrm>
          <a:prstGeom prst="roundRect">
            <a:avLst>
              <a:gd name="adj" fmla="val 19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4348440"/>
            <a:ext cx="914400" cy="732600"/>
          </a:xfrm>
          <a:prstGeom prst="roundRect">
            <a:avLst>
              <a:gd name="adj" fmla="val 24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ty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86960" y="449424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4348440"/>
            <a:ext cx="914400" cy="732600"/>
          </a:xfrm>
          <a:prstGeom prst="roundRect">
            <a:avLst>
              <a:gd name="adj" fmla="val 24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B-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4348440"/>
            <a:ext cx="914400" cy="732600"/>
          </a:xfrm>
          <a:prstGeom prst="roundRect">
            <a:avLst>
              <a:gd name="adj" fmla="val 24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SC-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5280" y="2378160"/>
            <a:ext cx="97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FB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04920" y="1605960"/>
            <a:ext cx="3749760" cy="366120"/>
          </a:xfrm>
          <a:prstGeom prst="roundRect">
            <a:avLst>
              <a:gd name="adj" fmla="val 24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FB Applet / 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1605960"/>
            <a:ext cx="2286000" cy="366120"/>
          </a:xfrm>
          <a:prstGeom prst="roundRect">
            <a:avLst>
              <a:gd name="adj" fmla="val 24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133720"/>
            <a:ext cx="6675480" cy="1440"/>
          </a:xfrm>
          <a:custGeom>
            <a:avLst/>
            <a:gdLst/>
            <a:ahLst/>
            <a:rect l="l" t="t" r="r" b="b"/>
            <a:pathLst>
              <a:path w="18543" h="1">
                <a:moveTo>
                  <a:pt x="0" y="0"/>
                </a:moveTo>
                <a:lnTo>
                  <a:pt x="18288" y="0"/>
                </a:lnTo>
                <a:lnTo>
                  <a:pt x="18542" y="0"/>
                </a:lnTo>
              </a:path>
            </a:pathLst>
          </a:custGeom>
          <a:noFill/>
          <a:ln w="367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5257800"/>
            <a:ext cx="6675480" cy="1440"/>
          </a:xfrm>
          <a:custGeom>
            <a:avLst/>
            <a:gdLst/>
            <a:ahLst/>
            <a:rect l="l" t="t" r="r" b="b"/>
            <a:pathLst>
              <a:path w="18543" h="1">
                <a:moveTo>
                  <a:pt x="0" y="0"/>
                </a:moveTo>
                <a:lnTo>
                  <a:pt x="18288" y="0"/>
                </a:lnTo>
                <a:lnTo>
                  <a:pt x="18542" y="0"/>
                </a:lnTo>
              </a:path>
            </a:pathLst>
          </a:custGeom>
          <a:noFill/>
          <a:ln w="367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160" y="1752480"/>
            <a:ext cx="106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4876920"/>
            <a:ext cx="508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57200" y="2784600"/>
            <a:ext cx="6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819520"/>
            <a:ext cx="1371600" cy="1447560"/>
          </a:xfrm>
          <a:custGeom>
            <a:avLst/>
            <a:gdLst/>
            <a:ahLst/>
            <a:rect l="l" t="t" r="r" b="b"/>
            <a:pathLst>
              <a:path w="864" h="912">
                <a:moveTo>
                  <a:pt x="384" y="0"/>
                </a:moveTo>
                <a:lnTo>
                  <a:pt x="864" y="0"/>
                </a:lnTo>
                <a:lnTo>
                  <a:pt x="864" y="912"/>
                </a:lnTo>
                <a:lnTo>
                  <a:pt x="0" y="912"/>
                </a:lnTo>
                <a:lnTo>
                  <a:pt x="0" y="432"/>
                </a:lnTo>
                <a:lnTo>
                  <a:pt x="384" y="432"/>
                </a:lnTo>
                <a:lnTo>
                  <a:pt x="384" y="0"/>
                </a:lnTo>
                <a:close/>
              </a:path>
            </a:pathLst>
          </a:custGeom>
          <a:solidFill>
            <a:srgbClr val="00b8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3440" y="335268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819520"/>
            <a:ext cx="1143000" cy="1447560"/>
          </a:xfrm>
          <a:prstGeom prst="rect">
            <a:avLst/>
          </a:prstGeom>
          <a:solidFill>
            <a:srgbClr val="00b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S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505320"/>
            <a:ext cx="1295640" cy="761760"/>
          </a:xfrm>
          <a:prstGeom prst="rect">
            <a:avLst/>
          </a:prstGeom>
          <a:solidFill>
            <a:srgbClr val="00b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fig 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819520"/>
            <a:ext cx="1295640" cy="685800"/>
          </a:xfrm>
          <a:prstGeom prst="rect">
            <a:avLst/>
          </a:prstGeom>
          <a:solidFill>
            <a:srgbClr val="00b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2286000"/>
            <a:ext cx="2209680" cy="1981080"/>
          </a:xfrm>
          <a:custGeom>
            <a:avLst/>
            <a:gdLst/>
            <a:ahLst/>
            <a:rect l="l" t="t" r="r" b="b"/>
            <a:pathLst>
              <a:path w="1440" h="1248">
                <a:moveTo>
                  <a:pt x="0" y="0"/>
                </a:moveTo>
                <a:lnTo>
                  <a:pt x="1440" y="0"/>
                </a:lnTo>
                <a:lnTo>
                  <a:pt x="1440" y="1248"/>
                </a:lnTo>
                <a:lnTo>
                  <a:pt x="480" y="1248"/>
                </a:lnTo>
                <a:lnTo>
                  <a:pt x="480" y="336"/>
                </a:lnTo>
                <a:lnTo>
                  <a:pt x="0" y="336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1840" y="3048120"/>
            <a:ext cx="846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781680" y="1905120"/>
            <a:ext cx="182880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1981080"/>
            <a:ext cx="182880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3429000"/>
            <a:ext cx="3276360" cy="144792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3505320"/>
            <a:ext cx="3276720" cy="1447560"/>
          </a:xfrm>
          <a:prstGeom prst="rect">
            <a:avLst/>
          </a:prstGeom>
          <a:solidFill>
            <a:srgbClr val="b2b2b2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ber + RFB enc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905120"/>
            <a:ext cx="2057400" cy="914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ab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82880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523880" y="213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1040" y="1752480"/>
            <a:ext cx="26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 Fetch diff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1400" y="243828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 Fetch 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3581280"/>
            <a:ext cx="3276720" cy="1447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0880" y="449568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FB Encoder (1 per cli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3809880"/>
            <a:ext cx="221004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 regio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75600" y="304812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 Tiles D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657600"/>
            <a:ext cx="1676520" cy="1371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ame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 M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600x1200x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2895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 Add diff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52388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05740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5600" y="373392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 Get regio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5029200"/>
            <a:ext cx="1143000" cy="457200"/>
          </a:xfrm>
          <a:custGeom>
            <a:avLst/>
            <a:gdLst/>
            <a:ahLst/>
            <a:rect l="l" t="t" r="r" b="b"/>
            <a:pathLst>
              <a:path w="720" h="288">
                <a:moveTo>
                  <a:pt x="720" y="0"/>
                </a:moveTo>
                <a:lnTo>
                  <a:pt x="720" y="288"/>
                </a:lnTo>
                <a:lnTo>
                  <a:pt x="0" y="28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4920" y="541008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. Encode regio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14440" y="2819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620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2057400"/>
            <a:ext cx="182880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2240" y="23623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248520" y="320004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4680" y="32767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.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B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248520" y="3200400"/>
            <a:ext cx="2286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5560" y="434340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B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676520"/>
            <a:ext cx="51055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82840" y="13716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3276720"/>
            <a:ext cx="3733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9560" y="510552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1752480"/>
            <a:ext cx="228600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5880" y="14479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+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3429000"/>
            <a:ext cx="9907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20574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48006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thresholded dif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342720" y="3009960"/>
            <a:ext cx="28958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st-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181480" y="3276720"/>
            <a:ext cx="1943280" cy="876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deo-In-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gle/double 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276720"/>
            <a:ext cx="761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62904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49528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j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3657600"/>
            <a:ext cx="228600" cy="1600200"/>
          </a:xfrm>
          <a:custGeom>
            <a:avLst/>
            <a:gdLst/>
            <a:ahLst/>
            <a:rect l="l" t="t" r="r" b="b"/>
            <a:pathLst>
              <a:path w="144" h="1008">
                <a:moveTo>
                  <a:pt x="144" y="0"/>
                </a:moveTo>
                <a:lnTo>
                  <a:pt x="144" y="1008"/>
                </a:lnTo>
                <a:lnTo>
                  <a:pt x="0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69572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3276720"/>
            <a:ext cx="76212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1981080"/>
            <a:ext cx="8384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2743200"/>
            <a:ext cx="8384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o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990720"/>
            <a:ext cx="213336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 M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990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3657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3886200"/>
            <a:ext cx="304560" cy="3049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3962520"/>
            <a:ext cx="304920" cy="304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4419720"/>
            <a:ext cx="304560" cy="304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048120"/>
            <a:ext cx="304920" cy="304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905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14800" y="1714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82040" y="430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-838080" y="3200400"/>
            <a:ext cx="289584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77208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6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12880" y="685800"/>
            <a:ext cx="4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5760" y="68580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990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560" y="68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786120" y="990720"/>
            <a:ext cx="1852560" cy="4513320"/>
            <a:chOff x="3786120" y="990720"/>
            <a:chExt cx="1852560" cy="4513320"/>
          </a:xfrm>
        </p:grpSpPr>
        <p:sp>
          <p:nvSpPr>
            <p:cNvPr id="188" name=""/>
            <p:cNvSpPr/>
            <p:nvPr/>
          </p:nvSpPr>
          <p:spPr>
            <a:xfrm>
              <a:off x="5410080" y="990720"/>
              <a:ext cx="228600" cy="7617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6120" y="1251000"/>
              <a:ext cx="1738440" cy="4253040"/>
            </a:xfrm>
            <a:custGeom>
              <a:avLst/>
              <a:gdLst/>
              <a:ahLst/>
              <a:rect l="l" t="t" r="r" b="b"/>
              <a:pathLst>
                <a:path w="1095" h="2679">
                  <a:moveTo>
                    <a:pt x="566" y="269"/>
                  </a:moveTo>
                  <a:cubicBezTo>
                    <a:pt x="533" y="302"/>
                    <a:pt x="458" y="459"/>
                    <a:pt x="369" y="459"/>
                  </a:cubicBezTo>
                  <a:cubicBezTo>
                    <a:pt x="280" y="459"/>
                    <a:pt x="58" y="0"/>
                    <a:pt x="29" y="269"/>
                  </a:cubicBezTo>
                  <a:cubicBezTo>
                    <a:pt x="0" y="538"/>
                    <a:pt x="88" y="1728"/>
                    <a:pt x="195" y="2076"/>
                  </a:cubicBezTo>
                  <a:cubicBezTo>
                    <a:pt x="302" y="2424"/>
                    <a:pt x="519" y="2679"/>
                    <a:pt x="669" y="2360"/>
                  </a:cubicBezTo>
                  <a:cubicBezTo>
                    <a:pt x="819" y="2041"/>
                    <a:pt x="1006" y="618"/>
                    <a:pt x="1095" y="159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9880" y="43434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389480" y="990720"/>
            <a:ext cx="3952800" cy="3019320"/>
            <a:chOff x="4389480" y="990720"/>
            <a:chExt cx="3952800" cy="3019320"/>
          </a:xfrm>
        </p:grpSpPr>
        <p:grpSp>
          <p:nvGrpSpPr>
            <p:cNvPr id="192" name=""/>
            <p:cNvGrpSpPr/>
            <p:nvPr/>
          </p:nvGrpSpPr>
          <p:grpSpPr>
            <a:xfrm>
              <a:off x="4389480" y="990720"/>
              <a:ext cx="3952800" cy="3019320"/>
              <a:chOff x="4389480" y="990720"/>
              <a:chExt cx="3952800" cy="3019320"/>
            </a:xfrm>
          </p:grpSpPr>
          <p:sp>
            <p:nvSpPr>
              <p:cNvPr id="193" name=""/>
              <p:cNvSpPr/>
              <p:nvPr/>
            </p:nvSpPr>
            <p:spPr>
              <a:xfrm>
                <a:off x="4495680" y="990720"/>
                <a:ext cx="914400" cy="7617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389480" y="1515960"/>
                <a:ext cx="3952800" cy="2494080"/>
              </a:xfrm>
              <a:custGeom>
                <a:avLst/>
                <a:gdLst/>
                <a:ahLst/>
                <a:rect l="l" t="t" r="r" b="b"/>
                <a:pathLst>
                  <a:path w="2490" h="1571">
                    <a:moveTo>
                      <a:pt x="2490" y="1333"/>
                    </a:moveTo>
                    <a:cubicBezTo>
                      <a:pt x="2134" y="1336"/>
                      <a:pt x="704" y="1571"/>
                      <a:pt x="352" y="1349"/>
                    </a:cubicBezTo>
                    <a:cubicBezTo>
                      <a:pt x="0" y="1127"/>
                      <a:pt x="370" y="281"/>
                      <a:pt x="375" y="0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019920" y="36576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4520" y="1654200"/>
            <a:ext cx="4933800" cy="2246400"/>
            <a:chOff x="614520" y="1654200"/>
            <a:chExt cx="4933800" cy="2246400"/>
          </a:xfrm>
        </p:grpSpPr>
        <p:sp>
          <p:nvSpPr>
            <p:cNvPr id="197" name=""/>
            <p:cNvSpPr/>
            <p:nvPr/>
          </p:nvSpPr>
          <p:spPr>
            <a:xfrm>
              <a:off x="614520" y="1654200"/>
              <a:ext cx="4933800" cy="2246400"/>
            </a:xfrm>
            <a:custGeom>
              <a:avLst/>
              <a:gdLst/>
              <a:ahLst/>
              <a:rect l="l" t="t" r="r" b="b"/>
              <a:pathLst>
                <a:path w="3108" h="1415">
                  <a:moveTo>
                    <a:pt x="3108" y="0"/>
                  </a:moveTo>
                  <a:cubicBezTo>
                    <a:pt x="3083" y="187"/>
                    <a:pt x="3090" y="893"/>
                    <a:pt x="2959" y="1120"/>
                  </a:cubicBezTo>
                  <a:cubicBezTo>
                    <a:pt x="2828" y="1347"/>
                    <a:pt x="2812" y="1415"/>
                    <a:pt x="2319" y="1365"/>
                  </a:cubicBezTo>
                  <a:cubicBezTo>
                    <a:pt x="1826" y="1315"/>
                    <a:pt x="483" y="934"/>
                    <a:pt x="0" y="82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48120" y="350532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152280"/>
            <a:ext cx="4487760" cy="3984840"/>
            <a:chOff x="685800" y="152280"/>
            <a:chExt cx="4487760" cy="3984840"/>
          </a:xfrm>
        </p:grpSpPr>
        <p:sp>
          <p:nvSpPr>
            <p:cNvPr id="200" name=""/>
            <p:cNvSpPr/>
            <p:nvPr/>
          </p:nvSpPr>
          <p:spPr>
            <a:xfrm>
              <a:off x="3505320" y="990720"/>
              <a:ext cx="990360" cy="7617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1641600"/>
              <a:ext cx="4487760" cy="2274840"/>
            </a:xfrm>
            <a:custGeom>
              <a:avLst/>
              <a:gdLst/>
              <a:ahLst/>
              <a:rect l="l" t="t" r="r" b="b"/>
              <a:pathLst>
                <a:path w="2827" h="1433">
                  <a:moveTo>
                    <a:pt x="2827" y="0"/>
                  </a:moveTo>
                  <a:cubicBezTo>
                    <a:pt x="2786" y="185"/>
                    <a:pt x="2749" y="875"/>
                    <a:pt x="2582" y="1112"/>
                  </a:cubicBezTo>
                  <a:cubicBezTo>
                    <a:pt x="2415" y="1349"/>
                    <a:pt x="2255" y="1433"/>
                    <a:pt x="1825" y="1420"/>
                  </a:cubicBezTo>
                  <a:cubicBezTo>
                    <a:pt x="1395" y="1407"/>
                    <a:pt x="380" y="1114"/>
                    <a:pt x="0" y="103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19400" y="3832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75120" y="457200"/>
              <a:ext cx="1122480" cy="669960"/>
            </a:xfrm>
            <a:custGeom>
              <a:avLst/>
              <a:gdLst/>
              <a:ahLst/>
              <a:rect l="l" t="t" r="r" b="b"/>
              <a:pathLst>
                <a:path w="707" h="422">
                  <a:moveTo>
                    <a:pt x="0" y="382"/>
                  </a:moveTo>
                  <a:cubicBezTo>
                    <a:pt x="30" y="329"/>
                    <a:pt x="91" y="121"/>
                    <a:pt x="179" y="67"/>
                  </a:cubicBezTo>
                  <a:cubicBezTo>
                    <a:pt x="267" y="13"/>
                    <a:pt x="438" y="0"/>
                    <a:pt x="526" y="59"/>
                  </a:cubicBezTo>
                  <a:cubicBezTo>
                    <a:pt x="614" y="118"/>
                    <a:pt x="669" y="346"/>
                    <a:pt x="707" y="422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43400" y="1522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219320" y="1828800"/>
            <a:ext cx="6553080" cy="4191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33520" y="567684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SC (EP1C4xxxC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Mouse (PS/2, US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752480"/>
            <a:ext cx="1828800" cy="15242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urrent 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 = f ’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640" y="144792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use predi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3962520"/>
            <a:ext cx="3124080" cy="1600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5600" y="54864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lligent mouse synchron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200400" y="3276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8160" y="3505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ju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2280" y="4038480"/>
            <a:ext cx="273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ve left +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rmine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be mous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d acceleration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t mous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800" y="2209680"/>
            <a:ext cx="12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bsolu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440" y="2209680"/>
            <a:ext cx="11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5638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05720" y="5600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6440" y="373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342900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m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3809880"/>
            <a:ext cx="1600200" cy="1828800"/>
          </a:xfrm>
          <a:custGeom>
            <a:avLst/>
            <a:gdLst/>
            <a:ahLst/>
            <a:rect l="l" t="t" r="r" b="b"/>
            <a:pathLst>
              <a:path w="1008" h="1152">
                <a:moveTo>
                  <a:pt x="0" y="1152"/>
                </a:moveTo>
                <a:lnTo>
                  <a:pt x="384" y="1008"/>
                </a:lnTo>
                <a:lnTo>
                  <a:pt x="672" y="720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4952880"/>
            <a:ext cx="1143000" cy="76212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0" y="0"/>
                </a:moveTo>
                <a:lnTo>
                  <a:pt x="720" y="0"/>
                </a:lnTo>
                <a:lnTo>
                  <a:pt x="720" y="48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5410080"/>
            <a:ext cx="685800" cy="30492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0"/>
                </a:moveTo>
                <a:lnTo>
                  <a:pt x="432" y="0"/>
                </a:lnTo>
                <a:lnTo>
                  <a:pt x="432" y="192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1523880"/>
            <a:ext cx="3962520" cy="1143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400" y="171468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rt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y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ropriet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1752480"/>
            <a:ext cx="25146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1981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7760" y="190512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rtual kb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276720"/>
            <a:ext cx="3962160" cy="1447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440" y="320040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bd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04080" y="14860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bd data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different layo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360" y="28195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ies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37160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/2 en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3581280"/>
            <a:ext cx="137160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800" y="2819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y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3080" y="480060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/2 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1880" y="48006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B 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5181480"/>
            <a:ext cx="2362320" cy="609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ME-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8320" y="5181480"/>
            <a:ext cx="1600200" cy="609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B-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86000" y="26665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4600" y="34290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pd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1600" y="4114800"/>
            <a:ext cx="13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ns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H="1" flipV="1">
            <a:off x="3352320" y="2742840"/>
            <a:ext cx="30492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ME (PS/2 emul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2057400"/>
            <a:ext cx="1752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bd device 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200400"/>
            <a:ext cx="1752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use device 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3200400"/>
            <a:ext cx="1752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use host 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2133720"/>
            <a:ext cx="1752840" cy="6094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bd host 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1752480"/>
            <a:ext cx="990720" cy="2819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213372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91520" y="3200400"/>
            <a:ext cx="83808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4419720"/>
            <a:ext cx="220968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and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1371600"/>
            <a:ext cx="472464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276360" y="38862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000" y="396252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ice / Host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17524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ice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191120" y="2209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840" y="26668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st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191120" y="3352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46480" y="133344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MOS – State Machine 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94760" y="544824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LA c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ST c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139320"/>
            <a:ext cx="77850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MX SW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077320" cy="425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omas</cp:lastModifiedBy>
  <dcterms:modified xsi:type="dcterms:W3CDTF">2004-05-12T15:56:30Z</dcterms:modified>
  <cp:revision>22</cp:revision>
  <dc:subject/>
  <dc:title>KVM/IP Software by Peppercon AG - Confidential   Author: Thomas Breitfeld</dc:title>
</cp:coreProperties>
</file>