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FB0-A79A-4DFD-B3AE-809C47FC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62C-DADA-41D8-828D-0831946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327-37B2-47E2-A87C-E85D36DE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540-0F39-4729-9E62-443557E7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A09-0F0A-4E51-8373-C4426F8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4B8-BC1F-4BF4-85A4-FF68BEA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40A-8267-4989-863E-5D5BCE1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3D2-D883-4525-9C80-6F03D38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856-E63D-4103-AA6A-1F7DDEB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CDC-2AE3-4082-82C6-0B9E705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332-1FED-4FF4-9C74-FDED80E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44A-B60D-49D4-BC7B-ED84F36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653-8F6B-49A2-93F3-6C56B75A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924" t="13782" r="9557" b="16907"/>
          <a:stretch/>
        </p:blipFill>
        <p:spPr>
          <a:xfrm>
            <a:off x="0" y="45720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6280" y="26496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-PCI-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600200" y="0"/>
            <a:ext cx="6324480" cy="6858000"/>
            <a:chOff x="1600200" y="0"/>
            <a:chExt cx="632448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9155" t="11764" r="48570" b="10656"/>
            <a:stretch/>
          </p:blipFill>
          <p:spPr>
            <a:xfrm>
              <a:off x="1600200" y="0"/>
              <a:ext cx="622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010280" y="2590920"/>
              <a:ext cx="914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6280" y="26496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-PCI-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8671" t="11394" r="58126" b="9982"/>
          <a:stretch/>
        </p:blipFill>
        <p:spPr>
          <a:xfrm>
            <a:off x="2286000" y="0"/>
            <a:ext cx="4827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6280" y="26496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-PCI-0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23:38:43Z</dcterms:created>
  <dc:creator>gcmyers</dc:creator>
  <dc:description/>
  <dc:language>en-US</dc:language>
  <cp:lastModifiedBy>gcmyers</cp:lastModifiedBy>
  <dcterms:modified xsi:type="dcterms:W3CDTF">2008-06-26T15:39:14Z</dcterms:modified>
  <cp:revision>2</cp:revision>
  <dc:subject/>
  <dc:title>Slide 1</dc:title>
</cp:coreProperties>
</file>