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DDD-5397-4E90-85E7-3AB44834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EFC-A33F-48AA-BC75-A183714F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EF6-0F11-4454-9EF6-CCEFEDB0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AE77-4209-4FEB-B710-367ADAC7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F9A-124D-4BBA-A665-051F09E1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ED47-B5C8-43B5-A0E6-01AF0539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EFF-158C-45BE-B518-C733D780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765-7951-46BA-91E1-2BD915FD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ABC-EA69-4F2A-813A-F3D290BC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CDB-46D8-493A-A73C-D47879B7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F4D7-6E24-41FA-9F0A-E1D37CE5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7D5E-574A-4D87-B73E-55B68214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BEC1-F26C-4D72-9B55-2B7BA1CD6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168" t="14584" r="5467" b="6600"/>
          <a:stretch/>
        </p:blipFill>
        <p:spPr>
          <a:xfrm>
            <a:off x="177840" y="1035000"/>
            <a:ext cx="8813880" cy="5765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4168" t="73638" r="5467" b="12502"/>
          <a:stretch/>
        </p:blipFill>
        <p:spPr>
          <a:xfrm>
            <a:off x="169920" y="14400"/>
            <a:ext cx="881388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23:43:19Z</dcterms:created>
  <dc:creator>gcmyers</dc:creator>
  <dc:description/>
  <dc:language>en-US</dc:language>
  <cp:lastModifiedBy>gcmyers</cp:lastModifiedBy>
  <dcterms:modified xsi:type="dcterms:W3CDTF">2009-07-10T23:44:53Z</dcterms:modified>
  <cp:revision>1</cp:revision>
  <dc:subject/>
  <dc:title>Slide 1</dc:title>
</cp:coreProperties>
</file>