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F2F7-725C-4E33-A2B0-4C09A34FB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D4DC-2D7E-499F-BA26-4B58BAB5D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990E-19C1-412D-B799-72660EC6F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779E-0B3C-42E7-B5A4-259086200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AD67-F99F-48CB-BD70-0C0947AF9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1015-5B5A-4905-85C6-23B08FD87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B60C-6B29-4055-9239-C66420674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BE8E-9291-47D6-AB96-52A72760B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325E-DCF5-48A0-B470-ADF103841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0EC6-489B-4B39-BC47-090FDA34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722C-8C57-4F58-A4D9-22077F165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7F8F-BC88-46CA-ADB3-C7CBB487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430A8-3AF0-442D-92B7-4DD355D343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0351" t="34183" r="34475" b="20402"/>
          <a:stretch/>
        </p:blipFill>
        <p:spPr>
          <a:xfrm>
            <a:off x="609480" y="914400"/>
            <a:ext cx="792504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17:35:44Z</dcterms:created>
  <dc:creator>gcmyers</dc:creator>
  <dc:description/>
  <dc:language>en-US</dc:language>
  <cp:lastModifiedBy>gcmyers</cp:lastModifiedBy>
  <dcterms:modified xsi:type="dcterms:W3CDTF">2008-03-10T17:38:20Z</dcterms:modified>
  <cp:revision>2</cp:revision>
  <dc:subject/>
  <dc:title>Slide 1</dc:title>
</cp:coreProperties>
</file>