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C90-DC91-410C-980B-E26AC985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54D-08CE-440D-B26A-F6676AA5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F4D-445D-40D2-8A12-29E9B990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371-46C1-4063-AC82-E4C43525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EF8-D8D4-495D-9967-674DB641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214-5364-4D1C-A9F3-D0C3ED79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5CC-F7B5-4746-87DD-CA14C00A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357-9D27-4D4B-8D52-37331B6C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14B-6DC3-4751-A448-36FBA209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AFE-D227-41C4-B139-D4BA031E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A1B-A563-44B4-9686-5FBE016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1B6-1C42-4A82-9C58-9586058C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F795-0314-44EC-8C7D-49E75ABEB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853" t="27392" r="10415" b="10841"/>
          <a:stretch/>
        </p:blipFill>
        <p:spPr>
          <a:xfrm>
            <a:off x="716040" y="760320"/>
            <a:ext cx="7870680" cy="508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7781" t="26854" r="10372" b="30192"/>
          <a:stretch/>
        </p:blipFill>
        <p:spPr>
          <a:xfrm>
            <a:off x="665280" y="1450800"/>
            <a:ext cx="7883280" cy="353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2989" t="26758" r="9952" b="9258"/>
          <a:stretch/>
        </p:blipFill>
        <p:spPr>
          <a:xfrm>
            <a:off x="952560" y="622440"/>
            <a:ext cx="7358040" cy="526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3222" t="31907" r="10070" b="11729"/>
          <a:stretch/>
        </p:blipFill>
        <p:spPr>
          <a:xfrm>
            <a:off x="990720" y="1054080"/>
            <a:ext cx="7319880" cy="46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1:47:52Z</dcterms:created>
  <dc:creator>gcmyers</dc:creator>
  <dc:description/>
  <dc:language>en-US</dc:language>
  <cp:lastModifiedBy>gcmyers</cp:lastModifiedBy>
  <dcterms:modified xsi:type="dcterms:W3CDTF">2010-12-14T21:52:27Z</dcterms:modified>
  <cp:revision>4</cp:revision>
  <dc:subject/>
  <dc:title>Slide 1</dc:title>
</cp:coreProperties>
</file>