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44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579680" y="449280"/>
            <a:ext cx="6199200" cy="11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f6bf69"/>
                </a:solidFill>
                <a:latin typeface="Arial"/>
                <a:ea typeface="Arial"/>
              </a:rPr>
              <a:t>Use PowerPoint features to add audi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04640" y="19144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the Tools menu 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“Sound” option within Transition to add audio under one or more contiguous s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“Sound” option within Build Text Object to add up to six sounds to a singl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“Other Sound...” to locate audio resources on any accessible 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20560" y="582480"/>
            <a:ext cx="83678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music, sound effects and production elements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766800" y="1706400"/>
            <a:ext cx="4019400" cy="41292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435640" y="3025800"/>
            <a:ext cx="32529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714760" y="3054240"/>
            <a:ext cx="404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anks for list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3067200" y="608040"/>
            <a:ext cx="318924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2927520" y="4473720"/>
            <a:ext cx="35146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usic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150 Avenue of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 Diego, CA 92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.619.451.64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.619.451.08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0.435.84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216480" y="4043520"/>
            <a:ext cx="814680" cy="482400"/>
          </a:xfrm>
          <a:prstGeom prst="line">
            <a:avLst/>
          </a:prstGeom>
          <a:ln w="1260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924600" y="3227400"/>
            <a:ext cx="2205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rite this d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Enhancing PowerPoint Presentations with 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usic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Sound Effec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Production Elemen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338800" y="2101680"/>
            <a:ext cx="1366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338800" y="2787480"/>
            <a:ext cx="159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8800" y="3549600"/>
            <a:ext cx="1501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8800" y="4311720"/>
            <a:ext cx="1165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Not to mention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6778800" y="1608120"/>
            <a:ext cx="2014560" cy="2739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o Lo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ical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e 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ctu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  <a:ea typeface="Arial"/>
              </a:rPr>
              <a:t>And Music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835520" y="1969920"/>
            <a:ext cx="38098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the m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ciate time and/or ge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60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magi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cp:revision>0</cp:revision>
  <dc:subject/>
  <dc:title>No Slide Title</dc:title>
</cp:coreProperties>
</file>