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blipFill rotWithShape="0">
            <a:blip r:embed="rId2"/>
            <a:tile tx="0" ty="0" sx="533175" sy="533175"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546120" y="0"/>
            <a:ext cx="8051760" cy="6856560"/>
          </a:xfrm>
          <a:prstGeom prst="roundRect">
            <a:avLst/>
          </a:prstGeom>
          <a:blipFill rotWithShape="0">
            <a:blip r:embed="rId3"/>
            <a:tile tx="0" ty="0" sx="533175" sy="533175"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144000" cy="6858000"/>
          </a:xfrm>
          <a:prstGeom prst="rect">
            <a:avLst/>
          </a:prstGeom>
          <a:blipFill rotWithShape="0">
            <a:blip r:embed="rId2"/>
            <a:tile tx="0" ty="0" sx="533175" sy="533175"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144000" cy="6858000"/>
          </a:xfrm>
          <a:prstGeom prst="rect">
            <a:avLst/>
          </a:prstGeom>
          <a:blipFill rotWithShape="0">
            <a:blip r:embed="rId1"/>
            <a:tile tx="0" ty="0" sx="533175" sy="533175"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txBox="1"/>
          <p:nvPr/>
        </p:nvSpPr>
        <p:spPr>
          <a:xfrm>
            <a:off x="730080" y="322200"/>
            <a:ext cx="7683480" cy="411120"/>
          </a:xfrm>
          <a:prstGeom prst="rect">
            <a:avLst/>
          </a:prstGeom>
          <a:noFill/>
          <a:ln w="0">
            <a:noFill/>
          </a:ln>
        </p:spPr>
        <p:txBody>
          <a:bodyPr lIns="0" rIns="0" tIns="0" bIns="0" anchor="t">
            <a:noAutofit/>
          </a:bodyPr>
          <a:p>
            <a:pPr algn="ctr">
              <a:lnSpc>
                <a:spcPct val="100000"/>
              </a:lnSpc>
            </a:pPr>
            <a:r>
              <a:rPr b="1" lang="en-US" sz="2000" spc="-1" strike="noStrike">
                <a:solidFill>
                  <a:srgbClr val="333300"/>
                </a:solidFill>
                <a:latin typeface="Century Gothic"/>
                <a:ea typeface="Century Gothic"/>
              </a:rPr>
              <a:t>A   B I T   B E T T E R</a:t>
            </a:r>
            <a:r>
              <a:rPr b="1" lang="en-US" sz="1400" spc="-1" strike="noStrike">
                <a:solidFill>
                  <a:srgbClr val="333300"/>
                </a:solidFill>
                <a:latin typeface="Century Gothic"/>
                <a:ea typeface="Century Gothic"/>
              </a:rPr>
              <a:t> </a:t>
            </a:r>
            <a:r>
              <a:rPr b="1" lang="en-US" sz="1400" spc="-1" strike="noStrike" baseline="60000">
                <a:solidFill>
                  <a:srgbClr val="333300"/>
                </a:solidFill>
                <a:latin typeface="Century Gothic"/>
                <a:ea typeface="Century Gothic"/>
              </a:rPr>
              <a:t>TM</a:t>
            </a:r>
            <a:r>
              <a:rPr b="1" lang="en-US" sz="2000" spc="-1" strike="noStrike">
                <a:solidFill>
                  <a:srgbClr val="333300"/>
                </a:solidFill>
                <a:latin typeface="Century Gothic"/>
                <a:ea typeface="Century Gothic"/>
              </a:rPr>
              <a:t>   C O R P O R A T I O N   P R E S E N T S</a:t>
            </a:r>
            <a:endParaRPr b="0" lang="en-US" sz="2000" spc="-1" strike="noStrike">
              <a:solidFill>
                <a:srgbClr val="000000"/>
              </a:solidFill>
              <a:latin typeface="Arial"/>
            </a:endParaRPr>
          </a:p>
        </p:txBody>
      </p:sp>
      <p:grpSp>
        <p:nvGrpSpPr>
          <p:cNvPr id="81" name=""/>
          <p:cNvGrpSpPr/>
          <p:nvPr/>
        </p:nvGrpSpPr>
        <p:grpSpPr>
          <a:xfrm>
            <a:off x="1406520" y="2354400"/>
            <a:ext cx="6361200" cy="2764080"/>
            <a:chOff x="1406520" y="2354400"/>
            <a:chExt cx="6361200" cy="2764080"/>
          </a:xfrm>
        </p:grpSpPr>
        <p:sp>
          <p:nvSpPr>
            <p:cNvPr id="82" name=""/>
            <p:cNvSpPr txBox="1"/>
            <p:nvPr/>
          </p:nvSpPr>
          <p:spPr>
            <a:xfrm>
              <a:off x="1406520" y="3281400"/>
              <a:ext cx="6361200" cy="1311120"/>
            </a:xfrm>
            <a:prstGeom prst="rect">
              <a:avLst/>
            </a:prstGeom>
            <a:noFill/>
            <a:ln w="0">
              <a:noFill/>
            </a:ln>
          </p:spPr>
          <p:txBody>
            <a:bodyPr lIns="0" rIns="0" tIns="0" bIns="0" anchor="t">
              <a:noAutofit/>
            </a:bodyPr>
            <a:p>
              <a:pPr>
                <a:lnSpc>
                  <a:spcPct val="100000"/>
                </a:lnSpc>
              </a:pPr>
              <a:r>
                <a:rPr b="0" lang="en-US" sz="8000" spc="-1" strike="noStrike">
                  <a:solidFill>
                    <a:srgbClr val="000000"/>
                  </a:solidFill>
                  <a:latin typeface="Times New Roman"/>
                  <a:ea typeface="Times New Roman"/>
                </a:rPr>
                <a:t>screen    beans</a:t>
              </a:r>
              <a:r>
                <a:rPr b="0" lang="en-US" sz="1000" spc="-1" strike="noStrike">
                  <a:solidFill>
                    <a:srgbClr val="000000"/>
                  </a:solidFill>
                  <a:latin typeface="Times New Roman"/>
                  <a:ea typeface="Times New Roman"/>
                </a:rPr>
                <a:t> </a:t>
              </a:r>
              <a:r>
                <a:rPr b="0" lang="en-US" sz="1200" spc="-1" strike="noStrike">
                  <a:solidFill>
                    <a:srgbClr val="000000"/>
                  </a:solidFill>
                  <a:latin typeface="Arial"/>
                  <a:ea typeface="Arial"/>
                </a:rPr>
                <a:t>TM</a:t>
              </a:r>
              <a:endParaRPr b="0" lang="en-US" sz="1200" spc="-1" strike="noStrike">
                <a:solidFill>
                  <a:srgbClr val="000000"/>
                </a:solidFill>
                <a:latin typeface="Arial"/>
              </a:endParaRPr>
            </a:p>
          </p:txBody>
        </p:sp>
        <p:grpSp>
          <p:nvGrpSpPr>
            <p:cNvPr id="83" name=""/>
            <p:cNvGrpSpPr/>
            <p:nvPr/>
          </p:nvGrpSpPr>
          <p:grpSpPr>
            <a:xfrm>
              <a:off x="3529080" y="2354400"/>
              <a:ext cx="2589480" cy="2764080"/>
              <a:chOff x="3529080" y="2354400"/>
              <a:chExt cx="2589480" cy="2764080"/>
            </a:xfrm>
          </p:grpSpPr>
          <p:sp>
            <p:nvSpPr>
              <p:cNvPr id="84" name=""/>
              <p:cNvSpPr/>
              <p:nvPr/>
            </p:nvSpPr>
            <p:spPr>
              <a:xfrm>
                <a:off x="4602240" y="2354400"/>
                <a:ext cx="786240" cy="484560"/>
              </a:xfrm>
              <a:custGeom>
                <a:avLst/>
                <a:gdLst/>
                <a:ahLst/>
                <a:rect l="0" t="0" r="r" b="b"/>
                <a:pathLst>
                  <a:path w="2184" h="1346">
                    <a:moveTo>
                      <a:pt x="843" y="241"/>
                    </a:moveTo>
                    <a:lnTo>
                      <a:pt x="1264" y="0"/>
                    </a:lnTo>
                    <a:lnTo>
                      <a:pt x="1571" y="0"/>
                    </a:lnTo>
                    <a:lnTo>
                      <a:pt x="1993" y="103"/>
                    </a:lnTo>
                    <a:lnTo>
                      <a:pt x="2184" y="380"/>
                    </a:lnTo>
                    <a:lnTo>
                      <a:pt x="2069" y="863"/>
                    </a:lnTo>
                    <a:lnTo>
                      <a:pt x="1725" y="1140"/>
                    </a:lnTo>
                    <a:lnTo>
                      <a:pt x="1264" y="1346"/>
                    </a:lnTo>
                    <a:lnTo>
                      <a:pt x="843" y="1312"/>
                    </a:lnTo>
                    <a:lnTo>
                      <a:pt x="613" y="1174"/>
                    </a:lnTo>
                    <a:lnTo>
                      <a:pt x="575" y="863"/>
                    </a:lnTo>
                    <a:lnTo>
                      <a:pt x="690" y="518"/>
                    </a:lnTo>
                    <a:lnTo>
                      <a:pt x="76" y="483"/>
                    </a:lnTo>
                    <a:lnTo>
                      <a:pt x="0" y="380"/>
                    </a:lnTo>
                    <a:lnTo>
                      <a:pt x="153" y="206"/>
                    </a:lnTo>
                    <a:lnTo>
                      <a:pt x="805" y="380"/>
                    </a:lnTo>
                    <a:lnTo>
                      <a:pt x="843" y="24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 name=""/>
              <p:cNvSpPr/>
              <p:nvPr/>
            </p:nvSpPr>
            <p:spPr>
              <a:xfrm>
                <a:off x="4313160" y="2879640"/>
                <a:ext cx="748080" cy="1148040"/>
              </a:xfrm>
              <a:custGeom>
                <a:avLst/>
                <a:gdLst/>
                <a:ahLst/>
                <a:rect l="0" t="0" r="r" b="b"/>
                <a:pathLst>
                  <a:path w="2078" h="3189">
                    <a:moveTo>
                      <a:pt x="1782" y="40"/>
                    </a:moveTo>
                    <a:lnTo>
                      <a:pt x="1425" y="0"/>
                    </a:lnTo>
                    <a:lnTo>
                      <a:pt x="1049" y="0"/>
                    </a:lnTo>
                    <a:lnTo>
                      <a:pt x="633" y="190"/>
                    </a:lnTo>
                    <a:lnTo>
                      <a:pt x="356" y="449"/>
                    </a:lnTo>
                    <a:lnTo>
                      <a:pt x="178" y="817"/>
                    </a:lnTo>
                    <a:lnTo>
                      <a:pt x="39" y="1212"/>
                    </a:lnTo>
                    <a:lnTo>
                      <a:pt x="0" y="1635"/>
                    </a:lnTo>
                    <a:lnTo>
                      <a:pt x="59" y="2126"/>
                    </a:lnTo>
                    <a:lnTo>
                      <a:pt x="217" y="2739"/>
                    </a:lnTo>
                    <a:lnTo>
                      <a:pt x="395" y="2943"/>
                    </a:lnTo>
                    <a:lnTo>
                      <a:pt x="633" y="3148"/>
                    </a:lnTo>
                    <a:lnTo>
                      <a:pt x="891" y="3189"/>
                    </a:lnTo>
                    <a:lnTo>
                      <a:pt x="1247" y="3175"/>
                    </a:lnTo>
                    <a:lnTo>
                      <a:pt x="1584" y="3052"/>
                    </a:lnTo>
                    <a:lnTo>
                      <a:pt x="1683" y="2821"/>
                    </a:lnTo>
                    <a:lnTo>
                      <a:pt x="1604" y="2589"/>
                    </a:lnTo>
                    <a:lnTo>
                      <a:pt x="1484" y="2371"/>
                    </a:lnTo>
                    <a:lnTo>
                      <a:pt x="1385" y="2140"/>
                    </a:lnTo>
                    <a:lnTo>
                      <a:pt x="1306" y="1799"/>
                    </a:lnTo>
                    <a:lnTo>
                      <a:pt x="1326" y="1485"/>
                    </a:lnTo>
                    <a:lnTo>
                      <a:pt x="1405" y="1267"/>
                    </a:lnTo>
                    <a:lnTo>
                      <a:pt x="1722" y="926"/>
                    </a:lnTo>
                    <a:lnTo>
                      <a:pt x="2059" y="517"/>
                    </a:lnTo>
                    <a:lnTo>
                      <a:pt x="2078" y="231"/>
                    </a:lnTo>
                    <a:lnTo>
                      <a:pt x="1940" y="40"/>
                    </a:lnTo>
                    <a:lnTo>
                      <a:pt x="1604" y="0"/>
                    </a:lnTo>
                    <a:lnTo>
                      <a:pt x="1782" y="4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 name=""/>
              <p:cNvSpPr/>
              <p:nvPr/>
            </p:nvSpPr>
            <p:spPr>
              <a:xfrm>
                <a:off x="3529080" y="2900520"/>
                <a:ext cx="1162440" cy="570240"/>
              </a:xfrm>
              <a:custGeom>
                <a:avLst/>
                <a:gdLst/>
                <a:ahLst/>
                <a:rect l="0" t="0" r="r" b="b"/>
                <a:pathLst>
                  <a:path w="3229" h="1584">
                    <a:moveTo>
                      <a:pt x="3134" y="0"/>
                    </a:moveTo>
                    <a:lnTo>
                      <a:pt x="2616" y="346"/>
                    </a:lnTo>
                    <a:lnTo>
                      <a:pt x="2178" y="622"/>
                    </a:lnTo>
                    <a:lnTo>
                      <a:pt x="1696" y="737"/>
                    </a:lnTo>
                    <a:lnTo>
                      <a:pt x="1146" y="829"/>
                    </a:lnTo>
                    <a:lnTo>
                      <a:pt x="372" y="622"/>
                    </a:lnTo>
                    <a:lnTo>
                      <a:pt x="145" y="478"/>
                    </a:lnTo>
                    <a:lnTo>
                      <a:pt x="95" y="581"/>
                    </a:lnTo>
                    <a:lnTo>
                      <a:pt x="468" y="783"/>
                    </a:lnTo>
                    <a:lnTo>
                      <a:pt x="677" y="842"/>
                    </a:lnTo>
                    <a:lnTo>
                      <a:pt x="240" y="870"/>
                    </a:lnTo>
                    <a:lnTo>
                      <a:pt x="0" y="870"/>
                    </a:lnTo>
                    <a:lnTo>
                      <a:pt x="0" y="973"/>
                    </a:lnTo>
                    <a:lnTo>
                      <a:pt x="436" y="1002"/>
                    </a:lnTo>
                    <a:lnTo>
                      <a:pt x="727" y="973"/>
                    </a:lnTo>
                    <a:lnTo>
                      <a:pt x="418" y="1175"/>
                    </a:lnTo>
                    <a:lnTo>
                      <a:pt x="227" y="1233"/>
                    </a:lnTo>
                    <a:lnTo>
                      <a:pt x="372" y="1365"/>
                    </a:lnTo>
                    <a:lnTo>
                      <a:pt x="663" y="1192"/>
                    </a:lnTo>
                    <a:lnTo>
                      <a:pt x="905" y="1044"/>
                    </a:lnTo>
                    <a:lnTo>
                      <a:pt x="810" y="1349"/>
                    </a:lnTo>
                    <a:lnTo>
                      <a:pt x="531" y="1538"/>
                    </a:lnTo>
                    <a:lnTo>
                      <a:pt x="613" y="1584"/>
                    </a:lnTo>
                    <a:lnTo>
                      <a:pt x="919" y="1439"/>
                    </a:lnTo>
                    <a:lnTo>
                      <a:pt x="1114" y="1147"/>
                    </a:lnTo>
                    <a:lnTo>
                      <a:pt x="1210" y="1015"/>
                    </a:lnTo>
                    <a:lnTo>
                      <a:pt x="1696" y="973"/>
                    </a:lnTo>
                    <a:lnTo>
                      <a:pt x="2310" y="829"/>
                    </a:lnTo>
                    <a:lnTo>
                      <a:pt x="2811" y="494"/>
                    </a:lnTo>
                    <a:lnTo>
                      <a:pt x="3134" y="230"/>
                    </a:lnTo>
                    <a:lnTo>
                      <a:pt x="3229" y="144"/>
                    </a:lnTo>
                    <a:lnTo>
                      <a:pt x="3134"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7" name=""/>
              <p:cNvSpPr/>
              <p:nvPr/>
            </p:nvSpPr>
            <p:spPr>
              <a:xfrm>
                <a:off x="4021200" y="3940200"/>
                <a:ext cx="617760" cy="895680"/>
              </a:xfrm>
              <a:custGeom>
                <a:avLst/>
                <a:gdLst/>
                <a:ahLst/>
                <a:rect l="0" t="0" r="r" b="b"/>
                <a:pathLst>
                  <a:path w="1716" h="2488">
                    <a:moveTo>
                      <a:pt x="1427" y="43"/>
                    </a:moveTo>
                    <a:lnTo>
                      <a:pt x="1107" y="390"/>
                    </a:lnTo>
                    <a:lnTo>
                      <a:pt x="866" y="665"/>
                    </a:lnTo>
                    <a:lnTo>
                      <a:pt x="801" y="910"/>
                    </a:lnTo>
                    <a:lnTo>
                      <a:pt x="817" y="1142"/>
                    </a:lnTo>
                    <a:lnTo>
                      <a:pt x="946" y="1403"/>
                    </a:lnTo>
                    <a:lnTo>
                      <a:pt x="1155" y="1707"/>
                    </a:lnTo>
                    <a:lnTo>
                      <a:pt x="1331" y="1953"/>
                    </a:lnTo>
                    <a:lnTo>
                      <a:pt x="1379" y="2141"/>
                    </a:lnTo>
                    <a:lnTo>
                      <a:pt x="1091" y="2083"/>
                    </a:lnTo>
                    <a:lnTo>
                      <a:pt x="657" y="2054"/>
                    </a:lnTo>
                    <a:lnTo>
                      <a:pt x="240" y="2141"/>
                    </a:lnTo>
                    <a:lnTo>
                      <a:pt x="0" y="2271"/>
                    </a:lnTo>
                    <a:lnTo>
                      <a:pt x="96" y="2430"/>
                    </a:lnTo>
                    <a:lnTo>
                      <a:pt x="320" y="2488"/>
                    </a:lnTo>
                    <a:lnTo>
                      <a:pt x="480" y="2343"/>
                    </a:lnTo>
                    <a:lnTo>
                      <a:pt x="705" y="2256"/>
                    </a:lnTo>
                    <a:lnTo>
                      <a:pt x="962" y="2256"/>
                    </a:lnTo>
                    <a:lnTo>
                      <a:pt x="1283" y="2314"/>
                    </a:lnTo>
                    <a:lnTo>
                      <a:pt x="1443" y="2430"/>
                    </a:lnTo>
                    <a:lnTo>
                      <a:pt x="1636" y="2430"/>
                    </a:lnTo>
                    <a:lnTo>
                      <a:pt x="1716" y="2314"/>
                    </a:lnTo>
                    <a:lnTo>
                      <a:pt x="1716" y="2184"/>
                    </a:lnTo>
                    <a:lnTo>
                      <a:pt x="1572" y="2039"/>
                    </a:lnTo>
                    <a:lnTo>
                      <a:pt x="1379" y="1750"/>
                    </a:lnTo>
                    <a:lnTo>
                      <a:pt x="1187" y="1475"/>
                    </a:lnTo>
                    <a:lnTo>
                      <a:pt x="1010" y="1171"/>
                    </a:lnTo>
                    <a:lnTo>
                      <a:pt x="1010" y="867"/>
                    </a:lnTo>
                    <a:lnTo>
                      <a:pt x="1107" y="694"/>
                    </a:lnTo>
                    <a:lnTo>
                      <a:pt x="1347" y="477"/>
                    </a:lnTo>
                    <a:lnTo>
                      <a:pt x="1540" y="318"/>
                    </a:lnTo>
                    <a:lnTo>
                      <a:pt x="1684" y="173"/>
                    </a:lnTo>
                    <a:lnTo>
                      <a:pt x="1524" y="0"/>
                    </a:lnTo>
                    <a:lnTo>
                      <a:pt x="1427" y="4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 name=""/>
              <p:cNvSpPr/>
              <p:nvPr/>
            </p:nvSpPr>
            <p:spPr>
              <a:xfrm>
                <a:off x="4641840" y="3978360"/>
                <a:ext cx="675000" cy="1140120"/>
              </a:xfrm>
              <a:custGeom>
                <a:avLst/>
                <a:gdLst/>
                <a:ahLst/>
                <a:rect l="0" t="0" r="r" b="b"/>
                <a:pathLst>
                  <a:path w="1875" h="3167">
                    <a:moveTo>
                      <a:pt x="436" y="100"/>
                    </a:moveTo>
                    <a:lnTo>
                      <a:pt x="387" y="618"/>
                    </a:lnTo>
                    <a:lnTo>
                      <a:pt x="387" y="964"/>
                    </a:lnTo>
                    <a:lnTo>
                      <a:pt x="468" y="1309"/>
                    </a:lnTo>
                    <a:lnTo>
                      <a:pt x="662" y="1612"/>
                    </a:lnTo>
                    <a:lnTo>
                      <a:pt x="954" y="1915"/>
                    </a:lnTo>
                    <a:lnTo>
                      <a:pt x="1261" y="2130"/>
                    </a:lnTo>
                    <a:lnTo>
                      <a:pt x="1503" y="2260"/>
                    </a:lnTo>
                    <a:lnTo>
                      <a:pt x="1778" y="2289"/>
                    </a:lnTo>
                    <a:lnTo>
                      <a:pt x="1875" y="2418"/>
                    </a:lnTo>
                    <a:lnTo>
                      <a:pt x="1875" y="2519"/>
                    </a:lnTo>
                    <a:lnTo>
                      <a:pt x="1697" y="2605"/>
                    </a:lnTo>
                    <a:lnTo>
                      <a:pt x="1503" y="2677"/>
                    </a:lnTo>
                    <a:lnTo>
                      <a:pt x="1309" y="2721"/>
                    </a:lnTo>
                    <a:lnTo>
                      <a:pt x="1002" y="2893"/>
                    </a:lnTo>
                    <a:lnTo>
                      <a:pt x="904" y="3023"/>
                    </a:lnTo>
                    <a:lnTo>
                      <a:pt x="872" y="3167"/>
                    </a:lnTo>
                    <a:lnTo>
                      <a:pt x="678" y="3152"/>
                    </a:lnTo>
                    <a:lnTo>
                      <a:pt x="484" y="3023"/>
                    </a:lnTo>
                    <a:lnTo>
                      <a:pt x="678" y="2850"/>
                    </a:lnTo>
                    <a:lnTo>
                      <a:pt x="856" y="2721"/>
                    </a:lnTo>
                    <a:lnTo>
                      <a:pt x="1148" y="2605"/>
                    </a:lnTo>
                    <a:lnTo>
                      <a:pt x="1358" y="2548"/>
                    </a:lnTo>
                    <a:lnTo>
                      <a:pt x="1632" y="2476"/>
                    </a:lnTo>
                    <a:lnTo>
                      <a:pt x="1164" y="2332"/>
                    </a:lnTo>
                    <a:lnTo>
                      <a:pt x="823" y="2087"/>
                    </a:lnTo>
                    <a:lnTo>
                      <a:pt x="581" y="1828"/>
                    </a:lnTo>
                    <a:lnTo>
                      <a:pt x="371" y="1554"/>
                    </a:lnTo>
                    <a:lnTo>
                      <a:pt x="226" y="1208"/>
                    </a:lnTo>
                    <a:lnTo>
                      <a:pt x="80" y="820"/>
                    </a:lnTo>
                    <a:lnTo>
                      <a:pt x="0" y="446"/>
                    </a:lnTo>
                    <a:lnTo>
                      <a:pt x="0" y="129"/>
                    </a:lnTo>
                    <a:lnTo>
                      <a:pt x="145" y="14"/>
                    </a:lnTo>
                    <a:lnTo>
                      <a:pt x="371" y="0"/>
                    </a:lnTo>
                    <a:lnTo>
                      <a:pt x="436" y="10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9" name=""/>
              <p:cNvSpPr/>
              <p:nvPr/>
            </p:nvSpPr>
            <p:spPr>
              <a:xfrm>
                <a:off x="4924440" y="2719440"/>
                <a:ext cx="1194120" cy="425880"/>
              </a:xfrm>
              <a:custGeom>
                <a:avLst/>
                <a:gdLst/>
                <a:ahLst/>
                <a:rect l="0" t="0" r="r" b="b"/>
                <a:pathLst>
                  <a:path w="3317" h="1183">
                    <a:moveTo>
                      <a:pt x="23" y="616"/>
                    </a:moveTo>
                    <a:lnTo>
                      <a:pt x="647" y="749"/>
                    </a:lnTo>
                    <a:lnTo>
                      <a:pt x="1164" y="854"/>
                    </a:lnTo>
                    <a:lnTo>
                      <a:pt x="1659" y="791"/>
                    </a:lnTo>
                    <a:lnTo>
                      <a:pt x="2198" y="679"/>
                    </a:lnTo>
                    <a:lnTo>
                      <a:pt x="2823" y="216"/>
                    </a:lnTo>
                    <a:lnTo>
                      <a:pt x="2970" y="0"/>
                    </a:lnTo>
                    <a:lnTo>
                      <a:pt x="3062" y="76"/>
                    </a:lnTo>
                    <a:lnTo>
                      <a:pt x="2808" y="399"/>
                    </a:lnTo>
                    <a:lnTo>
                      <a:pt x="2638" y="525"/>
                    </a:lnTo>
                    <a:lnTo>
                      <a:pt x="3047" y="399"/>
                    </a:lnTo>
                    <a:lnTo>
                      <a:pt x="3270" y="308"/>
                    </a:lnTo>
                    <a:lnTo>
                      <a:pt x="3317" y="406"/>
                    </a:lnTo>
                    <a:lnTo>
                      <a:pt x="2931" y="588"/>
                    </a:lnTo>
                    <a:lnTo>
                      <a:pt x="2653" y="665"/>
                    </a:lnTo>
                    <a:lnTo>
                      <a:pt x="3016" y="742"/>
                    </a:lnTo>
                    <a:lnTo>
                      <a:pt x="3216" y="728"/>
                    </a:lnTo>
                    <a:lnTo>
                      <a:pt x="3139" y="904"/>
                    </a:lnTo>
                    <a:lnTo>
                      <a:pt x="2800" y="840"/>
                    </a:lnTo>
                    <a:lnTo>
                      <a:pt x="2522" y="791"/>
                    </a:lnTo>
                    <a:lnTo>
                      <a:pt x="2738" y="1036"/>
                    </a:lnTo>
                    <a:lnTo>
                      <a:pt x="3078" y="1113"/>
                    </a:lnTo>
                    <a:lnTo>
                      <a:pt x="3016" y="1183"/>
                    </a:lnTo>
                    <a:lnTo>
                      <a:pt x="2677" y="1155"/>
                    </a:lnTo>
                    <a:lnTo>
                      <a:pt x="2376" y="960"/>
                    </a:lnTo>
                    <a:lnTo>
                      <a:pt x="2222" y="875"/>
                    </a:lnTo>
                    <a:lnTo>
                      <a:pt x="1759" y="1008"/>
                    </a:lnTo>
                    <a:lnTo>
                      <a:pt x="1133" y="1085"/>
                    </a:lnTo>
                    <a:lnTo>
                      <a:pt x="539" y="960"/>
                    </a:lnTo>
                    <a:lnTo>
                      <a:pt x="123" y="833"/>
                    </a:lnTo>
                    <a:lnTo>
                      <a:pt x="0" y="791"/>
                    </a:lnTo>
                    <a:lnTo>
                      <a:pt x="23" y="61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730080" y="322200"/>
            <a:ext cx="7683480" cy="411120"/>
          </a:xfrm>
          <a:prstGeom prst="rect">
            <a:avLst/>
          </a:prstGeom>
          <a:noFill/>
          <a:ln w="0">
            <a:noFill/>
          </a:ln>
        </p:spPr>
        <p:txBody>
          <a:bodyPr lIns="0" rIns="0" tIns="0" bIns="0" anchor="t">
            <a:noAutofit/>
          </a:bodyPr>
          <a:p>
            <a:pPr algn="ctr">
              <a:lnSpc>
                <a:spcPct val="100000"/>
              </a:lnSpc>
            </a:pPr>
            <a:r>
              <a:rPr b="1" lang="en-US" sz="2000" spc="-1" strike="noStrike">
                <a:solidFill>
                  <a:srgbClr val="333300"/>
                </a:solidFill>
                <a:latin typeface="Century Gothic"/>
                <a:ea typeface="Century Gothic"/>
              </a:rPr>
              <a:t>C L I P  A R T   F O R   A   P A S S I O N A T E   W O R L D</a:t>
            </a:r>
            <a:endParaRPr b="0" lang="en-US" sz="2000" spc="-1" strike="noStrike">
              <a:solidFill>
                <a:srgbClr val="000000"/>
              </a:solidFill>
              <a:latin typeface="Arial"/>
            </a:endParaRPr>
          </a:p>
        </p:txBody>
      </p:sp>
      <p:sp>
        <p:nvSpPr>
          <p:cNvPr id="91" name=""/>
          <p:cNvSpPr txBox="1"/>
          <p:nvPr/>
        </p:nvSpPr>
        <p:spPr>
          <a:xfrm>
            <a:off x="4689360" y="1022400"/>
            <a:ext cx="3657600" cy="5168160"/>
          </a:xfrm>
          <a:prstGeom prst="rect">
            <a:avLst/>
          </a:prstGeom>
          <a:noFill/>
          <a:ln w="0">
            <a:noFill/>
          </a:ln>
        </p:spPr>
        <p:txBody>
          <a:bodyPr lIns="0" rIns="0" tIns="0" bIns="0" anchor="t">
            <a:noAutofit/>
          </a:bodyPr>
          <a:p>
            <a:pPr>
              <a:lnSpc>
                <a:spcPct val="145000"/>
              </a:lnSpc>
              <a:spcBef>
                <a:spcPts val="961"/>
              </a:spcBef>
            </a:pPr>
            <a:r>
              <a:rPr b="1" lang="en-US" sz="1800" spc="-1" strike="noStrike">
                <a:solidFill>
                  <a:srgbClr val="000000"/>
                </a:solidFill>
                <a:latin typeface="Arial Narrow"/>
                <a:ea typeface="Arial Narrow"/>
              </a:rPr>
              <a:t>Looking for the perfect graphic</a:t>
            </a:r>
            <a:br>
              <a:rPr sz="1800"/>
            </a:br>
            <a:r>
              <a:rPr b="1" lang="en-US" sz="1800" spc="-1" strike="noStrike">
                <a:solidFill>
                  <a:srgbClr val="000000"/>
                </a:solidFill>
                <a:latin typeface="Arial Narrow"/>
                <a:ea typeface="Arial Narrow"/>
              </a:rPr>
              <a:t>to use in your presentation? </a:t>
            </a:r>
            <a:br>
              <a:rPr sz="1800"/>
            </a:br>
            <a:r>
              <a:rPr b="1" lang="en-US" sz="1800" spc="-1" strike="noStrike">
                <a:solidFill>
                  <a:srgbClr val="000000"/>
                </a:solidFill>
                <a:latin typeface="Arial Narrow"/>
                <a:ea typeface="Arial Narrow"/>
              </a:rPr>
              <a:t>Your report?   Your Gantt chart?  </a:t>
            </a:r>
            <a:endParaRPr b="0" lang="en-US" sz="1800" spc="-1" strike="noStrike">
              <a:solidFill>
                <a:srgbClr val="000000"/>
              </a:solidFill>
              <a:latin typeface="Arial"/>
            </a:endParaRPr>
          </a:p>
          <a:p>
            <a:pPr>
              <a:lnSpc>
                <a:spcPct val="145000"/>
              </a:lnSpc>
              <a:spcBef>
                <a:spcPts val="961"/>
              </a:spcBef>
            </a:pPr>
            <a:r>
              <a:rPr b="1" lang="en-US" sz="1800" spc="-1" strike="noStrike">
                <a:solidFill>
                  <a:srgbClr val="000000"/>
                </a:solidFill>
                <a:latin typeface="Arial Narrow"/>
                <a:ea typeface="Arial Narrow"/>
              </a:rPr>
              <a:t>Search no more --</a:t>
            </a:r>
            <a:br>
              <a:rPr sz="1800"/>
            </a:br>
            <a:r>
              <a:rPr b="1" lang="en-US" sz="1800" spc="-1" strike="noStrike">
                <a:solidFill>
                  <a:srgbClr val="000000"/>
                </a:solidFill>
                <a:latin typeface="Arial Narrow"/>
                <a:ea typeface="Arial Narrow"/>
              </a:rPr>
              <a:t>	</a:t>
            </a:r>
            <a:r>
              <a:rPr b="1" lang="en-US" sz="1800" spc="-1" strike="noStrike">
                <a:solidFill>
                  <a:srgbClr val="000000"/>
                </a:solidFill>
                <a:latin typeface="Arial Narrow"/>
                <a:ea typeface="Arial Narrow"/>
              </a:rPr>
              <a:t>you’ve got</a:t>
            </a:r>
            <a:endParaRPr b="0" lang="en-US" sz="1800" spc="-1" strike="noStrike">
              <a:solidFill>
                <a:srgbClr val="000000"/>
              </a:solidFill>
              <a:latin typeface="Arial"/>
            </a:endParaRPr>
          </a:p>
          <a:p>
            <a:pPr>
              <a:lnSpc>
                <a:spcPct val="145000"/>
              </a:lnSpc>
              <a:spcBef>
                <a:spcPts val="961"/>
              </a:spcBef>
            </a:pPr>
            <a:endParaRPr b="0" lang="en-US" sz="1800" spc="-1" strike="noStrike">
              <a:solidFill>
                <a:srgbClr val="000000"/>
              </a:solidFill>
              <a:latin typeface="Arial"/>
            </a:endParaRPr>
          </a:p>
          <a:p>
            <a:pPr>
              <a:lnSpc>
                <a:spcPct val="145000"/>
              </a:lnSpc>
              <a:spcBef>
                <a:spcPts val="961"/>
              </a:spcBef>
            </a:pPr>
            <a:endParaRPr b="0" lang="en-US" sz="1800" spc="-1" strike="noStrike">
              <a:solidFill>
                <a:srgbClr val="000000"/>
              </a:solidFill>
              <a:latin typeface="Arial"/>
            </a:endParaRPr>
          </a:p>
          <a:p>
            <a:pPr>
              <a:lnSpc>
                <a:spcPct val="145000"/>
              </a:lnSpc>
              <a:spcBef>
                <a:spcPts val="961"/>
              </a:spcBef>
            </a:pPr>
            <a:r>
              <a:rPr b="1" lang="en-US" sz="1800" spc="-1" strike="noStrike">
                <a:solidFill>
                  <a:srgbClr val="000000"/>
                </a:solidFill>
                <a:latin typeface="Arial Narrow"/>
                <a:ea typeface="Arial Narrow"/>
              </a:rPr>
              <a:t>A new breed of clip art figures designed to help make everything you do more fun.</a:t>
            </a:r>
            <a:endParaRPr b="0" lang="en-US" sz="1800" spc="-1" strike="noStrike">
              <a:solidFill>
                <a:srgbClr val="000000"/>
              </a:solidFill>
              <a:latin typeface="Arial"/>
            </a:endParaRPr>
          </a:p>
          <a:p>
            <a:pPr>
              <a:lnSpc>
                <a:spcPct val="145000"/>
              </a:lnSpc>
              <a:spcBef>
                <a:spcPts val="961"/>
              </a:spcBef>
            </a:pPr>
            <a:r>
              <a:rPr b="1" lang="en-US" sz="1800" spc="-1" strike="noStrike">
                <a:solidFill>
                  <a:srgbClr val="000000"/>
                </a:solidFill>
                <a:latin typeface="Arial Narrow"/>
                <a:ea typeface="Arial Narrow"/>
              </a:rPr>
              <a:t>It’s a tall order for these little guys, but don’t worry -- they’re professionals! </a:t>
            </a:r>
            <a:endParaRPr b="0" lang="en-US" sz="1800" spc="-1" strike="noStrike">
              <a:solidFill>
                <a:srgbClr val="000000"/>
              </a:solidFill>
              <a:latin typeface="Arial"/>
            </a:endParaRPr>
          </a:p>
        </p:txBody>
      </p:sp>
      <p:grpSp>
        <p:nvGrpSpPr>
          <p:cNvPr id="92" name=""/>
          <p:cNvGrpSpPr/>
          <p:nvPr/>
        </p:nvGrpSpPr>
        <p:grpSpPr>
          <a:xfrm>
            <a:off x="866880" y="1211400"/>
            <a:ext cx="3670560" cy="2752920"/>
            <a:chOff x="866880" y="1211400"/>
            <a:chExt cx="3670560" cy="2752920"/>
          </a:xfrm>
        </p:grpSpPr>
        <p:grpSp>
          <p:nvGrpSpPr>
            <p:cNvPr id="93" name=""/>
            <p:cNvGrpSpPr/>
            <p:nvPr/>
          </p:nvGrpSpPr>
          <p:grpSpPr>
            <a:xfrm>
              <a:off x="2149560" y="1695600"/>
              <a:ext cx="1027440" cy="1730880"/>
              <a:chOff x="2149560" y="1695600"/>
              <a:chExt cx="1027440" cy="1730880"/>
            </a:xfrm>
          </p:grpSpPr>
          <p:sp>
            <p:nvSpPr>
              <p:cNvPr id="94" name=""/>
              <p:cNvSpPr/>
              <p:nvPr/>
            </p:nvSpPr>
            <p:spPr>
              <a:xfrm>
                <a:off x="2647800" y="1695600"/>
                <a:ext cx="414720" cy="406800"/>
              </a:xfrm>
              <a:custGeom>
                <a:avLst/>
                <a:gdLst/>
                <a:ahLst/>
                <a:rect l="0" t="0" r="r" b="b"/>
                <a:pathLst>
                  <a:path w="1152" h="1130">
                    <a:moveTo>
                      <a:pt x="351" y="477"/>
                    </a:moveTo>
                    <a:lnTo>
                      <a:pt x="451" y="327"/>
                    </a:lnTo>
                    <a:lnTo>
                      <a:pt x="563" y="213"/>
                    </a:lnTo>
                    <a:lnTo>
                      <a:pt x="676" y="75"/>
                    </a:lnTo>
                    <a:lnTo>
                      <a:pt x="814" y="12"/>
                    </a:lnTo>
                    <a:lnTo>
                      <a:pt x="927" y="0"/>
                    </a:lnTo>
                    <a:lnTo>
                      <a:pt x="1040" y="37"/>
                    </a:lnTo>
                    <a:lnTo>
                      <a:pt x="1102" y="125"/>
                    </a:lnTo>
                    <a:lnTo>
                      <a:pt x="1152" y="289"/>
                    </a:lnTo>
                    <a:lnTo>
                      <a:pt x="1140" y="465"/>
                    </a:lnTo>
                    <a:lnTo>
                      <a:pt x="1090" y="615"/>
                    </a:lnTo>
                    <a:lnTo>
                      <a:pt x="965" y="791"/>
                    </a:lnTo>
                    <a:lnTo>
                      <a:pt x="826" y="917"/>
                    </a:lnTo>
                    <a:lnTo>
                      <a:pt x="676" y="1030"/>
                    </a:lnTo>
                    <a:lnTo>
                      <a:pt x="513" y="1105"/>
                    </a:lnTo>
                    <a:lnTo>
                      <a:pt x="376" y="1130"/>
                    </a:lnTo>
                    <a:lnTo>
                      <a:pt x="313" y="1093"/>
                    </a:lnTo>
                    <a:lnTo>
                      <a:pt x="262" y="942"/>
                    </a:lnTo>
                    <a:lnTo>
                      <a:pt x="275" y="741"/>
                    </a:lnTo>
                    <a:lnTo>
                      <a:pt x="37" y="753"/>
                    </a:lnTo>
                    <a:lnTo>
                      <a:pt x="0" y="715"/>
                    </a:lnTo>
                    <a:lnTo>
                      <a:pt x="37" y="640"/>
                    </a:lnTo>
                    <a:lnTo>
                      <a:pt x="287" y="628"/>
                    </a:lnTo>
                    <a:lnTo>
                      <a:pt x="351" y="47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 name=""/>
              <p:cNvSpPr/>
              <p:nvPr/>
            </p:nvSpPr>
            <p:spPr>
              <a:xfrm>
                <a:off x="2625840" y="2146320"/>
                <a:ext cx="287640" cy="597240"/>
              </a:xfrm>
              <a:custGeom>
                <a:avLst/>
                <a:gdLst/>
                <a:ahLst/>
                <a:rect l="0" t="0" r="r" b="b"/>
                <a:pathLst>
                  <a:path w="799" h="1659">
                    <a:moveTo>
                      <a:pt x="224" y="138"/>
                    </a:moveTo>
                    <a:lnTo>
                      <a:pt x="336" y="37"/>
                    </a:lnTo>
                    <a:lnTo>
                      <a:pt x="512" y="0"/>
                    </a:lnTo>
                    <a:lnTo>
                      <a:pt x="661" y="25"/>
                    </a:lnTo>
                    <a:lnTo>
                      <a:pt x="774" y="125"/>
                    </a:lnTo>
                    <a:lnTo>
                      <a:pt x="799" y="200"/>
                    </a:lnTo>
                    <a:lnTo>
                      <a:pt x="799" y="301"/>
                    </a:lnTo>
                    <a:lnTo>
                      <a:pt x="749" y="389"/>
                    </a:lnTo>
                    <a:lnTo>
                      <a:pt x="661" y="540"/>
                    </a:lnTo>
                    <a:lnTo>
                      <a:pt x="624" y="715"/>
                    </a:lnTo>
                    <a:lnTo>
                      <a:pt x="612" y="867"/>
                    </a:lnTo>
                    <a:lnTo>
                      <a:pt x="649" y="1031"/>
                    </a:lnTo>
                    <a:lnTo>
                      <a:pt x="749" y="1181"/>
                    </a:lnTo>
                    <a:lnTo>
                      <a:pt x="786" y="1332"/>
                    </a:lnTo>
                    <a:lnTo>
                      <a:pt x="774" y="1470"/>
                    </a:lnTo>
                    <a:lnTo>
                      <a:pt x="699" y="1583"/>
                    </a:lnTo>
                    <a:lnTo>
                      <a:pt x="599" y="1646"/>
                    </a:lnTo>
                    <a:lnTo>
                      <a:pt x="474" y="1659"/>
                    </a:lnTo>
                    <a:lnTo>
                      <a:pt x="324" y="1659"/>
                    </a:lnTo>
                    <a:lnTo>
                      <a:pt x="212" y="1596"/>
                    </a:lnTo>
                    <a:lnTo>
                      <a:pt x="99" y="1407"/>
                    </a:lnTo>
                    <a:lnTo>
                      <a:pt x="24" y="1244"/>
                    </a:lnTo>
                    <a:lnTo>
                      <a:pt x="0" y="993"/>
                    </a:lnTo>
                    <a:lnTo>
                      <a:pt x="24" y="766"/>
                    </a:lnTo>
                    <a:lnTo>
                      <a:pt x="74" y="527"/>
                    </a:lnTo>
                    <a:lnTo>
                      <a:pt x="149" y="288"/>
                    </a:lnTo>
                    <a:lnTo>
                      <a:pt x="224" y="13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 name=""/>
              <p:cNvSpPr/>
              <p:nvPr/>
            </p:nvSpPr>
            <p:spPr>
              <a:xfrm>
                <a:off x="2149560" y="1800360"/>
                <a:ext cx="611640" cy="465480"/>
              </a:xfrm>
              <a:custGeom>
                <a:avLst/>
                <a:gdLst/>
                <a:ahLst/>
                <a:rect l="0" t="0" r="r" b="b"/>
                <a:pathLst>
                  <a:path w="1699" h="1293">
                    <a:moveTo>
                      <a:pt x="1258" y="979"/>
                    </a:moveTo>
                    <a:lnTo>
                      <a:pt x="1599" y="1067"/>
                    </a:lnTo>
                    <a:lnTo>
                      <a:pt x="1662" y="1092"/>
                    </a:lnTo>
                    <a:lnTo>
                      <a:pt x="1699" y="1167"/>
                    </a:lnTo>
                    <a:lnTo>
                      <a:pt x="1662" y="1255"/>
                    </a:lnTo>
                    <a:lnTo>
                      <a:pt x="1599" y="1293"/>
                    </a:lnTo>
                    <a:lnTo>
                      <a:pt x="1523" y="1280"/>
                    </a:lnTo>
                    <a:lnTo>
                      <a:pt x="1145" y="1067"/>
                    </a:lnTo>
                    <a:lnTo>
                      <a:pt x="881" y="954"/>
                    </a:lnTo>
                    <a:lnTo>
                      <a:pt x="617" y="828"/>
                    </a:lnTo>
                    <a:lnTo>
                      <a:pt x="377" y="678"/>
                    </a:lnTo>
                    <a:lnTo>
                      <a:pt x="276" y="665"/>
                    </a:lnTo>
                    <a:lnTo>
                      <a:pt x="251" y="703"/>
                    </a:lnTo>
                    <a:lnTo>
                      <a:pt x="238" y="791"/>
                    </a:lnTo>
                    <a:lnTo>
                      <a:pt x="138" y="828"/>
                    </a:lnTo>
                    <a:lnTo>
                      <a:pt x="62" y="766"/>
                    </a:lnTo>
                    <a:lnTo>
                      <a:pt x="0" y="564"/>
                    </a:lnTo>
                    <a:lnTo>
                      <a:pt x="62" y="388"/>
                    </a:lnTo>
                    <a:lnTo>
                      <a:pt x="25" y="338"/>
                    </a:lnTo>
                    <a:lnTo>
                      <a:pt x="12" y="150"/>
                    </a:lnTo>
                    <a:lnTo>
                      <a:pt x="37" y="62"/>
                    </a:lnTo>
                    <a:lnTo>
                      <a:pt x="100" y="0"/>
                    </a:lnTo>
                    <a:lnTo>
                      <a:pt x="188" y="0"/>
                    </a:lnTo>
                    <a:lnTo>
                      <a:pt x="188" y="50"/>
                    </a:lnTo>
                    <a:lnTo>
                      <a:pt x="113" y="112"/>
                    </a:lnTo>
                    <a:lnTo>
                      <a:pt x="113" y="200"/>
                    </a:lnTo>
                    <a:lnTo>
                      <a:pt x="138" y="288"/>
                    </a:lnTo>
                    <a:lnTo>
                      <a:pt x="201" y="401"/>
                    </a:lnTo>
                    <a:lnTo>
                      <a:pt x="289" y="501"/>
                    </a:lnTo>
                    <a:lnTo>
                      <a:pt x="364" y="564"/>
                    </a:lnTo>
                    <a:lnTo>
                      <a:pt x="504" y="653"/>
                    </a:lnTo>
                    <a:lnTo>
                      <a:pt x="793" y="778"/>
                    </a:lnTo>
                    <a:lnTo>
                      <a:pt x="1057" y="879"/>
                    </a:lnTo>
                    <a:lnTo>
                      <a:pt x="1258" y="97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 name=""/>
              <p:cNvSpPr/>
              <p:nvPr/>
            </p:nvSpPr>
            <p:spPr>
              <a:xfrm>
                <a:off x="2855880" y="2165400"/>
                <a:ext cx="321120" cy="536760"/>
              </a:xfrm>
              <a:custGeom>
                <a:avLst/>
                <a:gdLst/>
                <a:ahLst/>
                <a:rect l="0" t="0" r="r" b="b"/>
                <a:pathLst>
                  <a:path w="892" h="1491">
                    <a:moveTo>
                      <a:pt x="0" y="75"/>
                    </a:moveTo>
                    <a:lnTo>
                      <a:pt x="12" y="12"/>
                    </a:lnTo>
                    <a:lnTo>
                      <a:pt x="150" y="0"/>
                    </a:lnTo>
                    <a:lnTo>
                      <a:pt x="226" y="62"/>
                    </a:lnTo>
                    <a:lnTo>
                      <a:pt x="339" y="225"/>
                    </a:lnTo>
                    <a:lnTo>
                      <a:pt x="490" y="438"/>
                    </a:lnTo>
                    <a:lnTo>
                      <a:pt x="628" y="588"/>
                    </a:lnTo>
                    <a:lnTo>
                      <a:pt x="880" y="865"/>
                    </a:lnTo>
                    <a:lnTo>
                      <a:pt x="892" y="927"/>
                    </a:lnTo>
                    <a:lnTo>
                      <a:pt x="842" y="965"/>
                    </a:lnTo>
                    <a:lnTo>
                      <a:pt x="717" y="1015"/>
                    </a:lnTo>
                    <a:lnTo>
                      <a:pt x="540" y="1053"/>
                    </a:lnTo>
                    <a:lnTo>
                      <a:pt x="327" y="1065"/>
                    </a:lnTo>
                    <a:lnTo>
                      <a:pt x="251" y="1078"/>
                    </a:lnTo>
                    <a:lnTo>
                      <a:pt x="226" y="1128"/>
                    </a:lnTo>
                    <a:lnTo>
                      <a:pt x="277" y="1215"/>
                    </a:lnTo>
                    <a:lnTo>
                      <a:pt x="452" y="1366"/>
                    </a:lnTo>
                    <a:lnTo>
                      <a:pt x="578" y="1403"/>
                    </a:lnTo>
                    <a:lnTo>
                      <a:pt x="603" y="1453"/>
                    </a:lnTo>
                    <a:lnTo>
                      <a:pt x="553" y="1491"/>
                    </a:lnTo>
                    <a:lnTo>
                      <a:pt x="440" y="1491"/>
                    </a:lnTo>
                    <a:lnTo>
                      <a:pt x="289" y="1403"/>
                    </a:lnTo>
                    <a:lnTo>
                      <a:pt x="163" y="1278"/>
                    </a:lnTo>
                    <a:lnTo>
                      <a:pt x="87" y="1165"/>
                    </a:lnTo>
                    <a:lnTo>
                      <a:pt x="87" y="1078"/>
                    </a:lnTo>
                    <a:lnTo>
                      <a:pt x="138" y="1015"/>
                    </a:lnTo>
                    <a:lnTo>
                      <a:pt x="213" y="990"/>
                    </a:lnTo>
                    <a:lnTo>
                      <a:pt x="327" y="977"/>
                    </a:lnTo>
                    <a:lnTo>
                      <a:pt x="452" y="977"/>
                    </a:lnTo>
                    <a:lnTo>
                      <a:pt x="603" y="952"/>
                    </a:lnTo>
                    <a:lnTo>
                      <a:pt x="679" y="927"/>
                    </a:lnTo>
                    <a:lnTo>
                      <a:pt x="717" y="890"/>
                    </a:lnTo>
                    <a:lnTo>
                      <a:pt x="704" y="852"/>
                    </a:lnTo>
                    <a:lnTo>
                      <a:pt x="590" y="752"/>
                    </a:lnTo>
                    <a:lnTo>
                      <a:pt x="415" y="576"/>
                    </a:lnTo>
                    <a:lnTo>
                      <a:pt x="251" y="425"/>
                    </a:lnTo>
                    <a:lnTo>
                      <a:pt x="75" y="263"/>
                    </a:lnTo>
                    <a:lnTo>
                      <a:pt x="12" y="150"/>
                    </a:lnTo>
                    <a:lnTo>
                      <a:pt x="0" y="7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 name=""/>
              <p:cNvSpPr/>
              <p:nvPr/>
            </p:nvSpPr>
            <p:spPr>
              <a:xfrm>
                <a:off x="2647800" y="2617920"/>
                <a:ext cx="348120" cy="808560"/>
              </a:xfrm>
              <a:custGeom>
                <a:avLst/>
                <a:gdLst/>
                <a:ahLst/>
                <a:rect l="0" t="0" r="r" b="b"/>
                <a:pathLst>
                  <a:path w="967" h="2246">
                    <a:moveTo>
                      <a:pt x="477" y="0"/>
                    </a:moveTo>
                    <a:lnTo>
                      <a:pt x="615" y="25"/>
                    </a:lnTo>
                    <a:lnTo>
                      <a:pt x="678" y="125"/>
                    </a:lnTo>
                    <a:lnTo>
                      <a:pt x="665" y="363"/>
                    </a:lnTo>
                    <a:lnTo>
                      <a:pt x="640" y="615"/>
                    </a:lnTo>
                    <a:lnTo>
                      <a:pt x="640" y="878"/>
                    </a:lnTo>
                    <a:lnTo>
                      <a:pt x="767" y="1192"/>
                    </a:lnTo>
                    <a:lnTo>
                      <a:pt x="867" y="1417"/>
                    </a:lnTo>
                    <a:lnTo>
                      <a:pt x="917" y="1643"/>
                    </a:lnTo>
                    <a:lnTo>
                      <a:pt x="905" y="1845"/>
                    </a:lnTo>
                    <a:lnTo>
                      <a:pt x="905" y="1920"/>
                    </a:lnTo>
                    <a:lnTo>
                      <a:pt x="955" y="1995"/>
                    </a:lnTo>
                    <a:lnTo>
                      <a:pt x="967" y="2070"/>
                    </a:lnTo>
                    <a:lnTo>
                      <a:pt x="930" y="2108"/>
                    </a:lnTo>
                    <a:lnTo>
                      <a:pt x="829" y="2083"/>
                    </a:lnTo>
                    <a:lnTo>
                      <a:pt x="640" y="2058"/>
                    </a:lnTo>
                    <a:lnTo>
                      <a:pt x="414" y="2108"/>
                    </a:lnTo>
                    <a:lnTo>
                      <a:pt x="264" y="2196"/>
                    </a:lnTo>
                    <a:lnTo>
                      <a:pt x="188" y="2246"/>
                    </a:lnTo>
                    <a:lnTo>
                      <a:pt x="112" y="2246"/>
                    </a:lnTo>
                    <a:lnTo>
                      <a:pt x="0" y="2083"/>
                    </a:lnTo>
                    <a:lnTo>
                      <a:pt x="12" y="2058"/>
                    </a:lnTo>
                    <a:lnTo>
                      <a:pt x="238" y="1983"/>
                    </a:lnTo>
                    <a:lnTo>
                      <a:pt x="502" y="1945"/>
                    </a:lnTo>
                    <a:lnTo>
                      <a:pt x="690" y="1933"/>
                    </a:lnTo>
                    <a:lnTo>
                      <a:pt x="804" y="1933"/>
                    </a:lnTo>
                    <a:lnTo>
                      <a:pt x="829" y="1857"/>
                    </a:lnTo>
                    <a:lnTo>
                      <a:pt x="792" y="1643"/>
                    </a:lnTo>
                    <a:lnTo>
                      <a:pt x="703" y="1417"/>
                    </a:lnTo>
                    <a:lnTo>
                      <a:pt x="565" y="1129"/>
                    </a:lnTo>
                    <a:lnTo>
                      <a:pt x="452" y="878"/>
                    </a:lnTo>
                    <a:lnTo>
                      <a:pt x="402" y="653"/>
                    </a:lnTo>
                    <a:lnTo>
                      <a:pt x="389" y="401"/>
                    </a:lnTo>
                    <a:lnTo>
                      <a:pt x="389" y="163"/>
                    </a:lnTo>
                    <a:lnTo>
                      <a:pt x="439" y="62"/>
                    </a:lnTo>
                    <a:lnTo>
                      <a:pt x="47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 name=""/>
              <p:cNvSpPr/>
              <p:nvPr/>
            </p:nvSpPr>
            <p:spPr>
              <a:xfrm>
                <a:off x="2476440" y="2639880"/>
                <a:ext cx="287640" cy="673560"/>
              </a:xfrm>
              <a:custGeom>
                <a:avLst/>
                <a:gdLst/>
                <a:ahLst/>
                <a:rect l="0" t="0" r="r" b="b"/>
                <a:pathLst>
                  <a:path w="799" h="1871">
                    <a:moveTo>
                      <a:pt x="599" y="0"/>
                    </a:moveTo>
                    <a:lnTo>
                      <a:pt x="711" y="0"/>
                    </a:lnTo>
                    <a:lnTo>
                      <a:pt x="749" y="75"/>
                    </a:lnTo>
                    <a:lnTo>
                      <a:pt x="774" y="238"/>
                    </a:lnTo>
                    <a:lnTo>
                      <a:pt x="749" y="414"/>
                    </a:lnTo>
                    <a:lnTo>
                      <a:pt x="686" y="766"/>
                    </a:lnTo>
                    <a:lnTo>
                      <a:pt x="699" y="917"/>
                    </a:lnTo>
                    <a:lnTo>
                      <a:pt x="774" y="1218"/>
                    </a:lnTo>
                    <a:lnTo>
                      <a:pt x="799" y="1432"/>
                    </a:lnTo>
                    <a:lnTo>
                      <a:pt x="799" y="1595"/>
                    </a:lnTo>
                    <a:lnTo>
                      <a:pt x="761" y="1633"/>
                    </a:lnTo>
                    <a:lnTo>
                      <a:pt x="649" y="1658"/>
                    </a:lnTo>
                    <a:lnTo>
                      <a:pt x="499" y="1696"/>
                    </a:lnTo>
                    <a:lnTo>
                      <a:pt x="349" y="1771"/>
                    </a:lnTo>
                    <a:lnTo>
                      <a:pt x="199" y="1871"/>
                    </a:lnTo>
                    <a:lnTo>
                      <a:pt x="137" y="1871"/>
                    </a:lnTo>
                    <a:lnTo>
                      <a:pt x="0" y="1758"/>
                    </a:lnTo>
                    <a:lnTo>
                      <a:pt x="12" y="1708"/>
                    </a:lnTo>
                    <a:lnTo>
                      <a:pt x="187" y="1633"/>
                    </a:lnTo>
                    <a:lnTo>
                      <a:pt x="487" y="1558"/>
                    </a:lnTo>
                    <a:lnTo>
                      <a:pt x="624" y="1507"/>
                    </a:lnTo>
                    <a:lnTo>
                      <a:pt x="649" y="1457"/>
                    </a:lnTo>
                    <a:lnTo>
                      <a:pt x="649" y="1243"/>
                    </a:lnTo>
                    <a:lnTo>
                      <a:pt x="599" y="967"/>
                    </a:lnTo>
                    <a:lnTo>
                      <a:pt x="574" y="791"/>
                    </a:lnTo>
                    <a:lnTo>
                      <a:pt x="549" y="515"/>
                    </a:lnTo>
                    <a:lnTo>
                      <a:pt x="537" y="213"/>
                    </a:lnTo>
                    <a:lnTo>
                      <a:pt x="549" y="75"/>
                    </a:lnTo>
                    <a:lnTo>
                      <a:pt x="599"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100" name=""/>
            <p:cNvGrpSpPr/>
            <p:nvPr/>
          </p:nvGrpSpPr>
          <p:grpSpPr>
            <a:xfrm>
              <a:off x="866880" y="1211400"/>
              <a:ext cx="1316160" cy="2152800"/>
              <a:chOff x="866880" y="1211400"/>
              <a:chExt cx="1316160" cy="2152800"/>
            </a:xfrm>
          </p:grpSpPr>
          <p:sp>
            <p:nvSpPr>
              <p:cNvPr id="101" name=""/>
              <p:cNvSpPr/>
              <p:nvPr/>
            </p:nvSpPr>
            <p:spPr>
              <a:xfrm>
                <a:off x="942840" y="1378080"/>
                <a:ext cx="1240200" cy="1502280"/>
              </a:xfrm>
              <a:custGeom>
                <a:avLst/>
                <a:gdLst/>
                <a:ahLst/>
                <a:rect l="0" t="0" r="r" b="b"/>
                <a:pathLst>
                  <a:path w="3445" h="4173">
                    <a:moveTo>
                      <a:pt x="2376" y="113"/>
                    </a:moveTo>
                    <a:lnTo>
                      <a:pt x="2502" y="691"/>
                    </a:lnTo>
                    <a:lnTo>
                      <a:pt x="2628" y="1144"/>
                    </a:lnTo>
                    <a:lnTo>
                      <a:pt x="2792" y="1634"/>
                    </a:lnTo>
                    <a:lnTo>
                      <a:pt x="2930" y="1998"/>
                    </a:lnTo>
                    <a:lnTo>
                      <a:pt x="3081" y="2350"/>
                    </a:lnTo>
                    <a:lnTo>
                      <a:pt x="3169" y="2564"/>
                    </a:lnTo>
                    <a:lnTo>
                      <a:pt x="2502" y="3004"/>
                    </a:lnTo>
                    <a:lnTo>
                      <a:pt x="1936" y="3369"/>
                    </a:lnTo>
                    <a:lnTo>
                      <a:pt x="1459" y="3670"/>
                    </a:lnTo>
                    <a:lnTo>
                      <a:pt x="1182" y="3897"/>
                    </a:lnTo>
                    <a:lnTo>
                      <a:pt x="1107" y="3884"/>
                    </a:lnTo>
                    <a:lnTo>
                      <a:pt x="1006" y="3733"/>
                    </a:lnTo>
                    <a:lnTo>
                      <a:pt x="842" y="2978"/>
                    </a:lnTo>
                    <a:lnTo>
                      <a:pt x="553" y="2174"/>
                    </a:lnTo>
                    <a:lnTo>
                      <a:pt x="276" y="1609"/>
                    </a:lnTo>
                    <a:lnTo>
                      <a:pt x="314" y="1521"/>
                    </a:lnTo>
                    <a:lnTo>
                      <a:pt x="1019" y="1131"/>
                    </a:lnTo>
                    <a:lnTo>
                      <a:pt x="1559" y="804"/>
                    </a:lnTo>
                    <a:lnTo>
                      <a:pt x="2037" y="540"/>
                    </a:lnTo>
                    <a:lnTo>
                      <a:pt x="2351" y="276"/>
                    </a:lnTo>
                    <a:lnTo>
                      <a:pt x="2301" y="213"/>
                    </a:lnTo>
                    <a:lnTo>
                      <a:pt x="2175" y="201"/>
                    </a:lnTo>
                    <a:lnTo>
                      <a:pt x="2137" y="213"/>
                    </a:lnTo>
                    <a:lnTo>
                      <a:pt x="2100" y="238"/>
                    </a:lnTo>
                    <a:lnTo>
                      <a:pt x="2087" y="276"/>
                    </a:lnTo>
                    <a:lnTo>
                      <a:pt x="2074" y="314"/>
                    </a:lnTo>
                    <a:lnTo>
                      <a:pt x="2049" y="351"/>
                    </a:lnTo>
                    <a:lnTo>
                      <a:pt x="2012" y="376"/>
                    </a:lnTo>
                    <a:lnTo>
                      <a:pt x="1974" y="376"/>
                    </a:lnTo>
                    <a:lnTo>
                      <a:pt x="1936" y="376"/>
                    </a:lnTo>
                    <a:lnTo>
                      <a:pt x="1898" y="364"/>
                    </a:lnTo>
                    <a:lnTo>
                      <a:pt x="1861" y="364"/>
                    </a:lnTo>
                    <a:lnTo>
                      <a:pt x="1823" y="389"/>
                    </a:lnTo>
                    <a:lnTo>
                      <a:pt x="1823" y="427"/>
                    </a:lnTo>
                    <a:lnTo>
                      <a:pt x="1798" y="464"/>
                    </a:lnTo>
                    <a:lnTo>
                      <a:pt x="1760" y="502"/>
                    </a:lnTo>
                    <a:lnTo>
                      <a:pt x="1722" y="540"/>
                    </a:lnTo>
                    <a:lnTo>
                      <a:pt x="1685" y="540"/>
                    </a:lnTo>
                    <a:lnTo>
                      <a:pt x="1635" y="540"/>
                    </a:lnTo>
                    <a:lnTo>
                      <a:pt x="1597" y="540"/>
                    </a:lnTo>
                    <a:lnTo>
                      <a:pt x="1559" y="515"/>
                    </a:lnTo>
                    <a:lnTo>
                      <a:pt x="1521" y="527"/>
                    </a:lnTo>
                    <a:lnTo>
                      <a:pt x="1484" y="552"/>
                    </a:lnTo>
                    <a:lnTo>
                      <a:pt x="1459" y="590"/>
                    </a:lnTo>
                    <a:lnTo>
                      <a:pt x="1433" y="628"/>
                    </a:lnTo>
                    <a:lnTo>
                      <a:pt x="1421" y="665"/>
                    </a:lnTo>
                    <a:lnTo>
                      <a:pt x="1383" y="703"/>
                    </a:lnTo>
                    <a:lnTo>
                      <a:pt x="1345" y="703"/>
                    </a:lnTo>
                    <a:lnTo>
                      <a:pt x="1308" y="703"/>
                    </a:lnTo>
                    <a:lnTo>
                      <a:pt x="1270" y="691"/>
                    </a:lnTo>
                    <a:lnTo>
                      <a:pt x="1232" y="691"/>
                    </a:lnTo>
                    <a:lnTo>
                      <a:pt x="1195" y="716"/>
                    </a:lnTo>
                    <a:lnTo>
                      <a:pt x="1157" y="766"/>
                    </a:lnTo>
                    <a:lnTo>
                      <a:pt x="1144" y="804"/>
                    </a:lnTo>
                    <a:lnTo>
                      <a:pt x="1119" y="841"/>
                    </a:lnTo>
                    <a:lnTo>
                      <a:pt x="1069" y="866"/>
                    </a:lnTo>
                    <a:lnTo>
                      <a:pt x="1031" y="866"/>
                    </a:lnTo>
                    <a:lnTo>
                      <a:pt x="993" y="829"/>
                    </a:lnTo>
                    <a:lnTo>
                      <a:pt x="956" y="829"/>
                    </a:lnTo>
                    <a:lnTo>
                      <a:pt x="918" y="829"/>
                    </a:lnTo>
                    <a:lnTo>
                      <a:pt x="880" y="829"/>
                    </a:lnTo>
                    <a:lnTo>
                      <a:pt x="842" y="866"/>
                    </a:lnTo>
                    <a:lnTo>
                      <a:pt x="817" y="904"/>
                    </a:lnTo>
                    <a:lnTo>
                      <a:pt x="804" y="942"/>
                    </a:lnTo>
                    <a:lnTo>
                      <a:pt x="779" y="980"/>
                    </a:lnTo>
                    <a:lnTo>
                      <a:pt x="766" y="1017"/>
                    </a:lnTo>
                    <a:lnTo>
                      <a:pt x="729" y="1030"/>
                    </a:lnTo>
                    <a:lnTo>
                      <a:pt x="691" y="1030"/>
                    </a:lnTo>
                    <a:lnTo>
                      <a:pt x="653" y="1017"/>
                    </a:lnTo>
                    <a:lnTo>
                      <a:pt x="628" y="1056"/>
                    </a:lnTo>
                    <a:lnTo>
                      <a:pt x="590" y="1081"/>
                    </a:lnTo>
                    <a:lnTo>
                      <a:pt x="565" y="1131"/>
                    </a:lnTo>
                    <a:lnTo>
                      <a:pt x="540" y="1169"/>
                    </a:lnTo>
                    <a:lnTo>
                      <a:pt x="490" y="1169"/>
                    </a:lnTo>
                    <a:lnTo>
                      <a:pt x="452" y="1169"/>
                    </a:lnTo>
                    <a:lnTo>
                      <a:pt x="414" y="1144"/>
                    </a:lnTo>
                    <a:lnTo>
                      <a:pt x="377" y="1144"/>
                    </a:lnTo>
                    <a:lnTo>
                      <a:pt x="339" y="1169"/>
                    </a:lnTo>
                    <a:lnTo>
                      <a:pt x="339" y="1219"/>
                    </a:lnTo>
                    <a:lnTo>
                      <a:pt x="339" y="1257"/>
                    </a:lnTo>
                    <a:lnTo>
                      <a:pt x="326" y="1295"/>
                    </a:lnTo>
                    <a:lnTo>
                      <a:pt x="301" y="1332"/>
                    </a:lnTo>
                    <a:lnTo>
                      <a:pt x="263" y="1332"/>
                    </a:lnTo>
                    <a:lnTo>
                      <a:pt x="226" y="1332"/>
                    </a:lnTo>
                    <a:lnTo>
                      <a:pt x="188" y="1320"/>
                    </a:lnTo>
                    <a:lnTo>
                      <a:pt x="150" y="1307"/>
                    </a:lnTo>
                    <a:lnTo>
                      <a:pt x="113" y="1307"/>
                    </a:lnTo>
                    <a:lnTo>
                      <a:pt x="62" y="1307"/>
                    </a:lnTo>
                    <a:lnTo>
                      <a:pt x="25" y="1332"/>
                    </a:lnTo>
                    <a:lnTo>
                      <a:pt x="0" y="1370"/>
                    </a:lnTo>
                    <a:lnTo>
                      <a:pt x="0" y="1408"/>
                    </a:lnTo>
                    <a:lnTo>
                      <a:pt x="0" y="1445"/>
                    </a:lnTo>
                    <a:lnTo>
                      <a:pt x="12" y="1483"/>
                    </a:lnTo>
                    <a:lnTo>
                      <a:pt x="62" y="1521"/>
                    </a:lnTo>
                    <a:lnTo>
                      <a:pt x="100" y="1533"/>
                    </a:lnTo>
                    <a:lnTo>
                      <a:pt x="125" y="1571"/>
                    </a:lnTo>
                    <a:lnTo>
                      <a:pt x="113" y="1609"/>
                    </a:lnTo>
                    <a:lnTo>
                      <a:pt x="87" y="1647"/>
                    </a:lnTo>
                    <a:lnTo>
                      <a:pt x="62" y="1684"/>
                    </a:lnTo>
                    <a:lnTo>
                      <a:pt x="62" y="1722"/>
                    </a:lnTo>
                    <a:lnTo>
                      <a:pt x="62" y="1760"/>
                    </a:lnTo>
                    <a:lnTo>
                      <a:pt x="100" y="1785"/>
                    </a:lnTo>
                    <a:lnTo>
                      <a:pt x="138" y="1810"/>
                    </a:lnTo>
                    <a:lnTo>
                      <a:pt x="175" y="1835"/>
                    </a:lnTo>
                    <a:lnTo>
                      <a:pt x="213" y="1860"/>
                    </a:lnTo>
                    <a:lnTo>
                      <a:pt x="226" y="1910"/>
                    </a:lnTo>
                    <a:lnTo>
                      <a:pt x="201" y="1948"/>
                    </a:lnTo>
                    <a:lnTo>
                      <a:pt x="175" y="1998"/>
                    </a:lnTo>
                    <a:lnTo>
                      <a:pt x="163" y="2036"/>
                    </a:lnTo>
                    <a:lnTo>
                      <a:pt x="163" y="2086"/>
                    </a:lnTo>
                    <a:lnTo>
                      <a:pt x="188" y="2124"/>
                    </a:lnTo>
                    <a:lnTo>
                      <a:pt x="226" y="2124"/>
                    </a:lnTo>
                    <a:lnTo>
                      <a:pt x="263" y="2137"/>
                    </a:lnTo>
                    <a:lnTo>
                      <a:pt x="301" y="2149"/>
                    </a:lnTo>
                    <a:lnTo>
                      <a:pt x="339" y="2174"/>
                    </a:lnTo>
                    <a:lnTo>
                      <a:pt x="414" y="2187"/>
                    </a:lnTo>
                    <a:lnTo>
                      <a:pt x="465" y="2225"/>
                    </a:lnTo>
                    <a:lnTo>
                      <a:pt x="477" y="2262"/>
                    </a:lnTo>
                    <a:lnTo>
                      <a:pt x="465" y="2300"/>
                    </a:lnTo>
                    <a:lnTo>
                      <a:pt x="452" y="2338"/>
                    </a:lnTo>
                    <a:lnTo>
                      <a:pt x="439" y="2375"/>
                    </a:lnTo>
                    <a:lnTo>
                      <a:pt x="414" y="2413"/>
                    </a:lnTo>
                    <a:lnTo>
                      <a:pt x="414" y="2451"/>
                    </a:lnTo>
                    <a:lnTo>
                      <a:pt x="427" y="2488"/>
                    </a:lnTo>
                    <a:lnTo>
                      <a:pt x="477" y="2539"/>
                    </a:lnTo>
                    <a:lnTo>
                      <a:pt x="502" y="2576"/>
                    </a:lnTo>
                    <a:lnTo>
                      <a:pt x="527" y="2614"/>
                    </a:lnTo>
                    <a:lnTo>
                      <a:pt x="527" y="2652"/>
                    </a:lnTo>
                    <a:lnTo>
                      <a:pt x="515" y="2702"/>
                    </a:lnTo>
                    <a:lnTo>
                      <a:pt x="502" y="2752"/>
                    </a:lnTo>
                    <a:lnTo>
                      <a:pt x="490" y="2790"/>
                    </a:lnTo>
                    <a:lnTo>
                      <a:pt x="490" y="2828"/>
                    </a:lnTo>
                    <a:lnTo>
                      <a:pt x="515" y="2878"/>
                    </a:lnTo>
                    <a:lnTo>
                      <a:pt x="553" y="2903"/>
                    </a:lnTo>
                    <a:lnTo>
                      <a:pt x="603" y="2928"/>
                    </a:lnTo>
                    <a:lnTo>
                      <a:pt x="703" y="2953"/>
                    </a:lnTo>
                    <a:lnTo>
                      <a:pt x="741" y="2966"/>
                    </a:lnTo>
                    <a:lnTo>
                      <a:pt x="703" y="3004"/>
                    </a:lnTo>
                    <a:lnTo>
                      <a:pt x="666" y="3041"/>
                    </a:lnTo>
                    <a:lnTo>
                      <a:pt x="615" y="3092"/>
                    </a:lnTo>
                    <a:lnTo>
                      <a:pt x="590" y="3143"/>
                    </a:lnTo>
                    <a:lnTo>
                      <a:pt x="590" y="3193"/>
                    </a:lnTo>
                    <a:lnTo>
                      <a:pt x="678" y="3243"/>
                    </a:lnTo>
                    <a:lnTo>
                      <a:pt x="754" y="3319"/>
                    </a:lnTo>
                    <a:lnTo>
                      <a:pt x="791" y="3344"/>
                    </a:lnTo>
                    <a:lnTo>
                      <a:pt x="817" y="3381"/>
                    </a:lnTo>
                    <a:lnTo>
                      <a:pt x="829" y="3419"/>
                    </a:lnTo>
                    <a:lnTo>
                      <a:pt x="804" y="3457"/>
                    </a:lnTo>
                    <a:lnTo>
                      <a:pt x="779" y="3507"/>
                    </a:lnTo>
                    <a:lnTo>
                      <a:pt x="766" y="3557"/>
                    </a:lnTo>
                    <a:lnTo>
                      <a:pt x="766" y="3595"/>
                    </a:lnTo>
                    <a:lnTo>
                      <a:pt x="804" y="3633"/>
                    </a:lnTo>
                    <a:lnTo>
                      <a:pt x="842" y="3645"/>
                    </a:lnTo>
                    <a:lnTo>
                      <a:pt x="880" y="3670"/>
                    </a:lnTo>
                    <a:lnTo>
                      <a:pt x="905" y="3708"/>
                    </a:lnTo>
                    <a:lnTo>
                      <a:pt x="893" y="3746"/>
                    </a:lnTo>
                    <a:lnTo>
                      <a:pt x="880" y="3784"/>
                    </a:lnTo>
                    <a:lnTo>
                      <a:pt x="868" y="3821"/>
                    </a:lnTo>
                    <a:lnTo>
                      <a:pt x="868" y="3859"/>
                    </a:lnTo>
                    <a:lnTo>
                      <a:pt x="868" y="3909"/>
                    </a:lnTo>
                    <a:lnTo>
                      <a:pt x="868" y="3959"/>
                    </a:lnTo>
                    <a:lnTo>
                      <a:pt x="893" y="3997"/>
                    </a:lnTo>
                    <a:lnTo>
                      <a:pt x="918" y="4035"/>
                    </a:lnTo>
                    <a:lnTo>
                      <a:pt x="956" y="4047"/>
                    </a:lnTo>
                    <a:lnTo>
                      <a:pt x="993" y="4035"/>
                    </a:lnTo>
                    <a:lnTo>
                      <a:pt x="1031" y="4035"/>
                    </a:lnTo>
                    <a:lnTo>
                      <a:pt x="1069" y="4035"/>
                    </a:lnTo>
                    <a:lnTo>
                      <a:pt x="1107" y="4060"/>
                    </a:lnTo>
                    <a:lnTo>
                      <a:pt x="1132" y="4110"/>
                    </a:lnTo>
                    <a:lnTo>
                      <a:pt x="1144" y="4161"/>
                    </a:lnTo>
                    <a:lnTo>
                      <a:pt x="1182" y="4173"/>
                    </a:lnTo>
                    <a:lnTo>
                      <a:pt x="1220" y="4173"/>
                    </a:lnTo>
                    <a:lnTo>
                      <a:pt x="1257" y="4173"/>
                    </a:lnTo>
                    <a:lnTo>
                      <a:pt x="1295" y="4173"/>
                    </a:lnTo>
                    <a:lnTo>
                      <a:pt x="1333" y="4161"/>
                    </a:lnTo>
                    <a:lnTo>
                      <a:pt x="1345" y="4123"/>
                    </a:lnTo>
                    <a:lnTo>
                      <a:pt x="1396" y="4098"/>
                    </a:lnTo>
                    <a:lnTo>
                      <a:pt x="1433" y="4060"/>
                    </a:lnTo>
                    <a:lnTo>
                      <a:pt x="1446" y="4010"/>
                    </a:lnTo>
                    <a:lnTo>
                      <a:pt x="1446" y="3972"/>
                    </a:lnTo>
                    <a:lnTo>
                      <a:pt x="1459" y="3934"/>
                    </a:lnTo>
                    <a:lnTo>
                      <a:pt x="1471" y="3897"/>
                    </a:lnTo>
                    <a:lnTo>
                      <a:pt x="1521" y="3859"/>
                    </a:lnTo>
                    <a:lnTo>
                      <a:pt x="1559" y="3846"/>
                    </a:lnTo>
                    <a:lnTo>
                      <a:pt x="1597" y="3872"/>
                    </a:lnTo>
                    <a:lnTo>
                      <a:pt x="1622" y="3909"/>
                    </a:lnTo>
                    <a:lnTo>
                      <a:pt x="1660" y="3909"/>
                    </a:lnTo>
                    <a:lnTo>
                      <a:pt x="1697" y="3884"/>
                    </a:lnTo>
                    <a:lnTo>
                      <a:pt x="1722" y="3846"/>
                    </a:lnTo>
                    <a:lnTo>
                      <a:pt x="1722" y="3809"/>
                    </a:lnTo>
                    <a:lnTo>
                      <a:pt x="1710" y="3771"/>
                    </a:lnTo>
                    <a:lnTo>
                      <a:pt x="1710" y="3733"/>
                    </a:lnTo>
                    <a:lnTo>
                      <a:pt x="2905" y="2941"/>
                    </a:lnTo>
                    <a:lnTo>
                      <a:pt x="2968" y="3029"/>
                    </a:lnTo>
                    <a:lnTo>
                      <a:pt x="3006" y="3041"/>
                    </a:lnTo>
                    <a:lnTo>
                      <a:pt x="3043" y="3041"/>
                    </a:lnTo>
                    <a:lnTo>
                      <a:pt x="3056" y="3004"/>
                    </a:lnTo>
                    <a:lnTo>
                      <a:pt x="3068" y="2966"/>
                    </a:lnTo>
                    <a:lnTo>
                      <a:pt x="3106" y="2941"/>
                    </a:lnTo>
                    <a:lnTo>
                      <a:pt x="3156" y="2916"/>
                    </a:lnTo>
                    <a:lnTo>
                      <a:pt x="3194" y="2916"/>
                    </a:lnTo>
                    <a:lnTo>
                      <a:pt x="3232" y="2916"/>
                    </a:lnTo>
                    <a:lnTo>
                      <a:pt x="3270" y="2903"/>
                    </a:lnTo>
                    <a:lnTo>
                      <a:pt x="3307" y="2865"/>
                    </a:lnTo>
                    <a:lnTo>
                      <a:pt x="3295" y="2828"/>
                    </a:lnTo>
                    <a:lnTo>
                      <a:pt x="3295" y="2790"/>
                    </a:lnTo>
                    <a:lnTo>
                      <a:pt x="3345" y="2765"/>
                    </a:lnTo>
                    <a:lnTo>
                      <a:pt x="3383" y="2765"/>
                    </a:lnTo>
                    <a:lnTo>
                      <a:pt x="3420" y="2765"/>
                    </a:lnTo>
                    <a:lnTo>
                      <a:pt x="3445" y="2727"/>
                    </a:lnTo>
                    <a:lnTo>
                      <a:pt x="3445" y="2689"/>
                    </a:lnTo>
                    <a:lnTo>
                      <a:pt x="3445" y="2652"/>
                    </a:lnTo>
                    <a:lnTo>
                      <a:pt x="3445" y="2614"/>
                    </a:lnTo>
                    <a:lnTo>
                      <a:pt x="3445" y="2564"/>
                    </a:lnTo>
                    <a:lnTo>
                      <a:pt x="3433" y="2526"/>
                    </a:lnTo>
                    <a:lnTo>
                      <a:pt x="3395" y="2488"/>
                    </a:lnTo>
                    <a:lnTo>
                      <a:pt x="3345" y="2463"/>
                    </a:lnTo>
                    <a:lnTo>
                      <a:pt x="3307" y="2438"/>
                    </a:lnTo>
                    <a:lnTo>
                      <a:pt x="3282" y="2400"/>
                    </a:lnTo>
                    <a:lnTo>
                      <a:pt x="3282" y="2363"/>
                    </a:lnTo>
                    <a:lnTo>
                      <a:pt x="3282" y="2325"/>
                    </a:lnTo>
                    <a:lnTo>
                      <a:pt x="3307" y="2287"/>
                    </a:lnTo>
                    <a:lnTo>
                      <a:pt x="3307" y="2237"/>
                    </a:lnTo>
                    <a:lnTo>
                      <a:pt x="3282" y="2199"/>
                    </a:lnTo>
                    <a:lnTo>
                      <a:pt x="3244" y="2174"/>
                    </a:lnTo>
                    <a:lnTo>
                      <a:pt x="3207" y="2162"/>
                    </a:lnTo>
                    <a:lnTo>
                      <a:pt x="3169" y="2149"/>
                    </a:lnTo>
                    <a:lnTo>
                      <a:pt x="3156" y="2111"/>
                    </a:lnTo>
                    <a:lnTo>
                      <a:pt x="3156" y="2074"/>
                    </a:lnTo>
                    <a:lnTo>
                      <a:pt x="3169" y="2036"/>
                    </a:lnTo>
                    <a:lnTo>
                      <a:pt x="3156" y="1998"/>
                    </a:lnTo>
                    <a:lnTo>
                      <a:pt x="3156" y="1923"/>
                    </a:lnTo>
                    <a:lnTo>
                      <a:pt x="3144" y="1873"/>
                    </a:lnTo>
                    <a:lnTo>
                      <a:pt x="3106" y="1860"/>
                    </a:lnTo>
                    <a:lnTo>
                      <a:pt x="3068" y="1848"/>
                    </a:lnTo>
                    <a:lnTo>
                      <a:pt x="3031" y="1822"/>
                    </a:lnTo>
                    <a:lnTo>
                      <a:pt x="3018" y="1785"/>
                    </a:lnTo>
                    <a:lnTo>
                      <a:pt x="3018" y="1747"/>
                    </a:lnTo>
                    <a:lnTo>
                      <a:pt x="3031" y="1709"/>
                    </a:lnTo>
                    <a:lnTo>
                      <a:pt x="3056" y="1672"/>
                    </a:lnTo>
                    <a:lnTo>
                      <a:pt x="3056" y="1621"/>
                    </a:lnTo>
                    <a:lnTo>
                      <a:pt x="3056" y="1584"/>
                    </a:lnTo>
                    <a:lnTo>
                      <a:pt x="3018" y="1546"/>
                    </a:lnTo>
                    <a:lnTo>
                      <a:pt x="2980" y="1521"/>
                    </a:lnTo>
                    <a:lnTo>
                      <a:pt x="2930" y="1483"/>
                    </a:lnTo>
                    <a:lnTo>
                      <a:pt x="2892" y="1471"/>
                    </a:lnTo>
                    <a:lnTo>
                      <a:pt x="2855" y="1433"/>
                    </a:lnTo>
                    <a:lnTo>
                      <a:pt x="2842" y="1395"/>
                    </a:lnTo>
                    <a:lnTo>
                      <a:pt x="2855" y="1358"/>
                    </a:lnTo>
                    <a:lnTo>
                      <a:pt x="2867" y="1320"/>
                    </a:lnTo>
                    <a:lnTo>
                      <a:pt x="2867" y="1282"/>
                    </a:lnTo>
                    <a:lnTo>
                      <a:pt x="2880" y="1244"/>
                    </a:lnTo>
                    <a:lnTo>
                      <a:pt x="2880" y="1207"/>
                    </a:lnTo>
                    <a:lnTo>
                      <a:pt x="2867" y="1169"/>
                    </a:lnTo>
                    <a:lnTo>
                      <a:pt x="2867" y="1131"/>
                    </a:lnTo>
                    <a:lnTo>
                      <a:pt x="2817" y="1094"/>
                    </a:lnTo>
                    <a:lnTo>
                      <a:pt x="2779" y="1069"/>
                    </a:lnTo>
                    <a:lnTo>
                      <a:pt x="2742" y="1056"/>
                    </a:lnTo>
                    <a:lnTo>
                      <a:pt x="2742" y="1017"/>
                    </a:lnTo>
                    <a:lnTo>
                      <a:pt x="2742" y="980"/>
                    </a:lnTo>
                    <a:lnTo>
                      <a:pt x="2742" y="942"/>
                    </a:lnTo>
                    <a:lnTo>
                      <a:pt x="2742" y="904"/>
                    </a:lnTo>
                    <a:lnTo>
                      <a:pt x="2754" y="854"/>
                    </a:lnTo>
                    <a:lnTo>
                      <a:pt x="2742" y="816"/>
                    </a:lnTo>
                    <a:lnTo>
                      <a:pt x="2716" y="779"/>
                    </a:lnTo>
                    <a:lnTo>
                      <a:pt x="2679" y="753"/>
                    </a:lnTo>
                    <a:lnTo>
                      <a:pt x="2641" y="741"/>
                    </a:lnTo>
                    <a:lnTo>
                      <a:pt x="2641" y="703"/>
                    </a:lnTo>
                    <a:lnTo>
                      <a:pt x="2641" y="665"/>
                    </a:lnTo>
                    <a:lnTo>
                      <a:pt x="2654" y="628"/>
                    </a:lnTo>
                    <a:lnTo>
                      <a:pt x="2666" y="590"/>
                    </a:lnTo>
                    <a:lnTo>
                      <a:pt x="2666" y="552"/>
                    </a:lnTo>
                    <a:lnTo>
                      <a:pt x="2666" y="515"/>
                    </a:lnTo>
                    <a:lnTo>
                      <a:pt x="2654" y="477"/>
                    </a:lnTo>
                    <a:lnTo>
                      <a:pt x="2616" y="452"/>
                    </a:lnTo>
                    <a:lnTo>
                      <a:pt x="2577" y="414"/>
                    </a:lnTo>
                    <a:lnTo>
                      <a:pt x="2540" y="389"/>
                    </a:lnTo>
                    <a:lnTo>
                      <a:pt x="2565" y="339"/>
                    </a:lnTo>
                    <a:lnTo>
                      <a:pt x="2565" y="301"/>
                    </a:lnTo>
                    <a:lnTo>
                      <a:pt x="2565" y="263"/>
                    </a:lnTo>
                    <a:lnTo>
                      <a:pt x="2577" y="226"/>
                    </a:lnTo>
                    <a:lnTo>
                      <a:pt x="2603" y="188"/>
                    </a:lnTo>
                    <a:lnTo>
                      <a:pt x="2603" y="138"/>
                    </a:lnTo>
                    <a:lnTo>
                      <a:pt x="2591" y="100"/>
                    </a:lnTo>
                    <a:lnTo>
                      <a:pt x="2577" y="62"/>
                    </a:lnTo>
                    <a:lnTo>
                      <a:pt x="2552" y="25"/>
                    </a:lnTo>
                    <a:lnTo>
                      <a:pt x="2514" y="12"/>
                    </a:lnTo>
                    <a:lnTo>
                      <a:pt x="2477" y="0"/>
                    </a:lnTo>
                    <a:lnTo>
                      <a:pt x="2439" y="0"/>
                    </a:lnTo>
                    <a:lnTo>
                      <a:pt x="2401" y="25"/>
                    </a:lnTo>
                    <a:lnTo>
                      <a:pt x="2364" y="50"/>
                    </a:lnTo>
                    <a:lnTo>
                      <a:pt x="2376" y="1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2" name=""/>
              <p:cNvSpPr/>
              <p:nvPr/>
            </p:nvSpPr>
            <p:spPr>
              <a:xfrm>
                <a:off x="1146240" y="1590840"/>
                <a:ext cx="854280" cy="1067040"/>
              </a:xfrm>
              <a:custGeom>
                <a:avLst/>
                <a:gdLst/>
                <a:ahLst/>
                <a:rect l="0" t="0" r="r" b="b"/>
                <a:pathLst>
                  <a:path w="2373" h="2964">
                    <a:moveTo>
                      <a:pt x="1733" y="0"/>
                    </a:moveTo>
                    <a:lnTo>
                      <a:pt x="1908" y="627"/>
                    </a:lnTo>
                    <a:lnTo>
                      <a:pt x="2047" y="1054"/>
                    </a:lnTo>
                    <a:lnTo>
                      <a:pt x="2222" y="1520"/>
                    </a:lnTo>
                    <a:lnTo>
                      <a:pt x="2373" y="1897"/>
                    </a:lnTo>
                    <a:lnTo>
                      <a:pt x="2335" y="1934"/>
                    </a:lnTo>
                    <a:lnTo>
                      <a:pt x="1858" y="2248"/>
                    </a:lnTo>
                    <a:lnTo>
                      <a:pt x="1256" y="2612"/>
                    </a:lnTo>
                    <a:lnTo>
                      <a:pt x="740" y="2914"/>
                    </a:lnTo>
                    <a:lnTo>
                      <a:pt x="652" y="2964"/>
                    </a:lnTo>
                    <a:lnTo>
                      <a:pt x="615" y="2939"/>
                    </a:lnTo>
                    <a:lnTo>
                      <a:pt x="426" y="2223"/>
                    </a:lnTo>
                    <a:lnTo>
                      <a:pt x="188" y="1545"/>
                    </a:lnTo>
                    <a:lnTo>
                      <a:pt x="0" y="1054"/>
                    </a:lnTo>
                    <a:lnTo>
                      <a:pt x="0" y="991"/>
                    </a:lnTo>
                    <a:lnTo>
                      <a:pt x="778" y="552"/>
                    </a:lnTo>
                    <a:lnTo>
                      <a:pt x="1319" y="226"/>
                    </a:lnTo>
                    <a:lnTo>
                      <a:pt x="1657" y="37"/>
                    </a:lnTo>
                    <a:lnTo>
                      <a:pt x="1683" y="113"/>
                    </a:lnTo>
                    <a:lnTo>
                      <a:pt x="1179" y="401"/>
                    </a:lnTo>
                    <a:lnTo>
                      <a:pt x="489" y="803"/>
                    </a:lnTo>
                    <a:lnTo>
                      <a:pt x="75" y="1042"/>
                    </a:lnTo>
                    <a:lnTo>
                      <a:pt x="263" y="1520"/>
                    </a:lnTo>
                    <a:lnTo>
                      <a:pt x="489" y="2123"/>
                    </a:lnTo>
                    <a:lnTo>
                      <a:pt x="602" y="2487"/>
                    </a:lnTo>
                    <a:lnTo>
                      <a:pt x="677" y="2826"/>
                    </a:lnTo>
                    <a:lnTo>
                      <a:pt x="1419" y="2411"/>
                    </a:lnTo>
                    <a:lnTo>
                      <a:pt x="2047" y="2022"/>
                    </a:lnTo>
                    <a:lnTo>
                      <a:pt x="2247" y="1871"/>
                    </a:lnTo>
                    <a:lnTo>
                      <a:pt x="2084" y="1443"/>
                    </a:lnTo>
                    <a:lnTo>
                      <a:pt x="1908" y="966"/>
                    </a:lnTo>
                    <a:lnTo>
                      <a:pt x="1770" y="514"/>
                    </a:lnTo>
                    <a:lnTo>
                      <a:pt x="1670" y="125"/>
                    </a:lnTo>
                    <a:lnTo>
                      <a:pt x="1657" y="50"/>
                    </a:lnTo>
                    <a:lnTo>
                      <a:pt x="173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3" name=""/>
              <p:cNvSpPr/>
              <p:nvPr/>
            </p:nvSpPr>
            <p:spPr>
              <a:xfrm>
                <a:off x="1571760" y="2484360"/>
                <a:ext cx="465480" cy="336960"/>
              </a:xfrm>
              <a:custGeom>
                <a:avLst/>
                <a:gdLst/>
                <a:ahLst/>
                <a:rect l="0" t="0" r="r" b="b"/>
                <a:pathLst>
                  <a:path w="1293" h="936">
                    <a:moveTo>
                      <a:pt x="1255" y="0"/>
                    </a:moveTo>
                    <a:lnTo>
                      <a:pt x="1293" y="113"/>
                    </a:lnTo>
                    <a:lnTo>
                      <a:pt x="50" y="936"/>
                    </a:lnTo>
                    <a:lnTo>
                      <a:pt x="0" y="810"/>
                    </a:lnTo>
                    <a:lnTo>
                      <a:pt x="100" y="810"/>
                    </a:lnTo>
                    <a:lnTo>
                      <a:pt x="1192" y="88"/>
                    </a:lnTo>
                    <a:lnTo>
                      <a:pt x="1255"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 name=""/>
              <p:cNvSpPr/>
              <p:nvPr/>
            </p:nvSpPr>
            <p:spPr>
              <a:xfrm>
                <a:off x="1771560" y="2639880"/>
                <a:ext cx="311400" cy="532080"/>
              </a:xfrm>
              <a:custGeom>
                <a:avLst/>
                <a:gdLst/>
                <a:ahLst/>
                <a:rect l="0" t="0" r="r" b="b"/>
                <a:pathLst>
                  <a:path w="865" h="1478">
                    <a:moveTo>
                      <a:pt x="263" y="0"/>
                    </a:moveTo>
                    <a:lnTo>
                      <a:pt x="865" y="1315"/>
                    </a:lnTo>
                    <a:lnTo>
                      <a:pt x="752" y="1465"/>
                    </a:lnTo>
                    <a:lnTo>
                      <a:pt x="552" y="1478"/>
                    </a:lnTo>
                    <a:lnTo>
                      <a:pt x="0" y="137"/>
                    </a:lnTo>
                    <a:lnTo>
                      <a:pt x="62" y="87"/>
                    </a:lnTo>
                    <a:lnTo>
                      <a:pt x="602" y="1378"/>
                    </a:lnTo>
                    <a:lnTo>
                      <a:pt x="677" y="1378"/>
                    </a:lnTo>
                    <a:lnTo>
                      <a:pt x="727" y="1378"/>
                    </a:lnTo>
                    <a:lnTo>
                      <a:pt x="790" y="1302"/>
                    </a:lnTo>
                    <a:lnTo>
                      <a:pt x="200" y="37"/>
                    </a:lnTo>
                    <a:lnTo>
                      <a:pt x="26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 name=""/>
              <p:cNvSpPr/>
              <p:nvPr/>
            </p:nvSpPr>
            <p:spPr>
              <a:xfrm>
                <a:off x="1459080" y="2747880"/>
                <a:ext cx="186120" cy="616320"/>
              </a:xfrm>
              <a:custGeom>
                <a:avLst/>
                <a:gdLst/>
                <a:ahLst/>
                <a:rect l="0" t="0" r="r" b="b"/>
                <a:pathLst>
                  <a:path w="517" h="1712">
                    <a:moveTo>
                      <a:pt x="252" y="62"/>
                    </a:moveTo>
                    <a:lnTo>
                      <a:pt x="517" y="1587"/>
                    </a:lnTo>
                    <a:lnTo>
                      <a:pt x="442" y="1700"/>
                    </a:lnTo>
                    <a:lnTo>
                      <a:pt x="277" y="1712"/>
                    </a:lnTo>
                    <a:lnTo>
                      <a:pt x="152" y="1675"/>
                    </a:lnTo>
                    <a:lnTo>
                      <a:pt x="0" y="125"/>
                    </a:lnTo>
                    <a:lnTo>
                      <a:pt x="50" y="37"/>
                    </a:lnTo>
                    <a:lnTo>
                      <a:pt x="214" y="1612"/>
                    </a:lnTo>
                    <a:lnTo>
                      <a:pt x="303" y="1637"/>
                    </a:lnTo>
                    <a:lnTo>
                      <a:pt x="417" y="1612"/>
                    </a:lnTo>
                    <a:lnTo>
                      <a:pt x="164" y="0"/>
                    </a:lnTo>
                    <a:lnTo>
                      <a:pt x="252" y="6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 name=""/>
              <p:cNvSpPr/>
              <p:nvPr/>
            </p:nvSpPr>
            <p:spPr>
              <a:xfrm>
                <a:off x="1069920" y="1211400"/>
                <a:ext cx="379800" cy="646560"/>
              </a:xfrm>
              <a:custGeom>
                <a:avLst/>
                <a:gdLst/>
                <a:ahLst/>
                <a:rect l="0" t="0" r="r" b="b"/>
                <a:pathLst>
                  <a:path w="1055" h="1796">
                    <a:moveTo>
                      <a:pt x="377" y="0"/>
                    </a:moveTo>
                    <a:lnTo>
                      <a:pt x="1055" y="1218"/>
                    </a:lnTo>
                    <a:lnTo>
                      <a:pt x="905" y="1281"/>
                    </a:lnTo>
                    <a:lnTo>
                      <a:pt x="440" y="288"/>
                    </a:lnTo>
                    <a:lnTo>
                      <a:pt x="578" y="1432"/>
                    </a:lnTo>
                    <a:lnTo>
                      <a:pt x="427" y="1508"/>
                    </a:lnTo>
                    <a:lnTo>
                      <a:pt x="352" y="401"/>
                    </a:lnTo>
                    <a:lnTo>
                      <a:pt x="138" y="1734"/>
                    </a:lnTo>
                    <a:lnTo>
                      <a:pt x="0" y="1796"/>
                    </a:lnTo>
                    <a:lnTo>
                      <a:pt x="289" y="37"/>
                    </a:lnTo>
                    <a:lnTo>
                      <a:pt x="37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 name=""/>
              <p:cNvSpPr/>
              <p:nvPr/>
            </p:nvSpPr>
            <p:spPr>
              <a:xfrm>
                <a:off x="866880" y="2106720"/>
                <a:ext cx="217800" cy="886320"/>
              </a:xfrm>
              <a:custGeom>
                <a:avLst/>
                <a:gdLst/>
                <a:ahLst/>
                <a:rect l="0" t="0" r="r" b="b"/>
                <a:pathLst>
                  <a:path w="605" h="2462">
                    <a:moveTo>
                      <a:pt x="416" y="25"/>
                    </a:moveTo>
                    <a:lnTo>
                      <a:pt x="264" y="1319"/>
                    </a:lnTo>
                    <a:lnTo>
                      <a:pt x="0" y="2274"/>
                    </a:lnTo>
                    <a:lnTo>
                      <a:pt x="12" y="2387"/>
                    </a:lnTo>
                    <a:lnTo>
                      <a:pt x="113" y="2462"/>
                    </a:lnTo>
                    <a:lnTo>
                      <a:pt x="264" y="2462"/>
                    </a:lnTo>
                    <a:lnTo>
                      <a:pt x="479" y="1344"/>
                    </a:lnTo>
                    <a:lnTo>
                      <a:pt x="567" y="539"/>
                    </a:lnTo>
                    <a:lnTo>
                      <a:pt x="605" y="87"/>
                    </a:lnTo>
                    <a:lnTo>
                      <a:pt x="542" y="50"/>
                    </a:lnTo>
                    <a:lnTo>
                      <a:pt x="504" y="641"/>
                    </a:lnTo>
                    <a:lnTo>
                      <a:pt x="416" y="1356"/>
                    </a:lnTo>
                    <a:lnTo>
                      <a:pt x="239" y="2198"/>
                    </a:lnTo>
                    <a:lnTo>
                      <a:pt x="201" y="2374"/>
                    </a:lnTo>
                    <a:lnTo>
                      <a:pt x="125" y="2374"/>
                    </a:lnTo>
                    <a:lnTo>
                      <a:pt x="62" y="2299"/>
                    </a:lnTo>
                    <a:lnTo>
                      <a:pt x="340" y="1306"/>
                    </a:lnTo>
                    <a:lnTo>
                      <a:pt x="403" y="678"/>
                    </a:lnTo>
                    <a:lnTo>
                      <a:pt x="491" y="0"/>
                    </a:lnTo>
                    <a:lnTo>
                      <a:pt x="416" y="2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108" name=""/>
            <p:cNvGrpSpPr/>
            <p:nvPr/>
          </p:nvGrpSpPr>
          <p:grpSpPr>
            <a:xfrm>
              <a:off x="2955960" y="2960640"/>
              <a:ext cx="1581480" cy="1003680"/>
              <a:chOff x="2955960" y="2960640"/>
              <a:chExt cx="1581480" cy="1003680"/>
            </a:xfrm>
          </p:grpSpPr>
          <p:grpSp>
            <p:nvGrpSpPr>
              <p:cNvPr id="109" name=""/>
              <p:cNvGrpSpPr/>
              <p:nvPr/>
            </p:nvGrpSpPr>
            <p:grpSpPr>
              <a:xfrm>
                <a:off x="3149640" y="2960640"/>
                <a:ext cx="984600" cy="406800"/>
                <a:chOff x="3149640" y="2960640"/>
                <a:chExt cx="984600" cy="406800"/>
              </a:xfrm>
            </p:grpSpPr>
            <p:sp>
              <p:nvSpPr>
                <p:cNvPr id="110" name=""/>
                <p:cNvSpPr/>
                <p:nvPr/>
              </p:nvSpPr>
              <p:spPr>
                <a:xfrm>
                  <a:off x="3149640" y="2960640"/>
                  <a:ext cx="984600" cy="406800"/>
                </a:xfrm>
                <a:custGeom>
                  <a:avLst/>
                  <a:gdLst/>
                  <a:ahLst/>
                  <a:rect l="0" t="0" r="r" b="b"/>
                  <a:pathLst>
                    <a:path w="2735" h="1130">
                      <a:moveTo>
                        <a:pt x="388" y="314"/>
                      </a:moveTo>
                      <a:lnTo>
                        <a:pt x="601" y="213"/>
                      </a:lnTo>
                      <a:lnTo>
                        <a:pt x="965" y="150"/>
                      </a:lnTo>
                      <a:lnTo>
                        <a:pt x="1430" y="100"/>
                      </a:lnTo>
                      <a:lnTo>
                        <a:pt x="1393" y="50"/>
                      </a:lnTo>
                      <a:lnTo>
                        <a:pt x="1053" y="75"/>
                      </a:lnTo>
                      <a:lnTo>
                        <a:pt x="664" y="112"/>
                      </a:lnTo>
                      <a:lnTo>
                        <a:pt x="288" y="188"/>
                      </a:lnTo>
                      <a:lnTo>
                        <a:pt x="0" y="327"/>
                      </a:lnTo>
                      <a:lnTo>
                        <a:pt x="37" y="389"/>
                      </a:lnTo>
                      <a:lnTo>
                        <a:pt x="351" y="465"/>
                      </a:lnTo>
                      <a:lnTo>
                        <a:pt x="539" y="577"/>
                      </a:lnTo>
                      <a:lnTo>
                        <a:pt x="739" y="778"/>
                      </a:lnTo>
                      <a:lnTo>
                        <a:pt x="978" y="1043"/>
                      </a:lnTo>
                      <a:lnTo>
                        <a:pt x="1078" y="1093"/>
                      </a:lnTo>
                      <a:lnTo>
                        <a:pt x="1229" y="1130"/>
                      </a:lnTo>
                      <a:lnTo>
                        <a:pt x="1468" y="1017"/>
                      </a:lnTo>
                      <a:lnTo>
                        <a:pt x="1618" y="917"/>
                      </a:lnTo>
                      <a:lnTo>
                        <a:pt x="1769" y="867"/>
                      </a:lnTo>
                      <a:lnTo>
                        <a:pt x="2245" y="880"/>
                      </a:lnTo>
                      <a:lnTo>
                        <a:pt x="2697" y="880"/>
                      </a:lnTo>
                      <a:lnTo>
                        <a:pt x="2735" y="828"/>
                      </a:lnTo>
                      <a:lnTo>
                        <a:pt x="2609" y="628"/>
                      </a:lnTo>
                      <a:lnTo>
                        <a:pt x="2308" y="427"/>
                      </a:lnTo>
                      <a:lnTo>
                        <a:pt x="1957" y="250"/>
                      </a:lnTo>
                      <a:lnTo>
                        <a:pt x="1756" y="150"/>
                      </a:lnTo>
                      <a:lnTo>
                        <a:pt x="1593" y="0"/>
                      </a:lnTo>
                      <a:lnTo>
                        <a:pt x="1518" y="0"/>
                      </a:lnTo>
                      <a:lnTo>
                        <a:pt x="1468" y="75"/>
                      </a:lnTo>
                      <a:lnTo>
                        <a:pt x="1794" y="250"/>
                      </a:lnTo>
                      <a:lnTo>
                        <a:pt x="2183" y="440"/>
                      </a:lnTo>
                      <a:lnTo>
                        <a:pt x="2459" y="615"/>
                      </a:lnTo>
                      <a:lnTo>
                        <a:pt x="2559" y="753"/>
                      </a:lnTo>
                      <a:lnTo>
                        <a:pt x="2559" y="803"/>
                      </a:lnTo>
                      <a:lnTo>
                        <a:pt x="2383" y="803"/>
                      </a:lnTo>
                      <a:lnTo>
                        <a:pt x="1907" y="766"/>
                      </a:lnTo>
                      <a:lnTo>
                        <a:pt x="1643" y="791"/>
                      </a:lnTo>
                      <a:lnTo>
                        <a:pt x="1405" y="867"/>
                      </a:lnTo>
                      <a:lnTo>
                        <a:pt x="1266" y="980"/>
                      </a:lnTo>
                      <a:lnTo>
                        <a:pt x="1203" y="1005"/>
                      </a:lnTo>
                      <a:lnTo>
                        <a:pt x="1103" y="980"/>
                      </a:lnTo>
                      <a:lnTo>
                        <a:pt x="877" y="778"/>
                      </a:lnTo>
                      <a:lnTo>
                        <a:pt x="689" y="540"/>
                      </a:lnTo>
                      <a:lnTo>
                        <a:pt x="539" y="440"/>
                      </a:lnTo>
                      <a:lnTo>
                        <a:pt x="388" y="31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1" name=""/>
                <p:cNvSpPr/>
                <p:nvPr/>
              </p:nvSpPr>
              <p:spPr>
                <a:xfrm>
                  <a:off x="3465360" y="3046320"/>
                  <a:ext cx="308160" cy="157680"/>
                </a:xfrm>
                <a:custGeom>
                  <a:avLst/>
                  <a:gdLst/>
                  <a:ahLst/>
                  <a:rect l="0" t="0" r="r" b="b"/>
                  <a:pathLst>
                    <a:path w="856" h="438">
                      <a:moveTo>
                        <a:pt x="125" y="225"/>
                      </a:moveTo>
                      <a:lnTo>
                        <a:pt x="100" y="62"/>
                      </a:lnTo>
                      <a:lnTo>
                        <a:pt x="37" y="74"/>
                      </a:lnTo>
                      <a:lnTo>
                        <a:pt x="0" y="175"/>
                      </a:lnTo>
                      <a:lnTo>
                        <a:pt x="12" y="275"/>
                      </a:lnTo>
                      <a:lnTo>
                        <a:pt x="125" y="401"/>
                      </a:lnTo>
                      <a:lnTo>
                        <a:pt x="239" y="438"/>
                      </a:lnTo>
                      <a:lnTo>
                        <a:pt x="339" y="413"/>
                      </a:lnTo>
                      <a:lnTo>
                        <a:pt x="415" y="325"/>
                      </a:lnTo>
                      <a:lnTo>
                        <a:pt x="453" y="300"/>
                      </a:lnTo>
                      <a:lnTo>
                        <a:pt x="491" y="300"/>
                      </a:lnTo>
                      <a:lnTo>
                        <a:pt x="529" y="300"/>
                      </a:lnTo>
                      <a:lnTo>
                        <a:pt x="567" y="300"/>
                      </a:lnTo>
                      <a:lnTo>
                        <a:pt x="604" y="325"/>
                      </a:lnTo>
                      <a:lnTo>
                        <a:pt x="642" y="325"/>
                      </a:lnTo>
                      <a:lnTo>
                        <a:pt x="692" y="325"/>
                      </a:lnTo>
                      <a:lnTo>
                        <a:pt x="730" y="312"/>
                      </a:lnTo>
                      <a:lnTo>
                        <a:pt x="768" y="300"/>
                      </a:lnTo>
                      <a:lnTo>
                        <a:pt x="806" y="287"/>
                      </a:lnTo>
                      <a:lnTo>
                        <a:pt x="843" y="262"/>
                      </a:lnTo>
                      <a:lnTo>
                        <a:pt x="856" y="225"/>
                      </a:lnTo>
                      <a:lnTo>
                        <a:pt x="856" y="188"/>
                      </a:lnTo>
                      <a:lnTo>
                        <a:pt x="856" y="150"/>
                      </a:lnTo>
                      <a:lnTo>
                        <a:pt x="856" y="113"/>
                      </a:lnTo>
                      <a:lnTo>
                        <a:pt x="831" y="74"/>
                      </a:lnTo>
                      <a:lnTo>
                        <a:pt x="793" y="49"/>
                      </a:lnTo>
                      <a:lnTo>
                        <a:pt x="755" y="37"/>
                      </a:lnTo>
                      <a:lnTo>
                        <a:pt x="718" y="12"/>
                      </a:lnTo>
                      <a:lnTo>
                        <a:pt x="680" y="0"/>
                      </a:lnTo>
                      <a:lnTo>
                        <a:pt x="642" y="0"/>
                      </a:lnTo>
                      <a:lnTo>
                        <a:pt x="604" y="0"/>
                      </a:lnTo>
                      <a:lnTo>
                        <a:pt x="554" y="0"/>
                      </a:lnTo>
                      <a:lnTo>
                        <a:pt x="516" y="0"/>
                      </a:lnTo>
                      <a:lnTo>
                        <a:pt x="479" y="0"/>
                      </a:lnTo>
                      <a:lnTo>
                        <a:pt x="441" y="0"/>
                      </a:lnTo>
                      <a:lnTo>
                        <a:pt x="390" y="0"/>
                      </a:lnTo>
                      <a:lnTo>
                        <a:pt x="289" y="0"/>
                      </a:lnTo>
                      <a:lnTo>
                        <a:pt x="251" y="12"/>
                      </a:lnTo>
                      <a:lnTo>
                        <a:pt x="251" y="49"/>
                      </a:lnTo>
                      <a:lnTo>
                        <a:pt x="264" y="87"/>
                      </a:lnTo>
                      <a:lnTo>
                        <a:pt x="301" y="99"/>
                      </a:lnTo>
                      <a:lnTo>
                        <a:pt x="339" y="99"/>
                      </a:lnTo>
                      <a:lnTo>
                        <a:pt x="377" y="87"/>
                      </a:lnTo>
                      <a:lnTo>
                        <a:pt x="427" y="87"/>
                      </a:lnTo>
                      <a:lnTo>
                        <a:pt x="479" y="74"/>
                      </a:lnTo>
                      <a:lnTo>
                        <a:pt x="516" y="74"/>
                      </a:lnTo>
                      <a:lnTo>
                        <a:pt x="567" y="74"/>
                      </a:lnTo>
                      <a:lnTo>
                        <a:pt x="604" y="74"/>
                      </a:lnTo>
                      <a:lnTo>
                        <a:pt x="642" y="74"/>
                      </a:lnTo>
                      <a:lnTo>
                        <a:pt x="680" y="74"/>
                      </a:lnTo>
                      <a:lnTo>
                        <a:pt x="718" y="87"/>
                      </a:lnTo>
                      <a:lnTo>
                        <a:pt x="730" y="125"/>
                      </a:lnTo>
                      <a:lnTo>
                        <a:pt x="743" y="163"/>
                      </a:lnTo>
                      <a:lnTo>
                        <a:pt x="730" y="200"/>
                      </a:lnTo>
                      <a:lnTo>
                        <a:pt x="692" y="200"/>
                      </a:lnTo>
                      <a:lnTo>
                        <a:pt x="642" y="200"/>
                      </a:lnTo>
                      <a:lnTo>
                        <a:pt x="604" y="200"/>
                      </a:lnTo>
                      <a:lnTo>
                        <a:pt x="567" y="200"/>
                      </a:lnTo>
                      <a:lnTo>
                        <a:pt x="529" y="200"/>
                      </a:lnTo>
                      <a:lnTo>
                        <a:pt x="491" y="200"/>
                      </a:lnTo>
                      <a:lnTo>
                        <a:pt x="453" y="200"/>
                      </a:lnTo>
                      <a:lnTo>
                        <a:pt x="415" y="200"/>
                      </a:lnTo>
                      <a:lnTo>
                        <a:pt x="377" y="200"/>
                      </a:lnTo>
                      <a:lnTo>
                        <a:pt x="339" y="200"/>
                      </a:lnTo>
                      <a:lnTo>
                        <a:pt x="301" y="225"/>
                      </a:lnTo>
                      <a:lnTo>
                        <a:pt x="264" y="250"/>
                      </a:lnTo>
                      <a:lnTo>
                        <a:pt x="251" y="287"/>
                      </a:lnTo>
                      <a:lnTo>
                        <a:pt x="213" y="287"/>
                      </a:lnTo>
                      <a:lnTo>
                        <a:pt x="176" y="275"/>
                      </a:lnTo>
                      <a:lnTo>
                        <a:pt x="125" y="225"/>
                      </a:lnTo>
                      <a:lnTo>
                        <a:pt x="138" y="175"/>
                      </a:lnTo>
                      <a:lnTo>
                        <a:pt x="125" y="138"/>
                      </a:lnTo>
                      <a:lnTo>
                        <a:pt x="113" y="99"/>
                      </a:lnTo>
                      <a:lnTo>
                        <a:pt x="125" y="22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112" name=""/>
              <p:cNvGrpSpPr/>
              <p:nvPr/>
            </p:nvGrpSpPr>
            <p:grpSpPr>
              <a:xfrm>
                <a:off x="2955960" y="3321000"/>
                <a:ext cx="709920" cy="611640"/>
                <a:chOff x="2955960" y="3321000"/>
                <a:chExt cx="709920" cy="611640"/>
              </a:xfrm>
            </p:grpSpPr>
            <p:sp>
              <p:nvSpPr>
                <p:cNvPr id="113" name=""/>
                <p:cNvSpPr/>
                <p:nvPr/>
              </p:nvSpPr>
              <p:spPr>
                <a:xfrm>
                  <a:off x="2955960" y="3321000"/>
                  <a:ext cx="709920" cy="611640"/>
                </a:xfrm>
                <a:custGeom>
                  <a:avLst/>
                  <a:gdLst/>
                  <a:ahLst/>
                  <a:rect l="0" t="0" r="r" b="b"/>
                  <a:pathLst>
                    <a:path w="1972" h="1699">
                      <a:moveTo>
                        <a:pt x="816" y="150"/>
                      </a:moveTo>
                      <a:lnTo>
                        <a:pt x="464" y="226"/>
                      </a:lnTo>
                      <a:lnTo>
                        <a:pt x="138" y="402"/>
                      </a:lnTo>
                      <a:lnTo>
                        <a:pt x="0" y="604"/>
                      </a:lnTo>
                      <a:lnTo>
                        <a:pt x="25" y="705"/>
                      </a:lnTo>
                      <a:lnTo>
                        <a:pt x="251" y="881"/>
                      </a:lnTo>
                      <a:lnTo>
                        <a:pt x="602" y="1145"/>
                      </a:lnTo>
                      <a:lnTo>
                        <a:pt x="866" y="1410"/>
                      </a:lnTo>
                      <a:lnTo>
                        <a:pt x="1055" y="1687"/>
                      </a:lnTo>
                      <a:lnTo>
                        <a:pt x="1118" y="1699"/>
                      </a:lnTo>
                      <a:lnTo>
                        <a:pt x="1532" y="1385"/>
                      </a:lnTo>
                      <a:lnTo>
                        <a:pt x="1934" y="1057"/>
                      </a:lnTo>
                      <a:lnTo>
                        <a:pt x="1972" y="893"/>
                      </a:lnTo>
                      <a:lnTo>
                        <a:pt x="1670" y="604"/>
                      </a:lnTo>
                      <a:lnTo>
                        <a:pt x="1344" y="364"/>
                      </a:lnTo>
                      <a:lnTo>
                        <a:pt x="1193" y="201"/>
                      </a:lnTo>
                      <a:lnTo>
                        <a:pt x="1017" y="0"/>
                      </a:lnTo>
                      <a:lnTo>
                        <a:pt x="853" y="37"/>
                      </a:lnTo>
                      <a:lnTo>
                        <a:pt x="866" y="113"/>
                      </a:lnTo>
                      <a:lnTo>
                        <a:pt x="1181" y="339"/>
                      </a:lnTo>
                      <a:lnTo>
                        <a:pt x="1419" y="541"/>
                      </a:lnTo>
                      <a:lnTo>
                        <a:pt x="1771" y="780"/>
                      </a:lnTo>
                      <a:lnTo>
                        <a:pt x="1821" y="906"/>
                      </a:lnTo>
                      <a:lnTo>
                        <a:pt x="1808" y="1007"/>
                      </a:lnTo>
                      <a:lnTo>
                        <a:pt x="1532" y="1271"/>
                      </a:lnTo>
                      <a:lnTo>
                        <a:pt x="1193" y="1473"/>
                      </a:lnTo>
                      <a:lnTo>
                        <a:pt x="1080" y="1473"/>
                      </a:lnTo>
                      <a:lnTo>
                        <a:pt x="803" y="1208"/>
                      </a:lnTo>
                      <a:lnTo>
                        <a:pt x="376" y="818"/>
                      </a:lnTo>
                      <a:lnTo>
                        <a:pt x="150" y="629"/>
                      </a:lnTo>
                      <a:lnTo>
                        <a:pt x="163" y="554"/>
                      </a:lnTo>
                      <a:lnTo>
                        <a:pt x="326" y="377"/>
                      </a:lnTo>
                      <a:lnTo>
                        <a:pt x="615" y="289"/>
                      </a:lnTo>
                      <a:lnTo>
                        <a:pt x="841" y="213"/>
                      </a:lnTo>
                      <a:lnTo>
                        <a:pt x="816" y="15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 name=""/>
                <p:cNvSpPr/>
                <p:nvPr/>
              </p:nvSpPr>
              <p:spPr>
                <a:xfrm>
                  <a:off x="3225960" y="3498840"/>
                  <a:ext cx="222480" cy="271800"/>
                </a:xfrm>
                <a:custGeom>
                  <a:avLst/>
                  <a:gdLst/>
                  <a:ahLst/>
                  <a:rect l="0" t="0" r="r" b="b"/>
                  <a:pathLst>
                    <a:path w="618" h="755">
                      <a:moveTo>
                        <a:pt x="353" y="175"/>
                      </a:moveTo>
                      <a:lnTo>
                        <a:pt x="62" y="75"/>
                      </a:lnTo>
                      <a:lnTo>
                        <a:pt x="0" y="25"/>
                      </a:lnTo>
                      <a:lnTo>
                        <a:pt x="50" y="0"/>
                      </a:lnTo>
                      <a:lnTo>
                        <a:pt x="151" y="0"/>
                      </a:lnTo>
                      <a:lnTo>
                        <a:pt x="188" y="0"/>
                      </a:lnTo>
                      <a:lnTo>
                        <a:pt x="226" y="0"/>
                      </a:lnTo>
                      <a:lnTo>
                        <a:pt x="264" y="12"/>
                      </a:lnTo>
                      <a:lnTo>
                        <a:pt x="302" y="37"/>
                      </a:lnTo>
                      <a:lnTo>
                        <a:pt x="353" y="50"/>
                      </a:lnTo>
                      <a:lnTo>
                        <a:pt x="391" y="62"/>
                      </a:lnTo>
                      <a:lnTo>
                        <a:pt x="429" y="150"/>
                      </a:lnTo>
                      <a:lnTo>
                        <a:pt x="467" y="175"/>
                      </a:lnTo>
                      <a:lnTo>
                        <a:pt x="492" y="213"/>
                      </a:lnTo>
                      <a:lnTo>
                        <a:pt x="504" y="251"/>
                      </a:lnTo>
                      <a:lnTo>
                        <a:pt x="454" y="263"/>
                      </a:lnTo>
                      <a:lnTo>
                        <a:pt x="416" y="289"/>
                      </a:lnTo>
                      <a:lnTo>
                        <a:pt x="378" y="326"/>
                      </a:lnTo>
                      <a:lnTo>
                        <a:pt x="378" y="364"/>
                      </a:lnTo>
                      <a:lnTo>
                        <a:pt x="416" y="390"/>
                      </a:lnTo>
                      <a:lnTo>
                        <a:pt x="454" y="403"/>
                      </a:lnTo>
                      <a:lnTo>
                        <a:pt x="492" y="415"/>
                      </a:lnTo>
                      <a:lnTo>
                        <a:pt x="530" y="428"/>
                      </a:lnTo>
                      <a:lnTo>
                        <a:pt x="567" y="466"/>
                      </a:lnTo>
                      <a:lnTo>
                        <a:pt x="593" y="503"/>
                      </a:lnTo>
                      <a:lnTo>
                        <a:pt x="605" y="541"/>
                      </a:lnTo>
                      <a:lnTo>
                        <a:pt x="618" y="579"/>
                      </a:lnTo>
                      <a:lnTo>
                        <a:pt x="618" y="616"/>
                      </a:lnTo>
                      <a:lnTo>
                        <a:pt x="593" y="654"/>
                      </a:lnTo>
                      <a:lnTo>
                        <a:pt x="555" y="692"/>
                      </a:lnTo>
                      <a:lnTo>
                        <a:pt x="517" y="717"/>
                      </a:lnTo>
                      <a:lnTo>
                        <a:pt x="479" y="742"/>
                      </a:lnTo>
                      <a:lnTo>
                        <a:pt x="441" y="755"/>
                      </a:lnTo>
                      <a:lnTo>
                        <a:pt x="404" y="755"/>
                      </a:lnTo>
                      <a:lnTo>
                        <a:pt x="366" y="755"/>
                      </a:lnTo>
                      <a:lnTo>
                        <a:pt x="315" y="755"/>
                      </a:lnTo>
                      <a:lnTo>
                        <a:pt x="277" y="742"/>
                      </a:lnTo>
                      <a:lnTo>
                        <a:pt x="239" y="729"/>
                      </a:lnTo>
                      <a:lnTo>
                        <a:pt x="201" y="704"/>
                      </a:lnTo>
                      <a:lnTo>
                        <a:pt x="163" y="679"/>
                      </a:lnTo>
                      <a:lnTo>
                        <a:pt x="138" y="641"/>
                      </a:lnTo>
                      <a:lnTo>
                        <a:pt x="113" y="604"/>
                      </a:lnTo>
                      <a:lnTo>
                        <a:pt x="100" y="566"/>
                      </a:lnTo>
                      <a:lnTo>
                        <a:pt x="100" y="516"/>
                      </a:lnTo>
                      <a:lnTo>
                        <a:pt x="100" y="478"/>
                      </a:lnTo>
                      <a:lnTo>
                        <a:pt x="100" y="440"/>
                      </a:lnTo>
                      <a:lnTo>
                        <a:pt x="138" y="428"/>
                      </a:lnTo>
                      <a:lnTo>
                        <a:pt x="163" y="466"/>
                      </a:lnTo>
                      <a:lnTo>
                        <a:pt x="176" y="503"/>
                      </a:lnTo>
                      <a:lnTo>
                        <a:pt x="214" y="541"/>
                      </a:lnTo>
                      <a:lnTo>
                        <a:pt x="251" y="566"/>
                      </a:lnTo>
                      <a:lnTo>
                        <a:pt x="289" y="591"/>
                      </a:lnTo>
                      <a:lnTo>
                        <a:pt x="328" y="616"/>
                      </a:lnTo>
                      <a:lnTo>
                        <a:pt x="366" y="616"/>
                      </a:lnTo>
                      <a:lnTo>
                        <a:pt x="404" y="616"/>
                      </a:lnTo>
                      <a:lnTo>
                        <a:pt x="441" y="616"/>
                      </a:lnTo>
                      <a:lnTo>
                        <a:pt x="441" y="579"/>
                      </a:lnTo>
                      <a:lnTo>
                        <a:pt x="441" y="541"/>
                      </a:lnTo>
                      <a:lnTo>
                        <a:pt x="416" y="503"/>
                      </a:lnTo>
                      <a:lnTo>
                        <a:pt x="378" y="466"/>
                      </a:lnTo>
                      <a:lnTo>
                        <a:pt x="341" y="453"/>
                      </a:lnTo>
                      <a:lnTo>
                        <a:pt x="289" y="453"/>
                      </a:lnTo>
                      <a:lnTo>
                        <a:pt x="251" y="453"/>
                      </a:lnTo>
                      <a:lnTo>
                        <a:pt x="214" y="453"/>
                      </a:lnTo>
                      <a:lnTo>
                        <a:pt x="176" y="440"/>
                      </a:lnTo>
                      <a:lnTo>
                        <a:pt x="138" y="440"/>
                      </a:lnTo>
                      <a:lnTo>
                        <a:pt x="88" y="403"/>
                      </a:lnTo>
                      <a:lnTo>
                        <a:pt x="75" y="364"/>
                      </a:lnTo>
                      <a:lnTo>
                        <a:pt x="125" y="339"/>
                      </a:lnTo>
                      <a:lnTo>
                        <a:pt x="163" y="326"/>
                      </a:lnTo>
                      <a:lnTo>
                        <a:pt x="201" y="301"/>
                      </a:lnTo>
                      <a:lnTo>
                        <a:pt x="239" y="289"/>
                      </a:lnTo>
                      <a:lnTo>
                        <a:pt x="277" y="276"/>
                      </a:lnTo>
                      <a:lnTo>
                        <a:pt x="315" y="251"/>
                      </a:lnTo>
                      <a:lnTo>
                        <a:pt x="353" y="17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115" name=""/>
              <p:cNvGrpSpPr/>
              <p:nvPr/>
            </p:nvGrpSpPr>
            <p:grpSpPr>
              <a:xfrm>
                <a:off x="3705120" y="3484440"/>
                <a:ext cx="832320" cy="479880"/>
                <a:chOff x="3705120" y="3484440"/>
                <a:chExt cx="832320" cy="479880"/>
              </a:xfrm>
            </p:grpSpPr>
            <p:sp>
              <p:nvSpPr>
                <p:cNvPr id="116" name=""/>
                <p:cNvSpPr/>
                <p:nvPr/>
              </p:nvSpPr>
              <p:spPr>
                <a:xfrm>
                  <a:off x="3705120" y="3484440"/>
                  <a:ext cx="832320" cy="479880"/>
                </a:xfrm>
                <a:custGeom>
                  <a:avLst/>
                  <a:gdLst/>
                  <a:ahLst/>
                  <a:rect l="0" t="0" r="r" b="b"/>
                  <a:pathLst>
                    <a:path w="2312" h="1333">
                      <a:moveTo>
                        <a:pt x="37" y="566"/>
                      </a:moveTo>
                      <a:lnTo>
                        <a:pt x="426" y="125"/>
                      </a:lnTo>
                      <a:lnTo>
                        <a:pt x="514" y="87"/>
                      </a:lnTo>
                      <a:lnTo>
                        <a:pt x="577" y="113"/>
                      </a:lnTo>
                      <a:lnTo>
                        <a:pt x="276" y="403"/>
                      </a:lnTo>
                      <a:lnTo>
                        <a:pt x="200" y="616"/>
                      </a:lnTo>
                      <a:lnTo>
                        <a:pt x="326" y="654"/>
                      </a:lnTo>
                      <a:lnTo>
                        <a:pt x="691" y="754"/>
                      </a:lnTo>
                      <a:lnTo>
                        <a:pt x="980" y="893"/>
                      </a:lnTo>
                      <a:lnTo>
                        <a:pt x="1407" y="1195"/>
                      </a:lnTo>
                      <a:lnTo>
                        <a:pt x="1457" y="1170"/>
                      </a:lnTo>
                      <a:lnTo>
                        <a:pt x="1721" y="792"/>
                      </a:lnTo>
                      <a:lnTo>
                        <a:pt x="1848" y="666"/>
                      </a:lnTo>
                      <a:lnTo>
                        <a:pt x="2023" y="541"/>
                      </a:lnTo>
                      <a:lnTo>
                        <a:pt x="2111" y="440"/>
                      </a:lnTo>
                      <a:lnTo>
                        <a:pt x="2161" y="301"/>
                      </a:lnTo>
                      <a:lnTo>
                        <a:pt x="1848" y="238"/>
                      </a:lnTo>
                      <a:lnTo>
                        <a:pt x="1432" y="201"/>
                      </a:lnTo>
                      <a:lnTo>
                        <a:pt x="1131" y="175"/>
                      </a:lnTo>
                      <a:lnTo>
                        <a:pt x="641" y="87"/>
                      </a:lnTo>
                      <a:lnTo>
                        <a:pt x="577" y="37"/>
                      </a:lnTo>
                      <a:lnTo>
                        <a:pt x="616" y="0"/>
                      </a:lnTo>
                      <a:lnTo>
                        <a:pt x="867" y="75"/>
                      </a:lnTo>
                      <a:lnTo>
                        <a:pt x="1143" y="113"/>
                      </a:lnTo>
                      <a:lnTo>
                        <a:pt x="1495" y="138"/>
                      </a:lnTo>
                      <a:lnTo>
                        <a:pt x="1986" y="175"/>
                      </a:lnTo>
                      <a:lnTo>
                        <a:pt x="2300" y="226"/>
                      </a:lnTo>
                      <a:lnTo>
                        <a:pt x="2312" y="263"/>
                      </a:lnTo>
                      <a:lnTo>
                        <a:pt x="2262" y="440"/>
                      </a:lnTo>
                      <a:lnTo>
                        <a:pt x="2149" y="566"/>
                      </a:lnTo>
                      <a:lnTo>
                        <a:pt x="1973" y="666"/>
                      </a:lnTo>
                      <a:lnTo>
                        <a:pt x="1797" y="830"/>
                      </a:lnTo>
                      <a:lnTo>
                        <a:pt x="1696" y="1032"/>
                      </a:lnTo>
                      <a:lnTo>
                        <a:pt x="1520" y="1296"/>
                      </a:lnTo>
                      <a:lnTo>
                        <a:pt x="1470" y="1333"/>
                      </a:lnTo>
                      <a:lnTo>
                        <a:pt x="1382" y="1333"/>
                      </a:lnTo>
                      <a:lnTo>
                        <a:pt x="1194" y="1208"/>
                      </a:lnTo>
                      <a:lnTo>
                        <a:pt x="942" y="993"/>
                      </a:lnTo>
                      <a:lnTo>
                        <a:pt x="679" y="867"/>
                      </a:lnTo>
                      <a:lnTo>
                        <a:pt x="426" y="792"/>
                      </a:lnTo>
                      <a:lnTo>
                        <a:pt x="62" y="717"/>
                      </a:lnTo>
                      <a:lnTo>
                        <a:pt x="0" y="666"/>
                      </a:lnTo>
                      <a:lnTo>
                        <a:pt x="37" y="56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7" name=""/>
                <p:cNvSpPr/>
                <p:nvPr/>
              </p:nvSpPr>
              <p:spPr>
                <a:xfrm>
                  <a:off x="3922560" y="3575160"/>
                  <a:ext cx="330480" cy="181440"/>
                </a:xfrm>
                <a:custGeom>
                  <a:avLst/>
                  <a:gdLst/>
                  <a:ahLst/>
                  <a:rect l="0" t="0" r="r" b="b"/>
                  <a:pathLst>
                    <a:path w="918" h="504">
                      <a:moveTo>
                        <a:pt x="37" y="87"/>
                      </a:moveTo>
                      <a:lnTo>
                        <a:pt x="87" y="37"/>
                      </a:lnTo>
                      <a:lnTo>
                        <a:pt x="125" y="25"/>
                      </a:lnTo>
                      <a:lnTo>
                        <a:pt x="175" y="12"/>
                      </a:lnTo>
                      <a:lnTo>
                        <a:pt x="213" y="0"/>
                      </a:lnTo>
                      <a:lnTo>
                        <a:pt x="263" y="0"/>
                      </a:lnTo>
                      <a:lnTo>
                        <a:pt x="301" y="0"/>
                      </a:lnTo>
                      <a:lnTo>
                        <a:pt x="339" y="0"/>
                      </a:lnTo>
                      <a:lnTo>
                        <a:pt x="376" y="12"/>
                      </a:lnTo>
                      <a:lnTo>
                        <a:pt x="414" y="37"/>
                      </a:lnTo>
                      <a:lnTo>
                        <a:pt x="439" y="75"/>
                      </a:lnTo>
                      <a:lnTo>
                        <a:pt x="439" y="113"/>
                      </a:lnTo>
                      <a:lnTo>
                        <a:pt x="439" y="151"/>
                      </a:lnTo>
                      <a:lnTo>
                        <a:pt x="427" y="189"/>
                      </a:lnTo>
                      <a:lnTo>
                        <a:pt x="427" y="227"/>
                      </a:lnTo>
                      <a:lnTo>
                        <a:pt x="427" y="264"/>
                      </a:lnTo>
                      <a:lnTo>
                        <a:pt x="427" y="315"/>
                      </a:lnTo>
                      <a:lnTo>
                        <a:pt x="427" y="352"/>
                      </a:lnTo>
                      <a:lnTo>
                        <a:pt x="439" y="391"/>
                      </a:lnTo>
                      <a:lnTo>
                        <a:pt x="491" y="404"/>
                      </a:lnTo>
                      <a:lnTo>
                        <a:pt x="528" y="404"/>
                      </a:lnTo>
                      <a:lnTo>
                        <a:pt x="578" y="404"/>
                      </a:lnTo>
                      <a:lnTo>
                        <a:pt x="616" y="404"/>
                      </a:lnTo>
                      <a:lnTo>
                        <a:pt x="654" y="404"/>
                      </a:lnTo>
                      <a:lnTo>
                        <a:pt x="704" y="404"/>
                      </a:lnTo>
                      <a:lnTo>
                        <a:pt x="742" y="404"/>
                      </a:lnTo>
                      <a:lnTo>
                        <a:pt x="780" y="404"/>
                      </a:lnTo>
                      <a:lnTo>
                        <a:pt x="830" y="404"/>
                      </a:lnTo>
                      <a:lnTo>
                        <a:pt x="817" y="365"/>
                      </a:lnTo>
                      <a:lnTo>
                        <a:pt x="780" y="327"/>
                      </a:lnTo>
                      <a:lnTo>
                        <a:pt x="754" y="290"/>
                      </a:lnTo>
                      <a:lnTo>
                        <a:pt x="717" y="264"/>
                      </a:lnTo>
                      <a:lnTo>
                        <a:pt x="679" y="264"/>
                      </a:lnTo>
                      <a:lnTo>
                        <a:pt x="641" y="264"/>
                      </a:lnTo>
                      <a:lnTo>
                        <a:pt x="604" y="277"/>
                      </a:lnTo>
                      <a:lnTo>
                        <a:pt x="566" y="290"/>
                      </a:lnTo>
                      <a:lnTo>
                        <a:pt x="528" y="327"/>
                      </a:lnTo>
                      <a:lnTo>
                        <a:pt x="491" y="327"/>
                      </a:lnTo>
                      <a:lnTo>
                        <a:pt x="478" y="290"/>
                      </a:lnTo>
                      <a:lnTo>
                        <a:pt x="516" y="264"/>
                      </a:lnTo>
                      <a:lnTo>
                        <a:pt x="553" y="239"/>
                      </a:lnTo>
                      <a:lnTo>
                        <a:pt x="591" y="214"/>
                      </a:lnTo>
                      <a:lnTo>
                        <a:pt x="629" y="202"/>
                      </a:lnTo>
                      <a:lnTo>
                        <a:pt x="679" y="202"/>
                      </a:lnTo>
                      <a:lnTo>
                        <a:pt x="717" y="202"/>
                      </a:lnTo>
                      <a:lnTo>
                        <a:pt x="792" y="202"/>
                      </a:lnTo>
                      <a:lnTo>
                        <a:pt x="867" y="189"/>
                      </a:lnTo>
                      <a:lnTo>
                        <a:pt x="905" y="202"/>
                      </a:lnTo>
                      <a:lnTo>
                        <a:pt x="918" y="252"/>
                      </a:lnTo>
                      <a:lnTo>
                        <a:pt x="918" y="290"/>
                      </a:lnTo>
                      <a:lnTo>
                        <a:pt x="918" y="327"/>
                      </a:lnTo>
                      <a:lnTo>
                        <a:pt x="918" y="365"/>
                      </a:lnTo>
                      <a:lnTo>
                        <a:pt x="918" y="404"/>
                      </a:lnTo>
                      <a:lnTo>
                        <a:pt x="905" y="441"/>
                      </a:lnTo>
                      <a:lnTo>
                        <a:pt x="867" y="467"/>
                      </a:lnTo>
                      <a:lnTo>
                        <a:pt x="830" y="479"/>
                      </a:lnTo>
                      <a:lnTo>
                        <a:pt x="754" y="492"/>
                      </a:lnTo>
                      <a:lnTo>
                        <a:pt x="717" y="492"/>
                      </a:lnTo>
                      <a:lnTo>
                        <a:pt x="666" y="504"/>
                      </a:lnTo>
                      <a:lnTo>
                        <a:pt x="629" y="504"/>
                      </a:lnTo>
                      <a:lnTo>
                        <a:pt x="591" y="504"/>
                      </a:lnTo>
                      <a:lnTo>
                        <a:pt x="503" y="504"/>
                      </a:lnTo>
                      <a:lnTo>
                        <a:pt x="427" y="504"/>
                      </a:lnTo>
                      <a:lnTo>
                        <a:pt x="389" y="504"/>
                      </a:lnTo>
                      <a:lnTo>
                        <a:pt x="351" y="492"/>
                      </a:lnTo>
                      <a:lnTo>
                        <a:pt x="339" y="416"/>
                      </a:lnTo>
                      <a:lnTo>
                        <a:pt x="314" y="379"/>
                      </a:lnTo>
                      <a:lnTo>
                        <a:pt x="301" y="340"/>
                      </a:lnTo>
                      <a:lnTo>
                        <a:pt x="301" y="302"/>
                      </a:lnTo>
                      <a:lnTo>
                        <a:pt x="314" y="264"/>
                      </a:lnTo>
                      <a:lnTo>
                        <a:pt x="314" y="227"/>
                      </a:lnTo>
                      <a:lnTo>
                        <a:pt x="326" y="189"/>
                      </a:lnTo>
                      <a:lnTo>
                        <a:pt x="326" y="151"/>
                      </a:lnTo>
                      <a:lnTo>
                        <a:pt x="314" y="113"/>
                      </a:lnTo>
                      <a:lnTo>
                        <a:pt x="238" y="125"/>
                      </a:lnTo>
                      <a:lnTo>
                        <a:pt x="201" y="113"/>
                      </a:lnTo>
                      <a:lnTo>
                        <a:pt x="163" y="139"/>
                      </a:lnTo>
                      <a:lnTo>
                        <a:pt x="150" y="176"/>
                      </a:lnTo>
                      <a:lnTo>
                        <a:pt x="125" y="214"/>
                      </a:lnTo>
                      <a:lnTo>
                        <a:pt x="50" y="214"/>
                      </a:lnTo>
                      <a:lnTo>
                        <a:pt x="12" y="214"/>
                      </a:lnTo>
                      <a:lnTo>
                        <a:pt x="0" y="176"/>
                      </a:lnTo>
                      <a:lnTo>
                        <a:pt x="12" y="139"/>
                      </a:lnTo>
                      <a:lnTo>
                        <a:pt x="37" y="8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118" name=""/>
          <p:cNvGrpSpPr/>
          <p:nvPr/>
        </p:nvGrpSpPr>
        <p:grpSpPr>
          <a:xfrm>
            <a:off x="2416320" y="4632480"/>
            <a:ext cx="1229040" cy="1755720"/>
            <a:chOff x="2416320" y="4632480"/>
            <a:chExt cx="1229040" cy="1755720"/>
          </a:xfrm>
        </p:grpSpPr>
        <p:grpSp>
          <p:nvGrpSpPr>
            <p:cNvPr id="119" name=""/>
            <p:cNvGrpSpPr/>
            <p:nvPr/>
          </p:nvGrpSpPr>
          <p:grpSpPr>
            <a:xfrm>
              <a:off x="2978280" y="4632480"/>
              <a:ext cx="667080" cy="859320"/>
              <a:chOff x="2978280" y="4632480"/>
              <a:chExt cx="667080" cy="859320"/>
            </a:xfrm>
          </p:grpSpPr>
          <p:sp>
            <p:nvSpPr>
              <p:cNvPr id="120" name=""/>
              <p:cNvSpPr/>
              <p:nvPr/>
            </p:nvSpPr>
            <p:spPr>
              <a:xfrm>
                <a:off x="2978280" y="4632480"/>
                <a:ext cx="667080" cy="859320"/>
              </a:xfrm>
              <a:custGeom>
                <a:avLst/>
                <a:gdLst/>
                <a:ahLst/>
                <a:rect l="0" t="0" r="r" b="b"/>
                <a:pathLst>
                  <a:path w="1853" h="2387">
                    <a:moveTo>
                      <a:pt x="23" y="500"/>
                    </a:moveTo>
                    <a:lnTo>
                      <a:pt x="11" y="314"/>
                    </a:lnTo>
                    <a:lnTo>
                      <a:pt x="104" y="139"/>
                    </a:lnTo>
                    <a:lnTo>
                      <a:pt x="279" y="0"/>
                    </a:lnTo>
                    <a:lnTo>
                      <a:pt x="547" y="58"/>
                    </a:lnTo>
                    <a:lnTo>
                      <a:pt x="780" y="221"/>
                    </a:lnTo>
                    <a:lnTo>
                      <a:pt x="1072" y="349"/>
                    </a:lnTo>
                    <a:lnTo>
                      <a:pt x="1387" y="477"/>
                    </a:lnTo>
                    <a:lnTo>
                      <a:pt x="1678" y="652"/>
                    </a:lnTo>
                    <a:lnTo>
                      <a:pt x="1853" y="815"/>
                    </a:lnTo>
                    <a:lnTo>
                      <a:pt x="1818" y="862"/>
                    </a:lnTo>
                    <a:lnTo>
                      <a:pt x="1491" y="1164"/>
                    </a:lnTo>
                    <a:lnTo>
                      <a:pt x="1375" y="1327"/>
                    </a:lnTo>
                    <a:lnTo>
                      <a:pt x="1352" y="1478"/>
                    </a:lnTo>
                    <a:lnTo>
                      <a:pt x="1340" y="1676"/>
                    </a:lnTo>
                    <a:lnTo>
                      <a:pt x="1317" y="1933"/>
                    </a:lnTo>
                    <a:lnTo>
                      <a:pt x="1259" y="2201"/>
                    </a:lnTo>
                    <a:lnTo>
                      <a:pt x="1165" y="2352"/>
                    </a:lnTo>
                    <a:lnTo>
                      <a:pt x="1072" y="2387"/>
                    </a:lnTo>
                    <a:lnTo>
                      <a:pt x="967" y="2306"/>
                    </a:lnTo>
                    <a:lnTo>
                      <a:pt x="792" y="2201"/>
                    </a:lnTo>
                    <a:lnTo>
                      <a:pt x="605" y="2085"/>
                    </a:lnTo>
                    <a:lnTo>
                      <a:pt x="396" y="2003"/>
                    </a:lnTo>
                    <a:lnTo>
                      <a:pt x="209" y="1980"/>
                    </a:lnTo>
                    <a:lnTo>
                      <a:pt x="116" y="1829"/>
                    </a:lnTo>
                    <a:lnTo>
                      <a:pt x="46" y="1606"/>
                    </a:lnTo>
                    <a:lnTo>
                      <a:pt x="0" y="1246"/>
                    </a:lnTo>
                    <a:lnTo>
                      <a:pt x="11" y="931"/>
                    </a:lnTo>
                    <a:lnTo>
                      <a:pt x="34" y="745"/>
                    </a:lnTo>
                    <a:lnTo>
                      <a:pt x="116" y="745"/>
                    </a:lnTo>
                    <a:lnTo>
                      <a:pt x="104" y="1060"/>
                    </a:lnTo>
                    <a:lnTo>
                      <a:pt x="104" y="1397"/>
                    </a:lnTo>
                    <a:lnTo>
                      <a:pt x="151" y="1595"/>
                    </a:lnTo>
                    <a:lnTo>
                      <a:pt x="232" y="1829"/>
                    </a:lnTo>
                    <a:lnTo>
                      <a:pt x="419" y="1922"/>
                    </a:lnTo>
                    <a:lnTo>
                      <a:pt x="675" y="1991"/>
                    </a:lnTo>
                    <a:lnTo>
                      <a:pt x="885" y="2108"/>
                    </a:lnTo>
                    <a:lnTo>
                      <a:pt x="1084" y="2248"/>
                    </a:lnTo>
                    <a:lnTo>
                      <a:pt x="1165" y="2154"/>
                    </a:lnTo>
                    <a:lnTo>
                      <a:pt x="1212" y="1957"/>
                    </a:lnTo>
                    <a:lnTo>
                      <a:pt x="1235" y="1700"/>
                    </a:lnTo>
                    <a:lnTo>
                      <a:pt x="1259" y="1432"/>
                    </a:lnTo>
                    <a:lnTo>
                      <a:pt x="1340" y="1199"/>
                    </a:lnTo>
                    <a:lnTo>
                      <a:pt x="1573" y="955"/>
                    </a:lnTo>
                    <a:lnTo>
                      <a:pt x="1678" y="827"/>
                    </a:lnTo>
                    <a:lnTo>
                      <a:pt x="1666" y="780"/>
                    </a:lnTo>
                    <a:lnTo>
                      <a:pt x="1375" y="581"/>
                    </a:lnTo>
                    <a:lnTo>
                      <a:pt x="1084" y="453"/>
                    </a:lnTo>
                    <a:lnTo>
                      <a:pt x="838" y="337"/>
                    </a:lnTo>
                    <a:lnTo>
                      <a:pt x="687" y="267"/>
                    </a:lnTo>
                    <a:lnTo>
                      <a:pt x="535" y="174"/>
                    </a:lnTo>
                    <a:lnTo>
                      <a:pt x="442" y="128"/>
                    </a:lnTo>
                    <a:lnTo>
                      <a:pt x="291" y="116"/>
                    </a:lnTo>
                    <a:lnTo>
                      <a:pt x="198" y="197"/>
                    </a:lnTo>
                    <a:lnTo>
                      <a:pt x="128" y="325"/>
                    </a:lnTo>
                    <a:lnTo>
                      <a:pt x="128" y="442"/>
                    </a:lnTo>
                    <a:lnTo>
                      <a:pt x="116" y="558"/>
                    </a:lnTo>
                    <a:lnTo>
                      <a:pt x="23" y="50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 name=""/>
              <p:cNvSpPr/>
              <p:nvPr/>
            </p:nvSpPr>
            <p:spPr>
              <a:xfrm>
                <a:off x="3121200" y="4896000"/>
                <a:ext cx="209880" cy="306720"/>
              </a:xfrm>
              <a:custGeom>
                <a:avLst/>
                <a:gdLst/>
                <a:ahLst/>
                <a:rect l="0" t="0" r="r" b="b"/>
                <a:pathLst>
                  <a:path w="583" h="852">
                    <a:moveTo>
                      <a:pt x="69" y="233"/>
                    </a:moveTo>
                    <a:lnTo>
                      <a:pt x="197" y="93"/>
                    </a:lnTo>
                    <a:lnTo>
                      <a:pt x="408" y="0"/>
                    </a:lnTo>
                    <a:lnTo>
                      <a:pt x="513" y="186"/>
                    </a:lnTo>
                    <a:lnTo>
                      <a:pt x="583" y="432"/>
                    </a:lnTo>
                    <a:lnTo>
                      <a:pt x="420" y="852"/>
                    </a:lnTo>
                    <a:lnTo>
                      <a:pt x="209" y="840"/>
                    </a:lnTo>
                    <a:lnTo>
                      <a:pt x="0" y="700"/>
                    </a:lnTo>
                    <a:lnTo>
                      <a:pt x="0" y="338"/>
                    </a:lnTo>
                    <a:lnTo>
                      <a:pt x="58" y="326"/>
                    </a:lnTo>
                    <a:lnTo>
                      <a:pt x="104" y="384"/>
                    </a:lnTo>
                    <a:lnTo>
                      <a:pt x="93" y="665"/>
                    </a:lnTo>
                    <a:lnTo>
                      <a:pt x="232" y="770"/>
                    </a:lnTo>
                    <a:lnTo>
                      <a:pt x="396" y="747"/>
                    </a:lnTo>
                    <a:lnTo>
                      <a:pt x="489" y="444"/>
                    </a:lnTo>
                    <a:lnTo>
                      <a:pt x="361" y="444"/>
                    </a:lnTo>
                    <a:lnTo>
                      <a:pt x="197" y="361"/>
                    </a:lnTo>
                    <a:lnTo>
                      <a:pt x="209" y="338"/>
                    </a:lnTo>
                    <a:lnTo>
                      <a:pt x="408" y="384"/>
                    </a:lnTo>
                    <a:lnTo>
                      <a:pt x="513" y="373"/>
                    </a:lnTo>
                    <a:lnTo>
                      <a:pt x="385" y="81"/>
                    </a:lnTo>
                    <a:lnTo>
                      <a:pt x="244" y="174"/>
                    </a:lnTo>
                    <a:lnTo>
                      <a:pt x="116" y="314"/>
                    </a:lnTo>
                    <a:lnTo>
                      <a:pt x="69" y="2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122" name=""/>
            <p:cNvGrpSpPr/>
            <p:nvPr/>
          </p:nvGrpSpPr>
          <p:grpSpPr>
            <a:xfrm>
              <a:off x="2416320" y="4729320"/>
              <a:ext cx="1124280" cy="1658880"/>
              <a:chOff x="2416320" y="4729320"/>
              <a:chExt cx="1124280" cy="1658880"/>
            </a:xfrm>
          </p:grpSpPr>
          <p:sp>
            <p:nvSpPr>
              <p:cNvPr id="123" name=""/>
              <p:cNvSpPr/>
              <p:nvPr/>
            </p:nvSpPr>
            <p:spPr>
              <a:xfrm>
                <a:off x="2633760" y="5013360"/>
                <a:ext cx="906840" cy="306720"/>
              </a:xfrm>
              <a:custGeom>
                <a:avLst/>
                <a:gdLst/>
                <a:ahLst/>
                <a:rect l="0" t="0" r="r" b="b"/>
                <a:pathLst>
                  <a:path w="2519" h="852">
                    <a:moveTo>
                      <a:pt x="0" y="665"/>
                    </a:moveTo>
                    <a:lnTo>
                      <a:pt x="58" y="595"/>
                    </a:lnTo>
                    <a:lnTo>
                      <a:pt x="186" y="572"/>
                    </a:lnTo>
                    <a:lnTo>
                      <a:pt x="594" y="653"/>
                    </a:lnTo>
                    <a:lnTo>
                      <a:pt x="991" y="723"/>
                    </a:lnTo>
                    <a:lnTo>
                      <a:pt x="1481" y="712"/>
                    </a:lnTo>
                    <a:lnTo>
                      <a:pt x="1937" y="618"/>
                    </a:lnTo>
                    <a:lnTo>
                      <a:pt x="2216" y="455"/>
                    </a:lnTo>
                    <a:lnTo>
                      <a:pt x="2181" y="326"/>
                    </a:lnTo>
                    <a:lnTo>
                      <a:pt x="2228" y="151"/>
                    </a:lnTo>
                    <a:lnTo>
                      <a:pt x="2333" y="58"/>
                    </a:lnTo>
                    <a:lnTo>
                      <a:pt x="2450" y="0"/>
                    </a:lnTo>
                    <a:lnTo>
                      <a:pt x="2496" y="128"/>
                    </a:lnTo>
                    <a:lnTo>
                      <a:pt x="2519" y="256"/>
                    </a:lnTo>
                    <a:lnTo>
                      <a:pt x="2473" y="502"/>
                    </a:lnTo>
                    <a:lnTo>
                      <a:pt x="2356" y="572"/>
                    </a:lnTo>
                    <a:lnTo>
                      <a:pt x="2076" y="665"/>
                    </a:lnTo>
                    <a:lnTo>
                      <a:pt x="1772" y="747"/>
                    </a:lnTo>
                    <a:lnTo>
                      <a:pt x="1271" y="840"/>
                    </a:lnTo>
                    <a:lnTo>
                      <a:pt x="805" y="852"/>
                    </a:lnTo>
                    <a:lnTo>
                      <a:pt x="174" y="793"/>
                    </a:lnTo>
                    <a:lnTo>
                      <a:pt x="0" y="66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4" name=""/>
              <p:cNvSpPr/>
              <p:nvPr/>
            </p:nvSpPr>
            <p:spPr>
              <a:xfrm>
                <a:off x="2562120" y="4795920"/>
                <a:ext cx="492480" cy="435240"/>
              </a:xfrm>
              <a:custGeom>
                <a:avLst/>
                <a:gdLst/>
                <a:ahLst/>
                <a:rect l="0" t="0" r="r" b="b"/>
                <a:pathLst>
                  <a:path w="1368" h="1209">
                    <a:moveTo>
                      <a:pt x="35" y="1209"/>
                    </a:moveTo>
                    <a:lnTo>
                      <a:pt x="0" y="1093"/>
                    </a:lnTo>
                    <a:lnTo>
                      <a:pt x="70" y="988"/>
                    </a:lnTo>
                    <a:lnTo>
                      <a:pt x="303" y="895"/>
                    </a:lnTo>
                    <a:lnTo>
                      <a:pt x="572" y="872"/>
                    </a:lnTo>
                    <a:lnTo>
                      <a:pt x="760" y="814"/>
                    </a:lnTo>
                    <a:lnTo>
                      <a:pt x="877" y="709"/>
                    </a:lnTo>
                    <a:lnTo>
                      <a:pt x="1005" y="476"/>
                    </a:lnTo>
                    <a:lnTo>
                      <a:pt x="1110" y="220"/>
                    </a:lnTo>
                    <a:lnTo>
                      <a:pt x="1110" y="92"/>
                    </a:lnTo>
                    <a:lnTo>
                      <a:pt x="1169" y="23"/>
                    </a:lnTo>
                    <a:lnTo>
                      <a:pt x="1251" y="0"/>
                    </a:lnTo>
                    <a:lnTo>
                      <a:pt x="1332" y="58"/>
                    </a:lnTo>
                    <a:lnTo>
                      <a:pt x="1368" y="185"/>
                    </a:lnTo>
                    <a:lnTo>
                      <a:pt x="1356" y="348"/>
                    </a:lnTo>
                    <a:lnTo>
                      <a:pt x="1309" y="464"/>
                    </a:lnTo>
                    <a:lnTo>
                      <a:pt x="1262" y="464"/>
                    </a:lnTo>
                    <a:lnTo>
                      <a:pt x="1239" y="418"/>
                    </a:lnTo>
                    <a:lnTo>
                      <a:pt x="1169" y="406"/>
                    </a:lnTo>
                    <a:lnTo>
                      <a:pt x="1040" y="580"/>
                    </a:lnTo>
                    <a:lnTo>
                      <a:pt x="888" y="849"/>
                    </a:lnTo>
                    <a:lnTo>
                      <a:pt x="783" y="965"/>
                    </a:lnTo>
                    <a:lnTo>
                      <a:pt x="572" y="1034"/>
                    </a:lnTo>
                    <a:lnTo>
                      <a:pt x="327" y="1104"/>
                    </a:lnTo>
                    <a:lnTo>
                      <a:pt x="163" y="1162"/>
                    </a:lnTo>
                    <a:lnTo>
                      <a:pt x="35" y="120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 name=""/>
              <p:cNvSpPr/>
              <p:nvPr/>
            </p:nvSpPr>
            <p:spPr>
              <a:xfrm>
                <a:off x="2500200" y="5168880"/>
                <a:ext cx="373320" cy="644760"/>
              </a:xfrm>
              <a:custGeom>
                <a:avLst/>
                <a:gdLst/>
                <a:ahLst/>
                <a:rect l="0" t="0" r="r" b="b"/>
                <a:pathLst>
                  <a:path w="1037" h="1791">
                    <a:moveTo>
                      <a:pt x="0" y="232"/>
                    </a:moveTo>
                    <a:lnTo>
                      <a:pt x="58" y="93"/>
                    </a:lnTo>
                    <a:lnTo>
                      <a:pt x="139" y="0"/>
                    </a:lnTo>
                    <a:lnTo>
                      <a:pt x="349" y="0"/>
                    </a:lnTo>
                    <a:lnTo>
                      <a:pt x="559" y="93"/>
                    </a:lnTo>
                    <a:lnTo>
                      <a:pt x="804" y="360"/>
                    </a:lnTo>
                    <a:lnTo>
                      <a:pt x="932" y="569"/>
                    </a:lnTo>
                    <a:lnTo>
                      <a:pt x="1013" y="860"/>
                    </a:lnTo>
                    <a:lnTo>
                      <a:pt x="1037" y="1198"/>
                    </a:lnTo>
                    <a:lnTo>
                      <a:pt x="990" y="1558"/>
                    </a:lnTo>
                    <a:lnTo>
                      <a:pt x="874" y="1733"/>
                    </a:lnTo>
                    <a:lnTo>
                      <a:pt x="664" y="1791"/>
                    </a:lnTo>
                    <a:lnTo>
                      <a:pt x="536" y="1779"/>
                    </a:lnTo>
                    <a:lnTo>
                      <a:pt x="430" y="1721"/>
                    </a:lnTo>
                    <a:lnTo>
                      <a:pt x="337" y="1640"/>
                    </a:lnTo>
                    <a:lnTo>
                      <a:pt x="302" y="1500"/>
                    </a:lnTo>
                    <a:lnTo>
                      <a:pt x="326" y="1361"/>
                    </a:lnTo>
                    <a:lnTo>
                      <a:pt x="407" y="1279"/>
                    </a:lnTo>
                    <a:lnTo>
                      <a:pt x="465" y="1186"/>
                    </a:lnTo>
                    <a:lnTo>
                      <a:pt x="489" y="1070"/>
                    </a:lnTo>
                    <a:lnTo>
                      <a:pt x="489" y="965"/>
                    </a:lnTo>
                    <a:lnTo>
                      <a:pt x="442" y="871"/>
                    </a:lnTo>
                    <a:lnTo>
                      <a:pt x="279" y="709"/>
                    </a:lnTo>
                    <a:lnTo>
                      <a:pt x="81" y="523"/>
                    </a:lnTo>
                    <a:lnTo>
                      <a:pt x="11" y="372"/>
                    </a:lnTo>
                    <a:lnTo>
                      <a:pt x="0" y="23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 name=""/>
              <p:cNvSpPr/>
              <p:nvPr/>
            </p:nvSpPr>
            <p:spPr>
              <a:xfrm>
                <a:off x="2416320" y="4729320"/>
                <a:ext cx="381240" cy="340200"/>
              </a:xfrm>
              <a:custGeom>
                <a:avLst/>
                <a:gdLst/>
                <a:ahLst/>
                <a:rect l="0" t="0" r="r" b="b"/>
                <a:pathLst>
                  <a:path w="1059" h="945">
                    <a:moveTo>
                      <a:pt x="780" y="513"/>
                    </a:moveTo>
                    <a:lnTo>
                      <a:pt x="698" y="350"/>
                    </a:lnTo>
                    <a:lnTo>
                      <a:pt x="547" y="151"/>
                    </a:lnTo>
                    <a:lnTo>
                      <a:pt x="407" y="23"/>
                    </a:lnTo>
                    <a:lnTo>
                      <a:pt x="244" y="0"/>
                    </a:lnTo>
                    <a:lnTo>
                      <a:pt x="104" y="46"/>
                    </a:lnTo>
                    <a:lnTo>
                      <a:pt x="11" y="163"/>
                    </a:lnTo>
                    <a:lnTo>
                      <a:pt x="0" y="327"/>
                    </a:lnTo>
                    <a:lnTo>
                      <a:pt x="69" y="560"/>
                    </a:lnTo>
                    <a:lnTo>
                      <a:pt x="244" y="782"/>
                    </a:lnTo>
                    <a:lnTo>
                      <a:pt x="441" y="934"/>
                    </a:lnTo>
                    <a:lnTo>
                      <a:pt x="629" y="945"/>
                    </a:lnTo>
                    <a:lnTo>
                      <a:pt x="745" y="899"/>
                    </a:lnTo>
                    <a:lnTo>
                      <a:pt x="768" y="829"/>
                    </a:lnTo>
                    <a:lnTo>
                      <a:pt x="780" y="724"/>
                    </a:lnTo>
                    <a:lnTo>
                      <a:pt x="919" y="747"/>
                    </a:lnTo>
                    <a:lnTo>
                      <a:pt x="1012" y="794"/>
                    </a:lnTo>
                    <a:lnTo>
                      <a:pt x="1059" y="724"/>
                    </a:lnTo>
                    <a:lnTo>
                      <a:pt x="1012" y="676"/>
                    </a:lnTo>
                    <a:lnTo>
                      <a:pt x="861" y="618"/>
                    </a:lnTo>
                    <a:lnTo>
                      <a:pt x="768" y="583"/>
                    </a:lnTo>
                    <a:lnTo>
                      <a:pt x="780" y="5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7" name=""/>
              <p:cNvSpPr/>
              <p:nvPr/>
            </p:nvSpPr>
            <p:spPr>
              <a:xfrm>
                <a:off x="2587680" y="5705640"/>
                <a:ext cx="235440" cy="636840"/>
              </a:xfrm>
              <a:custGeom>
                <a:avLst/>
                <a:gdLst/>
                <a:ahLst/>
                <a:rect l="0" t="0" r="r" b="b"/>
                <a:pathLst>
                  <a:path w="654" h="1769">
                    <a:moveTo>
                      <a:pt x="164" y="0"/>
                    </a:moveTo>
                    <a:lnTo>
                      <a:pt x="280" y="11"/>
                    </a:lnTo>
                    <a:lnTo>
                      <a:pt x="362" y="162"/>
                    </a:lnTo>
                    <a:lnTo>
                      <a:pt x="338" y="314"/>
                    </a:lnTo>
                    <a:lnTo>
                      <a:pt x="304" y="628"/>
                    </a:lnTo>
                    <a:lnTo>
                      <a:pt x="315" y="825"/>
                    </a:lnTo>
                    <a:lnTo>
                      <a:pt x="304" y="1024"/>
                    </a:lnTo>
                    <a:lnTo>
                      <a:pt x="210" y="1431"/>
                    </a:lnTo>
                    <a:lnTo>
                      <a:pt x="187" y="1536"/>
                    </a:lnTo>
                    <a:lnTo>
                      <a:pt x="210" y="1559"/>
                    </a:lnTo>
                    <a:lnTo>
                      <a:pt x="338" y="1490"/>
                    </a:lnTo>
                    <a:lnTo>
                      <a:pt x="549" y="1455"/>
                    </a:lnTo>
                    <a:lnTo>
                      <a:pt x="654" y="1501"/>
                    </a:lnTo>
                    <a:lnTo>
                      <a:pt x="642" y="1583"/>
                    </a:lnTo>
                    <a:lnTo>
                      <a:pt x="503" y="1618"/>
                    </a:lnTo>
                    <a:lnTo>
                      <a:pt x="338" y="1629"/>
                    </a:lnTo>
                    <a:lnTo>
                      <a:pt x="175" y="1699"/>
                    </a:lnTo>
                    <a:lnTo>
                      <a:pt x="46" y="1769"/>
                    </a:lnTo>
                    <a:lnTo>
                      <a:pt x="0" y="1734"/>
                    </a:lnTo>
                    <a:lnTo>
                      <a:pt x="0" y="1618"/>
                    </a:lnTo>
                    <a:lnTo>
                      <a:pt x="93" y="1397"/>
                    </a:lnTo>
                    <a:lnTo>
                      <a:pt x="139" y="1141"/>
                    </a:lnTo>
                    <a:lnTo>
                      <a:pt x="164" y="779"/>
                    </a:lnTo>
                    <a:lnTo>
                      <a:pt x="116" y="453"/>
                    </a:lnTo>
                    <a:lnTo>
                      <a:pt x="69" y="197"/>
                    </a:lnTo>
                    <a:lnTo>
                      <a:pt x="116" y="0"/>
                    </a:lnTo>
                    <a:lnTo>
                      <a:pt x="164"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 name=""/>
              <p:cNvSpPr/>
              <p:nvPr/>
            </p:nvSpPr>
            <p:spPr>
              <a:xfrm>
                <a:off x="2717640" y="5646600"/>
                <a:ext cx="378360" cy="741600"/>
              </a:xfrm>
              <a:custGeom>
                <a:avLst/>
                <a:gdLst/>
                <a:ahLst/>
                <a:rect l="0" t="0" r="r" b="b"/>
                <a:pathLst>
                  <a:path w="1051" h="2060">
                    <a:moveTo>
                      <a:pt x="221" y="23"/>
                    </a:moveTo>
                    <a:lnTo>
                      <a:pt x="58" y="0"/>
                    </a:lnTo>
                    <a:lnTo>
                      <a:pt x="0" y="116"/>
                    </a:lnTo>
                    <a:lnTo>
                      <a:pt x="58" y="255"/>
                    </a:lnTo>
                    <a:lnTo>
                      <a:pt x="221" y="488"/>
                    </a:lnTo>
                    <a:lnTo>
                      <a:pt x="350" y="826"/>
                    </a:lnTo>
                    <a:lnTo>
                      <a:pt x="397" y="1106"/>
                    </a:lnTo>
                    <a:lnTo>
                      <a:pt x="374" y="1397"/>
                    </a:lnTo>
                    <a:lnTo>
                      <a:pt x="327" y="1769"/>
                    </a:lnTo>
                    <a:lnTo>
                      <a:pt x="280" y="1978"/>
                    </a:lnTo>
                    <a:lnTo>
                      <a:pt x="304" y="2060"/>
                    </a:lnTo>
                    <a:lnTo>
                      <a:pt x="385" y="2060"/>
                    </a:lnTo>
                    <a:lnTo>
                      <a:pt x="537" y="1990"/>
                    </a:lnTo>
                    <a:lnTo>
                      <a:pt x="770" y="1943"/>
                    </a:lnTo>
                    <a:lnTo>
                      <a:pt x="1016" y="1943"/>
                    </a:lnTo>
                    <a:lnTo>
                      <a:pt x="1051" y="1874"/>
                    </a:lnTo>
                    <a:lnTo>
                      <a:pt x="911" y="1781"/>
                    </a:lnTo>
                    <a:lnTo>
                      <a:pt x="841" y="1781"/>
                    </a:lnTo>
                    <a:lnTo>
                      <a:pt x="537" y="1874"/>
                    </a:lnTo>
                    <a:lnTo>
                      <a:pt x="444" y="1909"/>
                    </a:lnTo>
                    <a:lnTo>
                      <a:pt x="420" y="1862"/>
                    </a:lnTo>
                    <a:lnTo>
                      <a:pt x="467" y="1560"/>
                    </a:lnTo>
                    <a:lnTo>
                      <a:pt x="525" y="1234"/>
                    </a:lnTo>
                    <a:lnTo>
                      <a:pt x="537" y="942"/>
                    </a:lnTo>
                    <a:lnTo>
                      <a:pt x="490" y="651"/>
                    </a:lnTo>
                    <a:lnTo>
                      <a:pt x="409" y="314"/>
                    </a:lnTo>
                    <a:lnTo>
                      <a:pt x="315" y="58"/>
                    </a:lnTo>
                    <a:lnTo>
                      <a:pt x="221" y="2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sp>
        <p:nvSpPr>
          <p:cNvPr id="129" name=""/>
          <p:cNvSpPr txBox="1"/>
          <p:nvPr/>
        </p:nvSpPr>
        <p:spPr>
          <a:xfrm>
            <a:off x="4789440" y="3400560"/>
            <a:ext cx="2911320" cy="701640"/>
          </a:xfrm>
          <a:prstGeom prst="rect">
            <a:avLst/>
          </a:prstGeom>
          <a:noFill/>
          <a:ln w="0">
            <a:noFill/>
          </a:ln>
        </p:spPr>
        <p:txBody>
          <a:bodyPr lIns="0" rIns="0" tIns="0" bIns="0" anchor="t">
            <a:noAutofit/>
          </a:bodyPr>
          <a:p>
            <a:pPr>
              <a:lnSpc>
                <a:spcPct val="100000"/>
              </a:lnSpc>
            </a:pPr>
            <a:r>
              <a:rPr b="0" lang="en-US" sz="4000" spc="-1" strike="noStrike">
                <a:solidFill>
                  <a:srgbClr val="f4eada"/>
                </a:solidFill>
                <a:latin typeface="Times New Roman"/>
                <a:ea typeface="Times New Roman"/>
              </a:rPr>
              <a:t>screen beans</a:t>
            </a:r>
            <a:r>
              <a:rPr b="0" lang="en-US" sz="1200" spc="-1" strike="noStrike" baseline="100000">
                <a:solidFill>
                  <a:srgbClr val="f4eada"/>
                </a:solidFill>
                <a:latin typeface="Arial"/>
                <a:ea typeface="Arial"/>
              </a:rPr>
              <a:t>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730080" y="322200"/>
            <a:ext cx="7683480" cy="411120"/>
          </a:xfrm>
          <a:prstGeom prst="rect">
            <a:avLst/>
          </a:prstGeom>
          <a:noFill/>
          <a:ln w="0">
            <a:noFill/>
          </a:ln>
        </p:spPr>
        <p:txBody>
          <a:bodyPr lIns="0" rIns="0" tIns="0" bIns="0" anchor="t">
            <a:noAutofit/>
          </a:bodyPr>
          <a:p>
            <a:pPr algn="ctr">
              <a:lnSpc>
                <a:spcPct val="100000"/>
              </a:lnSpc>
            </a:pPr>
            <a:r>
              <a:rPr b="1" lang="en-US" sz="2000" spc="-1" strike="noStrike">
                <a:solidFill>
                  <a:srgbClr val="333300"/>
                </a:solidFill>
                <a:latin typeface="Century Gothic"/>
                <a:ea typeface="Century Gothic"/>
              </a:rPr>
              <a:t>N E U T R A L I T Y   I S   T H E I R   M I D D L E   N A M E</a:t>
            </a:r>
            <a:endParaRPr b="0" lang="en-US" sz="2000" spc="-1" strike="noStrike">
              <a:solidFill>
                <a:srgbClr val="000000"/>
              </a:solidFill>
              <a:latin typeface="Arial"/>
            </a:endParaRPr>
          </a:p>
        </p:txBody>
      </p:sp>
      <p:sp>
        <p:nvSpPr>
          <p:cNvPr id="131" name=""/>
          <p:cNvSpPr txBox="1"/>
          <p:nvPr/>
        </p:nvSpPr>
        <p:spPr>
          <a:xfrm>
            <a:off x="1363680" y="1333440"/>
            <a:ext cx="3473280" cy="4162320"/>
          </a:xfrm>
          <a:prstGeom prst="rect">
            <a:avLst/>
          </a:prstGeom>
          <a:noFill/>
          <a:ln w="0">
            <a:noFill/>
          </a:ln>
        </p:spPr>
        <p:txBody>
          <a:bodyPr lIns="0" rIns="0" tIns="0" bIns="0" anchor="t">
            <a:noAutofit/>
          </a:bodyPr>
          <a:p>
            <a:pPr>
              <a:lnSpc>
                <a:spcPct val="145000"/>
              </a:lnSpc>
              <a:spcBef>
                <a:spcPts val="961"/>
              </a:spcBef>
            </a:pPr>
            <a:r>
              <a:rPr b="0" lang="en-US" sz="2400" spc="-1" strike="noStrike">
                <a:solidFill>
                  <a:srgbClr val="f4eada"/>
                </a:solidFill>
                <a:latin typeface="Times New Roman"/>
                <a:ea typeface="Times New Roman"/>
              </a:rPr>
              <a:t>screen beans</a:t>
            </a:r>
            <a:r>
              <a:rPr b="0" lang="en-US" sz="800" spc="-1" strike="noStrike">
                <a:solidFill>
                  <a:srgbClr val="f4eada"/>
                </a:solidFill>
                <a:latin typeface="Arial"/>
                <a:ea typeface="Arial"/>
              </a:rPr>
              <a:t>TM</a:t>
            </a:r>
            <a:r>
              <a:rPr b="1" lang="en-US" sz="1800" spc="-1" strike="noStrike">
                <a:solidFill>
                  <a:srgbClr val="000000"/>
                </a:solidFill>
                <a:latin typeface="Arial Narrow"/>
                <a:ea typeface="Arial Narrow"/>
              </a:rPr>
              <a:t> are friendly, expressive, gender-free individuals who volunteer* to help millions of communication-impaired persons like you and me. </a:t>
            </a:r>
            <a:endParaRPr b="0" lang="en-US" sz="1800" spc="-1" strike="noStrike">
              <a:solidFill>
                <a:srgbClr val="000000"/>
              </a:solidFill>
              <a:latin typeface="Arial"/>
            </a:endParaRPr>
          </a:p>
          <a:p>
            <a:pPr>
              <a:lnSpc>
                <a:spcPct val="145000"/>
              </a:lnSpc>
              <a:spcBef>
                <a:spcPts val="961"/>
              </a:spcBef>
            </a:pPr>
            <a:r>
              <a:rPr b="1" lang="en-US" sz="1800" spc="-1" strike="noStrike">
                <a:solidFill>
                  <a:srgbClr val="000000"/>
                </a:solidFill>
                <a:latin typeface="Arial Narrow"/>
                <a:ea typeface="Arial Narrow"/>
              </a:rPr>
              <a:t>They’re also dynamite clip art that will add impact and fun to your presentations, reports, spreadsheets, schedules, etc.</a:t>
            </a:r>
            <a:endParaRPr b="0" lang="en-US" sz="1800" spc="-1" strike="noStrike">
              <a:solidFill>
                <a:srgbClr val="000000"/>
              </a:solidFill>
              <a:latin typeface="Arial"/>
            </a:endParaRPr>
          </a:p>
        </p:txBody>
      </p:sp>
      <p:grpSp>
        <p:nvGrpSpPr>
          <p:cNvPr id="132" name=""/>
          <p:cNvGrpSpPr/>
          <p:nvPr/>
        </p:nvGrpSpPr>
        <p:grpSpPr>
          <a:xfrm>
            <a:off x="851040" y="5748480"/>
            <a:ext cx="474840" cy="920880"/>
            <a:chOff x="851040" y="5748480"/>
            <a:chExt cx="474840" cy="920880"/>
          </a:xfrm>
        </p:grpSpPr>
        <p:grpSp>
          <p:nvGrpSpPr>
            <p:cNvPr id="133" name=""/>
            <p:cNvGrpSpPr/>
            <p:nvPr/>
          </p:nvGrpSpPr>
          <p:grpSpPr>
            <a:xfrm>
              <a:off x="851040" y="5810400"/>
              <a:ext cx="474840" cy="858960"/>
              <a:chOff x="851040" y="5810400"/>
              <a:chExt cx="474840" cy="858960"/>
            </a:xfrm>
          </p:grpSpPr>
          <p:sp>
            <p:nvSpPr>
              <p:cNvPr id="134" name=""/>
              <p:cNvSpPr/>
              <p:nvPr/>
            </p:nvSpPr>
            <p:spPr>
              <a:xfrm>
                <a:off x="1139760" y="6072120"/>
                <a:ext cx="186120" cy="292320"/>
              </a:xfrm>
              <a:custGeom>
                <a:avLst/>
                <a:gdLst/>
                <a:ahLst/>
                <a:rect l="0" t="0" r="r" b="b"/>
                <a:pathLst>
                  <a:path w="517" h="812">
                    <a:moveTo>
                      <a:pt x="243" y="122"/>
                    </a:moveTo>
                    <a:lnTo>
                      <a:pt x="189" y="71"/>
                    </a:lnTo>
                    <a:lnTo>
                      <a:pt x="114" y="21"/>
                    </a:lnTo>
                    <a:lnTo>
                      <a:pt x="64" y="0"/>
                    </a:lnTo>
                    <a:lnTo>
                      <a:pt x="0" y="3"/>
                    </a:lnTo>
                    <a:lnTo>
                      <a:pt x="0" y="50"/>
                    </a:lnTo>
                    <a:lnTo>
                      <a:pt x="30" y="93"/>
                    </a:lnTo>
                    <a:lnTo>
                      <a:pt x="91" y="122"/>
                    </a:lnTo>
                    <a:lnTo>
                      <a:pt x="240" y="186"/>
                    </a:lnTo>
                    <a:lnTo>
                      <a:pt x="378" y="262"/>
                    </a:lnTo>
                    <a:lnTo>
                      <a:pt x="440" y="283"/>
                    </a:lnTo>
                    <a:lnTo>
                      <a:pt x="460" y="312"/>
                    </a:lnTo>
                    <a:lnTo>
                      <a:pt x="440" y="341"/>
                    </a:lnTo>
                    <a:lnTo>
                      <a:pt x="317" y="456"/>
                    </a:lnTo>
                    <a:lnTo>
                      <a:pt x="260" y="492"/>
                    </a:lnTo>
                    <a:lnTo>
                      <a:pt x="176" y="557"/>
                    </a:lnTo>
                    <a:lnTo>
                      <a:pt x="91" y="618"/>
                    </a:lnTo>
                    <a:lnTo>
                      <a:pt x="94" y="647"/>
                    </a:lnTo>
                    <a:lnTo>
                      <a:pt x="159" y="658"/>
                    </a:lnTo>
                    <a:lnTo>
                      <a:pt x="253" y="658"/>
                    </a:lnTo>
                    <a:lnTo>
                      <a:pt x="314" y="686"/>
                    </a:lnTo>
                    <a:lnTo>
                      <a:pt x="334" y="765"/>
                    </a:lnTo>
                    <a:lnTo>
                      <a:pt x="334" y="805"/>
                    </a:lnTo>
                    <a:lnTo>
                      <a:pt x="358" y="812"/>
                    </a:lnTo>
                    <a:lnTo>
                      <a:pt x="399" y="776"/>
                    </a:lnTo>
                    <a:lnTo>
                      <a:pt x="393" y="715"/>
                    </a:lnTo>
                    <a:lnTo>
                      <a:pt x="355" y="668"/>
                    </a:lnTo>
                    <a:lnTo>
                      <a:pt x="284" y="625"/>
                    </a:lnTo>
                    <a:lnTo>
                      <a:pt x="206" y="607"/>
                    </a:lnTo>
                    <a:lnTo>
                      <a:pt x="199" y="586"/>
                    </a:lnTo>
                    <a:lnTo>
                      <a:pt x="240" y="546"/>
                    </a:lnTo>
                    <a:lnTo>
                      <a:pt x="403" y="446"/>
                    </a:lnTo>
                    <a:lnTo>
                      <a:pt x="450" y="405"/>
                    </a:lnTo>
                    <a:lnTo>
                      <a:pt x="497" y="351"/>
                    </a:lnTo>
                    <a:lnTo>
                      <a:pt x="517" y="290"/>
                    </a:lnTo>
                    <a:lnTo>
                      <a:pt x="504" y="254"/>
                    </a:lnTo>
                    <a:lnTo>
                      <a:pt x="423" y="233"/>
                    </a:lnTo>
                    <a:lnTo>
                      <a:pt x="324" y="190"/>
                    </a:lnTo>
                    <a:lnTo>
                      <a:pt x="260" y="150"/>
                    </a:lnTo>
                    <a:lnTo>
                      <a:pt x="243" y="1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5" name=""/>
              <p:cNvSpPr/>
              <p:nvPr/>
            </p:nvSpPr>
            <p:spPr>
              <a:xfrm>
                <a:off x="1031760" y="6059520"/>
                <a:ext cx="128880" cy="279720"/>
              </a:xfrm>
              <a:custGeom>
                <a:avLst/>
                <a:gdLst/>
                <a:ahLst/>
                <a:rect l="0" t="0" r="r" b="b"/>
                <a:pathLst>
                  <a:path w="358" h="777">
                    <a:moveTo>
                      <a:pt x="280" y="61"/>
                    </a:moveTo>
                    <a:lnTo>
                      <a:pt x="250" y="10"/>
                    </a:lnTo>
                    <a:lnTo>
                      <a:pt x="209" y="0"/>
                    </a:lnTo>
                    <a:lnTo>
                      <a:pt x="158" y="0"/>
                    </a:lnTo>
                    <a:lnTo>
                      <a:pt x="90" y="39"/>
                    </a:lnTo>
                    <a:lnTo>
                      <a:pt x="50" y="118"/>
                    </a:lnTo>
                    <a:lnTo>
                      <a:pt x="16" y="222"/>
                    </a:lnTo>
                    <a:lnTo>
                      <a:pt x="0" y="326"/>
                    </a:lnTo>
                    <a:lnTo>
                      <a:pt x="0" y="471"/>
                    </a:lnTo>
                    <a:lnTo>
                      <a:pt x="37" y="629"/>
                    </a:lnTo>
                    <a:lnTo>
                      <a:pt x="94" y="723"/>
                    </a:lnTo>
                    <a:lnTo>
                      <a:pt x="168" y="769"/>
                    </a:lnTo>
                    <a:lnTo>
                      <a:pt x="240" y="777"/>
                    </a:lnTo>
                    <a:lnTo>
                      <a:pt x="290" y="748"/>
                    </a:lnTo>
                    <a:lnTo>
                      <a:pt x="334" y="712"/>
                    </a:lnTo>
                    <a:lnTo>
                      <a:pt x="344" y="651"/>
                    </a:lnTo>
                    <a:lnTo>
                      <a:pt x="358" y="539"/>
                    </a:lnTo>
                    <a:lnTo>
                      <a:pt x="348" y="399"/>
                    </a:lnTo>
                    <a:lnTo>
                      <a:pt x="317" y="251"/>
                    </a:lnTo>
                    <a:lnTo>
                      <a:pt x="294" y="147"/>
                    </a:lnTo>
                    <a:lnTo>
                      <a:pt x="280" y="6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6" name=""/>
              <p:cNvSpPr/>
              <p:nvPr/>
            </p:nvSpPr>
            <p:spPr>
              <a:xfrm>
                <a:off x="1047600" y="6303960"/>
                <a:ext cx="76680" cy="365400"/>
              </a:xfrm>
              <a:custGeom>
                <a:avLst/>
                <a:gdLst/>
                <a:ahLst/>
                <a:rect l="0" t="0" r="r" b="b"/>
                <a:pathLst>
                  <a:path w="213" h="1015">
                    <a:moveTo>
                      <a:pt x="111" y="179"/>
                    </a:moveTo>
                    <a:lnTo>
                      <a:pt x="138" y="115"/>
                    </a:lnTo>
                    <a:lnTo>
                      <a:pt x="138" y="39"/>
                    </a:lnTo>
                    <a:lnTo>
                      <a:pt x="101" y="0"/>
                    </a:lnTo>
                    <a:lnTo>
                      <a:pt x="54" y="21"/>
                    </a:lnTo>
                    <a:lnTo>
                      <a:pt x="23" y="89"/>
                    </a:lnTo>
                    <a:lnTo>
                      <a:pt x="6" y="208"/>
                    </a:lnTo>
                    <a:lnTo>
                      <a:pt x="0" y="359"/>
                    </a:lnTo>
                    <a:lnTo>
                      <a:pt x="13" y="489"/>
                    </a:lnTo>
                    <a:lnTo>
                      <a:pt x="33" y="630"/>
                    </a:lnTo>
                    <a:lnTo>
                      <a:pt x="33" y="803"/>
                    </a:lnTo>
                    <a:lnTo>
                      <a:pt x="6" y="871"/>
                    </a:lnTo>
                    <a:lnTo>
                      <a:pt x="16" y="903"/>
                    </a:lnTo>
                    <a:lnTo>
                      <a:pt x="64" y="914"/>
                    </a:lnTo>
                    <a:lnTo>
                      <a:pt x="118" y="961"/>
                    </a:lnTo>
                    <a:lnTo>
                      <a:pt x="142" y="1000"/>
                    </a:lnTo>
                    <a:lnTo>
                      <a:pt x="203" y="1015"/>
                    </a:lnTo>
                    <a:lnTo>
                      <a:pt x="213" y="972"/>
                    </a:lnTo>
                    <a:lnTo>
                      <a:pt x="193" y="936"/>
                    </a:lnTo>
                    <a:lnTo>
                      <a:pt x="118" y="903"/>
                    </a:lnTo>
                    <a:lnTo>
                      <a:pt x="64" y="882"/>
                    </a:lnTo>
                    <a:lnTo>
                      <a:pt x="47" y="860"/>
                    </a:lnTo>
                    <a:lnTo>
                      <a:pt x="68" y="806"/>
                    </a:lnTo>
                    <a:lnTo>
                      <a:pt x="88" y="691"/>
                    </a:lnTo>
                    <a:lnTo>
                      <a:pt x="91" y="554"/>
                    </a:lnTo>
                    <a:lnTo>
                      <a:pt x="88" y="463"/>
                    </a:lnTo>
                    <a:lnTo>
                      <a:pt x="81" y="341"/>
                    </a:lnTo>
                    <a:lnTo>
                      <a:pt x="91" y="230"/>
                    </a:lnTo>
                    <a:lnTo>
                      <a:pt x="111" y="17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7" name=""/>
              <p:cNvSpPr/>
              <p:nvPr/>
            </p:nvSpPr>
            <p:spPr>
              <a:xfrm>
                <a:off x="1112760" y="6303960"/>
                <a:ext cx="117720" cy="363960"/>
              </a:xfrm>
              <a:custGeom>
                <a:avLst/>
                <a:gdLst/>
                <a:ahLst/>
                <a:rect l="0" t="0" r="r" b="b"/>
                <a:pathLst>
                  <a:path w="327" h="1011">
                    <a:moveTo>
                      <a:pt x="127" y="93"/>
                    </a:moveTo>
                    <a:lnTo>
                      <a:pt x="90" y="28"/>
                    </a:lnTo>
                    <a:lnTo>
                      <a:pt x="50" y="0"/>
                    </a:lnTo>
                    <a:lnTo>
                      <a:pt x="0" y="21"/>
                    </a:lnTo>
                    <a:lnTo>
                      <a:pt x="6" y="79"/>
                    </a:lnTo>
                    <a:lnTo>
                      <a:pt x="37" y="122"/>
                    </a:lnTo>
                    <a:lnTo>
                      <a:pt x="100" y="229"/>
                    </a:lnTo>
                    <a:lnTo>
                      <a:pt x="144" y="335"/>
                    </a:lnTo>
                    <a:lnTo>
                      <a:pt x="169" y="443"/>
                    </a:lnTo>
                    <a:lnTo>
                      <a:pt x="165" y="550"/>
                    </a:lnTo>
                    <a:lnTo>
                      <a:pt x="127" y="694"/>
                    </a:lnTo>
                    <a:lnTo>
                      <a:pt x="94" y="832"/>
                    </a:lnTo>
                    <a:lnTo>
                      <a:pt x="50" y="893"/>
                    </a:lnTo>
                    <a:lnTo>
                      <a:pt x="53" y="925"/>
                    </a:lnTo>
                    <a:lnTo>
                      <a:pt x="90" y="939"/>
                    </a:lnTo>
                    <a:lnTo>
                      <a:pt x="179" y="954"/>
                    </a:lnTo>
                    <a:lnTo>
                      <a:pt x="243" y="990"/>
                    </a:lnTo>
                    <a:lnTo>
                      <a:pt x="273" y="1011"/>
                    </a:lnTo>
                    <a:lnTo>
                      <a:pt x="327" y="965"/>
                    </a:lnTo>
                    <a:lnTo>
                      <a:pt x="317" y="936"/>
                    </a:lnTo>
                    <a:lnTo>
                      <a:pt x="263" y="914"/>
                    </a:lnTo>
                    <a:lnTo>
                      <a:pt x="196" y="904"/>
                    </a:lnTo>
                    <a:lnTo>
                      <a:pt x="134" y="904"/>
                    </a:lnTo>
                    <a:lnTo>
                      <a:pt x="121" y="886"/>
                    </a:lnTo>
                    <a:lnTo>
                      <a:pt x="134" y="850"/>
                    </a:lnTo>
                    <a:lnTo>
                      <a:pt x="186" y="719"/>
                    </a:lnTo>
                    <a:lnTo>
                      <a:pt x="223" y="593"/>
                    </a:lnTo>
                    <a:lnTo>
                      <a:pt x="239" y="500"/>
                    </a:lnTo>
                    <a:lnTo>
                      <a:pt x="243" y="414"/>
                    </a:lnTo>
                    <a:lnTo>
                      <a:pt x="229" y="331"/>
                    </a:lnTo>
                    <a:lnTo>
                      <a:pt x="196" y="244"/>
                    </a:lnTo>
                    <a:lnTo>
                      <a:pt x="148" y="129"/>
                    </a:lnTo>
                    <a:lnTo>
                      <a:pt x="127" y="9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8" name=""/>
              <p:cNvSpPr/>
              <p:nvPr/>
            </p:nvSpPr>
            <p:spPr>
              <a:xfrm>
                <a:off x="1057320" y="5850000"/>
                <a:ext cx="151200" cy="190800"/>
              </a:xfrm>
              <a:custGeom>
                <a:avLst/>
                <a:gdLst/>
                <a:ahLst/>
                <a:rect l="0" t="0" r="r" b="b"/>
                <a:pathLst>
                  <a:path w="420" h="530">
                    <a:moveTo>
                      <a:pt x="265" y="440"/>
                    </a:moveTo>
                    <a:lnTo>
                      <a:pt x="232" y="508"/>
                    </a:lnTo>
                    <a:lnTo>
                      <a:pt x="158" y="530"/>
                    </a:lnTo>
                    <a:lnTo>
                      <a:pt x="97" y="522"/>
                    </a:lnTo>
                    <a:lnTo>
                      <a:pt x="43" y="479"/>
                    </a:lnTo>
                    <a:lnTo>
                      <a:pt x="3" y="389"/>
                    </a:lnTo>
                    <a:lnTo>
                      <a:pt x="0" y="288"/>
                    </a:lnTo>
                    <a:lnTo>
                      <a:pt x="13" y="194"/>
                    </a:lnTo>
                    <a:lnTo>
                      <a:pt x="70" y="93"/>
                    </a:lnTo>
                    <a:lnTo>
                      <a:pt x="114" y="46"/>
                    </a:lnTo>
                    <a:lnTo>
                      <a:pt x="158" y="17"/>
                    </a:lnTo>
                    <a:lnTo>
                      <a:pt x="202" y="0"/>
                    </a:lnTo>
                    <a:lnTo>
                      <a:pt x="275" y="3"/>
                    </a:lnTo>
                    <a:lnTo>
                      <a:pt x="312" y="64"/>
                    </a:lnTo>
                    <a:lnTo>
                      <a:pt x="337" y="129"/>
                    </a:lnTo>
                    <a:lnTo>
                      <a:pt x="337" y="230"/>
                    </a:lnTo>
                    <a:lnTo>
                      <a:pt x="317" y="328"/>
                    </a:lnTo>
                    <a:lnTo>
                      <a:pt x="295" y="382"/>
                    </a:lnTo>
                    <a:lnTo>
                      <a:pt x="410" y="461"/>
                    </a:lnTo>
                    <a:lnTo>
                      <a:pt x="420" y="490"/>
                    </a:lnTo>
                    <a:lnTo>
                      <a:pt x="400" y="508"/>
                    </a:lnTo>
                    <a:lnTo>
                      <a:pt x="275" y="418"/>
                    </a:lnTo>
                    <a:lnTo>
                      <a:pt x="265" y="44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9" name=""/>
              <p:cNvSpPr/>
              <p:nvPr/>
            </p:nvSpPr>
            <p:spPr>
              <a:xfrm>
                <a:off x="851040" y="5810400"/>
                <a:ext cx="300240" cy="317880"/>
              </a:xfrm>
              <a:custGeom>
                <a:avLst/>
                <a:gdLst/>
                <a:ahLst/>
                <a:rect l="0" t="0" r="r" b="b"/>
                <a:pathLst>
                  <a:path w="834" h="883">
                    <a:moveTo>
                      <a:pt x="278" y="610"/>
                    </a:moveTo>
                    <a:lnTo>
                      <a:pt x="322" y="649"/>
                    </a:lnTo>
                    <a:lnTo>
                      <a:pt x="409" y="701"/>
                    </a:lnTo>
                    <a:lnTo>
                      <a:pt x="491" y="733"/>
                    </a:lnTo>
                    <a:lnTo>
                      <a:pt x="545" y="762"/>
                    </a:lnTo>
                    <a:lnTo>
                      <a:pt x="599" y="801"/>
                    </a:lnTo>
                    <a:lnTo>
                      <a:pt x="605" y="873"/>
                    </a:lnTo>
                    <a:lnTo>
                      <a:pt x="552" y="883"/>
                    </a:lnTo>
                    <a:lnTo>
                      <a:pt x="421" y="812"/>
                    </a:lnTo>
                    <a:lnTo>
                      <a:pt x="322" y="726"/>
                    </a:lnTo>
                    <a:lnTo>
                      <a:pt x="208" y="614"/>
                    </a:lnTo>
                    <a:lnTo>
                      <a:pt x="114" y="545"/>
                    </a:lnTo>
                    <a:lnTo>
                      <a:pt x="33" y="492"/>
                    </a:lnTo>
                    <a:lnTo>
                      <a:pt x="0" y="463"/>
                    </a:lnTo>
                    <a:lnTo>
                      <a:pt x="13" y="431"/>
                    </a:lnTo>
                    <a:lnTo>
                      <a:pt x="50" y="384"/>
                    </a:lnTo>
                    <a:lnTo>
                      <a:pt x="191" y="312"/>
                    </a:lnTo>
                    <a:lnTo>
                      <a:pt x="322" y="244"/>
                    </a:lnTo>
                    <a:lnTo>
                      <a:pt x="484" y="175"/>
                    </a:lnTo>
                    <a:lnTo>
                      <a:pt x="542" y="136"/>
                    </a:lnTo>
                    <a:lnTo>
                      <a:pt x="605" y="82"/>
                    </a:lnTo>
                    <a:lnTo>
                      <a:pt x="669" y="21"/>
                    </a:lnTo>
                    <a:lnTo>
                      <a:pt x="723" y="0"/>
                    </a:lnTo>
                    <a:lnTo>
                      <a:pt x="834" y="75"/>
                    </a:lnTo>
                    <a:lnTo>
                      <a:pt x="827" y="143"/>
                    </a:lnTo>
                    <a:lnTo>
                      <a:pt x="807" y="172"/>
                    </a:lnTo>
                    <a:lnTo>
                      <a:pt x="753" y="161"/>
                    </a:lnTo>
                    <a:lnTo>
                      <a:pt x="763" y="132"/>
                    </a:lnTo>
                    <a:lnTo>
                      <a:pt x="784" y="121"/>
                    </a:lnTo>
                    <a:lnTo>
                      <a:pt x="794" y="86"/>
                    </a:lnTo>
                    <a:lnTo>
                      <a:pt x="730" y="46"/>
                    </a:lnTo>
                    <a:lnTo>
                      <a:pt x="679" y="86"/>
                    </a:lnTo>
                    <a:lnTo>
                      <a:pt x="679" y="121"/>
                    </a:lnTo>
                    <a:lnTo>
                      <a:pt x="700" y="164"/>
                    </a:lnTo>
                    <a:lnTo>
                      <a:pt x="683" y="193"/>
                    </a:lnTo>
                    <a:lnTo>
                      <a:pt x="579" y="223"/>
                    </a:lnTo>
                    <a:lnTo>
                      <a:pt x="535" y="186"/>
                    </a:lnTo>
                    <a:lnTo>
                      <a:pt x="396" y="266"/>
                    </a:lnTo>
                    <a:lnTo>
                      <a:pt x="278" y="316"/>
                    </a:lnTo>
                    <a:lnTo>
                      <a:pt x="218" y="345"/>
                    </a:lnTo>
                    <a:lnTo>
                      <a:pt x="154" y="373"/>
                    </a:lnTo>
                    <a:lnTo>
                      <a:pt x="107" y="416"/>
                    </a:lnTo>
                    <a:lnTo>
                      <a:pt x="73" y="456"/>
                    </a:lnTo>
                    <a:lnTo>
                      <a:pt x="104" y="484"/>
                    </a:lnTo>
                    <a:lnTo>
                      <a:pt x="168" y="524"/>
                    </a:lnTo>
                    <a:lnTo>
                      <a:pt x="238" y="571"/>
                    </a:lnTo>
                    <a:lnTo>
                      <a:pt x="278" y="61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140" name=""/>
            <p:cNvGrpSpPr/>
            <p:nvPr/>
          </p:nvGrpSpPr>
          <p:grpSpPr>
            <a:xfrm>
              <a:off x="1197000" y="5748480"/>
              <a:ext cx="59040" cy="81360"/>
              <a:chOff x="1197000" y="5748480"/>
              <a:chExt cx="59040" cy="81360"/>
            </a:xfrm>
          </p:grpSpPr>
          <p:sp>
            <p:nvSpPr>
              <p:cNvPr id="141" name=""/>
              <p:cNvSpPr/>
              <p:nvPr/>
            </p:nvSpPr>
            <p:spPr>
              <a:xfrm>
                <a:off x="1212840" y="5748480"/>
                <a:ext cx="43200" cy="47880"/>
              </a:xfrm>
              <a:custGeom>
                <a:avLst/>
                <a:gdLst/>
                <a:ahLst/>
                <a:rect l="0" t="0" r="r" b="b"/>
                <a:pathLst>
                  <a:path w="120" h="133">
                    <a:moveTo>
                      <a:pt x="13" y="8"/>
                    </a:moveTo>
                    <a:lnTo>
                      <a:pt x="48" y="0"/>
                    </a:lnTo>
                    <a:lnTo>
                      <a:pt x="75" y="0"/>
                    </a:lnTo>
                    <a:lnTo>
                      <a:pt x="106" y="17"/>
                    </a:lnTo>
                    <a:lnTo>
                      <a:pt x="120" y="39"/>
                    </a:lnTo>
                    <a:lnTo>
                      <a:pt x="120" y="57"/>
                    </a:lnTo>
                    <a:lnTo>
                      <a:pt x="106" y="84"/>
                    </a:lnTo>
                    <a:lnTo>
                      <a:pt x="84" y="102"/>
                    </a:lnTo>
                    <a:lnTo>
                      <a:pt x="48" y="102"/>
                    </a:lnTo>
                    <a:lnTo>
                      <a:pt x="26" y="115"/>
                    </a:lnTo>
                    <a:lnTo>
                      <a:pt x="17" y="133"/>
                    </a:lnTo>
                    <a:lnTo>
                      <a:pt x="0" y="128"/>
                    </a:lnTo>
                    <a:lnTo>
                      <a:pt x="8" y="102"/>
                    </a:lnTo>
                    <a:lnTo>
                      <a:pt x="30" y="84"/>
                    </a:lnTo>
                    <a:lnTo>
                      <a:pt x="75" y="80"/>
                    </a:lnTo>
                    <a:lnTo>
                      <a:pt x="93" y="67"/>
                    </a:lnTo>
                    <a:lnTo>
                      <a:pt x="98" y="39"/>
                    </a:lnTo>
                    <a:lnTo>
                      <a:pt x="75" y="17"/>
                    </a:lnTo>
                    <a:lnTo>
                      <a:pt x="48" y="17"/>
                    </a:lnTo>
                    <a:lnTo>
                      <a:pt x="17" y="26"/>
                    </a:lnTo>
                    <a:lnTo>
                      <a:pt x="8" y="17"/>
                    </a:lnTo>
                    <a:lnTo>
                      <a:pt x="13" y="8"/>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142" name=""/>
              <p:cNvSpPr/>
              <p:nvPr/>
            </p:nvSpPr>
            <p:spPr>
              <a:xfrm>
                <a:off x="1197000" y="5803920"/>
                <a:ext cx="25920" cy="25920"/>
              </a:xfrm>
              <a:custGeom>
                <a:avLst/>
                <a:gdLst/>
                <a:ahLst/>
                <a:rect l="0" t="0" r="r" b="b"/>
                <a:pathLst>
                  <a:path w="72" h="72">
                    <a:moveTo>
                      <a:pt x="72" y="4"/>
                    </a:moveTo>
                    <a:lnTo>
                      <a:pt x="36" y="0"/>
                    </a:lnTo>
                    <a:lnTo>
                      <a:pt x="13" y="27"/>
                    </a:lnTo>
                    <a:lnTo>
                      <a:pt x="0" y="68"/>
                    </a:lnTo>
                    <a:lnTo>
                      <a:pt x="36" y="72"/>
                    </a:lnTo>
                    <a:lnTo>
                      <a:pt x="68" y="53"/>
                    </a:lnTo>
                    <a:lnTo>
                      <a:pt x="72" y="4"/>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grpSp>
      </p:grpSp>
      <p:sp>
        <p:nvSpPr>
          <p:cNvPr id="143" name=""/>
          <p:cNvSpPr txBox="1"/>
          <p:nvPr/>
        </p:nvSpPr>
        <p:spPr>
          <a:xfrm>
            <a:off x="1389240" y="5945040"/>
            <a:ext cx="6958080" cy="639720"/>
          </a:xfrm>
          <a:prstGeom prst="rect">
            <a:avLst/>
          </a:prstGeom>
          <a:noFill/>
          <a:ln w="0">
            <a:noFill/>
          </a:ln>
        </p:spPr>
        <p:txBody>
          <a:bodyPr lIns="0" rIns="0" tIns="0" bIns="0" anchor="t">
            <a:noAutofit/>
          </a:bodyPr>
          <a:p>
            <a:pPr marL="171360" indent="-171360">
              <a:lnSpc>
                <a:spcPct val="100000"/>
              </a:lnSpc>
              <a:spcBef>
                <a:spcPts val="360"/>
              </a:spcBef>
            </a:pPr>
            <a:r>
              <a:rPr b="1" lang="en-US" sz="1200" spc="-1" strike="noStrike">
                <a:solidFill>
                  <a:srgbClr val="000000"/>
                </a:solidFill>
                <a:latin typeface="Arial Narrow"/>
                <a:ea typeface="Arial Narrow"/>
              </a:rPr>
              <a:t>* </a:t>
            </a:r>
            <a:r>
              <a:rPr b="1" lang="en-US" sz="1200" spc="-1" strike="noStrike">
                <a:solidFill>
                  <a:srgbClr val="000000"/>
                </a:solidFill>
                <a:latin typeface="Arial Narrow"/>
                <a:ea typeface="Arial Narrow"/>
              </a:rPr>
              <a:t>	</a:t>
            </a:r>
            <a:r>
              <a:rPr b="1" lang="en-US" sz="1200" spc="-1" strike="noStrike">
                <a:solidFill>
                  <a:srgbClr val="000000"/>
                </a:solidFill>
                <a:latin typeface="Arial Narrow"/>
                <a:ea typeface="Arial Narrow"/>
              </a:rPr>
              <a:t>Screen beans do their work in a sprit of altruism coming from a positive self image developed early in their youth.  Your “use” of these folk helps them fulfill their personal goals, thereby releasing you from any sense of exploitation you might otherwise experience.</a:t>
            </a:r>
            <a:endParaRPr b="0" lang="en-US" sz="1200" spc="-1" strike="noStrike">
              <a:solidFill>
                <a:srgbClr val="000000"/>
              </a:solidFill>
              <a:latin typeface="Arial"/>
            </a:endParaRPr>
          </a:p>
        </p:txBody>
      </p:sp>
      <p:grpSp>
        <p:nvGrpSpPr>
          <p:cNvPr id="144" name=""/>
          <p:cNvGrpSpPr/>
          <p:nvPr/>
        </p:nvGrpSpPr>
        <p:grpSpPr>
          <a:xfrm>
            <a:off x="5118120" y="1461960"/>
            <a:ext cx="2405520" cy="3905640"/>
            <a:chOff x="5118120" y="1461960"/>
            <a:chExt cx="2405520" cy="3905640"/>
          </a:xfrm>
        </p:grpSpPr>
        <p:sp>
          <p:nvSpPr>
            <p:cNvPr id="145" name=""/>
            <p:cNvSpPr/>
            <p:nvPr/>
          </p:nvSpPr>
          <p:spPr>
            <a:xfrm>
              <a:off x="5884920" y="2065320"/>
              <a:ext cx="797400" cy="825840"/>
            </a:xfrm>
            <a:custGeom>
              <a:avLst/>
              <a:gdLst/>
              <a:ahLst/>
              <a:rect l="0" t="0" r="r" b="b"/>
              <a:pathLst>
                <a:path w="2215" h="2294">
                  <a:moveTo>
                    <a:pt x="655" y="1330"/>
                  </a:moveTo>
                  <a:lnTo>
                    <a:pt x="0" y="840"/>
                  </a:lnTo>
                  <a:lnTo>
                    <a:pt x="109" y="733"/>
                  </a:lnTo>
                  <a:lnTo>
                    <a:pt x="624" y="1070"/>
                  </a:lnTo>
                  <a:lnTo>
                    <a:pt x="811" y="733"/>
                  </a:lnTo>
                  <a:lnTo>
                    <a:pt x="1045" y="428"/>
                  </a:lnTo>
                  <a:lnTo>
                    <a:pt x="1326" y="229"/>
                  </a:lnTo>
                  <a:lnTo>
                    <a:pt x="1591" y="45"/>
                  </a:lnTo>
                  <a:lnTo>
                    <a:pt x="1794" y="0"/>
                  </a:lnTo>
                  <a:lnTo>
                    <a:pt x="1966" y="15"/>
                  </a:lnTo>
                  <a:lnTo>
                    <a:pt x="2106" y="107"/>
                  </a:lnTo>
                  <a:lnTo>
                    <a:pt x="2215" y="458"/>
                  </a:lnTo>
                  <a:lnTo>
                    <a:pt x="2200" y="978"/>
                  </a:lnTo>
                  <a:lnTo>
                    <a:pt x="2013" y="1376"/>
                  </a:lnTo>
                  <a:lnTo>
                    <a:pt x="1701" y="1835"/>
                  </a:lnTo>
                  <a:lnTo>
                    <a:pt x="1372" y="2171"/>
                  </a:lnTo>
                  <a:lnTo>
                    <a:pt x="1185" y="2294"/>
                  </a:lnTo>
                  <a:lnTo>
                    <a:pt x="936" y="2294"/>
                  </a:lnTo>
                  <a:lnTo>
                    <a:pt x="718" y="2202"/>
                  </a:lnTo>
                  <a:lnTo>
                    <a:pt x="624" y="1973"/>
                  </a:lnTo>
                  <a:lnTo>
                    <a:pt x="562" y="1667"/>
                  </a:lnTo>
                  <a:lnTo>
                    <a:pt x="577" y="1437"/>
                  </a:lnTo>
                  <a:lnTo>
                    <a:pt x="655" y="133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6" name=""/>
            <p:cNvSpPr/>
            <p:nvPr/>
          </p:nvSpPr>
          <p:spPr>
            <a:xfrm>
              <a:off x="6637320" y="1461960"/>
              <a:ext cx="257400" cy="398880"/>
            </a:xfrm>
            <a:custGeom>
              <a:avLst/>
              <a:gdLst/>
              <a:ahLst/>
              <a:rect l="0" t="0" r="r" b="b"/>
              <a:pathLst>
                <a:path w="715" h="1108">
                  <a:moveTo>
                    <a:pt x="0" y="1078"/>
                  </a:moveTo>
                  <a:lnTo>
                    <a:pt x="95" y="662"/>
                  </a:lnTo>
                  <a:lnTo>
                    <a:pt x="381" y="230"/>
                  </a:lnTo>
                  <a:lnTo>
                    <a:pt x="636" y="0"/>
                  </a:lnTo>
                  <a:lnTo>
                    <a:pt x="715" y="92"/>
                  </a:lnTo>
                  <a:lnTo>
                    <a:pt x="445" y="323"/>
                  </a:lnTo>
                  <a:lnTo>
                    <a:pt x="333" y="477"/>
                  </a:lnTo>
                  <a:lnTo>
                    <a:pt x="190" y="754"/>
                  </a:lnTo>
                  <a:lnTo>
                    <a:pt x="111" y="1108"/>
                  </a:lnTo>
                  <a:lnTo>
                    <a:pt x="0" y="107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7" name=""/>
            <p:cNvSpPr/>
            <p:nvPr/>
          </p:nvSpPr>
          <p:spPr>
            <a:xfrm>
              <a:off x="6989760" y="1795320"/>
              <a:ext cx="410040" cy="249480"/>
            </a:xfrm>
            <a:custGeom>
              <a:avLst/>
              <a:gdLst/>
              <a:ahLst/>
              <a:rect l="0" t="0" r="r" b="b"/>
              <a:pathLst>
                <a:path w="1139" h="693">
                  <a:moveTo>
                    <a:pt x="0" y="601"/>
                  </a:moveTo>
                  <a:lnTo>
                    <a:pt x="323" y="323"/>
                  </a:lnTo>
                  <a:lnTo>
                    <a:pt x="738" y="107"/>
                  </a:lnTo>
                  <a:lnTo>
                    <a:pt x="1093" y="0"/>
                  </a:lnTo>
                  <a:lnTo>
                    <a:pt x="1139" y="184"/>
                  </a:lnTo>
                  <a:lnTo>
                    <a:pt x="631" y="292"/>
                  </a:lnTo>
                  <a:lnTo>
                    <a:pt x="215" y="570"/>
                  </a:lnTo>
                  <a:lnTo>
                    <a:pt x="30" y="693"/>
                  </a:lnTo>
                  <a:lnTo>
                    <a:pt x="0" y="60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8" name=""/>
            <p:cNvSpPr/>
            <p:nvPr/>
          </p:nvSpPr>
          <p:spPr>
            <a:xfrm>
              <a:off x="7054920" y="2443320"/>
              <a:ext cx="468720" cy="171720"/>
            </a:xfrm>
            <a:custGeom>
              <a:avLst/>
              <a:gdLst/>
              <a:ahLst/>
              <a:rect l="0" t="0" r="r" b="b"/>
              <a:pathLst>
                <a:path w="1302" h="477">
                  <a:moveTo>
                    <a:pt x="77" y="0"/>
                  </a:moveTo>
                  <a:lnTo>
                    <a:pt x="589" y="15"/>
                  </a:lnTo>
                  <a:lnTo>
                    <a:pt x="1024" y="95"/>
                  </a:lnTo>
                  <a:lnTo>
                    <a:pt x="1302" y="206"/>
                  </a:lnTo>
                  <a:lnTo>
                    <a:pt x="1194" y="477"/>
                  </a:lnTo>
                  <a:lnTo>
                    <a:pt x="837" y="206"/>
                  </a:lnTo>
                  <a:lnTo>
                    <a:pt x="403" y="158"/>
                  </a:lnTo>
                  <a:lnTo>
                    <a:pt x="0" y="111"/>
                  </a:lnTo>
                  <a:lnTo>
                    <a:pt x="7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9" name=""/>
            <p:cNvSpPr/>
            <p:nvPr/>
          </p:nvSpPr>
          <p:spPr>
            <a:xfrm>
              <a:off x="5686560" y="2968560"/>
              <a:ext cx="614880" cy="1303560"/>
            </a:xfrm>
            <a:custGeom>
              <a:avLst/>
              <a:gdLst/>
              <a:ahLst/>
              <a:rect l="0" t="0" r="r" b="b"/>
              <a:pathLst>
                <a:path w="1708" h="3621">
                  <a:moveTo>
                    <a:pt x="1398" y="46"/>
                  </a:moveTo>
                  <a:lnTo>
                    <a:pt x="1118" y="0"/>
                  </a:lnTo>
                  <a:lnTo>
                    <a:pt x="823" y="0"/>
                  </a:lnTo>
                  <a:lnTo>
                    <a:pt x="497" y="216"/>
                  </a:lnTo>
                  <a:lnTo>
                    <a:pt x="279" y="510"/>
                  </a:lnTo>
                  <a:lnTo>
                    <a:pt x="139" y="928"/>
                  </a:lnTo>
                  <a:lnTo>
                    <a:pt x="31" y="1376"/>
                  </a:lnTo>
                  <a:lnTo>
                    <a:pt x="0" y="1857"/>
                  </a:lnTo>
                  <a:lnTo>
                    <a:pt x="46" y="2414"/>
                  </a:lnTo>
                  <a:lnTo>
                    <a:pt x="170" y="3110"/>
                  </a:lnTo>
                  <a:lnTo>
                    <a:pt x="310" y="3342"/>
                  </a:lnTo>
                  <a:lnTo>
                    <a:pt x="497" y="3574"/>
                  </a:lnTo>
                  <a:lnTo>
                    <a:pt x="699" y="3621"/>
                  </a:lnTo>
                  <a:lnTo>
                    <a:pt x="869" y="3574"/>
                  </a:lnTo>
                  <a:lnTo>
                    <a:pt x="1024" y="3482"/>
                  </a:lnTo>
                  <a:lnTo>
                    <a:pt x="1118" y="3188"/>
                  </a:lnTo>
                  <a:lnTo>
                    <a:pt x="1102" y="2925"/>
                  </a:lnTo>
                  <a:lnTo>
                    <a:pt x="962" y="2677"/>
                  </a:lnTo>
                  <a:lnTo>
                    <a:pt x="962" y="2352"/>
                  </a:lnTo>
                  <a:lnTo>
                    <a:pt x="1024" y="2043"/>
                  </a:lnTo>
                  <a:lnTo>
                    <a:pt x="1149" y="1670"/>
                  </a:lnTo>
                  <a:lnTo>
                    <a:pt x="1398" y="1438"/>
                  </a:lnTo>
                  <a:lnTo>
                    <a:pt x="1568" y="1067"/>
                  </a:lnTo>
                  <a:lnTo>
                    <a:pt x="1708" y="587"/>
                  </a:lnTo>
                  <a:lnTo>
                    <a:pt x="1630" y="263"/>
                  </a:lnTo>
                  <a:lnTo>
                    <a:pt x="1522" y="46"/>
                  </a:lnTo>
                  <a:lnTo>
                    <a:pt x="1257" y="0"/>
                  </a:lnTo>
                  <a:lnTo>
                    <a:pt x="1398" y="4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0" name=""/>
            <p:cNvSpPr/>
            <p:nvPr/>
          </p:nvSpPr>
          <p:spPr>
            <a:xfrm>
              <a:off x="5118120" y="2536920"/>
              <a:ext cx="805320" cy="540000"/>
            </a:xfrm>
            <a:custGeom>
              <a:avLst/>
              <a:gdLst/>
              <a:ahLst/>
              <a:rect l="0" t="0" r="r" b="b"/>
              <a:pathLst>
                <a:path w="2237" h="1500">
                  <a:moveTo>
                    <a:pt x="2237" y="1316"/>
                  </a:moveTo>
                  <a:lnTo>
                    <a:pt x="1765" y="1270"/>
                  </a:lnTo>
                  <a:lnTo>
                    <a:pt x="1386" y="1133"/>
                  </a:lnTo>
                  <a:lnTo>
                    <a:pt x="1087" y="949"/>
                  </a:lnTo>
                  <a:lnTo>
                    <a:pt x="898" y="781"/>
                  </a:lnTo>
                  <a:lnTo>
                    <a:pt x="803" y="443"/>
                  </a:lnTo>
                  <a:lnTo>
                    <a:pt x="803" y="30"/>
                  </a:lnTo>
                  <a:lnTo>
                    <a:pt x="709" y="0"/>
                  </a:lnTo>
                  <a:lnTo>
                    <a:pt x="662" y="367"/>
                  </a:lnTo>
                  <a:lnTo>
                    <a:pt x="678" y="581"/>
                  </a:lnTo>
                  <a:lnTo>
                    <a:pt x="725" y="781"/>
                  </a:lnTo>
                  <a:lnTo>
                    <a:pt x="488" y="550"/>
                  </a:lnTo>
                  <a:lnTo>
                    <a:pt x="299" y="275"/>
                  </a:lnTo>
                  <a:lnTo>
                    <a:pt x="251" y="367"/>
                  </a:lnTo>
                  <a:lnTo>
                    <a:pt x="377" y="596"/>
                  </a:lnTo>
                  <a:lnTo>
                    <a:pt x="615" y="903"/>
                  </a:lnTo>
                  <a:lnTo>
                    <a:pt x="188" y="873"/>
                  </a:lnTo>
                  <a:lnTo>
                    <a:pt x="0" y="903"/>
                  </a:lnTo>
                  <a:lnTo>
                    <a:pt x="47" y="1010"/>
                  </a:lnTo>
                  <a:lnTo>
                    <a:pt x="393" y="1041"/>
                  </a:lnTo>
                  <a:lnTo>
                    <a:pt x="678" y="1056"/>
                  </a:lnTo>
                  <a:lnTo>
                    <a:pt x="346" y="1179"/>
                  </a:lnTo>
                  <a:lnTo>
                    <a:pt x="94" y="1332"/>
                  </a:lnTo>
                  <a:lnTo>
                    <a:pt x="62" y="1423"/>
                  </a:lnTo>
                  <a:lnTo>
                    <a:pt x="141" y="1500"/>
                  </a:lnTo>
                  <a:lnTo>
                    <a:pt x="299" y="1362"/>
                  </a:lnTo>
                  <a:lnTo>
                    <a:pt x="535" y="1270"/>
                  </a:lnTo>
                  <a:lnTo>
                    <a:pt x="851" y="1133"/>
                  </a:lnTo>
                  <a:lnTo>
                    <a:pt x="1008" y="1148"/>
                  </a:lnTo>
                  <a:lnTo>
                    <a:pt x="1370" y="1286"/>
                  </a:lnTo>
                  <a:lnTo>
                    <a:pt x="1654" y="1423"/>
                  </a:lnTo>
                  <a:lnTo>
                    <a:pt x="2221" y="1500"/>
                  </a:lnTo>
                  <a:lnTo>
                    <a:pt x="2237" y="131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1" name=""/>
            <p:cNvSpPr/>
            <p:nvPr/>
          </p:nvSpPr>
          <p:spPr>
            <a:xfrm>
              <a:off x="6242040" y="3076560"/>
              <a:ext cx="1127520" cy="609840"/>
            </a:xfrm>
            <a:custGeom>
              <a:avLst/>
              <a:gdLst/>
              <a:ahLst/>
              <a:rect l="0" t="0" r="r" b="b"/>
              <a:pathLst>
                <a:path w="3132" h="1694">
                  <a:moveTo>
                    <a:pt x="93" y="0"/>
                  </a:moveTo>
                  <a:lnTo>
                    <a:pt x="594" y="372"/>
                  </a:lnTo>
                  <a:lnTo>
                    <a:pt x="1018" y="668"/>
                  </a:lnTo>
                  <a:lnTo>
                    <a:pt x="1488" y="792"/>
                  </a:lnTo>
                  <a:lnTo>
                    <a:pt x="2020" y="886"/>
                  </a:lnTo>
                  <a:lnTo>
                    <a:pt x="2772" y="668"/>
                  </a:lnTo>
                  <a:lnTo>
                    <a:pt x="2992" y="512"/>
                  </a:lnTo>
                  <a:lnTo>
                    <a:pt x="3038" y="621"/>
                  </a:lnTo>
                  <a:lnTo>
                    <a:pt x="2678" y="838"/>
                  </a:lnTo>
                  <a:lnTo>
                    <a:pt x="2475" y="902"/>
                  </a:lnTo>
                  <a:lnTo>
                    <a:pt x="2898" y="933"/>
                  </a:lnTo>
                  <a:lnTo>
                    <a:pt x="3132" y="933"/>
                  </a:lnTo>
                  <a:lnTo>
                    <a:pt x="3132" y="1041"/>
                  </a:lnTo>
                  <a:lnTo>
                    <a:pt x="2710" y="1072"/>
                  </a:lnTo>
                  <a:lnTo>
                    <a:pt x="2428" y="1041"/>
                  </a:lnTo>
                  <a:lnTo>
                    <a:pt x="2725" y="1259"/>
                  </a:lnTo>
                  <a:lnTo>
                    <a:pt x="2913" y="1321"/>
                  </a:lnTo>
                  <a:lnTo>
                    <a:pt x="2772" y="1461"/>
                  </a:lnTo>
                  <a:lnTo>
                    <a:pt x="2491" y="1274"/>
                  </a:lnTo>
                  <a:lnTo>
                    <a:pt x="2255" y="1119"/>
                  </a:lnTo>
                  <a:lnTo>
                    <a:pt x="2350" y="1445"/>
                  </a:lnTo>
                  <a:lnTo>
                    <a:pt x="2616" y="1647"/>
                  </a:lnTo>
                  <a:lnTo>
                    <a:pt x="2538" y="1694"/>
                  </a:lnTo>
                  <a:lnTo>
                    <a:pt x="2239" y="1538"/>
                  </a:lnTo>
                  <a:lnTo>
                    <a:pt x="2051" y="1228"/>
                  </a:lnTo>
                  <a:lnTo>
                    <a:pt x="1957" y="1088"/>
                  </a:lnTo>
                  <a:lnTo>
                    <a:pt x="1488" y="1041"/>
                  </a:lnTo>
                  <a:lnTo>
                    <a:pt x="893" y="886"/>
                  </a:lnTo>
                  <a:lnTo>
                    <a:pt x="407" y="528"/>
                  </a:lnTo>
                  <a:lnTo>
                    <a:pt x="93" y="248"/>
                  </a:lnTo>
                  <a:lnTo>
                    <a:pt x="0" y="155"/>
                  </a:lnTo>
                  <a:lnTo>
                    <a:pt x="9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2" name=""/>
            <p:cNvSpPr/>
            <p:nvPr/>
          </p:nvSpPr>
          <p:spPr>
            <a:xfrm>
              <a:off x="5295960" y="4106880"/>
              <a:ext cx="601920" cy="959040"/>
            </a:xfrm>
            <a:custGeom>
              <a:avLst/>
              <a:gdLst/>
              <a:ahLst/>
              <a:rect l="0" t="0" r="r" b="b"/>
              <a:pathLst>
                <a:path w="1672" h="2664">
                  <a:moveTo>
                    <a:pt x="1391" y="46"/>
                  </a:moveTo>
                  <a:lnTo>
                    <a:pt x="1078" y="418"/>
                  </a:lnTo>
                  <a:lnTo>
                    <a:pt x="844" y="712"/>
                  </a:lnTo>
                  <a:lnTo>
                    <a:pt x="780" y="975"/>
                  </a:lnTo>
                  <a:lnTo>
                    <a:pt x="796" y="1223"/>
                  </a:lnTo>
                  <a:lnTo>
                    <a:pt x="922" y="1503"/>
                  </a:lnTo>
                  <a:lnTo>
                    <a:pt x="1125" y="1828"/>
                  </a:lnTo>
                  <a:lnTo>
                    <a:pt x="1297" y="2091"/>
                  </a:lnTo>
                  <a:lnTo>
                    <a:pt x="1344" y="2292"/>
                  </a:lnTo>
                  <a:lnTo>
                    <a:pt x="1063" y="2230"/>
                  </a:lnTo>
                  <a:lnTo>
                    <a:pt x="640" y="2199"/>
                  </a:lnTo>
                  <a:lnTo>
                    <a:pt x="234" y="2292"/>
                  </a:lnTo>
                  <a:lnTo>
                    <a:pt x="0" y="2432"/>
                  </a:lnTo>
                  <a:lnTo>
                    <a:pt x="93" y="2602"/>
                  </a:lnTo>
                  <a:lnTo>
                    <a:pt x="312" y="2664"/>
                  </a:lnTo>
                  <a:lnTo>
                    <a:pt x="468" y="2509"/>
                  </a:lnTo>
                  <a:lnTo>
                    <a:pt x="687" y="2416"/>
                  </a:lnTo>
                  <a:lnTo>
                    <a:pt x="938" y="2416"/>
                  </a:lnTo>
                  <a:lnTo>
                    <a:pt x="1250" y="2478"/>
                  </a:lnTo>
                  <a:lnTo>
                    <a:pt x="1406" y="2602"/>
                  </a:lnTo>
                  <a:lnTo>
                    <a:pt x="1594" y="2602"/>
                  </a:lnTo>
                  <a:lnTo>
                    <a:pt x="1672" y="2478"/>
                  </a:lnTo>
                  <a:lnTo>
                    <a:pt x="1672" y="2339"/>
                  </a:lnTo>
                  <a:lnTo>
                    <a:pt x="1531" y="2184"/>
                  </a:lnTo>
                  <a:lnTo>
                    <a:pt x="1344" y="1874"/>
                  </a:lnTo>
                  <a:lnTo>
                    <a:pt x="1156" y="1580"/>
                  </a:lnTo>
                  <a:lnTo>
                    <a:pt x="985" y="1254"/>
                  </a:lnTo>
                  <a:lnTo>
                    <a:pt x="985" y="929"/>
                  </a:lnTo>
                  <a:lnTo>
                    <a:pt x="1078" y="743"/>
                  </a:lnTo>
                  <a:lnTo>
                    <a:pt x="1313" y="511"/>
                  </a:lnTo>
                  <a:lnTo>
                    <a:pt x="1500" y="340"/>
                  </a:lnTo>
                  <a:lnTo>
                    <a:pt x="1641" y="185"/>
                  </a:lnTo>
                  <a:lnTo>
                    <a:pt x="1484" y="0"/>
                  </a:lnTo>
                  <a:lnTo>
                    <a:pt x="1391" y="4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3" name=""/>
            <p:cNvSpPr/>
            <p:nvPr/>
          </p:nvSpPr>
          <p:spPr>
            <a:xfrm>
              <a:off x="5904000" y="4143240"/>
              <a:ext cx="652680" cy="1224360"/>
            </a:xfrm>
            <a:custGeom>
              <a:avLst/>
              <a:gdLst/>
              <a:ahLst/>
              <a:rect l="0" t="0" r="r" b="b"/>
              <a:pathLst>
                <a:path w="1813" h="3401">
                  <a:moveTo>
                    <a:pt x="421" y="108"/>
                  </a:moveTo>
                  <a:lnTo>
                    <a:pt x="374" y="664"/>
                  </a:lnTo>
                  <a:lnTo>
                    <a:pt x="374" y="1036"/>
                  </a:lnTo>
                  <a:lnTo>
                    <a:pt x="453" y="1407"/>
                  </a:lnTo>
                  <a:lnTo>
                    <a:pt x="640" y="1731"/>
                  </a:lnTo>
                  <a:lnTo>
                    <a:pt x="922" y="2056"/>
                  </a:lnTo>
                  <a:lnTo>
                    <a:pt x="1219" y="2288"/>
                  </a:lnTo>
                  <a:lnTo>
                    <a:pt x="1454" y="2427"/>
                  </a:lnTo>
                  <a:lnTo>
                    <a:pt x="1719" y="2458"/>
                  </a:lnTo>
                  <a:lnTo>
                    <a:pt x="1813" y="2598"/>
                  </a:lnTo>
                  <a:lnTo>
                    <a:pt x="1813" y="2706"/>
                  </a:lnTo>
                  <a:lnTo>
                    <a:pt x="1641" y="2799"/>
                  </a:lnTo>
                  <a:lnTo>
                    <a:pt x="1454" y="2876"/>
                  </a:lnTo>
                  <a:lnTo>
                    <a:pt x="1266" y="2922"/>
                  </a:lnTo>
                  <a:lnTo>
                    <a:pt x="969" y="3108"/>
                  </a:lnTo>
                  <a:lnTo>
                    <a:pt x="874" y="3247"/>
                  </a:lnTo>
                  <a:lnTo>
                    <a:pt x="843" y="3401"/>
                  </a:lnTo>
                  <a:lnTo>
                    <a:pt x="656" y="3386"/>
                  </a:lnTo>
                  <a:lnTo>
                    <a:pt x="468" y="3247"/>
                  </a:lnTo>
                  <a:lnTo>
                    <a:pt x="656" y="3061"/>
                  </a:lnTo>
                  <a:lnTo>
                    <a:pt x="828" y="2922"/>
                  </a:lnTo>
                  <a:lnTo>
                    <a:pt x="1110" y="2799"/>
                  </a:lnTo>
                  <a:lnTo>
                    <a:pt x="1313" y="2737"/>
                  </a:lnTo>
                  <a:lnTo>
                    <a:pt x="1579" y="2660"/>
                  </a:lnTo>
                  <a:lnTo>
                    <a:pt x="1125" y="2504"/>
                  </a:lnTo>
                  <a:lnTo>
                    <a:pt x="796" y="2241"/>
                  </a:lnTo>
                  <a:lnTo>
                    <a:pt x="562" y="1963"/>
                  </a:lnTo>
                  <a:lnTo>
                    <a:pt x="359" y="1670"/>
                  </a:lnTo>
                  <a:lnTo>
                    <a:pt x="218" y="1299"/>
                  </a:lnTo>
                  <a:lnTo>
                    <a:pt x="78" y="881"/>
                  </a:lnTo>
                  <a:lnTo>
                    <a:pt x="0" y="479"/>
                  </a:lnTo>
                  <a:lnTo>
                    <a:pt x="0" y="139"/>
                  </a:lnTo>
                  <a:lnTo>
                    <a:pt x="140" y="15"/>
                  </a:lnTo>
                  <a:lnTo>
                    <a:pt x="359" y="0"/>
                  </a:lnTo>
                  <a:lnTo>
                    <a:pt x="421" y="10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730080" y="322200"/>
            <a:ext cx="7683480" cy="411120"/>
          </a:xfrm>
          <a:prstGeom prst="rect">
            <a:avLst/>
          </a:prstGeom>
          <a:noFill/>
          <a:ln w="0">
            <a:noFill/>
          </a:ln>
        </p:spPr>
        <p:txBody>
          <a:bodyPr lIns="0" rIns="0" tIns="0" bIns="0" anchor="t">
            <a:noAutofit/>
          </a:bodyPr>
          <a:p>
            <a:pPr algn="ctr">
              <a:lnSpc>
                <a:spcPct val="100000"/>
              </a:lnSpc>
            </a:pPr>
            <a:r>
              <a:rPr b="1" lang="en-US" sz="2000" spc="-1" strike="noStrike">
                <a:solidFill>
                  <a:srgbClr val="333300"/>
                </a:solidFill>
                <a:latin typeface="Century Gothic"/>
                <a:ea typeface="Century Gothic"/>
              </a:rPr>
              <a:t>A N Y   S I Z E ,   A N Y W H E R E ,  A N Y   T I M E</a:t>
            </a:r>
            <a:endParaRPr b="0" lang="en-US" sz="2000" spc="-1" strike="noStrike">
              <a:solidFill>
                <a:srgbClr val="000000"/>
              </a:solidFill>
              <a:latin typeface="Arial"/>
            </a:endParaRPr>
          </a:p>
        </p:txBody>
      </p:sp>
      <p:sp>
        <p:nvSpPr>
          <p:cNvPr id="155" name=""/>
          <p:cNvSpPr txBox="1"/>
          <p:nvPr/>
        </p:nvSpPr>
        <p:spPr>
          <a:xfrm>
            <a:off x="682560" y="1963800"/>
            <a:ext cx="3787920" cy="1420920"/>
          </a:xfrm>
          <a:prstGeom prst="rect">
            <a:avLst/>
          </a:prstGeom>
          <a:noFill/>
          <a:ln w="0">
            <a:noFill/>
          </a:ln>
        </p:spPr>
        <p:txBody>
          <a:bodyPr lIns="0" rIns="0" tIns="0" bIns="0" anchor="t">
            <a:noAutofit/>
          </a:bodyPr>
          <a:p>
            <a:pPr algn="r">
              <a:lnSpc>
                <a:spcPct val="145000"/>
              </a:lnSpc>
              <a:spcBef>
                <a:spcPts val="961"/>
              </a:spcBef>
            </a:pPr>
            <a:r>
              <a:rPr b="1" lang="en-US" sz="1800" spc="-1" strike="noStrike">
                <a:solidFill>
                  <a:srgbClr val="000000"/>
                </a:solidFill>
                <a:latin typeface="Arial Narrow"/>
                <a:ea typeface="Arial Narrow"/>
              </a:rPr>
              <a:t>take pride in their appearance, so you can be confident they’ll look good in any application.  </a:t>
            </a:r>
            <a:endParaRPr b="0" lang="en-US" sz="1800" spc="-1" strike="noStrike">
              <a:solidFill>
                <a:srgbClr val="000000"/>
              </a:solidFill>
              <a:latin typeface="Arial"/>
            </a:endParaRPr>
          </a:p>
        </p:txBody>
      </p:sp>
      <p:sp>
        <p:nvSpPr>
          <p:cNvPr id="156" name=""/>
          <p:cNvSpPr txBox="1"/>
          <p:nvPr/>
        </p:nvSpPr>
        <p:spPr>
          <a:xfrm>
            <a:off x="1465200" y="4178160"/>
            <a:ext cx="2933640" cy="585720"/>
          </a:xfrm>
          <a:prstGeom prst="rect">
            <a:avLst/>
          </a:prstGeom>
          <a:noFill/>
          <a:ln w="0">
            <a:noFill/>
          </a:ln>
        </p:spPr>
        <p:txBody>
          <a:bodyPr lIns="0" rIns="0" tIns="0" bIns="0" anchor="t">
            <a:noAutofit/>
          </a:bodyPr>
          <a:p>
            <a:pPr algn="r">
              <a:lnSpc>
                <a:spcPct val="145000"/>
              </a:lnSpc>
              <a:spcBef>
                <a:spcPts val="961"/>
              </a:spcBef>
            </a:pPr>
            <a:r>
              <a:rPr b="1" lang="en-US" sz="1800" spc="-1" strike="noStrike">
                <a:solidFill>
                  <a:srgbClr val="000000"/>
                </a:solidFill>
                <a:latin typeface="Arial Narrow"/>
                <a:ea typeface="Arial Narrow"/>
              </a:rPr>
              <a:t>You can use them very small...</a:t>
            </a:r>
            <a:endParaRPr b="0" lang="en-US" sz="1800" spc="-1" strike="noStrike">
              <a:solidFill>
                <a:srgbClr val="000000"/>
              </a:solidFill>
              <a:latin typeface="Arial"/>
            </a:endParaRPr>
          </a:p>
        </p:txBody>
      </p:sp>
      <p:grpSp>
        <p:nvGrpSpPr>
          <p:cNvPr id="157" name=""/>
          <p:cNvGrpSpPr/>
          <p:nvPr/>
        </p:nvGrpSpPr>
        <p:grpSpPr>
          <a:xfrm>
            <a:off x="3848040" y="3611520"/>
            <a:ext cx="516600" cy="638640"/>
            <a:chOff x="3848040" y="3611520"/>
            <a:chExt cx="516600" cy="638640"/>
          </a:xfrm>
        </p:grpSpPr>
        <p:sp>
          <p:nvSpPr>
            <p:cNvPr id="158" name=""/>
            <p:cNvSpPr/>
            <p:nvPr/>
          </p:nvSpPr>
          <p:spPr>
            <a:xfrm>
              <a:off x="4160880" y="3611520"/>
              <a:ext cx="157680" cy="152640"/>
            </a:xfrm>
            <a:custGeom>
              <a:avLst/>
              <a:gdLst/>
              <a:ahLst/>
              <a:rect l="0" t="0" r="r" b="b"/>
              <a:pathLst>
                <a:path w="438" h="424">
                  <a:moveTo>
                    <a:pt x="291" y="289"/>
                  </a:moveTo>
                  <a:lnTo>
                    <a:pt x="326" y="208"/>
                  </a:lnTo>
                  <a:lnTo>
                    <a:pt x="344" y="132"/>
                  </a:lnTo>
                  <a:lnTo>
                    <a:pt x="326" y="70"/>
                  </a:lnTo>
                  <a:lnTo>
                    <a:pt x="270" y="17"/>
                  </a:lnTo>
                  <a:lnTo>
                    <a:pt x="203" y="0"/>
                  </a:lnTo>
                  <a:lnTo>
                    <a:pt x="112" y="35"/>
                  </a:lnTo>
                  <a:lnTo>
                    <a:pt x="52" y="105"/>
                  </a:lnTo>
                  <a:lnTo>
                    <a:pt x="17" y="194"/>
                  </a:lnTo>
                  <a:lnTo>
                    <a:pt x="5" y="256"/>
                  </a:lnTo>
                  <a:lnTo>
                    <a:pt x="0" y="327"/>
                  </a:lnTo>
                  <a:lnTo>
                    <a:pt x="5" y="377"/>
                  </a:lnTo>
                  <a:lnTo>
                    <a:pt x="26" y="415"/>
                  </a:lnTo>
                  <a:lnTo>
                    <a:pt x="79" y="424"/>
                  </a:lnTo>
                  <a:lnTo>
                    <a:pt x="141" y="415"/>
                  </a:lnTo>
                  <a:lnTo>
                    <a:pt x="200" y="380"/>
                  </a:lnTo>
                  <a:lnTo>
                    <a:pt x="252" y="353"/>
                  </a:lnTo>
                  <a:lnTo>
                    <a:pt x="273" y="333"/>
                  </a:lnTo>
                  <a:lnTo>
                    <a:pt x="406" y="362"/>
                  </a:lnTo>
                  <a:lnTo>
                    <a:pt x="438" y="359"/>
                  </a:lnTo>
                  <a:lnTo>
                    <a:pt x="438" y="327"/>
                  </a:lnTo>
                  <a:lnTo>
                    <a:pt x="291" y="28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9" name=""/>
            <p:cNvSpPr/>
            <p:nvPr/>
          </p:nvSpPr>
          <p:spPr>
            <a:xfrm>
              <a:off x="4030560" y="3792600"/>
              <a:ext cx="170280" cy="298800"/>
            </a:xfrm>
            <a:custGeom>
              <a:avLst/>
              <a:gdLst/>
              <a:ahLst/>
              <a:rect l="0" t="0" r="r" b="b"/>
              <a:pathLst>
                <a:path w="473" h="830">
                  <a:moveTo>
                    <a:pt x="159" y="123"/>
                  </a:moveTo>
                  <a:lnTo>
                    <a:pt x="217" y="61"/>
                  </a:lnTo>
                  <a:lnTo>
                    <a:pt x="314" y="2"/>
                  </a:lnTo>
                  <a:lnTo>
                    <a:pt x="359" y="0"/>
                  </a:lnTo>
                  <a:lnTo>
                    <a:pt x="438" y="26"/>
                  </a:lnTo>
                  <a:lnTo>
                    <a:pt x="473" y="64"/>
                  </a:lnTo>
                  <a:lnTo>
                    <a:pt x="473" y="123"/>
                  </a:lnTo>
                  <a:lnTo>
                    <a:pt x="415" y="232"/>
                  </a:lnTo>
                  <a:lnTo>
                    <a:pt x="349" y="317"/>
                  </a:lnTo>
                  <a:lnTo>
                    <a:pt x="323" y="388"/>
                  </a:lnTo>
                  <a:lnTo>
                    <a:pt x="305" y="471"/>
                  </a:lnTo>
                  <a:lnTo>
                    <a:pt x="323" y="550"/>
                  </a:lnTo>
                  <a:lnTo>
                    <a:pt x="340" y="627"/>
                  </a:lnTo>
                  <a:lnTo>
                    <a:pt x="340" y="715"/>
                  </a:lnTo>
                  <a:lnTo>
                    <a:pt x="314" y="768"/>
                  </a:lnTo>
                  <a:lnTo>
                    <a:pt x="255" y="797"/>
                  </a:lnTo>
                  <a:lnTo>
                    <a:pt x="185" y="830"/>
                  </a:lnTo>
                  <a:lnTo>
                    <a:pt x="121" y="830"/>
                  </a:lnTo>
                  <a:lnTo>
                    <a:pt x="76" y="806"/>
                  </a:lnTo>
                  <a:lnTo>
                    <a:pt x="17" y="709"/>
                  </a:lnTo>
                  <a:lnTo>
                    <a:pt x="0" y="609"/>
                  </a:lnTo>
                  <a:lnTo>
                    <a:pt x="5" y="480"/>
                  </a:lnTo>
                  <a:lnTo>
                    <a:pt x="49" y="317"/>
                  </a:lnTo>
                  <a:lnTo>
                    <a:pt x="93" y="211"/>
                  </a:lnTo>
                  <a:lnTo>
                    <a:pt x="159" y="12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0" name=""/>
            <p:cNvSpPr/>
            <p:nvPr/>
          </p:nvSpPr>
          <p:spPr>
            <a:xfrm>
              <a:off x="3992400" y="3759120"/>
              <a:ext cx="160560" cy="184680"/>
            </a:xfrm>
            <a:custGeom>
              <a:avLst/>
              <a:gdLst/>
              <a:ahLst/>
              <a:rect l="0" t="0" r="r" b="b"/>
              <a:pathLst>
                <a:path w="446" h="513">
                  <a:moveTo>
                    <a:pt x="233" y="45"/>
                  </a:moveTo>
                  <a:lnTo>
                    <a:pt x="338" y="77"/>
                  </a:lnTo>
                  <a:lnTo>
                    <a:pt x="426" y="94"/>
                  </a:lnTo>
                  <a:lnTo>
                    <a:pt x="446" y="123"/>
                  </a:lnTo>
                  <a:lnTo>
                    <a:pt x="437" y="159"/>
                  </a:lnTo>
                  <a:lnTo>
                    <a:pt x="382" y="184"/>
                  </a:lnTo>
                  <a:lnTo>
                    <a:pt x="332" y="176"/>
                  </a:lnTo>
                  <a:lnTo>
                    <a:pt x="215" y="120"/>
                  </a:lnTo>
                  <a:lnTo>
                    <a:pt x="163" y="63"/>
                  </a:lnTo>
                  <a:lnTo>
                    <a:pt x="113" y="51"/>
                  </a:lnTo>
                  <a:lnTo>
                    <a:pt x="78" y="97"/>
                  </a:lnTo>
                  <a:lnTo>
                    <a:pt x="61" y="210"/>
                  </a:lnTo>
                  <a:lnTo>
                    <a:pt x="61" y="225"/>
                  </a:lnTo>
                  <a:lnTo>
                    <a:pt x="61" y="319"/>
                  </a:lnTo>
                  <a:lnTo>
                    <a:pt x="78" y="363"/>
                  </a:lnTo>
                  <a:lnTo>
                    <a:pt x="128" y="401"/>
                  </a:lnTo>
                  <a:lnTo>
                    <a:pt x="122" y="461"/>
                  </a:lnTo>
                  <a:lnTo>
                    <a:pt x="84" y="504"/>
                  </a:lnTo>
                  <a:lnTo>
                    <a:pt x="26" y="513"/>
                  </a:lnTo>
                  <a:lnTo>
                    <a:pt x="8" y="479"/>
                  </a:lnTo>
                  <a:lnTo>
                    <a:pt x="0" y="371"/>
                  </a:lnTo>
                  <a:lnTo>
                    <a:pt x="17" y="193"/>
                  </a:lnTo>
                  <a:lnTo>
                    <a:pt x="43" y="45"/>
                  </a:lnTo>
                  <a:lnTo>
                    <a:pt x="69" y="11"/>
                  </a:lnTo>
                  <a:lnTo>
                    <a:pt x="104" y="0"/>
                  </a:lnTo>
                  <a:lnTo>
                    <a:pt x="139" y="0"/>
                  </a:lnTo>
                  <a:lnTo>
                    <a:pt x="197" y="28"/>
                  </a:lnTo>
                  <a:lnTo>
                    <a:pt x="233" y="4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1" name=""/>
            <p:cNvSpPr/>
            <p:nvPr/>
          </p:nvSpPr>
          <p:spPr>
            <a:xfrm>
              <a:off x="4148280" y="3817800"/>
              <a:ext cx="216360" cy="144720"/>
            </a:xfrm>
            <a:custGeom>
              <a:avLst/>
              <a:gdLst/>
              <a:ahLst/>
              <a:rect l="0" t="0" r="r" b="b"/>
              <a:pathLst>
                <a:path w="601" h="402">
                  <a:moveTo>
                    <a:pt x="0" y="86"/>
                  </a:moveTo>
                  <a:lnTo>
                    <a:pt x="0" y="25"/>
                  </a:lnTo>
                  <a:lnTo>
                    <a:pt x="38" y="0"/>
                  </a:lnTo>
                  <a:lnTo>
                    <a:pt x="78" y="2"/>
                  </a:lnTo>
                  <a:lnTo>
                    <a:pt x="105" y="63"/>
                  </a:lnTo>
                  <a:lnTo>
                    <a:pt x="114" y="150"/>
                  </a:lnTo>
                  <a:lnTo>
                    <a:pt x="153" y="255"/>
                  </a:lnTo>
                  <a:lnTo>
                    <a:pt x="197" y="330"/>
                  </a:lnTo>
                  <a:lnTo>
                    <a:pt x="246" y="356"/>
                  </a:lnTo>
                  <a:lnTo>
                    <a:pt x="293" y="347"/>
                  </a:lnTo>
                  <a:lnTo>
                    <a:pt x="343" y="307"/>
                  </a:lnTo>
                  <a:lnTo>
                    <a:pt x="433" y="229"/>
                  </a:lnTo>
                  <a:lnTo>
                    <a:pt x="484" y="158"/>
                  </a:lnTo>
                  <a:lnTo>
                    <a:pt x="484" y="121"/>
                  </a:lnTo>
                  <a:lnTo>
                    <a:pt x="470" y="89"/>
                  </a:lnTo>
                  <a:lnTo>
                    <a:pt x="502" y="34"/>
                  </a:lnTo>
                  <a:lnTo>
                    <a:pt x="549" y="8"/>
                  </a:lnTo>
                  <a:lnTo>
                    <a:pt x="590" y="28"/>
                  </a:lnTo>
                  <a:lnTo>
                    <a:pt x="601" y="69"/>
                  </a:lnTo>
                  <a:lnTo>
                    <a:pt x="566" y="158"/>
                  </a:lnTo>
                  <a:lnTo>
                    <a:pt x="448" y="289"/>
                  </a:lnTo>
                  <a:lnTo>
                    <a:pt x="316" y="390"/>
                  </a:lnTo>
                  <a:lnTo>
                    <a:pt x="237" y="402"/>
                  </a:lnTo>
                  <a:lnTo>
                    <a:pt x="170" y="384"/>
                  </a:lnTo>
                  <a:lnTo>
                    <a:pt x="114" y="307"/>
                  </a:lnTo>
                  <a:lnTo>
                    <a:pt x="61" y="211"/>
                  </a:lnTo>
                  <a:lnTo>
                    <a:pt x="20" y="141"/>
                  </a:lnTo>
                  <a:lnTo>
                    <a:pt x="0" y="8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2" name=""/>
            <p:cNvSpPr/>
            <p:nvPr/>
          </p:nvSpPr>
          <p:spPr>
            <a:xfrm>
              <a:off x="4084560" y="4029120"/>
              <a:ext cx="214560" cy="221040"/>
            </a:xfrm>
            <a:custGeom>
              <a:avLst/>
              <a:gdLst/>
              <a:ahLst/>
              <a:rect l="0" t="0" r="r" b="b"/>
              <a:pathLst>
                <a:path w="596" h="614">
                  <a:moveTo>
                    <a:pt x="0" y="58"/>
                  </a:moveTo>
                  <a:lnTo>
                    <a:pt x="49" y="0"/>
                  </a:lnTo>
                  <a:lnTo>
                    <a:pt x="123" y="0"/>
                  </a:lnTo>
                  <a:lnTo>
                    <a:pt x="260" y="14"/>
                  </a:lnTo>
                  <a:lnTo>
                    <a:pt x="423" y="23"/>
                  </a:lnTo>
                  <a:lnTo>
                    <a:pt x="484" y="49"/>
                  </a:lnTo>
                  <a:lnTo>
                    <a:pt x="511" y="84"/>
                  </a:lnTo>
                  <a:lnTo>
                    <a:pt x="517" y="137"/>
                  </a:lnTo>
                  <a:lnTo>
                    <a:pt x="499" y="193"/>
                  </a:lnTo>
                  <a:lnTo>
                    <a:pt x="449" y="278"/>
                  </a:lnTo>
                  <a:lnTo>
                    <a:pt x="385" y="348"/>
                  </a:lnTo>
                  <a:lnTo>
                    <a:pt x="335" y="412"/>
                  </a:lnTo>
                  <a:lnTo>
                    <a:pt x="314" y="463"/>
                  </a:lnTo>
                  <a:lnTo>
                    <a:pt x="300" y="498"/>
                  </a:lnTo>
                  <a:lnTo>
                    <a:pt x="305" y="524"/>
                  </a:lnTo>
                  <a:lnTo>
                    <a:pt x="308" y="541"/>
                  </a:lnTo>
                  <a:lnTo>
                    <a:pt x="367" y="541"/>
                  </a:lnTo>
                  <a:lnTo>
                    <a:pt x="458" y="527"/>
                  </a:lnTo>
                  <a:lnTo>
                    <a:pt x="517" y="527"/>
                  </a:lnTo>
                  <a:lnTo>
                    <a:pt x="578" y="550"/>
                  </a:lnTo>
                  <a:lnTo>
                    <a:pt x="596" y="579"/>
                  </a:lnTo>
                  <a:lnTo>
                    <a:pt x="578" y="606"/>
                  </a:lnTo>
                  <a:lnTo>
                    <a:pt x="552" y="614"/>
                  </a:lnTo>
                  <a:lnTo>
                    <a:pt x="511" y="603"/>
                  </a:lnTo>
                  <a:lnTo>
                    <a:pt x="455" y="571"/>
                  </a:lnTo>
                  <a:lnTo>
                    <a:pt x="396" y="577"/>
                  </a:lnTo>
                  <a:lnTo>
                    <a:pt x="300" y="594"/>
                  </a:lnTo>
                  <a:lnTo>
                    <a:pt x="269" y="588"/>
                  </a:lnTo>
                  <a:lnTo>
                    <a:pt x="255" y="568"/>
                  </a:lnTo>
                  <a:lnTo>
                    <a:pt x="255" y="518"/>
                  </a:lnTo>
                  <a:lnTo>
                    <a:pt x="255" y="447"/>
                  </a:lnTo>
                  <a:lnTo>
                    <a:pt x="296" y="395"/>
                  </a:lnTo>
                  <a:lnTo>
                    <a:pt x="358" y="316"/>
                  </a:lnTo>
                  <a:lnTo>
                    <a:pt x="411" y="246"/>
                  </a:lnTo>
                  <a:lnTo>
                    <a:pt x="446" y="193"/>
                  </a:lnTo>
                  <a:lnTo>
                    <a:pt x="464" y="145"/>
                  </a:lnTo>
                  <a:lnTo>
                    <a:pt x="455" y="119"/>
                  </a:lnTo>
                  <a:lnTo>
                    <a:pt x="432" y="87"/>
                  </a:lnTo>
                  <a:lnTo>
                    <a:pt x="396" y="78"/>
                  </a:lnTo>
                  <a:lnTo>
                    <a:pt x="358" y="78"/>
                  </a:lnTo>
                  <a:lnTo>
                    <a:pt x="272" y="78"/>
                  </a:lnTo>
                  <a:lnTo>
                    <a:pt x="146" y="102"/>
                  </a:lnTo>
                  <a:lnTo>
                    <a:pt x="52" y="110"/>
                  </a:lnTo>
                  <a:lnTo>
                    <a:pt x="14" y="102"/>
                  </a:lnTo>
                  <a:lnTo>
                    <a:pt x="0" y="87"/>
                  </a:lnTo>
                  <a:lnTo>
                    <a:pt x="0" y="5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3" name=""/>
            <p:cNvSpPr/>
            <p:nvPr/>
          </p:nvSpPr>
          <p:spPr>
            <a:xfrm>
              <a:off x="3848040" y="3989520"/>
              <a:ext cx="270360" cy="209880"/>
            </a:xfrm>
            <a:custGeom>
              <a:avLst/>
              <a:gdLst/>
              <a:ahLst/>
              <a:rect l="0" t="0" r="r" b="b"/>
              <a:pathLst>
                <a:path w="751" h="583">
                  <a:moveTo>
                    <a:pt x="612" y="241"/>
                  </a:moveTo>
                  <a:lnTo>
                    <a:pt x="623" y="165"/>
                  </a:lnTo>
                  <a:lnTo>
                    <a:pt x="667" y="136"/>
                  </a:lnTo>
                  <a:lnTo>
                    <a:pt x="719" y="130"/>
                  </a:lnTo>
                  <a:lnTo>
                    <a:pt x="751" y="165"/>
                  </a:lnTo>
                  <a:lnTo>
                    <a:pt x="737" y="232"/>
                  </a:lnTo>
                  <a:lnTo>
                    <a:pt x="708" y="324"/>
                  </a:lnTo>
                  <a:lnTo>
                    <a:pt x="649" y="425"/>
                  </a:lnTo>
                  <a:lnTo>
                    <a:pt x="577" y="513"/>
                  </a:lnTo>
                  <a:lnTo>
                    <a:pt x="515" y="559"/>
                  </a:lnTo>
                  <a:lnTo>
                    <a:pt x="448" y="583"/>
                  </a:lnTo>
                  <a:lnTo>
                    <a:pt x="384" y="574"/>
                  </a:lnTo>
                  <a:lnTo>
                    <a:pt x="335" y="548"/>
                  </a:lnTo>
                  <a:lnTo>
                    <a:pt x="317" y="504"/>
                  </a:lnTo>
                  <a:lnTo>
                    <a:pt x="297" y="428"/>
                  </a:lnTo>
                  <a:lnTo>
                    <a:pt x="274" y="288"/>
                  </a:lnTo>
                  <a:lnTo>
                    <a:pt x="256" y="192"/>
                  </a:lnTo>
                  <a:lnTo>
                    <a:pt x="256" y="78"/>
                  </a:lnTo>
                  <a:lnTo>
                    <a:pt x="245" y="58"/>
                  </a:lnTo>
                  <a:lnTo>
                    <a:pt x="210" y="52"/>
                  </a:lnTo>
                  <a:lnTo>
                    <a:pt x="168" y="84"/>
                  </a:lnTo>
                  <a:lnTo>
                    <a:pt x="130" y="136"/>
                  </a:lnTo>
                  <a:lnTo>
                    <a:pt x="87" y="165"/>
                  </a:lnTo>
                  <a:lnTo>
                    <a:pt x="20" y="165"/>
                  </a:lnTo>
                  <a:lnTo>
                    <a:pt x="0" y="148"/>
                  </a:lnTo>
                  <a:lnTo>
                    <a:pt x="0" y="119"/>
                  </a:lnTo>
                  <a:lnTo>
                    <a:pt x="29" y="93"/>
                  </a:lnTo>
                  <a:lnTo>
                    <a:pt x="61" y="101"/>
                  </a:lnTo>
                  <a:lnTo>
                    <a:pt x="90" y="96"/>
                  </a:lnTo>
                  <a:lnTo>
                    <a:pt x="142" y="58"/>
                  </a:lnTo>
                  <a:lnTo>
                    <a:pt x="195" y="17"/>
                  </a:lnTo>
                  <a:lnTo>
                    <a:pt x="245" y="5"/>
                  </a:lnTo>
                  <a:lnTo>
                    <a:pt x="314" y="0"/>
                  </a:lnTo>
                  <a:lnTo>
                    <a:pt x="317" y="32"/>
                  </a:lnTo>
                  <a:lnTo>
                    <a:pt x="300" y="66"/>
                  </a:lnTo>
                  <a:lnTo>
                    <a:pt x="297" y="157"/>
                  </a:lnTo>
                  <a:lnTo>
                    <a:pt x="317" y="276"/>
                  </a:lnTo>
                  <a:lnTo>
                    <a:pt x="349" y="393"/>
                  </a:lnTo>
                  <a:lnTo>
                    <a:pt x="378" y="463"/>
                  </a:lnTo>
                  <a:lnTo>
                    <a:pt x="422" y="495"/>
                  </a:lnTo>
                  <a:lnTo>
                    <a:pt x="465" y="495"/>
                  </a:lnTo>
                  <a:lnTo>
                    <a:pt x="509" y="463"/>
                  </a:lnTo>
                  <a:lnTo>
                    <a:pt x="568" y="390"/>
                  </a:lnTo>
                  <a:lnTo>
                    <a:pt x="606" y="285"/>
                  </a:lnTo>
                  <a:lnTo>
                    <a:pt x="612" y="24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164" name=""/>
          <p:cNvGrpSpPr/>
          <p:nvPr/>
        </p:nvGrpSpPr>
        <p:grpSpPr>
          <a:xfrm>
            <a:off x="4964040" y="1608120"/>
            <a:ext cx="2684880" cy="2707200"/>
            <a:chOff x="4964040" y="1608120"/>
            <a:chExt cx="2684880" cy="2707200"/>
          </a:xfrm>
        </p:grpSpPr>
        <p:grpSp>
          <p:nvGrpSpPr>
            <p:cNvPr id="165" name=""/>
            <p:cNvGrpSpPr/>
            <p:nvPr/>
          </p:nvGrpSpPr>
          <p:grpSpPr>
            <a:xfrm>
              <a:off x="4964040" y="1608120"/>
              <a:ext cx="1636920" cy="2635560"/>
              <a:chOff x="4964040" y="1608120"/>
              <a:chExt cx="1636920" cy="2635560"/>
            </a:xfrm>
          </p:grpSpPr>
          <p:sp>
            <p:nvSpPr>
              <p:cNvPr id="166" name=""/>
              <p:cNvSpPr/>
              <p:nvPr/>
            </p:nvSpPr>
            <p:spPr>
              <a:xfrm>
                <a:off x="5076720" y="2316240"/>
                <a:ext cx="257400" cy="1802160"/>
              </a:xfrm>
              <a:custGeom>
                <a:avLst/>
                <a:gdLst/>
                <a:ahLst/>
                <a:rect l="0" t="0" r="r" b="b"/>
                <a:pathLst>
                  <a:path w="715" h="5006">
                    <a:moveTo>
                      <a:pt x="385" y="0"/>
                    </a:moveTo>
                    <a:lnTo>
                      <a:pt x="403" y="1122"/>
                    </a:lnTo>
                    <a:lnTo>
                      <a:pt x="293" y="2613"/>
                    </a:lnTo>
                    <a:lnTo>
                      <a:pt x="146" y="3846"/>
                    </a:lnTo>
                    <a:lnTo>
                      <a:pt x="0" y="4858"/>
                    </a:lnTo>
                    <a:lnTo>
                      <a:pt x="128" y="4950"/>
                    </a:lnTo>
                    <a:lnTo>
                      <a:pt x="385" y="5006"/>
                    </a:lnTo>
                    <a:lnTo>
                      <a:pt x="513" y="4914"/>
                    </a:lnTo>
                    <a:lnTo>
                      <a:pt x="495" y="3809"/>
                    </a:lnTo>
                    <a:lnTo>
                      <a:pt x="550" y="2595"/>
                    </a:lnTo>
                    <a:lnTo>
                      <a:pt x="642" y="1545"/>
                    </a:lnTo>
                    <a:lnTo>
                      <a:pt x="715" y="1214"/>
                    </a:lnTo>
                    <a:lnTo>
                      <a:pt x="623" y="809"/>
                    </a:lnTo>
                    <a:lnTo>
                      <a:pt x="495" y="1987"/>
                    </a:lnTo>
                    <a:lnTo>
                      <a:pt x="422" y="2889"/>
                    </a:lnTo>
                    <a:lnTo>
                      <a:pt x="385" y="3975"/>
                    </a:lnTo>
                    <a:lnTo>
                      <a:pt x="422" y="4858"/>
                    </a:lnTo>
                    <a:lnTo>
                      <a:pt x="348" y="4914"/>
                    </a:lnTo>
                    <a:lnTo>
                      <a:pt x="219" y="4895"/>
                    </a:lnTo>
                    <a:lnTo>
                      <a:pt x="109" y="4785"/>
                    </a:lnTo>
                    <a:lnTo>
                      <a:pt x="201" y="4067"/>
                    </a:lnTo>
                    <a:lnTo>
                      <a:pt x="311" y="3184"/>
                    </a:lnTo>
                    <a:lnTo>
                      <a:pt x="367" y="2595"/>
                    </a:lnTo>
                    <a:lnTo>
                      <a:pt x="422" y="1821"/>
                    </a:lnTo>
                    <a:lnTo>
                      <a:pt x="495" y="1085"/>
                    </a:lnTo>
                    <a:lnTo>
                      <a:pt x="495" y="478"/>
                    </a:lnTo>
                    <a:lnTo>
                      <a:pt x="385" y="73"/>
                    </a:lnTo>
                    <a:lnTo>
                      <a:pt x="385"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7" name=""/>
              <p:cNvSpPr/>
              <p:nvPr/>
            </p:nvSpPr>
            <p:spPr>
              <a:xfrm>
                <a:off x="4964040" y="1608120"/>
                <a:ext cx="1636920" cy="2635560"/>
              </a:xfrm>
              <a:custGeom>
                <a:avLst/>
                <a:gdLst/>
                <a:ahLst/>
                <a:rect l="0" t="0" r="r" b="b"/>
                <a:pathLst>
                  <a:path w="4547" h="7321">
                    <a:moveTo>
                      <a:pt x="239" y="386"/>
                    </a:moveTo>
                    <a:lnTo>
                      <a:pt x="993" y="331"/>
                    </a:lnTo>
                    <a:lnTo>
                      <a:pt x="1674" y="220"/>
                    </a:lnTo>
                    <a:lnTo>
                      <a:pt x="2430" y="73"/>
                    </a:lnTo>
                    <a:lnTo>
                      <a:pt x="2743" y="0"/>
                    </a:lnTo>
                    <a:lnTo>
                      <a:pt x="2982" y="1103"/>
                    </a:lnTo>
                    <a:lnTo>
                      <a:pt x="3295" y="2354"/>
                    </a:lnTo>
                    <a:lnTo>
                      <a:pt x="3590" y="3365"/>
                    </a:lnTo>
                    <a:lnTo>
                      <a:pt x="4032" y="5040"/>
                    </a:lnTo>
                    <a:lnTo>
                      <a:pt x="4492" y="6530"/>
                    </a:lnTo>
                    <a:lnTo>
                      <a:pt x="4547" y="6714"/>
                    </a:lnTo>
                    <a:lnTo>
                      <a:pt x="4473" y="6769"/>
                    </a:lnTo>
                    <a:lnTo>
                      <a:pt x="4087" y="6787"/>
                    </a:lnTo>
                    <a:lnTo>
                      <a:pt x="3479" y="6916"/>
                    </a:lnTo>
                    <a:lnTo>
                      <a:pt x="2890" y="7137"/>
                    </a:lnTo>
                    <a:lnTo>
                      <a:pt x="2301" y="7321"/>
                    </a:lnTo>
                    <a:lnTo>
                      <a:pt x="2116" y="7302"/>
                    </a:lnTo>
                    <a:lnTo>
                      <a:pt x="2043" y="7137"/>
                    </a:lnTo>
                    <a:lnTo>
                      <a:pt x="1693" y="5812"/>
                    </a:lnTo>
                    <a:lnTo>
                      <a:pt x="1306" y="4507"/>
                    </a:lnTo>
                    <a:lnTo>
                      <a:pt x="1030" y="3420"/>
                    </a:lnTo>
                    <a:lnTo>
                      <a:pt x="773" y="2427"/>
                    </a:lnTo>
                    <a:lnTo>
                      <a:pt x="460" y="1544"/>
                    </a:lnTo>
                    <a:lnTo>
                      <a:pt x="239" y="956"/>
                    </a:lnTo>
                    <a:lnTo>
                      <a:pt x="0" y="404"/>
                    </a:lnTo>
                    <a:lnTo>
                      <a:pt x="239" y="404"/>
                    </a:lnTo>
                    <a:lnTo>
                      <a:pt x="386" y="974"/>
                    </a:lnTo>
                    <a:lnTo>
                      <a:pt x="625" y="1673"/>
                    </a:lnTo>
                    <a:lnTo>
                      <a:pt x="901" y="2446"/>
                    </a:lnTo>
                    <a:lnTo>
                      <a:pt x="1270" y="3900"/>
                    </a:lnTo>
                    <a:lnTo>
                      <a:pt x="1601" y="5077"/>
                    </a:lnTo>
                    <a:lnTo>
                      <a:pt x="1822" y="5757"/>
                    </a:lnTo>
                    <a:lnTo>
                      <a:pt x="1951" y="6235"/>
                    </a:lnTo>
                    <a:lnTo>
                      <a:pt x="2153" y="6824"/>
                    </a:lnTo>
                    <a:lnTo>
                      <a:pt x="2301" y="7137"/>
                    </a:lnTo>
                    <a:lnTo>
                      <a:pt x="2375" y="7155"/>
                    </a:lnTo>
                    <a:lnTo>
                      <a:pt x="2725" y="7118"/>
                    </a:lnTo>
                    <a:lnTo>
                      <a:pt x="3277" y="6879"/>
                    </a:lnTo>
                    <a:lnTo>
                      <a:pt x="3847" y="6695"/>
                    </a:lnTo>
                    <a:lnTo>
                      <a:pt x="4271" y="6567"/>
                    </a:lnTo>
                    <a:lnTo>
                      <a:pt x="4308" y="6475"/>
                    </a:lnTo>
                    <a:lnTo>
                      <a:pt x="4197" y="6015"/>
                    </a:lnTo>
                    <a:lnTo>
                      <a:pt x="3921" y="5058"/>
                    </a:lnTo>
                    <a:lnTo>
                      <a:pt x="3627" y="4010"/>
                    </a:lnTo>
                    <a:lnTo>
                      <a:pt x="3332" y="2924"/>
                    </a:lnTo>
                    <a:lnTo>
                      <a:pt x="3111" y="2096"/>
                    </a:lnTo>
                    <a:lnTo>
                      <a:pt x="2982" y="1508"/>
                    </a:lnTo>
                    <a:lnTo>
                      <a:pt x="2725" y="514"/>
                    </a:lnTo>
                    <a:lnTo>
                      <a:pt x="2651" y="275"/>
                    </a:lnTo>
                    <a:lnTo>
                      <a:pt x="2504" y="257"/>
                    </a:lnTo>
                    <a:lnTo>
                      <a:pt x="2208" y="257"/>
                    </a:lnTo>
                    <a:lnTo>
                      <a:pt x="1767" y="312"/>
                    </a:lnTo>
                    <a:lnTo>
                      <a:pt x="1141" y="404"/>
                    </a:lnTo>
                    <a:lnTo>
                      <a:pt x="662" y="478"/>
                    </a:lnTo>
                    <a:lnTo>
                      <a:pt x="294" y="514"/>
                    </a:lnTo>
                    <a:lnTo>
                      <a:pt x="239" y="38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8" name=""/>
              <p:cNvSpPr/>
              <p:nvPr/>
            </p:nvSpPr>
            <p:spPr>
              <a:xfrm>
                <a:off x="5138640" y="1792440"/>
                <a:ext cx="1295640" cy="2340360"/>
              </a:xfrm>
              <a:custGeom>
                <a:avLst/>
                <a:gdLst/>
                <a:ahLst/>
                <a:rect l="0" t="0" r="r" b="b"/>
                <a:pathLst>
                  <a:path w="3599" h="6501">
                    <a:moveTo>
                      <a:pt x="174" y="193"/>
                    </a:moveTo>
                    <a:lnTo>
                      <a:pt x="727" y="110"/>
                    </a:lnTo>
                    <a:lnTo>
                      <a:pt x="1242" y="55"/>
                    </a:lnTo>
                    <a:lnTo>
                      <a:pt x="1813" y="18"/>
                    </a:lnTo>
                    <a:lnTo>
                      <a:pt x="2053" y="0"/>
                    </a:lnTo>
                    <a:lnTo>
                      <a:pt x="2237" y="764"/>
                    </a:lnTo>
                    <a:lnTo>
                      <a:pt x="2531" y="1934"/>
                    </a:lnTo>
                    <a:lnTo>
                      <a:pt x="2798" y="2873"/>
                    </a:lnTo>
                    <a:lnTo>
                      <a:pt x="3212" y="4438"/>
                    </a:lnTo>
                    <a:lnTo>
                      <a:pt x="3580" y="5673"/>
                    </a:lnTo>
                    <a:lnTo>
                      <a:pt x="3599" y="5894"/>
                    </a:lnTo>
                    <a:lnTo>
                      <a:pt x="3507" y="5986"/>
                    </a:lnTo>
                    <a:lnTo>
                      <a:pt x="3323" y="6041"/>
                    </a:lnTo>
                    <a:lnTo>
                      <a:pt x="2807" y="6152"/>
                    </a:lnTo>
                    <a:lnTo>
                      <a:pt x="2439" y="6336"/>
                    </a:lnTo>
                    <a:lnTo>
                      <a:pt x="2126" y="6501"/>
                    </a:lnTo>
                    <a:lnTo>
                      <a:pt x="1998" y="6501"/>
                    </a:lnTo>
                    <a:lnTo>
                      <a:pt x="1887" y="6446"/>
                    </a:lnTo>
                    <a:lnTo>
                      <a:pt x="1518" y="5259"/>
                    </a:lnTo>
                    <a:lnTo>
                      <a:pt x="1168" y="4042"/>
                    </a:lnTo>
                    <a:lnTo>
                      <a:pt x="911" y="3030"/>
                    </a:lnTo>
                    <a:lnTo>
                      <a:pt x="671" y="2100"/>
                    </a:lnTo>
                    <a:lnTo>
                      <a:pt x="395" y="1279"/>
                    </a:lnTo>
                    <a:lnTo>
                      <a:pt x="202" y="727"/>
                    </a:lnTo>
                    <a:lnTo>
                      <a:pt x="0" y="220"/>
                    </a:lnTo>
                    <a:lnTo>
                      <a:pt x="174" y="211"/>
                    </a:lnTo>
                    <a:lnTo>
                      <a:pt x="312" y="736"/>
                    </a:lnTo>
                    <a:lnTo>
                      <a:pt x="524" y="1390"/>
                    </a:lnTo>
                    <a:lnTo>
                      <a:pt x="763" y="2109"/>
                    </a:lnTo>
                    <a:lnTo>
                      <a:pt x="1113" y="3471"/>
                    </a:lnTo>
                    <a:lnTo>
                      <a:pt x="1417" y="4567"/>
                    </a:lnTo>
                    <a:lnTo>
                      <a:pt x="1610" y="5203"/>
                    </a:lnTo>
                    <a:lnTo>
                      <a:pt x="1730" y="5654"/>
                    </a:lnTo>
                    <a:lnTo>
                      <a:pt x="1906" y="6198"/>
                    </a:lnTo>
                    <a:lnTo>
                      <a:pt x="1961" y="6354"/>
                    </a:lnTo>
                    <a:lnTo>
                      <a:pt x="2126" y="6373"/>
                    </a:lnTo>
                    <a:lnTo>
                      <a:pt x="2292" y="6336"/>
                    </a:lnTo>
                    <a:lnTo>
                      <a:pt x="2458" y="6207"/>
                    </a:lnTo>
                    <a:lnTo>
                      <a:pt x="2789" y="6041"/>
                    </a:lnTo>
                    <a:lnTo>
                      <a:pt x="3139" y="5967"/>
                    </a:lnTo>
                    <a:lnTo>
                      <a:pt x="3461" y="5875"/>
                    </a:lnTo>
                    <a:lnTo>
                      <a:pt x="3488" y="5783"/>
                    </a:lnTo>
                    <a:lnTo>
                      <a:pt x="3378" y="5351"/>
                    </a:lnTo>
                    <a:lnTo>
                      <a:pt x="3129" y="4457"/>
                    </a:lnTo>
                    <a:lnTo>
                      <a:pt x="2863" y="3481"/>
                    </a:lnTo>
                    <a:lnTo>
                      <a:pt x="2587" y="2468"/>
                    </a:lnTo>
                    <a:lnTo>
                      <a:pt x="2384" y="1695"/>
                    </a:lnTo>
                    <a:lnTo>
                      <a:pt x="2255" y="1141"/>
                    </a:lnTo>
                    <a:lnTo>
                      <a:pt x="2016" y="211"/>
                    </a:lnTo>
                    <a:lnTo>
                      <a:pt x="1720" y="165"/>
                    </a:lnTo>
                    <a:lnTo>
                      <a:pt x="1260" y="184"/>
                    </a:lnTo>
                    <a:lnTo>
                      <a:pt x="855" y="220"/>
                    </a:lnTo>
                    <a:lnTo>
                      <a:pt x="487" y="257"/>
                    </a:lnTo>
                    <a:lnTo>
                      <a:pt x="220" y="313"/>
                    </a:lnTo>
                    <a:lnTo>
                      <a:pt x="174" y="19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5460840" y="2038320"/>
                <a:ext cx="344880" cy="357480"/>
              </a:xfrm>
              <a:custGeom>
                <a:avLst/>
                <a:gdLst/>
                <a:ahLst/>
                <a:rect l="0" t="0" r="r" b="b"/>
                <a:pathLst>
                  <a:path w="958" h="993">
                    <a:moveTo>
                      <a:pt x="958" y="919"/>
                    </a:moveTo>
                    <a:lnTo>
                      <a:pt x="442" y="385"/>
                    </a:lnTo>
                    <a:lnTo>
                      <a:pt x="92" y="0"/>
                    </a:lnTo>
                    <a:lnTo>
                      <a:pt x="0" y="18"/>
                    </a:lnTo>
                    <a:lnTo>
                      <a:pt x="0" y="91"/>
                    </a:lnTo>
                    <a:lnTo>
                      <a:pt x="442" y="515"/>
                    </a:lnTo>
                    <a:lnTo>
                      <a:pt x="830" y="993"/>
                    </a:lnTo>
                    <a:lnTo>
                      <a:pt x="958" y="9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0" name=""/>
              <p:cNvSpPr/>
              <p:nvPr/>
            </p:nvSpPr>
            <p:spPr>
              <a:xfrm>
                <a:off x="5500800" y="2224080"/>
                <a:ext cx="305280" cy="297360"/>
              </a:xfrm>
              <a:custGeom>
                <a:avLst/>
                <a:gdLst/>
                <a:ahLst/>
                <a:rect l="0" t="0" r="r" b="b"/>
                <a:pathLst>
                  <a:path w="848" h="826">
                    <a:moveTo>
                      <a:pt x="848" y="826"/>
                    </a:moveTo>
                    <a:lnTo>
                      <a:pt x="128" y="0"/>
                    </a:lnTo>
                    <a:lnTo>
                      <a:pt x="18" y="0"/>
                    </a:lnTo>
                    <a:lnTo>
                      <a:pt x="0" y="109"/>
                    </a:lnTo>
                    <a:lnTo>
                      <a:pt x="387" y="440"/>
                    </a:lnTo>
                    <a:lnTo>
                      <a:pt x="848" y="82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1" name=""/>
              <p:cNvSpPr/>
              <p:nvPr/>
            </p:nvSpPr>
            <p:spPr>
              <a:xfrm>
                <a:off x="5811840" y="3276720"/>
                <a:ext cx="371880" cy="405000"/>
              </a:xfrm>
              <a:custGeom>
                <a:avLst/>
                <a:gdLst/>
                <a:ahLst/>
                <a:rect l="0" t="0" r="r" b="b"/>
                <a:pathLst>
                  <a:path w="1033" h="1125">
                    <a:moveTo>
                      <a:pt x="73" y="0"/>
                    </a:moveTo>
                    <a:lnTo>
                      <a:pt x="886" y="793"/>
                    </a:lnTo>
                    <a:lnTo>
                      <a:pt x="1033" y="1033"/>
                    </a:lnTo>
                    <a:lnTo>
                      <a:pt x="960" y="1125"/>
                    </a:lnTo>
                    <a:lnTo>
                      <a:pt x="849" y="1070"/>
                    </a:lnTo>
                    <a:lnTo>
                      <a:pt x="351" y="442"/>
                    </a:lnTo>
                    <a:lnTo>
                      <a:pt x="0" y="18"/>
                    </a:lnTo>
                    <a:lnTo>
                      <a:pt x="7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2" name=""/>
              <p:cNvSpPr/>
              <p:nvPr/>
            </p:nvSpPr>
            <p:spPr>
              <a:xfrm>
                <a:off x="5818320" y="3483000"/>
                <a:ext cx="279720" cy="344880"/>
              </a:xfrm>
              <a:custGeom>
                <a:avLst/>
                <a:gdLst/>
                <a:ahLst/>
                <a:rect l="0" t="0" r="r" b="b"/>
                <a:pathLst>
                  <a:path w="777" h="958">
                    <a:moveTo>
                      <a:pt x="703" y="700"/>
                    </a:moveTo>
                    <a:lnTo>
                      <a:pt x="407" y="313"/>
                    </a:lnTo>
                    <a:lnTo>
                      <a:pt x="92" y="0"/>
                    </a:lnTo>
                    <a:lnTo>
                      <a:pt x="0" y="36"/>
                    </a:lnTo>
                    <a:lnTo>
                      <a:pt x="55" y="202"/>
                    </a:lnTo>
                    <a:lnTo>
                      <a:pt x="426" y="516"/>
                    </a:lnTo>
                    <a:lnTo>
                      <a:pt x="721" y="958"/>
                    </a:lnTo>
                    <a:lnTo>
                      <a:pt x="777" y="866"/>
                    </a:lnTo>
                    <a:lnTo>
                      <a:pt x="703" y="70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173" name=""/>
            <p:cNvGrpSpPr/>
            <p:nvPr/>
          </p:nvGrpSpPr>
          <p:grpSpPr>
            <a:xfrm>
              <a:off x="6591240" y="1681200"/>
              <a:ext cx="1057680" cy="2634120"/>
              <a:chOff x="6591240" y="1681200"/>
              <a:chExt cx="1057680" cy="2634120"/>
            </a:xfrm>
          </p:grpSpPr>
          <p:sp>
            <p:nvSpPr>
              <p:cNvPr id="174" name=""/>
              <p:cNvSpPr/>
              <p:nvPr/>
            </p:nvSpPr>
            <p:spPr>
              <a:xfrm>
                <a:off x="6856560" y="1809720"/>
                <a:ext cx="609840" cy="597240"/>
              </a:xfrm>
              <a:custGeom>
                <a:avLst/>
                <a:gdLst/>
                <a:ahLst/>
                <a:rect l="0" t="0" r="r" b="b"/>
                <a:pathLst>
                  <a:path w="1694" h="1659">
                    <a:moveTo>
                      <a:pt x="515" y="700"/>
                    </a:moveTo>
                    <a:lnTo>
                      <a:pt x="662" y="478"/>
                    </a:lnTo>
                    <a:lnTo>
                      <a:pt x="828" y="313"/>
                    </a:lnTo>
                    <a:lnTo>
                      <a:pt x="994" y="110"/>
                    </a:lnTo>
                    <a:lnTo>
                      <a:pt x="1197" y="18"/>
                    </a:lnTo>
                    <a:lnTo>
                      <a:pt x="1363" y="0"/>
                    </a:lnTo>
                    <a:lnTo>
                      <a:pt x="1528" y="55"/>
                    </a:lnTo>
                    <a:lnTo>
                      <a:pt x="1620" y="184"/>
                    </a:lnTo>
                    <a:lnTo>
                      <a:pt x="1694" y="423"/>
                    </a:lnTo>
                    <a:lnTo>
                      <a:pt x="1675" y="681"/>
                    </a:lnTo>
                    <a:lnTo>
                      <a:pt x="1602" y="903"/>
                    </a:lnTo>
                    <a:lnTo>
                      <a:pt x="1418" y="1161"/>
                    </a:lnTo>
                    <a:lnTo>
                      <a:pt x="1215" y="1345"/>
                    </a:lnTo>
                    <a:lnTo>
                      <a:pt x="994" y="1511"/>
                    </a:lnTo>
                    <a:lnTo>
                      <a:pt x="754" y="1622"/>
                    </a:lnTo>
                    <a:lnTo>
                      <a:pt x="552" y="1659"/>
                    </a:lnTo>
                    <a:lnTo>
                      <a:pt x="460" y="1603"/>
                    </a:lnTo>
                    <a:lnTo>
                      <a:pt x="386" y="1382"/>
                    </a:lnTo>
                    <a:lnTo>
                      <a:pt x="404" y="1087"/>
                    </a:lnTo>
                    <a:lnTo>
                      <a:pt x="55" y="1106"/>
                    </a:lnTo>
                    <a:lnTo>
                      <a:pt x="0" y="1051"/>
                    </a:lnTo>
                    <a:lnTo>
                      <a:pt x="55" y="940"/>
                    </a:lnTo>
                    <a:lnTo>
                      <a:pt x="423" y="922"/>
                    </a:lnTo>
                    <a:lnTo>
                      <a:pt x="515" y="70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5" name=""/>
              <p:cNvSpPr/>
              <p:nvPr/>
            </p:nvSpPr>
            <p:spPr>
              <a:xfrm>
                <a:off x="6823080" y="2440080"/>
                <a:ext cx="424080" cy="873360"/>
              </a:xfrm>
              <a:custGeom>
                <a:avLst/>
                <a:gdLst/>
                <a:ahLst/>
                <a:rect l="0" t="0" r="r" b="b"/>
                <a:pathLst>
                  <a:path w="1178" h="2426">
                    <a:moveTo>
                      <a:pt x="331" y="202"/>
                    </a:moveTo>
                    <a:lnTo>
                      <a:pt x="496" y="55"/>
                    </a:lnTo>
                    <a:lnTo>
                      <a:pt x="755" y="0"/>
                    </a:lnTo>
                    <a:lnTo>
                      <a:pt x="976" y="36"/>
                    </a:lnTo>
                    <a:lnTo>
                      <a:pt x="1141" y="183"/>
                    </a:lnTo>
                    <a:lnTo>
                      <a:pt x="1178" y="293"/>
                    </a:lnTo>
                    <a:lnTo>
                      <a:pt x="1178" y="440"/>
                    </a:lnTo>
                    <a:lnTo>
                      <a:pt x="1104" y="569"/>
                    </a:lnTo>
                    <a:lnTo>
                      <a:pt x="976" y="790"/>
                    </a:lnTo>
                    <a:lnTo>
                      <a:pt x="920" y="1047"/>
                    </a:lnTo>
                    <a:lnTo>
                      <a:pt x="902" y="1268"/>
                    </a:lnTo>
                    <a:lnTo>
                      <a:pt x="957" y="1507"/>
                    </a:lnTo>
                    <a:lnTo>
                      <a:pt x="1104" y="1728"/>
                    </a:lnTo>
                    <a:lnTo>
                      <a:pt x="1159" y="1948"/>
                    </a:lnTo>
                    <a:lnTo>
                      <a:pt x="1141" y="2150"/>
                    </a:lnTo>
                    <a:lnTo>
                      <a:pt x="1031" y="2316"/>
                    </a:lnTo>
                    <a:lnTo>
                      <a:pt x="884" y="2407"/>
                    </a:lnTo>
                    <a:lnTo>
                      <a:pt x="700" y="2426"/>
                    </a:lnTo>
                    <a:lnTo>
                      <a:pt x="478" y="2426"/>
                    </a:lnTo>
                    <a:lnTo>
                      <a:pt x="312" y="2334"/>
                    </a:lnTo>
                    <a:lnTo>
                      <a:pt x="147" y="2058"/>
                    </a:lnTo>
                    <a:lnTo>
                      <a:pt x="36" y="1820"/>
                    </a:lnTo>
                    <a:lnTo>
                      <a:pt x="0" y="1452"/>
                    </a:lnTo>
                    <a:lnTo>
                      <a:pt x="36" y="1120"/>
                    </a:lnTo>
                    <a:lnTo>
                      <a:pt x="110" y="771"/>
                    </a:lnTo>
                    <a:lnTo>
                      <a:pt x="220" y="422"/>
                    </a:lnTo>
                    <a:lnTo>
                      <a:pt x="331" y="20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6" name=""/>
              <p:cNvSpPr/>
              <p:nvPr/>
            </p:nvSpPr>
            <p:spPr>
              <a:xfrm>
                <a:off x="7161120" y="2465280"/>
                <a:ext cx="470160" cy="789480"/>
              </a:xfrm>
              <a:custGeom>
                <a:avLst/>
                <a:gdLst/>
                <a:ahLst/>
                <a:rect l="0" t="0" r="r" b="b"/>
                <a:pathLst>
                  <a:path w="1306" h="2193">
                    <a:moveTo>
                      <a:pt x="0" y="110"/>
                    </a:moveTo>
                    <a:lnTo>
                      <a:pt x="18" y="18"/>
                    </a:lnTo>
                    <a:lnTo>
                      <a:pt x="220" y="0"/>
                    </a:lnTo>
                    <a:lnTo>
                      <a:pt x="330" y="92"/>
                    </a:lnTo>
                    <a:lnTo>
                      <a:pt x="496" y="331"/>
                    </a:lnTo>
                    <a:lnTo>
                      <a:pt x="717" y="645"/>
                    </a:lnTo>
                    <a:lnTo>
                      <a:pt x="920" y="866"/>
                    </a:lnTo>
                    <a:lnTo>
                      <a:pt x="1287" y="1271"/>
                    </a:lnTo>
                    <a:lnTo>
                      <a:pt x="1306" y="1363"/>
                    </a:lnTo>
                    <a:lnTo>
                      <a:pt x="1232" y="1419"/>
                    </a:lnTo>
                    <a:lnTo>
                      <a:pt x="1048" y="1492"/>
                    </a:lnTo>
                    <a:lnTo>
                      <a:pt x="791" y="1548"/>
                    </a:lnTo>
                    <a:lnTo>
                      <a:pt x="477" y="1566"/>
                    </a:lnTo>
                    <a:lnTo>
                      <a:pt x="367" y="1584"/>
                    </a:lnTo>
                    <a:lnTo>
                      <a:pt x="330" y="1659"/>
                    </a:lnTo>
                    <a:lnTo>
                      <a:pt x="404" y="1788"/>
                    </a:lnTo>
                    <a:lnTo>
                      <a:pt x="662" y="2009"/>
                    </a:lnTo>
                    <a:lnTo>
                      <a:pt x="846" y="2064"/>
                    </a:lnTo>
                    <a:lnTo>
                      <a:pt x="883" y="2138"/>
                    </a:lnTo>
                    <a:lnTo>
                      <a:pt x="809" y="2193"/>
                    </a:lnTo>
                    <a:lnTo>
                      <a:pt x="643" y="2193"/>
                    </a:lnTo>
                    <a:lnTo>
                      <a:pt x="422" y="2064"/>
                    </a:lnTo>
                    <a:lnTo>
                      <a:pt x="238" y="1880"/>
                    </a:lnTo>
                    <a:lnTo>
                      <a:pt x="128" y="1714"/>
                    </a:lnTo>
                    <a:lnTo>
                      <a:pt x="128" y="1584"/>
                    </a:lnTo>
                    <a:lnTo>
                      <a:pt x="202" y="1492"/>
                    </a:lnTo>
                    <a:lnTo>
                      <a:pt x="312" y="1455"/>
                    </a:lnTo>
                    <a:lnTo>
                      <a:pt x="477" y="1437"/>
                    </a:lnTo>
                    <a:lnTo>
                      <a:pt x="662" y="1437"/>
                    </a:lnTo>
                    <a:lnTo>
                      <a:pt x="883" y="1400"/>
                    </a:lnTo>
                    <a:lnTo>
                      <a:pt x="993" y="1363"/>
                    </a:lnTo>
                    <a:lnTo>
                      <a:pt x="1048" y="1308"/>
                    </a:lnTo>
                    <a:lnTo>
                      <a:pt x="1030" y="1253"/>
                    </a:lnTo>
                    <a:lnTo>
                      <a:pt x="865" y="1106"/>
                    </a:lnTo>
                    <a:lnTo>
                      <a:pt x="606" y="848"/>
                    </a:lnTo>
                    <a:lnTo>
                      <a:pt x="367" y="627"/>
                    </a:lnTo>
                    <a:lnTo>
                      <a:pt x="110" y="386"/>
                    </a:lnTo>
                    <a:lnTo>
                      <a:pt x="18" y="221"/>
                    </a:lnTo>
                    <a:lnTo>
                      <a:pt x="0" y="11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7" name=""/>
              <p:cNvSpPr/>
              <p:nvPr/>
            </p:nvSpPr>
            <p:spPr>
              <a:xfrm>
                <a:off x="6856560" y="3129120"/>
                <a:ext cx="510120" cy="1186200"/>
              </a:xfrm>
              <a:custGeom>
                <a:avLst/>
                <a:gdLst/>
                <a:ahLst/>
                <a:rect l="0" t="0" r="r" b="b"/>
                <a:pathLst>
                  <a:path w="1417" h="3295">
                    <a:moveTo>
                      <a:pt x="699" y="0"/>
                    </a:moveTo>
                    <a:lnTo>
                      <a:pt x="901" y="36"/>
                    </a:lnTo>
                    <a:lnTo>
                      <a:pt x="993" y="184"/>
                    </a:lnTo>
                    <a:lnTo>
                      <a:pt x="975" y="533"/>
                    </a:lnTo>
                    <a:lnTo>
                      <a:pt x="938" y="901"/>
                    </a:lnTo>
                    <a:lnTo>
                      <a:pt x="938" y="1288"/>
                    </a:lnTo>
                    <a:lnTo>
                      <a:pt x="1123" y="1749"/>
                    </a:lnTo>
                    <a:lnTo>
                      <a:pt x="1270" y="2080"/>
                    </a:lnTo>
                    <a:lnTo>
                      <a:pt x="1343" y="2411"/>
                    </a:lnTo>
                    <a:lnTo>
                      <a:pt x="1325" y="2706"/>
                    </a:lnTo>
                    <a:lnTo>
                      <a:pt x="1325" y="2816"/>
                    </a:lnTo>
                    <a:lnTo>
                      <a:pt x="1399" y="2927"/>
                    </a:lnTo>
                    <a:lnTo>
                      <a:pt x="1417" y="3037"/>
                    </a:lnTo>
                    <a:lnTo>
                      <a:pt x="1362" y="3092"/>
                    </a:lnTo>
                    <a:lnTo>
                      <a:pt x="1215" y="3055"/>
                    </a:lnTo>
                    <a:lnTo>
                      <a:pt x="938" y="3019"/>
                    </a:lnTo>
                    <a:lnTo>
                      <a:pt x="607" y="3092"/>
                    </a:lnTo>
                    <a:lnTo>
                      <a:pt x="387" y="3221"/>
                    </a:lnTo>
                    <a:lnTo>
                      <a:pt x="275" y="3295"/>
                    </a:lnTo>
                    <a:lnTo>
                      <a:pt x="165" y="3295"/>
                    </a:lnTo>
                    <a:lnTo>
                      <a:pt x="0" y="3055"/>
                    </a:lnTo>
                    <a:lnTo>
                      <a:pt x="18" y="3019"/>
                    </a:lnTo>
                    <a:lnTo>
                      <a:pt x="349" y="2908"/>
                    </a:lnTo>
                    <a:lnTo>
                      <a:pt x="736" y="2853"/>
                    </a:lnTo>
                    <a:lnTo>
                      <a:pt x="1012" y="2834"/>
                    </a:lnTo>
                    <a:lnTo>
                      <a:pt x="1178" y="2834"/>
                    </a:lnTo>
                    <a:lnTo>
                      <a:pt x="1215" y="2724"/>
                    </a:lnTo>
                    <a:lnTo>
                      <a:pt x="1160" y="2411"/>
                    </a:lnTo>
                    <a:lnTo>
                      <a:pt x="1030" y="2080"/>
                    </a:lnTo>
                    <a:lnTo>
                      <a:pt x="828" y="1657"/>
                    </a:lnTo>
                    <a:lnTo>
                      <a:pt x="662" y="1288"/>
                    </a:lnTo>
                    <a:lnTo>
                      <a:pt x="589" y="956"/>
                    </a:lnTo>
                    <a:lnTo>
                      <a:pt x="570" y="588"/>
                    </a:lnTo>
                    <a:lnTo>
                      <a:pt x="570" y="239"/>
                    </a:lnTo>
                    <a:lnTo>
                      <a:pt x="644" y="92"/>
                    </a:lnTo>
                    <a:lnTo>
                      <a:pt x="699"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8" name=""/>
              <p:cNvSpPr/>
              <p:nvPr/>
            </p:nvSpPr>
            <p:spPr>
              <a:xfrm>
                <a:off x="6603840" y="3160800"/>
                <a:ext cx="424080" cy="987840"/>
              </a:xfrm>
              <a:custGeom>
                <a:avLst/>
                <a:gdLst/>
                <a:ahLst/>
                <a:rect l="0" t="0" r="r" b="b"/>
                <a:pathLst>
                  <a:path w="1178" h="2744">
                    <a:moveTo>
                      <a:pt x="884" y="0"/>
                    </a:moveTo>
                    <a:lnTo>
                      <a:pt x="1049" y="0"/>
                    </a:lnTo>
                    <a:lnTo>
                      <a:pt x="1104" y="110"/>
                    </a:lnTo>
                    <a:lnTo>
                      <a:pt x="1141" y="349"/>
                    </a:lnTo>
                    <a:lnTo>
                      <a:pt x="1104" y="607"/>
                    </a:lnTo>
                    <a:lnTo>
                      <a:pt x="1012" y="1123"/>
                    </a:lnTo>
                    <a:lnTo>
                      <a:pt x="1031" y="1344"/>
                    </a:lnTo>
                    <a:lnTo>
                      <a:pt x="1141" y="1786"/>
                    </a:lnTo>
                    <a:lnTo>
                      <a:pt x="1178" y="2100"/>
                    </a:lnTo>
                    <a:lnTo>
                      <a:pt x="1178" y="2339"/>
                    </a:lnTo>
                    <a:lnTo>
                      <a:pt x="1123" y="2395"/>
                    </a:lnTo>
                    <a:lnTo>
                      <a:pt x="957" y="2431"/>
                    </a:lnTo>
                    <a:lnTo>
                      <a:pt x="736" y="2487"/>
                    </a:lnTo>
                    <a:lnTo>
                      <a:pt x="515" y="2597"/>
                    </a:lnTo>
                    <a:lnTo>
                      <a:pt x="294" y="2744"/>
                    </a:lnTo>
                    <a:lnTo>
                      <a:pt x="202" y="2744"/>
                    </a:lnTo>
                    <a:lnTo>
                      <a:pt x="0" y="2579"/>
                    </a:lnTo>
                    <a:lnTo>
                      <a:pt x="18" y="2505"/>
                    </a:lnTo>
                    <a:lnTo>
                      <a:pt x="275" y="2395"/>
                    </a:lnTo>
                    <a:lnTo>
                      <a:pt x="718" y="2284"/>
                    </a:lnTo>
                    <a:lnTo>
                      <a:pt x="920" y="2211"/>
                    </a:lnTo>
                    <a:lnTo>
                      <a:pt x="957" y="2137"/>
                    </a:lnTo>
                    <a:lnTo>
                      <a:pt x="957" y="1823"/>
                    </a:lnTo>
                    <a:lnTo>
                      <a:pt x="884" y="1418"/>
                    </a:lnTo>
                    <a:lnTo>
                      <a:pt x="847" y="1160"/>
                    </a:lnTo>
                    <a:lnTo>
                      <a:pt x="810" y="755"/>
                    </a:lnTo>
                    <a:lnTo>
                      <a:pt x="792" y="312"/>
                    </a:lnTo>
                    <a:lnTo>
                      <a:pt x="810" y="110"/>
                    </a:lnTo>
                    <a:lnTo>
                      <a:pt x="884"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9" name=""/>
              <p:cNvSpPr/>
              <p:nvPr/>
            </p:nvSpPr>
            <p:spPr>
              <a:xfrm>
                <a:off x="7161120" y="1697040"/>
                <a:ext cx="487800" cy="579960"/>
              </a:xfrm>
              <a:custGeom>
                <a:avLst/>
                <a:gdLst/>
                <a:ahLst/>
                <a:rect l="0" t="0" r="r" b="b"/>
                <a:pathLst>
                  <a:path w="1355" h="1611">
                    <a:moveTo>
                      <a:pt x="360" y="1141"/>
                    </a:moveTo>
                    <a:lnTo>
                      <a:pt x="174" y="819"/>
                    </a:lnTo>
                    <a:lnTo>
                      <a:pt x="64" y="543"/>
                    </a:lnTo>
                    <a:lnTo>
                      <a:pt x="0" y="239"/>
                    </a:lnTo>
                    <a:lnTo>
                      <a:pt x="27" y="119"/>
                    </a:lnTo>
                    <a:lnTo>
                      <a:pt x="119" y="119"/>
                    </a:lnTo>
                    <a:lnTo>
                      <a:pt x="230" y="211"/>
                    </a:lnTo>
                    <a:lnTo>
                      <a:pt x="341" y="340"/>
                    </a:lnTo>
                    <a:lnTo>
                      <a:pt x="673" y="156"/>
                    </a:lnTo>
                    <a:lnTo>
                      <a:pt x="848" y="0"/>
                    </a:lnTo>
                    <a:lnTo>
                      <a:pt x="1004" y="101"/>
                    </a:lnTo>
                    <a:lnTo>
                      <a:pt x="1180" y="331"/>
                    </a:lnTo>
                    <a:lnTo>
                      <a:pt x="1309" y="663"/>
                    </a:lnTo>
                    <a:lnTo>
                      <a:pt x="1355" y="874"/>
                    </a:lnTo>
                    <a:lnTo>
                      <a:pt x="1355" y="948"/>
                    </a:lnTo>
                    <a:lnTo>
                      <a:pt x="1180" y="1003"/>
                    </a:lnTo>
                    <a:lnTo>
                      <a:pt x="940" y="1150"/>
                    </a:lnTo>
                    <a:lnTo>
                      <a:pt x="829" y="1216"/>
                    </a:lnTo>
                    <a:lnTo>
                      <a:pt x="921" y="1473"/>
                    </a:lnTo>
                    <a:lnTo>
                      <a:pt x="885" y="1593"/>
                    </a:lnTo>
                    <a:lnTo>
                      <a:pt x="811" y="1611"/>
                    </a:lnTo>
                    <a:lnTo>
                      <a:pt x="608" y="1445"/>
                    </a:lnTo>
                    <a:lnTo>
                      <a:pt x="360" y="114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0" name=""/>
              <p:cNvSpPr/>
              <p:nvPr/>
            </p:nvSpPr>
            <p:spPr>
              <a:xfrm>
                <a:off x="6591240" y="1681200"/>
                <a:ext cx="603720" cy="906840"/>
              </a:xfrm>
              <a:custGeom>
                <a:avLst/>
                <a:gdLst/>
                <a:ahLst/>
                <a:rect l="0" t="0" r="r" b="b"/>
                <a:pathLst>
                  <a:path w="1677" h="2519">
                    <a:moveTo>
                      <a:pt x="1032" y="2519"/>
                    </a:moveTo>
                    <a:lnTo>
                      <a:pt x="1124" y="2409"/>
                    </a:lnTo>
                    <a:lnTo>
                      <a:pt x="1087" y="2244"/>
                    </a:lnTo>
                    <a:lnTo>
                      <a:pt x="1013" y="2023"/>
                    </a:lnTo>
                    <a:lnTo>
                      <a:pt x="737" y="1765"/>
                    </a:lnTo>
                    <a:lnTo>
                      <a:pt x="461" y="1526"/>
                    </a:lnTo>
                    <a:lnTo>
                      <a:pt x="331" y="1269"/>
                    </a:lnTo>
                    <a:lnTo>
                      <a:pt x="276" y="864"/>
                    </a:lnTo>
                    <a:lnTo>
                      <a:pt x="590" y="754"/>
                    </a:lnTo>
                    <a:lnTo>
                      <a:pt x="1087" y="699"/>
                    </a:lnTo>
                    <a:lnTo>
                      <a:pt x="1290" y="717"/>
                    </a:lnTo>
                    <a:lnTo>
                      <a:pt x="1346" y="772"/>
                    </a:lnTo>
                    <a:lnTo>
                      <a:pt x="1438" y="681"/>
                    </a:lnTo>
                    <a:lnTo>
                      <a:pt x="1401" y="588"/>
                    </a:lnTo>
                    <a:lnTo>
                      <a:pt x="1493" y="349"/>
                    </a:lnTo>
                    <a:lnTo>
                      <a:pt x="1530" y="257"/>
                    </a:lnTo>
                    <a:lnTo>
                      <a:pt x="1604" y="110"/>
                    </a:lnTo>
                    <a:lnTo>
                      <a:pt x="1677" y="110"/>
                    </a:lnTo>
                    <a:lnTo>
                      <a:pt x="1677" y="36"/>
                    </a:lnTo>
                    <a:lnTo>
                      <a:pt x="1530" y="0"/>
                    </a:lnTo>
                    <a:lnTo>
                      <a:pt x="1438" y="165"/>
                    </a:lnTo>
                    <a:lnTo>
                      <a:pt x="1309" y="404"/>
                    </a:lnTo>
                    <a:lnTo>
                      <a:pt x="1142" y="514"/>
                    </a:lnTo>
                    <a:lnTo>
                      <a:pt x="884" y="551"/>
                    </a:lnTo>
                    <a:lnTo>
                      <a:pt x="424" y="606"/>
                    </a:lnTo>
                    <a:lnTo>
                      <a:pt x="55" y="717"/>
                    </a:lnTo>
                    <a:lnTo>
                      <a:pt x="0" y="809"/>
                    </a:lnTo>
                    <a:lnTo>
                      <a:pt x="36" y="1103"/>
                    </a:lnTo>
                    <a:lnTo>
                      <a:pt x="165" y="1508"/>
                    </a:lnTo>
                    <a:lnTo>
                      <a:pt x="349" y="1838"/>
                    </a:lnTo>
                    <a:lnTo>
                      <a:pt x="535" y="2133"/>
                    </a:lnTo>
                    <a:lnTo>
                      <a:pt x="700" y="2336"/>
                    </a:lnTo>
                    <a:lnTo>
                      <a:pt x="866" y="2483"/>
                    </a:lnTo>
                    <a:lnTo>
                      <a:pt x="1032" y="25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nvGrpSpPr>
          <p:cNvPr id="181" name=""/>
          <p:cNvGrpSpPr/>
          <p:nvPr/>
        </p:nvGrpSpPr>
        <p:grpSpPr>
          <a:xfrm>
            <a:off x="2233440" y="4807080"/>
            <a:ext cx="3813840" cy="1883160"/>
            <a:chOff x="2233440" y="4807080"/>
            <a:chExt cx="3813840" cy="1883160"/>
          </a:xfrm>
        </p:grpSpPr>
        <p:grpSp>
          <p:nvGrpSpPr>
            <p:cNvPr id="182" name=""/>
            <p:cNvGrpSpPr/>
            <p:nvPr/>
          </p:nvGrpSpPr>
          <p:grpSpPr>
            <a:xfrm>
              <a:off x="4508640" y="4807080"/>
              <a:ext cx="1538640" cy="1883160"/>
              <a:chOff x="4508640" y="4807080"/>
              <a:chExt cx="1538640" cy="1883160"/>
            </a:xfrm>
          </p:grpSpPr>
          <p:sp>
            <p:nvSpPr>
              <p:cNvPr id="183" name=""/>
              <p:cNvSpPr/>
              <p:nvPr/>
            </p:nvSpPr>
            <p:spPr>
              <a:xfrm>
                <a:off x="5256360" y="5078520"/>
                <a:ext cx="414720" cy="417960"/>
              </a:xfrm>
              <a:custGeom>
                <a:avLst/>
                <a:gdLst/>
                <a:ahLst/>
                <a:rect l="0" t="0" r="r" b="b"/>
                <a:pathLst>
                  <a:path w="1152" h="1161">
                    <a:moveTo>
                      <a:pt x="746" y="551"/>
                    </a:moveTo>
                    <a:lnTo>
                      <a:pt x="716" y="338"/>
                    </a:lnTo>
                    <a:lnTo>
                      <a:pt x="657" y="146"/>
                    </a:lnTo>
                    <a:lnTo>
                      <a:pt x="546" y="44"/>
                    </a:lnTo>
                    <a:lnTo>
                      <a:pt x="355" y="0"/>
                    </a:lnTo>
                    <a:lnTo>
                      <a:pt x="191" y="44"/>
                    </a:lnTo>
                    <a:lnTo>
                      <a:pt x="36" y="234"/>
                    </a:lnTo>
                    <a:lnTo>
                      <a:pt x="0" y="463"/>
                    </a:lnTo>
                    <a:lnTo>
                      <a:pt x="36" y="705"/>
                    </a:lnTo>
                    <a:lnTo>
                      <a:pt x="95" y="852"/>
                    </a:lnTo>
                    <a:lnTo>
                      <a:pt x="169" y="1007"/>
                    </a:lnTo>
                    <a:lnTo>
                      <a:pt x="250" y="1110"/>
                    </a:lnTo>
                    <a:lnTo>
                      <a:pt x="340" y="1161"/>
                    </a:lnTo>
                    <a:lnTo>
                      <a:pt x="465" y="1117"/>
                    </a:lnTo>
                    <a:lnTo>
                      <a:pt x="591" y="1014"/>
                    </a:lnTo>
                    <a:lnTo>
                      <a:pt x="672" y="867"/>
                    </a:lnTo>
                    <a:lnTo>
                      <a:pt x="746" y="742"/>
                    </a:lnTo>
                    <a:lnTo>
                      <a:pt x="768" y="668"/>
                    </a:lnTo>
                    <a:lnTo>
                      <a:pt x="1086" y="558"/>
                    </a:lnTo>
                    <a:lnTo>
                      <a:pt x="1152" y="514"/>
                    </a:lnTo>
                    <a:lnTo>
                      <a:pt x="1116" y="448"/>
                    </a:lnTo>
                    <a:lnTo>
                      <a:pt x="746" y="55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4" name=""/>
              <p:cNvSpPr/>
              <p:nvPr/>
            </p:nvSpPr>
            <p:spPr>
              <a:xfrm>
                <a:off x="5051520" y="5527800"/>
                <a:ext cx="427320" cy="746640"/>
              </a:xfrm>
              <a:custGeom>
                <a:avLst/>
                <a:gdLst/>
                <a:ahLst/>
                <a:rect l="0" t="0" r="r" b="b"/>
                <a:pathLst>
                  <a:path w="1187" h="2074">
                    <a:moveTo>
                      <a:pt x="397" y="308"/>
                    </a:moveTo>
                    <a:lnTo>
                      <a:pt x="545" y="154"/>
                    </a:lnTo>
                    <a:lnTo>
                      <a:pt x="789" y="7"/>
                    </a:lnTo>
                    <a:lnTo>
                      <a:pt x="899" y="0"/>
                    </a:lnTo>
                    <a:lnTo>
                      <a:pt x="1098" y="66"/>
                    </a:lnTo>
                    <a:lnTo>
                      <a:pt x="1187" y="161"/>
                    </a:lnTo>
                    <a:lnTo>
                      <a:pt x="1187" y="308"/>
                    </a:lnTo>
                    <a:lnTo>
                      <a:pt x="1039" y="581"/>
                    </a:lnTo>
                    <a:lnTo>
                      <a:pt x="877" y="794"/>
                    </a:lnTo>
                    <a:lnTo>
                      <a:pt x="811" y="971"/>
                    </a:lnTo>
                    <a:lnTo>
                      <a:pt x="767" y="1176"/>
                    </a:lnTo>
                    <a:lnTo>
                      <a:pt x="811" y="1375"/>
                    </a:lnTo>
                    <a:lnTo>
                      <a:pt x="855" y="1567"/>
                    </a:lnTo>
                    <a:lnTo>
                      <a:pt x="855" y="1787"/>
                    </a:lnTo>
                    <a:lnTo>
                      <a:pt x="789" y="1920"/>
                    </a:lnTo>
                    <a:lnTo>
                      <a:pt x="641" y="1993"/>
                    </a:lnTo>
                    <a:lnTo>
                      <a:pt x="464" y="2074"/>
                    </a:lnTo>
                    <a:lnTo>
                      <a:pt x="302" y="2074"/>
                    </a:lnTo>
                    <a:lnTo>
                      <a:pt x="191" y="2015"/>
                    </a:lnTo>
                    <a:lnTo>
                      <a:pt x="44" y="1773"/>
                    </a:lnTo>
                    <a:lnTo>
                      <a:pt x="0" y="1522"/>
                    </a:lnTo>
                    <a:lnTo>
                      <a:pt x="14" y="1198"/>
                    </a:lnTo>
                    <a:lnTo>
                      <a:pt x="125" y="794"/>
                    </a:lnTo>
                    <a:lnTo>
                      <a:pt x="235" y="530"/>
                    </a:lnTo>
                    <a:lnTo>
                      <a:pt x="397" y="30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5" name=""/>
              <p:cNvSpPr/>
              <p:nvPr/>
            </p:nvSpPr>
            <p:spPr>
              <a:xfrm>
                <a:off x="5083200" y="6132600"/>
                <a:ext cx="538560" cy="557640"/>
              </a:xfrm>
              <a:custGeom>
                <a:avLst/>
                <a:gdLst/>
                <a:ahLst/>
                <a:rect l="0" t="0" r="r" b="b"/>
                <a:pathLst>
                  <a:path w="1496" h="1549">
                    <a:moveTo>
                      <a:pt x="0" y="147"/>
                    </a:moveTo>
                    <a:lnTo>
                      <a:pt x="125" y="0"/>
                    </a:lnTo>
                    <a:lnTo>
                      <a:pt x="309" y="0"/>
                    </a:lnTo>
                    <a:lnTo>
                      <a:pt x="656" y="36"/>
                    </a:lnTo>
                    <a:lnTo>
                      <a:pt x="1061" y="58"/>
                    </a:lnTo>
                    <a:lnTo>
                      <a:pt x="1217" y="125"/>
                    </a:lnTo>
                    <a:lnTo>
                      <a:pt x="1283" y="213"/>
                    </a:lnTo>
                    <a:lnTo>
                      <a:pt x="1298" y="346"/>
                    </a:lnTo>
                    <a:lnTo>
                      <a:pt x="1253" y="487"/>
                    </a:lnTo>
                    <a:lnTo>
                      <a:pt x="1128" y="701"/>
                    </a:lnTo>
                    <a:lnTo>
                      <a:pt x="965" y="878"/>
                    </a:lnTo>
                    <a:lnTo>
                      <a:pt x="840" y="1040"/>
                    </a:lnTo>
                    <a:lnTo>
                      <a:pt x="788" y="1166"/>
                    </a:lnTo>
                    <a:lnTo>
                      <a:pt x="752" y="1254"/>
                    </a:lnTo>
                    <a:lnTo>
                      <a:pt x="766" y="1321"/>
                    </a:lnTo>
                    <a:lnTo>
                      <a:pt x="774" y="1365"/>
                    </a:lnTo>
                    <a:lnTo>
                      <a:pt x="921" y="1365"/>
                    </a:lnTo>
                    <a:lnTo>
                      <a:pt x="1150" y="1328"/>
                    </a:lnTo>
                    <a:lnTo>
                      <a:pt x="1298" y="1328"/>
                    </a:lnTo>
                    <a:lnTo>
                      <a:pt x="1452" y="1387"/>
                    </a:lnTo>
                    <a:lnTo>
                      <a:pt x="1496" y="1461"/>
                    </a:lnTo>
                    <a:lnTo>
                      <a:pt x="1452" y="1527"/>
                    </a:lnTo>
                    <a:lnTo>
                      <a:pt x="1386" y="1549"/>
                    </a:lnTo>
                    <a:lnTo>
                      <a:pt x="1283" y="1520"/>
                    </a:lnTo>
                    <a:lnTo>
                      <a:pt x="1143" y="1439"/>
                    </a:lnTo>
                    <a:lnTo>
                      <a:pt x="995" y="1453"/>
                    </a:lnTo>
                    <a:lnTo>
                      <a:pt x="752" y="1498"/>
                    </a:lnTo>
                    <a:lnTo>
                      <a:pt x="678" y="1483"/>
                    </a:lnTo>
                    <a:lnTo>
                      <a:pt x="641" y="1431"/>
                    </a:lnTo>
                    <a:lnTo>
                      <a:pt x="641" y="1306"/>
                    </a:lnTo>
                    <a:lnTo>
                      <a:pt x="641" y="1128"/>
                    </a:lnTo>
                    <a:lnTo>
                      <a:pt x="744" y="996"/>
                    </a:lnTo>
                    <a:lnTo>
                      <a:pt x="899" y="797"/>
                    </a:lnTo>
                    <a:lnTo>
                      <a:pt x="1031" y="620"/>
                    </a:lnTo>
                    <a:lnTo>
                      <a:pt x="1120" y="487"/>
                    </a:lnTo>
                    <a:lnTo>
                      <a:pt x="1165" y="368"/>
                    </a:lnTo>
                    <a:lnTo>
                      <a:pt x="1143" y="302"/>
                    </a:lnTo>
                    <a:lnTo>
                      <a:pt x="1083" y="221"/>
                    </a:lnTo>
                    <a:lnTo>
                      <a:pt x="995" y="199"/>
                    </a:lnTo>
                    <a:lnTo>
                      <a:pt x="899" y="199"/>
                    </a:lnTo>
                    <a:lnTo>
                      <a:pt x="685" y="199"/>
                    </a:lnTo>
                    <a:lnTo>
                      <a:pt x="368" y="257"/>
                    </a:lnTo>
                    <a:lnTo>
                      <a:pt x="132" y="280"/>
                    </a:lnTo>
                    <a:lnTo>
                      <a:pt x="36" y="257"/>
                    </a:lnTo>
                    <a:lnTo>
                      <a:pt x="0" y="221"/>
                    </a:lnTo>
                    <a:lnTo>
                      <a:pt x="0" y="14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6" name=""/>
              <p:cNvSpPr/>
              <p:nvPr/>
            </p:nvSpPr>
            <p:spPr>
              <a:xfrm>
                <a:off x="4508640" y="6006960"/>
                <a:ext cx="684720" cy="528840"/>
              </a:xfrm>
              <a:custGeom>
                <a:avLst/>
                <a:gdLst/>
                <a:ahLst/>
                <a:rect l="0" t="0" r="r" b="b"/>
                <a:pathLst>
                  <a:path w="1902" h="1469">
                    <a:moveTo>
                      <a:pt x="1548" y="609"/>
                    </a:moveTo>
                    <a:lnTo>
                      <a:pt x="1578" y="418"/>
                    </a:lnTo>
                    <a:lnTo>
                      <a:pt x="1688" y="345"/>
                    </a:lnTo>
                    <a:lnTo>
                      <a:pt x="1821" y="330"/>
                    </a:lnTo>
                    <a:lnTo>
                      <a:pt x="1902" y="418"/>
                    </a:lnTo>
                    <a:lnTo>
                      <a:pt x="1865" y="587"/>
                    </a:lnTo>
                    <a:lnTo>
                      <a:pt x="1792" y="815"/>
                    </a:lnTo>
                    <a:lnTo>
                      <a:pt x="1644" y="1072"/>
                    </a:lnTo>
                    <a:lnTo>
                      <a:pt x="1460" y="1293"/>
                    </a:lnTo>
                    <a:lnTo>
                      <a:pt x="1304" y="1410"/>
                    </a:lnTo>
                    <a:lnTo>
                      <a:pt x="1135" y="1469"/>
                    </a:lnTo>
                    <a:lnTo>
                      <a:pt x="973" y="1447"/>
                    </a:lnTo>
                    <a:lnTo>
                      <a:pt x="848" y="1381"/>
                    </a:lnTo>
                    <a:lnTo>
                      <a:pt x="803" y="1271"/>
                    </a:lnTo>
                    <a:lnTo>
                      <a:pt x="752" y="1080"/>
                    </a:lnTo>
                    <a:lnTo>
                      <a:pt x="693" y="726"/>
                    </a:lnTo>
                    <a:lnTo>
                      <a:pt x="649" y="484"/>
                    </a:lnTo>
                    <a:lnTo>
                      <a:pt x="649" y="198"/>
                    </a:lnTo>
                    <a:lnTo>
                      <a:pt x="619" y="146"/>
                    </a:lnTo>
                    <a:lnTo>
                      <a:pt x="531" y="132"/>
                    </a:lnTo>
                    <a:lnTo>
                      <a:pt x="427" y="212"/>
                    </a:lnTo>
                    <a:lnTo>
                      <a:pt x="331" y="345"/>
                    </a:lnTo>
                    <a:lnTo>
                      <a:pt x="220" y="418"/>
                    </a:lnTo>
                    <a:lnTo>
                      <a:pt x="51" y="418"/>
                    </a:lnTo>
                    <a:lnTo>
                      <a:pt x="0" y="374"/>
                    </a:lnTo>
                    <a:lnTo>
                      <a:pt x="0" y="301"/>
                    </a:lnTo>
                    <a:lnTo>
                      <a:pt x="73" y="234"/>
                    </a:lnTo>
                    <a:lnTo>
                      <a:pt x="154" y="256"/>
                    </a:lnTo>
                    <a:lnTo>
                      <a:pt x="228" y="242"/>
                    </a:lnTo>
                    <a:lnTo>
                      <a:pt x="360" y="146"/>
                    </a:lnTo>
                    <a:lnTo>
                      <a:pt x="494" y="44"/>
                    </a:lnTo>
                    <a:lnTo>
                      <a:pt x="619" y="14"/>
                    </a:lnTo>
                    <a:lnTo>
                      <a:pt x="796" y="0"/>
                    </a:lnTo>
                    <a:lnTo>
                      <a:pt x="803" y="80"/>
                    </a:lnTo>
                    <a:lnTo>
                      <a:pt x="759" y="168"/>
                    </a:lnTo>
                    <a:lnTo>
                      <a:pt x="752" y="396"/>
                    </a:lnTo>
                    <a:lnTo>
                      <a:pt x="803" y="697"/>
                    </a:lnTo>
                    <a:lnTo>
                      <a:pt x="884" y="992"/>
                    </a:lnTo>
                    <a:lnTo>
                      <a:pt x="958" y="1168"/>
                    </a:lnTo>
                    <a:lnTo>
                      <a:pt x="1069" y="1249"/>
                    </a:lnTo>
                    <a:lnTo>
                      <a:pt x="1179" y="1249"/>
                    </a:lnTo>
                    <a:lnTo>
                      <a:pt x="1290" y="1168"/>
                    </a:lnTo>
                    <a:lnTo>
                      <a:pt x="1438" y="984"/>
                    </a:lnTo>
                    <a:lnTo>
                      <a:pt x="1534" y="719"/>
                    </a:lnTo>
                    <a:lnTo>
                      <a:pt x="1548" y="60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7" name=""/>
              <p:cNvSpPr/>
              <p:nvPr/>
            </p:nvSpPr>
            <p:spPr>
              <a:xfrm>
                <a:off x="4832280" y="4807080"/>
                <a:ext cx="483120" cy="837000"/>
              </a:xfrm>
              <a:custGeom>
                <a:avLst/>
                <a:gdLst/>
                <a:ahLst/>
                <a:rect l="0" t="0" r="r" b="b"/>
                <a:pathLst>
                  <a:path w="1342" h="2325">
                    <a:moveTo>
                      <a:pt x="855" y="1767"/>
                    </a:moveTo>
                    <a:lnTo>
                      <a:pt x="1077" y="1987"/>
                    </a:lnTo>
                    <a:lnTo>
                      <a:pt x="1165" y="1987"/>
                    </a:lnTo>
                    <a:lnTo>
                      <a:pt x="1313" y="2075"/>
                    </a:lnTo>
                    <a:lnTo>
                      <a:pt x="1342" y="2178"/>
                    </a:lnTo>
                    <a:lnTo>
                      <a:pt x="1298" y="2311"/>
                    </a:lnTo>
                    <a:lnTo>
                      <a:pt x="1180" y="2325"/>
                    </a:lnTo>
                    <a:lnTo>
                      <a:pt x="1033" y="2222"/>
                    </a:lnTo>
                    <a:lnTo>
                      <a:pt x="737" y="1943"/>
                    </a:lnTo>
                    <a:lnTo>
                      <a:pt x="546" y="1677"/>
                    </a:lnTo>
                    <a:lnTo>
                      <a:pt x="457" y="1471"/>
                    </a:lnTo>
                    <a:lnTo>
                      <a:pt x="398" y="1118"/>
                    </a:lnTo>
                    <a:lnTo>
                      <a:pt x="398" y="662"/>
                    </a:lnTo>
                    <a:lnTo>
                      <a:pt x="384" y="544"/>
                    </a:lnTo>
                    <a:lnTo>
                      <a:pt x="294" y="455"/>
                    </a:lnTo>
                    <a:lnTo>
                      <a:pt x="44" y="470"/>
                    </a:lnTo>
                    <a:lnTo>
                      <a:pt x="0" y="426"/>
                    </a:lnTo>
                    <a:lnTo>
                      <a:pt x="58" y="397"/>
                    </a:lnTo>
                    <a:lnTo>
                      <a:pt x="235" y="382"/>
                    </a:lnTo>
                    <a:lnTo>
                      <a:pt x="265" y="353"/>
                    </a:lnTo>
                    <a:lnTo>
                      <a:pt x="14" y="205"/>
                    </a:lnTo>
                    <a:lnTo>
                      <a:pt x="14" y="147"/>
                    </a:lnTo>
                    <a:lnTo>
                      <a:pt x="58" y="132"/>
                    </a:lnTo>
                    <a:lnTo>
                      <a:pt x="265" y="250"/>
                    </a:lnTo>
                    <a:lnTo>
                      <a:pt x="309" y="235"/>
                    </a:lnTo>
                    <a:lnTo>
                      <a:pt x="265" y="14"/>
                    </a:lnTo>
                    <a:lnTo>
                      <a:pt x="294" y="0"/>
                    </a:lnTo>
                    <a:lnTo>
                      <a:pt x="324" y="14"/>
                    </a:lnTo>
                    <a:lnTo>
                      <a:pt x="384" y="235"/>
                    </a:lnTo>
                    <a:lnTo>
                      <a:pt x="428" y="250"/>
                    </a:lnTo>
                    <a:lnTo>
                      <a:pt x="546" y="14"/>
                    </a:lnTo>
                    <a:lnTo>
                      <a:pt x="575" y="14"/>
                    </a:lnTo>
                    <a:lnTo>
                      <a:pt x="575" y="88"/>
                    </a:lnTo>
                    <a:lnTo>
                      <a:pt x="501" y="279"/>
                    </a:lnTo>
                    <a:lnTo>
                      <a:pt x="501" y="382"/>
                    </a:lnTo>
                    <a:lnTo>
                      <a:pt x="531" y="514"/>
                    </a:lnTo>
                    <a:lnTo>
                      <a:pt x="516" y="692"/>
                    </a:lnTo>
                    <a:lnTo>
                      <a:pt x="531" y="1015"/>
                    </a:lnTo>
                    <a:lnTo>
                      <a:pt x="560" y="1221"/>
                    </a:lnTo>
                    <a:lnTo>
                      <a:pt x="634" y="1457"/>
                    </a:lnTo>
                    <a:lnTo>
                      <a:pt x="737" y="1633"/>
                    </a:lnTo>
                    <a:lnTo>
                      <a:pt x="855" y="176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8" name=""/>
              <p:cNvSpPr/>
              <p:nvPr/>
            </p:nvSpPr>
            <p:spPr>
              <a:xfrm>
                <a:off x="5416560" y="4879800"/>
                <a:ext cx="630720" cy="786240"/>
              </a:xfrm>
              <a:custGeom>
                <a:avLst/>
                <a:gdLst/>
                <a:ahLst/>
                <a:rect l="0" t="0" r="r" b="b"/>
                <a:pathLst>
                  <a:path w="1752" h="2184">
                    <a:moveTo>
                      <a:pt x="29" y="1934"/>
                    </a:moveTo>
                    <a:lnTo>
                      <a:pt x="0" y="2037"/>
                    </a:lnTo>
                    <a:lnTo>
                      <a:pt x="29" y="2184"/>
                    </a:lnTo>
                    <a:lnTo>
                      <a:pt x="132" y="2184"/>
                    </a:lnTo>
                    <a:lnTo>
                      <a:pt x="442" y="2125"/>
                    </a:lnTo>
                    <a:lnTo>
                      <a:pt x="780" y="2007"/>
                    </a:lnTo>
                    <a:lnTo>
                      <a:pt x="1060" y="1816"/>
                    </a:lnTo>
                    <a:lnTo>
                      <a:pt x="1222" y="1564"/>
                    </a:lnTo>
                    <a:lnTo>
                      <a:pt x="1370" y="1136"/>
                    </a:lnTo>
                    <a:lnTo>
                      <a:pt x="1414" y="738"/>
                    </a:lnTo>
                    <a:lnTo>
                      <a:pt x="1414" y="545"/>
                    </a:lnTo>
                    <a:lnTo>
                      <a:pt x="1487" y="427"/>
                    </a:lnTo>
                    <a:lnTo>
                      <a:pt x="1620" y="383"/>
                    </a:lnTo>
                    <a:lnTo>
                      <a:pt x="1737" y="383"/>
                    </a:lnTo>
                    <a:lnTo>
                      <a:pt x="1752" y="324"/>
                    </a:lnTo>
                    <a:lnTo>
                      <a:pt x="1576" y="339"/>
                    </a:lnTo>
                    <a:lnTo>
                      <a:pt x="1546" y="294"/>
                    </a:lnTo>
                    <a:lnTo>
                      <a:pt x="1693" y="132"/>
                    </a:lnTo>
                    <a:lnTo>
                      <a:pt x="1664" y="88"/>
                    </a:lnTo>
                    <a:lnTo>
                      <a:pt x="1634" y="117"/>
                    </a:lnTo>
                    <a:lnTo>
                      <a:pt x="1517" y="235"/>
                    </a:lnTo>
                    <a:lnTo>
                      <a:pt x="1487" y="235"/>
                    </a:lnTo>
                    <a:lnTo>
                      <a:pt x="1487" y="29"/>
                    </a:lnTo>
                    <a:lnTo>
                      <a:pt x="1458" y="0"/>
                    </a:lnTo>
                    <a:lnTo>
                      <a:pt x="1414" y="14"/>
                    </a:lnTo>
                    <a:lnTo>
                      <a:pt x="1429" y="235"/>
                    </a:lnTo>
                    <a:lnTo>
                      <a:pt x="1399" y="250"/>
                    </a:lnTo>
                    <a:lnTo>
                      <a:pt x="1280" y="132"/>
                    </a:lnTo>
                    <a:lnTo>
                      <a:pt x="1192" y="117"/>
                    </a:lnTo>
                    <a:lnTo>
                      <a:pt x="1207" y="176"/>
                    </a:lnTo>
                    <a:lnTo>
                      <a:pt x="1340" y="309"/>
                    </a:lnTo>
                    <a:lnTo>
                      <a:pt x="1340" y="383"/>
                    </a:lnTo>
                    <a:lnTo>
                      <a:pt x="1295" y="530"/>
                    </a:lnTo>
                    <a:lnTo>
                      <a:pt x="1295" y="664"/>
                    </a:lnTo>
                    <a:lnTo>
                      <a:pt x="1295" y="885"/>
                    </a:lnTo>
                    <a:lnTo>
                      <a:pt x="1236" y="1166"/>
                    </a:lnTo>
                    <a:lnTo>
                      <a:pt x="1177" y="1343"/>
                    </a:lnTo>
                    <a:lnTo>
                      <a:pt x="1074" y="1564"/>
                    </a:lnTo>
                    <a:lnTo>
                      <a:pt x="957" y="1742"/>
                    </a:lnTo>
                    <a:lnTo>
                      <a:pt x="868" y="1830"/>
                    </a:lnTo>
                    <a:lnTo>
                      <a:pt x="633" y="1904"/>
                    </a:lnTo>
                    <a:lnTo>
                      <a:pt x="411" y="1934"/>
                    </a:lnTo>
                    <a:lnTo>
                      <a:pt x="191" y="1963"/>
                    </a:lnTo>
                    <a:lnTo>
                      <a:pt x="29" y="193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189" name=""/>
            <p:cNvSpPr txBox="1"/>
            <p:nvPr/>
          </p:nvSpPr>
          <p:spPr>
            <a:xfrm>
              <a:off x="2233440" y="5067360"/>
              <a:ext cx="2198520" cy="1487520"/>
            </a:xfrm>
            <a:prstGeom prst="rect">
              <a:avLst/>
            </a:prstGeom>
            <a:noFill/>
            <a:ln w="0">
              <a:noFill/>
            </a:ln>
          </p:spPr>
          <p:txBody>
            <a:bodyPr lIns="0" rIns="0" tIns="0" bIns="0" anchor="t">
              <a:noAutofit/>
            </a:bodyPr>
            <a:p>
              <a:pPr algn="r">
                <a:lnSpc>
                  <a:spcPct val="145000"/>
                </a:lnSpc>
                <a:spcBef>
                  <a:spcPts val="961"/>
                </a:spcBef>
              </a:pPr>
              <a:r>
                <a:rPr b="1" lang="en-US" sz="1800" spc="-1" strike="noStrike">
                  <a:solidFill>
                    <a:srgbClr val="000000"/>
                  </a:solidFill>
                  <a:latin typeface="Arial Narrow"/>
                  <a:ea typeface="Arial Narrow"/>
                </a:rPr>
                <a:t>or resize them larger </a:t>
              </a:r>
              <a:br>
                <a:rPr sz="1800"/>
              </a:br>
              <a:r>
                <a:rPr b="1" lang="en-US" sz="1800" spc="-1" strike="noStrike">
                  <a:solidFill>
                    <a:srgbClr val="000000"/>
                  </a:solidFill>
                  <a:latin typeface="Arial Narrow"/>
                  <a:ea typeface="Arial Narrow"/>
                </a:rPr>
                <a:t>for more impact. </a:t>
              </a:r>
              <a:endParaRPr b="0" lang="en-US" sz="1800" spc="-1" strike="noStrike">
                <a:solidFill>
                  <a:srgbClr val="000000"/>
                </a:solidFill>
                <a:latin typeface="Arial"/>
              </a:endParaRPr>
            </a:p>
          </p:txBody>
        </p:sp>
      </p:grpSp>
      <p:sp>
        <p:nvSpPr>
          <p:cNvPr id="190" name=""/>
          <p:cNvSpPr txBox="1"/>
          <p:nvPr/>
        </p:nvSpPr>
        <p:spPr>
          <a:xfrm>
            <a:off x="1760400" y="1387440"/>
            <a:ext cx="2635200" cy="641520"/>
          </a:xfrm>
          <a:prstGeom prst="rect">
            <a:avLst/>
          </a:prstGeom>
          <a:noFill/>
          <a:ln w="0">
            <a:noFill/>
          </a:ln>
        </p:spPr>
        <p:txBody>
          <a:bodyPr lIns="0" rIns="0" tIns="0" bIns="0" anchor="t">
            <a:noAutofit/>
          </a:bodyPr>
          <a:p>
            <a:pPr>
              <a:lnSpc>
                <a:spcPct val="100000"/>
              </a:lnSpc>
            </a:pPr>
            <a:r>
              <a:rPr b="0" lang="en-US" sz="3600" spc="-1" strike="noStrike">
                <a:solidFill>
                  <a:srgbClr val="f4eada"/>
                </a:solidFill>
                <a:latin typeface="Times New Roman"/>
                <a:ea typeface="Times New Roman"/>
              </a:rPr>
              <a:t>screen beans</a:t>
            </a:r>
            <a:r>
              <a:rPr b="0" lang="en-US" sz="1000" spc="-1" strike="noStrike" baseline="100000">
                <a:solidFill>
                  <a:srgbClr val="f4eada"/>
                </a:solidFill>
                <a:latin typeface="Arial"/>
                <a:ea typeface="Arial"/>
              </a:rPr>
              <a:t>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4405320" y="2911320"/>
            <a:ext cx="3975120" cy="19717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 name=""/>
          <p:cNvSpPr txBox="1"/>
          <p:nvPr/>
        </p:nvSpPr>
        <p:spPr>
          <a:xfrm>
            <a:off x="730080" y="322200"/>
            <a:ext cx="7683480" cy="411120"/>
          </a:xfrm>
          <a:prstGeom prst="rect">
            <a:avLst/>
          </a:prstGeom>
          <a:noFill/>
          <a:ln w="0">
            <a:noFill/>
          </a:ln>
        </p:spPr>
        <p:txBody>
          <a:bodyPr lIns="0" rIns="0" tIns="0" bIns="0" anchor="t">
            <a:noAutofit/>
          </a:bodyPr>
          <a:p>
            <a:pPr algn="ctr">
              <a:lnSpc>
                <a:spcPct val="100000"/>
              </a:lnSpc>
            </a:pPr>
            <a:r>
              <a:rPr b="1" lang="en-US" sz="2000" spc="-1" strike="noStrike">
                <a:solidFill>
                  <a:srgbClr val="333300"/>
                </a:solidFill>
                <a:latin typeface="Century Gothic"/>
                <a:ea typeface="Century Gothic"/>
              </a:rPr>
              <a:t>H O W   T O   F I N D   Y O U R   B E A N S</a:t>
            </a:r>
            <a:endParaRPr b="0" lang="en-US" sz="2000" spc="-1" strike="noStrike">
              <a:solidFill>
                <a:srgbClr val="000000"/>
              </a:solidFill>
              <a:latin typeface="Arial"/>
            </a:endParaRPr>
          </a:p>
        </p:txBody>
      </p:sp>
      <p:sp>
        <p:nvSpPr>
          <p:cNvPr id="193" name=""/>
          <p:cNvSpPr txBox="1"/>
          <p:nvPr/>
        </p:nvSpPr>
        <p:spPr>
          <a:xfrm>
            <a:off x="4538520" y="1155600"/>
            <a:ext cx="3919680" cy="5465880"/>
          </a:xfrm>
          <a:prstGeom prst="rect">
            <a:avLst/>
          </a:prstGeom>
          <a:noFill/>
          <a:ln w="0">
            <a:noFill/>
          </a:ln>
        </p:spPr>
        <p:txBody>
          <a:bodyPr lIns="0" rIns="0" tIns="0" bIns="0" anchor="t">
            <a:noAutofit/>
          </a:bodyPr>
          <a:p>
            <a:pPr>
              <a:lnSpc>
                <a:spcPct val="145000"/>
              </a:lnSpc>
              <a:spcBef>
                <a:spcPts val="961"/>
              </a:spcBef>
            </a:pPr>
            <a:r>
              <a:rPr b="0" lang="en-US" sz="2000" spc="-1" strike="noStrike">
                <a:solidFill>
                  <a:srgbClr val="f4eada"/>
                </a:solidFill>
                <a:latin typeface="Times New Roman"/>
                <a:ea typeface="Times New Roman"/>
              </a:rPr>
              <a:t>screen beans</a:t>
            </a:r>
            <a:r>
              <a:rPr b="1" lang="en-US" sz="1800" spc="-1" strike="noStrike">
                <a:solidFill>
                  <a:srgbClr val="000000"/>
                </a:solidFill>
                <a:latin typeface="Arial Narrow"/>
                <a:ea typeface="Arial Narrow"/>
              </a:rPr>
              <a:t> are available to you today as part of PowerPoint’s clip art library.  To see and use them in any Microsoft Office application:</a:t>
            </a:r>
            <a:endParaRPr b="0" lang="en-US" sz="1800" spc="-1" strike="noStrike">
              <a:solidFill>
                <a:srgbClr val="000000"/>
              </a:solidFill>
              <a:latin typeface="Arial"/>
            </a:endParaRPr>
          </a:p>
          <a:p>
            <a:pPr>
              <a:lnSpc>
                <a:spcPct val="145000"/>
              </a:lnSpc>
              <a:spcBef>
                <a:spcPts val="961"/>
              </a:spcBef>
            </a:pPr>
            <a:r>
              <a:rPr b="1" lang="en-US" sz="1800" spc="-1" strike="noStrike">
                <a:solidFill>
                  <a:srgbClr val="666633"/>
                </a:solidFill>
                <a:latin typeface="Arial Narrow"/>
                <a:ea typeface="Arial Narrow"/>
              </a:rPr>
              <a:t>From the Insert Menu, select “Clip Art...”</a:t>
            </a:r>
            <a:endParaRPr b="0" lang="en-US" sz="1800" spc="-1" strike="noStrike">
              <a:solidFill>
                <a:srgbClr val="000000"/>
              </a:solidFill>
              <a:latin typeface="Arial"/>
            </a:endParaRPr>
          </a:p>
          <a:p>
            <a:pPr>
              <a:lnSpc>
                <a:spcPct val="145000"/>
              </a:lnSpc>
              <a:spcBef>
                <a:spcPts val="961"/>
              </a:spcBef>
            </a:pPr>
            <a:r>
              <a:rPr b="1" lang="en-US" sz="1800" spc="-1" strike="noStrike">
                <a:solidFill>
                  <a:srgbClr val="666633"/>
                </a:solidFill>
                <a:latin typeface="Arial Narrow"/>
                <a:ea typeface="Arial Narrow"/>
              </a:rPr>
              <a:t>From the Clip Art dialog, click “Find...”</a:t>
            </a:r>
            <a:endParaRPr b="0" lang="en-US" sz="1800" spc="-1" strike="noStrike">
              <a:solidFill>
                <a:srgbClr val="000000"/>
              </a:solidFill>
              <a:latin typeface="Arial"/>
            </a:endParaRPr>
          </a:p>
          <a:p>
            <a:pPr>
              <a:lnSpc>
                <a:spcPct val="145000"/>
              </a:lnSpc>
              <a:spcBef>
                <a:spcPts val="961"/>
              </a:spcBef>
            </a:pPr>
            <a:r>
              <a:rPr b="1" lang="en-US" sz="1800" spc="-1" strike="noStrike">
                <a:solidFill>
                  <a:srgbClr val="666633"/>
                </a:solidFill>
                <a:latin typeface="Arial Narrow"/>
                <a:ea typeface="Arial Narrow"/>
              </a:rPr>
              <a:t>In the Description field, type HUMANS</a:t>
            </a:r>
            <a:endParaRPr b="0" lang="en-US" sz="1800" spc="-1" strike="noStrike">
              <a:solidFill>
                <a:srgbClr val="000000"/>
              </a:solidFill>
              <a:latin typeface="Arial"/>
            </a:endParaRPr>
          </a:p>
          <a:p>
            <a:pPr>
              <a:lnSpc>
                <a:spcPct val="145000"/>
              </a:lnSpc>
              <a:spcBef>
                <a:spcPts val="961"/>
              </a:spcBef>
            </a:pPr>
            <a:r>
              <a:rPr b="1" lang="en-US" sz="1800" spc="-1" strike="noStrike">
                <a:solidFill>
                  <a:srgbClr val="666633"/>
                </a:solidFill>
                <a:latin typeface="Arial Narrow"/>
                <a:ea typeface="Arial Narrow"/>
              </a:rPr>
              <a:t>Press the “Find Now” button.</a:t>
            </a:r>
            <a:endParaRPr b="0" lang="en-US" sz="1800" spc="-1" strike="noStrike">
              <a:solidFill>
                <a:srgbClr val="000000"/>
              </a:solidFill>
              <a:latin typeface="Arial"/>
            </a:endParaRPr>
          </a:p>
          <a:p>
            <a:pPr>
              <a:lnSpc>
                <a:spcPct val="145000"/>
              </a:lnSpc>
              <a:spcBef>
                <a:spcPts val="961"/>
              </a:spcBef>
            </a:pPr>
            <a:r>
              <a:rPr b="1" lang="en-US" sz="1800" spc="-1" strike="noStrike">
                <a:solidFill>
                  <a:srgbClr val="000000"/>
                </a:solidFill>
                <a:latin typeface="Arial Narrow"/>
                <a:ea typeface="Arial Narrow"/>
              </a:rPr>
              <a:t>Scroll through the images, and when you see one you like, simply double-click on it to insert it into your document or presentation.</a:t>
            </a:r>
            <a:endParaRPr b="0" lang="en-US" sz="1800" spc="-1" strike="noStrike">
              <a:solidFill>
                <a:srgbClr val="000000"/>
              </a:solidFill>
              <a:latin typeface="Arial"/>
            </a:endParaRPr>
          </a:p>
        </p:txBody>
      </p:sp>
      <p:grpSp>
        <p:nvGrpSpPr>
          <p:cNvPr id="194" name=""/>
          <p:cNvGrpSpPr/>
          <p:nvPr/>
        </p:nvGrpSpPr>
        <p:grpSpPr>
          <a:xfrm>
            <a:off x="812880" y="1189080"/>
            <a:ext cx="2890800" cy="374760"/>
            <a:chOff x="812880" y="1189080"/>
            <a:chExt cx="2890800" cy="374760"/>
          </a:xfrm>
        </p:grpSpPr>
        <p:sp>
          <p:nvSpPr>
            <p:cNvPr id="195" name=""/>
            <p:cNvSpPr/>
            <p:nvPr/>
          </p:nvSpPr>
          <p:spPr>
            <a:xfrm>
              <a:off x="812880" y="1189080"/>
              <a:ext cx="2890800" cy="368280"/>
            </a:xfrm>
            <a:prstGeom prst="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txBox="1"/>
            <p:nvPr/>
          </p:nvSpPr>
          <p:spPr>
            <a:xfrm>
              <a:off x="938160" y="1227240"/>
              <a:ext cx="2509920" cy="336600"/>
            </a:xfrm>
            <a:prstGeom prst="rect">
              <a:avLst/>
            </a:prstGeom>
            <a:noFill/>
            <a:ln w="0">
              <a:noFill/>
            </a:ln>
          </p:spPr>
          <p:txBody>
            <a:bodyPr lIns="0" rIns="0" tIns="0" bIns="0" anchor="t">
              <a:noAutofit/>
            </a:bodyPr>
            <a:p>
              <a:pPr>
                <a:lnSpc>
                  <a:spcPct val="100000"/>
                </a:lnSpc>
              </a:pPr>
              <a:r>
                <a:rPr b="0" lang="en-US" sz="1600" spc="-1" strike="noStrike" u="sng">
                  <a:solidFill>
                    <a:srgbClr val="000000"/>
                  </a:solidFill>
                  <a:uFillTx/>
                  <a:latin typeface="Arial"/>
                  <a:ea typeface="Arial"/>
                </a:rPr>
                <a:t>V</a:t>
              </a:r>
              <a:r>
                <a:rPr b="0" lang="en-US" sz="1600" spc="-1" strike="noStrike">
                  <a:solidFill>
                    <a:srgbClr val="000000"/>
                  </a:solidFill>
                  <a:latin typeface="Arial"/>
                  <a:ea typeface="Arial"/>
                </a:rPr>
                <a:t>iew       </a:t>
              </a:r>
              <a:r>
                <a:rPr b="0" lang="en-US" sz="1600" spc="-1" strike="noStrike" u="sng">
                  <a:solidFill>
                    <a:srgbClr val="000000"/>
                  </a:solidFill>
                  <a:uFillTx/>
                  <a:latin typeface="Arial"/>
                  <a:ea typeface="Arial"/>
                </a:rPr>
                <a:t>I</a:t>
              </a:r>
              <a:r>
                <a:rPr b="0" lang="en-US" sz="1600" spc="-1" strike="noStrike">
                  <a:solidFill>
                    <a:srgbClr val="000000"/>
                  </a:solidFill>
                  <a:latin typeface="Arial"/>
                  <a:ea typeface="Arial"/>
                </a:rPr>
                <a:t>nsert      F</a:t>
              </a:r>
              <a:r>
                <a:rPr b="0" lang="en-US" sz="1600" spc="-1" strike="noStrike" u="sng">
                  <a:solidFill>
                    <a:srgbClr val="000000"/>
                  </a:solidFill>
                  <a:uFillTx/>
                  <a:latin typeface="Arial"/>
                  <a:ea typeface="Arial"/>
                </a:rPr>
                <a:t>o</a:t>
              </a:r>
              <a:r>
                <a:rPr b="0" lang="en-US" sz="1600" spc="-1" strike="noStrike">
                  <a:solidFill>
                    <a:srgbClr val="000000"/>
                  </a:solidFill>
                  <a:latin typeface="Arial"/>
                  <a:ea typeface="Arial"/>
                </a:rPr>
                <a:t>rmat</a:t>
              </a:r>
              <a:endParaRPr b="0" lang="en-US" sz="1600" spc="-1" strike="noStrike">
                <a:solidFill>
                  <a:srgbClr val="000000"/>
                </a:solidFill>
                <a:latin typeface="Arial"/>
              </a:endParaRPr>
            </a:p>
          </p:txBody>
        </p:sp>
      </p:grpSp>
      <p:grpSp>
        <p:nvGrpSpPr>
          <p:cNvPr id="197" name=""/>
          <p:cNvGrpSpPr/>
          <p:nvPr/>
        </p:nvGrpSpPr>
        <p:grpSpPr>
          <a:xfrm>
            <a:off x="2430360" y="1430280"/>
            <a:ext cx="562320" cy="1578240"/>
            <a:chOff x="2430360" y="1430280"/>
            <a:chExt cx="562320" cy="1578240"/>
          </a:xfrm>
        </p:grpSpPr>
        <p:sp>
          <p:nvSpPr>
            <p:cNvPr id="198" name=""/>
            <p:cNvSpPr/>
            <p:nvPr/>
          </p:nvSpPr>
          <p:spPr>
            <a:xfrm>
              <a:off x="2714760" y="1708200"/>
              <a:ext cx="232200" cy="313200"/>
            </a:xfrm>
            <a:custGeom>
              <a:avLst/>
              <a:gdLst/>
              <a:ahLst/>
              <a:rect l="0" t="0" r="r" b="b"/>
              <a:pathLst>
                <a:path w="645" h="870">
                  <a:moveTo>
                    <a:pt x="217" y="221"/>
                  </a:moveTo>
                  <a:lnTo>
                    <a:pt x="269" y="127"/>
                  </a:lnTo>
                  <a:lnTo>
                    <a:pt x="362" y="70"/>
                  </a:lnTo>
                  <a:lnTo>
                    <a:pt x="450" y="61"/>
                  </a:lnTo>
                  <a:lnTo>
                    <a:pt x="544" y="92"/>
                  </a:lnTo>
                  <a:lnTo>
                    <a:pt x="610" y="185"/>
                  </a:lnTo>
                  <a:lnTo>
                    <a:pt x="645" y="344"/>
                  </a:lnTo>
                  <a:lnTo>
                    <a:pt x="619" y="538"/>
                  </a:lnTo>
                  <a:lnTo>
                    <a:pt x="562" y="707"/>
                  </a:lnTo>
                  <a:lnTo>
                    <a:pt x="487" y="795"/>
                  </a:lnTo>
                  <a:lnTo>
                    <a:pt x="384" y="857"/>
                  </a:lnTo>
                  <a:lnTo>
                    <a:pt x="292" y="870"/>
                  </a:lnTo>
                  <a:lnTo>
                    <a:pt x="177" y="831"/>
                  </a:lnTo>
                  <a:lnTo>
                    <a:pt x="132" y="756"/>
                  </a:lnTo>
                  <a:lnTo>
                    <a:pt x="110" y="622"/>
                  </a:lnTo>
                  <a:lnTo>
                    <a:pt x="119" y="446"/>
                  </a:lnTo>
                  <a:lnTo>
                    <a:pt x="158" y="287"/>
                  </a:lnTo>
                  <a:lnTo>
                    <a:pt x="0" y="79"/>
                  </a:lnTo>
                  <a:lnTo>
                    <a:pt x="0" y="35"/>
                  </a:lnTo>
                  <a:lnTo>
                    <a:pt x="35" y="0"/>
                  </a:lnTo>
                  <a:lnTo>
                    <a:pt x="66" y="17"/>
                  </a:lnTo>
                  <a:lnTo>
                    <a:pt x="217" y="22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9" name=""/>
            <p:cNvSpPr/>
            <p:nvPr/>
          </p:nvSpPr>
          <p:spPr>
            <a:xfrm>
              <a:off x="2430360" y="1430280"/>
              <a:ext cx="305280" cy="541800"/>
            </a:xfrm>
            <a:custGeom>
              <a:avLst/>
              <a:gdLst/>
              <a:ahLst/>
              <a:rect l="0" t="0" r="r" b="b"/>
              <a:pathLst>
                <a:path w="848" h="1505">
                  <a:moveTo>
                    <a:pt x="764" y="1505"/>
                  </a:moveTo>
                  <a:lnTo>
                    <a:pt x="831" y="1492"/>
                  </a:lnTo>
                  <a:lnTo>
                    <a:pt x="848" y="1399"/>
                  </a:lnTo>
                  <a:lnTo>
                    <a:pt x="738" y="1223"/>
                  </a:lnTo>
                  <a:lnTo>
                    <a:pt x="587" y="940"/>
                  </a:lnTo>
                  <a:lnTo>
                    <a:pt x="464" y="715"/>
                  </a:lnTo>
                  <a:lnTo>
                    <a:pt x="362" y="437"/>
                  </a:lnTo>
                  <a:lnTo>
                    <a:pt x="225" y="268"/>
                  </a:lnTo>
                  <a:lnTo>
                    <a:pt x="83" y="26"/>
                  </a:lnTo>
                  <a:lnTo>
                    <a:pt x="57" y="0"/>
                  </a:lnTo>
                  <a:lnTo>
                    <a:pt x="8" y="8"/>
                  </a:lnTo>
                  <a:lnTo>
                    <a:pt x="0" y="52"/>
                  </a:lnTo>
                  <a:lnTo>
                    <a:pt x="176" y="268"/>
                  </a:lnTo>
                  <a:lnTo>
                    <a:pt x="185" y="361"/>
                  </a:lnTo>
                  <a:lnTo>
                    <a:pt x="132" y="455"/>
                  </a:lnTo>
                  <a:lnTo>
                    <a:pt x="132" y="538"/>
                  </a:lnTo>
                  <a:lnTo>
                    <a:pt x="185" y="587"/>
                  </a:lnTo>
                  <a:lnTo>
                    <a:pt x="309" y="653"/>
                  </a:lnTo>
                  <a:lnTo>
                    <a:pt x="371" y="671"/>
                  </a:lnTo>
                  <a:lnTo>
                    <a:pt x="393" y="719"/>
                  </a:lnTo>
                  <a:lnTo>
                    <a:pt x="464" y="922"/>
                  </a:lnTo>
                  <a:lnTo>
                    <a:pt x="530" y="1107"/>
                  </a:lnTo>
                  <a:lnTo>
                    <a:pt x="613" y="1324"/>
                  </a:lnTo>
                  <a:lnTo>
                    <a:pt x="720" y="1505"/>
                  </a:lnTo>
                  <a:lnTo>
                    <a:pt x="764" y="150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0" name=""/>
            <p:cNvSpPr/>
            <p:nvPr/>
          </p:nvSpPr>
          <p:spPr>
            <a:xfrm>
              <a:off x="2814480" y="2070000"/>
              <a:ext cx="178200" cy="489240"/>
            </a:xfrm>
            <a:custGeom>
              <a:avLst/>
              <a:gdLst/>
              <a:ahLst/>
              <a:rect l="0" t="0" r="r" b="b"/>
              <a:pathLst>
                <a:path w="495" h="1359">
                  <a:moveTo>
                    <a:pt x="269" y="110"/>
                  </a:moveTo>
                  <a:lnTo>
                    <a:pt x="177" y="26"/>
                  </a:lnTo>
                  <a:lnTo>
                    <a:pt x="74" y="0"/>
                  </a:lnTo>
                  <a:lnTo>
                    <a:pt x="8" y="26"/>
                  </a:lnTo>
                  <a:lnTo>
                    <a:pt x="0" y="74"/>
                  </a:lnTo>
                  <a:lnTo>
                    <a:pt x="57" y="185"/>
                  </a:lnTo>
                  <a:lnTo>
                    <a:pt x="133" y="185"/>
                  </a:lnTo>
                  <a:lnTo>
                    <a:pt x="208" y="233"/>
                  </a:lnTo>
                  <a:lnTo>
                    <a:pt x="309" y="379"/>
                  </a:lnTo>
                  <a:lnTo>
                    <a:pt x="376" y="537"/>
                  </a:lnTo>
                  <a:lnTo>
                    <a:pt x="376" y="604"/>
                  </a:lnTo>
                  <a:lnTo>
                    <a:pt x="336" y="680"/>
                  </a:lnTo>
                  <a:lnTo>
                    <a:pt x="225" y="746"/>
                  </a:lnTo>
                  <a:lnTo>
                    <a:pt x="123" y="807"/>
                  </a:lnTo>
                  <a:lnTo>
                    <a:pt x="17" y="913"/>
                  </a:lnTo>
                  <a:lnTo>
                    <a:pt x="8" y="1006"/>
                  </a:lnTo>
                  <a:lnTo>
                    <a:pt x="110" y="1063"/>
                  </a:lnTo>
                  <a:lnTo>
                    <a:pt x="186" y="1134"/>
                  </a:lnTo>
                  <a:lnTo>
                    <a:pt x="208" y="1191"/>
                  </a:lnTo>
                  <a:lnTo>
                    <a:pt x="195" y="1248"/>
                  </a:lnTo>
                  <a:lnTo>
                    <a:pt x="225" y="1332"/>
                  </a:lnTo>
                  <a:lnTo>
                    <a:pt x="278" y="1359"/>
                  </a:lnTo>
                  <a:lnTo>
                    <a:pt x="300" y="1341"/>
                  </a:lnTo>
                  <a:lnTo>
                    <a:pt x="292" y="1200"/>
                  </a:lnTo>
                  <a:lnTo>
                    <a:pt x="243" y="1099"/>
                  </a:lnTo>
                  <a:lnTo>
                    <a:pt x="150" y="1015"/>
                  </a:lnTo>
                  <a:lnTo>
                    <a:pt x="101" y="988"/>
                  </a:lnTo>
                  <a:lnTo>
                    <a:pt x="142" y="865"/>
                  </a:lnTo>
                  <a:lnTo>
                    <a:pt x="217" y="812"/>
                  </a:lnTo>
                  <a:lnTo>
                    <a:pt x="353" y="763"/>
                  </a:lnTo>
                  <a:lnTo>
                    <a:pt x="447" y="688"/>
                  </a:lnTo>
                  <a:lnTo>
                    <a:pt x="495" y="568"/>
                  </a:lnTo>
                  <a:lnTo>
                    <a:pt x="460" y="463"/>
                  </a:lnTo>
                  <a:lnTo>
                    <a:pt x="372" y="295"/>
                  </a:lnTo>
                  <a:lnTo>
                    <a:pt x="292" y="158"/>
                  </a:lnTo>
                  <a:lnTo>
                    <a:pt x="269" y="11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1" name=""/>
            <p:cNvSpPr/>
            <p:nvPr/>
          </p:nvSpPr>
          <p:spPr>
            <a:xfrm>
              <a:off x="2620800" y="2030400"/>
              <a:ext cx="187560" cy="438480"/>
            </a:xfrm>
            <a:custGeom>
              <a:avLst/>
              <a:gdLst/>
              <a:ahLst/>
              <a:rect l="0" t="0" r="r" b="b"/>
              <a:pathLst>
                <a:path w="521" h="1218">
                  <a:moveTo>
                    <a:pt x="477" y="48"/>
                  </a:moveTo>
                  <a:lnTo>
                    <a:pt x="393" y="8"/>
                  </a:lnTo>
                  <a:lnTo>
                    <a:pt x="327" y="0"/>
                  </a:lnTo>
                  <a:lnTo>
                    <a:pt x="211" y="74"/>
                  </a:lnTo>
                  <a:lnTo>
                    <a:pt x="141" y="149"/>
                  </a:lnTo>
                  <a:lnTo>
                    <a:pt x="92" y="260"/>
                  </a:lnTo>
                  <a:lnTo>
                    <a:pt x="48" y="401"/>
                  </a:lnTo>
                  <a:lnTo>
                    <a:pt x="8" y="622"/>
                  </a:lnTo>
                  <a:lnTo>
                    <a:pt x="0" y="865"/>
                  </a:lnTo>
                  <a:lnTo>
                    <a:pt x="26" y="1024"/>
                  </a:lnTo>
                  <a:lnTo>
                    <a:pt x="66" y="1099"/>
                  </a:lnTo>
                  <a:lnTo>
                    <a:pt x="176" y="1173"/>
                  </a:lnTo>
                  <a:lnTo>
                    <a:pt x="296" y="1218"/>
                  </a:lnTo>
                  <a:lnTo>
                    <a:pt x="371" y="1218"/>
                  </a:lnTo>
                  <a:lnTo>
                    <a:pt x="437" y="1200"/>
                  </a:lnTo>
                  <a:lnTo>
                    <a:pt x="477" y="1099"/>
                  </a:lnTo>
                  <a:lnTo>
                    <a:pt x="494" y="975"/>
                  </a:lnTo>
                  <a:lnTo>
                    <a:pt x="464" y="891"/>
                  </a:lnTo>
                  <a:lnTo>
                    <a:pt x="419" y="816"/>
                  </a:lnTo>
                  <a:lnTo>
                    <a:pt x="428" y="715"/>
                  </a:lnTo>
                  <a:lnTo>
                    <a:pt x="446" y="586"/>
                  </a:lnTo>
                  <a:lnTo>
                    <a:pt x="477" y="463"/>
                  </a:lnTo>
                  <a:lnTo>
                    <a:pt x="521" y="326"/>
                  </a:lnTo>
                  <a:lnTo>
                    <a:pt x="521" y="224"/>
                  </a:lnTo>
                  <a:lnTo>
                    <a:pt x="494" y="119"/>
                  </a:lnTo>
                  <a:lnTo>
                    <a:pt x="477" y="4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2" name=""/>
            <p:cNvSpPr/>
            <p:nvPr/>
          </p:nvSpPr>
          <p:spPr>
            <a:xfrm>
              <a:off x="2454120" y="2381400"/>
              <a:ext cx="244800" cy="559080"/>
            </a:xfrm>
            <a:custGeom>
              <a:avLst/>
              <a:gdLst/>
              <a:ahLst/>
              <a:rect l="0" t="0" r="r" b="b"/>
              <a:pathLst>
                <a:path w="680" h="1553">
                  <a:moveTo>
                    <a:pt x="680" y="132"/>
                  </a:moveTo>
                  <a:lnTo>
                    <a:pt x="680" y="66"/>
                  </a:lnTo>
                  <a:lnTo>
                    <a:pt x="622" y="0"/>
                  </a:lnTo>
                  <a:lnTo>
                    <a:pt x="578" y="26"/>
                  </a:lnTo>
                  <a:lnTo>
                    <a:pt x="380" y="291"/>
                  </a:lnTo>
                  <a:lnTo>
                    <a:pt x="277" y="440"/>
                  </a:lnTo>
                  <a:lnTo>
                    <a:pt x="251" y="577"/>
                  </a:lnTo>
                  <a:lnTo>
                    <a:pt x="242" y="718"/>
                  </a:lnTo>
                  <a:lnTo>
                    <a:pt x="260" y="909"/>
                  </a:lnTo>
                  <a:lnTo>
                    <a:pt x="317" y="1121"/>
                  </a:lnTo>
                  <a:lnTo>
                    <a:pt x="380" y="1244"/>
                  </a:lnTo>
                  <a:lnTo>
                    <a:pt x="402" y="1368"/>
                  </a:lnTo>
                  <a:lnTo>
                    <a:pt x="393" y="1429"/>
                  </a:lnTo>
                  <a:lnTo>
                    <a:pt x="362" y="1442"/>
                  </a:lnTo>
                  <a:lnTo>
                    <a:pt x="158" y="1438"/>
                  </a:lnTo>
                  <a:lnTo>
                    <a:pt x="26" y="1460"/>
                  </a:lnTo>
                  <a:lnTo>
                    <a:pt x="0" y="1495"/>
                  </a:lnTo>
                  <a:lnTo>
                    <a:pt x="0" y="1517"/>
                  </a:lnTo>
                  <a:lnTo>
                    <a:pt x="110" y="1553"/>
                  </a:lnTo>
                  <a:lnTo>
                    <a:pt x="132" y="1544"/>
                  </a:lnTo>
                  <a:lnTo>
                    <a:pt x="224" y="1504"/>
                  </a:lnTo>
                  <a:lnTo>
                    <a:pt x="317" y="1504"/>
                  </a:lnTo>
                  <a:lnTo>
                    <a:pt x="446" y="1504"/>
                  </a:lnTo>
                  <a:lnTo>
                    <a:pt x="486" y="1513"/>
                  </a:lnTo>
                  <a:lnTo>
                    <a:pt x="503" y="1478"/>
                  </a:lnTo>
                  <a:lnTo>
                    <a:pt x="503" y="1429"/>
                  </a:lnTo>
                  <a:lnTo>
                    <a:pt x="464" y="1271"/>
                  </a:lnTo>
                  <a:lnTo>
                    <a:pt x="384" y="1103"/>
                  </a:lnTo>
                  <a:lnTo>
                    <a:pt x="335" y="935"/>
                  </a:lnTo>
                  <a:lnTo>
                    <a:pt x="326" y="812"/>
                  </a:lnTo>
                  <a:lnTo>
                    <a:pt x="335" y="635"/>
                  </a:lnTo>
                  <a:lnTo>
                    <a:pt x="371" y="533"/>
                  </a:lnTo>
                  <a:lnTo>
                    <a:pt x="455" y="410"/>
                  </a:lnTo>
                  <a:lnTo>
                    <a:pt x="569" y="291"/>
                  </a:lnTo>
                  <a:lnTo>
                    <a:pt x="653" y="224"/>
                  </a:lnTo>
                  <a:lnTo>
                    <a:pt x="680" y="185"/>
                  </a:lnTo>
                  <a:lnTo>
                    <a:pt x="680" y="13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3" name=""/>
            <p:cNvSpPr/>
            <p:nvPr/>
          </p:nvSpPr>
          <p:spPr>
            <a:xfrm>
              <a:off x="2714760" y="2409840"/>
              <a:ext cx="205200" cy="598680"/>
            </a:xfrm>
            <a:custGeom>
              <a:avLst/>
              <a:gdLst/>
              <a:ahLst/>
              <a:rect l="0" t="0" r="r" b="b"/>
              <a:pathLst>
                <a:path w="570" h="1663">
                  <a:moveTo>
                    <a:pt x="168" y="44"/>
                  </a:moveTo>
                  <a:lnTo>
                    <a:pt x="119" y="0"/>
                  </a:lnTo>
                  <a:lnTo>
                    <a:pt x="17" y="0"/>
                  </a:lnTo>
                  <a:lnTo>
                    <a:pt x="0" y="52"/>
                  </a:lnTo>
                  <a:lnTo>
                    <a:pt x="17" y="185"/>
                  </a:lnTo>
                  <a:lnTo>
                    <a:pt x="110" y="352"/>
                  </a:lnTo>
                  <a:lnTo>
                    <a:pt x="155" y="537"/>
                  </a:lnTo>
                  <a:lnTo>
                    <a:pt x="168" y="762"/>
                  </a:lnTo>
                  <a:lnTo>
                    <a:pt x="110" y="1024"/>
                  </a:lnTo>
                  <a:lnTo>
                    <a:pt x="35" y="1271"/>
                  </a:lnTo>
                  <a:lnTo>
                    <a:pt x="26" y="1372"/>
                  </a:lnTo>
                  <a:lnTo>
                    <a:pt x="61" y="1407"/>
                  </a:lnTo>
                  <a:lnTo>
                    <a:pt x="177" y="1407"/>
                  </a:lnTo>
                  <a:lnTo>
                    <a:pt x="296" y="1447"/>
                  </a:lnTo>
                  <a:lnTo>
                    <a:pt x="371" y="1557"/>
                  </a:lnTo>
                  <a:lnTo>
                    <a:pt x="438" y="1659"/>
                  </a:lnTo>
                  <a:lnTo>
                    <a:pt x="473" y="1663"/>
                  </a:lnTo>
                  <a:lnTo>
                    <a:pt x="570" y="1606"/>
                  </a:lnTo>
                  <a:lnTo>
                    <a:pt x="570" y="1566"/>
                  </a:lnTo>
                  <a:lnTo>
                    <a:pt x="438" y="1447"/>
                  </a:lnTo>
                  <a:lnTo>
                    <a:pt x="278" y="1372"/>
                  </a:lnTo>
                  <a:lnTo>
                    <a:pt x="155" y="1332"/>
                  </a:lnTo>
                  <a:lnTo>
                    <a:pt x="127" y="1315"/>
                  </a:lnTo>
                  <a:lnTo>
                    <a:pt x="136" y="1240"/>
                  </a:lnTo>
                  <a:lnTo>
                    <a:pt x="177" y="1054"/>
                  </a:lnTo>
                  <a:lnTo>
                    <a:pt x="230" y="847"/>
                  </a:lnTo>
                  <a:lnTo>
                    <a:pt x="252" y="736"/>
                  </a:lnTo>
                  <a:lnTo>
                    <a:pt x="261" y="612"/>
                  </a:lnTo>
                  <a:lnTo>
                    <a:pt x="247" y="471"/>
                  </a:lnTo>
                  <a:lnTo>
                    <a:pt x="212" y="238"/>
                  </a:lnTo>
                  <a:lnTo>
                    <a:pt x="168" y="4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204" name=""/>
          <p:cNvGrpSpPr/>
          <p:nvPr/>
        </p:nvGrpSpPr>
        <p:grpSpPr>
          <a:xfrm>
            <a:off x="1035000" y="3191040"/>
            <a:ext cx="967320" cy="1324080"/>
            <a:chOff x="1035000" y="3191040"/>
            <a:chExt cx="967320" cy="1324080"/>
          </a:xfrm>
        </p:grpSpPr>
        <p:sp>
          <p:nvSpPr>
            <p:cNvPr id="205" name=""/>
            <p:cNvSpPr/>
            <p:nvPr/>
          </p:nvSpPr>
          <p:spPr>
            <a:xfrm>
              <a:off x="1222200" y="3191040"/>
              <a:ext cx="300240" cy="294120"/>
            </a:xfrm>
            <a:custGeom>
              <a:avLst/>
              <a:gdLst/>
              <a:ahLst/>
              <a:rect l="0" t="0" r="r" b="b"/>
              <a:pathLst>
                <a:path w="834" h="817">
                  <a:moveTo>
                    <a:pt x="552" y="283"/>
                  </a:moveTo>
                  <a:lnTo>
                    <a:pt x="561" y="176"/>
                  </a:lnTo>
                  <a:lnTo>
                    <a:pt x="512" y="74"/>
                  </a:lnTo>
                  <a:lnTo>
                    <a:pt x="441" y="22"/>
                  </a:lnTo>
                  <a:lnTo>
                    <a:pt x="343" y="0"/>
                  </a:lnTo>
                  <a:lnTo>
                    <a:pt x="238" y="39"/>
                  </a:lnTo>
                  <a:lnTo>
                    <a:pt x="123" y="154"/>
                  </a:lnTo>
                  <a:lnTo>
                    <a:pt x="39" y="327"/>
                  </a:lnTo>
                  <a:lnTo>
                    <a:pt x="0" y="499"/>
                  </a:lnTo>
                  <a:lnTo>
                    <a:pt x="13" y="619"/>
                  </a:lnTo>
                  <a:lnTo>
                    <a:pt x="61" y="725"/>
                  </a:lnTo>
                  <a:lnTo>
                    <a:pt x="132" y="786"/>
                  </a:lnTo>
                  <a:lnTo>
                    <a:pt x="251" y="817"/>
                  </a:lnTo>
                  <a:lnTo>
                    <a:pt x="330" y="778"/>
                  </a:lnTo>
                  <a:lnTo>
                    <a:pt x="424" y="676"/>
                  </a:lnTo>
                  <a:lnTo>
                    <a:pt x="512" y="525"/>
                  </a:lnTo>
                  <a:lnTo>
                    <a:pt x="565" y="371"/>
                  </a:lnTo>
                  <a:lnTo>
                    <a:pt x="812" y="278"/>
                  </a:lnTo>
                  <a:lnTo>
                    <a:pt x="834" y="247"/>
                  </a:lnTo>
                  <a:lnTo>
                    <a:pt x="825" y="198"/>
                  </a:lnTo>
                  <a:lnTo>
                    <a:pt x="785" y="194"/>
                  </a:lnTo>
                  <a:lnTo>
                    <a:pt x="552" y="28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6" name=""/>
            <p:cNvSpPr/>
            <p:nvPr/>
          </p:nvSpPr>
          <p:spPr>
            <a:xfrm>
              <a:off x="1393920" y="3467160"/>
              <a:ext cx="608400" cy="89280"/>
            </a:xfrm>
            <a:custGeom>
              <a:avLst/>
              <a:gdLst/>
              <a:ahLst/>
              <a:rect l="0" t="0" r="r" b="b"/>
              <a:pathLst>
                <a:path w="1690" h="248">
                  <a:moveTo>
                    <a:pt x="22" y="209"/>
                  </a:moveTo>
                  <a:lnTo>
                    <a:pt x="0" y="137"/>
                  </a:lnTo>
                  <a:lnTo>
                    <a:pt x="70" y="75"/>
                  </a:lnTo>
                  <a:lnTo>
                    <a:pt x="277" y="80"/>
                  </a:lnTo>
                  <a:lnTo>
                    <a:pt x="600" y="61"/>
                  </a:lnTo>
                  <a:lnTo>
                    <a:pt x="856" y="57"/>
                  </a:lnTo>
                  <a:lnTo>
                    <a:pt x="1143" y="0"/>
                  </a:lnTo>
                  <a:lnTo>
                    <a:pt x="1360" y="30"/>
                  </a:lnTo>
                  <a:lnTo>
                    <a:pt x="1638" y="26"/>
                  </a:lnTo>
                  <a:lnTo>
                    <a:pt x="1673" y="35"/>
                  </a:lnTo>
                  <a:lnTo>
                    <a:pt x="1690" y="84"/>
                  </a:lnTo>
                  <a:lnTo>
                    <a:pt x="1664" y="111"/>
                  </a:lnTo>
                  <a:lnTo>
                    <a:pt x="1386" y="71"/>
                  </a:lnTo>
                  <a:lnTo>
                    <a:pt x="1298" y="111"/>
                  </a:lnTo>
                  <a:lnTo>
                    <a:pt x="1248" y="204"/>
                  </a:lnTo>
                  <a:lnTo>
                    <a:pt x="1178" y="248"/>
                  </a:lnTo>
                  <a:lnTo>
                    <a:pt x="1107" y="231"/>
                  </a:lnTo>
                  <a:lnTo>
                    <a:pt x="988" y="155"/>
                  </a:lnTo>
                  <a:lnTo>
                    <a:pt x="940" y="115"/>
                  </a:lnTo>
                  <a:lnTo>
                    <a:pt x="887" y="120"/>
                  </a:lnTo>
                  <a:lnTo>
                    <a:pt x="680" y="168"/>
                  </a:lnTo>
                  <a:lnTo>
                    <a:pt x="486" y="200"/>
                  </a:lnTo>
                  <a:lnTo>
                    <a:pt x="255" y="244"/>
                  </a:lnTo>
                  <a:lnTo>
                    <a:pt x="39" y="244"/>
                  </a:lnTo>
                  <a:lnTo>
                    <a:pt x="22" y="209"/>
                  </a:lnTo>
                  <a:close/>
                </a:path>
              </a:pathLst>
            </a:custGeom>
            <a:solidFill>
              <a:srgbClr val="000000"/>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207" name=""/>
            <p:cNvSpPr/>
            <p:nvPr/>
          </p:nvSpPr>
          <p:spPr>
            <a:xfrm>
              <a:off x="1035000" y="3575160"/>
              <a:ext cx="178200" cy="489240"/>
            </a:xfrm>
            <a:custGeom>
              <a:avLst/>
              <a:gdLst/>
              <a:ahLst/>
              <a:rect l="0" t="0" r="r" b="b"/>
              <a:pathLst>
                <a:path w="495" h="1359">
                  <a:moveTo>
                    <a:pt x="227" y="108"/>
                  </a:moveTo>
                  <a:lnTo>
                    <a:pt x="319" y="25"/>
                  </a:lnTo>
                  <a:lnTo>
                    <a:pt x="420" y="0"/>
                  </a:lnTo>
                  <a:lnTo>
                    <a:pt x="487" y="25"/>
                  </a:lnTo>
                  <a:lnTo>
                    <a:pt x="495" y="75"/>
                  </a:lnTo>
                  <a:lnTo>
                    <a:pt x="437" y="184"/>
                  </a:lnTo>
                  <a:lnTo>
                    <a:pt x="360" y="184"/>
                  </a:lnTo>
                  <a:lnTo>
                    <a:pt x="285" y="234"/>
                  </a:lnTo>
                  <a:lnTo>
                    <a:pt x="185" y="377"/>
                  </a:lnTo>
                  <a:lnTo>
                    <a:pt x="117" y="536"/>
                  </a:lnTo>
                  <a:lnTo>
                    <a:pt x="117" y="603"/>
                  </a:lnTo>
                  <a:lnTo>
                    <a:pt x="160" y="680"/>
                  </a:lnTo>
                  <a:lnTo>
                    <a:pt x="268" y="747"/>
                  </a:lnTo>
                  <a:lnTo>
                    <a:pt x="369" y="805"/>
                  </a:lnTo>
                  <a:lnTo>
                    <a:pt x="479" y="914"/>
                  </a:lnTo>
                  <a:lnTo>
                    <a:pt x="487" y="1007"/>
                  </a:lnTo>
                  <a:lnTo>
                    <a:pt x="387" y="1065"/>
                  </a:lnTo>
                  <a:lnTo>
                    <a:pt x="310" y="1132"/>
                  </a:lnTo>
                  <a:lnTo>
                    <a:pt x="285" y="1191"/>
                  </a:lnTo>
                  <a:lnTo>
                    <a:pt x="302" y="1250"/>
                  </a:lnTo>
                  <a:lnTo>
                    <a:pt x="268" y="1334"/>
                  </a:lnTo>
                  <a:lnTo>
                    <a:pt x="218" y="1359"/>
                  </a:lnTo>
                  <a:lnTo>
                    <a:pt x="193" y="1342"/>
                  </a:lnTo>
                  <a:lnTo>
                    <a:pt x="201" y="1199"/>
                  </a:lnTo>
                  <a:lnTo>
                    <a:pt x="252" y="1099"/>
                  </a:lnTo>
                  <a:lnTo>
                    <a:pt x="344" y="1015"/>
                  </a:lnTo>
                  <a:lnTo>
                    <a:pt x="395" y="990"/>
                  </a:lnTo>
                  <a:lnTo>
                    <a:pt x="352" y="864"/>
                  </a:lnTo>
                  <a:lnTo>
                    <a:pt x="277" y="814"/>
                  </a:lnTo>
                  <a:lnTo>
                    <a:pt x="143" y="763"/>
                  </a:lnTo>
                  <a:lnTo>
                    <a:pt x="50" y="688"/>
                  </a:lnTo>
                  <a:lnTo>
                    <a:pt x="0" y="570"/>
                  </a:lnTo>
                  <a:lnTo>
                    <a:pt x="33" y="461"/>
                  </a:lnTo>
                  <a:lnTo>
                    <a:pt x="126" y="293"/>
                  </a:lnTo>
                  <a:lnTo>
                    <a:pt x="201" y="159"/>
                  </a:lnTo>
                  <a:lnTo>
                    <a:pt x="227" y="10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8" name=""/>
            <p:cNvSpPr/>
            <p:nvPr/>
          </p:nvSpPr>
          <p:spPr>
            <a:xfrm>
              <a:off x="1219320" y="3535200"/>
              <a:ext cx="187560" cy="438480"/>
            </a:xfrm>
            <a:custGeom>
              <a:avLst/>
              <a:gdLst/>
              <a:ahLst/>
              <a:rect l="0" t="0" r="r" b="b"/>
              <a:pathLst>
                <a:path w="521" h="1218">
                  <a:moveTo>
                    <a:pt x="41" y="50"/>
                  </a:moveTo>
                  <a:lnTo>
                    <a:pt x="125" y="8"/>
                  </a:lnTo>
                  <a:lnTo>
                    <a:pt x="193" y="0"/>
                  </a:lnTo>
                  <a:lnTo>
                    <a:pt x="311" y="75"/>
                  </a:lnTo>
                  <a:lnTo>
                    <a:pt x="378" y="151"/>
                  </a:lnTo>
                  <a:lnTo>
                    <a:pt x="429" y="260"/>
                  </a:lnTo>
                  <a:lnTo>
                    <a:pt x="470" y="402"/>
                  </a:lnTo>
                  <a:lnTo>
                    <a:pt x="512" y="622"/>
                  </a:lnTo>
                  <a:lnTo>
                    <a:pt x="521" y="865"/>
                  </a:lnTo>
                  <a:lnTo>
                    <a:pt x="496" y="1025"/>
                  </a:lnTo>
                  <a:lnTo>
                    <a:pt x="454" y="1100"/>
                  </a:lnTo>
                  <a:lnTo>
                    <a:pt x="345" y="1176"/>
                  </a:lnTo>
                  <a:lnTo>
                    <a:pt x="226" y="1218"/>
                  </a:lnTo>
                  <a:lnTo>
                    <a:pt x="151" y="1218"/>
                  </a:lnTo>
                  <a:lnTo>
                    <a:pt x="83" y="1201"/>
                  </a:lnTo>
                  <a:lnTo>
                    <a:pt x="41" y="1100"/>
                  </a:lnTo>
                  <a:lnTo>
                    <a:pt x="25" y="974"/>
                  </a:lnTo>
                  <a:lnTo>
                    <a:pt x="58" y="890"/>
                  </a:lnTo>
                  <a:lnTo>
                    <a:pt x="100" y="815"/>
                  </a:lnTo>
                  <a:lnTo>
                    <a:pt x="92" y="714"/>
                  </a:lnTo>
                  <a:lnTo>
                    <a:pt x="75" y="587"/>
                  </a:lnTo>
                  <a:lnTo>
                    <a:pt x="41" y="461"/>
                  </a:lnTo>
                  <a:lnTo>
                    <a:pt x="0" y="327"/>
                  </a:lnTo>
                  <a:lnTo>
                    <a:pt x="0" y="226"/>
                  </a:lnTo>
                  <a:lnTo>
                    <a:pt x="25" y="117"/>
                  </a:lnTo>
                  <a:lnTo>
                    <a:pt x="41" y="5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9" name=""/>
            <p:cNvSpPr/>
            <p:nvPr/>
          </p:nvSpPr>
          <p:spPr>
            <a:xfrm>
              <a:off x="1328760" y="3886200"/>
              <a:ext cx="244800" cy="559080"/>
            </a:xfrm>
            <a:custGeom>
              <a:avLst/>
              <a:gdLst/>
              <a:ahLst/>
              <a:rect l="0" t="0" r="r" b="b"/>
              <a:pathLst>
                <a:path w="680" h="1553">
                  <a:moveTo>
                    <a:pt x="0" y="133"/>
                  </a:moveTo>
                  <a:lnTo>
                    <a:pt x="0" y="66"/>
                  </a:lnTo>
                  <a:lnTo>
                    <a:pt x="58" y="0"/>
                  </a:lnTo>
                  <a:lnTo>
                    <a:pt x="100" y="25"/>
                  </a:lnTo>
                  <a:lnTo>
                    <a:pt x="301" y="292"/>
                  </a:lnTo>
                  <a:lnTo>
                    <a:pt x="403" y="442"/>
                  </a:lnTo>
                  <a:lnTo>
                    <a:pt x="428" y="575"/>
                  </a:lnTo>
                  <a:lnTo>
                    <a:pt x="436" y="717"/>
                  </a:lnTo>
                  <a:lnTo>
                    <a:pt x="420" y="910"/>
                  </a:lnTo>
                  <a:lnTo>
                    <a:pt x="361" y="1119"/>
                  </a:lnTo>
                  <a:lnTo>
                    <a:pt x="301" y="1244"/>
                  </a:lnTo>
                  <a:lnTo>
                    <a:pt x="276" y="1369"/>
                  </a:lnTo>
                  <a:lnTo>
                    <a:pt x="285" y="1428"/>
                  </a:lnTo>
                  <a:lnTo>
                    <a:pt x="318" y="1444"/>
                  </a:lnTo>
                  <a:lnTo>
                    <a:pt x="520" y="1436"/>
                  </a:lnTo>
                  <a:lnTo>
                    <a:pt x="654" y="1461"/>
                  </a:lnTo>
                  <a:lnTo>
                    <a:pt x="680" y="1494"/>
                  </a:lnTo>
                  <a:lnTo>
                    <a:pt x="680" y="1519"/>
                  </a:lnTo>
                  <a:lnTo>
                    <a:pt x="571" y="1553"/>
                  </a:lnTo>
                  <a:lnTo>
                    <a:pt x="545" y="1544"/>
                  </a:lnTo>
                  <a:lnTo>
                    <a:pt x="453" y="1503"/>
                  </a:lnTo>
                  <a:lnTo>
                    <a:pt x="361" y="1503"/>
                  </a:lnTo>
                  <a:lnTo>
                    <a:pt x="234" y="1503"/>
                  </a:lnTo>
                  <a:lnTo>
                    <a:pt x="192" y="1511"/>
                  </a:lnTo>
                  <a:lnTo>
                    <a:pt x="176" y="1478"/>
                  </a:lnTo>
                  <a:lnTo>
                    <a:pt x="176" y="1428"/>
                  </a:lnTo>
                  <a:lnTo>
                    <a:pt x="217" y="1269"/>
                  </a:lnTo>
                  <a:lnTo>
                    <a:pt x="293" y="1102"/>
                  </a:lnTo>
                  <a:lnTo>
                    <a:pt x="344" y="935"/>
                  </a:lnTo>
                  <a:lnTo>
                    <a:pt x="353" y="810"/>
                  </a:lnTo>
                  <a:lnTo>
                    <a:pt x="344" y="634"/>
                  </a:lnTo>
                  <a:lnTo>
                    <a:pt x="310" y="534"/>
                  </a:lnTo>
                  <a:lnTo>
                    <a:pt x="226" y="408"/>
                  </a:lnTo>
                  <a:lnTo>
                    <a:pt x="108" y="292"/>
                  </a:lnTo>
                  <a:lnTo>
                    <a:pt x="25" y="225"/>
                  </a:lnTo>
                  <a:lnTo>
                    <a:pt x="0" y="183"/>
                  </a:lnTo>
                  <a:lnTo>
                    <a:pt x="0" y="13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0" name=""/>
            <p:cNvSpPr/>
            <p:nvPr/>
          </p:nvSpPr>
          <p:spPr>
            <a:xfrm>
              <a:off x="1108080" y="3916440"/>
              <a:ext cx="205200" cy="598680"/>
            </a:xfrm>
            <a:custGeom>
              <a:avLst/>
              <a:gdLst/>
              <a:ahLst/>
              <a:rect l="0" t="0" r="r" b="b"/>
              <a:pathLst>
                <a:path w="570" h="1663">
                  <a:moveTo>
                    <a:pt x="402" y="41"/>
                  </a:moveTo>
                  <a:lnTo>
                    <a:pt x="453" y="0"/>
                  </a:lnTo>
                  <a:lnTo>
                    <a:pt x="554" y="0"/>
                  </a:lnTo>
                  <a:lnTo>
                    <a:pt x="570" y="50"/>
                  </a:lnTo>
                  <a:lnTo>
                    <a:pt x="554" y="183"/>
                  </a:lnTo>
                  <a:lnTo>
                    <a:pt x="462" y="350"/>
                  </a:lnTo>
                  <a:lnTo>
                    <a:pt x="419" y="534"/>
                  </a:lnTo>
                  <a:lnTo>
                    <a:pt x="402" y="760"/>
                  </a:lnTo>
                  <a:lnTo>
                    <a:pt x="462" y="1020"/>
                  </a:lnTo>
                  <a:lnTo>
                    <a:pt x="537" y="1270"/>
                  </a:lnTo>
                  <a:lnTo>
                    <a:pt x="545" y="1371"/>
                  </a:lnTo>
                  <a:lnTo>
                    <a:pt x="512" y="1404"/>
                  </a:lnTo>
                  <a:lnTo>
                    <a:pt x="394" y="1404"/>
                  </a:lnTo>
                  <a:lnTo>
                    <a:pt x="277" y="1446"/>
                  </a:lnTo>
                  <a:lnTo>
                    <a:pt x="201" y="1554"/>
                  </a:lnTo>
                  <a:lnTo>
                    <a:pt x="133" y="1655"/>
                  </a:lnTo>
                  <a:lnTo>
                    <a:pt x="100" y="1663"/>
                  </a:lnTo>
                  <a:lnTo>
                    <a:pt x="0" y="1604"/>
                  </a:lnTo>
                  <a:lnTo>
                    <a:pt x="0" y="1563"/>
                  </a:lnTo>
                  <a:lnTo>
                    <a:pt x="133" y="1446"/>
                  </a:lnTo>
                  <a:lnTo>
                    <a:pt x="293" y="1371"/>
                  </a:lnTo>
                  <a:lnTo>
                    <a:pt x="419" y="1329"/>
                  </a:lnTo>
                  <a:lnTo>
                    <a:pt x="445" y="1312"/>
                  </a:lnTo>
                  <a:lnTo>
                    <a:pt x="437" y="1237"/>
                  </a:lnTo>
                  <a:lnTo>
                    <a:pt x="394" y="1053"/>
                  </a:lnTo>
                  <a:lnTo>
                    <a:pt x="343" y="844"/>
                  </a:lnTo>
                  <a:lnTo>
                    <a:pt x="318" y="735"/>
                  </a:lnTo>
                  <a:lnTo>
                    <a:pt x="310" y="609"/>
                  </a:lnTo>
                  <a:lnTo>
                    <a:pt x="327" y="467"/>
                  </a:lnTo>
                  <a:lnTo>
                    <a:pt x="360" y="233"/>
                  </a:lnTo>
                  <a:lnTo>
                    <a:pt x="402" y="4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211" name=""/>
          <p:cNvGrpSpPr/>
          <p:nvPr/>
        </p:nvGrpSpPr>
        <p:grpSpPr>
          <a:xfrm>
            <a:off x="1890720" y="3244680"/>
            <a:ext cx="2122920" cy="2724480"/>
            <a:chOff x="1890720" y="3244680"/>
            <a:chExt cx="2122920" cy="2724480"/>
          </a:xfrm>
        </p:grpSpPr>
        <p:grpSp>
          <p:nvGrpSpPr>
            <p:cNvPr id="212" name=""/>
            <p:cNvGrpSpPr/>
            <p:nvPr/>
          </p:nvGrpSpPr>
          <p:grpSpPr>
            <a:xfrm>
              <a:off x="1890720" y="3244680"/>
              <a:ext cx="2122920" cy="2724480"/>
              <a:chOff x="1890720" y="3244680"/>
              <a:chExt cx="2122920" cy="2724480"/>
            </a:xfrm>
          </p:grpSpPr>
          <p:sp>
            <p:nvSpPr>
              <p:cNvPr id="213" name=""/>
              <p:cNvSpPr/>
              <p:nvPr/>
            </p:nvSpPr>
            <p:spPr>
              <a:xfrm>
                <a:off x="1924200" y="3276720"/>
                <a:ext cx="2089080" cy="2676600"/>
              </a:xfrm>
              <a:prstGeom prst="rect">
                <a:avLst/>
              </a:pr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4" name=""/>
              <p:cNvSpPr/>
              <p:nvPr/>
            </p:nvSpPr>
            <p:spPr>
              <a:xfrm>
                <a:off x="1890720" y="3244680"/>
                <a:ext cx="2089080" cy="2678040"/>
              </a:xfrm>
              <a:prstGeom prst="rect">
                <a:avLst/>
              </a:prstGeom>
              <a:solidFill>
                <a:srgbClr val="cbcbc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5" name=""/>
              <p:cNvSpPr/>
              <p:nvPr/>
            </p:nvSpPr>
            <p:spPr>
              <a:xfrm>
                <a:off x="1890720" y="3244680"/>
                <a:ext cx="2122920" cy="2724480"/>
              </a:xfrm>
              <a:custGeom>
                <a:avLst/>
                <a:gdLst/>
                <a:ahLst/>
                <a:rect l="0" t="0" r="r" b="b"/>
                <a:pathLst>
                  <a:path fill="none" w="5897" h="7568">
                    <a:moveTo>
                      <a:pt x="0" y="7568"/>
                    </a:moveTo>
                    <a:lnTo>
                      <a:pt x="0" y="0"/>
                    </a:lnTo>
                    <a:lnTo>
                      <a:pt x="5897" y="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16" name=""/>
            <p:cNvSpPr txBox="1"/>
            <p:nvPr/>
          </p:nvSpPr>
          <p:spPr>
            <a:xfrm>
              <a:off x="1967040" y="3294000"/>
              <a:ext cx="2000160" cy="2565360"/>
            </a:xfrm>
            <a:prstGeom prst="rect">
              <a:avLst/>
            </a:prstGeom>
            <a:noFill/>
            <a:ln w="0">
              <a:noFill/>
            </a:ln>
          </p:spPr>
          <p:txBody>
            <a:bodyPr lIns="0" rIns="0" tIns="0" bIns="0" anchor="t">
              <a:noAutofit/>
            </a:bodyPr>
            <a:p>
              <a:pPr>
                <a:lnSpc>
                  <a:spcPct val="100000"/>
                </a:lnSpc>
                <a:spcBef>
                  <a:spcPts val="1440"/>
                </a:spcBef>
              </a:pPr>
              <a:r>
                <a:rPr b="0" lang="en-US" sz="1800" spc="-1" strike="noStrike" u="sng">
                  <a:solidFill>
                    <a:srgbClr val="000000"/>
                  </a:solidFill>
                  <a:uFillTx/>
                  <a:latin typeface="Arial"/>
                  <a:ea typeface="Arial"/>
                </a:rPr>
                <a:t>C</a:t>
              </a:r>
              <a:r>
                <a:rPr b="0" lang="en-US" sz="1800" spc="-1" strike="noStrike">
                  <a:solidFill>
                    <a:srgbClr val="000000"/>
                  </a:solidFill>
                  <a:latin typeface="Arial"/>
                  <a:ea typeface="Arial"/>
                </a:rPr>
                <a:t>lip Art...</a:t>
              </a:r>
              <a:endParaRPr b="0" lang="en-US" sz="1800" spc="-1" strike="noStrike">
                <a:solidFill>
                  <a:srgbClr val="000000"/>
                </a:solidFill>
                <a:latin typeface="Arial"/>
              </a:endParaRPr>
            </a:p>
            <a:p>
              <a:pPr>
                <a:lnSpc>
                  <a:spcPct val="100000"/>
                </a:lnSpc>
                <a:spcBef>
                  <a:spcPts val="1440"/>
                </a:spcBef>
              </a:pPr>
              <a:r>
                <a:rPr b="0" lang="en-US" sz="1800" spc="-1" strike="noStrike" u="sng">
                  <a:solidFill>
                    <a:srgbClr val="000000"/>
                  </a:solidFill>
                  <a:uFillTx/>
                  <a:latin typeface="Arial"/>
                  <a:ea typeface="Arial"/>
                </a:rPr>
                <a:t>P</a:t>
              </a:r>
              <a:r>
                <a:rPr b="0" lang="en-US" sz="1800" spc="-1" strike="noStrike">
                  <a:solidFill>
                    <a:srgbClr val="000000"/>
                  </a:solidFill>
                  <a:latin typeface="Arial"/>
                  <a:ea typeface="Arial"/>
                </a:rPr>
                <a:t>icture...</a:t>
              </a:r>
              <a:endParaRPr b="0" lang="en-US" sz="1800" spc="-1" strike="noStrike">
                <a:solidFill>
                  <a:srgbClr val="000000"/>
                </a:solidFill>
                <a:latin typeface="Arial"/>
              </a:endParaRPr>
            </a:p>
            <a:p>
              <a:pPr>
                <a:lnSpc>
                  <a:spcPct val="100000"/>
                </a:lnSpc>
                <a:spcBef>
                  <a:spcPts val="1440"/>
                </a:spcBef>
              </a:pPr>
              <a:r>
                <a:rPr b="0" lang="en-US" sz="1800" spc="-1" strike="noStrike" u="sng">
                  <a:solidFill>
                    <a:srgbClr val="000000"/>
                  </a:solidFill>
                  <a:uFillTx/>
                  <a:latin typeface="Arial"/>
                  <a:ea typeface="Arial"/>
                </a:rPr>
                <a:t>M</a:t>
              </a:r>
              <a:r>
                <a:rPr b="0" lang="en-US" sz="1800" spc="-1" strike="noStrike">
                  <a:solidFill>
                    <a:srgbClr val="000000"/>
                  </a:solidFill>
                  <a:latin typeface="Arial"/>
                  <a:ea typeface="Arial"/>
                </a:rPr>
                <a:t>ovie...</a:t>
              </a:r>
              <a:endParaRPr b="0" lang="en-US" sz="1800" spc="-1" strike="noStrike">
                <a:solidFill>
                  <a:srgbClr val="000000"/>
                </a:solidFill>
                <a:latin typeface="Arial"/>
              </a:endParaRPr>
            </a:p>
            <a:p>
              <a:pPr>
                <a:lnSpc>
                  <a:spcPct val="100000"/>
                </a:lnSpc>
                <a:spcBef>
                  <a:spcPts val="1440"/>
                </a:spcBef>
              </a:pPr>
              <a:r>
                <a:rPr b="0" lang="en-US" sz="1800" spc="-1" strike="noStrike">
                  <a:solidFill>
                    <a:srgbClr val="000000"/>
                  </a:solidFill>
                  <a:latin typeface="Arial"/>
                  <a:ea typeface="Arial"/>
                </a:rPr>
                <a:t>So</a:t>
              </a:r>
              <a:r>
                <a:rPr b="0" lang="en-US" sz="1800" spc="-1" strike="noStrike" u="sng">
                  <a:solidFill>
                    <a:srgbClr val="000000"/>
                  </a:solidFill>
                  <a:uFillTx/>
                  <a:latin typeface="Arial"/>
                  <a:ea typeface="Arial"/>
                </a:rPr>
                <a:t>u</a:t>
              </a:r>
              <a:r>
                <a:rPr b="0" lang="en-US" sz="1800" spc="-1" strike="noStrike">
                  <a:solidFill>
                    <a:srgbClr val="000000"/>
                  </a:solidFill>
                  <a:latin typeface="Arial"/>
                  <a:ea typeface="Arial"/>
                </a:rPr>
                <a:t>nd...</a:t>
              </a:r>
              <a:endParaRPr b="0" lang="en-US" sz="1800" spc="-1" strike="noStrike">
                <a:solidFill>
                  <a:srgbClr val="000000"/>
                </a:solidFill>
                <a:latin typeface="Arial"/>
              </a:endParaRPr>
            </a:p>
            <a:p>
              <a:pPr>
                <a:lnSpc>
                  <a:spcPct val="100000"/>
                </a:lnSpc>
                <a:spcBef>
                  <a:spcPts val="1440"/>
                </a:spcBef>
              </a:pPr>
              <a:r>
                <a:rPr b="0" lang="en-US" sz="1800" spc="-1" strike="noStrike">
                  <a:solidFill>
                    <a:srgbClr val="000000"/>
                  </a:solidFill>
                  <a:latin typeface="Arial"/>
                  <a:ea typeface="Arial"/>
                </a:rPr>
                <a:t>Microsoft </a:t>
              </a:r>
              <a:r>
                <a:rPr b="0" lang="en-US" sz="1800" spc="-1" strike="noStrike" u="sng">
                  <a:solidFill>
                    <a:srgbClr val="000000"/>
                  </a:solidFill>
                  <a:uFillTx/>
                  <a:latin typeface="Arial"/>
                  <a:ea typeface="Arial"/>
                </a:rPr>
                <a:t>G</a:t>
              </a:r>
              <a:r>
                <a:rPr b="0" lang="en-US" sz="1800" spc="-1" strike="noStrike">
                  <a:solidFill>
                    <a:srgbClr val="000000"/>
                  </a:solidFill>
                  <a:latin typeface="Arial"/>
                  <a:ea typeface="Arial"/>
                </a:rPr>
                <a:t>raph...</a:t>
              </a:r>
              <a:endParaRPr b="0" lang="en-US" sz="1800" spc="-1" strike="noStrike">
                <a:solidFill>
                  <a:srgbClr val="000000"/>
                </a:solidFill>
                <a:latin typeface="Arial"/>
              </a:endParaRPr>
            </a:p>
            <a:p>
              <a:pPr>
                <a:lnSpc>
                  <a:spcPct val="100000"/>
                </a:lnSpc>
                <a:spcBef>
                  <a:spcPts val="1440"/>
                </a:spcBef>
              </a:pPr>
              <a:r>
                <a:rPr b="0" lang="en-US" sz="1800" spc="-1" strike="noStrike" u="sng">
                  <a:solidFill>
                    <a:srgbClr val="000000"/>
                  </a:solidFill>
                  <a:uFillTx/>
                  <a:latin typeface="Arial"/>
                  <a:ea typeface="Arial"/>
                </a:rPr>
                <a:t>O</a:t>
              </a:r>
              <a:r>
                <a:rPr b="0" lang="en-US" sz="1800" spc="-1" strike="noStrike">
                  <a:solidFill>
                    <a:srgbClr val="000000"/>
                  </a:solidFill>
                  <a:latin typeface="Arial"/>
                  <a:ea typeface="Arial"/>
                </a:rPr>
                <a:t>bjec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7" name=""/>
          <p:cNvGrpSpPr/>
          <p:nvPr/>
        </p:nvGrpSpPr>
        <p:grpSpPr>
          <a:xfrm>
            <a:off x="4087800" y="5702400"/>
            <a:ext cx="2149560" cy="952560"/>
            <a:chOff x="4087800" y="5702400"/>
            <a:chExt cx="2149560" cy="952560"/>
          </a:xfrm>
        </p:grpSpPr>
        <p:sp>
          <p:nvSpPr>
            <p:cNvPr id="218" name=""/>
            <p:cNvSpPr/>
            <p:nvPr/>
          </p:nvSpPr>
          <p:spPr>
            <a:xfrm>
              <a:off x="4087800" y="5702400"/>
              <a:ext cx="2149560" cy="3952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9" name=""/>
            <p:cNvSpPr/>
            <p:nvPr/>
          </p:nvSpPr>
          <p:spPr>
            <a:xfrm>
              <a:off x="4087800" y="6259680"/>
              <a:ext cx="2149560" cy="3952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20" name=""/>
          <p:cNvSpPr txBox="1"/>
          <p:nvPr/>
        </p:nvSpPr>
        <p:spPr>
          <a:xfrm>
            <a:off x="730080" y="322200"/>
            <a:ext cx="7683480" cy="411120"/>
          </a:xfrm>
          <a:prstGeom prst="rect">
            <a:avLst/>
          </a:prstGeom>
          <a:noFill/>
          <a:ln w="0">
            <a:noFill/>
          </a:ln>
        </p:spPr>
        <p:txBody>
          <a:bodyPr lIns="0" rIns="0" tIns="0" bIns="0" anchor="t">
            <a:noAutofit/>
          </a:bodyPr>
          <a:p>
            <a:pPr algn="ctr">
              <a:lnSpc>
                <a:spcPct val="100000"/>
              </a:lnSpc>
            </a:pPr>
            <a:r>
              <a:rPr b="1" lang="en-US" sz="2000" spc="-1" strike="noStrike">
                <a:solidFill>
                  <a:srgbClr val="333300"/>
                </a:solidFill>
                <a:latin typeface="Century Gothic"/>
                <a:ea typeface="Century Gothic"/>
              </a:rPr>
              <a:t>M O R E   B E A N S ! ! !</a:t>
            </a:r>
            <a:endParaRPr b="0" lang="en-US" sz="2000" spc="-1" strike="noStrike">
              <a:solidFill>
                <a:srgbClr val="000000"/>
              </a:solidFill>
              <a:latin typeface="Arial"/>
            </a:endParaRPr>
          </a:p>
        </p:txBody>
      </p:sp>
      <p:sp>
        <p:nvSpPr>
          <p:cNvPr id="221" name=""/>
          <p:cNvSpPr txBox="1"/>
          <p:nvPr/>
        </p:nvSpPr>
        <p:spPr>
          <a:xfrm>
            <a:off x="730080" y="4632480"/>
            <a:ext cx="7467480" cy="1989000"/>
          </a:xfrm>
          <a:prstGeom prst="rect">
            <a:avLst/>
          </a:prstGeom>
          <a:noFill/>
          <a:ln w="0">
            <a:noFill/>
          </a:ln>
        </p:spPr>
        <p:txBody>
          <a:bodyPr lIns="0" rIns="0" tIns="0" bIns="0" anchor="t">
            <a:noAutofit/>
          </a:bodyPr>
          <a:p>
            <a:pPr>
              <a:lnSpc>
                <a:spcPct val="120000"/>
              </a:lnSpc>
              <a:spcBef>
                <a:spcPts val="961"/>
              </a:spcBef>
              <a:tabLst>
                <a:tab algn="l" pos="1833480"/>
                <a:tab algn="l" pos="3719520"/>
              </a:tabLst>
            </a:pPr>
            <a:r>
              <a:rPr b="1" lang="en-US" sz="2000" spc="-1" strike="noStrike">
                <a:solidFill>
                  <a:srgbClr val="000000"/>
                </a:solidFill>
                <a:latin typeface="Arial Narrow"/>
                <a:ea typeface="Arial Narrow"/>
              </a:rPr>
              <a:t>Each disc contains over </a:t>
            </a:r>
            <a:r>
              <a:rPr b="1" lang="en-US" sz="2000" spc="-1" strike="noStrike">
                <a:solidFill>
                  <a:srgbClr val="f4eada"/>
                </a:solidFill>
                <a:latin typeface="Arial Narrow"/>
                <a:ea typeface="Arial Narrow"/>
              </a:rPr>
              <a:t>100 </a:t>
            </a:r>
            <a:r>
              <a:rPr b="1" lang="en-US" sz="2000" spc="-1" strike="noStrike">
                <a:solidFill>
                  <a:srgbClr val="000000"/>
                </a:solidFill>
                <a:latin typeface="Arial Narrow"/>
                <a:ea typeface="Arial Narrow"/>
              </a:rPr>
              <a:t>new </a:t>
            </a:r>
            <a:r>
              <a:rPr b="0" lang="en-US" sz="2800" spc="-1" strike="noStrike">
                <a:solidFill>
                  <a:srgbClr val="f4eada"/>
                </a:solidFill>
                <a:latin typeface="Times New Roman"/>
                <a:ea typeface="Times New Roman"/>
              </a:rPr>
              <a:t>screen beans</a:t>
            </a:r>
            <a:r>
              <a:rPr b="1" lang="en-US" sz="2000" spc="-1" strike="noStrike">
                <a:solidFill>
                  <a:srgbClr val="000000"/>
                </a:solidFill>
                <a:latin typeface="Arial Narrow"/>
                <a:ea typeface="Arial Narrow"/>
              </a:rPr>
              <a:t>, ready to help you</a:t>
            </a:r>
            <a:br>
              <a:rPr sz="2000"/>
            </a:br>
            <a:r>
              <a:rPr b="1" lang="en-US" sz="2000" spc="-1" strike="noStrike">
                <a:solidFill>
                  <a:srgbClr val="000000"/>
                </a:solidFill>
                <a:latin typeface="Arial Narrow"/>
                <a:ea typeface="Arial Narrow"/>
              </a:rPr>
              <a:t>with your next project.</a:t>
            </a:r>
            <a:endParaRPr b="0" lang="en-US" sz="2000" spc="-1" strike="noStrike">
              <a:solidFill>
                <a:srgbClr val="000000"/>
              </a:solidFill>
              <a:latin typeface="Arial"/>
            </a:endParaRPr>
          </a:p>
          <a:p>
            <a:pPr>
              <a:lnSpc>
                <a:spcPct val="145000"/>
              </a:lnSpc>
              <a:spcBef>
                <a:spcPts val="961"/>
              </a:spcBef>
              <a:tabLst>
                <a:tab algn="l" pos="1833480"/>
                <a:tab algn="l" pos="3719520"/>
              </a:tabLst>
            </a:pPr>
            <a:r>
              <a:rPr b="1" lang="en-US" sz="1800" spc="-1" strike="noStrike">
                <a:solidFill>
                  <a:srgbClr val="000000"/>
                </a:solidFill>
                <a:latin typeface="Arial Narrow"/>
                <a:ea typeface="Arial Narrow"/>
              </a:rPr>
              <a:t>	</a:t>
            </a:r>
            <a:r>
              <a:rPr b="1" lang="en-US" sz="2000" spc="-1" strike="noStrike">
                <a:solidFill>
                  <a:srgbClr val="000000"/>
                </a:solidFill>
                <a:latin typeface="Arial Narrow"/>
                <a:ea typeface="Arial Narrow"/>
              </a:rPr>
              <a:t>One disc: </a:t>
            </a:r>
            <a:r>
              <a:rPr b="1" lang="en-US" sz="2000" spc="-1" strike="noStrike">
                <a:solidFill>
                  <a:srgbClr val="000000"/>
                </a:solidFill>
                <a:latin typeface="Arial Narrow"/>
                <a:ea typeface="Arial Narrow"/>
              </a:rPr>
              <a:t>	</a:t>
            </a:r>
            <a:r>
              <a:rPr b="1" lang="en-US" sz="2000" spc="-1" strike="noStrike">
                <a:solidFill>
                  <a:srgbClr val="666633"/>
                </a:solidFill>
                <a:latin typeface="Arial Narrow"/>
                <a:ea typeface="Arial Narrow"/>
              </a:rPr>
              <a:t>only $24.95</a:t>
            </a:r>
            <a:r>
              <a:rPr b="1" lang="en-US" sz="1800" spc="-1" strike="noStrike">
                <a:solidFill>
                  <a:srgbClr val="000000"/>
                </a:solidFill>
                <a:latin typeface="Arial Narrow"/>
                <a:ea typeface="Arial Narrow"/>
              </a:rPr>
              <a:t>  </a:t>
            </a:r>
            <a:endParaRPr b="0" lang="en-US" sz="1800" spc="-1" strike="noStrike">
              <a:solidFill>
                <a:srgbClr val="000000"/>
              </a:solidFill>
              <a:latin typeface="Arial"/>
            </a:endParaRPr>
          </a:p>
          <a:p>
            <a:pPr>
              <a:lnSpc>
                <a:spcPct val="145000"/>
              </a:lnSpc>
              <a:spcBef>
                <a:spcPts val="961"/>
              </a:spcBef>
              <a:tabLst>
                <a:tab algn="l" pos="1833480"/>
                <a:tab algn="l" pos="3719520"/>
              </a:tabLst>
            </a:pPr>
            <a:r>
              <a:rPr b="1" lang="en-US" sz="2000" spc="-1" strike="noStrike">
                <a:solidFill>
                  <a:srgbClr val="000000"/>
                </a:solidFill>
                <a:latin typeface="Arial Narrow"/>
                <a:ea typeface="Arial Narrow"/>
              </a:rPr>
              <a:t>	</a:t>
            </a:r>
            <a:r>
              <a:rPr b="1" lang="en-US" sz="2000" spc="-1" strike="noStrike">
                <a:solidFill>
                  <a:srgbClr val="000000"/>
                </a:solidFill>
                <a:latin typeface="Arial Narrow"/>
                <a:ea typeface="Arial Narrow"/>
              </a:rPr>
              <a:t>All three: </a:t>
            </a:r>
            <a:r>
              <a:rPr b="1" lang="en-US" sz="2000" spc="-1" strike="noStrike">
                <a:solidFill>
                  <a:srgbClr val="000000"/>
                </a:solidFill>
                <a:latin typeface="Arial Narrow"/>
                <a:ea typeface="Arial Narrow"/>
              </a:rPr>
              <a:t>	</a:t>
            </a:r>
            <a:r>
              <a:rPr b="1" lang="en-US" sz="2000" spc="-1" strike="noStrike">
                <a:solidFill>
                  <a:srgbClr val="666633"/>
                </a:solidFill>
                <a:latin typeface="Arial Narrow"/>
                <a:ea typeface="Arial Narrow"/>
              </a:rPr>
              <a:t>only $59.95</a:t>
            </a:r>
            <a:endParaRPr b="0" lang="en-US" sz="2000" spc="-1" strike="noStrike">
              <a:solidFill>
                <a:srgbClr val="000000"/>
              </a:solidFill>
              <a:latin typeface="Arial"/>
            </a:endParaRPr>
          </a:p>
        </p:txBody>
      </p:sp>
      <p:sp>
        <p:nvSpPr>
          <p:cNvPr id="222" name=""/>
          <p:cNvSpPr txBox="1"/>
          <p:nvPr/>
        </p:nvSpPr>
        <p:spPr>
          <a:xfrm>
            <a:off x="1042920" y="857160"/>
            <a:ext cx="7261200" cy="1136520"/>
          </a:xfrm>
          <a:prstGeom prst="rect">
            <a:avLst/>
          </a:prstGeom>
          <a:noFill/>
          <a:ln w="0">
            <a:noFill/>
          </a:ln>
        </p:spPr>
        <p:txBody>
          <a:bodyPr lIns="0" rIns="0" tIns="0" bIns="0" anchor="t">
            <a:noAutofit/>
          </a:bodyPr>
          <a:p>
            <a:pPr>
              <a:lnSpc>
                <a:spcPct val="145000"/>
              </a:lnSpc>
              <a:spcBef>
                <a:spcPts val="961"/>
              </a:spcBef>
            </a:pPr>
            <a:r>
              <a:rPr b="1" lang="en-US" sz="2000" spc="-1" strike="noStrike">
                <a:solidFill>
                  <a:srgbClr val="000000"/>
                </a:solidFill>
                <a:latin typeface="Arial Narrow"/>
                <a:ea typeface="Arial Narrow"/>
              </a:rPr>
              <a:t>There are now three exciting new  </a:t>
            </a:r>
            <a:r>
              <a:rPr b="0" lang="en-US" sz="3600" spc="-1" strike="noStrike">
                <a:solidFill>
                  <a:srgbClr val="f4eada"/>
                </a:solidFill>
                <a:latin typeface="Times New Roman"/>
                <a:ea typeface="Times New Roman"/>
              </a:rPr>
              <a:t>screen beans</a:t>
            </a:r>
            <a:r>
              <a:rPr b="0" lang="en-US" sz="2000" spc="-1" strike="noStrike">
                <a:solidFill>
                  <a:srgbClr val="000000"/>
                </a:solidFill>
                <a:latin typeface="Times New Roman"/>
                <a:ea typeface="Times New Roman"/>
              </a:rPr>
              <a:t> </a:t>
            </a:r>
            <a:r>
              <a:rPr b="1" lang="en-US" sz="2000" spc="-1" strike="noStrike">
                <a:solidFill>
                  <a:srgbClr val="000000"/>
                </a:solidFill>
                <a:latin typeface="Arial Narrow"/>
                <a:ea typeface="Arial Narrow"/>
              </a:rPr>
              <a:t>products!</a:t>
            </a:r>
            <a:endParaRPr b="0" lang="en-US" sz="2000" spc="-1" strike="noStrike">
              <a:solidFill>
                <a:srgbClr val="000000"/>
              </a:solidFill>
              <a:latin typeface="Arial"/>
            </a:endParaRPr>
          </a:p>
        </p:txBody>
      </p:sp>
      <p:grpSp>
        <p:nvGrpSpPr>
          <p:cNvPr id="223" name=""/>
          <p:cNvGrpSpPr/>
          <p:nvPr/>
        </p:nvGrpSpPr>
        <p:grpSpPr>
          <a:xfrm>
            <a:off x="646200" y="2214720"/>
            <a:ext cx="2523960" cy="2099880"/>
            <a:chOff x="646200" y="2214720"/>
            <a:chExt cx="2523960" cy="2099880"/>
          </a:xfrm>
        </p:grpSpPr>
        <p:sp>
          <p:nvSpPr>
            <p:cNvPr id="224" name=""/>
            <p:cNvSpPr txBox="1"/>
            <p:nvPr/>
          </p:nvSpPr>
          <p:spPr>
            <a:xfrm>
              <a:off x="646200" y="3763800"/>
              <a:ext cx="2523960" cy="550800"/>
            </a:xfrm>
            <a:prstGeom prst="rect">
              <a:avLst/>
            </a:prstGeom>
            <a:solidFill>
              <a:srgbClr val="ffffff"/>
            </a:solidFill>
            <a:ln w="0">
              <a:noFill/>
            </a:ln>
          </p:spPr>
          <p:txBody>
            <a:bodyPr lIns="0" rIns="0" tIns="0" bIns="0" anchor="t">
              <a:noAutofit/>
            </a:bodyPr>
            <a:p>
              <a:pPr algn="ctr">
                <a:lnSpc>
                  <a:spcPct val="145000"/>
                </a:lnSpc>
                <a:spcBef>
                  <a:spcPts val="961"/>
                </a:spcBef>
              </a:pPr>
              <a:r>
                <a:rPr b="1" lang="en-US" sz="1800" spc="-1" strike="noStrike">
                  <a:solidFill>
                    <a:srgbClr val="666633"/>
                  </a:solidFill>
                  <a:latin typeface="Arial Narrow"/>
                  <a:ea typeface="Arial Narrow"/>
                </a:rPr>
                <a:t>SALES &amp; MARKETING</a:t>
              </a:r>
              <a:endParaRPr b="0" lang="en-US" sz="1800" spc="-1" strike="noStrike">
                <a:solidFill>
                  <a:srgbClr val="000000"/>
                </a:solidFill>
                <a:latin typeface="Arial"/>
              </a:endParaRPr>
            </a:p>
          </p:txBody>
        </p:sp>
        <p:grpSp>
          <p:nvGrpSpPr>
            <p:cNvPr id="225" name=""/>
            <p:cNvGrpSpPr/>
            <p:nvPr/>
          </p:nvGrpSpPr>
          <p:grpSpPr>
            <a:xfrm>
              <a:off x="1258920" y="2214720"/>
              <a:ext cx="1479960" cy="1349640"/>
              <a:chOff x="1258920" y="2214720"/>
              <a:chExt cx="1479960" cy="1349640"/>
            </a:xfrm>
          </p:grpSpPr>
          <p:grpSp>
            <p:nvGrpSpPr>
              <p:cNvPr id="226" name=""/>
              <p:cNvGrpSpPr/>
              <p:nvPr/>
            </p:nvGrpSpPr>
            <p:grpSpPr>
              <a:xfrm>
                <a:off x="1925640" y="2279520"/>
                <a:ext cx="813240" cy="1219680"/>
                <a:chOff x="1925640" y="2279520"/>
                <a:chExt cx="813240" cy="1219680"/>
              </a:xfrm>
            </p:grpSpPr>
            <p:sp>
              <p:nvSpPr>
                <p:cNvPr id="227" name=""/>
                <p:cNvSpPr/>
                <p:nvPr/>
              </p:nvSpPr>
              <p:spPr>
                <a:xfrm>
                  <a:off x="2286000" y="2279520"/>
                  <a:ext cx="248040" cy="271800"/>
                </a:xfrm>
                <a:custGeom>
                  <a:avLst/>
                  <a:gdLst/>
                  <a:ahLst/>
                  <a:rect l="0" t="0" r="r" b="b"/>
                  <a:pathLst>
                    <a:path w="689" h="755">
                      <a:moveTo>
                        <a:pt x="184" y="515"/>
                      </a:moveTo>
                      <a:lnTo>
                        <a:pt x="126" y="378"/>
                      </a:lnTo>
                      <a:lnTo>
                        <a:pt x="80" y="205"/>
                      </a:lnTo>
                      <a:lnTo>
                        <a:pt x="91" y="114"/>
                      </a:lnTo>
                      <a:lnTo>
                        <a:pt x="137" y="45"/>
                      </a:lnTo>
                      <a:lnTo>
                        <a:pt x="264" y="0"/>
                      </a:lnTo>
                      <a:lnTo>
                        <a:pt x="413" y="34"/>
                      </a:lnTo>
                      <a:lnTo>
                        <a:pt x="529" y="125"/>
                      </a:lnTo>
                      <a:lnTo>
                        <a:pt x="586" y="205"/>
                      </a:lnTo>
                      <a:lnTo>
                        <a:pt x="655" y="342"/>
                      </a:lnTo>
                      <a:lnTo>
                        <a:pt x="689" y="458"/>
                      </a:lnTo>
                      <a:lnTo>
                        <a:pt x="689" y="572"/>
                      </a:lnTo>
                      <a:lnTo>
                        <a:pt x="644" y="709"/>
                      </a:lnTo>
                      <a:lnTo>
                        <a:pt x="575" y="732"/>
                      </a:lnTo>
                      <a:lnTo>
                        <a:pt x="482" y="755"/>
                      </a:lnTo>
                      <a:lnTo>
                        <a:pt x="390" y="732"/>
                      </a:lnTo>
                      <a:lnTo>
                        <a:pt x="287" y="675"/>
                      </a:lnTo>
                      <a:lnTo>
                        <a:pt x="230" y="606"/>
                      </a:lnTo>
                      <a:lnTo>
                        <a:pt x="91" y="720"/>
                      </a:lnTo>
                      <a:lnTo>
                        <a:pt x="45" y="720"/>
                      </a:lnTo>
                      <a:lnTo>
                        <a:pt x="11" y="663"/>
                      </a:lnTo>
                      <a:lnTo>
                        <a:pt x="0" y="629"/>
                      </a:lnTo>
                      <a:lnTo>
                        <a:pt x="195" y="549"/>
                      </a:lnTo>
                      <a:lnTo>
                        <a:pt x="184" y="51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8" name=""/>
                <p:cNvSpPr/>
                <p:nvPr/>
              </p:nvSpPr>
              <p:spPr>
                <a:xfrm>
                  <a:off x="1925640" y="2585880"/>
                  <a:ext cx="570240" cy="300240"/>
                </a:xfrm>
                <a:custGeom>
                  <a:avLst/>
                  <a:gdLst/>
                  <a:ahLst/>
                  <a:rect l="0" t="0" r="r" b="b"/>
                  <a:pathLst>
                    <a:path w="1584" h="834">
                      <a:moveTo>
                        <a:pt x="1310" y="137"/>
                      </a:moveTo>
                      <a:lnTo>
                        <a:pt x="1424" y="34"/>
                      </a:lnTo>
                      <a:lnTo>
                        <a:pt x="1515" y="0"/>
                      </a:lnTo>
                      <a:lnTo>
                        <a:pt x="1572" y="11"/>
                      </a:lnTo>
                      <a:lnTo>
                        <a:pt x="1584" y="102"/>
                      </a:lnTo>
                      <a:lnTo>
                        <a:pt x="1527" y="194"/>
                      </a:lnTo>
                      <a:lnTo>
                        <a:pt x="1379" y="262"/>
                      </a:lnTo>
                      <a:lnTo>
                        <a:pt x="1117" y="376"/>
                      </a:lnTo>
                      <a:lnTo>
                        <a:pt x="832" y="549"/>
                      </a:lnTo>
                      <a:lnTo>
                        <a:pt x="558" y="628"/>
                      </a:lnTo>
                      <a:lnTo>
                        <a:pt x="387" y="697"/>
                      </a:lnTo>
                      <a:lnTo>
                        <a:pt x="261" y="800"/>
                      </a:lnTo>
                      <a:lnTo>
                        <a:pt x="170" y="834"/>
                      </a:lnTo>
                      <a:lnTo>
                        <a:pt x="22" y="800"/>
                      </a:lnTo>
                      <a:lnTo>
                        <a:pt x="0" y="686"/>
                      </a:lnTo>
                      <a:lnTo>
                        <a:pt x="0" y="549"/>
                      </a:lnTo>
                      <a:lnTo>
                        <a:pt x="125" y="549"/>
                      </a:lnTo>
                      <a:lnTo>
                        <a:pt x="227" y="628"/>
                      </a:lnTo>
                      <a:lnTo>
                        <a:pt x="341" y="628"/>
                      </a:lnTo>
                      <a:lnTo>
                        <a:pt x="569" y="571"/>
                      </a:lnTo>
                      <a:lnTo>
                        <a:pt x="785" y="457"/>
                      </a:lnTo>
                      <a:lnTo>
                        <a:pt x="934" y="399"/>
                      </a:lnTo>
                      <a:lnTo>
                        <a:pt x="1151" y="296"/>
                      </a:lnTo>
                      <a:lnTo>
                        <a:pt x="1276" y="182"/>
                      </a:lnTo>
                      <a:lnTo>
                        <a:pt x="1310" y="13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229" name=""/>
                <p:cNvGrpSpPr/>
                <p:nvPr/>
              </p:nvGrpSpPr>
              <p:grpSpPr>
                <a:xfrm>
                  <a:off x="2211480" y="2568600"/>
                  <a:ext cx="527400" cy="930600"/>
                  <a:chOff x="2211480" y="2568600"/>
                  <a:chExt cx="527400" cy="930600"/>
                </a:xfrm>
              </p:grpSpPr>
              <p:sp>
                <p:nvSpPr>
                  <p:cNvPr id="230" name=""/>
                  <p:cNvSpPr/>
                  <p:nvPr/>
                </p:nvSpPr>
                <p:spPr>
                  <a:xfrm>
                    <a:off x="2451240" y="2568600"/>
                    <a:ext cx="192600" cy="438480"/>
                  </a:xfrm>
                  <a:custGeom>
                    <a:avLst/>
                    <a:gdLst/>
                    <a:ahLst/>
                    <a:rect l="0" t="0" r="r" b="b"/>
                    <a:pathLst>
                      <a:path w="535" h="1218">
                        <a:moveTo>
                          <a:pt x="34" y="79"/>
                        </a:moveTo>
                        <a:lnTo>
                          <a:pt x="102" y="11"/>
                        </a:lnTo>
                        <a:lnTo>
                          <a:pt x="171" y="0"/>
                        </a:lnTo>
                        <a:lnTo>
                          <a:pt x="262" y="22"/>
                        </a:lnTo>
                        <a:lnTo>
                          <a:pt x="330" y="125"/>
                        </a:lnTo>
                        <a:lnTo>
                          <a:pt x="398" y="295"/>
                        </a:lnTo>
                        <a:lnTo>
                          <a:pt x="444" y="443"/>
                        </a:lnTo>
                        <a:lnTo>
                          <a:pt x="490" y="602"/>
                        </a:lnTo>
                        <a:lnTo>
                          <a:pt x="524" y="763"/>
                        </a:lnTo>
                        <a:lnTo>
                          <a:pt x="535" y="910"/>
                        </a:lnTo>
                        <a:lnTo>
                          <a:pt x="535" y="1013"/>
                        </a:lnTo>
                        <a:lnTo>
                          <a:pt x="490" y="1127"/>
                        </a:lnTo>
                        <a:lnTo>
                          <a:pt x="422" y="1183"/>
                        </a:lnTo>
                        <a:lnTo>
                          <a:pt x="296" y="1218"/>
                        </a:lnTo>
                        <a:lnTo>
                          <a:pt x="171" y="1218"/>
                        </a:lnTo>
                        <a:lnTo>
                          <a:pt x="68" y="1149"/>
                        </a:lnTo>
                        <a:lnTo>
                          <a:pt x="11" y="990"/>
                        </a:lnTo>
                        <a:lnTo>
                          <a:pt x="0" y="797"/>
                        </a:lnTo>
                        <a:lnTo>
                          <a:pt x="0" y="500"/>
                        </a:lnTo>
                        <a:lnTo>
                          <a:pt x="0" y="284"/>
                        </a:lnTo>
                        <a:lnTo>
                          <a:pt x="11" y="159"/>
                        </a:lnTo>
                        <a:lnTo>
                          <a:pt x="34" y="7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1" name=""/>
                  <p:cNvSpPr/>
                  <p:nvPr/>
                </p:nvSpPr>
                <p:spPr>
                  <a:xfrm>
                    <a:off x="2533680" y="2579760"/>
                    <a:ext cx="205200" cy="437040"/>
                  </a:xfrm>
                  <a:custGeom>
                    <a:avLst/>
                    <a:gdLst/>
                    <a:ahLst/>
                    <a:rect l="0" t="0" r="r" b="b"/>
                    <a:pathLst>
                      <a:path w="570" h="1214">
                        <a:moveTo>
                          <a:pt x="22" y="0"/>
                        </a:moveTo>
                        <a:lnTo>
                          <a:pt x="79" y="0"/>
                        </a:lnTo>
                        <a:lnTo>
                          <a:pt x="194" y="91"/>
                        </a:lnTo>
                        <a:lnTo>
                          <a:pt x="330" y="228"/>
                        </a:lnTo>
                        <a:lnTo>
                          <a:pt x="468" y="367"/>
                        </a:lnTo>
                        <a:lnTo>
                          <a:pt x="548" y="458"/>
                        </a:lnTo>
                        <a:lnTo>
                          <a:pt x="548" y="504"/>
                        </a:lnTo>
                        <a:lnTo>
                          <a:pt x="536" y="595"/>
                        </a:lnTo>
                        <a:lnTo>
                          <a:pt x="434" y="733"/>
                        </a:lnTo>
                        <a:lnTo>
                          <a:pt x="353" y="836"/>
                        </a:lnTo>
                        <a:lnTo>
                          <a:pt x="319" y="917"/>
                        </a:lnTo>
                        <a:lnTo>
                          <a:pt x="353" y="962"/>
                        </a:lnTo>
                        <a:lnTo>
                          <a:pt x="410" y="1043"/>
                        </a:lnTo>
                        <a:lnTo>
                          <a:pt x="502" y="1088"/>
                        </a:lnTo>
                        <a:lnTo>
                          <a:pt x="559" y="1100"/>
                        </a:lnTo>
                        <a:lnTo>
                          <a:pt x="570" y="1146"/>
                        </a:lnTo>
                        <a:lnTo>
                          <a:pt x="559" y="1214"/>
                        </a:lnTo>
                        <a:lnTo>
                          <a:pt x="457" y="1168"/>
                        </a:lnTo>
                        <a:lnTo>
                          <a:pt x="365" y="1088"/>
                        </a:lnTo>
                        <a:lnTo>
                          <a:pt x="308" y="985"/>
                        </a:lnTo>
                        <a:lnTo>
                          <a:pt x="296" y="893"/>
                        </a:lnTo>
                        <a:lnTo>
                          <a:pt x="296" y="847"/>
                        </a:lnTo>
                        <a:lnTo>
                          <a:pt x="353" y="756"/>
                        </a:lnTo>
                        <a:lnTo>
                          <a:pt x="410" y="687"/>
                        </a:lnTo>
                        <a:lnTo>
                          <a:pt x="457" y="607"/>
                        </a:lnTo>
                        <a:lnTo>
                          <a:pt x="479" y="538"/>
                        </a:lnTo>
                        <a:lnTo>
                          <a:pt x="445" y="492"/>
                        </a:lnTo>
                        <a:lnTo>
                          <a:pt x="376" y="401"/>
                        </a:lnTo>
                        <a:lnTo>
                          <a:pt x="285" y="332"/>
                        </a:lnTo>
                        <a:lnTo>
                          <a:pt x="194" y="251"/>
                        </a:lnTo>
                        <a:lnTo>
                          <a:pt x="91" y="183"/>
                        </a:lnTo>
                        <a:lnTo>
                          <a:pt x="0" y="137"/>
                        </a:lnTo>
                        <a:lnTo>
                          <a:pt x="2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2" name=""/>
                  <p:cNvSpPr/>
                  <p:nvPr/>
                </p:nvSpPr>
                <p:spPr>
                  <a:xfrm>
                    <a:off x="2451240" y="2898720"/>
                    <a:ext cx="192600" cy="600480"/>
                  </a:xfrm>
                  <a:custGeom>
                    <a:avLst/>
                    <a:gdLst/>
                    <a:ahLst/>
                    <a:rect l="0" t="0" r="r" b="b"/>
                    <a:pathLst>
                      <a:path w="535" h="1668">
                        <a:moveTo>
                          <a:pt x="318" y="91"/>
                        </a:moveTo>
                        <a:lnTo>
                          <a:pt x="364" y="0"/>
                        </a:lnTo>
                        <a:lnTo>
                          <a:pt x="467" y="0"/>
                        </a:lnTo>
                        <a:lnTo>
                          <a:pt x="501" y="45"/>
                        </a:lnTo>
                        <a:lnTo>
                          <a:pt x="524" y="228"/>
                        </a:lnTo>
                        <a:lnTo>
                          <a:pt x="490" y="514"/>
                        </a:lnTo>
                        <a:lnTo>
                          <a:pt x="386" y="857"/>
                        </a:lnTo>
                        <a:lnTo>
                          <a:pt x="228" y="1188"/>
                        </a:lnTo>
                        <a:lnTo>
                          <a:pt x="137" y="1337"/>
                        </a:lnTo>
                        <a:lnTo>
                          <a:pt x="148" y="1372"/>
                        </a:lnTo>
                        <a:lnTo>
                          <a:pt x="216" y="1394"/>
                        </a:lnTo>
                        <a:lnTo>
                          <a:pt x="398" y="1451"/>
                        </a:lnTo>
                        <a:lnTo>
                          <a:pt x="524" y="1531"/>
                        </a:lnTo>
                        <a:lnTo>
                          <a:pt x="535" y="1577"/>
                        </a:lnTo>
                        <a:lnTo>
                          <a:pt x="512" y="1634"/>
                        </a:lnTo>
                        <a:lnTo>
                          <a:pt x="386" y="1668"/>
                        </a:lnTo>
                        <a:lnTo>
                          <a:pt x="352" y="1623"/>
                        </a:lnTo>
                        <a:lnTo>
                          <a:pt x="352" y="1566"/>
                        </a:lnTo>
                        <a:lnTo>
                          <a:pt x="250" y="1497"/>
                        </a:lnTo>
                        <a:lnTo>
                          <a:pt x="137" y="1451"/>
                        </a:lnTo>
                        <a:lnTo>
                          <a:pt x="45" y="1440"/>
                        </a:lnTo>
                        <a:lnTo>
                          <a:pt x="0" y="1406"/>
                        </a:lnTo>
                        <a:lnTo>
                          <a:pt x="11" y="1372"/>
                        </a:lnTo>
                        <a:lnTo>
                          <a:pt x="102" y="1245"/>
                        </a:lnTo>
                        <a:lnTo>
                          <a:pt x="205" y="1074"/>
                        </a:lnTo>
                        <a:lnTo>
                          <a:pt x="307" y="880"/>
                        </a:lnTo>
                        <a:lnTo>
                          <a:pt x="341" y="708"/>
                        </a:lnTo>
                        <a:lnTo>
                          <a:pt x="375" y="503"/>
                        </a:lnTo>
                        <a:lnTo>
                          <a:pt x="364" y="331"/>
                        </a:lnTo>
                        <a:lnTo>
                          <a:pt x="352" y="171"/>
                        </a:lnTo>
                        <a:lnTo>
                          <a:pt x="318" y="9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3" name=""/>
                  <p:cNvSpPr/>
                  <p:nvPr/>
                </p:nvSpPr>
                <p:spPr>
                  <a:xfrm>
                    <a:off x="2211480" y="2949480"/>
                    <a:ext cx="330480" cy="533880"/>
                  </a:xfrm>
                  <a:custGeom>
                    <a:avLst/>
                    <a:gdLst/>
                    <a:ahLst/>
                    <a:rect l="0" t="0" r="r" b="b"/>
                    <a:pathLst>
                      <a:path w="918" h="1483">
                        <a:moveTo>
                          <a:pt x="643" y="264"/>
                        </a:moveTo>
                        <a:lnTo>
                          <a:pt x="746" y="68"/>
                        </a:lnTo>
                        <a:lnTo>
                          <a:pt x="826" y="0"/>
                        </a:lnTo>
                        <a:lnTo>
                          <a:pt x="895" y="11"/>
                        </a:lnTo>
                        <a:lnTo>
                          <a:pt x="918" y="80"/>
                        </a:lnTo>
                        <a:lnTo>
                          <a:pt x="918" y="137"/>
                        </a:lnTo>
                        <a:lnTo>
                          <a:pt x="860" y="229"/>
                        </a:lnTo>
                        <a:lnTo>
                          <a:pt x="734" y="333"/>
                        </a:lnTo>
                        <a:lnTo>
                          <a:pt x="665" y="448"/>
                        </a:lnTo>
                        <a:lnTo>
                          <a:pt x="620" y="586"/>
                        </a:lnTo>
                        <a:lnTo>
                          <a:pt x="562" y="782"/>
                        </a:lnTo>
                        <a:lnTo>
                          <a:pt x="516" y="965"/>
                        </a:lnTo>
                        <a:lnTo>
                          <a:pt x="528" y="1150"/>
                        </a:lnTo>
                        <a:lnTo>
                          <a:pt x="562" y="1242"/>
                        </a:lnTo>
                        <a:lnTo>
                          <a:pt x="562" y="1311"/>
                        </a:lnTo>
                        <a:lnTo>
                          <a:pt x="528" y="1334"/>
                        </a:lnTo>
                        <a:lnTo>
                          <a:pt x="401" y="1345"/>
                        </a:lnTo>
                        <a:lnTo>
                          <a:pt x="286" y="1391"/>
                        </a:lnTo>
                        <a:lnTo>
                          <a:pt x="149" y="1472"/>
                        </a:lnTo>
                        <a:lnTo>
                          <a:pt x="57" y="1483"/>
                        </a:lnTo>
                        <a:lnTo>
                          <a:pt x="0" y="1437"/>
                        </a:lnTo>
                        <a:lnTo>
                          <a:pt x="11" y="1403"/>
                        </a:lnTo>
                        <a:lnTo>
                          <a:pt x="149" y="1345"/>
                        </a:lnTo>
                        <a:lnTo>
                          <a:pt x="309" y="1311"/>
                        </a:lnTo>
                        <a:lnTo>
                          <a:pt x="435" y="1288"/>
                        </a:lnTo>
                        <a:lnTo>
                          <a:pt x="458" y="1253"/>
                        </a:lnTo>
                        <a:lnTo>
                          <a:pt x="447" y="1092"/>
                        </a:lnTo>
                        <a:lnTo>
                          <a:pt x="447" y="931"/>
                        </a:lnTo>
                        <a:lnTo>
                          <a:pt x="482" y="805"/>
                        </a:lnTo>
                        <a:lnTo>
                          <a:pt x="539" y="586"/>
                        </a:lnTo>
                        <a:lnTo>
                          <a:pt x="608" y="391"/>
                        </a:lnTo>
                        <a:lnTo>
                          <a:pt x="643" y="26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nvGrpSpPr>
              <p:cNvPr id="234" name=""/>
              <p:cNvGrpSpPr/>
              <p:nvPr/>
            </p:nvGrpSpPr>
            <p:grpSpPr>
              <a:xfrm>
                <a:off x="1258920" y="2214720"/>
                <a:ext cx="736920" cy="1349640"/>
                <a:chOff x="1258920" y="2214720"/>
                <a:chExt cx="736920" cy="1349640"/>
              </a:xfrm>
            </p:grpSpPr>
            <p:sp>
              <p:nvSpPr>
                <p:cNvPr id="235" name=""/>
                <p:cNvSpPr/>
                <p:nvPr/>
              </p:nvSpPr>
              <p:spPr>
                <a:xfrm>
                  <a:off x="1484280" y="2214720"/>
                  <a:ext cx="230400" cy="303480"/>
                </a:xfrm>
                <a:custGeom>
                  <a:avLst/>
                  <a:gdLst/>
                  <a:ahLst/>
                  <a:rect l="0" t="0" r="r" b="b"/>
                  <a:pathLst>
                    <a:path w="640" h="843">
                      <a:moveTo>
                        <a:pt x="537" y="513"/>
                      </a:moveTo>
                      <a:lnTo>
                        <a:pt x="583" y="330"/>
                      </a:lnTo>
                      <a:lnTo>
                        <a:pt x="560" y="170"/>
                      </a:lnTo>
                      <a:lnTo>
                        <a:pt x="480" y="34"/>
                      </a:lnTo>
                      <a:lnTo>
                        <a:pt x="319" y="0"/>
                      </a:lnTo>
                      <a:lnTo>
                        <a:pt x="171" y="68"/>
                      </a:lnTo>
                      <a:lnTo>
                        <a:pt x="34" y="352"/>
                      </a:lnTo>
                      <a:lnTo>
                        <a:pt x="0" y="615"/>
                      </a:lnTo>
                      <a:lnTo>
                        <a:pt x="57" y="820"/>
                      </a:lnTo>
                      <a:lnTo>
                        <a:pt x="205" y="843"/>
                      </a:lnTo>
                      <a:lnTo>
                        <a:pt x="377" y="752"/>
                      </a:lnTo>
                      <a:lnTo>
                        <a:pt x="446" y="638"/>
                      </a:lnTo>
                      <a:lnTo>
                        <a:pt x="583" y="729"/>
                      </a:lnTo>
                      <a:lnTo>
                        <a:pt x="640" y="706"/>
                      </a:lnTo>
                      <a:lnTo>
                        <a:pt x="480" y="581"/>
                      </a:lnTo>
                      <a:lnTo>
                        <a:pt x="537" y="5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6" name=""/>
                <p:cNvSpPr/>
                <p:nvPr/>
              </p:nvSpPr>
              <p:spPr>
                <a:xfrm>
                  <a:off x="1390680" y="2527200"/>
                  <a:ext cx="197280" cy="498960"/>
                </a:xfrm>
                <a:custGeom>
                  <a:avLst/>
                  <a:gdLst/>
                  <a:ahLst/>
                  <a:rect l="0" t="0" r="r" b="b"/>
                  <a:pathLst>
                    <a:path w="548" h="1386">
                      <a:moveTo>
                        <a:pt x="513" y="90"/>
                      </a:moveTo>
                      <a:lnTo>
                        <a:pt x="444" y="12"/>
                      </a:lnTo>
                      <a:lnTo>
                        <a:pt x="373" y="0"/>
                      </a:lnTo>
                      <a:lnTo>
                        <a:pt x="280" y="25"/>
                      </a:lnTo>
                      <a:lnTo>
                        <a:pt x="210" y="142"/>
                      </a:lnTo>
                      <a:lnTo>
                        <a:pt x="140" y="336"/>
                      </a:lnTo>
                      <a:lnTo>
                        <a:pt x="93" y="505"/>
                      </a:lnTo>
                      <a:lnTo>
                        <a:pt x="46" y="686"/>
                      </a:lnTo>
                      <a:lnTo>
                        <a:pt x="11" y="868"/>
                      </a:lnTo>
                      <a:lnTo>
                        <a:pt x="0" y="1036"/>
                      </a:lnTo>
                      <a:lnTo>
                        <a:pt x="0" y="1153"/>
                      </a:lnTo>
                      <a:lnTo>
                        <a:pt x="46" y="1283"/>
                      </a:lnTo>
                      <a:lnTo>
                        <a:pt x="116" y="1347"/>
                      </a:lnTo>
                      <a:lnTo>
                        <a:pt x="245" y="1386"/>
                      </a:lnTo>
                      <a:lnTo>
                        <a:pt x="373" y="1386"/>
                      </a:lnTo>
                      <a:lnTo>
                        <a:pt x="479" y="1309"/>
                      </a:lnTo>
                      <a:lnTo>
                        <a:pt x="537" y="1127"/>
                      </a:lnTo>
                      <a:lnTo>
                        <a:pt x="548" y="906"/>
                      </a:lnTo>
                      <a:lnTo>
                        <a:pt x="548" y="570"/>
                      </a:lnTo>
                      <a:lnTo>
                        <a:pt x="548" y="323"/>
                      </a:lnTo>
                      <a:lnTo>
                        <a:pt x="537" y="181"/>
                      </a:lnTo>
                      <a:lnTo>
                        <a:pt x="513" y="9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7" name=""/>
                <p:cNvSpPr/>
                <p:nvPr/>
              </p:nvSpPr>
              <p:spPr>
                <a:xfrm>
                  <a:off x="1571760" y="2543400"/>
                  <a:ext cx="154440" cy="471960"/>
                </a:xfrm>
                <a:custGeom>
                  <a:avLst/>
                  <a:gdLst/>
                  <a:ahLst/>
                  <a:rect l="0" t="0" r="r" b="b"/>
                  <a:pathLst>
                    <a:path w="429" h="1311">
                      <a:moveTo>
                        <a:pt x="57" y="0"/>
                      </a:moveTo>
                      <a:lnTo>
                        <a:pt x="115" y="17"/>
                      </a:lnTo>
                      <a:lnTo>
                        <a:pt x="194" y="136"/>
                      </a:lnTo>
                      <a:lnTo>
                        <a:pt x="286" y="307"/>
                      </a:lnTo>
                      <a:lnTo>
                        <a:pt x="378" y="479"/>
                      </a:lnTo>
                      <a:lnTo>
                        <a:pt x="429" y="587"/>
                      </a:lnTo>
                      <a:lnTo>
                        <a:pt x="412" y="633"/>
                      </a:lnTo>
                      <a:lnTo>
                        <a:pt x="378" y="718"/>
                      </a:lnTo>
                      <a:lnTo>
                        <a:pt x="240" y="820"/>
                      </a:lnTo>
                      <a:lnTo>
                        <a:pt x="132" y="889"/>
                      </a:lnTo>
                      <a:lnTo>
                        <a:pt x="79" y="957"/>
                      </a:lnTo>
                      <a:lnTo>
                        <a:pt x="96" y="1015"/>
                      </a:lnTo>
                      <a:lnTo>
                        <a:pt x="126" y="1106"/>
                      </a:lnTo>
                      <a:lnTo>
                        <a:pt x="200" y="1175"/>
                      </a:lnTo>
                      <a:lnTo>
                        <a:pt x="251" y="1203"/>
                      </a:lnTo>
                      <a:lnTo>
                        <a:pt x="246" y="1249"/>
                      </a:lnTo>
                      <a:lnTo>
                        <a:pt x="217" y="1311"/>
                      </a:lnTo>
                      <a:lnTo>
                        <a:pt x="137" y="1243"/>
                      </a:lnTo>
                      <a:lnTo>
                        <a:pt x="68" y="1135"/>
                      </a:lnTo>
                      <a:lnTo>
                        <a:pt x="45" y="1021"/>
                      </a:lnTo>
                      <a:lnTo>
                        <a:pt x="57" y="929"/>
                      </a:lnTo>
                      <a:lnTo>
                        <a:pt x="74" y="883"/>
                      </a:lnTo>
                      <a:lnTo>
                        <a:pt x="154" y="820"/>
                      </a:lnTo>
                      <a:lnTo>
                        <a:pt x="229" y="769"/>
                      </a:lnTo>
                      <a:lnTo>
                        <a:pt x="291" y="701"/>
                      </a:lnTo>
                      <a:lnTo>
                        <a:pt x="338" y="644"/>
                      </a:lnTo>
                      <a:lnTo>
                        <a:pt x="320" y="593"/>
                      </a:lnTo>
                      <a:lnTo>
                        <a:pt x="280" y="485"/>
                      </a:lnTo>
                      <a:lnTo>
                        <a:pt x="217" y="393"/>
                      </a:lnTo>
                      <a:lnTo>
                        <a:pt x="149" y="290"/>
                      </a:lnTo>
                      <a:lnTo>
                        <a:pt x="68" y="199"/>
                      </a:lnTo>
                      <a:lnTo>
                        <a:pt x="0" y="125"/>
                      </a:lnTo>
                      <a:lnTo>
                        <a:pt x="5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8" name=""/>
                <p:cNvSpPr/>
                <p:nvPr/>
              </p:nvSpPr>
              <p:spPr>
                <a:xfrm>
                  <a:off x="1258920" y="2970360"/>
                  <a:ext cx="201960" cy="594000"/>
                </a:xfrm>
                <a:custGeom>
                  <a:avLst/>
                  <a:gdLst/>
                  <a:ahLst/>
                  <a:rect l="0" t="0" r="r" b="b"/>
                  <a:pathLst>
                    <a:path w="561" h="1650">
                      <a:moveTo>
                        <a:pt x="543" y="120"/>
                      </a:moveTo>
                      <a:lnTo>
                        <a:pt x="521" y="22"/>
                      </a:lnTo>
                      <a:lnTo>
                        <a:pt x="423" y="0"/>
                      </a:lnTo>
                      <a:lnTo>
                        <a:pt x="378" y="34"/>
                      </a:lnTo>
                      <a:lnTo>
                        <a:pt x="315" y="211"/>
                      </a:lnTo>
                      <a:lnTo>
                        <a:pt x="286" y="498"/>
                      </a:lnTo>
                      <a:lnTo>
                        <a:pt x="309" y="854"/>
                      </a:lnTo>
                      <a:lnTo>
                        <a:pt x="389" y="1215"/>
                      </a:lnTo>
                      <a:lnTo>
                        <a:pt x="446" y="1381"/>
                      </a:lnTo>
                      <a:lnTo>
                        <a:pt x="423" y="1409"/>
                      </a:lnTo>
                      <a:lnTo>
                        <a:pt x="355" y="1421"/>
                      </a:lnTo>
                      <a:lnTo>
                        <a:pt x="160" y="1432"/>
                      </a:lnTo>
                      <a:lnTo>
                        <a:pt x="22" y="1484"/>
                      </a:lnTo>
                      <a:lnTo>
                        <a:pt x="0" y="1524"/>
                      </a:lnTo>
                      <a:lnTo>
                        <a:pt x="11" y="1587"/>
                      </a:lnTo>
                      <a:lnTo>
                        <a:pt x="125" y="1650"/>
                      </a:lnTo>
                      <a:lnTo>
                        <a:pt x="165" y="1610"/>
                      </a:lnTo>
                      <a:lnTo>
                        <a:pt x="182" y="1552"/>
                      </a:lnTo>
                      <a:lnTo>
                        <a:pt x="298" y="1512"/>
                      </a:lnTo>
                      <a:lnTo>
                        <a:pt x="418" y="1489"/>
                      </a:lnTo>
                      <a:lnTo>
                        <a:pt x="509" y="1501"/>
                      </a:lnTo>
                      <a:lnTo>
                        <a:pt x="561" y="1478"/>
                      </a:lnTo>
                      <a:lnTo>
                        <a:pt x="561" y="1444"/>
                      </a:lnTo>
                      <a:lnTo>
                        <a:pt x="498" y="1300"/>
                      </a:lnTo>
                      <a:lnTo>
                        <a:pt x="435" y="1106"/>
                      </a:lnTo>
                      <a:lnTo>
                        <a:pt x="378" y="894"/>
                      </a:lnTo>
                      <a:lnTo>
                        <a:pt x="383" y="721"/>
                      </a:lnTo>
                      <a:lnTo>
                        <a:pt x="401" y="509"/>
                      </a:lnTo>
                      <a:lnTo>
                        <a:pt x="446" y="343"/>
                      </a:lnTo>
                      <a:lnTo>
                        <a:pt x="492" y="194"/>
                      </a:lnTo>
                      <a:lnTo>
                        <a:pt x="543" y="12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9" name=""/>
                <p:cNvSpPr/>
                <p:nvPr/>
              </p:nvSpPr>
              <p:spPr>
                <a:xfrm>
                  <a:off x="1494000" y="2978280"/>
                  <a:ext cx="224280" cy="576720"/>
                </a:xfrm>
                <a:custGeom>
                  <a:avLst/>
                  <a:gdLst/>
                  <a:ahLst/>
                  <a:rect l="0" t="0" r="r" b="b"/>
                  <a:pathLst>
                    <a:path w="623" h="1602">
                      <a:moveTo>
                        <a:pt x="240" y="296"/>
                      </a:moveTo>
                      <a:lnTo>
                        <a:pt x="177" y="85"/>
                      </a:lnTo>
                      <a:lnTo>
                        <a:pt x="114" y="5"/>
                      </a:lnTo>
                      <a:lnTo>
                        <a:pt x="45" y="0"/>
                      </a:lnTo>
                      <a:lnTo>
                        <a:pt x="11" y="62"/>
                      </a:lnTo>
                      <a:lnTo>
                        <a:pt x="0" y="119"/>
                      </a:lnTo>
                      <a:lnTo>
                        <a:pt x="34" y="216"/>
                      </a:lnTo>
                      <a:lnTo>
                        <a:pt x="136" y="347"/>
                      </a:lnTo>
                      <a:lnTo>
                        <a:pt x="177" y="473"/>
                      </a:lnTo>
                      <a:lnTo>
                        <a:pt x="194" y="616"/>
                      </a:lnTo>
                      <a:lnTo>
                        <a:pt x="212" y="815"/>
                      </a:lnTo>
                      <a:lnTo>
                        <a:pt x="217" y="1003"/>
                      </a:lnTo>
                      <a:lnTo>
                        <a:pt x="172" y="1180"/>
                      </a:lnTo>
                      <a:lnTo>
                        <a:pt x="114" y="1260"/>
                      </a:lnTo>
                      <a:lnTo>
                        <a:pt x="102" y="1329"/>
                      </a:lnTo>
                      <a:lnTo>
                        <a:pt x="131" y="1357"/>
                      </a:lnTo>
                      <a:lnTo>
                        <a:pt x="251" y="1397"/>
                      </a:lnTo>
                      <a:lnTo>
                        <a:pt x="354" y="1466"/>
                      </a:lnTo>
                      <a:lnTo>
                        <a:pt x="469" y="1568"/>
                      </a:lnTo>
                      <a:lnTo>
                        <a:pt x="561" y="1602"/>
                      </a:lnTo>
                      <a:lnTo>
                        <a:pt x="623" y="1568"/>
                      </a:lnTo>
                      <a:lnTo>
                        <a:pt x="618" y="1534"/>
                      </a:lnTo>
                      <a:lnTo>
                        <a:pt x="498" y="1448"/>
                      </a:lnTo>
                      <a:lnTo>
                        <a:pt x="348" y="1380"/>
                      </a:lnTo>
                      <a:lnTo>
                        <a:pt x="229" y="1334"/>
                      </a:lnTo>
                      <a:lnTo>
                        <a:pt x="212" y="1295"/>
                      </a:lnTo>
                      <a:lnTo>
                        <a:pt x="257" y="1140"/>
                      </a:lnTo>
                      <a:lnTo>
                        <a:pt x="291" y="986"/>
                      </a:lnTo>
                      <a:lnTo>
                        <a:pt x="286" y="855"/>
                      </a:lnTo>
                      <a:lnTo>
                        <a:pt x="274" y="633"/>
                      </a:lnTo>
                      <a:lnTo>
                        <a:pt x="246" y="428"/>
                      </a:lnTo>
                      <a:lnTo>
                        <a:pt x="240" y="29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0" name=""/>
                <p:cNvSpPr/>
                <p:nvPr/>
              </p:nvSpPr>
              <p:spPr>
                <a:xfrm>
                  <a:off x="1447920" y="2538360"/>
                  <a:ext cx="547920" cy="357480"/>
                </a:xfrm>
                <a:custGeom>
                  <a:avLst/>
                  <a:gdLst/>
                  <a:ahLst/>
                  <a:rect l="0" t="0" r="r" b="b"/>
                  <a:pathLst>
                    <a:path w="1522" h="993">
                      <a:moveTo>
                        <a:pt x="268" y="159"/>
                      </a:moveTo>
                      <a:lnTo>
                        <a:pt x="165" y="45"/>
                      </a:lnTo>
                      <a:lnTo>
                        <a:pt x="80" y="0"/>
                      </a:lnTo>
                      <a:lnTo>
                        <a:pt x="22" y="5"/>
                      </a:lnTo>
                      <a:lnTo>
                        <a:pt x="0" y="91"/>
                      </a:lnTo>
                      <a:lnTo>
                        <a:pt x="45" y="193"/>
                      </a:lnTo>
                      <a:lnTo>
                        <a:pt x="183" y="279"/>
                      </a:lnTo>
                      <a:lnTo>
                        <a:pt x="428" y="421"/>
                      </a:lnTo>
                      <a:lnTo>
                        <a:pt x="692" y="628"/>
                      </a:lnTo>
                      <a:lnTo>
                        <a:pt x="956" y="742"/>
                      </a:lnTo>
                      <a:lnTo>
                        <a:pt x="1116" y="827"/>
                      </a:lnTo>
                      <a:lnTo>
                        <a:pt x="1230" y="947"/>
                      </a:lnTo>
                      <a:lnTo>
                        <a:pt x="1316" y="993"/>
                      </a:lnTo>
                      <a:lnTo>
                        <a:pt x="1470" y="976"/>
                      </a:lnTo>
                      <a:lnTo>
                        <a:pt x="1505" y="867"/>
                      </a:lnTo>
                      <a:lnTo>
                        <a:pt x="1522" y="730"/>
                      </a:lnTo>
                      <a:lnTo>
                        <a:pt x="1396" y="713"/>
                      </a:lnTo>
                      <a:lnTo>
                        <a:pt x="1287" y="782"/>
                      </a:lnTo>
                      <a:lnTo>
                        <a:pt x="1173" y="765"/>
                      </a:lnTo>
                      <a:lnTo>
                        <a:pt x="950" y="685"/>
                      </a:lnTo>
                      <a:lnTo>
                        <a:pt x="749" y="542"/>
                      </a:lnTo>
                      <a:lnTo>
                        <a:pt x="611" y="467"/>
                      </a:lnTo>
                      <a:lnTo>
                        <a:pt x="406" y="336"/>
                      </a:lnTo>
                      <a:lnTo>
                        <a:pt x="297" y="210"/>
                      </a:lnTo>
                      <a:lnTo>
                        <a:pt x="268" y="15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nvGrpSpPr>
          <p:cNvPr id="241" name=""/>
          <p:cNvGrpSpPr/>
          <p:nvPr/>
        </p:nvGrpSpPr>
        <p:grpSpPr>
          <a:xfrm>
            <a:off x="3321000" y="1878120"/>
            <a:ext cx="2523960" cy="2436480"/>
            <a:chOff x="3321000" y="1878120"/>
            <a:chExt cx="2523960" cy="2436480"/>
          </a:xfrm>
        </p:grpSpPr>
        <p:sp>
          <p:nvSpPr>
            <p:cNvPr id="242" name=""/>
            <p:cNvSpPr txBox="1"/>
            <p:nvPr/>
          </p:nvSpPr>
          <p:spPr>
            <a:xfrm>
              <a:off x="3321000" y="3763800"/>
              <a:ext cx="2523960" cy="550800"/>
            </a:xfrm>
            <a:prstGeom prst="rect">
              <a:avLst/>
            </a:prstGeom>
            <a:solidFill>
              <a:srgbClr val="ffffff"/>
            </a:solidFill>
            <a:ln w="0">
              <a:noFill/>
            </a:ln>
          </p:spPr>
          <p:txBody>
            <a:bodyPr lIns="0" rIns="0" tIns="0" bIns="0" anchor="t">
              <a:noAutofit/>
            </a:bodyPr>
            <a:p>
              <a:pPr algn="ctr">
                <a:lnSpc>
                  <a:spcPct val="145000"/>
                </a:lnSpc>
                <a:spcBef>
                  <a:spcPts val="961"/>
                </a:spcBef>
              </a:pPr>
              <a:r>
                <a:rPr b="1" lang="en-US" sz="1800" spc="-1" strike="noStrike">
                  <a:solidFill>
                    <a:srgbClr val="666633"/>
                  </a:solidFill>
                  <a:latin typeface="Arial Narrow"/>
                  <a:ea typeface="Arial Narrow"/>
                </a:rPr>
                <a:t>PROJECT MANAGEMENT</a:t>
              </a:r>
              <a:endParaRPr b="0" lang="en-US" sz="1800" spc="-1" strike="noStrike">
                <a:solidFill>
                  <a:srgbClr val="000000"/>
                </a:solidFill>
                <a:latin typeface="Arial"/>
              </a:endParaRPr>
            </a:p>
          </p:txBody>
        </p:sp>
        <p:grpSp>
          <p:nvGrpSpPr>
            <p:cNvPr id="243" name=""/>
            <p:cNvGrpSpPr/>
            <p:nvPr/>
          </p:nvGrpSpPr>
          <p:grpSpPr>
            <a:xfrm>
              <a:off x="3884760" y="1878120"/>
              <a:ext cx="1171800" cy="1700280"/>
              <a:chOff x="3884760" y="1878120"/>
              <a:chExt cx="1171800" cy="1700280"/>
            </a:xfrm>
          </p:grpSpPr>
          <p:grpSp>
            <p:nvGrpSpPr>
              <p:cNvPr id="244" name=""/>
              <p:cNvGrpSpPr/>
              <p:nvPr/>
            </p:nvGrpSpPr>
            <p:grpSpPr>
              <a:xfrm>
                <a:off x="4133880" y="2327400"/>
                <a:ext cx="922680" cy="1251000"/>
                <a:chOff x="4133880" y="2327400"/>
                <a:chExt cx="922680" cy="1251000"/>
              </a:xfrm>
            </p:grpSpPr>
            <p:sp>
              <p:nvSpPr>
                <p:cNvPr id="245" name=""/>
                <p:cNvSpPr/>
                <p:nvPr/>
              </p:nvSpPr>
              <p:spPr>
                <a:xfrm>
                  <a:off x="4538520" y="2743200"/>
                  <a:ext cx="214560" cy="443160"/>
                </a:xfrm>
                <a:custGeom>
                  <a:avLst/>
                  <a:gdLst/>
                  <a:ahLst/>
                  <a:rect l="0" t="0" r="r" b="b"/>
                  <a:pathLst>
                    <a:path w="596" h="1231">
                      <a:moveTo>
                        <a:pt x="140" y="98"/>
                      </a:moveTo>
                      <a:lnTo>
                        <a:pt x="204" y="27"/>
                      </a:lnTo>
                      <a:lnTo>
                        <a:pt x="327" y="0"/>
                      </a:lnTo>
                      <a:lnTo>
                        <a:pt x="432" y="27"/>
                      </a:lnTo>
                      <a:lnTo>
                        <a:pt x="491" y="65"/>
                      </a:lnTo>
                      <a:lnTo>
                        <a:pt x="537" y="147"/>
                      </a:lnTo>
                      <a:lnTo>
                        <a:pt x="578" y="289"/>
                      </a:lnTo>
                      <a:lnTo>
                        <a:pt x="596" y="442"/>
                      </a:lnTo>
                      <a:lnTo>
                        <a:pt x="596" y="722"/>
                      </a:lnTo>
                      <a:lnTo>
                        <a:pt x="537" y="963"/>
                      </a:lnTo>
                      <a:lnTo>
                        <a:pt x="450" y="1100"/>
                      </a:lnTo>
                      <a:lnTo>
                        <a:pt x="362" y="1176"/>
                      </a:lnTo>
                      <a:lnTo>
                        <a:pt x="262" y="1231"/>
                      </a:lnTo>
                      <a:lnTo>
                        <a:pt x="122" y="1225"/>
                      </a:lnTo>
                      <a:lnTo>
                        <a:pt x="11" y="1143"/>
                      </a:lnTo>
                      <a:lnTo>
                        <a:pt x="0" y="1045"/>
                      </a:lnTo>
                      <a:lnTo>
                        <a:pt x="52" y="897"/>
                      </a:lnTo>
                      <a:lnTo>
                        <a:pt x="99" y="733"/>
                      </a:lnTo>
                      <a:lnTo>
                        <a:pt x="116" y="519"/>
                      </a:lnTo>
                      <a:lnTo>
                        <a:pt x="87" y="339"/>
                      </a:lnTo>
                      <a:lnTo>
                        <a:pt x="87" y="207"/>
                      </a:lnTo>
                      <a:lnTo>
                        <a:pt x="140" y="9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6" name=""/>
                <p:cNvSpPr/>
                <p:nvPr/>
              </p:nvSpPr>
              <p:spPr>
                <a:xfrm>
                  <a:off x="4621320" y="3135240"/>
                  <a:ext cx="244800" cy="435240"/>
                </a:xfrm>
                <a:custGeom>
                  <a:avLst/>
                  <a:gdLst/>
                  <a:ahLst/>
                  <a:rect l="0" t="0" r="r" b="b"/>
                  <a:pathLst>
                    <a:path w="680" h="1209">
                      <a:moveTo>
                        <a:pt x="226" y="48"/>
                      </a:moveTo>
                      <a:lnTo>
                        <a:pt x="145" y="0"/>
                      </a:lnTo>
                      <a:lnTo>
                        <a:pt x="40" y="0"/>
                      </a:lnTo>
                      <a:lnTo>
                        <a:pt x="0" y="65"/>
                      </a:lnTo>
                      <a:lnTo>
                        <a:pt x="17" y="162"/>
                      </a:lnTo>
                      <a:lnTo>
                        <a:pt x="110" y="260"/>
                      </a:lnTo>
                      <a:lnTo>
                        <a:pt x="301" y="346"/>
                      </a:lnTo>
                      <a:lnTo>
                        <a:pt x="523" y="536"/>
                      </a:lnTo>
                      <a:lnTo>
                        <a:pt x="558" y="618"/>
                      </a:lnTo>
                      <a:lnTo>
                        <a:pt x="540" y="656"/>
                      </a:lnTo>
                      <a:lnTo>
                        <a:pt x="372" y="781"/>
                      </a:lnTo>
                      <a:lnTo>
                        <a:pt x="174" y="927"/>
                      </a:lnTo>
                      <a:lnTo>
                        <a:pt x="127" y="992"/>
                      </a:lnTo>
                      <a:lnTo>
                        <a:pt x="127" y="1057"/>
                      </a:lnTo>
                      <a:lnTo>
                        <a:pt x="278" y="1127"/>
                      </a:lnTo>
                      <a:lnTo>
                        <a:pt x="511" y="1209"/>
                      </a:lnTo>
                      <a:lnTo>
                        <a:pt x="593" y="1209"/>
                      </a:lnTo>
                      <a:lnTo>
                        <a:pt x="680" y="1155"/>
                      </a:lnTo>
                      <a:lnTo>
                        <a:pt x="680" y="1111"/>
                      </a:lnTo>
                      <a:lnTo>
                        <a:pt x="616" y="1090"/>
                      </a:lnTo>
                      <a:lnTo>
                        <a:pt x="319" y="1057"/>
                      </a:lnTo>
                      <a:lnTo>
                        <a:pt x="208" y="1030"/>
                      </a:lnTo>
                      <a:lnTo>
                        <a:pt x="197" y="981"/>
                      </a:lnTo>
                      <a:lnTo>
                        <a:pt x="389" y="846"/>
                      </a:lnTo>
                      <a:lnTo>
                        <a:pt x="598" y="716"/>
                      </a:lnTo>
                      <a:lnTo>
                        <a:pt x="645" y="667"/>
                      </a:lnTo>
                      <a:lnTo>
                        <a:pt x="662" y="601"/>
                      </a:lnTo>
                      <a:lnTo>
                        <a:pt x="645" y="509"/>
                      </a:lnTo>
                      <a:lnTo>
                        <a:pt x="581" y="438"/>
                      </a:lnTo>
                      <a:lnTo>
                        <a:pt x="372" y="200"/>
                      </a:lnTo>
                      <a:lnTo>
                        <a:pt x="226" y="4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7" name=""/>
                <p:cNvSpPr/>
                <p:nvPr/>
              </p:nvSpPr>
              <p:spPr>
                <a:xfrm>
                  <a:off x="4295880" y="3112920"/>
                  <a:ext cx="306720" cy="465480"/>
                </a:xfrm>
                <a:custGeom>
                  <a:avLst/>
                  <a:gdLst/>
                  <a:ahLst/>
                  <a:rect l="0" t="0" r="r" b="b"/>
                  <a:pathLst>
                    <a:path w="852" h="1293">
                      <a:moveTo>
                        <a:pt x="464" y="174"/>
                      </a:moveTo>
                      <a:lnTo>
                        <a:pt x="599" y="65"/>
                      </a:lnTo>
                      <a:lnTo>
                        <a:pt x="728" y="0"/>
                      </a:lnTo>
                      <a:lnTo>
                        <a:pt x="810" y="10"/>
                      </a:lnTo>
                      <a:lnTo>
                        <a:pt x="852" y="65"/>
                      </a:lnTo>
                      <a:lnTo>
                        <a:pt x="852" y="125"/>
                      </a:lnTo>
                      <a:lnTo>
                        <a:pt x="828" y="190"/>
                      </a:lnTo>
                      <a:lnTo>
                        <a:pt x="740" y="228"/>
                      </a:lnTo>
                      <a:lnTo>
                        <a:pt x="564" y="321"/>
                      </a:lnTo>
                      <a:lnTo>
                        <a:pt x="458" y="436"/>
                      </a:lnTo>
                      <a:lnTo>
                        <a:pt x="387" y="572"/>
                      </a:lnTo>
                      <a:lnTo>
                        <a:pt x="369" y="655"/>
                      </a:lnTo>
                      <a:lnTo>
                        <a:pt x="464" y="753"/>
                      </a:lnTo>
                      <a:lnTo>
                        <a:pt x="564" y="895"/>
                      </a:lnTo>
                      <a:lnTo>
                        <a:pt x="634" y="1025"/>
                      </a:lnTo>
                      <a:lnTo>
                        <a:pt x="652" y="1107"/>
                      </a:lnTo>
                      <a:lnTo>
                        <a:pt x="652" y="1156"/>
                      </a:lnTo>
                      <a:lnTo>
                        <a:pt x="605" y="1189"/>
                      </a:lnTo>
                      <a:lnTo>
                        <a:pt x="458" y="1194"/>
                      </a:lnTo>
                      <a:lnTo>
                        <a:pt x="234" y="1243"/>
                      </a:lnTo>
                      <a:lnTo>
                        <a:pt x="193" y="1287"/>
                      </a:lnTo>
                      <a:lnTo>
                        <a:pt x="158" y="1293"/>
                      </a:lnTo>
                      <a:lnTo>
                        <a:pt x="0" y="1243"/>
                      </a:lnTo>
                      <a:lnTo>
                        <a:pt x="0" y="1194"/>
                      </a:lnTo>
                      <a:lnTo>
                        <a:pt x="70" y="1156"/>
                      </a:lnTo>
                      <a:lnTo>
                        <a:pt x="352" y="1107"/>
                      </a:lnTo>
                      <a:lnTo>
                        <a:pt x="499" y="1124"/>
                      </a:lnTo>
                      <a:lnTo>
                        <a:pt x="570" y="1124"/>
                      </a:lnTo>
                      <a:lnTo>
                        <a:pt x="587" y="1096"/>
                      </a:lnTo>
                      <a:lnTo>
                        <a:pt x="529" y="976"/>
                      </a:lnTo>
                      <a:lnTo>
                        <a:pt x="404" y="818"/>
                      </a:lnTo>
                      <a:lnTo>
                        <a:pt x="316" y="704"/>
                      </a:lnTo>
                      <a:lnTo>
                        <a:pt x="281" y="637"/>
                      </a:lnTo>
                      <a:lnTo>
                        <a:pt x="281" y="539"/>
                      </a:lnTo>
                      <a:lnTo>
                        <a:pt x="340" y="376"/>
                      </a:lnTo>
                      <a:lnTo>
                        <a:pt x="393" y="272"/>
                      </a:lnTo>
                      <a:lnTo>
                        <a:pt x="464" y="17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8" name=""/>
                <p:cNvSpPr/>
                <p:nvPr/>
              </p:nvSpPr>
              <p:spPr>
                <a:xfrm>
                  <a:off x="4133880" y="2746440"/>
                  <a:ext cx="413280" cy="343440"/>
                </a:xfrm>
                <a:custGeom>
                  <a:avLst/>
                  <a:gdLst/>
                  <a:ahLst/>
                  <a:rect l="0" t="0" r="r" b="b"/>
                  <a:pathLst>
                    <a:path w="1148" h="954">
                      <a:moveTo>
                        <a:pt x="688" y="954"/>
                      </a:moveTo>
                      <a:lnTo>
                        <a:pt x="760" y="946"/>
                      </a:lnTo>
                      <a:lnTo>
                        <a:pt x="781" y="892"/>
                      </a:lnTo>
                      <a:lnTo>
                        <a:pt x="800" y="699"/>
                      </a:lnTo>
                      <a:lnTo>
                        <a:pt x="908" y="473"/>
                      </a:lnTo>
                      <a:lnTo>
                        <a:pt x="1018" y="370"/>
                      </a:lnTo>
                      <a:lnTo>
                        <a:pt x="1148" y="262"/>
                      </a:lnTo>
                      <a:lnTo>
                        <a:pt x="1136" y="186"/>
                      </a:lnTo>
                      <a:lnTo>
                        <a:pt x="1059" y="146"/>
                      </a:lnTo>
                      <a:lnTo>
                        <a:pt x="962" y="186"/>
                      </a:lnTo>
                      <a:lnTo>
                        <a:pt x="855" y="296"/>
                      </a:lnTo>
                      <a:lnTo>
                        <a:pt x="756" y="534"/>
                      </a:lnTo>
                      <a:lnTo>
                        <a:pt x="713" y="720"/>
                      </a:lnTo>
                      <a:lnTo>
                        <a:pt x="684" y="817"/>
                      </a:lnTo>
                      <a:lnTo>
                        <a:pt x="603" y="781"/>
                      </a:lnTo>
                      <a:lnTo>
                        <a:pt x="512" y="622"/>
                      </a:lnTo>
                      <a:lnTo>
                        <a:pt x="436" y="401"/>
                      </a:lnTo>
                      <a:lnTo>
                        <a:pt x="450" y="302"/>
                      </a:lnTo>
                      <a:lnTo>
                        <a:pt x="492" y="196"/>
                      </a:lnTo>
                      <a:lnTo>
                        <a:pt x="510" y="119"/>
                      </a:lnTo>
                      <a:lnTo>
                        <a:pt x="324" y="115"/>
                      </a:lnTo>
                      <a:lnTo>
                        <a:pt x="137" y="83"/>
                      </a:lnTo>
                      <a:lnTo>
                        <a:pt x="50" y="0"/>
                      </a:lnTo>
                      <a:lnTo>
                        <a:pt x="0" y="39"/>
                      </a:lnTo>
                      <a:lnTo>
                        <a:pt x="67" y="182"/>
                      </a:lnTo>
                      <a:lnTo>
                        <a:pt x="216" y="198"/>
                      </a:lnTo>
                      <a:lnTo>
                        <a:pt x="378" y="214"/>
                      </a:lnTo>
                      <a:lnTo>
                        <a:pt x="382" y="340"/>
                      </a:lnTo>
                      <a:lnTo>
                        <a:pt x="398" y="485"/>
                      </a:lnTo>
                      <a:lnTo>
                        <a:pt x="452" y="647"/>
                      </a:lnTo>
                      <a:lnTo>
                        <a:pt x="520" y="809"/>
                      </a:lnTo>
                      <a:lnTo>
                        <a:pt x="622" y="916"/>
                      </a:lnTo>
                      <a:lnTo>
                        <a:pt x="688" y="95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49" name=""/>
                <p:cNvSpPr/>
                <p:nvPr/>
              </p:nvSpPr>
              <p:spPr>
                <a:xfrm>
                  <a:off x="4753080" y="2327400"/>
                  <a:ext cx="303480" cy="468720"/>
                </a:xfrm>
                <a:custGeom>
                  <a:avLst/>
                  <a:gdLst/>
                  <a:ahLst/>
                  <a:rect l="0" t="0" r="r" b="b"/>
                  <a:pathLst>
                    <a:path w="843" h="1302">
                      <a:moveTo>
                        <a:pt x="0" y="1291"/>
                      </a:moveTo>
                      <a:lnTo>
                        <a:pt x="0" y="1204"/>
                      </a:lnTo>
                      <a:lnTo>
                        <a:pt x="52" y="1139"/>
                      </a:lnTo>
                      <a:lnTo>
                        <a:pt x="280" y="1063"/>
                      </a:lnTo>
                      <a:lnTo>
                        <a:pt x="562" y="998"/>
                      </a:lnTo>
                      <a:lnTo>
                        <a:pt x="726" y="958"/>
                      </a:lnTo>
                      <a:lnTo>
                        <a:pt x="743" y="926"/>
                      </a:lnTo>
                      <a:lnTo>
                        <a:pt x="667" y="828"/>
                      </a:lnTo>
                      <a:lnTo>
                        <a:pt x="515" y="686"/>
                      </a:lnTo>
                      <a:lnTo>
                        <a:pt x="356" y="567"/>
                      </a:lnTo>
                      <a:lnTo>
                        <a:pt x="233" y="501"/>
                      </a:lnTo>
                      <a:lnTo>
                        <a:pt x="163" y="436"/>
                      </a:lnTo>
                      <a:lnTo>
                        <a:pt x="157" y="387"/>
                      </a:lnTo>
                      <a:lnTo>
                        <a:pt x="198" y="343"/>
                      </a:lnTo>
                      <a:lnTo>
                        <a:pt x="298" y="321"/>
                      </a:lnTo>
                      <a:lnTo>
                        <a:pt x="421" y="239"/>
                      </a:lnTo>
                      <a:lnTo>
                        <a:pt x="439" y="157"/>
                      </a:lnTo>
                      <a:lnTo>
                        <a:pt x="439" y="43"/>
                      </a:lnTo>
                      <a:lnTo>
                        <a:pt x="427" y="0"/>
                      </a:lnTo>
                      <a:lnTo>
                        <a:pt x="474" y="10"/>
                      </a:lnTo>
                      <a:lnTo>
                        <a:pt x="539" y="108"/>
                      </a:lnTo>
                      <a:lnTo>
                        <a:pt x="562" y="212"/>
                      </a:lnTo>
                      <a:lnTo>
                        <a:pt x="492" y="288"/>
                      </a:lnTo>
                      <a:lnTo>
                        <a:pt x="427" y="310"/>
                      </a:lnTo>
                      <a:lnTo>
                        <a:pt x="304" y="371"/>
                      </a:lnTo>
                      <a:lnTo>
                        <a:pt x="280" y="403"/>
                      </a:lnTo>
                      <a:lnTo>
                        <a:pt x="298" y="436"/>
                      </a:lnTo>
                      <a:lnTo>
                        <a:pt x="409" y="523"/>
                      </a:lnTo>
                      <a:lnTo>
                        <a:pt x="527" y="572"/>
                      </a:lnTo>
                      <a:lnTo>
                        <a:pt x="685" y="697"/>
                      </a:lnTo>
                      <a:lnTo>
                        <a:pt x="790" y="844"/>
                      </a:lnTo>
                      <a:lnTo>
                        <a:pt x="843" y="958"/>
                      </a:lnTo>
                      <a:lnTo>
                        <a:pt x="825" y="998"/>
                      </a:lnTo>
                      <a:lnTo>
                        <a:pt x="790" y="1025"/>
                      </a:lnTo>
                      <a:lnTo>
                        <a:pt x="656" y="1074"/>
                      </a:lnTo>
                      <a:lnTo>
                        <a:pt x="386" y="1155"/>
                      </a:lnTo>
                      <a:lnTo>
                        <a:pt x="216" y="1226"/>
                      </a:lnTo>
                      <a:lnTo>
                        <a:pt x="105" y="1286"/>
                      </a:lnTo>
                      <a:lnTo>
                        <a:pt x="35" y="1302"/>
                      </a:lnTo>
                      <a:lnTo>
                        <a:pt x="0" y="129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0" name=""/>
                <p:cNvSpPr/>
                <p:nvPr/>
              </p:nvSpPr>
              <p:spPr>
                <a:xfrm>
                  <a:off x="4452840" y="2398680"/>
                  <a:ext cx="238320" cy="330480"/>
                </a:xfrm>
                <a:custGeom>
                  <a:avLst/>
                  <a:gdLst/>
                  <a:ahLst/>
                  <a:rect l="0" t="0" r="r" b="b"/>
                  <a:pathLst>
                    <a:path w="662" h="918">
                      <a:moveTo>
                        <a:pt x="134" y="745"/>
                      </a:moveTo>
                      <a:lnTo>
                        <a:pt x="211" y="826"/>
                      </a:lnTo>
                      <a:lnTo>
                        <a:pt x="335" y="901"/>
                      </a:lnTo>
                      <a:lnTo>
                        <a:pt x="439" y="918"/>
                      </a:lnTo>
                      <a:lnTo>
                        <a:pt x="521" y="901"/>
                      </a:lnTo>
                      <a:lnTo>
                        <a:pt x="615" y="837"/>
                      </a:lnTo>
                      <a:lnTo>
                        <a:pt x="650" y="706"/>
                      </a:lnTo>
                      <a:lnTo>
                        <a:pt x="662" y="610"/>
                      </a:lnTo>
                      <a:lnTo>
                        <a:pt x="632" y="518"/>
                      </a:lnTo>
                      <a:lnTo>
                        <a:pt x="579" y="404"/>
                      </a:lnTo>
                      <a:lnTo>
                        <a:pt x="527" y="306"/>
                      </a:lnTo>
                      <a:lnTo>
                        <a:pt x="521" y="284"/>
                      </a:lnTo>
                      <a:lnTo>
                        <a:pt x="544" y="171"/>
                      </a:lnTo>
                      <a:lnTo>
                        <a:pt x="615" y="58"/>
                      </a:lnTo>
                      <a:lnTo>
                        <a:pt x="627" y="26"/>
                      </a:lnTo>
                      <a:lnTo>
                        <a:pt x="590" y="0"/>
                      </a:lnTo>
                      <a:lnTo>
                        <a:pt x="544" y="0"/>
                      </a:lnTo>
                      <a:lnTo>
                        <a:pt x="492" y="145"/>
                      </a:lnTo>
                      <a:lnTo>
                        <a:pt x="469" y="241"/>
                      </a:lnTo>
                      <a:lnTo>
                        <a:pt x="404" y="177"/>
                      </a:lnTo>
                      <a:lnTo>
                        <a:pt x="351" y="128"/>
                      </a:lnTo>
                      <a:lnTo>
                        <a:pt x="239" y="90"/>
                      </a:lnTo>
                      <a:lnTo>
                        <a:pt x="157" y="90"/>
                      </a:lnTo>
                      <a:lnTo>
                        <a:pt x="34" y="145"/>
                      </a:lnTo>
                      <a:lnTo>
                        <a:pt x="0" y="301"/>
                      </a:lnTo>
                      <a:lnTo>
                        <a:pt x="28" y="501"/>
                      </a:lnTo>
                      <a:lnTo>
                        <a:pt x="81" y="691"/>
                      </a:lnTo>
                      <a:lnTo>
                        <a:pt x="134" y="74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251" name=""/>
              <p:cNvSpPr/>
              <p:nvPr/>
            </p:nvSpPr>
            <p:spPr>
              <a:xfrm>
                <a:off x="4167360" y="1954080"/>
                <a:ext cx="384480" cy="144720"/>
              </a:xfrm>
              <a:custGeom>
                <a:avLst/>
                <a:gdLst/>
                <a:ahLst/>
                <a:rect l="0" t="0" r="r" b="b"/>
                <a:pathLst>
                  <a:path w="1068" h="402">
                    <a:moveTo>
                      <a:pt x="41" y="357"/>
                    </a:moveTo>
                    <a:lnTo>
                      <a:pt x="90" y="367"/>
                    </a:lnTo>
                    <a:lnTo>
                      <a:pt x="221" y="356"/>
                    </a:lnTo>
                    <a:lnTo>
                      <a:pt x="252" y="320"/>
                    </a:lnTo>
                    <a:lnTo>
                      <a:pt x="239" y="261"/>
                    </a:lnTo>
                    <a:lnTo>
                      <a:pt x="205" y="222"/>
                    </a:lnTo>
                    <a:lnTo>
                      <a:pt x="205" y="194"/>
                    </a:lnTo>
                    <a:lnTo>
                      <a:pt x="285" y="159"/>
                    </a:lnTo>
                    <a:lnTo>
                      <a:pt x="383" y="155"/>
                    </a:lnTo>
                    <a:lnTo>
                      <a:pt x="509" y="171"/>
                    </a:lnTo>
                    <a:lnTo>
                      <a:pt x="610" y="215"/>
                    </a:lnTo>
                    <a:lnTo>
                      <a:pt x="660" y="241"/>
                    </a:lnTo>
                    <a:lnTo>
                      <a:pt x="655" y="269"/>
                    </a:lnTo>
                    <a:lnTo>
                      <a:pt x="646" y="313"/>
                    </a:lnTo>
                    <a:lnTo>
                      <a:pt x="653" y="368"/>
                    </a:lnTo>
                    <a:lnTo>
                      <a:pt x="708" y="394"/>
                    </a:lnTo>
                    <a:lnTo>
                      <a:pt x="819" y="402"/>
                    </a:lnTo>
                    <a:lnTo>
                      <a:pt x="899" y="354"/>
                    </a:lnTo>
                    <a:lnTo>
                      <a:pt x="913" y="309"/>
                    </a:lnTo>
                    <a:lnTo>
                      <a:pt x="889" y="237"/>
                    </a:lnTo>
                    <a:lnTo>
                      <a:pt x="849" y="199"/>
                    </a:lnTo>
                    <a:lnTo>
                      <a:pt x="853" y="155"/>
                    </a:lnTo>
                    <a:lnTo>
                      <a:pt x="897" y="147"/>
                    </a:lnTo>
                    <a:lnTo>
                      <a:pt x="940" y="134"/>
                    </a:lnTo>
                    <a:lnTo>
                      <a:pt x="953" y="73"/>
                    </a:lnTo>
                    <a:lnTo>
                      <a:pt x="986" y="27"/>
                    </a:lnTo>
                    <a:lnTo>
                      <a:pt x="1068" y="36"/>
                    </a:lnTo>
                    <a:lnTo>
                      <a:pt x="1066" y="14"/>
                    </a:lnTo>
                    <a:lnTo>
                      <a:pt x="989" y="0"/>
                    </a:lnTo>
                    <a:lnTo>
                      <a:pt x="957" y="7"/>
                    </a:lnTo>
                    <a:lnTo>
                      <a:pt x="942" y="40"/>
                    </a:lnTo>
                    <a:lnTo>
                      <a:pt x="933" y="85"/>
                    </a:lnTo>
                    <a:lnTo>
                      <a:pt x="922" y="120"/>
                    </a:lnTo>
                    <a:lnTo>
                      <a:pt x="875" y="131"/>
                    </a:lnTo>
                    <a:lnTo>
                      <a:pt x="837" y="133"/>
                    </a:lnTo>
                    <a:lnTo>
                      <a:pt x="822" y="183"/>
                    </a:lnTo>
                    <a:lnTo>
                      <a:pt x="782" y="146"/>
                    </a:lnTo>
                    <a:lnTo>
                      <a:pt x="639" y="107"/>
                    </a:lnTo>
                    <a:lnTo>
                      <a:pt x="483" y="73"/>
                    </a:lnTo>
                    <a:lnTo>
                      <a:pt x="352" y="66"/>
                    </a:lnTo>
                    <a:lnTo>
                      <a:pt x="238" y="83"/>
                    </a:lnTo>
                    <a:lnTo>
                      <a:pt x="141" y="109"/>
                    </a:lnTo>
                    <a:lnTo>
                      <a:pt x="54" y="138"/>
                    </a:lnTo>
                    <a:lnTo>
                      <a:pt x="3" y="241"/>
                    </a:lnTo>
                    <a:lnTo>
                      <a:pt x="0" y="285"/>
                    </a:lnTo>
                    <a:lnTo>
                      <a:pt x="7" y="324"/>
                    </a:lnTo>
                    <a:lnTo>
                      <a:pt x="41" y="35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252" name=""/>
              <p:cNvGrpSpPr/>
              <p:nvPr/>
            </p:nvGrpSpPr>
            <p:grpSpPr>
              <a:xfrm>
                <a:off x="3884760" y="2179800"/>
                <a:ext cx="392400" cy="486000"/>
                <a:chOff x="3884760" y="2179800"/>
                <a:chExt cx="392400" cy="486000"/>
              </a:xfrm>
            </p:grpSpPr>
            <p:sp>
              <p:nvSpPr>
                <p:cNvPr id="253" name=""/>
                <p:cNvSpPr/>
                <p:nvPr/>
              </p:nvSpPr>
              <p:spPr>
                <a:xfrm>
                  <a:off x="3887640" y="2185920"/>
                  <a:ext cx="282960" cy="478080"/>
                </a:xfrm>
                <a:custGeom>
                  <a:avLst/>
                  <a:gdLst/>
                  <a:ahLst/>
                  <a:rect l="0" t="0" r="r" b="b"/>
                  <a:pathLst>
                    <a:path w="786" h="1328">
                      <a:moveTo>
                        <a:pt x="447" y="0"/>
                      </a:moveTo>
                      <a:lnTo>
                        <a:pt x="333" y="5"/>
                      </a:lnTo>
                      <a:lnTo>
                        <a:pt x="268" y="112"/>
                      </a:lnTo>
                      <a:lnTo>
                        <a:pt x="81" y="285"/>
                      </a:lnTo>
                      <a:lnTo>
                        <a:pt x="0" y="380"/>
                      </a:lnTo>
                      <a:lnTo>
                        <a:pt x="54" y="632"/>
                      </a:lnTo>
                      <a:lnTo>
                        <a:pt x="98" y="824"/>
                      </a:lnTo>
                      <a:lnTo>
                        <a:pt x="208" y="1042"/>
                      </a:lnTo>
                      <a:lnTo>
                        <a:pt x="398" y="1199"/>
                      </a:lnTo>
                      <a:lnTo>
                        <a:pt x="612" y="1328"/>
                      </a:lnTo>
                      <a:lnTo>
                        <a:pt x="617" y="1294"/>
                      </a:lnTo>
                      <a:lnTo>
                        <a:pt x="634" y="1289"/>
                      </a:lnTo>
                      <a:lnTo>
                        <a:pt x="634" y="1272"/>
                      </a:lnTo>
                      <a:lnTo>
                        <a:pt x="634" y="1255"/>
                      </a:lnTo>
                      <a:lnTo>
                        <a:pt x="634" y="1238"/>
                      </a:lnTo>
                      <a:lnTo>
                        <a:pt x="634" y="1221"/>
                      </a:lnTo>
                      <a:lnTo>
                        <a:pt x="650" y="1216"/>
                      </a:lnTo>
                      <a:lnTo>
                        <a:pt x="667" y="1216"/>
                      </a:lnTo>
                      <a:lnTo>
                        <a:pt x="683" y="1216"/>
                      </a:lnTo>
                      <a:lnTo>
                        <a:pt x="699" y="1205"/>
                      </a:lnTo>
                      <a:lnTo>
                        <a:pt x="699" y="1188"/>
                      </a:lnTo>
                      <a:lnTo>
                        <a:pt x="699" y="1171"/>
                      </a:lnTo>
                      <a:lnTo>
                        <a:pt x="699" y="1154"/>
                      </a:lnTo>
                      <a:lnTo>
                        <a:pt x="716" y="1149"/>
                      </a:lnTo>
                      <a:lnTo>
                        <a:pt x="732" y="1149"/>
                      </a:lnTo>
                      <a:lnTo>
                        <a:pt x="748" y="1149"/>
                      </a:lnTo>
                      <a:lnTo>
                        <a:pt x="759" y="1132"/>
                      </a:lnTo>
                      <a:lnTo>
                        <a:pt x="754" y="1115"/>
                      </a:lnTo>
                      <a:lnTo>
                        <a:pt x="754" y="1098"/>
                      </a:lnTo>
                      <a:lnTo>
                        <a:pt x="770" y="1087"/>
                      </a:lnTo>
                      <a:lnTo>
                        <a:pt x="786" y="1081"/>
                      </a:lnTo>
                      <a:lnTo>
                        <a:pt x="497" y="953"/>
                      </a:lnTo>
                      <a:lnTo>
                        <a:pt x="213" y="576"/>
                      </a:lnTo>
                      <a:lnTo>
                        <a:pt x="224" y="352"/>
                      </a:lnTo>
                      <a:lnTo>
                        <a:pt x="420" y="117"/>
                      </a:lnTo>
                      <a:lnTo>
                        <a:pt x="447" y="0"/>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3927600" y="2181240"/>
                  <a:ext cx="341640" cy="395640"/>
                </a:xfrm>
                <a:custGeom>
                  <a:avLst/>
                  <a:gdLst/>
                  <a:ahLst/>
                  <a:rect l="0" t="0" r="r" b="b"/>
                  <a:pathLst>
                    <a:path w="949" h="1099">
                      <a:moveTo>
                        <a:pt x="368" y="118"/>
                      </a:moveTo>
                      <a:lnTo>
                        <a:pt x="422" y="304"/>
                      </a:lnTo>
                      <a:lnTo>
                        <a:pt x="488" y="388"/>
                      </a:lnTo>
                      <a:lnTo>
                        <a:pt x="634" y="484"/>
                      </a:lnTo>
                      <a:lnTo>
                        <a:pt x="846" y="506"/>
                      </a:lnTo>
                      <a:lnTo>
                        <a:pt x="949" y="512"/>
                      </a:lnTo>
                      <a:lnTo>
                        <a:pt x="932" y="687"/>
                      </a:lnTo>
                      <a:lnTo>
                        <a:pt x="856" y="890"/>
                      </a:lnTo>
                      <a:lnTo>
                        <a:pt x="721" y="1053"/>
                      </a:lnTo>
                      <a:lnTo>
                        <a:pt x="678" y="1099"/>
                      </a:lnTo>
                      <a:lnTo>
                        <a:pt x="417" y="1059"/>
                      </a:lnTo>
                      <a:lnTo>
                        <a:pt x="216" y="946"/>
                      </a:lnTo>
                      <a:lnTo>
                        <a:pt x="124" y="834"/>
                      </a:lnTo>
                      <a:lnTo>
                        <a:pt x="43" y="586"/>
                      </a:lnTo>
                      <a:lnTo>
                        <a:pt x="0" y="388"/>
                      </a:lnTo>
                      <a:lnTo>
                        <a:pt x="232" y="146"/>
                      </a:lnTo>
                      <a:lnTo>
                        <a:pt x="346" y="0"/>
                      </a:lnTo>
                      <a:lnTo>
                        <a:pt x="368" y="118"/>
                      </a:lnTo>
                      <a:close/>
                    </a:path>
                  </a:pathLst>
                </a:custGeom>
                <a:solidFill>
                  <a:srgbClr val="ddddd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3884760" y="2179800"/>
                  <a:ext cx="392400" cy="486000"/>
                </a:xfrm>
                <a:custGeom>
                  <a:avLst/>
                  <a:gdLst/>
                  <a:ahLst/>
                  <a:rect l="0" t="0" r="r" b="b"/>
                  <a:pathLst>
                    <a:path w="1090" h="1350">
                      <a:moveTo>
                        <a:pt x="108" y="380"/>
                      </a:moveTo>
                      <a:lnTo>
                        <a:pt x="261" y="229"/>
                      </a:lnTo>
                      <a:lnTo>
                        <a:pt x="332" y="151"/>
                      </a:lnTo>
                      <a:lnTo>
                        <a:pt x="419" y="33"/>
                      </a:lnTo>
                      <a:lnTo>
                        <a:pt x="353" y="39"/>
                      </a:lnTo>
                      <a:lnTo>
                        <a:pt x="283" y="151"/>
                      </a:lnTo>
                      <a:lnTo>
                        <a:pt x="212" y="212"/>
                      </a:lnTo>
                      <a:lnTo>
                        <a:pt x="76" y="347"/>
                      </a:lnTo>
                      <a:lnTo>
                        <a:pt x="27" y="403"/>
                      </a:lnTo>
                      <a:lnTo>
                        <a:pt x="65" y="565"/>
                      </a:lnTo>
                      <a:lnTo>
                        <a:pt x="108" y="740"/>
                      </a:lnTo>
                      <a:lnTo>
                        <a:pt x="125" y="840"/>
                      </a:lnTo>
                      <a:lnTo>
                        <a:pt x="163" y="936"/>
                      </a:lnTo>
                      <a:lnTo>
                        <a:pt x="206" y="1025"/>
                      </a:lnTo>
                      <a:lnTo>
                        <a:pt x="272" y="1092"/>
                      </a:lnTo>
                      <a:lnTo>
                        <a:pt x="386" y="1176"/>
                      </a:lnTo>
                      <a:lnTo>
                        <a:pt x="490" y="1249"/>
                      </a:lnTo>
                      <a:lnTo>
                        <a:pt x="589" y="1305"/>
                      </a:lnTo>
                      <a:lnTo>
                        <a:pt x="610" y="1305"/>
                      </a:lnTo>
                      <a:lnTo>
                        <a:pt x="610" y="1283"/>
                      </a:lnTo>
                      <a:lnTo>
                        <a:pt x="473" y="1199"/>
                      </a:lnTo>
                      <a:lnTo>
                        <a:pt x="315" y="1098"/>
                      </a:lnTo>
                      <a:lnTo>
                        <a:pt x="228" y="1014"/>
                      </a:lnTo>
                      <a:lnTo>
                        <a:pt x="163" y="885"/>
                      </a:lnTo>
                      <a:lnTo>
                        <a:pt x="141" y="773"/>
                      </a:lnTo>
                      <a:lnTo>
                        <a:pt x="174" y="857"/>
                      </a:lnTo>
                      <a:lnTo>
                        <a:pt x="239" y="992"/>
                      </a:lnTo>
                      <a:lnTo>
                        <a:pt x="315" y="1059"/>
                      </a:lnTo>
                      <a:lnTo>
                        <a:pt x="386" y="1109"/>
                      </a:lnTo>
                      <a:lnTo>
                        <a:pt x="468" y="1160"/>
                      </a:lnTo>
                      <a:lnTo>
                        <a:pt x="567" y="1232"/>
                      </a:lnTo>
                      <a:lnTo>
                        <a:pt x="616" y="1249"/>
                      </a:lnTo>
                      <a:lnTo>
                        <a:pt x="627" y="1221"/>
                      </a:lnTo>
                      <a:lnTo>
                        <a:pt x="501" y="1148"/>
                      </a:lnTo>
                      <a:lnTo>
                        <a:pt x="583" y="1176"/>
                      </a:lnTo>
                      <a:lnTo>
                        <a:pt x="649" y="1204"/>
                      </a:lnTo>
                      <a:lnTo>
                        <a:pt x="681" y="1204"/>
                      </a:lnTo>
                      <a:lnTo>
                        <a:pt x="687" y="1165"/>
                      </a:lnTo>
                      <a:lnTo>
                        <a:pt x="539" y="1126"/>
                      </a:lnTo>
                      <a:lnTo>
                        <a:pt x="424" y="1087"/>
                      </a:lnTo>
                      <a:lnTo>
                        <a:pt x="332" y="1025"/>
                      </a:lnTo>
                      <a:lnTo>
                        <a:pt x="272" y="958"/>
                      </a:lnTo>
                      <a:lnTo>
                        <a:pt x="234" y="880"/>
                      </a:lnTo>
                      <a:lnTo>
                        <a:pt x="315" y="969"/>
                      </a:lnTo>
                      <a:lnTo>
                        <a:pt x="419" y="1048"/>
                      </a:lnTo>
                      <a:lnTo>
                        <a:pt x="528" y="1092"/>
                      </a:lnTo>
                      <a:lnTo>
                        <a:pt x="638" y="1120"/>
                      </a:lnTo>
                      <a:lnTo>
                        <a:pt x="687" y="1137"/>
                      </a:lnTo>
                      <a:lnTo>
                        <a:pt x="719" y="1143"/>
                      </a:lnTo>
                      <a:lnTo>
                        <a:pt x="747" y="1143"/>
                      </a:lnTo>
                      <a:lnTo>
                        <a:pt x="752" y="1120"/>
                      </a:lnTo>
                      <a:lnTo>
                        <a:pt x="747" y="1104"/>
                      </a:lnTo>
                      <a:lnTo>
                        <a:pt x="605" y="1081"/>
                      </a:lnTo>
                      <a:lnTo>
                        <a:pt x="495" y="1053"/>
                      </a:lnTo>
                      <a:lnTo>
                        <a:pt x="446" y="1025"/>
                      </a:lnTo>
                      <a:lnTo>
                        <a:pt x="370" y="975"/>
                      </a:lnTo>
                      <a:lnTo>
                        <a:pt x="326" y="947"/>
                      </a:lnTo>
                      <a:lnTo>
                        <a:pt x="288" y="902"/>
                      </a:lnTo>
                      <a:lnTo>
                        <a:pt x="239" y="846"/>
                      </a:lnTo>
                      <a:lnTo>
                        <a:pt x="196" y="740"/>
                      </a:lnTo>
                      <a:lnTo>
                        <a:pt x="163" y="632"/>
                      </a:lnTo>
                      <a:lnTo>
                        <a:pt x="130" y="503"/>
                      </a:lnTo>
                      <a:lnTo>
                        <a:pt x="108" y="419"/>
                      </a:lnTo>
                      <a:lnTo>
                        <a:pt x="114" y="403"/>
                      </a:lnTo>
                      <a:lnTo>
                        <a:pt x="130" y="414"/>
                      </a:lnTo>
                      <a:lnTo>
                        <a:pt x="163" y="554"/>
                      </a:lnTo>
                      <a:lnTo>
                        <a:pt x="196" y="671"/>
                      </a:lnTo>
                      <a:lnTo>
                        <a:pt x="239" y="790"/>
                      </a:lnTo>
                      <a:lnTo>
                        <a:pt x="288" y="868"/>
                      </a:lnTo>
                      <a:lnTo>
                        <a:pt x="348" y="936"/>
                      </a:lnTo>
                      <a:lnTo>
                        <a:pt x="446" y="997"/>
                      </a:lnTo>
                      <a:lnTo>
                        <a:pt x="528" y="1031"/>
                      </a:lnTo>
                      <a:lnTo>
                        <a:pt x="621" y="1059"/>
                      </a:lnTo>
                      <a:lnTo>
                        <a:pt x="719" y="1070"/>
                      </a:lnTo>
                      <a:lnTo>
                        <a:pt x="801" y="1076"/>
                      </a:lnTo>
                      <a:lnTo>
                        <a:pt x="872" y="1003"/>
                      </a:lnTo>
                      <a:lnTo>
                        <a:pt x="921" y="941"/>
                      </a:lnTo>
                      <a:lnTo>
                        <a:pt x="975" y="863"/>
                      </a:lnTo>
                      <a:lnTo>
                        <a:pt x="1013" y="779"/>
                      </a:lnTo>
                      <a:lnTo>
                        <a:pt x="1041" y="689"/>
                      </a:lnTo>
                      <a:lnTo>
                        <a:pt x="1052" y="604"/>
                      </a:lnTo>
                      <a:lnTo>
                        <a:pt x="1057" y="526"/>
                      </a:lnTo>
                      <a:lnTo>
                        <a:pt x="937" y="515"/>
                      </a:lnTo>
                      <a:lnTo>
                        <a:pt x="856" y="509"/>
                      </a:lnTo>
                      <a:lnTo>
                        <a:pt x="796" y="503"/>
                      </a:lnTo>
                      <a:lnTo>
                        <a:pt x="747" y="487"/>
                      </a:lnTo>
                      <a:lnTo>
                        <a:pt x="681" y="459"/>
                      </a:lnTo>
                      <a:lnTo>
                        <a:pt x="621" y="419"/>
                      </a:lnTo>
                      <a:lnTo>
                        <a:pt x="561" y="369"/>
                      </a:lnTo>
                      <a:lnTo>
                        <a:pt x="522" y="302"/>
                      </a:lnTo>
                      <a:lnTo>
                        <a:pt x="506" y="240"/>
                      </a:lnTo>
                      <a:lnTo>
                        <a:pt x="479" y="134"/>
                      </a:lnTo>
                      <a:lnTo>
                        <a:pt x="457" y="61"/>
                      </a:lnTo>
                      <a:lnTo>
                        <a:pt x="457" y="44"/>
                      </a:lnTo>
                      <a:lnTo>
                        <a:pt x="468" y="11"/>
                      </a:lnTo>
                      <a:lnTo>
                        <a:pt x="490" y="89"/>
                      </a:lnTo>
                      <a:lnTo>
                        <a:pt x="506" y="145"/>
                      </a:lnTo>
                      <a:lnTo>
                        <a:pt x="528" y="229"/>
                      </a:lnTo>
                      <a:lnTo>
                        <a:pt x="556" y="302"/>
                      </a:lnTo>
                      <a:lnTo>
                        <a:pt x="594" y="363"/>
                      </a:lnTo>
                      <a:lnTo>
                        <a:pt x="643" y="397"/>
                      </a:lnTo>
                      <a:lnTo>
                        <a:pt x="703" y="431"/>
                      </a:lnTo>
                      <a:lnTo>
                        <a:pt x="757" y="459"/>
                      </a:lnTo>
                      <a:lnTo>
                        <a:pt x="823" y="470"/>
                      </a:lnTo>
                      <a:lnTo>
                        <a:pt x="910" y="481"/>
                      </a:lnTo>
                      <a:lnTo>
                        <a:pt x="1003" y="492"/>
                      </a:lnTo>
                      <a:lnTo>
                        <a:pt x="1079" y="498"/>
                      </a:lnTo>
                      <a:lnTo>
                        <a:pt x="1090" y="498"/>
                      </a:lnTo>
                      <a:lnTo>
                        <a:pt x="1090" y="531"/>
                      </a:lnTo>
                      <a:lnTo>
                        <a:pt x="1079" y="660"/>
                      </a:lnTo>
                      <a:lnTo>
                        <a:pt x="1052" y="790"/>
                      </a:lnTo>
                      <a:lnTo>
                        <a:pt x="992" y="896"/>
                      </a:lnTo>
                      <a:lnTo>
                        <a:pt x="948" y="964"/>
                      </a:lnTo>
                      <a:lnTo>
                        <a:pt x="894" y="1031"/>
                      </a:lnTo>
                      <a:lnTo>
                        <a:pt x="839" y="1087"/>
                      </a:lnTo>
                      <a:lnTo>
                        <a:pt x="817" y="1126"/>
                      </a:lnTo>
                      <a:lnTo>
                        <a:pt x="785" y="1143"/>
                      </a:lnTo>
                      <a:lnTo>
                        <a:pt x="785" y="1165"/>
                      </a:lnTo>
                      <a:lnTo>
                        <a:pt x="774" y="1182"/>
                      </a:lnTo>
                      <a:lnTo>
                        <a:pt x="757" y="1193"/>
                      </a:lnTo>
                      <a:lnTo>
                        <a:pt x="730" y="1193"/>
                      </a:lnTo>
                      <a:lnTo>
                        <a:pt x="725" y="1204"/>
                      </a:lnTo>
                      <a:lnTo>
                        <a:pt x="725" y="1221"/>
                      </a:lnTo>
                      <a:lnTo>
                        <a:pt x="708" y="1238"/>
                      </a:lnTo>
                      <a:lnTo>
                        <a:pt x="676" y="1238"/>
                      </a:lnTo>
                      <a:lnTo>
                        <a:pt x="665" y="1266"/>
                      </a:lnTo>
                      <a:lnTo>
                        <a:pt x="659" y="1288"/>
                      </a:lnTo>
                      <a:lnTo>
                        <a:pt x="649" y="1305"/>
                      </a:lnTo>
                      <a:lnTo>
                        <a:pt x="632" y="1333"/>
                      </a:lnTo>
                      <a:lnTo>
                        <a:pt x="600" y="1350"/>
                      </a:lnTo>
                      <a:lnTo>
                        <a:pt x="517" y="1299"/>
                      </a:lnTo>
                      <a:lnTo>
                        <a:pt x="375" y="1210"/>
                      </a:lnTo>
                      <a:lnTo>
                        <a:pt x="310" y="1148"/>
                      </a:lnTo>
                      <a:lnTo>
                        <a:pt x="217" y="1081"/>
                      </a:lnTo>
                      <a:lnTo>
                        <a:pt x="174" y="1025"/>
                      </a:lnTo>
                      <a:lnTo>
                        <a:pt x="136" y="941"/>
                      </a:lnTo>
                      <a:lnTo>
                        <a:pt x="103" y="857"/>
                      </a:lnTo>
                      <a:lnTo>
                        <a:pt x="81" y="796"/>
                      </a:lnTo>
                      <a:lnTo>
                        <a:pt x="65" y="678"/>
                      </a:lnTo>
                      <a:lnTo>
                        <a:pt x="38" y="559"/>
                      </a:lnTo>
                      <a:lnTo>
                        <a:pt x="5" y="453"/>
                      </a:lnTo>
                      <a:lnTo>
                        <a:pt x="0" y="386"/>
                      </a:lnTo>
                      <a:lnTo>
                        <a:pt x="98" y="279"/>
                      </a:lnTo>
                      <a:lnTo>
                        <a:pt x="196" y="190"/>
                      </a:lnTo>
                      <a:lnTo>
                        <a:pt x="266" y="123"/>
                      </a:lnTo>
                      <a:lnTo>
                        <a:pt x="294" y="72"/>
                      </a:lnTo>
                      <a:lnTo>
                        <a:pt x="332" y="0"/>
                      </a:lnTo>
                      <a:lnTo>
                        <a:pt x="468" y="11"/>
                      </a:lnTo>
                      <a:lnTo>
                        <a:pt x="424" y="78"/>
                      </a:lnTo>
                      <a:lnTo>
                        <a:pt x="364" y="156"/>
                      </a:lnTo>
                      <a:lnTo>
                        <a:pt x="261" y="257"/>
                      </a:lnTo>
                      <a:lnTo>
                        <a:pt x="185" y="330"/>
                      </a:lnTo>
                      <a:lnTo>
                        <a:pt x="108" y="38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6" name=""/>
                <p:cNvSpPr/>
                <p:nvPr/>
              </p:nvSpPr>
              <p:spPr>
                <a:xfrm>
                  <a:off x="3965400" y="2259000"/>
                  <a:ext cx="260640" cy="271800"/>
                </a:xfrm>
                <a:custGeom>
                  <a:avLst/>
                  <a:gdLst/>
                  <a:ahLst/>
                  <a:rect l="0" t="0" r="r" b="b"/>
                  <a:pathLst>
                    <a:path w="724" h="755">
                      <a:moveTo>
                        <a:pt x="0" y="219"/>
                      </a:moveTo>
                      <a:lnTo>
                        <a:pt x="206" y="0"/>
                      </a:lnTo>
                      <a:lnTo>
                        <a:pt x="228" y="101"/>
                      </a:lnTo>
                      <a:lnTo>
                        <a:pt x="266" y="208"/>
                      </a:lnTo>
                      <a:lnTo>
                        <a:pt x="326" y="275"/>
                      </a:lnTo>
                      <a:lnTo>
                        <a:pt x="419" y="326"/>
                      </a:lnTo>
                      <a:lnTo>
                        <a:pt x="528" y="365"/>
                      </a:lnTo>
                      <a:lnTo>
                        <a:pt x="631" y="365"/>
                      </a:lnTo>
                      <a:lnTo>
                        <a:pt x="724" y="371"/>
                      </a:lnTo>
                      <a:lnTo>
                        <a:pt x="718" y="445"/>
                      </a:lnTo>
                      <a:lnTo>
                        <a:pt x="686" y="558"/>
                      </a:lnTo>
                      <a:lnTo>
                        <a:pt x="626" y="648"/>
                      </a:lnTo>
                      <a:lnTo>
                        <a:pt x="561" y="721"/>
                      </a:lnTo>
                      <a:lnTo>
                        <a:pt x="533" y="755"/>
                      </a:lnTo>
                      <a:lnTo>
                        <a:pt x="392" y="743"/>
                      </a:lnTo>
                      <a:lnTo>
                        <a:pt x="266" y="715"/>
                      </a:lnTo>
                      <a:lnTo>
                        <a:pt x="174" y="653"/>
                      </a:lnTo>
                      <a:lnTo>
                        <a:pt x="125" y="586"/>
                      </a:lnTo>
                      <a:lnTo>
                        <a:pt x="76" y="501"/>
                      </a:lnTo>
                      <a:lnTo>
                        <a:pt x="43" y="400"/>
                      </a:lnTo>
                      <a:lnTo>
                        <a:pt x="16" y="292"/>
                      </a:lnTo>
                      <a:lnTo>
                        <a:pt x="0" y="21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V="1">
                  <a:off x="3978360" y="2303640"/>
                  <a:ext cx="68040" cy="80640"/>
                </a:xfrm>
                <a:prstGeom prst="line">
                  <a:avLst/>
                </a:prstGeom>
                <a:ln w="12600">
                  <a:solidFill>
                    <a:srgbClr val="000000"/>
                  </a:solidFill>
                  <a:round/>
                </a:ln>
              </p:spPr>
              <p:style>
                <a:lnRef idx="0"/>
                <a:fillRef idx="0"/>
                <a:effectRef idx="0"/>
                <a:fontRef idx="minor"/>
              </p:style>
              <p:txBody>
                <a:bodyPr lIns="96120" rIns="96120" tIns="29520" bIns="29520" anchor="t">
                  <a:noAutofit/>
                </a:bodyPr>
                <a:p>
                  <a:endParaRPr b="0" lang="en-US" sz="1800" spc="-1" strike="noStrike">
                    <a:solidFill>
                      <a:srgbClr val="000000"/>
                    </a:solidFill>
                    <a:latin typeface="Arial"/>
                  </a:endParaRPr>
                </a:p>
              </p:txBody>
            </p:sp>
            <p:sp>
              <p:nvSpPr>
                <p:cNvPr id="258" name=""/>
                <p:cNvSpPr/>
                <p:nvPr/>
              </p:nvSpPr>
              <p:spPr>
                <a:xfrm>
                  <a:off x="3990960" y="2340000"/>
                  <a:ext cx="70200" cy="87840"/>
                </a:xfrm>
                <a:custGeom>
                  <a:avLst/>
                  <a:gdLst/>
                  <a:ahLst/>
                  <a:rect l="0" t="0" r="r" b="b"/>
                  <a:pathLst>
                    <a:path fill="none" w="195" h="244">
                      <a:moveTo>
                        <a:pt x="195" y="0"/>
                      </a:moveTo>
                      <a:lnTo>
                        <a:pt x="124" y="100"/>
                      </a:lnTo>
                      <a:lnTo>
                        <a:pt x="37" y="200"/>
                      </a:lnTo>
                      <a:lnTo>
                        <a:pt x="0" y="244"/>
                      </a:lnTo>
                    </a:path>
                  </a:pathLst>
                </a:custGeom>
                <a:ln w="12600">
                  <a:solidFill>
                    <a:srgbClr val="000000"/>
                  </a:solidFill>
                  <a:round/>
                </a:ln>
              </p:spPr>
              <p:txBody>
                <a:bodyPr lIns="96120" rIns="96120" tIns="36720" bIns="36720" anchor="t">
                  <a:noAutofit/>
                </a:bodyPr>
                <a:p>
                  <a:endParaRPr b="0" lang="en-US" sz="1800" spc="-1" strike="noStrike">
                    <a:solidFill>
                      <a:srgbClr val="000000"/>
                    </a:solidFill>
                    <a:latin typeface="Arial"/>
                  </a:endParaRPr>
                </a:p>
              </p:txBody>
            </p:sp>
            <p:sp>
              <p:nvSpPr>
                <p:cNvPr id="259" name=""/>
                <p:cNvSpPr/>
                <p:nvPr/>
              </p:nvSpPr>
              <p:spPr>
                <a:xfrm>
                  <a:off x="4016520" y="2367000"/>
                  <a:ext cx="71640" cy="105120"/>
                </a:xfrm>
                <a:custGeom>
                  <a:avLst/>
                  <a:gdLst/>
                  <a:ahLst/>
                  <a:rect l="0" t="0" r="r" b="b"/>
                  <a:pathLst>
                    <a:path fill="none" w="199" h="292">
                      <a:moveTo>
                        <a:pt x="199" y="0"/>
                      </a:moveTo>
                      <a:lnTo>
                        <a:pt x="156" y="95"/>
                      </a:lnTo>
                      <a:lnTo>
                        <a:pt x="80" y="213"/>
                      </a:lnTo>
                      <a:lnTo>
                        <a:pt x="0" y="29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4056120" y="2387520"/>
                  <a:ext cx="73440" cy="124200"/>
                </a:xfrm>
                <a:custGeom>
                  <a:avLst/>
                  <a:gdLst/>
                  <a:ahLst/>
                  <a:rect l="0" t="0" r="r" b="b"/>
                  <a:pathLst>
                    <a:path fill="none" w="204" h="345">
                      <a:moveTo>
                        <a:pt x="204" y="0"/>
                      </a:moveTo>
                      <a:lnTo>
                        <a:pt x="172" y="125"/>
                      </a:lnTo>
                      <a:lnTo>
                        <a:pt x="107" y="220"/>
                      </a:lnTo>
                      <a:lnTo>
                        <a:pt x="37" y="306"/>
                      </a:lnTo>
                      <a:lnTo>
                        <a:pt x="0" y="3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4103640" y="2398680"/>
                  <a:ext cx="74880" cy="125640"/>
                </a:xfrm>
                <a:custGeom>
                  <a:avLst/>
                  <a:gdLst/>
                  <a:ahLst/>
                  <a:rect l="0" t="0" r="r" b="b"/>
                  <a:pathLst>
                    <a:path fill="none" w="208" h="349">
                      <a:moveTo>
                        <a:pt x="208" y="0"/>
                      </a:moveTo>
                      <a:lnTo>
                        <a:pt x="197" y="77"/>
                      </a:lnTo>
                      <a:lnTo>
                        <a:pt x="163" y="165"/>
                      </a:lnTo>
                      <a:lnTo>
                        <a:pt x="95" y="244"/>
                      </a:lnTo>
                      <a:lnTo>
                        <a:pt x="50" y="294"/>
                      </a:lnTo>
                      <a:lnTo>
                        <a:pt x="0" y="34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025880" y="2284560"/>
                  <a:ext cx="195480" cy="140040"/>
                </a:xfrm>
                <a:custGeom>
                  <a:avLst/>
                  <a:gdLst/>
                  <a:ahLst/>
                  <a:rect l="0" t="0" r="r" b="b"/>
                  <a:pathLst>
                    <a:path fill="none" w="543" h="389">
                      <a:moveTo>
                        <a:pt x="0" y="0"/>
                      </a:moveTo>
                      <a:lnTo>
                        <a:pt x="10" y="89"/>
                      </a:lnTo>
                      <a:lnTo>
                        <a:pt x="32" y="179"/>
                      </a:lnTo>
                      <a:lnTo>
                        <a:pt x="65" y="248"/>
                      </a:lnTo>
                      <a:lnTo>
                        <a:pt x="109" y="299"/>
                      </a:lnTo>
                      <a:lnTo>
                        <a:pt x="191" y="327"/>
                      </a:lnTo>
                      <a:lnTo>
                        <a:pt x="262" y="355"/>
                      </a:lnTo>
                      <a:lnTo>
                        <a:pt x="335" y="377"/>
                      </a:lnTo>
                      <a:lnTo>
                        <a:pt x="439" y="383"/>
                      </a:lnTo>
                      <a:lnTo>
                        <a:pt x="543" y="38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000680" y="2308320"/>
                  <a:ext cx="211320" cy="151200"/>
                </a:xfrm>
                <a:custGeom>
                  <a:avLst/>
                  <a:gdLst/>
                  <a:ahLst/>
                  <a:rect l="0" t="0" r="r" b="b"/>
                  <a:pathLst>
                    <a:path fill="none" w="587" h="420">
                      <a:moveTo>
                        <a:pt x="0" y="0"/>
                      </a:moveTo>
                      <a:lnTo>
                        <a:pt x="27" y="135"/>
                      </a:lnTo>
                      <a:lnTo>
                        <a:pt x="60" y="213"/>
                      </a:lnTo>
                      <a:lnTo>
                        <a:pt x="98" y="274"/>
                      </a:lnTo>
                      <a:lnTo>
                        <a:pt x="164" y="320"/>
                      </a:lnTo>
                      <a:lnTo>
                        <a:pt x="241" y="359"/>
                      </a:lnTo>
                      <a:lnTo>
                        <a:pt x="335" y="392"/>
                      </a:lnTo>
                      <a:lnTo>
                        <a:pt x="466" y="409"/>
                      </a:lnTo>
                      <a:lnTo>
                        <a:pt x="587" y="42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3983040" y="2333520"/>
                  <a:ext cx="179640" cy="160560"/>
                </a:xfrm>
                <a:custGeom>
                  <a:avLst/>
                  <a:gdLst/>
                  <a:ahLst/>
                  <a:rect l="0" t="0" r="r" b="b"/>
                  <a:pathLst>
                    <a:path fill="none" w="499" h="446">
                      <a:moveTo>
                        <a:pt x="0" y="0"/>
                      </a:moveTo>
                      <a:lnTo>
                        <a:pt x="49" y="194"/>
                      </a:lnTo>
                      <a:lnTo>
                        <a:pt x="125" y="301"/>
                      </a:lnTo>
                      <a:lnTo>
                        <a:pt x="219" y="379"/>
                      </a:lnTo>
                      <a:lnTo>
                        <a:pt x="307" y="418"/>
                      </a:lnTo>
                      <a:lnTo>
                        <a:pt x="400" y="440"/>
                      </a:lnTo>
                      <a:lnTo>
                        <a:pt x="499" y="44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4637160" y="1878120"/>
                <a:ext cx="393840" cy="397440"/>
                <a:chOff x="4637160" y="1878120"/>
                <a:chExt cx="393840" cy="397440"/>
              </a:xfrm>
            </p:grpSpPr>
            <p:grpSp>
              <p:nvGrpSpPr>
                <p:cNvPr id="266" name=""/>
                <p:cNvGrpSpPr/>
                <p:nvPr/>
              </p:nvGrpSpPr>
              <p:grpSpPr>
                <a:xfrm>
                  <a:off x="4637160" y="1878120"/>
                  <a:ext cx="336960" cy="230400"/>
                  <a:chOff x="4637160" y="1878120"/>
                  <a:chExt cx="336960" cy="230400"/>
                </a:xfrm>
              </p:grpSpPr>
              <p:sp>
                <p:nvSpPr>
                  <p:cNvPr id="267" name=""/>
                  <p:cNvSpPr/>
                  <p:nvPr/>
                </p:nvSpPr>
                <p:spPr>
                  <a:xfrm>
                    <a:off x="4645080" y="1884240"/>
                    <a:ext cx="324360" cy="221040"/>
                  </a:xfrm>
                  <a:custGeom>
                    <a:avLst/>
                    <a:gdLst/>
                    <a:ahLst/>
                    <a:rect l="0" t="0" r="r" b="b"/>
                    <a:pathLst>
                      <a:path w="901" h="614">
                        <a:moveTo>
                          <a:pt x="67" y="0"/>
                        </a:moveTo>
                        <a:lnTo>
                          <a:pt x="27" y="247"/>
                        </a:lnTo>
                        <a:lnTo>
                          <a:pt x="0" y="412"/>
                        </a:lnTo>
                        <a:lnTo>
                          <a:pt x="1" y="457"/>
                        </a:lnTo>
                        <a:lnTo>
                          <a:pt x="233" y="490"/>
                        </a:lnTo>
                        <a:lnTo>
                          <a:pt x="508" y="549"/>
                        </a:lnTo>
                        <a:lnTo>
                          <a:pt x="673" y="584"/>
                        </a:lnTo>
                        <a:lnTo>
                          <a:pt x="783" y="613"/>
                        </a:lnTo>
                        <a:lnTo>
                          <a:pt x="801" y="614"/>
                        </a:lnTo>
                        <a:lnTo>
                          <a:pt x="819" y="594"/>
                        </a:lnTo>
                        <a:lnTo>
                          <a:pt x="837" y="500"/>
                        </a:lnTo>
                        <a:lnTo>
                          <a:pt x="857" y="399"/>
                        </a:lnTo>
                        <a:lnTo>
                          <a:pt x="877" y="305"/>
                        </a:lnTo>
                        <a:lnTo>
                          <a:pt x="890" y="237"/>
                        </a:lnTo>
                        <a:lnTo>
                          <a:pt x="901" y="175"/>
                        </a:lnTo>
                        <a:lnTo>
                          <a:pt x="883" y="152"/>
                        </a:lnTo>
                        <a:lnTo>
                          <a:pt x="611" y="109"/>
                        </a:lnTo>
                        <a:lnTo>
                          <a:pt x="495" y="86"/>
                        </a:lnTo>
                        <a:lnTo>
                          <a:pt x="289" y="41"/>
                        </a:lnTo>
                        <a:lnTo>
                          <a:pt x="178" y="11"/>
                        </a:lnTo>
                        <a:lnTo>
                          <a:pt x="90" y="3"/>
                        </a:lnTo>
                        <a:lnTo>
                          <a:pt x="67"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8" name=""/>
                  <p:cNvSpPr/>
                  <p:nvPr/>
                </p:nvSpPr>
                <p:spPr>
                  <a:xfrm>
                    <a:off x="4637160" y="1878120"/>
                    <a:ext cx="336960" cy="230400"/>
                  </a:xfrm>
                  <a:custGeom>
                    <a:avLst/>
                    <a:gdLst/>
                    <a:ahLst/>
                    <a:rect l="0" t="0" r="r" b="b"/>
                    <a:pathLst>
                      <a:path w="936" h="640">
                        <a:moveTo>
                          <a:pt x="96" y="0"/>
                        </a:moveTo>
                        <a:lnTo>
                          <a:pt x="295" y="44"/>
                        </a:lnTo>
                        <a:lnTo>
                          <a:pt x="532" y="98"/>
                        </a:lnTo>
                        <a:lnTo>
                          <a:pt x="675" y="119"/>
                        </a:lnTo>
                        <a:lnTo>
                          <a:pt x="825" y="139"/>
                        </a:lnTo>
                        <a:lnTo>
                          <a:pt x="922" y="152"/>
                        </a:lnTo>
                        <a:lnTo>
                          <a:pt x="936" y="182"/>
                        </a:lnTo>
                        <a:lnTo>
                          <a:pt x="920" y="257"/>
                        </a:lnTo>
                        <a:lnTo>
                          <a:pt x="889" y="418"/>
                        </a:lnTo>
                        <a:lnTo>
                          <a:pt x="869" y="556"/>
                        </a:lnTo>
                        <a:lnTo>
                          <a:pt x="851" y="627"/>
                        </a:lnTo>
                        <a:lnTo>
                          <a:pt x="822" y="640"/>
                        </a:lnTo>
                        <a:lnTo>
                          <a:pt x="344" y="539"/>
                        </a:lnTo>
                        <a:lnTo>
                          <a:pt x="14" y="489"/>
                        </a:lnTo>
                        <a:lnTo>
                          <a:pt x="0" y="468"/>
                        </a:lnTo>
                        <a:lnTo>
                          <a:pt x="32" y="301"/>
                        </a:lnTo>
                        <a:lnTo>
                          <a:pt x="58" y="160"/>
                        </a:lnTo>
                        <a:lnTo>
                          <a:pt x="78" y="27"/>
                        </a:lnTo>
                        <a:lnTo>
                          <a:pt x="98" y="41"/>
                        </a:lnTo>
                        <a:lnTo>
                          <a:pt x="110" y="85"/>
                        </a:lnTo>
                        <a:lnTo>
                          <a:pt x="470" y="368"/>
                        </a:lnTo>
                        <a:lnTo>
                          <a:pt x="911" y="257"/>
                        </a:lnTo>
                        <a:lnTo>
                          <a:pt x="902" y="277"/>
                        </a:lnTo>
                        <a:lnTo>
                          <a:pt x="477" y="401"/>
                        </a:lnTo>
                        <a:lnTo>
                          <a:pt x="452" y="394"/>
                        </a:lnTo>
                        <a:lnTo>
                          <a:pt x="105" y="119"/>
                        </a:lnTo>
                        <a:lnTo>
                          <a:pt x="83" y="134"/>
                        </a:lnTo>
                        <a:lnTo>
                          <a:pt x="54" y="303"/>
                        </a:lnTo>
                        <a:lnTo>
                          <a:pt x="259" y="288"/>
                        </a:lnTo>
                        <a:lnTo>
                          <a:pt x="45" y="329"/>
                        </a:lnTo>
                        <a:lnTo>
                          <a:pt x="34" y="444"/>
                        </a:lnTo>
                        <a:lnTo>
                          <a:pt x="41" y="457"/>
                        </a:lnTo>
                        <a:lnTo>
                          <a:pt x="281" y="500"/>
                        </a:lnTo>
                        <a:lnTo>
                          <a:pt x="508" y="541"/>
                        </a:lnTo>
                        <a:lnTo>
                          <a:pt x="679" y="580"/>
                        </a:lnTo>
                        <a:lnTo>
                          <a:pt x="802" y="616"/>
                        </a:lnTo>
                        <a:lnTo>
                          <a:pt x="831" y="608"/>
                        </a:lnTo>
                        <a:lnTo>
                          <a:pt x="847" y="515"/>
                        </a:lnTo>
                        <a:lnTo>
                          <a:pt x="608" y="362"/>
                        </a:lnTo>
                        <a:lnTo>
                          <a:pt x="632" y="345"/>
                        </a:lnTo>
                        <a:lnTo>
                          <a:pt x="855" y="470"/>
                        </a:lnTo>
                        <a:lnTo>
                          <a:pt x="878" y="362"/>
                        </a:lnTo>
                        <a:lnTo>
                          <a:pt x="905" y="262"/>
                        </a:lnTo>
                        <a:lnTo>
                          <a:pt x="911" y="195"/>
                        </a:lnTo>
                        <a:lnTo>
                          <a:pt x="809" y="178"/>
                        </a:lnTo>
                        <a:lnTo>
                          <a:pt x="539" y="121"/>
                        </a:lnTo>
                        <a:lnTo>
                          <a:pt x="194" y="44"/>
                        </a:lnTo>
                        <a:lnTo>
                          <a:pt x="94" y="22"/>
                        </a:lnTo>
                        <a:lnTo>
                          <a:pt x="9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269" name=""/>
                <p:cNvGrpSpPr/>
                <p:nvPr/>
              </p:nvGrpSpPr>
              <p:grpSpPr>
                <a:xfrm>
                  <a:off x="4673520" y="1919160"/>
                  <a:ext cx="348120" cy="279720"/>
                  <a:chOff x="4673520" y="1919160"/>
                  <a:chExt cx="348120" cy="279720"/>
                </a:xfrm>
              </p:grpSpPr>
              <p:sp>
                <p:nvSpPr>
                  <p:cNvPr id="270" name=""/>
                  <p:cNvSpPr/>
                  <p:nvPr/>
                </p:nvSpPr>
                <p:spPr>
                  <a:xfrm>
                    <a:off x="4681440" y="1924200"/>
                    <a:ext cx="335160" cy="268560"/>
                  </a:xfrm>
                  <a:custGeom>
                    <a:avLst/>
                    <a:gdLst/>
                    <a:ahLst/>
                    <a:rect l="0" t="0" r="r" b="b"/>
                    <a:pathLst>
                      <a:path w="931" h="746">
                        <a:moveTo>
                          <a:pt x="149" y="0"/>
                        </a:moveTo>
                        <a:lnTo>
                          <a:pt x="65" y="230"/>
                        </a:lnTo>
                        <a:lnTo>
                          <a:pt x="7" y="389"/>
                        </a:lnTo>
                        <a:lnTo>
                          <a:pt x="0" y="436"/>
                        </a:lnTo>
                        <a:lnTo>
                          <a:pt x="222" y="511"/>
                        </a:lnTo>
                        <a:lnTo>
                          <a:pt x="477" y="622"/>
                        </a:lnTo>
                        <a:lnTo>
                          <a:pt x="635" y="689"/>
                        </a:lnTo>
                        <a:lnTo>
                          <a:pt x="734" y="738"/>
                        </a:lnTo>
                        <a:lnTo>
                          <a:pt x="754" y="746"/>
                        </a:lnTo>
                        <a:lnTo>
                          <a:pt x="776" y="729"/>
                        </a:lnTo>
                        <a:lnTo>
                          <a:pt x="808" y="641"/>
                        </a:lnTo>
                        <a:lnTo>
                          <a:pt x="846" y="545"/>
                        </a:lnTo>
                        <a:lnTo>
                          <a:pt x="884" y="459"/>
                        </a:lnTo>
                        <a:lnTo>
                          <a:pt x="909" y="395"/>
                        </a:lnTo>
                        <a:lnTo>
                          <a:pt x="931" y="336"/>
                        </a:lnTo>
                        <a:lnTo>
                          <a:pt x="916" y="307"/>
                        </a:lnTo>
                        <a:lnTo>
                          <a:pt x="660" y="213"/>
                        </a:lnTo>
                        <a:lnTo>
                          <a:pt x="550" y="168"/>
                        </a:lnTo>
                        <a:lnTo>
                          <a:pt x="357" y="84"/>
                        </a:lnTo>
                        <a:lnTo>
                          <a:pt x="254" y="31"/>
                        </a:lnTo>
                        <a:lnTo>
                          <a:pt x="171" y="7"/>
                        </a:lnTo>
                        <a:lnTo>
                          <a:pt x="149"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1" name=""/>
                  <p:cNvSpPr/>
                  <p:nvPr/>
                </p:nvSpPr>
                <p:spPr>
                  <a:xfrm>
                    <a:off x="4673520" y="1919160"/>
                    <a:ext cx="348120" cy="279720"/>
                  </a:xfrm>
                  <a:custGeom>
                    <a:avLst/>
                    <a:gdLst/>
                    <a:ahLst/>
                    <a:rect l="0" t="0" r="r" b="b"/>
                    <a:pathLst>
                      <a:path w="967" h="777">
                        <a:moveTo>
                          <a:pt x="180" y="0"/>
                        </a:moveTo>
                        <a:lnTo>
                          <a:pt x="368" y="82"/>
                        </a:lnTo>
                        <a:lnTo>
                          <a:pt x="588" y="182"/>
                        </a:lnTo>
                        <a:lnTo>
                          <a:pt x="727" y="233"/>
                        </a:lnTo>
                        <a:lnTo>
                          <a:pt x="866" y="281"/>
                        </a:lnTo>
                        <a:lnTo>
                          <a:pt x="960" y="311"/>
                        </a:lnTo>
                        <a:lnTo>
                          <a:pt x="967" y="343"/>
                        </a:lnTo>
                        <a:lnTo>
                          <a:pt x="938" y="418"/>
                        </a:lnTo>
                        <a:lnTo>
                          <a:pt x="877" y="570"/>
                        </a:lnTo>
                        <a:lnTo>
                          <a:pt x="832" y="703"/>
                        </a:lnTo>
                        <a:lnTo>
                          <a:pt x="803" y="769"/>
                        </a:lnTo>
                        <a:lnTo>
                          <a:pt x="770" y="777"/>
                        </a:lnTo>
                        <a:lnTo>
                          <a:pt x="322" y="581"/>
                        </a:lnTo>
                        <a:lnTo>
                          <a:pt x="10" y="467"/>
                        </a:lnTo>
                        <a:lnTo>
                          <a:pt x="0" y="444"/>
                        </a:lnTo>
                        <a:lnTo>
                          <a:pt x="61" y="285"/>
                        </a:lnTo>
                        <a:lnTo>
                          <a:pt x="113" y="150"/>
                        </a:lnTo>
                        <a:lnTo>
                          <a:pt x="157" y="22"/>
                        </a:lnTo>
                        <a:lnTo>
                          <a:pt x="175" y="39"/>
                        </a:lnTo>
                        <a:lnTo>
                          <a:pt x="179" y="88"/>
                        </a:lnTo>
                        <a:lnTo>
                          <a:pt x="478" y="436"/>
                        </a:lnTo>
                        <a:lnTo>
                          <a:pt x="927" y="416"/>
                        </a:lnTo>
                        <a:lnTo>
                          <a:pt x="917" y="435"/>
                        </a:lnTo>
                        <a:lnTo>
                          <a:pt x="480" y="472"/>
                        </a:lnTo>
                        <a:lnTo>
                          <a:pt x="454" y="459"/>
                        </a:lnTo>
                        <a:lnTo>
                          <a:pt x="168" y="120"/>
                        </a:lnTo>
                        <a:lnTo>
                          <a:pt x="142" y="129"/>
                        </a:lnTo>
                        <a:lnTo>
                          <a:pt x="83" y="293"/>
                        </a:lnTo>
                        <a:lnTo>
                          <a:pt x="288" y="317"/>
                        </a:lnTo>
                        <a:lnTo>
                          <a:pt x="72" y="313"/>
                        </a:lnTo>
                        <a:lnTo>
                          <a:pt x="37" y="427"/>
                        </a:lnTo>
                        <a:lnTo>
                          <a:pt x="45" y="442"/>
                        </a:lnTo>
                        <a:lnTo>
                          <a:pt x="270" y="530"/>
                        </a:lnTo>
                        <a:lnTo>
                          <a:pt x="483" y="615"/>
                        </a:lnTo>
                        <a:lnTo>
                          <a:pt x="643" y="690"/>
                        </a:lnTo>
                        <a:lnTo>
                          <a:pt x="757" y="748"/>
                        </a:lnTo>
                        <a:lnTo>
                          <a:pt x="785" y="747"/>
                        </a:lnTo>
                        <a:lnTo>
                          <a:pt x="817" y="658"/>
                        </a:lnTo>
                        <a:lnTo>
                          <a:pt x="615" y="457"/>
                        </a:lnTo>
                        <a:lnTo>
                          <a:pt x="639" y="446"/>
                        </a:lnTo>
                        <a:lnTo>
                          <a:pt x="835" y="615"/>
                        </a:lnTo>
                        <a:lnTo>
                          <a:pt x="879" y="512"/>
                        </a:lnTo>
                        <a:lnTo>
                          <a:pt x="922" y="418"/>
                        </a:lnTo>
                        <a:lnTo>
                          <a:pt x="940" y="353"/>
                        </a:lnTo>
                        <a:lnTo>
                          <a:pt x="844" y="317"/>
                        </a:lnTo>
                        <a:lnTo>
                          <a:pt x="592" y="206"/>
                        </a:lnTo>
                        <a:lnTo>
                          <a:pt x="270" y="63"/>
                        </a:lnTo>
                        <a:lnTo>
                          <a:pt x="175" y="22"/>
                        </a:lnTo>
                        <a:lnTo>
                          <a:pt x="18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272" name=""/>
                <p:cNvGrpSpPr/>
                <p:nvPr/>
              </p:nvGrpSpPr>
              <p:grpSpPr>
                <a:xfrm>
                  <a:off x="4681440" y="1951200"/>
                  <a:ext cx="349560" cy="324360"/>
                  <a:chOff x="4681440" y="1951200"/>
                  <a:chExt cx="349560" cy="324360"/>
                </a:xfrm>
              </p:grpSpPr>
              <p:sp>
                <p:nvSpPr>
                  <p:cNvPr id="273" name=""/>
                  <p:cNvSpPr/>
                  <p:nvPr/>
                </p:nvSpPr>
                <p:spPr>
                  <a:xfrm>
                    <a:off x="4691160" y="1957320"/>
                    <a:ext cx="335160" cy="311400"/>
                  </a:xfrm>
                  <a:custGeom>
                    <a:avLst/>
                    <a:gdLst/>
                    <a:ahLst/>
                    <a:rect l="0" t="0" r="r" b="b"/>
                    <a:pathLst>
                      <a:path w="931" h="865">
                        <a:moveTo>
                          <a:pt x="241" y="0"/>
                        </a:moveTo>
                        <a:lnTo>
                          <a:pt x="107" y="204"/>
                        </a:lnTo>
                        <a:lnTo>
                          <a:pt x="16" y="344"/>
                        </a:lnTo>
                        <a:lnTo>
                          <a:pt x="0" y="388"/>
                        </a:lnTo>
                        <a:lnTo>
                          <a:pt x="199" y="514"/>
                        </a:lnTo>
                        <a:lnTo>
                          <a:pt x="426" y="681"/>
                        </a:lnTo>
                        <a:lnTo>
                          <a:pt x="565" y="782"/>
                        </a:lnTo>
                        <a:lnTo>
                          <a:pt x="652" y="854"/>
                        </a:lnTo>
                        <a:lnTo>
                          <a:pt x="670" y="865"/>
                        </a:lnTo>
                        <a:lnTo>
                          <a:pt x="695" y="854"/>
                        </a:lnTo>
                        <a:lnTo>
                          <a:pt x="746" y="775"/>
                        </a:lnTo>
                        <a:lnTo>
                          <a:pt x="804" y="692"/>
                        </a:lnTo>
                        <a:lnTo>
                          <a:pt x="860" y="615"/>
                        </a:lnTo>
                        <a:lnTo>
                          <a:pt x="896" y="559"/>
                        </a:lnTo>
                        <a:lnTo>
                          <a:pt x="931" y="509"/>
                        </a:lnTo>
                        <a:lnTo>
                          <a:pt x="924" y="479"/>
                        </a:lnTo>
                        <a:lnTo>
                          <a:pt x="693" y="326"/>
                        </a:lnTo>
                        <a:lnTo>
                          <a:pt x="595" y="254"/>
                        </a:lnTo>
                        <a:lnTo>
                          <a:pt x="426" y="129"/>
                        </a:lnTo>
                        <a:lnTo>
                          <a:pt x="335" y="56"/>
                        </a:lnTo>
                        <a:lnTo>
                          <a:pt x="261" y="11"/>
                        </a:lnTo>
                        <a:lnTo>
                          <a:pt x="241"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4681440" y="1951200"/>
                    <a:ext cx="349560" cy="324360"/>
                  </a:xfrm>
                  <a:custGeom>
                    <a:avLst/>
                    <a:gdLst/>
                    <a:ahLst/>
                    <a:rect l="0" t="0" r="r" b="b"/>
                    <a:pathLst>
                      <a:path w="971" h="901">
                        <a:moveTo>
                          <a:pt x="274" y="0"/>
                        </a:moveTo>
                        <a:lnTo>
                          <a:pt x="438" y="124"/>
                        </a:lnTo>
                        <a:lnTo>
                          <a:pt x="634" y="275"/>
                        </a:lnTo>
                        <a:lnTo>
                          <a:pt x="760" y="356"/>
                        </a:lnTo>
                        <a:lnTo>
                          <a:pt x="885" y="437"/>
                        </a:lnTo>
                        <a:lnTo>
                          <a:pt x="969" y="488"/>
                        </a:lnTo>
                        <a:lnTo>
                          <a:pt x="971" y="522"/>
                        </a:lnTo>
                        <a:lnTo>
                          <a:pt x="927" y="588"/>
                        </a:lnTo>
                        <a:lnTo>
                          <a:pt x="834" y="722"/>
                        </a:lnTo>
                        <a:lnTo>
                          <a:pt x="761" y="842"/>
                        </a:lnTo>
                        <a:lnTo>
                          <a:pt x="716" y="901"/>
                        </a:lnTo>
                        <a:lnTo>
                          <a:pt x="683" y="901"/>
                        </a:lnTo>
                        <a:lnTo>
                          <a:pt x="287" y="603"/>
                        </a:lnTo>
                        <a:lnTo>
                          <a:pt x="7" y="416"/>
                        </a:lnTo>
                        <a:lnTo>
                          <a:pt x="0" y="394"/>
                        </a:lnTo>
                        <a:lnTo>
                          <a:pt x="96" y="254"/>
                        </a:lnTo>
                        <a:lnTo>
                          <a:pt x="176" y="132"/>
                        </a:lnTo>
                        <a:lnTo>
                          <a:pt x="247" y="17"/>
                        </a:lnTo>
                        <a:lnTo>
                          <a:pt x="260" y="37"/>
                        </a:lnTo>
                        <a:lnTo>
                          <a:pt x="253" y="85"/>
                        </a:lnTo>
                        <a:lnTo>
                          <a:pt x="471" y="498"/>
                        </a:lnTo>
                        <a:lnTo>
                          <a:pt x="918" y="583"/>
                        </a:lnTo>
                        <a:lnTo>
                          <a:pt x="901" y="600"/>
                        </a:lnTo>
                        <a:lnTo>
                          <a:pt x="464" y="533"/>
                        </a:lnTo>
                        <a:lnTo>
                          <a:pt x="444" y="515"/>
                        </a:lnTo>
                        <a:lnTo>
                          <a:pt x="236" y="115"/>
                        </a:lnTo>
                        <a:lnTo>
                          <a:pt x="209" y="119"/>
                        </a:lnTo>
                        <a:lnTo>
                          <a:pt x="116" y="265"/>
                        </a:lnTo>
                        <a:lnTo>
                          <a:pt x="309" y="335"/>
                        </a:lnTo>
                        <a:lnTo>
                          <a:pt x="100" y="282"/>
                        </a:lnTo>
                        <a:lnTo>
                          <a:pt x="43" y="386"/>
                        </a:lnTo>
                        <a:lnTo>
                          <a:pt x="47" y="401"/>
                        </a:lnTo>
                        <a:lnTo>
                          <a:pt x="247" y="541"/>
                        </a:lnTo>
                        <a:lnTo>
                          <a:pt x="436" y="673"/>
                        </a:lnTo>
                        <a:lnTo>
                          <a:pt x="577" y="786"/>
                        </a:lnTo>
                        <a:lnTo>
                          <a:pt x="676" y="871"/>
                        </a:lnTo>
                        <a:lnTo>
                          <a:pt x="705" y="875"/>
                        </a:lnTo>
                        <a:lnTo>
                          <a:pt x="756" y="793"/>
                        </a:lnTo>
                        <a:lnTo>
                          <a:pt x="601" y="549"/>
                        </a:lnTo>
                        <a:lnTo>
                          <a:pt x="628" y="547"/>
                        </a:lnTo>
                        <a:lnTo>
                          <a:pt x="783" y="757"/>
                        </a:lnTo>
                        <a:lnTo>
                          <a:pt x="847" y="664"/>
                        </a:lnTo>
                        <a:lnTo>
                          <a:pt x="911" y="584"/>
                        </a:lnTo>
                        <a:lnTo>
                          <a:pt x="943" y="526"/>
                        </a:lnTo>
                        <a:lnTo>
                          <a:pt x="856" y="465"/>
                        </a:lnTo>
                        <a:lnTo>
                          <a:pt x="632" y="299"/>
                        </a:lnTo>
                        <a:lnTo>
                          <a:pt x="349" y="83"/>
                        </a:lnTo>
                        <a:lnTo>
                          <a:pt x="263" y="20"/>
                        </a:lnTo>
                        <a:lnTo>
                          <a:pt x="274"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grpSp>
      <p:grpSp>
        <p:nvGrpSpPr>
          <p:cNvPr id="275" name=""/>
          <p:cNvGrpSpPr/>
          <p:nvPr/>
        </p:nvGrpSpPr>
        <p:grpSpPr>
          <a:xfrm>
            <a:off x="5991120" y="2247840"/>
            <a:ext cx="2523960" cy="2066760"/>
            <a:chOff x="5991120" y="2247840"/>
            <a:chExt cx="2523960" cy="2066760"/>
          </a:xfrm>
        </p:grpSpPr>
        <p:sp>
          <p:nvSpPr>
            <p:cNvPr id="276" name=""/>
            <p:cNvSpPr txBox="1"/>
            <p:nvPr/>
          </p:nvSpPr>
          <p:spPr>
            <a:xfrm>
              <a:off x="5991120" y="3763800"/>
              <a:ext cx="2523960" cy="550800"/>
            </a:xfrm>
            <a:prstGeom prst="rect">
              <a:avLst/>
            </a:prstGeom>
            <a:solidFill>
              <a:srgbClr val="ffffff"/>
            </a:solidFill>
            <a:ln w="0">
              <a:noFill/>
            </a:ln>
          </p:spPr>
          <p:txBody>
            <a:bodyPr lIns="0" rIns="0" tIns="0" bIns="0" anchor="t">
              <a:noAutofit/>
            </a:bodyPr>
            <a:p>
              <a:pPr algn="ctr">
                <a:lnSpc>
                  <a:spcPct val="145000"/>
                </a:lnSpc>
                <a:spcBef>
                  <a:spcPts val="961"/>
                </a:spcBef>
              </a:pPr>
              <a:r>
                <a:rPr b="1" lang="en-US" sz="1800" spc="-1" strike="noStrike">
                  <a:solidFill>
                    <a:srgbClr val="666633"/>
                  </a:solidFill>
                  <a:latin typeface="Arial Narrow"/>
                  <a:ea typeface="Arial Narrow"/>
                </a:rPr>
                <a:t>MANAGING PEOPLE</a:t>
              </a:r>
              <a:endParaRPr b="0" lang="en-US" sz="1800" spc="-1" strike="noStrike">
                <a:solidFill>
                  <a:srgbClr val="000000"/>
                </a:solidFill>
                <a:latin typeface="Arial"/>
              </a:endParaRPr>
            </a:p>
          </p:txBody>
        </p:sp>
        <p:grpSp>
          <p:nvGrpSpPr>
            <p:cNvPr id="277" name=""/>
            <p:cNvGrpSpPr/>
            <p:nvPr/>
          </p:nvGrpSpPr>
          <p:grpSpPr>
            <a:xfrm>
              <a:off x="6286680" y="2247840"/>
              <a:ext cx="1659240" cy="1265760"/>
              <a:chOff x="6286680" y="2247840"/>
              <a:chExt cx="1659240" cy="1265760"/>
            </a:xfrm>
          </p:grpSpPr>
          <p:grpSp>
            <p:nvGrpSpPr>
              <p:cNvPr id="278" name=""/>
              <p:cNvGrpSpPr/>
              <p:nvPr/>
            </p:nvGrpSpPr>
            <p:grpSpPr>
              <a:xfrm>
                <a:off x="6286680" y="2247840"/>
                <a:ext cx="793800" cy="1265400"/>
                <a:chOff x="6286680" y="2247840"/>
                <a:chExt cx="793800" cy="1265400"/>
              </a:xfrm>
            </p:grpSpPr>
            <p:grpSp>
              <p:nvGrpSpPr>
                <p:cNvPr id="279" name=""/>
                <p:cNvGrpSpPr/>
                <p:nvPr/>
              </p:nvGrpSpPr>
              <p:grpSpPr>
                <a:xfrm>
                  <a:off x="6286680" y="2247840"/>
                  <a:ext cx="793800" cy="1265400"/>
                  <a:chOff x="6286680" y="2247840"/>
                  <a:chExt cx="793800" cy="1265400"/>
                </a:xfrm>
              </p:grpSpPr>
              <p:sp>
                <p:nvSpPr>
                  <p:cNvPr id="280" name=""/>
                  <p:cNvSpPr/>
                  <p:nvPr/>
                </p:nvSpPr>
                <p:spPr>
                  <a:xfrm>
                    <a:off x="6418440" y="2522520"/>
                    <a:ext cx="335160" cy="513000"/>
                  </a:xfrm>
                  <a:custGeom>
                    <a:avLst/>
                    <a:gdLst/>
                    <a:ahLst/>
                    <a:rect l="0" t="0" r="r" b="b"/>
                    <a:pathLst>
                      <a:path w="931" h="1425">
                        <a:moveTo>
                          <a:pt x="71" y="203"/>
                        </a:moveTo>
                        <a:lnTo>
                          <a:pt x="112" y="91"/>
                        </a:lnTo>
                        <a:lnTo>
                          <a:pt x="214" y="0"/>
                        </a:lnTo>
                        <a:lnTo>
                          <a:pt x="327" y="0"/>
                        </a:lnTo>
                        <a:lnTo>
                          <a:pt x="460" y="91"/>
                        </a:lnTo>
                        <a:lnTo>
                          <a:pt x="594" y="203"/>
                        </a:lnTo>
                        <a:lnTo>
                          <a:pt x="778" y="417"/>
                        </a:lnTo>
                        <a:lnTo>
                          <a:pt x="880" y="651"/>
                        </a:lnTo>
                        <a:lnTo>
                          <a:pt x="931" y="926"/>
                        </a:lnTo>
                        <a:lnTo>
                          <a:pt x="931" y="1099"/>
                        </a:lnTo>
                        <a:lnTo>
                          <a:pt x="880" y="1232"/>
                        </a:lnTo>
                        <a:lnTo>
                          <a:pt x="798" y="1364"/>
                        </a:lnTo>
                        <a:lnTo>
                          <a:pt x="634" y="1415"/>
                        </a:lnTo>
                        <a:lnTo>
                          <a:pt x="512" y="1425"/>
                        </a:lnTo>
                        <a:lnTo>
                          <a:pt x="276" y="1415"/>
                        </a:lnTo>
                        <a:lnTo>
                          <a:pt x="153" y="1303"/>
                        </a:lnTo>
                        <a:lnTo>
                          <a:pt x="30" y="1170"/>
                        </a:lnTo>
                        <a:lnTo>
                          <a:pt x="0" y="998"/>
                        </a:lnTo>
                        <a:lnTo>
                          <a:pt x="0" y="814"/>
                        </a:lnTo>
                        <a:lnTo>
                          <a:pt x="40" y="447"/>
                        </a:lnTo>
                        <a:lnTo>
                          <a:pt x="71" y="20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1" name=""/>
                  <p:cNvSpPr/>
                  <p:nvPr/>
                </p:nvSpPr>
                <p:spPr>
                  <a:xfrm>
                    <a:off x="6586560" y="2522520"/>
                    <a:ext cx="493920" cy="302040"/>
                  </a:xfrm>
                  <a:custGeom>
                    <a:avLst/>
                    <a:gdLst/>
                    <a:ahLst/>
                    <a:rect l="0" t="0" r="r" b="b"/>
                    <a:pathLst>
                      <a:path w="1372" h="839">
                        <a:moveTo>
                          <a:pt x="60" y="0"/>
                        </a:moveTo>
                        <a:lnTo>
                          <a:pt x="152" y="30"/>
                        </a:lnTo>
                        <a:lnTo>
                          <a:pt x="507" y="266"/>
                        </a:lnTo>
                        <a:lnTo>
                          <a:pt x="722" y="379"/>
                        </a:lnTo>
                        <a:lnTo>
                          <a:pt x="1047" y="583"/>
                        </a:lnTo>
                        <a:lnTo>
                          <a:pt x="1372" y="778"/>
                        </a:lnTo>
                        <a:lnTo>
                          <a:pt x="1372" y="829"/>
                        </a:lnTo>
                        <a:lnTo>
                          <a:pt x="1321" y="839"/>
                        </a:lnTo>
                        <a:lnTo>
                          <a:pt x="1118" y="707"/>
                        </a:lnTo>
                        <a:lnTo>
                          <a:pt x="1067" y="707"/>
                        </a:lnTo>
                        <a:lnTo>
                          <a:pt x="1037" y="747"/>
                        </a:lnTo>
                        <a:lnTo>
                          <a:pt x="976" y="778"/>
                        </a:lnTo>
                        <a:lnTo>
                          <a:pt x="905" y="778"/>
                        </a:lnTo>
                        <a:lnTo>
                          <a:pt x="823" y="696"/>
                        </a:lnTo>
                        <a:lnTo>
                          <a:pt x="793" y="593"/>
                        </a:lnTo>
                        <a:lnTo>
                          <a:pt x="813" y="511"/>
                        </a:lnTo>
                        <a:lnTo>
                          <a:pt x="670" y="430"/>
                        </a:lnTo>
                        <a:lnTo>
                          <a:pt x="487" y="358"/>
                        </a:lnTo>
                        <a:lnTo>
                          <a:pt x="294" y="276"/>
                        </a:lnTo>
                        <a:lnTo>
                          <a:pt x="152" y="225"/>
                        </a:lnTo>
                        <a:lnTo>
                          <a:pt x="40" y="143"/>
                        </a:lnTo>
                        <a:lnTo>
                          <a:pt x="0" y="61"/>
                        </a:lnTo>
                        <a:lnTo>
                          <a:pt x="6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2" name=""/>
                  <p:cNvSpPr/>
                  <p:nvPr/>
                </p:nvSpPr>
                <p:spPr>
                  <a:xfrm>
                    <a:off x="6286680" y="2521080"/>
                    <a:ext cx="206640" cy="497160"/>
                  </a:xfrm>
                  <a:custGeom>
                    <a:avLst/>
                    <a:gdLst/>
                    <a:ahLst/>
                    <a:rect l="0" t="0" r="r" b="b"/>
                    <a:pathLst>
                      <a:path w="574" h="1381">
                        <a:moveTo>
                          <a:pt x="318" y="131"/>
                        </a:moveTo>
                        <a:lnTo>
                          <a:pt x="441" y="0"/>
                        </a:lnTo>
                        <a:lnTo>
                          <a:pt x="533" y="10"/>
                        </a:lnTo>
                        <a:lnTo>
                          <a:pt x="574" y="81"/>
                        </a:lnTo>
                        <a:lnTo>
                          <a:pt x="523" y="172"/>
                        </a:lnTo>
                        <a:lnTo>
                          <a:pt x="369" y="304"/>
                        </a:lnTo>
                        <a:lnTo>
                          <a:pt x="245" y="426"/>
                        </a:lnTo>
                        <a:lnTo>
                          <a:pt x="92" y="548"/>
                        </a:lnTo>
                        <a:lnTo>
                          <a:pt x="92" y="608"/>
                        </a:lnTo>
                        <a:lnTo>
                          <a:pt x="122" y="701"/>
                        </a:lnTo>
                        <a:lnTo>
                          <a:pt x="318" y="853"/>
                        </a:lnTo>
                        <a:lnTo>
                          <a:pt x="400" y="944"/>
                        </a:lnTo>
                        <a:lnTo>
                          <a:pt x="410" y="995"/>
                        </a:lnTo>
                        <a:lnTo>
                          <a:pt x="379" y="1056"/>
                        </a:lnTo>
                        <a:lnTo>
                          <a:pt x="318" y="1117"/>
                        </a:lnTo>
                        <a:lnTo>
                          <a:pt x="297" y="1239"/>
                        </a:lnTo>
                        <a:lnTo>
                          <a:pt x="338" y="1350"/>
                        </a:lnTo>
                        <a:lnTo>
                          <a:pt x="328" y="1381"/>
                        </a:lnTo>
                        <a:lnTo>
                          <a:pt x="276" y="1360"/>
                        </a:lnTo>
                        <a:lnTo>
                          <a:pt x="245" y="1269"/>
                        </a:lnTo>
                        <a:lnTo>
                          <a:pt x="245" y="1147"/>
                        </a:lnTo>
                        <a:lnTo>
                          <a:pt x="286" y="1066"/>
                        </a:lnTo>
                        <a:lnTo>
                          <a:pt x="338" y="975"/>
                        </a:lnTo>
                        <a:lnTo>
                          <a:pt x="308" y="944"/>
                        </a:lnTo>
                        <a:lnTo>
                          <a:pt x="204" y="843"/>
                        </a:lnTo>
                        <a:lnTo>
                          <a:pt x="81" y="762"/>
                        </a:lnTo>
                        <a:lnTo>
                          <a:pt x="0" y="659"/>
                        </a:lnTo>
                        <a:lnTo>
                          <a:pt x="0" y="507"/>
                        </a:lnTo>
                        <a:lnTo>
                          <a:pt x="51" y="436"/>
                        </a:lnTo>
                        <a:lnTo>
                          <a:pt x="163" y="365"/>
                        </a:lnTo>
                        <a:lnTo>
                          <a:pt x="276" y="233"/>
                        </a:lnTo>
                        <a:lnTo>
                          <a:pt x="318" y="13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3" name=""/>
                  <p:cNvSpPr/>
                  <p:nvPr/>
                </p:nvSpPr>
                <p:spPr>
                  <a:xfrm>
                    <a:off x="6483240" y="2247840"/>
                    <a:ext cx="227520" cy="257400"/>
                  </a:xfrm>
                  <a:custGeom>
                    <a:avLst/>
                    <a:gdLst/>
                    <a:ahLst/>
                    <a:rect l="0" t="0" r="r" b="b"/>
                    <a:pathLst>
                      <a:path w="632" h="715">
                        <a:moveTo>
                          <a:pt x="214" y="715"/>
                        </a:moveTo>
                        <a:lnTo>
                          <a:pt x="132" y="715"/>
                        </a:lnTo>
                        <a:lnTo>
                          <a:pt x="50" y="674"/>
                        </a:lnTo>
                        <a:lnTo>
                          <a:pt x="0" y="562"/>
                        </a:lnTo>
                        <a:lnTo>
                          <a:pt x="0" y="368"/>
                        </a:lnTo>
                        <a:lnTo>
                          <a:pt x="71" y="153"/>
                        </a:lnTo>
                        <a:lnTo>
                          <a:pt x="184" y="10"/>
                        </a:lnTo>
                        <a:lnTo>
                          <a:pt x="285" y="0"/>
                        </a:lnTo>
                        <a:lnTo>
                          <a:pt x="407" y="20"/>
                        </a:lnTo>
                        <a:lnTo>
                          <a:pt x="468" y="112"/>
                        </a:lnTo>
                        <a:lnTo>
                          <a:pt x="490" y="204"/>
                        </a:lnTo>
                        <a:lnTo>
                          <a:pt x="468" y="326"/>
                        </a:lnTo>
                        <a:lnTo>
                          <a:pt x="448" y="439"/>
                        </a:lnTo>
                        <a:lnTo>
                          <a:pt x="571" y="541"/>
                        </a:lnTo>
                        <a:lnTo>
                          <a:pt x="632" y="603"/>
                        </a:lnTo>
                        <a:lnTo>
                          <a:pt x="632" y="643"/>
                        </a:lnTo>
                        <a:lnTo>
                          <a:pt x="602" y="643"/>
                        </a:lnTo>
                        <a:lnTo>
                          <a:pt x="428" y="511"/>
                        </a:lnTo>
                        <a:lnTo>
                          <a:pt x="367" y="603"/>
                        </a:lnTo>
                        <a:lnTo>
                          <a:pt x="265" y="684"/>
                        </a:lnTo>
                        <a:lnTo>
                          <a:pt x="214" y="71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4" name=""/>
                  <p:cNvSpPr/>
                  <p:nvPr/>
                </p:nvSpPr>
                <p:spPr>
                  <a:xfrm>
                    <a:off x="6392880" y="2930400"/>
                    <a:ext cx="186120" cy="582840"/>
                  </a:xfrm>
                  <a:custGeom>
                    <a:avLst/>
                    <a:gdLst/>
                    <a:ahLst/>
                    <a:rect l="0" t="0" r="r" b="b"/>
                    <a:pathLst>
                      <a:path w="517" h="1619">
                        <a:moveTo>
                          <a:pt x="172" y="498"/>
                        </a:moveTo>
                        <a:lnTo>
                          <a:pt x="162" y="325"/>
                        </a:lnTo>
                        <a:lnTo>
                          <a:pt x="142" y="111"/>
                        </a:lnTo>
                        <a:lnTo>
                          <a:pt x="233" y="0"/>
                        </a:lnTo>
                        <a:lnTo>
                          <a:pt x="355" y="50"/>
                        </a:lnTo>
                        <a:lnTo>
                          <a:pt x="385" y="305"/>
                        </a:lnTo>
                        <a:lnTo>
                          <a:pt x="385" y="539"/>
                        </a:lnTo>
                        <a:lnTo>
                          <a:pt x="355" y="835"/>
                        </a:lnTo>
                        <a:lnTo>
                          <a:pt x="274" y="1018"/>
                        </a:lnTo>
                        <a:lnTo>
                          <a:pt x="213" y="1202"/>
                        </a:lnTo>
                        <a:lnTo>
                          <a:pt x="132" y="1324"/>
                        </a:lnTo>
                        <a:lnTo>
                          <a:pt x="132" y="1375"/>
                        </a:lnTo>
                        <a:lnTo>
                          <a:pt x="274" y="1405"/>
                        </a:lnTo>
                        <a:lnTo>
                          <a:pt x="396" y="1456"/>
                        </a:lnTo>
                        <a:lnTo>
                          <a:pt x="517" y="1568"/>
                        </a:lnTo>
                        <a:lnTo>
                          <a:pt x="487" y="1599"/>
                        </a:lnTo>
                        <a:lnTo>
                          <a:pt x="385" y="1619"/>
                        </a:lnTo>
                        <a:lnTo>
                          <a:pt x="314" y="1578"/>
                        </a:lnTo>
                        <a:lnTo>
                          <a:pt x="183" y="1476"/>
                        </a:lnTo>
                        <a:lnTo>
                          <a:pt x="70" y="1415"/>
                        </a:lnTo>
                        <a:lnTo>
                          <a:pt x="10" y="1405"/>
                        </a:lnTo>
                        <a:lnTo>
                          <a:pt x="0" y="1334"/>
                        </a:lnTo>
                        <a:lnTo>
                          <a:pt x="80" y="1222"/>
                        </a:lnTo>
                        <a:lnTo>
                          <a:pt x="162" y="1130"/>
                        </a:lnTo>
                        <a:lnTo>
                          <a:pt x="223" y="988"/>
                        </a:lnTo>
                        <a:lnTo>
                          <a:pt x="253" y="815"/>
                        </a:lnTo>
                        <a:lnTo>
                          <a:pt x="233" y="651"/>
                        </a:lnTo>
                        <a:lnTo>
                          <a:pt x="183" y="447"/>
                        </a:lnTo>
                        <a:lnTo>
                          <a:pt x="172" y="49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5" name=""/>
                  <p:cNvSpPr/>
                  <p:nvPr/>
                </p:nvSpPr>
                <p:spPr>
                  <a:xfrm>
                    <a:off x="6550200" y="2951280"/>
                    <a:ext cx="178200" cy="546480"/>
                  </a:xfrm>
                  <a:custGeom>
                    <a:avLst/>
                    <a:gdLst/>
                    <a:ahLst/>
                    <a:rect l="0" t="0" r="r" b="b"/>
                    <a:pathLst>
                      <a:path w="495" h="1518">
                        <a:moveTo>
                          <a:pt x="145" y="0"/>
                        </a:moveTo>
                        <a:lnTo>
                          <a:pt x="237" y="50"/>
                        </a:lnTo>
                        <a:lnTo>
                          <a:pt x="268" y="122"/>
                        </a:lnTo>
                        <a:lnTo>
                          <a:pt x="309" y="305"/>
                        </a:lnTo>
                        <a:lnTo>
                          <a:pt x="319" y="550"/>
                        </a:lnTo>
                        <a:lnTo>
                          <a:pt x="289" y="886"/>
                        </a:lnTo>
                        <a:lnTo>
                          <a:pt x="196" y="1120"/>
                        </a:lnTo>
                        <a:lnTo>
                          <a:pt x="145" y="1223"/>
                        </a:lnTo>
                        <a:lnTo>
                          <a:pt x="145" y="1315"/>
                        </a:lnTo>
                        <a:lnTo>
                          <a:pt x="350" y="1376"/>
                        </a:lnTo>
                        <a:lnTo>
                          <a:pt x="485" y="1437"/>
                        </a:lnTo>
                        <a:lnTo>
                          <a:pt x="495" y="1468"/>
                        </a:lnTo>
                        <a:lnTo>
                          <a:pt x="444" y="1518"/>
                        </a:lnTo>
                        <a:lnTo>
                          <a:pt x="309" y="1518"/>
                        </a:lnTo>
                        <a:lnTo>
                          <a:pt x="237" y="1457"/>
                        </a:lnTo>
                        <a:lnTo>
                          <a:pt x="155" y="1406"/>
                        </a:lnTo>
                        <a:lnTo>
                          <a:pt x="82" y="1345"/>
                        </a:lnTo>
                        <a:lnTo>
                          <a:pt x="0" y="1315"/>
                        </a:lnTo>
                        <a:lnTo>
                          <a:pt x="10" y="1274"/>
                        </a:lnTo>
                        <a:lnTo>
                          <a:pt x="82" y="1193"/>
                        </a:lnTo>
                        <a:lnTo>
                          <a:pt x="155" y="1080"/>
                        </a:lnTo>
                        <a:lnTo>
                          <a:pt x="217" y="927"/>
                        </a:lnTo>
                        <a:lnTo>
                          <a:pt x="237" y="734"/>
                        </a:lnTo>
                        <a:lnTo>
                          <a:pt x="217" y="520"/>
                        </a:lnTo>
                        <a:lnTo>
                          <a:pt x="155" y="346"/>
                        </a:lnTo>
                        <a:lnTo>
                          <a:pt x="92" y="264"/>
                        </a:lnTo>
                        <a:lnTo>
                          <a:pt x="51" y="132"/>
                        </a:lnTo>
                        <a:lnTo>
                          <a:pt x="145"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286" name=""/>
                <p:cNvSpPr/>
                <p:nvPr/>
              </p:nvSpPr>
              <p:spPr>
                <a:xfrm>
                  <a:off x="6527880" y="2557440"/>
                  <a:ext cx="154440" cy="329040"/>
                </a:xfrm>
                <a:custGeom>
                  <a:avLst/>
                  <a:gdLst/>
                  <a:ahLst/>
                  <a:rect l="0" t="0" r="r" b="b"/>
                  <a:pathLst>
                    <a:path w="429" h="914">
                      <a:moveTo>
                        <a:pt x="0" y="30"/>
                      </a:moveTo>
                      <a:lnTo>
                        <a:pt x="81" y="0"/>
                      </a:lnTo>
                      <a:lnTo>
                        <a:pt x="143" y="10"/>
                      </a:lnTo>
                      <a:lnTo>
                        <a:pt x="123" y="153"/>
                      </a:lnTo>
                      <a:lnTo>
                        <a:pt x="389" y="606"/>
                      </a:lnTo>
                      <a:lnTo>
                        <a:pt x="429" y="740"/>
                      </a:lnTo>
                      <a:lnTo>
                        <a:pt x="389" y="914"/>
                      </a:lnTo>
                      <a:lnTo>
                        <a:pt x="265" y="801"/>
                      </a:lnTo>
                      <a:lnTo>
                        <a:pt x="245" y="647"/>
                      </a:lnTo>
                      <a:lnTo>
                        <a:pt x="91" y="143"/>
                      </a:lnTo>
                      <a:lnTo>
                        <a:pt x="0" y="3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87" name=""/>
              <p:cNvGrpSpPr/>
              <p:nvPr/>
            </p:nvGrpSpPr>
            <p:grpSpPr>
              <a:xfrm>
                <a:off x="6886440" y="3085920"/>
                <a:ext cx="1059480" cy="427680"/>
                <a:chOff x="6886440" y="3085920"/>
                <a:chExt cx="1059480" cy="427680"/>
              </a:xfrm>
            </p:grpSpPr>
            <p:sp>
              <p:nvSpPr>
                <p:cNvPr id="288" name=""/>
                <p:cNvSpPr/>
                <p:nvPr/>
              </p:nvSpPr>
              <p:spPr>
                <a:xfrm>
                  <a:off x="7164360" y="3085920"/>
                  <a:ext cx="462240" cy="235440"/>
                </a:xfrm>
                <a:custGeom>
                  <a:avLst/>
                  <a:gdLst/>
                  <a:ahLst/>
                  <a:rect l="0" t="0" r="r" b="b"/>
                  <a:pathLst>
                    <a:path w="1284" h="654">
                      <a:moveTo>
                        <a:pt x="0" y="466"/>
                      </a:moveTo>
                      <a:lnTo>
                        <a:pt x="15" y="314"/>
                      </a:lnTo>
                      <a:lnTo>
                        <a:pt x="122" y="213"/>
                      </a:lnTo>
                      <a:lnTo>
                        <a:pt x="330" y="96"/>
                      </a:lnTo>
                      <a:lnTo>
                        <a:pt x="595" y="25"/>
                      </a:lnTo>
                      <a:lnTo>
                        <a:pt x="820" y="0"/>
                      </a:lnTo>
                      <a:lnTo>
                        <a:pt x="983" y="55"/>
                      </a:lnTo>
                      <a:lnTo>
                        <a:pt x="1126" y="156"/>
                      </a:lnTo>
                      <a:lnTo>
                        <a:pt x="1202" y="248"/>
                      </a:lnTo>
                      <a:lnTo>
                        <a:pt x="1263" y="390"/>
                      </a:lnTo>
                      <a:lnTo>
                        <a:pt x="1284" y="512"/>
                      </a:lnTo>
                      <a:lnTo>
                        <a:pt x="1233" y="593"/>
                      </a:lnTo>
                      <a:lnTo>
                        <a:pt x="1177" y="634"/>
                      </a:lnTo>
                      <a:lnTo>
                        <a:pt x="1039" y="654"/>
                      </a:lnTo>
                      <a:lnTo>
                        <a:pt x="912" y="634"/>
                      </a:lnTo>
                      <a:lnTo>
                        <a:pt x="831" y="573"/>
                      </a:lnTo>
                      <a:lnTo>
                        <a:pt x="744" y="507"/>
                      </a:lnTo>
                      <a:lnTo>
                        <a:pt x="668" y="466"/>
                      </a:lnTo>
                      <a:lnTo>
                        <a:pt x="544" y="466"/>
                      </a:lnTo>
                      <a:lnTo>
                        <a:pt x="412" y="486"/>
                      </a:lnTo>
                      <a:lnTo>
                        <a:pt x="254" y="523"/>
                      </a:lnTo>
                      <a:lnTo>
                        <a:pt x="132" y="548"/>
                      </a:lnTo>
                      <a:lnTo>
                        <a:pt x="20" y="548"/>
                      </a:lnTo>
                      <a:lnTo>
                        <a:pt x="0" y="46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89" name=""/>
                <p:cNvSpPr/>
                <p:nvPr/>
              </p:nvSpPr>
              <p:spPr>
                <a:xfrm>
                  <a:off x="7532640" y="3198960"/>
                  <a:ext cx="413280" cy="303480"/>
                </a:xfrm>
                <a:custGeom>
                  <a:avLst/>
                  <a:gdLst/>
                  <a:ahLst/>
                  <a:rect l="0" t="0" r="r" b="b"/>
                  <a:pathLst>
                    <a:path w="1148" h="843">
                      <a:moveTo>
                        <a:pt x="81" y="0"/>
                      </a:moveTo>
                      <a:lnTo>
                        <a:pt x="184" y="50"/>
                      </a:lnTo>
                      <a:lnTo>
                        <a:pt x="204" y="121"/>
                      </a:lnTo>
                      <a:lnTo>
                        <a:pt x="266" y="233"/>
                      </a:lnTo>
                      <a:lnTo>
                        <a:pt x="266" y="314"/>
                      </a:lnTo>
                      <a:lnTo>
                        <a:pt x="214" y="477"/>
                      </a:lnTo>
                      <a:lnTo>
                        <a:pt x="153" y="589"/>
                      </a:lnTo>
                      <a:lnTo>
                        <a:pt x="102" y="660"/>
                      </a:lnTo>
                      <a:lnTo>
                        <a:pt x="81" y="751"/>
                      </a:lnTo>
                      <a:lnTo>
                        <a:pt x="112" y="792"/>
                      </a:lnTo>
                      <a:lnTo>
                        <a:pt x="266" y="762"/>
                      </a:lnTo>
                      <a:lnTo>
                        <a:pt x="390" y="701"/>
                      </a:lnTo>
                      <a:lnTo>
                        <a:pt x="543" y="579"/>
                      </a:lnTo>
                      <a:lnTo>
                        <a:pt x="666" y="437"/>
                      </a:lnTo>
                      <a:lnTo>
                        <a:pt x="727" y="314"/>
                      </a:lnTo>
                      <a:lnTo>
                        <a:pt x="758" y="243"/>
                      </a:lnTo>
                      <a:lnTo>
                        <a:pt x="809" y="243"/>
                      </a:lnTo>
                      <a:lnTo>
                        <a:pt x="840" y="253"/>
                      </a:lnTo>
                      <a:lnTo>
                        <a:pt x="882" y="365"/>
                      </a:lnTo>
                      <a:lnTo>
                        <a:pt x="923" y="467"/>
                      </a:lnTo>
                      <a:lnTo>
                        <a:pt x="1035" y="538"/>
                      </a:lnTo>
                      <a:lnTo>
                        <a:pt x="1148" y="579"/>
                      </a:lnTo>
                      <a:lnTo>
                        <a:pt x="1117" y="609"/>
                      </a:lnTo>
                      <a:lnTo>
                        <a:pt x="1056" y="640"/>
                      </a:lnTo>
                      <a:lnTo>
                        <a:pt x="954" y="609"/>
                      </a:lnTo>
                      <a:lnTo>
                        <a:pt x="892" y="528"/>
                      </a:lnTo>
                      <a:lnTo>
                        <a:pt x="850" y="457"/>
                      </a:lnTo>
                      <a:lnTo>
                        <a:pt x="819" y="385"/>
                      </a:lnTo>
                      <a:lnTo>
                        <a:pt x="789" y="365"/>
                      </a:lnTo>
                      <a:lnTo>
                        <a:pt x="758" y="395"/>
                      </a:lnTo>
                      <a:lnTo>
                        <a:pt x="697" y="508"/>
                      </a:lnTo>
                      <a:lnTo>
                        <a:pt x="564" y="660"/>
                      </a:lnTo>
                      <a:lnTo>
                        <a:pt x="441" y="731"/>
                      </a:lnTo>
                      <a:lnTo>
                        <a:pt x="308" y="802"/>
                      </a:lnTo>
                      <a:lnTo>
                        <a:pt x="122" y="843"/>
                      </a:lnTo>
                      <a:lnTo>
                        <a:pt x="30" y="833"/>
                      </a:lnTo>
                      <a:lnTo>
                        <a:pt x="0" y="792"/>
                      </a:lnTo>
                      <a:lnTo>
                        <a:pt x="0" y="751"/>
                      </a:lnTo>
                      <a:lnTo>
                        <a:pt x="0" y="691"/>
                      </a:lnTo>
                      <a:lnTo>
                        <a:pt x="40" y="589"/>
                      </a:lnTo>
                      <a:lnTo>
                        <a:pt x="112" y="498"/>
                      </a:lnTo>
                      <a:lnTo>
                        <a:pt x="153" y="355"/>
                      </a:lnTo>
                      <a:lnTo>
                        <a:pt x="163" y="284"/>
                      </a:lnTo>
                      <a:lnTo>
                        <a:pt x="133" y="213"/>
                      </a:lnTo>
                      <a:lnTo>
                        <a:pt x="51" y="142"/>
                      </a:lnTo>
                      <a:lnTo>
                        <a:pt x="61" y="71"/>
                      </a:lnTo>
                      <a:lnTo>
                        <a:pt x="8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0" name=""/>
                <p:cNvSpPr/>
                <p:nvPr/>
              </p:nvSpPr>
              <p:spPr>
                <a:xfrm>
                  <a:off x="7469280" y="3165480"/>
                  <a:ext cx="410040" cy="303480"/>
                </a:xfrm>
                <a:custGeom>
                  <a:avLst/>
                  <a:gdLst/>
                  <a:ahLst/>
                  <a:rect l="0" t="0" r="r" b="b"/>
                  <a:pathLst>
                    <a:path w="1139" h="843">
                      <a:moveTo>
                        <a:pt x="81" y="0"/>
                      </a:moveTo>
                      <a:lnTo>
                        <a:pt x="182" y="50"/>
                      </a:lnTo>
                      <a:lnTo>
                        <a:pt x="203" y="121"/>
                      </a:lnTo>
                      <a:lnTo>
                        <a:pt x="264" y="233"/>
                      </a:lnTo>
                      <a:lnTo>
                        <a:pt x="264" y="314"/>
                      </a:lnTo>
                      <a:lnTo>
                        <a:pt x="213" y="477"/>
                      </a:lnTo>
                      <a:lnTo>
                        <a:pt x="152" y="589"/>
                      </a:lnTo>
                      <a:lnTo>
                        <a:pt x="101" y="660"/>
                      </a:lnTo>
                      <a:lnTo>
                        <a:pt x="81" y="751"/>
                      </a:lnTo>
                      <a:lnTo>
                        <a:pt x="111" y="792"/>
                      </a:lnTo>
                      <a:lnTo>
                        <a:pt x="264" y="762"/>
                      </a:lnTo>
                      <a:lnTo>
                        <a:pt x="387" y="701"/>
                      </a:lnTo>
                      <a:lnTo>
                        <a:pt x="539" y="579"/>
                      </a:lnTo>
                      <a:lnTo>
                        <a:pt x="661" y="437"/>
                      </a:lnTo>
                      <a:lnTo>
                        <a:pt x="722" y="314"/>
                      </a:lnTo>
                      <a:lnTo>
                        <a:pt x="752" y="243"/>
                      </a:lnTo>
                      <a:lnTo>
                        <a:pt x="803" y="243"/>
                      </a:lnTo>
                      <a:lnTo>
                        <a:pt x="833" y="253"/>
                      </a:lnTo>
                      <a:lnTo>
                        <a:pt x="875" y="365"/>
                      </a:lnTo>
                      <a:lnTo>
                        <a:pt x="916" y="467"/>
                      </a:lnTo>
                      <a:lnTo>
                        <a:pt x="1027" y="538"/>
                      </a:lnTo>
                      <a:lnTo>
                        <a:pt x="1139" y="579"/>
                      </a:lnTo>
                      <a:lnTo>
                        <a:pt x="1109" y="609"/>
                      </a:lnTo>
                      <a:lnTo>
                        <a:pt x="1048" y="640"/>
                      </a:lnTo>
                      <a:lnTo>
                        <a:pt x="946" y="609"/>
                      </a:lnTo>
                      <a:lnTo>
                        <a:pt x="885" y="528"/>
                      </a:lnTo>
                      <a:lnTo>
                        <a:pt x="844" y="457"/>
                      </a:lnTo>
                      <a:lnTo>
                        <a:pt x="813" y="385"/>
                      </a:lnTo>
                      <a:lnTo>
                        <a:pt x="783" y="365"/>
                      </a:lnTo>
                      <a:lnTo>
                        <a:pt x="752" y="395"/>
                      </a:lnTo>
                      <a:lnTo>
                        <a:pt x="691" y="508"/>
                      </a:lnTo>
                      <a:lnTo>
                        <a:pt x="559" y="660"/>
                      </a:lnTo>
                      <a:lnTo>
                        <a:pt x="437" y="731"/>
                      </a:lnTo>
                      <a:lnTo>
                        <a:pt x="305" y="802"/>
                      </a:lnTo>
                      <a:lnTo>
                        <a:pt x="121" y="843"/>
                      </a:lnTo>
                      <a:lnTo>
                        <a:pt x="30" y="833"/>
                      </a:lnTo>
                      <a:lnTo>
                        <a:pt x="0" y="792"/>
                      </a:lnTo>
                      <a:lnTo>
                        <a:pt x="0" y="751"/>
                      </a:lnTo>
                      <a:lnTo>
                        <a:pt x="0" y="691"/>
                      </a:lnTo>
                      <a:lnTo>
                        <a:pt x="40" y="589"/>
                      </a:lnTo>
                      <a:lnTo>
                        <a:pt x="111" y="498"/>
                      </a:lnTo>
                      <a:lnTo>
                        <a:pt x="152" y="355"/>
                      </a:lnTo>
                      <a:lnTo>
                        <a:pt x="162" y="284"/>
                      </a:lnTo>
                      <a:lnTo>
                        <a:pt x="132" y="213"/>
                      </a:lnTo>
                      <a:lnTo>
                        <a:pt x="50" y="142"/>
                      </a:lnTo>
                      <a:lnTo>
                        <a:pt x="60" y="71"/>
                      </a:lnTo>
                      <a:lnTo>
                        <a:pt x="8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1" name=""/>
                <p:cNvSpPr/>
                <p:nvPr/>
              </p:nvSpPr>
              <p:spPr>
                <a:xfrm>
                  <a:off x="6886440" y="3241800"/>
                  <a:ext cx="398880" cy="271800"/>
                </a:xfrm>
                <a:custGeom>
                  <a:avLst/>
                  <a:gdLst/>
                  <a:ahLst/>
                  <a:rect l="0" t="0" r="r" b="b"/>
                  <a:pathLst>
                    <a:path w="1108" h="755">
                      <a:moveTo>
                        <a:pt x="956" y="50"/>
                      </a:moveTo>
                      <a:lnTo>
                        <a:pt x="895" y="0"/>
                      </a:lnTo>
                      <a:lnTo>
                        <a:pt x="834" y="0"/>
                      </a:lnTo>
                      <a:lnTo>
                        <a:pt x="803" y="50"/>
                      </a:lnTo>
                      <a:lnTo>
                        <a:pt x="813" y="112"/>
                      </a:lnTo>
                      <a:lnTo>
                        <a:pt x="926" y="305"/>
                      </a:lnTo>
                      <a:lnTo>
                        <a:pt x="1027" y="510"/>
                      </a:lnTo>
                      <a:lnTo>
                        <a:pt x="1037" y="622"/>
                      </a:lnTo>
                      <a:lnTo>
                        <a:pt x="1007" y="683"/>
                      </a:lnTo>
                      <a:lnTo>
                        <a:pt x="926" y="683"/>
                      </a:lnTo>
                      <a:lnTo>
                        <a:pt x="691" y="693"/>
                      </a:lnTo>
                      <a:lnTo>
                        <a:pt x="478" y="673"/>
                      </a:lnTo>
                      <a:lnTo>
                        <a:pt x="366" y="622"/>
                      </a:lnTo>
                      <a:lnTo>
                        <a:pt x="274" y="581"/>
                      </a:lnTo>
                      <a:lnTo>
                        <a:pt x="223" y="581"/>
                      </a:lnTo>
                      <a:lnTo>
                        <a:pt x="162" y="642"/>
                      </a:lnTo>
                      <a:lnTo>
                        <a:pt x="20" y="663"/>
                      </a:lnTo>
                      <a:lnTo>
                        <a:pt x="0" y="704"/>
                      </a:lnTo>
                      <a:lnTo>
                        <a:pt x="91" y="714"/>
                      </a:lnTo>
                      <a:lnTo>
                        <a:pt x="223" y="704"/>
                      </a:lnTo>
                      <a:lnTo>
                        <a:pt x="264" y="683"/>
                      </a:lnTo>
                      <a:lnTo>
                        <a:pt x="376" y="724"/>
                      </a:lnTo>
                      <a:lnTo>
                        <a:pt x="468" y="724"/>
                      </a:lnTo>
                      <a:lnTo>
                        <a:pt x="600" y="744"/>
                      </a:lnTo>
                      <a:lnTo>
                        <a:pt x="793" y="755"/>
                      </a:lnTo>
                      <a:lnTo>
                        <a:pt x="966" y="744"/>
                      </a:lnTo>
                      <a:lnTo>
                        <a:pt x="1068" y="714"/>
                      </a:lnTo>
                      <a:lnTo>
                        <a:pt x="1108" y="663"/>
                      </a:lnTo>
                      <a:lnTo>
                        <a:pt x="1108" y="592"/>
                      </a:lnTo>
                      <a:lnTo>
                        <a:pt x="1108" y="459"/>
                      </a:lnTo>
                      <a:lnTo>
                        <a:pt x="1058" y="326"/>
                      </a:lnTo>
                      <a:lnTo>
                        <a:pt x="1007" y="183"/>
                      </a:lnTo>
                      <a:lnTo>
                        <a:pt x="956" y="5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2" name=""/>
                <p:cNvSpPr/>
                <p:nvPr/>
              </p:nvSpPr>
              <p:spPr>
                <a:xfrm>
                  <a:off x="6891480" y="3206880"/>
                  <a:ext cx="349560" cy="254520"/>
                </a:xfrm>
                <a:custGeom>
                  <a:avLst/>
                  <a:gdLst/>
                  <a:ahLst/>
                  <a:rect l="0" t="0" r="r" b="b"/>
                  <a:pathLst>
                    <a:path w="971" h="707">
                      <a:moveTo>
                        <a:pt x="839" y="0"/>
                      </a:moveTo>
                      <a:lnTo>
                        <a:pt x="789" y="51"/>
                      </a:lnTo>
                      <a:lnTo>
                        <a:pt x="779" y="132"/>
                      </a:lnTo>
                      <a:lnTo>
                        <a:pt x="789" y="246"/>
                      </a:lnTo>
                      <a:lnTo>
                        <a:pt x="819" y="379"/>
                      </a:lnTo>
                      <a:lnTo>
                        <a:pt x="839" y="533"/>
                      </a:lnTo>
                      <a:lnTo>
                        <a:pt x="859" y="605"/>
                      </a:lnTo>
                      <a:lnTo>
                        <a:pt x="849" y="635"/>
                      </a:lnTo>
                      <a:lnTo>
                        <a:pt x="748" y="646"/>
                      </a:lnTo>
                      <a:lnTo>
                        <a:pt x="556" y="656"/>
                      </a:lnTo>
                      <a:lnTo>
                        <a:pt x="394" y="625"/>
                      </a:lnTo>
                      <a:lnTo>
                        <a:pt x="272" y="564"/>
                      </a:lnTo>
                      <a:lnTo>
                        <a:pt x="212" y="554"/>
                      </a:lnTo>
                      <a:lnTo>
                        <a:pt x="131" y="605"/>
                      </a:lnTo>
                      <a:lnTo>
                        <a:pt x="60" y="615"/>
                      </a:lnTo>
                      <a:lnTo>
                        <a:pt x="0" y="635"/>
                      </a:lnTo>
                      <a:lnTo>
                        <a:pt x="10" y="666"/>
                      </a:lnTo>
                      <a:lnTo>
                        <a:pt x="90" y="666"/>
                      </a:lnTo>
                      <a:lnTo>
                        <a:pt x="171" y="666"/>
                      </a:lnTo>
                      <a:lnTo>
                        <a:pt x="232" y="635"/>
                      </a:lnTo>
                      <a:lnTo>
                        <a:pt x="293" y="646"/>
                      </a:lnTo>
                      <a:lnTo>
                        <a:pt x="363" y="687"/>
                      </a:lnTo>
                      <a:lnTo>
                        <a:pt x="474" y="687"/>
                      </a:lnTo>
                      <a:lnTo>
                        <a:pt x="657" y="707"/>
                      </a:lnTo>
                      <a:lnTo>
                        <a:pt x="829" y="697"/>
                      </a:lnTo>
                      <a:lnTo>
                        <a:pt x="940" y="666"/>
                      </a:lnTo>
                      <a:lnTo>
                        <a:pt x="971" y="615"/>
                      </a:lnTo>
                      <a:lnTo>
                        <a:pt x="910" y="533"/>
                      </a:lnTo>
                      <a:lnTo>
                        <a:pt x="890" y="420"/>
                      </a:lnTo>
                      <a:lnTo>
                        <a:pt x="890" y="307"/>
                      </a:lnTo>
                      <a:lnTo>
                        <a:pt x="900" y="205"/>
                      </a:lnTo>
                      <a:lnTo>
                        <a:pt x="920" y="92"/>
                      </a:lnTo>
                      <a:lnTo>
                        <a:pt x="839"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93" name=""/>
                <p:cNvSpPr/>
                <p:nvPr/>
              </p:nvSpPr>
              <p:spPr>
                <a:xfrm>
                  <a:off x="6891480" y="3173400"/>
                  <a:ext cx="259200" cy="240120"/>
                </a:xfrm>
                <a:custGeom>
                  <a:avLst/>
                  <a:gdLst/>
                  <a:ahLst/>
                  <a:rect l="0" t="0" r="r" b="b"/>
                  <a:pathLst>
                    <a:path w="720" h="667">
                      <a:moveTo>
                        <a:pt x="705" y="265"/>
                      </a:moveTo>
                      <a:lnTo>
                        <a:pt x="720" y="183"/>
                      </a:lnTo>
                      <a:lnTo>
                        <a:pt x="685" y="91"/>
                      </a:lnTo>
                      <a:lnTo>
                        <a:pt x="585" y="25"/>
                      </a:lnTo>
                      <a:lnTo>
                        <a:pt x="393" y="0"/>
                      </a:lnTo>
                      <a:lnTo>
                        <a:pt x="181" y="45"/>
                      </a:lnTo>
                      <a:lnTo>
                        <a:pt x="20" y="137"/>
                      </a:lnTo>
                      <a:lnTo>
                        <a:pt x="0" y="234"/>
                      </a:lnTo>
                      <a:lnTo>
                        <a:pt x="0" y="356"/>
                      </a:lnTo>
                      <a:lnTo>
                        <a:pt x="85" y="427"/>
                      </a:lnTo>
                      <a:lnTo>
                        <a:pt x="170" y="458"/>
                      </a:lnTo>
                      <a:lnTo>
                        <a:pt x="292" y="458"/>
                      </a:lnTo>
                      <a:lnTo>
                        <a:pt x="408" y="453"/>
                      </a:lnTo>
                      <a:lnTo>
                        <a:pt x="488" y="591"/>
                      </a:lnTo>
                      <a:lnTo>
                        <a:pt x="538" y="657"/>
                      </a:lnTo>
                      <a:lnTo>
                        <a:pt x="580" y="667"/>
                      </a:lnTo>
                      <a:lnTo>
                        <a:pt x="580" y="637"/>
                      </a:lnTo>
                      <a:lnTo>
                        <a:pt x="473" y="443"/>
                      </a:lnTo>
                      <a:lnTo>
                        <a:pt x="575" y="397"/>
                      </a:lnTo>
                      <a:lnTo>
                        <a:pt x="670" y="311"/>
                      </a:lnTo>
                      <a:lnTo>
                        <a:pt x="705" y="26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4" name=""/>
          <p:cNvGrpSpPr/>
          <p:nvPr/>
        </p:nvGrpSpPr>
        <p:grpSpPr>
          <a:xfrm>
            <a:off x="3562200" y="2347920"/>
            <a:ext cx="3632040" cy="1544760"/>
            <a:chOff x="3562200" y="2347920"/>
            <a:chExt cx="3632040" cy="1544760"/>
          </a:xfrm>
        </p:grpSpPr>
        <p:sp>
          <p:nvSpPr>
            <p:cNvPr id="295" name=""/>
            <p:cNvSpPr/>
            <p:nvPr/>
          </p:nvSpPr>
          <p:spPr>
            <a:xfrm>
              <a:off x="3562200" y="2922480"/>
              <a:ext cx="3632040" cy="3952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6" name=""/>
            <p:cNvSpPr/>
            <p:nvPr/>
          </p:nvSpPr>
          <p:spPr>
            <a:xfrm>
              <a:off x="3562200" y="3497400"/>
              <a:ext cx="3632040" cy="3952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7" name=""/>
            <p:cNvSpPr/>
            <p:nvPr/>
          </p:nvSpPr>
          <p:spPr>
            <a:xfrm>
              <a:off x="3562200" y="2347920"/>
              <a:ext cx="3632040" cy="3952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98" name=""/>
          <p:cNvSpPr txBox="1"/>
          <p:nvPr/>
        </p:nvSpPr>
        <p:spPr>
          <a:xfrm>
            <a:off x="730080" y="322200"/>
            <a:ext cx="7683480" cy="411120"/>
          </a:xfrm>
          <a:prstGeom prst="rect">
            <a:avLst/>
          </a:prstGeom>
          <a:noFill/>
          <a:ln w="0">
            <a:noFill/>
          </a:ln>
        </p:spPr>
        <p:txBody>
          <a:bodyPr lIns="0" rIns="0" tIns="0" bIns="0" anchor="t">
            <a:noAutofit/>
          </a:bodyPr>
          <a:p>
            <a:pPr algn="ctr">
              <a:lnSpc>
                <a:spcPct val="100000"/>
              </a:lnSpc>
            </a:pPr>
            <a:r>
              <a:rPr b="1" lang="en-US" sz="2000" spc="-1" strike="noStrike">
                <a:solidFill>
                  <a:srgbClr val="333300"/>
                </a:solidFill>
                <a:latin typeface="Century Gothic"/>
                <a:ea typeface="Century Gothic"/>
              </a:rPr>
              <a:t>F O R   M O R E   I N F O R M A T I O N </a:t>
            </a:r>
            <a:endParaRPr b="0" lang="en-US" sz="2000" spc="-1" strike="noStrike">
              <a:solidFill>
                <a:srgbClr val="000000"/>
              </a:solidFill>
              <a:latin typeface="Arial"/>
            </a:endParaRPr>
          </a:p>
        </p:txBody>
      </p:sp>
      <p:sp>
        <p:nvSpPr>
          <p:cNvPr id="299" name=""/>
          <p:cNvSpPr txBox="1"/>
          <p:nvPr/>
        </p:nvSpPr>
        <p:spPr>
          <a:xfrm>
            <a:off x="1052640" y="1274760"/>
            <a:ext cx="7147080" cy="5116680"/>
          </a:xfrm>
          <a:prstGeom prst="rect">
            <a:avLst/>
          </a:prstGeom>
          <a:noFill/>
          <a:ln w="0">
            <a:noFill/>
          </a:ln>
        </p:spPr>
        <p:txBody>
          <a:bodyPr lIns="0" rIns="0" tIns="0" bIns="0" anchor="t">
            <a:noAutofit/>
          </a:bodyPr>
          <a:p>
            <a:pPr>
              <a:lnSpc>
                <a:spcPct val="145000"/>
              </a:lnSpc>
              <a:spcBef>
                <a:spcPts val="961"/>
              </a:spcBef>
              <a:tabLst>
                <a:tab algn="l" pos="2798640"/>
                <a:tab algn="l" pos="4062240"/>
              </a:tabLst>
            </a:pPr>
            <a:r>
              <a:rPr b="1" lang="en-US" sz="2000" spc="-1" strike="noStrike">
                <a:solidFill>
                  <a:srgbClr val="000000"/>
                </a:solidFill>
                <a:latin typeface="Arial Narrow"/>
                <a:ea typeface="Arial Narrow"/>
              </a:rPr>
              <a:t>For more information, </a:t>
            </a:r>
            <a:br>
              <a:rPr sz="2000"/>
            </a:br>
            <a:r>
              <a:rPr b="1" lang="en-US" sz="2000" spc="-1" strike="noStrike">
                <a:solidFill>
                  <a:srgbClr val="000000"/>
                </a:solidFill>
                <a:latin typeface="Arial Narrow"/>
                <a:ea typeface="Arial Narrow"/>
              </a:rPr>
              <a:t>or to place an order for your beans:</a:t>
            </a:r>
            <a:endParaRPr b="0" lang="en-US" sz="2000" spc="-1" strike="noStrike">
              <a:solidFill>
                <a:srgbClr val="000000"/>
              </a:solidFill>
              <a:latin typeface="Arial"/>
            </a:endParaRPr>
          </a:p>
          <a:p>
            <a:pPr>
              <a:lnSpc>
                <a:spcPct val="145000"/>
              </a:lnSpc>
              <a:spcBef>
                <a:spcPts val="961"/>
              </a:spcBef>
              <a:tabLst>
                <a:tab algn="l" pos="2798640"/>
                <a:tab algn="l" pos="4062240"/>
              </a:tabLst>
            </a:pPr>
            <a:r>
              <a:rPr b="1" lang="en-US" sz="2000" spc="-1" strike="noStrike">
                <a:solidFill>
                  <a:srgbClr val="666633"/>
                </a:solidFill>
                <a:latin typeface="Arial Narrow"/>
                <a:ea typeface="Arial Narrow"/>
              </a:rPr>
              <a:t>	</a:t>
            </a:r>
            <a:r>
              <a:rPr b="1" lang="en-US" sz="2000" spc="-1" strike="noStrike">
                <a:solidFill>
                  <a:srgbClr val="666633"/>
                </a:solidFill>
                <a:latin typeface="Arial Narrow"/>
                <a:ea typeface="Arial Narrow"/>
              </a:rPr>
              <a:t>Call: 415-948-4766</a:t>
            </a:r>
            <a:endParaRPr b="0" lang="en-US" sz="2000" spc="-1" strike="noStrike">
              <a:solidFill>
                <a:srgbClr val="000000"/>
              </a:solidFill>
              <a:latin typeface="Arial"/>
            </a:endParaRPr>
          </a:p>
          <a:p>
            <a:pPr>
              <a:lnSpc>
                <a:spcPct val="145000"/>
              </a:lnSpc>
              <a:spcBef>
                <a:spcPts val="961"/>
              </a:spcBef>
              <a:tabLst>
                <a:tab algn="l" pos="2798640"/>
                <a:tab algn="l" pos="4062240"/>
              </a:tabLst>
            </a:pPr>
            <a:r>
              <a:rPr b="1" lang="en-US" sz="2000" spc="-1" strike="noStrike">
                <a:solidFill>
                  <a:srgbClr val="666633"/>
                </a:solidFill>
                <a:latin typeface="Arial Narrow"/>
                <a:ea typeface="Arial Narrow"/>
              </a:rPr>
              <a:t>	</a:t>
            </a:r>
            <a:r>
              <a:rPr b="1" lang="en-US" sz="2000" spc="-1" strike="noStrike">
                <a:solidFill>
                  <a:srgbClr val="666633"/>
                </a:solidFill>
                <a:latin typeface="Arial Narrow"/>
                <a:ea typeface="Arial Narrow"/>
              </a:rPr>
              <a:t>FAX: 415-917-0151</a:t>
            </a:r>
            <a:endParaRPr b="0" lang="en-US" sz="2000" spc="-1" strike="noStrike">
              <a:solidFill>
                <a:srgbClr val="000000"/>
              </a:solidFill>
              <a:latin typeface="Arial"/>
            </a:endParaRPr>
          </a:p>
          <a:p>
            <a:pPr>
              <a:lnSpc>
                <a:spcPct val="145000"/>
              </a:lnSpc>
              <a:spcBef>
                <a:spcPts val="961"/>
              </a:spcBef>
              <a:tabLst>
                <a:tab algn="l" pos="2798640"/>
                <a:tab algn="l" pos="4062240"/>
              </a:tabLst>
            </a:pPr>
            <a:r>
              <a:rPr b="1" lang="en-US" sz="2000" spc="-1" strike="noStrike">
                <a:solidFill>
                  <a:srgbClr val="666633"/>
                </a:solidFill>
                <a:latin typeface="Arial Narrow"/>
                <a:ea typeface="Arial Narrow"/>
              </a:rPr>
              <a:t>	</a:t>
            </a:r>
            <a:r>
              <a:rPr b="1" lang="en-US" sz="2000" spc="-1" strike="noStrike">
                <a:solidFill>
                  <a:srgbClr val="666633"/>
                </a:solidFill>
                <a:latin typeface="Arial Narrow"/>
                <a:ea typeface="Arial Narrow"/>
              </a:rPr>
              <a:t>email: Beans@BitBetter.com</a:t>
            </a:r>
            <a:endParaRPr b="0" lang="en-US" sz="2000" spc="-1" strike="noStrike">
              <a:solidFill>
                <a:srgbClr val="000000"/>
              </a:solidFill>
              <a:latin typeface="Arial"/>
            </a:endParaRPr>
          </a:p>
          <a:p>
            <a:pPr>
              <a:lnSpc>
                <a:spcPct val="145000"/>
              </a:lnSpc>
              <a:spcBef>
                <a:spcPts val="961"/>
              </a:spcBef>
              <a:tabLst>
                <a:tab algn="l" pos="2798640"/>
                <a:tab algn="l" pos="4062240"/>
              </a:tabLst>
            </a:pPr>
            <a:r>
              <a:rPr b="1" lang="en-US" sz="2000" spc="-1" strike="noStrike">
                <a:solidFill>
                  <a:srgbClr val="000000"/>
                </a:solidFill>
                <a:latin typeface="Arial Narrow"/>
                <a:ea typeface="Arial Narrow"/>
              </a:rPr>
              <a:t>	</a:t>
            </a:r>
            <a:r>
              <a:rPr b="1" lang="en-US" sz="2000" spc="-1" strike="noStrike">
                <a:solidFill>
                  <a:srgbClr val="000000"/>
                </a:solidFill>
                <a:latin typeface="Arial Narrow"/>
                <a:ea typeface="Arial Narrow"/>
              </a:rPr>
              <a:t>write: </a:t>
            </a:r>
            <a:r>
              <a:rPr b="1" lang="en-US" sz="2000" spc="-1" strike="noStrike">
                <a:solidFill>
                  <a:srgbClr val="000000"/>
                </a:solidFill>
                <a:latin typeface="Arial Narrow"/>
                <a:ea typeface="Arial Narrow"/>
              </a:rPr>
              <a:t>	</a:t>
            </a:r>
            <a:r>
              <a:rPr b="1" lang="en-US" sz="2000" spc="-1" strike="noStrike">
                <a:solidFill>
                  <a:srgbClr val="000000"/>
                </a:solidFill>
                <a:latin typeface="Arial Narrow"/>
                <a:ea typeface="Arial Narrow"/>
              </a:rPr>
              <a:t>A Bit Better Corporation</a:t>
            </a:r>
            <a:br>
              <a:rPr sz="2000"/>
            </a:br>
            <a:r>
              <a:rPr b="1" lang="en-US" sz="2000" spc="-1" strike="noStrike">
                <a:solidFill>
                  <a:srgbClr val="000000"/>
                </a:solidFill>
                <a:latin typeface="Arial Narrow"/>
                <a:ea typeface="Arial Narrow"/>
              </a:rPr>
              <a:t>	</a:t>
            </a:r>
            <a:r>
              <a:rPr b="1" lang="en-US" sz="2000" spc="-1" strike="noStrike">
                <a:solidFill>
                  <a:srgbClr val="000000"/>
                </a:solidFill>
                <a:latin typeface="Arial Narrow"/>
                <a:ea typeface="Arial Narrow"/>
              </a:rPr>
              <a:t>	</a:t>
            </a:r>
            <a:r>
              <a:rPr b="1" lang="en-US" sz="2000" spc="-1" strike="noStrike">
                <a:solidFill>
                  <a:srgbClr val="000000"/>
                </a:solidFill>
                <a:latin typeface="Arial Narrow"/>
                <a:ea typeface="Arial Narrow"/>
              </a:rPr>
              <a:t>127  Second Street, Suite 2</a:t>
            </a:r>
            <a:br>
              <a:rPr sz="2000"/>
            </a:br>
            <a:r>
              <a:rPr b="1" lang="en-US" sz="2000" spc="-1" strike="noStrike">
                <a:solidFill>
                  <a:srgbClr val="000000"/>
                </a:solidFill>
                <a:latin typeface="Arial Narrow"/>
                <a:ea typeface="Arial Narrow"/>
              </a:rPr>
              <a:t>	</a:t>
            </a:r>
            <a:r>
              <a:rPr b="1" lang="en-US" sz="2000" spc="-1" strike="noStrike">
                <a:solidFill>
                  <a:srgbClr val="000000"/>
                </a:solidFill>
                <a:latin typeface="Arial Narrow"/>
                <a:ea typeface="Arial Narrow"/>
              </a:rPr>
              <a:t>	</a:t>
            </a:r>
            <a:r>
              <a:rPr b="1" lang="en-US" sz="2000" spc="-1" strike="noStrike">
                <a:solidFill>
                  <a:srgbClr val="000000"/>
                </a:solidFill>
                <a:latin typeface="Arial Narrow"/>
                <a:ea typeface="Arial Narrow"/>
              </a:rPr>
              <a:t>Los Altos, CA  94022</a:t>
            </a:r>
            <a:br>
              <a:rPr sz="2000"/>
            </a:br>
            <a:r>
              <a:rPr b="1" lang="en-US" sz="2000" spc="-1" strike="noStrike">
                <a:solidFill>
                  <a:srgbClr val="000000"/>
                </a:solidFill>
                <a:latin typeface="Arial Narrow"/>
                <a:ea typeface="Arial Narrow"/>
              </a:rPr>
              <a:t>	</a:t>
            </a:r>
            <a:r>
              <a:rPr b="1" lang="en-US" sz="2000" spc="-1" strike="noStrike">
                <a:solidFill>
                  <a:srgbClr val="000000"/>
                </a:solidFill>
                <a:latin typeface="Arial Narrow"/>
                <a:ea typeface="Arial Narrow"/>
              </a:rPr>
              <a:t>	</a:t>
            </a:r>
            <a:r>
              <a:rPr b="1" lang="en-US" sz="2000" spc="-1" strike="noStrike">
                <a:solidFill>
                  <a:srgbClr val="000000"/>
                </a:solidFill>
                <a:latin typeface="Arial Narrow"/>
                <a:ea typeface="Arial Narrow"/>
              </a:rPr>
              <a:t>attn: Phil O. Beans</a:t>
            </a:r>
            <a:endParaRPr b="0" lang="en-US" sz="2000" spc="-1" strike="noStrike">
              <a:solidFill>
                <a:srgbClr val="000000"/>
              </a:solidFill>
              <a:latin typeface="Arial"/>
            </a:endParaRPr>
          </a:p>
        </p:txBody>
      </p:sp>
      <p:grpSp>
        <p:nvGrpSpPr>
          <p:cNvPr id="300" name=""/>
          <p:cNvGrpSpPr/>
          <p:nvPr/>
        </p:nvGrpSpPr>
        <p:grpSpPr>
          <a:xfrm>
            <a:off x="6114960" y="1677960"/>
            <a:ext cx="694440" cy="1108440"/>
            <a:chOff x="6114960" y="1677960"/>
            <a:chExt cx="694440" cy="1108440"/>
          </a:xfrm>
        </p:grpSpPr>
        <p:sp>
          <p:nvSpPr>
            <p:cNvPr id="301" name=""/>
            <p:cNvSpPr/>
            <p:nvPr/>
          </p:nvSpPr>
          <p:spPr>
            <a:xfrm>
              <a:off x="6318360" y="1944720"/>
              <a:ext cx="252720" cy="375120"/>
            </a:xfrm>
            <a:custGeom>
              <a:avLst/>
              <a:gdLst/>
              <a:ahLst/>
              <a:rect l="0" t="0" r="r" b="b"/>
              <a:pathLst>
                <a:path w="702" h="1042">
                  <a:moveTo>
                    <a:pt x="607" y="500"/>
                  </a:moveTo>
                  <a:lnTo>
                    <a:pt x="550" y="322"/>
                  </a:lnTo>
                  <a:lnTo>
                    <a:pt x="487" y="168"/>
                  </a:lnTo>
                  <a:lnTo>
                    <a:pt x="430" y="45"/>
                  </a:lnTo>
                  <a:lnTo>
                    <a:pt x="319" y="0"/>
                  </a:lnTo>
                  <a:lnTo>
                    <a:pt x="193" y="0"/>
                  </a:lnTo>
                  <a:lnTo>
                    <a:pt x="88" y="45"/>
                  </a:lnTo>
                  <a:lnTo>
                    <a:pt x="26" y="142"/>
                  </a:lnTo>
                  <a:lnTo>
                    <a:pt x="15" y="327"/>
                  </a:lnTo>
                  <a:lnTo>
                    <a:pt x="0" y="551"/>
                  </a:lnTo>
                  <a:lnTo>
                    <a:pt x="26" y="761"/>
                  </a:lnTo>
                  <a:lnTo>
                    <a:pt x="47" y="869"/>
                  </a:lnTo>
                  <a:lnTo>
                    <a:pt x="88" y="955"/>
                  </a:lnTo>
                  <a:lnTo>
                    <a:pt x="151" y="986"/>
                  </a:lnTo>
                  <a:lnTo>
                    <a:pt x="334" y="1037"/>
                  </a:lnTo>
                  <a:lnTo>
                    <a:pt x="450" y="1042"/>
                  </a:lnTo>
                  <a:lnTo>
                    <a:pt x="634" y="1001"/>
                  </a:lnTo>
                  <a:lnTo>
                    <a:pt x="702" y="864"/>
                  </a:lnTo>
                  <a:lnTo>
                    <a:pt x="686" y="730"/>
                  </a:lnTo>
                  <a:lnTo>
                    <a:pt x="618" y="546"/>
                  </a:lnTo>
                  <a:lnTo>
                    <a:pt x="607" y="50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02" name=""/>
            <p:cNvSpPr/>
            <p:nvPr/>
          </p:nvSpPr>
          <p:spPr>
            <a:xfrm>
              <a:off x="6114960" y="1968480"/>
              <a:ext cx="246600" cy="475200"/>
            </a:xfrm>
            <a:custGeom>
              <a:avLst/>
              <a:gdLst/>
              <a:ahLst/>
              <a:rect l="0" t="0" r="r" b="b"/>
              <a:pathLst>
                <a:path w="685" h="1320">
                  <a:moveTo>
                    <a:pt x="654" y="15"/>
                  </a:moveTo>
                  <a:lnTo>
                    <a:pt x="575" y="0"/>
                  </a:lnTo>
                  <a:lnTo>
                    <a:pt x="470" y="61"/>
                  </a:lnTo>
                  <a:lnTo>
                    <a:pt x="371" y="198"/>
                  </a:lnTo>
                  <a:lnTo>
                    <a:pt x="251" y="387"/>
                  </a:lnTo>
                  <a:lnTo>
                    <a:pt x="204" y="560"/>
                  </a:lnTo>
                  <a:lnTo>
                    <a:pt x="188" y="779"/>
                  </a:lnTo>
                  <a:lnTo>
                    <a:pt x="199" y="907"/>
                  </a:lnTo>
                  <a:lnTo>
                    <a:pt x="199" y="983"/>
                  </a:lnTo>
                  <a:lnTo>
                    <a:pt x="93" y="1065"/>
                  </a:lnTo>
                  <a:lnTo>
                    <a:pt x="36" y="1172"/>
                  </a:lnTo>
                  <a:lnTo>
                    <a:pt x="0" y="1264"/>
                  </a:lnTo>
                  <a:lnTo>
                    <a:pt x="31" y="1320"/>
                  </a:lnTo>
                  <a:lnTo>
                    <a:pt x="93" y="1320"/>
                  </a:lnTo>
                  <a:lnTo>
                    <a:pt x="161" y="1279"/>
                  </a:lnTo>
                  <a:lnTo>
                    <a:pt x="173" y="1198"/>
                  </a:lnTo>
                  <a:lnTo>
                    <a:pt x="204" y="1096"/>
                  </a:lnTo>
                  <a:lnTo>
                    <a:pt x="267" y="1035"/>
                  </a:lnTo>
                  <a:lnTo>
                    <a:pt x="329" y="1015"/>
                  </a:lnTo>
                  <a:lnTo>
                    <a:pt x="392" y="1015"/>
                  </a:lnTo>
                  <a:lnTo>
                    <a:pt x="402" y="968"/>
                  </a:lnTo>
                  <a:lnTo>
                    <a:pt x="340" y="952"/>
                  </a:lnTo>
                  <a:lnTo>
                    <a:pt x="277" y="942"/>
                  </a:lnTo>
                  <a:lnTo>
                    <a:pt x="251" y="851"/>
                  </a:lnTo>
                  <a:lnTo>
                    <a:pt x="246" y="698"/>
                  </a:lnTo>
                  <a:lnTo>
                    <a:pt x="267" y="530"/>
                  </a:lnTo>
                  <a:lnTo>
                    <a:pt x="324" y="403"/>
                  </a:lnTo>
                  <a:lnTo>
                    <a:pt x="387" y="290"/>
                  </a:lnTo>
                  <a:lnTo>
                    <a:pt x="449" y="234"/>
                  </a:lnTo>
                  <a:lnTo>
                    <a:pt x="528" y="188"/>
                  </a:lnTo>
                  <a:lnTo>
                    <a:pt x="617" y="142"/>
                  </a:lnTo>
                  <a:lnTo>
                    <a:pt x="680" y="111"/>
                  </a:lnTo>
                  <a:lnTo>
                    <a:pt x="685" y="50"/>
                  </a:lnTo>
                  <a:lnTo>
                    <a:pt x="654" y="1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03" name=""/>
            <p:cNvSpPr/>
            <p:nvPr/>
          </p:nvSpPr>
          <p:spPr>
            <a:xfrm>
              <a:off x="6431040" y="1955880"/>
              <a:ext cx="378360" cy="460800"/>
            </a:xfrm>
            <a:custGeom>
              <a:avLst/>
              <a:gdLst/>
              <a:ahLst/>
              <a:rect l="0" t="0" r="r" b="b"/>
              <a:pathLst>
                <a:path w="1051" h="1280">
                  <a:moveTo>
                    <a:pt x="538" y="254"/>
                  </a:moveTo>
                  <a:lnTo>
                    <a:pt x="387" y="137"/>
                  </a:lnTo>
                  <a:lnTo>
                    <a:pt x="219" y="30"/>
                  </a:lnTo>
                  <a:lnTo>
                    <a:pt x="125" y="0"/>
                  </a:lnTo>
                  <a:lnTo>
                    <a:pt x="5" y="20"/>
                  </a:lnTo>
                  <a:lnTo>
                    <a:pt x="0" y="106"/>
                  </a:lnTo>
                  <a:lnTo>
                    <a:pt x="62" y="198"/>
                  </a:lnTo>
                  <a:lnTo>
                    <a:pt x="125" y="183"/>
                  </a:lnTo>
                  <a:lnTo>
                    <a:pt x="187" y="152"/>
                  </a:lnTo>
                  <a:lnTo>
                    <a:pt x="277" y="152"/>
                  </a:lnTo>
                  <a:lnTo>
                    <a:pt x="397" y="224"/>
                  </a:lnTo>
                  <a:lnTo>
                    <a:pt x="491" y="315"/>
                  </a:lnTo>
                  <a:lnTo>
                    <a:pt x="653" y="479"/>
                  </a:lnTo>
                  <a:lnTo>
                    <a:pt x="737" y="668"/>
                  </a:lnTo>
                  <a:lnTo>
                    <a:pt x="800" y="795"/>
                  </a:lnTo>
                  <a:lnTo>
                    <a:pt x="832" y="923"/>
                  </a:lnTo>
                  <a:lnTo>
                    <a:pt x="806" y="938"/>
                  </a:lnTo>
                  <a:lnTo>
                    <a:pt x="726" y="938"/>
                  </a:lnTo>
                  <a:lnTo>
                    <a:pt x="648" y="953"/>
                  </a:lnTo>
                  <a:lnTo>
                    <a:pt x="638" y="995"/>
                  </a:lnTo>
                  <a:lnTo>
                    <a:pt x="690" y="1031"/>
                  </a:lnTo>
                  <a:lnTo>
                    <a:pt x="773" y="1046"/>
                  </a:lnTo>
                  <a:lnTo>
                    <a:pt x="879" y="1102"/>
                  </a:lnTo>
                  <a:lnTo>
                    <a:pt x="936" y="1178"/>
                  </a:lnTo>
                  <a:lnTo>
                    <a:pt x="952" y="1270"/>
                  </a:lnTo>
                  <a:lnTo>
                    <a:pt x="999" y="1280"/>
                  </a:lnTo>
                  <a:lnTo>
                    <a:pt x="1046" y="1234"/>
                  </a:lnTo>
                  <a:lnTo>
                    <a:pt x="1051" y="1148"/>
                  </a:lnTo>
                  <a:lnTo>
                    <a:pt x="1004" y="1077"/>
                  </a:lnTo>
                  <a:lnTo>
                    <a:pt x="910" y="964"/>
                  </a:lnTo>
                  <a:lnTo>
                    <a:pt x="868" y="841"/>
                  </a:lnTo>
                  <a:lnTo>
                    <a:pt x="821" y="709"/>
                  </a:lnTo>
                  <a:lnTo>
                    <a:pt x="758" y="546"/>
                  </a:lnTo>
                  <a:lnTo>
                    <a:pt x="679" y="413"/>
                  </a:lnTo>
                  <a:lnTo>
                    <a:pt x="601" y="305"/>
                  </a:lnTo>
                  <a:lnTo>
                    <a:pt x="538" y="25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04" name=""/>
            <p:cNvSpPr/>
            <p:nvPr/>
          </p:nvSpPr>
          <p:spPr>
            <a:xfrm>
              <a:off x="6288120" y="2241720"/>
              <a:ext cx="178200" cy="528840"/>
            </a:xfrm>
            <a:custGeom>
              <a:avLst/>
              <a:gdLst/>
              <a:ahLst/>
              <a:rect l="0" t="0" r="r" b="b"/>
              <a:pathLst>
                <a:path w="495" h="1469">
                  <a:moveTo>
                    <a:pt x="297" y="504"/>
                  </a:moveTo>
                  <a:lnTo>
                    <a:pt x="266" y="367"/>
                  </a:lnTo>
                  <a:lnTo>
                    <a:pt x="266" y="305"/>
                  </a:lnTo>
                  <a:lnTo>
                    <a:pt x="323" y="239"/>
                  </a:lnTo>
                  <a:lnTo>
                    <a:pt x="443" y="193"/>
                  </a:lnTo>
                  <a:lnTo>
                    <a:pt x="443" y="127"/>
                  </a:lnTo>
                  <a:lnTo>
                    <a:pt x="370" y="35"/>
                  </a:lnTo>
                  <a:lnTo>
                    <a:pt x="297" y="0"/>
                  </a:lnTo>
                  <a:lnTo>
                    <a:pt x="198" y="5"/>
                  </a:lnTo>
                  <a:lnTo>
                    <a:pt x="156" y="35"/>
                  </a:lnTo>
                  <a:lnTo>
                    <a:pt x="114" y="122"/>
                  </a:lnTo>
                  <a:lnTo>
                    <a:pt x="46" y="209"/>
                  </a:lnTo>
                  <a:lnTo>
                    <a:pt x="5" y="305"/>
                  </a:lnTo>
                  <a:lnTo>
                    <a:pt x="0" y="351"/>
                  </a:lnTo>
                  <a:lnTo>
                    <a:pt x="20" y="407"/>
                  </a:lnTo>
                  <a:lnTo>
                    <a:pt x="77" y="520"/>
                  </a:lnTo>
                  <a:lnTo>
                    <a:pt x="141" y="652"/>
                  </a:lnTo>
                  <a:lnTo>
                    <a:pt x="229" y="816"/>
                  </a:lnTo>
                  <a:lnTo>
                    <a:pt x="281" y="898"/>
                  </a:lnTo>
                  <a:lnTo>
                    <a:pt x="359" y="954"/>
                  </a:lnTo>
                  <a:lnTo>
                    <a:pt x="354" y="995"/>
                  </a:lnTo>
                  <a:lnTo>
                    <a:pt x="292" y="1030"/>
                  </a:lnTo>
                  <a:lnTo>
                    <a:pt x="214" y="1092"/>
                  </a:lnTo>
                  <a:lnTo>
                    <a:pt x="141" y="1178"/>
                  </a:lnTo>
                  <a:lnTo>
                    <a:pt x="114" y="1275"/>
                  </a:lnTo>
                  <a:lnTo>
                    <a:pt x="93" y="1418"/>
                  </a:lnTo>
                  <a:lnTo>
                    <a:pt x="109" y="1469"/>
                  </a:lnTo>
                  <a:lnTo>
                    <a:pt x="151" y="1469"/>
                  </a:lnTo>
                  <a:lnTo>
                    <a:pt x="234" y="1423"/>
                  </a:lnTo>
                  <a:lnTo>
                    <a:pt x="260" y="1392"/>
                  </a:lnTo>
                  <a:lnTo>
                    <a:pt x="260" y="1341"/>
                  </a:lnTo>
                  <a:lnTo>
                    <a:pt x="250" y="1260"/>
                  </a:lnTo>
                  <a:lnTo>
                    <a:pt x="281" y="1168"/>
                  </a:lnTo>
                  <a:lnTo>
                    <a:pt x="344" y="1107"/>
                  </a:lnTo>
                  <a:lnTo>
                    <a:pt x="397" y="1061"/>
                  </a:lnTo>
                  <a:lnTo>
                    <a:pt x="459" y="1061"/>
                  </a:lnTo>
                  <a:lnTo>
                    <a:pt x="495" y="1015"/>
                  </a:lnTo>
                  <a:lnTo>
                    <a:pt x="490" y="964"/>
                  </a:lnTo>
                  <a:lnTo>
                    <a:pt x="433" y="908"/>
                  </a:lnTo>
                  <a:lnTo>
                    <a:pt x="370" y="776"/>
                  </a:lnTo>
                  <a:lnTo>
                    <a:pt x="344" y="708"/>
                  </a:lnTo>
                  <a:lnTo>
                    <a:pt x="323" y="616"/>
                  </a:lnTo>
                  <a:lnTo>
                    <a:pt x="297" y="535"/>
                  </a:lnTo>
                  <a:lnTo>
                    <a:pt x="297" y="50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05" name=""/>
            <p:cNvSpPr/>
            <p:nvPr/>
          </p:nvSpPr>
          <p:spPr>
            <a:xfrm>
              <a:off x="6458040" y="2239920"/>
              <a:ext cx="211320" cy="546480"/>
            </a:xfrm>
            <a:custGeom>
              <a:avLst/>
              <a:gdLst/>
              <a:ahLst/>
              <a:rect l="0" t="0" r="r" b="b"/>
              <a:pathLst>
                <a:path w="587" h="1518">
                  <a:moveTo>
                    <a:pt x="431" y="269"/>
                  </a:moveTo>
                  <a:lnTo>
                    <a:pt x="364" y="137"/>
                  </a:lnTo>
                  <a:lnTo>
                    <a:pt x="296" y="55"/>
                  </a:lnTo>
                  <a:lnTo>
                    <a:pt x="181" y="0"/>
                  </a:lnTo>
                  <a:lnTo>
                    <a:pt x="62" y="0"/>
                  </a:lnTo>
                  <a:lnTo>
                    <a:pt x="0" y="55"/>
                  </a:lnTo>
                  <a:lnTo>
                    <a:pt x="0" y="117"/>
                  </a:lnTo>
                  <a:lnTo>
                    <a:pt x="77" y="183"/>
                  </a:lnTo>
                  <a:lnTo>
                    <a:pt x="160" y="223"/>
                  </a:lnTo>
                  <a:lnTo>
                    <a:pt x="223" y="279"/>
                  </a:lnTo>
                  <a:lnTo>
                    <a:pt x="254" y="356"/>
                  </a:lnTo>
                  <a:lnTo>
                    <a:pt x="254" y="484"/>
                  </a:lnTo>
                  <a:lnTo>
                    <a:pt x="223" y="601"/>
                  </a:lnTo>
                  <a:lnTo>
                    <a:pt x="223" y="769"/>
                  </a:lnTo>
                  <a:lnTo>
                    <a:pt x="197" y="886"/>
                  </a:lnTo>
                  <a:lnTo>
                    <a:pt x="181" y="993"/>
                  </a:lnTo>
                  <a:lnTo>
                    <a:pt x="181" y="1080"/>
                  </a:lnTo>
                  <a:lnTo>
                    <a:pt x="223" y="1110"/>
                  </a:lnTo>
                  <a:lnTo>
                    <a:pt x="269" y="1100"/>
                  </a:lnTo>
                  <a:lnTo>
                    <a:pt x="348" y="1115"/>
                  </a:lnTo>
                  <a:lnTo>
                    <a:pt x="416" y="1193"/>
                  </a:lnTo>
                  <a:lnTo>
                    <a:pt x="452" y="1310"/>
                  </a:lnTo>
                  <a:lnTo>
                    <a:pt x="462" y="1457"/>
                  </a:lnTo>
                  <a:lnTo>
                    <a:pt x="452" y="1508"/>
                  </a:lnTo>
                  <a:lnTo>
                    <a:pt x="514" y="1518"/>
                  </a:lnTo>
                  <a:lnTo>
                    <a:pt x="551" y="1493"/>
                  </a:lnTo>
                  <a:lnTo>
                    <a:pt x="587" y="1412"/>
                  </a:lnTo>
                  <a:lnTo>
                    <a:pt x="582" y="1335"/>
                  </a:lnTo>
                  <a:lnTo>
                    <a:pt x="535" y="1193"/>
                  </a:lnTo>
                  <a:lnTo>
                    <a:pt x="468" y="1115"/>
                  </a:lnTo>
                  <a:lnTo>
                    <a:pt x="390" y="1039"/>
                  </a:lnTo>
                  <a:lnTo>
                    <a:pt x="333" y="1003"/>
                  </a:lnTo>
                  <a:lnTo>
                    <a:pt x="269" y="988"/>
                  </a:lnTo>
                  <a:lnTo>
                    <a:pt x="264" y="947"/>
                  </a:lnTo>
                  <a:lnTo>
                    <a:pt x="312" y="810"/>
                  </a:lnTo>
                  <a:lnTo>
                    <a:pt x="359" y="662"/>
                  </a:lnTo>
                  <a:lnTo>
                    <a:pt x="400" y="560"/>
                  </a:lnTo>
                  <a:lnTo>
                    <a:pt x="431" y="438"/>
                  </a:lnTo>
                  <a:lnTo>
                    <a:pt x="452" y="361"/>
                  </a:lnTo>
                  <a:lnTo>
                    <a:pt x="431" y="26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06" name=""/>
            <p:cNvSpPr/>
            <p:nvPr/>
          </p:nvSpPr>
          <p:spPr>
            <a:xfrm>
              <a:off x="6222960" y="1677960"/>
              <a:ext cx="217800" cy="265320"/>
            </a:xfrm>
            <a:custGeom>
              <a:avLst/>
              <a:gdLst/>
              <a:ahLst/>
              <a:rect l="0" t="0" r="r" b="b"/>
              <a:pathLst>
                <a:path w="605" h="737">
                  <a:moveTo>
                    <a:pt x="391" y="722"/>
                  </a:moveTo>
                  <a:lnTo>
                    <a:pt x="495" y="722"/>
                  </a:lnTo>
                  <a:lnTo>
                    <a:pt x="589" y="640"/>
                  </a:lnTo>
                  <a:lnTo>
                    <a:pt x="605" y="585"/>
                  </a:lnTo>
                  <a:lnTo>
                    <a:pt x="605" y="513"/>
                  </a:lnTo>
                  <a:lnTo>
                    <a:pt x="573" y="360"/>
                  </a:lnTo>
                  <a:lnTo>
                    <a:pt x="511" y="253"/>
                  </a:lnTo>
                  <a:lnTo>
                    <a:pt x="396" y="91"/>
                  </a:lnTo>
                  <a:lnTo>
                    <a:pt x="313" y="30"/>
                  </a:lnTo>
                  <a:lnTo>
                    <a:pt x="197" y="0"/>
                  </a:lnTo>
                  <a:lnTo>
                    <a:pt x="83" y="40"/>
                  </a:lnTo>
                  <a:lnTo>
                    <a:pt x="26" y="106"/>
                  </a:lnTo>
                  <a:lnTo>
                    <a:pt x="10" y="182"/>
                  </a:lnTo>
                  <a:lnTo>
                    <a:pt x="10" y="279"/>
                  </a:lnTo>
                  <a:lnTo>
                    <a:pt x="52" y="407"/>
                  </a:lnTo>
                  <a:lnTo>
                    <a:pt x="83" y="483"/>
                  </a:lnTo>
                  <a:lnTo>
                    <a:pt x="72" y="554"/>
                  </a:lnTo>
                  <a:lnTo>
                    <a:pt x="0" y="686"/>
                  </a:lnTo>
                  <a:lnTo>
                    <a:pt x="0" y="717"/>
                  </a:lnTo>
                  <a:lnTo>
                    <a:pt x="36" y="737"/>
                  </a:lnTo>
                  <a:lnTo>
                    <a:pt x="135" y="569"/>
                  </a:lnTo>
                  <a:lnTo>
                    <a:pt x="208" y="630"/>
                  </a:lnTo>
                  <a:lnTo>
                    <a:pt x="296" y="686"/>
                  </a:lnTo>
                  <a:lnTo>
                    <a:pt x="344" y="701"/>
                  </a:lnTo>
                  <a:lnTo>
                    <a:pt x="391" y="7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307" name=""/>
          <p:cNvGrpSpPr/>
          <p:nvPr/>
        </p:nvGrpSpPr>
        <p:grpSpPr>
          <a:xfrm>
            <a:off x="884160" y="4935600"/>
            <a:ext cx="972000" cy="1465560"/>
            <a:chOff x="884160" y="4935600"/>
            <a:chExt cx="972000" cy="1465560"/>
          </a:xfrm>
        </p:grpSpPr>
        <p:sp>
          <p:nvSpPr>
            <p:cNvPr id="308" name=""/>
            <p:cNvSpPr/>
            <p:nvPr/>
          </p:nvSpPr>
          <p:spPr>
            <a:xfrm>
              <a:off x="1290600" y="4944960"/>
              <a:ext cx="368640" cy="336960"/>
            </a:xfrm>
            <a:custGeom>
              <a:avLst/>
              <a:gdLst/>
              <a:ahLst/>
              <a:rect l="0" t="0" r="r" b="b"/>
              <a:pathLst>
                <a:path w="1024" h="936">
                  <a:moveTo>
                    <a:pt x="242" y="44"/>
                  </a:moveTo>
                  <a:lnTo>
                    <a:pt x="374" y="0"/>
                  </a:lnTo>
                  <a:lnTo>
                    <a:pt x="468" y="31"/>
                  </a:lnTo>
                  <a:lnTo>
                    <a:pt x="571" y="133"/>
                  </a:lnTo>
                  <a:lnTo>
                    <a:pt x="633" y="280"/>
                  </a:lnTo>
                  <a:lnTo>
                    <a:pt x="641" y="382"/>
                  </a:lnTo>
                  <a:lnTo>
                    <a:pt x="649" y="516"/>
                  </a:lnTo>
                  <a:lnTo>
                    <a:pt x="805" y="579"/>
                  </a:lnTo>
                  <a:lnTo>
                    <a:pt x="1000" y="617"/>
                  </a:lnTo>
                  <a:lnTo>
                    <a:pt x="1024" y="649"/>
                  </a:lnTo>
                  <a:lnTo>
                    <a:pt x="961" y="675"/>
                  </a:lnTo>
                  <a:lnTo>
                    <a:pt x="641" y="605"/>
                  </a:lnTo>
                  <a:lnTo>
                    <a:pt x="578" y="739"/>
                  </a:lnTo>
                  <a:lnTo>
                    <a:pt x="492" y="854"/>
                  </a:lnTo>
                  <a:lnTo>
                    <a:pt x="390" y="898"/>
                  </a:lnTo>
                  <a:lnTo>
                    <a:pt x="281" y="936"/>
                  </a:lnTo>
                  <a:lnTo>
                    <a:pt x="203" y="911"/>
                  </a:lnTo>
                  <a:lnTo>
                    <a:pt x="93" y="809"/>
                  </a:lnTo>
                  <a:lnTo>
                    <a:pt x="15" y="681"/>
                  </a:lnTo>
                  <a:lnTo>
                    <a:pt x="0" y="573"/>
                  </a:lnTo>
                  <a:lnTo>
                    <a:pt x="39" y="357"/>
                  </a:lnTo>
                  <a:lnTo>
                    <a:pt x="132" y="190"/>
                  </a:lnTo>
                  <a:lnTo>
                    <a:pt x="203" y="95"/>
                  </a:lnTo>
                  <a:lnTo>
                    <a:pt x="288" y="38"/>
                  </a:lnTo>
                  <a:lnTo>
                    <a:pt x="242" y="4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09" name=""/>
            <p:cNvSpPr/>
            <p:nvPr/>
          </p:nvSpPr>
          <p:spPr>
            <a:xfrm>
              <a:off x="1203480" y="5297400"/>
              <a:ext cx="340200" cy="574920"/>
            </a:xfrm>
            <a:custGeom>
              <a:avLst/>
              <a:gdLst/>
              <a:ahLst/>
              <a:rect l="0" t="0" r="r" b="b"/>
              <a:pathLst>
                <a:path w="945" h="1597">
                  <a:moveTo>
                    <a:pt x="422" y="0"/>
                  </a:moveTo>
                  <a:lnTo>
                    <a:pt x="539" y="19"/>
                  </a:lnTo>
                  <a:lnTo>
                    <a:pt x="679" y="19"/>
                  </a:lnTo>
                  <a:lnTo>
                    <a:pt x="867" y="95"/>
                  </a:lnTo>
                  <a:lnTo>
                    <a:pt x="937" y="247"/>
                  </a:lnTo>
                  <a:lnTo>
                    <a:pt x="945" y="456"/>
                  </a:lnTo>
                  <a:lnTo>
                    <a:pt x="875" y="690"/>
                  </a:lnTo>
                  <a:lnTo>
                    <a:pt x="750" y="913"/>
                  </a:lnTo>
                  <a:lnTo>
                    <a:pt x="656" y="1103"/>
                  </a:lnTo>
                  <a:lnTo>
                    <a:pt x="562" y="1369"/>
                  </a:lnTo>
                  <a:lnTo>
                    <a:pt x="453" y="1527"/>
                  </a:lnTo>
                  <a:lnTo>
                    <a:pt x="312" y="1597"/>
                  </a:lnTo>
                  <a:lnTo>
                    <a:pt x="194" y="1597"/>
                  </a:lnTo>
                  <a:lnTo>
                    <a:pt x="54" y="1527"/>
                  </a:lnTo>
                  <a:lnTo>
                    <a:pt x="0" y="1426"/>
                  </a:lnTo>
                  <a:lnTo>
                    <a:pt x="0" y="1261"/>
                  </a:lnTo>
                  <a:lnTo>
                    <a:pt x="77" y="1046"/>
                  </a:lnTo>
                  <a:lnTo>
                    <a:pt x="140" y="747"/>
                  </a:lnTo>
                  <a:lnTo>
                    <a:pt x="163" y="380"/>
                  </a:lnTo>
                  <a:lnTo>
                    <a:pt x="124" y="101"/>
                  </a:lnTo>
                  <a:lnTo>
                    <a:pt x="242" y="6"/>
                  </a:lnTo>
                  <a:lnTo>
                    <a:pt x="42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10" name=""/>
            <p:cNvSpPr/>
            <p:nvPr/>
          </p:nvSpPr>
          <p:spPr>
            <a:xfrm>
              <a:off x="1471680" y="4935600"/>
              <a:ext cx="384480" cy="470160"/>
            </a:xfrm>
            <a:custGeom>
              <a:avLst/>
              <a:gdLst/>
              <a:ahLst/>
              <a:rect l="0" t="0" r="r" b="b"/>
              <a:pathLst>
                <a:path w="1068" h="1306">
                  <a:moveTo>
                    <a:pt x="242" y="1271"/>
                  </a:moveTo>
                  <a:lnTo>
                    <a:pt x="127" y="1306"/>
                  </a:lnTo>
                  <a:lnTo>
                    <a:pt x="48" y="1284"/>
                  </a:lnTo>
                  <a:lnTo>
                    <a:pt x="0" y="1222"/>
                  </a:lnTo>
                  <a:lnTo>
                    <a:pt x="39" y="1134"/>
                  </a:lnTo>
                  <a:lnTo>
                    <a:pt x="110" y="1094"/>
                  </a:lnTo>
                  <a:lnTo>
                    <a:pt x="238" y="1063"/>
                  </a:lnTo>
                  <a:lnTo>
                    <a:pt x="489" y="1041"/>
                  </a:lnTo>
                  <a:lnTo>
                    <a:pt x="812" y="966"/>
                  </a:lnTo>
                  <a:lnTo>
                    <a:pt x="927" y="993"/>
                  </a:lnTo>
                  <a:lnTo>
                    <a:pt x="874" y="830"/>
                  </a:lnTo>
                  <a:lnTo>
                    <a:pt x="759" y="648"/>
                  </a:lnTo>
                  <a:lnTo>
                    <a:pt x="666" y="436"/>
                  </a:lnTo>
                  <a:lnTo>
                    <a:pt x="640" y="233"/>
                  </a:lnTo>
                  <a:lnTo>
                    <a:pt x="662" y="176"/>
                  </a:lnTo>
                  <a:lnTo>
                    <a:pt x="733" y="154"/>
                  </a:lnTo>
                  <a:lnTo>
                    <a:pt x="825" y="154"/>
                  </a:lnTo>
                  <a:lnTo>
                    <a:pt x="913" y="110"/>
                  </a:lnTo>
                  <a:lnTo>
                    <a:pt x="962" y="61"/>
                  </a:lnTo>
                  <a:lnTo>
                    <a:pt x="988" y="0"/>
                  </a:lnTo>
                  <a:lnTo>
                    <a:pt x="1054" y="17"/>
                  </a:lnTo>
                  <a:lnTo>
                    <a:pt x="1068" y="74"/>
                  </a:lnTo>
                  <a:lnTo>
                    <a:pt x="1019" y="145"/>
                  </a:lnTo>
                  <a:lnTo>
                    <a:pt x="887" y="171"/>
                  </a:lnTo>
                  <a:lnTo>
                    <a:pt x="807" y="216"/>
                  </a:lnTo>
                  <a:lnTo>
                    <a:pt x="741" y="233"/>
                  </a:lnTo>
                  <a:lnTo>
                    <a:pt x="715" y="286"/>
                  </a:lnTo>
                  <a:lnTo>
                    <a:pt x="733" y="449"/>
                  </a:lnTo>
                  <a:lnTo>
                    <a:pt x="816" y="595"/>
                  </a:lnTo>
                  <a:lnTo>
                    <a:pt x="904" y="728"/>
                  </a:lnTo>
                  <a:lnTo>
                    <a:pt x="997" y="874"/>
                  </a:lnTo>
                  <a:lnTo>
                    <a:pt x="1054" y="1006"/>
                  </a:lnTo>
                  <a:lnTo>
                    <a:pt x="1050" y="1068"/>
                  </a:lnTo>
                  <a:lnTo>
                    <a:pt x="988" y="1090"/>
                  </a:lnTo>
                  <a:lnTo>
                    <a:pt x="746" y="1143"/>
                  </a:lnTo>
                  <a:lnTo>
                    <a:pt x="520" y="1196"/>
                  </a:lnTo>
                  <a:lnTo>
                    <a:pt x="295" y="1244"/>
                  </a:lnTo>
                  <a:lnTo>
                    <a:pt x="242" y="127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11" name=""/>
            <p:cNvSpPr/>
            <p:nvPr/>
          </p:nvSpPr>
          <p:spPr>
            <a:xfrm>
              <a:off x="1282680" y="5824440"/>
              <a:ext cx="257400" cy="557640"/>
            </a:xfrm>
            <a:custGeom>
              <a:avLst/>
              <a:gdLst/>
              <a:ahLst/>
              <a:rect l="0" t="0" r="r" b="b"/>
              <a:pathLst>
                <a:path w="715" h="1549">
                  <a:moveTo>
                    <a:pt x="132" y="177"/>
                  </a:moveTo>
                  <a:lnTo>
                    <a:pt x="38" y="76"/>
                  </a:lnTo>
                  <a:lnTo>
                    <a:pt x="69" y="0"/>
                  </a:lnTo>
                  <a:lnTo>
                    <a:pt x="163" y="0"/>
                  </a:lnTo>
                  <a:lnTo>
                    <a:pt x="271" y="82"/>
                  </a:lnTo>
                  <a:lnTo>
                    <a:pt x="412" y="253"/>
                  </a:lnTo>
                  <a:lnTo>
                    <a:pt x="490" y="419"/>
                  </a:lnTo>
                  <a:lnTo>
                    <a:pt x="560" y="578"/>
                  </a:lnTo>
                  <a:lnTo>
                    <a:pt x="583" y="724"/>
                  </a:lnTo>
                  <a:lnTo>
                    <a:pt x="575" y="800"/>
                  </a:lnTo>
                  <a:lnTo>
                    <a:pt x="505" y="895"/>
                  </a:lnTo>
                  <a:lnTo>
                    <a:pt x="389" y="1149"/>
                  </a:lnTo>
                  <a:lnTo>
                    <a:pt x="256" y="1296"/>
                  </a:lnTo>
                  <a:lnTo>
                    <a:pt x="225" y="1359"/>
                  </a:lnTo>
                  <a:lnTo>
                    <a:pt x="349" y="1372"/>
                  </a:lnTo>
                  <a:lnTo>
                    <a:pt x="513" y="1372"/>
                  </a:lnTo>
                  <a:lnTo>
                    <a:pt x="715" y="1429"/>
                  </a:lnTo>
                  <a:lnTo>
                    <a:pt x="699" y="1473"/>
                  </a:lnTo>
                  <a:lnTo>
                    <a:pt x="668" y="1524"/>
                  </a:lnTo>
                  <a:lnTo>
                    <a:pt x="606" y="1549"/>
                  </a:lnTo>
                  <a:lnTo>
                    <a:pt x="482" y="1511"/>
                  </a:lnTo>
                  <a:lnTo>
                    <a:pt x="349" y="1454"/>
                  </a:lnTo>
                  <a:lnTo>
                    <a:pt x="163" y="1448"/>
                  </a:lnTo>
                  <a:lnTo>
                    <a:pt x="46" y="1467"/>
                  </a:lnTo>
                  <a:lnTo>
                    <a:pt x="0" y="1435"/>
                  </a:lnTo>
                  <a:lnTo>
                    <a:pt x="0" y="1391"/>
                  </a:lnTo>
                  <a:lnTo>
                    <a:pt x="62" y="1340"/>
                  </a:lnTo>
                  <a:lnTo>
                    <a:pt x="163" y="1258"/>
                  </a:lnTo>
                  <a:lnTo>
                    <a:pt x="341" y="1047"/>
                  </a:lnTo>
                  <a:lnTo>
                    <a:pt x="420" y="863"/>
                  </a:lnTo>
                  <a:lnTo>
                    <a:pt x="443" y="686"/>
                  </a:lnTo>
                  <a:lnTo>
                    <a:pt x="435" y="590"/>
                  </a:lnTo>
                  <a:lnTo>
                    <a:pt x="373" y="419"/>
                  </a:lnTo>
                  <a:lnTo>
                    <a:pt x="209" y="234"/>
                  </a:lnTo>
                  <a:lnTo>
                    <a:pt x="93" y="139"/>
                  </a:lnTo>
                  <a:lnTo>
                    <a:pt x="132" y="17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12" name=""/>
            <p:cNvSpPr/>
            <p:nvPr/>
          </p:nvSpPr>
          <p:spPr>
            <a:xfrm>
              <a:off x="884160" y="5784840"/>
              <a:ext cx="378360" cy="616320"/>
            </a:xfrm>
            <a:custGeom>
              <a:avLst/>
              <a:gdLst/>
              <a:ahLst/>
              <a:rect l="0" t="0" r="r" b="b"/>
              <a:pathLst>
                <a:path w="1051" h="1712">
                  <a:moveTo>
                    <a:pt x="615" y="298"/>
                  </a:moveTo>
                  <a:lnTo>
                    <a:pt x="770" y="133"/>
                  </a:lnTo>
                  <a:lnTo>
                    <a:pt x="911" y="0"/>
                  </a:lnTo>
                  <a:lnTo>
                    <a:pt x="1004" y="12"/>
                  </a:lnTo>
                  <a:lnTo>
                    <a:pt x="1051" y="69"/>
                  </a:lnTo>
                  <a:lnTo>
                    <a:pt x="1051" y="171"/>
                  </a:lnTo>
                  <a:lnTo>
                    <a:pt x="965" y="228"/>
                  </a:lnTo>
                  <a:lnTo>
                    <a:pt x="818" y="305"/>
                  </a:lnTo>
                  <a:lnTo>
                    <a:pt x="700" y="400"/>
                  </a:lnTo>
                  <a:lnTo>
                    <a:pt x="568" y="528"/>
                  </a:lnTo>
                  <a:lnTo>
                    <a:pt x="514" y="624"/>
                  </a:lnTo>
                  <a:lnTo>
                    <a:pt x="451" y="738"/>
                  </a:lnTo>
                  <a:lnTo>
                    <a:pt x="420" y="891"/>
                  </a:lnTo>
                  <a:lnTo>
                    <a:pt x="420" y="1031"/>
                  </a:lnTo>
                  <a:lnTo>
                    <a:pt x="451" y="1203"/>
                  </a:lnTo>
                  <a:lnTo>
                    <a:pt x="537" y="1369"/>
                  </a:lnTo>
                  <a:lnTo>
                    <a:pt x="607" y="1464"/>
                  </a:lnTo>
                  <a:lnTo>
                    <a:pt x="654" y="1528"/>
                  </a:lnTo>
                  <a:lnTo>
                    <a:pt x="654" y="1579"/>
                  </a:lnTo>
                  <a:lnTo>
                    <a:pt x="607" y="1598"/>
                  </a:lnTo>
                  <a:lnTo>
                    <a:pt x="498" y="1598"/>
                  </a:lnTo>
                  <a:lnTo>
                    <a:pt x="327" y="1623"/>
                  </a:lnTo>
                  <a:lnTo>
                    <a:pt x="194" y="1662"/>
                  </a:lnTo>
                  <a:lnTo>
                    <a:pt x="116" y="1712"/>
                  </a:lnTo>
                  <a:lnTo>
                    <a:pt x="46" y="1693"/>
                  </a:lnTo>
                  <a:lnTo>
                    <a:pt x="0" y="1623"/>
                  </a:lnTo>
                  <a:lnTo>
                    <a:pt x="7" y="1566"/>
                  </a:lnTo>
                  <a:lnTo>
                    <a:pt x="139" y="1522"/>
                  </a:lnTo>
                  <a:lnTo>
                    <a:pt x="350" y="1509"/>
                  </a:lnTo>
                  <a:lnTo>
                    <a:pt x="545" y="1509"/>
                  </a:lnTo>
                  <a:lnTo>
                    <a:pt x="467" y="1433"/>
                  </a:lnTo>
                  <a:lnTo>
                    <a:pt x="428" y="1337"/>
                  </a:lnTo>
                  <a:lnTo>
                    <a:pt x="374" y="1203"/>
                  </a:lnTo>
                  <a:lnTo>
                    <a:pt x="311" y="1063"/>
                  </a:lnTo>
                  <a:lnTo>
                    <a:pt x="311" y="897"/>
                  </a:lnTo>
                  <a:lnTo>
                    <a:pt x="327" y="738"/>
                  </a:lnTo>
                  <a:lnTo>
                    <a:pt x="397" y="592"/>
                  </a:lnTo>
                  <a:lnTo>
                    <a:pt x="521" y="400"/>
                  </a:lnTo>
                  <a:lnTo>
                    <a:pt x="615" y="29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13" name=""/>
            <p:cNvSpPr/>
            <p:nvPr/>
          </p:nvSpPr>
          <p:spPr>
            <a:xfrm>
              <a:off x="961920" y="5316480"/>
              <a:ext cx="327240" cy="590760"/>
            </a:xfrm>
            <a:custGeom>
              <a:avLst/>
              <a:gdLst/>
              <a:ahLst/>
              <a:rect l="0" t="0" r="r" b="b"/>
              <a:pathLst>
                <a:path w="909" h="1641">
                  <a:moveTo>
                    <a:pt x="666" y="114"/>
                  </a:moveTo>
                  <a:lnTo>
                    <a:pt x="763" y="26"/>
                  </a:lnTo>
                  <a:lnTo>
                    <a:pt x="843" y="0"/>
                  </a:lnTo>
                  <a:lnTo>
                    <a:pt x="909" y="26"/>
                  </a:lnTo>
                  <a:lnTo>
                    <a:pt x="904" y="123"/>
                  </a:lnTo>
                  <a:lnTo>
                    <a:pt x="856" y="198"/>
                  </a:lnTo>
                  <a:lnTo>
                    <a:pt x="746" y="291"/>
                  </a:lnTo>
                  <a:lnTo>
                    <a:pt x="525" y="445"/>
                  </a:lnTo>
                  <a:lnTo>
                    <a:pt x="255" y="679"/>
                  </a:lnTo>
                  <a:lnTo>
                    <a:pt x="136" y="723"/>
                  </a:lnTo>
                  <a:lnTo>
                    <a:pt x="242" y="830"/>
                  </a:lnTo>
                  <a:lnTo>
                    <a:pt x="418" y="931"/>
                  </a:lnTo>
                  <a:lnTo>
                    <a:pt x="583" y="1068"/>
                  </a:lnTo>
                  <a:lnTo>
                    <a:pt x="684" y="1231"/>
                  </a:lnTo>
                  <a:lnTo>
                    <a:pt x="675" y="1293"/>
                  </a:lnTo>
                  <a:lnTo>
                    <a:pt x="622" y="1350"/>
                  </a:lnTo>
                  <a:lnTo>
                    <a:pt x="538" y="1398"/>
                  </a:lnTo>
                  <a:lnTo>
                    <a:pt x="468" y="1482"/>
                  </a:lnTo>
                  <a:lnTo>
                    <a:pt x="445" y="1548"/>
                  </a:lnTo>
                  <a:lnTo>
                    <a:pt x="445" y="1623"/>
                  </a:lnTo>
                  <a:lnTo>
                    <a:pt x="379" y="1641"/>
                  </a:lnTo>
                  <a:lnTo>
                    <a:pt x="339" y="1601"/>
                  </a:lnTo>
                  <a:lnTo>
                    <a:pt x="361" y="1509"/>
                  </a:lnTo>
                  <a:lnTo>
                    <a:pt x="472" y="1416"/>
                  </a:lnTo>
                  <a:lnTo>
                    <a:pt x="530" y="1337"/>
                  </a:lnTo>
                  <a:lnTo>
                    <a:pt x="587" y="1288"/>
                  </a:lnTo>
                  <a:lnTo>
                    <a:pt x="591" y="1226"/>
                  </a:lnTo>
                  <a:lnTo>
                    <a:pt x="516" y="1090"/>
                  </a:lnTo>
                  <a:lnTo>
                    <a:pt x="379" y="1010"/>
                  </a:lnTo>
                  <a:lnTo>
                    <a:pt x="260" y="940"/>
                  </a:lnTo>
                  <a:lnTo>
                    <a:pt x="114" y="865"/>
                  </a:lnTo>
                  <a:lnTo>
                    <a:pt x="17" y="780"/>
                  </a:lnTo>
                  <a:lnTo>
                    <a:pt x="0" y="718"/>
                  </a:lnTo>
                  <a:lnTo>
                    <a:pt x="48" y="670"/>
                  </a:lnTo>
                  <a:lnTo>
                    <a:pt x="246" y="489"/>
                  </a:lnTo>
                  <a:lnTo>
                    <a:pt x="436" y="326"/>
                  </a:lnTo>
                  <a:lnTo>
                    <a:pt x="636" y="167"/>
                  </a:lnTo>
                  <a:lnTo>
                    <a:pt x="666" y="11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314" name=""/>
          <p:cNvSpPr txBox="1"/>
          <p:nvPr/>
        </p:nvSpPr>
        <p:spPr>
          <a:xfrm>
            <a:off x="1911240" y="5253120"/>
            <a:ext cx="2585880" cy="100656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Narrow"/>
                <a:ea typeface="Arial Narrow"/>
              </a:rPr>
              <a:t>Remember --</a:t>
            </a:r>
            <a:br>
              <a:rPr sz="2000"/>
            </a:br>
            <a:r>
              <a:rPr b="1" lang="en-US" sz="2000" spc="-1" strike="noStrike">
                <a:solidFill>
                  <a:srgbClr val="000000"/>
                </a:solidFill>
                <a:latin typeface="Arial Narrow"/>
                <a:ea typeface="Arial Narrow"/>
              </a:rPr>
              <a:t>Beans are </a:t>
            </a:r>
            <a:br>
              <a:rPr sz="2000"/>
            </a:br>
            <a:r>
              <a:rPr b="1" lang="en-US" sz="2000" spc="-1" strike="noStrike">
                <a:solidFill>
                  <a:srgbClr val="000000"/>
                </a:solidFill>
                <a:latin typeface="Arial Narrow"/>
                <a:ea typeface="Arial Narrow"/>
              </a:rPr>
              <a:t>good for yo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
          <p:cNvGrpSpPr/>
          <p:nvPr/>
        </p:nvGrpSpPr>
        <p:grpSpPr>
          <a:xfrm>
            <a:off x="2838600" y="2801880"/>
            <a:ext cx="1225800" cy="1797480"/>
            <a:chOff x="2838600" y="2801880"/>
            <a:chExt cx="1225800" cy="1797480"/>
          </a:xfrm>
        </p:grpSpPr>
        <p:sp>
          <p:nvSpPr>
            <p:cNvPr id="316" name=""/>
            <p:cNvSpPr/>
            <p:nvPr/>
          </p:nvSpPr>
          <p:spPr>
            <a:xfrm>
              <a:off x="3036960" y="2873520"/>
              <a:ext cx="386280" cy="457560"/>
            </a:xfrm>
            <a:custGeom>
              <a:avLst/>
              <a:gdLst/>
              <a:ahLst/>
              <a:rect l="0" t="0" r="r" b="b"/>
              <a:pathLst>
                <a:path w="1073" h="1271">
                  <a:moveTo>
                    <a:pt x="998" y="604"/>
                  </a:moveTo>
                  <a:lnTo>
                    <a:pt x="916" y="425"/>
                  </a:lnTo>
                  <a:lnTo>
                    <a:pt x="746" y="234"/>
                  </a:lnTo>
                  <a:lnTo>
                    <a:pt x="577" y="117"/>
                  </a:lnTo>
                  <a:lnTo>
                    <a:pt x="395" y="18"/>
                  </a:lnTo>
                  <a:lnTo>
                    <a:pt x="219" y="0"/>
                  </a:lnTo>
                  <a:lnTo>
                    <a:pt x="93" y="36"/>
                  </a:lnTo>
                  <a:lnTo>
                    <a:pt x="25" y="129"/>
                  </a:lnTo>
                  <a:lnTo>
                    <a:pt x="0" y="252"/>
                  </a:lnTo>
                  <a:lnTo>
                    <a:pt x="25" y="400"/>
                  </a:lnTo>
                  <a:lnTo>
                    <a:pt x="81" y="567"/>
                  </a:lnTo>
                  <a:lnTo>
                    <a:pt x="219" y="722"/>
                  </a:lnTo>
                  <a:lnTo>
                    <a:pt x="370" y="901"/>
                  </a:lnTo>
                  <a:lnTo>
                    <a:pt x="276" y="1203"/>
                  </a:lnTo>
                  <a:lnTo>
                    <a:pt x="295" y="1271"/>
                  </a:lnTo>
                  <a:lnTo>
                    <a:pt x="345" y="1252"/>
                  </a:lnTo>
                  <a:lnTo>
                    <a:pt x="464" y="1005"/>
                  </a:lnTo>
                  <a:lnTo>
                    <a:pt x="633" y="1110"/>
                  </a:lnTo>
                  <a:lnTo>
                    <a:pt x="847" y="1147"/>
                  </a:lnTo>
                  <a:lnTo>
                    <a:pt x="973" y="1135"/>
                  </a:lnTo>
                  <a:lnTo>
                    <a:pt x="1067" y="1042"/>
                  </a:lnTo>
                  <a:lnTo>
                    <a:pt x="1073" y="888"/>
                  </a:lnTo>
                  <a:lnTo>
                    <a:pt x="1073" y="753"/>
                  </a:lnTo>
                  <a:lnTo>
                    <a:pt x="998" y="60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17" name=""/>
            <p:cNvSpPr/>
            <p:nvPr/>
          </p:nvSpPr>
          <p:spPr>
            <a:xfrm>
              <a:off x="3319560" y="2801880"/>
              <a:ext cx="432000" cy="513000"/>
            </a:xfrm>
            <a:custGeom>
              <a:avLst/>
              <a:gdLst/>
              <a:ahLst/>
              <a:rect l="0" t="0" r="r" b="b"/>
              <a:pathLst>
                <a:path w="1200" h="1425">
                  <a:moveTo>
                    <a:pt x="706" y="1024"/>
                  </a:moveTo>
                  <a:lnTo>
                    <a:pt x="656" y="1073"/>
                  </a:lnTo>
                  <a:lnTo>
                    <a:pt x="625" y="1160"/>
                  </a:lnTo>
                  <a:lnTo>
                    <a:pt x="606" y="1332"/>
                  </a:lnTo>
                  <a:lnTo>
                    <a:pt x="719" y="1425"/>
                  </a:lnTo>
                  <a:lnTo>
                    <a:pt x="875" y="1345"/>
                  </a:lnTo>
                  <a:lnTo>
                    <a:pt x="938" y="1110"/>
                  </a:lnTo>
                  <a:lnTo>
                    <a:pt x="1087" y="734"/>
                  </a:lnTo>
                  <a:lnTo>
                    <a:pt x="1162" y="400"/>
                  </a:lnTo>
                  <a:lnTo>
                    <a:pt x="1200" y="92"/>
                  </a:lnTo>
                  <a:lnTo>
                    <a:pt x="1162" y="0"/>
                  </a:lnTo>
                  <a:lnTo>
                    <a:pt x="1106" y="0"/>
                  </a:lnTo>
                  <a:lnTo>
                    <a:pt x="825" y="80"/>
                  </a:lnTo>
                  <a:lnTo>
                    <a:pt x="462" y="215"/>
                  </a:lnTo>
                  <a:lnTo>
                    <a:pt x="368" y="221"/>
                  </a:lnTo>
                  <a:lnTo>
                    <a:pt x="287" y="197"/>
                  </a:lnTo>
                  <a:lnTo>
                    <a:pt x="224" y="308"/>
                  </a:lnTo>
                  <a:lnTo>
                    <a:pt x="0" y="474"/>
                  </a:lnTo>
                  <a:lnTo>
                    <a:pt x="0" y="517"/>
                  </a:lnTo>
                  <a:lnTo>
                    <a:pt x="49" y="542"/>
                  </a:lnTo>
                  <a:lnTo>
                    <a:pt x="218" y="400"/>
                  </a:lnTo>
                  <a:lnTo>
                    <a:pt x="274" y="450"/>
                  </a:lnTo>
                  <a:lnTo>
                    <a:pt x="481" y="505"/>
                  </a:lnTo>
                  <a:lnTo>
                    <a:pt x="599" y="450"/>
                  </a:lnTo>
                  <a:lnTo>
                    <a:pt x="580" y="339"/>
                  </a:lnTo>
                  <a:lnTo>
                    <a:pt x="694" y="258"/>
                  </a:lnTo>
                  <a:lnTo>
                    <a:pt x="894" y="191"/>
                  </a:lnTo>
                  <a:lnTo>
                    <a:pt x="1038" y="147"/>
                  </a:lnTo>
                  <a:lnTo>
                    <a:pt x="1038" y="258"/>
                  </a:lnTo>
                  <a:lnTo>
                    <a:pt x="1006" y="505"/>
                  </a:lnTo>
                  <a:lnTo>
                    <a:pt x="944" y="684"/>
                  </a:lnTo>
                  <a:lnTo>
                    <a:pt x="850" y="882"/>
                  </a:lnTo>
                  <a:lnTo>
                    <a:pt x="706" y="102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18" name=""/>
            <p:cNvSpPr/>
            <p:nvPr/>
          </p:nvSpPr>
          <p:spPr>
            <a:xfrm>
              <a:off x="2838600" y="3132000"/>
              <a:ext cx="606960" cy="435240"/>
            </a:xfrm>
            <a:custGeom>
              <a:avLst/>
              <a:gdLst/>
              <a:ahLst/>
              <a:rect l="0" t="0" r="r" b="b"/>
              <a:pathLst>
                <a:path w="1686" h="1209">
                  <a:moveTo>
                    <a:pt x="1428" y="734"/>
                  </a:moveTo>
                  <a:lnTo>
                    <a:pt x="1541" y="642"/>
                  </a:lnTo>
                  <a:lnTo>
                    <a:pt x="1648" y="642"/>
                  </a:lnTo>
                  <a:lnTo>
                    <a:pt x="1686" y="740"/>
                  </a:lnTo>
                  <a:lnTo>
                    <a:pt x="1648" y="925"/>
                  </a:lnTo>
                  <a:lnTo>
                    <a:pt x="1403" y="1067"/>
                  </a:lnTo>
                  <a:lnTo>
                    <a:pt x="962" y="1190"/>
                  </a:lnTo>
                  <a:lnTo>
                    <a:pt x="874" y="1209"/>
                  </a:lnTo>
                  <a:lnTo>
                    <a:pt x="780" y="1209"/>
                  </a:lnTo>
                  <a:lnTo>
                    <a:pt x="604" y="1209"/>
                  </a:lnTo>
                  <a:lnTo>
                    <a:pt x="289" y="1116"/>
                  </a:lnTo>
                  <a:lnTo>
                    <a:pt x="6" y="1024"/>
                  </a:lnTo>
                  <a:lnTo>
                    <a:pt x="0" y="968"/>
                  </a:lnTo>
                  <a:lnTo>
                    <a:pt x="144" y="642"/>
                  </a:lnTo>
                  <a:lnTo>
                    <a:pt x="314" y="394"/>
                  </a:lnTo>
                  <a:lnTo>
                    <a:pt x="408" y="277"/>
                  </a:lnTo>
                  <a:lnTo>
                    <a:pt x="408" y="191"/>
                  </a:lnTo>
                  <a:lnTo>
                    <a:pt x="554" y="191"/>
                  </a:lnTo>
                  <a:lnTo>
                    <a:pt x="774" y="0"/>
                  </a:lnTo>
                  <a:lnTo>
                    <a:pt x="824" y="0"/>
                  </a:lnTo>
                  <a:lnTo>
                    <a:pt x="824" y="61"/>
                  </a:lnTo>
                  <a:lnTo>
                    <a:pt x="629" y="209"/>
                  </a:lnTo>
                  <a:lnTo>
                    <a:pt x="629" y="283"/>
                  </a:lnTo>
                  <a:lnTo>
                    <a:pt x="579" y="493"/>
                  </a:lnTo>
                  <a:lnTo>
                    <a:pt x="484" y="517"/>
                  </a:lnTo>
                  <a:lnTo>
                    <a:pt x="383" y="523"/>
                  </a:lnTo>
                  <a:lnTo>
                    <a:pt x="270" y="660"/>
                  </a:lnTo>
                  <a:lnTo>
                    <a:pt x="201" y="901"/>
                  </a:lnTo>
                  <a:lnTo>
                    <a:pt x="251" y="981"/>
                  </a:lnTo>
                  <a:lnTo>
                    <a:pt x="466" y="1042"/>
                  </a:lnTo>
                  <a:lnTo>
                    <a:pt x="673" y="1048"/>
                  </a:lnTo>
                  <a:lnTo>
                    <a:pt x="843" y="1048"/>
                  </a:lnTo>
                  <a:lnTo>
                    <a:pt x="1056" y="993"/>
                  </a:lnTo>
                  <a:lnTo>
                    <a:pt x="1258" y="882"/>
                  </a:lnTo>
                  <a:lnTo>
                    <a:pt x="1428" y="73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19" name=""/>
            <p:cNvSpPr/>
            <p:nvPr/>
          </p:nvSpPr>
          <p:spPr>
            <a:xfrm>
              <a:off x="3403440" y="3236760"/>
              <a:ext cx="479880" cy="702000"/>
            </a:xfrm>
            <a:custGeom>
              <a:avLst/>
              <a:gdLst/>
              <a:ahLst/>
              <a:rect l="0" t="0" r="r" b="b"/>
              <a:pathLst>
                <a:path w="1333" h="1950">
                  <a:moveTo>
                    <a:pt x="974" y="129"/>
                  </a:moveTo>
                  <a:lnTo>
                    <a:pt x="792" y="49"/>
                  </a:lnTo>
                  <a:lnTo>
                    <a:pt x="585" y="6"/>
                  </a:lnTo>
                  <a:lnTo>
                    <a:pt x="332" y="0"/>
                  </a:lnTo>
                  <a:lnTo>
                    <a:pt x="188" y="30"/>
                  </a:lnTo>
                  <a:lnTo>
                    <a:pt x="25" y="129"/>
                  </a:lnTo>
                  <a:lnTo>
                    <a:pt x="0" y="222"/>
                  </a:lnTo>
                  <a:lnTo>
                    <a:pt x="18" y="339"/>
                  </a:lnTo>
                  <a:lnTo>
                    <a:pt x="87" y="450"/>
                  </a:lnTo>
                  <a:lnTo>
                    <a:pt x="169" y="505"/>
                  </a:lnTo>
                  <a:lnTo>
                    <a:pt x="307" y="567"/>
                  </a:lnTo>
                  <a:lnTo>
                    <a:pt x="440" y="666"/>
                  </a:lnTo>
                  <a:lnTo>
                    <a:pt x="503" y="771"/>
                  </a:lnTo>
                  <a:lnTo>
                    <a:pt x="534" y="956"/>
                  </a:lnTo>
                  <a:lnTo>
                    <a:pt x="484" y="1105"/>
                  </a:lnTo>
                  <a:lnTo>
                    <a:pt x="390" y="1246"/>
                  </a:lnTo>
                  <a:lnTo>
                    <a:pt x="314" y="1450"/>
                  </a:lnTo>
                  <a:lnTo>
                    <a:pt x="307" y="1691"/>
                  </a:lnTo>
                  <a:lnTo>
                    <a:pt x="359" y="1832"/>
                  </a:lnTo>
                  <a:lnTo>
                    <a:pt x="478" y="1925"/>
                  </a:lnTo>
                  <a:lnTo>
                    <a:pt x="622" y="1950"/>
                  </a:lnTo>
                  <a:lnTo>
                    <a:pt x="842" y="1888"/>
                  </a:lnTo>
                  <a:lnTo>
                    <a:pt x="1038" y="1746"/>
                  </a:lnTo>
                  <a:lnTo>
                    <a:pt x="1164" y="1567"/>
                  </a:lnTo>
                  <a:lnTo>
                    <a:pt x="1289" y="1290"/>
                  </a:lnTo>
                  <a:lnTo>
                    <a:pt x="1333" y="949"/>
                  </a:lnTo>
                  <a:lnTo>
                    <a:pt x="1302" y="647"/>
                  </a:lnTo>
                  <a:lnTo>
                    <a:pt x="1214" y="388"/>
                  </a:lnTo>
                  <a:lnTo>
                    <a:pt x="1095" y="240"/>
                  </a:lnTo>
                  <a:lnTo>
                    <a:pt x="974" y="12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20" name=""/>
            <p:cNvSpPr/>
            <p:nvPr/>
          </p:nvSpPr>
          <p:spPr>
            <a:xfrm>
              <a:off x="3537000" y="3797280"/>
              <a:ext cx="527400" cy="802080"/>
            </a:xfrm>
            <a:custGeom>
              <a:avLst/>
              <a:gdLst/>
              <a:ahLst/>
              <a:rect l="0" t="0" r="r" b="b"/>
              <a:pathLst>
                <a:path w="1465" h="2228">
                  <a:moveTo>
                    <a:pt x="180" y="479"/>
                  </a:moveTo>
                  <a:lnTo>
                    <a:pt x="336" y="289"/>
                  </a:lnTo>
                  <a:lnTo>
                    <a:pt x="542" y="18"/>
                  </a:lnTo>
                  <a:lnTo>
                    <a:pt x="710" y="0"/>
                  </a:lnTo>
                  <a:lnTo>
                    <a:pt x="829" y="18"/>
                  </a:lnTo>
                  <a:lnTo>
                    <a:pt x="866" y="141"/>
                  </a:lnTo>
                  <a:lnTo>
                    <a:pt x="785" y="313"/>
                  </a:lnTo>
                  <a:lnTo>
                    <a:pt x="529" y="522"/>
                  </a:lnTo>
                  <a:lnTo>
                    <a:pt x="305" y="739"/>
                  </a:lnTo>
                  <a:lnTo>
                    <a:pt x="205" y="849"/>
                  </a:lnTo>
                  <a:lnTo>
                    <a:pt x="205" y="905"/>
                  </a:lnTo>
                  <a:lnTo>
                    <a:pt x="280" y="1034"/>
                  </a:lnTo>
                  <a:lnTo>
                    <a:pt x="448" y="1188"/>
                  </a:lnTo>
                  <a:lnTo>
                    <a:pt x="660" y="1280"/>
                  </a:lnTo>
                  <a:lnTo>
                    <a:pt x="904" y="1329"/>
                  </a:lnTo>
                  <a:lnTo>
                    <a:pt x="1128" y="1366"/>
                  </a:lnTo>
                  <a:lnTo>
                    <a:pt x="1265" y="1391"/>
                  </a:lnTo>
                  <a:lnTo>
                    <a:pt x="1390" y="1372"/>
                  </a:lnTo>
                  <a:lnTo>
                    <a:pt x="1465" y="1422"/>
                  </a:lnTo>
                  <a:lnTo>
                    <a:pt x="1465" y="1520"/>
                  </a:lnTo>
                  <a:lnTo>
                    <a:pt x="1415" y="1557"/>
                  </a:lnTo>
                  <a:lnTo>
                    <a:pt x="1128" y="1649"/>
                  </a:lnTo>
                  <a:lnTo>
                    <a:pt x="885" y="1792"/>
                  </a:lnTo>
                  <a:lnTo>
                    <a:pt x="685" y="2013"/>
                  </a:lnTo>
                  <a:lnTo>
                    <a:pt x="622" y="2130"/>
                  </a:lnTo>
                  <a:lnTo>
                    <a:pt x="598" y="2216"/>
                  </a:lnTo>
                  <a:lnTo>
                    <a:pt x="504" y="2228"/>
                  </a:lnTo>
                  <a:lnTo>
                    <a:pt x="348" y="2179"/>
                  </a:lnTo>
                  <a:lnTo>
                    <a:pt x="361" y="2062"/>
                  </a:lnTo>
                  <a:lnTo>
                    <a:pt x="517" y="1890"/>
                  </a:lnTo>
                  <a:lnTo>
                    <a:pt x="716" y="1730"/>
                  </a:lnTo>
                  <a:lnTo>
                    <a:pt x="885" y="1637"/>
                  </a:lnTo>
                  <a:lnTo>
                    <a:pt x="1072" y="1563"/>
                  </a:lnTo>
                  <a:lnTo>
                    <a:pt x="1197" y="1520"/>
                  </a:lnTo>
                  <a:lnTo>
                    <a:pt x="1190" y="1495"/>
                  </a:lnTo>
                  <a:lnTo>
                    <a:pt x="929" y="1465"/>
                  </a:lnTo>
                  <a:lnTo>
                    <a:pt x="660" y="1415"/>
                  </a:lnTo>
                  <a:lnTo>
                    <a:pt x="423" y="1342"/>
                  </a:lnTo>
                  <a:lnTo>
                    <a:pt x="280" y="1280"/>
                  </a:lnTo>
                  <a:lnTo>
                    <a:pt x="118" y="1132"/>
                  </a:lnTo>
                  <a:lnTo>
                    <a:pt x="37" y="966"/>
                  </a:lnTo>
                  <a:lnTo>
                    <a:pt x="0" y="806"/>
                  </a:lnTo>
                  <a:lnTo>
                    <a:pt x="24" y="683"/>
                  </a:lnTo>
                  <a:lnTo>
                    <a:pt x="112" y="591"/>
                  </a:lnTo>
                  <a:lnTo>
                    <a:pt x="180" y="47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21" name=""/>
            <p:cNvSpPr/>
            <p:nvPr/>
          </p:nvSpPr>
          <p:spPr>
            <a:xfrm>
              <a:off x="3179880" y="3728880"/>
              <a:ext cx="443160" cy="848160"/>
            </a:xfrm>
            <a:custGeom>
              <a:avLst/>
              <a:gdLst/>
              <a:ahLst/>
              <a:rect l="0" t="0" r="r" b="b"/>
              <a:pathLst>
                <a:path w="1231" h="2356">
                  <a:moveTo>
                    <a:pt x="1075" y="0"/>
                  </a:moveTo>
                  <a:lnTo>
                    <a:pt x="1218" y="6"/>
                  </a:lnTo>
                  <a:lnTo>
                    <a:pt x="1231" y="117"/>
                  </a:lnTo>
                  <a:lnTo>
                    <a:pt x="1181" y="234"/>
                  </a:lnTo>
                  <a:lnTo>
                    <a:pt x="1062" y="382"/>
                  </a:lnTo>
                  <a:lnTo>
                    <a:pt x="937" y="530"/>
                  </a:lnTo>
                  <a:lnTo>
                    <a:pt x="812" y="864"/>
                  </a:lnTo>
                  <a:lnTo>
                    <a:pt x="775" y="1092"/>
                  </a:lnTo>
                  <a:lnTo>
                    <a:pt x="787" y="1307"/>
                  </a:lnTo>
                  <a:lnTo>
                    <a:pt x="862" y="1591"/>
                  </a:lnTo>
                  <a:lnTo>
                    <a:pt x="937" y="1832"/>
                  </a:lnTo>
                  <a:lnTo>
                    <a:pt x="1012" y="2085"/>
                  </a:lnTo>
                  <a:lnTo>
                    <a:pt x="1062" y="2208"/>
                  </a:lnTo>
                  <a:lnTo>
                    <a:pt x="1081" y="2325"/>
                  </a:lnTo>
                  <a:lnTo>
                    <a:pt x="1031" y="2356"/>
                  </a:lnTo>
                  <a:lnTo>
                    <a:pt x="881" y="2307"/>
                  </a:lnTo>
                  <a:lnTo>
                    <a:pt x="619" y="2264"/>
                  </a:lnTo>
                  <a:lnTo>
                    <a:pt x="380" y="2282"/>
                  </a:lnTo>
                  <a:lnTo>
                    <a:pt x="143" y="2356"/>
                  </a:lnTo>
                  <a:lnTo>
                    <a:pt x="93" y="2350"/>
                  </a:lnTo>
                  <a:lnTo>
                    <a:pt x="0" y="2208"/>
                  </a:lnTo>
                  <a:lnTo>
                    <a:pt x="0" y="2141"/>
                  </a:lnTo>
                  <a:lnTo>
                    <a:pt x="193" y="2110"/>
                  </a:lnTo>
                  <a:lnTo>
                    <a:pt x="449" y="2110"/>
                  </a:lnTo>
                  <a:lnTo>
                    <a:pt x="694" y="2159"/>
                  </a:lnTo>
                  <a:lnTo>
                    <a:pt x="919" y="2227"/>
                  </a:lnTo>
                  <a:lnTo>
                    <a:pt x="937" y="2190"/>
                  </a:lnTo>
                  <a:lnTo>
                    <a:pt x="894" y="2085"/>
                  </a:lnTo>
                  <a:lnTo>
                    <a:pt x="762" y="1789"/>
                  </a:lnTo>
                  <a:lnTo>
                    <a:pt x="675" y="1480"/>
                  </a:lnTo>
                  <a:lnTo>
                    <a:pt x="631" y="1209"/>
                  </a:lnTo>
                  <a:lnTo>
                    <a:pt x="631" y="1067"/>
                  </a:lnTo>
                  <a:lnTo>
                    <a:pt x="650" y="851"/>
                  </a:lnTo>
                  <a:lnTo>
                    <a:pt x="719" y="648"/>
                  </a:lnTo>
                  <a:lnTo>
                    <a:pt x="775" y="505"/>
                  </a:lnTo>
                  <a:lnTo>
                    <a:pt x="862" y="314"/>
                  </a:lnTo>
                  <a:lnTo>
                    <a:pt x="956" y="92"/>
                  </a:lnTo>
                  <a:lnTo>
                    <a:pt x="1075"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322" name=""/>
          <p:cNvGrpSpPr/>
          <p:nvPr/>
        </p:nvGrpSpPr>
        <p:grpSpPr>
          <a:xfrm>
            <a:off x="3998880" y="2243160"/>
            <a:ext cx="1975320" cy="1960920"/>
            <a:chOff x="3998880" y="2243160"/>
            <a:chExt cx="1975320" cy="1960920"/>
          </a:xfrm>
        </p:grpSpPr>
        <p:sp>
          <p:nvSpPr>
            <p:cNvPr id="323" name=""/>
            <p:cNvSpPr/>
            <p:nvPr/>
          </p:nvSpPr>
          <p:spPr>
            <a:xfrm>
              <a:off x="4576680" y="2909880"/>
              <a:ext cx="856080" cy="729000"/>
            </a:xfrm>
            <a:custGeom>
              <a:avLst/>
              <a:gdLst/>
              <a:ahLst/>
              <a:rect l="0" t="0" r="r" b="b"/>
              <a:pathLst>
                <a:path w="2378" h="2025">
                  <a:moveTo>
                    <a:pt x="1083" y="98"/>
                  </a:moveTo>
                  <a:lnTo>
                    <a:pt x="1133" y="172"/>
                  </a:lnTo>
                  <a:lnTo>
                    <a:pt x="1270" y="141"/>
                  </a:lnTo>
                  <a:lnTo>
                    <a:pt x="1352" y="73"/>
                  </a:lnTo>
                  <a:lnTo>
                    <a:pt x="1439" y="49"/>
                  </a:lnTo>
                  <a:lnTo>
                    <a:pt x="1589" y="73"/>
                  </a:lnTo>
                  <a:lnTo>
                    <a:pt x="1758" y="159"/>
                  </a:lnTo>
                  <a:lnTo>
                    <a:pt x="1872" y="264"/>
                  </a:lnTo>
                  <a:lnTo>
                    <a:pt x="1922" y="381"/>
                  </a:lnTo>
                  <a:lnTo>
                    <a:pt x="1947" y="516"/>
                  </a:lnTo>
                  <a:lnTo>
                    <a:pt x="1878" y="682"/>
                  </a:lnTo>
                  <a:lnTo>
                    <a:pt x="1777" y="756"/>
                  </a:lnTo>
                  <a:lnTo>
                    <a:pt x="1784" y="787"/>
                  </a:lnTo>
                  <a:lnTo>
                    <a:pt x="1947" y="805"/>
                  </a:lnTo>
                  <a:lnTo>
                    <a:pt x="2116" y="873"/>
                  </a:lnTo>
                  <a:lnTo>
                    <a:pt x="2209" y="1002"/>
                  </a:lnTo>
                  <a:lnTo>
                    <a:pt x="2285" y="1157"/>
                  </a:lnTo>
                  <a:lnTo>
                    <a:pt x="2285" y="1286"/>
                  </a:lnTo>
                  <a:lnTo>
                    <a:pt x="2234" y="1360"/>
                  </a:lnTo>
                  <a:lnTo>
                    <a:pt x="2147" y="1372"/>
                  </a:lnTo>
                  <a:lnTo>
                    <a:pt x="2003" y="1336"/>
                  </a:lnTo>
                  <a:lnTo>
                    <a:pt x="1953" y="1305"/>
                  </a:lnTo>
                  <a:lnTo>
                    <a:pt x="1991" y="1348"/>
                  </a:lnTo>
                  <a:lnTo>
                    <a:pt x="2047" y="1502"/>
                  </a:lnTo>
                  <a:lnTo>
                    <a:pt x="2047" y="1569"/>
                  </a:lnTo>
                  <a:lnTo>
                    <a:pt x="1978" y="1643"/>
                  </a:lnTo>
                  <a:lnTo>
                    <a:pt x="1859" y="1643"/>
                  </a:lnTo>
                  <a:lnTo>
                    <a:pt x="1859" y="1711"/>
                  </a:lnTo>
                  <a:lnTo>
                    <a:pt x="1822" y="1846"/>
                  </a:lnTo>
                  <a:lnTo>
                    <a:pt x="1727" y="1902"/>
                  </a:lnTo>
                  <a:lnTo>
                    <a:pt x="1558" y="1945"/>
                  </a:lnTo>
                  <a:lnTo>
                    <a:pt x="1414" y="1945"/>
                  </a:lnTo>
                  <a:lnTo>
                    <a:pt x="1270" y="1858"/>
                  </a:lnTo>
                  <a:lnTo>
                    <a:pt x="1208" y="1760"/>
                  </a:lnTo>
                  <a:lnTo>
                    <a:pt x="1170" y="1643"/>
                  </a:lnTo>
                  <a:lnTo>
                    <a:pt x="1170" y="1526"/>
                  </a:lnTo>
                  <a:lnTo>
                    <a:pt x="1183" y="1403"/>
                  </a:lnTo>
                  <a:lnTo>
                    <a:pt x="1270" y="1311"/>
                  </a:lnTo>
                  <a:lnTo>
                    <a:pt x="1327" y="1182"/>
                  </a:lnTo>
                  <a:lnTo>
                    <a:pt x="1302" y="1157"/>
                  </a:lnTo>
                  <a:lnTo>
                    <a:pt x="1208" y="1212"/>
                  </a:lnTo>
                  <a:lnTo>
                    <a:pt x="1133" y="1262"/>
                  </a:lnTo>
                  <a:lnTo>
                    <a:pt x="1014" y="1286"/>
                  </a:lnTo>
                  <a:lnTo>
                    <a:pt x="907" y="1286"/>
                  </a:lnTo>
                  <a:lnTo>
                    <a:pt x="814" y="1212"/>
                  </a:lnTo>
                  <a:lnTo>
                    <a:pt x="789" y="1071"/>
                  </a:lnTo>
                  <a:lnTo>
                    <a:pt x="820" y="978"/>
                  </a:lnTo>
                  <a:lnTo>
                    <a:pt x="914" y="879"/>
                  </a:lnTo>
                  <a:lnTo>
                    <a:pt x="1026" y="762"/>
                  </a:lnTo>
                  <a:lnTo>
                    <a:pt x="1183" y="670"/>
                  </a:lnTo>
                  <a:lnTo>
                    <a:pt x="1295" y="639"/>
                  </a:lnTo>
                  <a:lnTo>
                    <a:pt x="1364" y="621"/>
                  </a:lnTo>
                  <a:lnTo>
                    <a:pt x="1302" y="572"/>
                  </a:lnTo>
                  <a:lnTo>
                    <a:pt x="989" y="504"/>
                  </a:lnTo>
                  <a:lnTo>
                    <a:pt x="789" y="424"/>
                  </a:lnTo>
                  <a:lnTo>
                    <a:pt x="519" y="289"/>
                  </a:lnTo>
                  <a:lnTo>
                    <a:pt x="387" y="215"/>
                  </a:lnTo>
                  <a:lnTo>
                    <a:pt x="375" y="282"/>
                  </a:lnTo>
                  <a:lnTo>
                    <a:pt x="670" y="406"/>
                  </a:lnTo>
                  <a:lnTo>
                    <a:pt x="845" y="504"/>
                  </a:lnTo>
                  <a:lnTo>
                    <a:pt x="1039" y="621"/>
                  </a:lnTo>
                  <a:lnTo>
                    <a:pt x="989" y="695"/>
                  </a:lnTo>
                  <a:lnTo>
                    <a:pt x="620" y="898"/>
                  </a:lnTo>
                  <a:lnTo>
                    <a:pt x="281" y="1065"/>
                  </a:lnTo>
                  <a:lnTo>
                    <a:pt x="0" y="1157"/>
                  </a:lnTo>
                  <a:lnTo>
                    <a:pt x="25" y="1182"/>
                  </a:lnTo>
                  <a:lnTo>
                    <a:pt x="456" y="1040"/>
                  </a:lnTo>
                  <a:lnTo>
                    <a:pt x="739" y="947"/>
                  </a:lnTo>
                  <a:lnTo>
                    <a:pt x="764" y="978"/>
                  </a:lnTo>
                  <a:lnTo>
                    <a:pt x="714" y="1089"/>
                  </a:lnTo>
                  <a:lnTo>
                    <a:pt x="714" y="1212"/>
                  </a:lnTo>
                  <a:lnTo>
                    <a:pt x="770" y="1348"/>
                  </a:lnTo>
                  <a:lnTo>
                    <a:pt x="907" y="1379"/>
                  </a:lnTo>
                  <a:lnTo>
                    <a:pt x="1058" y="1379"/>
                  </a:lnTo>
                  <a:lnTo>
                    <a:pt x="1101" y="1379"/>
                  </a:lnTo>
                  <a:lnTo>
                    <a:pt x="1051" y="1539"/>
                  </a:lnTo>
                  <a:lnTo>
                    <a:pt x="1083" y="1692"/>
                  </a:lnTo>
                  <a:lnTo>
                    <a:pt x="1158" y="1871"/>
                  </a:lnTo>
                  <a:lnTo>
                    <a:pt x="1302" y="2000"/>
                  </a:lnTo>
                  <a:lnTo>
                    <a:pt x="1470" y="2025"/>
                  </a:lnTo>
                  <a:lnTo>
                    <a:pt x="1708" y="2012"/>
                  </a:lnTo>
                  <a:lnTo>
                    <a:pt x="1822" y="1951"/>
                  </a:lnTo>
                  <a:lnTo>
                    <a:pt x="1897" y="1871"/>
                  </a:lnTo>
                  <a:lnTo>
                    <a:pt x="1922" y="1754"/>
                  </a:lnTo>
                  <a:lnTo>
                    <a:pt x="1922" y="1711"/>
                  </a:lnTo>
                  <a:lnTo>
                    <a:pt x="2066" y="1711"/>
                  </a:lnTo>
                  <a:lnTo>
                    <a:pt x="2116" y="1643"/>
                  </a:lnTo>
                  <a:lnTo>
                    <a:pt x="2116" y="1569"/>
                  </a:lnTo>
                  <a:lnTo>
                    <a:pt x="2116" y="1489"/>
                  </a:lnTo>
                  <a:lnTo>
                    <a:pt x="2091" y="1422"/>
                  </a:lnTo>
                  <a:lnTo>
                    <a:pt x="2191" y="1428"/>
                  </a:lnTo>
                  <a:lnTo>
                    <a:pt x="2328" y="1379"/>
                  </a:lnTo>
                  <a:lnTo>
                    <a:pt x="2360" y="1280"/>
                  </a:lnTo>
                  <a:lnTo>
                    <a:pt x="2378" y="1139"/>
                  </a:lnTo>
                  <a:lnTo>
                    <a:pt x="2328" y="1002"/>
                  </a:lnTo>
                  <a:lnTo>
                    <a:pt x="2234" y="879"/>
                  </a:lnTo>
                  <a:lnTo>
                    <a:pt x="2134" y="812"/>
                  </a:lnTo>
                  <a:lnTo>
                    <a:pt x="2028" y="738"/>
                  </a:lnTo>
                  <a:lnTo>
                    <a:pt x="1928" y="738"/>
                  </a:lnTo>
                  <a:lnTo>
                    <a:pt x="1991" y="615"/>
                  </a:lnTo>
                  <a:lnTo>
                    <a:pt x="2003" y="516"/>
                  </a:lnTo>
                  <a:lnTo>
                    <a:pt x="1991" y="424"/>
                  </a:lnTo>
                  <a:lnTo>
                    <a:pt x="1947" y="282"/>
                  </a:lnTo>
                  <a:lnTo>
                    <a:pt x="1872" y="147"/>
                  </a:lnTo>
                  <a:lnTo>
                    <a:pt x="1752" y="73"/>
                  </a:lnTo>
                  <a:lnTo>
                    <a:pt x="1558" y="0"/>
                  </a:lnTo>
                  <a:lnTo>
                    <a:pt x="1339" y="6"/>
                  </a:lnTo>
                  <a:lnTo>
                    <a:pt x="1183" y="18"/>
                  </a:lnTo>
                  <a:lnTo>
                    <a:pt x="1108" y="49"/>
                  </a:lnTo>
                  <a:lnTo>
                    <a:pt x="1083" y="9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24" name=""/>
            <p:cNvSpPr/>
            <p:nvPr/>
          </p:nvSpPr>
          <p:spPr>
            <a:xfrm>
              <a:off x="5087880" y="3173400"/>
              <a:ext cx="95760" cy="98640"/>
            </a:xfrm>
            <a:custGeom>
              <a:avLst/>
              <a:gdLst/>
              <a:ahLst/>
              <a:rect l="0" t="0" r="r" b="b"/>
              <a:pathLst>
                <a:path w="266" h="274">
                  <a:moveTo>
                    <a:pt x="260" y="101"/>
                  </a:moveTo>
                  <a:lnTo>
                    <a:pt x="169" y="179"/>
                  </a:lnTo>
                  <a:lnTo>
                    <a:pt x="151" y="248"/>
                  </a:lnTo>
                  <a:lnTo>
                    <a:pt x="97" y="274"/>
                  </a:lnTo>
                  <a:lnTo>
                    <a:pt x="79" y="198"/>
                  </a:lnTo>
                  <a:lnTo>
                    <a:pt x="0" y="153"/>
                  </a:lnTo>
                  <a:lnTo>
                    <a:pt x="79" y="89"/>
                  </a:lnTo>
                  <a:lnTo>
                    <a:pt x="73" y="0"/>
                  </a:lnTo>
                  <a:lnTo>
                    <a:pt x="151" y="25"/>
                  </a:lnTo>
                  <a:lnTo>
                    <a:pt x="266" y="44"/>
                  </a:lnTo>
                  <a:lnTo>
                    <a:pt x="260" y="10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25" name=""/>
            <p:cNvSpPr/>
            <p:nvPr/>
          </p:nvSpPr>
          <p:spPr>
            <a:xfrm>
              <a:off x="4287960" y="2714760"/>
              <a:ext cx="611640" cy="943200"/>
            </a:xfrm>
            <a:custGeom>
              <a:avLst/>
              <a:gdLst/>
              <a:ahLst/>
              <a:rect l="0" t="0" r="r" b="b"/>
              <a:pathLst>
                <a:path w="1699" h="2620">
                  <a:moveTo>
                    <a:pt x="1113" y="154"/>
                  </a:moveTo>
                  <a:lnTo>
                    <a:pt x="1239" y="98"/>
                  </a:lnTo>
                  <a:lnTo>
                    <a:pt x="1523" y="49"/>
                  </a:lnTo>
                  <a:lnTo>
                    <a:pt x="1618" y="104"/>
                  </a:lnTo>
                  <a:lnTo>
                    <a:pt x="1699" y="172"/>
                  </a:lnTo>
                  <a:lnTo>
                    <a:pt x="1699" y="265"/>
                  </a:lnTo>
                  <a:lnTo>
                    <a:pt x="1624" y="283"/>
                  </a:lnTo>
                  <a:lnTo>
                    <a:pt x="1529" y="215"/>
                  </a:lnTo>
                  <a:lnTo>
                    <a:pt x="1435" y="141"/>
                  </a:lnTo>
                  <a:lnTo>
                    <a:pt x="1335" y="141"/>
                  </a:lnTo>
                  <a:lnTo>
                    <a:pt x="1239" y="191"/>
                  </a:lnTo>
                  <a:lnTo>
                    <a:pt x="1157" y="265"/>
                  </a:lnTo>
                  <a:lnTo>
                    <a:pt x="1157" y="295"/>
                  </a:lnTo>
                  <a:lnTo>
                    <a:pt x="1303" y="480"/>
                  </a:lnTo>
                  <a:lnTo>
                    <a:pt x="1328" y="603"/>
                  </a:lnTo>
                  <a:lnTo>
                    <a:pt x="1278" y="647"/>
                  </a:lnTo>
                  <a:lnTo>
                    <a:pt x="1189" y="591"/>
                  </a:lnTo>
                  <a:lnTo>
                    <a:pt x="1132" y="474"/>
                  </a:lnTo>
                  <a:lnTo>
                    <a:pt x="1082" y="425"/>
                  </a:lnTo>
                  <a:lnTo>
                    <a:pt x="1013" y="480"/>
                  </a:lnTo>
                  <a:lnTo>
                    <a:pt x="944" y="505"/>
                  </a:lnTo>
                  <a:lnTo>
                    <a:pt x="774" y="523"/>
                  </a:lnTo>
                  <a:lnTo>
                    <a:pt x="604" y="579"/>
                  </a:lnTo>
                  <a:lnTo>
                    <a:pt x="510" y="665"/>
                  </a:lnTo>
                  <a:lnTo>
                    <a:pt x="453" y="745"/>
                  </a:lnTo>
                  <a:lnTo>
                    <a:pt x="428" y="838"/>
                  </a:lnTo>
                  <a:lnTo>
                    <a:pt x="434" y="924"/>
                  </a:lnTo>
                  <a:lnTo>
                    <a:pt x="453" y="998"/>
                  </a:lnTo>
                  <a:lnTo>
                    <a:pt x="510" y="1029"/>
                  </a:lnTo>
                  <a:lnTo>
                    <a:pt x="648" y="1053"/>
                  </a:lnTo>
                  <a:lnTo>
                    <a:pt x="799" y="1090"/>
                  </a:lnTo>
                  <a:lnTo>
                    <a:pt x="799" y="1121"/>
                  </a:lnTo>
                  <a:lnTo>
                    <a:pt x="598" y="1121"/>
                  </a:lnTo>
                  <a:lnTo>
                    <a:pt x="364" y="1164"/>
                  </a:lnTo>
                  <a:lnTo>
                    <a:pt x="207" y="1257"/>
                  </a:lnTo>
                  <a:lnTo>
                    <a:pt x="119" y="1387"/>
                  </a:lnTo>
                  <a:lnTo>
                    <a:pt x="88" y="1640"/>
                  </a:lnTo>
                  <a:lnTo>
                    <a:pt x="119" y="1856"/>
                  </a:lnTo>
                  <a:lnTo>
                    <a:pt x="188" y="1923"/>
                  </a:lnTo>
                  <a:lnTo>
                    <a:pt x="257" y="1979"/>
                  </a:lnTo>
                  <a:lnTo>
                    <a:pt x="308" y="2022"/>
                  </a:lnTo>
                  <a:lnTo>
                    <a:pt x="188" y="2053"/>
                  </a:lnTo>
                  <a:lnTo>
                    <a:pt x="94" y="2139"/>
                  </a:lnTo>
                  <a:lnTo>
                    <a:pt x="75" y="2262"/>
                  </a:lnTo>
                  <a:lnTo>
                    <a:pt x="113" y="2423"/>
                  </a:lnTo>
                  <a:lnTo>
                    <a:pt x="194" y="2497"/>
                  </a:lnTo>
                  <a:lnTo>
                    <a:pt x="333" y="2564"/>
                  </a:lnTo>
                  <a:lnTo>
                    <a:pt x="529" y="2564"/>
                  </a:lnTo>
                  <a:lnTo>
                    <a:pt x="730" y="2503"/>
                  </a:lnTo>
                  <a:lnTo>
                    <a:pt x="868" y="2398"/>
                  </a:lnTo>
                  <a:lnTo>
                    <a:pt x="969" y="2330"/>
                  </a:lnTo>
                  <a:lnTo>
                    <a:pt x="1019" y="2453"/>
                  </a:lnTo>
                  <a:lnTo>
                    <a:pt x="963" y="2540"/>
                  </a:lnTo>
                  <a:lnTo>
                    <a:pt x="604" y="2614"/>
                  </a:lnTo>
                  <a:lnTo>
                    <a:pt x="339" y="2620"/>
                  </a:lnTo>
                  <a:lnTo>
                    <a:pt x="144" y="2552"/>
                  </a:lnTo>
                  <a:lnTo>
                    <a:pt x="50" y="2447"/>
                  </a:lnTo>
                  <a:lnTo>
                    <a:pt x="0" y="2312"/>
                  </a:lnTo>
                  <a:lnTo>
                    <a:pt x="18" y="2145"/>
                  </a:lnTo>
                  <a:lnTo>
                    <a:pt x="50" y="2028"/>
                  </a:lnTo>
                  <a:lnTo>
                    <a:pt x="94" y="1979"/>
                  </a:lnTo>
                  <a:lnTo>
                    <a:pt x="62" y="1874"/>
                  </a:lnTo>
                  <a:lnTo>
                    <a:pt x="25" y="1689"/>
                  </a:lnTo>
                  <a:lnTo>
                    <a:pt x="37" y="1412"/>
                  </a:lnTo>
                  <a:lnTo>
                    <a:pt x="113" y="1257"/>
                  </a:lnTo>
                  <a:lnTo>
                    <a:pt x="232" y="1121"/>
                  </a:lnTo>
                  <a:lnTo>
                    <a:pt x="364" y="1029"/>
                  </a:lnTo>
                  <a:lnTo>
                    <a:pt x="333" y="881"/>
                  </a:lnTo>
                  <a:lnTo>
                    <a:pt x="389" y="647"/>
                  </a:lnTo>
                  <a:lnTo>
                    <a:pt x="535" y="530"/>
                  </a:lnTo>
                  <a:lnTo>
                    <a:pt x="680" y="480"/>
                  </a:lnTo>
                  <a:lnTo>
                    <a:pt x="843" y="425"/>
                  </a:lnTo>
                  <a:lnTo>
                    <a:pt x="944" y="406"/>
                  </a:lnTo>
                  <a:lnTo>
                    <a:pt x="1013" y="332"/>
                  </a:lnTo>
                  <a:lnTo>
                    <a:pt x="1013" y="283"/>
                  </a:lnTo>
                  <a:lnTo>
                    <a:pt x="875" y="0"/>
                  </a:lnTo>
                  <a:lnTo>
                    <a:pt x="1082" y="197"/>
                  </a:lnTo>
                  <a:lnTo>
                    <a:pt x="1113" y="15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26" name=""/>
            <p:cNvSpPr/>
            <p:nvPr/>
          </p:nvSpPr>
          <p:spPr>
            <a:xfrm>
              <a:off x="4181400" y="2827440"/>
              <a:ext cx="165600" cy="98640"/>
            </a:xfrm>
            <a:custGeom>
              <a:avLst/>
              <a:gdLst/>
              <a:ahLst/>
              <a:rect l="0" t="0" r="r" b="b"/>
              <a:pathLst>
                <a:path w="460" h="274">
                  <a:moveTo>
                    <a:pt x="410" y="230"/>
                  </a:moveTo>
                  <a:lnTo>
                    <a:pt x="62" y="0"/>
                  </a:lnTo>
                  <a:lnTo>
                    <a:pt x="0" y="18"/>
                  </a:lnTo>
                  <a:lnTo>
                    <a:pt x="12" y="80"/>
                  </a:lnTo>
                  <a:lnTo>
                    <a:pt x="460" y="274"/>
                  </a:lnTo>
                  <a:lnTo>
                    <a:pt x="410" y="23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27" name=""/>
            <p:cNvSpPr/>
            <p:nvPr/>
          </p:nvSpPr>
          <p:spPr>
            <a:xfrm>
              <a:off x="4479840" y="3916440"/>
              <a:ext cx="155880" cy="260640"/>
            </a:xfrm>
            <a:custGeom>
              <a:avLst/>
              <a:gdLst/>
              <a:ahLst/>
              <a:rect l="0" t="0" r="r" b="b"/>
              <a:pathLst>
                <a:path w="433" h="724">
                  <a:moveTo>
                    <a:pt x="0" y="724"/>
                  </a:moveTo>
                  <a:lnTo>
                    <a:pt x="166" y="265"/>
                  </a:lnTo>
                  <a:lnTo>
                    <a:pt x="340" y="0"/>
                  </a:lnTo>
                  <a:lnTo>
                    <a:pt x="414" y="0"/>
                  </a:lnTo>
                  <a:lnTo>
                    <a:pt x="433" y="74"/>
                  </a:lnTo>
                  <a:lnTo>
                    <a:pt x="291" y="241"/>
                  </a:lnTo>
                  <a:lnTo>
                    <a:pt x="154" y="464"/>
                  </a:lnTo>
                  <a:lnTo>
                    <a:pt x="0" y="72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28" name=""/>
            <p:cNvSpPr/>
            <p:nvPr/>
          </p:nvSpPr>
          <p:spPr>
            <a:xfrm>
              <a:off x="4676760" y="3505320"/>
              <a:ext cx="860760" cy="698760"/>
            </a:xfrm>
            <a:custGeom>
              <a:avLst/>
              <a:gdLst/>
              <a:ahLst/>
              <a:rect l="0" t="0" r="r" b="b"/>
              <a:pathLst>
                <a:path w="2391" h="1941">
                  <a:moveTo>
                    <a:pt x="220" y="0"/>
                  </a:moveTo>
                  <a:lnTo>
                    <a:pt x="75" y="271"/>
                  </a:lnTo>
                  <a:lnTo>
                    <a:pt x="44" y="451"/>
                  </a:lnTo>
                  <a:lnTo>
                    <a:pt x="0" y="654"/>
                  </a:lnTo>
                  <a:lnTo>
                    <a:pt x="44" y="840"/>
                  </a:lnTo>
                  <a:lnTo>
                    <a:pt x="144" y="914"/>
                  </a:lnTo>
                  <a:lnTo>
                    <a:pt x="283" y="939"/>
                  </a:lnTo>
                  <a:lnTo>
                    <a:pt x="427" y="908"/>
                  </a:lnTo>
                  <a:lnTo>
                    <a:pt x="364" y="1082"/>
                  </a:lnTo>
                  <a:lnTo>
                    <a:pt x="358" y="1385"/>
                  </a:lnTo>
                  <a:lnTo>
                    <a:pt x="389" y="1582"/>
                  </a:lnTo>
                  <a:lnTo>
                    <a:pt x="503" y="1725"/>
                  </a:lnTo>
                  <a:lnTo>
                    <a:pt x="622" y="1811"/>
                  </a:lnTo>
                  <a:lnTo>
                    <a:pt x="742" y="1891"/>
                  </a:lnTo>
                  <a:lnTo>
                    <a:pt x="918" y="1935"/>
                  </a:lnTo>
                  <a:lnTo>
                    <a:pt x="1227" y="1941"/>
                  </a:lnTo>
                  <a:lnTo>
                    <a:pt x="1466" y="1941"/>
                  </a:lnTo>
                  <a:lnTo>
                    <a:pt x="1711" y="1891"/>
                  </a:lnTo>
                  <a:lnTo>
                    <a:pt x="1900" y="1749"/>
                  </a:lnTo>
                  <a:lnTo>
                    <a:pt x="1982" y="1601"/>
                  </a:lnTo>
                  <a:lnTo>
                    <a:pt x="2026" y="1416"/>
                  </a:lnTo>
                  <a:lnTo>
                    <a:pt x="2170" y="1341"/>
                  </a:lnTo>
                  <a:lnTo>
                    <a:pt x="2315" y="1218"/>
                  </a:lnTo>
                  <a:lnTo>
                    <a:pt x="2359" y="1082"/>
                  </a:lnTo>
                  <a:lnTo>
                    <a:pt x="2391" y="914"/>
                  </a:lnTo>
                  <a:lnTo>
                    <a:pt x="2391" y="722"/>
                  </a:lnTo>
                  <a:lnTo>
                    <a:pt x="2321" y="500"/>
                  </a:lnTo>
                  <a:lnTo>
                    <a:pt x="2202" y="500"/>
                  </a:lnTo>
                  <a:lnTo>
                    <a:pt x="2177" y="574"/>
                  </a:lnTo>
                  <a:lnTo>
                    <a:pt x="2221" y="654"/>
                  </a:lnTo>
                  <a:lnTo>
                    <a:pt x="2290" y="747"/>
                  </a:lnTo>
                  <a:lnTo>
                    <a:pt x="2315" y="963"/>
                  </a:lnTo>
                  <a:lnTo>
                    <a:pt x="2290" y="1100"/>
                  </a:lnTo>
                  <a:lnTo>
                    <a:pt x="2177" y="1218"/>
                  </a:lnTo>
                  <a:lnTo>
                    <a:pt x="2057" y="1218"/>
                  </a:lnTo>
                  <a:lnTo>
                    <a:pt x="1913" y="1168"/>
                  </a:lnTo>
                  <a:lnTo>
                    <a:pt x="1718" y="1051"/>
                  </a:lnTo>
                  <a:lnTo>
                    <a:pt x="1743" y="1144"/>
                  </a:lnTo>
                  <a:lnTo>
                    <a:pt x="1950" y="1286"/>
                  </a:lnTo>
                  <a:lnTo>
                    <a:pt x="1975" y="1391"/>
                  </a:lnTo>
                  <a:lnTo>
                    <a:pt x="1925" y="1502"/>
                  </a:lnTo>
                  <a:lnTo>
                    <a:pt x="1875" y="1632"/>
                  </a:lnTo>
                  <a:lnTo>
                    <a:pt x="1755" y="1774"/>
                  </a:lnTo>
                  <a:lnTo>
                    <a:pt x="1567" y="1836"/>
                  </a:lnTo>
                  <a:lnTo>
                    <a:pt x="1441" y="1792"/>
                  </a:lnTo>
                  <a:lnTo>
                    <a:pt x="1403" y="1694"/>
                  </a:lnTo>
                  <a:lnTo>
                    <a:pt x="1353" y="1694"/>
                  </a:lnTo>
                  <a:lnTo>
                    <a:pt x="1309" y="1848"/>
                  </a:lnTo>
                  <a:lnTo>
                    <a:pt x="1182" y="1885"/>
                  </a:lnTo>
                  <a:lnTo>
                    <a:pt x="1031" y="1885"/>
                  </a:lnTo>
                  <a:lnTo>
                    <a:pt x="861" y="1848"/>
                  </a:lnTo>
                  <a:lnTo>
                    <a:pt x="717" y="1768"/>
                  </a:lnTo>
                  <a:lnTo>
                    <a:pt x="547" y="1669"/>
                  </a:lnTo>
                  <a:lnTo>
                    <a:pt x="478" y="1558"/>
                  </a:lnTo>
                  <a:lnTo>
                    <a:pt x="452" y="1434"/>
                  </a:lnTo>
                  <a:lnTo>
                    <a:pt x="452" y="1273"/>
                  </a:lnTo>
                  <a:lnTo>
                    <a:pt x="459" y="1100"/>
                  </a:lnTo>
                  <a:lnTo>
                    <a:pt x="484" y="963"/>
                  </a:lnTo>
                  <a:lnTo>
                    <a:pt x="534" y="858"/>
                  </a:lnTo>
                  <a:lnTo>
                    <a:pt x="597" y="698"/>
                  </a:lnTo>
                  <a:lnTo>
                    <a:pt x="559" y="667"/>
                  </a:lnTo>
                  <a:lnTo>
                    <a:pt x="389" y="809"/>
                  </a:lnTo>
                  <a:lnTo>
                    <a:pt x="308" y="840"/>
                  </a:lnTo>
                  <a:lnTo>
                    <a:pt x="213" y="840"/>
                  </a:lnTo>
                  <a:lnTo>
                    <a:pt x="138" y="797"/>
                  </a:lnTo>
                  <a:lnTo>
                    <a:pt x="75" y="698"/>
                  </a:lnTo>
                  <a:lnTo>
                    <a:pt x="88" y="556"/>
                  </a:lnTo>
                  <a:lnTo>
                    <a:pt x="113" y="414"/>
                  </a:lnTo>
                  <a:lnTo>
                    <a:pt x="188" y="240"/>
                  </a:lnTo>
                  <a:lnTo>
                    <a:pt x="245" y="80"/>
                  </a:lnTo>
                  <a:lnTo>
                    <a:pt x="270" y="0"/>
                  </a:lnTo>
                  <a:lnTo>
                    <a:pt x="22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29" name=""/>
            <p:cNvSpPr/>
            <p:nvPr/>
          </p:nvSpPr>
          <p:spPr>
            <a:xfrm>
              <a:off x="4913280" y="2243160"/>
              <a:ext cx="157680" cy="324360"/>
            </a:xfrm>
            <a:custGeom>
              <a:avLst/>
              <a:gdLst/>
              <a:ahLst/>
              <a:rect l="0" t="0" r="r" b="b"/>
              <a:pathLst>
                <a:path w="438" h="901">
                  <a:moveTo>
                    <a:pt x="419" y="779"/>
                  </a:moveTo>
                  <a:lnTo>
                    <a:pt x="285" y="411"/>
                  </a:lnTo>
                  <a:lnTo>
                    <a:pt x="140" y="140"/>
                  </a:lnTo>
                  <a:lnTo>
                    <a:pt x="0" y="0"/>
                  </a:lnTo>
                  <a:lnTo>
                    <a:pt x="88" y="195"/>
                  </a:lnTo>
                  <a:lnTo>
                    <a:pt x="216" y="496"/>
                  </a:lnTo>
                  <a:lnTo>
                    <a:pt x="285" y="754"/>
                  </a:lnTo>
                  <a:lnTo>
                    <a:pt x="349" y="877"/>
                  </a:lnTo>
                  <a:lnTo>
                    <a:pt x="419" y="901"/>
                  </a:lnTo>
                  <a:lnTo>
                    <a:pt x="438" y="822"/>
                  </a:lnTo>
                  <a:lnTo>
                    <a:pt x="419" y="77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30" name=""/>
            <p:cNvSpPr/>
            <p:nvPr/>
          </p:nvSpPr>
          <p:spPr>
            <a:xfrm>
              <a:off x="5002200" y="2668680"/>
              <a:ext cx="70200" cy="62280"/>
            </a:xfrm>
            <a:custGeom>
              <a:avLst/>
              <a:gdLst/>
              <a:ahLst/>
              <a:rect l="0" t="0" r="r" b="b"/>
              <a:pathLst>
                <a:path w="195" h="173">
                  <a:moveTo>
                    <a:pt x="0" y="71"/>
                  </a:moveTo>
                  <a:lnTo>
                    <a:pt x="68" y="0"/>
                  </a:lnTo>
                  <a:lnTo>
                    <a:pt x="176" y="0"/>
                  </a:lnTo>
                  <a:lnTo>
                    <a:pt x="195" y="86"/>
                  </a:lnTo>
                  <a:lnTo>
                    <a:pt x="151" y="173"/>
                  </a:lnTo>
                  <a:lnTo>
                    <a:pt x="50" y="173"/>
                  </a:lnTo>
                  <a:lnTo>
                    <a:pt x="0" y="71"/>
                  </a:lnTo>
                  <a:close/>
                </a:path>
              </a:pathLst>
            </a:custGeom>
            <a:solidFill>
              <a:srgbClr val="000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331" name=""/>
            <p:cNvSpPr/>
            <p:nvPr/>
          </p:nvSpPr>
          <p:spPr>
            <a:xfrm>
              <a:off x="4498920" y="2330280"/>
              <a:ext cx="69840" cy="58680"/>
            </a:xfrm>
            <a:prstGeom prst="ellipse">
              <a:avLst/>
            </a:prstGeom>
            <a:solidFill>
              <a:srgbClr val="000000"/>
            </a:solidFill>
            <a:ln w="0">
              <a:noFill/>
            </a:ln>
          </p:spPr>
          <p:txBody>
            <a:bodyPr lIns="90000" rIns="90000" tIns="13680" bIns="13680" anchor="t">
              <a:noAutofit/>
            </a:bodyPr>
            <a:p>
              <a:endParaRPr b="0" lang="en-US" sz="1800" spc="-1" strike="noStrike">
                <a:solidFill>
                  <a:srgbClr val="ffffff"/>
                </a:solidFill>
                <a:latin typeface="Arial"/>
              </a:endParaRPr>
            </a:p>
          </p:txBody>
        </p:sp>
        <p:sp>
          <p:nvSpPr>
            <p:cNvPr id="332" name=""/>
            <p:cNvSpPr/>
            <p:nvPr/>
          </p:nvSpPr>
          <p:spPr>
            <a:xfrm>
              <a:off x="3998880" y="2479680"/>
              <a:ext cx="82800" cy="62280"/>
            </a:xfrm>
            <a:custGeom>
              <a:avLst/>
              <a:gdLst/>
              <a:ahLst/>
              <a:rect l="0" t="0" r="r" b="b"/>
              <a:pathLst>
                <a:path w="230" h="173">
                  <a:moveTo>
                    <a:pt x="85" y="25"/>
                  </a:moveTo>
                  <a:lnTo>
                    <a:pt x="151" y="0"/>
                  </a:lnTo>
                  <a:lnTo>
                    <a:pt x="184" y="6"/>
                  </a:lnTo>
                  <a:lnTo>
                    <a:pt x="230" y="109"/>
                  </a:lnTo>
                  <a:lnTo>
                    <a:pt x="151" y="173"/>
                  </a:lnTo>
                  <a:lnTo>
                    <a:pt x="0" y="102"/>
                  </a:lnTo>
                  <a:lnTo>
                    <a:pt x="26" y="51"/>
                  </a:lnTo>
                  <a:lnTo>
                    <a:pt x="85" y="25"/>
                  </a:lnTo>
                  <a:close/>
                </a:path>
              </a:pathLst>
            </a:custGeom>
            <a:solidFill>
              <a:srgbClr val="00000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333" name=""/>
            <p:cNvSpPr/>
            <p:nvPr/>
          </p:nvSpPr>
          <p:spPr>
            <a:xfrm>
              <a:off x="4529160" y="2643120"/>
              <a:ext cx="60840" cy="60840"/>
            </a:xfrm>
            <a:custGeom>
              <a:avLst/>
              <a:gdLst/>
              <a:ahLst/>
              <a:rect l="0" t="0" r="r" b="b"/>
              <a:pathLst>
                <a:path w="169" h="169">
                  <a:moveTo>
                    <a:pt x="0" y="0"/>
                  </a:moveTo>
                  <a:lnTo>
                    <a:pt x="107" y="21"/>
                  </a:lnTo>
                  <a:lnTo>
                    <a:pt x="169" y="169"/>
                  </a:lnTo>
                  <a:lnTo>
                    <a:pt x="0" y="0"/>
                  </a:lnTo>
                  <a:close/>
                </a:path>
              </a:pathLst>
            </a:custGeom>
            <a:solidFill>
              <a:srgbClr val="000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334" name=""/>
            <p:cNvSpPr/>
            <p:nvPr/>
          </p:nvSpPr>
          <p:spPr>
            <a:xfrm>
              <a:off x="5342040" y="2554200"/>
              <a:ext cx="632160" cy="1010160"/>
            </a:xfrm>
            <a:custGeom>
              <a:avLst/>
              <a:gdLst/>
              <a:ahLst/>
              <a:rect l="0" t="0" r="r" b="b"/>
              <a:pathLst>
                <a:path w="1756" h="2806">
                  <a:moveTo>
                    <a:pt x="1475" y="2447"/>
                  </a:moveTo>
                  <a:lnTo>
                    <a:pt x="1418" y="2571"/>
                  </a:lnTo>
                  <a:lnTo>
                    <a:pt x="1231" y="2781"/>
                  </a:lnTo>
                  <a:lnTo>
                    <a:pt x="1131" y="2806"/>
                  </a:lnTo>
                  <a:lnTo>
                    <a:pt x="1019" y="2806"/>
                  </a:lnTo>
                  <a:lnTo>
                    <a:pt x="962" y="2738"/>
                  </a:lnTo>
                  <a:lnTo>
                    <a:pt x="1000" y="2670"/>
                  </a:lnTo>
                  <a:lnTo>
                    <a:pt x="1118" y="2664"/>
                  </a:lnTo>
                  <a:lnTo>
                    <a:pt x="1243" y="2657"/>
                  </a:lnTo>
                  <a:lnTo>
                    <a:pt x="1312" y="2589"/>
                  </a:lnTo>
                  <a:lnTo>
                    <a:pt x="1356" y="2497"/>
                  </a:lnTo>
                  <a:lnTo>
                    <a:pt x="1368" y="2385"/>
                  </a:lnTo>
                  <a:lnTo>
                    <a:pt x="1343" y="2360"/>
                  </a:lnTo>
                  <a:lnTo>
                    <a:pt x="1112" y="2317"/>
                  </a:lnTo>
                  <a:lnTo>
                    <a:pt x="1019" y="2243"/>
                  </a:lnTo>
                  <a:lnTo>
                    <a:pt x="1019" y="2168"/>
                  </a:lnTo>
                  <a:lnTo>
                    <a:pt x="1118" y="2156"/>
                  </a:lnTo>
                  <a:lnTo>
                    <a:pt x="1243" y="2212"/>
                  </a:lnTo>
                  <a:lnTo>
                    <a:pt x="1312" y="2218"/>
                  </a:lnTo>
                  <a:lnTo>
                    <a:pt x="1331" y="2125"/>
                  </a:lnTo>
                  <a:lnTo>
                    <a:pt x="1362" y="2068"/>
                  </a:lnTo>
                  <a:lnTo>
                    <a:pt x="1475" y="1951"/>
                  </a:lnTo>
                  <a:lnTo>
                    <a:pt x="1568" y="1796"/>
                  </a:lnTo>
                  <a:lnTo>
                    <a:pt x="1581" y="1660"/>
                  </a:lnTo>
                  <a:lnTo>
                    <a:pt x="1568" y="1567"/>
                  </a:lnTo>
                  <a:lnTo>
                    <a:pt x="1531" y="1480"/>
                  </a:lnTo>
                  <a:lnTo>
                    <a:pt x="1468" y="1424"/>
                  </a:lnTo>
                  <a:lnTo>
                    <a:pt x="1400" y="1375"/>
                  </a:lnTo>
                  <a:lnTo>
                    <a:pt x="1337" y="1394"/>
                  </a:lnTo>
                  <a:lnTo>
                    <a:pt x="1225" y="1462"/>
                  </a:lnTo>
                  <a:lnTo>
                    <a:pt x="1081" y="1530"/>
                  </a:lnTo>
                  <a:lnTo>
                    <a:pt x="1056" y="1505"/>
                  </a:lnTo>
                  <a:lnTo>
                    <a:pt x="1212" y="1375"/>
                  </a:lnTo>
                  <a:lnTo>
                    <a:pt x="1362" y="1195"/>
                  </a:lnTo>
                  <a:lnTo>
                    <a:pt x="1412" y="1016"/>
                  </a:lnTo>
                  <a:lnTo>
                    <a:pt x="1393" y="867"/>
                  </a:lnTo>
                  <a:lnTo>
                    <a:pt x="1250" y="650"/>
                  </a:lnTo>
                  <a:lnTo>
                    <a:pt x="1081" y="520"/>
                  </a:lnTo>
                  <a:lnTo>
                    <a:pt x="987" y="501"/>
                  </a:lnTo>
                  <a:lnTo>
                    <a:pt x="900" y="507"/>
                  </a:lnTo>
                  <a:lnTo>
                    <a:pt x="830" y="507"/>
                  </a:lnTo>
                  <a:lnTo>
                    <a:pt x="906" y="408"/>
                  </a:lnTo>
                  <a:lnTo>
                    <a:pt x="912" y="284"/>
                  </a:lnTo>
                  <a:lnTo>
                    <a:pt x="849" y="167"/>
                  </a:lnTo>
                  <a:lnTo>
                    <a:pt x="712" y="80"/>
                  </a:lnTo>
                  <a:lnTo>
                    <a:pt x="599" y="74"/>
                  </a:lnTo>
                  <a:lnTo>
                    <a:pt x="455" y="111"/>
                  </a:lnTo>
                  <a:lnTo>
                    <a:pt x="312" y="241"/>
                  </a:lnTo>
                  <a:lnTo>
                    <a:pt x="199" y="414"/>
                  </a:lnTo>
                  <a:lnTo>
                    <a:pt x="168" y="581"/>
                  </a:lnTo>
                  <a:lnTo>
                    <a:pt x="137" y="699"/>
                  </a:lnTo>
                  <a:lnTo>
                    <a:pt x="12" y="637"/>
                  </a:lnTo>
                  <a:lnTo>
                    <a:pt x="0" y="532"/>
                  </a:lnTo>
                  <a:lnTo>
                    <a:pt x="218" y="253"/>
                  </a:lnTo>
                  <a:lnTo>
                    <a:pt x="405" y="74"/>
                  </a:lnTo>
                  <a:lnTo>
                    <a:pt x="599" y="0"/>
                  </a:lnTo>
                  <a:lnTo>
                    <a:pt x="743" y="18"/>
                  </a:lnTo>
                  <a:lnTo>
                    <a:pt x="874" y="86"/>
                  </a:lnTo>
                  <a:lnTo>
                    <a:pt x="969" y="222"/>
                  </a:lnTo>
                  <a:lnTo>
                    <a:pt x="1025" y="334"/>
                  </a:lnTo>
                  <a:lnTo>
                    <a:pt x="1019" y="408"/>
                  </a:lnTo>
                  <a:lnTo>
                    <a:pt x="1112" y="464"/>
                  </a:lnTo>
                  <a:lnTo>
                    <a:pt x="1268" y="581"/>
                  </a:lnTo>
                  <a:lnTo>
                    <a:pt x="1443" y="793"/>
                  </a:lnTo>
                  <a:lnTo>
                    <a:pt x="1481" y="960"/>
                  </a:lnTo>
                  <a:lnTo>
                    <a:pt x="1481" y="1140"/>
                  </a:lnTo>
                  <a:lnTo>
                    <a:pt x="1450" y="1294"/>
                  </a:lnTo>
                  <a:lnTo>
                    <a:pt x="1568" y="1394"/>
                  </a:lnTo>
                  <a:lnTo>
                    <a:pt x="1681" y="1598"/>
                  </a:lnTo>
                  <a:lnTo>
                    <a:pt x="1649" y="1784"/>
                  </a:lnTo>
                  <a:lnTo>
                    <a:pt x="1581" y="1907"/>
                  </a:lnTo>
                  <a:lnTo>
                    <a:pt x="1493" y="2062"/>
                  </a:lnTo>
                  <a:lnTo>
                    <a:pt x="1425" y="2150"/>
                  </a:lnTo>
                  <a:lnTo>
                    <a:pt x="1425" y="2243"/>
                  </a:lnTo>
                  <a:lnTo>
                    <a:pt x="1456" y="2274"/>
                  </a:lnTo>
                  <a:lnTo>
                    <a:pt x="1756" y="2404"/>
                  </a:lnTo>
                  <a:lnTo>
                    <a:pt x="1468" y="2385"/>
                  </a:lnTo>
                  <a:lnTo>
                    <a:pt x="1475" y="244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35" name=""/>
            <p:cNvSpPr/>
            <p:nvPr/>
          </p:nvSpPr>
          <p:spPr>
            <a:xfrm>
              <a:off x="5372280" y="2944800"/>
              <a:ext cx="282960" cy="181440"/>
            </a:xfrm>
            <a:custGeom>
              <a:avLst/>
              <a:gdLst/>
              <a:ahLst/>
              <a:rect l="0" t="0" r="r" b="b"/>
              <a:pathLst>
                <a:path w="786" h="504">
                  <a:moveTo>
                    <a:pt x="18" y="504"/>
                  </a:moveTo>
                  <a:lnTo>
                    <a:pt x="0" y="442"/>
                  </a:lnTo>
                  <a:lnTo>
                    <a:pt x="50" y="367"/>
                  </a:lnTo>
                  <a:lnTo>
                    <a:pt x="393" y="143"/>
                  </a:lnTo>
                  <a:lnTo>
                    <a:pt x="786" y="0"/>
                  </a:lnTo>
                  <a:lnTo>
                    <a:pt x="488" y="193"/>
                  </a:lnTo>
                  <a:lnTo>
                    <a:pt x="247" y="342"/>
                  </a:lnTo>
                  <a:lnTo>
                    <a:pt x="94" y="492"/>
                  </a:lnTo>
                  <a:lnTo>
                    <a:pt x="18" y="50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336" name=""/>
          <p:cNvSpPr txBox="1"/>
          <p:nvPr/>
        </p:nvSpPr>
        <p:spPr>
          <a:xfrm>
            <a:off x="3719520" y="4818240"/>
            <a:ext cx="1670040" cy="457200"/>
          </a:xfrm>
          <a:prstGeom prst="rect">
            <a:avLst/>
          </a:prstGeom>
          <a:noFill/>
          <a:ln w="0">
            <a:noFill/>
          </a:ln>
        </p:spPr>
        <p:txBody>
          <a:bodyPr lIns="0" rIns="0" tIns="0" bIns="0" anchor="t">
            <a:noAutofit/>
          </a:bodyPr>
          <a:p>
            <a:pPr algn="ctr">
              <a:lnSpc>
                <a:spcPct val="100000"/>
              </a:lnSpc>
              <a:spcBef>
                <a:spcPts val="479"/>
              </a:spcBef>
            </a:pPr>
            <a:r>
              <a:rPr b="1" lang="en-US" sz="2400" spc="-1" strike="noStrike">
                <a:solidFill>
                  <a:srgbClr val="000000"/>
                </a:solidFill>
                <a:latin typeface="Arial Narrow"/>
                <a:ea typeface="Arial Narrow"/>
              </a:rPr>
              <a:t>THE E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eans@BitBetter.com</dc:creator>
  <dc:description>Copyright © 1995,  A Bit Better Corporation</dc:description>
  <dc:language>en-US</dc:language>
  <cp:lastModifiedBy>Beans@BitBetter.com</cp:lastModifiedBy>
  <cp:revision>0</cp:revision>
  <dc:subject>Clip Art by A Bit Better Corporation</dc:subject>
  <dc:title>Screen Beans</dc:title>
</cp:coreProperties>
</file>