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620200" y="-4680"/>
            <a:ext cx="50472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610480" y="0"/>
            <a:ext cx="0" cy="684540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47720" y="84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lease No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15920" y="363204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presentation is designed to be shown on a 256-color VGA (640x480) resolution display.  For best results, we recommend that you modify your display settings to this config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67360" y="1968480"/>
            <a:ext cx="868680" cy="1460880"/>
          </a:xfrm>
          <a:custGeom>
            <a:avLst/>
            <a:gdLst/>
            <a:ahLst/>
            <a:rect l="0" t="0" r="r" b="b"/>
            <a:pathLst>
              <a:path w="2413" h="4058">
                <a:moveTo>
                  <a:pt x="803" y="0"/>
                </a:moveTo>
                <a:lnTo>
                  <a:pt x="1607" y="0"/>
                </a:lnTo>
                <a:lnTo>
                  <a:pt x="1607" y="2840"/>
                </a:lnTo>
                <a:lnTo>
                  <a:pt x="2413" y="2840"/>
                </a:lnTo>
                <a:lnTo>
                  <a:pt x="1207" y="4058"/>
                </a:lnTo>
                <a:lnTo>
                  <a:pt x="0" y="2840"/>
                </a:lnTo>
                <a:lnTo>
                  <a:pt x="803" y="2840"/>
                </a:lnTo>
                <a:lnTo>
                  <a:pt x="803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400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plete 3D Program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3065400"/>
            <a:ext cx="824868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int high-resolution images directly from Windows</a:t>
            </a:r>
            <a:r>
              <a:rPr b="1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9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mport/export filters for 3DS, AVI, BMP, DXF, EPS, HPGL, IGES, SAT, STEP, STL, TGA, TIFF, and WM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plete support for OLE 2.0 connectivity AND auto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1638360"/>
            <a:ext cx="82915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Spectives</a:t>
            </a:r>
            <a:r>
              <a:rPr b="0" i="1" lang="en-US" sz="2400" spc="-1" strike="noStrike" baseline="50000">
                <a:solidFill>
                  <a:srgbClr val="fafd00"/>
                </a:solidFill>
                <a:latin typeface="Arial"/>
                <a:ea typeface="Arial"/>
              </a:rPr>
              <a:t>™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is the most complete, most intuitive, 3D program ever.  It’s loaded with so many compelling features that once you try it you’ll never live without 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4000" y="1257480"/>
            <a:ext cx="6514920" cy="468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24000" y="228600"/>
            <a:ext cx="71629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OLE 2.0 conne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OLE 2.0 auto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63480" y="203688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80" indent="-46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BUILD MODELS DIRECTLY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FROM YOUR SPREADSH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266840"/>
            <a:ext cx="6148440" cy="4745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4000" y="166680"/>
            <a:ext cx="8205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&amp; drop 3D graphics into your Powerpoint </a:t>
            </a:r>
            <a:r>
              <a:rPr b="1" i="1" lang="en-US" sz="26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6548400" cy="468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24000" y="166680"/>
            <a:ext cx="8205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&amp; drop 3D graphics into your Word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1666800"/>
            <a:ext cx="4545000" cy="1576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24000" y="4003560"/>
            <a:ext cx="56880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 order your copy of TriSpectives</a:t>
            </a:r>
            <a:r>
              <a:rPr b="1" lang="en-US" sz="18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or TriSpectives</a:t>
            </a:r>
            <a:r>
              <a:rPr b="1" lang="en-US" sz="18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fessional, or to obtain product information or the names of local resellers cal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4959360"/>
            <a:ext cx="6046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  <a:ea typeface="Arial"/>
              </a:rPr>
              <a:t>1-800-WIN95-3D  ext. 62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0" y="146160"/>
            <a:ext cx="2009880" cy="2009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072200" y="285840"/>
            <a:ext cx="162864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3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00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lliShape™ 3D Mod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50 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548080" y="1949400"/>
            <a:ext cx="4095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ser Pric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99.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26160" y="2965320"/>
            <a:ext cx="401940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5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User Pric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499.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Day Trial Version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24.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24000" y="228600"/>
            <a:ext cx="64706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New Standard for 3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00200" y="6351480"/>
            <a:ext cx="564372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1995, 3D/EYE, Inc.  3D/EYE is a registered trademark and TriSpectives is a trademark of 3D/EYE, Inc.  ACIS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is a registered trademark of </a:t>
            </a:r>
            <a:r>
              <a:rPr b="0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PATIAL TECHNOLOGIES INC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.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ll other names are trademarks or tradenames of their respective owners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700680" y="3938760"/>
            <a:ext cx="1619280" cy="1565280"/>
          </a:xfrm>
          <a:prstGeom prst="rect">
            <a:avLst/>
          </a:prstGeom>
          <a:noFill/>
          <a:ln w="12600">
            <a:solidFill>
              <a:srgbClr val="00ff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Day Trial Version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4000" y="6259680"/>
            <a:ext cx="1295280" cy="458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360" y="928800"/>
            <a:ext cx="564372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286760" y="6000840"/>
            <a:ext cx="122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228600"/>
            <a:ext cx="45226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Tri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tiv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3238560"/>
            <a:ext cx="8354880" cy="26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Welcome to the TriSpectives</a:t>
            </a:r>
            <a:r>
              <a:rPr b="0" i="1" lang="en-US" sz="2400" spc="-1" strike="noStrike" baseline="50000">
                <a:solidFill>
                  <a:srgbClr val="fafd00"/>
                </a:solidFill>
                <a:latin typeface="Arial"/>
                <a:ea typeface="Arial"/>
              </a:rPr>
              <a:t>™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Quick Tour for 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icrosoft </a:t>
            </a:r>
            <a:r>
              <a:rPr b="1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®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Offic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Spective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the first complete 3D application for Windows 9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combining unprecedented 3D modeling, illustration and animation features, TriSpective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is the ideal solution for product design, graphic illustration, art, and multimedia content development.  It goes beyond the power of products that cost thousands of dollars m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896000" y="2814480"/>
            <a:ext cx="329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llage created entirely in TriSpecti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6259680"/>
            <a:ext cx="1295280" cy="45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4000" y="228600"/>
            <a:ext cx="7910640" cy="2606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324000" y="1706400"/>
            <a:ext cx="4000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he New Standard for 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286760" y="6000840"/>
            <a:ext cx="122724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228600"/>
            <a:ext cx="77198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ly designed for Windows</a:t>
            </a:r>
            <a:r>
              <a:rPr b="1" lang="en-US" sz="24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ly Microsoft </a:t>
            </a:r>
            <a:r>
              <a:rPr b="1" lang="en-US" sz="24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 compat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1276200"/>
            <a:ext cx="6842160" cy="5143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24000" y="2243160"/>
            <a:ext cx="864864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200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OOLBARS DOCK AND PROVIDE TOOLT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200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ATALOGS ORGANIZE YOU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RAG &amp; DROP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WORKBOOKS HOLD YOUR 3D PAGES AND 3D SC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24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ful 3D Modeling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2590920"/>
            <a:ext cx="8291520" cy="30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liShape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 modeling as easy as dragging, dropping &amp; sliding intelligent 3D sh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martSnap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 the easy way to align, move, size, rotate, and tilt IntelliSh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martDimension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ive you completely accurate 3D position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ickers and decals drag &amp; drop to any surface of your mod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1676520"/>
            <a:ext cx="8096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Spectives</a:t>
            </a:r>
            <a:r>
              <a:rPr b="0" i="1" lang="en-US" sz="2400" spc="-1" strike="noStrike" baseline="50000">
                <a:solidFill>
                  <a:srgbClr val="fafd00"/>
                </a:solidFill>
                <a:latin typeface="Arial"/>
                <a:ea typeface="Arial"/>
              </a:rPr>
              <a:t>™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rovides a breakthrough in precise modeling capabil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1276200"/>
            <a:ext cx="6877080" cy="5170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24000" y="228600"/>
            <a:ext cx="86724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Powerful IntelliShape</a:t>
            </a:r>
            <a:r>
              <a:rPr b="0" lang="en-US" sz="25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 properties (blend, shell, etc.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Precise, double-precision ACIS</a:t>
            </a:r>
            <a:r>
              <a:rPr b="1" lang="en-US" sz="24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  <a:ea typeface="Arial"/>
              </a:rPr>
              <a:t> mode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2306520"/>
            <a:ext cx="777240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80" indent="-46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INTELLISHAPES ARE SIZED AND 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OSITIONED USING INTUITIVE HANDLE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200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ULTIPLE VIEWS ARE </a:t>
            </a:r>
            <a:br>
              <a:rPr sz="2400"/>
            </a:b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ARRANGED USING SPLITTER B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ve 3D Illustra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2533680"/>
            <a:ext cx="826776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martRender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sures you’ll always work interactively in full-color 3D — without any special hardw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D pages provide full page layout for printing — 3D models ‘float’ above the page and cast shado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D compositing lets you move, size and layer 3D ima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chnical drawings of your models can be exported to your favorite 2D CAD or illustration progr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1695600"/>
            <a:ext cx="788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Spectives</a:t>
            </a:r>
            <a:r>
              <a:rPr b="0" i="1" lang="en-US" sz="2400" spc="-1" strike="noStrike" baseline="50000">
                <a:solidFill>
                  <a:srgbClr val="fafd00"/>
                </a:solidFill>
                <a:latin typeface="Arial"/>
                <a:ea typeface="Arial"/>
              </a:rPr>
              <a:t>™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provides unparalleled 3D illustration capabil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1257480"/>
            <a:ext cx="6858000" cy="515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228600"/>
            <a:ext cx="82915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7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ll-color, interactive 3D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5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-resolution pr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2857680"/>
            <a:ext cx="695484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46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ODELS FLOAT AND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ROTATE ABOVE THE 3D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4680" algn="r">
              <a:lnSpc>
                <a:spcPct val="100000"/>
              </a:lnSpc>
              <a:spcBef>
                <a:spcPts val="7200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ULTIPLE 3D SCENES AR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AYERED ON THE 3D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24000" y="228600"/>
            <a:ext cx="8807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&amp; Drop 3D Animation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2571840"/>
            <a:ext cx="828684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martMotions</a:t>
            </a:r>
            <a:r>
              <a:rPr b="0" lang="en-US" sz="2000" spc="-1" strike="noStrike" baseline="5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can be dragged &amp; dropped onto any model to make it fly along a path or spin around an ax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spcBef>
                <a:spcPts val="1199"/>
              </a:spcBef>
              <a:buClr>
                <a:srgbClr val="fafd00"/>
              </a:buClr>
              <a:buFont typeface="Monotype Sorts"/>
              <a:buChar char=""/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hierarchical timeline editor makes it easy to set time, duration, and other animation proper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4000" y="1695600"/>
            <a:ext cx="8096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riSpectives</a:t>
            </a:r>
            <a:r>
              <a:rPr b="0" i="1" lang="en-US" sz="2400" spc="-1" strike="noStrike" baseline="50000">
                <a:solidFill>
                  <a:srgbClr val="fafd00"/>
                </a:solidFill>
                <a:latin typeface="Arial"/>
                <a:ea typeface="Arial"/>
              </a:rPr>
              <a:t>™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brings your work to life with 3D ani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9600" y="1239840"/>
            <a:ext cx="6851520" cy="512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24000" y="228600"/>
            <a:ext cx="8142120" cy="7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5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cise control of timing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" indent="-91440">
              <a:lnSpc>
                <a:spcPct val="50000"/>
              </a:lnSpc>
              <a:spcBef>
                <a:spcPts val="1199"/>
              </a:spcBef>
              <a:buClr>
                <a:srgbClr val="fc0128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l-time animation p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315432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RAG &amp; DROP MULTIPLE ANIM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6319"/>
              </a:spcBef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POINT-AND-CLICK TIMELINE ED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3D/EYE Marketing</dc:creator>
  <dc:description/>
  <dc:language>en-US</dc:language>
  <cp:lastModifiedBy>PC User</cp:lastModifiedBy>
  <cp:revision>0</cp:revision>
  <dc:subject>Office Compatible '95 Autodemo</dc:subject>
  <dc:title>TriSpectives</dc:title>
</cp:coreProperties>
</file>