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96920" y="5580000"/>
            <a:ext cx="841320" cy="1076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6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4633920" y="1400040"/>
            <a:ext cx="4268880" cy="5216760"/>
            <a:chOff x="4633920" y="1400040"/>
            <a:chExt cx="4268880" cy="5216760"/>
          </a:xfrm>
        </p:grpSpPr>
        <p:sp>
          <p:nvSpPr>
            <p:cNvPr id="230" name=""/>
            <p:cNvSpPr/>
            <p:nvPr/>
          </p:nvSpPr>
          <p:spPr>
            <a:xfrm>
              <a:off x="4768920" y="1546200"/>
              <a:ext cx="4133880" cy="507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31" name="" descr=""/>
            <p:cNvPicPr/>
            <p:nvPr/>
          </p:nvPicPr>
          <p:blipFill>
            <a:blip r:embed="rId1"/>
            <a:stretch/>
          </p:blipFill>
          <p:spPr>
            <a:xfrm>
              <a:off x="4633920" y="1400040"/>
              <a:ext cx="4122720" cy="505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2" name=""/>
          <p:cNvGrpSpPr/>
          <p:nvPr/>
        </p:nvGrpSpPr>
        <p:grpSpPr>
          <a:xfrm>
            <a:off x="411120" y="414360"/>
            <a:ext cx="5791320" cy="2971800"/>
            <a:chOff x="411120" y="414360"/>
            <a:chExt cx="5791320" cy="2971800"/>
          </a:xfrm>
        </p:grpSpPr>
        <p:sp>
          <p:nvSpPr>
            <p:cNvPr id="233" name=""/>
            <p:cNvSpPr txBox="1"/>
            <p:nvPr/>
          </p:nvSpPr>
          <p:spPr>
            <a:xfrm>
              <a:off x="411120" y="414360"/>
              <a:ext cx="5791320" cy="297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54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Easy Flowcharting</a:t>
              </a:r>
              <a:br>
                <a:rPr sz="5400"/>
              </a:br>
              <a:r>
                <a:rPr b="1" i="1" lang="en-US" sz="36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for</a:t>
              </a:r>
              <a:br>
                <a:rPr sz="1800"/>
              </a:br>
              <a:r>
                <a:rPr b="1" lang="en-US" sz="54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Microsoft</a:t>
              </a:r>
              <a:br>
                <a:rPr sz="5400"/>
              </a:br>
              <a:r>
                <a:rPr b="1" lang="en-US" sz="54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Office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 txBox="1"/>
            <p:nvPr/>
          </p:nvSpPr>
          <p:spPr>
            <a:xfrm>
              <a:off x="3346560" y="1789200"/>
              <a:ext cx="225360" cy="225360"/>
            </a:xfrm>
            <a:prstGeom prst="rect">
              <a:avLst/>
            </a:prstGeom>
            <a:noFill/>
            <a:ln w="25560">
              <a:solidFill>
                <a:srgbClr val="fafd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293760" y="19224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Office Inte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293760" y="1289160"/>
            <a:ext cx="772956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FlowModel 2.0 fully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supports OLE 2.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79"/>
              </a:spcBef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FlowModel is an OLE container, </a:t>
            </a:r>
            <a:br>
              <a:rPr sz="2200"/>
            </a:br>
            <a:r>
              <a:rPr b="0" i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and an OLE serv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Data can be imported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from MS Acces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79"/>
              </a:spcBef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For example, FlowModel </a:t>
            </a:r>
            <a:br>
              <a:rPr sz="2200"/>
            </a:br>
            <a:r>
              <a:rPr b="0" i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can automatically draw a</a:t>
            </a:r>
            <a:br>
              <a:rPr sz="2200"/>
            </a:br>
            <a:r>
              <a:rPr b="0" i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chart using data exported </a:t>
            </a:r>
            <a:br>
              <a:rPr sz="2200"/>
            </a:br>
            <a:r>
              <a:rPr b="0" i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from Microsoft Acc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Data can also be exported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to Microsoft Access and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Excel for further analys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4165560" y="2768760"/>
            <a:ext cx="4907160" cy="2027160"/>
            <a:chOff x="4165560" y="2768760"/>
            <a:chExt cx="4907160" cy="2027160"/>
          </a:xfrm>
        </p:grpSpPr>
        <p:sp>
          <p:nvSpPr>
            <p:cNvPr id="413" name=""/>
            <p:cNvSpPr/>
            <p:nvPr/>
          </p:nvSpPr>
          <p:spPr>
            <a:xfrm>
              <a:off x="4521240" y="3479760"/>
              <a:ext cx="0" cy="1006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113520" y="3479760"/>
              <a:ext cx="0" cy="1006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667720" y="3479760"/>
              <a:ext cx="0" cy="1006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 txBox="1"/>
            <p:nvPr/>
          </p:nvSpPr>
          <p:spPr>
            <a:xfrm>
              <a:off x="4165560" y="3728880"/>
              <a:ext cx="774720" cy="385920"/>
            </a:xfrm>
            <a:prstGeom prst="rect">
              <a:avLst/>
            </a:prstGeom>
            <a:solidFill>
              <a:srgbClr val="009688"/>
            </a:solidFill>
            <a:ln w="2556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  <a:ea typeface="Arial"/>
                </a:rPr>
                <a:t>Larry Jone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  <a:ea typeface="Arial"/>
                </a:rPr>
                <a:t>V.P. Marke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 txBox="1"/>
            <p:nvPr/>
          </p:nvSpPr>
          <p:spPr>
            <a:xfrm>
              <a:off x="5721480" y="3728880"/>
              <a:ext cx="774720" cy="385920"/>
            </a:xfrm>
            <a:prstGeom prst="rect">
              <a:avLst/>
            </a:prstGeom>
            <a:solidFill>
              <a:srgbClr val="009688"/>
            </a:solidFill>
            <a:ln w="2556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nna James,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  <a:ea typeface="Arial"/>
                </a:rPr>
                <a:t>V.P. Sale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 txBox="1"/>
            <p:nvPr/>
          </p:nvSpPr>
          <p:spPr>
            <a:xfrm>
              <a:off x="8298000" y="3728880"/>
              <a:ext cx="774720" cy="385920"/>
            </a:xfrm>
            <a:prstGeom prst="rect">
              <a:avLst/>
            </a:prstGeom>
            <a:solidFill>
              <a:srgbClr val="009688"/>
            </a:solidFill>
            <a:ln w="2556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  <a:ea typeface="Arial"/>
                </a:rPr>
                <a:t>Howard Frank,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  <a:ea typeface="Arial"/>
                </a:rPr>
                <a:t>CF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 txBox="1"/>
            <p:nvPr/>
          </p:nvSpPr>
          <p:spPr>
            <a:xfrm>
              <a:off x="4208400" y="4375080"/>
              <a:ext cx="687240" cy="42084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eg Purdom,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  <a:ea typeface="Arial"/>
                </a:rPr>
                <a:t>Director of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  <a:ea typeface="Arial"/>
                </a:rPr>
                <a:t>Marke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 txBox="1"/>
            <p:nvPr/>
          </p:nvSpPr>
          <p:spPr>
            <a:xfrm>
              <a:off x="8345520" y="4375080"/>
              <a:ext cx="687240" cy="42084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  <a:ea typeface="Arial"/>
                </a:rPr>
                <a:t>Jim Goodkind,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troll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521240" y="3471840"/>
              <a:ext cx="4146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338800" y="4221000"/>
              <a:ext cx="0" cy="265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835680" y="4229280"/>
              <a:ext cx="0" cy="257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345280" y="4221000"/>
              <a:ext cx="1490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 txBox="1"/>
            <p:nvPr/>
          </p:nvSpPr>
          <p:spPr>
            <a:xfrm>
              <a:off x="5764320" y="4375080"/>
              <a:ext cx="687240" cy="42084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  <a:ea typeface="Arial"/>
                </a:rPr>
                <a:t>Gordon Bayer,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  <a:ea typeface="Arial"/>
                </a:rPr>
                <a:t>Easter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g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>
              <a:off x="5003640" y="4375080"/>
              <a:ext cx="689040" cy="42084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  <a:ea typeface="Arial"/>
                </a:rPr>
                <a:t>Mac McReady,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ternationa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 txBox="1"/>
            <p:nvPr/>
          </p:nvSpPr>
          <p:spPr>
            <a:xfrm>
              <a:off x="6502320" y="4375080"/>
              <a:ext cx="689040" cy="42084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  <a:ea typeface="Arial"/>
                </a:rPr>
                <a:t>Matt Gregor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  <a:ea typeface="Arial"/>
                </a:rPr>
                <a:t>Wester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g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835760" y="3479760"/>
              <a:ext cx="0" cy="492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 txBox="1"/>
            <p:nvPr/>
          </p:nvSpPr>
          <p:spPr>
            <a:xfrm>
              <a:off x="7443720" y="3728880"/>
              <a:ext cx="774720" cy="385920"/>
            </a:xfrm>
            <a:prstGeom prst="rect">
              <a:avLst/>
            </a:prstGeom>
            <a:solidFill>
              <a:srgbClr val="009688"/>
            </a:solidFill>
            <a:ln w="2556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eg Fritz,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  <a:ea typeface="Arial"/>
                </a:rPr>
                <a:t>V.P. R&amp;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907320" y="3132000"/>
              <a:ext cx="0" cy="347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 txBox="1"/>
            <p:nvPr/>
          </p:nvSpPr>
          <p:spPr>
            <a:xfrm>
              <a:off x="6514920" y="2768760"/>
              <a:ext cx="773280" cy="484200"/>
            </a:xfrm>
            <a:prstGeom prst="rect">
              <a:avLst/>
            </a:prstGeom>
            <a:solidFill>
              <a:srgbClr val="009688"/>
            </a:solidFill>
            <a:ln w="2556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  <a:ea typeface="Arial"/>
                </a:rPr>
                <a:t>Fred Smith,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  <a:ea typeface="Arial"/>
                </a:rPr>
                <a:t>CE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6275520" y="1881360"/>
            <a:ext cx="1833840" cy="1019160"/>
            <a:chOff x="6275520" y="1881360"/>
            <a:chExt cx="1833840" cy="1019160"/>
          </a:xfrm>
        </p:grpSpPr>
        <p:sp>
          <p:nvSpPr>
            <p:cNvPr id="433" name=""/>
            <p:cNvSpPr/>
            <p:nvPr/>
          </p:nvSpPr>
          <p:spPr>
            <a:xfrm>
              <a:off x="6276960" y="1881360"/>
              <a:ext cx="1832400" cy="924120"/>
            </a:xfrm>
            <a:custGeom>
              <a:avLst/>
              <a:gdLst/>
              <a:ahLst/>
              <a:rect l="0" t="0" r="r" b="b"/>
              <a:pathLst>
                <a:path w="5090" h="2567">
                  <a:moveTo>
                    <a:pt x="5087" y="15"/>
                  </a:moveTo>
                  <a:lnTo>
                    <a:pt x="4801" y="0"/>
                  </a:lnTo>
                  <a:lnTo>
                    <a:pt x="4665" y="0"/>
                  </a:lnTo>
                  <a:lnTo>
                    <a:pt x="4499" y="0"/>
                  </a:lnTo>
                  <a:lnTo>
                    <a:pt x="4342" y="6"/>
                  </a:lnTo>
                  <a:lnTo>
                    <a:pt x="4185" y="15"/>
                  </a:lnTo>
                  <a:lnTo>
                    <a:pt x="4028" y="33"/>
                  </a:lnTo>
                  <a:lnTo>
                    <a:pt x="3889" y="61"/>
                  </a:lnTo>
                  <a:lnTo>
                    <a:pt x="3731" y="92"/>
                  </a:lnTo>
                  <a:lnTo>
                    <a:pt x="3546" y="135"/>
                  </a:lnTo>
                  <a:lnTo>
                    <a:pt x="3380" y="193"/>
                  </a:lnTo>
                  <a:lnTo>
                    <a:pt x="3223" y="239"/>
                  </a:lnTo>
                  <a:lnTo>
                    <a:pt x="3047" y="306"/>
                  </a:lnTo>
                  <a:lnTo>
                    <a:pt x="2881" y="380"/>
                  </a:lnTo>
                  <a:lnTo>
                    <a:pt x="2714" y="454"/>
                  </a:lnTo>
                  <a:lnTo>
                    <a:pt x="2576" y="531"/>
                  </a:lnTo>
                  <a:lnTo>
                    <a:pt x="2419" y="604"/>
                  </a:lnTo>
                  <a:lnTo>
                    <a:pt x="2280" y="678"/>
                  </a:lnTo>
                  <a:lnTo>
                    <a:pt x="2132" y="761"/>
                  </a:lnTo>
                  <a:lnTo>
                    <a:pt x="1984" y="847"/>
                  </a:lnTo>
                  <a:lnTo>
                    <a:pt x="1836" y="951"/>
                  </a:lnTo>
                  <a:lnTo>
                    <a:pt x="1707" y="1034"/>
                  </a:lnTo>
                  <a:lnTo>
                    <a:pt x="1568" y="1148"/>
                  </a:lnTo>
                  <a:lnTo>
                    <a:pt x="1439" y="1249"/>
                  </a:lnTo>
                  <a:lnTo>
                    <a:pt x="1319" y="1351"/>
                  </a:lnTo>
                  <a:lnTo>
                    <a:pt x="1216" y="1465"/>
                  </a:lnTo>
                  <a:lnTo>
                    <a:pt x="1133" y="1566"/>
                  </a:lnTo>
                  <a:lnTo>
                    <a:pt x="1068" y="1671"/>
                  </a:lnTo>
                  <a:lnTo>
                    <a:pt x="0" y="1523"/>
                  </a:lnTo>
                  <a:lnTo>
                    <a:pt x="163" y="1606"/>
                  </a:lnTo>
                  <a:lnTo>
                    <a:pt x="292" y="1671"/>
                  </a:lnTo>
                  <a:lnTo>
                    <a:pt x="449" y="1735"/>
                  </a:lnTo>
                  <a:lnTo>
                    <a:pt x="566" y="1803"/>
                  </a:lnTo>
                  <a:lnTo>
                    <a:pt x="671" y="1864"/>
                  </a:lnTo>
                  <a:lnTo>
                    <a:pt x="763" y="1913"/>
                  </a:lnTo>
                  <a:lnTo>
                    <a:pt x="853" y="1984"/>
                  </a:lnTo>
                  <a:lnTo>
                    <a:pt x="942" y="2045"/>
                  </a:lnTo>
                  <a:lnTo>
                    <a:pt x="1038" y="2119"/>
                  </a:lnTo>
                  <a:lnTo>
                    <a:pt x="1142" y="2208"/>
                  </a:lnTo>
                  <a:lnTo>
                    <a:pt x="1253" y="2297"/>
                  </a:lnTo>
                  <a:lnTo>
                    <a:pt x="1347" y="2386"/>
                  </a:lnTo>
                  <a:lnTo>
                    <a:pt x="1445" y="2484"/>
                  </a:lnTo>
                  <a:lnTo>
                    <a:pt x="1522" y="2567"/>
                  </a:lnTo>
                  <a:lnTo>
                    <a:pt x="1605" y="2539"/>
                  </a:lnTo>
                  <a:lnTo>
                    <a:pt x="1689" y="2490"/>
                  </a:lnTo>
                  <a:lnTo>
                    <a:pt x="1778" y="2453"/>
                  </a:lnTo>
                  <a:lnTo>
                    <a:pt x="1883" y="2407"/>
                  </a:lnTo>
                  <a:lnTo>
                    <a:pt x="1990" y="2361"/>
                  </a:lnTo>
                  <a:lnTo>
                    <a:pt x="2089" y="2331"/>
                  </a:lnTo>
                  <a:lnTo>
                    <a:pt x="2185" y="2303"/>
                  </a:lnTo>
                  <a:lnTo>
                    <a:pt x="2292" y="2266"/>
                  </a:lnTo>
                  <a:lnTo>
                    <a:pt x="2412" y="2242"/>
                  </a:lnTo>
                  <a:lnTo>
                    <a:pt x="2530" y="2208"/>
                  </a:lnTo>
                  <a:lnTo>
                    <a:pt x="2637" y="2180"/>
                  </a:lnTo>
                  <a:lnTo>
                    <a:pt x="2742" y="2153"/>
                  </a:lnTo>
                  <a:lnTo>
                    <a:pt x="2856" y="2134"/>
                  </a:lnTo>
                  <a:lnTo>
                    <a:pt x="2964" y="2110"/>
                  </a:lnTo>
                  <a:lnTo>
                    <a:pt x="3065" y="2088"/>
                  </a:lnTo>
                  <a:lnTo>
                    <a:pt x="3186" y="2060"/>
                  </a:lnTo>
                  <a:lnTo>
                    <a:pt x="3349" y="2042"/>
                  </a:lnTo>
                  <a:lnTo>
                    <a:pt x="2234" y="1846"/>
                  </a:lnTo>
                  <a:lnTo>
                    <a:pt x="2308" y="1698"/>
                  </a:lnTo>
                  <a:lnTo>
                    <a:pt x="2400" y="1588"/>
                  </a:lnTo>
                  <a:lnTo>
                    <a:pt x="2557" y="1373"/>
                  </a:lnTo>
                  <a:lnTo>
                    <a:pt x="2650" y="1277"/>
                  </a:lnTo>
                  <a:lnTo>
                    <a:pt x="2742" y="1181"/>
                  </a:lnTo>
                  <a:lnTo>
                    <a:pt x="2908" y="1025"/>
                  </a:lnTo>
                  <a:lnTo>
                    <a:pt x="3010" y="933"/>
                  </a:lnTo>
                  <a:lnTo>
                    <a:pt x="3130" y="838"/>
                  </a:lnTo>
                  <a:lnTo>
                    <a:pt x="3241" y="764"/>
                  </a:lnTo>
                  <a:lnTo>
                    <a:pt x="3333" y="709"/>
                  </a:lnTo>
                  <a:lnTo>
                    <a:pt x="3417" y="635"/>
                  </a:lnTo>
                  <a:lnTo>
                    <a:pt x="3537" y="571"/>
                  </a:lnTo>
                  <a:lnTo>
                    <a:pt x="3666" y="488"/>
                  </a:lnTo>
                  <a:lnTo>
                    <a:pt x="3768" y="432"/>
                  </a:lnTo>
                  <a:lnTo>
                    <a:pt x="3870" y="386"/>
                  </a:lnTo>
                  <a:lnTo>
                    <a:pt x="4046" y="340"/>
                  </a:lnTo>
                  <a:lnTo>
                    <a:pt x="4166" y="303"/>
                  </a:lnTo>
                  <a:lnTo>
                    <a:pt x="4342" y="267"/>
                  </a:lnTo>
                  <a:lnTo>
                    <a:pt x="4480" y="230"/>
                  </a:lnTo>
                  <a:lnTo>
                    <a:pt x="4647" y="211"/>
                  </a:lnTo>
                  <a:lnTo>
                    <a:pt x="5090" y="193"/>
                  </a:lnTo>
                  <a:lnTo>
                    <a:pt x="5087" y="15"/>
                  </a:lnTo>
                  <a:close/>
                </a:path>
              </a:pathLst>
            </a:custGeom>
            <a:solidFill>
              <a:srgbClr val="c4001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085160" y="2557440"/>
              <a:ext cx="394200" cy="146520"/>
            </a:xfrm>
            <a:custGeom>
              <a:avLst/>
              <a:gdLst/>
              <a:ahLst/>
              <a:rect l="0" t="0" r="r" b="b"/>
              <a:pathLst>
                <a:path w="1095" h="407">
                  <a:moveTo>
                    <a:pt x="1095" y="169"/>
                  </a:moveTo>
                  <a:lnTo>
                    <a:pt x="1095" y="407"/>
                  </a:lnTo>
                  <a:lnTo>
                    <a:pt x="0" y="221"/>
                  </a:lnTo>
                  <a:lnTo>
                    <a:pt x="18" y="114"/>
                  </a:lnTo>
                  <a:lnTo>
                    <a:pt x="91" y="0"/>
                  </a:lnTo>
                  <a:lnTo>
                    <a:pt x="1095" y="169"/>
                  </a:lnTo>
                  <a:close/>
                </a:path>
              </a:pathLst>
            </a:custGeom>
            <a:solidFill>
              <a:srgbClr val="c4001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276960" y="2435400"/>
              <a:ext cx="376560" cy="144720"/>
            </a:xfrm>
            <a:custGeom>
              <a:avLst/>
              <a:gdLst/>
              <a:ahLst/>
              <a:rect l="0" t="0" r="r" b="b"/>
              <a:pathLst>
                <a:path w="1046" h="402">
                  <a:moveTo>
                    <a:pt x="0" y="0"/>
                  </a:moveTo>
                  <a:lnTo>
                    <a:pt x="3" y="230"/>
                  </a:lnTo>
                  <a:lnTo>
                    <a:pt x="1046" y="402"/>
                  </a:lnTo>
                  <a:lnTo>
                    <a:pt x="1046" y="1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001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275520" y="1949400"/>
              <a:ext cx="1832400" cy="951120"/>
            </a:xfrm>
            <a:custGeom>
              <a:avLst/>
              <a:gdLst/>
              <a:ahLst/>
              <a:rect l="0" t="0" r="r" b="b"/>
              <a:pathLst>
                <a:path w="5090" h="2642">
                  <a:moveTo>
                    <a:pt x="5090" y="18"/>
                  </a:moveTo>
                  <a:lnTo>
                    <a:pt x="4807" y="0"/>
                  </a:lnTo>
                  <a:lnTo>
                    <a:pt x="4671" y="0"/>
                  </a:lnTo>
                  <a:lnTo>
                    <a:pt x="4505" y="0"/>
                  </a:lnTo>
                  <a:lnTo>
                    <a:pt x="4348" y="9"/>
                  </a:lnTo>
                  <a:lnTo>
                    <a:pt x="4191" y="18"/>
                  </a:lnTo>
                  <a:lnTo>
                    <a:pt x="4034" y="36"/>
                  </a:lnTo>
                  <a:lnTo>
                    <a:pt x="3895" y="64"/>
                  </a:lnTo>
                  <a:lnTo>
                    <a:pt x="3737" y="95"/>
                  </a:lnTo>
                  <a:lnTo>
                    <a:pt x="3552" y="141"/>
                  </a:lnTo>
                  <a:lnTo>
                    <a:pt x="3386" y="199"/>
                  </a:lnTo>
                  <a:lnTo>
                    <a:pt x="3229" y="248"/>
                  </a:lnTo>
                  <a:lnTo>
                    <a:pt x="3053" y="315"/>
                  </a:lnTo>
                  <a:lnTo>
                    <a:pt x="2887" y="392"/>
                  </a:lnTo>
                  <a:lnTo>
                    <a:pt x="2720" y="469"/>
                  </a:lnTo>
                  <a:lnTo>
                    <a:pt x="2582" y="546"/>
                  </a:lnTo>
                  <a:lnTo>
                    <a:pt x="2425" y="622"/>
                  </a:lnTo>
                  <a:lnTo>
                    <a:pt x="2286" y="699"/>
                  </a:lnTo>
                  <a:lnTo>
                    <a:pt x="2138" y="785"/>
                  </a:lnTo>
                  <a:lnTo>
                    <a:pt x="1990" y="871"/>
                  </a:lnTo>
                  <a:lnTo>
                    <a:pt x="1843" y="978"/>
                  </a:lnTo>
                  <a:lnTo>
                    <a:pt x="1713" y="1064"/>
                  </a:lnTo>
                  <a:lnTo>
                    <a:pt x="1575" y="1181"/>
                  </a:lnTo>
                  <a:lnTo>
                    <a:pt x="1445" y="1285"/>
                  </a:lnTo>
                  <a:lnTo>
                    <a:pt x="1325" y="1399"/>
                  </a:lnTo>
                  <a:lnTo>
                    <a:pt x="1222" y="1516"/>
                  </a:lnTo>
                  <a:lnTo>
                    <a:pt x="1139" y="1611"/>
                  </a:lnTo>
                  <a:lnTo>
                    <a:pt x="1075" y="1718"/>
                  </a:lnTo>
                  <a:lnTo>
                    <a:pt x="0" y="1577"/>
                  </a:lnTo>
                  <a:lnTo>
                    <a:pt x="169" y="1651"/>
                  </a:lnTo>
                  <a:lnTo>
                    <a:pt x="298" y="1718"/>
                  </a:lnTo>
                  <a:lnTo>
                    <a:pt x="455" y="1786"/>
                  </a:lnTo>
                  <a:lnTo>
                    <a:pt x="572" y="1853"/>
                  </a:lnTo>
                  <a:lnTo>
                    <a:pt x="677" y="1918"/>
                  </a:lnTo>
                  <a:lnTo>
                    <a:pt x="770" y="1967"/>
                  </a:lnTo>
                  <a:lnTo>
                    <a:pt x="859" y="2041"/>
                  </a:lnTo>
                  <a:lnTo>
                    <a:pt x="948" y="2105"/>
                  </a:lnTo>
                  <a:lnTo>
                    <a:pt x="1044" y="2179"/>
                  </a:lnTo>
                  <a:lnTo>
                    <a:pt x="1148" y="2271"/>
                  </a:lnTo>
                  <a:lnTo>
                    <a:pt x="1259" y="2363"/>
                  </a:lnTo>
                  <a:lnTo>
                    <a:pt x="1353" y="2455"/>
                  </a:lnTo>
                  <a:lnTo>
                    <a:pt x="1451" y="2556"/>
                  </a:lnTo>
                  <a:lnTo>
                    <a:pt x="1528" y="2642"/>
                  </a:lnTo>
                  <a:lnTo>
                    <a:pt x="1612" y="2611"/>
                  </a:lnTo>
                  <a:lnTo>
                    <a:pt x="1695" y="2562"/>
                  </a:lnTo>
                  <a:lnTo>
                    <a:pt x="1784" y="2522"/>
                  </a:lnTo>
                  <a:lnTo>
                    <a:pt x="1889" y="2476"/>
                  </a:lnTo>
                  <a:lnTo>
                    <a:pt x="1997" y="2430"/>
                  </a:lnTo>
                  <a:lnTo>
                    <a:pt x="2095" y="2396"/>
                  </a:lnTo>
                  <a:lnTo>
                    <a:pt x="2191" y="2369"/>
                  </a:lnTo>
                  <a:lnTo>
                    <a:pt x="2298" y="2332"/>
                  </a:lnTo>
                  <a:lnTo>
                    <a:pt x="2419" y="2304"/>
                  </a:lnTo>
                  <a:lnTo>
                    <a:pt x="2536" y="2271"/>
                  </a:lnTo>
                  <a:lnTo>
                    <a:pt x="2643" y="2243"/>
                  </a:lnTo>
                  <a:lnTo>
                    <a:pt x="2748" y="2215"/>
                  </a:lnTo>
                  <a:lnTo>
                    <a:pt x="2862" y="2194"/>
                  </a:lnTo>
                  <a:lnTo>
                    <a:pt x="2970" y="2169"/>
                  </a:lnTo>
                  <a:lnTo>
                    <a:pt x="3072" y="2148"/>
                  </a:lnTo>
                  <a:lnTo>
                    <a:pt x="3192" y="2120"/>
                  </a:lnTo>
                  <a:lnTo>
                    <a:pt x="3349" y="2102"/>
                  </a:lnTo>
                  <a:lnTo>
                    <a:pt x="2240" y="1900"/>
                  </a:lnTo>
                  <a:lnTo>
                    <a:pt x="2314" y="1746"/>
                  </a:lnTo>
                  <a:lnTo>
                    <a:pt x="2406" y="1633"/>
                  </a:lnTo>
                  <a:lnTo>
                    <a:pt x="2563" y="1421"/>
                  </a:lnTo>
                  <a:lnTo>
                    <a:pt x="2656" y="1313"/>
                  </a:lnTo>
                  <a:lnTo>
                    <a:pt x="2748" y="1217"/>
                  </a:lnTo>
                  <a:lnTo>
                    <a:pt x="2915" y="1055"/>
                  </a:lnTo>
                  <a:lnTo>
                    <a:pt x="3016" y="960"/>
                  </a:lnTo>
                  <a:lnTo>
                    <a:pt x="3136" y="843"/>
                  </a:lnTo>
                  <a:lnTo>
                    <a:pt x="3247" y="757"/>
                  </a:lnTo>
                  <a:lnTo>
                    <a:pt x="3340" y="681"/>
                  </a:lnTo>
                  <a:lnTo>
                    <a:pt x="3432" y="604"/>
                  </a:lnTo>
                  <a:lnTo>
                    <a:pt x="3543" y="527"/>
                  </a:lnTo>
                  <a:lnTo>
                    <a:pt x="3663" y="450"/>
                  </a:lnTo>
                  <a:lnTo>
                    <a:pt x="3783" y="392"/>
                  </a:lnTo>
                  <a:lnTo>
                    <a:pt x="3904" y="325"/>
                  </a:lnTo>
                  <a:lnTo>
                    <a:pt x="4052" y="266"/>
                  </a:lnTo>
                  <a:lnTo>
                    <a:pt x="4191" y="220"/>
                  </a:lnTo>
                  <a:lnTo>
                    <a:pt x="4348" y="181"/>
                  </a:lnTo>
                  <a:lnTo>
                    <a:pt x="4496" y="141"/>
                  </a:lnTo>
                  <a:lnTo>
                    <a:pt x="4653" y="104"/>
                  </a:lnTo>
                  <a:lnTo>
                    <a:pt x="4822" y="70"/>
                  </a:lnTo>
                  <a:lnTo>
                    <a:pt x="5090" y="18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7607160" y="5334120"/>
            <a:ext cx="838080" cy="1409760"/>
            <a:chOff x="7607160" y="5334120"/>
            <a:chExt cx="838080" cy="1409760"/>
          </a:xfrm>
        </p:grpSpPr>
        <p:sp>
          <p:nvSpPr>
            <p:cNvPr id="438" name=""/>
            <p:cNvSpPr/>
            <p:nvPr/>
          </p:nvSpPr>
          <p:spPr>
            <a:xfrm>
              <a:off x="7607160" y="5334120"/>
              <a:ext cx="838080" cy="1409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9" name="" descr=""/>
            <p:cNvPicPr/>
            <p:nvPr/>
          </p:nvPicPr>
          <p:blipFill>
            <a:blip r:embed="rId1"/>
            <a:stretch/>
          </p:blipFill>
          <p:spPr>
            <a:xfrm>
              <a:off x="7642080" y="5378400"/>
              <a:ext cx="733320" cy="1316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0" name=""/>
          <p:cNvGrpSpPr/>
          <p:nvPr/>
        </p:nvGrpSpPr>
        <p:grpSpPr>
          <a:xfrm>
            <a:off x="7632720" y="1460520"/>
            <a:ext cx="838080" cy="1409760"/>
            <a:chOff x="7632720" y="1460520"/>
            <a:chExt cx="838080" cy="1409760"/>
          </a:xfrm>
        </p:grpSpPr>
        <p:sp>
          <p:nvSpPr>
            <p:cNvPr id="441" name=""/>
            <p:cNvSpPr/>
            <p:nvPr/>
          </p:nvSpPr>
          <p:spPr>
            <a:xfrm>
              <a:off x="7632720" y="1460520"/>
              <a:ext cx="838080" cy="1409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2" name="" descr=""/>
            <p:cNvPicPr/>
            <p:nvPr/>
          </p:nvPicPr>
          <p:blipFill>
            <a:blip r:embed="rId2"/>
            <a:stretch/>
          </p:blipFill>
          <p:spPr>
            <a:xfrm>
              <a:off x="7667640" y="1504800"/>
              <a:ext cx="733320" cy="1316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3" name=""/>
          <p:cNvGrpSpPr/>
          <p:nvPr/>
        </p:nvGrpSpPr>
        <p:grpSpPr>
          <a:xfrm>
            <a:off x="6651720" y="4465800"/>
            <a:ext cx="1879920" cy="1055880"/>
            <a:chOff x="6651720" y="4465800"/>
            <a:chExt cx="1879920" cy="1055880"/>
          </a:xfrm>
        </p:grpSpPr>
        <p:sp>
          <p:nvSpPr>
            <p:cNvPr id="444" name=""/>
            <p:cNvSpPr/>
            <p:nvPr/>
          </p:nvSpPr>
          <p:spPr>
            <a:xfrm>
              <a:off x="6653160" y="4470480"/>
              <a:ext cx="1086120" cy="690840"/>
            </a:xfrm>
            <a:custGeom>
              <a:avLst/>
              <a:gdLst/>
              <a:ahLst/>
              <a:rect l="0" t="0" r="r" b="b"/>
              <a:pathLst>
                <a:path w="3017" h="1919">
                  <a:moveTo>
                    <a:pt x="0" y="0"/>
                  </a:moveTo>
                  <a:lnTo>
                    <a:pt x="0" y="138"/>
                  </a:lnTo>
                  <a:lnTo>
                    <a:pt x="217" y="175"/>
                  </a:lnTo>
                  <a:lnTo>
                    <a:pt x="413" y="222"/>
                  </a:lnTo>
                  <a:lnTo>
                    <a:pt x="593" y="279"/>
                  </a:lnTo>
                  <a:lnTo>
                    <a:pt x="782" y="335"/>
                  </a:lnTo>
                  <a:lnTo>
                    <a:pt x="943" y="392"/>
                  </a:lnTo>
                  <a:lnTo>
                    <a:pt x="1075" y="448"/>
                  </a:lnTo>
                  <a:lnTo>
                    <a:pt x="1198" y="505"/>
                  </a:lnTo>
                  <a:lnTo>
                    <a:pt x="1340" y="571"/>
                  </a:lnTo>
                  <a:lnTo>
                    <a:pt x="1463" y="646"/>
                  </a:lnTo>
                  <a:lnTo>
                    <a:pt x="1606" y="740"/>
                  </a:lnTo>
                  <a:lnTo>
                    <a:pt x="1720" y="825"/>
                  </a:lnTo>
                  <a:lnTo>
                    <a:pt x="1834" y="910"/>
                  </a:lnTo>
                  <a:lnTo>
                    <a:pt x="1938" y="1005"/>
                  </a:lnTo>
                  <a:lnTo>
                    <a:pt x="2070" y="1118"/>
                  </a:lnTo>
                  <a:lnTo>
                    <a:pt x="2212" y="1250"/>
                  </a:lnTo>
                  <a:lnTo>
                    <a:pt x="2297" y="1344"/>
                  </a:lnTo>
                  <a:lnTo>
                    <a:pt x="2383" y="1448"/>
                  </a:lnTo>
                  <a:lnTo>
                    <a:pt x="2468" y="1542"/>
                  </a:lnTo>
                  <a:lnTo>
                    <a:pt x="2543" y="1646"/>
                  </a:lnTo>
                  <a:lnTo>
                    <a:pt x="2638" y="1796"/>
                  </a:lnTo>
                  <a:lnTo>
                    <a:pt x="2695" y="1919"/>
                  </a:lnTo>
                  <a:lnTo>
                    <a:pt x="3017" y="1881"/>
                  </a:lnTo>
                  <a:lnTo>
                    <a:pt x="2913" y="1674"/>
                  </a:lnTo>
                  <a:lnTo>
                    <a:pt x="2752" y="1448"/>
                  </a:lnTo>
                  <a:lnTo>
                    <a:pt x="2591" y="1259"/>
                  </a:lnTo>
                  <a:lnTo>
                    <a:pt x="2383" y="1062"/>
                  </a:lnTo>
                  <a:lnTo>
                    <a:pt x="2099" y="778"/>
                  </a:lnTo>
                  <a:lnTo>
                    <a:pt x="1786" y="543"/>
                  </a:lnTo>
                  <a:lnTo>
                    <a:pt x="1454" y="335"/>
                  </a:lnTo>
                  <a:lnTo>
                    <a:pt x="1161" y="213"/>
                  </a:lnTo>
                  <a:lnTo>
                    <a:pt x="791" y="91"/>
                  </a:lnTo>
                  <a:lnTo>
                    <a:pt x="489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001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972560" y="5025960"/>
              <a:ext cx="559080" cy="495720"/>
            </a:xfrm>
            <a:custGeom>
              <a:avLst/>
              <a:gdLst/>
              <a:ahLst/>
              <a:rect l="0" t="0" r="r" b="b"/>
              <a:pathLst>
                <a:path w="1553" h="1377">
                  <a:moveTo>
                    <a:pt x="0" y="1068"/>
                  </a:moveTo>
                  <a:lnTo>
                    <a:pt x="0" y="1377"/>
                  </a:lnTo>
                  <a:lnTo>
                    <a:pt x="62" y="1299"/>
                  </a:lnTo>
                  <a:lnTo>
                    <a:pt x="131" y="1218"/>
                  </a:lnTo>
                  <a:lnTo>
                    <a:pt x="222" y="1133"/>
                  </a:lnTo>
                  <a:lnTo>
                    <a:pt x="334" y="1029"/>
                  </a:lnTo>
                  <a:lnTo>
                    <a:pt x="447" y="923"/>
                  </a:lnTo>
                  <a:lnTo>
                    <a:pt x="560" y="823"/>
                  </a:lnTo>
                  <a:lnTo>
                    <a:pt x="663" y="738"/>
                  </a:lnTo>
                  <a:lnTo>
                    <a:pt x="757" y="663"/>
                  </a:lnTo>
                  <a:lnTo>
                    <a:pt x="861" y="595"/>
                  </a:lnTo>
                  <a:lnTo>
                    <a:pt x="968" y="526"/>
                  </a:lnTo>
                  <a:lnTo>
                    <a:pt x="1096" y="454"/>
                  </a:lnTo>
                  <a:lnTo>
                    <a:pt x="1215" y="398"/>
                  </a:lnTo>
                  <a:lnTo>
                    <a:pt x="1334" y="343"/>
                  </a:lnTo>
                  <a:lnTo>
                    <a:pt x="1459" y="290"/>
                  </a:lnTo>
                  <a:lnTo>
                    <a:pt x="1553" y="247"/>
                  </a:lnTo>
                  <a:lnTo>
                    <a:pt x="1553" y="0"/>
                  </a:lnTo>
                  <a:lnTo>
                    <a:pt x="1384" y="56"/>
                  </a:lnTo>
                  <a:lnTo>
                    <a:pt x="1133" y="162"/>
                  </a:lnTo>
                  <a:lnTo>
                    <a:pt x="814" y="297"/>
                  </a:lnTo>
                  <a:lnTo>
                    <a:pt x="582" y="445"/>
                  </a:lnTo>
                  <a:lnTo>
                    <a:pt x="366" y="651"/>
                  </a:lnTo>
                  <a:lnTo>
                    <a:pt x="156" y="823"/>
                  </a:lnTo>
                  <a:lnTo>
                    <a:pt x="0" y="989"/>
                  </a:lnTo>
                  <a:lnTo>
                    <a:pt x="0" y="1374"/>
                  </a:lnTo>
                  <a:lnTo>
                    <a:pt x="0" y="1368"/>
                  </a:lnTo>
                  <a:lnTo>
                    <a:pt x="0" y="1068"/>
                  </a:lnTo>
                  <a:close/>
                </a:path>
              </a:pathLst>
            </a:custGeom>
            <a:solidFill>
              <a:srgbClr val="c4001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294680" y="5216400"/>
              <a:ext cx="670320" cy="303480"/>
            </a:xfrm>
            <a:custGeom>
              <a:avLst/>
              <a:gdLst/>
              <a:ahLst/>
              <a:rect l="0" t="0" r="r" b="b"/>
              <a:pathLst>
                <a:path w="1862" h="843">
                  <a:moveTo>
                    <a:pt x="0" y="0"/>
                  </a:moveTo>
                  <a:lnTo>
                    <a:pt x="0" y="259"/>
                  </a:lnTo>
                  <a:lnTo>
                    <a:pt x="119" y="280"/>
                  </a:lnTo>
                  <a:lnTo>
                    <a:pt x="241" y="302"/>
                  </a:lnTo>
                  <a:lnTo>
                    <a:pt x="357" y="330"/>
                  </a:lnTo>
                  <a:lnTo>
                    <a:pt x="481" y="357"/>
                  </a:lnTo>
                  <a:lnTo>
                    <a:pt x="619" y="391"/>
                  </a:lnTo>
                  <a:lnTo>
                    <a:pt x="769" y="429"/>
                  </a:lnTo>
                  <a:lnTo>
                    <a:pt x="958" y="485"/>
                  </a:lnTo>
                  <a:lnTo>
                    <a:pt x="1146" y="537"/>
                  </a:lnTo>
                  <a:lnTo>
                    <a:pt x="1265" y="577"/>
                  </a:lnTo>
                  <a:lnTo>
                    <a:pt x="1411" y="633"/>
                  </a:lnTo>
                  <a:lnTo>
                    <a:pt x="1564" y="698"/>
                  </a:lnTo>
                  <a:lnTo>
                    <a:pt x="1702" y="759"/>
                  </a:lnTo>
                  <a:lnTo>
                    <a:pt x="1803" y="809"/>
                  </a:lnTo>
                  <a:lnTo>
                    <a:pt x="1862" y="843"/>
                  </a:lnTo>
                  <a:lnTo>
                    <a:pt x="1862" y="519"/>
                  </a:lnTo>
                  <a:lnTo>
                    <a:pt x="1746" y="439"/>
                  </a:lnTo>
                  <a:lnTo>
                    <a:pt x="1514" y="327"/>
                  </a:lnTo>
                  <a:lnTo>
                    <a:pt x="1240" y="215"/>
                  </a:lnTo>
                  <a:lnTo>
                    <a:pt x="992" y="151"/>
                  </a:lnTo>
                  <a:lnTo>
                    <a:pt x="713" y="74"/>
                  </a:lnTo>
                  <a:lnTo>
                    <a:pt x="429" y="21"/>
                  </a:lnTo>
                  <a:lnTo>
                    <a:pt x="232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001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651720" y="4465800"/>
              <a:ext cx="1879920" cy="940320"/>
            </a:xfrm>
            <a:custGeom>
              <a:avLst/>
              <a:gdLst/>
              <a:ahLst/>
              <a:rect l="0" t="0" r="r" b="b"/>
              <a:pathLst>
                <a:path w="5222" h="2612">
                  <a:moveTo>
                    <a:pt x="0" y="22"/>
                  </a:moveTo>
                  <a:lnTo>
                    <a:pt x="287" y="0"/>
                  </a:lnTo>
                  <a:lnTo>
                    <a:pt x="426" y="0"/>
                  </a:lnTo>
                  <a:lnTo>
                    <a:pt x="597" y="0"/>
                  </a:lnTo>
                  <a:lnTo>
                    <a:pt x="758" y="12"/>
                  </a:lnTo>
                  <a:lnTo>
                    <a:pt x="920" y="22"/>
                  </a:lnTo>
                  <a:lnTo>
                    <a:pt x="1081" y="40"/>
                  </a:lnTo>
                  <a:lnTo>
                    <a:pt x="1223" y="66"/>
                  </a:lnTo>
                  <a:lnTo>
                    <a:pt x="1385" y="94"/>
                  </a:lnTo>
                  <a:lnTo>
                    <a:pt x="1574" y="141"/>
                  </a:lnTo>
                  <a:lnTo>
                    <a:pt x="1745" y="198"/>
                  </a:lnTo>
                  <a:lnTo>
                    <a:pt x="1906" y="245"/>
                  </a:lnTo>
                  <a:lnTo>
                    <a:pt x="2087" y="311"/>
                  </a:lnTo>
                  <a:lnTo>
                    <a:pt x="2257" y="387"/>
                  </a:lnTo>
                  <a:lnTo>
                    <a:pt x="2428" y="462"/>
                  </a:lnTo>
                  <a:lnTo>
                    <a:pt x="2571" y="538"/>
                  </a:lnTo>
                  <a:lnTo>
                    <a:pt x="2733" y="614"/>
                  </a:lnTo>
                  <a:lnTo>
                    <a:pt x="2875" y="690"/>
                  </a:lnTo>
                  <a:lnTo>
                    <a:pt x="3027" y="775"/>
                  </a:lnTo>
                  <a:lnTo>
                    <a:pt x="3179" y="860"/>
                  </a:lnTo>
                  <a:lnTo>
                    <a:pt x="3331" y="964"/>
                  </a:lnTo>
                  <a:lnTo>
                    <a:pt x="3463" y="1049"/>
                  </a:lnTo>
                  <a:lnTo>
                    <a:pt x="3606" y="1162"/>
                  </a:lnTo>
                  <a:lnTo>
                    <a:pt x="3738" y="1266"/>
                  </a:lnTo>
                  <a:lnTo>
                    <a:pt x="3862" y="1370"/>
                  </a:lnTo>
                  <a:lnTo>
                    <a:pt x="3966" y="1484"/>
                  </a:lnTo>
                  <a:lnTo>
                    <a:pt x="4052" y="1588"/>
                  </a:lnTo>
                  <a:lnTo>
                    <a:pt x="4118" y="1692"/>
                  </a:lnTo>
                  <a:lnTo>
                    <a:pt x="5222" y="1544"/>
                  </a:lnTo>
                  <a:lnTo>
                    <a:pt x="5067" y="1625"/>
                  </a:lnTo>
                  <a:lnTo>
                    <a:pt x="4886" y="1701"/>
                  </a:lnTo>
                  <a:lnTo>
                    <a:pt x="4744" y="1767"/>
                  </a:lnTo>
                  <a:lnTo>
                    <a:pt x="4633" y="1817"/>
                  </a:lnTo>
                  <a:lnTo>
                    <a:pt x="4516" y="1880"/>
                  </a:lnTo>
                  <a:lnTo>
                    <a:pt x="4422" y="1937"/>
                  </a:lnTo>
                  <a:lnTo>
                    <a:pt x="4330" y="2001"/>
                  </a:lnTo>
                  <a:lnTo>
                    <a:pt x="4248" y="2074"/>
                  </a:lnTo>
                  <a:lnTo>
                    <a:pt x="4150" y="2146"/>
                  </a:lnTo>
                  <a:lnTo>
                    <a:pt x="4042" y="2237"/>
                  </a:lnTo>
                  <a:lnTo>
                    <a:pt x="3938" y="2335"/>
                  </a:lnTo>
                  <a:lnTo>
                    <a:pt x="3843" y="2417"/>
                  </a:lnTo>
                  <a:lnTo>
                    <a:pt x="3732" y="2518"/>
                  </a:lnTo>
                  <a:lnTo>
                    <a:pt x="3653" y="2612"/>
                  </a:lnTo>
                  <a:lnTo>
                    <a:pt x="3568" y="2571"/>
                  </a:lnTo>
                  <a:lnTo>
                    <a:pt x="3482" y="2524"/>
                  </a:lnTo>
                  <a:lnTo>
                    <a:pt x="3391" y="2483"/>
                  </a:lnTo>
                  <a:lnTo>
                    <a:pt x="3283" y="2439"/>
                  </a:lnTo>
                  <a:lnTo>
                    <a:pt x="3172" y="2395"/>
                  </a:lnTo>
                  <a:lnTo>
                    <a:pt x="3071" y="2360"/>
                  </a:lnTo>
                  <a:lnTo>
                    <a:pt x="2973" y="2332"/>
                  </a:lnTo>
                  <a:lnTo>
                    <a:pt x="2862" y="2297"/>
                  </a:lnTo>
                  <a:lnTo>
                    <a:pt x="2739" y="2269"/>
                  </a:lnTo>
                  <a:lnTo>
                    <a:pt x="2619" y="2237"/>
                  </a:lnTo>
                  <a:lnTo>
                    <a:pt x="2507" y="2209"/>
                  </a:lnTo>
                  <a:lnTo>
                    <a:pt x="2400" y="2181"/>
                  </a:lnTo>
                  <a:lnTo>
                    <a:pt x="2283" y="2162"/>
                  </a:lnTo>
                  <a:lnTo>
                    <a:pt x="2172" y="2137"/>
                  </a:lnTo>
                  <a:lnTo>
                    <a:pt x="2068" y="2115"/>
                  </a:lnTo>
                  <a:lnTo>
                    <a:pt x="1944" y="2089"/>
                  </a:lnTo>
                  <a:lnTo>
                    <a:pt x="1777" y="2070"/>
                  </a:lnTo>
                  <a:lnTo>
                    <a:pt x="2923" y="1871"/>
                  </a:lnTo>
                  <a:lnTo>
                    <a:pt x="2847" y="1720"/>
                  </a:lnTo>
                  <a:lnTo>
                    <a:pt x="2752" y="1607"/>
                  </a:lnTo>
                  <a:lnTo>
                    <a:pt x="2590" y="1389"/>
                  </a:lnTo>
                  <a:lnTo>
                    <a:pt x="2495" y="1295"/>
                  </a:lnTo>
                  <a:lnTo>
                    <a:pt x="2400" y="1200"/>
                  </a:lnTo>
                  <a:lnTo>
                    <a:pt x="2229" y="1040"/>
                  </a:lnTo>
                  <a:lnTo>
                    <a:pt x="2125" y="945"/>
                  </a:lnTo>
                  <a:lnTo>
                    <a:pt x="2001" y="832"/>
                  </a:lnTo>
                  <a:lnTo>
                    <a:pt x="1887" y="747"/>
                  </a:lnTo>
                  <a:lnTo>
                    <a:pt x="1793" y="671"/>
                  </a:lnTo>
                  <a:lnTo>
                    <a:pt x="1698" y="595"/>
                  </a:lnTo>
                  <a:lnTo>
                    <a:pt x="1584" y="519"/>
                  </a:lnTo>
                  <a:lnTo>
                    <a:pt x="1461" y="444"/>
                  </a:lnTo>
                  <a:lnTo>
                    <a:pt x="1337" y="387"/>
                  </a:lnTo>
                  <a:lnTo>
                    <a:pt x="1214" y="321"/>
                  </a:lnTo>
                  <a:lnTo>
                    <a:pt x="1062" y="264"/>
                  </a:lnTo>
                  <a:lnTo>
                    <a:pt x="920" y="217"/>
                  </a:lnTo>
                  <a:lnTo>
                    <a:pt x="758" y="179"/>
                  </a:lnTo>
                  <a:lnTo>
                    <a:pt x="607" y="141"/>
                  </a:lnTo>
                  <a:lnTo>
                    <a:pt x="445" y="103"/>
                  </a:lnTo>
                  <a:lnTo>
                    <a:pt x="278" y="75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c012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608040" y="2919240"/>
            <a:ext cx="8337600" cy="223992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547560" y="1429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Office Compat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95360" y="1181160"/>
            <a:ext cx="7729560" cy="14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FlowModel’s title bars, toolbars and menus look and work just like your favorite Microsoft Office applic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7365960" y="5105520"/>
            <a:ext cx="1181160" cy="1587600"/>
            <a:chOff x="7365960" y="5105520"/>
            <a:chExt cx="1181160" cy="1587600"/>
          </a:xfrm>
        </p:grpSpPr>
        <p:sp>
          <p:nvSpPr>
            <p:cNvPr id="452" name=""/>
            <p:cNvSpPr/>
            <p:nvPr/>
          </p:nvSpPr>
          <p:spPr>
            <a:xfrm>
              <a:off x="7365960" y="5105520"/>
              <a:ext cx="1181160" cy="1587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3" name="" descr=""/>
            <p:cNvPicPr/>
            <p:nvPr/>
          </p:nvPicPr>
          <p:blipFill>
            <a:blip r:embed="rId2"/>
            <a:stretch/>
          </p:blipFill>
          <p:spPr>
            <a:xfrm>
              <a:off x="7415280" y="5156280"/>
              <a:ext cx="1033560" cy="1481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"/>
          <p:cNvGrpSpPr/>
          <p:nvPr/>
        </p:nvGrpSpPr>
        <p:grpSpPr>
          <a:xfrm>
            <a:off x="3782880" y="1797120"/>
            <a:ext cx="3132720" cy="2124360"/>
            <a:chOff x="3782880" y="1797120"/>
            <a:chExt cx="3132720" cy="2124360"/>
          </a:xfrm>
        </p:grpSpPr>
        <p:sp>
          <p:nvSpPr>
            <p:cNvPr id="455" name=""/>
            <p:cNvSpPr/>
            <p:nvPr/>
          </p:nvSpPr>
          <p:spPr>
            <a:xfrm>
              <a:off x="3782880" y="1797120"/>
              <a:ext cx="1840320" cy="1580040"/>
            </a:xfrm>
            <a:custGeom>
              <a:avLst/>
              <a:gdLst/>
              <a:ahLst/>
              <a:rect l="0" t="0" r="r" b="b"/>
              <a:pathLst>
                <a:path w="5112" h="4389">
                  <a:moveTo>
                    <a:pt x="2642" y="0"/>
                  </a:moveTo>
                  <a:lnTo>
                    <a:pt x="5112" y="0"/>
                  </a:lnTo>
                  <a:lnTo>
                    <a:pt x="4746" y="120"/>
                  </a:lnTo>
                  <a:lnTo>
                    <a:pt x="4419" y="309"/>
                  </a:lnTo>
                  <a:lnTo>
                    <a:pt x="4138" y="567"/>
                  </a:lnTo>
                  <a:lnTo>
                    <a:pt x="3875" y="853"/>
                  </a:lnTo>
                  <a:lnTo>
                    <a:pt x="3604" y="1278"/>
                  </a:lnTo>
                  <a:lnTo>
                    <a:pt x="3381" y="1719"/>
                  </a:lnTo>
                  <a:lnTo>
                    <a:pt x="3186" y="2217"/>
                  </a:lnTo>
                  <a:lnTo>
                    <a:pt x="3009" y="2859"/>
                  </a:lnTo>
                  <a:lnTo>
                    <a:pt x="2888" y="3392"/>
                  </a:lnTo>
                  <a:lnTo>
                    <a:pt x="2785" y="3948"/>
                  </a:lnTo>
                  <a:lnTo>
                    <a:pt x="2734" y="4389"/>
                  </a:lnTo>
                  <a:lnTo>
                    <a:pt x="0" y="4389"/>
                  </a:lnTo>
                  <a:lnTo>
                    <a:pt x="45" y="4017"/>
                  </a:lnTo>
                  <a:lnTo>
                    <a:pt x="108" y="3622"/>
                  </a:lnTo>
                  <a:lnTo>
                    <a:pt x="177" y="3265"/>
                  </a:lnTo>
                  <a:lnTo>
                    <a:pt x="229" y="2985"/>
                  </a:lnTo>
                  <a:lnTo>
                    <a:pt x="320" y="2624"/>
                  </a:lnTo>
                  <a:lnTo>
                    <a:pt x="446" y="2217"/>
                  </a:lnTo>
                  <a:lnTo>
                    <a:pt x="561" y="1925"/>
                  </a:lnTo>
                  <a:lnTo>
                    <a:pt x="699" y="1616"/>
                  </a:lnTo>
                  <a:lnTo>
                    <a:pt x="779" y="1455"/>
                  </a:lnTo>
                  <a:lnTo>
                    <a:pt x="882" y="1249"/>
                  </a:lnTo>
                  <a:lnTo>
                    <a:pt x="996" y="1059"/>
                  </a:lnTo>
                  <a:lnTo>
                    <a:pt x="1157" y="824"/>
                  </a:lnTo>
                  <a:lnTo>
                    <a:pt x="1277" y="681"/>
                  </a:lnTo>
                  <a:lnTo>
                    <a:pt x="1381" y="567"/>
                  </a:lnTo>
                  <a:lnTo>
                    <a:pt x="1507" y="441"/>
                  </a:lnTo>
                  <a:lnTo>
                    <a:pt x="1651" y="320"/>
                  </a:lnTo>
                  <a:lnTo>
                    <a:pt x="1782" y="223"/>
                  </a:lnTo>
                  <a:lnTo>
                    <a:pt x="1960" y="120"/>
                  </a:lnTo>
                  <a:lnTo>
                    <a:pt x="2143" y="51"/>
                  </a:lnTo>
                  <a:lnTo>
                    <a:pt x="2298" y="17"/>
                  </a:lnTo>
                  <a:lnTo>
                    <a:pt x="2459" y="0"/>
                  </a:lnTo>
                  <a:lnTo>
                    <a:pt x="2642" y="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727520" y="1797120"/>
              <a:ext cx="2188080" cy="2124360"/>
            </a:xfrm>
            <a:custGeom>
              <a:avLst/>
              <a:gdLst/>
              <a:ahLst/>
              <a:rect l="0" t="0" r="r" b="b"/>
              <a:pathLst>
                <a:path w="6078" h="5901">
                  <a:moveTo>
                    <a:pt x="2520" y="0"/>
                  </a:moveTo>
                  <a:lnTo>
                    <a:pt x="2669" y="0"/>
                  </a:lnTo>
                  <a:lnTo>
                    <a:pt x="2910" y="22"/>
                  </a:lnTo>
                  <a:lnTo>
                    <a:pt x="3185" y="91"/>
                  </a:lnTo>
                  <a:lnTo>
                    <a:pt x="3385" y="211"/>
                  </a:lnTo>
                  <a:lnTo>
                    <a:pt x="3591" y="355"/>
                  </a:lnTo>
                  <a:lnTo>
                    <a:pt x="3763" y="509"/>
                  </a:lnTo>
                  <a:lnTo>
                    <a:pt x="3901" y="675"/>
                  </a:lnTo>
                  <a:lnTo>
                    <a:pt x="4084" y="910"/>
                  </a:lnTo>
                  <a:lnTo>
                    <a:pt x="4244" y="1145"/>
                  </a:lnTo>
                  <a:lnTo>
                    <a:pt x="4393" y="1397"/>
                  </a:lnTo>
                  <a:lnTo>
                    <a:pt x="4548" y="1718"/>
                  </a:lnTo>
                  <a:lnTo>
                    <a:pt x="4698" y="2079"/>
                  </a:lnTo>
                  <a:lnTo>
                    <a:pt x="4789" y="2337"/>
                  </a:lnTo>
                  <a:lnTo>
                    <a:pt x="4870" y="2594"/>
                  </a:lnTo>
                  <a:lnTo>
                    <a:pt x="4938" y="2858"/>
                  </a:lnTo>
                  <a:lnTo>
                    <a:pt x="4990" y="3082"/>
                  </a:lnTo>
                  <a:lnTo>
                    <a:pt x="5030" y="3266"/>
                  </a:lnTo>
                  <a:lnTo>
                    <a:pt x="5070" y="3489"/>
                  </a:lnTo>
                  <a:lnTo>
                    <a:pt x="5110" y="3730"/>
                  </a:lnTo>
                  <a:lnTo>
                    <a:pt x="5145" y="4028"/>
                  </a:lnTo>
                  <a:lnTo>
                    <a:pt x="5196" y="4383"/>
                  </a:lnTo>
                  <a:lnTo>
                    <a:pt x="6078" y="4383"/>
                  </a:lnTo>
                  <a:lnTo>
                    <a:pt x="3969" y="5901"/>
                  </a:lnTo>
                  <a:lnTo>
                    <a:pt x="1437" y="4383"/>
                  </a:lnTo>
                  <a:lnTo>
                    <a:pt x="2435" y="4383"/>
                  </a:lnTo>
                  <a:lnTo>
                    <a:pt x="2400" y="4148"/>
                  </a:lnTo>
                  <a:lnTo>
                    <a:pt x="2354" y="3873"/>
                  </a:lnTo>
                  <a:lnTo>
                    <a:pt x="2303" y="3575"/>
                  </a:lnTo>
                  <a:lnTo>
                    <a:pt x="2257" y="3277"/>
                  </a:lnTo>
                  <a:lnTo>
                    <a:pt x="2188" y="3014"/>
                  </a:lnTo>
                  <a:lnTo>
                    <a:pt x="2137" y="2778"/>
                  </a:lnTo>
                  <a:lnTo>
                    <a:pt x="2016" y="2365"/>
                  </a:lnTo>
                  <a:lnTo>
                    <a:pt x="1896" y="2016"/>
                  </a:lnTo>
                  <a:lnTo>
                    <a:pt x="1793" y="1770"/>
                  </a:lnTo>
                  <a:lnTo>
                    <a:pt x="1707" y="1563"/>
                  </a:lnTo>
                  <a:lnTo>
                    <a:pt x="1604" y="1363"/>
                  </a:lnTo>
                  <a:lnTo>
                    <a:pt x="1524" y="1208"/>
                  </a:lnTo>
                  <a:lnTo>
                    <a:pt x="1420" y="1042"/>
                  </a:lnTo>
                  <a:lnTo>
                    <a:pt x="1334" y="910"/>
                  </a:lnTo>
                  <a:lnTo>
                    <a:pt x="1237" y="784"/>
                  </a:lnTo>
                  <a:lnTo>
                    <a:pt x="1139" y="675"/>
                  </a:lnTo>
                  <a:lnTo>
                    <a:pt x="1019" y="544"/>
                  </a:lnTo>
                  <a:lnTo>
                    <a:pt x="916" y="446"/>
                  </a:lnTo>
                  <a:lnTo>
                    <a:pt x="801" y="343"/>
                  </a:lnTo>
                  <a:lnTo>
                    <a:pt x="687" y="257"/>
                  </a:lnTo>
                  <a:lnTo>
                    <a:pt x="572" y="183"/>
                  </a:lnTo>
                  <a:lnTo>
                    <a:pt x="458" y="126"/>
                  </a:lnTo>
                  <a:lnTo>
                    <a:pt x="337" y="80"/>
                  </a:lnTo>
                  <a:lnTo>
                    <a:pt x="229" y="45"/>
                  </a:lnTo>
                  <a:lnTo>
                    <a:pt x="137" y="22"/>
                  </a:lnTo>
                  <a:lnTo>
                    <a:pt x="0" y="0"/>
                  </a:lnTo>
                  <a:lnTo>
                    <a:pt x="2520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171360" y="1333440"/>
            <a:ext cx="4470480" cy="326232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523800" y="1713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lowModel 2.0 is available 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4262400" y="3330720"/>
            <a:ext cx="4678200" cy="351468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5186520" y="2903400"/>
            <a:ext cx="1770120" cy="111132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4792680" y="1306440"/>
            <a:ext cx="4338720" cy="23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dows 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dows for Work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dows 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dows 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547560" y="1429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the critics say . .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542880" y="1219320"/>
            <a:ext cx="752328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3920" indent="-223920">
              <a:lnSpc>
                <a:spcPct val="100000"/>
              </a:lnSpc>
              <a:spcBef>
                <a:spcPts val="479"/>
              </a:spcBef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 with a crowded field, Arcland Inc.’s FlowModel holds the advantage over drawing programs and first-generation 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wchart packages. There 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no awkward drawing 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, plus FlowModel 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ts you utilize the data </a:t>
            </a: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hind your model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276720" y="5807160"/>
            <a:ext cx="2052720" cy="6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i="1" lang="en-US" sz="1800" spc="-1" strike="noStrike">
                <a:solidFill>
                  <a:srgbClr val="c1ceff"/>
                </a:solidFill>
                <a:latin typeface="Arial"/>
                <a:ea typeface="Arial"/>
              </a:rPr>
              <a:t>February 27,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5413320" y="2446200"/>
            <a:ext cx="326088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3487680" y="3916440"/>
            <a:ext cx="5214960" cy="164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1003320" y="2473200"/>
            <a:ext cx="7021440" cy="17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‘‘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[FlowModel] is simplicity itself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7412040" y="5626080"/>
            <a:ext cx="12510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i="1" lang="en-US" sz="1800" spc="-1" strike="noStrike">
                <a:solidFill>
                  <a:srgbClr val="c1ceff"/>
                </a:solidFill>
                <a:latin typeface="Arial"/>
                <a:ea typeface="Arial"/>
              </a:rPr>
              <a:t>May,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3386160" y="3868560"/>
            <a:ext cx="5226120" cy="159372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 txBox="1"/>
          <p:nvPr/>
        </p:nvSpPr>
        <p:spPr>
          <a:xfrm>
            <a:off x="547560" y="1429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the critics say . .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2771640" y="4248000"/>
            <a:ext cx="5958000" cy="23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Please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8cf4ea"/>
                </a:solidFill>
                <a:latin typeface="Arial"/>
                <a:ea typeface="Arial"/>
              </a:rPr>
              <a:t>800-276-999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to place an order 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request more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</a:pPr>
            <a:r>
              <a:rPr b="0" i="1" lang="en-US" sz="2200" spc="-1" strike="noStrike">
                <a:solidFill>
                  <a:srgbClr val="8cf4ea"/>
                </a:solidFill>
                <a:latin typeface="Arial"/>
                <a:ea typeface="Arial"/>
              </a:rPr>
              <a:t>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visit our Internet home page 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HTTP://WWW.ARCLAND.COM/FLOWMOD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939960" y="390600"/>
            <a:ext cx="7772400" cy="15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lowModel is the perfect flowcharting and diagramming complement to Microsoft Offic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353880" y="1387440"/>
            <a:ext cx="3735360" cy="4697280"/>
            <a:chOff x="353880" y="1387440"/>
            <a:chExt cx="3735360" cy="4697280"/>
          </a:xfrm>
        </p:grpSpPr>
        <p:sp>
          <p:nvSpPr>
            <p:cNvPr id="474" name=""/>
            <p:cNvSpPr/>
            <p:nvPr/>
          </p:nvSpPr>
          <p:spPr>
            <a:xfrm>
              <a:off x="434880" y="1469880"/>
              <a:ext cx="3654360" cy="4614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75" name="" descr=""/>
            <p:cNvPicPr/>
            <p:nvPr/>
          </p:nvPicPr>
          <p:blipFill>
            <a:blip r:embed="rId1"/>
            <a:stretch/>
          </p:blipFill>
          <p:spPr>
            <a:xfrm>
              <a:off x="353880" y="1387440"/>
              <a:ext cx="3645000" cy="460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" descr=""/>
            <p:cNvPicPr/>
            <p:nvPr/>
          </p:nvPicPr>
          <p:blipFill>
            <a:blip r:embed="rId2"/>
            <a:stretch/>
          </p:blipFill>
          <p:spPr>
            <a:xfrm>
              <a:off x="514440" y="1633680"/>
              <a:ext cx="515880" cy="457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7" name="" descr=""/>
          <p:cNvPicPr/>
          <p:nvPr/>
        </p:nvPicPr>
        <p:blipFill>
          <a:blip r:embed="rId3"/>
          <a:stretch/>
        </p:blipFill>
        <p:spPr>
          <a:xfrm>
            <a:off x="7291440" y="2379600"/>
            <a:ext cx="133344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3897360" y="3817800"/>
            <a:ext cx="3691080" cy="27702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85640" y="1841400"/>
            <a:ext cx="7329600" cy="29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2041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adically simplifies the process of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reating and revising flowchart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 similar dia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41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lowModel is to traditiona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lowcharting and drawing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ols like a wor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cessor is to a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ypewri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85640" y="1163520"/>
            <a:ext cx="821844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i="1" lang="en-US" sz="2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s a Microsoft Office compatible flowcharting tool that . .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485640" y="284040"/>
            <a:ext cx="7772400" cy="1162080"/>
            <a:chOff x="485640" y="284040"/>
            <a:chExt cx="7772400" cy="1162080"/>
          </a:xfrm>
        </p:grpSpPr>
        <p:sp>
          <p:nvSpPr>
            <p:cNvPr id="239" name=""/>
            <p:cNvSpPr txBox="1"/>
            <p:nvPr/>
          </p:nvSpPr>
          <p:spPr>
            <a:xfrm>
              <a:off x="485640" y="284040"/>
              <a:ext cx="7772400" cy="1162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FlowModel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3432240" y="471600"/>
              <a:ext cx="4129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T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705640" y="2714760"/>
            <a:ext cx="3426120" cy="4053240"/>
            <a:chOff x="5705640" y="2714760"/>
            <a:chExt cx="3426120" cy="4053240"/>
          </a:xfrm>
        </p:grpSpPr>
        <p:sp>
          <p:nvSpPr>
            <p:cNvPr id="242" name=""/>
            <p:cNvSpPr/>
            <p:nvPr/>
          </p:nvSpPr>
          <p:spPr>
            <a:xfrm>
              <a:off x="6589800" y="2751120"/>
              <a:ext cx="1497240" cy="2175120"/>
            </a:xfrm>
            <a:custGeom>
              <a:avLst/>
              <a:gdLst/>
              <a:ahLst/>
              <a:rect l="0" t="0" r="r" b="b"/>
              <a:pathLst>
                <a:path w="4159" h="6042">
                  <a:moveTo>
                    <a:pt x="1130" y="0"/>
                  </a:moveTo>
                  <a:lnTo>
                    <a:pt x="0" y="903"/>
                  </a:lnTo>
                  <a:lnTo>
                    <a:pt x="63" y="1620"/>
                  </a:lnTo>
                  <a:lnTo>
                    <a:pt x="740" y="2337"/>
                  </a:lnTo>
                  <a:lnTo>
                    <a:pt x="663" y="4136"/>
                  </a:lnTo>
                  <a:lnTo>
                    <a:pt x="2774" y="6042"/>
                  </a:lnTo>
                  <a:lnTo>
                    <a:pt x="2940" y="3375"/>
                  </a:lnTo>
                  <a:lnTo>
                    <a:pt x="4159" y="2426"/>
                  </a:lnTo>
                  <a:lnTo>
                    <a:pt x="1130" y="0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05640" y="2714760"/>
              <a:ext cx="3426120" cy="4053240"/>
            </a:xfrm>
            <a:custGeom>
              <a:avLst/>
              <a:gdLst/>
              <a:ahLst/>
              <a:rect l="0" t="0" r="r" b="b"/>
              <a:pathLst>
                <a:path w="9517" h="11259">
                  <a:moveTo>
                    <a:pt x="5322" y="0"/>
                  </a:moveTo>
                  <a:lnTo>
                    <a:pt x="8733" y="2775"/>
                  </a:lnTo>
                  <a:lnTo>
                    <a:pt x="8773" y="4344"/>
                  </a:lnTo>
                  <a:lnTo>
                    <a:pt x="9517" y="4920"/>
                  </a:lnTo>
                  <a:lnTo>
                    <a:pt x="9409" y="6535"/>
                  </a:lnTo>
                  <a:lnTo>
                    <a:pt x="5899" y="9590"/>
                  </a:lnTo>
                  <a:lnTo>
                    <a:pt x="3044" y="7307"/>
                  </a:lnTo>
                  <a:lnTo>
                    <a:pt x="5400" y="9394"/>
                  </a:lnTo>
                  <a:lnTo>
                    <a:pt x="5439" y="9960"/>
                  </a:lnTo>
                  <a:lnTo>
                    <a:pt x="3622" y="11259"/>
                  </a:lnTo>
                  <a:lnTo>
                    <a:pt x="0" y="8488"/>
                  </a:lnTo>
                  <a:lnTo>
                    <a:pt x="44" y="7868"/>
                  </a:lnTo>
                  <a:lnTo>
                    <a:pt x="1889" y="6584"/>
                  </a:lnTo>
                  <a:lnTo>
                    <a:pt x="2804" y="7307"/>
                  </a:lnTo>
                  <a:lnTo>
                    <a:pt x="2804" y="6722"/>
                  </a:lnTo>
                  <a:lnTo>
                    <a:pt x="2325" y="6392"/>
                  </a:lnTo>
                  <a:lnTo>
                    <a:pt x="2359" y="4866"/>
                  </a:lnTo>
                  <a:lnTo>
                    <a:pt x="2907" y="4585"/>
                  </a:lnTo>
                  <a:lnTo>
                    <a:pt x="2447" y="4344"/>
                  </a:lnTo>
                  <a:lnTo>
                    <a:pt x="2447" y="1294"/>
                  </a:lnTo>
                  <a:lnTo>
                    <a:pt x="3265" y="2165"/>
                  </a:lnTo>
                  <a:lnTo>
                    <a:pt x="3353" y="4246"/>
                  </a:lnTo>
                  <a:lnTo>
                    <a:pt x="5282" y="5831"/>
                  </a:lnTo>
                  <a:lnTo>
                    <a:pt x="4925" y="3434"/>
                  </a:lnTo>
                  <a:lnTo>
                    <a:pt x="2447" y="915"/>
                  </a:lnTo>
                  <a:lnTo>
                    <a:pt x="3152" y="334"/>
                  </a:lnTo>
                  <a:lnTo>
                    <a:pt x="6653" y="3016"/>
                  </a:lnTo>
                  <a:lnTo>
                    <a:pt x="3519" y="147"/>
                  </a:lnTo>
                  <a:lnTo>
                    <a:pt x="5322" y="0"/>
                  </a:lnTo>
                  <a:close/>
                </a:path>
              </a:pathLst>
            </a:custGeom>
            <a:solidFill>
              <a:srgbClr val="00ea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31280" y="2755800"/>
              <a:ext cx="1176840" cy="2562480"/>
            </a:xfrm>
            <a:custGeom>
              <a:avLst/>
              <a:gdLst/>
              <a:ahLst/>
              <a:rect l="0" t="0" r="r" b="b"/>
              <a:pathLst>
                <a:path w="3269" h="7118">
                  <a:moveTo>
                    <a:pt x="0" y="0"/>
                  </a:moveTo>
                  <a:lnTo>
                    <a:pt x="3269" y="2745"/>
                  </a:lnTo>
                  <a:lnTo>
                    <a:pt x="3269" y="5016"/>
                  </a:lnTo>
                  <a:lnTo>
                    <a:pt x="680" y="7118"/>
                  </a:lnTo>
                  <a:lnTo>
                    <a:pt x="719" y="3581"/>
                  </a:lnTo>
                  <a:lnTo>
                    <a:pt x="1440" y="2898"/>
                  </a:lnTo>
                  <a:lnTo>
                    <a:pt x="1522" y="6278"/>
                  </a:lnTo>
                  <a:lnTo>
                    <a:pt x="1639" y="2843"/>
                  </a:lnTo>
                  <a:lnTo>
                    <a:pt x="3109" y="27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30840" y="2755800"/>
              <a:ext cx="1533960" cy="1284480"/>
            </a:xfrm>
            <a:custGeom>
              <a:avLst/>
              <a:gdLst/>
              <a:ahLst/>
              <a:rect l="0" t="0" r="r" b="b"/>
              <a:pathLst>
                <a:path w="4261" h="3568">
                  <a:moveTo>
                    <a:pt x="2635" y="0"/>
                  </a:moveTo>
                  <a:lnTo>
                    <a:pt x="844" y="0"/>
                  </a:lnTo>
                  <a:lnTo>
                    <a:pt x="0" y="636"/>
                  </a:lnTo>
                  <a:lnTo>
                    <a:pt x="3481" y="3568"/>
                  </a:lnTo>
                  <a:lnTo>
                    <a:pt x="209" y="685"/>
                  </a:lnTo>
                  <a:lnTo>
                    <a:pt x="883" y="185"/>
                  </a:lnTo>
                  <a:lnTo>
                    <a:pt x="4261" y="2790"/>
                  </a:lnTo>
                  <a:lnTo>
                    <a:pt x="1176" y="92"/>
                  </a:lnTo>
                  <a:lnTo>
                    <a:pt x="26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30840" y="3038400"/>
              <a:ext cx="1192680" cy="2246760"/>
            </a:xfrm>
            <a:custGeom>
              <a:avLst/>
              <a:gdLst/>
              <a:ahLst/>
              <a:rect l="0" t="0" r="r" b="b"/>
              <a:pathLst>
                <a:path w="3313" h="6241">
                  <a:moveTo>
                    <a:pt x="0" y="0"/>
                  </a:moveTo>
                  <a:lnTo>
                    <a:pt x="3313" y="2848"/>
                  </a:lnTo>
                  <a:lnTo>
                    <a:pt x="3269" y="6241"/>
                  </a:lnTo>
                  <a:lnTo>
                    <a:pt x="77" y="3486"/>
                  </a:lnTo>
                  <a:lnTo>
                    <a:pt x="38" y="343"/>
                  </a:lnTo>
                  <a:lnTo>
                    <a:pt x="448" y="932"/>
                  </a:lnTo>
                  <a:lnTo>
                    <a:pt x="477" y="3383"/>
                  </a:lnTo>
                  <a:lnTo>
                    <a:pt x="2792" y="5313"/>
                  </a:lnTo>
                  <a:lnTo>
                    <a:pt x="2870" y="27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832440" y="3357720"/>
              <a:ext cx="752760" cy="1408320"/>
            </a:xfrm>
            <a:custGeom>
              <a:avLst/>
              <a:gdLst/>
              <a:ahLst/>
              <a:rect l="0" t="0" r="r" b="b"/>
              <a:pathLst>
                <a:path w="2091" h="3912">
                  <a:moveTo>
                    <a:pt x="0" y="0"/>
                  </a:moveTo>
                  <a:lnTo>
                    <a:pt x="96" y="2252"/>
                  </a:lnTo>
                  <a:lnTo>
                    <a:pt x="2091" y="3912"/>
                  </a:lnTo>
                  <a:lnTo>
                    <a:pt x="451" y="2252"/>
                  </a:lnTo>
                  <a:lnTo>
                    <a:pt x="324" y="1909"/>
                  </a:lnTo>
                  <a:lnTo>
                    <a:pt x="286" y="381"/>
                  </a:lnTo>
                  <a:lnTo>
                    <a:pt x="1940" y="17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526160" y="3998880"/>
              <a:ext cx="49680" cy="714600"/>
            </a:xfrm>
            <a:custGeom>
              <a:avLst/>
              <a:gdLst/>
              <a:ahLst/>
              <a:rect l="0" t="0" r="r" b="b"/>
              <a:pathLst>
                <a:path w="138" h="1985">
                  <a:moveTo>
                    <a:pt x="138" y="189"/>
                  </a:moveTo>
                  <a:lnTo>
                    <a:pt x="138" y="1985"/>
                  </a:lnTo>
                  <a:lnTo>
                    <a:pt x="0" y="0"/>
                  </a:lnTo>
                  <a:lnTo>
                    <a:pt x="138" y="1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586560" y="4513320"/>
              <a:ext cx="2510280" cy="1689480"/>
            </a:xfrm>
            <a:custGeom>
              <a:avLst/>
              <a:gdLst/>
              <a:ahLst/>
              <a:rect l="0" t="0" r="r" b="b"/>
              <a:pathLst>
                <a:path w="6973" h="4693">
                  <a:moveTo>
                    <a:pt x="6900" y="0"/>
                  </a:moveTo>
                  <a:lnTo>
                    <a:pt x="4396" y="2104"/>
                  </a:lnTo>
                  <a:lnTo>
                    <a:pt x="4420" y="3527"/>
                  </a:lnTo>
                  <a:lnTo>
                    <a:pt x="4230" y="2310"/>
                  </a:lnTo>
                  <a:lnTo>
                    <a:pt x="3574" y="2883"/>
                  </a:lnTo>
                  <a:lnTo>
                    <a:pt x="3525" y="4218"/>
                  </a:lnTo>
                  <a:lnTo>
                    <a:pt x="0" y="1373"/>
                  </a:lnTo>
                  <a:lnTo>
                    <a:pt x="337" y="1770"/>
                  </a:lnTo>
                  <a:lnTo>
                    <a:pt x="127" y="1859"/>
                  </a:lnTo>
                  <a:lnTo>
                    <a:pt x="3486" y="4693"/>
                  </a:lnTo>
                  <a:lnTo>
                    <a:pt x="6973" y="1805"/>
                  </a:lnTo>
                  <a:lnTo>
                    <a:pt x="6743" y="1716"/>
                  </a:lnTo>
                  <a:lnTo>
                    <a:pt x="3574" y="4360"/>
                  </a:lnTo>
                  <a:lnTo>
                    <a:pt x="6900" y="1275"/>
                  </a:lnTo>
                  <a:lnTo>
                    <a:pt x="69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243920" y="5154480"/>
              <a:ext cx="459000" cy="605160"/>
            </a:xfrm>
            <a:custGeom>
              <a:avLst/>
              <a:gdLst/>
              <a:ahLst/>
              <a:rect l="0" t="0" r="r" b="b"/>
              <a:pathLst>
                <a:path w="1275" h="1681">
                  <a:moveTo>
                    <a:pt x="57" y="0"/>
                  </a:moveTo>
                  <a:lnTo>
                    <a:pt x="1275" y="1054"/>
                  </a:lnTo>
                  <a:lnTo>
                    <a:pt x="1251" y="1681"/>
                  </a:lnTo>
                  <a:lnTo>
                    <a:pt x="0" y="713"/>
                  </a:lnTo>
                  <a:lnTo>
                    <a:pt x="0" y="534"/>
                  </a:lnTo>
                  <a:lnTo>
                    <a:pt x="1126" y="1355"/>
                  </a:lnTo>
                  <a:lnTo>
                    <a:pt x="0" y="286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586560" y="4389480"/>
              <a:ext cx="1221120" cy="1108440"/>
            </a:xfrm>
            <a:custGeom>
              <a:avLst/>
              <a:gdLst/>
              <a:ahLst/>
              <a:rect l="0" t="0" r="r" b="b"/>
              <a:pathLst>
                <a:path w="3392" h="3079">
                  <a:moveTo>
                    <a:pt x="165" y="288"/>
                  </a:moveTo>
                  <a:lnTo>
                    <a:pt x="3392" y="3079"/>
                  </a:lnTo>
                  <a:lnTo>
                    <a:pt x="126" y="493"/>
                  </a:lnTo>
                  <a:lnTo>
                    <a:pt x="72" y="1613"/>
                  </a:lnTo>
                  <a:lnTo>
                    <a:pt x="0" y="288"/>
                  </a:lnTo>
                  <a:lnTo>
                    <a:pt x="452" y="0"/>
                  </a:lnTo>
                  <a:lnTo>
                    <a:pt x="165" y="2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818560" y="4243320"/>
              <a:ext cx="265320" cy="260640"/>
            </a:xfrm>
            <a:custGeom>
              <a:avLst/>
              <a:gdLst/>
              <a:ahLst/>
              <a:rect l="0" t="0" r="r" b="b"/>
              <a:pathLst>
                <a:path w="737" h="724">
                  <a:moveTo>
                    <a:pt x="0" y="0"/>
                  </a:moveTo>
                  <a:lnTo>
                    <a:pt x="737" y="724"/>
                  </a:lnTo>
                  <a:lnTo>
                    <a:pt x="0" y="1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397560" y="5095800"/>
              <a:ext cx="1222560" cy="1661040"/>
            </a:xfrm>
            <a:custGeom>
              <a:avLst/>
              <a:gdLst/>
              <a:ahLst/>
              <a:rect l="0" t="0" r="r" b="b"/>
              <a:pathLst>
                <a:path w="3396" h="4614">
                  <a:moveTo>
                    <a:pt x="0" y="0"/>
                  </a:moveTo>
                  <a:lnTo>
                    <a:pt x="3347" y="2848"/>
                  </a:lnTo>
                  <a:lnTo>
                    <a:pt x="3396" y="3344"/>
                  </a:lnTo>
                  <a:lnTo>
                    <a:pt x="1695" y="4614"/>
                  </a:lnTo>
                  <a:lnTo>
                    <a:pt x="1695" y="4315"/>
                  </a:lnTo>
                  <a:lnTo>
                    <a:pt x="3182" y="29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997600" y="5295960"/>
              <a:ext cx="1357560" cy="1159200"/>
            </a:xfrm>
            <a:custGeom>
              <a:avLst/>
              <a:gdLst/>
              <a:ahLst/>
              <a:rect l="0" t="0" r="r" b="b"/>
              <a:pathLst>
                <a:path w="3771" h="3220">
                  <a:moveTo>
                    <a:pt x="1105" y="0"/>
                  </a:moveTo>
                  <a:lnTo>
                    <a:pt x="1461" y="332"/>
                  </a:lnTo>
                  <a:lnTo>
                    <a:pt x="565" y="1118"/>
                  </a:lnTo>
                  <a:lnTo>
                    <a:pt x="1544" y="483"/>
                  </a:lnTo>
                  <a:lnTo>
                    <a:pt x="3045" y="1656"/>
                  </a:lnTo>
                  <a:lnTo>
                    <a:pt x="2402" y="2384"/>
                  </a:lnTo>
                  <a:lnTo>
                    <a:pt x="3157" y="1798"/>
                  </a:lnTo>
                  <a:lnTo>
                    <a:pt x="3771" y="2291"/>
                  </a:lnTo>
                  <a:lnTo>
                    <a:pt x="2801" y="3220"/>
                  </a:lnTo>
                  <a:lnTo>
                    <a:pt x="2110" y="2687"/>
                  </a:lnTo>
                  <a:lnTo>
                    <a:pt x="2197" y="2384"/>
                  </a:lnTo>
                  <a:lnTo>
                    <a:pt x="1900" y="2194"/>
                  </a:lnTo>
                  <a:lnTo>
                    <a:pt x="1695" y="2248"/>
                  </a:lnTo>
                  <a:lnTo>
                    <a:pt x="852" y="1558"/>
                  </a:lnTo>
                  <a:lnTo>
                    <a:pt x="945" y="1362"/>
                  </a:lnTo>
                  <a:lnTo>
                    <a:pt x="701" y="1216"/>
                  </a:lnTo>
                  <a:lnTo>
                    <a:pt x="487" y="1216"/>
                  </a:lnTo>
                  <a:lnTo>
                    <a:pt x="0" y="825"/>
                  </a:lnTo>
                  <a:lnTo>
                    <a:pt x="1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781600" y="5135400"/>
              <a:ext cx="1159200" cy="1602000"/>
            </a:xfrm>
            <a:custGeom>
              <a:avLst/>
              <a:gdLst/>
              <a:ahLst/>
              <a:rect l="0" t="0" r="r" b="b"/>
              <a:pathLst>
                <a:path w="3220" h="4450">
                  <a:moveTo>
                    <a:pt x="1536" y="0"/>
                  </a:moveTo>
                  <a:lnTo>
                    <a:pt x="0" y="1313"/>
                  </a:lnTo>
                  <a:lnTo>
                    <a:pt x="0" y="1705"/>
                  </a:lnTo>
                  <a:lnTo>
                    <a:pt x="3220" y="4450"/>
                  </a:lnTo>
                  <a:lnTo>
                    <a:pt x="3181" y="4063"/>
                  </a:lnTo>
                  <a:lnTo>
                    <a:pt x="150" y="1367"/>
                  </a:lnTo>
                  <a:lnTo>
                    <a:pt x="15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1144440" y="414360"/>
            <a:ext cx="6792840" cy="2555640"/>
            <a:chOff x="1144440" y="414360"/>
            <a:chExt cx="6792840" cy="2555640"/>
          </a:xfrm>
        </p:grpSpPr>
        <p:sp>
          <p:nvSpPr>
            <p:cNvPr id="257" name=""/>
            <p:cNvSpPr txBox="1"/>
            <p:nvPr/>
          </p:nvSpPr>
          <p:spPr>
            <a:xfrm>
              <a:off x="1144440" y="442800"/>
              <a:ext cx="6792840" cy="252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eryone agrees flowcharts </a:t>
              </a:r>
              <a:br>
                <a:rPr sz="2800"/>
              </a:b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nd diagrams are the best method </a:t>
              </a:r>
              <a:br>
                <a:rPr sz="2800"/>
              </a:b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o communicate the essence of the processes and systems with which </a:t>
              </a:r>
              <a:br>
                <a:rPr sz="2800"/>
              </a:b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you work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1679400" y="414360"/>
              <a:ext cx="55728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355680" y="2593800"/>
            <a:ext cx="8307360" cy="3409920"/>
            <a:chOff x="355680" y="2593800"/>
            <a:chExt cx="8307360" cy="3409920"/>
          </a:xfrm>
        </p:grpSpPr>
        <p:sp>
          <p:nvSpPr>
            <p:cNvPr id="260" name=""/>
            <p:cNvSpPr/>
            <p:nvPr/>
          </p:nvSpPr>
          <p:spPr>
            <a:xfrm flipH="1">
              <a:off x="2673360" y="4465800"/>
              <a:ext cx="1243080" cy="73944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45320" y="3222720"/>
              <a:ext cx="0" cy="61416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128080" y="4584600"/>
              <a:ext cx="0" cy="61452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746680" y="5567400"/>
              <a:ext cx="175896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5522760" y="4389480"/>
              <a:ext cx="797040" cy="79524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24040" y="4379760"/>
              <a:ext cx="822600" cy="0"/>
            </a:xfrm>
            <a:prstGeom prst="line">
              <a:avLst/>
            </a:prstGeom>
            <a:ln w="12600">
              <a:solidFill>
                <a:srgbClr val="8cf4ea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624040" y="4010040"/>
              <a:ext cx="82260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115040" y="4178160"/>
              <a:ext cx="97632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703840" y="4199040"/>
              <a:ext cx="98424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4433760" y="4079880"/>
              <a:ext cx="884520" cy="244440"/>
              <a:chOff x="4433760" y="4079880"/>
              <a:chExt cx="884520" cy="244440"/>
            </a:xfrm>
          </p:grpSpPr>
          <p:sp>
            <p:nvSpPr>
              <p:cNvPr id="270" name=""/>
              <p:cNvSpPr/>
              <p:nvPr/>
            </p:nvSpPr>
            <p:spPr>
              <a:xfrm>
                <a:off x="4433760" y="4079880"/>
                <a:ext cx="884520" cy="0"/>
              </a:xfrm>
              <a:prstGeom prst="line">
                <a:avLst/>
              </a:prstGeom>
              <a:ln w="12600">
                <a:solidFill>
                  <a:srgbClr val="8cf4ea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433760" y="4324320"/>
                <a:ext cx="88452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1171440" y="4219560"/>
              <a:ext cx="91440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245120" y="5595840"/>
              <a:ext cx="70488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3922560" y="2978280"/>
              <a:ext cx="2422800" cy="907920"/>
              <a:chOff x="3922560" y="2978280"/>
              <a:chExt cx="2422800" cy="907920"/>
            </a:xfrm>
          </p:grpSpPr>
          <p:sp>
            <p:nvSpPr>
              <p:cNvPr id="275" name=""/>
              <p:cNvSpPr/>
              <p:nvPr/>
            </p:nvSpPr>
            <p:spPr>
              <a:xfrm flipV="1">
                <a:off x="3930480" y="2978280"/>
                <a:ext cx="0" cy="907920"/>
              </a:xfrm>
              <a:prstGeom prst="line">
                <a:avLst/>
              </a:prstGeom>
              <a:ln w="1260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922560" y="2982960"/>
                <a:ext cx="242280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3936960" y="4479840"/>
              <a:ext cx="1111320" cy="74772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355680" y="2593800"/>
              <a:ext cx="8307360" cy="3409920"/>
              <a:chOff x="355680" y="2593800"/>
              <a:chExt cx="8307360" cy="3409920"/>
            </a:xfrm>
          </p:grpSpPr>
          <p:sp>
            <p:nvSpPr>
              <p:cNvPr id="279" name=""/>
              <p:cNvSpPr txBox="1"/>
              <p:nvPr/>
            </p:nvSpPr>
            <p:spPr>
              <a:xfrm>
                <a:off x="355680" y="3865680"/>
                <a:ext cx="1276200" cy="630360"/>
              </a:xfrm>
              <a:prstGeom prst="rect">
                <a:avLst/>
              </a:prstGeom>
              <a:solidFill>
                <a:srgbClr val="063de8"/>
              </a:solidFill>
              <a:ln w="12600">
                <a:solidFill>
                  <a:srgbClr val="c1ceff"/>
                </a:solidFill>
                <a:round/>
              </a:ln>
              <a:effectLst>
                <a:outerShdw dist="0" dir="0" blurRad="0" rotWithShape="0">
                  <a:srgbClr val="000000"/>
                </a:outerShdw>
              </a:effectLst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Requests fo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Inform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 txBox="1"/>
              <p:nvPr/>
            </p:nvSpPr>
            <p:spPr>
              <a:xfrm>
                <a:off x="2062080" y="3759120"/>
                <a:ext cx="905040" cy="903240"/>
              </a:xfrm>
              <a:prstGeom prst="rect">
                <a:avLst/>
              </a:prstGeom>
              <a:solidFill>
                <a:srgbClr val="063de8"/>
              </a:solidFill>
              <a:ln w="12600">
                <a:solidFill>
                  <a:srgbClr val="c1ceff"/>
                </a:solidFill>
                <a:round/>
              </a:ln>
              <a:effectLst>
                <a:outerShdw dist="0" dir="0" blurRad="0" rotWithShape="0">
                  <a:srgbClr val="000000"/>
                </a:outerShdw>
              </a:effectLst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85000"/>
                  </a:lnSpc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Fulfil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Inf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Reques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 txBox="1"/>
              <p:nvPr/>
            </p:nvSpPr>
            <p:spPr>
              <a:xfrm>
                <a:off x="3441600" y="3884760"/>
                <a:ext cx="1004760" cy="590400"/>
              </a:xfrm>
              <a:prstGeom prst="rect">
                <a:avLst/>
              </a:prstGeom>
              <a:solidFill>
                <a:srgbClr val="063de8"/>
              </a:solidFill>
              <a:ln w="12600">
                <a:solidFill>
                  <a:srgbClr val="c1ceff"/>
                </a:solidFill>
                <a:round/>
              </a:ln>
              <a:effectLst>
                <a:outerShdw dist="0" dir="0" blurRad="0" rotWithShape="0">
                  <a:srgbClr val="000000"/>
                </a:outerShdw>
              </a:effectLst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usto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 txBox="1"/>
              <p:nvPr/>
            </p:nvSpPr>
            <p:spPr>
              <a:xfrm>
                <a:off x="6337440" y="3832200"/>
                <a:ext cx="771480" cy="696960"/>
              </a:xfrm>
              <a:prstGeom prst="rect">
                <a:avLst/>
              </a:prstGeom>
              <a:solidFill>
                <a:srgbClr val="063de8"/>
              </a:solidFill>
              <a:ln w="12600">
                <a:solidFill>
                  <a:srgbClr val="c1ceff"/>
                </a:solidFill>
                <a:round/>
              </a:ln>
              <a:effectLst>
                <a:outerShdw dist="0" dir="0" blurRad="0" rotWithShape="0">
                  <a:srgbClr val="000000"/>
                </a:outerShdw>
              </a:effectLst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Order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 txBox="1"/>
              <p:nvPr/>
            </p:nvSpPr>
            <p:spPr>
              <a:xfrm>
                <a:off x="4932360" y="3821040"/>
                <a:ext cx="779400" cy="779400"/>
              </a:xfrm>
              <a:prstGeom prst="rect">
                <a:avLst/>
              </a:prstGeom>
              <a:solidFill>
                <a:srgbClr val="063de8"/>
              </a:solidFill>
              <a:ln w="12600">
                <a:solidFill>
                  <a:srgbClr val="c1ceff"/>
                </a:solidFill>
                <a:round/>
              </a:ln>
              <a:effectLst>
                <a:outerShdw dist="0" dir="0" blurRad="0" rotWithShape="0">
                  <a:srgbClr val="000000"/>
                </a:outerShdw>
              </a:effectLst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Fulfil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Or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 txBox="1"/>
              <p:nvPr/>
            </p:nvSpPr>
            <p:spPr>
              <a:xfrm>
                <a:off x="7737480" y="3830760"/>
                <a:ext cx="762120" cy="760320"/>
              </a:xfrm>
              <a:prstGeom prst="rect">
                <a:avLst/>
              </a:prstGeom>
              <a:solidFill>
                <a:srgbClr val="063de8"/>
              </a:solidFill>
              <a:ln w="12600">
                <a:solidFill>
                  <a:srgbClr val="c1ceff"/>
                </a:solidFill>
                <a:round/>
              </a:ln>
              <a:effectLst>
                <a:outerShdw dist="0" dir="0" blurRad="0" rotWithShape="0">
                  <a:srgbClr val="000000"/>
                </a:outerShdw>
              </a:effectLst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hec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redi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 txBox="1"/>
              <p:nvPr/>
            </p:nvSpPr>
            <p:spPr>
              <a:xfrm>
                <a:off x="6345360" y="2593800"/>
                <a:ext cx="789120" cy="789120"/>
              </a:xfrm>
              <a:prstGeom prst="rect">
                <a:avLst/>
              </a:prstGeom>
              <a:solidFill>
                <a:srgbClr val="063de8"/>
              </a:solidFill>
              <a:ln w="12600">
                <a:solidFill>
                  <a:srgbClr val="c1ceff"/>
                </a:solidFill>
                <a:round/>
              </a:ln>
              <a:effectLst>
                <a:outerShdw dist="0" dir="0" blurRad="0" rotWithShape="0">
                  <a:srgbClr val="000000"/>
                </a:outerShdw>
              </a:effectLst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ak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Or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 txBox="1"/>
              <p:nvPr/>
            </p:nvSpPr>
            <p:spPr>
              <a:xfrm>
                <a:off x="4862520" y="5141880"/>
                <a:ext cx="863640" cy="861840"/>
              </a:xfrm>
              <a:prstGeom prst="rect">
                <a:avLst/>
              </a:prstGeom>
              <a:solidFill>
                <a:srgbClr val="063de8"/>
              </a:solidFill>
              <a:ln w="12600">
                <a:solidFill>
                  <a:srgbClr val="c1ceff"/>
                </a:solidFill>
                <a:round/>
              </a:ln>
              <a:effectLst>
                <a:outerShdw dist="0" dir="0" blurRad="0" rotWithShape="0">
                  <a:srgbClr val="000000"/>
                </a:outerShdw>
              </a:effectLst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Resolv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redi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 txBox="1"/>
              <p:nvPr/>
            </p:nvSpPr>
            <p:spPr>
              <a:xfrm>
                <a:off x="3181320" y="5276880"/>
                <a:ext cx="1135080" cy="590400"/>
              </a:xfrm>
              <a:prstGeom prst="rect">
                <a:avLst/>
              </a:prstGeom>
              <a:solidFill>
                <a:srgbClr val="063de8"/>
              </a:solidFill>
              <a:ln w="12600">
                <a:solidFill>
                  <a:srgbClr val="c1ceff"/>
                </a:solidFill>
                <a:round/>
              </a:ln>
              <a:effectLst>
                <a:outerShdw dist="0" dir="0" blurRad="0" rotWithShape="0">
                  <a:srgbClr val="000000"/>
                </a:outerShdw>
              </a:effectLst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redit Car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mpan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 txBox="1"/>
              <p:nvPr/>
            </p:nvSpPr>
            <p:spPr>
              <a:xfrm>
                <a:off x="2068560" y="5148360"/>
                <a:ext cx="849240" cy="849240"/>
              </a:xfrm>
              <a:prstGeom prst="rect">
                <a:avLst/>
              </a:prstGeom>
              <a:solidFill>
                <a:srgbClr val="063de8"/>
              </a:solidFill>
              <a:ln w="12600">
                <a:solidFill>
                  <a:srgbClr val="c1ceff"/>
                </a:solidFill>
                <a:round/>
              </a:ln>
              <a:effectLst>
                <a:outerShdw dist="0" dir="0" blurRad="0" rotWithShape="0">
                  <a:srgbClr val="000000"/>
                </a:outerShdw>
              </a:effectLst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ak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Reques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 txBox="1"/>
              <p:nvPr/>
            </p:nvSpPr>
            <p:spPr>
              <a:xfrm>
                <a:off x="7499520" y="5186520"/>
                <a:ext cx="1163520" cy="696960"/>
              </a:xfrm>
              <a:prstGeom prst="rect">
                <a:avLst/>
              </a:prstGeom>
              <a:solidFill>
                <a:srgbClr val="063de8"/>
              </a:solidFill>
              <a:ln w="12600">
                <a:solidFill>
                  <a:srgbClr val="c1ceff"/>
                </a:solidFill>
                <a:round/>
              </a:ln>
              <a:effectLst>
                <a:outerShdw dist="0" dir="0" blurRad="0" rotWithShape="0">
                  <a:srgbClr val="000000"/>
                </a:outerShdw>
              </a:effectLst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redi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xception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"/>
            <p:cNvSpPr txBox="1"/>
            <p:nvPr/>
          </p:nvSpPr>
          <p:spPr>
            <a:xfrm>
              <a:off x="2690640" y="3657600"/>
              <a:ext cx="853920" cy="29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fcfeb9"/>
                  </a:solidFill>
                  <a:latin typeface="Times New Roman"/>
                  <a:ea typeface="Times New Roman"/>
                </a:rPr>
                <a:t>Collatera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 txBox="1"/>
            <p:nvPr/>
          </p:nvSpPr>
          <p:spPr>
            <a:xfrm>
              <a:off x="2825640" y="4378320"/>
              <a:ext cx="606600" cy="419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</a:pPr>
              <a:r>
                <a:rPr b="0" lang="en-US" sz="1300" spc="-1" strike="noStrike">
                  <a:solidFill>
                    <a:srgbClr val="fcfeb9"/>
                  </a:solidFill>
                  <a:latin typeface="Times New Roman"/>
                  <a:ea typeface="Times New Roman"/>
                </a:rPr>
                <a:t>Dem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</a:pPr>
              <a:r>
                <a:rPr b="0" lang="en-US" sz="1300" spc="-1" strike="noStrike">
                  <a:solidFill>
                    <a:srgbClr val="fcfeb9"/>
                  </a:solidFill>
                  <a:latin typeface="Times New Roman"/>
                  <a:ea typeface="Times New Roman"/>
                </a:rPr>
                <a:t>Disk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 txBox="1"/>
            <p:nvPr/>
          </p:nvSpPr>
          <p:spPr>
            <a:xfrm>
              <a:off x="3070080" y="4869000"/>
              <a:ext cx="4777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</a:pPr>
              <a:r>
                <a:rPr b="0" lang="en-US" sz="1300" spc="-1" strike="noStrike">
                  <a:solidFill>
                    <a:srgbClr val="fcfeb9"/>
                  </a:solidFill>
                  <a:latin typeface="Times New Roman"/>
                  <a:ea typeface="Times New Roman"/>
                </a:rPr>
                <a:t>Cal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>
              <a:off x="4321080" y="2703600"/>
              <a:ext cx="4777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</a:pPr>
              <a:r>
                <a:rPr b="0" lang="en-US" sz="1300" spc="-1" strike="noStrike">
                  <a:solidFill>
                    <a:srgbClr val="fcfeb9"/>
                  </a:solidFill>
                  <a:latin typeface="Times New Roman"/>
                  <a:ea typeface="Times New Roman"/>
                </a:rPr>
                <a:t>Cal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 txBox="1"/>
            <p:nvPr/>
          </p:nvSpPr>
          <p:spPr>
            <a:xfrm>
              <a:off x="4394160" y="3657600"/>
              <a:ext cx="717480" cy="29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fcfeb9"/>
                  </a:solidFill>
                  <a:latin typeface="Times New Roman"/>
                  <a:ea typeface="Times New Roman"/>
                </a:rPr>
                <a:t>Produc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 txBox="1"/>
            <p:nvPr/>
          </p:nvSpPr>
          <p:spPr>
            <a:xfrm>
              <a:off x="4387680" y="4379760"/>
              <a:ext cx="69840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</a:pPr>
              <a:r>
                <a:rPr b="0" lang="en-US" sz="1300" spc="-1" strike="noStrike">
                  <a:solidFill>
                    <a:srgbClr val="fcfeb9"/>
                  </a:solidFill>
                  <a:latin typeface="Times New Roman"/>
                  <a:ea typeface="Times New Roman"/>
                </a:rPr>
                <a:t>Invoic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 txBox="1"/>
            <p:nvPr/>
          </p:nvSpPr>
          <p:spPr>
            <a:xfrm>
              <a:off x="5742000" y="3338640"/>
              <a:ext cx="1014480" cy="419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0000"/>
                </a:lnSpc>
              </a:pPr>
              <a:r>
                <a:rPr b="0" lang="en-US" sz="1300" spc="-1" strike="noStrike">
                  <a:solidFill>
                    <a:srgbClr val="fcfeb9"/>
                  </a:solidFill>
                  <a:latin typeface="Times New Roman"/>
                  <a:ea typeface="Times New Roman"/>
                </a:rPr>
                <a:t>Non-credi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</a:pPr>
              <a:r>
                <a:rPr b="0" lang="en-US" sz="1300" spc="-1" strike="noStrike">
                  <a:solidFill>
                    <a:srgbClr val="fcfeb9"/>
                  </a:solidFill>
                  <a:latin typeface="Times New Roman"/>
                  <a:ea typeface="Times New Roman"/>
                </a:rPr>
                <a:t>Card Order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 txBox="1"/>
            <p:nvPr/>
          </p:nvSpPr>
          <p:spPr>
            <a:xfrm>
              <a:off x="5742000" y="4813200"/>
              <a:ext cx="652320" cy="419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0" lang="en-US" sz="1300" spc="-1" strike="noStrike">
                  <a:solidFill>
                    <a:srgbClr val="fcfeb9"/>
                  </a:solidFill>
                  <a:latin typeface="Times New Roman"/>
                  <a:ea typeface="Times New Roman"/>
                </a:rPr>
                <a:t>OK</a:t>
              </a:r>
              <a:br>
                <a:rPr sz="1300"/>
              </a:br>
              <a:r>
                <a:rPr b="0" lang="en-US" sz="1300" spc="-1" strike="noStrike">
                  <a:solidFill>
                    <a:srgbClr val="fcfeb9"/>
                  </a:solidFill>
                  <a:latin typeface="Times New Roman"/>
                  <a:ea typeface="Times New Roman"/>
                </a:rPr>
                <a:t>Order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 txBox="1"/>
            <p:nvPr/>
          </p:nvSpPr>
          <p:spPr>
            <a:xfrm>
              <a:off x="7353360" y="4813200"/>
              <a:ext cx="781200" cy="419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80000"/>
                </a:lnSpc>
              </a:pPr>
              <a:r>
                <a:rPr b="0" lang="en-US" sz="1300" spc="-1" strike="noStrike">
                  <a:solidFill>
                    <a:srgbClr val="fcfeb9"/>
                  </a:solidFill>
                  <a:latin typeface="Times New Roman"/>
                  <a:ea typeface="Times New Roman"/>
                </a:rPr>
                <a:t>Rejecte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</a:pPr>
              <a:r>
                <a:rPr b="0" lang="en-US" sz="1300" spc="-1" strike="noStrike">
                  <a:solidFill>
                    <a:srgbClr val="fcfeb9"/>
                  </a:solidFill>
                  <a:latin typeface="Times New Roman"/>
                  <a:ea typeface="Times New Roman"/>
                </a:rPr>
                <a:t>Order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 txBox="1"/>
            <p:nvPr/>
          </p:nvSpPr>
          <p:spPr>
            <a:xfrm>
              <a:off x="7178760" y="4162320"/>
              <a:ext cx="652320" cy="419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</a:pPr>
              <a:r>
                <a:rPr b="0" lang="en-US" sz="1300" spc="-1" strike="noStrike">
                  <a:solidFill>
                    <a:srgbClr val="fcfeb9"/>
                  </a:solidFill>
                  <a:latin typeface="Times New Roman"/>
                  <a:ea typeface="Times New Roman"/>
                </a:rPr>
                <a:t>OK</a:t>
              </a:r>
              <a:br>
                <a:rPr sz="1300"/>
              </a:br>
              <a:r>
                <a:rPr b="0" lang="en-US" sz="1300" spc="-1" strike="noStrike">
                  <a:solidFill>
                    <a:srgbClr val="fcfeb9"/>
                  </a:solidFill>
                  <a:latin typeface="Times New Roman"/>
                  <a:ea typeface="Times New Roman"/>
                </a:rPr>
                <a:t>Order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67520" y="3222720"/>
              <a:ext cx="824040" cy="67788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 txBox="1"/>
            <p:nvPr/>
          </p:nvSpPr>
          <p:spPr>
            <a:xfrm>
              <a:off x="7377120" y="3178080"/>
              <a:ext cx="1014480" cy="419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</a:pPr>
              <a:r>
                <a:rPr b="0" lang="en-US" sz="1300" spc="-1" strike="noStrike">
                  <a:solidFill>
                    <a:srgbClr val="fcfeb9"/>
                  </a:solidFill>
                  <a:latin typeface="Times New Roman"/>
                  <a:ea typeface="Times New Roman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</a:pPr>
              <a:r>
                <a:rPr b="0" lang="en-US" sz="1300" spc="-1" strike="noStrike">
                  <a:solidFill>
                    <a:srgbClr val="fcfeb9"/>
                  </a:solidFill>
                  <a:latin typeface="Times New Roman"/>
                  <a:ea typeface="Times New Roman"/>
                </a:rPr>
                <a:t>Card Order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604880" y="4471920"/>
              <a:ext cx="698760" cy="69840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282600" y="852480"/>
            <a:ext cx="8585280" cy="599292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546120" y="216000"/>
            <a:ext cx="850248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t only FlowModel can turn this . .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000160" y="2800440"/>
            <a:ext cx="4915080" cy="3519360"/>
            <a:chOff x="2000160" y="2800440"/>
            <a:chExt cx="4915080" cy="3519360"/>
          </a:xfrm>
        </p:grpSpPr>
        <p:sp>
          <p:nvSpPr>
            <p:cNvPr id="306" name=""/>
            <p:cNvSpPr txBox="1"/>
            <p:nvPr/>
          </p:nvSpPr>
          <p:spPr>
            <a:xfrm>
              <a:off x="3343320" y="2800440"/>
              <a:ext cx="900000" cy="871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790015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5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k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 txBox="1"/>
            <p:nvPr/>
          </p:nvSpPr>
          <p:spPr>
            <a:xfrm>
              <a:off x="4676760" y="2800440"/>
              <a:ext cx="900000" cy="871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790015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5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k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3343320" y="4129200"/>
              <a:ext cx="900000" cy="871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790015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5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olv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 txBox="1"/>
            <p:nvPr/>
          </p:nvSpPr>
          <p:spPr>
            <a:xfrm>
              <a:off x="4676760" y="4129200"/>
              <a:ext cx="900000" cy="871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790015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5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e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 txBox="1"/>
            <p:nvPr/>
          </p:nvSpPr>
          <p:spPr>
            <a:xfrm>
              <a:off x="3343320" y="5448240"/>
              <a:ext cx="900000" cy="871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790015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5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ulfi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f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4681440" y="5572080"/>
              <a:ext cx="900000" cy="642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790015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5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ulfi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2000160" y="4272120"/>
              <a:ext cx="905040" cy="5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dit Ca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pan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>
              <a:off x="2000160" y="2951280"/>
              <a:ext cx="905040" cy="5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sto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>
              <a:off x="6013440" y="2952720"/>
              <a:ext cx="901800" cy="552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 txBox="1"/>
            <p:nvPr/>
          </p:nvSpPr>
          <p:spPr>
            <a:xfrm>
              <a:off x="6013440" y="4286160"/>
              <a:ext cx="901800" cy="552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cep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 txBox="1"/>
            <p:nvPr/>
          </p:nvSpPr>
          <p:spPr>
            <a:xfrm>
              <a:off x="6013440" y="5607000"/>
              <a:ext cx="901800" cy="552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quests f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form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301680" y="868320"/>
            <a:ext cx="8589960" cy="597708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546120" y="203040"/>
            <a:ext cx="79963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. . . into this, at the press of a butt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2031840" y="2835360"/>
            <a:ext cx="6253560" cy="3516120"/>
            <a:chOff x="2031840" y="2835360"/>
            <a:chExt cx="6253560" cy="3516120"/>
          </a:xfrm>
        </p:grpSpPr>
        <p:sp>
          <p:nvSpPr>
            <p:cNvPr id="320" name=""/>
            <p:cNvSpPr txBox="1"/>
            <p:nvPr/>
          </p:nvSpPr>
          <p:spPr>
            <a:xfrm>
              <a:off x="6033960" y="2835360"/>
              <a:ext cx="900000" cy="871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790015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5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k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 txBox="1"/>
            <p:nvPr/>
          </p:nvSpPr>
          <p:spPr>
            <a:xfrm>
              <a:off x="2033640" y="5479920"/>
              <a:ext cx="900000" cy="871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790015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5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k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 txBox="1"/>
            <p:nvPr/>
          </p:nvSpPr>
          <p:spPr>
            <a:xfrm>
              <a:off x="4700520" y="5475240"/>
              <a:ext cx="900000" cy="871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790015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5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olv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 txBox="1"/>
            <p:nvPr/>
          </p:nvSpPr>
          <p:spPr>
            <a:xfrm>
              <a:off x="7367760" y="4140360"/>
              <a:ext cx="900000" cy="871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790015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5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e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 txBox="1"/>
            <p:nvPr/>
          </p:nvSpPr>
          <p:spPr>
            <a:xfrm>
              <a:off x="2031840" y="4151160"/>
              <a:ext cx="900000" cy="871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790015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5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ulfi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f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 txBox="1"/>
            <p:nvPr/>
          </p:nvSpPr>
          <p:spPr>
            <a:xfrm>
              <a:off x="4694400" y="4273560"/>
              <a:ext cx="900000" cy="642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790015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5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ulfi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3333600" y="5641920"/>
              <a:ext cx="905040" cy="5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dit Ca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pan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 txBox="1"/>
            <p:nvPr/>
          </p:nvSpPr>
          <p:spPr>
            <a:xfrm>
              <a:off x="3379680" y="4308480"/>
              <a:ext cx="882720" cy="561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usto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 txBox="1"/>
            <p:nvPr/>
          </p:nvSpPr>
          <p:spPr>
            <a:xfrm>
              <a:off x="6037200" y="4309920"/>
              <a:ext cx="901800" cy="552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7383600" y="5643720"/>
              <a:ext cx="901800" cy="552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re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cep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4191120" y="2975040"/>
              <a:ext cx="901800" cy="552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quests f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form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5676840" y="1424160"/>
            <a:ext cx="3454560" cy="27702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528480" y="1411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low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816120" y="1136520"/>
            <a:ext cx="528012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080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With typewriters, you had to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know what your documents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were going to look like before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you started and you had to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very laboriously retype them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as you revised your work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"/>
              </a:spcBef>
              <a:buClr>
                <a:srgbClr val="fc0128"/>
              </a:buClr>
              <a:buFont typeface="Monotype Sorts"/>
              <a:buChar char=""/>
            </a:pPr>
            <a:r>
              <a:rPr b="0" i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Traditional flowcharting and </a:t>
            </a:r>
            <a:br>
              <a:rPr sz="2500"/>
            </a:br>
            <a:r>
              <a:rPr b="0" i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drawing tools are the same wa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676840" y="1424160"/>
            <a:ext cx="3454560" cy="27702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6091200" y="3411360"/>
            <a:ext cx="3040200" cy="343368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528480" y="1411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low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816120" y="1136520"/>
            <a:ext cx="528012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080"/>
              </a:spcBef>
              <a:buClr>
                <a:srgbClr val="618ffd"/>
              </a:buClr>
              <a:buFont typeface="Monotype Sorts"/>
              <a:buChar char=""/>
            </a:pPr>
            <a:r>
              <a:rPr b="0" lang="en-US" sz="2500" spc="-1" strike="noStrike">
                <a:solidFill>
                  <a:srgbClr val="618ffd"/>
                </a:solidFill>
                <a:latin typeface="Arial"/>
                <a:ea typeface="Arial"/>
              </a:rPr>
              <a:t>With typewriters, you had to </a:t>
            </a:r>
            <a:br>
              <a:rPr sz="2500"/>
            </a:br>
            <a:r>
              <a:rPr b="0" lang="en-US" sz="2500" spc="-1" strike="noStrike">
                <a:solidFill>
                  <a:srgbClr val="618ffd"/>
                </a:solidFill>
                <a:latin typeface="Arial"/>
                <a:ea typeface="Arial"/>
              </a:rPr>
              <a:t>know what your documents</a:t>
            </a:r>
            <a:br>
              <a:rPr sz="2500"/>
            </a:br>
            <a:r>
              <a:rPr b="0" lang="en-US" sz="2500" spc="-1" strike="noStrike">
                <a:solidFill>
                  <a:srgbClr val="618ffd"/>
                </a:solidFill>
                <a:latin typeface="Arial"/>
                <a:ea typeface="Arial"/>
              </a:rPr>
              <a:t>were going to look like before</a:t>
            </a:r>
            <a:br>
              <a:rPr sz="2500"/>
            </a:br>
            <a:r>
              <a:rPr b="0" lang="en-US" sz="2500" spc="-1" strike="noStrike">
                <a:solidFill>
                  <a:srgbClr val="618ffd"/>
                </a:solidFill>
                <a:latin typeface="Arial"/>
                <a:ea typeface="Arial"/>
              </a:rPr>
              <a:t>you started and you had to </a:t>
            </a:r>
            <a:br>
              <a:rPr sz="2500"/>
            </a:br>
            <a:r>
              <a:rPr b="0" lang="en-US" sz="2500" spc="-1" strike="noStrike">
                <a:solidFill>
                  <a:srgbClr val="618ffd"/>
                </a:solidFill>
                <a:latin typeface="Arial"/>
                <a:ea typeface="Arial"/>
              </a:rPr>
              <a:t>very laboriously retype them </a:t>
            </a:r>
            <a:br>
              <a:rPr sz="2500"/>
            </a:br>
            <a:r>
              <a:rPr b="0" lang="en-US" sz="2500" spc="-1" strike="noStrike">
                <a:solidFill>
                  <a:srgbClr val="618ffd"/>
                </a:solidFill>
                <a:latin typeface="Arial"/>
                <a:ea typeface="Arial"/>
              </a:rPr>
              <a:t>as you revised your work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"/>
              </a:spcBef>
              <a:buClr>
                <a:srgbClr val="618ffd"/>
              </a:buClr>
              <a:buFont typeface="Monotype Sorts"/>
              <a:buChar char=""/>
            </a:pPr>
            <a:r>
              <a:rPr b="0" i="1" lang="en-US" sz="2500" spc="-1" strike="noStrike">
                <a:solidFill>
                  <a:srgbClr val="618ffd"/>
                </a:solidFill>
                <a:latin typeface="Arial"/>
                <a:ea typeface="Arial"/>
              </a:rPr>
              <a:t>Traditional flowcharting and </a:t>
            </a:r>
            <a:br>
              <a:rPr sz="2500"/>
            </a:br>
            <a:r>
              <a:rPr b="0" i="1" lang="en-US" sz="2500" spc="-1" strike="noStrike">
                <a:solidFill>
                  <a:srgbClr val="618ffd"/>
                </a:solidFill>
                <a:latin typeface="Arial"/>
                <a:ea typeface="Arial"/>
              </a:rPr>
              <a:t>drawing tools are the same wa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FlowModel is to traditional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flowcharting tools like the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word processor was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to the typewrit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5408640" y="1228680"/>
            <a:ext cx="3722760" cy="36352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2773440" y="2868480"/>
            <a:ext cx="4714920" cy="2238480"/>
          </a:xfrm>
          <a:prstGeom prst="rect">
            <a:avLst/>
          </a:prstGeom>
          <a:gradFill rotWithShape="0">
            <a:gsLst>
              <a:gs pos="0">
                <a:srgbClr val="002fbd"/>
              </a:gs>
              <a:gs pos="100000">
                <a:srgbClr val="000000"/>
              </a:gs>
            </a:gsLst>
            <a:lin ang="5400000"/>
          </a:gradFill>
          <a:ln w="25560">
            <a:solidFill>
              <a:srgbClr val="3365fb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2933640" y="2952720"/>
            <a:ext cx="4416480" cy="1824120"/>
            <a:chOff x="2933640" y="2952720"/>
            <a:chExt cx="4416480" cy="1824120"/>
          </a:xfrm>
        </p:grpSpPr>
        <p:sp>
          <p:nvSpPr>
            <p:cNvPr id="341" name=""/>
            <p:cNvSpPr/>
            <p:nvPr/>
          </p:nvSpPr>
          <p:spPr>
            <a:xfrm>
              <a:off x="3254400" y="3592440"/>
              <a:ext cx="0" cy="906480"/>
            </a:xfrm>
            <a:prstGeom prst="line">
              <a:avLst/>
            </a:prstGeom>
            <a:ln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686480" y="3592440"/>
              <a:ext cx="0" cy="906480"/>
            </a:xfrm>
            <a:prstGeom prst="line">
              <a:avLst/>
            </a:prstGeom>
            <a:ln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85080" y="3592440"/>
              <a:ext cx="0" cy="906480"/>
            </a:xfrm>
            <a:prstGeom prst="line">
              <a:avLst/>
            </a:prstGeom>
            <a:ln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 txBox="1"/>
            <p:nvPr/>
          </p:nvSpPr>
          <p:spPr>
            <a:xfrm>
              <a:off x="2933640" y="3816360"/>
              <a:ext cx="696960" cy="34776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618ffd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600" spc="-1" strike="noStrike">
                  <a:solidFill>
                    <a:srgbClr val="618ffd"/>
                  </a:solidFill>
                  <a:latin typeface="Arial"/>
                  <a:ea typeface="Arial"/>
                </a:rPr>
                <a:t>Larry Jon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600" spc="-1" strike="noStrike">
                  <a:solidFill>
                    <a:srgbClr val="618ffd"/>
                  </a:solidFill>
                  <a:latin typeface="Arial"/>
                  <a:ea typeface="Arial"/>
                </a:rPr>
                <a:t>V.P. Marketi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 txBox="1"/>
            <p:nvPr/>
          </p:nvSpPr>
          <p:spPr>
            <a:xfrm>
              <a:off x="4334040" y="3816360"/>
              <a:ext cx="696960" cy="34776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618ffd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600" spc="-1" strike="noStrike">
                  <a:solidFill>
                    <a:srgbClr val="618ffd"/>
                  </a:solidFill>
                  <a:latin typeface="Arial"/>
                  <a:ea typeface="Arial"/>
                </a:rPr>
                <a:t>Donna James,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600" spc="-1" strike="noStrike">
                  <a:solidFill>
                    <a:srgbClr val="618ffd"/>
                  </a:solidFill>
                  <a:latin typeface="Arial"/>
                  <a:ea typeface="Arial"/>
                </a:rPr>
                <a:t>V.P. Sal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 txBox="1"/>
            <p:nvPr/>
          </p:nvSpPr>
          <p:spPr>
            <a:xfrm>
              <a:off x="6653160" y="3816360"/>
              <a:ext cx="696960" cy="34776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618ffd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600" spc="-1" strike="noStrike">
                  <a:solidFill>
                    <a:srgbClr val="618ffd"/>
                  </a:solidFill>
                  <a:latin typeface="Arial"/>
                  <a:ea typeface="Arial"/>
                </a:rPr>
                <a:t>Howard Frank,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600" spc="-1" strike="noStrike">
                  <a:solidFill>
                    <a:srgbClr val="618ffd"/>
                  </a:solidFill>
                  <a:latin typeface="Arial"/>
                  <a:ea typeface="Arial"/>
                </a:rPr>
                <a:t>CF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 txBox="1"/>
            <p:nvPr/>
          </p:nvSpPr>
          <p:spPr>
            <a:xfrm>
              <a:off x="2971800" y="4398840"/>
              <a:ext cx="619200" cy="37800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618ffd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600" spc="-1" strike="noStrike">
                  <a:solidFill>
                    <a:srgbClr val="618ffd"/>
                  </a:solidFill>
                  <a:latin typeface="Arial"/>
                  <a:ea typeface="Arial"/>
                </a:rPr>
                <a:t>Greg Purdom,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600" spc="-1" strike="noStrike">
                  <a:solidFill>
                    <a:srgbClr val="618ffd"/>
                  </a:solidFill>
                  <a:latin typeface="Arial"/>
                  <a:ea typeface="Arial"/>
                </a:rPr>
                <a:t>Director of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600" spc="-1" strike="noStrike">
                  <a:solidFill>
                    <a:srgbClr val="618ffd"/>
                  </a:solidFill>
                  <a:latin typeface="Arial"/>
                  <a:ea typeface="Arial"/>
                </a:rPr>
                <a:t>Marketi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 txBox="1"/>
            <p:nvPr/>
          </p:nvSpPr>
          <p:spPr>
            <a:xfrm>
              <a:off x="6696000" y="4398840"/>
              <a:ext cx="617400" cy="37800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618ffd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600" spc="-1" strike="noStrike">
                  <a:solidFill>
                    <a:srgbClr val="618ffd"/>
                  </a:solidFill>
                  <a:latin typeface="Arial"/>
                  <a:ea typeface="Arial"/>
                </a:rPr>
                <a:t>Jim Goodkind,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600" spc="-1" strike="noStrike">
                  <a:solidFill>
                    <a:srgbClr val="618ffd"/>
                  </a:solidFill>
                  <a:latin typeface="Arial"/>
                  <a:ea typeface="Arial"/>
                </a:rPr>
                <a:t>Controll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254400" y="3586320"/>
              <a:ext cx="3730680" cy="0"/>
            </a:xfrm>
            <a:prstGeom prst="line">
              <a:avLst/>
            </a:prstGeom>
            <a:ln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989520" y="4259160"/>
              <a:ext cx="0" cy="239760"/>
            </a:xfrm>
            <a:prstGeom prst="line">
              <a:avLst/>
            </a:prstGeom>
            <a:ln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337000" y="4267080"/>
              <a:ext cx="0" cy="231840"/>
            </a:xfrm>
            <a:prstGeom prst="line">
              <a:avLst/>
            </a:prstGeom>
            <a:ln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995640" y="4259160"/>
              <a:ext cx="1341360" cy="0"/>
            </a:xfrm>
            <a:prstGeom prst="line">
              <a:avLst/>
            </a:prstGeom>
            <a:ln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 txBox="1"/>
            <p:nvPr/>
          </p:nvSpPr>
          <p:spPr>
            <a:xfrm>
              <a:off x="4371840" y="4398840"/>
              <a:ext cx="619200" cy="37800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618ffd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600" spc="-1" strike="noStrike">
                  <a:solidFill>
                    <a:srgbClr val="618ffd"/>
                  </a:solidFill>
                  <a:latin typeface="Arial"/>
                  <a:ea typeface="Arial"/>
                </a:rPr>
                <a:t>Gordon Bayer,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600" spc="-1" strike="noStrike">
                  <a:solidFill>
                    <a:srgbClr val="618ffd"/>
                  </a:solidFill>
                  <a:latin typeface="Arial"/>
                  <a:ea typeface="Arial"/>
                </a:rPr>
                <a:t>Easter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600" spc="-1" strike="noStrike">
                  <a:solidFill>
                    <a:srgbClr val="618ffd"/>
                  </a:solidFill>
                  <a:latin typeface="Arial"/>
                  <a:ea typeface="Arial"/>
                </a:rPr>
                <a:t>Reg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 txBox="1"/>
            <p:nvPr/>
          </p:nvSpPr>
          <p:spPr>
            <a:xfrm>
              <a:off x="3687840" y="4398840"/>
              <a:ext cx="620640" cy="37800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618ffd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600" spc="-1" strike="noStrike">
                  <a:solidFill>
                    <a:srgbClr val="618ffd"/>
                  </a:solidFill>
                  <a:latin typeface="Arial"/>
                  <a:ea typeface="Arial"/>
                </a:rPr>
                <a:t>Mac McReady,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600" spc="-1" strike="noStrike">
                  <a:solidFill>
                    <a:srgbClr val="618ffd"/>
                  </a:solidFill>
                  <a:latin typeface="Arial"/>
                  <a:ea typeface="Arial"/>
                </a:rPr>
                <a:t>Internation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 txBox="1"/>
            <p:nvPr/>
          </p:nvSpPr>
          <p:spPr>
            <a:xfrm>
              <a:off x="5037120" y="4398840"/>
              <a:ext cx="619200" cy="37800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618ffd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600" spc="-1" strike="noStrike">
                  <a:solidFill>
                    <a:srgbClr val="618ffd"/>
                  </a:solidFill>
                  <a:latin typeface="Arial"/>
                  <a:ea typeface="Arial"/>
                </a:rPr>
                <a:t>Matt Gregor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600" spc="-1" strike="noStrike">
                  <a:solidFill>
                    <a:srgbClr val="618ffd"/>
                  </a:solidFill>
                  <a:latin typeface="Arial"/>
                  <a:ea typeface="Arial"/>
                </a:rPr>
                <a:t>Wester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600" spc="-1" strike="noStrike">
                  <a:solidFill>
                    <a:srgbClr val="618ffd"/>
                  </a:solidFill>
                  <a:latin typeface="Arial"/>
                  <a:ea typeface="Arial"/>
                </a:rPr>
                <a:t>Reg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37360" y="3592440"/>
              <a:ext cx="0" cy="443160"/>
            </a:xfrm>
            <a:prstGeom prst="line">
              <a:avLst/>
            </a:prstGeom>
            <a:ln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 txBox="1"/>
            <p:nvPr/>
          </p:nvSpPr>
          <p:spPr>
            <a:xfrm>
              <a:off x="5884920" y="3816360"/>
              <a:ext cx="696960" cy="34776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618ffd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600" spc="-1" strike="noStrike">
                  <a:solidFill>
                    <a:srgbClr val="618ffd"/>
                  </a:solidFill>
                  <a:latin typeface="Arial"/>
                  <a:ea typeface="Arial"/>
                </a:rPr>
                <a:t>Greg Fritz,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600" spc="-1" strike="noStrike">
                  <a:solidFill>
                    <a:srgbClr val="618ffd"/>
                  </a:solidFill>
                  <a:latin typeface="Arial"/>
                  <a:ea typeface="Arial"/>
                </a:rPr>
                <a:t>V.P. R&amp;D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00720" y="3279600"/>
              <a:ext cx="0" cy="312840"/>
            </a:xfrm>
            <a:prstGeom prst="line">
              <a:avLst/>
            </a:prstGeom>
            <a:ln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 txBox="1"/>
            <p:nvPr/>
          </p:nvSpPr>
          <p:spPr>
            <a:xfrm>
              <a:off x="5048280" y="2952720"/>
              <a:ext cx="695160" cy="43488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618ffd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600" spc="-1" strike="noStrike">
                  <a:solidFill>
                    <a:srgbClr val="618ffd"/>
                  </a:solidFill>
                  <a:latin typeface="Arial"/>
                  <a:ea typeface="Arial"/>
                </a:rPr>
                <a:t>Fred Smith,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600" spc="-1" strike="noStrike">
                  <a:solidFill>
                    <a:srgbClr val="618ffd"/>
                  </a:solidFill>
                  <a:latin typeface="Arial"/>
                  <a:ea typeface="Arial"/>
                </a:rPr>
                <a:t>CE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"/>
          <p:cNvSpPr txBox="1"/>
          <p:nvPr/>
        </p:nvSpPr>
        <p:spPr>
          <a:xfrm>
            <a:off x="547560" y="1522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ore than just flowcharts . .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106640" y="4322880"/>
            <a:ext cx="5740560" cy="2522520"/>
          </a:xfrm>
          <a:prstGeom prst="rect">
            <a:avLst/>
          </a:prstGeom>
          <a:gradFill rotWithShape="0">
            <a:gsLst>
              <a:gs pos="0">
                <a:srgbClr val="002fbd"/>
              </a:gs>
              <a:gs pos="100000">
                <a:srgbClr val="000000"/>
              </a:gs>
            </a:gsLst>
            <a:lin ang="5400000"/>
          </a:gradFill>
          <a:ln w="25560">
            <a:solidFill>
              <a:srgbClr val="3365fb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863880" y="5405400"/>
            <a:ext cx="574920" cy="0"/>
          </a:xfrm>
          <a:prstGeom prst="line">
            <a:avLst/>
          </a:prstGeom>
          <a:ln w="12600">
            <a:solidFill>
              <a:srgbClr val="618ff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141800" y="6080040"/>
            <a:ext cx="561960" cy="546120"/>
          </a:xfrm>
          <a:prstGeom prst="rect">
            <a:avLst/>
          </a:prstGeom>
          <a:solidFill>
            <a:srgbClr val="063de8"/>
          </a:solidFill>
          <a:ln w="12600">
            <a:solidFill>
              <a:srgbClr val="c1ce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800" spc="-1" strike="noStrike">
                <a:solidFill>
                  <a:srgbClr val="618ffd"/>
                </a:solidFill>
                <a:latin typeface="Arial"/>
                <a:ea typeface="Arial"/>
              </a:rPr>
              <a:t>Resol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800" spc="-1" strike="noStrike">
                <a:solidFill>
                  <a:srgbClr val="618ffd"/>
                </a:solidFill>
                <a:latin typeface="Arial"/>
                <a:ea typeface="Arial"/>
              </a:rPr>
              <a:t>Cred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560" y="6164280"/>
            <a:ext cx="738360" cy="376200"/>
          </a:xfrm>
          <a:prstGeom prst="rect">
            <a:avLst/>
          </a:prstGeom>
          <a:solidFill>
            <a:srgbClr val="063de8"/>
          </a:solidFill>
          <a:ln w="12600">
            <a:solidFill>
              <a:srgbClr val="c1ce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618ffd"/>
                </a:solidFill>
                <a:latin typeface="Arial"/>
                <a:ea typeface="Arial"/>
              </a:rPr>
              <a:t>Credit Ca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618ffd"/>
                </a:solidFill>
                <a:latin typeface="Arial"/>
                <a:ea typeface="Arial"/>
              </a:rPr>
              <a:t>Compan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2325600" y="6083280"/>
            <a:ext cx="552600" cy="538200"/>
          </a:xfrm>
          <a:prstGeom prst="rect">
            <a:avLst/>
          </a:prstGeom>
          <a:solidFill>
            <a:srgbClr val="063de8"/>
          </a:solidFill>
          <a:ln w="12600">
            <a:solidFill>
              <a:srgbClr val="c1ce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800" spc="-1" strike="noStrike">
                <a:solidFill>
                  <a:srgbClr val="618ffd"/>
                </a:solidFill>
                <a:latin typeface="Arial"/>
                <a:ea typeface="Arial"/>
              </a:rPr>
              <a:t>Tak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800" spc="-1" strike="noStrike">
                <a:solidFill>
                  <a:srgbClr val="618ffd"/>
                </a:solidFill>
                <a:latin typeface="Arial"/>
                <a:ea typeface="Arial"/>
              </a:rPr>
              <a:t>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856120" y="6107040"/>
            <a:ext cx="755640" cy="442800"/>
          </a:xfrm>
          <a:prstGeom prst="rect">
            <a:avLst/>
          </a:prstGeom>
          <a:solidFill>
            <a:srgbClr val="063de8"/>
          </a:solidFill>
          <a:ln w="12600">
            <a:solidFill>
              <a:srgbClr val="c1ce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618ffd"/>
                </a:solidFill>
                <a:latin typeface="Arial"/>
                <a:ea typeface="Arial"/>
              </a:rPr>
              <a:t>Cred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618ffd"/>
                </a:solidFill>
                <a:latin typeface="Arial"/>
                <a:ea typeface="Arial"/>
              </a:rPr>
              <a:t>Excep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2730600" y="5140440"/>
            <a:ext cx="533520" cy="1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Collater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2824200" y="5595840"/>
            <a:ext cx="38088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0" lang="en-US" sz="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Dem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0" lang="en-US" sz="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Dis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2979720" y="5908680"/>
            <a:ext cx="303120" cy="1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0" lang="en-US" sz="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C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794040" y="4532400"/>
            <a:ext cx="303120" cy="1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0" lang="en-US" sz="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C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36880" y="5140440"/>
            <a:ext cx="449280" cy="1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Produ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41920" y="5597640"/>
            <a:ext cx="438120" cy="1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0" lang="en-US" sz="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Invo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740120" y="4935600"/>
            <a:ext cx="63324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</a:pPr>
            <a:r>
              <a:rPr b="0" lang="en-US" sz="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Non-cred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</a:pPr>
            <a:r>
              <a:rPr b="0" lang="en-US" sz="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Card Ord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713120" y="5872320"/>
            <a:ext cx="40968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0" lang="en-US" sz="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OK</a:t>
            </a:r>
            <a:br>
              <a:rPr sz="800"/>
            </a:br>
            <a:r>
              <a:rPr b="0" lang="en-US" sz="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Ord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5780160" y="5872320"/>
            <a:ext cx="48888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</a:pPr>
            <a:r>
              <a:rPr b="0" lang="en-US" sz="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Rejec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</a:pPr>
            <a:r>
              <a:rPr b="0" lang="en-US" sz="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Ord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5654520" y="5459400"/>
            <a:ext cx="40968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0" lang="en-US" sz="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OK</a:t>
            </a:r>
            <a:br>
              <a:rPr sz="800"/>
            </a:br>
            <a:r>
              <a:rPr b="0" lang="en-US" sz="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Ord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5775480" y="4835520"/>
            <a:ext cx="63324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0" lang="en-US" sz="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Cred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0" lang="en-US" sz="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Card Ord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2719440" y="5649840"/>
            <a:ext cx="807840" cy="469800"/>
          </a:xfrm>
          <a:prstGeom prst="line">
            <a:avLst/>
          </a:prstGeom>
          <a:ln w="12600">
            <a:solidFill>
              <a:srgbClr val="618ff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365800" y="4861080"/>
            <a:ext cx="0" cy="390240"/>
          </a:xfrm>
          <a:prstGeom prst="line">
            <a:avLst/>
          </a:prstGeom>
          <a:ln w="12600">
            <a:solidFill>
              <a:srgbClr val="618ff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264360" y="5726160"/>
            <a:ext cx="0" cy="388800"/>
          </a:xfrm>
          <a:prstGeom prst="line">
            <a:avLst/>
          </a:prstGeom>
          <a:ln w="12600">
            <a:solidFill>
              <a:srgbClr val="618ff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716360" y="6348240"/>
            <a:ext cx="1143000" cy="0"/>
          </a:xfrm>
          <a:prstGeom prst="line">
            <a:avLst/>
          </a:prstGeom>
          <a:ln w="12600">
            <a:solidFill>
              <a:srgbClr val="618ff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4570560" y="5602320"/>
            <a:ext cx="519120" cy="504720"/>
          </a:xfrm>
          <a:prstGeom prst="line">
            <a:avLst/>
          </a:prstGeom>
          <a:ln w="12600">
            <a:solidFill>
              <a:srgbClr val="618ff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687760" y="5595840"/>
            <a:ext cx="533160" cy="0"/>
          </a:xfrm>
          <a:prstGeom prst="line">
            <a:avLst/>
          </a:prstGeom>
          <a:ln w="12600">
            <a:solidFill>
              <a:srgbClr val="618ff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687760" y="5361120"/>
            <a:ext cx="533160" cy="0"/>
          </a:xfrm>
          <a:prstGeom prst="line">
            <a:avLst/>
          </a:prstGeom>
          <a:ln w="12600">
            <a:solidFill>
              <a:srgbClr val="618ff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05560" y="5468760"/>
            <a:ext cx="635040" cy="0"/>
          </a:xfrm>
          <a:prstGeom prst="line">
            <a:avLst/>
          </a:prstGeom>
          <a:ln w="12600">
            <a:solidFill>
              <a:srgbClr val="618ff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689360" y="5481720"/>
            <a:ext cx="639720" cy="0"/>
          </a:xfrm>
          <a:prstGeom prst="line">
            <a:avLst/>
          </a:prstGeom>
          <a:ln w="12600">
            <a:solidFill>
              <a:srgbClr val="618ff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63880" y="5559480"/>
            <a:ext cx="574920" cy="0"/>
          </a:xfrm>
          <a:prstGeom prst="line">
            <a:avLst/>
          </a:prstGeom>
          <a:ln w="12600">
            <a:solidFill>
              <a:srgbClr val="618ff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43120" y="5494320"/>
            <a:ext cx="593640" cy="0"/>
          </a:xfrm>
          <a:prstGeom prst="line">
            <a:avLst/>
          </a:prstGeom>
          <a:ln w="12600">
            <a:solidFill>
              <a:srgbClr val="618ff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726000" y="6367320"/>
            <a:ext cx="482400" cy="0"/>
          </a:xfrm>
          <a:prstGeom prst="line">
            <a:avLst/>
          </a:prstGeom>
          <a:ln w="12600">
            <a:solidFill>
              <a:srgbClr val="618ffd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3530520" y="4705200"/>
            <a:ext cx="1575000" cy="578160"/>
            <a:chOff x="3530520" y="4705200"/>
            <a:chExt cx="1575000" cy="578160"/>
          </a:xfrm>
        </p:grpSpPr>
        <p:sp>
          <p:nvSpPr>
            <p:cNvPr id="391" name=""/>
            <p:cNvSpPr/>
            <p:nvPr/>
          </p:nvSpPr>
          <p:spPr>
            <a:xfrm flipV="1">
              <a:off x="3537000" y="4705200"/>
              <a:ext cx="0" cy="578160"/>
            </a:xfrm>
            <a:prstGeom prst="line">
              <a:avLst/>
            </a:prstGeom>
            <a:ln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30520" y="4708440"/>
              <a:ext cx="1575000" cy="0"/>
            </a:xfrm>
            <a:prstGeom prst="line">
              <a:avLst/>
            </a:prstGeom>
            <a:ln w="12600">
              <a:solidFill>
                <a:srgbClr val="618ff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5575320" y="4861080"/>
            <a:ext cx="534960" cy="430200"/>
          </a:xfrm>
          <a:prstGeom prst="line">
            <a:avLst/>
          </a:prstGeom>
          <a:ln w="12600">
            <a:solidFill>
              <a:srgbClr val="618ff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2322360" y="5202360"/>
            <a:ext cx="587520" cy="573120"/>
          </a:xfrm>
          <a:prstGeom prst="rect">
            <a:avLst/>
          </a:prstGeom>
          <a:solidFill>
            <a:srgbClr val="063de8"/>
          </a:solidFill>
          <a:ln w="12600">
            <a:solidFill>
              <a:srgbClr val="c1ce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800" spc="-1" strike="noStrike">
                <a:solidFill>
                  <a:srgbClr val="618ffd"/>
                </a:solidFill>
                <a:latin typeface="Arial"/>
                <a:ea typeface="Arial"/>
              </a:rPr>
              <a:t>Fulf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800" spc="-1" strike="noStrike">
                <a:solidFill>
                  <a:srgbClr val="618ffd"/>
                </a:solidFill>
                <a:latin typeface="Arial"/>
                <a:ea typeface="Arial"/>
              </a:rPr>
              <a:t>Inf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800" spc="-1" strike="noStrike">
                <a:solidFill>
                  <a:srgbClr val="618ffd"/>
                </a:solidFill>
                <a:latin typeface="Arial"/>
                <a:ea typeface="Arial"/>
              </a:rPr>
              <a:t>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187880" y="5240160"/>
            <a:ext cx="506520" cy="495360"/>
          </a:xfrm>
          <a:prstGeom prst="rect">
            <a:avLst/>
          </a:prstGeom>
          <a:solidFill>
            <a:srgbClr val="063de8"/>
          </a:solidFill>
          <a:ln w="12600">
            <a:solidFill>
              <a:srgbClr val="c1ce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618ffd"/>
                </a:solidFill>
                <a:latin typeface="Arial"/>
                <a:ea typeface="Arial"/>
              </a:rPr>
              <a:t>Fulf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618ffd"/>
                </a:solidFill>
                <a:latin typeface="Arial"/>
                <a:ea typeface="Arial"/>
              </a:rPr>
              <a:t>Or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010200" y="5246640"/>
            <a:ext cx="495360" cy="484200"/>
          </a:xfrm>
          <a:prstGeom prst="rect">
            <a:avLst/>
          </a:prstGeom>
          <a:solidFill>
            <a:srgbClr val="063de8"/>
          </a:solidFill>
          <a:ln w="12600">
            <a:solidFill>
              <a:srgbClr val="c1ce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618ffd"/>
                </a:solidFill>
                <a:latin typeface="Arial"/>
                <a:ea typeface="Arial"/>
              </a:rPr>
              <a:t>Che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618ffd"/>
                </a:solidFill>
                <a:latin typeface="Arial"/>
                <a:ea typeface="Arial"/>
              </a:rPr>
              <a:t>Cred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105520" y="4462560"/>
            <a:ext cx="512640" cy="500040"/>
          </a:xfrm>
          <a:prstGeom prst="rect">
            <a:avLst/>
          </a:prstGeom>
          <a:solidFill>
            <a:srgbClr val="063de8"/>
          </a:solidFill>
          <a:ln w="12600">
            <a:solidFill>
              <a:srgbClr val="c1ce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618ffd"/>
                </a:solidFill>
                <a:latin typeface="Arial"/>
                <a:ea typeface="Arial"/>
              </a:rPr>
              <a:t>Tak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618ffd"/>
                </a:solidFill>
                <a:latin typeface="Arial"/>
                <a:ea typeface="Arial"/>
              </a:rPr>
              <a:t>Or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5100480" y="5248440"/>
            <a:ext cx="501480" cy="441360"/>
          </a:xfrm>
          <a:prstGeom prst="rect">
            <a:avLst/>
          </a:prstGeom>
          <a:solidFill>
            <a:srgbClr val="063de8"/>
          </a:solidFill>
          <a:ln w="12600">
            <a:solidFill>
              <a:srgbClr val="c1ce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618ffd"/>
                </a:solidFill>
                <a:latin typeface="Arial"/>
                <a:ea typeface="Arial"/>
              </a:rPr>
              <a:t>Ord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1212840" y="5270400"/>
            <a:ext cx="830160" cy="399960"/>
          </a:xfrm>
          <a:prstGeom prst="rect">
            <a:avLst/>
          </a:prstGeom>
          <a:solidFill>
            <a:srgbClr val="063de8"/>
          </a:solidFill>
          <a:ln w="12600">
            <a:solidFill>
              <a:srgbClr val="c1ce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618ffd"/>
                </a:solidFill>
                <a:latin typeface="Arial"/>
                <a:ea typeface="Arial"/>
              </a:rPr>
              <a:t>Requests f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618ffd"/>
                </a:solidFill>
                <a:latin typeface="Arial"/>
                <a:ea typeface="Arial"/>
              </a:rPr>
              <a:t>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218040" y="5281560"/>
            <a:ext cx="654120" cy="374760"/>
          </a:xfrm>
          <a:prstGeom prst="rect">
            <a:avLst/>
          </a:prstGeom>
          <a:solidFill>
            <a:srgbClr val="063de8"/>
          </a:solidFill>
          <a:ln w="12600">
            <a:solidFill>
              <a:srgbClr val="c1ce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618ffd"/>
                </a:solidFill>
                <a:latin typeface="Arial"/>
                <a:ea typeface="Arial"/>
              </a:rPr>
              <a:t>Custom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5654520"/>
            <a:ext cx="454320" cy="443160"/>
          </a:xfrm>
          <a:prstGeom prst="line">
            <a:avLst/>
          </a:prstGeom>
          <a:ln w="12600">
            <a:solidFill>
              <a:srgbClr val="618ff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540240" y="5659560"/>
            <a:ext cx="722160" cy="474480"/>
          </a:xfrm>
          <a:prstGeom prst="line">
            <a:avLst/>
          </a:prstGeom>
          <a:ln w="12600">
            <a:solidFill>
              <a:srgbClr val="618ffd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95360" y="1392120"/>
            <a:ext cx="77295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th FlowModel, you can create any nod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 link, or box and arrow, style diagram -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just flowcha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Process Dia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Organization Cha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Network Dia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547560" y="1555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ore than just a picture . .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285840" y="880920"/>
            <a:ext cx="8535960" cy="5964120"/>
            <a:chOff x="285840" y="880920"/>
            <a:chExt cx="8535960" cy="5964120"/>
          </a:xfrm>
        </p:grpSpPr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285840" y="880920"/>
              <a:ext cx="8535960" cy="596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 txBox="1"/>
            <p:nvPr/>
          </p:nvSpPr>
          <p:spPr>
            <a:xfrm>
              <a:off x="957240" y="1100160"/>
              <a:ext cx="7664400" cy="1938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3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lowModel allows you to capture </a:t>
              </a:r>
              <a:r>
                <a:rPr b="1" lang="en-US" sz="3800" spc="-1" strike="noStrike" u="sng">
                  <a:solidFill>
                    <a:srgbClr val="ffffff"/>
                  </a:solidFill>
                  <a:uFillTx/>
                  <a:latin typeface="Times New Roman"/>
                  <a:ea typeface="Times New Roman"/>
                </a:rPr>
                <a:t>ANY</a:t>
              </a:r>
              <a:r>
                <a:rPr b="1" lang="en-US" sz="3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data you want behind the symbols in your diagram!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765760" y="3214800"/>
              <a:ext cx="1773720" cy="1887840"/>
            </a:xfrm>
            <a:custGeom>
              <a:avLst/>
              <a:gdLst/>
              <a:ahLst/>
              <a:rect l="0" t="0" r="r" b="b"/>
              <a:pathLst>
                <a:path w="4927" h="5244">
                  <a:moveTo>
                    <a:pt x="1214" y="0"/>
                  </a:moveTo>
                  <a:lnTo>
                    <a:pt x="1798" y="11"/>
                  </a:lnTo>
                  <a:lnTo>
                    <a:pt x="1996" y="31"/>
                  </a:lnTo>
                  <a:lnTo>
                    <a:pt x="2240" y="70"/>
                  </a:lnTo>
                  <a:lnTo>
                    <a:pt x="2426" y="101"/>
                  </a:lnTo>
                  <a:lnTo>
                    <a:pt x="2616" y="148"/>
                  </a:lnTo>
                  <a:lnTo>
                    <a:pt x="2802" y="203"/>
                  </a:lnTo>
                  <a:lnTo>
                    <a:pt x="2967" y="261"/>
                  </a:lnTo>
                  <a:lnTo>
                    <a:pt x="3166" y="336"/>
                  </a:lnTo>
                  <a:lnTo>
                    <a:pt x="3405" y="441"/>
                  </a:lnTo>
                  <a:lnTo>
                    <a:pt x="3591" y="539"/>
                  </a:lnTo>
                  <a:lnTo>
                    <a:pt x="3774" y="648"/>
                  </a:lnTo>
                  <a:lnTo>
                    <a:pt x="3898" y="738"/>
                  </a:lnTo>
                  <a:lnTo>
                    <a:pt x="4043" y="843"/>
                  </a:lnTo>
                  <a:lnTo>
                    <a:pt x="4146" y="925"/>
                  </a:lnTo>
                  <a:lnTo>
                    <a:pt x="4258" y="1043"/>
                  </a:lnTo>
                  <a:lnTo>
                    <a:pt x="4357" y="1148"/>
                  </a:lnTo>
                  <a:lnTo>
                    <a:pt x="4456" y="1265"/>
                  </a:lnTo>
                  <a:lnTo>
                    <a:pt x="4530" y="1359"/>
                  </a:lnTo>
                  <a:lnTo>
                    <a:pt x="4626" y="1492"/>
                  </a:lnTo>
                  <a:lnTo>
                    <a:pt x="4716" y="1640"/>
                  </a:lnTo>
                  <a:lnTo>
                    <a:pt x="4778" y="1785"/>
                  </a:lnTo>
                  <a:lnTo>
                    <a:pt x="4828" y="1910"/>
                  </a:lnTo>
                  <a:lnTo>
                    <a:pt x="4873" y="2055"/>
                  </a:lnTo>
                  <a:lnTo>
                    <a:pt x="4911" y="2207"/>
                  </a:lnTo>
                  <a:lnTo>
                    <a:pt x="4927" y="2406"/>
                  </a:lnTo>
                  <a:lnTo>
                    <a:pt x="4915" y="2574"/>
                  </a:lnTo>
                  <a:lnTo>
                    <a:pt x="4890" y="2716"/>
                  </a:lnTo>
                  <a:lnTo>
                    <a:pt x="4861" y="2860"/>
                  </a:lnTo>
                  <a:lnTo>
                    <a:pt x="4807" y="3017"/>
                  </a:lnTo>
                  <a:lnTo>
                    <a:pt x="4758" y="3153"/>
                  </a:lnTo>
                  <a:lnTo>
                    <a:pt x="4692" y="3275"/>
                  </a:lnTo>
                  <a:lnTo>
                    <a:pt x="4592" y="3431"/>
                  </a:lnTo>
                  <a:lnTo>
                    <a:pt x="4468" y="3603"/>
                  </a:lnTo>
                  <a:lnTo>
                    <a:pt x="4340" y="3743"/>
                  </a:lnTo>
                  <a:lnTo>
                    <a:pt x="4233" y="3861"/>
                  </a:lnTo>
                  <a:lnTo>
                    <a:pt x="4092" y="3978"/>
                  </a:lnTo>
                  <a:lnTo>
                    <a:pt x="3960" y="4072"/>
                  </a:lnTo>
                  <a:lnTo>
                    <a:pt x="3807" y="4177"/>
                  </a:lnTo>
                  <a:lnTo>
                    <a:pt x="3612" y="4306"/>
                  </a:lnTo>
                  <a:lnTo>
                    <a:pt x="3426" y="4400"/>
                  </a:lnTo>
                  <a:lnTo>
                    <a:pt x="3215" y="4505"/>
                  </a:lnTo>
                  <a:lnTo>
                    <a:pt x="2782" y="4658"/>
                  </a:lnTo>
                  <a:lnTo>
                    <a:pt x="2418" y="4751"/>
                  </a:lnTo>
                  <a:lnTo>
                    <a:pt x="2034" y="4822"/>
                  </a:lnTo>
                  <a:lnTo>
                    <a:pt x="1724" y="4857"/>
                  </a:lnTo>
                  <a:lnTo>
                    <a:pt x="1327" y="4880"/>
                  </a:lnTo>
                  <a:lnTo>
                    <a:pt x="1327" y="5244"/>
                  </a:lnTo>
                  <a:lnTo>
                    <a:pt x="0" y="4411"/>
                  </a:lnTo>
                  <a:lnTo>
                    <a:pt x="1343" y="3568"/>
                  </a:lnTo>
                  <a:lnTo>
                    <a:pt x="1339" y="3943"/>
                  </a:lnTo>
                  <a:lnTo>
                    <a:pt x="1736" y="3919"/>
                  </a:lnTo>
                  <a:lnTo>
                    <a:pt x="2034" y="3872"/>
                  </a:lnTo>
                  <a:lnTo>
                    <a:pt x="2343" y="3802"/>
                  </a:lnTo>
                  <a:lnTo>
                    <a:pt x="2782" y="3650"/>
                  </a:lnTo>
                  <a:lnTo>
                    <a:pt x="2984" y="3548"/>
                  </a:lnTo>
                  <a:lnTo>
                    <a:pt x="3178" y="3439"/>
                  </a:lnTo>
                  <a:lnTo>
                    <a:pt x="3339" y="3314"/>
                  </a:lnTo>
                  <a:lnTo>
                    <a:pt x="3501" y="3192"/>
                  </a:lnTo>
                  <a:lnTo>
                    <a:pt x="3629" y="3071"/>
                  </a:lnTo>
                  <a:lnTo>
                    <a:pt x="3737" y="2942"/>
                  </a:lnTo>
                  <a:lnTo>
                    <a:pt x="3857" y="2790"/>
                  </a:lnTo>
                  <a:lnTo>
                    <a:pt x="3960" y="2613"/>
                  </a:lnTo>
                  <a:lnTo>
                    <a:pt x="4035" y="2449"/>
                  </a:lnTo>
                  <a:lnTo>
                    <a:pt x="4072" y="2297"/>
                  </a:lnTo>
                  <a:lnTo>
                    <a:pt x="4109" y="2109"/>
                  </a:lnTo>
                  <a:lnTo>
                    <a:pt x="4113" y="1930"/>
                  </a:lnTo>
                  <a:lnTo>
                    <a:pt x="4105" y="1805"/>
                  </a:lnTo>
                  <a:lnTo>
                    <a:pt x="4084" y="1672"/>
                  </a:lnTo>
                  <a:lnTo>
                    <a:pt x="4035" y="1511"/>
                  </a:lnTo>
                  <a:lnTo>
                    <a:pt x="3973" y="1359"/>
                  </a:lnTo>
                  <a:lnTo>
                    <a:pt x="3898" y="1215"/>
                  </a:lnTo>
                  <a:lnTo>
                    <a:pt x="3799" y="1074"/>
                  </a:lnTo>
                  <a:lnTo>
                    <a:pt x="3620" y="867"/>
                  </a:lnTo>
                  <a:lnTo>
                    <a:pt x="3472" y="730"/>
                  </a:lnTo>
                  <a:lnTo>
                    <a:pt x="3277" y="586"/>
                  </a:lnTo>
                  <a:lnTo>
                    <a:pt x="3079" y="461"/>
                  </a:lnTo>
                  <a:lnTo>
                    <a:pt x="2930" y="378"/>
                  </a:lnTo>
                  <a:lnTo>
                    <a:pt x="2753" y="296"/>
                  </a:lnTo>
                  <a:lnTo>
                    <a:pt x="2583" y="234"/>
                  </a:lnTo>
                  <a:lnTo>
                    <a:pt x="2443" y="187"/>
                  </a:lnTo>
                  <a:lnTo>
                    <a:pt x="2306" y="144"/>
                  </a:lnTo>
                  <a:lnTo>
                    <a:pt x="2133" y="109"/>
                  </a:lnTo>
                  <a:lnTo>
                    <a:pt x="1976" y="85"/>
                  </a:lnTo>
                  <a:lnTo>
                    <a:pt x="1761" y="50"/>
                  </a:lnTo>
                  <a:lnTo>
                    <a:pt x="1214" y="0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 txBox="1"/>
            <p:nvPr/>
          </p:nvSpPr>
          <p:spPr>
            <a:xfrm>
              <a:off x="5978520" y="2803680"/>
              <a:ext cx="900000" cy="884160"/>
            </a:xfrm>
            <a:prstGeom prst="rect">
              <a:avLst/>
            </a:prstGeom>
            <a:solidFill>
              <a:srgbClr val="00f4dd"/>
            </a:solidFill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im Conner</cp:lastModifiedBy>
  <cp:revision>0</cp:revision>
  <dc:subject/>
  <dc:title/>
</cp:coreProperties>
</file>