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68454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28600" y="457200"/>
            <a:ext cx="7300800" cy="771480"/>
          </a:xfrm>
          <a:prstGeom prst="rect">
            <a:avLst/>
          </a:prstGeom>
          <a:solidFill>
            <a:srgbClr val="090b2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353360" y="333360"/>
            <a:ext cx="86040" cy="810000"/>
          </a:xfrm>
          <a:custGeom>
            <a:avLst/>
            <a:gdLst/>
            <a:ahLst/>
            <a:rect l="0" t="0" r="r" b="b"/>
            <a:pathLst>
              <a:path w="239" h="2250">
                <a:moveTo>
                  <a:pt x="0" y="52"/>
                </a:moveTo>
                <a:lnTo>
                  <a:pt x="0" y="2224"/>
                </a:lnTo>
                <a:lnTo>
                  <a:pt x="239" y="2250"/>
                </a:lnTo>
                <a:lnTo>
                  <a:pt x="239" y="0"/>
                </a:lnTo>
                <a:lnTo>
                  <a:pt x="0" y="52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5680" y="333360"/>
            <a:ext cx="86040" cy="810000"/>
          </a:xfrm>
          <a:custGeom>
            <a:avLst/>
            <a:gdLst/>
            <a:ahLst/>
            <a:rect l="0" t="0" r="r" b="b"/>
            <a:pathLst>
              <a:path w="239" h="2250">
                <a:moveTo>
                  <a:pt x="239" y="52"/>
                </a:moveTo>
                <a:lnTo>
                  <a:pt x="239" y="2224"/>
                </a:lnTo>
                <a:lnTo>
                  <a:pt x="0" y="2250"/>
                </a:lnTo>
                <a:lnTo>
                  <a:pt x="0" y="0"/>
                </a:lnTo>
                <a:lnTo>
                  <a:pt x="239" y="52"/>
                </a:lnTo>
                <a:close/>
              </a:path>
            </a:pathLst>
          </a:custGeom>
          <a:solidFill>
            <a:srgbClr val="b64b4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8920" y="330120"/>
            <a:ext cx="7353720" cy="51120"/>
          </a:xfrm>
          <a:custGeom>
            <a:avLst/>
            <a:gdLst/>
            <a:ahLst/>
            <a:rect l="0" t="0" r="r" b="b"/>
            <a:pathLst>
              <a:path w="20427" h="142">
                <a:moveTo>
                  <a:pt x="176" y="106"/>
                </a:moveTo>
                <a:lnTo>
                  <a:pt x="20145" y="142"/>
                </a:lnTo>
                <a:lnTo>
                  <a:pt x="20427" y="0"/>
                </a:lnTo>
                <a:lnTo>
                  <a:pt x="0" y="0"/>
                </a:lnTo>
                <a:lnTo>
                  <a:pt x="176" y="106"/>
                </a:lnTo>
                <a:close/>
              </a:path>
            </a:pathLst>
          </a:custGeom>
          <a:solidFill>
            <a:srgbClr val="b64b4b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8920" y="1082520"/>
            <a:ext cx="7353720" cy="63720"/>
          </a:xfrm>
          <a:custGeom>
            <a:avLst/>
            <a:gdLst/>
            <a:ahLst/>
            <a:rect l="0" t="0" r="r" b="b"/>
            <a:pathLst>
              <a:path w="20427" h="177">
                <a:moveTo>
                  <a:pt x="211" y="0"/>
                </a:moveTo>
                <a:lnTo>
                  <a:pt x="20145" y="35"/>
                </a:lnTo>
                <a:lnTo>
                  <a:pt x="20427" y="177"/>
                </a:lnTo>
                <a:lnTo>
                  <a:pt x="0" y="177"/>
                </a:lnTo>
                <a:lnTo>
                  <a:pt x="211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7201080" cy="704880"/>
          </a:xfrm>
          <a:prstGeom prst="rect">
            <a:avLst/>
          </a:prstGeom>
          <a:solidFill>
            <a:srgbClr val="9d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9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8.wmf"/><Relationship Id="rId25" Type="http://schemas.openxmlformats.org/officeDocument/2006/relationships/image" Target="../media/image8.wmf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324000"/>
            <a:ext cx="58672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EXTRA! Personal Cli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920" y="1523880"/>
            <a:ext cx="27846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ward-winning 16bit and next generation 32bit products all on one CD-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grate to Windows NT or Windows 95 at your own 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ploits advanced OLE 2.0 Windows 95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grates with Microsoft Office 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16320" y="4726080"/>
            <a:ext cx="4470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, Windows 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43400" y="1668600"/>
            <a:ext cx="4343400" cy="3055680"/>
            <a:chOff x="4343400" y="1668600"/>
            <a:chExt cx="4343400" cy="3055680"/>
          </a:xfrm>
        </p:grpSpPr>
        <p:grpSp>
          <p:nvGrpSpPr>
            <p:cNvPr id="49" name=""/>
            <p:cNvGrpSpPr/>
            <p:nvPr/>
          </p:nvGrpSpPr>
          <p:grpSpPr>
            <a:xfrm>
              <a:off x="4343400" y="3733920"/>
              <a:ext cx="4343400" cy="990360"/>
              <a:chOff x="4343400" y="3733920"/>
              <a:chExt cx="4343400" cy="990360"/>
            </a:xfrm>
          </p:grpSpPr>
          <p:sp>
            <p:nvSpPr>
              <p:cNvPr id="50" name=""/>
              <p:cNvSpPr/>
              <p:nvPr/>
            </p:nvSpPr>
            <p:spPr>
              <a:xfrm>
                <a:off x="4433760" y="3747960"/>
                <a:ext cx="4253040" cy="9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343400" y="3733920"/>
                <a:ext cx="4253040" cy="97488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843520" y="4078440"/>
                <a:ext cx="1238400" cy="281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43600" y="4106880"/>
                <a:ext cx="1028880" cy="227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532560" y="4370400"/>
                <a:ext cx="483120" cy="325800"/>
              </a:xfrm>
              <a:custGeom>
                <a:avLst/>
                <a:gdLst/>
                <a:ahLst/>
                <a:rect l="0" t="0" r="r" b="b"/>
                <a:pathLst>
                  <a:path w="1342" h="905">
                    <a:moveTo>
                      <a:pt x="0" y="18"/>
                    </a:moveTo>
                    <a:lnTo>
                      <a:pt x="599" y="905"/>
                    </a:lnTo>
                    <a:lnTo>
                      <a:pt x="1056" y="883"/>
                    </a:lnTo>
                    <a:lnTo>
                      <a:pt x="1342" y="864"/>
                    </a:lnTo>
                    <a:lnTo>
                      <a:pt x="3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57840" y="4352760"/>
                <a:ext cx="740160" cy="327240"/>
              </a:xfrm>
              <a:custGeom>
                <a:avLst/>
                <a:gdLst/>
                <a:ahLst/>
                <a:rect l="0" t="0" r="r" b="b"/>
                <a:pathLst>
                  <a:path w="2056" h="909">
                    <a:moveTo>
                      <a:pt x="0" y="54"/>
                    </a:moveTo>
                    <a:lnTo>
                      <a:pt x="309" y="27"/>
                    </a:lnTo>
                    <a:lnTo>
                      <a:pt x="472" y="0"/>
                    </a:lnTo>
                    <a:lnTo>
                      <a:pt x="2056" y="823"/>
                    </a:lnTo>
                    <a:lnTo>
                      <a:pt x="1501" y="873"/>
                    </a:lnTo>
                    <a:lnTo>
                      <a:pt x="1037" y="909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826320" y="4334040"/>
                <a:ext cx="832320" cy="309960"/>
              </a:xfrm>
              <a:custGeom>
                <a:avLst/>
                <a:gdLst/>
                <a:ahLst/>
                <a:rect l="0" t="0" r="r" b="b"/>
                <a:pathLst>
                  <a:path w="2312" h="861">
                    <a:moveTo>
                      <a:pt x="256" y="0"/>
                    </a:moveTo>
                    <a:lnTo>
                      <a:pt x="2312" y="770"/>
                    </a:lnTo>
                    <a:lnTo>
                      <a:pt x="2138" y="793"/>
                    </a:lnTo>
                    <a:lnTo>
                      <a:pt x="1596" y="861"/>
                    </a:lnTo>
                    <a:lnTo>
                      <a:pt x="0" y="4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900760" y="3747960"/>
                <a:ext cx="484560" cy="324360"/>
              </a:xfrm>
              <a:custGeom>
                <a:avLst/>
                <a:gdLst/>
                <a:ahLst/>
                <a:rect l="0" t="0" r="r" b="b"/>
                <a:pathLst>
                  <a:path w="1346" h="901">
                    <a:moveTo>
                      <a:pt x="1346" y="887"/>
                    </a:moveTo>
                    <a:lnTo>
                      <a:pt x="749" y="0"/>
                    </a:lnTo>
                    <a:lnTo>
                      <a:pt x="285" y="22"/>
                    </a:lnTo>
                    <a:lnTo>
                      <a:pt x="0" y="41"/>
                    </a:lnTo>
                    <a:lnTo>
                      <a:pt x="1026" y="901"/>
                    </a:lnTo>
                    <a:lnTo>
                      <a:pt x="1346" y="88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527800" y="3759120"/>
                <a:ext cx="738720" cy="330480"/>
              </a:xfrm>
              <a:custGeom>
                <a:avLst/>
                <a:gdLst/>
                <a:ahLst/>
                <a:rect l="0" t="0" r="r" b="b"/>
                <a:pathLst>
                  <a:path w="2052" h="918">
                    <a:moveTo>
                      <a:pt x="2052" y="859"/>
                    </a:moveTo>
                    <a:lnTo>
                      <a:pt x="1741" y="890"/>
                    </a:lnTo>
                    <a:lnTo>
                      <a:pt x="1576" y="918"/>
                    </a:lnTo>
                    <a:lnTo>
                      <a:pt x="0" y="86"/>
                    </a:lnTo>
                    <a:lnTo>
                      <a:pt x="550" y="40"/>
                    </a:lnTo>
                    <a:lnTo>
                      <a:pt x="998" y="0"/>
                    </a:lnTo>
                    <a:lnTo>
                      <a:pt x="2052" y="859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270400" y="3789360"/>
                <a:ext cx="813240" cy="309960"/>
              </a:xfrm>
              <a:custGeom>
                <a:avLst/>
                <a:gdLst/>
                <a:ahLst/>
                <a:rect l="0" t="0" r="r" b="b"/>
                <a:pathLst>
                  <a:path w="2259" h="861">
                    <a:moveTo>
                      <a:pt x="1998" y="861"/>
                    </a:moveTo>
                    <a:lnTo>
                      <a:pt x="0" y="108"/>
                    </a:lnTo>
                    <a:lnTo>
                      <a:pt x="170" y="72"/>
                    </a:lnTo>
                    <a:lnTo>
                      <a:pt x="702" y="0"/>
                    </a:lnTo>
                    <a:lnTo>
                      <a:pt x="2259" y="825"/>
                    </a:lnTo>
                    <a:lnTo>
                      <a:pt x="1998" y="861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008760" y="4127400"/>
                <a:ext cx="900000" cy="18720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4533840" y="1668600"/>
              <a:ext cx="3665520" cy="2612880"/>
              <a:chOff x="4533840" y="1668600"/>
              <a:chExt cx="3665520" cy="26128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4533840" y="1668600"/>
                <a:ext cx="1708200" cy="2612880"/>
                <a:chOff x="4533840" y="1668600"/>
                <a:chExt cx="1708200" cy="2612880"/>
              </a:xfrm>
            </p:grpSpPr>
            <p:sp>
              <p:nvSpPr>
                <p:cNvPr id="63" name=""/>
                <p:cNvSpPr txBox="1"/>
                <p:nvPr/>
              </p:nvSpPr>
              <p:spPr>
                <a:xfrm>
                  <a:off x="4616280" y="1751040"/>
                  <a:ext cx="1625760" cy="25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5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</a:t>
                  </a:r>
                  <a:endParaRPr b="0" lang="en-US" sz="15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4533840" y="1668600"/>
                  <a:ext cx="1625760" cy="25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5600" spc="-1" strike="noStrike">
                      <a:solidFill>
                        <a:srgbClr val="dadada"/>
                      </a:solidFill>
                      <a:latin typeface="Times New Roman"/>
                      <a:ea typeface="Times New Roman"/>
                    </a:rPr>
                    <a:t>E</a:t>
                  </a:r>
                  <a:endParaRPr b="0" lang="en-US" sz="15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5776920" y="2011320"/>
                <a:ext cx="2422440" cy="1808280"/>
                <a:chOff x="5776920" y="2011320"/>
                <a:chExt cx="2422440" cy="1808280"/>
              </a:xfrm>
            </p:grpSpPr>
            <p:grpSp>
              <p:nvGrpSpPr>
                <p:cNvPr id="66" name=""/>
                <p:cNvGrpSpPr/>
                <p:nvPr/>
              </p:nvGrpSpPr>
              <p:grpSpPr>
                <a:xfrm>
                  <a:off x="6303960" y="3052800"/>
                  <a:ext cx="1895400" cy="766800"/>
                  <a:chOff x="6303960" y="3052800"/>
                  <a:chExt cx="1895400" cy="766800"/>
                </a:xfrm>
              </p:grpSpPr>
              <p:sp>
                <p:nvSpPr>
                  <p:cNvPr id="67" name=""/>
                  <p:cNvSpPr txBox="1"/>
                  <p:nvPr/>
                </p:nvSpPr>
                <p:spPr>
                  <a:xfrm>
                    <a:off x="6313320" y="3103560"/>
                    <a:ext cx="1636560" cy="71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37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lient </a:t>
                    </a:r>
                    <a:endParaRPr b="0" lang="en-US" sz="37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 txBox="1"/>
                  <p:nvPr/>
                </p:nvSpPr>
                <p:spPr>
                  <a:xfrm>
                    <a:off x="6303960" y="3052800"/>
                    <a:ext cx="1895400" cy="716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en-US" sz="3700" spc="-1" strike="noStrike">
                        <a:solidFill>
                          <a:srgbClr val="dadada"/>
                        </a:solidFill>
                        <a:latin typeface="Arial"/>
                        <a:ea typeface="Arial"/>
                      </a:rPr>
                      <a:t>Client </a:t>
                    </a:r>
                    <a:endParaRPr b="0" lang="en-US" sz="37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5776920" y="2011320"/>
                  <a:ext cx="2341800" cy="939960"/>
                  <a:chOff x="5776920" y="2011320"/>
                  <a:chExt cx="2341800" cy="939960"/>
                </a:xfrm>
              </p:grpSpPr>
              <p:sp>
                <p:nvSpPr>
                  <p:cNvPr id="70" name=""/>
                  <p:cNvSpPr txBox="1"/>
                  <p:nvPr/>
                </p:nvSpPr>
                <p:spPr>
                  <a:xfrm>
                    <a:off x="5802480" y="2036880"/>
                    <a:ext cx="231624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5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XTRA!</a:t>
                    </a:r>
                    <a:endParaRPr b="0" lang="en-US" sz="5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 txBox="1"/>
                  <p:nvPr/>
                </p:nvSpPr>
                <p:spPr>
                  <a:xfrm>
                    <a:off x="5776920" y="2011320"/>
                    <a:ext cx="2316240" cy="9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5000" spc="-1" strike="noStrike">
                        <a:solidFill>
                          <a:srgbClr val="dadada"/>
                        </a:solidFill>
                        <a:latin typeface="Times New Roman"/>
                        <a:ea typeface="Times New Roman"/>
                      </a:rPr>
                      <a:t>XTRA!</a:t>
                    </a:r>
                    <a:endParaRPr b="0" lang="en-US" sz="5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"/>
                <p:cNvSpPr txBox="1"/>
                <p:nvPr/>
              </p:nvSpPr>
              <p:spPr>
                <a:xfrm>
                  <a:off x="5981760" y="2593800"/>
                  <a:ext cx="215892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7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rsonal</a:t>
                  </a:r>
                  <a:endParaRPr b="0" lang="en-US" sz="37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5961240" y="2576520"/>
                  <a:ext cx="2158920" cy="71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700" spc="-1" strike="noStrike">
                      <a:solidFill>
                        <a:srgbClr val="dadada"/>
                      </a:solidFill>
                      <a:latin typeface="Arial"/>
                      <a:ea typeface="Arial"/>
                    </a:rPr>
                    <a:t>Personal</a:t>
                  </a:r>
                  <a:endParaRPr b="0" lang="en-US" sz="37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324000"/>
            <a:ext cx="586728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Global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6320" y="16002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 indent="-2858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Simplifies everything for users by supporting a combination of Host computers using a vast array of connectivities via Windows, Windows NT, and Windows 95 on one easy-to-use 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2280" y="2590920"/>
            <a:ext cx="8717040" cy="4146480"/>
            <a:chOff x="152280" y="2590920"/>
            <a:chExt cx="8717040" cy="4146480"/>
          </a:xfrm>
        </p:grpSpPr>
        <p:grpSp>
          <p:nvGrpSpPr>
            <p:cNvPr id="77" name=""/>
            <p:cNvGrpSpPr/>
            <p:nvPr/>
          </p:nvGrpSpPr>
          <p:grpSpPr>
            <a:xfrm>
              <a:off x="6964200" y="4267080"/>
              <a:ext cx="1905120" cy="1133640"/>
              <a:chOff x="6964200" y="4267080"/>
              <a:chExt cx="1905120" cy="1133640"/>
            </a:xfrm>
          </p:grpSpPr>
          <p:sp>
            <p:nvSpPr>
              <p:cNvPr id="78" name=""/>
              <p:cNvSpPr/>
              <p:nvPr/>
            </p:nvSpPr>
            <p:spPr>
              <a:xfrm>
                <a:off x="6964200" y="4832280"/>
                <a:ext cx="1198800" cy="344880"/>
              </a:xfrm>
              <a:custGeom>
                <a:avLst/>
                <a:gdLst/>
                <a:ahLst/>
                <a:rect l="0" t="0" r="r" b="b"/>
                <a:pathLst>
                  <a:path w="3330" h="958">
                    <a:moveTo>
                      <a:pt x="1916" y="0"/>
                    </a:moveTo>
                    <a:lnTo>
                      <a:pt x="0" y="202"/>
                    </a:lnTo>
                    <a:lnTo>
                      <a:pt x="1388" y="958"/>
                    </a:lnTo>
                    <a:lnTo>
                      <a:pt x="3330" y="513"/>
                    </a:lnTo>
                    <a:lnTo>
                      <a:pt x="19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7378560" y="4267080"/>
                <a:ext cx="441360" cy="800280"/>
                <a:chOff x="7378560" y="4267080"/>
                <a:chExt cx="441360" cy="800280"/>
              </a:xfrm>
            </p:grpSpPr>
            <p:pic>
              <p:nvPicPr>
                <p:cNvPr id="8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78560" y="4267080"/>
                  <a:ext cx="441360" cy="795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>
                  <a:off x="7666200" y="4284720"/>
                  <a:ext cx="0" cy="782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 txBox="1"/>
              <p:nvPr/>
            </p:nvSpPr>
            <p:spPr>
              <a:xfrm>
                <a:off x="7624800" y="5064120"/>
                <a:ext cx="124452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AX / Uni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786720" y="2895480"/>
              <a:ext cx="1947600" cy="1125720"/>
              <a:chOff x="6786720" y="2895480"/>
              <a:chExt cx="1947600" cy="1125720"/>
            </a:xfrm>
          </p:grpSpPr>
          <p:sp>
            <p:nvSpPr>
              <p:cNvPr id="84" name=""/>
              <p:cNvSpPr/>
              <p:nvPr/>
            </p:nvSpPr>
            <p:spPr>
              <a:xfrm>
                <a:off x="6786720" y="3448080"/>
                <a:ext cx="1653120" cy="427320"/>
              </a:xfrm>
              <a:custGeom>
                <a:avLst/>
                <a:gdLst/>
                <a:ahLst/>
                <a:rect l="0" t="0" r="r" b="b"/>
                <a:pathLst>
                  <a:path w="4592" h="1187">
                    <a:moveTo>
                      <a:pt x="2641" y="0"/>
                    </a:moveTo>
                    <a:lnTo>
                      <a:pt x="0" y="250"/>
                    </a:lnTo>
                    <a:lnTo>
                      <a:pt x="1915" y="1187"/>
                    </a:lnTo>
                    <a:lnTo>
                      <a:pt x="4592" y="635"/>
                    </a:lnTo>
                    <a:lnTo>
                      <a:pt x="26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7294680" y="2895480"/>
                <a:ext cx="749160" cy="762120"/>
                <a:chOff x="7294680" y="2895480"/>
                <a:chExt cx="749160" cy="762120"/>
              </a:xfrm>
            </p:grpSpPr>
            <p:pic>
              <p:nvPicPr>
                <p:cNvPr id="8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294680" y="2895480"/>
                  <a:ext cx="74916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362720" y="2963880"/>
                  <a:ext cx="162000" cy="149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8" name=""/>
              <p:cNvSpPr txBox="1"/>
              <p:nvPr/>
            </p:nvSpPr>
            <p:spPr>
              <a:xfrm>
                <a:off x="7629480" y="3684600"/>
                <a:ext cx="11048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AS/40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52280" y="5029200"/>
              <a:ext cx="2980080" cy="1708200"/>
              <a:chOff x="152280" y="5029200"/>
              <a:chExt cx="2980080" cy="1708200"/>
            </a:xfrm>
          </p:grpSpPr>
          <p:sp>
            <p:nvSpPr>
              <p:cNvPr id="90" name=""/>
              <p:cNvSpPr/>
              <p:nvPr/>
            </p:nvSpPr>
            <p:spPr>
              <a:xfrm>
                <a:off x="152280" y="5942160"/>
                <a:ext cx="2980080" cy="792360"/>
              </a:xfrm>
              <a:custGeom>
                <a:avLst/>
                <a:gdLst/>
                <a:ahLst/>
                <a:rect l="0" t="0" r="r" b="b"/>
                <a:pathLst>
                  <a:path w="8278" h="2201">
                    <a:moveTo>
                      <a:pt x="4762" y="0"/>
                    </a:moveTo>
                    <a:lnTo>
                      <a:pt x="0" y="464"/>
                    </a:lnTo>
                    <a:lnTo>
                      <a:pt x="3451" y="2201"/>
                    </a:lnTo>
                    <a:lnTo>
                      <a:pt x="8278" y="1178"/>
                    </a:lnTo>
                    <a:lnTo>
                      <a:pt x="476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831960" y="5029200"/>
                <a:ext cx="1676520" cy="1282680"/>
                <a:chOff x="831960" y="5029200"/>
                <a:chExt cx="1676520" cy="1282680"/>
              </a:xfrm>
            </p:grpSpPr>
            <p:pic>
              <p:nvPicPr>
                <p:cNvPr id="9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1960" y="5029200"/>
                  <a:ext cx="1676520" cy="1282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>
                  <a:off x="1379520" y="5048280"/>
                  <a:ext cx="0" cy="12542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670040" y="5052960"/>
                  <a:ext cx="0" cy="12556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222640" y="5057640"/>
                  <a:ext cx="0" cy="12369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 txBox="1"/>
              <p:nvPr/>
            </p:nvSpPr>
            <p:spPr>
              <a:xfrm>
                <a:off x="1306440" y="6400800"/>
                <a:ext cx="1665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BM Mainfram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629400" y="5562720"/>
              <a:ext cx="2209680" cy="946080"/>
              <a:chOff x="6629400" y="5562720"/>
              <a:chExt cx="2209680" cy="946080"/>
            </a:xfrm>
          </p:grpSpPr>
          <p:sp>
            <p:nvSpPr>
              <p:cNvPr id="98" name=""/>
              <p:cNvSpPr/>
              <p:nvPr/>
            </p:nvSpPr>
            <p:spPr>
              <a:xfrm>
                <a:off x="6629400" y="5986440"/>
                <a:ext cx="1727640" cy="476640"/>
              </a:xfrm>
              <a:custGeom>
                <a:avLst/>
                <a:gdLst/>
                <a:ahLst/>
                <a:rect l="0" t="0" r="r" b="b"/>
                <a:pathLst>
                  <a:path w="4799" h="1324">
                    <a:moveTo>
                      <a:pt x="2761" y="0"/>
                    </a:moveTo>
                    <a:lnTo>
                      <a:pt x="0" y="279"/>
                    </a:lnTo>
                    <a:lnTo>
                      <a:pt x="2001" y="1324"/>
                    </a:lnTo>
                    <a:lnTo>
                      <a:pt x="4799" y="709"/>
                    </a:lnTo>
                    <a:lnTo>
                      <a:pt x="276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7192800" y="6172200"/>
                <a:ext cx="16462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ewlett Packar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08720" y="5562720"/>
                <a:ext cx="3268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1143000" y="2590920"/>
              <a:ext cx="3210120" cy="1295640"/>
              <a:chOff x="1143000" y="2590920"/>
              <a:chExt cx="3210120" cy="1295640"/>
            </a:xfrm>
          </p:grpSpPr>
          <p:sp>
            <p:nvSpPr>
              <p:cNvPr id="102" name=""/>
              <p:cNvSpPr/>
              <p:nvPr/>
            </p:nvSpPr>
            <p:spPr>
              <a:xfrm>
                <a:off x="1143000" y="3352680"/>
                <a:ext cx="1752840" cy="533880"/>
              </a:xfrm>
              <a:custGeom>
                <a:avLst/>
                <a:gdLst/>
                <a:ahLst/>
                <a:rect l="0" t="0" r="r" b="b"/>
                <a:pathLst>
                  <a:path w="4869" h="1483">
                    <a:moveTo>
                      <a:pt x="2801" y="0"/>
                    </a:moveTo>
                    <a:lnTo>
                      <a:pt x="0" y="313"/>
                    </a:lnTo>
                    <a:lnTo>
                      <a:pt x="2030" y="1483"/>
                    </a:lnTo>
                    <a:lnTo>
                      <a:pt x="4869" y="794"/>
                    </a:lnTo>
                    <a:lnTo>
                      <a:pt x="280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2505240" y="2730600"/>
                <a:ext cx="1847880" cy="1069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rnet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Bulletin Board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ublic Data Bas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192320" y="2590920"/>
                <a:ext cx="1169640" cy="920520"/>
                <a:chOff x="1192320" y="2590920"/>
                <a:chExt cx="1169640" cy="920520"/>
              </a:xfrm>
            </p:grpSpPr>
            <p:pic>
              <p:nvPicPr>
                <p:cNvPr id="10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92320" y="2590920"/>
                  <a:ext cx="1106640" cy="75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7240" y="2719440"/>
                  <a:ext cx="504720" cy="792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" name=""/>
            <p:cNvSpPr/>
            <p:nvPr/>
          </p:nvSpPr>
          <p:spPr>
            <a:xfrm flipV="1">
              <a:off x="5943600" y="3505320"/>
              <a:ext cx="1219320" cy="68580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5257800"/>
              <a:ext cx="1219320" cy="76212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9920" y="4648320"/>
              <a:ext cx="990360" cy="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2895480" y="3581280"/>
              <a:ext cx="990720" cy="45720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590920" y="5257800"/>
              <a:ext cx="1371600" cy="76212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952880" y="4572000"/>
              <a:ext cx="1143000" cy="460440"/>
              <a:chOff x="4952880" y="4572000"/>
              <a:chExt cx="1143000" cy="460440"/>
            </a:xfrm>
          </p:grpSpPr>
          <p:sp>
            <p:nvSpPr>
              <p:cNvPr id="113" name=""/>
              <p:cNvSpPr txBox="1"/>
              <p:nvPr/>
            </p:nvSpPr>
            <p:spPr>
              <a:xfrm>
                <a:off x="4959360" y="4605480"/>
                <a:ext cx="97632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lient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4952880" y="4572000"/>
                <a:ext cx="1143000" cy="42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200" spc="-1" strike="noStrike">
                    <a:solidFill>
                      <a:srgbClr val="dadada"/>
                    </a:solidFill>
                    <a:latin typeface="Arial"/>
                    <a:ea typeface="Arial"/>
                  </a:rPr>
                  <a:t>Client 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962520" y="4869000"/>
              <a:ext cx="2090520" cy="464760"/>
              <a:chOff x="3962520" y="4869000"/>
              <a:chExt cx="2090520" cy="464760"/>
            </a:xfrm>
          </p:grpSpPr>
          <p:sp>
            <p:nvSpPr>
              <p:cNvPr id="116" name=""/>
              <p:cNvSpPr/>
              <p:nvPr/>
            </p:nvSpPr>
            <p:spPr>
              <a:xfrm>
                <a:off x="4006800" y="4875120"/>
                <a:ext cx="2046240" cy="458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62520" y="4869000"/>
                <a:ext cx="2046240" cy="458640"/>
              </a:xfrm>
              <a:prstGeom prst="ellipse">
                <a:avLst/>
              </a:prstGeom>
              <a:solidFill>
                <a:srgbClr val="e0e0e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83240" y="5030640"/>
                <a:ext cx="598320" cy="133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32200" y="5043600"/>
                <a:ext cx="495360" cy="10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16600" y="5168880"/>
                <a:ext cx="232200" cy="152640"/>
              </a:xfrm>
              <a:custGeom>
                <a:avLst/>
                <a:gdLst/>
                <a:ahLst/>
                <a:rect l="0" t="0" r="r" b="b"/>
                <a:pathLst>
                  <a:path w="645" h="424">
                    <a:moveTo>
                      <a:pt x="0" y="8"/>
                    </a:moveTo>
                    <a:lnTo>
                      <a:pt x="288" y="424"/>
                    </a:lnTo>
                    <a:lnTo>
                      <a:pt x="508" y="413"/>
                    </a:lnTo>
                    <a:lnTo>
                      <a:pt x="645" y="404"/>
                    </a:lnTo>
                    <a:lnTo>
                      <a:pt x="15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75280" y="5160960"/>
                <a:ext cx="357480" cy="152640"/>
              </a:xfrm>
              <a:custGeom>
                <a:avLst/>
                <a:gdLst/>
                <a:ahLst/>
                <a:rect l="0" t="0" r="r" b="b"/>
                <a:pathLst>
                  <a:path w="993" h="424">
                    <a:moveTo>
                      <a:pt x="0" y="25"/>
                    </a:moveTo>
                    <a:lnTo>
                      <a:pt x="149" y="12"/>
                    </a:lnTo>
                    <a:lnTo>
                      <a:pt x="228" y="0"/>
                    </a:lnTo>
                    <a:lnTo>
                      <a:pt x="993" y="384"/>
                    </a:lnTo>
                    <a:lnTo>
                      <a:pt x="725" y="407"/>
                    </a:lnTo>
                    <a:lnTo>
                      <a:pt x="501" y="42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4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57720" y="5151600"/>
                <a:ext cx="400320" cy="146520"/>
              </a:xfrm>
              <a:custGeom>
                <a:avLst/>
                <a:gdLst/>
                <a:ahLst/>
                <a:rect l="0" t="0" r="r" b="b"/>
                <a:pathLst>
                  <a:path w="1112" h="407">
                    <a:moveTo>
                      <a:pt x="123" y="0"/>
                    </a:moveTo>
                    <a:lnTo>
                      <a:pt x="1112" y="364"/>
                    </a:lnTo>
                    <a:lnTo>
                      <a:pt x="1028" y="375"/>
                    </a:lnTo>
                    <a:lnTo>
                      <a:pt x="768" y="407"/>
                    </a:lnTo>
                    <a:lnTo>
                      <a:pt x="0" y="19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80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11680" y="4875120"/>
                <a:ext cx="233640" cy="152640"/>
              </a:xfrm>
              <a:custGeom>
                <a:avLst/>
                <a:gdLst/>
                <a:ahLst/>
                <a:rect l="0" t="0" r="r" b="b"/>
                <a:pathLst>
                  <a:path w="649" h="424">
                    <a:moveTo>
                      <a:pt x="649" y="417"/>
                    </a:moveTo>
                    <a:lnTo>
                      <a:pt x="361" y="0"/>
                    </a:lnTo>
                    <a:lnTo>
                      <a:pt x="137" y="10"/>
                    </a:lnTo>
                    <a:lnTo>
                      <a:pt x="0" y="19"/>
                    </a:lnTo>
                    <a:lnTo>
                      <a:pt x="494" y="424"/>
                    </a:lnTo>
                    <a:lnTo>
                      <a:pt x="649" y="417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32400" y="4879800"/>
                <a:ext cx="356040" cy="157680"/>
              </a:xfrm>
              <a:custGeom>
                <a:avLst/>
                <a:gdLst/>
                <a:ahLst/>
                <a:rect l="0" t="0" r="r" b="b"/>
                <a:pathLst>
                  <a:path w="989" h="438">
                    <a:moveTo>
                      <a:pt x="989" y="410"/>
                    </a:moveTo>
                    <a:lnTo>
                      <a:pt x="839" y="425"/>
                    </a:lnTo>
                    <a:lnTo>
                      <a:pt x="760" y="438"/>
                    </a:lnTo>
                    <a:lnTo>
                      <a:pt x="0" y="41"/>
                    </a:lnTo>
                    <a:lnTo>
                      <a:pt x="265" y="19"/>
                    </a:lnTo>
                    <a:lnTo>
                      <a:pt x="481" y="0"/>
                    </a:lnTo>
                    <a:lnTo>
                      <a:pt x="989" y="410"/>
                    </a:lnTo>
                    <a:close/>
                  </a:path>
                </a:pathLst>
              </a:custGeom>
              <a:solidFill>
                <a:srgbClr val="ff4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408560" y="4896000"/>
                <a:ext cx="392400" cy="144720"/>
              </a:xfrm>
              <a:custGeom>
                <a:avLst/>
                <a:gdLst/>
                <a:ahLst/>
                <a:rect l="0" t="0" r="r" b="b"/>
                <a:pathLst>
                  <a:path w="1090" h="402">
                    <a:moveTo>
                      <a:pt x="964" y="402"/>
                    </a:moveTo>
                    <a:lnTo>
                      <a:pt x="0" y="50"/>
                    </a:lnTo>
                    <a:lnTo>
                      <a:pt x="82" y="33"/>
                    </a:lnTo>
                    <a:lnTo>
                      <a:pt x="338" y="0"/>
                    </a:lnTo>
                    <a:lnTo>
                      <a:pt x="1090" y="385"/>
                    </a:lnTo>
                    <a:lnTo>
                      <a:pt x="964" y="402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4240" y="5054760"/>
                <a:ext cx="433440" cy="88920"/>
              </a:xfrm>
              <a:prstGeom prst="ellipse">
                <a:avLst/>
              </a:prstGeom>
              <a:solidFill>
                <a:srgbClr val="8080ff"/>
              </a:solidFill>
              <a:ln w="0">
                <a:noFill/>
              </a:ln>
            </p:spPr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 txBox="1"/>
            <p:nvPr/>
          </p:nvSpPr>
          <p:spPr>
            <a:xfrm>
              <a:off x="3352680" y="5334120"/>
              <a:ext cx="312408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95, Windows 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886200" y="3736800"/>
              <a:ext cx="1031760" cy="1575000"/>
              <a:chOff x="3886200" y="3736800"/>
              <a:chExt cx="1031760" cy="1575000"/>
            </a:xfrm>
          </p:grpSpPr>
          <p:sp>
            <p:nvSpPr>
              <p:cNvPr id="129" name=""/>
              <p:cNvSpPr txBox="1"/>
              <p:nvPr/>
            </p:nvSpPr>
            <p:spPr>
              <a:xfrm>
                <a:off x="3936960" y="3787920"/>
                <a:ext cx="9810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9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3886200" y="3736800"/>
                <a:ext cx="98100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9400" spc="-1" strike="noStrike">
                    <a:solidFill>
                      <a:srgbClr val="dadada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9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635360" y="3944880"/>
              <a:ext cx="1406520" cy="565200"/>
              <a:chOff x="4635360" y="3944880"/>
              <a:chExt cx="1406520" cy="565200"/>
            </a:xfrm>
          </p:grpSpPr>
          <p:sp>
            <p:nvSpPr>
              <p:cNvPr id="132" name=""/>
              <p:cNvSpPr txBox="1"/>
              <p:nvPr/>
            </p:nvSpPr>
            <p:spPr>
              <a:xfrm>
                <a:off x="4651200" y="3960720"/>
                <a:ext cx="139068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XTRA!</a:t>
                </a: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4635360" y="3944880"/>
                <a:ext cx="1390680" cy="549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3000" spc="-1" strike="noStrike">
                    <a:solidFill>
                      <a:srgbClr val="dadada"/>
                    </a:solidFill>
                    <a:latin typeface="Times New Roman"/>
                    <a:ea typeface="Times New Roman"/>
                  </a:rPr>
                  <a:t>XTRA!</a:t>
                </a:r>
                <a:endParaRPr b="0" lang="en-US" sz="3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 txBox="1"/>
            <p:nvPr/>
          </p:nvSpPr>
          <p:spPr>
            <a:xfrm>
              <a:off x="4759200" y="4299120"/>
              <a:ext cx="128736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son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746600" y="4287960"/>
              <a:ext cx="1287360" cy="42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200" spc="-1" strike="noStrike">
                  <a:solidFill>
                    <a:srgbClr val="dadada"/>
                  </a:solidFill>
                  <a:latin typeface="Arial"/>
                  <a:ea typeface="Arial"/>
                </a:rPr>
                <a:t>Personal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28600" y="171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Includes TCP/IP &amp; Internet A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280" y="1447920"/>
            <a:ext cx="2819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51000" indent="-236520">
              <a:lnSpc>
                <a:spcPct val="100000"/>
              </a:lnSpc>
              <a:spcBef>
                <a:spcPts val="1199"/>
              </a:spcBef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51000" indent="-236520">
              <a:lnSpc>
                <a:spcPct val="5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TCP/IP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236520">
              <a:lnSpc>
                <a:spcPct val="5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WW Web Brow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236520">
              <a:lnSpc>
                <a:spcPct val="50000"/>
              </a:lnSpc>
              <a:spcBef>
                <a:spcPts val="1199"/>
              </a:spcBef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FTP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News R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M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SN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LPR/LP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Gopher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TF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Finger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Who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Archie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Vero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1000" indent="-23652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Jug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792840" y="4932360"/>
            <a:ext cx="2057400" cy="1263600"/>
            <a:chOff x="6792840" y="4932360"/>
            <a:chExt cx="2057400" cy="1263600"/>
          </a:xfrm>
        </p:grpSpPr>
        <p:sp>
          <p:nvSpPr>
            <p:cNvPr id="139" name=""/>
            <p:cNvSpPr/>
            <p:nvPr/>
          </p:nvSpPr>
          <p:spPr>
            <a:xfrm>
              <a:off x="6792840" y="5586480"/>
              <a:ext cx="1443240" cy="398880"/>
            </a:xfrm>
            <a:custGeom>
              <a:avLst/>
              <a:gdLst/>
              <a:ahLst/>
              <a:rect l="0" t="0" r="r" b="b"/>
              <a:pathLst>
                <a:path w="4009" h="1108">
                  <a:moveTo>
                    <a:pt x="2307" y="0"/>
                  </a:moveTo>
                  <a:lnTo>
                    <a:pt x="0" y="233"/>
                  </a:lnTo>
                  <a:lnTo>
                    <a:pt x="1671" y="1108"/>
                  </a:lnTo>
                  <a:lnTo>
                    <a:pt x="4009" y="593"/>
                  </a:lnTo>
                  <a:lnTo>
                    <a:pt x="230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f7f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7292880" y="4932360"/>
              <a:ext cx="530280" cy="925560"/>
              <a:chOff x="7292880" y="4932360"/>
              <a:chExt cx="530280" cy="925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292880" y="4932360"/>
                <a:ext cx="53028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7637400" y="4951440"/>
                <a:ext cx="0" cy="906480"/>
              </a:xfrm>
              <a:prstGeom prst="line">
                <a:avLst/>
              </a:prstGeom>
              <a:ln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 txBox="1"/>
            <p:nvPr/>
          </p:nvSpPr>
          <p:spPr>
            <a:xfrm>
              <a:off x="7605720" y="5859360"/>
              <a:ext cx="12445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X / Uni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54680" y="3029040"/>
            <a:ext cx="1990800" cy="1236600"/>
            <a:chOff x="6754680" y="3029040"/>
            <a:chExt cx="1990800" cy="1236600"/>
          </a:xfrm>
        </p:grpSpPr>
        <p:sp>
          <p:nvSpPr>
            <p:cNvPr id="145" name=""/>
            <p:cNvSpPr/>
            <p:nvPr/>
          </p:nvSpPr>
          <p:spPr>
            <a:xfrm>
              <a:off x="6754680" y="3654360"/>
              <a:ext cx="1725840" cy="486000"/>
            </a:xfrm>
            <a:custGeom>
              <a:avLst/>
              <a:gdLst/>
              <a:ahLst/>
              <a:rect l="0" t="0" r="r" b="b"/>
              <a:pathLst>
                <a:path w="4794" h="1350">
                  <a:moveTo>
                    <a:pt x="2758" y="0"/>
                  </a:moveTo>
                  <a:lnTo>
                    <a:pt x="0" y="285"/>
                  </a:lnTo>
                  <a:lnTo>
                    <a:pt x="1998" y="1350"/>
                  </a:lnTo>
                  <a:lnTo>
                    <a:pt x="4794" y="723"/>
                  </a:lnTo>
                  <a:lnTo>
                    <a:pt x="275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f7f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286760" y="3029040"/>
              <a:ext cx="782640" cy="865080"/>
              <a:chOff x="7286760" y="3029040"/>
              <a:chExt cx="782640" cy="86508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86760" y="3029040"/>
                <a:ext cx="782640" cy="86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56600" y="3106800"/>
                <a:ext cx="169920" cy="169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"/>
            <p:cNvSpPr txBox="1"/>
            <p:nvPr/>
          </p:nvSpPr>
          <p:spPr>
            <a:xfrm>
              <a:off x="7640640" y="3929040"/>
              <a:ext cx="1104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/4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343400" y="3078000"/>
            <a:ext cx="3069000" cy="2040120"/>
            <a:chOff x="4343400" y="3078000"/>
            <a:chExt cx="3069000" cy="2040120"/>
          </a:xfrm>
        </p:grpSpPr>
        <p:sp>
          <p:nvSpPr>
            <p:cNvPr id="151" name=""/>
            <p:cNvSpPr/>
            <p:nvPr/>
          </p:nvSpPr>
          <p:spPr>
            <a:xfrm>
              <a:off x="4343400" y="4070520"/>
              <a:ext cx="3069000" cy="859320"/>
            </a:xfrm>
            <a:custGeom>
              <a:avLst/>
              <a:gdLst/>
              <a:ahLst/>
              <a:rect l="0" t="0" r="r" b="b"/>
              <a:pathLst>
                <a:path w="8525" h="2387">
                  <a:moveTo>
                    <a:pt x="4904" y="0"/>
                  </a:moveTo>
                  <a:lnTo>
                    <a:pt x="0" y="504"/>
                  </a:lnTo>
                  <a:lnTo>
                    <a:pt x="3555" y="2387"/>
                  </a:lnTo>
                  <a:lnTo>
                    <a:pt x="8525" y="1277"/>
                  </a:lnTo>
                  <a:lnTo>
                    <a:pt x="490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f7f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043600" y="3078000"/>
              <a:ext cx="1725480" cy="1393920"/>
              <a:chOff x="5043600" y="3078000"/>
              <a:chExt cx="1725480" cy="1393920"/>
            </a:xfrm>
          </p:grpSpPr>
          <p:pic>
            <p:nvPicPr>
              <p:cNvPr id="1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43600" y="3078000"/>
                <a:ext cx="1725480" cy="13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5605560" y="3100320"/>
                <a:ext cx="0" cy="136224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05440" y="3106800"/>
                <a:ext cx="0" cy="136188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473880" y="3108240"/>
                <a:ext cx="0" cy="1344600"/>
              </a:xfrm>
              <a:prstGeom prst="line">
                <a:avLst/>
              </a:prstGeom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 txBox="1"/>
            <p:nvPr/>
          </p:nvSpPr>
          <p:spPr>
            <a:xfrm>
              <a:off x="5848200" y="4537080"/>
              <a:ext cx="146988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BM or Unisy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22760" y="5638680"/>
            <a:ext cx="1816200" cy="879480"/>
            <a:chOff x="5522760" y="5638680"/>
            <a:chExt cx="1816200" cy="879480"/>
          </a:xfrm>
        </p:grpSpPr>
        <p:grpSp>
          <p:nvGrpSpPr>
            <p:cNvPr id="159" name=""/>
            <p:cNvGrpSpPr/>
            <p:nvPr/>
          </p:nvGrpSpPr>
          <p:grpSpPr>
            <a:xfrm>
              <a:off x="5522760" y="5919840"/>
              <a:ext cx="1816200" cy="598320"/>
              <a:chOff x="5522760" y="5919840"/>
              <a:chExt cx="1816200" cy="598320"/>
            </a:xfrm>
          </p:grpSpPr>
          <p:sp>
            <p:nvSpPr>
              <p:cNvPr id="160" name=""/>
              <p:cNvSpPr/>
              <p:nvPr/>
            </p:nvSpPr>
            <p:spPr>
              <a:xfrm>
                <a:off x="5522760" y="5919840"/>
                <a:ext cx="1445040" cy="400320"/>
              </a:xfrm>
              <a:custGeom>
                <a:avLst/>
                <a:gdLst/>
                <a:ahLst/>
                <a:rect l="0" t="0" r="r" b="b"/>
                <a:pathLst>
                  <a:path w="4014" h="1112">
                    <a:moveTo>
                      <a:pt x="2309" y="0"/>
                    </a:moveTo>
                    <a:lnTo>
                      <a:pt x="0" y="234"/>
                    </a:lnTo>
                    <a:lnTo>
                      <a:pt x="1674" y="1112"/>
                    </a:lnTo>
                    <a:lnTo>
                      <a:pt x="4014" y="595"/>
                    </a:lnTo>
                    <a:lnTo>
                      <a:pt x="230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1f7f"/>
                  </a:gs>
                  <a:gs pos="100000">
                    <a:srgbClr val="00279f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6234120" y="6181560"/>
                <a:ext cx="11048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HP Serve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6093000" y="5638680"/>
              <a:ext cx="274680" cy="539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5486400" y="1447920"/>
            <a:ext cx="1840320" cy="1328760"/>
            <a:chOff x="5486400" y="1447920"/>
            <a:chExt cx="1840320" cy="1328760"/>
          </a:xfrm>
        </p:grpSpPr>
        <p:sp>
          <p:nvSpPr>
            <p:cNvPr id="164" name=""/>
            <p:cNvSpPr/>
            <p:nvPr/>
          </p:nvSpPr>
          <p:spPr>
            <a:xfrm>
              <a:off x="5486400" y="2101680"/>
              <a:ext cx="1840320" cy="675000"/>
            </a:xfrm>
            <a:custGeom>
              <a:avLst/>
              <a:gdLst/>
              <a:ahLst/>
              <a:rect l="0" t="0" r="r" b="b"/>
              <a:pathLst>
                <a:path w="5112" h="1875">
                  <a:moveTo>
                    <a:pt x="2941" y="0"/>
                  </a:moveTo>
                  <a:lnTo>
                    <a:pt x="0" y="395"/>
                  </a:lnTo>
                  <a:lnTo>
                    <a:pt x="2132" y="1875"/>
                  </a:lnTo>
                  <a:lnTo>
                    <a:pt x="5112" y="1004"/>
                  </a:lnTo>
                  <a:lnTo>
                    <a:pt x="294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1f7f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5765760" y="1447920"/>
              <a:ext cx="76032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6219720" y="1592280"/>
              <a:ext cx="35100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"/>
          <p:cNvSpPr txBox="1"/>
          <p:nvPr/>
        </p:nvSpPr>
        <p:spPr>
          <a:xfrm>
            <a:off x="6786720" y="1747800"/>
            <a:ext cx="18478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lletin Bo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Data B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1987560" y="3233880"/>
            <a:ext cx="1879560" cy="1501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3733920" y="3429000"/>
            <a:ext cx="990360" cy="5335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4114800"/>
            <a:ext cx="1219320" cy="76212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4038480"/>
            <a:ext cx="99036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67000" y="3384720"/>
            <a:ext cx="987480" cy="701640"/>
            <a:chOff x="2367000" y="3384720"/>
            <a:chExt cx="987480" cy="701640"/>
          </a:xfrm>
        </p:grpSpPr>
        <p:grpSp>
          <p:nvGrpSpPr>
            <p:cNvPr id="173" name=""/>
            <p:cNvGrpSpPr/>
            <p:nvPr/>
          </p:nvGrpSpPr>
          <p:grpSpPr>
            <a:xfrm>
              <a:off x="2367000" y="3384720"/>
              <a:ext cx="461880" cy="701640"/>
              <a:chOff x="2367000" y="3384720"/>
              <a:chExt cx="461880" cy="701640"/>
            </a:xfrm>
          </p:grpSpPr>
          <p:sp>
            <p:nvSpPr>
              <p:cNvPr id="174" name=""/>
              <p:cNvSpPr txBox="1"/>
              <p:nvPr/>
            </p:nvSpPr>
            <p:spPr>
              <a:xfrm>
                <a:off x="2390760" y="3405240"/>
                <a:ext cx="438120" cy="68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4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2367000" y="3384720"/>
                <a:ext cx="438120" cy="68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200" spc="-1" strike="noStrike">
                    <a:solidFill>
                      <a:srgbClr val="dadada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4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700360" y="3468600"/>
              <a:ext cx="654120" cy="493920"/>
              <a:chOff x="2700360" y="3468600"/>
              <a:chExt cx="654120" cy="4939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2843280" y="3754440"/>
                <a:ext cx="511200" cy="208080"/>
                <a:chOff x="2843280" y="3754440"/>
                <a:chExt cx="511200" cy="208080"/>
              </a:xfrm>
            </p:grpSpPr>
            <p:sp>
              <p:nvSpPr>
                <p:cNvPr id="178" name=""/>
                <p:cNvSpPr txBox="1"/>
                <p:nvPr/>
              </p:nvSpPr>
              <p:spPr>
                <a:xfrm>
                  <a:off x="2846520" y="3768840"/>
                  <a:ext cx="442800" cy="19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lient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 txBox="1"/>
                <p:nvPr/>
              </p:nvSpPr>
              <p:spPr>
                <a:xfrm>
                  <a:off x="2843280" y="3754440"/>
                  <a:ext cx="511200" cy="19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000" spc="-1" strike="noStrike">
                      <a:solidFill>
                        <a:srgbClr val="dadada"/>
                      </a:solidFill>
                      <a:latin typeface="Arial"/>
                      <a:ea typeface="Arial"/>
                    </a:rPr>
                    <a:t>Client 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700360" y="3468600"/>
                <a:ext cx="654120" cy="260640"/>
                <a:chOff x="2700360" y="3468600"/>
                <a:chExt cx="654120" cy="260640"/>
              </a:xfrm>
            </p:grpSpPr>
            <p:sp>
              <p:nvSpPr>
                <p:cNvPr id="181" name=""/>
                <p:cNvSpPr txBox="1"/>
                <p:nvPr/>
              </p:nvSpPr>
              <p:spPr>
                <a:xfrm>
                  <a:off x="2708280" y="3475080"/>
                  <a:ext cx="64620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TRA!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 txBox="1"/>
                <p:nvPr/>
              </p:nvSpPr>
              <p:spPr>
                <a:xfrm>
                  <a:off x="2700360" y="3468600"/>
                  <a:ext cx="64620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400" spc="-1" strike="noStrike">
                      <a:solidFill>
                        <a:srgbClr val="dadada"/>
                      </a:solidFill>
                      <a:latin typeface="Times New Roman"/>
                      <a:ea typeface="Times New Roman"/>
                    </a:rPr>
                    <a:t>XTRA!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 txBox="1"/>
              <p:nvPr/>
            </p:nvSpPr>
            <p:spPr>
              <a:xfrm>
                <a:off x="2755800" y="3630600"/>
                <a:ext cx="58428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erson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2751120" y="3627360"/>
                <a:ext cx="58428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dadada"/>
                    </a:solidFill>
                    <a:latin typeface="Arial"/>
                    <a:ea typeface="Arial"/>
                  </a:rPr>
                  <a:t>Person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Quick Navigation &amp; Auto-Sen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43080" y="2300400"/>
            <a:ext cx="8286480" cy="4522680"/>
            <a:chOff x="343080" y="2300400"/>
            <a:chExt cx="8286480" cy="452268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343080" y="2300400"/>
              <a:ext cx="8140680" cy="45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172280" y="2305080"/>
              <a:ext cx="1457280" cy="781200"/>
            </a:xfrm>
            <a:prstGeom prst="rect">
              <a:avLst/>
            </a:prstGeom>
            <a:solidFill>
              <a:srgbClr val="081d5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172280" y="2063880"/>
            <a:ext cx="1457280" cy="51264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8006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320" y="1447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144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It can navigate through applications and recognize hosts screens &amp; data then respond to or trigger events automat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28600" y="1371600"/>
            <a:ext cx="7467480" cy="10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2" marL="5144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Simply Drag &amp; Drop to create transparent links with host data &amp; Microsoft Office 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144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Takes advantage of OLE 2.0, ODBC &amp; DR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47560" y="2624040"/>
            <a:ext cx="5308560" cy="3530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Microsoft Office 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662280" y="3441600"/>
            <a:ext cx="4676760" cy="3335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33520" y="3429000"/>
            <a:ext cx="1143000" cy="1676520"/>
          </a:xfrm>
          <a:prstGeom prst="ellipse">
            <a:avLst/>
          </a:prstGeom>
          <a:noFill/>
          <a:ln w="25560">
            <a:solidFill>
              <a:srgbClr val="fafd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267080"/>
            <a:ext cx="2209680" cy="914400"/>
          </a:xfrm>
          <a:prstGeom prst="line">
            <a:avLst/>
          </a:prstGeom>
          <a:ln w="255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28600" y="171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Management &amp; Admini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00200" y="3309840"/>
            <a:ext cx="7529400" cy="3519720"/>
            <a:chOff x="700200" y="3309840"/>
            <a:chExt cx="7529400" cy="3519720"/>
          </a:xfrm>
        </p:grpSpPr>
        <p:sp>
          <p:nvSpPr>
            <p:cNvPr id="200" name=""/>
            <p:cNvSpPr/>
            <p:nvPr/>
          </p:nvSpPr>
          <p:spPr>
            <a:xfrm>
              <a:off x="5575320" y="4621320"/>
              <a:ext cx="258300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0920" y="3676680"/>
              <a:ext cx="258120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560920" y="5738760"/>
              <a:ext cx="258120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606680" y="3344760"/>
              <a:ext cx="1844640" cy="2509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81d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cfeb9"/>
                  </a:solidFill>
                  <a:latin typeface="Arial"/>
                  <a:ea typeface="Arial"/>
                </a:rPr>
                <a:t>W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332240" y="4170240"/>
              <a:ext cx="0" cy="220500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59200" y="4375080"/>
              <a:ext cx="503280" cy="0"/>
            </a:xfrm>
            <a:prstGeom prst="line">
              <a:avLst/>
            </a:prstGeom>
            <a:ln w="38160">
              <a:solidFill>
                <a:srgbClr val="dada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7640" y="4361040"/>
              <a:ext cx="8017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29360" y="3706920"/>
              <a:ext cx="5047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29360" y="5708520"/>
              <a:ext cx="5047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5200" y="4606920"/>
              <a:ext cx="5047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2680" y="4606920"/>
              <a:ext cx="0" cy="28908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07120" y="4606920"/>
              <a:ext cx="0" cy="46368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72320" y="4606920"/>
              <a:ext cx="0" cy="28908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2680" y="4606920"/>
              <a:ext cx="0" cy="28908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134120" y="4842000"/>
              <a:ext cx="4651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5938920" y="4842000"/>
              <a:ext cx="46368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015400" y="366408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9840" y="3664080"/>
              <a:ext cx="0" cy="4651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57920" y="366408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388280" y="366408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"/>
            <a:stretch/>
          </p:blipFill>
          <p:spPr>
            <a:xfrm>
              <a:off x="7120080" y="3898800"/>
              <a:ext cx="46368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4"/>
            <a:stretch/>
          </p:blipFill>
          <p:spPr>
            <a:xfrm>
              <a:off x="5921280" y="389880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"/>
            <p:cNvGrpSpPr/>
            <p:nvPr/>
          </p:nvGrpSpPr>
          <p:grpSpPr>
            <a:xfrm>
              <a:off x="3073320" y="4356000"/>
              <a:ext cx="865440" cy="609840"/>
              <a:chOff x="3073320" y="4356000"/>
              <a:chExt cx="865440" cy="60984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073320" y="4700520"/>
                <a:ext cx="534960" cy="26532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3303720" y="4700520"/>
                <a:ext cx="279360" cy="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303720" y="4356000"/>
                <a:ext cx="635040" cy="34452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655640" y="3781440"/>
              <a:ext cx="551160" cy="376200"/>
              <a:chOff x="1655640" y="3781440"/>
              <a:chExt cx="551160" cy="376200"/>
            </a:xfrm>
          </p:grpSpPr>
          <p:sp>
            <p:nvSpPr>
              <p:cNvPr id="227" name=""/>
              <p:cNvSpPr/>
              <p:nvPr/>
            </p:nvSpPr>
            <p:spPr>
              <a:xfrm>
                <a:off x="1655640" y="3781440"/>
                <a:ext cx="239760" cy="23328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895400" y="3881520"/>
                <a:ext cx="0" cy="12060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95400" y="3881520"/>
                <a:ext cx="311400" cy="276120"/>
              </a:xfrm>
              <a:prstGeom prst="line">
                <a:avLst/>
              </a:prstGeom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198440" y="5651640"/>
              <a:ext cx="44136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0680" y="5230800"/>
              <a:ext cx="5191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20680" y="4361040"/>
              <a:ext cx="50328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2360" y="4795920"/>
              <a:ext cx="48744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68560" y="3909960"/>
              <a:ext cx="47124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>
              <a:off x="852480" y="4697280"/>
              <a:ext cx="465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flipV="1">
              <a:off x="1639800" y="3767040"/>
              <a:ext cx="0" cy="22021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62040" y="3676680"/>
              <a:ext cx="187200" cy="176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ecece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4118040" y="4106880"/>
              <a:ext cx="44460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843120" y="3554280"/>
              <a:ext cx="44460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8"/>
            <a:stretch/>
          </p:blipFill>
          <p:spPr>
            <a:xfrm>
              <a:off x="852480" y="426096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9"/>
            <a:stretch/>
          </p:blipFill>
          <p:spPr>
            <a:xfrm>
              <a:off x="852480" y="514512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0"/>
            <a:stretch/>
          </p:blipFill>
          <p:spPr>
            <a:xfrm>
              <a:off x="5364000" y="3452760"/>
              <a:ext cx="44136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11"/>
            <a:stretch/>
          </p:blipFill>
          <p:spPr>
            <a:xfrm>
              <a:off x="5364000" y="4352760"/>
              <a:ext cx="441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8015400" y="572292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89840" y="5722920"/>
              <a:ext cx="0" cy="4651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57920" y="572292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88280" y="5722920"/>
              <a:ext cx="0" cy="29052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" descr=""/>
            <p:cNvPicPr/>
            <p:nvPr/>
          </p:nvPicPr>
          <p:blipFill>
            <a:blip r:embed="rId12"/>
            <a:stretch/>
          </p:blipFill>
          <p:spPr>
            <a:xfrm>
              <a:off x="7120080" y="5958000"/>
              <a:ext cx="46368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3"/>
            <a:stretch/>
          </p:blipFill>
          <p:spPr>
            <a:xfrm>
              <a:off x="5921280" y="595800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4"/>
            <a:stretch/>
          </p:blipFill>
          <p:spPr>
            <a:xfrm>
              <a:off x="5364000" y="5424480"/>
              <a:ext cx="4413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229360" y="3692520"/>
              <a:ext cx="0" cy="204624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65600" y="4273560"/>
              <a:ext cx="189000" cy="174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cecece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90880" y="6056280"/>
              <a:ext cx="44136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13120" y="5635800"/>
              <a:ext cx="5191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13120" y="4767120"/>
              <a:ext cx="50472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44800" y="5200560"/>
              <a:ext cx="487440" cy="0"/>
            </a:xfrm>
            <a:prstGeom prst="line">
              <a:avLst/>
            </a:prstGeom>
            <a:ln w="381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5"/>
            <a:stretch/>
          </p:blipFill>
          <p:spPr>
            <a:xfrm>
              <a:off x="3544920" y="510228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6"/>
            <a:stretch/>
          </p:blipFill>
          <p:spPr>
            <a:xfrm>
              <a:off x="3544920" y="4668840"/>
              <a:ext cx="46512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7"/>
            <a:stretch/>
          </p:blipFill>
          <p:spPr>
            <a:xfrm>
              <a:off x="3544920" y="5551560"/>
              <a:ext cx="465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 txBox="1"/>
            <p:nvPr/>
          </p:nvSpPr>
          <p:spPr>
            <a:xfrm>
              <a:off x="2890800" y="6377040"/>
              <a:ext cx="2817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anch Distribution Ag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700200" y="5983200"/>
              <a:ext cx="125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izar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ag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56240" y="4049640"/>
              <a:ext cx="1198440" cy="2738880"/>
            </a:xfrm>
            <a:custGeom>
              <a:avLst/>
              <a:gdLst/>
              <a:ahLst/>
              <a:rect l="0" t="0" r="r" b="b"/>
              <a:pathLst>
                <a:path fill="none" w="3329" h="7608">
                  <a:moveTo>
                    <a:pt x="7" y="7608"/>
                  </a:moveTo>
                  <a:lnTo>
                    <a:pt x="7" y="7608"/>
                  </a:lnTo>
                  <a:cubicBezTo>
                    <a:pt x="589" y="7607"/>
                    <a:pt x="1162" y="7432"/>
                    <a:pt x="1666" y="7098"/>
                  </a:cubicBezTo>
                  <a:cubicBezTo>
                    <a:pt x="2171" y="6764"/>
                    <a:pt x="2591" y="6284"/>
                    <a:pt x="2883" y="5706"/>
                  </a:cubicBezTo>
                  <a:cubicBezTo>
                    <a:pt x="3175" y="5128"/>
                    <a:pt x="3329" y="4472"/>
                    <a:pt x="3329" y="3804"/>
                  </a:cubicBezTo>
                  <a:cubicBezTo>
                    <a:pt x="3329" y="3136"/>
                    <a:pt x="3175" y="2480"/>
                    <a:pt x="2883" y="1902"/>
                  </a:cubicBezTo>
                  <a:cubicBezTo>
                    <a:pt x="2591" y="1324"/>
                    <a:pt x="2171" y="844"/>
                    <a:pt x="1666" y="510"/>
                  </a:cubicBezTo>
                  <a:cubicBezTo>
                    <a:pt x="1161" y="176"/>
                    <a:pt x="587" y="0"/>
                    <a:pt x="4" y="0"/>
                  </a:cubicBez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84000" y="3838680"/>
              <a:ext cx="1906200" cy="2714760"/>
            </a:xfrm>
            <a:custGeom>
              <a:avLst/>
              <a:gdLst/>
              <a:ahLst/>
              <a:rect l="0" t="0" r="r" b="b"/>
              <a:pathLst>
                <a:path fill="none" w="5295" h="7541">
                  <a:moveTo>
                    <a:pt x="3117" y="7541"/>
                  </a:moveTo>
                  <a:lnTo>
                    <a:pt x="3117" y="7541"/>
                  </a:lnTo>
                  <a:cubicBezTo>
                    <a:pt x="3715" y="7198"/>
                    <a:pt x="4216" y="6760"/>
                    <a:pt x="4586" y="6255"/>
                  </a:cubicBezTo>
                  <a:cubicBezTo>
                    <a:pt x="5050" y="5621"/>
                    <a:pt x="5295" y="4902"/>
                    <a:pt x="5295" y="4170"/>
                  </a:cubicBezTo>
                  <a:cubicBezTo>
                    <a:pt x="5295" y="3438"/>
                    <a:pt x="5050" y="2719"/>
                    <a:pt x="4586" y="2085"/>
                  </a:cubicBezTo>
                  <a:cubicBezTo>
                    <a:pt x="4121" y="1451"/>
                    <a:pt x="3452" y="925"/>
                    <a:pt x="2647" y="559"/>
                  </a:cubicBezTo>
                  <a:cubicBezTo>
                    <a:pt x="1843" y="193"/>
                    <a:pt x="929" y="0"/>
                    <a:pt x="0" y="0"/>
                  </a:cubicBezTo>
                </a:path>
              </a:pathLst>
            </a:custGeom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10160" y="3309840"/>
              <a:ext cx="3100680" cy="2727360"/>
            </a:xfrm>
            <a:custGeom>
              <a:avLst/>
              <a:gdLst/>
              <a:ahLst/>
              <a:rect l="0" t="0" r="r" b="b"/>
              <a:pathLst>
                <a:path fill="none" w="8613" h="7576">
                  <a:moveTo>
                    <a:pt x="5942" y="7576"/>
                  </a:moveTo>
                  <a:lnTo>
                    <a:pt x="5942" y="7576"/>
                  </a:lnTo>
                  <a:cubicBezTo>
                    <a:pt x="6537" y="7287"/>
                    <a:pt x="7048" y="6955"/>
                    <a:pt x="7459" y="6592"/>
                  </a:cubicBezTo>
                  <a:cubicBezTo>
                    <a:pt x="8215" y="5924"/>
                    <a:pt x="8613" y="5166"/>
                    <a:pt x="8613" y="4395"/>
                  </a:cubicBezTo>
                  <a:cubicBezTo>
                    <a:pt x="8613" y="3623"/>
                    <a:pt x="8215" y="2865"/>
                    <a:pt x="7459" y="2197"/>
                  </a:cubicBezTo>
                  <a:cubicBezTo>
                    <a:pt x="6703" y="1529"/>
                    <a:pt x="5616" y="974"/>
                    <a:pt x="4306" y="589"/>
                  </a:cubicBezTo>
                  <a:cubicBezTo>
                    <a:pt x="2997" y="203"/>
                    <a:pt x="1512" y="0"/>
                    <a:pt x="0" y="0"/>
                  </a:cubicBezTo>
                </a:path>
              </a:pathLst>
            </a:custGeom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10520" y="4289400"/>
              <a:ext cx="1051200" cy="2540160"/>
            </a:xfrm>
            <a:custGeom>
              <a:avLst/>
              <a:gdLst/>
              <a:ahLst/>
              <a:rect l="0" t="0" r="r" b="b"/>
              <a:pathLst>
                <a:path fill="none" w="2920" h="7056">
                  <a:moveTo>
                    <a:pt x="0" y="6881"/>
                  </a:moveTo>
                  <a:lnTo>
                    <a:pt x="0" y="6881"/>
                  </a:lnTo>
                  <a:cubicBezTo>
                    <a:pt x="224" y="6997"/>
                    <a:pt x="458" y="7056"/>
                    <a:pt x="693" y="7056"/>
                  </a:cubicBezTo>
                  <a:cubicBezTo>
                    <a:pt x="1084" y="7056"/>
                    <a:pt x="1468" y="6893"/>
                    <a:pt x="1807" y="6583"/>
                  </a:cubicBezTo>
                  <a:cubicBezTo>
                    <a:pt x="2145" y="6274"/>
                    <a:pt x="2427" y="5828"/>
                    <a:pt x="2622" y="5292"/>
                  </a:cubicBezTo>
                  <a:cubicBezTo>
                    <a:pt x="2818" y="4756"/>
                    <a:pt x="2920" y="4147"/>
                    <a:pt x="2920" y="3528"/>
                  </a:cubicBezTo>
                  <a:cubicBezTo>
                    <a:pt x="2920" y="2909"/>
                    <a:pt x="2818" y="2300"/>
                    <a:pt x="2622" y="1764"/>
                  </a:cubicBezTo>
                  <a:cubicBezTo>
                    <a:pt x="2427" y="1228"/>
                    <a:pt x="2145" y="782"/>
                    <a:pt x="1807" y="473"/>
                  </a:cubicBezTo>
                  <a:cubicBezTo>
                    <a:pt x="1469" y="164"/>
                    <a:pt x="1086" y="1"/>
                    <a:pt x="695" y="0"/>
                  </a:cubicBez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18"/>
            <a:stretch/>
          </p:blipFill>
          <p:spPr>
            <a:xfrm>
              <a:off x="6489720" y="389880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" descr=""/>
            <p:cNvPicPr/>
            <p:nvPr/>
          </p:nvPicPr>
          <p:blipFill>
            <a:blip r:embed="rId19"/>
            <a:stretch/>
          </p:blipFill>
          <p:spPr>
            <a:xfrm>
              <a:off x="6505560" y="4842000"/>
              <a:ext cx="46368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20"/>
            <a:stretch/>
          </p:blipFill>
          <p:spPr>
            <a:xfrm>
              <a:off x="6489720" y="595800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1"/>
            <a:stretch/>
          </p:blipFill>
          <p:spPr>
            <a:xfrm>
              <a:off x="3544920" y="597204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22"/>
            <a:stretch/>
          </p:blipFill>
          <p:spPr>
            <a:xfrm>
              <a:off x="852480" y="5565600"/>
              <a:ext cx="4651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 txBox="1"/>
            <p:nvPr/>
          </p:nvSpPr>
          <p:spPr>
            <a:xfrm>
              <a:off x="6337440" y="5243400"/>
              <a:ext cx="1009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6276960" y="4305240"/>
              <a:ext cx="1073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!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337440" y="6383160"/>
              <a:ext cx="1073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XTRA!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23"/>
            <a:stretch/>
          </p:blipFill>
          <p:spPr>
            <a:xfrm>
              <a:off x="7765920" y="4842000"/>
              <a:ext cx="46368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24"/>
            <a:stretch/>
          </p:blipFill>
          <p:spPr>
            <a:xfrm>
              <a:off x="7748640" y="3898800"/>
              <a:ext cx="465120" cy="3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25"/>
            <a:stretch/>
          </p:blipFill>
          <p:spPr>
            <a:xfrm>
              <a:off x="7748640" y="5958000"/>
              <a:ext cx="465120" cy="3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"/>
          <p:cNvSpPr txBox="1"/>
          <p:nvPr/>
        </p:nvSpPr>
        <p:spPr>
          <a:xfrm>
            <a:off x="380880" y="152388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edf6ff"/>
                </a:solidFill>
                <a:latin typeface="Arial"/>
                <a:ea typeface="Arial"/>
              </a:rPr>
              <a:t>Included is the ability to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Configure, distribute, install, inventory, meter &amp; record k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5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EXTRA! Personal Client &amp; </a:t>
            </a:r>
            <a:r>
              <a:rPr b="1" lang="en-US" sz="2000" spc="-1" strike="noStrike" u="sng">
                <a:solidFill>
                  <a:srgbClr val="edf6ff"/>
                </a:solidFill>
                <a:uFillTx/>
                <a:latin typeface="Arial"/>
                <a:ea typeface="Arial"/>
              </a:rPr>
              <a:t>other software </a:t>
            </a:r>
            <a:r>
              <a:rPr b="1" lang="en-US" sz="2000" spc="-1" strike="noStrike">
                <a:solidFill>
                  <a:srgbClr val="edf6ff"/>
                </a:solidFill>
                <a:latin typeface="Arial"/>
                <a:ea typeface="Arial"/>
              </a:rPr>
              <a:t>on the work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52280" y="171360"/>
            <a:ext cx="65530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World-Class Suppo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21160" y="5276880"/>
            <a:ext cx="2142000" cy="609840"/>
          </a:xfrm>
          <a:custGeom>
            <a:avLst/>
            <a:gdLst/>
            <a:ahLst/>
            <a:rect l="0" t="0" r="r" b="b"/>
            <a:pathLst>
              <a:path w="5950" h="1694">
                <a:moveTo>
                  <a:pt x="5950" y="1032"/>
                </a:moveTo>
                <a:lnTo>
                  <a:pt x="4879" y="0"/>
                </a:lnTo>
                <a:lnTo>
                  <a:pt x="0" y="1694"/>
                </a:lnTo>
                <a:lnTo>
                  <a:pt x="5950" y="1032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52608a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68880" y="4267080"/>
            <a:ext cx="1733760" cy="1467360"/>
          </a:xfrm>
          <a:custGeom>
            <a:avLst/>
            <a:gdLst/>
            <a:ahLst/>
            <a:rect l="0" t="0" r="r" b="b"/>
            <a:pathLst>
              <a:path w="4816" h="4076">
                <a:moveTo>
                  <a:pt x="4816" y="952"/>
                </a:moveTo>
                <a:lnTo>
                  <a:pt x="3599" y="0"/>
                </a:lnTo>
                <a:lnTo>
                  <a:pt x="0" y="4076"/>
                </a:lnTo>
                <a:lnTo>
                  <a:pt x="4816" y="952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6a779a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21160" y="2552760"/>
            <a:ext cx="1467360" cy="3162600"/>
          </a:xfrm>
          <a:custGeom>
            <a:avLst/>
            <a:gdLst/>
            <a:ahLst/>
            <a:rect l="0" t="0" r="r" b="b"/>
            <a:pathLst>
              <a:path w="4076" h="8785">
                <a:moveTo>
                  <a:pt x="4076" y="1322"/>
                </a:moveTo>
                <a:lnTo>
                  <a:pt x="2382" y="0"/>
                </a:lnTo>
                <a:lnTo>
                  <a:pt x="0" y="8785"/>
                </a:lnTo>
                <a:lnTo>
                  <a:pt x="4076" y="1322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6a779a"/>
              </a:gs>
            </a:gsLst>
            <a:lin ang="81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76680" y="2462040"/>
            <a:ext cx="1473480" cy="3119760"/>
          </a:xfrm>
          <a:custGeom>
            <a:avLst/>
            <a:gdLst/>
            <a:ahLst/>
            <a:rect l="0" t="0" r="r" b="b"/>
            <a:pathLst>
              <a:path w="4093" h="8666">
                <a:moveTo>
                  <a:pt x="1349" y="0"/>
                </a:moveTo>
                <a:lnTo>
                  <a:pt x="0" y="793"/>
                </a:lnTo>
                <a:lnTo>
                  <a:pt x="4093" y="8666"/>
                </a:lnTo>
                <a:lnTo>
                  <a:pt x="1349" y="0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6a779a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91000" y="4048200"/>
            <a:ext cx="1254600" cy="1648080"/>
          </a:xfrm>
          <a:custGeom>
            <a:avLst/>
            <a:gdLst/>
            <a:ahLst/>
            <a:rect l="0" t="0" r="r" b="b"/>
            <a:pathLst>
              <a:path w="3485" h="4578">
                <a:moveTo>
                  <a:pt x="1032" y="0"/>
                </a:moveTo>
                <a:lnTo>
                  <a:pt x="0" y="912"/>
                </a:lnTo>
                <a:lnTo>
                  <a:pt x="3485" y="4578"/>
                </a:lnTo>
                <a:lnTo>
                  <a:pt x="1032" y="0"/>
                </a:lnTo>
                <a:close/>
              </a:path>
            </a:pathLst>
          </a:custGeom>
          <a:gradFill rotWithShape="0">
            <a:gsLst>
              <a:gs pos="0">
                <a:srgbClr val="081d58"/>
              </a:gs>
              <a:gs pos="100000">
                <a:srgbClr val="6a779a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468600" y="3909960"/>
            <a:ext cx="519120" cy="523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343560" y="4172040"/>
            <a:ext cx="596880" cy="584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3625920" y="2336760"/>
            <a:ext cx="596880" cy="5461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4273560" y="5214960"/>
            <a:ext cx="1879560" cy="1501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657680" y="5400720"/>
            <a:ext cx="944640" cy="590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518080" y="5708520"/>
            <a:ext cx="76320" cy="254160"/>
          </a:xfrm>
          <a:prstGeom prst="rect">
            <a:avLst/>
          </a:prstGeom>
          <a:solidFill>
            <a:srgbClr val="081d5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6215040" y="2452680"/>
            <a:ext cx="566640" cy="6094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7"/>
          <a:stretch/>
        </p:blipFill>
        <p:spPr>
          <a:xfrm>
            <a:off x="6964200" y="5160960"/>
            <a:ext cx="596880" cy="546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049560" y="342900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CompuS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678640" y="1981080"/>
            <a:ext cx="2475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87720" y="1905120"/>
            <a:ext cx="2322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upportWare 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621400" y="3733920"/>
            <a:ext cx="283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Knowledge base 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324480" y="5715000"/>
            <a:ext cx="1905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Consul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2280" y="16002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Arial Narrow"/>
                <a:ea typeface="Arial Narrow"/>
              </a:rPr>
              <a:t>Virtual Help De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80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Attachmate Support ranked #2 in overall customer loyalty and satisfaction in the software industry in 1994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  <a:ea typeface="Arial Narrow"/>
              </a:rPr>
              <a:t>Independent Surv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52280" y="171360"/>
            <a:ext cx="655308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Arial Narrow"/>
              </a:rPr>
              <a:t>Worldwide Pres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28600" y="1447920"/>
            <a:ext cx="8763480" cy="5181840"/>
            <a:chOff x="228600" y="1447920"/>
            <a:chExt cx="8763480" cy="5181840"/>
          </a:xfrm>
        </p:grpSpPr>
        <p:sp>
          <p:nvSpPr>
            <p:cNvPr id="300" name=""/>
            <p:cNvSpPr/>
            <p:nvPr/>
          </p:nvSpPr>
          <p:spPr>
            <a:xfrm>
              <a:off x="4643280" y="2901960"/>
              <a:ext cx="43200" cy="63720"/>
            </a:xfrm>
            <a:custGeom>
              <a:avLst/>
              <a:gdLst/>
              <a:ahLst/>
              <a:rect l="0" t="0" r="r" b="b"/>
              <a:pathLst>
                <a:path w="120" h="177">
                  <a:moveTo>
                    <a:pt x="120" y="7"/>
                  </a:moveTo>
                  <a:lnTo>
                    <a:pt x="120" y="169"/>
                  </a:lnTo>
                  <a:lnTo>
                    <a:pt x="81" y="177"/>
                  </a:lnTo>
                  <a:lnTo>
                    <a:pt x="0" y="38"/>
                  </a:lnTo>
                  <a:lnTo>
                    <a:pt x="47" y="0"/>
                  </a:lnTo>
                  <a:lnTo>
                    <a:pt x="120" y="7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54360" y="2795760"/>
              <a:ext cx="44640" cy="90720"/>
            </a:xfrm>
            <a:custGeom>
              <a:avLst/>
              <a:gdLst/>
              <a:ahLst/>
              <a:rect l="0" t="0" r="r" b="b"/>
              <a:pathLst>
                <a:path w="124" h="252">
                  <a:moveTo>
                    <a:pt x="124" y="0"/>
                  </a:moveTo>
                  <a:lnTo>
                    <a:pt x="0" y="53"/>
                  </a:lnTo>
                  <a:lnTo>
                    <a:pt x="21" y="252"/>
                  </a:lnTo>
                  <a:lnTo>
                    <a:pt x="97" y="22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8217000" y="5757840"/>
              <a:ext cx="775080" cy="514800"/>
              <a:chOff x="8217000" y="5757840"/>
              <a:chExt cx="775080" cy="514800"/>
            </a:xfrm>
          </p:grpSpPr>
          <p:sp>
            <p:nvSpPr>
              <p:cNvPr id="303" name=""/>
              <p:cNvSpPr/>
              <p:nvPr/>
            </p:nvSpPr>
            <p:spPr>
              <a:xfrm>
                <a:off x="8869320" y="5757840"/>
                <a:ext cx="122760" cy="313200"/>
              </a:xfrm>
              <a:custGeom>
                <a:avLst/>
                <a:gdLst/>
                <a:ahLst/>
                <a:rect l="0" t="0" r="r" b="b"/>
                <a:pathLst>
                  <a:path w="341" h="870">
                    <a:moveTo>
                      <a:pt x="110" y="0"/>
                    </a:moveTo>
                    <a:lnTo>
                      <a:pt x="147" y="0"/>
                    </a:lnTo>
                    <a:lnTo>
                      <a:pt x="204" y="93"/>
                    </a:lnTo>
                    <a:lnTo>
                      <a:pt x="194" y="365"/>
                    </a:lnTo>
                    <a:lnTo>
                      <a:pt x="241" y="365"/>
                    </a:lnTo>
                    <a:lnTo>
                      <a:pt x="246" y="404"/>
                    </a:lnTo>
                    <a:lnTo>
                      <a:pt x="257" y="466"/>
                    </a:lnTo>
                    <a:lnTo>
                      <a:pt x="268" y="497"/>
                    </a:lnTo>
                    <a:lnTo>
                      <a:pt x="304" y="489"/>
                    </a:lnTo>
                    <a:lnTo>
                      <a:pt x="331" y="427"/>
                    </a:lnTo>
                    <a:lnTo>
                      <a:pt x="341" y="466"/>
                    </a:lnTo>
                    <a:lnTo>
                      <a:pt x="320" y="512"/>
                    </a:lnTo>
                    <a:lnTo>
                      <a:pt x="304" y="543"/>
                    </a:lnTo>
                    <a:lnTo>
                      <a:pt x="294" y="613"/>
                    </a:lnTo>
                    <a:lnTo>
                      <a:pt x="257" y="653"/>
                    </a:lnTo>
                    <a:lnTo>
                      <a:pt x="220" y="669"/>
                    </a:lnTo>
                    <a:lnTo>
                      <a:pt x="194" y="700"/>
                    </a:lnTo>
                    <a:lnTo>
                      <a:pt x="183" y="738"/>
                    </a:lnTo>
                    <a:lnTo>
                      <a:pt x="194" y="769"/>
                    </a:lnTo>
                    <a:lnTo>
                      <a:pt x="204" y="824"/>
                    </a:lnTo>
                    <a:lnTo>
                      <a:pt x="157" y="847"/>
                    </a:lnTo>
                    <a:lnTo>
                      <a:pt x="136" y="862"/>
                    </a:lnTo>
                    <a:lnTo>
                      <a:pt x="110" y="870"/>
                    </a:lnTo>
                    <a:lnTo>
                      <a:pt x="95" y="862"/>
                    </a:lnTo>
                    <a:lnTo>
                      <a:pt x="47" y="847"/>
                    </a:lnTo>
                    <a:lnTo>
                      <a:pt x="36" y="824"/>
                    </a:lnTo>
                    <a:lnTo>
                      <a:pt x="47" y="785"/>
                    </a:lnTo>
                    <a:lnTo>
                      <a:pt x="83" y="769"/>
                    </a:lnTo>
                    <a:lnTo>
                      <a:pt x="110" y="715"/>
                    </a:lnTo>
                    <a:lnTo>
                      <a:pt x="110" y="692"/>
                    </a:lnTo>
                    <a:lnTo>
                      <a:pt x="83" y="669"/>
                    </a:lnTo>
                    <a:lnTo>
                      <a:pt x="47" y="629"/>
                    </a:lnTo>
                    <a:lnTo>
                      <a:pt x="20" y="629"/>
                    </a:lnTo>
                    <a:lnTo>
                      <a:pt x="5" y="613"/>
                    </a:lnTo>
                    <a:lnTo>
                      <a:pt x="0" y="574"/>
                    </a:lnTo>
                    <a:lnTo>
                      <a:pt x="5" y="559"/>
                    </a:lnTo>
                    <a:lnTo>
                      <a:pt x="20" y="559"/>
                    </a:lnTo>
                    <a:lnTo>
                      <a:pt x="47" y="543"/>
                    </a:lnTo>
                    <a:lnTo>
                      <a:pt x="83" y="512"/>
                    </a:lnTo>
                    <a:lnTo>
                      <a:pt x="100" y="497"/>
                    </a:lnTo>
                    <a:lnTo>
                      <a:pt x="115" y="365"/>
                    </a:lnTo>
                    <a:lnTo>
                      <a:pt x="100" y="326"/>
                    </a:lnTo>
                    <a:lnTo>
                      <a:pt x="73" y="303"/>
                    </a:lnTo>
                    <a:lnTo>
                      <a:pt x="62" y="233"/>
                    </a:lnTo>
                    <a:lnTo>
                      <a:pt x="73" y="155"/>
                    </a:lnTo>
                    <a:lnTo>
                      <a:pt x="83" y="108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8632800" y="6004080"/>
                <a:ext cx="227520" cy="268560"/>
              </a:xfrm>
              <a:custGeom>
                <a:avLst/>
                <a:gdLst/>
                <a:ahLst/>
                <a:rect l="0" t="0" r="r" b="b"/>
                <a:pathLst>
                  <a:path w="632" h="746">
                    <a:moveTo>
                      <a:pt x="446" y="0"/>
                    </a:moveTo>
                    <a:lnTo>
                      <a:pt x="521" y="0"/>
                    </a:lnTo>
                    <a:lnTo>
                      <a:pt x="632" y="201"/>
                    </a:lnTo>
                    <a:lnTo>
                      <a:pt x="521" y="372"/>
                    </a:lnTo>
                    <a:lnTo>
                      <a:pt x="521" y="443"/>
                    </a:lnTo>
                    <a:lnTo>
                      <a:pt x="494" y="474"/>
                    </a:lnTo>
                    <a:lnTo>
                      <a:pt x="419" y="474"/>
                    </a:lnTo>
                    <a:lnTo>
                      <a:pt x="334" y="567"/>
                    </a:lnTo>
                    <a:lnTo>
                      <a:pt x="260" y="668"/>
                    </a:lnTo>
                    <a:lnTo>
                      <a:pt x="207" y="746"/>
                    </a:lnTo>
                    <a:lnTo>
                      <a:pt x="207" y="668"/>
                    </a:lnTo>
                    <a:lnTo>
                      <a:pt x="111" y="691"/>
                    </a:lnTo>
                    <a:lnTo>
                      <a:pt x="63" y="691"/>
                    </a:lnTo>
                    <a:lnTo>
                      <a:pt x="0" y="691"/>
                    </a:lnTo>
                    <a:lnTo>
                      <a:pt x="95" y="567"/>
                    </a:lnTo>
                    <a:lnTo>
                      <a:pt x="132" y="497"/>
                    </a:lnTo>
                    <a:lnTo>
                      <a:pt x="159" y="497"/>
                    </a:lnTo>
                    <a:lnTo>
                      <a:pt x="234" y="404"/>
                    </a:lnTo>
                    <a:lnTo>
                      <a:pt x="260" y="404"/>
                    </a:lnTo>
                    <a:lnTo>
                      <a:pt x="260" y="396"/>
                    </a:lnTo>
                    <a:lnTo>
                      <a:pt x="297" y="357"/>
                    </a:lnTo>
                    <a:lnTo>
                      <a:pt x="334" y="357"/>
                    </a:lnTo>
                    <a:lnTo>
                      <a:pt x="318" y="248"/>
                    </a:lnTo>
                    <a:lnTo>
                      <a:pt x="324" y="248"/>
                    </a:lnTo>
                    <a:lnTo>
                      <a:pt x="371" y="194"/>
                    </a:lnTo>
                    <a:lnTo>
                      <a:pt x="387" y="240"/>
                    </a:lnTo>
                    <a:lnTo>
                      <a:pt x="456" y="155"/>
                    </a:lnTo>
                    <a:lnTo>
                      <a:pt x="446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8217000" y="6026040"/>
                <a:ext cx="84600" cy="138600"/>
              </a:xfrm>
              <a:custGeom>
                <a:avLst/>
                <a:gdLst/>
                <a:ahLst/>
                <a:rect l="0" t="0" r="r" b="b"/>
                <a:pathLst>
                  <a:path w="235" h="385">
                    <a:moveTo>
                      <a:pt x="0" y="0"/>
                    </a:moveTo>
                    <a:lnTo>
                      <a:pt x="51" y="0"/>
                    </a:lnTo>
                    <a:lnTo>
                      <a:pt x="110" y="38"/>
                    </a:lnTo>
                    <a:lnTo>
                      <a:pt x="235" y="38"/>
                    </a:lnTo>
                    <a:lnTo>
                      <a:pt x="220" y="116"/>
                    </a:lnTo>
                    <a:lnTo>
                      <a:pt x="235" y="185"/>
                    </a:lnTo>
                    <a:lnTo>
                      <a:pt x="188" y="185"/>
                    </a:lnTo>
                    <a:lnTo>
                      <a:pt x="183" y="192"/>
                    </a:lnTo>
                    <a:lnTo>
                      <a:pt x="162" y="208"/>
                    </a:lnTo>
                    <a:lnTo>
                      <a:pt x="183" y="385"/>
                    </a:lnTo>
                    <a:lnTo>
                      <a:pt x="110" y="370"/>
                    </a:lnTo>
                    <a:lnTo>
                      <a:pt x="36" y="316"/>
                    </a:lnTo>
                    <a:lnTo>
                      <a:pt x="36" y="192"/>
                    </a:lnTo>
                    <a:lnTo>
                      <a:pt x="36" y="146"/>
                    </a:lnTo>
                    <a:lnTo>
                      <a:pt x="0" y="1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8373960" y="4516560"/>
              <a:ext cx="141480" cy="152640"/>
            </a:xfrm>
            <a:custGeom>
              <a:avLst/>
              <a:gdLst/>
              <a:ahLst/>
              <a:rect l="0" t="0" r="r" b="b"/>
              <a:pathLst>
                <a:path w="393" h="424">
                  <a:moveTo>
                    <a:pt x="68" y="161"/>
                  </a:moveTo>
                  <a:lnTo>
                    <a:pt x="0" y="347"/>
                  </a:lnTo>
                  <a:lnTo>
                    <a:pt x="31" y="416"/>
                  </a:lnTo>
                  <a:lnTo>
                    <a:pt x="141" y="424"/>
                  </a:lnTo>
                  <a:lnTo>
                    <a:pt x="231" y="424"/>
                  </a:lnTo>
                  <a:lnTo>
                    <a:pt x="262" y="347"/>
                  </a:lnTo>
                  <a:lnTo>
                    <a:pt x="294" y="278"/>
                  </a:lnTo>
                  <a:lnTo>
                    <a:pt x="393" y="278"/>
                  </a:lnTo>
                  <a:lnTo>
                    <a:pt x="367" y="169"/>
                  </a:lnTo>
                  <a:lnTo>
                    <a:pt x="367" y="69"/>
                  </a:lnTo>
                  <a:lnTo>
                    <a:pt x="267" y="0"/>
                  </a:lnTo>
                  <a:lnTo>
                    <a:pt x="257" y="123"/>
                  </a:lnTo>
                  <a:lnTo>
                    <a:pt x="320" y="200"/>
                  </a:lnTo>
                  <a:lnTo>
                    <a:pt x="220" y="200"/>
                  </a:lnTo>
                  <a:lnTo>
                    <a:pt x="188" y="247"/>
                  </a:lnTo>
                  <a:lnTo>
                    <a:pt x="68" y="161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6845400" y="2219400"/>
              <a:ext cx="1634040" cy="3738960"/>
              <a:chOff x="6845400" y="2219400"/>
              <a:chExt cx="1634040" cy="373896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7105680" y="2597040"/>
                <a:ext cx="365400" cy="1124640"/>
                <a:chOff x="7105680" y="2597040"/>
                <a:chExt cx="365400" cy="11246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7105680" y="3606840"/>
                  <a:ext cx="82800" cy="114840"/>
                </a:xfrm>
                <a:custGeom>
                  <a:avLst/>
                  <a:gdLst/>
                  <a:ahLst/>
                  <a:rect l="0" t="0" r="r" b="b"/>
                  <a:pathLst>
                    <a:path w="230" h="319">
                      <a:moveTo>
                        <a:pt x="0" y="243"/>
                      </a:moveTo>
                      <a:lnTo>
                        <a:pt x="40" y="296"/>
                      </a:lnTo>
                      <a:lnTo>
                        <a:pt x="86" y="296"/>
                      </a:lnTo>
                      <a:lnTo>
                        <a:pt x="158" y="319"/>
                      </a:lnTo>
                      <a:lnTo>
                        <a:pt x="220" y="319"/>
                      </a:lnTo>
                      <a:lnTo>
                        <a:pt x="230" y="205"/>
                      </a:lnTo>
                      <a:lnTo>
                        <a:pt x="209" y="129"/>
                      </a:lnTo>
                      <a:lnTo>
                        <a:pt x="174" y="45"/>
                      </a:lnTo>
                      <a:lnTo>
                        <a:pt x="133" y="45"/>
                      </a:lnTo>
                      <a:lnTo>
                        <a:pt x="107" y="0"/>
                      </a:lnTo>
                      <a:lnTo>
                        <a:pt x="56" y="0"/>
                      </a:lnTo>
                      <a:lnTo>
                        <a:pt x="56" y="99"/>
                      </a:lnTo>
                      <a:lnTo>
                        <a:pt x="0" y="243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240" bIns="57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342200" y="3408480"/>
                  <a:ext cx="78120" cy="143280"/>
                </a:xfrm>
                <a:custGeom>
                  <a:avLst/>
                  <a:gdLst/>
                  <a:ahLst/>
                  <a:rect l="0" t="0" r="r" b="b"/>
                  <a:pathLst>
                    <a:path w="217" h="398">
                      <a:moveTo>
                        <a:pt x="45" y="0"/>
                      </a:moveTo>
                      <a:lnTo>
                        <a:pt x="146" y="0"/>
                      </a:lnTo>
                      <a:lnTo>
                        <a:pt x="176" y="109"/>
                      </a:lnTo>
                      <a:lnTo>
                        <a:pt x="217" y="172"/>
                      </a:lnTo>
                      <a:lnTo>
                        <a:pt x="186" y="226"/>
                      </a:lnTo>
                      <a:lnTo>
                        <a:pt x="217" y="281"/>
                      </a:lnTo>
                      <a:lnTo>
                        <a:pt x="201" y="359"/>
                      </a:lnTo>
                      <a:lnTo>
                        <a:pt x="166" y="398"/>
                      </a:lnTo>
                      <a:lnTo>
                        <a:pt x="105" y="383"/>
                      </a:lnTo>
                      <a:lnTo>
                        <a:pt x="60" y="383"/>
                      </a:lnTo>
                      <a:lnTo>
                        <a:pt x="40" y="336"/>
                      </a:lnTo>
                      <a:lnTo>
                        <a:pt x="10" y="273"/>
                      </a:lnTo>
                      <a:lnTo>
                        <a:pt x="10" y="211"/>
                      </a:lnTo>
                      <a:lnTo>
                        <a:pt x="0" y="125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326360" y="2597040"/>
                  <a:ext cx="144720" cy="135360"/>
                </a:xfrm>
                <a:custGeom>
                  <a:avLst/>
                  <a:gdLst/>
                  <a:ahLst/>
                  <a:rect l="0" t="0" r="r" b="b"/>
                  <a:pathLst>
                    <a:path w="402" h="376">
                      <a:moveTo>
                        <a:pt x="56" y="0"/>
                      </a:moveTo>
                      <a:lnTo>
                        <a:pt x="108" y="54"/>
                      </a:lnTo>
                      <a:lnTo>
                        <a:pt x="154" y="54"/>
                      </a:lnTo>
                      <a:lnTo>
                        <a:pt x="232" y="54"/>
                      </a:lnTo>
                      <a:lnTo>
                        <a:pt x="299" y="54"/>
                      </a:lnTo>
                      <a:lnTo>
                        <a:pt x="335" y="102"/>
                      </a:lnTo>
                      <a:lnTo>
                        <a:pt x="371" y="188"/>
                      </a:lnTo>
                      <a:lnTo>
                        <a:pt x="402" y="227"/>
                      </a:lnTo>
                      <a:lnTo>
                        <a:pt x="304" y="250"/>
                      </a:lnTo>
                      <a:lnTo>
                        <a:pt x="289" y="274"/>
                      </a:lnTo>
                      <a:lnTo>
                        <a:pt x="304" y="322"/>
                      </a:lnTo>
                      <a:lnTo>
                        <a:pt x="304" y="376"/>
                      </a:lnTo>
                      <a:lnTo>
                        <a:pt x="217" y="322"/>
                      </a:lnTo>
                      <a:lnTo>
                        <a:pt x="144" y="283"/>
                      </a:lnTo>
                      <a:lnTo>
                        <a:pt x="108" y="298"/>
                      </a:lnTo>
                      <a:lnTo>
                        <a:pt x="108" y="376"/>
                      </a:lnTo>
                      <a:lnTo>
                        <a:pt x="56" y="376"/>
                      </a:lnTo>
                      <a:lnTo>
                        <a:pt x="36" y="322"/>
                      </a:lnTo>
                      <a:lnTo>
                        <a:pt x="20" y="250"/>
                      </a:lnTo>
                      <a:lnTo>
                        <a:pt x="0" y="227"/>
                      </a:lnTo>
                      <a:lnTo>
                        <a:pt x="20" y="157"/>
                      </a:lnTo>
                      <a:lnTo>
                        <a:pt x="61" y="133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7445520" y="4869000"/>
                <a:ext cx="1033920" cy="1089360"/>
              </a:xfrm>
              <a:custGeom>
                <a:avLst/>
                <a:gdLst/>
                <a:ahLst/>
                <a:rect l="0" t="0" r="r" b="b"/>
                <a:pathLst>
                  <a:path w="2872" h="3026">
                    <a:moveTo>
                      <a:pt x="2063" y="0"/>
                    </a:moveTo>
                    <a:lnTo>
                      <a:pt x="2216" y="0"/>
                    </a:lnTo>
                    <a:lnTo>
                      <a:pt x="2216" y="234"/>
                    </a:lnTo>
                    <a:lnTo>
                      <a:pt x="2274" y="304"/>
                    </a:lnTo>
                    <a:lnTo>
                      <a:pt x="2290" y="351"/>
                    </a:lnTo>
                    <a:lnTo>
                      <a:pt x="2326" y="351"/>
                    </a:lnTo>
                    <a:lnTo>
                      <a:pt x="2342" y="398"/>
                    </a:lnTo>
                    <a:lnTo>
                      <a:pt x="2363" y="640"/>
                    </a:lnTo>
                    <a:lnTo>
                      <a:pt x="2442" y="797"/>
                    </a:lnTo>
                    <a:lnTo>
                      <a:pt x="2578" y="1023"/>
                    </a:lnTo>
                    <a:lnTo>
                      <a:pt x="2578" y="1063"/>
                    </a:lnTo>
                    <a:lnTo>
                      <a:pt x="2715" y="1250"/>
                    </a:lnTo>
                    <a:lnTo>
                      <a:pt x="2715" y="1289"/>
                    </a:lnTo>
                    <a:lnTo>
                      <a:pt x="2846" y="1446"/>
                    </a:lnTo>
                    <a:lnTo>
                      <a:pt x="2872" y="1720"/>
                    </a:lnTo>
                    <a:lnTo>
                      <a:pt x="2846" y="1986"/>
                    </a:lnTo>
                    <a:lnTo>
                      <a:pt x="2799" y="2103"/>
                    </a:lnTo>
                    <a:lnTo>
                      <a:pt x="2752" y="2166"/>
                    </a:lnTo>
                    <a:lnTo>
                      <a:pt x="2736" y="2291"/>
                    </a:lnTo>
                    <a:lnTo>
                      <a:pt x="2689" y="2392"/>
                    </a:lnTo>
                    <a:lnTo>
                      <a:pt x="2641" y="2439"/>
                    </a:lnTo>
                    <a:lnTo>
                      <a:pt x="2652" y="2486"/>
                    </a:lnTo>
                    <a:lnTo>
                      <a:pt x="2594" y="2557"/>
                    </a:lnTo>
                    <a:lnTo>
                      <a:pt x="2578" y="2713"/>
                    </a:lnTo>
                    <a:lnTo>
                      <a:pt x="2568" y="2791"/>
                    </a:lnTo>
                    <a:lnTo>
                      <a:pt x="2515" y="2830"/>
                    </a:lnTo>
                    <a:lnTo>
                      <a:pt x="2505" y="2869"/>
                    </a:lnTo>
                    <a:lnTo>
                      <a:pt x="2468" y="2932"/>
                    </a:lnTo>
                    <a:lnTo>
                      <a:pt x="2416" y="2955"/>
                    </a:lnTo>
                    <a:lnTo>
                      <a:pt x="2368" y="2979"/>
                    </a:lnTo>
                    <a:lnTo>
                      <a:pt x="2311" y="3026"/>
                    </a:lnTo>
                    <a:lnTo>
                      <a:pt x="2232" y="2932"/>
                    </a:lnTo>
                    <a:lnTo>
                      <a:pt x="2147" y="2932"/>
                    </a:lnTo>
                    <a:lnTo>
                      <a:pt x="2121" y="2932"/>
                    </a:lnTo>
                    <a:lnTo>
                      <a:pt x="2000" y="2963"/>
                    </a:lnTo>
                    <a:lnTo>
                      <a:pt x="1921" y="2869"/>
                    </a:lnTo>
                    <a:lnTo>
                      <a:pt x="1874" y="2760"/>
                    </a:lnTo>
                    <a:lnTo>
                      <a:pt x="1843" y="2783"/>
                    </a:lnTo>
                    <a:lnTo>
                      <a:pt x="1806" y="2697"/>
                    </a:lnTo>
                    <a:lnTo>
                      <a:pt x="1790" y="2619"/>
                    </a:lnTo>
                    <a:lnTo>
                      <a:pt x="1769" y="2596"/>
                    </a:lnTo>
                    <a:lnTo>
                      <a:pt x="1769" y="2486"/>
                    </a:lnTo>
                    <a:lnTo>
                      <a:pt x="1780" y="2408"/>
                    </a:lnTo>
                    <a:lnTo>
                      <a:pt x="1764" y="2361"/>
                    </a:lnTo>
                    <a:lnTo>
                      <a:pt x="1701" y="2385"/>
                    </a:lnTo>
                    <a:lnTo>
                      <a:pt x="1664" y="2392"/>
                    </a:lnTo>
                    <a:lnTo>
                      <a:pt x="1601" y="2392"/>
                    </a:lnTo>
                    <a:lnTo>
                      <a:pt x="1570" y="2392"/>
                    </a:lnTo>
                    <a:lnTo>
                      <a:pt x="1554" y="2392"/>
                    </a:lnTo>
                    <a:lnTo>
                      <a:pt x="1507" y="2314"/>
                    </a:lnTo>
                    <a:lnTo>
                      <a:pt x="1465" y="2220"/>
                    </a:lnTo>
                    <a:lnTo>
                      <a:pt x="1454" y="2236"/>
                    </a:lnTo>
                    <a:lnTo>
                      <a:pt x="1381" y="2236"/>
                    </a:lnTo>
                    <a:lnTo>
                      <a:pt x="1370" y="2197"/>
                    </a:lnTo>
                    <a:lnTo>
                      <a:pt x="1334" y="2236"/>
                    </a:lnTo>
                    <a:lnTo>
                      <a:pt x="1286" y="2220"/>
                    </a:lnTo>
                    <a:lnTo>
                      <a:pt x="1213" y="2220"/>
                    </a:lnTo>
                    <a:lnTo>
                      <a:pt x="1176" y="2197"/>
                    </a:lnTo>
                    <a:lnTo>
                      <a:pt x="1160" y="2236"/>
                    </a:lnTo>
                    <a:lnTo>
                      <a:pt x="1087" y="2244"/>
                    </a:lnTo>
                    <a:lnTo>
                      <a:pt x="1076" y="2220"/>
                    </a:lnTo>
                    <a:lnTo>
                      <a:pt x="1034" y="2291"/>
                    </a:lnTo>
                    <a:lnTo>
                      <a:pt x="977" y="2346"/>
                    </a:lnTo>
                    <a:lnTo>
                      <a:pt x="940" y="2346"/>
                    </a:lnTo>
                    <a:lnTo>
                      <a:pt x="893" y="2416"/>
                    </a:lnTo>
                    <a:lnTo>
                      <a:pt x="819" y="2416"/>
                    </a:lnTo>
                    <a:lnTo>
                      <a:pt x="756" y="2439"/>
                    </a:lnTo>
                    <a:lnTo>
                      <a:pt x="687" y="2486"/>
                    </a:lnTo>
                    <a:lnTo>
                      <a:pt x="650" y="2525"/>
                    </a:lnTo>
                    <a:lnTo>
                      <a:pt x="629" y="2510"/>
                    </a:lnTo>
                    <a:lnTo>
                      <a:pt x="603" y="2564"/>
                    </a:lnTo>
                    <a:lnTo>
                      <a:pt x="572" y="2572"/>
                    </a:lnTo>
                    <a:lnTo>
                      <a:pt x="530" y="2635"/>
                    </a:lnTo>
                    <a:lnTo>
                      <a:pt x="388" y="2635"/>
                    </a:lnTo>
                    <a:lnTo>
                      <a:pt x="330" y="2557"/>
                    </a:lnTo>
                    <a:lnTo>
                      <a:pt x="320" y="2510"/>
                    </a:lnTo>
                    <a:lnTo>
                      <a:pt x="309" y="2557"/>
                    </a:lnTo>
                    <a:lnTo>
                      <a:pt x="283" y="2486"/>
                    </a:lnTo>
                    <a:lnTo>
                      <a:pt x="283" y="2338"/>
                    </a:lnTo>
                    <a:lnTo>
                      <a:pt x="309" y="2236"/>
                    </a:lnTo>
                    <a:lnTo>
                      <a:pt x="283" y="2166"/>
                    </a:lnTo>
                    <a:lnTo>
                      <a:pt x="257" y="2088"/>
                    </a:lnTo>
                    <a:lnTo>
                      <a:pt x="246" y="2009"/>
                    </a:lnTo>
                    <a:lnTo>
                      <a:pt x="209" y="1970"/>
                    </a:lnTo>
                    <a:lnTo>
                      <a:pt x="199" y="1962"/>
                    </a:lnTo>
                    <a:lnTo>
                      <a:pt x="183" y="1923"/>
                    </a:lnTo>
                    <a:lnTo>
                      <a:pt x="125" y="1814"/>
                    </a:lnTo>
                    <a:lnTo>
                      <a:pt x="52" y="1548"/>
                    </a:lnTo>
                    <a:lnTo>
                      <a:pt x="26" y="1367"/>
                    </a:lnTo>
                    <a:lnTo>
                      <a:pt x="26" y="1250"/>
                    </a:lnTo>
                    <a:lnTo>
                      <a:pt x="0" y="1219"/>
                    </a:lnTo>
                    <a:lnTo>
                      <a:pt x="10" y="1117"/>
                    </a:lnTo>
                    <a:lnTo>
                      <a:pt x="31" y="1078"/>
                    </a:lnTo>
                    <a:lnTo>
                      <a:pt x="125" y="945"/>
                    </a:lnTo>
                    <a:lnTo>
                      <a:pt x="220" y="945"/>
                    </a:lnTo>
                    <a:lnTo>
                      <a:pt x="236" y="977"/>
                    </a:lnTo>
                    <a:lnTo>
                      <a:pt x="356" y="977"/>
                    </a:lnTo>
                    <a:lnTo>
                      <a:pt x="367" y="945"/>
                    </a:lnTo>
                    <a:lnTo>
                      <a:pt x="388" y="945"/>
                    </a:lnTo>
                    <a:lnTo>
                      <a:pt x="425" y="922"/>
                    </a:lnTo>
                    <a:lnTo>
                      <a:pt x="446" y="930"/>
                    </a:lnTo>
                    <a:lnTo>
                      <a:pt x="477" y="906"/>
                    </a:lnTo>
                    <a:lnTo>
                      <a:pt x="467" y="867"/>
                    </a:lnTo>
                    <a:lnTo>
                      <a:pt x="493" y="781"/>
                    </a:lnTo>
                    <a:lnTo>
                      <a:pt x="530" y="750"/>
                    </a:lnTo>
                    <a:lnTo>
                      <a:pt x="514" y="726"/>
                    </a:lnTo>
                    <a:lnTo>
                      <a:pt x="530" y="695"/>
                    </a:lnTo>
                    <a:lnTo>
                      <a:pt x="514" y="672"/>
                    </a:lnTo>
                    <a:lnTo>
                      <a:pt x="566" y="601"/>
                    </a:lnTo>
                    <a:lnTo>
                      <a:pt x="640" y="594"/>
                    </a:lnTo>
                    <a:lnTo>
                      <a:pt x="719" y="445"/>
                    </a:lnTo>
                    <a:lnTo>
                      <a:pt x="803" y="328"/>
                    </a:lnTo>
                    <a:lnTo>
                      <a:pt x="851" y="304"/>
                    </a:lnTo>
                    <a:lnTo>
                      <a:pt x="877" y="273"/>
                    </a:lnTo>
                    <a:lnTo>
                      <a:pt x="924" y="273"/>
                    </a:lnTo>
                    <a:lnTo>
                      <a:pt x="998" y="383"/>
                    </a:lnTo>
                    <a:lnTo>
                      <a:pt x="1024" y="398"/>
                    </a:lnTo>
                    <a:lnTo>
                      <a:pt x="1050" y="351"/>
                    </a:lnTo>
                    <a:lnTo>
                      <a:pt x="1097" y="273"/>
                    </a:lnTo>
                    <a:lnTo>
                      <a:pt x="1134" y="265"/>
                    </a:lnTo>
                    <a:lnTo>
                      <a:pt x="1160" y="171"/>
                    </a:lnTo>
                    <a:lnTo>
                      <a:pt x="1197" y="156"/>
                    </a:lnTo>
                    <a:lnTo>
                      <a:pt x="1244" y="117"/>
                    </a:lnTo>
                    <a:lnTo>
                      <a:pt x="1286" y="78"/>
                    </a:lnTo>
                    <a:lnTo>
                      <a:pt x="1334" y="78"/>
                    </a:lnTo>
                    <a:lnTo>
                      <a:pt x="1360" y="31"/>
                    </a:lnTo>
                    <a:lnTo>
                      <a:pt x="1412" y="31"/>
                    </a:lnTo>
                    <a:lnTo>
                      <a:pt x="1470" y="31"/>
                    </a:lnTo>
                    <a:lnTo>
                      <a:pt x="1554" y="54"/>
                    </a:lnTo>
                    <a:lnTo>
                      <a:pt x="1601" y="101"/>
                    </a:lnTo>
                    <a:lnTo>
                      <a:pt x="1606" y="148"/>
                    </a:lnTo>
                    <a:lnTo>
                      <a:pt x="1617" y="171"/>
                    </a:lnTo>
                    <a:lnTo>
                      <a:pt x="1627" y="226"/>
                    </a:lnTo>
                    <a:lnTo>
                      <a:pt x="1617" y="250"/>
                    </a:lnTo>
                    <a:lnTo>
                      <a:pt x="1617" y="304"/>
                    </a:lnTo>
                    <a:lnTo>
                      <a:pt x="1606" y="351"/>
                    </a:lnTo>
                    <a:lnTo>
                      <a:pt x="1743" y="476"/>
                    </a:lnTo>
                    <a:lnTo>
                      <a:pt x="1780" y="554"/>
                    </a:lnTo>
                    <a:lnTo>
                      <a:pt x="1827" y="578"/>
                    </a:lnTo>
                    <a:lnTo>
                      <a:pt x="1879" y="617"/>
                    </a:lnTo>
                    <a:lnTo>
                      <a:pt x="1916" y="625"/>
                    </a:lnTo>
                    <a:lnTo>
                      <a:pt x="1963" y="594"/>
                    </a:lnTo>
                    <a:lnTo>
                      <a:pt x="2011" y="476"/>
                    </a:lnTo>
                    <a:lnTo>
                      <a:pt x="2026" y="398"/>
                    </a:lnTo>
                    <a:lnTo>
                      <a:pt x="2047" y="226"/>
                    </a:lnTo>
                    <a:lnTo>
                      <a:pt x="2063" y="156"/>
                    </a:lnTo>
                    <a:lnTo>
                      <a:pt x="2063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09000" y="4640400"/>
                <a:ext cx="565560" cy="149760"/>
              </a:xfrm>
              <a:custGeom>
                <a:avLst/>
                <a:gdLst/>
                <a:ahLst/>
                <a:rect l="0" t="0" r="r" b="b"/>
                <a:pathLst>
                  <a:path w="1571" h="416">
                    <a:moveTo>
                      <a:pt x="0" y="0"/>
                    </a:moveTo>
                    <a:lnTo>
                      <a:pt x="115" y="54"/>
                    </a:lnTo>
                    <a:lnTo>
                      <a:pt x="219" y="54"/>
                    </a:lnTo>
                    <a:lnTo>
                      <a:pt x="308" y="54"/>
                    </a:lnTo>
                    <a:lnTo>
                      <a:pt x="376" y="54"/>
                    </a:lnTo>
                    <a:lnTo>
                      <a:pt x="430" y="70"/>
                    </a:lnTo>
                    <a:lnTo>
                      <a:pt x="492" y="110"/>
                    </a:lnTo>
                    <a:lnTo>
                      <a:pt x="529" y="204"/>
                    </a:lnTo>
                    <a:lnTo>
                      <a:pt x="566" y="227"/>
                    </a:lnTo>
                    <a:lnTo>
                      <a:pt x="628" y="227"/>
                    </a:lnTo>
                    <a:lnTo>
                      <a:pt x="691" y="227"/>
                    </a:lnTo>
                    <a:lnTo>
                      <a:pt x="775" y="274"/>
                    </a:lnTo>
                    <a:lnTo>
                      <a:pt x="822" y="298"/>
                    </a:lnTo>
                    <a:lnTo>
                      <a:pt x="848" y="298"/>
                    </a:lnTo>
                    <a:lnTo>
                      <a:pt x="869" y="227"/>
                    </a:lnTo>
                    <a:lnTo>
                      <a:pt x="885" y="204"/>
                    </a:lnTo>
                    <a:lnTo>
                      <a:pt x="990" y="227"/>
                    </a:lnTo>
                    <a:lnTo>
                      <a:pt x="1078" y="227"/>
                    </a:lnTo>
                    <a:lnTo>
                      <a:pt x="1152" y="227"/>
                    </a:lnTo>
                    <a:lnTo>
                      <a:pt x="1210" y="259"/>
                    </a:lnTo>
                    <a:lnTo>
                      <a:pt x="1247" y="282"/>
                    </a:lnTo>
                    <a:lnTo>
                      <a:pt x="1304" y="274"/>
                    </a:lnTo>
                    <a:lnTo>
                      <a:pt x="1352" y="243"/>
                    </a:lnTo>
                    <a:lnTo>
                      <a:pt x="1367" y="227"/>
                    </a:lnTo>
                    <a:lnTo>
                      <a:pt x="1441" y="227"/>
                    </a:lnTo>
                    <a:lnTo>
                      <a:pt x="1488" y="204"/>
                    </a:lnTo>
                    <a:lnTo>
                      <a:pt x="1545" y="173"/>
                    </a:lnTo>
                    <a:lnTo>
                      <a:pt x="1571" y="173"/>
                    </a:lnTo>
                    <a:lnTo>
                      <a:pt x="1566" y="259"/>
                    </a:lnTo>
                    <a:lnTo>
                      <a:pt x="1550" y="298"/>
                    </a:lnTo>
                    <a:lnTo>
                      <a:pt x="1514" y="330"/>
                    </a:lnTo>
                    <a:lnTo>
                      <a:pt x="1488" y="330"/>
                    </a:lnTo>
                    <a:lnTo>
                      <a:pt x="1472" y="330"/>
                    </a:lnTo>
                    <a:lnTo>
                      <a:pt x="1435" y="346"/>
                    </a:lnTo>
                    <a:lnTo>
                      <a:pt x="1399" y="393"/>
                    </a:lnTo>
                    <a:lnTo>
                      <a:pt x="1362" y="377"/>
                    </a:lnTo>
                    <a:lnTo>
                      <a:pt x="1331" y="353"/>
                    </a:lnTo>
                    <a:lnTo>
                      <a:pt x="1294" y="377"/>
                    </a:lnTo>
                    <a:lnTo>
                      <a:pt x="1263" y="393"/>
                    </a:lnTo>
                    <a:lnTo>
                      <a:pt x="1242" y="393"/>
                    </a:lnTo>
                    <a:lnTo>
                      <a:pt x="1210" y="416"/>
                    </a:lnTo>
                    <a:lnTo>
                      <a:pt x="1141" y="416"/>
                    </a:lnTo>
                    <a:lnTo>
                      <a:pt x="1115" y="377"/>
                    </a:lnTo>
                    <a:lnTo>
                      <a:pt x="1084" y="330"/>
                    </a:lnTo>
                    <a:lnTo>
                      <a:pt x="1042" y="377"/>
                    </a:lnTo>
                    <a:lnTo>
                      <a:pt x="1021" y="416"/>
                    </a:lnTo>
                    <a:lnTo>
                      <a:pt x="984" y="416"/>
                    </a:lnTo>
                    <a:lnTo>
                      <a:pt x="921" y="330"/>
                    </a:lnTo>
                    <a:lnTo>
                      <a:pt x="901" y="346"/>
                    </a:lnTo>
                    <a:lnTo>
                      <a:pt x="874" y="346"/>
                    </a:lnTo>
                    <a:lnTo>
                      <a:pt x="848" y="393"/>
                    </a:lnTo>
                    <a:lnTo>
                      <a:pt x="796" y="377"/>
                    </a:lnTo>
                    <a:lnTo>
                      <a:pt x="738" y="377"/>
                    </a:lnTo>
                    <a:lnTo>
                      <a:pt x="723" y="353"/>
                    </a:lnTo>
                    <a:lnTo>
                      <a:pt x="686" y="330"/>
                    </a:lnTo>
                    <a:lnTo>
                      <a:pt x="634" y="346"/>
                    </a:lnTo>
                    <a:lnTo>
                      <a:pt x="581" y="393"/>
                    </a:lnTo>
                    <a:lnTo>
                      <a:pt x="545" y="377"/>
                    </a:lnTo>
                    <a:lnTo>
                      <a:pt x="492" y="353"/>
                    </a:lnTo>
                    <a:lnTo>
                      <a:pt x="440" y="322"/>
                    </a:lnTo>
                    <a:lnTo>
                      <a:pt x="382" y="322"/>
                    </a:lnTo>
                    <a:lnTo>
                      <a:pt x="282" y="282"/>
                    </a:lnTo>
                    <a:lnTo>
                      <a:pt x="219" y="259"/>
                    </a:lnTo>
                    <a:lnTo>
                      <a:pt x="172" y="243"/>
                    </a:lnTo>
                    <a:lnTo>
                      <a:pt x="109" y="227"/>
                    </a:lnTo>
                    <a:lnTo>
                      <a:pt x="62" y="180"/>
                    </a:lnTo>
                    <a:lnTo>
                      <a:pt x="20" y="173"/>
                    </a:lnTo>
                    <a:lnTo>
                      <a:pt x="10" y="157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520040" y="4346640"/>
                <a:ext cx="254520" cy="284400"/>
              </a:xfrm>
              <a:custGeom>
                <a:avLst/>
                <a:gdLst/>
                <a:ahLst/>
                <a:rect l="0" t="0" r="r" b="b"/>
                <a:pathLst>
                  <a:path w="707" h="790">
                    <a:moveTo>
                      <a:pt x="173" y="0"/>
                    </a:moveTo>
                    <a:lnTo>
                      <a:pt x="343" y="15"/>
                    </a:lnTo>
                    <a:lnTo>
                      <a:pt x="506" y="15"/>
                    </a:lnTo>
                    <a:lnTo>
                      <a:pt x="596" y="0"/>
                    </a:lnTo>
                    <a:lnTo>
                      <a:pt x="707" y="78"/>
                    </a:lnTo>
                    <a:lnTo>
                      <a:pt x="633" y="93"/>
                    </a:lnTo>
                    <a:lnTo>
                      <a:pt x="596" y="140"/>
                    </a:lnTo>
                    <a:lnTo>
                      <a:pt x="570" y="164"/>
                    </a:lnTo>
                    <a:lnTo>
                      <a:pt x="549" y="187"/>
                    </a:lnTo>
                    <a:lnTo>
                      <a:pt x="549" y="211"/>
                    </a:lnTo>
                    <a:lnTo>
                      <a:pt x="549" y="250"/>
                    </a:lnTo>
                    <a:lnTo>
                      <a:pt x="495" y="265"/>
                    </a:lnTo>
                    <a:lnTo>
                      <a:pt x="453" y="265"/>
                    </a:lnTo>
                    <a:lnTo>
                      <a:pt x="438" y="273"/>
                    </a:lnTo>
                    <a:lnTo>
                      <a:pt x="395" y="273"/>
                    </a:lnTo>
                    <a:lnTo>
                      <a:pt x="380" y="250"/>
                    </a:lnTo>
                    <a:lnTo>
                      <a:pt x="343" y="195"/>
                    </a:lnTo>
                    <a:lnTo>
                      <a:pt x="311" y="164"/>
                    </a:lnTo>
                    <a:lnTo>
                      <a:pt x="237" y="164"/>
                    </a:lnTo>
                    <a:lnTo>
                      <a:pt x="227" y="164"/>
                    </a:lnTo>
                    <a:lnTo>
                      <a:pt x="211" y="218"/>
                    </a:lnTo>
                    <a:lnTo>
                      <a:pt x="222" y="273"/>
                    </a:lnTo>
                    <a:lnTo>
                      <a:pt x="222" y="312"/>
                    </a:lnTo>
                    <a:lnTo>
                      <a:pt x="227" y="351"/>
                    </a:lnTo>
                    <a:lnTo>
                      <a:pt x="264" y="343"/>
                    </a:lnTo>
                    <a:lnTo>
                      <a:pt x="311" y="304"/>
                    </a:lnTo>
                    <a:lnTo>
                      <a:pt x="343" y="304"/>
                    </a:lnTo>
                    <a:lnTo>
                      <a:pt x="374" y="328"/>
                    </a:lnTo>
                    <a:lnTo>
                      <a:pt x="374" y="351"/>
                    </a:lnTo>
                    <a:lnTo>
                      <a:pt x="348" y="399"/>
                    </a:lnTo>
                    <a:lnTo>
                      <a:pt x="343" y="423"/>
                    </a:lnTo>
                    <a:lnTo>
                      <a:pt x="343" y="446"/>
                    </a:lnTo>
                    <a:lnTo>
                      <a:pt x="337" y="485"/>
                    </a:lnTo>
                    <a:lnTo>
                      <a:pt x="348" y="524"/>
                    </a:lnTo>
                    <a:lnTo>
                      <a:pt x="385" y="571"/>
                    </a:lnTo>
                    <a:lnTo>
                      <a:pt x="395" y="563"/>
                    </a:lnTo>
                    <a:lnTo>
                      <a:pt x="395" y="610"/>
                    </a:lnTo>
                    <a:lnTo>
                      <a:pt x="380" y="641"/>
                    </a:lnTo>
                    <a:lnTo>
                      <a:pt x="364" y="688"/>
                    </a:lnTo>
                    <a:lnTo>
                      <a:pt x="348" y="735"/>
                    </a:lnTo>
                    <a:lnTo>
                      <a:pt x="322" y="766"/>
                    </a:lnTo>
                    <a:lnTo>
                      <a:pt x="295" y="766"/>
                    </a:lnTo>
                    <a:lnTo>
                      <a:pt x="269" y="766"/>
                    </a:lnTo>
                    <a:lnTo>
                      <a:pt x="269" y="720"/>
                    </a:lnTo>
                    <a:lnTo>
                      <a:pt x="264" y="634"/>
                    </a:lnTo>
                    <a:lnTo>
                      <a:pt x="232" y="610"/>
                    </a:lnTo>
                    <a:lnTo>
                      <a:pt x="227" y="571"/>
                    </a:lnTo>
                    <a:lnTo>
                      <a:pt x="232" y="501"/>
                    </a:lnTo>
                    <a:lnTo>
                      <a:pt x="211" y="477"/>
                    </a:lnTo>
                    <a:lnTo>
                      <a:pt x="152" y="501"/>
                    </a:lnTo>
                    <a:lnTo>
                      <a:pt x="121" y="477"/>
                    </a:lnTo>
                    <a:lnTo>
                      <a:pt x="100" y="516"/>
                    </a:lnTo>
                    <a:lnTo>
                      <a:pt x="121" y="540"/>
                    </a:lnTo>
                    <a:lnTo>
                      <a:pt x="168" y="563"/>
                    </a:lnTo>
                    <a:lnTo>
                      <a:pt x="173" y="587"/>
                    </a:lnTo>
                    <a:lnTo>
                      <a:pt x="201" y="634"/>
                    </a:lnTo>
                    <a:lnTo>
                      <a:pt x="201" y="673"/>
                    </a:lnTo>
                    <a:lnTo>
                      <a:pt x="173" y="727"/>
                    </a:lnTo>
                    <a:lnTo>
                      <a:pt x="136" y="774"/>
                    </a:lnTo>
                    <a:lnTo>
                      <a:pt x="121" y="790"/>
                    </a:lnTo>
                    <a:lnTo>
                      <a:pt x="121" y="751"/>
                    </a:lnTo>
                    <a:lnTo>
                      <a:pt x="121" y="720"/>
                    </a:lnTo>
                    <a:lnTo>
                      <a:pt x="131" y="673"/>
                    </a:lnTo>
                    <a:lnTo>
                      <a:pt x="84" y="634"/>
                    </a:lnTo>
                    <a:lnTo>
                      <a:pt x="47" y="594"/>
                    </a:lnTo>
                    <a:lnTo>
                      <a:pt x="36" y="563"/>
                    </a:lnTo>
                    <a:lnTo>
                      <a:pt x="0" y="540"/>
                    </a:lnTo>
                    <a:lnTo>
                      <a:pt x="10" y="477"/>
                    </a:lnTo>
                    <a:lnTo>
                      <a:pt x="36" y="438"/>
                    </a:lnTo>
                    <a:lnTo>
                      <a:pt x="63" y="375"/>
                    </a:lnTo>
                    <a:lnTo>
                      <a:pt x="84" y="312"/>
                    </a:lnTo>
                    <a:lnTo>
                      <a:pt x="100" y="250"/>
                    </a:lnTo>
                    <a:lnTo>
                      <a:pt x="84" y="195"/>
                    </a:lnTo>
                    <a:lnTo>
                      <a:pt x="110" y="171"/>
                    </a:lnTo>
                    <a:lnTo>
                      <a:pt x="121" y="148"/>
                    </a:lnTo>
                    <a:lnTo>
                      <a:pt x="100" y="93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43920" y="4222800"/>
                <a:ext cx="287640" cy="394200"/>
              </a:xfrm>
              <a:custGeom>
                <a:avLst/>
                <a:gdLst/>
                <a:ahLst/>
                <a:rect l="0" t="0" r="r" b="b"/>
                <a:pathLst>
                  <a:path w="799" h="1095">
                    <a:moveTo>
                      <a:pt x="0" y="370"/>
                    </a:moveTo>
                    <a:lnTo>
                      <a:pt x="158" y="196"/>
                    </a:lnTo>
                    <a:lnTo>
                      <a:pt x="248" y="118"/>
                    </a:lnTo>
                    <a:lnTo>
                      <a:pt x="285" y="62"/>
                    </a:lnTo>
                    <a:lnTo>
                      <a:pt x="418" y="0"/>
                    </a:lnTo>
                    <a:lnTo>
                      <a:pt x="487" y="133"/>
                    </a:lnTo>
                    <a:lnTo>
                      <a:pt x="561" y="78"/>
                    </a:lnTo>
                    <a:lnTo>
                      <a:pt x="587" y="39"/>
                    </a:lnTo>
                    <a:lnTo>
                      <a:pt x="640" y="0"/>
                    </a:lnTo>
                    <a:lnTo>
                      <a:pt x="677" y="0"/>
                    </a:lnTo>
                    <a:lnTo>
                      <a:pt x="688" y="55"/>
                    </a:lnTo>
                    <a:lnTo>
                      <a:pt x="688" y="94"/>
                    </a:lnTo>
                    <a:lnTo>
                      <a:pt x="651" y="149"/>
                    </a:lnTo>
                    <a:lnTo>
                      <a:pt x="651" y="180"/>
                    </a:lnTo>
                    <a:lnTo>
                      <a:pt x="746" y="347"/>
                    </a:lnTo>
                    <a:lnTo>
                      <a:pt x="772" y="441"/>
                    </a:lnTo>
                    <a:lnTo>
                      <a:pt x="788" y="441"/>
                    </a:lnTo>
                    <a:lnTo>
                      <a:pt x="799" y="488"/>
                    </a:lnTo>
                    <a:lnTo>
                      <a:pt x="772" y="543"/>
                    </a:lnTo>
                    <a:lnTo>
                      <a:pt x="741" y="512"/>
                    </a:lnTo>
                    <a:lnTo>
                      <a:pt x="677" y="551"/>
                    </a:lnTo>
                    <a:lnTo>
                      <a:pt x="688" y="646"/>
                    </a:lnTo>
                    <a:lnTo>
                      <a:pt x="624" y="701"/>
                    </a:lnTo>
                    <a:lnTo>
                      <a:pt x="624" y="867"/>
                    </a:lnTo>
                    <a:lnTo>
                      <a:pt x="624" y="977"/>
                    </a:lnTo>
                    <a:lnTo>
                      <a:pt x="587" y="1024"/>
                    </a:lnTo>
                    <a:lnTo>
                      <a:pt x="561" y="1095"/>
                    </a:lnTo>
                    <a:lnTo>
                      <a:pt x="524" y="1079"/>
                    </a:lnTo>
                    <a:lnTo>
                      <a:pt x="476" y="1048"/>
                    </a:lnTo>
                    <a:lnTo>
                      <a:pt x="429" y="1016"/>
                    </a:lnTo>
                    <a:lnTo>
                      <a:pt x="391" y="946"/>
                    </a:lnTo>
                    <a:lnTo>
                      <a:pt x="269" y="961"/>
                    </a:lnTo>
                    <a:lnTo>
                      <a:pt x="169" y="922"/>
                    </a:lnTo>
                    <a:lnTo>
                      <a:pt x="100" y="828"/>
                    </a:lnTo>
                    <a:lnTo>
                      <a:pt x="58" y="748"/>
                    </a:lnTo>
                    <a:lnTo>
                      <a:pt x="21" y="701"/>
                    </a:lnTo>
                    <a:lnTo>
                      <a:pt x="21" y="575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846920" y="4446720"/>
                <a:ext cx="547920" cy="365400"/>
              </a:xfrm>
              <a:custGeom>
                <a:avLst/>
                <a:gdLst/>
                <a:ahLst/>
                <a:rect l="0" t="0" r="r" b="b"/>
                <a:pathLst>
                  <a:path w="1522" h="1015">
                    <a:moveTo>
                      <a:pt x="0" y="0"/>
                    </a:moveTo>
                    <a:lnTo>
                      <a:pt x="136" y="7"/>
                    </a:lnTo>
                    <a:lnTo>
                      <a:pt x="247" y="23"/>
                    </a:lnTo>
                    <a:lnTo>
                      <a:pt x="294" y="171"/>
                    </a:lnTo>
                    <a:lnTo>
                      <a:pt x="310" y="218"/>
                    </a:lnTo>
                    <a:lnTo>
                      <a:pt x="326" y="241"/>
                    </a:lnTo>
                    <a:lnTo>
                      <a:pt x="363" y="202"/>
                    </a:lnTo>
                    <a:lnTo>
                      <a:pt x="421" y="202"/>
                    </a:lnTo>
                    <a:lnTo>
                      <a:pt x="447" y="241"/>
                    </a:lnTo>
                    <a:lnTo>
                      <a:pt x="473" y="226"/>
                    </a:lnTo>
                    <a:lnTo>
                      <a:pt x="521" y="171"/>
                    </a:lnTo>
                    <a:lnTo>
                      <a:pt x="531" y="171"/>
                    </a:lnTo>
                    <a:lnTo>
                      <a:pt x="573" y="132"/>
                    </a:lnTo>
                    <a:lnTo>
                      <a:pt x="621" y="132"/>
                    </a:lnTo>
                    <a:lnTo>
                      <a:pt x="752" y="202"/>
                    </a:lnTo>
                    <a:lnTo>
                      <a:pt x="806" y="202"/>
                    </a:lnTo>
                    <a:lnTo>
                      <a:pt x="874" y="273"/>
                    </a:lnTo>
                    <a:lnTo>
                      <a:pt x="932" y="296"/>
                    </a:lnTo>
                    <a:lnTo>
                      <a:pt x="985" y="335"/>
                    </a:lnTo>
                    <a:lnTo>
                      <a:pt x="1027" y="351"/>
                    </a:lnTo>
                    <a:lnTo>
                      <a:pt x="1138" y="397"/>
                    </a:lnTo>
                    <a:lnTo>
                      <a:pt x="1190" y="483"/>
                    </a:lnTo>
                    <a:lnTo>
                      <a:pt x="1211" y="531"/>
                    </a:lnTo>
                    <a:lnTo>
                      <a:pt x="1206" y="547"/>
                    </a:lnTo>
                    <a:lnTo>
                      <a:pt x="1248" y="601"/>
                    </a:lnTo>
                    <a:lnTo>
                      <a:pt x="1285" y="617"/>
                    </a:lnTo>
                    <a:lnTo>
                      <a:pt x="1301" y="625"/>
                    </a:lnTo>
                    <a:lnTo>
                      <a:pt x="1348" y="640"/>
                    </a:lnTo>
                    <a:lnTo>
                      <a:pt x="1411" y="718"/>
                    </a:lnTo>
                    <a:lnTo>
                      <a:pt x="1411" y="765"/>
                    </a:lnTo>
                    <a:lnTo>
                      <a:pt x="1459" y="812"/>
                    </a:lnTo>
                    <a:lnTo>
                      <a:pt x="1459" y="835"/>
                    </a:lnTo>
                    <a:lnTo>
                      <a:pt x="1522" y="921"/>
                    </a:lnTo>
                    <a:lnTo>
                      <a:pt x="1469" y="1015"/>
                    </a:lnTo>
                    <a:lnTo>
                      <a:pt x="1459" y="1015"/>
                    </a:lnTo>
                    <a:lnTo>
                      <a:pt x="1401" y="1015"/>
                    </a:lnTo>
                    <a:lnTo>
                      <a:pt x="1385" y="976"/>
                    </a:lnTo>
                    <a:lnTo>
                      <a:pt x="1359" y="976"/>
                    </a:lnTo>
                    <a:lnTo>
                      <a:pt x="1338" y="991"/>
                    </a:lnTo>
                    <a:lnTo>
                      <a:pt x="1206" y="796"/>
                    </a:lnTo>
                    <a:lnTo>
                      <a:pt x="1132" y="812"/>
                    </a:lnTo>
                    <a:lnTo>
                      <a:pt x="1053" y="796"/>
                    </a:lnTo>
                    <a:lnTo>
                      <a:pt x="1027" y="820"/>
                    </a:lnTo>
                    <a:lnTo>
                      <a:pt x="1001" y="859"/>
                    </a:lnTo>
                    <a:lnTo>
                      <a:pt x="990" y="835"/>
                    </a:lnTo>
                    <a:lnTo>
                      <a:pt x="953" y="890"/>
                    </a:lnTo>
                    <a:lnTo>
                      <a:pt x="906" y="976"/>
                    </a:lnTo>
                    <a:lnTo>
                      <a:pt x="864" y="937"/>
                    </a:lnTo>
                    <a:lnTo>
                      <a:pt x="806" y="913"/>
                    </a:lnTo>
                    <a:lnTo>
                      <a:pt x="780" y="913"/>
                    </a:lnTo>
                    <a:lnTo>
                      <a:pt x="731" y="890"/>
                    </a:lnTo>
                    <a:lnTo>
                      <a:pt x="694" y="913"/>
                    </a:lnTo>
                    <a:lnTo>
                      <a:pt x="668" y="796"/>
                    </a:lnTo>
                    <a:lnTo>
                      <a:pt x="605" y="687"/>
                    </a:lnTo>
                    <a:lnTo>
                      <a:pt x="547" y="547"/>
                    </a:lnTo>
                    <a:lnTo>
                      <a:pt x="494" y="483"/>
                    </a:lnTo>
                    <a:lnTo>
                      <a:pt x="447" y="413"/>
                    </a:lnTo>
                    <a:lnTo>
                      <a:pt x="363" y="413"/>
                    </a:lnTo>
                    <a:lnTo>
                      <a:pt x="273" y="444"/>
                    </a:lnTo>
                    <a:lnTo>
                      <a:pt x="226" y="397"/>
                    </a:lnTo>
                    <a:lnTo>
                      <a:pt x="142" y="366"/>
                    </a:lnTo>
                    <a:lnTo>
                      <a:pt x="105" y="327"/>
                    </a:lnTo>
                    <a:lnTo>
                      <a:pt x="105" y="179"/>
                    </a:lnTo>
                    <a:lnTo>
                      <a:pt x="110" y="10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5400" y="4189320"/>
                <a:ext cx="330480" cy="478080"/>
              </a:xfrm>
              <a:custGeom>
                <a:avLst/>
                <a:gdLst/>
                <a:ahLst/>
                <a:rect l="0" t="0" r="r" b="b"/>
                <a:pathLst>
                  <a:path w="918" h="1328">
                    <a:moveTo>
                      <a:pt x="0" y="38"/>
                    </a:moveTo>
                    <a:lnTo>
                      <a:pt x="94" y="0"/>
                    </a:lnTo>
                    <a:lnTo>
                      <a:pt x="204" y="61"/>
                    </a:lnTo>
                    <a:lnTo>
                      <a:pt x="220" y="123"/>
                    </a:lnTo>
                    <a:lnTo>
                      <a:pt x="220" y="146"/>
                    </a:lnTo>
                    <a:lnTo>
                      <a:pt x="246" y="154"/>
                    </a:lnTo>
                    <a:lnTo>
                      <a:pt x="246" y="177"/>
                    </a:lnTo>
                    <a:lnTo>
                      <a:pt x="277" y="192"/>
                    </a:lnTo>
                    <a:lnTo>
                      <a:pt x="277" y="231"/>
                    </a:lnTo>
                    <a:lnTo>
                      <a:pt x="387" y="378"/>
                    </a:lnTo>
                    <a:lnTo>
                      <a:pt x="403" y="378"/>
                    </a:lnTo>
                    <a:lnTo>
                      <a:pt x="424" y="416"/>
                    </a:lnTo>
                    <a:lnTo>
                      <a:pt x="440" y="455"/>
                    </a:lnTo>
                    <a:lnTo>
                      <a:pt x="462" y="455"/>
                    </a:lnTo>
                    <a:lnTo>
                      <a:pt x="530" y="501"/>
                    </a:lnTo>
                    <a:lnTo>
                      <a:pt x="677" y="524"/>
                    </a:lnTo>
                    <a:lnTo>
                      <a:pt x="687" y="695"/>
                    </a:lnTo>
                    <a:lnTo>
                      <a:pt x="724" y="718"/>
                    </a:lnTo>
                    <a:lnTo>
                      <a:pt x="713" y="772"/>
                    </a:lnTo>
                    <a:lnTo>
                      <a:pt x="797" y="857"/>
                    </a:lnTo>
                    <a:lnTo>
                      <a:pt x="876" y="896"/>
                    </a:lnTo>
                    <a:lnTo>
                      <a:pt x="876" y="1173"/>
                    </a:lnTo>
                    <a:lnTo>
                      <a:pt x="918" y="1282"/>
                    </a:lnTo>
                    <a:lnTo>
                      <a:pt x="892" y="1312"/>
                    </a:lnTo>
                    <a:lnTo>
                      <a:pt x="839" y="1328"/>
                    </a:lnTo>
                    <a:lnTo>
                      <a:pt x="834" y="1235"/>
                    </a:lnTo>
                    <a:lnTo>
                      <a:pt x="745" y="1328"/>
                    </a:lnTo>
                    <a:lnTo>
                      <a:pt x="687" y="1181"/>
                    </a:lnTo>
                    <a:lnTo>
                      <a:pt x="661" y="1089"/>
                    </a:lnTo>
                    <a:lnTo>
                      <a:pt x="551" y="957"/>
                    </a:lnTo>
                    <a:lnTo>
                      <a:pt x="525" y="957"/>
                    </a:lnTo>
                    <a:lnTo>
                      <a:pt x="429" y="888"/>
                    </a:lnTo>
                    <a:lnTo>
                      <a:pt x="414" y="819"/>
                    </a:lnTo>
                    <a:lnTo>
                      <a:pt x="414" y="764"/>
                    </a:lnTo>
                    <a:lnTo>
                      <a:pt x="330" y="571"/>
                    </a:lnTo>
                    <a:lnTo>
                      <a:pt x="303" y="455"/>
                    </a:lnTo>
                    <a:lnTo>
                      <a:pt x="209" y="347"/>
                    </a:lnTo>
                    <a:lnTo>
                      <a:pt x="78" y="177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435800" y="3662280"/>
                <a:ext cx="311400" cy="536760"/>
              </a:xfrm>
              <a:custGeom>
                <a:avLst/>
                <a:gdLst/>
                <a:ahLst/>
                <a:rect l="0" t="0" r="r" b="b"/>
                <a:pathLst>
                  <a:path w="865" h="1491">
                    <a:moveTo>
                      <a:pt x="56" y="0"/>
                    </a:moveTo>
                    <a:lnTo>
                      <a:pt x="129" y="0"/>
                    </a:lnTo>
                    <a:lnTo>
                      <a:pt x="217" y="163"/>
                    </a:lnTo>
                    <a:lnTo>
                      <a:pt x="196" y="304"/>
                    </a:lnTo>
                    <a:lnTo>
                      <a:pt x="253" y="351"/>
                    </a:lnTo>
                    <a:lnTo>
                      <a:pt x="269" y="444"/>
                    </a:lnTo>
                    <a:lnTo>
                      <a:pt x="326" y="499"/>
                    </a:lnTo>
                    <a:lnTo>
                      <a:pt x="398" y="515"/>
                    </a:lnTo>
                    <a:lnTo>
                      <a:pt x="503" y="585"/>
                    </a:lnTo>
                    <a:lnTo>
                      <a:pt x="565" y="678"/>
                    </a:lnTo>
                    <a:lnTo>
                      <a:pt x="580" y="678"/>
                    </a:lnTo>
                    <a:lnTo>
                      <a:pt x="668" y="750"/>
                    </a:lnTo>
                    <a:lnTo>
                      <a:pt x="668" y="937"/>
                    </a:lnTo>
                    <a:lnTo>
                      <a:pt x="689" y="1023"/>
                    </a:lnTo>
                    <a:lnTo>
                      <a:pt x="720" y="1062"/>
                    </a:lnTo>
                    <a:lnTo>
                      <a:pt x="756" y="1116"/>
                    </a:lnTo>
                    <a:lnTo>
                      <a:pt x="782" y="1179"/>
                    </a:lnTo>
                    <a:lnTo>
                      <a:pt x="803" y="1241"/>
                    </a:lnTo>
                    <a:lnTo>
                      <a:pt x="865" y="1312"/>
                    </a:lnTo>
                    <a:lnTo>
                      <a:pt x="860" y="1382"/>
                    </a:lnTo>
                    <a:lnTo>
                      <a:pt x="792" y="1390"/>
                    </a:lnTo>
                    <a:lnTo>
                      <a:pt x="766" y="1335"/>
                    </a:lnTo>
                    <a:lnTo>
                      <a:pt x="720" y="1335"/>
                    </a:lnTo>
                    <a:lnTo>
                      <a:pt x="720" y="1491"/>
                    </a:lnTo>
                    <a:lnTo>
                      <a:pt x="673" y="1491"/>
                    </a:lnTo>
                    <a:lnTo>
                      <a:pt x="622" y="1413"/>
                    </a:lnTo>
                    <a:lnTo>
                      <a:pt x="585" y="1382"/>
                    </a:lnTo>
                    <a:lnTo>
                      <a:pt x="585" y="1296"/>
                    </a:lnTo>
                    <a:lnTo>
                      <a:pt x="513" y="1296"/>
                    </a:lnTo>
                    <a:lnTo>
                      <a:pt x="487" y="1382"/>
                    </a:lnTo>
                    <a:lnTo>
                      <a:pt x="466" y="1296"/>
                    </a:lnTo>
                    <a:lnTo>
                      <a:pt x="461" y="1210"/>
                    </a:lnTo>
                    <a:lnTo>
                      <a:pt x="549" y="1179"/>
                    </a:lnTo>
                    <a:lnTo>
                      <a:pt x="601" y="1194"/>
                    </a:lnTo>
                    <a:lnTo>
                      <a:pt x="611" y="1062"/>
                    </a:lnTo>
                    <a:lnTo>
                      <a:pt x="559" y="1007"/>
                    </a:lnTo>
                    <a:lnTo>
                      <a:pt x="523" y="890"/>
                    </a:lnTo>
                    <a:lnTo>
                      <a:pt x="503" y="741"/>
                    </a:lnTo>
                    <a:lnTo>
                      <a:pt x="403" y="694"/>
                    </a:lnTo>
                    <a:lnTo>
                      <a:pt x="362" y="616"/>
                    </a:lnTo>
                    <a:lnTo>
                      <a:pt x="289" y="585"/>
                    </a:lnTo>
                    <a:lnTo>
                      <a:pt x="326" y="725"/>
                    </a:lnTo>
                    <a:lnTo>
                      <a:pt x="253" y="789"/>
                    </a:lnTo>
                    <a:lnTo>
                      <a:pt x="196" y="639"/>
                    </a:lnTo>
                    <a:lnTo>
                      <a:pt x="155" y="593"/>
                    </a:lnTo>
                    <a:lnTo>
                      <a:pt x="155" y="515"/>
                    </a:lnTo>
                    <a:lnTo>
                      <a:pt x="98" y="413"/>
                    </a:lnTo>
                    <a:lnTo>
                      <a:pt x="25" y="351"/>
                    </a:lnTo>
                    <a:lnTo>
                      <a:pt x="0" y="296"/>
                    </a:lnTo>
                    <a:lnTo>
                      <a:pt x="10" y="249"/>
                    </a:lnTo>
                    <a:lnTo>
                      <a:pt x="62" y="273"/>
                    </a:lnTo>
                    <a:lnTo>
                      <a:pt x="77" y="210"/>
                    </a:lnTo>
                    <a:lnTo>
                      <a:pt x="62" y="124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354800" y="2759040"/>
                <a:ext cx="236880" cy="454320"/>
              </a:xfrm>
              <a:custGeom>
                <a:avLst/>
                <a:gdLst/>
                <a:ahLst/>
                <a:rect l="0" t="0" r="r" b="b"/>
                <a:pathLst>
                  <a:path w="658" h="1262">
                    <a:moveTo>
                      <a:pt x="135" y="0"/>
                    </a:moveTo>
                    <a:lnTo>
                      <a:pt x="265" y="78"/>
                    </a:lnTo>
                    <a:lnTo>
                      <a:pt x="339" y="172"/>
                    </a:lnTo>
                    <a:lnTo>
                      <a:pt x="392" y="274"/>
                    </a:lnTo>
                    <a:lnTo>
                      <a:pt x="433" y="274"/>
                    </a:lnTo>
                    <a:lnTo>
                      <a:pt x="428" y="352"/>
                    </a:lnTo>
                    <a:lnTo>
                      <a:pt x="475" y="399"/>
                    </a:lnTo>
                    <a:lnTo>
                      <a:pt x="512" y="470"/>
                    </a:lnTo>
                    <a:lnTo>
                      <a:pt x="595" y="618"/>
                    </a:lnTo>
                    <a:lnTo>
                      <a:pt x="658" y="792"/>
                    </a:lnTo>
                    <a:lnTo>
                      <a:pt x="538" y="776"/>
                    </a:lnTo>
                    <a:lnTo>
                      <a:pt x="465" y="753"/>
                    </a:lnTo>
                    <a:lnTo>
                      <a:pt x="522" y="870"/>
                    </a:lnTo>
                    <a:lnTo>
                      <a:pt x="522" y="948"/>
                    </a:lnTo>
                    <a:lnTo>
                      <a:pt x="522" y="1019"/>
                    </a:lnTo>
                    <a:lnTo>
                      <a:pt x="485" y="972"/>
                    </a:lnTo>
                    <a:lnTo>
                      <a:pt x="439" y="917"/>
                    </a:lnTo>
                    <a:lnTo>
                      <a:pt x="366" y="847"/>
                    </a:lnTo>
                    <a:lnTo>
                      <a:pt x="323" y="815"/>
                    </a:lnTo>
                    <a:lnTo>
                      <a:pt x="255" y="847"/>
                    </a:lnTo>
                    <a:lnTo>
                      <a:pt x="213" y="870"/>
                    </a:lnTo>
                    <a:lnTo>
                      <a:pt x="234" y="933"/>
                    </a:lnTo>
                    <a:lnTo>
                      <a:pt x="307" y="972"/>
                    </a:lnTo>
                    <a:lnTo>
                      <a:pt x="376" y="1027"/>
                    </a:lnTo>
                    <a:lnTo>
                      <a:pt x="402" y="1113"/>
                    </a:lnTo>
                    <a:lnTo>
                      <a:pt x="392" y="1223"/>
                    </a:lnTo>
                    <a:lnTo>
                      <a:pt x="392" y="1262"/>
                    </a:lnTo>
                    <a:lnTo>
                      <a:pt x="366" y="1262"/>
                    </a:lnTo>
                    <a:lnTo>
                      <a:pt x="323" y="1223"/>
                    </a:lnTo>
                    <a:lnTo>
                      <a:pt x="307" y="1207"/>
                    </a:lnTo>
                    <a:lnTo>
                      <a:pt x="281" y="1183"/>
                    </a:lnTo>
                    <a:lnTo>
                      <a:pt x="255" y="1246"/>
                    </a:lnTo>
                    <a:lnTo>
                      <a:pt x="213" y="1262"/>
                    </a:lnTo>
                    <a:lnTo>
                      <a:pt x="177" y="1207"/>
                    </a:lnTo>
                    <a:lnTo>
                      <a:pt x="177" y="1105"/>
                    </a:lnTo>
                    <a:lnTo>
                      <a:pt x="172" y="1042"/>
                    </a:lnTo>
                    <a:lnTo>
                      <a:pt x="125" y="1003"/>
                    </a:lnTo>
                    <a:lnTo>
                      <a:pt x="83" y="1066"/>
                    </a:lnTo>
                    <a:lnTo>
                      <a:pt x="15" y="1066"/>
                    </a:lnTo>
                    <a:lnTo>
                      <a:pt x="0" y="1019"/>
                    </a:lnTo>
                    <a:lnTo>
                      <a:pt x="15" y="894"/>
                    </a:lnTo>
                    <a:lnTo>
                      <a:pt x="67" y="823"/>
                    </a:lnTo>
                    <a:lnTo>
                      <a:pt x="62" y="626"/>
                    </a:lnTo>
                    <a:lnTo>
                      <a:pt x="62" y="579"/>
                    </a:lnTo>
                    <a:lnTo>
                      <a:pt x="109" y="564"/>
                    </a:lnTo>
                    <a:lnTo>
                      <a:pt x="156" y="618"/>
                    </a:lnTo>
                    <a:lnTo>
                      <a:pt x="229" y="643"/>
                    </a:lnTo>
                    <a:lnTo>
                      <a:pt x="229" y="556"/>
                    </a:lnTo>
                    <a:lnTo>
                      <a:pt x="198" y="501"/>
                    </a:lnTo>
                    <a:lnTo>
                      <a:pt x="177" y="470"/>
                    </a:lnTo>
                    <a:lnTo>
                      <a:pt x="208" y="470"/>
                    </a:lnTo>
                    <a:lnTo>
                      <a:pt x="219" y="470"/>
                    </a:lnTo>
                    <a:lnTo>
                      <a:pt x="234" y="470"/>
                    </a:lnTo>
                    <a:lnTo>
                      <a:pt x="255" y="470"/>
                    </a:lnTo>
                    <a:lnTo>
                      <a:pt x="281" y="430"/>
                    </a:lnTo>
                    <a:lnTo>
                      <a:pt x="271" y="399"/>
                    </a:lnTo>
                    <a:lnTo>
                      <a:pt x="250" y="313"/>
                    </a:lnTo>
                    <a:lnTo>
                      <a:pt x="198" y="227"/>
                    </a:lnTo>
                    <a:lnTo>
                      <a:pt x="125" y="180"/>
                    </a:lnTo>
                    <a:lnTo>
                      <a:pt x="104" y="117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088040" y="2219400"/>
                <a:ext cx="255960" cy="363960"/>
              </a:xfrm>
              <a:custGeom>
                <a:avLst/>
                <a:gdLst/>
                <a:ahLst/>
                <a:rect l="0" t="0" r="r" b="b"/>
                <a:pathLst>
                  <a:path w="711" h="1011">
                    <a:moveTo>
                      <a:pt x="0" y="0"/>
                    </a:moveTo>
                    <a:lnTo>
                      <a:pt x="63" y="0"/>
                    </a:lnTo>
                    <a:lnTo>
                      <a:pt x="94" y="69"/>
                    </a:lnTo>
                    <a:lnTo>
                      <a:pt x="190" y="170"/>
                    </a:lnTo>
                    <a:lnTo>
                      <a:pt x="232" y="296"/>
                    </a:lnTo>
                    <a:lnTo>
                      <a:pt x="300" y="311"/>
                    </a:lnTo>
                    <a:lnTo>
                      <a:pt x="348" y="335"/>
                    </a:lnTo>
                    <a:lnTo>
                      <a:pt x="390" y="389"/>
                    </a:lnTo>
                    <a:lnTo>
                      <a:pt x="442" y="389"/>
                    </a:lnTo>
                    <a:lnTo>
                      <a:pt x="500" y="459"/>
                    </a:lnTo>
                    <a:lnTo>
                      <a:pt x="554" y="513"/>
                    </a:lnTo>
                    <a:lnTo>
                      <a:pt x="612" y="544"/>
                    </a:lnTo>
                    <a:lnTo>
                      <a:pt x="601" y="583"/>
                    </a:lnTo>
                    <a:lnTo>
                      <a:pt x="564" y="606"/>
                    </a:lnTo>
                    <a:lnTo>
                      <a:pt x="538" y="606"/>
                    </a:lnTo>
                    <a:lnTo>
                      <a:pt x="516" y="637"/>
                    </a:lnTo>
                    <a:lnTo>
                      <a:pt x="591" y="715"/>
                    </a:lnTo>
                    <a:lnTo>
                      <a:pt x="638" y="786"/>
                    </a:lnTo>
                    <a:lnTo>
                      <a:pt x="711" y="856"/>
                    </a:lnTo>
                    <a:lnTo>
                      <a:pt x="664" y="949"/>
                    </a:lnTo>
                    <a:lnTo>
                      <a:pt x="617" y="965"/>
                    </a:lnTo>
                    <a:lnTo>
                      <a:pt x="627" y="1011"/>
                    </a:lnTo>
                    <a:lnTo>
                      <a:pt x="554" y="1011"/>
                    </a:lnTo>
                    <a:lnTo>
                      <a:pt x="526" y="980"/>
                    </a:lnTo>
                    <a:lnTo>
                      <a:pt x="463" y="879"/>
                    </a:lnTo>
                    <a:lnTo>
                      <a:pt x="421" y="802"/>
                    </a:lnTo>
                    <a:lnTo>
                      <a:pt x="358" y="661"/>
                    </a:lnTo>
                    <a:lnTo>
                      <a:pt x="284" y="544"/>
                    </a:lnTo>
                    <a:lnTo>
                      <a:pt x="195" y="389"/>
                    </a:lnTo>
                    <a:lnTo>
                      <a:pt x="147" y="342"/>
                    </a:lnTo>
                    <a:lnTo>
                      <a:pt x="99" y="311"/>
                    </a:lnTo>
                    <a:lnTo>
                      <a:pt x="89" y="225"/>
                    </a:lnTo>
                    <a:lnTo>
                      <a:pt x="10" y="155"/>
                    </a:lnTo>
                    <a:lnTo>
                      <a:pt x="10" y="1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3726000" y="2975040"/>
              <a:ext cx="1868760" cy="2806920"/>
            </a:xfrm>
            <a:custGeom>
              <a:avLst/>
              <a:gdLst/>
              <a:ahLst/>
              <a:rect l="0" t="0" r="r" b="b"/>
              <a:pathLst>
                <a:path w="5191" h="7797">
                  <a:moveTo>
                    <a:pt x="3877" y="928"/>
                  </a:moveTo>
                  <a:lnTo>
                    <a:pt x="3972" y="1248"/>
                  </a:lnTo>
                  <a:lnTo>
                    <a:pt x="4129" y="1740"/>
                  </a:lnTo>
                  <a:lnTo>
                    <a:pt x="4453" y="2551"/>
                  </a:lnTo>
                  <a:lnTo>
                    <a:pt x="4573" y="2653"/>
                  </a:lnTo>
                  <a:lnTo>
                    <a:pt x="4647" y="2879"/>
                  </a:lnTo>
                  <a:lnTo>
                    <a:pt x="4898" y="2871"/>
                  </a:lnTo>
                  <a:lnTo>
                    <a:pt x="5076" y="2801"/>
                  </a:lnTo>
                  <a:lnTo>
                    <a:pt x="5191" y="2801"/>
                  </a:lnTo>
                  <a:lnTo>
                    <a:pt x="5180" y="3106"/>
                  </a:lnTo>
                  <a:lnTo>
                    <a:pt x="5144" y="3277"/>
                  </a:lnTo>
                  <a:lnTo>
                    <a:pt x="4673" y="3981"/>
                  </a:lnTo>
                  <a:lnTo>
                    <a:pt x="4244" y="4706"/>
                  </a:lnTo>
                  <a:lnTo>
                    <a:pt x="4259" y="4980"/>
                  </a:lnTo>
                  <a:lnTo>
                    <a:pt x="4380" y="5190"/>
                  </a:lnTo>
                  <a:lnTo>
                    <a:pt x="4317" y="5346"/>
                  </a:lnTo>
                  <a:lnTo>
                    <a:pt x="4348" y="5557"/>
                  </a:lnTo>
                  <a:lnTo>
                    <a:pt x="4317" y="5721"/>
                  </a:lnTo>
                  <a:lnTo>
                    <a:pt x="4218" y="5854"/>
                  </a:lnTo>
                  <a:lnTo>
                    <a:pt x="4129" y="5854"/>
                  </a:lnTo>
                  <a:lnTo>
                    <a:pt x="3987" y="6080"/>
                  </a:lnTo>
                  <a:lnTo>
                    <a:pt x="3862" y="6345"/>
                  </a:lnTo>
                  <a:lnTo>
                    <a:pt x="3877" y="6642"/>
                  </a:lnTo>
                  <a:lnTo>
                    <a:pt x="3757" y="6767"/>
                  </a:lnTo>
                  <a:lnTo>
                    <a:pt x="3632" y="7071"/>
                  </a:lnTo>
                  <a:lnTo>
                    <a:pt x="3496" y="7352"/>
                  </a:lnTo>
                  <a:lnTo>
                    <a:pt x="3417" y="7454"/>
                  </a:lnTo>
                  <a:lnTo>
                    <a:pt x="3349" y="7485"/>
                  </a:lnTo>
                  <a:lnTo>
                    <a:pt x="3234" y="7664"/>
                  </a:lnTo>
                  <a:lnTo>
                    <a:pt x="3040" y="7773"/>
                  </a:lnTo>
                  <a:lnTo>
                    <a:pt x="2789" y="7797"/>
                  </a:lnTo>
                  <a:lnTo>
                    <a:pt x="2648" y="7680"/>
                  </a:lnTo>
                  <a:lnTo>
                    <a:pt x="2637" y="7555"/>
                  </a:lnTo>
                  <a:lnTo>
                    <a:pt x="2606" y="7391"/>
                  </a:lnTo>
                  <a:lnTo>
                    <a:pt x="2521" y="7313"/>
                  </a:lnTo>
                  <a:lnTo>
                    <a:pt x="2438" y="7009"/>
                  </a:lnTo>
                  <a:lnTo>
                    <a:pt x="2417" y="6868"/>
                  </a:lnTo>
                  <a:lnTo>
                    <a:pt x="2401" y="6681"/>
                  </a:lnTo>
                  <a:lnTo>
                    <a:pt x="2364" y="6548"/>
                  </a:lnTo>
                  <a:lnTo>
                    <a:pt x="2349" y="6470"/>
                  </a:lnTo>
                  <a:lnTo>
                    <a:pt x="2281" y="6338"/>
                  </a:lnTo>
                  <a:lnTo>
                    <a:pt x="2192" y="6220"/>
                  </a:lnTo>
                  <a:lnTo>
                    <a:pt x="2134" y="6041"/>
                  </a:lnTo>
                  <a:lnTo>
                    <a:pt x="2092" y="5916"/>
                  </a:lnTo>
                  <a:lnTo>
                    <a:pt x="2113" y="5698"/>
                  </a:lnTo>
                  <a:lnTo>
                    <a:pt x="2239" y="5370"/>
                  </a:lnTo>
                  <a:lnTo>
                    <a:pt x="2265" y="5019"/>
                  </a:lnTo>
                  <a:lnTo>
                    <a:pt x="2171" y="4621"/>
                  </a:lnTo>
                  <a:lnTo>
                    <a:pt x="2030" y="4464"/>
                  </a:lnTo>
                  <a:lnTo>
                    <a:pt x="1935" y="4246"/>
                  </a:lnTo>
                  <a:lnTo>
                    <a:pt x="1972" y="3910"/>
                  </a:lnTo>
                  <a:lnTo>
                    <a:pt x="1909" y="3652"/>
                  </a:lnTo>
                  <a:lnTo>
                    <a:pt x="1737" y="3628"/>
                  </a:lnTo>
                  <a:lnTo>
                    <a:pt x="1574" y="3441"/>
                  </a:lnTo>
                  <a:lnTo>
                    <a:pt x="1365" y="3324"/>
                  </a:lnTo>
                  <a:lnTo>
                    <a:pt x="1145" y="3496"/>
                  </a:lnTo>
                  <a:lnTo>
                    <a:pt x="565" y="3449"/>
                  </a:lnTo>
                  <a:lnTo>
                    <a:pt x="245" y="3028"/>
                  </a:lnTo>
                  <a:lnTo>
                    <a:pt x="0" y="2450"/>
                  </a:lnTo>
                  <a:lnTo>
                    <a:pt x="47" y="2255"/>
                  </a:lnTo>
                  <a:lnTo>
                    <a:pt x="151" y="2107"/>
                  </a:lnTo>
                  <a:lnTo>
                    <a:pt x="209" y="1716"/>
                  </a:lnTo>
                  <a:lnTo>
                    <a:pt x="282" y="1420"/>
                  </a:lnTo>
                  <a:lnTo>
                    <a:pt x="502" y="1123"/>
                  </a:lnTo>
                  <a:lnTo>
                    <a:pt x="737" y="991"/>
                  </a:lnTo>
                  <a:lnTo>
                    <a:pt x="947" y="671"/>
                  </a:lnTo>
                  <a:lnTo>
                    <a:pt x="999" y="546"/>
                  </a:lnTo>
                  <a:lnTo>
                    <a:pt x="1276" y="202"/>
                  </a:lnTo>
                  <a:lnTo>
                    <a:pt x="1454" y="335"/>
                  </a:lnTo>
                  <a:lnTo>
                    <a:pt x="1580" y="327"/>
                  </a:lnTo>
                  <a:lnTo>
                    <a:pt x="1737" y="148"/>
                  </a:lnTo>
                  <a:lnTo>
                    <a:pt x="1914" y="117"/>
                  </a:lnTo>
                  <a:lnTo>
                    <a:pt x="2030" y="171"/>
                  </a:lnTo>
                  <a:lnTo>
                    <a:pt x="2139" y="23"/>
                  </a:lnTo>
                  <a:lnTo>
                    <a:pt x="2286" y="0"/>
                  </a:lnTo>
                  <a:lnTo>
                    <a:pt x="2323" y="273"/>
                  </a:lnTo>
                  <a:lnTo>
                    <a:pt x="2417" y="460"/>
                  </a:lnTo>
                  <a:lnTo>
                    <a:pt x="2679" y="655"/>
                  </a:lnTo>
                  <a:lnTo>
                    <a:pt x="2899" y="694"/>
                  </a:lnTo>
                  <a:lnTo>
                    <a:pt x="2930" y="468"/>
                  </a:lnTo>
                  <a:lnTo>
                    <a:pt x="3098" y="468"/>
                  </a:lnTo>
                  <a:lnTo>
                    <a:pt x="3297" y="600"/>
                  </a:lnTo>
                  <a:lnTo>
                    <a:pt x="3516" y="671"/>
                  </a:lnTo>
                  <a:lnTo>
                    <a:pt x="3715" y="593"/>
                  </a:lnTo>
                  <a:lnTo>
                    <a:pt x="3877" y="928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851280" y="1459080"/>
              <a:ext cx="829080" cy="960480"/>
              <a:chOff x="3851280" y="1459080"/>
              <a:chExt cx="829080" cy="9604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4179960" y="2057400"/>
                <a:ext cx="254160" cy="362160"/>
                <a:chOff x="4179960" y="2057400"/>
                <a:chExt cx="254160" cy="3621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179960" y="2195640"/>
                  <a:ext cx="120960" cy="200520"/>
                </a:xfrm>
                <a:custGeom>
                  <a:avLst/>
                  <a:gdLst/>
                  <a:ahLst/>
                  <a:rect l="0" t="0" r="r" b="b"/>
                  <a:pathLst>
                    <a:path w="336" h="557">
                      <a:moveTo>
                        <a:pt x="82" y="165"/>
                      </a:moveTo>
                      <a:lnTo>
                        <a:pt x="108" y="109"/>
                      </a:lnTo>
                      <a:lnTo>
                        <a:pt x="159" y="109"/>
                      </a:lnTo>
                      <a:lnTo>
                        <a:pt x="253" y="0"/>
                      </a:lnTo>
                      <a:lnTo>
                        <a:pt x="274" y="62"/>
                      </a:lnTo>
                      <a:lnTo>
                        <a:pt x="315" y="62"/>
                      </a:lnTo>
                      <a:lnTo>
                        <a:pt x="336" y="109"/>
                      </a:lnTo>
                      <a:lnTo>
                        <a:pt x="310" y="165"/>
                      </a:lnTo>
                      <a:lnTo>
                        <a:pt x="274" y="188"/>
                      </a:lnTo>
                      <a:lnTo>
                        <a:pt x="274" y="235"/>
                      </a:lnTo>
                      <a:lnTo>
                        <a:pt x="263" y="259"/>
                      </a:lnTo>
                      <a:lnTo>
                        <a:pt x="253" y="298"/>
                      </a:lnTo>
                      <a:lnTo>
                        <a:pt x="274" y="345"/>
                      </a:lnTo>
                      <a:lnTo>
                        <a:pt x="253" y="400"/>
                      </a:lnTo>
                      <a:lnTo>
                        <a:pt x="217" y="424"/>
                      </a:lnTo>
                      <a:lnTo>
                        <a:pt x="196" y="424"/>
                      </a:lnTo>
                      <a:lnTo>
                        <a:pt x="191" y="432"/>
                      </a:lnTo>
                      <a:lnTo>
                        <a:pt x="181" y="471"/>
                      </a:lnTo>
                      <a:lnTo>
                        <a:pt x="144" y="479"/>
                      </a:lnTo>
                      <a:lnTo>
                        <a:pt x="134" y="471"/>
                      </a:lnTo>
                      <a:lnTo>
                        <a:pt x="97" y="502"/>
                      </a:lnTo>
                      <a:lnTo>
                        <a:pt x="87" y="518"/>
                      </a:lnTo>
                      <a:lnTo>
                        <a:pt x="46" y="557"/>
                      </a:lnTo>
                      <a:lnTo>
                        <a:pt x="30" y="557"/>
                      </a:lnTo>
                      <a:lnTo>
                        <a:pt x="15" y="534"/>
                      </a:lnTo>
                      <a:lnTo>
                        <a:pt x="10" y="471"/>
                      </a:lnTo>
                      <a:lnTo>
                        <a:pt x="0" y="455"/>
                      </a:lnTo>
                      <a:lnTo>
                        <a:pt x="0" y="407"/>
                      </a:lnTo>
                      <a:lnTo>
                        <a:pt x="30" y="384"/>
                      </a:lnTo>
                      <a:lnTo>
                        <a:pt x="51" y="360"/>
                      </a:lnTo>
                      <a:lnTo>
                        <a:pt x="67" y="306"/>
                      </a:lnTo>
                      <a:lnTo>
                        <a:pt x="97" y="306"/>
                      </a:lnTo>
                      <a:lnTo>
                        <a:pt x="108" y="321"/>
                      </a:lnTo>
                      <a:lnTo>
                        <a:pt x="144" y="306"/>
                      </a:lnTo>
                      <a:lnTo>
                        <a:pt x="108" y="298"/>
                      </a:lnTo>
                      <a:lnTo>
                        <a:pt x="82" y="165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294080" y="2057400"/>
                  <a:ext cx="140040" cy="362160"/>
                </a:xfrm>
                <a:custGeom>
                  <a:avLst/>
                  <a:gdLst/>
                  <a:ahLst/>
                  <a:rect l="0" t="0" r="r" b="b"/>
                  <a:pathLst>
                    <a:path w="389" h="1006">
                      <a:moveTo>
                        <a:pt x="124" y="148"/>
                      </a:moveTo>
                      <a:lnTo>
                        <a:pt x="150" y="116"/>
                      </a:lnTo>
                      <a:lnTo>
                        <a:pt x="228" y="124"/>
                      </a:lnTo>
                      <a:lnTo>
                        <a:pt x="239" y="101"/>
                      </a:lnTo>
                      <a:lnTo>
                        <a:pt x="254" y="62"/>
                      </a:lnTo>
                      <a:lnTo>
                        <a:pt x="275" y="62"/>
                      </a:lnTo>
                      <a:lnTo>
                        <a:pt x="290" y="54"/>
                      </a:lnTo>
                      <a:lnTo>
                        <a:pt x="311" y="23"/>
                      </a:lnTo>
                      <a:lnTo>
                        <a:pt x="347" y="0"/>
                      </a:lnTo>
                      <a:lnTo>
                        <a:pt x="389" y="23"/>
                      </a:lnTo>
                      <a:lnTo>
                        <a:pt x="378" y="62"/>
                      </a:lnTo>
                      <a:lnTo>
                        <a:pt x="363" y="101"/>
                      </a:lnTo>
                      <a:lnTo>
                        <a:pt x="347" y="116"/>
                      </a:lnTo>
                      <a:lnTo>
                        <a:pt x="332" y="124"/>
                      </a:lnTo>
                      <a:lnTo>
                        <a:pt x="285" y="148"/>
                      </a:lnTo>
                      <a:lnTo>
                        <a:pt x="285" y="194"/>
                      </a:lnTo>
                      <a:lnTo>
                        <a:pt x="290" y="218"/>
                      </a:lnTo>
                      <a:lnTo>
                        <a:pt x="337" y="194"/>
                      </a:lnTo>
                      <a:lnTo>
                        <a:pt x="378" y="171"/>
                      </a:lnTo>
                      <a:lnTo>
                        <a:pt x="389" y="194"/>
                      </a:lnTo>
                      <a:lnTo>
                        <a:pt x="389" y="272"/>
                      </a:lnTo>
                      <a:lnTo>
                        <a:pt x="352" y="288"/>
                      </a:lnTo>
                      <a:lnTo>
                        <a:pt x="326" y="288"/>
                      </a:lnTo>
                      <a:lnTo>
                        <a:pt x="301" y="319"/>
                      </a:lnTo>
                      <a:lnTo>
                        <a:pt x="290" y="342"/>
                      </a:lnTo>
                      <a:lnTo>
                        <a:pt x="290" y="381"/>
                      </a:lnTo>
                      <a:lnTo>
                        <a:pt x="311" y="428"/>
                      </a:lnTo>
                      <a:lnTo>
                        <a:pt x="337" y="467"/>
                      </a:lnTo>
                      <a:lnTo>
                        <a:pt x="352" y="498"/>
                      </a:lnTo>
                      <a:lnTo>
                        <a:pt x="363" y="546"/>
                      </a:lnTo>
                      <a:lnTo>
                        <a:pt x="373" y="601"/>
                      </a:lnTo>
                      <a:lnTo>
                        <a:pt x="389" y="663"/>
                      </a:lnTo>
                      <a:lnTo>
                        <a:pt x="389" y="741"/>
                      </a:lnTo>
                      <a:lnTo>
                        <a:pt x="373" y="788"/>
                      </a:lnTo>
                      <a:lnTo>
                        <a:pt x="337" y="834"/>
                      </a:lnTo>
                      <a:lnTo>
                        <a:pt x="332" y="850"/>
                      </a:lnTo>
                      <a:lnTo>
                        <a:pt x="347" y="905"/>
                      </a:lnTo>
                      <a:lnTo>
                        <a:pt x="363" y="944"/>
                      </a:lnTo>
                      <a:lnTo>
                        <a:pt x="311" y="944"/>
                      </a:lnTo>
                      <a:lnTo>
                        <a:pt x="275" y="944"/>
                      </a:lnTo>
                      <a:lnTo>
                        <a:pt x="254" y="936"/>
                      </a:lnTo>
                      <a:lnTo>
                        <a:pt x="228" y="936"/>
                      </a:lnTo>
                      <a:lnTo>
                        <a:pt x="186" y="944"/>
                      </a:lnTo>
                      <a:lnTo>
                        <a:pt x="150" y="967"/>
                      </a:lnTo>
                      <a:lnTo>
                        <a:pt x="124" y="967"/>
                      </a:lnTo>
                      <a:lnTo>
                        <a:pt x="103" y="983"/>
                      </a:lnTo>
                      <a:lnTo>
                        <a:pt x="62" y="1006"/>
                      </a:lnTo>
                      <a:lnTo>
                        <a:pt x="56" y="990"/>
                      </a:lnTo>
                      <a:lnTo>
                        <a:pt x="41" y="967"/>
                      </a:lnTo>
                      <a:lnTo>
                        <a:pt x="15" y="959"/>
                      </a:lnTo>
                      <a:lnTo>
                        <a:pt x="0" y="944"/>
                      </a:lnTo>
                      <a:lnTo>
                        <a:pt x="0" y="905"/>
                      </a:lnTo>
                      <a:lnTo>
                        <a:pt x="15" y="834"/>
                      </a:lnTo>
                      <a:lnTo>
                        <a:pt x="41" y="834"/>
                      </a:lnTo>
                      <a:lnTo>
                        <a:pt x="62" y="834"/>
                      </a:lnTo>
                      <a:lnTo>
                        <a:pt x="98" y="834"/>
                      </a:lnTo>
                      <a:lnTo>
                        <a:pt x="98" y="811"/>
                      </a:lnTo>
                      <a:lnTo>
                        <a:pt x="62" y="788"/>
                      </a:lnTo>
                      <a:lnTo>
                        <a:pt x="62" y="757"/>
                      </a:lnTo>
                      <a:lnTo>
                        <a:pt x="62" y="733"/>
                      </a:lnTo>
                      <a:lnTo>
                        <a:pt x="98" y="702"/>
                      </a:lnTo>
                      <a:lnTo>
                        <a:pt x="113" y="694"/>
                      </a:lnTo>
                      <a:lnTo>
                        <a:pt x="134" y="679"/>
                      </a:lnTo>
                      <a:lnTo>
                        <a:pt x="155" y="679"/>
                      </a:lnTo>
                      <a:lnTo>
                        <a:pt x="175" y="663"/>
                      </a:lnTo>
                      <a:lnTo>
                        <a:pt x="186" y="569"/>
                      </a:lnTo>
                      <a:lnTo>
                        <a:pt x="202" y="498"/>
                      </a:lnTo>
                      <a:lnTo>
                        <a:pt x="202" y="467"/>
                      </a:lnTo>
                      <a:lnTo>
                        <a:pt x="150" y="444"/>
                      </a:lnTo>
                      <a:lnTo>
                        <a:pt x="160" y="389"/>
                      </a:lnTo>
                      <a:lnTo>
                        <a:pt x="124" y="358"/>
                      </a:lnTo>
                      <a:lnTo>
                        <a:pt x="87" y="366"/>
                      </a:lnTo>
                      <a:lnTo>
                        <a:pt x="134" y="288"/>
                      </a:lnTo>
                      <a:lnTo>
                        <a:pt x="124" y="148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25560">
                  <a:solidFill>
                    <a:srgbClr val="000000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"/>
              <p:cNvSpPr/>
              <p:nvPr/>
            </p:nvSpPr>
            <p:spPr>
              <a:xfrm>
                <a:off x="3851280" y="1459080"/>
                <a:ext cx="829080" cy="601920"/>
              </a:xfrm>
              <a:custGeom>
                <a:avLst/>
                <a:gdLst/>
                <a:ahLst/>
                <a:rect l="0" t="0" r="r" b="b"/>
                <a:pathLst>
                  <a:path w="2303" h="1672">
                    <a:moveTo>
                      <a:pt x="0" y="1672"/>
                    </a:moveTo>
                    <a:lnTo>
                      <a:pt x="147" y="1633"/>
                    </a:lnTo>
                    <a:lnTo>
                      <a:pt x="194" y="1571"/>
                    </a:lnTo>
                    <a:lnTo>
                      <a:pt x="231" y="1516"/>
                    </a:lnTo>
                    <a:lnTo>
                      <a:pt x="247" y="1477"/>
                    </a:lnTo>
                    <a:lnTo>
                      <a:pt x="283" y="1477"/>
                    </a:lnTo>
                    <a:lnTo>
                      <a:pt x="310" y="1446"/>
                    </a:lnTo>
                    <a:lnTo>
                      <a:pt x="357" y="1446"/>
                    </a:lnTo>
                    <a:lnTo>
                      <a:pt x="383" y="1446"/>
                    </a:lnTo>
                    <a:lnTo>
                      <a:pt x="415" y="1446"/>
                    </a:lnTo>
                    <a:lnTo>
                      <a:pt x="436" y="1446"/>
                    </a:lnTo>
                    <a:lnTo>
                      <a:pt x="467" y="1400"/>
                    </a:lnTo>
                    <a:lnTo>
                      <a:pt x="488" y="1361"/>
                    </a:lnTo>
                    <a:lnTo>
                      <a:pt x="530" y="1322"/>
                    </a:lnTo>
                    <a:lnTo>
                      <a:pt x="557" y="1306"/>
                    </a:lnTo>
                    <a:lnTo>
                      <a:pt x="589" y="1283"/>
                    </a:lnTo>
                    <a:lnTo>
                      <a:pt x="621" y="1275"/>
                    </a:lnTo>
                    <a:lnTo>
                      <a:pt x="652" y="1252"/>
                    </a:lnTo>
                    <a:lnTo>
                      <a:pt x="689" y="1229"/>
                    </a:lnTo>
                    <a:lnTo>
                      <a:pt x="715" y="1205"/>
                    </a:lnTo>
                    <a:lnTo>
                      <a:pt x="757" y="1167"/>
                    </a:lnTo>
                    <a:lnTo>
                      <a:pt x="805" y="1182"/>
                    </a:lnTo>
                    <a:lnTo>
                      <a:pt x="868" y="1205"/>
                    </a:lnTo>
                    <a:lnTo>
                      <a:pt x="936" y="1205"/>
                    </a:lnTo>
                    <a:lnTo>
                      <a:pt x="1015" y="1167"/>
                    </a:lnTo>
                    <a:lnTo>
                      <a:pt x="1052" y="1159"/>
                    </a:lnTo>
                    <a:lnTo>
                      <a:pt x="1073" y="1081"/>
                    </a:lnTo>
                    <a:lnTo>
                      <a:pt x="1109" y="1034"/>
                    </a:lnTo>
                    <a:lnTo>
                      <a:pt x="1167" y="980"/>
                    </a:lnTo>
                    <a:lnTo>
                      <a:pt x="1183" y="933"/>
                    </a:lnTo>
                    <a:lnTo>
                      <a:pt x="1183" y="894"/>
                    </a:lnTo>
                    <a:lnTo>
                      <a:pt x="1236" y="856"/>
                    </a:lnTo>
                    <a:lnTo>
                      <a:pt x="1262" y="816"/>
                    </a:lnTo>
                    <a:lnTo>
                      <a:pt x="1278" y="785"/>
                    </a:lnTo>
                    <a:lnTo>
                      <a:pt x="1293" y="769"/>
                    </a:lnTo>
                    <a:lnTo>
                      <a:pt x="1383" y="699"/>
                    </a:lnTo>
                    <a:lnTo>
                      <a:pt x="1383" y="769"/>
                    </a:lnTo>
                    <a:lnTo>
                      <a:pt x="1362" y="808"/>
                    </a:lnTo>
                    <a:lnTo>
                      <a:pt x="1383" y="840"/>
                    </a:lnTo>
                    <a:lnTo>
                      <a:pt x="1435" y="856"/>
                    </a:lnTo>
                    <a:lnTo>
                      <a:pt x="1472" y="856"/>
                    </a:lnTo>
                    <a:lnTo>
                      <a:pt x="1509" y="816"/>
                    </a:lnTo>
                    <a:lnTo>
                      <a:pt x="1535" y="769"/>
                    </a:lnTo>
                    <a:lnTo>
                      <a:pt x="1535" y="738"/>
                    </a:lnTo>
                    <a:lnTo>
                      <a:pt x="1561" y="699"/>
                    </a:lnTo>
                    <a:lnTo>
                      <a:pt x="1561" y="660"/>
                    </a:lnTo>
                    <a:lnTo>
                      <a:pt x="1582" y="614"/>
                    </a:lnTo>
                    <a:lnTo>
                      <a:pt x="1598" y="598"/>
                    </a:lnTo>
                    <a:lnTo>
                      <a:pt x="1645" y="598"/>
                    </a:lnTo>
                    <a:lnTo>
                      <a:pt x="1731" y="598"/>
                    </a:lnTo>
                    <a:lnTo>
                      <a:pt x="1794" y="544"/>
                    </a:lnTo>
                    <a:lnTo>
                      <a:pt x="1857" y="466"/>
                    </a:lnTo>
                    <a:lnTo>
                      <a:pt x="1930" y="443"/>
                    </a:lnTo>
                    <a:lnTo>
                      <a:pt x="1988" y="388"/>
                    </a:lnTo>
                    <a:lnTo>
                      <a:pt x="2030" y="295"/>
                    </a:lnTo>
                    <a:lnTo>
                      <a:pt x="2125" y="194"/>
                    </a:lnTo>
                    <a:lnTo>
                      <a:pt x="2188" y="139"/>
                    </a:lnTo>
                    <a:lnTo>
                      <a:pt x="2240" y="93"/>
                    </a:lnTo>
                    <a:lnTo>
                      <a:pt x="2303" y="31"/>
                    </a:lnTo>
                    <a:lnTo>
                      <a:pt x="2198" y="0"/>
                    </a:lnTo>
                    <a:lnTo>
                      <a:pt x="2093" y="0"/>
                    </a:lnTo>
                    <a:lnTo>
                      <a:pt x="1993" y="54"/>
                    </a:lnTo>
                    <a:lnTo>
                      <a:pt x="1941" y="93"/>
                    </a:lnTo>
                    <a:lnTo>
                      <a:pt x="1857" y="116"/>
                    </a:lnTo>
                    <a:lnTo>
                      <a:pt x="1767" y="124"/>
                    </a:lnTo>
                    <a:lnTo>
                      <a:pt x="1719" y="147"/>
                    </a:lnTo>
                    <a:lnTo>
                      <a:pt x="1598" y="209"/>
                    </a:lnTo>
                    <a:lnTo>
                      <a:pt x="1535" y="248"/>
                    </a:lnTo>
                    <a:lnTo>
                      <a:pt x="1467" y="279"/>
                    </a:lnTo>
                    <a:lnTo>
                      <a:pt x="1383" y="303"/>
                    </a:lnTo>
                    <a:lnTo>
                      <a:pt x="1293" y="342"/>
                    </a:lnTo>
                    <a:lnTo>
                      <a:pt x="1220" y="388"/>
                    </a:lnTo>
                    <a:lnTo>
                      <a:pt x="1162" y="443"/>
                    </a:lnTo>
                    <a:lnTo>
                      <a:pt x="1109" y="513"/>
                    </a:lnTo>
                    <a:lnTo>
                      <a:pt x="1062" y="559"/>
                    </a:lnTo>
                    <a:lnTo>
                      <a:pt x="1015" y="598"/>
                    </a:lnTo>
                    <a:lnTo>
                      <a:pt x="915" y="660"/>
                    </a:lnTo>
                    <a:lnTo>
                      <a:pt x="826" y="738"/>
                    </a:lnTo>
                    <a:lnTo>
                      <a:pt x="715" y="816"/>
                    </a:lnTo>
                    <a:lnTo>
                      <a:pt x="642" y="933"/>
                    </a:lnTo>
                    <a:lnTo>
                      <a:pt x="551" y="1011"/>
                    </a:lnTo>
                    <a:lnTo>
                      <a:pt x="478" y="1065"/>
                    </a:lnTo>
                    <a:lnTo>
                      <a:pt x="399" y="1167"/>
                    </a:lnTo>
                    <a:lnTo>
                      <a:pt x="346" y="1236"/>
                    </a:lnTo>
                    <a:lnTo>
                      <a:pt x="283" y="1306"/>
                    </a:lnTo>
                    <a:lnTo>
                      <a:pt x="210" y="1361"/>
                    </a:lnTo>
                    <a:lnTo>
                      <a:pt x="147" y="1400"/>
                    </a:lnTo>
                    <a:lnTo>
                      <a:pt x="0" y="1672"/>
                    </a:lnTo>
                    <a:close/>
                  </a:path>
                </a:pathLst>
              </a:custGeom>
              <a:solidFill>
                <a:srgbClr val="00279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5318280" y="4896000"/>
              <a:ext cx="244800" cy="584640"/>
            </a:xfrm>
            <a:custGeom>
              <a:avLst/>
              <a:gdLst/>
              <a:ahLst/>
              <a:rect l="0" t="0" r="r" b="b"/>
              <a:pathLst>
                <a:path w="680" h="1624">
                  <a:moveTo>
                    <a:pt x="125" y="518"/>
                  </a:moveTo>
                  <a:lnTo>
                    <a:pt x="109" y="835"/>
                  </a:lnTo>
                  <a:lnTo>
                    <a:pt x="52" y="1044"/>
                  </a:lnTo>
                  <a:lnTo>
                    <a:pt x="0" y="1230"/>
                  </a:lnTo>
                  <a:lnTo>
                    <a:pt x="0" y="1377"/>
                  </a:lnTo>
                  <a:lnTo>
                    <a:pt x="15" y="1493"/>
                  </a:lnTo>
                  <a:lnTo>
                    <a:pt x="73" y="1601"/>
                  </a:lnTo>
                  <a:lnTo>
                    <a:pt x="125" y="1617"/>
                  </a:lnTo>
                  <a:lnTo>
                    <a:pt x="172" y="1617"/>
                  </a:lnTo>
                  <a:lnTo>
                    <a:pt x="219" y="1624"/>
                  </a:lnTo>
                  <a:lnTo>
                    <a:pt x="250" y="1547"/>
                  </a:lnTo>
                  <a:lnTo>
                    <a:pt x="271" y="1323"/>
                  </a:lnTo>
                  <a:lnTo>
                    <a:pt x="350" y="1183"/>
                  </a:lnTo>
                  <a:lnTo>
                    <a:pt x="366" y="974"/>
                  </a:lnTo>
                  <a:lnTo>
                    <a:pt x="403" y="881"/>
                  </a:lnTo>
                  <a:lnTo>
                    <a:pt x="434" y="827"/>
                  </a:lnTo>
                  <a:lnTo>
                    <a:pt x="460" y="665"/>
                  </a:lnTo>
                  <a:lnTo>
                    <a:pt x="507" y="580"/>
                  </a:lnTo>
                  <a:lnTo>
                    <a:pt x="544" y="511"/>
                  </a:lnTo>
                  <a:lnTo>
                    <a:pt x="580" y="441"/>
                  </a:lnTo>
                  <a:lnTo>
                    <a:pt x="580" y="410"/>
                  </a:lnTo>
                  <a:lnTo>
                    <a:pt x="653" y="324"/>
                  </a:lnTo>
                  <a:lnTo>
                    <a:pt x="664" y="177"/>
                  </a:lnTo>
                  <a:lnTo>
                    <a:pt x="680" y="92"/>
                  </a:lnTo>
                  <a:lnTo>
                    <a:pt x="617" y="61"/>
                  </a:lnTo>
                  <a:lnTo>
                    <a:pt x="570" y="0"/>
                  </a:lnTo>
                  <a:lnTo>
                    <a:pt x="507" y="61"/>
                  </a:lnTo>
                  <a:lnTo>
                    <a:pt x="460" y="200"/>
                  </a:lnTo>
                  <a:lnTo>
                    <a:pt x="403" y="309"/>
                  </a:lnTo>
                  <a:lnTo>
                    <a:pt x="350" y="394"/>
                  </a:lnTo>
                  <a:lnTo>
                    <a:pt x="323" y="394"/>
                  </a:lnTo>
                  <a:lnTo>
                    <a:pt x="271" y="441"/>
                  </a:lnTo>
                  <a:lnTo>
                    <a:pt x="250" y="495"/>
                  </a:lnTo>
                  <a:lnTo>
                    <a:pt x="125" y="518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33880" y="1511280"/>
              <a:ext cx="3346920" cy="2799000"/>
            </a:xfrm>
            <a:custGeom>
              <a:avLst/>
              <a:gdLst/>
              <a:ahLst/>
              <a:rect l="0" t="0" r="r" b="b"/>
              <a:pathLst>
                <a:path w="9297" h="7775">
                  <a:moveTo>
                    <a:pt x="0" y="3489"/>
                  </a:moveTo>
                  <a:lnTo>
                    <a:pt x="83" y="3379"/>
                  </a:lnTo>
                  <a:lnTo>
                    <a:pt x="130" y="3293"/>
                  </a:lnTo>
                  <a:lnTo>
                    <a:pt x="240" y="3293"/>
                  </a:lnTo>
                  <a:lnTo>
                    <a:pt x="366" y="3317"/>
                  </a:lnTo>
                  <a:lnTo>
                    <a:pt x="444" y="3270"/>
                  </a:lnTo>
                  <a:lnTo>
                    <a:pt x="539" y="3262"/>
                  </a:lnTo>
                  <a:lnTo>
                    <a:pt x="544" y="3114"/>
                  </a:lnTo>
                  <a:lnTo>
                    <a:pt x="596" y="3012"/>
                  </a:lnTo>
                  <a:lnTo>
                    <a:pt x="471" y="2911"/>
                  </a:lnTo>
                  <a:lnTo>
                    <a:pt x="455" y="2817"/>
                  </a:lnTo>
                  <a:lnTo>
                    <a:pt x="465" y="2700"/>
                  </a:lnTo>
                  <a:lnTo>
                    <a:pt x="560" y="2700"/>
                  </a:lnTo>
                  <a:lnTo>
                    <a:pt x="617" y="2692"/>
                  </a:lnTo>
                  <a:lnTo>
                    <a:pt x="628" y="2700"/>
                  </a:lnTo>
                  <a:lnTo>
                    <a:pt x="690" y="2622"/>
                  </a:lnTo>
                  <a:lnTo>
                    <a:pt x="764" y="2599"/>
                  </a:lnTo>
                  <a:lnTo>
                    <a:pt x="785" y="2599"/>
                  </a:lnTo>
                  <a:lnTo>
                    <a:pt x="826" y="2521"/>
                  </a:lnTo>
                  <a:lnTo>
                    <a:pt x="884" y="2497"/>
                  </a:lnTo>
                  <a:lnTo>
                    <a:pt x="931" y="2365"/>
                  </a:lnTo>
                  <a:lnTo>
                    <a:pt x="968" y="2404"/>
                  </a:lnTo>
                  <a:lnTo>
                    <a:pt x="1031" y="2318"/>
                  </a:lnTo>
                  <a:lnTo>
                    <a:pt x="1041" y="2318"/>
                  </a:lnTo>
                  <a:lnTo>
                    <a:pt x="1130" y="2216"/>
                  </a:lnTo>
                  <a:lnTo>
                    <a:pt x="1177" y="2201"/>
                  </a:lnTo>
                  <a:lnTo>
                    <a:pt x="1245" y="2201"/>
                  </a:lnTo>
                  <a:lnTo>
                    <a:pt x="1287" y="2201"/>
                  </a:lnTo>
                  <a:lnTo>
                    <a:pt x="1250" y="2084"/>
                  </a:lnTo>
                  <a:lnTo>
                    <a:pt x="1240" y="1982"/>
                  </a:lnTo>
                  <a:lnTo>
                    <a:pt x="1219" y="1787"/>
                  </a:lnTo>
                  <a:lnTo>
                    <a:pt x="1324" y="1771"/>
                  </a:lnTo>
                  <a:lnTo>
                    <a:pt x="1376" y="1732"/>
                  </a:lnTo>
                  <a:lnTo>
                    <a:pt x="1345" y="1826"/>
                  </a:lnTo>
                  <a:lnTo>
                    <a:pt x="1392" y="1881"/>
                  </a:lnTo>
                  <a:lnTo>
                    <a:pt x="1428" y="1951"/>
                  </a:lnTo>
                  <a:lnTo>
                    <a:pt x="1455" y="2006"/>
                  </a:lnTo>
                  <a:lnTo>
                    <a:pt x="1575" y="1982"/>
                  </a:lnTo>
                  <a:lnTo>
                    <a:pt x="1685" y="1810"/>
                  </a:lnTo>
                  <a:lnTo>
                    <a:pt x="1753" y="1725"/>
                  </a:lnTo>
                  <a:lnTo>
                    <a:pt x="1795" y="1662"/>
                  </a:lnTo>
                  <a:lnTo>
                    <a:pt x="1847" y="1584"/>
                  </a:lnTo>
                  <a:lnTo>
                    <a:pt x="1899" y="1490"/>
                  </a:lnTo>
                  <a:lnTo>
                    <a:pt x="1941" y="1537"/>
                  </a:lnTo>
                  <a:lnTo>
                    <a:pt x="1941" y="1475"/>
                  </a:lnTo>
                  <a:lnTo>
                    <a:pt x="1968" y="1428"/>
                  </a:lnTo>
                  <a:lnTo>
                    <a:pt x="2046" y="1459"/>
                  </a:lnTo>
                  <a:lnTo>
                    <a:pt x="2166" y="1615"/>
                  </a:lnTo>
                  <a:lnTo>
                    <a:pt x="2145" y="1178"/>
                  </a:lnTo>
                  <a:lnTo>
                    <a:pt x="2041" y="1381"/>
                  </a:lnTo>
                  <a:lnTo>
                    <a:pt x="1947" y="1365"/>
                  </a:lnTo>
                  <a:lnTo>
                    <a:pt x="1920" y="1241"/>
                  </a:lnTo>
                  <a:lnTo>
                    <a:pt x="1920" y="1178"/>
                  </a:lnTo>
                  <a:lnTo>
                    <a:pt x="1899" y="1139"/>
                  </a:lnTo>
                  <a:lnTo>
                    <a:pt x="1968" y="1045"/>
                  </a:lnTo>
                  <a:lnTo>
                    <a:pt x="2009" y="983"/>
                  </a:lnTo>
                  <a:lnTo>
                    <a:pt x="2051" y="960"/>
                  </a:lnTo>
                  <a:lnTo>
                    <a:pt x="2088" y="936"/>
                  </a:lnTo>
                  <a:lnTo>
                    <a:pt x="2109" y="882"/>
                  </a:lnTo>
                  <a:lnTo>
                    <a:pt x="2145" y="866"/>
                  </a:lnTo>
                  <a:lnTo>
                    <a:pt x="2193" y="866"/>
                  </a:lnTo>
                  <a:lnTo>
                    <a:pt x="2109" y="764"/>
                  </a:lnTo>
                  <a:lnTo>
                    <a:pt x="2041" y="788"/>
                  </a:lnTo>
                  <a:lnTo>
                    <a:pt x="1983" y="788"/>
                  </a:lnTo>
                  <a:lnTo>
                    <a:pt x="1941" y="749"/>
                  </a:lnTo>
                  <a:lnTo>
                    <a:pt x="1941" y="811"/>
                  </a:lnTo>
                  <a:lnTo>
                    <a:pt x="1899" y="889"/>
                  </a:lnTo>
                  <a:lnTo>
                    <a:pt x="1842" y="1014"/>
                  </a:lnTo>
                  <a:lnTo>
                    <a:pt x="1784" y="1061"/>
                  </a:lnTo>
                  <a:lnTo>
                    <a:pt x="1737" y="1061"/>
                  </a:lnTo>
                  <a:lnTo>
                    <a:pt x="1722" y="1139"/>
                  </a:lnTo>
                  <a:lnTo>
                    <a:pt x="1722" y="1178"/>
                  </a:lnTo>
                  <a:lnTo>
                    <a:pt x="1685" y="1217"/>
                  </a:lnTo>
                  <a:lnTo>
                    <a:pt x="1732" y="1365"/>
                  </a:lnTo>
                  <a:lnTo>
                    <a:pt x="1753" y="1428"/>
                  </a:lnTo>
                  <a:lnTo>
                    <a:pt x="1701" y="1537"/>
                  </a:lnTo>
                  <a:lnTo>
                    <a:pt x="1648" y="1615"/>
                  </a:lnTo>
                  <a:lnTo>
                    <a:pt x="1627" y="1725"/>
                  </a:lnTo>
                  <a:lnTo>
                    <a:pt x="1591" y="1810"/>
                  </a:lnTo>
                  <a:lnTo>
                    <a:pt x="1559" y="1810"/>
                  </a:lnTo>
                  <a:lnTo>
                    <a:pt x="1502" y="1826"/>
                  </a:lnTo>
                  <a:lnTo>
                    <a:pt x="1455" y="1857"/>
                  </a:lnTo>
                  <a:lnTo>
                    <a:pt x="1439" y="1849"/>
                  </a:lnTo>
                  <a:lnTo>
                    <a:pt x="1439" y="1787"/>
                  </a:lnTo>
                  <a:lnTo>
                    <a:pt x="1428" y="1686"/>
                  </a:lnTo>
                  <a:lnTo>
                    <a:pt x="1392" y="1686"/>
                  </a:lnTo>
                  <a:lnTo>
                    <a:pt x="1360" y="1631"/>
                  </a:lnTo>
                  <a:lnTo>
                    <a:pt x="1376" y="1537"/>
                  </a:lnTo>
                  <a:lnTo>
                    <a:pt x="1381" y="1490"/>
                  </a:lnTo>
                  <a:lnTo>
                    <a:pt x="1376" y="1475"/>
                  </a:lnTo>
                  <a:lnTo>
                    <a:pt x="1339" y="1490"/>
                  </a:lnTo>
                  <a:lnTo>
                    <a:pt x="1324" y="1490"/>
                  </a:lnTo>
                  <a:lnTo>
                    <a:pt x="1292" y="1483"/>
                  </a:lnTo>
                  <a:lnTo>
                    <a:pt x="1282" y="1475"/>
                  </a:lnTo>
                  <a:lnTo>
                    <a:pt x="1240" y="1514"/>
                  </a:lnTo>
                  <a:lnTo>
                    <a:pt x="1193" y="1576"/>
                  </a:lnTo>
                  <a:lnTo>
                    <a:pt x="1146" y="1639"/>
                  </a:lnTo>
                  <a:lnTo>
                    <a:pt x="1057" y="1631"/>
                  </a:lnTo>
                  <a:lnTo>
                    <a:pt x="994" y="1615"/>
                  </a:lnTo>
                  <a:lnTo>
                    <a:pt x="952" y="1561"/>
                  </a:lnTo>
                  <a:lnTo>
                    <a:pt x="952" y="1514"/>
                  </a:lnTo>
                  <a:lnTo>
                    <a:pt x="984" y="1475"/>
                  </a:lnTo>
                  <a:lnTo>
                    <a:pt x="1020" y="1428"/>
                  </a:lnTo>
                  <a:lnTo>
                    <a:pt x="1041" y="1389"/>
                  </a:lnTo>
                  <a:lnTo>
                    <a:pt x="984" y="1405"/>
                  </a:lnTo>
                  <a:lnTo>
                    <a:pt x="952" y="1350"/>
                  </a:lnTo>
                  <a:lnTo>
                    <a:pt x="952" y="1311"/>
                  </a:lnTo>
                  <a:lnTo>
                    <a:pt x="1041" y="1303"/>
                  </a:lnTo>
                  <a:lnTo>
                    <a:pt x="1120" y="1287"/>
                  </a:lnTo>
                  <a:lnTo>
                    <a:pt x="1067" y="1256"/>
                  </a:lnTo>
                  <a:lnTo>
                    <a:pt x="989" y="1264"/>
                  </a:lnTo>
                  <a:lnTo>
                    <a:pt x="989" y="1194"/>
                  </a:lnTo>
                  <a:lnTo>
                    <a:pt x="1025" y="1139"/>
                  </a:lnTo>
                  <a:lnTo>
                    <a:pt x="1099" y="1092"/>
                  </a:lnTo>
                  <a:lnTo>
                    <a:pt x="1130" y="1045"/>
                  </a:lnTo>
                  <a:lnTo>
                    <a:pt x="1146" y="1022"/>
                  </a:lnTo>
                  <a:lnTo>
                    <a:pt x="1209" y="1014"/>
                  </a:lnTo>
                  <a:lnTo>
                    <a:pt x="1256" y="1022"/>
                  </a:lnTo>
                  <a:lnTo>
                    <a:pt x="1287" y="1045"/>
                  </a:lnTo>
                  <a:lnTo>
                    <a:pt x="1329" y="1014"/>
                  </a:lnTo>
                  <a:lnTo>
                    <a:pt x="1287" y="1006"/>
                  </a:lnTo>
                  <a:lnTo>
                    <a:pt x="1287" y="905"/>
                  </a:lnTo>
                  <a:lnTo>
                    <a:pt x="1397" y="788"/>
                  </a:lnTo>
                  <a:lnTo>
                    <a:pt x="1455" y="718"/>
                  </a:lnTo>
                  <a:lnTo>
                    <a:pt x="1491" y="710"/>
                  </a:lnTo>
                  <a:lnTo>
                    <a:pt x="1486" y="671"/>
                  </a:lnTo>
                  <a:lnTo>
                    <a:pt x="1538" y="593"/>
                  </a:lnTo>
                  <a:lnTo>
                    <a:pt x="1591" y="483"/>
                  </a:lnTo>
                  <a:lnTo>
                    <a:pt x="1659" y="437"/>
                  </a:lnTo>
                  <a:lnTo>
                    <a:pt x="1612" y="382"/>
                  </a:lnTo>
                  <a:lnTo>
                    <a:pt x="1748" y="273"/>
                  </a:lnTo>
                  <a:lnTo>
                    <a:pt x="1805" y="288"/>
                  </a:lnTo>
                  <a:lnTo>
                    <a:pt x="1795" y="226"/>
                  </a:lnTo>
                  <a:lnTo>
                    <a:pt x="1910" y="218"/>
                  </a:lnTo>
                  <a:lnTo>
                    <a:pt x="2140" y="23"/>
                  </a:lnTo>
                  <a:lnTo>
                    <a:pt x="2166" y="0"/>
                  </a:lnTo>
                  <a:lnTo>
                    <a:pt x="2125" y="148"/>
                  </a:lnTo>
                  <a:lnTo>
                    <a:pt x="2177" y="70"/>
                  </a:lnTo>
                  <a:lnTo>
                    <a:pt x="2240" y="46"/>
                  </a:lnTo>
                  <a:lnTo>
                    <a:pt x="2229" y="101"/>
                  </a:lnTo>
                  <a:lnTo>
                    <a:pt x="2403" y="39"/>
                  </a:lnTo>
                  <a:lnTo>
                    <a:pt x="2481" y="93"/>
                  </a:lnTo>
                  <a:lnTo>
                    <a:pt x="2366" y="148"/>
                  </a:lnTo>
                  <a:lnTo>
                    <a:pt x="2408" y="226"/>
                  </a:lnTo>
                  <a:lnTo>
                    <a:pt x="2576" y="218"/>
                  </a:lnTo>
                  <a:lnTo>
                    <a:pt x="2822" y="320"/>
                  </a:lnTo>
                  <a:lnTo>
                    <a:pt x="2811" y="444"/>
                  </a:lnTo>
                  <a:lnTo>
                    <a:pt x="2707" y="554"/>
                  </a:lnTo>
                  <a:lnTo>
                    <a:pt x="2555" y="616"/>
                  </a:lnTo>
                  <a:lnTo>
                    <a:pt x="2523" y="749"/>
                  </a:lnTo>
                  <a:lnTo>
                    <a:pt x="2534" y="866"/>
                  </a:lnTo>
                  <a:lnTo>
                    <a:pt x="2576" y="889"/>
                  </a:lnTo>
                  <a:lnTo>
                    <a:pt x="2586" y="960"/>
                  </a:lnTo>
                  <a:lnTo>
                    <a:pt x="2607" y="983"/>
                  </a:lnTo>
                  <a:lnTo>
                    <a:pt x="2633" y="1006"/>
                  </a:lnTo>
                  <a:lnTo>
                    <a:pt x="2644" y="1069"/>
                  </a:lnTo>
                  <a:lnTo>
                    <a:pt x="2696" y="1155"/>
                  </a:lnTo>
                  <a:lnTo>
                    <a:pt x="2696" y="1194"/>
                  </a:lnTo>
                  <a:lnTo>
                    <a:pt x="2743" y="1194"/>
                  </a:lnTo>
                  <a:lnTo>
                    <a:pt x="2769" y="1217"/>
                  </a:lnTo>
                  <a:lnTo>
                    <a:pt x="2811" y="1241"/>
                  </a:lnTo>
                  <a:lnTo>
                    <a:pt x="2832" y="1209"/>
                  </a:lnTo>
                  <a:lnTo>
                    <a:pt x="2858" y="1139"/>
                  </a:lnTo>
                  <a:lnTo>
                    <a:pt x="2879" y="1108"/>
                  </a:lnTo>
                  <a:lnTo>
                    <a:pt x="2916" y="1131"/>
                  </a:lnTo>
                  <a:lnTo>
                    <a:pt x="2968" y="1045"/>
                  </a:lnTo>
                  <a:lnTo>
                    <a:pt x="2968" y="983"/>
                  </a:lnTo>
                  <a:lnTo>
                    <a:pt x="2984" y="936"/>
                  </a:lnTo>
                  <a:lnTo>
                    <a:pt x="2989" y="905"/>
                  </a:lnTo>
                  <a:lnTo>
                    <a:pt x="3094" y="866"/>
                  </a:lnTo>
                  <a:lnTo>
                    <a:pt x="3178" y="835"/>
                  </a:lnTo>
                  <a:lnTo>
                    <a:pt x="3287" y="788"/>
                  </a:lnTo>
                  <a:lnTo>
                    <a:pt x="3424" y="811"/>
                  </a:lnTo>
                  <a:lnTo>
                    <a:pt x="3544" y="811"/>
                  </a:lnTo>
                  <a:lnTo>
                    <a:pt x="3753" y="811"/>
                  </a:lnTo>
                  <a:lnTo>
                    <a:pt x="3790" y="515"/>
                  </a:lnTo>
                  <a:lnTo>
                    <a:pt x="3905" y="530"/>
                  </a:lnTo>
                  <a:lnTo>
                    <a:pt x="3999" y="764"/>
                  </a:lnTo>
                  <a:lnTo>
                    <a:pt x="4010" y="562"/>
                  </a:lnTo>
                  <a:lnTo>
                    <a:pt x="4408" y="39"/>
                  </a:lnTo>
                  <a:lnTo>
                    <a:pt x="4554" y="39"/>
                  </a:lnTo>
                  <a:lnTo>
                    <a:pt x="4695" y="148"/>
                  </a:lnTo>
                  <a:lnTo>
                    <a:pt x="4873" y="132"/>
                  </a:lnTo>
                  <a:lnTo>
                    <a:pt x="5109" y="320"/>
                  </a:lnTo>
                  <a:lnTo>
                    <a:pt x="5381" y="437"/>
                  </a:lnTo>
                  <a:lnTo>
                    <a:pt x="5575" y="405"/>
                  </a:lnTo>
                  <a:lnTo>
                    <a:pt x="5831" y="530"/>
                  </a:lnTo>
                  <a:lnTo>
                    <a:pt x="6041" y="530"/>
                  </a:lnTo>
                  <a:lnTo>
                    <a:pt x="6145" y="444"/>
                  </a:lnTo>
                  <a:lnTo>
                    <a:pt x="6386" y="444"/>
                  </a:lnTo>
                  <a:lnTo>
                    <a:pt x="6512" y="538"/>
                  </a:lnTo>
                  <a:lnTo>
                    <a:pt x="6831" y="538"/>
                  </a:lnTo>
                  <a:lnTo>
                    <a:pt x="7104" y="710"/>
                  </a:lnTo>
                  <a:lnTo>
                    <a:pt x="7596" y="686"/>
                  </a:lnTo>
                  <a:lnTo>
                    <a:pt x="8386" y="764"/>
                  </a:lnTo>
                  <a:lnTo>
                    <a:pt x="8763" y="983"/>
                  </a:lnTo>
                  <a:lnTo>
                    <a:pt x="9088" y="1131"/>
                  </a:lnTo>
                  <a:lnTo>
                    <a:pt x="9297" y="1256"/>
                  </a:lnTo>
                  <a:lnTo>
                    <a:pt x="9234" y="1287"/>
                  </a:lnTo>
                  <a:lnTo>
                    <a:pt x="9088" y="1194"/>
                  </a:lnTo>
                  <a:lnTo>
                    <a:pt x="8758" y="1155"/>
                  </a:lnTo>
                  <a:lnTo>
                    <a:pt x="8852" y="1256"/>
                  </a:lnTo>
                  <a:lnTo>
                    <a:pt x="8999" y="1303"/>
                  </a:lnTo>
                  <a:lnTo>
                    <a:pt x="8952" y="1459"/>
                  </a:lnTo>
                  <a:lnTo>
                    <a:pt x="8800" y="1561"/>
                  </a:lnTo>
                  <a:lnTo>
                    <a:pt x="8753" y="1709"/>
                  </a:lnTo>
                  <a:lnTo>
                    <a:pt x="8952" y="1857"/>
                  </a:lnTo>
                  <a:lnTo>
                    <a:pt x="9098" y="2045"/>
                  </a:lnTo>
                  <a:lnTo>
                    <a:pt x="9172" y="2326"/>
                  </a:lnTo>
                  <a:lnTo>
                    <a:pt x="9077" y="2349"/>
                  </a:lnTo>
                  <a:lnTo>
                    <a:pt x="8873" y="2271"/>
                  </a:lnTo>
                  <a:lnTo>
                    <a:pt x="8664" y="2060"/>
                  </a:lnTo>
                  <a:lnTo>
                    <a:pt x="8580" y="1951"/>
                  </a:lnTo>
                  <a:lnTo>
                    <a:pt x="8533" y="1810"/>
                  </a:lnTo>
                  <a:lnTo>
                    <a:pt x="8481" y="1584"/>
                  </a:lnTo>
                  <a:lnTo>
                    <a:pt x="8397" y="1514"/>
                  </a:lnTo>
                  <a:lnTo>
                    <a:pt x="8313" y="1506"/>
                  </a:lnTo>
                  <a:lnTo>
                    <a:pt x="8250" y="1537"/>
                  </a:lnTo>
                  <a:lnTo>
                    <a:pt x="8329" y="1701"/>
                  </a:lnTo>
                  <a:lnTo>
                    <a:pt x="8125" y="1725"/>
                  </a:lnTo>
                  <a:lnTo>
                    <a:pt x="8031" y="1639"/>
                  </a:lnTo>
                  <a:lnTo>
                    <a:pt x="7847" y="1686"/>
                  </a:lnTo>
                  <a:lnTo>
                    <a:pt x="7717" y="1826"/>
                  </a:lnTo>
                  <a:lnTo>
                    <a:pt x="7717" y="1896"/>
                  </a:lnTo>
                  <a:lnTo>
                    <a:pt x="7769" y="2006"/>
                  </a:lnTo>
                  <a:lnTo>
                    <a:pt x="7978" y="2045"/>
                  </a:lnTo>
                  <a:lnTo>
                    <a:pt x="8146" y="2193"/>
                  </a:lnTo>
                  <a:lnTo>
                    <a:pt x="8434" y="2599"/>
                  </a:lnTo>
                  <a:lnTo>
                    <a:pt x="8554" y="2856"/>
                  </a:lnTo>
                  <a:lnTo>
                    <a:pt x="8570" y="3137"/>
                  </a:lnTo>
                  <a:lnTo>
                    <a:pt x="8543" y="3372"/>
                  </a:lnTo>
                  <a:lnTo>
                    <a:pt x="8481" y="3372"/>
                  </a:lnTo>
                  <a:lnTo>
                    <a:pt x="8397" y="3286"/>
                  </a:lnTo>
                  <a:lnTo>
                    <a:pt x="8292" y="3387"/>
                  </a:lnTo>
                  <a:lnTo>
                    <a:pt x="8182" y="3489"/>
                  </a:lnTo>
                  <a:lnTo>
                    <a:pt x="8161" y="3660"/>
                  </a:lnTo>
                  <a:lnTo>
                    <a:pt x="8287" y="3855"/>
                  </a:lnTo>
                  <a:lnTo>
                    <a:pt x="8203" y="4013"/>
                  </a:lnTo>
                  <a:lnTo>
                    <a:pt x="8182" y="4278"/>
                  </a:lnTo>
                  <a:lnTo>
                    <a:pt x="8329" y="4434"/>
                  </a:lnTo>
                  <a:lnTo>
                    <a:pt x="8486" y="4489"/>
                  </a:lnTo>
                  <a:lnTo>
                    <a:pt x="8653" y="4668"/>
                  </a:lnTo>
                  <a:lnTo>
                    <a:pt x="8800" y="4910"/>
                  </a:lnTo>
                  <a:lnTo>
                    <a:pt x="8805" y="5269"/>
                  </a:lnTo>
                  <a:lnTo>
                    <a:pt x="8758" y="5441"/>
                  </a:lnTo>
                  <a:lnTo>
                    <a:pt x="8606" y="5589"/>
                  </a:lnTo>
                  <a:lnTo>
                    <a:pt x="8413" y="5667"/>
                  </a:lnTo>
                  <a:lnTo>
                    <a:pt x="8297" y="5769"/>
                  </a:lnTo>
                  <a:lnTo>
                    <a:pt x="8235" y="5714"/>
                  </a:lnTo>
                  <a:lnTo>
                    <a:pt x="8177" y="5769"/>
                  </a:lnTo>
                  <a:lnTo>
                    <a:pt x="8151" y="6034"/>
                  </a:lnTo>
                  <a:lnTo>
                    <a:pt x="8198" y="6190"/>
                  </a:lnTo>
                  <a:lnTo>
                    <a:pt x="8386" y="6370"/>
                  </a:lnTo>
                  <a:lnTo>
                    <a:pt x="8460" y="6557"/>
                  </a:lnTo>
                  <a:lnTo>
                    <a:pt x="8517" y="6659"/>
                  </a:lnTo>
                  <a:lnTo>
                    <a:pt x="8507" y="6854"/>
                  </a:lnTo>
                  <a:lnTo>
                    <a:pt x="8386" y="7010"/>
                  </a:lnTo>
                  <a:lnTo>
                    <a:pt x="8256" y="7010"/>
                  </a:lnTo>
                  <a:lnTo>
                    <a:pt x="8051" y="6784"/>
                  </a:lnTo>
                  <a:lnTo>
                    <a:pt x="7905" y="6698"/>
                  </a:lnTo>
                  <a:lnTo>
                    <a:pt x="7847" y="6651"/>
                  </a:lnTo>
                  <a:lnTo>
                    <a:pt x="7790" y="6768"/>
                  </a:lnTo>
                  <a:lnTo>
                    <a:pt x="7805" y="6940"/>
                  </a:lnTo>
                  <a:lnTo>
                    <a:pt x="7853" y="7080"/>
                  </a:lnTo>
                  <a:lnTo>
                    <a:pt x="7889" y="7275"/>
                  </a:lnTo>
                  <a:lnTo>
                    <a:pt x="8025" y="7353"/>
                  </a:lnTo>
                  <a:lnTo>
                    <a:pt x="7978" y="7463"/>
                  </a:lnTo>
                  <a:lnTo>
                    <a:pt x="7989" y="7619"/>
                  </a:lnTo>
                  <a:lnTo>
                    <a:pt x="8031" y="7775"/>
                  </a:lnTo>
                  <a:lnTo>
                    <a:pt x="7942" y="7759"/>
                  </a:lnTo>
                  <a:lnTo>
                    <a:pt x="7847" y="7580"/>
                  </a:lnTo>
                  <a:lnTo>
                    <a:pt x="7853" y="7385"/>
                  </a:lnTo>
                  <a:lnTo>
                    <a:pt x="7826" y="7330"/>
                  </a:lnTo>
                  <a:lnTo>
                    <a:pt x="7790" y="7111"/>
                  </a:lnTo>
                  <a:lnTo>
                    <a:pt x="7748" y="7057"/>
                  </a:lnTo>
                  <a:lnTo>
                    <a:pt x="7732" y="6745"/>
                  </a:lnTo>
                  <a:lnTo>
                    <a:pt x="7675" y="6557"/>
                  </a:lnTo>
                  <a:lnTo>
                    <a:pt x="7570" y="6385"/>
                  </a:lnTo>
                  <a:lnTo>
                    <a:pt x="7382" y="6292"/>
                  </a:lnTo>
                  <a:lnTo>
                    <a:pt x="7251" y="6136"/>
                  </a:lnTo>
                  <a:lnTo>
                    <a:pt x="7204" y="6011"/>
                  </a:lnTo>
                  <a:lnTo>
                    <a:pt x="7104" y="5878"/>
                  </a:lnTo>
                  <a:lnTo>
                    <a:pt x="6957" y="5574"/>
                  </a:lnTo>
                  <a:lnTo>
                    <a:pt x="6831" y="5597"/>
                  </a:lnTo>
                  <a:lnTo>
                    <a:pt x="6658" y="5745"/>
                  </a:lnTo>
                  <a:lnTo>
                    <a:pt x="6585" y="5862"/>
                  </a:lnTo>
                  <a:lnTo>
                    <a:pt x="6438" y="6097"/>
                  </a:lnTo>
                  <a:lnTo>
                    <a:pt x="6318" y="6339"/>
                  </a:lnTo>
                  <a:lnTo>
                    <a:pt x="6281" y="6417"/>
                  </a:lnTo>
                  <a:lnTo>
                    <a:pt x="6318" y="6713"/>
                  </a:lnTo>
                  <a:lnTo>
                    <a:pt x="6313" y="6986"/>
                  </a:lnTo>
                  <a:lnTo>
                    <a:pt x="6182" y="7182"/>
                  </a:lnTo>
                  <a:lnTo>
                    <a:pt x="6098" y="7189"/>
                  </a:lnTo>
                  <a:lnTo>
                    <a:pt x="5936" y="6791"/>
                  </a:lnTo>
                  <a:lnTo>
                    <a:pt x="5810" y="6503"/>
                  </a:lnTo>
                  <a:lnTo>
                    <a:pt x="5554" y="5972"/>
                  </a:lnTo>
                  <a:lnTo>
                    <a:pt x="5549" y="5769"/>
                  </a:lnTo>
                  <a:lnTo>
                    <a:pt x="5491" y="5675"/>
                  </a:lnTo>
                  <a:lnTo>
                    <a:pt x="5444" y="5800"/>
                  </a:lnTo>
                  <a:lnTo>
                    <a:pt x="5229" y="5503"/>
                  </a:lnTo>
                  <a:lnTo>
                    <a:pt x="4926" y="5269"/>
                  </a:lnTo>
                  <a:lnTo>
                    <a:pt x="4743" y="5324"/>
                  </a:lnTo>
                  <a:lnTo>
                    <a:pt x="4470" y="5300"/>
                  </a:lnTo>
                  <a:lnTo>
                    <a:pt x="4345" y="5129"/>
                  </a:lnTo>
                  <a:lnTo>
                    <a:pt x="4198" y="5152"/>
                  </a:lnTo>
                  <a:lnTo>
                    <a:pt x="3999" y="5074"/>
                  </a:lnTo>
                  <a:lnTo>
                    <a:pt x="3570" y="4512"/>
                  </a:lnTo>
                  <a:lnTo>
                    <a:pt x="3596" y="4746"/>
                  </a:lnTo>
                  <a:lnTo>
                    <a:pt x="3727" y="5074"/>
                  </a:lnTo>
                  <a:lnTo>
                    <a:pt x="3863" y="5300"/>
                  </a:lnTo>
                  <a:lnTo>
                    <a:pt x="4015" y="5418"/>
                  </a:lnTo>
                  <a:lnTo>
                    <a:pt x="4193" y="5324"/>
                  </a:lnTo>
                  <a:lnTo>
                    <a:pt x="4324" y="5324"/>
                  </a:lnTo>
                  <a:lnTo>
                    <a:pt x="4507" y="5519"/>
                  </a:lnTo>
                  <a:lnTo>
                    <a:pt x="4606" y="5691"/>
                  </a:lnTo>
                  <a:lnTo>
                    <a:pt x="4591" y="5777"/>
                  </a:lnTo>
                  <a:lnTo>
                    <a:pt x="4287" y="6229"/>
                  </a:lnTo>
                  <a:lnTo>
                    <a:pt x="4083" y="6393"/>
                  </a:lnTo>
                  <a:lnTo>
                    <a:pt x="3654" y="6627"/>
                  </a:lnTo>
                  <a:lnTo>
                    <a:pt x="3533" y="6698"/>
                  </a:lnTo>
                  <a:lnTo>
                    <a:pt x="3450" y="6627"/>
                  </a:lnTo>
                  <a:lnTo>
                    <a:pt x="3424" y="6534"/>
                  </a:lnTo>
                  <a:lnTo>
                    <a:pt x="3424" y="6393"/>
                  </a:lnTo>
                  <a:lnTo>
                    <a:pt x="3387" y="6268"/>
                  </a:lnTo>
                  <a:lnTo>
                    <a:pt x="3324" y="6159"/>
                  </a:lnTo>
                  <a:lnTo>
                    <a:pt x="3277" y="6058"/>
                  </a:lnTo>
                  <a:lnTo>
                    <a:pt x="3199" y="5925"/>
                  </a:lnTo>
                  <a:lnTo>
                    <a:pt x="3151" y="5839"/>
                  </a:lnTo>
                  <a:lnTo>
                    <a:pt x="3125" y="5738"/>
                  </a:lnTo>
                  <a:lnTo>
                    <a:pt x="3062" y="5636"/>
                  </a:lnTo>
                  <a:lnTo>
                    <a:pt x="2968" y="5394"/>
                  </a:lnTo>
                  <a:lnTo>
                    <a:pt x="2916" y="5300"/>
                  </a:lnTo>
                  <a:lnTo>
                    <a:pt x="2848" y="5168"/>
                  </a:lnTo>
                  <a:lnTo>
                    <a:pt x="2738" y="4980"/>
                  </a:lnTo>
                  <a:lnTo>
                    <a:pt x="2680" y="4879"/>
                  </a:lnTo>
                  <a:lnTo>
                    <a:pt x="2628" y="4801"/>
                  </a:lnTo>
                  <a:lnTo>
                    <a:pt x="2570" y="4645"/>
                  </a:lnTo>
                  <a:lnTo>
                    <a:pt x="2743" y="4497"/>
                  </a:lnTo>
                  <a:lnTo>
                    <a:pt x="2822" y="4184"/>
                  </a:lnTo>
                  <a:lnTo>
                    <a:pt x="2659" y="4106"/>
                  </a:lnTo>
                  <a:lnTo>
                    <a:pt x="2413" y="4153"/>
                  </a:lnTo>
                  <a:lnTo>
                    <a:pt x="2366" y="4114"/>
                  </a:lnTo>
                  <a:lnTo>
                    <a:pt x="2340" y="4114"/>
                  </a:lnTo>
                  <a:lnTo>
                    <a:pt x="2302" y="4114"/>
                  </a:lnTo>
                  <a:lnTo>
                    <a:pt x="2276" y="4114"/>
                  </a:lnTo>
                  <a:lnTo>
                    <a:pt x="2266" y="4052"/>
                  </a:lnTo>
                  <a:lnTo>
                    <a:pt x="2255" y="4013"/>
                  </a:lnTo>
                  <a:lnTo>
                    <a:pt x="2255" y="3911"/>
                  </a:lnTo>
                  <a:lnTo>
                    <a:pt x="2214" y="3855"/>
                  </a:lnTo>
                  <a:lnTo>
                    <a:pt x="2203" y="3801"/>
                  </a:lnTo>
                  <a:lnTo>
                    <a:pt x="2177" y="3785"/>
                  </a:lnTo>
                  <a:lnTo>
                    <a:pt x="2156" y="3738"/>
                  </a:lnTo>
                  <a:lnTo>
                    <a:pt x="2145" y="3692"/>
                  </a:lnTo>
                  <a:lnTo>
                    <a:pt x="2125" y="3645"/>
                  </a:lnTo>
                  <a:lnTo>
                    <a:pt x="2109" y="3606"/>
                  </a:lnTo>
                  <a:lnTo>
                    <a:pt x="2056" y="3606"/>
                  </a:lnTo>
                  <a:lnTo>
                    <a:pt x="2020" y="3606"/>
                  </a:lnTo>
                  <a:lnTo>
                    <a:pt x="2009" y="3606"/>
                  </a:lnTo>
                  <a:lnTo>
                    <a:pt x="2004" y="3684"/>
                  </a:lnTo>
                  <a:lnTo>
                    <a:pt x="2004" y="3738"/>
                  </a:lnTo>
                  <a:lnTo>
                    <a:pt x="2004" y="3816"/>
                  </a:lnTo>
                  <a:lnTo>
                    <a:pt x="2004" y="3888"/>
                  </a:lnTo>
                  <a:lnTo>
                    <a:pt x="2004" y="3935"/>
                  </a:lnTo>
                  <a:lnTo>
                    <a:pt x="1957" y="3958"/>
                  </a:lnTo>
                  <a:lnTo>
                    <a:pt x="1920" y="4013"/>
                  </a:lnTo>
                  <a:lnTo>
                    <a:pt x="1868" y="3935"/>
                  </a:lnTo>
                  <a:lnTo>
                    <a:pt x="1842" y="3840"/>
                  </a:lnTo>
                  <a:lnTo>
                    <a:pt x="1847" y="3731"/>
                  </a:lnTo>
                  <a:lnTo>
                    <a:pt x="1795" y="3567"/>
                  </a:lnTo>
                  <a:lnTo>
                    <a:pt x="1769" y="3473"/>
                  </a:lnTo>
                  <a:lnTo>
                    <a:pt x="1711" y="3411"/>
                  </a:lnTo>
                  <a:lnTo>
                    <a:pt x="1648" y="3356"/>
                  </a:lnTo>
                  <a:lnTo>
                    <a:pt x="1612" y="3270"/>
                  </a:lnTo>
                  <a:lnTo>
                    <a:pt x="1585" y="3215"/>
                  </a:lnTo>
                  <a:lnTo>
                    <a:pt x="1528" y="3200"/>
                  </a:lnTo>
                  <a:lnTo>
                    <a:pt x="1502" y="3161"/>
                  </a:lnTo>
                  <a:lnTo>
                    <a:pt x="1465" y="3161"/>
                  </a:lnTo>
                  <a:lnTo>
                    <a:pt x="1428" y="3223"/>
                  </a:lnTo>
                  <a:lnTo>
                    <a:pt x="1397" y="3270"/>
                  </a:lnTo>
                  <a:lnTo>
                    <a:pt x="1476" y="3332"/>
                  </a:lnTo>
                  <a:lnTo>
                    <a:pt x="1512" y="3411"/>
                  </a:lnTo>
                  <a:lnTo>
                    <a:pt x="1591" y="3520"/>
                  </a:lnTo>
                  <a:lnTo>
                    <a:pt x="1627" y="3567"/>
                  </a:lnTo>
                  <a:lnTo>
                    <a:pt x="1685" y="3606"/>
                  </a:lnTo>
                  <a:lnTo>
                    <a:pt x="1732" y="3692"/>
                  </a:lnTo>
                  <a:lnTo>
                    <a:pt x="1685" y="3777"/>
                  </a:lnTo>
                  <a:lnTo>
                    <a:pt x="1664" y="3738"/>
                  </a:lnTo>
                  <a:lnTo>
                    <a:pt x="1664" y="3692"/>
                  </a:lnTo>
                  <a:lnTo>
                    <a:pt x="1648" y="3801"/>
                  </a:lnTo>
                  <a:lnTo>
                    <a:pt x="1638" y="3895"/>
                  </a:lnTo>
                  <a:lnTo>
                    <a:pt x="1585" y="3919"/>
                  </a:lnTo>
                  <a:lnTo>
                    <a:pt x="1601" y="3801"/>
                  </a:lnTo>
                  <a:lnTo>
                    <a:pt x="1591" y="3738"/>
                  </a:lnTo>
                  <a:lnTo>
                    <a:pt x="1538" y="3707"/>
                  </a:lnTo>
                  <a:lnTo>
                    <a:pt x="1502" y="3684"/>
                  </a:lnTo>
                  <a:lnTo>
                    <a:pt x="1486" y="3629"/>
                  </a:lnTo>
                  <a:lnTo>
                    <a:pt x="1428" y="3590"/>
                  </a:lnTo>
                  <a:lnTo>
                    <a:pt x="1397" y="3559"/>
                  </a:lnTo>
                  <a:lnTo>
                    <a:pt x="1360" y="3489"/>
                  </a:lnTo>
                  <a:lnTo>
                    <a:pt x="1324" y="3450"/>
                  </a:lnTo>
                  <a:lnTo>
                    <a:pt x="1292" y="3379"/>
                  </a:lnTo>
                  <a:lnTo>
                    <a:pt x="1287" y="3317"/>
                  </a:lnTo>
                  <a:lnTo>
                    <a:pt x="1250" y="3293"/>
                  </a:lnTo>
                  <a:lnTo>
                    <a:pt x="1219" y="3262"/>
                  </a:lnTo>
                  <a:lnTo>
                    <a:pt x="1146" y="3262"/>
                  </a:lnTo>
                  <a:lnTo>
                    <a:pt x="1093" y="3270"/>
                  </a:lnTo>
                  <a:lnTo>
                    <a:pt x="1025" y="3262"/>
                  </a:lnTo>
                  <a:lnTo>
                    <a:pt x="900" y="3270"/>
                  </a:lnTo>
                  <a:lnTo>
                    <a:pt x="821" y="3286"/>
                  </a:lnTo>
                  <a:lnTo>
                    <a:pt x="790" y="3309"/>
                  </a:lnTo>
                  <a:lnTo>
                    <a:pt x="785" y="3379"/>
                  </a:lnTo>
                  <a:lnTo>
                    <a:pt x="785" y="3465"/>
                  </a:lnTo>
                  <a:lnTo>
                    <a:pt x="738" y="3543"/>
                  </a:lnTo>
                  <a:lnTo>
                    <a:pt x="701" y="3582"/>
                  </a:lnTo>
                  <a:lnTo>
                    <a:pt x="685" y="3606"/>
                  </a:lnTo>
                  <a:lnTo>
                    <a:pt x="664" y="3684"/>
                  </a:lnTo>
                  <a:lnTo>
                    <a:pt x="638" y="3731"/>
                  </a:lnTo>
                  <a:lnTo>
                    <a:pt x="664" y="3762"/>
                  </a:lnTo>
                  <a:lnTo>
                    <a:pt x="664" y="3840"/>
                  </a:lnTo>
                  <a:lnTo>
                    <a:pt x="664" y="3871"/>
                  </a:lnTo>
                  <a:lnTo>
                    <a:pt x="638" y="3919"/>
                  </a:lnTo>
                  <a:lnTo>
                    <a:pt x="596" y="4013"/>
                  </a:lnTo>
                  <a:lnTo>
                    <a:pt x="575" y="3966"/>
                  </a:lnTo>
                  <a:lnTo>
                    <a:pt x="544" y="3989"/>
                  </a:lnTo>
                  <a:lnTo>
                    <a:pt x="518" y="4028"/>
                  </a:lnTo>
                  <a:lnTo>
                    <a:pt x="465" y="4036"/>
                  </a:lnTo>
                  <a:lnTo>
                    <a:pt x="413" y="4106"/>
                  </a:lnTo>
                  <a:lnTo>
                    <a:pt x="366" y="4114"/>
                  </a:lnTo>
                  <a:lnTo>
                    <a:pt x="308" y="4114"/>
                  </a:lnTo>
                  <a:lnTo>
                    <a:pt x="261" y="4114"/>
                  </a:lnTo>
                  <a:lnTo>
                    <a:pt x="151" y="4153"/>
                  </a:lnTo>
                  <a:lnTo>
                    <a:pt x="99" y="4153"/>
                  </a:lnTo>
                  <a:lnTo>
                    <a:pt x="73" y="4067"/>
                  </a:lnTo>
                  <a:lnTo>
                    <a:pt x="52" y="3958"/>
                  </a:lnTo>
                  <a:lnTo>
                    <a:pt x="26" y="3855"/>
                  </a:lnTo>
                  <a:lnTo>
                    <a:pt x="20" y="3762"/>
                  </a:lnTo>
                  <a:lnTo>
                    <a:pt x="20" y="3645"/>
                  </a:lnTo>
                  <a:lnTo>
                    <a:pt x="0" y="3489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8600" y="1679400"/>
              <a:ext cx="1986480" cy="2422800"/>
            </a:xfrm>
            <a:custGeom>
              <a:avLst/>
              <a:gdLst/>
              <a:ahLst/>
              <a:rect l="0" t="0" r="r" b="b"/>
              <a:pathLst>
                <a:path w="5518" h="6730">
                  <a:moveTo>
                    <a:pt x="0" y="1729"/>
                  </a:moveTo>
                  <a:lnTo>
                    <a:pt x="261" y="1495"/>
                  </a:lnTo>
                  <a:lnTo>
                    <a:pt x="419" y="1409"/>
                  </a:lnTo>
                  <a:lnTo>
                    <a:pt x="445" y="1261"/>
                  </a:lnTo>
                  <a:lnTo>
                    <a:pt x="319" y="1176"/>
                  </a:lnTo>
                  <a:lnTo>
                    <a:pt x="314" y="1012"/>
                  </a:lnTo>
                  <a:lnTo>
                    <a:pt x="361" y="965"/>
                  </a:lnTo>
                  <a:lnTo>
                    <a:pt x="356" y="887"/>
                  </a:lnTo>
                  <a:lnTo>
                    <a:pt x="560" y="864"/>
                  </a:lnTo>
                  <a:lnTo>
                    <a:pt x="612" y="732"/>
                  </a:lnTo>
                  <a:lnTo>
                    <a:pt x="618" y="607"/>
                  </a:lnTo>
                  <a:lnTo>
                    <a:pt x="791" y="576"/>
                  </a:lnTo>
                  <a:lnTo>
                    <a:pt x="806" y="459"/>
                  </a:lnTo>
                  <a:lnTo>
                    <a:pt x="644" y="420"/>
                  </a:lnTo>
                  <a:lnTo>
                    <a:pt x="717" y="327"/>
                  </a:lnTo>
                  <a:lnTo>
                    <a:pt x="984" y="327"/>
                  </a:lnTo>
                  <a:lnTo>
                    <a:pt x="1063" y="233"/>
                  </a:lnTo>
                  <a:lnTo>
                    <a:pt x="1173" y="225"/>
                  </a:lnTo>
                  <a:lnTo>
                    <a:pt x="1236" y="140"/>
                  </a:lnTo>
                  <a:lnTo>
                    <a:pt x="1325" y="288"/>
                  </a:lnTo>
                  <a:lnTo>
                    <a:pt x="1656" y="257"/>
                  </a:lnTo>
                  <a:lnTo>
                    <a:pt x="1803" y="405"/>
                  </a:lnTo>
                  <a:lnTo>
                    <a:pt x="2300" y="373"/>
                  </a:lnTo>
                  <a:lnTo>
                    <a:pt x="2384" y="303"/>
                  </a:lnTo>
                  <a:lnTo>
                    <a:pt x="2568" y="420"/>
                  </a:lnTo>
                  <a:lnTo>
                    <a:pt x="2761" y="521"/>
                  </a:lnTo>
                  <a:lnTo>
                    <a:pt x="2856" y="475"/>
                  </a:lnTo>
                  <a:lnTo>
                    <a:pt x="2913" y="420"/>
                  </a:lnTo>
                  <a:lnTo>
                    <a:pt x="3076" y="459"/>
                  </a:lnTo>
                  <a:lnTo>
                    <a:pt x="2966" y="373"/>
                  </a:lnTo>
                  <a:lnTo>
                    <a:pt x="2861" y="381"/>
                  </a:lnTo>
                  <a:lnTo>
                    <a:pt x="2709" y="405"/>
                  </a:lnTo>
                  <a:lnTo>
                    <a:pt x="2636" y="288"/>
                  </a:lnTo>
                  <a:lnTo>
                    <a:pt x="2547" y="225"/>
                  </a:lnTo>
                  <a:lnTo>
                    <a:pt x="2547" y="116"/>
                  </a:lnTo>
                  <a:lnTo>
                    <a:pt x="2568" y="7"/>
                  </a:lnTo>
                  <a:lnTo>
                    <a:pt x="2641" y="0"/>
                  </a:lnTo>
                  <a:lnTo>
                    <a:pt x="2740" y="93"/>
                  </a:lnTo>
                  <a:lnTo>
                    <a:pt x="2761" y="54"/>
                  </a:lnTo>
                  <a:lnTo>
                    <a:pt x="2840" y="0"/>
                  </a:lnTo>
                  <a:lnTo>
                    <a:pt x="2929" y="70"/>
                  </a:lnTo>
                  <a:lnTo>
                    <a:pt x="2976" y="7"/>
                  </a:lnTo>
                  <a:lnTo>
                    <a:pt x="3029" y="101"/>
                  </a:lnTo>
                  <a:lnTo>
                    <a:pt x="3039" y="179"/>
                  </a:lnTo>
                  <a:lnTo>
                    <a:pt x="3175" y="257"/>
                  </a:lnTo>
                  <a:lnTo>
                    <a:pt x="3123" y="327"/>
                  </a:lnTo>
                  <a:lnTo>
                    <a:pt x="3123" y="428"/>
                  </a:lnTo>
                  <a:lnTo>
                    <a:pt x="3359" y="459"/>
                  </a:lnTo>
                  <a:lnTo>
                    <a:pt x="3416" y="327"/>
                  </a:lnTo>
                  <a:lnTo>
                    <a:pt x="3369" y="272"/>
                  </a:lnTo>
                  <a:lnTo>
                    <a:pt x="3270" y="288"/>
                  </a:lnTo>
                  <a:lnTo>
                    <a:pt x="3296" y="140"/>
                  </a:lnTo>
                  <a:lnTo>
                    <a:pt x="3505" y="225"/>
                  </a:lnTo>
                  <a:lnTo>
                    <a:pt x="3542" y="327"/>
                  </a:lnTo>
                  <a:lnTo>
                    <a:pt x="3715" y="327"/>
                  </a:lnTo>
                  <a:lnTo>
                    <a:pt x="3872" y="443"/>
                  </a:lnTo>
                  <a:lnTo>
                    <a:pt x="3951" y="420"/>
                  </a:lnTo>
                  <a:lnTo>
                    <a:pt x="4050" y="521"/>
                  </a:lnTo>
                  <a:lnTo>
                    <a:pt x="3951" y="669"/>
                  </a:lnTo>
                  <a:lnTo>
                    <a:pt x="3877" y="560"/>
                  </a:lnTo>
                  <a:lnTo>
                    <a:pt x="3830" y="599"/>
                  </a:lnTo>
                  <a:lnTo>
                    <a:pt x="3757" y="677"/>
                  </a:lnTo>
                  <a:lnTo>
                    <a:pt x="3642" y="755"/>
                  </a:lnTo>
                  <a:lnTo>
                    <a:pt x="3704" y="864"/>
                  </a:lnTo>
                  <a:lnTo>
                    <a:pt x="3605" y="872"/>
                  </a:lnTo>
                  <a:lnTo>
                    <a:pt x="3516" y="1020"/>
                  </a:lnTo>
                  <a:lnTo>
                    <a:pt x="3432" y="1199"/>
                  </a:lnTo>
                  <a:lnTo>
                    <a:pt x="3558" y="1362"/>
                  </a:lnTo>
                  <a:lnTo>
                    <a:pt x="3662" y="1542"/>
                  </a:lnTo>
                  <a:lnTo>
                    <a:pt x="3841" y="1565"/>
                  </a:lnTo>
                  <a:lnTo>
                    <a:pt x="4019" y="1542"/>
                  </a:lnTo>
                  <a:lnTo>
                    <a:pt x="4092" y="1635"/>
                  </a:lnTo>
                  <a:lnTo>
                    <a:pt x="4055" y="1682"/>
                  </a:lnTo>
                  <a:lnTo>
                    <a:pt x="4003" y="1775"/>
                  </a:lnTo>
                  <a:lnTo>
                    <a:pt x="4087" y="1947"/>
                  </a:lnTo>
                  <a:lnTo>
                    <a:pt x="4108" y="2063"/>
                  </a:lnTo>
                  <a:lnTo>
                    <a:pt x="4203" y="2126"/>
                  </a:lnTo>
                  <a:lnTo>
                    <a:pt x="4334" y="2017"/>
                  </a:lnTo>
                  <a:lnTo>
                    <a:pt x="4297" y="1861"/>
                  </a:lnTo>
                  <a:lnTo>
                    <a:pt x="4187" y="1729"/>
                  </a:lnTo>
                  <a:lnTo>
                    <a:pt x="4313" y="1565"/>
                  </a:lnTo>
                  <a:lnTo>
                    <a:pt x="4203" y="1308"/>
                  </a:lnTo>
                  <a:lnTo>
                    <a:pt x="4097" y="1199"/>
                  </a:lnTo>
                  <a:lnTo>
                    <a:pt x="4187" y="1098"/>
                  </a:lnTo>
                  <a:lnTo>
                    <a:pt x="4172" y="965"/>
                  </a:lnTo>
                  <a:lnTo>
                    <a:pt x="4235" y="872"/>
                  </a:lnTo>
                  <a:lnTo>
                    <a:pt x="4334" y="965"/>
                  </a:lnTo>
                  <a:lnTo>
                    <a:pt x="4565" y="1269"/>
                  </a:lnTo>
                  <a:lnTo>
                    <a:pt x="4711" y="1316"/>
                  </a:lnTo>
                  <a:lnTo>
                    <a:pt x="4753" y="1238"/>
                  </a:lnTo>
                  <a:lnTo>
                    <a:pt x="4717" y="1067"/>
                  </a:lnTo>
                  <a:lnTo>
                    <a:pt x="4806" y="1098"/>
                  </a:lnTo>
                  <a:lnTo>
                    <a:pt x="4952" y="1285"/>
                  </a:lnTo>
                  <a:lnTo>
                    <a:pt x="4973" y="1394"/>
                  </a:lnTo>
                  <a:lnTo>
                    <a:pt x="5062" y="1464"/>
                  </a:lnTo>
                  <a:lnTo>
                    <a:pt x="5225" y="1542"/>
                  </a:lnTo>
                  <a:lnTo>
                    <a:pt x="5314" y="1713"/>
                  </a:lnTo>
                  <a:lnTo>
                    <a:pt x="5445" y="1814"/>
                  </a:lnTo>
                  <a:lnTo>
                    <a:pt x="5508" y="1853"/>
                  </a:lnTo>
                  <a:lnTo>
                    <a:pt x="5518" y="1947"/>
                  </a:lnTo>
                  <a:lnTo>
                    <a:pt x="5419" y="2009"/>
                  </a:lnTo>
                  <a:lnTo>
                    <a:pt x="5361" y="1931"/>
                  </a:lnTo>
                  <a:lnTo>
                    <a:pt x="5309" y="1947"/>
                  </a:lnTo>
                  <a:lnTo>
                    <a:pt x="5293" y="2102"/>
                  </a:lnTo>
                  <a:lnTo>
                    <a:pt x="5209" y="2134"/>
                  </a:lnTo>
                  <a:lnTo>
                    <a:pt x="5109" y="2056"/>
                  </a:lnTo>
                  <a:lnTo>
                    <a:pt x="4916" y="2056"/>
                  </a:lnTo>
                  <a:lnTo>
                    <a:pt x="4895" y="2235"/>
                  </a:lnTo>
                  <a:lnTo>
                    <a:pt x="4942" y="2352"/>
                  </a:lnTo>
                  <a:lnTo>
                    <a:pt x="5015" y="2282"/>
                  </a:lnTo>
                  <a:lnTo>
                    <a:pt x="5099" y="2258"/>
                  </a:lnTo>
                  <a:lnTo>
                    <a:pt x="5172" y="2328"/>
                  </a:lnTo>
                  <a:lnTo>
                    <a:pt x="5068" y="2453"/>
                  </a:lnTo>
                  <a:lnTo>
                    <a:pt x="5172" y="2577"/>
                  </a:lnTo>
                  <a:lnTo>
                    <a:pt x="5309" y="2601"/>
                  </a:lnTo>
                  <a:lnTo>
                    <a:pt x="5293" y="2679"/>
                  </a:lnTo>
                  <a:lnTo>
                    <a:pt x="5246" y="2694"/>
                  </a:lnTo>
                  <a:lnTo>
                    <a:pt x="5109" y="3099"/>
                  </a:lnTo>
                  <a:lnTo>
                    <a:pt x="5120" y="2835"/>
                  </a:lnTo>
                  <a:lnTo>
                    <a:pt x="5178" y="2702"/>
                  </a:lnTo>
                  <a:lnTo>
                    <a:pt x="5109" y="2648"/>
                  </a:lnTo>
                  <a:lnTo>
                    <a:pt x="5036" y="2733"/>
                  </a:lnTo>
                  <a:lnTo>
                    <a:pt x="5073" y="2796"/>
                  </a:lnTo>
                  <a:lnTo>
                    <a:pt x="5015" y="2850"/>
                  </a:lnTo>
                  <a:lnTo>
                    <a:pt x="4963" y="2912"/>
                  </a:lnTo>
                  <a:lnTo>
                    <a:pt x="4963" y="3092"/>
                  </a:lnTo>
                  <a:lnTo>
                    <a:pt x="4889" y="3146"/>
                  </a:lnTo>
                  <a:lnTo>
                    <a:pt x="4764" y="3177"/>
                  </a:lnTo>
                  <a:lnTo>
                    <a:pt x="4806" y="3271"/>
                  </a:lnTo>
                  <a:lnTo>
                    <a:pt x="4764" y="3388"/>
                  </a:lnTo>
                  <a:lnTo>
                    <a:pt x="4806" y="3466"/>
                  </a:lnTo>
                  <a:lnTo>
                    <a:pt x="4743" y="3646"/>
                  </a:lnTo>
                  <a:lnTo>
                    <a:pt x="4711" y="3817"/>
                  </a:lnTo>
                  <a:lnTo>
                    <a:pt x="4606" y="3910"/>
                  </a:lnTo>
                  <a:lnTo>
                    <a:pt x="4486" y="4175"/>
                  </a:lnTo>
                  <a:lnTo>
                    <a:pt x="4460" y="4354"/>
                  </a:lnTo>
                  <a:lnTo>
                    <a:pt x="4507" y="4502"/>
                  </a:lnTo>
                  <a:lnTo>
                    <a:pt x="4565" y="4681"/>
                  </a:lnTo>
                  <a:lnTo>
                    <a:pt x="4601" y="4876"/>
                  </a:lnTo>
                  <a:lnTo>
                    <a:pt x="4544" y="4954"/>
                  </a:lnTo>
                  <a:lnTo>
                    <a:pt x="4460" y="4899"/>
                  </a:lnTo>
                  <a:lnTo>
                    <a:pt x="4486" y="4798"/>
                  </a:lnTo>
                  <a:lnTo>
                    <a:pt x="4444" y="4580"/>
                  </a:lnTo>
                  <a:lnTo>
                    <a:pt x="4392" y="4549"/>
                  </a:lnTo>
                  <a:lnTo>
                    <a:pt x="4355" y="4417"/>
                  </a:lnTo>
                  <a:lnTo>
                    <a:pt x="4287" y="4417"/>
                  </a:lnTo>
                  <a:lnTo>
                    <a:pt x="4208" y="4339"/>
                  </a:lnTo>
                  <a:lnTo>
                    <a:pt x="4129" y="4362"/>
                  </a:lnTo>
                  <a:lnTo>
                    <a:pt x="4050" y="4323"/>
                  </a:lnTo>
                  <a:lnTo>
                    <a:pt x="3951" y="4378"/>
                  </a:lnTo>
                  <a:lnTo>
                    <a:pt x="3788" y="4331"/>
                  </a:lnTo>
                  <a:lnTo>
                    <a:pt x="3893" y="4487"/>
                  </a:lnTo>
                  <a:lnTo>
                    <a:pt x="3757" y="4479"/>
                  </a:lnTo>
                  <a:lnTo>
                    <a:pt x="3662" y="4354"/>
                  </a:lnTo>
                  <a:lnTo>
                    <a:pt x="3484" y="4354"/>
                  </a:lnTo>
                  <a:lnTo>
                    <a:pt x="3516" y="4549"/>
                  </a:lnTo>
                  <a:lnTo>
                    <a:pt x="3385" y="4487"/>
                  </a:lnTo>
                  <a:lnTo>
                    <a:pt x="3322" y="4681"/>
                  </a:lnTo>
                  <a:lnTo>
                    <a:pt x="3369" y="4767"/>
                  </a:lnTo>
                  <a:lnTo>
                    <a:pt x="3322" y="4993"/>
                  </a:lnTo>
                  <a:lnTo>
                    <a:pt x="3380" y="5266"/>
                  </a:lnTo>
                  <a:lnTo>
                    <a:pt x="3453" y="5437"/>
                  </a:lnTo>
                  <a:lnTo>
                    <a:pt x="3521" y="5608"/>
                  </a:lnTo>
                  <a:lnTo>
                    <a:pt x="3757" y="5593"/>
                  </a:lnTo>
                  <a:lnTo>
                    <a:pt x="3851" y="5561"/>
                  </a:lnTo>
                  <a:lnTo>
                    <a:pt x="3872" y="5437"/>
                  </a:lnTo>
                  <a:lnTo>
                    <a:pt x="3825" y="5343"/>
                  </a:lnTo>
                  <a:lnTo>
                    <a:pt x="3830" y="5266"/>
                  </a:lnTo>
                  <a:lnTo>
                    <a:pt x="3977" y="5281"/>
                  </a:lnTo>
                  <a:lnTo>
                    <a:pt x="4124" y="5242"/>
                  </a:lnTo>
                  <a:lnTo>
                    <a:pt x="4124" y="5343"/>
                  </a:lnTo>
                  <a:lnTo>
                    <a:pt x="4076" y="5499"/>
                  </a:lnTo>
                  <a:lnTo>
                    <a:pt x="4003" y="5616"/>
                  </a:lnTo>
                  <a:lnTo>
                    <a:pt x="3987" y="5787"/>
                  </a:lnTo>
                  <a:lnTo>
                    <a:pt x="4087" y="5857"/>
                  </a:lnTo>
                  <a:lnTo>
                    <a:pt x="4208" y="5834"/>
                  </a:lnTo>
                  <a:lnTo>
                    <a:pt x="4287" y="5896"/>
                  </a:lnTo>
                  <a:lnTo>
                    <a:pt x="4355" y="5865"/>
                  </a:lnTo>
                  <a:lnTo>
                    <a:pt x="4381" y="5982"/>
                  </a:lnTo>
                  <a:lnTo>
                    <a:pt x="4324" y="6153"/>
                  </a:lnTo>
                  <a:lnTo>
                    <a:pt x="4376" y="6239"/>
                  </a:lnTo>
                  <a:lnTo>
                    <a:pt x="4381" y="6434"/>
                  </a:lnTo>
                  <a:lnTo>
                    <a:pt x="4460" y="6574"/>
                  </a:lnTo>
                  <a:lnTo>
                    <a:pt x="4580" y="6605"/>
                  </a:lnTo>
                  <a:lnTo>
                    <a:pt x="4654" y="6574"/>
                  </a:lnTo>
                  <a:lnTo>
                    <a:pt x="4690" y="6582"/>
                  </a:lnTo>
                  <a:lnTo>
                    <a:pt x="4837" y="6582"/>
                  </a:lnTo>
                  <a:lnTo>
                    <a:pt x="4963" y="6597"/>
                  </a:lnTo>
                  <a:lnTo>
                    <a:pt x="4999" y="6512"/>
                  </a:lnTo>
                  <a:lnTo>
                    <a:pt x="4889" y="6652"/>
                  </a:lnTo>
                  <a:lnTo>
                    <a:pt x="4806" y="6644"/>
                  </a:lnTo>
                  <a:lnTo>
                    <a:pt x="4732" y="6652"/>
                  </a:lnTo>
                  <a:lnTo>
                    <a:pt x="4580" y="6730"/>
                  </a:lnTo>
                  <a:lnTo>
                    <a:pt x="4449" y="6628"/>
                  </a:lnTo>
                  <a:lnTo>
                    <a:pt x="4334" y="6574"/>
                  </a:lnTo>
                  <a:lnTo>
                    <a:pt x="4282" y="6582"/>
                  </a:lnTo>
                  <a:lnTo>
                    <a:pt x="4287" y="6496"/>
                  </a:lnTo>
                  <a:lnTo>
                    <a:pt x="4282" y="6364"/>
                  </a:lnTo>
                  <a:lnTo>
                    <a:pt x="4177" y="6239"/>
                  </a:lnTo>
                  <a:lnTo>
                    <a:pt x="3966" y="6177"/>
                  </a:lnTo>
                  <a:lnTo>
                    <a:pt x="3930" y="6114"/>
                  </a:lnTo>
                  <a:lnTo>
                    <a:pt x="3872" y="6130"/>
                  </a:lnTo>
                  <a:lnTo>
                    <a:pt x="3814" y="6068"/>
                  </a:lnTo>
                  <a:lnTo>
                    <a:pt x="3731" y="6005"/>
                  </a:lnTo>
                  <a:lnTo>
                    <a:pt x="3626" y="5834"/>
                  </a:lnTo>
                  <a:lnTo>
                    <a:pt x="3511" y="5787"/>
                  </a:lnTo>
                  <a:lnTo>
                    <a:pt x="3437" y="5896"/>
                  </a:lnTo>
                  <a:lnTo>
                    <a:pt x="3364" y="5818"/>
                  </a:lnTo>
                  <a:lnTo>
                    <a:pt x="3270" y="5818"/>
                  </a:lnTo>
                  <a:lnTo>
                    <a:pt x="3076" y="5748"/>
                  </a:lnTo>
                  <a:lnTo>
                    <a:pt x="2746" y="5460"/>
                  </a:lnTo>
                  <a:lnTo>
                    <a:pt x="2714" y="5164"/>
                  </a:lnTo>
                  <a:lnTo>
                    <a:pt x="2688" y="5047"/>
                  </a:lnTo>
                  <a:lnTo>
                    <a:pt x="2620" y="4954"/>
                  </a:lnTo>
                  <a:lnTo>
                    <a:pt x="2547" y="4798"/>
                  </a:lnTo>
                  <a:lnTo>
                    <a:pt x="2196" y="4206"/>
                  </a:lnTo>
                  <a:lnTo>
                    <a:pt x="2196" y="4432"/>
                  </a:lnTo>
                  <a:lnTo>
                    <a:pt x="2410" y="4806"/>
                  </a:lnTo>
                  <a:lnTo>
                    <a:pt x="2505" y="5141"/>
                  </a:lnTo>
                  <a:lnTo>
                    <a:pt x="2368" y="5071"/>
                  </a:lnTo>
                  <a:lnTo>
                    <a:pt x="2348" y="4876"/>
                  </a:lnTo>
                  <a:lnTo>
                    <a:pt x="2164" y="4751"/>
                  </a:lnTo>
                  <a:lnTo>
                    <a:pt x="2264" y="4681"/>
                  </a:lnTo>
                  <a:lnTo>
                    <a:pt x="2033" y="4479"/>
                  </a:lnTo>
                  <a:lnTo>
                    <a:pt x="2127" y="4354"/>
                  </a:lnTo>
                  <a:lnTo>
                    <a:pt x="2038" y="4113"/>
                  </a:lnTo>
                  <a:lnTo>
                    <a:pt x="1750" y="3607"/>
                  </a:lnTo>
                  <a:lnTo>
                    <a:pt x="1719" y="3317"/>
                  </a:lnTo>
                  <a:lnTo>
                    <a:pt x="1729" y="3092"/>
                  </a:lnTo>
                  <a:lnTo>
                    <a:pt x="1803" y="2850"/>
                  </a:lnTo>
                  <a:lnTo>
                    <a:pt x="1803" y="2601"/>
                  </a:lnTo>
                  <a:lnTo>
                    <a:pt x="1750" y="2461"/>
                  </a:lnTo>
                  <a:lnTo>
                    <a:pt x="1913" y="2422"/>
                  </a:lnTo>
                  <a:lnTo>
                    <a:pt x="1719" y="2126"/>
                  </a:lnTo>
                  <a:lnTo>
                    <a:pt x="1729" y="1986"/>
                  </a:lnTo>
                  <a:lnTo>
                    <a:pt x="1640" y="1814"/>
                  </a:lnTo>
                  <a:lnTo>
                    <a:pt x="1677" y="1713"/>
                  </a:lnTo>
                  <a:lnTo>
                    <a:pt x="1619" y="1643"/>
                  </a:lnTo>
                  <a:lnTo>
                    <a:pt x="1604" y="1518"/>
                  </a:lnTo>
                  <a:lnTo>
                    <a:pt x="1546" y="1433"/>
                  </a:lnTo>
                  <a:lnTo>
                    <a:pt x="1619" y="1347"/>
                  </a:lnTo>
                  <a:lnTo>
                    <a:pt x="1520" y="1285"/>
                  </a:lnTo>
                  <a:lnTo>
                    <a:pt x="1441" y="1370"/>
                  </a:lnTo>
                  <a:lnTo>
                    <a:pt x="1330" y="1199"/>
                  </a:lnTo>
                  <a:lnTo>
                    <a:pt x="1215" y="1152"/>
                  </a:lnTo>
                  <a:lnTo>
                    <a:pt x="1047" y="1152"/>
                  </a:lnTo>
                  <a:lnTo>
                    <a:pt x="932" y="1308"/>
                  </a:lnTo>
                  <a:lnTo>
                    <a:pt x="880" y="1261"/>
                  </a:lnTo>
                  <a:lnTo>
                    <a:pt x="974" y="1051"/>
                  </a:lnTo>
                  <a:lnTo>
                    <a:pt x="895" y="1098"/>
                  </a:lnTo>
                  <a:lnTo>
                    <a:pt x="717" y="1308"/>
                  </a:lnTo>
                  <a:lnTo>
                    <a:pt x="544" y="1495"/>
                  </a:lnTo>
                  <a:lnTo>
                    <a:pt x="387" y="1542"/>
                  </a:lnTo>
                  <a:lnTo>
                    <a:pt x="110" y="1736"/>
                  </a:lnTo>
                  <a:lnTo>
                    <a:pt x="0" y="1729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44480" y="1447920"/>
              <a:ext cx="678240" cy="632160"/>
            </a:xfrm>
            <a:custGeom>
              <a:avLst/>
              <a:gdLst/>
              <a:ahLst/>
              <a:rect l="0" t="0" r="r" b="b"/>
              <a:pathLst>
                <a:path w="1884" h="1756">
                  <a:moveTo>
                    <a:pt x="0" y="349"/>
                  </a:moveTo>
                  <a:lnTo>
                    <a:pt x="41" y="225"/>
                  </a:lnTo>
                  <a:lnTo>
                    <a:pt x="41" y="132"/>
                  </a:lnTo>
                  <a:lnTo>
                    <a:pt x="110" y="0"/>
                  </a:lnTo>
                  <a:lnTo>
                    <a:pt x="451" y="77"/>
                  </a:lnTo>
                  <a:lnTo>
                    <a:pt x="1044" y="240"/>
                  </a:lnTo>
                  <a:lnTo>
                    <a:pt x="1270" y="372"/>
                  </a:lnTo>
                  <a:lnTo>
                    <a:pt x="1575" y="489"/>
                  </a:lnTo>
                  <a:lnTo>
                    <a:pt x="1732" y="714"/>
                  </a:lnTo>
                  <a:lnTo>
                    <a:pt x="1884" y="838"/>
                  </a:lnTo>
                  <a:lnTo>
                    <a:pt x="1822" y="925"/>
                  </a:lnTo>
                  <a:lnTo>
                    <a:pt x="1822" y="1026"/>
                  </a:lnTo>
                  <a:lnTo>
                    <a:pt x="1769" y="1057"/>
                  </a:lnTo>
                  <a:lnTo>
                    <a:pt x="1711" y="1158"/>
                  </a:lnTo>
                  <a:lnTo>
                    <a:pt x="1769" y="1243"/>
                  </a:lnTo>
                  <a:lnTo>
                    <a:pt x="1759" y="1313"/>
                  </a:lnTo>
                  <a:lnTo>
                    <a:pt x="1696" y="1414"/>
                  </a:lnTo>
                  <a:lnTo>
                    <a:pt x="1711" y="1507"/>
                  </a:lnTo>
                  <a:lnTo>
                    <a:pt x="1811" y="1600"/>
                  </a:lnTo>
                  <a:lnTo>
                    <a:pt x="1822" y="1701"/>
                  </a:lnTo>
                  <a:lnTo>
                    <a:pt x="1785" y="1748"/>
                  </a:lnTo>
                  <a:lnTo>
                    <a:pt x="1685" y="1756"/>
                  </a:lnTo>
                  <a:lnTo>
                    <a:pt x="1612" y="1709"/>
                  </a:lnTo>
                  <a:lnTo>
                    <a:pt x="1528" y="1600"/>
                  </a:lnTo>
                  <a:lnTo>
                    <a:pt x="1491" y="1600"/>
                  </a:lnTo>
                  <a:lnTo>
                    <a:pt x="1454" y="1546"/>
                  </a:lnTo>
                  <a:lnTo>
                    <a:pt x="1406" y="1406"/>
                  </a:lnTo>
                  <a:lnTo>
                    <a:pt x="1354" y="1352"/>
                  </a:lnTo>
                  <a:lnTo>
                    <a:pt x="1244" y="1282"/>
                  </a:lnTo>
                  <a:lnTo>
                    <a:pt x="1154" y="1235"/>
                  </a:lnTo>
                  <a:lnTo>
                    <a:pt x="1013" y="1103"/>
                  </a:lnTo>
                  <a:lnTo>
                    <a:pt x="955" y="1010"/>
                  </a:lnTo>
                  <a:lnTo>
                    <a:pt x="960" y="932"/>
                  </a:lnTo>
                  <a:lnTo>
                    <a:pt x="1018" y="869"/>
                  </a:lnTo>
                  <a:lnTo>
                    <a:pt x="971" y="792"/>
                  </a:lnTo>
                  <a:lnTo>
                    <a:pt x="918" y="838"/>
                  </a:lnTo>
                  <a:lnTo>
                    <a:pt x="840" y="714"/>
                  </a:lnTo>
                  <a:lnTo>
                    <a:pt x="813" y="776"/>
                  </a:lnTo>
                  <a:lnTo>
                    <a:pt x="740" y="776"/>
                  </a:lnTo>
                  <a:lnTo>
                    <a:pt x="724" y="729"/>
                  </a:lnTo>
                  <a:lnTo>
                    <a:pt x="724" y="644"/>
                  </a:lnTo>
                  <a:lnTo>
                    <a:pt x="693" y="597"/>
                  </a:lnTo>
                  <a:lnTo>
                    <a:pt x="640" y="613"/>
                  </a:lnTo>
                  <a:lnTo>
                    <a:pt x="567" y="473"/>
                  </a:lnTo>
                  <a:lnTo>
                    <a:pt x="515" y="465"/>
                  </a:lnTo>
                  <a:lnTo>
                    <a:pt x="440" y="403"/>
                  </a:lnTo>
                  <a:lnTo>
                    <a:pt x="283" y="419"/>
                  </a:lnTo>
                  <a:lnTo>
                    <a:pt x="120" y="403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6600" y="1671480"/>
              <a:ext cx="437040" cy="332280"/>
            </a:xfrm>
            <a:custGeom>
              <a:avLst/>
              <a:gdLst/>
              <a:ahLst/>
              <a:rect l="0" t="0" r="r" b="b"/>
              <a:pathLst>
                <a:path w="1214" h="923">
                  <a:moveTo>
                    <a:pt x="47" y="0"/>
                  </a:moveTo>
                  <a:lnTo>
                    <a:pt x="0" y="70"/>
                  </a:lnTo>
                  <a:lnTo>
                    <a:pt x="0" y="156"/>
                  </a:lnTo>
                  <a:lnTo>
                    <a:pt x="78" y="250"/>
                  </a:lnTo>
                  <a:lnTo>
                    <a:pt x="136" y="226"/>
                  </a:lnTo>
                  <a:lnTo>
                    <a:pt x="152" y="266"/>
                  </a:lnTo>
                  <a:lnTo>
                    <a:pt x="209" y="274"/>
                  </a:lnTo>
                  <a:lnTo>
                    <a:pt x="241" y="218"/>
                  </a:lnTo>
                  <a:lnTo>
                    <a:pt x="368" y="226"/>
                  </a:lnTo>
                  <a:lnTo>
                    <a:pt x="384" y="289"/>
                  </a:lnTo>
                  <a:lnTo>
                    <a:pt x="426" y="321"/>
                  </a:lnTo>
                  <a:lnTo>
                    <a:pt x="531" y="305"/>
                  </a:lnTo>
                  <a:lnTo>
                    <a:pt x="562" y="344"/>
                  </a:lnTo>
                  <a:lnTo>
                    <a:pt x="615" y="375"/>
                  </a:lnTo>
                  <a:lnTo>
                    <a:pt x="651" y="446"/>
                  </a:lnTo>
                  <a:lnTo>
                    <a:pt x="651" y="539"/>
                  </a:lnTo>
                  <a:lnTo>
                    <a:pt x="620" y="571"/>
                  </a:lnTo>
                  <a:lnTo>
                    <a:pt x="636" y="602"/>
                  </a:lnTo>
                  <a:lnTo>
                    <a:pt x="583" y="664"/>
                  </a:lnTo>
                  <a:lnTo>
                    <a:pt x="583" y="751"/>
                  </a:lnTo>
                  <a:lnTo>
                    <a:pt x="667" y="767"/>
                  </a:lnTo>
                  <a:lnTo>
                    <a:pt x="704" y="743"/>
                  </a:lnTo>
                  <a:lnTo>
                    <a:pt x="720" y="704"/>
                  </a:lnTo>
                  <a:lnTo>
                    <a:pt x="746" y="743"/>
                  </a:lnTo>
                  <a:lnTo>
                    <a:pt x="793" y="712"/>
                  </a:lnTo>
                  <a:lnTo>
                    <a:pt x="882" y="767"/>
                  </a:lnTo>
                  <a:lnTo>
                    <a:pt x="941" y="845"/>
                  </a:lnTo>
                  <a:lnTo>
                    <a:pt x="957" y="845"/>
                  </a:lnTo>
                  <a:lnTo>
                    <a:pt x="973" y="900"/>
                  </a:lnTo>
                  <a:lnTo>
                    <a:pt x="1030" y="923"/>
                  </a:lnTo>
                  <a:lnTo>
                    <a:pt x="1099" y="923"/>
                  </a:lnTo>
                  <a:lnTo>
                    <a:pt x="1051" y="868"/>
                  </a:lnTo>
                  <a:lnTo>
                    <a:pt x="1078" y="822"/>
                  </a:lnTo>
                  <a:lnTo>
                    <a:pt x="1125" y="868"/>
                  </a:lnTo>
                  <a:lnTo>
                    <a:pt x="1188" y="884"/>
                  </a:lnTo>
                  <a:lnTo>
                    <a:pt x="1193" y="814"/>
                  </a:lnTo>
                  <a:lnTo>
                    <a:pt x="1135" y="751"/>
                  </a:lnTo>
                  <a:lnTo>
                    <a:pt x="1088" y="751"/>
                  </a:lnTo>
                  <a:lnTo>
                    <a:pt x="1030" y="688"/>
                  </a:lnTo>
                  <a:lnTo>
                    <a:pt x="1088" y="688"/>
                  </a:lnTo>
                  <a:lnTo>
                    <a:pt x="1135" y="728"/>
                  </a:lnTo>
                  <a:lnTo>
                    <a:pt x="1214" y="728"/>
                  </a:lnTo>
                  <a:lnTo>
                    <a:pt x="1198" y="649"/>
                  </a:lnTo>
                  <a:lnTo>
                    <a:pt x="1125" y="578"/>
                  </a:lnTo>
                  <a:lnTo>
                    <a:pt x="1078" y="571"/>
                  </a:lnTo>
                  <a:lnTo>
                    <a:pt x="994" y="485"/>
                  </a:lnTo>
                  <a:lnTo>
                    <a:pt x="898" y="461"/>
                  </a:lnTo>
                  <a:lnTo>
                    <a:pt x="825" y="422"/>
                  </a:lnTo>
                  <a:lnTo>
                    <a:pt x="767" y="321"/>
                  </a:lnTo>
                  <a:lnTo>
                    <a:pt x="720" y="171"/>
                  </a:lnTo>
                  <a:lnTo>
                    <a:pt x="667" y="171"/>
                  </a:lnTo>
                  <a:lnTo>
                    <a:pt x="646" y="132"/>
                  </a:lnTo>
                  <a:lnTo>
                    <a:pt x="615" y="148"/>
                  </a:lnTo>
                  <a:lnTo>
                    <a:pt x="546" y="85"/>
                  </a:lnTo>
                  <a:lnTo>
                    <a:pt x="447" y="62"/>
                  </a:lnTo>
                  <a:lnTo>
                    <a:pt x="410" y="93"/>
                  </a:lnTo>
                  <a:lnTo>
                    <a:pt x="315" y="62"/>
                  </a:lnTo>
                  <a:lnTo>
                    <a:pt x="257" y="62"/>
                  </a:lnTo>
                  <a:lnTo>
                    <a:pt x="225" y="15"/>
                  </a:lnTo>
                  <a:lnTo>
                    <a:pt x="199" y="0"/>
                  </a:lnTo>
                  <a:lnTo>
                    <a:pt x="152" y="15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54280" y="3498840"/>
              <a:ext cx="311400" cy="154440"/>
            </a:xfrm>
            <a:custGeom>
              <a:avLst/>
              <a:gdLst/>
              <a:ahLst/>
              <a:rect l="0" t="0" r="r" b="b"/>
              <a:pathLst>
                <a:path w="865" h="429">
                  <a:moveTo>
                    <a:pt x="0" y="222"/>
                  </a:moveTo>
                  <a:lnTo>
                    <a:pt x="83" y="95"/>
                  </a:lnTo>
                  <a:lnTo>
                    <a:pt x="110" y="95"/>
                  </a:lnTo>
                  <a:lnTo>
                    <a:pt x="172" y="23"/>
                  </a:lnTo>
                  <a:lnTo>
                    <a:pt x="246" y="23"/>
                  </a:lnTo>
                  <a:lnTo>
                    <a:pt x="256" y="23"/>
                  </a:lnTo>
                  <a:lnTo>
                    <a:pt x="282" y="0"/>
                  </a:lnTo>
                  <a:lnTo>
                    <a:pt x="366" y="79"/>
                  </a:lnTo>
                  <a:lnTo>
                    <a:pt x="392" y="127"/>
                  </a:lnTo>
                  <a:lnTo>
                    <a:pt x="408" y="102"/>
                  </a:lnTo>
                  <a:lnTo>
                    <a:pt x="477" y="159"/>
                  </a:lnTo>
                  <a:lnTo>
                    <a:pt x="519" y="159"/>
                  </a:lnTo>
                  <a:lnTo>
                    <a:pt x="556" y="199"/>
                  </a:lnTo>
                  <a:lnTo>
                    <a:pt x="613" y="222"/>
                  </a:lnTo>
                  <a:lnTo>
                    <a:pt x="613" y="278"/>
                  </a:lnTo>
                  <a:lnTo>
                    <a:pt x="723" y="278"/>
                  </a:lnTo>
                  <a:lnTo>
                    <a:pt x="755" y="334"/>
                  </a:lnTo>
                  <a:lnTo>
                    <a:pt x="818" y="334"/>
                  </a:lnTo>
                  <a:lnTo>
                    <a:pt x="865" y="413"/>
                  </a:lnTo>
                  <a:lnTo>
                    <a:pt x="833" y="429"/>
                  </a:lnTo>
                  <a:lnTo>
                    <a:pt x="818" y="405"/>
                  </a:lnTo>
                  <a:lnTo>
                    <a:pt x="812" y="390"/>
                  </a:lnTo>
                  <a:lnTo>
                    <a:pt x="755" y="405"/>
                  </a:lnTo>
                  <a:lnTo>
                    <a:pt x="729" y="413"/>
                  </a:lnTo>
                  <a:lnTo>
                    <a:pt x="681" y="429"/>
                  </a:lnTo>
                  <a:lnTo>
                    <a:pt x="608" y="429"/>
                  </a:lnTo>
                  <a:lnTo>
                    <a:pt x="556" y="429"/>
                  </a:lnTo>
                  <a:lnTo>
                    <a:pt x="556" y="390"/>
                  </a:lnTo>
                  <a:lnTo>
                    <a:pt x="477" y="286"/>
                  </a:lnTo>
                  <a:lnTo>
                    <a:pt x="477" y="230"/>
                  </a:lnTo>
                  <a:lnTo>
                    <a:pt x="392" y="230"/>
                  </a:lnTo>
                  <a:lnTo>
                    <a:pt x="356" y="199"/>
                  </a:lnTo>
                  <a:lnTo>
                    <a:pt x="335" y="230"/>
                  </a:lnTo>
                  <a:lnTo>
                    <a:pt x="309" y="175"/>
                  </a:lnTo>
                  <a:lnTo>
                    <a:pt x="282" y="175"/>
                  </a:lnTo>
                  <a:lnTo>
                    <a:pt x="282" y="119"/>
                  </a:lnTo>
                  <a:lnTo>
                    <a:pt x="256" y="95"/>
                  </a:lnTo>
                  <a:lnTo>
                    <a:pt x="183" y="102"/>
                  </a:lnTo>
                  <a:lnTo>
                    <a:pt x="136" y="175"/>
                  </a:lnTo>
                  <a:lnTo>
                    <a:pt x="68" y="199"/>
                  </a:lnTo>
                  <a:lnTo>
                    <a:pt x="0" y="222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2480" y="3608280"/>
              <a:ext cx="201960" cy="128880"/>
            </a:xfrm>
            <a:custGeom>
              <a:avLst/>
              <a:gdLst/>
              <a:ahLst/>
              <a:rect l="0" t="0" r="r" b="b"/>
              <a:pathLst>
                <a:path w="561" h="358">
                  <a:moveTo>
                    <a:pt x="0" y="265"/>
                  </a:moveTo>
                  <a:lnTo>
                    <a:pt x="53" y="280"/>
                  </a:lnTo>
                  <a:lnTo>
                    <a:pt x="172" y="265"/>
                  </a:lnTo>
                  <a:lnTo>
                    <a:pt x="226" y="334"/>
                  </a:lnTo>
                  <a:lnTo>
                    <a:pt x="302" y="358"/>
                  </a:lnTo>
                  <a:lnTo>
                    <a:pt x="334" y="265"/>
                  </a:lnTo>
                  <a:lnTo>
                    <a:pt x="318" y="241"/>
                  </a:lnTo>
                  <a:lnTo>
                    <a:pt x="356" y="210"/>
                  </a:lnTo>
                  <a:lnTo>
                    <a:pt x="421" y="265"/>
                  </a:lnTo>
                  <a:lnTo>
                    <a:pt x="474" y="265"/>
                  </a:lnTo>
                  <a:lnTo>
                    <a:pt x="474" y="233"/>
                  </a:lnTo>
                  <a:lnTo>
                    <a:pt x="512" y="233"/>
                  </a:lnTo>
                  <a:lnTo>
                    <a:pt x="561" y="163"/>
                  </a:lnTo>
                  <a:lnTo>
                    <a:pt x="523" y="163"/>
                  </a:lnTo>
                  <a:lnTo>
                    <a:pt x="523" y="93"/>
                  </a:lnTo>
                  <a:lnTo>
                    <a:pt x="523" y="46"/>
                  </a:lnTo>
                  <a:lnTo>
                    <a:pt x="447" y="38"/>
                  </a:lnTo>
                  <a:lnTo>
                    <a:pt x="383" y="46"/>
                  </a:lnTo>
                  <a:lnTo>
                    <a:pt x="334" y="46"/>
                  </a:lnTo>
                  <a:lnTo>
                    <a:pt x="258" y="38"/>
                  </a:lnTo>
                  <a:lnTo>
                    <a:pt x="193" y="0"/>
                  </a:lnTo>
                  <a:lnTo>
                    <a:pt x="172" y="38"/>
                  </a:lnTo>
                  <a:lnTo>
                    <a:pt x="166" y="108"/>
                  </a:lnTo>
                  <a:lnTo>
                    <a:pt x="107" y="108"/>
                  </a:lnTo>
                  <a:lnTo>
                    <a:pt x="91" y="163"/>
                  </a:lnTo>
                  <a:lnTo>
                    <a:pt x="53" y="187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93960" y="3981600"/>
              <a:ext cx="1260720" cy="2648160"/>
            </a:xfrm>
            <a:custGeom>
              <a:avLst/>
              <a:gdLst/>
              <a:ahLst/>
              <a:rect l="0" t="0" r="r" b="b"/>
              <a:pathLst>
                <a:path w="3502" h="7356">
                  <a:moveTo>
                    <a:pt x="273" y="320"/>
                  </a:moveTo>
                  <a:lnTo>
                    <a:pt x="310" y="242"/>
                  </a:lnTo>
                  <a:lnTo>
                    <a:pt x="399" y="117"/>
                  </a:lnTo>
                  <a:lnTo>
                    <a:pt x="530" y="46"/>
                  </a:lnTo>
                  <a:lnTo>
                    <a:pt x="599" y="0"/>
                  </a:lnTo>
                  <a:lnTo>
                    <a:pt x="667" y="0"/>
                  </a:lnTo>
                  <a:lnTo>
                    <a:pt x="651" y="70"/>
                  </a:lnTo>
                  <a:lnTo>
                    <a:pt x="567" y="132"/>
                  </a:lnTo>
                  <a:lnTo>
                    <a:pt x="557" y="249"/>
                  </a:lnTo>
                  <a:lnTo>
                    <a:pt x="567" y="343"/>
                  </a:lnTo>
                  <a:lnTo>
                    <a:pt x="641" y="343"/>
                  </a:lnTo>
                  <a:lnTo>
                    <a:pt x="667" y="242"/>
                  </a:lnTo>
                  <a:lnTo>
                    <a:pt x="678" y="132"/>
                  </a:lnTo>
                  <a:lnTo>
                    <a:pt x="720" y="171"/>
                  </a:lnTo>
                  <a:lnTo>
                    <a:pt x="778" y="226"/>
                  </a:lnTo>
                  <a:lnTo>
                    <a:pt x="862" y="203"/>
                  </a:lnTo>
                  <a:lnTo>
                    <a:pt x="914" y="249"/>
                  </a:lnTo>
                  <a:lnTo>
                    <a:pt x="930" y="304"/>
                  </a:lnTo>
                  <a:lnTo>
                    <a:pt x="1061" y="288"/>
                  </a:lnTo>
                  <a:lnTo>
                    <a:pt x="1314" y="249"/>
                  </a:lnTo>
                  <a:lnTo>
                    <a:pt x="1408" y="445"/>
                  </a:lnTo>
                  <a:lnTo>
                    <a:pt x="1571" y="538"/>
                  </a:lnTo>
                  <a:lnTo>
                    <a:pt x="1556" y="624"/>
                  </a:lnTo>
                  <a:lnTo>
                    <a:pt x="1629" y="577"/>
                  </a:lnTo>
                  <a:lnTo>
                    <a:pt x="1703" y="577"/>
                  </a:lnTo>
                  <a:lnTo>
                    <a:pt x="1798" y="663"/>
                  </a:lnTo>
                  <a:lnTo>
                    <a:pt x="1909" y="648"/>
                  </a:lnTo>
                  <a:lnTo>
                    <a:pt x="2004" y="663"/>
                  </a:lnTo>
                  <a:lnTo>
                    <a:pt x="2156" y="812"/>
                  </a:lnTo>
                  <a:lnTo>
                    <a:pt x="2319" y="1015"/>
                  </a:lnTo>
                  <a:lnTo>
                    <a:pt x="2393" y="1233"/>
                  </a:lnTo>
                  <a:lnTo>
                    <a:pt x="2350" y="1389"/>
                  </a:lnTo>
                  <a:lnTo>
                    <a:pt x="2545" y="1460"/>
                  </a:lnTo>
                  <a:lnTo>
                    <a:pt x="2866" y="1538"/>
                  </a:lnTo>
                  <a:lnTo>
                    <a:pt x="3192" y="1639"/>
                  </a:lnTo>
                  <a:lnTo>
                    <a:pt x="3412" y="1834"/>
                  </a:lnTo>
                  <a:lnTo>
                    <a:pt x="3502" y="2006"/>
                  </a:lnTo>
                  <a:lnTo>
                    <a:pt x="3502" y="2240"/>
                  </a:lnTo>
                  <a:lnTo>
                    <a:pt x="3423" y="2451"/>
                  </a:lnTo>
                  <a:lnTo>
                    <a:pt x="3328" y="2553"/>
                  </a:lnTo>
                  <a:lnTo>
                    <a:pt x="3265" y="2623"/>
                  </a:lnTo>
                  <a:lnTo>
                    <a:pt x="3192" y="2779"/>
                  </a:lnTo>
                  <a:lnTo>
                    <a:pt x="3192" y="2920"/>
                  </a:lnTo>
                  <a:lnTo>
                    <a:pt x="3192" y="3092"/>
                  </a:lnTo>
                  <a:lnTo>
                    <a:pt x="3165" y="3248"/>
                  </a:lnTo>
                  <a:lnTo>
                    <a:pt x="3118" y="3295"/>
                  </a:lnTo>
                  <a:lnTo>
                    <a:pt x="3092" y="3396"/>
                  </a:lnTo>
                  <a:lnTo>
                    <a:pt x="3034" y="3459"/>
                  </a:lnTo>
                  <a:lnTo>
                    <a:pt x="3029" y="3544"/>
                  </a:lnTo>
                  <a:lnTo>
                    <a:pt x="2955" y="3646"/>
                  </a:lnTo>
                  <a:lnTo>
                    <a:pt x="2829" y="3811"/>
                  </a:lnTo>
                  <a:lnTo>
                    <a:pt x="2724" y="3866"/>
                  </a:lnTo>
                  <a:lnTo>
                    <a:pt x="2661" y="3842"/>
                  </a:lnTo>
                  <a:lnTo>
                    <a:pt x="2529" y="3936"/>
                  </a:lnTo>
                  <a:lnTo>
                    <a:pt x="2403" y="4115"/>
                  </a:lnTo>
                  <a:lnTo>
                    <a:pt x="2377" y="4194"/>
                  </a:lnTo>
                  <a:lnTo>
                    <a:pt x="2377" y="4287"/>
                  </a:lnTo>
                  <a:lnTo>
                    <a:pt x="2403" y="4404"/>
                  </a:lnTo>
                  <a:lnTo>
                    <a:pt x="2350" y="4514"/>
                  </a:lnTo>
                  <a:lnTo>
                    <a:pt x="2350" y="4592"/>
                  </a:lnTo>
                  <a:lnTo>
                    <a:pt x="2245" y="4693"/>
                  </a:lnTo>
                  <a:lnTo>
                    <a:pt x="2166" y="4764"/>
                  </a:lnTo>
                  <a:lnTo>
                    <a:pt x="2103" y="4873"/>
                  </a:lnTo>
                  <a:lnTo>
                    <a:pt x="2082" y="4982"/>
                  </a:lnTo>
                  <a:lnTo>
                    <a:pt x="1993" y="5115"/>
                  </a:lnTo>
                  <a:lnTo>
                    <a:pt x="1956" y="5084"/>
                  </a:lnTo>
                  <a:lnTo>
                    <a:pt x="1893" y="5084"/>
                  </a:lnTo>
                  <a:lnTo>
                    <a:pt x="1809" y="5138"/>
                  </a:lnTo>
                  <a:lnTo>
                    <a:pt x="1867" y="5201"/>
                  </a:lnTo>
                  <a:lnTo>
                    <a:pt x="1867" y="5326"/>
                  </a:lnTo>
                  <a:lnTo>
                    <a:pt x="1856" y="5419"/>
                  </a:lnTo>
                  <a:lnTo>
                    <a:pt x="1814" y="5490"/>
                  </a:lnTo>
                  <a:lnTo>
                    <a:pt x="1703" y="5505"/>
                  </a:lnTo>
                  <a:lnTo>
                    <a:pt x="1624" y="5529"/>
                  </a:lnTo>
                  <a:lnTo>
                    <a:pt x="1582" y="5607"/>
                  </a:lnTo>
                  <a:lnTo>
                    <a:pt x="1582" y="5732"/>
                  </a:lnTo>
                  <a:lnTo>
                    <a:pt x="1477" y="5755"/>
                  </a:lnTo>
                  <a:lnTo>
                    <a:pt x="1387" y="5732"/>
                  </a:lnTo>
                  <a:lnTo>
                    <a:pt x="1366" y="5794"/>
                  </a:lnTo>
                  <a:lnTo>
                    <a:pt x="1408" y="5841"/>
                  </a:lnTo>
                  <a:lnTo>
                    <a:pt x="1382" y="6021"/>
                  </a:lnTo>
                  <a:lnTo>
                    <a:pt x="1345" y="6177"/>
                  </a:lnTo>
                  <a:lnTo>
                    <a:pt x="1235" y="6177"/>
                  </a:lnTo>
                  <a:lnTo>
                    <a:pt x="1203" y="6239"/>
                  </a:lnTo>
                  <a:lnTo>
                    <a:pt x="1214" y="6356"/>
                  </a:lnTo>
                  <a:lnTo>
                    <a:pt x="1272" y="6356"/>
                  </a:lnTo>
                  <a:lnTo>
                    <a:pt x="1314" y="6435"/>
                  </a:lnTo>
                  <a:lnTo>
                    <a:pt x="1288" y="6552"/>
                  </a:lnTo>
                  <a:lnTo>
                    <a:pt x="1224" y="6567"/>
                  </a:lnTo>
                  <a:lnTo>
                    <a:pt x="1135" y="6614"/>
                  </a:lnTo>
                  <a:lnTo>
                    <a:pt x="1114" y="6708"/>
                  </a:lnTo>
                  <a:lnTo>
                    <a:pt x="1104" y="6856"/>
                  </a:lnTo>
                  <a:lnTo>
                    <a:pt x="1040" y="6919"/>
                  </a:lnTo>
                  <a:lnTo>
                    <a:pt x="1261" y="7169"/>
                  </a:lnTo>
                  <a:lnTo>
                    <a:pt x="1314" y="7286"/>
                  </a:lnTo>
                  <a:lnTo>
                    <a:pt x="1277" y="7356"/>
                  </a:lnTo>
                  <a:lnTo>
                    <a:pt x="1188" y="7309"/>
                  </a:lnTo>
                  <a:lnTo>
                    <a:pt x="1114" y="7208"/>
                  </a:lnTo>
                  <a:lnTo>
                    <a:pt x="1004" y="7145"/>
                  </a:lnTo>
                  <a:lnTo>
                    <a:pt x="898" y="7020"/>
                  </a:lnTo>
                  <a:lnTo>
                    <a:pt x="825" y="6880"/>
                  </a:lnTo>
                  <a:lnTo>
                    <a:pt x="820" y="6762"/>
                  </a:lnTo>
                  <a:lnTo>
                    <a:pt x="830" y="6661"/>
                  </a:lnTo>
                  <a:lnTo>
                    <a:pt x="825" y="5872"/>
                  </a:lnTo>
                  <a:lnTo>
                    <a:pt x="804" y="5732"/>
                  </a:lnTo>
                  <a:lnTo>
                    <a:pt x="720" y="5583"/>
                  </a:lnTo>
                  <a:lnTo>
                    <a:pt x="720" y="5451"/>
                  </a:lnTo>
                  <a:lnTo>
                    <a:pt x="778" y="5295"/>
                  </a:lnTo>
                  <a:lnTo>
                    <a:pt x="820" y="5099"/>
                  </a:lnTo>
                  <a:lnTo>
                    <a:pt x="804" y="4904"/>
                  </a:lnTo>
                  <a:lnTo>
                    <a:pt x="793" y="4826"/>
                  </a:lnTo>
                  <a:lnTo>
                    <a:pt x="783" y="4717"/>
                  </a:lnTo>
                  <a:lnTo>
                    <a:pt x="814" y="4670"/>
                  </a:lnTo>
                  <a:lnTo>
                    <a:pt x="825" y="4459"/>
                  </a:lnTo>
                  <a:lnTo>
                    <a:pt x="814" y="4342"/>
                  </a:lnTo>
                  <a:lnTo>
                    <a:pt x="851" y="4076"/>
                  </a:lnTo>
                  <a:lnTo>
                    <a:pt x="814" y="3842"/>
                  </a:lnTo>
                  <a:lnTo>
                    <a:pt x="830" y="3725"/>
                  </a:lnTo>
                  <a:lnTo>
                    <a:pt x="877" y="3498"/>
                  </a:lnTo>
                  <a:lnTo>
                    <a:pt x="830" y="3349"/>
                  </a:lnTo>
                  <a:lnTo>
                    <a:pt x="751" y="3240"/>
                  </a:lnTo>
                  <a:lnTo>
                    <a:pt x="720" y="3123"/>
                  </a:lnTo>
                  <a:lnTo>
                    <a:pt x="630" y="3014"/>
                  </a:lnTo>
                  <a:lnTo>
                    <a:pt x="530" y="2943"/>
                  </a:lnTo>
                  <a:lnTo>
                    <a:pt x="383" y="2904"/>
                  </a:lnTo>
                  <a:lnTo>
                    <a:pt x="310" y="2732"/>
                  </a:lnTo>
                  <a:lnTo>
                    <a:pt x="220" y="2584"/>
                  </a:lnTo>
                  <a:lnTo>
                    <a:pt x="210" y="2451"/>
                  </a:lnTo>
                  <a:lnTo>
                    <a:pt x="205" y="2326"/>
                  </a:lnTo>
                  <a:lnTo>
                    <a:pt x="184" y="2240"/>
                  </a:lnTo>
                  <a:lnTo>
                    <a:pt x="131" y="2147"/>
                  </a:lnTo>
                  <a:lnTo>
                    <a:pt x="57" y="2100"/>
                  </a:lnTo>
                  <a:lnTo>
                    <a:pt x="10" y="2006"/>
                  </a:lnTo>
                  <a:lnTo>
                    <a:pt x="63" y="1913"/>
                  </a:lnTo>
                  <a:lnTo>
                    <a:pt x="63" y="1710"/>
                  </a:lnTo>
                  <a:lnTo>
                    <a:pt x="36" y="1600"/>
                  </a:lnTo>
                  <a:lnTo>
                    <a:pt x="0" y="1491"/>
                  </a:lnTo>
                  <a:lnTo>
                    <a:pt x="36" y="1335"/>
                  </a:lnTo>
                  <a:lnTo>
                    <a:pt x="168" y="944"/>
                  </a:lnTo>
                  <a:lnTo>
                    <a:pt x="184" y="773"/>
                  </a:lnTo>
                  <a:lnTo>
                    <a:pt x="257" y="601"/>
                  </a:lnTo>
                  <a:lnTo>
                    <a:pt x="257" y="499"/>
                  </a:lnTo>
                  <a:lnTo>
                    <a:pt x="273" y="320"/>
                  </a:lnTo>
                  <a:close/>
                </a:path>
              </a:pathLst>
            </a:custGeom>
            <a:solidFill>
              <a:srgbClr val="00279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136440" y="1879560"/>
            <a:ext cx="23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tachmate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6440" y="2144880"/>
            <a:ext cx="2097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617 131st Avenue 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36440" y="2406600"/>
            <a:ext cx="238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llevue, WA 98006 U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5120" y="2792520"/>
            <a:ext cx="793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hon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90440" y="279252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800) 426-628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90440" y="305604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644-4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36440" y="3317760"/>
            <a:ext cx="187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ustomer Suppor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90440" y="354636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800) 688-32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69960" y="3781440"/>
            <a:ext cx="579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ax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90440" y="378144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747-99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36440" y="4044960"/>
            <a:ext cx="178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ational Fax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90440" y="434988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649-65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50800" y="4886280"/>
            <a:ext cx="63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B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90440" y="488628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649-66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200" y="4616280"/>
            <a:ext cx="1019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axBack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90440" y="4616280"/>
            <a:ext cx="1454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06) 649-65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3840" y="5189400"/>
            <a:ext cx="1552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Serv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33240" y="5394240"/>
            <a:ext cx="203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O ATTACHM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2280" y="5637240"/>
            <a:ext cx="963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8680" y="5865840"/>
            <a:ext cx="2598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tp://www.attachmat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159000" y="1903320"/>
            <a:ext cx="5738760" cy="4362840"/>
            <a:chOff x="3159000" y="1903320"/>
            <a:chExt cx="5738760" cy="4362840"/>
          </a:xfrm>
        </p:grpSpPr>
        <p:sp>
          <p:nvSpPr>
            <p:cNvPr id="356" name=""/>
            <p:cNvSpPr txBox="1"/>
            <p:nvPr/>
          </p:nvSpPr>
          <p:spPr>
            <a:xfrm>
              <a:off x="3159000" y="19033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Austral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159000" y="2085840"/>
              <a:ext cx="1440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1) 3 694 671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159000" y="2271600"/>
              <a:ext cx="1746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1) 3 686 9036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106960" y="1903320"/>
              <a:ext cx="885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elgi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5106960" y="2085840"/>
              <a:ext cx="1440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2) 2 537 108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5106960" y="2271600"/>
              <a:ext cx="1746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2) 2 537 2197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7053120" y="190332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Brazi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7053120" y="208584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55) 11 532 28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 txBox="1"/>
            <p:nvPr/>
          </p:nvSpPr>
          <p:spPr>
            <a:xfrm>
              <a:off x="7053120" y="227160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55) 11 532 2898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3159000" y="2643120"/>
              <a:ext cx="766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Fr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3159000" y="2822400"/>
              <a:ext cx="1636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3) 1 46 04 10 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3159000" y="3009960"/>
              <a:ext cx="1943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3) 1 46 04 03 23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106960" y="2643120"/>
              <a:ext cx="955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German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5106960" y="2822400"/>
              <a:ext cx="1636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9) 89 99 39 19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5106960" y="3009960"/>
              <a:ext cx="2043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9) 89 99 39 19 19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7053120" y="2643120"/>
              <a:ext cx="1141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Hong Ko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053120" y="282240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852) 2 572 898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7053120" y="300996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852) 2 572 7497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3159000" y="337644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Ital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3159000" y="356220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9) 2 4870 807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159000" y="374796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9) 2 4870 8540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5106960" y="3376440"/>
              <a:ext cx="698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Jap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5106960" y="356220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81) 3 5560 897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5106960" y="374796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81) 3 5560 8975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7053120" y="3376440"/>
              <a:ext cx="1360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Latin Ameri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7053120" y="3562200"/>
              <a:ext cx="1390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05) 789 666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7053120" y="3747960"/>
              <a:ext cx="17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05) 789-6760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3159000" y="4114800"/>
              <a:ext cx="925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Malays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3159000" y="4300560"/>
              <a:ext cx="1390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03) 245 56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3159000" y="4484520"/>
              <a:ext cx="16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03) 243 3660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5106960" y="4114800"/>
              <a:ext cx="787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Mex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5106960" y="4300560"/>
              <a:ext cx="1440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52) 5 208 03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5106960" y="4484520"/>
              <a:ext cx="1440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52) 5 208 0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 txBox="1"/>
            <p:nvPr/>
          </p:nvSpPr>
          <p:spPr>
            <a:xfrm>
              <a:off x="7053120" y="41148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Netherland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7053120" y="430056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1) 20 696 603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 txBox="1"/>
            <p:nvPr/>
          </p:nvSpPr>
          <p:spPr>
            <a:xfrm>
              <a:off x="7053120" y="448452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1) 20 696 0729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 txBox="1"/>
            <p:nvPr/>
          </p:nvSpPr>
          <p:spPr>
            <a:xfrm>
              <a:off x="3159000" y="4854600"/>
              <a:ext cx="1054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ingapo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3159000" y="5038560"/>
              <a:ext cx="1290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5) 223 023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3159000" y="5224320"/>
              <a:ext cx="1596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65) 223 3531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5106960" y="485460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ai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5106960" y="5038560"/>
              <a:ext cx="14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4) 1 388 56 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5106960" y="5224320"/>
              <a:ext cx="17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34) 1 759 06 27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7053120" y="4854600"/>
              <a:ext cx="855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wede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7053120" y="5038560"/>
              <a:ext cx="14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6) 86 30 75 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 txBox="1"/>
            <p:nvPr/>
          </p:nvSpPr>
          <p:spPr>
            <a:xfrm>
              <a:off x="7053120" y="5224320"/>
              <a:ext cx="17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6) 86 30 75 35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159000" y="5589720"/>
              <a:ext cx="1171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Switzerlan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3159000" y="5776920"/>
              <a:ext cx="1488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1) 42 42 07 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3159000" y="5961240"/>
              <a:ext cx="17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1) 42 41 12 33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5106960" y="558972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U.K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5106960" y="5776920"/>
              <a:ext cx="1538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4) 734 890 39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5106960" y="5961240"/>
              <a:ext cx="18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Arial"/>
                  <a:ea typeface="Arial"/>
                </a:rPr>
                <a:t>(44) 734 891 023 f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ward I. Jenny</cp:lastModifiedBy>
  <cp:revision>0</cp:revision>
  <dc:subject/>
  <dc:title/>
</cp:coreProperties>
</file>