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 txBox="1"/>
          <p:nvPr/>
        </p:nvSpPr>
        <p:spPr>
          <a:xfrm>
            <a:off x="228600" y="5715000"/>
            <a:ext cx="3124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stin Decisions,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-800-777-599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-512-918-28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2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2.wmf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2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image" Target="../media/image3.wmf"/><Relationship Id="rId7" Type="http://schemas.openxmlformats.org/officeDocument/2006/relationships/image" Target="../media/image5.wmf"/><Relationship Id="rId8" Type="http://schemas.openxmlformats.org/officeDocument/2006/relationships/image" Target="../media/image2.wmf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2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3.wmf"/><Relationship Id="rId3" Type="http://schemas.openxmlformats.org/officeDocument/2006/relationships/image" Target="../media/image2.wmf"/><Relationship Id="rId4" Type="http://schemas.openxmlformats.org/officeDocument/2006/relationships/image" Target="../media/image9.wmf"/><Relationship Id="rId5" Type="http://schemas.openxmlformats.org/officeDocument/2006/relationships/image" Target="../media/image9.wmf"/><Relationship Id="rId6" Type="http://schemas.openxmlformats.org/officeDocument/2006/relationships/image" Target="../media/image9.wmf"/><Relationship Id="rId7" Type="http://schemas.openxmlformats.org/officeDocument/2006/relationships/image" Target="../media/image9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c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 flipV="1">
            <a:off x="4343400" y="1905120"/>
            <a:ext cx="4572000" cy="4572000"/>
          </a:xfrm>
          <a:prstGeom prst="line">
            <a:avLst/>
          </a:prstGeom>
          <a:ln w="25560">
            <a:solidFill>
              <a:srgbClr val="94949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>
            <a:off x="5867280" y="3429000"/>
            <a:ext cx="1523880" cy="1523880"/>
          </a:xfrm>
          <a:prstGeom prst="ellipse">
            <a:avLst/>
          </a:prstGeom>
          <a:noFill/>
          <a:ln w="25560">
            <a:solidFill>
              <a:srgbClr val="949494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 flipH="1" flipV="1">
            <a:off x="6095880" y="3657600"/>
            <a:ext cx="2971800" cy="2971800"/>
          </a:xfrm>
          <a:prstGeom prst="line">
            <a:avLst/>
          </a:prstGeom>
          <a:ln w="25560">
            <a:solidFill>
              <a:srgbClr val="94949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3429000" y="533520"/>
            <a:ext cx="56386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DecisionScience Pl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3886200" y="1523880"/>
            <a:ext cx="426708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cision making f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next milleni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V="1">
            <a:off x="4191120" y="1752480"/>
            <a:ext cx="4572000" cy="457200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715000" y="3276720"/>
            <a:ext cx="1523880" cy="1523880"/>
          </a:xfrm>
          <a:prstGeom prst="ellipse">
            <a:avLst/>
          </a:prstGeom>
          <a:noFill/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 flipV="1">
            <a:off x="5943600" y="3505320"/>
            <a:ext cx="2971800" cy="297180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9360" y="66600"/>
            <a:ext cx="3475080" cy="34020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838080" y="1152360"/>
            <a:ext cx="1211400" cy="76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c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3171960" y="847800"/>
            <a:ext cx="4552920" cy="73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re can you use DSP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266760" y="219240"/>
            <a:ext cx="1781280" cy="171144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523800" y="666720"/>
            <a:ext cx="1176480" cy="74124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 txBox="1"/>
          <p:nvPr/>
        </p:nvSpPr>
        <p:spPr>
          <a:xfrm>
            <a:off x="628560" y="2362320"/>
            <a:ext cx="2476440" cy="263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9000"/>
              </a:lnSpc>
              <a:spcBef>
                <a:spcPts val="1199"/>
              </a:spcBef>
            </a:pPr>
            <a:r>
              <a:rPr b="1" i="1" lang="en-US" sz="2800" spc="-1" strike="noStrike">
                <a:solidFill>
                  <a:srgbClr val="000000"/>
                </a:solidFill>
                <a:latin typeface="Arial Narrow"/>
                <a:ea typeface="Arial Narrow"/>
              </a:rPr>
              <a:t>Purcha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1199"/>
              </a:spcBef>
            </a:pPr>
            <a:r>
              <a:rPr b="1" i="1" lang="en-US" sz="2800" spc="-1" strike="noStrike">
                <a:solidFill>
                  <a:srgbClr val="000000"/>
                </a:solidFill>
                <a:latin typeface="Arial Narrow"/>
                <a:ea typeface="Arial Narrow"/>
              </a:rPr>
              <a:t>Prioritiz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1199"/>
              </a:spcBef>
            </a:pPr>
            <a:r>
              <a:rPr b="1" i="1" lang="en-US" sz="2800" spc="-1" strike="noStrike">
                <a:solidFill>
                  <a:srgbClr val="000000"/>
                </a:solidFill>
                <a:latin typeface="Arial Narrow"/>
                <a:ea typeface="Arial Narrow"/>
              </a:rPr>
              <a:t>Outsourc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1199"/>
              </a:spcBef>
            </a:pPr>
            <a:r>
              <a:rPr b="1" i="1" lang="en-US" sz="2800" spc="-1" strike="noStrike">
                <a:solidFill>
                  <a:srgbClr val="000000"/>
                </a:solidFill>
                <a:latin typeface="Arial Narrow"/>
                <a:ea typeface="Arial Narrow"/>
              </a:rPr>
              <a:t>Vendor &amp; Bid Sel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33520" y="2362320"/>
            <a:ext cx="0" cy="295272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371760" y="2362320"/>
            <a:ext cx="0" cy="295272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191280" y="2362320"/>
            <a:ext cx="0" cy="295272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467160" y="2362320"/>
            <a:ext cx="2152800" cy="263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9000"/>
              </a:lnSpc>
              <a:spcBef>
                <a:spcPts val="1199"/>
              </a:spcBef>
            </a:pPr>
            <a:r>
              <a:rPr b="1" i="1" lang="en-US" sz="2800" spc="-1" strike="noStrike">
                <a:solidFill>
                  <a:srgbClr val="000000"/>
                </a:solidFill>
                <a:latin typeface="Arial Narrow"/>
                <a:ea typeface="Arial Narrow"/>
              </a:rPr>
              <a:t>Person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1199"/>
              </a:spcBef>
            </a:pPr>
            <a:r>
              <a:rPr b="1" i="1" lang="en-US" sz="2800" spc="-1" strike="noStrike">
                <a:solidFill>
                  <a:srgbClr val="000000"/>
                </a:solidFill>
                <a:latin typeface="Arial Narrow"/>
                <a:ea typeface="Arial Narrow"/>
              </a:rPr>
              <a:t>Schedu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1199"/>
              </a:spcBef>
            </a:pPr>
            <a:r>
              <a:rPr b="1" i="1" lang="en-US" sz="2800" spc="-1" strike="noStrike">
                <a:solidFill>
                  <a:srgbClr val="000000"/>
                </a:solidFill>
                <a:latin typeface="Arial Narrow"/>
                <a:ea typeface="Arial Narrow"/>
              </a:rPr>
              <a:t>Plan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1199"/>
              </a:spcBef>
            </a:pPr>
            <a:r>
              <a:rPr b="1" i="1" lang="en-US" sz="2800" spc="-1" strike="noStrike">
                <a:solidFill>
                  <a:srgbClr val="000000"/>
                </a:solidFill>
                <a:latin typeface="Arial Narrow"/>
                <a:ea typeface="Arial Narrow"/>
              </a:rPr>
              <a:t>Operations Re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292800" y="2362320"/>
            <a:ext cx="2394000" cy="301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9000"/>
              </a:lnSpc>
              <a:spcBef>
                <a:spcPts val="1199"/>
              </a:spcBef>
            </a:pPr>
            <a:r>
              <a:rPr b="1" i="1" lang="en-US" sz="2800" spc="-1" strike="noStrike">
                <a:solidFill>
                  <a:srgbClr val="000000"/>
                </a:solidFill>
                <a:latin typeface="Arial Narrow"/>
                <a:ea typeface="Arial Narrow"/>
              </a:rPr>
              <a:t>Budge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1199"/>
              </a:spcBef>
            </a:pPr>
            <a:r>
              <a:rPr b="1" i="1" lang="en-US" sz="2800" spc="-1" strike="noStrike">
                <a:solidFill>
                  <a:srgbClr val="000000"/>
                </a:solidFill>
                <a:latin typeface="Arial Narrow"/>
                <a:ea typeface="Arial Narrow"/>
              </a:rPr>
              <a:t>Strate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1199"/>
              </a:spcBef>
            </a:pPr>
            <a:r>
              <a:rPr b="1" i="1" lang="en-US" sz="2800" spc="-1" strike="noStrike">
                <a:solidFill>
                  <a:srgbClr val="000000"/>
                </a:solidFill>
                <a:latin typeface="Arial Narrow"/>
                <a:ea typeface="Arial Narrow"/>
              </a:rPr>
              <a:t>Go/No-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1199"/>
              </a:spcBef>
            </a:pPr>
            <a:r>
              <a:rPr b="1" i="1" lang="en-US" sz="2800" spc="-1" strike="noStrike">
                <a:solidFill>
                  <a:srgbClr val="000000"/>
                </a:solidFill>
                <a:latin typeface="Arial Narrow"/>
                <a:ea typeface="Arial Narrow"/>
              </a:rPr>
              <a:t>Goal-Based Linear Program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c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3454560" y="343080"/>
            <a:ext cx="5079960" cy="310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SP is a powerful tool for decision analysis that’s Microsoft Office Compatible. It’s easy to use becaues it has menus, toolbars, and features you are already familiar wi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333360" y="485640"/>
            <a:ext cx="1781280" cy="171144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590400" y="933480"/>
            <a:ext cx="1176480" cy="74124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068480" y="2724120"/>
            <a:ext cx="381240" cy="381240"/>
          </a:xfrm>
          <a:custGeom>
            <a:avLst/>
            <a:gdLst/>
            <a:ahLst/>
            <a:rect l="0" t="0" r="r" b="b"/>
            <a:pathLst>
              <a:path w="1059" h="1059">
                <a:moveTo>
                  <a:pt x="0" y="1059"/>
                </a:moveTo>
                <a:lnTo>
                  <a:pt x="1059" y="1059"/>
                </a:lnTo>
                <a:lnTo>
                  <a:pt x="530" y="0"/>
                </a:lnTo>
                <a:lnTo>
                  <a:pt x="0" y="1059"/>
                </a:lnTo>
                <a:close/>
              </a:path>
            </a:pathLst>
          </a:custGeom>
          <a:solidFill>
            <a:srgbClr val="fafd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019240" y="2446200"/>
            <a:ext cx="384480" cy="384480"/>
          </a:xfrm>
          <a:custGeom>
            <a:avLst/>
            <a:gdLst/>
            <a:ahLst/>
            <a:rect l="0" t="0" r="r" b="b"/>
            <a:pathLst>
              <a:path w="1068" h="1068">
                <a:moveTo>
                  <a:pt x="0" y="1068"/>
                </a:moveTo>
                <a:lnTo>
                  <a:pt x="1068" y="1068"/>
                </a:lnTo>
                <a:lnTo>
                  <a:pt x="533" y="0"/>
                </a:lnTo>
                <a:lnTo>
                  <a:pt x="0" y="1068"/>
                </a:lnTo>
                <a:close/>
              </a:path>
            </a:pathLst>
          </a:custGeom>
          <a:solidFill>
            <a:srgbClr val="fafd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478240" y="1724040"/>
            <a:ext cx="381240" cy="381240"/>
          </a:xfrm>
          <a:custGeom>
            <a:avLst/>
            <a:gdLst/>
            <a:ahLst/>
            <a:rect l="0" t="0" r="r" b="b"/>
            <a:pathLst>
              <a:path w="1059" h="1059">
                <a:moveTo>
                  <a:pt x="0" y="1059"/>
                </a:moveTo>
                <a:lnTo>
                  <a:pt x="1059" y="1059"/>
                </a:lnTo>
                <a:lnTo>
                  <a:pt x="530" y="0"/>
                </a:lnTo>
                <a:lnTo>
                  <a:pt x="0" y="1059"/>
                </a:lnTo>
                <a:close/>
              </a:path>
            </a:pathLst>
          </a:custGeom>
          <a:solidFill>
            <a:srgbClr val="fafd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468520" y="876240"/>
            <a:ext cx="381240" cy="381240"/>
          </a:xfrm>
          <a:custGeom>
            <a:avLst/>
            <a:gdLst/>
            <a:ahLst/>
            <a:rect l="0" t="0" r="r" b="b"/>
            <a:pathLst>
              <a:path w="1059" h="1059">
                <a:moveTo>
                  <a:pt x="0" y="1059"/>
                </a:moveTo>
                <a:lnTo>
                  <a:pt x="1059" y="1059"/>
                </a:lnTo>
                <a:lnTo>
                  <a:pt x="530" y="0"/>
                </a:lnTo>
                <a:lnTo>
                  <a:pt x="0" y="1059"/>
                </a:lnTo>
                <a:close/>
              </a:path>
            </a:pathLst>
          </a:custGeom>
          <a:solidFill>
            <a:srgbClr val="fafd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009880" y="74520"/>
            <a:ext cx="384480" cy="384480"/>
          </a:xfrm>
          <a:custGeom>
            <a:avLst/>
            <a:gdLst/>
            <a:ahLst/>
            <a:rect l="0" t="0" r="r" b="b"/>
            <a:pathLst>
              <a:path w="1068" h="1068">
                <a:moveTo>
                  <a:pt x="0" y="1068"/>
                </a:moveTo>
                <a:lnTo>
                  <a:pt x="1068" y="1068"/>
                </a:lnTo>
                <a:lnTo>
                  <a:pt x="533" y="0"/>
                </a:lnTo>
                <a:lnTo>
                  <a:pt x="0" y="1068"/>
                </a:lnTo>
                <a:close/>
              </a:path>
            </a:pathLst>
          </a:custGeom>
          <a:solidFill>
            <a:srgbClr val="fafd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15920" y="2343240"/>
            <a:ext cx="381240" cy="381240"/>
          </a:xfrm>
          <a:custGeom>
            <a:avLst/>
            <a:gdLst/>
            <a:ahLst/>
            <a:rect l="0" t="0" r="r" b="b"/>
            <a:pathLst>
              <a:path w="1059" h="1059">
                <a:moveTo>
                  <a:pt x="0" y="1059"/>
                </a:moveTo>
                <a:lnTo>
                  <a:pt x="1059" y="1059"/>
                </a:lnTo>
                <a:lnTo>
                  <a:pt x="530" y="0"/>
                </a:lnTo>
                <a:lnTo>
                  <a:pt x="0" y="1059"/>
                </a:lnTo>
                <a:close/>
              </a:path>
            </a:pathLst>
          </a:custGeom>
          <a:solidFill>
            <a:srgbClr val="fafd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829480" y="3683160"/>
            <a:ext cx="2122560" cy="26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c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857160" y="3543120"/>
            <a:ext cx="79628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SP works with your other Microsoft Office Compatible products though drag &amp; drop, the clipboard, OLE linking and embedding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SP even offers database suppor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0"/>
            <a:ext cx="3277080" cy="2895840"/>
          </a:xfrm>
          <a:custGeom>
            <a:avLst/>
            <a:gdLst/>
            <a:ahLst/>
            <a:rect l="0" t="0" r="r" b="b"/>
            <a:pathLst>
              <a:path fill="none" w="9103" h="8044">
                <a:moveTo>
                  <a:pt x="0" y="8044"/>
                </a:moveTo>
                <a:lnTo>
                  <a:pt x="0" y="8044"/>
                </a:lnTo>
                <a:cubicBezTo>
                  <a:pt x="1598" y="8044"/>
                  <a:pt x="3168" y="7672"/>
                  <a:pt x="4552" y="6966"/>
                </a:cubicBezTo>
                <a:cubicBezTo>
                  <a:pt x="5935" y="6260"/>
                  <a:pt x="7084" y="5245"/>
                  <a:pt x="7883" y="4022"/>
                </a:cubicBezTo>
                <a:cubicBezTo>
                  <a:pt x="8682" y="2799"/>
                  <a:pt x="9103" y="1412"/>
                  <a:pt x="9103" y="0"/>
                </a:cubicBezTo>
              </a:path>
            </a:pathLst>
          </a:custGeom>
          <a:ln w="25560">
            <a:solidFill>
              <a:srgbClr val="ffffff"/>
            </a:solidFill>
            <a:custDash>
              <a:ds d="100000" sp="100000"/>
              <a:ds d="49296" sp="100000"/>
            </a:custDash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343080" y="390600"/>
            <a:ext cx="1781280" cy="171144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600120" y="838080"/>
            <a:ext cx="1176480" cy="74124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3865680" y="568440"/>
            <a:ext cx="4486320" cy="243216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3676680" y="266760"/>
            <a:ext cx="4933800" cy="2971800"/>
          </a:xfrm>
          <a:prstGeom prst="rect">
            <a:avLst/>
          </a:prstGeom>
          <a:noFill/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c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9360" y="66600"/>
            <a:ext cx="3475080" cy="34020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838080" y="1152360"/>
            <a:ext cx="1211400" cy="7650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 txBox="1"/>
          <p:nvPr/>
        </p:nvSpPr>
        <p:spPr>
          <a:xfrm>
            <a:off x="1095480" y="4294080"/>
            <a:ext cx="482904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our first decision is on u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3"/>
          <a:stretch/>
        </p:blipFill>
        <p:spPr>
          <a:xfrm>
            <a:off x="6237360" y="3600360"/>
            <a:ext cx="2189160" cy="174636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 txBox="1"/>
          <p:nvPr/>
        </p:nvSpPr>
        <p:spPr>
          <a:xfrm>
            <a:off x="3610080" y="533520"/>
            <a:ext cx="5400720" cy="16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l for a free demo to see how DSP can help you make important decis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c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048120" y="3886200"/>
            <a:ext cx="129528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9600" spc="-1" strike="noStrike">
                <a:solidFill>
                  <a:srgbClr val="ff0000"/>
                </a:solidFill>
                <a:latin typeface="Arial"/>
                <a:ea typeface="Arial"/>
              </a:rPr>
              <a:t>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2847960" y="257040"/>
            <a:ext cx="5981760" cy="209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lex decisions are difficult.  DSP makes the process faster and easier by breaking them down into smaller pie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66760" y="219240"/>
            <a:ext cx="1781280" cy="17114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523800" y="666720"/>
            <a:ext cx="1176480" cy="7412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6499080" y="3971880"/>
            <a:ext cx="1692360" cy="13525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048120" y="4038480"/>
            <a:ext cx="1295280" cy="129528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343400" y="4724280"/>
            <a:ext cx="19051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248520" y="3733920"/>
            <a:ext cx="2209680" cy="190512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2209680"/>
            <a:ext cx="22096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2514600"/>
            <a:ext cx="19051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0" y="2819520"/>
            <a:ext cx="15238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3200400"/>
            <a:ext cx="12193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3505320"/>
            <a:ext cx="8380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2308320" y="2489040"/>
            <a:ext cx="459756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n you are done, DSP makes a recommend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c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2514600" y="685800"/>
            <a:ext cx="640080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cisionScience Plus is a decision-analysis tool.  DSP does for decisions what spreadsheets do for accounting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990720" y="2819520"/>
            <a:ext cx="2590920" cy="53352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949494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cur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04920" y="2819520"/>
            <a:ext cx="533520" cy="53352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333360" y="2847960"/>
            <a:ext cx="457200" cy="46368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 txBox="1"/>
          <p:nvPr/>
        </p:nvSpPr>
        <p:spPr>
          <a:xfrm>
            <a:off x="1371600" y="3581280"/>
            <a:ext cx="2590920" cy="53352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949494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ffic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5800" y="3581280"/>
            <a:ext cx="533520" cy="53352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14240" y="3610080"/>
            <a:ext cx="457200" cy="4636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 txBox="1"/>
          <p:nvPr/>
        </p:nvSpPr>
        <p:spPr>
          <a:xfrm>
            <a:off x="1828800" y="4343400"/>
            <a:ext cx="2590920" cy="53352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949494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sy-to-u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143000" y="4343400"/>
            <a:ext cx="533520" cy="53352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1171440" y="4371840"/>
            <a:ext cx="457200" cy="46368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 txBox="1"/>
          <p:nvPr/>
        </p:nvSpPr>
        <p:spPr>
          <a:xfrm>
            <a:off x="5334120" y="2819520"/>
            <a:ext cx="2590920" cy="53352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949494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ist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48320" y="2819520"/>
            <a:ext cx="533520" cy="53352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4"/>
          <a:stretch/>
        </p:blipFill>
        <p:spPr>
          <a:xfrm>
            <a:off x="4676760" y="2847960"/>
            <a:ext cx="457200" cy="46368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 txBox="1"/>
          <p:nvPr/>
        </p:nvSpPr>
        <p:spPr>
          <a:xfrm>
            <a:off x="5791320" y="3657600"/>
            <a:ext cx="2590920" cy="53352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949494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lf-Documen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105520" y="3657600"/>
            <a:ext cx="533520" cy="53352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5"/>
          <a:stretch/>
        </p:blipFill>
        <p:spPr>
          <a:xfrm>
            <a:off x="5133960" y="3686040"/>
            <a:ext cx="457200" cy="46368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 txBox="1"/>
          <p:nvPr/>
        </p:nvSpPr>
        <p:spPr>
          <a:xfrm>
            <a:off x="6172200" y="4419720"/>
            <a:ext cx="2590920" cy="53352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949494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ime-Sav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486400" y="4419720"/>
            <a:ext cx="533520" cy="53352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6"/>
          <a:stretch/>
        </p:blipFill>
        <p:spPr>
          <a:xfrm>
            <a:off x="343080" y="600120"/>
            <a:ext cx="1781280" cy="171144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7"/>
          <a:stretch/>
        </p:blipFill>
        <p:spPr>
          <a:xfrm>
            <a:off x="5514840" y="4448160"/>
            <a:ext cx="457200" cy="4636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8"/>
          <a:stretch/>
        </p:blipFill>
        <p:spPr>
          <a:xfrm>
            <a:off x="600120" y="1047600"/>
            <a:ext cx="1176480" cy="74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c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3277080" cy="2895840"/>
          </a:xfrm>
          <a:custGeom>
            <a:avLst/>
            <a:gdLst/>
            <a:ahLst/>
            <a:rect l="0" t="0" r="r" b="b"/>
            <a:pathLst>
              <a:path fill="none" w="9103" h="8044">
                <a:moveTo>
                  <a:pt x="0" y="8044"/>
                </a:moveTo>
                <a:lnTo>
                  <a:pt x="0" y="8044"/>
                </a:lnTo>
                <a:cubicBezTo>
                  <a:pt x="1598" y="8044"/>
                  <a:pt x="3168" y="7672"/>
                  <a:pt x="4552" y="6966"/>
                </a:cubicBezTo>
                <a:cubicBezTo>
                  <a:pt x="5935" y="6260"/>
                  <a:pt x="7084" y="5245"/>
                  <a:pt x="7883" y="4022"/>
                </a:cubicBezTo>
                <a:cubicBezTo>
                  <a:pt x="8682" y="2799"/>
                  <a:pt x="9103" y="1412"/>
                  <a:pt x="9103" y="0"/>
                </a:cubicBezTo>
              </a:path>
            </a:pathLst>
          </a:custGeom>
          <a:ln w="25560">
            <a:solidFill>
              <a:srgbClr val="ffffff"/>
            </a:solidFill>
            <a:custDash>
              <a:ds d="100000" sp="100000"/>
            </a:custDash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3733920" y="304920"/>
            <a:ext cx="4876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cisions in DSP hav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ree par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343080" y="600120"/>
            <a:ext cx="1781280" cy="171144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600120" y="1047600"/>
            <a:ext cx="1176480" cy="7412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 txBox="1"/>
          <p:nvPr/>
        </p:nvSpPr>
        <p:spPr>
          <a:xfrm>
            <a:off x="3828960" y="2286000"/>
            <a:ext cx="5086440" cy="91440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949494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oal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A statement explaining th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decision to be ma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3828960" y="3438360"/>
            <a:ext cx="5086440" cy="90504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949494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ternatives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The possible choices 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utcomes of the deci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3828960" y="4648320"/>
            <a:ext cx="5086440" cy="91440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949494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iteria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The factors to be considere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the deci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2590920" y="2209680"/>
            <a:ext cx="990720" cy="99072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94949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2590920" y="3352680"/>
            <a:ext cx="990720" cy="99072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94949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2590920" y="4572000"/>
            <a:ext cx="990720" cy="99072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94949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c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0"/>
            <a:ext cx="3277080" cy="2895840"/>
          </a:xfrm>
          <a:custGeom>
            <a:avLst/>
            <a:gdLst/>
            <a:ahLst/>
            <a:rect l="0" t="0" r="r" b="b"/>
            <a:pathLst>
              <a:path fill="none" w="9103" h="8044">
                <a:moveTo>
                  <a:pt x="0" y="8044"/>
                </a:moveTo>
                <a:lnTo>
                  <a:pt x="0" y="8044"/>
                </a:lnTo>
                <a:cubicBezTo>
                  <a:pt x="1598" y="8044"/>
                  <a:pt x="3168" y="7672"/>
                  <a:pt x="4552" y="6966"/>
                </a:cubicBezTo>
                <a:cubicBezTo>
                  <a:pt x="5935" y="6260"/>
                  <a:pt x="7084" y="5245"/>
                  <a:pt x="7883" y="4022"/>
                </a:cubicBezTo>
                <a:cubicBezTo>
                  <a:pt x="8682" y="2799"/>
                  <a:pt x="9103" y="1412"/>
                  <a:pt x="9103" y="0"/>
                </a:cubicBezTo>
              </a:path>
            </a:pathLst>
          </a:custGeom>
          <a:ln w="25560">
            <a:solidFill>
              <a:srgbClr val="ffffff"/>
            </a:solidFill>
            <a:custDash>
              <a:ds d="100000" sp="100000"/>
            </a:custDash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3733920" y="304920"/>
            <a:ext cx="487692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xample, hiring a new project manager with DSP might have these piec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343080" y="600120"/>
            <a:ext cx="1781280" cy="171144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600120" y="1047600"/>
            <a:ext cx="1176480" cy="74124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 txBox="1"/>
          <p:nvPr/>
        </p:nvSpPr>
        <p:spPr>
          <a:xfrm>
            <a:off x="3828960" y="2286000"/>
            <a:ext cx="5086440" cy="91440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949494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oal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Select a new project manag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828960" y="3438360"/>
            <a:ext cx="5086440" cy="90504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949494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ternatives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The job candida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3828960" y="4648320"/>
            <a:ext cx="5086440" cy="91440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949494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iteria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Job skills, experience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view, training,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590920" y="2209680"/>
            <a:ext cx="990720" cy="99072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94949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590920" y="3352680"/>
            <a:ext cx="990720" cy="99072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94949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2590920" y="4572000"/>
            <a:ext cx="990720" cy="99072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94949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c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3277080" cy="2895840"/>
          </a:xfrm>
          <a:custGeom>
            <a:avLst/>
            <a:gdLst/>
            <a:ahLst/>
            <a:rect l="0" t="0" r="r" b="b"/>
            <a:pathLst>
              <a:path fill="none" w="9103" h="8044">
                <a:moveTo>
                  <a:pt x="0" y="8044"/>
                </a:moveTo>
                <a:lnTo>
                  <a:pt x="0" y="8044"/>
                </a:lnTo>
                <a:cubicBezTo>
                  <a:pt x="1598" y="8044"/>
                  <a:pt x="3168" y="7672"/>
                  <a:pt x="4552" y="6966"/>
                </a:cubicBezTo>
                <a:cubicBezTo>
                  <a:pt x="5935" y="6260"/>
                  <a:pt x="7084" y="5245"/>
                  <a:pt x="7883" y="4022"/>
                </a:cubicBezTo>
                <a:cubicBezTo>
                  <a:pt x="8682" y="2799"/>
                  <a:pt x="9103" y="1412"/>
                  <a:pt x="9103" y="0"/>
                </a:cubicBezTo>
              </a:path>
            </a:pathLst>
          </a:custGeom>
          <a:ln w="25560">
            <a:solidFill>
              <a:srgbClr val="ffffff"/>
            </a:solidFill>
            <a:custDash>
              <a:ds d="100000" sp="100000"/>
            </a:custDash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733920" y="304920"/>
            <a:ext cx="487692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ing a decision about out-sourcing could have these compone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343080" y="600120"/>
            <a:ext cx="1781280" cy="171144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600120" y="1047600"/>
            <a:ext cx="1176480" cy="74124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 txBox="1"/>
          <p:nvPr/>
        </p:nvSpPr>
        <p:spPr>
          <a:xfrm>
            <a:off x="3828960" y="2286000"/>
            <a:ext cx="5086440" cy="91440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949494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oal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Outsource or in-house a proje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828960" y="3438360"/>
            <a:ext cx="5086440" cy="90504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949494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ternatives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External and internal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vid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828960" y="4648320"/>
            <a:ext cx="5086440" cy="91440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949494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iteria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Short and long term cost, time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isks, cust. satisfaction,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2590920" y="2209680"/>
            <a:ext cx="990720" cy="99072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94949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2590920" y="3352680"/>
            <a:ext cx="990720" cy="99072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94949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590920" y="4572000"/>
            <a:ext cx="990720" cy="99072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94949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c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3429000" y="181080"/>
            <a:ext cx="5467320" cy="21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SP gathers your expertise and opinions through a powerful technique called Analytical Hierarchical Proc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33360" y="485640"/>
            <a:ext cx="1781280" cy="17114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90400" y="933480"/>
            <a:ext cx="1176480" cy="7412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068480" y="2724120"/>
            <a:ext cx="381240" cy="381240"/>
          </a:xfrm>
          <a:custGeom>
            <a:avLst/>
            <a:gdLst/>
            <a:ahLst/>
            <a:rect l="0" t="0" r="r" b="b"/>
            <a:pathLst>
              <a:path w="1059" h="1059">
                <a:moveTo>
                  <a:pt x="0" y="1059"/>
                </a:moveTo>
                <a:lnTo>
                  <a:pt x="1059" y="1059"/>
                </a:lnTo>
                <a:lnTo>
                  <a:pt x="530" y="0"/>
                </a:lnTo>
                <a:lnTo>
                  <a:pt x="0" y="1059"/>
                </a:lnTo>
                <a:close/>
              </a:path>
            </a:pathLst>
          </a:custGeom>
          <a:solidFill>
            <a:srgbClr val="fafd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019240" y="2446200"/>
            <a:ext cx="384480" cy="384480"/>
          </a:xfrm>
          <a:custGeom>
            <a:avLst/>
            <a:gdLst/>
            <a:ahLst/>
            <a:rect l="0" t="0" r="r" b="b"/>
            <a:pathLst>
              <a:path w="1068" h="1068">
                <a:moveTo>
                  <a:pt x="0" y="1068"/>
                </a:moveTo>
                <a:lnTo>
                  <a:pt x="1068" y="1068"/>
                </a:lnTo>
                <a:lnTo>
                  <a:pt x="533" y="0"/>
                </a:lnTo>
                <a:lnTo>
                  <a:pt x="0" y="1068"/>
                </a:lnTo>
                <a:close/>
              </a:path>
            </a:pathLst>
          </a:custGeom>
          <a:solidFill>
            <a:srgbClr val="fafd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478240" y="1724040"/>
            <a:ext cx="381240" cy="381240"/>
          </a:xfrm>
          <a:custGeom>
            <a:avLst/>
            <a:gdLst/>
            <a:ahLst/>
            <a:rect l="0" t="0" r="r" b="b"/>
            <a:pathLst>
              <a:path w="1059" h="1059">
                <a:moveTo>
                  <a:pt x="0" y="1059"/>
                </a:moveTo>
                <a:lnTo>
                  <a:pt x="1059" y="1059"/>
                </a:lnTo>
                <a:lnTo>
                  <a:pt x="530" y="0"/>
                </a:lnTo>
                <a:lnTo>
                  <a:pt x="0" y="1059"/>
                </a:lnTo>
                <a:close/>
              </a:path>
            </a:pathLst>
          </a:custGeom>
          <a:solidFill>
            <a:srgbClr val="fafd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468520" y="876240"/>
            <a:ext cx="381240" cy="381240"/>
          </a:xfrm>
          <a:custGeom>
            <a:avLst/>
            <a:gdLst/>
            <a:ahLst/>
            <a:rect l="0" t="0" r="r" b="b"/>
            <a:pathLst>
              <a:path w="1059" h="1059">
                <a:moveTo>
                  <a:pt x="0" y="1059"/>
                </a:moveTo>
                <a:lnTo>
                  <a:pt x="1059" y="1059"/>
                </a:lnTo>
                <a:lnTo>
                  <a:pt x="530" y="0"/>
                </a:lnTo>
                <a:lnTo>
                  <a:pt x="0" y="1059"/>
                </a:lnTo>
                <a:close/>
              </a:path>
            </a:pathLst>
          </a:custGeom>
          <a:solidFill>
            <a:srgbClr val="fafd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009880" y="74520"/>
            <a:ext cx="384480" cy="384480"/>
          </a:xfrm>
          <a:custGeom>
            <a:avLst/>
            <a:gdLst/>
            <a:ahLst/>
            <a:rect l="0" t="0" r="r" b="b"/>
            <a:pathLst>
              <a:path w="1068" h="1068">
                <a:moveTo>
                  <a:pt x="0" y="1068"/>
                </a:moveTo>
                <a:lnTo>
                  <a:pt x="1068" y="1068"/>
                </a:lnTo>
                <a:lnTo>
                  <a:pt x="533" y="0"/>
                </a:lnTo>
                <a:lnTo>
                  <a:pt x="0" y="1068"/>
                </a:lnTo>
                <a:close/>
              </a:path>
            </a:pathLst>
          </a:custGeom>
          <a:solidFill>
            <a:srgbClr val="fafd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15920" y="2343240"/>
            <a:ext cx="381240" cy="381240"/>
          </a:xfrm>
          <a:custGeom>
            <a:avLst/>
            <a:gdLst/>
            <a:ahLst/>
            <a:rect l="0" t="0" r="r" b="b"/>
            <a:pathLst>
              <a:path w="1059" h="1059">
                <a:moveTo>
                  <a:pt x="0" y="1059"/>
                </a:moveTo>
                <a:lnTo>
                  <a:pt x="1059" y="1059"/>
                </a:lnTo>
                <a:lnTo>
                  <a:pt x="530" y="0"/>
                </a:lnTo>
                <a:lnTo>
                  <a:pt x="0" y="1059"/>
                </a:lnTo>
                <a:close/>
              </a:path>
            </a:pathLst>
          </a:custGeom>
          <a:solidFill>
            <a:srgbClr val="fafd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5200560" y="2809800"/>
            <a:ext cx="2809800" cy="34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c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3733920" y="152280"/>
            <a:ext cx="525780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SP rapidly analyzes your facts &amp; figures.  Your data can be entered manually, from the clipboard, or  imported from a databas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9360" y="66600"/>
            <a:ext cx="3036960" cy="29718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5800" y="1028880"/>
            <a:ext cx="1133640" cy="71424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1104840" y="3486240"/>
            <a:ext cx="6757920" cy="16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c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514600" y="30492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meetings, DSP’s decision-process really pays off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542880" y="2138400"/>
            <a:ext cx="2352600" cy="265428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266760" y="219240"/>
            <a:ext cx="1781280" cy="171144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523800" y="666720"/>
            <a:ext cx="1176480" cy="74124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 txBox="1"/>
          <p:nvPr/>
        </p:nvSpPr>
        <p:spPr>
          <a:xfrm>
            <a:off x="3543120" y="1657440"/>
            <a:ext cx="4876920" cy="74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ryone has identifiable input to the decis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733920" y="2762280"/>
            <a:ext cx="4915080" cy="8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ocess is focused and clear. Progress is clear and measur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133880" y="5146560"/>
            <a:ext cx="49528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SP Decisions are self-documen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924360" y="3870360"/>
            <a:ext cx="43815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alysis can answer “What-If,” consistency and sensitivity iss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4"/>
          <a:stretch/>
        </p:blipFill>
        <p:spPr>
          <a:xfrm>
            <a:off x="3017880" y="1704960"/>
            <a:ext cx="457200" cy="78408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5"/>
          <a:stretch/>
        </p:blipFill>
        <p:spPr>
          <a:xfrm>
            <a:off x="3170160" y="2762280"/>
            <a:ext cx="457200" cy="78408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6"/>
          <a:stretch/>
        </p:blipFill>
        <p:spPr>
          <a:xfrm>
            <a:off x="3427560" y="3819600"/>
            <a:ext cx="457200" cy="78408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7"/>
          <a:stretch/>
        </p:blipFill>
        <p:spPr>
          <a:xfrm>
            <a:off x="3637080" y="4962600"/>
            <a:ext cx="457200" cy="78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Dr. Ronn Brashear, Dr. William Rogers, Joe Barta</dc:creator>
  <dc:description>This document contains a slide presentation introducing DecisionScience Plus and a phone number to order demo copies of the DSP software.</dc:description>
  <dc:language>en-US</dc:language>
  <cp:lastModifiedBy>Jim Conner</cp:lastModifiedBy>
  <cp:revision>0</cp:revision>
  <dc:subject>Autodemo for Microsoft Office 95</dc:subject>
  <dc:title>DecisionScience Plus</dc:title>
</cp:coreProperties>
</file>