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013520" y="5942160"/>
            <a:ext cx="166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58720" y="1092240"/>
            <a:ext cx="7942320" cy="0"/>
          </a:xfrm>
          <a:prstGeom prst="line">
            <a:avLst/>
          </a:prstGeom>
          <a:ln w="76320">
            <a:solidFill>
              <a:srgbClr val="4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98600" y="12384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6d"/>
                </a:solidFill>
                <a:latin typeface="Times New Roman"/>
                <a:ea typeface="Times New Roman"/>
              </a:rPr>
              <a:t>Eicon Technology’s SNA Client</a:t>
            </a:r>
            <a:br>
              <a:rPr sz="3600"/>
            </a:br>
            <a:r>
              <a:rPr b="1" lang="en-US" sz="3600" spc="-1" strike="noStrike">
                <a:solidFill>
                  <a:srgbClr val="00006d"/>
                </a:solidFill>
                <a:latin typeface="Times New Roman"/>
                <a:ea typeface="Times New Roman"/>
              </a:rPr>
              <a:t>Code Named “Phoenix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28600" y="1235160"/>
            <a:ext cx="5943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 innovative redesign of the SNA client paradi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0% Windows 95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precedented flexibility of auto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lligent, dynamic SNA conne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ticulously designed us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om a world leader in SNA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248520" y="1447920"/>
            <a:ext cx="2209680" cy="3581280"/>
            <a:chOff x="6248520" y="1447920"/>
            <a:chExt cx="2209680" cy="3581280"/>
          </a:xfrm>
        </p:grpSpPr>
        <p:sp>
          <p:nvSpPr>
            <p:cNvPr id="43" name=""/>
            <p:cNvSpPr/>
            <p:nvPr/>
          </p:nvSpPr>
          <p:spPr>
            <a:xfrm>
              <a:off x="6248520" y="1447920"/>
              <a:ext cx="2209680" cy="3581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4c4cf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6351480" y="1600200"/>
              <a:ext cx="2055960" cy="3276720"/>
              <a:chOff x="6351480" y="1600200"/>
              <a:chExt cx="2055960" cy="3276720"/>
            </a:xfrm>
          </p:grpSpPr>
          <p:sp>
            <p:nvSpPr>
              <p:cNvPr id="45" name=""/>
              <p:cNvSpPr/>
              <p:nvPr/>
            </p:nvSpPr>
            <p:spPr>
              <a:xfrm>
                <a:off x="7843680" y="1711440"/>
                <a:ext cx="563760" cy="1443240"/>
              </a:xfrm>
              <a:custGeom>
                <a:avLst/>
                <a:gdLst/>
                <a:ahLst/>
                <a:rect l="0" t="0" r="r" b="b"/>
                <a:pathLst>
                  <a:path w="1566" h="4009">
                    <a:moveTo>
                      <a:pt x="0" y="4009"/>
                    </a:moveTo>
                    <a:lnTo>
                      <a:pt x="0" y="4009"/>
                    </a:lnTo>
                    <a:lnTo>
                      <a:pt x="155" y="3879"/>
                    </a:lnTo>
                    <a:lnTo>
                      <a:pt x="293" y="3748"/>
                    </a:lnTo>
                    <a:lnTo>
                      <a:pt x="419" y="3618"/>
                    </a:lnTo>
                    <a:lnTo>
                      <a:pt x="533" y="3484"/>
                    </a:lnTo>
                    <a:lnTo>
                      <a:pt x="637" y="3349"/>
                    </a:lnTo>
                    <a:lnTo>
                      <a:pt x="726" y="3215"/>
                    </a:lnTo>
                    <a:lnTo>
                      <a:pt x="806" y="3080"/>
                    </a:lnTo>
                    <a:lnTo>
                      <a:pt x="878" y="2950"/>
                    </a:lnTo>
                    <a:lnTo>
                      <a:pt x="936" y="2816"/>
                    </a:lnTo>
                    <a:lnTo>
                      <a:pt x="987" y="2681"/>
                    </a:lnTo>
                    <a:lnTo>
                      <a:pt x="1029" y="2547"/>
                    </a:lnTo>
                    <a:lnTo>
                      <a:pt x="1058" y="2416"/>
                    </a:lnTo>
                    <a:lnTo>
                      <a:pt x="1083" y="2286"/>
                    </a:lnTo>
                    <a:lnTo>
                      <a:pt x="1104" y="2160"/>
                    </a:lnTo>
                    <a:lnTo>
                      <a:pt x="1113" y="2030"/>
                    </a:lnTo>
                    <a:lnTo>
                      <a:pt x="1121" y="1903"/>
                    </a:lnTo>
                    <a:lnTo>
                      <a:pt x="1117" y="1781"/>
                    </a:lnTo>
                    <a:lnTo>
                      <a:pt x="1108" y="1663"/>
                    </a:lnTo>
                    <a:lnTo>
                      <a:pt x="1100" y="1542"/>
                    </a:lnTo>
                    <a:lnTo>
                      <a:pt x="1083" y="1428"/>
                    </a:lnTo>
                    <a:lnTo>
                      <a:pt x="1062" y="1319"/>
                    </a:lnTo>
                    <a:lnTo>
                      <a:pt x="1041" y="1210"/>
                    </a:lnTo>
                    <a:lnTo>
                      <a:pt x="1012" y="1105"/>
                    </a:lnTo>
                    <a:lnTo>
                      <a:pt x="987" y="1004"/>
                    </a:lnTo>
                    <a:lnTo>
                      <a:pt x="953" y="907"/>
                    </a:lnTo>
                    <a:lnTo>
                      <a:pt x="924" y="815"/>
                    </a:lnTo>
                    <a:lnTo>
                      <a:pt x="890" y="731"/>
                    </a:lnTo>
                    <a:lnTo>
                      <a:pt x="857" y="647"/>
                    </a:lnTo>
                    <a:lnTo>
                      <a:pt x="823" y="567"/>
                    </a:lnTo>
                    <a:lnTo>
                      <a:pt x="790" y="495"/>
                    </a:lnTo>
                    <a:lnTo>
                      <a:pt x="759" y="428"/>
                    </a:lnTo>
                    <a:lnTo>
                      <a:pt x="730" y="369"/>
                    </a:lnTo>
                    <a:lnTo>
                      <a:pt x="776" y="428"/>
                    </a:lnTo>
                    <a:lnTo>
                      <a:pt x="819" y="487"/>
                    </a:lnTo>
                    <a:lnTo>
                      <a:pt x="861" y="546"/>
                    </a:lnTo>
                    <a:lnTo>
                      <a:pt x="899" y="609"/>
                    </a:lnTo>
                    <a:lnTo>
                      <a:pt x="936" y="668"/>
                    </a:lnTo>
                    <a:lnTo>
                      <a:pt x="970" y="731"/>
                    </a:lnTo>
                    <a:lnTo>
                      <a:pt x="1004" y="794"/>
                    </a:lnTo>
                    <a:lnTo>
                      <a:pt x="1033" y="857"/>
                    </a:lnTo>
                    <a:lnTo>
                      <a:pt x="1062" y="920"/>
                    </a:lnTo>
                    <a:lnTo>
                      <a:pt x="1088" y="983"/>
                    </a:lnTo>
                    <a:lnTo>
                      <a:pt x="1113" y="1046"/>
                    </a:lnTo>
                    <a:lnTo>
                      <a:pt x="1134" y="1113"/>
                    </a:lnTo>
                    <a:lnTo>
                      <a:pt x="1155" y="1176"/>
                    </a:lnTo>
                    <a:lnTo>
                      <a:pt x="1176" y="1243"/>
                    </a:lnTo>
                    <a:lnTo>
                      <a:pt x="1192" y="1306"/>
                    </a:lnTo>
                    <a:lnTo>
                      <a:pt x="1209" y="1373"/>
                    </a:lnTo>
                    <a:lnTo>
                      <a:pt x="1226" y="1441"/>
                    </a:lnTo>
                    <a:lnTo>
                      <a:pt x="1239" y="1508"/>
                    </a:lnTo>
                    <a:lnTo>
                      <a:pt x="1251" y="1575"/>
                    </a:lnTo>
                    <a:lnTo>
                      <a:pt x="1260" y="1642"/>
                    </a:lnTo>
                    <a:lnTo>
                      <a:pt x="1268" y="1714"/>
                    </a:lnTo>
                    <a:lnTo>
                      <a:pt x="1276" y="1777"/>
                    </a:lnTo>
                    <a:lnTo>
                      <a:pt x="1285" y="1848"/>
                    </a:lnTo>
                    <a:lnTo>
                      <a:pt x="1293" y="1915"/>
                    </a:lnTo>
                    <a:lnTo>
                      <a:pt x="1297" y="1983"/>
                    </a:lnTo>
                    <a:lnTo>
                      <a:pt x="1302" y="2055"/>
                    </a:lnTo>
                    <a:lnTo>
                      <a:pt x="1306" y="2122"/>
                    </a:lnTo>
                    <a:lnTo>
                      <a:pt x="1306" y="2190"/>
                    </a:lnTo>
                    <a:lnTo>
                      <a:pt x="1306" y="2261"/>
                    </a:lnTo>
                    <a:lnTo>
                      <a:pt x="1310" y="2328"/>
                    </a:lnTo>
                    <a:lnTo>
                      <a:pt x="1310" y="2395"/>
                    </a:lnTo>
                    <a:lnTo>
                      <a:pt x="1310" y="2467"/>
                    </a:lnTo>
                    <a:lnTo>
                      <a:pt x="1323" y="2383"/>
                    </a:lnTo>
                    <a:lnTo>
                      <a:pt x="1335" y="2303"/>
                    </a:lnTo>
                    <a:lnTo>
                      <a:pt x="1348" y="2223"/>
                    </a:lnTo>
                    <a:lnTo>
                      <a:pt x="1356" y="2148"/>
                    </a:lnTo>
                    <a:lnTo>
                      <a:pt x="1360" y="2068"/>
                    </a:lnTo>
                    <a:lnTo>
                      <a:pt x="1364" y="1987"/>
                    </a:lnTo>
                    <a:lnTo>
                      <a:pt x="1369" y="1907"/>
                    </a:lnTo>
                    <a:lnTo>
                      <a:pt x="1369" y="1827"/>
                    </a:lnTo>
                    <a:lnTo>
                      <a:pt x="1364" y="1747"/>
                    </a:lnTo>
                    <a:lnTo>
                      <a:pt x="1360" y="1668"/>
                    </a:lnTo>
                    <a:lnTo>
                      <a:pt x="1356" y="1592"/>
                    </a:lnTo>
                    <a:lnTo>
                      <a:pt x="1348" y="1512"/>
                    </a:lnTo>
                    <a:lnTo>
                      <a:pt x="1335" y="1436"/>
                    </a:lnTo>
                    <a:lnTo>
                      <a:pt x="1323" y="1357"/>
                    </a:lnTo>
                    <a:lnTo>
                      <a:pt x="1310" y="1281"/>
                    </a:lnTo>
                    <a:lnTo>
                      <a:pt x="1293" y="1201"/>
                    </a:lnTo>
                    <a:lnTo>
                      <a:pt x="1272" y="1126"/>
                    </a:lnTo>
                    <a:lnTo>
                      <a:pt x="1251" y="1050"/>
                    </a:lnTo>
                    <a:lnTo>
                      <a:pt x="1226" y="970"/>
                    </a:lnTo>
                    <a:lnTo>
                      <a:pt x="1201" y="894"/>
                    </a:lnTo>
                    <a:lnTo>
                      <a:pt x="1171" y="819"/>
                    </a:lnTo>
                    <a:lnTo>
                      <a:pt x="1142" y="743"/>
                    </a:lnTo>
                    <a:lnTo>
                      <a:pt x="1108" y="668"/>
                    </a:lnTo>
                    <a:lnTo>
                      <a:pt x="1071" y="592"/>
                    </a:lnTo>
                    <a:lnTo>
                      <a:pt x="1033" y="521"/>
                    </a:lnTo>
                    <a:lnTo>
                      <a:pt x="995" y="445"/>
                    </a:lnTo>
                    <a:lnTo>
                      <a:pt x="953" y="369"/>
                    </a:lnTo>
                    <a:lnTo>
                      <a:pt x="907" y="294"/>
                    </a:lnTo>
                    <a:lnTo>
                      <a:pt x="857" y="222"/>
                    </a:lnTo>
                    <a:lnTo>
                      <a:pt x="806" y="147"/>
                    </a:lnTo>
                    <a:lnTo>
                      <a:pt x="755" y="75"/>
                    </a:lnTo>
                    <a:lnTo>
                      <a:pt x="700" y="0"/>
                    </a:lnTo>
                    <a:lnTo>
                      <a:pt x="790" y="84"/>
                    </a:lnTo>
                    <a:lnTo>
                      <a:pt x="869" y="168"/>
                    </a:lnTo>
                    <a:lnTo>
                      <a:pt x="949" y="260"/>
                    </a:lnTo>
                    <a:lnTo>
                      <a:pt x="1025" y="357"/>
                    </a:lnTo>
                    <a:lnTo>
                      <a:pt x="1092" y="457"/>
                    </a:lnTo>
                    <a:lnTo>
                      <a:pt x="1155" y="567"/>
                    </a:lnTo>
                    <a:lnTo>
                      <a:pt x="1218" y="676"/>
                    </a:lnTo>
                    <a:lnTo>
                      <a:pt x="1272" y="789"/>
                    </a:lnTo>
                    <a:lnTo>
                      <a:pt x="1323" y="903"/>
                    </a:lnTo>
                    <a:lnTo>
                      <a:pt x="1364" y="1025"/>
                    </a:lnTo>
                    <a:lnTo>
                      <a:pt x="1406" y="1142"/>
                    </a:lnTo>
                    <a:lnTo>
                      <a:pt x="1444" y="1264"/>
                    </a:lnTo>
                    <a:lnTo>
                      <a:pt x="1478" y="1386"/>
                    </a:lnTo>
                    <a:lnTo>
                      <a:pt x="1503" y="1508"/>
                    </a:lnTo>
                    <a:lnTo>
                      <a:pt x="1524" y="1630"/>
                    </a:lnTo>
                    <a:lnTo>
                      <a:pt x="1541" y="1752"/>
                    </a:lnTo>
                    <a:lnTo>
                      <a:pt x="1553" y="1869"/>
                    </a:lnTo>
                    <a:lnTo>
                      <a:pt x="1562" y="1991"/>
                    </a:lnTo>
                    <a:lnTo>
                      <a:pt x="1566" y="2106"/>
                    </a:lnTo>
                    <a:lnTo>
                      <a:pt x="1562" y="2219"/>
                    </a:lnTo>
                    <a:lnTo>
                      <a:pt x="1558" y="2328"/>
                    </a:lnTo>
                    <a:lnTo>
                      <a:pt x="1545" y="2437"/>
                    </a:lnTo>
                    <a:lnTo>
                      <a:pt x="1524" y="2538"/>
                    </a:lnTo>
                    <a:lnTo>
                      <a:pt x="1503" y="2635"/>
                    </a:lnTo>
                    <a:lnTo>
                      <a:pt x="1478" y="2727"/>
                    </a:lnTo>
                    <a:lnTo>
                      <a:pt x="1444" y="2816"/>
                    </a:lnTo>
                    <a:lnTo>
                      <a:pt x="1406" y="2895"/>
                    </a:lnTo>
                    <a:lnTo>
                      <a:pt x="1364" y="2967"/>
                    </a:lnTo>
                    <a:lnTo>
                      <a:pt x="1318" y="3034"/>
                    </a:lnTo>
                    <a:lnTo>
                      <a:pt x="1268" y="3093"/>
                    </a:lnTo>
                    <a:lnTo>
                      <a:pt x="1209" y="3148"/>
                    </a:lnTo>
                    <a:lnTo>
                      <a:pt x="1146" y="3190"/>
                    </a:lnTo>
                    <a:lnTo>
                      <a:pt x="1155" y="3160"/>
                    </a:lnTo>
                    <a:lnTo>
                      <a:pt x="1163" y="3127"/>
                    </a:lnTo>
                    <a:lnTo>
                      <a:pt x="1176" y="3097"/>
                    </a:lnTo>
                    <a:lnTo>
                      <a:pt x="1184" y="3064"/>
                    </a:lnTo>
                    <a:lnTo>
                      <a:pt x="1192" y="3034"/>
                    </a:lnTo>
                    <a:lnTo>
                      <a:pt x="1201" y="3005"/>
                    </a:lnTo>
                    <a:lnTo>
                      <a:pt x="1205" y="2971"/>
                    </a:lnTo>
                    <a:lnTo>
                      <a:pt x="1213" y="2937"/>
                    </a:lnTo>
                    <a:lnTo>
                      <a:pt x="1222" y="2908"/>
                    </a:lnTo>
                    <a:lnTo>
                      <a:pt x="1226" y="2874"/>
                    </a:lnTo>
                    <a:lnTo>
                      <a:pt x="1230" y="2845"/>
                    </a:lnTo>
                    <a:lnTo>
                      <a:pt x="1234" y="2811"/>
                    </a:lnTo>
                    <a:lnTo>
                      <a:pt x="1239" y="2782"/>
                    </a:lnTo>
                    <a:lnTo>
                      <a:pt x="1239" y="2748"/>
                    </a:lnTo>
                    <a:lnTo>
                      <a:pt x="1239" y="2719"/>
                    </a:lnTo>
                    <a:lnTo>
                      <a:pt x="1239" y="2690"/>
                    </a:lnTo>
                    <a:lnTo>
                      <a:pt x="1218" y="2744"/>
                    </a:lnTo>
                    <a:lnTo>
                      <a:pt x="1197" y="2799"/>
                    </a:lnTo>
                    <a:lnTo>
                      <a:pt x="1176" y="2849"/>
                    </a:lnTo>
                    <a:lnTo>
                      <a:pt x="1150" y="2900"/>
                    </a:lnTo>
                    <a:lnTo>
                      <a:pt x="1125" y="2950"/>
                    </a:lnTo>
                    <a:lnTo>
                      <a:pt x="1100" y="2996"/>
                    </a:lnTo>
                    <a:lnTo>
                      <a:pt x="1075" y="3047"/>
                    </a:lnTo>
                    <a:lnTo>
                      <a:pt x="1046" y="3093"/>
                    </a:lnTo>
                    <a:lnTo>
                      <a:pt x="1020" y="3139"/>
                    </a:lnTo>
                    <a:lnTo>
                      <a:pt x="991" y="3185"/>
                    </a:lnTo>
                    <a:lnTo>
                      <a:pt x="957" y="3232"/>
                    </a:lnTo>
                    <a:lnTo>
                      <a:pt x="924" y="3274"/>
                    </a:lnTo>
                    <a:lnTo>
                      <a:pt x="894" y="3320"/>
                    </a:lnTo>
                    <a:lnTo>
                      <a:pt x="857" y="3362"/>
                    </a:lnTo>
                    <a:lnTo>
                      <a:pt x="819" y="3404"/>
                    </a:lnTo>
                    <a:lnTo>
                      <a:pt x="785" y="3442"/>
                    </a:lnTo>
                    <a:lnTo>
                      <a:pt x="747" y="3484"/>
                    </a:lnTo>
                    <a:lnTo>
                      <a:pt x="705" y="3526"/>
                    </a:lnTo>
                    <a:lnTo>
                      <a:pt x="663" y="3564"/>
                    </a:lnTo>
                    <a:lnTo>
                      <a:pt x="621" y="3601"/>
                    </a:lnTo>
                    <a:lnTo>
                      <a:pt x="579" y="3639"/>
                    </a:lnTo>
                    <a:lnTo>
                      <a:pt x="533" y="3677"/>
                    </a:lnTo>
                    <a:lnTo>
                      <a:pt x="486" y="3711"/>
                    </a:lnTo>
                    <a:lnTo>
                      <a:pt x="436" y="3744"/>
                    </a:lnTo>
                    <a:lnTo>
                      <a:pt x="390" y="3782"/>
                    </a:lnTo>
                    <a:lnTo>
                      <a:pt x="335" y="3816"/>
                    </a:lnTo>
                    <a:lnTo>
                      <a:pt x="285" y="3849"/>
                    </a:lnTo>
                    <a:lnTo>
                      <a:pt x="230" y="3883"/>
                    </a:lnTo>
                    <a:lnTo>
                      <a:pt x="176" y="3912"/>
                    </a:lnTo>
                    <a:lnTo>
                      <a:pt x="117" y="3946"/>
                    </a:lnTo>
                    <a:lnTo>
                      <a:pt x="58" y="3975"/>
                    </a:lnTo>
                    <a:lnTo>
                      <a:pt x="0" y="40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50000">
                    <a:srgbClr val="000000"/>
                  </a:gs>
                  <a:gs pos="100000">
                    <a:srgbClr val="cecece"/>
                  </a:gs>
                </a:gsLst>
                <a:lin ang="27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351480" y="2479680"/>
                <a:ext cx="686160" cy="875160"/>
              </a:xfrm>
              <a:custGeom>
                <a:avLst/>
                <a:gdLst/>
                <a:ahLst/>
                <a:rect l="0" t="0" r="r" b="b"/>
                <a:pathLst>
                  <a:path w="1906" h="2431">
                    <a:moveTo>
                      <a:pt x="1906" y="2221"/>
                    </a:moveTo>
                    <a:lnTo>
                      <a:pt x="1906" y="2221"/>
                    </a:lnTo>
                    <a:lnTo>
                      <a:pt x="1869" y="2247"/>
                    </a:lnTo>
                    <a:lnTo>
                      <a:pt x="1835" y="2268"/>
                    </a:lnTo>
                    <a:lnTo>
                      <a:pt x="1806" y="2289"/>
                    </a:lnTo>
                    <a:lnTo>
                      <a:pt x="1776" y="2310"/>
                    </a:lnTo>
                    <a:lnTo>
                      <a:pt x="1755" y="2326"/>
                    </a:lnTo>
                    <a:lnTo>
                      <a:pt x="1734" y="2343"/>
                    </a:lnTo>
                    <a:lnTo>
                      <a:pt x="1718" y="2360"/>
                    </a:lnTo>
                    <a:lnTo>
                      <a:pt x="1697" y="2373"/>
                    </a:lnTo>
                    <a:lnTo>
                      <a:pt x="1680" y="2385"/>
                    </a:lnTo>
                    <a:lnTo>
                      <a:pt x="1663" y="2398"/>
                    </a:lnTo>
                    <a:lnTo>
                      <a:pt x="1646" y="2406"/>
                    </a:lnTo>
                    <a:lnTo>
                      <a:pt x="1630" y="2414"/>
                    </a:lnTo>
                    <a:lnTo>
                      <a:pt x="1609" y="2423"/>
                    </a:lnTo>
                    <a:lnTo>
                      <a:pt x="1588" y="2427"/>
                    </a:lnTo>
                    <a:lnTo>
                      <a:pt x="1562" y="2431"/>
                    </a:lnTo>
                    <a:lnTo>
                      <a:pt x="1533" y="2431"/>
                    </a:lnTo>
                    <a:lnTo>
                      <a:pt x="1483" y="2427"/>
                    </a:lnTo>
                    <a:lnTo>
                      <a:pt x="1427" y="2427"/>
                    </a:lnTo>
                    <a:lnTo>
                      <a:pt x="1377" y="2423"/>
                    </a:lnTo>
                    <a:lnTo>
                      <a:pt x="1322" y="2414"/>
                    </a:lnTo>
                    <a:lnTo>
                      <a:pt x="1272" y="2410"/>
                    </a:lnTo>
                    <a:lnTo>
                      <a:pt x="1222" y="2402"/>
                    </a:lnTo>
                    <a:lnTo>
                      <a:pt x="1167" y="2393"/>
                    </a:lnTo>
                    <a:lnTo>
                      <a:pt x="1117" y="2385"/>
                    </a:lnTo>
                    <a:lnTo>
                      <a:pt x="1066" y="2373"/>
                    </a:lnTo>
                    <a:lnTo>
                      <a:pt x="1012" y="2364"/>
                    </a:lnTo>
                    <a:lnTo>
                      <a:pt x="961" y="2352"/>
                    </a:lnTo>
                    <a:lnTo>
                      <a:pt x="911" y="2339"/>
                    </a:lnTo>
                    <a:lnTo>
                      <a:pt x="861" y="2322"/>
                    </a:lnTo>
                    <a:lnTo>
                      <a:pt x="810" y="2305"/>
                    </a:lnTo>
                    <a:lnTo>
                      <a:pt x="760" y="2289"/>
                    </a:lnTo>
                    <a:lnTo>
                      <a:pt x="710" y="2268"/>
                    </a:lnTo>
                    <a:lnTo>
                      <a:pt x="743" y="2272"/>
                    </a:lnTo>
                    <a:lnTo>
                      <a:pt x="777" y="2272"/>
                    </a:lnTo>
                    <a:lnTo>
                      <a:pt x="810" y="2272"/>
                    </a:lnTo>
                    <a:lnTo>
                      <a:pt x="844" y="2272"/>
                    </a:lnTo>
                    <a:lnTo>
                      <a:pt x="873" y="2272"/>
                    </a:lnTo>
                    <a:lnTo>
                      <a:pt x="907" y="2272"/>
                    </a:lnTo>
                    <a:lnTo>
                      <a:pt x="936" y="2272"/>
                    </a:lnTo>
                    <a:lnTo>
                      <a:pt x="970" y="2268"/>
                    </a:lnTo>
                    <a:lnTo>
                      <a:pt x="999" y="2268"/>
                    </a:lnTo>
                    <a:lnTo>
                      <a:pt x="1029" y="2263"/>
                    </a:lnTo>
                    <a:lnTo>
                      <a:pt x="1062" y="2259"/>
                    </a:lnTo>
                    <a:lnTo>
                      <a:pt x="1091" y="2255"/>
                    </a:lnTo>
                    <a:lnTo>
                      <a:pt x="1121" y="2247"/>
                    </a:lnTo>
                    <a:lnTo>
                      <a:pt x="1154" y="2242"/>
                    </a:lnTo>
                    <a:lnTo>
                      <a:pt x="1184" y="2230"/>
                    </a:lnTo>
                    <a:lnTo>
                      <a:pt x="1213" y="2221"/>
                    </a:lnTo>
                    <a:lnTo>
                      <a:pt x="1175" y="2209"/>
                    </a:lnTo>
                    <a:lnTo>
                      <a:pt x="1142" y="2192"/>
                    </a:lnTo>
                    <a:lnTo>
                      <a:pt x="1104" y="2179"/>
                    </a:lnTo>
                    <a:lnTo>
                      <a:pt x="1066" y="2163"/>
                    </a:lnTo>
                    <a:lnTo>
                      <a:pt x="1029" y="2146"/>
                    </a:lnTo>
                    <a:lnTo>
                      <a:pt x="991" y="2129"/>
                    </a:lnTo>
                    <a:lnTo>
                      <a:pt x="957" y="2108"/>
                    </a:lnTo>
                    <a:lnTo>
                      <a:pt x="919" y="2091"/>
                    </a:lnTo>
                    <a:lnTo>
                      <a:pt x="882" y="2070"/>
                    </a:lnTo>
                    <a:lnTo>
                      <a:pt x="848" y="2049"/>
                    </a:lnTo>
                    <a:lnTo>
                      <a:pt x="810" y="2028"/>
                    </a:lnTo>
                    <a:lnTo>
                      <a:pt x="777" y="2003"/>
                    </a:lnTo>
                    <a:lnTo>
                      <a:pt x="743" y="1982"/>
                    </a:lnTo>
                    <a:lnTo>
                      <a:pt x="705" y="1957"/>
                    </a:lnTo>
                    <a:lnTo>
                      <a:pt x="672" y="1932"/>
                    </a:lnTo>
                    <a:lnTo>
                      <a:pt x="638" y="1907"/>
                    </a:lnTo>
                    <a:lnTo>
                      <a:pt x="601" y="1882"/>
                    </a:lnTo>
                    <a:lnTo>
                      <a:pt x="567" y="1856"/>
                    </a:lnTo>
                    <a:lnTo>
                      <a:pt x="533" y="1827"/>
                    </a:lnTo>
                    <a:lnTo>
                      <a:pt x="500" y="1801"/>
                    </a:lnTo>
                    <a:lnTo>
                      <a:pt x="465" y="1771"/>
                    </a:lnTo>
                    <a:lnTo>
                      <a:pt x="427" y="1746"/>
                    </a:lnTo>
                    <a:lnTo>
                      <a:pt x="394" y="1717"/>
                    </a:lnTo>
                    <a:lnTo>
                      <a:pt x="360" y="1687"/>
                    </a:lnTo>
                    <a:lnTo>
                      <a:pt x="327" y="1658"/>
                    </a:lnTo>
                    <a:lnTo>
                      <a:pt x="289" y="1629"/>
                    </a:lnTo>
                    <a:lnTo>
                      <a:pt x="255" y="1595"/>
                    </a:lnTo>
                    <a:lnTo>
                      <a:pt x="222" y="1566"/>
                    </a:lnTo>
                    <a:lnTo>
                      <a:pt x="188" y="1536"/>
                    </a:lnTo>
                    <a:lnTo>
                      <a:pt x="151" y="1507"/>
                    </a:lnTo>
                    <a:lnTo>
                      <a:pt x="117" y="1473"/>
                    </a:lnTo>
                    <a:lnTo>
                      <a:pt x="79" y="1444"/>
                    </a:lnTo>
                    <a:lnTo>
                      <a:pt x="613" y="1696"/>
                    </a:lnTo>
                    <a:lnTo>
                      <a:pt x="596" y="1675"/>
                    </a:lnTo>
                    <a:lnTo>
                      <a:pt x="575" y="1654"/>
                    </a:lnTo>
                    <a:lnTo>
                      <a:pt x="554" y="1625"/>
                    </a:lnTo>
                    <a:lnTo>
                      <a:pt x="529" y="1595"/>
                    </a:lnTo>
                    <a:lnTo>
                      <a:pt x="508" y="1566"/>
                    </a:lnTo>
                    <a:lnTo>
                      <a:pt x="483" y="1532"/>
                    </a:lnTo>
                    <a:lnTo>
                      <a:pt x="457" y="1494"/>
                    </a:lnTo>
                    <a:lnTo>
                      <a:pt x="432" y="1457"/>
                    </a:lnTo>
                    <a:lnTo>
                      <a:pt x="407" y="1415"/>
                    </a:lnTo>
                    <a:lnTo>
                      <a:pt x="381" y="1373"/>
                    </a:lnTo>
                    <a:lnTo>
                      <a:pt x="352" y="1331"/>
                    </a:lnTo>
                    <a:lnTo>
                      <a:pt x="327" y="1280"/>
                    </a:lnTo>
                    <a:lnTo>
                      <a:pt x="302" y="1234"/>
                    </a:lnTo>
                    <a:lnTo>
                      <a:pt x="272" y="1180"/>
                    </a:lnTo>
                    <a:lnTo>
                      <a:pt x="247" y="1129"/>
                    </a:lnTo>
                    <a:lnTo>
                      <a:pt x="222" y="1075"/>
                    </a:lnTo>
                    <a:lnTo>
                      <a:pt x="197" y="1016"/>
                    </a:lnTo>
                    <a:lnTo>
                      <a:pt x="176" y="957"/>
                    </a:lnTo>
                    <a:lnTo>
                      <a:pt x="151" y="899"/>
                    </a:lnTo>
                    <a:lnTo>
                      <a:pt x="130" y="836"/>
                    </a:lnTo>
                    <a:lnTo>
                      <a:pt x="109" y="777"/>
                    </a:lnTo>
                    <a:lnTo>
                      <a:pt x="88" y="710"/>
                    </a:lnTo>
                    <a:lnTo>
                      <a:pt x="71" y="643"/>
                    </a:lnTo>
                    <a:lnTo>
                      <a:pt x="54" y="579"/>
                    </a:lnTo>
                    <a:lnTo>
                      <a:pt x="41" y="507"/>
                    </a:lnTo>
                    <a:lnTo>
                      <a:pt x="29" y="440"/>
                    </a:lnTo>
                    <a:lnTo>
                      <a:pt x="16" y="369"/>
                    </a:lnTo>
                    <a:lnTo>
                      <a:pt x="8" y="297"/>
                    </a:lnTo>
                    <a:lnTo>
                      <a:pt x="4" y="222"/>
                    </a:lnTo>
                    <a:lnTo>
                      <a:pt x="0" y="151"/>
                    </a:lnTo>
                    <a:lnTo>
                      <a:pt x="0" y="75"/>
                    </a:lnTo>
                    <a:lnTo>
                      <a:pt x="0" y="0"/>
                    </a:lnTo>
                    <a:lnTo>
                      <a:pt x="25" y="130"/>
                    </a:lnTo>
                    <a:lnTo>
                      <a:pt x="54" y="260"/>
                    </a:lnTo>
                    <a:lnTo>
                      <a:pt x="83" y="377"/>
                    </a:lnTo>
                    <a:lnTo>
                      <a:pt x="121" y="499"/>
                    </a:lnTo>
                    <a:lnTo>
                      <a:pt x="163" y="609"/>
                    </a:lnTo>
                    <a:lnTo>
                      <a:pt x="209" y="718"/>
                    </a:lnTo>
                    <a:lnTo>
                      <a:pt x="255" y="823"/>
                    </a:lnTo>
                    <a:lnTo>
                      <a:pt x="306" y="924"/>
                    </a:lnTo>
                    <a:lnTo>
                      <a:pt x="360" y="1020"/>
                    </a:lnTo>
                    <a:lnTo>
                      <a:pt x="415" y="1113"/>
                    </a:lnTo>
                    <a:lnTo>
                      <a:pt x="474" y="1201"/>
                    </a:lnTo>
                    <a:lnTo>
                      <a:pt x="533" y="1285"/>
                    </a:lnTo>
                    <a:lnTo>
                      <a:pt x="601" y="1364"/>
                    </a:lnTo>
                    <a:lnTo>
                      <a:pt x="663" y="1440"/>
                    </a:lnTo>
                    <a:lnTo>
                      <a:pt x="731" y="1511"/>
                    </a:lnTo>
                    <a:lnTo>
                      <a:pt x="798" y="1583"/>
                    </a:lnTo>
                    <a:lnTo>
                      <a:pt x="865" y="1646"/>
                    </a:lnTo>
                    <a:lnTo>
                      <a:pt x="936" y="1708"/>
                    </a:lnTo>
                    <a:lnTo>
                      <a:pt x="1008" y="1763"/>
                    </a:lnTo>
                    <a:lnTo>
                      <a:pt x="1079" y="1818"/>
                    </a:lnTo>
                    <a:lnTo>
                      <a:pt x="1150" y="1869"/>
                    </a:lnTo>
                    <a:lnTo>
                      <a:pt x="1222" y="1919"/>
                    </a:lnTo>
                    <a:lnTo>
                      <a:pt x="1293" y="1961"/>
                    </a:lnTo>
                    <a:lnTo>
                      <a:pt x="1368" y="2003"/>
                    </a:lnTo>
                    <a:lnTo>
                      <a:pt x="1437" y="2041"/>
                    </a:lnTo>
                    <a:lnTo>
                      <a:pt x="1508" y="2075"/>
                    </a:lnTo>
                    <a:lnTo>
                      <a:pt x="1579" y="2108"/>
                    </a:lnTo>
                    <a:lnTo>
                      <a:pt x="1646" y="2133"/>
                    </a:lnTo>
                    <a:lnTo>
                      <a:pt x="1713" y="2163"/>
                    </a:lnTo>
                    <a:lnTo>
                      <a:pt x="1781" y="2184"/>
                    </a:lnTo>
                    <a:lnTo>
                      <a:pt x="1844" y="2205"/>
                    </a:lnTo>
                    <a:lnTo>
                      <a:pt x="1906" y="22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50000">
                    <a:srgbClr val="000000"/>
                  </a:gs>
                  <a:gs pos="100000">
                    <a:srgbClr val="cecece"/>
                  </a:gs>
                </a:gsLst>
                <a:lin ang="27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488360" y="2857680"/>
                <a:ext cx="891000" cy="1060920"/>
              </a:xfrm>
              <a:custGeom>
                <a:avLst/>
                <a:gdLst/>
                <a:ahLst/>
                <a:rect l="0" t="0" r="r" b="b"/>
                <a:pathLst>
                  <a:path w="2475" h="2947">
                    <a:moveTo>
                      <a:pt x="703" y="2839"/>
                    </a:moveTo>
                    <a:lnTo>
                      <a:pt x="711" y="2822"/>
                    </a:lnTo>
                    <a:lnTo>
                      <a:pt x="720" y="2806"/>
                    </a:lnTo>
                    <a:lnTo>
                      <a:pt x="724" y="2789"/>
                    </a:lnTo>
                    <a:lnTo>
                      <a:pt x="732" y="2772"/>
                    </a:lnTo>
                    <a:lnTo>
                      <a:pt x="736" y="2756"/>
                    </a:lnTo>
                    <a:lnTo>
                      <a:pt x="741" y="2739"/>
                    </a:lnTo>
                    <a:lnTo>
                      <a:pt x="741" y="2722"/>
                    </a:lnTo>
                    <a:lnTo>
                      <a:pt x="745" y="2706"/>
                    </a:lnTo>
                    <a:lnTo>
                      <a:pt x="745" y="2689"/>
                    </a:lnTo>
                    <a:lnTo>
                      <a:pt x="745" y="2672"/>
                    </a:lnTo>
                    <a:lnTo>
                      <a:pt x="745" y="2656"/>
                    </a:lnTo>
                    <a:lnTo>
                      <a:pt x="741" y="2643"/>
                    </a:lnTo>
                    <a:lnTo>
                      <a:pt x="741" y="2622"/>
                    </a:lnTo>
                    <a:lnTo>
                      <a:pt x="732" y="2606"/>
                    </a:lnTo>
                    <a:lnTo>
                      <a:pt x="728" y="2593"/>
                    </a:lnTo>
                    <a:lnTo>
                      <a:pt x="724" y="2576"/>
                    </a:lnTo>
                    <a:lnTo>
                      <a:pt x="695" y="2568"/>
                    </a:lnTo>
                    <a:lnTo>
                      <a:pt x="666" y="2564"/>
                    </a:lnTo>
                    <a:lnTo>
                      <a:pt x="641" y="2556"/>
                    </a:lnTo>
                    <a:lnTo>
                      <a:pt x="611" y="2556"/>
                    </a:lnTo>
                    <a:lnTo>
                      <a:pt x="577" y="2551"/>
                    </a:lnTo>
                    <a:lnTo>
                      <a:pt x="548" y="2547"/>
                    </a:lnTo>
                    <a:lnTo>
                      <a:pt x="519" y="2547"/>
                    </a:lnTo>
                    <a:lnTo>
                      <a:pt x="486" y="2547"/>
                    </a:lnTo>
                    <a:lnTo>
                      <a:pt x="457" y="2551"/>
                    </a:lnTo>
                    <a:lnTo>
                      <a:pt x="424" y="2551"/>
                    </a:lnTo>
                    <a:lnTo>
                      <a:pt x="394" y="2560"/>
                    </a:lnTo>
                    <a:lnTo>
                      <a:pt x="361" y="2568"/>
                    </a:lnTo>
                    <a:lnTo>
                      <a:pt x="332" y="2576"/>
                    </a:lnTo>
                    <a:lnTo>
                      <a:pt x="299" y="2589"/>
                    </a:lnTo>
                    <a:lnTo>
                      <a:pt x="270" y="2606"/>
                    </a:lnTo>
                    <a:lnTo>
                      <a:pt x="241" y="2622"/>
                    </a:lnTo>
                    <a:lnTo>
                      <a:pt x="332" y="2947"/>
                    </a:lnTo>
                    <a:lnTo>
                      <a:pt x="0" y="2485"/>
                    </a:lnTo>
                    <a:lnTo>
                      <a:pt x="45" y="2481"/>
                    </a:lnTo>
                    <a:lnTo>
                      <a:pt x="91" y="2481"/>
                    </a:lnTo>
                    <a:lnTo>
                      <a:pt x="137" y="2476"/>
                    </a:lnTo>
                    <a:lnTo>
                      <a:pt x="178" y="2472"/>
                    </a:lnTo>
                    <a:lnTo>
                      <a:pt x="224" y="2472"/>
                    </a:lnTo>
                    <a:lnTo>
                      <a:pt x="261" y="2468"/>
                    </a:lnTo>
                    <a:lnTo>
                      <a:pt x="303" y="2464"/>
                    </a:lnTo>
                    <a:lnTo>
                      <a:pt x="345" y="2464"/>
                    </a:lnTo>
                    <a:lnTo>
                      <a:pt x="382" y="2456"/>
                    </a:lnTo>
                    <a:lnTo>
                      <a:pt x="419" y="2451"/>
                    </a:lnTo>
                    <a:lnTo>
                      <a:pt x="457" y="2447"/>
                    </a:lnTo>
                    <a:lnTo>
                      <a:pt x="494" y="2439"/>
                    </a:lnTo>
                    <a:lnTo>
                      <a:pt x="532" y="2431"/>
                    </a:lnTo>
                    <a:lnTo>
                      <a:pt x="565" y="2422"/>
                    </a:lnTo>
                    <a:lnTo>
                      <a:pt x="602" y="2414"/>
                    </a:lnTo>
                    <a:lnTo>
                      <a:pt x="637" y="2406"/>
                    </a:lnTo>
                    <a:lnTo>
                      <a:pt x="674" y="2393"/>
                    </a:lnTo>
                    <a:lnTo>
                      <a:pt x="707" y="2381"/>
                    </a:lnTo>
                    <a:lnTo>
                      <a:pt x="741" y="2368"/>
                    </a:lnTo>
                    <a:lnTo>
                      <a:pt x="774" y="2356"/>
                    </a:lnTo>
                    <a:lnTo>
                      <a:pt x="811" y="2339"/>
                    </a:lnTo>
                    <a:lnTo>
                      <a:pt x="845" y="2322"/>
                    </a:lnTo>
                    <a:lnTo>
                      <a:pt x="878" y="2306"/>
                    </a:lnTo>
                    <a:lnTo>
                      <a:pt x="915" y="2285"/>
                    </a:lnTo>
                    <a:lnTo>
                      <a:pt x="953" y="2264"/>
                    </a:lnTo>
                    <a:lnTo>
                      <a:pt x="986" y="2239"/>
                    </a:lnTo>
                    <a:lnTo>
                      <a:pt x="1023" y="2218"/>
                    </a:lnTo>
                    <a:lnTo>
                      <a:pt x="1061" y="2188"/>
                    </a:lnTo>
                    <a:lnTo>
                      <a:pt x="1098" y="2163"/>
                    </a:lnTo>
                    <a:lnTo>
                      <a:pt x="1136" y="2134"/>
                    </a:lnTo>
                    <a:lnTo>
                      <a:pt x="1177" y="2100"/>
                    </a:lnTo>
                    <a:lnTo>
                      <a:pt x="1219" y="2067"/>
                    </a:lnTo>
                    <a:lnTo>
                      <a:pt x="1223" y="2050"/>
                    </a:lnTo>
                    <a:lnTo>
                      <a:pt x="1227" y="2034"/>
                    </a:lnTo>
                    <a:lnTo>
                      <a:pt x="1219" y="2013"/>
                    </a:lnTo>
                    <a:lnTo>
                      <a:pt x="1215" y="1996"/>
                    </a:lnTo>
                    <a:lnTo>
                      <a:pt x="1198" y="1975"/>
                    </a:lnTo>
                    <a:lnTo>
                      <a:pt x="1181" y="1955"/>
                    </a:lnTo>
                    <a:lnTo>
                      <a:pt x="1161" y="1934"/>
                    </a:lnTo>
                    <a:lnTo>
                      <a:pt x="1136" y="1913"/>
                    </a:lnTo>
                    <a:lnTo>
                      <a:pt x="1111" y="1896"/>
                    </a:lnTo>
                    <a:lnTo>
                      <a:pt x="1077" y="1880"/>
                    </a:lnTo>
                    <a:lnTo>
                      <a:pt x="1048" y="1863"/>
                    </a:lnTo>
                    <a:lnTo>
                      <a:pt x="1011" y="1850"/>
                    </a:lnTo>
                    <a:lnTo>
                      <a:pt x="978" y="1838"/>
                    </a:lnTo>
                    <a:lnTo>
                      <a:pt x="940" y="1834"/>
                    </a:lnTo>
                    <a:lnTo>
                      <a:pt x="903" y="1825"/>
                    </a:lnTo>
                    <a:lnTo>
                      <a:pt x="865" y="1825"/>
                    </a:lnTo>
                    <a:lnTo>
                      <a:pt x="919" y="1767"/>
                    </a:lnTo>
                    <a:lnTo>
                      <a:pt x="978" y="1713"/>
                    </a:lnTo>
                    <a:lnTo>
                      <a:pt x="1032" y="1655"/>
                    </a:lnTo>
                    <a:lnTo>
                      <a:pt x="1086" y="1600"/>
                    </a:lnTo>
                    <a:lnTo>
                      <a:pt x="1144" y="1542"/>
                    </a:lnTo>
                    <a:lnTo>
                      <a:pt x="1198" y="1488"/>
                    </a:lnTo>
                    <a:lnTo>
                      <a:pt x="1252" y="1434"/>
                    </a:lnTo>
                    <a:lnTo>
                      <a:pt x="1310" y="1375"/>
                    </a:lnTo>
                    <a:lnTo>
                      <a:pt x="1364" y="1321"/>
                    </a:lnTo>
                    <a:lnTo>
                      <a:pt x="1418" y="1267"/>
                    </a:lnTo>
                    <a:lnTo>
                      <a:pt x="1472" y="1213"/>
                    </a:lnTo>
                    <a:lnTo>
                      <a:pt x="1526" y="1155"/>
                    </a:lnTo>
                    <a:lnTo>
                      <a:pt x="1580" y="1100"/>
                    </a:lnTo>
                    <a:lnTo>
                      <a:pt x="1630" y="1046"/>
                    </a:lnTo>
                    <a:lnTo>
                      <a:pt x="1684" y="992"/>
                    </a:lnTo>
                    <a:lnTo>
                      <a:pt x="1738" y="934"/>
                    </a:lnTo>
                    <a:lnTo>
                      <a:pt x="1788" y="880"/>
                    </a:lnTo>
                    <a:lnTo>
                      <a:pt x="1838" y="821"/>
                    </a:lnTo>
                    <a:lnTo>
                      <a:pt x="1893" y="767"/>
                    </a:lnTo>
                    <a:lnTo>
                      <a:pt x="1943" y="708"/>
                    </a:lnTo>
                    <a:lnTo>
                      <a:pt x="1993" y="654"/>
                    </a:lnTo>
                    <a:lnTo>
                      <a:pt x="2039" y="595"/>
                    </a:lnTo>
                    <a:lnTo>
                      <a:pt x="2089" y="537"/>
                    </a:lnTo>
                    <a:lnTo>
                      <a:pt x="2134" y="483"/>
                    </a:lnTo>
                    <a:lnTo>
                      <a:pt x="2180" y="420"/>
                    </a:lnTo>
                    <a:lnTo>
                      <a:pt x="2226" y="362"/>
                    </a:lnTo>
                    <a:lnTo>
                      <a:pt x="2272" y="304"/>
                    </a:lnTo>
                    <a:lnTo>
                      <a:pt x="2313" y="245"/>
                    </a:lnTo>
                    <a:lnTo>
                      <a:pt x="2355" y="183"/>
                    </a:lnTo>
                    <a:lnTo>
                      <a:pt x="2396" y="124"/>
                    </a:lnTo>
                    <a:lnTo>
                      <a:pt x="2438" y="62"/>
                    </a:lnTo>
                    <a:lnTo>
                      <a:pt x="2475" y="0"/>
                    </a:lnTo>
                    <a:lnTo>
                      <a:pt x="2471" y="37"/>
                    </a:lnTo>
                    <a:lnTo>
                      <a:pt x="2463" y="70"/>
                    </a:lnTo>
                    <a:lnTo>
                      <a:pt x="2455" y="104"/>
                    </a:lnTo>
                    <a:lnTo>
                      <a:pt x="2446" y="137"/>
                    </a:lnTo>
                    <a:lnTo>
                      <a:pt x="2442" y="166"/>
                    </a:lnTo>
                    <a:lnTo>
                      <a:pt x="2434" y="195"/>
                    </a:lnTo>
                    <a:lnTo>
                      <a:pt x="2430" y="224"/>
                    </a:lnTo>
                    <a:lnTo>
                      <a:pt x="2425" y="249"/>
                    </a:lnTo>
                    <a:lnTo>
                      <a:pt x="2417" y="279"/>
                    </a:lnTo>
                    <a:lnTo>
                      <a:pt x="2413" y="308"/>
                    </a:lnTo>
                    <a:lnTo>
                      <a:pt x="2405" y="337"/>
                    </a:lnTo>
                    <a:lnTo>
                      <a:pt x="2396" y="366"/>
                    </a:lnTo>
                    <a:lnTo>
                      <a:pt x="2392" y="399"/>
                    </a:lnTo>
                    <a:lnTo>
                      <a:pt x="2380" y="429"/>
                    </a:lnTo>
                    <a:lnTo>
                      <a:pt x="2371" y="462"/>
                    </a:lnTo>
                    <a:lnTo>
                      <a:pt x="2363" y="499"/>
                    </a:lnTo>
                    <a:lnTo>
                      <a:pt x="2342" y="537"/>
                    </a:lnTo>
                    <a:lnTo>
                      <a:pt x="2317" y="570"/>
                    </a:lnTo>
                    <a:lnTo>
                      <a:pt x="2301" y="599"/>
                    </a:lnTo>
                    <a:lnTo>
                      <a:pt x="2276" y="629"/>
                    </a:lnTo>
                    <a:lnTo>
                      <a:pt x="2255" y="658"/>
                    </a:lnTo>
                    <a:lnTo>
                      <a:pt x="2234" y="687"/>
                    </a:lnTo>
                    <a:lnTo>
                      <a:pt x="2209" y="716"/>
                    </a:lnTo>
                    <a:lnTo>
                      <a:pt x="2184" y="746"/>
                    </a:lnTo>
                    <a:lnTo>
                      <a:pt x="2159" y="775"/>
                    </a:lnTo>
                    <a:lnTo>
                      <a:pt x="2130" y="813"/>
                    </a:lnTo>
                    <a:lnTo>
                      <a:pt x="2101" y="846"/>
                    </a:lnTo>
                    <a:lnTo>
                      <a:pt x="2068" y="884"/>
                    </a:lnTo>
                    <a:lnTo>
                      <a:pt x="2030" y="925"/>
                    </a:lnTo>
                    <a:lnTo>
                      <a:pt x="1993" y="971"/>
                    </a:lnTo>
                    <a:lnTo>
                      <a:pt x="1947" y="1021"/>
                    </a:lnTo>
                    <a:lnTo>
                      <a:pt x="1902" y="1075"/>
                    </a:lnTo>
                    <a:lnTo>
                      <a:pt x="1931" y="1063"/>
                    </a:lnTo>
                    <a:lnTo>
                      <a:pt x="1960" y="1050"/>
                    </a:lnTo>
                    <a:lnTo>
                      <a:pt x="1985" y="1034"/>
                    </a:lnTo>
                    <a:lnTo>
                      <a:pt x="2010" y="1021"/>
                    </a:lnTo>
                    <a:lnTo>
                      <a:pt x="2035" y="1009"/>
                    </a:lnTo>
                    <a:lnTo>
                      <a:pt x="2051" y="996"/>
                    </a:lnTo>
                    <a:lnTo>
                      <a:pt x="2072" y="980"/>
                    </a:lnTo>
                    <a:lnTo>
                      <a:pt x="2093" y="967"/>
                    </a:lnTo>
                    <a:lnTo>
                      <a:pt x="2114" y="950"/>
                    </a:lnTo>
                    <a:lnTo>
                      <a:pt x="2130" y="934"/>
                    </a:lnTo>
                    <a:lnTo>
                      <a:pt x="2155" y="913"/>
                    </a:lnTo>
                    <a:lnTo>
                      <a:pt x="2176" y="896"/>
                    </a:lnTo>
                    <a:lnTo>
                      <a:pt x="2197" y="871"/>
                    </a:lnTo>
                    <a:lnTo>
                      <a:pt x="2222" y="850"/>
                    </a:lnTo>
                    <a:lnTo>
                      <a:pt x="2251" y="821"/>
                    </a:lnTo>
                    <a:lnTo>
                      <a:pt x="2284" y="796"/>
                    </a:lnTo>
                    <a:lnTo>
                      <a:pt x="2276" y="817"/>
                    </a:lnTo>
                    <a:lnTo>
                      <a:pt x="2272" y="838"/>
                    </a:lnTo>
                    <a:lnTo>
                      <a:pt x="2267" y="859"/>
                    </a:lnTo>
                    <a:lnTo>
                      <a:pt x="2263" y="884"/>
                    </a:lnTo>
                    <a:lnTo>
                      <a:pt x="2255" y="913"/>
                    </a:lnTo>
                    <a:lnTo>
                      <a:pt x="2251" y="938"/>
                    </a:lnTo>
                    <a:lnTo>
                      <a:pt x="2243" y="967"/>
                    </a:lnTo>
                    <a:lnTo>
                      <a:pt x="2234" y="996"/>
                    </a:lnTo>
                    <a:lnTo>
                      <a:pt x="2226" y="1025"/>
                    </a:lnTo>
                    <a:lnTo>
                      <a:pt x="2222" y="1050"/>
                    </a:lnTo>
                    <a:lnTo>
                      <a:pt x="2213" y="1080"/>
                    </a:lnTo>
                    <a:lnTo>
                      <a:pt x="2205" y="1105"/>
                    </a:lnTo>
                    <a:lnTo>
                      <a:pt x="2197" y="1130"/>
                    </a:lnTo>
                    <a:lnTo>
                      <a:pt x="2188" y="1155"/>
                    </a:lnTo>
                    <a:lnTo>
                      <a:pt x="2180" y="1175"/>
                    </a:lnTo>
                    <a:lnTo>
                      <a:pt x="2172" y="1196"/>
                    </a:lnTo>
                    <a:lnTo>
                      <a:pt x="2151" y="1209"/>
                    </a:lnTo>
                    <a:lnTo>
                      <a:pt x="2130" y="1225"/>
                    </a:lnTo>
                    <a:lnTo>
                      <a:pt x="2114" y="1238"/>
                    </a:lnTo>
                    <a:lnTo>
                      <a:pt x="2093" y="1250"/>
                    </a:lnTo>
                    <a:lnTo>
                      <a:pt x="2072" y="1263"/>
                    </a:lnTo>
                    <a:lnTo>
                      <a:pt x="2051" y="1280"/>
                    </a:lnTo>
                    <a:lnTo>
                      <a:pt x="2030" y="1288"/>
                    </a:lnTo>
                    <a:lnTo>
                      <a:pt x="2010" y="1300"/>
                    </a:lnTo>
                    <a:lnTo>
                      <a:pt x="1989" y="1317"/>
                    </a:lnTo>
                    <a:lnTo>
                      <a:pt x="1964" y="1330"/>
                    </a:lnTo>
                    <a:lnTo>
                      <a:pt x="1939" y="1342"/>
                    </a:lnTo>
                    <a:lnTo>
                      <a:pt x="1914" y="1355"/>
                    </a:lnTo>
                    <a:lnTo>
                      <a:pt x="1885" y="1371"/>
                    </a:lnTo>
                    <a:lnTo>
                      <a:pt x="1855" y="1384"/>
                    </a:lnTo>
                    <a:lnTo>
                      <a:pt x="1822" y="1400"/>
                    </a:lnTo>
                    <a:lnTo>
                      <a:pt x="1788" y="1417"/>
                    </a:lnTo>
                    <a:lnTo>
                      <a:pt x="1809" y="1413"/>
                    </a:lnTo>
                    <a:lnTo>
                      <a:pt x="1834" y="1409"/>
                    </a:lnTo>
                    <a:lnTo>
                      <a:pt x="1855" y="1409"/>
                    </a:lnTo>
                    <a:lnTo>
                      <a:pt x="1877" y="1405"/>
                    </a:lnTo>
                    <a:lnTo>
                      <a:pt x="1897" y="1400"/>
                    </a:lnTo>
                    <a:lnTo>
                      <a:pt x="1918" y="1396"/>
                    </a:lnTo>
                    <a:lnTo>
                      <a:pt x="1943" y="1392"/>
                    </a:lnTo>
                    <a:lnTo>
                      <a:pt x="1964" y="1388"/>
                    </a:lnTo>
                    <a:lnTo>
                      <a:pt x="1985" y="1384"/>
                    </a:lnTo>
                    <a:lnTo>
                      <a:pt x="2010" y="1380"/>
                    </a:lnTo>
                    <a:lnTo>
                      <a:pt x="2030" y="1375"/>
                    </a:lnTo>
                    <a:lnTo>
                      <a:pt x="2051" y="1367"/>
                    </a:lnTo>
                    <a:lnTo>
                      <a:pt x="2072" y="1363"/>
                    </a:lnTo>
                    <a:lnTo>
                      <a:pt x="2097" y="1359"/>
                    </a:lnTo>
                    <a:lnTo>
                      <a:pt x="2118" y="1350"/>
                    </a:lnTo>
                    <a:lnTo>
                      <a:pt x="2139" y="1342"/>
                    </a:lnTo>
                    <a:lnTo>
                      <a:pt x="2134" y="1367"/>
                    </a:lnTo>
                    <a:lnTo>
                      <a:pt x="2126" y="1392"/>
                    </a:lnTo>
                    <a:lnTo>
                      <a:pt x="2122" y="1417"/>
                    </a:lnTo>
                    <a:lnTo>
                      <a:pt x="2114" y="1442"/>
                    </a:lnTo>
                    <a:lnTo>
                      <a:pt x="2109" y="1463"/>
                    </a:lnTo>
                    <a:lnTo>
                      <a:pt x="2101" y="1488"/>
                    </a:lnTo>
                    <a:lnTo>
                      <a:pt x="2093" y="1513"/>
                    </a:lnTo>
                    <a:lnTo>
                      <a:pt x="2089" y="1538"/>
                    </a:lnTo>
                    <a:lnTo>
                      <a:pt x="2080" y="1563"/>
                    </a:lnTo>
                    <a:lnTo>
                      <a:pt x="2076" y="1588"/>
                    </a:lnTo>
                    <a:lnTo>
                      <a:pt x="2068" y="1613"/>
                    </a:lnTo>
                    <a:lnTo>
                      <a:pt x="2060" y="1638"/>
                    </a:lnTo>
                    <a:lnTo>
                      <a:pt x="2051" y="1659"/>
                    </a:lnTo>
                    <a:lnTo>
                      <a:pt x="2047" y="1684"/>
                    </a:lnTo>
                    <a:lnTo>
                      <a:pt x="2039" y="1709"/>
                    </a:lnTo>
                    <a:lnTo>
                      <a:pt x="2030" y="1734"/>
                    </a:lnTo>
                    <a:lnTo>
                      <a:pt x="1993" y="1742"/>
                    </a:lnTo>
                    <a:lnTo>
                      <a:pt x="1951" y="1755"/>
                    </a:lnTo>
                    <a:lnTo>
                      <a:pt x="1914" y="1767"/>
                    </a:lnTo>
                    <a:lnTo>
                      <a:pt x="1877" y="1780"/>
                    </a:lnTo>
                    <a:lnTo>
                      <a:pt x="1834" y="1788"/>
                    </a:lnTo>
                    <a:lnTo>
                      <a:pt x="1797" y="1796"/>
                    </a:lnTo>
                    <a:lnTo>
                      <a:pt x="1755" y="1800"/>
                    </a:lnTo>
                    <a:lnTo>
                      <a:pt x="1718" y="1809"/>
                    </a:lnTo>
                    <a:lnTo>
                      <a:pt x="1676" y="1813"/>
                    </a:lnTo>
                    <a:lnTo>
                      <a:pt x="1634" y="1817"/>
                    </a:lnTo>
                    <a:lnTo>
                      <a:pt x="1597" y="1817"/>
                    </a:lnTo>
                    <a:lnTo>
                      <a:pt x="1555" y="1817"/>
                    </a:lnTo>
                    <a:lnTo>
                      <a:pt x="1518" y="1817"/>
                    </a:lnTo>
                    <a:lnTo>
                      <a:pt x="1476" y="1813"/>
                    </a:lnTo>
                    <a:lnTo>
                      <a:pt x="1439" y="1809"/>
                    </a:lnTo>
                    <a:lnTo>
                      <a:pt x="1397" y="1805"/>
                    </a:lnTo>
                    <a:lnTo>
                      <a:pt x="1443" y="1842"/>
                    </a:lnTo>
                    <a:lnTo>
                      <a:pt x="1485" y="1875"/>
                    </a:lnTo>
                    <a:lnTo>
                      <a:pt x="1526" y="1900"/>
                    </a:lnTo>
                    <a:lnTo>
                      <a:pt x="1564" y="1921"/>
                    </a:lnTo>
                    <a:lnTo>
                      <a:pt x="1605" y="1942"/>
                    </a:lnTo>
                    <a:lnTo>
                      <a:pt x="1639" y="1955"/>
                    </a:lnTo>
                    <a:lnTo>
                      <a:pt x="1676" y="1967"/>
                    </a:lnTo>
                    <a:lnTo>
                      <a:pt x="1705" y="1975"/>
                    </a:lnTo>
                    <a:lnTo>
                      <a:pt x="1738" y="1980"/>
                    </a:lnTo>
                    <a:lnTo>
                      <a:pt x="1772" y="1984"/>
                    </a:lnTo>
                    <a:lnTo>
                      <a:pt x="1801" y="1984"/>
                    </a:lnTo>
                    <a:lnTo>
                      <a:pt x="1834" y="1984"/>
                    </a:lnTo>
                    <a:lnTo>
                      <a:pt x="1864" y="1984"/>
                    </a:lnTo>
                    <a:lnTo>
                      <a:pt x="1897" y="1984"/>
                    </a:lnTo>
                    <a:lnTo>
                      <a:pt x="1927" y="1984"/>
                    </a:lnTo>
                    <a:lnTo>
                      <a:pt x="1960" y="1984"/>
                    </a:lnTo>
                    <a:lnTo>
                      <a:pt x="1893" y="2034"/>
                    </a:lnTo>
                    <a:lnTo>
                      <a:pt x="1830" y="2075"/>
                    </a:lnTo>
                    <a:lnTo>
                      <a:pt x="1772" y="2109"/>
                    </a:lnTo>
                    <a:lnTo>
                      <a:pt x="1718" y="2138"/>
                    </a:lnTo>
                    <a:lnTo>
                      <a:pt x="1664" y="2159"/>
                    </a:lnTo>
                    <a:lnTo>
                      <a:pt x="1614" y="2175"/>
                    </a:lnTo>
                    <a:lnTo>
                      <a:pt x="1568" y="2188"/>
                    </a:lnTo>
                    <a:lnTo>
                      <a:pt x="1522" y="2200"/>
                    </a:lnTo>
                    <a:lnTo>
                      <a:pt x="1476" y="2209"/>
                    </a:lnTo>
                    <a:lnTo>
                      <a:pt x="1431" y="2218"/>
                    </a:lnTo>
                    <a:lnTo>
                      <a:pt x="1385" y="2226"/>
                    </a:lnTo>
                    <a:lnTo>
                      <a:pt x="1335" y="2235"/>
                    </a:lnTo>
                    <a:lnTo>
                      <a:pt x="1289" y="2247"/>
                    </a:lnTo>
                    <a:lnTo>
                      <a:pt x="1235" y="2264"/>
                    </a:lnTo>
                    <a:lnTo>
                      <a:pt x="1181" y="2285"/>
                    </a:lnTo>
                    <a:lnTo>
                      <a:pt x="1127" y="2310"/>
                    </a:lnTo>
                    <a:lnTo>
                      <a:pt x="1277" y="2422"/>
                    </a:lnTo>
                    <a:lnTo>
                      <a:pt x="936" y="2414"/>
                    </a:lnTo>
                    <a:lnTo>
                      <a:pt x="1156" y="2576"/>
                    </a:lnTo>
                    <a:lnTo>
                      <a:pt x="782" y="2522"/>
                    </a:lnTo>
                    <a:lnTo>
                      <a:pt x="903" y="2714"/>
                    </a:lnTo>
                    <a:lnTo>
                      <a:pt x="703" y="28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50000">
                    <a:srgbClr val="000000"/>
                  </a:gs>
                  <a:gs pos="100000">
                    <a:srgbClr val="cecece"/>
                  </a:gs>
                </a:gsLst>
                <a:lin ang="27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064280" y="3668760"/>
                <a:ext cx="286200" cy="179640"/>
              </a:xfrm>
              <a:custGeom>
                <a:avLst/>
                <a:gdLst/>
                <a:ahLst/>
                <a:rect l="0" t="0" r="r" b="b"/>
                <a:pathLst>
                  <a:path w="795" h="499">
                    <a:moveTo>
                      <a:pt x="525" y="499"/>
                    </a:moveTo>
                    <a:lnTo>
                      <a:pt x="795" y="440"/>
                    </a:lnTo>
                    <a:lnTo>
                      <a:pt x="615" y="180"/>
                    </a:lnTo>
                    <a:lnTo>
                      <a:pt x="567" y="171"/>
                    </a:lnTo>
                    <a:lnTo>
                      <a:pt x="530" y="163"/>
                    </a:lnTo>
                    <a:lnTo>
                      <a:pt x="488" y="150"/>
                    </a:lnTo>
                    <a:lnTo>
                      <a:pt x="450" y="142"/>
                    </a:lnTo>
                    <a:lnTo>
                      <a:pt x="416" y="133"/>
                    </a:lnTo>
                    <a:lnTo>
                      <a:pt x="378" y="125"/>
                    </a:lnTo>
                    <a:lnTo>
                      <a:pt x="341" y="117"/>
                    </a:lnTo>
                    <a:lnTo>
                      <a:pt x="307" y="108"/>
                    </a:lnTo>
                    <a:lnTo>
                      <a:pt x="269" y="96"/>
                    </a:lnTo>
                    <a:lnTo>
                      <a:pt x="236" y="83"/>
                    </a:lnTo>
                    <a:lnTo>
                      <a:pt x="197" y="75"/>
                    </a:lnTo>
                    <a:lnTo>
                      <a:pt x="163" y="58"/>
                    </a:lnTo>
                    <a:lnTo>
                      <a:pt x="121" y="46"/>
                    </a:lnTo>
                    <a:lnTo>
                      <a:pt x="83" y="33"/>
                    </a:lnTo>
                    <a:lnTo>
                      <a:pt x="41" y="16"/>
                    </a:lnTo>
                    <a:lnTo>
                      <a:pt x="0" y="0"/>
                    </a:lnTo>
                    <a:lnTo>
                      <a:pt x="180" y="499"/>
                    </a:lnTo>
                    <a:lnTo>
                      <a:pt x="163" y="423"/>
                    </a:lnTo>
                    <a:lnTo>
                      <a:pt x="167" y="361"/>
                    </a:lnTo>
                    <a:lnTo>
                      <a:pt x="184" y="306"/>
                    </a:lnTo>
                    <a:lnTo>
                      <a:pt x="215" y="268"/>
                    </a:lnTo>
                    <a:lnTo>
                      <a:pt x="257" y="238"/>
                    </a:lnTo>
                    <a:lnTo>
                      <a:pt x="303" y="221"/>
                    </a:lnTo>
                    <a:lnTo>
                      <a:pt x="353" y="217"/>
                    </a:lnTo>
                    <a:lnTo>
                      <a:pt x="404" y="217"/>
                    </a:lnTo>
                    <a:lnTo>
                      <a:pt x="454" y="230"/>
                    </a:lnTo>
                    <a:lnTo>
                      <a:pt x="500" y="252"/>
                    </a:lnTo>
                    <a:lnTo>
                      <a:pt x="538" y="277"/>
                    </a:lnTo>
                    <a:lnTo>
                      <a:pt x="567" y="310"/>
                    </a:lnTo>
                    <a:lnTo>
                      <a:pt x="580" y="348"/>
                    </a:lnTo>
                    <a:lnTo>
                      <a:pt x="580" y="394"/>
                    </a:lnTo>
                    <a:lnTo>
                      <a:pt x="563" y="444"/>
                    </a:lnTo>
                    <a:lnTo>
                      <a:pt x="525" y="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50000">
                    <a:srgbClr val="000000"/>
                  </a:gs>
                  <a:gs pos="100000">
                    <a:srgbClr val="cecece"/>
                  </a:gs>
                </a:gsLst>
                <a:lin ang="27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039080" y="3166920"/>
                <a:ext cx="771840" cy="495720"/>
              </a:xfrm>
              <a:custGeom>
                <a:avLst/>
                <a:gdLst/>
                <a:ahLst/>
                <a:rect l="0" t="0" r="r" b="b"/>
                <a:pathLst>
                  <a:path w="2144" h="1377">
                    <a:moveTo>
                      <a:pt x="1274" y="1162"/>
                    </a:moveTo>
                    <a:lnTo>
                      <a:pt x="1278" y="1138"/>
                    </a:lnTo>
                    <a:lnTo>
                      <a:pt x="1278" y="1121"/>
                    </a:lnTo>
                    <a:lnTo>
                      <a:pt x="1274" y="1101"/>
                    </a:lnTo>
                    <a:lnTo>
                      <a:pt x="1266" y="1084"/>
                    </a:lnTo>
                    <a:lnTo>
                      <a:pt x="1253" y="1067"/>
                    </a:lnTo>
                    <a:lnTo>
                      <a:pt x="1241" y="1051"/>
                    </a:lnTo>
                    <a:lnTo>
                      <a:pt x="1228" y="1039"/>
                    </a:lnTo>
                    <a:lnTo>
                      <a:pt x="1211" y="1025"/>
                    </a:lnTo>
                    <a:lnTo>
                      <a:pt x="1191" y="1017"/>
                    </a:lnTo>
                    <a:lnTo>
                      <a:pt x="1174" y="1009"/>
                    </a:lnTo>
                    <a:lnTo>
                      <a:pt x="1153" y="1000"/>
                    </a:lnTo>
                    <a:lnTo>
                      <a:pt x="1128" y="996"/>
                    </a:lnTo>
                    <a:lnTo>
                      <a:pt x="1107" y="992"/>
                    </a:lnTo>
                    <a:lnTo>
                      <a:pt x="1087" y="992"/>
                    </a:lnTo>
                    <a:lnTo>
                      <a:pt x="1065" y="996"/>
                    </a:lnTo>
                    <a:lnTo>
                      <a:pt x="1044" y="996"/>
                    </a:lnTo>
                    <a:lnTo>
                      <a:pt x="823" y="1039"/>
                    </a:lnTo>
                    <a:lnTo>
                      <a:pt x="853" y="1025"/>
                    </a:lnTo>
                    <a:lnTo>
                      <a:pt x="878" y="1009"/>
                    </a:lnTo>
                    <a:lnTo>
                      <a:pt x="894" y="996"/>
                    </a:lnTo>
                    <a:lnTo>
                      <a:pt x="907" y="980"/>
                    </a:lnTo>
                    <a:lnTo>
                      <a:pt x="915" y="967"/>
                    </a:lnTo>
                    <a:lnTo>
                      <a:pt x="919" y="955"/>
                    </a:lnTo>
                    <a:lnTo>
                      <a:pt x="915" y="943"/>
                    </a:lnTo>
                    <a:lnTo>
                      <a:pt x="907" y="934"/>
                    </a:lnTo>
                    <a:lnTo>
                      <a:pt x="898" y="922"/>
                    </a:lnTo>
                    <a:lnTo>
                      <a:pt x="882" y="914"/>
                    </a:lnTo>
                    <a:lnTo>
                      <a:pt x="865" y="905"/>
                    </a:lnTo>
                    <a:lnTo>
                      <a:pt x="840" y="901"/>
                    </a:lnTo>
                    <a:lnTo>
                      <a:pt x="815" y="893"/>
                    </a:lnTo>
                    <a:lnTo>
                      <a:pt x="786" y="889"/>
                    </a:lnTo>
                    <a:lnTo>
                      <a:pt x="757" y="885"/>
                    </a:lnTo>
                    <a:lnTo>
                      <a:pt x="724" y="885"/>
                    </a:lnTo>
                    <a:lnTo>
                      <a:pt x="690" y="885"/>
                    </a:lnTo>
                    <a:lnTo>
                      <a:pt x="653" y="885"/>
                    </a:lnTo>
                    <a:lnTo>
                      <a:pt x="611" y="889"/>
                    </a:lnTo>
                    <a:lnTo>
                      <a:pt x="574" y="889"/>
                    </a:lnTo>
                    <a:lnTo>
                      <a:pt x="532" y="897"/>
                    </a:lnTo>
                    <a:lnTo>
                      <a:pt x="495" y="905"/>
                    </a:lnTo>
                    <a:lnTo>
                      <a:pt x="453" y="914"/>
                    </a:lnTo>
                    <a:lnTo>
                      <a:pt x="411" y="922"/>
                    </a:lnTo>
                    <a:lnTo>
                      <a:pt x="370" y="938"/>
                    </a:lnTo>
                    <a:lnTo>
                      <a:pt x="328" y="951"/>
                    </a:lnTo>
                    <a:lnTo>
                      <a:pt x="291" y="971"/>
                    </a:lnTo>
                    <a:lnTo>
                      <a:pt x="249" y="988"/>
                    </a:lnTo>
                    <a:lnTo>
                      <a:pt x="216" y="1009"/>
                    </a:lnTo>
                    <a:lnTo>
                      <a:pt x="178" y="1034"/>
                    </a:lnTo>
                    <a:lnTo>
                      <a:pt x="145" y="1059"/>
                    </a:lnTo>
                    <a:lnTo>
                      <a:pt x="116" y="1088"/>
                    </a:lnTo>
                    <a:lnTo>
                      <a:pt x="62" y="1043"/>
                    </a:lnTo>
                    <a:lnTo>
                      <a:pt x="29" y="992"/>
                    </a:lnTo>
                    <a:lnTo>
                      <a:pt x="8" y="947"/>
                    </a:lnTo>
                    <a:lnTo>
                      <a:pt x="0" y="901"/>
                    </a:lnTo>
                    <a:lnTo>
                      <a:pt x="4" y="852"/>
                    </a:lnTo>
                    <a:lnTo>
                      <a:pt x="16" y="810"/>
                    </a:lnTo>
                    <a:lnTo>
                      <a:pt x="33" y="765"/>
                    </a:lnTo>
                    <a:lnTo>
                      <a:pt x="62" y="724"/>
                    </a:lnTo>
                    <a:lnTo>
                      <a:pt x="87" y="686"/>
                    </a:lnTo>
                    <a:lnTo>
                      <a:pt x="120" y="649"/>
                    </a:lnTo>
                    <a:lnTo>
                      <a:pt x="153" y="616"/>
                    </a:lnTo>
                    <a:lnTo>
                      <a:pt x="183" y="587"/>
                    </a:lnTo>
                    <a:lnTo>
                      <a:pt x="208" y="562"/>
                    </a:lnTo>
                    <a:lnTo>
                      <a:pt x="228" y="542"/>
                    </a:lnTo>
                    <a:lnTo>
                      <a:pt x="245" y="525"/>
                    </a:lnTo>
                    <a:lnTo>
                      <a:pt x="249" y="517"/>
                    </a:lnTo>
                    <a:lnTo>
                      <a:pt x="249" y="484"/>
                    </a:lnTo>
                    <a:lnTo>
                      <a:pt x="258" y="455"/>
                    </a:lnTo>
                    <a:lnTo>
                      <a:pt x="262" y="426"/>
                    </a:lnTo>
                    <a:lnTo>
                      <a:pt x="274" y="405"/>
                    </a:lnTo>
                    <a:lnTo>
                      <a:pt x="287" y="389"/>
                    </a:lnTo>
                    <a:lnTo>
                      <a:pt x="303" y="372"/>
                    </a:lnTo>
                    <a:lnTo>
                      <a:pt x="324" y="356"/>
                    </a:lnTo>
                    <a:lnTo>
                      <a:pt x="353" y="334"/>
                    </a:lnTo>
                    <a:lnTo>
                      <a:pt x="861" y="148"/>
                    </a:lnTo>
                    <a:lnTo>
                      <a:pt x="1166" y="74"/>
                    </a:lnTo>
                    <a:lnTo>
                      <a:pt x="1195" y="66"/>
                    </a:lnTo>
                    <a:lnTo>
                      <a:pt x="1220" y="57"/>
                    </a:lnTo>
                    <a:lnTo>
                      <a:pt x="1245" y="49"/>
                    </a:lnTo>
                    <a:lnTo>
                      <a:pt x="1266" y="41"/>
                    </a:lnTo>
                    <a:lnTo>
                      <a:pt x="1286" y="28"/>
                    </a:lnTo>
                    <a:lnTo>
                      <a:pt x="1303" y="20"/>
                    </a:lnTo>
                    <a:lnTo>
                      <a:pt x="1324" y="16"/>
                    </a:lnTo>
                    <a:lnTo>
                      <a:pt x="1340" y="8"/>
                    </a:lnTo>
                    <a:lnTo>
                      <a:pt x="1361" y="4"/>
                    </a:lnTo>
                    <a:lnTo>
                      <a:pt x="1382" y="0"/>
                    </a:lnTo>
                    <a:lnTo>
                      <a:pt x="1403" y="0"/>
                    </a:lnTo>
                    <a:lnTo>
                      <a:pt x="1424" y="0"/>
                    </a:lnTo>
                    <a:lnTo>
                      <a:pt x="1453" y="4"/>
                    </a:lnTo>
                    <a:lnTo>
                      <a:pt x="1478" y="12"/>
                    </a:lnTo>
                    <a:lnTo>
                      <a:pt x="1511" y="20"/>
                    </a:lnTo>
                    <a:lnTo>
                      <a:pt x="1549" y="33"/>
                    </a:lnTo>
                    <a:lnTo>
                      <a:pt x="1515" y="53"/>
                    </a:lnTo>
                    <a:lnTo>
                      <a:pt x="1490" y="61"/>
                    </a:lnTo>
                    <a:lnTo>
                      <a:pt x="1474" y="70"/>
                    </a:lnTo>
                    <a:lnTo>
                      <a:pt x="1457" y="74"/>
                    </a:lnTo>
                    <a:lnTo>
                      <a:pt x="1449" y="82"/>
                    </a:lnTo>
                    <a:lnTo>
                      <a:pt x="1432" y="95"/>
                    </a:lnTo>
                    <a:lnTo>
                      <a:pt x="1415" y="111"/>
                    </a:lnTo>
                    <a:lnTo>
                      <a:pt x="1390" y="140"/>
                    </a:lnTo>
                    <a:lnTo>
                      <a:pt x="1428" y="128"/>
                    </a:lnTo>
                    <a:lnTo>
                      <a:pt x="1469" y="119"/>
                    </a:lnTo>
                    <a:lnTo>
                      <a:pt x="1507" y="107"/>
                    </a:lnTo>
                    <a:lnTo>
                      <a:pt x="1549" y="95"/>
                    </a:lnTo>
                    <a:lnTo>
                      <a:pt x="1590" y="78"/>
                    </a:lnTo>
                    <a:lnTo>
                      <a:pt x="1628" y="61"/>
                    </a:lnTo>
                    <a:lnTo>
                      <a:pt x="1669" y="49"/>
                    </a:lnTo>
                    <a:lnTo>
                      <a:pt x="1711" y="37"/>
                    </a:lnTo>
                    <a:lnTo>
                      <a:pt x="1752" y="28"/>
                    </a:lnTo>
                    <a:lnTo>
                      <a:pt x="1794" y="20"/>
                    </a:lnTo>
                    <a:lnTo>
                      <a:pt x="1836" y="16"/>
                    </a:lnTo>
                    <a:lnTo>
                      <a:pt x="1877" y="20"/>
                    </a:lnTo>
                    <a:lnTo>
                      <a:pt x="1919" y="24"/>
                    </a:lnTo>
                    <a:lnTo>
                      <a:pt x="1961" y="37"/>
                    </a:lnTo>
                    <a:lnTo>
                      <a:pt x="2002" y="57"/>
                    </a:lnTo>
                    <a:lnTo>
                      <a:pt x="2044" y="82"/>
                    </a:lnTo>
                    <a:lnTo>
                      <a:pt x="2010" y="86"/>
                    </a:lnTo>
                    <a:lnTo>
                      <a:pt x="1981" y="99"/>
                    </a:lnTo>
                    <a:lnTo>
                      <a:pt x="1952" y="107"/>
                    </a:lnTo>
                    <a:lnTo>
                      <a:pt x="1927" y="119"/>
                    </a:lnTo>
                    <a:lnTo>
                      <a:pt x="1906" y="136"/>
                    </a:lnTo>
                    <a:lnTo>
                      <a:pt x="1886" y="148"/>
                    </a:lnTo>
                    <a:lnTo>
                      <a:pt x="1865" y="165"/>
                    </a:lnTo>
                    <a:lnTo>
                      <a:pt x="1848" y="181"/>
                    </a:lnTo>
                    <a:lnTo>
                      <a:pt x="1832" y="198"/>
                    </a:lnTo>
                    <a:lnTo>
                      <a:pt x="1815" y="218"/>
                    </a:lnTo>
                    <a:lnTo>
                      <a:pt x="1794" y="235"/>
                    </a:lnTo>
                    <a:lnTo>
                      <a:pt x="1777" y="256"/>
                    </a:lnTo>
                    <a:lnTo>
                      <a:pt x="1761" y="272"/>
                    </a:lnTo>
                    <a:lnTo>
                      <a:pt x="1736" y="293"/>
                    </a:lnTo>
                    <a:lnTo>
                      <a:pt x="1715" y="314"/>
                    </a:lnTo>
                    <a:lnTo>
                      <a:pt x="1690" y="330"/>
                    </a:lnTo>
                    <a:lnTo>
                      <a:pt x="1727" y="334"/>
                    </a:lnTo>
                    <a:lnTo>
                      <a:pt x="1761" y="338"/>
                    </a:lnTo>
                    <a:lnTo>
                      <a:pt x="1790" y="342"/>
                    </a:lnTo>
                    <a:lnTo>
                      <a:pt x="1819" y="338"/>
                    </a:lnTo>
                    <a:lnTo>
                      <a:pt x="1848" y="338"/>
                    </a:lnTo>
                    <a:lnTo>
                      <a:pt x="1873" y="338"/>
                    </a:lnTo>
                    <a:lnTo>
                      <a:pt x="1898" y="334"/>
                    </a:lnTo>
                    <a:lnTo>
                      <a:pt x="1923" y="334"/>
                    </a:lnTo>
                    <a:lnTo>
                      <a:pt x="1948" y="338"/>
                    </a:lnTo>
                    <a:lnTo>
                      <a:pt x="1973" y="342"/>
                    </a:lnTo>
                    <a:lnTo>
                      <a:pt x="1998" y="348"/>
                    </a:lnTo>
                    <a:lnTo>
                      <a:pt x="2023" y="356"/>
                    </a:lnTo>
                    <a:lnTo>
                      <a:pt x="2052" y="372"/>
                    </a:lnTo>
                    <a:lnTo>
                      <a:pt x="2077" y="389"/>
                    </a:lnTo>
                    <a:lnTo>
                      <a:pt x="2110" y="414"/>
                    </a:lnTo>
                    <a:lnTo>
                      <a:pt x="2144" y="443"/>
                    </a:lnTo>
                    <a:lnTo>
                      <a:pt x="2106" y="451"/>
                    </a:lnTo>
                    <a:lnTo>
                      <a:pt x="2073" y="467"/>
                    </a:lnTo>
                    <a:lnTo>
                      <a:pt x="2040" y="480"/>
                    </a:lnTo>
                    <a:lnTo>
                      <a:pt x="2015" y="492"/>
                    </a:lnTo>
                    <a:lnTo>
                      <a:pt x="1985" y="509"/>
                    </a:lnTo>
                    <a:lnTo>
                      <a:pt x="1965" y="521"/>
                    </a:lnTo>
                    <a:lnTo>
                      <a:pt x="1940" y="538"/>
                    </a:lnTo>
                    <a:lnTo>
                      <a:pt x="1923" y="550"/>
                    </a:lnTo>
                    <a:lnTo>
                      <a:pt x="1902" y="567"/>
                    </a:lnTo>
                    <a:lnTo>
                      <a:pt x="1881" y="579"/>
                    </a:lnTo>
                    <a:lnTo>
                      <a:pt x="1861" y="595"/>
                    </a:lnTo>
                    <a:lnTo>
                      <a:pt x="1840" y="608"/>
                    </a:lnTo>
                    <a:lnTo>
                      <a:pt x="1815" y="620"/>
                    </a:lnTo>
                    <a:lnTo>
                      <a:pt x="1794" y="633"/>
                    </a:lnTo>
                    <a:lnTo>
                      <a:pt x="1765" y="641"/>
                    </a:lnTo>
                    <a:lnTo>
                      <a:pt x="1736" y="649"/>
                    </a:lnTo>
                    <a:lnTo>
                      <a:pt x="1798" y="662"/>
                    </a:lnTo>
                    <a:lnTo>
                      <a:pt x="1844" y="678"/>
                    </a:lnTo>
                    <a:lnTo>
                      <a:pt x="1873" y="690"/>
                    </a:lnTo>
                    <a:lnTo>
                      <a:pt x="1898" y="711"/>
                    </a:lnTo>
                    <a:lnTo>
                      <a:pt x="1915" y="728"/>
                    </a:lnTo>
                    <a:lnTo>
                      <a:pt x="1931" y="744"/>
                    </a:lnTo>
                    <a:lnTo>
                      <a:pt x="1952" y="761"/>
                    </a:lnTo>
                    <a:lnTo>
                      <a:pt x="1981" y="777"/>
                    </a:lnTo>
                    <a:lnTo>
                      <a:pt x="1736" y="893"/>
                    </a:lnTo>
                    <a:lnTo>
                      <a:pt x="1757" y="1291"/>
                    </a:lnTo>
                    <a:lnTo>
                      <a:pt x="1628" y="1059"/>
                    </a:lnTo>
                    <a:lnTo>
                      <a:pt x="1557" y="1377"/>
                    </a:lnTo>
                    <a:lnTo>
                      <a:pt x="1524" y="1142"/>
                    </a:lnTo>
                    <a:lnTo>
                      <a:pt x="1357" y="1377"/>
                    </a:lnTo>
                    <a:lnTo>
                      <a:pt x="1357" y="1208"/>
                    </a:lnTo>
                    <a:lnTo>
                      <a:pt x="1199" y="1332"/>
                    </a:lnTo>
                    <a:lnTo>
                      <a:pt x="1274" y="11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50000">
                    <a:srgbClr val="000000"/>
                  </a:gs>
                  <a:gs pos="100000">
                    <a:srgbClr val="cecece"/>
                  </a:gs>
                </a:gsLst>
                <a:lin ang="27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70720" y="4057560"/>
                <a:ext cx="584640" cy="819360"/>
              </a:xfrm>
              <a:custGeom>
                <a:avLst/>
                <a:gdLst/>
                <a:ahLst/>
                <a:rect l="0" t="0" r="r" b="b"/>
                <a:pathLst>
                  <a:path w="1624" h="2276">
                    <a:moveTo>
                      <a:pt x="785" y="201"/>
                    </a:moveTo>
                    <a:lnTo>
                      <a:pt x="785" y="201"/>
                    </a:lnTo>
                    <a:lnTo>
                      <a:pt x="827" y="222"/>
                    </a:lnTo>
                    <a:lnTo>
                      <a:pt x="864" y="235"/>
                    </a:lnTo>
                    <a:lnTo>
                      <a:pt x="902" y="243"/>
                    </a:lnTo>
                    <a:lnTo>
                      <a:pt x="936" y="248"/>
                    </a:lnTo>
                    <a:lnTo>
                      <a:pt x="969" y="243"/>
                    </a:lnTo>
                    <a:lnTo>
                      <a:pt x="998" y="235"/>
                    </a:lnTo>
                    <a:lnTo>
                      <a:pt x="1028" y="222"/>
                    </a:lnTo>
                    <a:lnTo>
                      <a:pt x="1053" y="210"/>
                    </a:lnTo>
                    <a:lnTo>
                      <a:pt x="1074" y="189"/>
                    </a:lnTo>
                    <a:lnTo>
                      <a:pt x="1095" y="168"/>
                    </a:lnTo>
                    <a:lnTo>
                      <a:pt x="1116" y="147"/>
                    </a:lnTo>
                    <a:lnTo>
                      <a:pt x="1133" y="117"/>
                    </a:lnTo>
                    <a:lnTo>
                      <a:pt x="1145" y="92"/>
                    </a:lnTo>
                    <a:lnTo>
                      <a:pt x="1158" y="63"/>
                    </a:lnTo>
                    <a:lnTo>
                      <a:pt x="1170" y="29"/>
                    </a:lnTo>
                    <a:lnTo>
                      <a:pt x="1175" y="0"/>
                    </a:lnTo>
                    <a:lnTo>
                      <a:pt x="1212" y="25"/>
                    </a:lnTo>
                    <a:lnTo>
                      <a:pt x="1247" y="50"/>
                    </a:lnTo>
                    <a:lnTo>
                      <a:pt x="1280" y="75"/>
                    </a:lnTo>
                    <a:lnTo>
                      <a:pt x="1310" y="105"/>
                    </a:lnTo>
                    <a:lnTo>
                      <a:pt x="1339" y="134"/>
                    </a:lnTo>
                    <a:lnTo>
                      <a:pt x="1364" y="164"/>
                    </a:lnTo>
                    <a:lnTo>
                      <a:pt x="1394" y="193"/>
                    </a:lnTo>
                    <a:lnTo>
                      <a:pt x="1415" y="222"/>
                    </a:lnTo>
                    <a:lnTo>
                      <a:pt x="1440" y="256"/>
                    </a:lnTo>
                    <a:lnTo>
                      <a:pt x="1461" y="290"/>
                    </a:lnTo>
                    <a:lnTo>
                      <a:pt x="1478" y="323"/>
                    </a:lnTo>
                    <a:lnTo>
                      <a:pt x="1498" y="361"/>
                    </a:lnTo>
                    <a:lnTo>
                      <a:pt x="1515" y="395"/>
                    </a:lnTo>
                    <a:lnTo>
                      <a:pt x="1528" y="433"/>
                    </a:lnTo>
                    <a:lnTo>
                      <a:pt x="1545" y="471"/>
                    </a:lnTo>
                    <a:lnTo>
                      <a:pt x="1557" y="508"/>
                    </a:lnTo>
                    <a:lnTo>
                      <a:pt x="1566" y="546"/>
                    </a:lnTo>
                    <a:lnTo>
                      <a:pt x="1578" y="584"/>
                    </a:lnTo>
                    <a:lnTo>
                      <a:pt x="1587" y="626"/>
                    </a:lnTo>
                    <a:lnTo>
                      <a:pt x="1595" y="664"/>
                    </a:lnTo>
                    <a:lnTo>
                      <a:pt x="1599" y="706"/>
                    </a:lnTo>
                    <a:lnTo>
                      <a:pt x="1608" y="748"/>
                    </a:lnTo>
                    <a:lnTo>
                      <a:pt x="1612" y="790"/>
                    </a:lnTo>
                    <a:lnTo>
                      <a:pt x="1616" y="832"/>
                    </a:lnTo>
                    <a:lnTo>
                      <a:pt x="1616" y="874"/>
                    </a:lnTo>
                    <a:lnTo>
                      <a:pt x="1620" y="916"/>
                    </a:lnTo>
                    <a:lnTo>
                      <a:pt x="1620" y="958"/>
                    </a:lnTo>
                    <a:lnTo>
                      <a:pt x="1624" y="1001"/>
                    </a:lnTo>
                    <a:lnTo>
                      <a:pt x="1624" y="1043"/>
                    </a:lnTo>
                    <a:lnTo>
                      <a:pt x="1620" y="1085"/>
                    </a:lnTo>
                    <a:lnTo>
                      <a:pt x="1620" y="1131"/>
                    </a:lnTo>
                    <a:lnTo>
                      <a:pt x="1616" y="1174"/>
                    </a:lnTo>
                    <a:lnTo>
                      <a:pt x="1603" y="1118"/>
                    </a:lnTo>
                    <a:lnTo>
                      <a:pt x="1587" y="1068"/>
                    </a:lnTo>
                    <a:lnTo>
                      <a:pt x="1570" y="1013"/>
                    </a:lnTo>
                    <a:lnTo>
                      <a:pt x="1549" y="958"/>
                    </a:lnTo>
                    <a:lnTo>
                      <a:pt x="1532" y="904"/>
                    </a:lnTo>
                    <a:lnTo>
                      <a:pt x="1515" y="853"/>
                    </a:lnTo>
                    <a:lnTo>
                      <a:pt x="1494" y="799"/>
                    </a:lnTo>
                    <a:lnTo>
                      <a:pt x="1473" y="748"/>
                    </a:lnTo>
                    <a:lnTo>
                      <a:pt x="1452" y="698"/>
                    </a:lnTo>
                    <a:lnTo>
                      <a:pt x="1427" y="647"/>
                    </a:lnTo>
                    <a:lnTo>
                      <a:pt x="1402" y="601"/>
                    </a:lnTo>
                    <a:lnTo>
                      <a:pt x="1377" y="555"/>
                    </a:lnTo>
                    <a:lnTo>
                      <a:pt x="1348" y="508"/>
                    </a:lnTo>
                    <a:lnTo>
                      <a:pt x="1314" y="471"/>
                    </a:lnTo>
                    <a:lnTo>
                      <a:pt x="1280" y="429"/>
                    </a:lnTo>
                    <a:lnTo>
                      <a:pt x="1243" y="395"/>
                    </a:lnTo>
                    <a:lnTo>
                      <a:pt x="1255" y="441"/>
                    </a:lnTo>
                    <a:lnTo>
                      <a:pt x="1264" y="487"/>
                    </a:lnTo>
                    <a:lnTo>
                      <a:pt x="1268" y="529"/>
                    </a:lnTo>
                    <a:lnTo>
                      <a:pt x="1276" y="580"/>
                    </a:lnTo>
                    <a:lnTo>
                      <a:pt x="1280" y="626"/>
                    </a:lnTo>
                    <a:lnTo>
                      <a:pt x="1289" y="672"/>
                    </a:lnTo>
                    <a:lnTo>
                      <a:pt x="1293" y="719"/>
                    </a:lnTo>
                    <a:lnTo>
                      <a:pt x="1293" y="765"/>
                    </a:lnTo>
                    <a:lnTo>
                      <a:pt x="1297" y="815"/>
                    </a:lnTo>
                    <a:lnTo>
                      <a:pt x="1297" y="862"/>
                    </a:lnTo>
                    <a:lnTo>
                      <a:pt x="1297" y="908"/>
                    </a:lnTo>
                    <a:lnTo>
                      <a:pt x="1297" y="954"/>
                    </a:lnTo>
                    <a:lnTo>
                      <a:pt x="1293" y="1005"/>
                    </a:lnTo>
                    <a:lnTo>
                      <a:pt x="1289" y="1051"/>
                    </a:lnTo>
                    <a:lnTo>
                      <a:pt x="1285" y="1097"/>
                    </a:lnTo>
                    <a:lnTo>
                      <a:pt x="1280" y="1149"/>
                    </a:lnTo>
                    <a:lnTo>
                      <a:pt x="1276" y="1195"/>
                    </a:lnTo>
                    <a:lnTo>
                      <a:pt x="1268" y="1241"/>
                    </a:lnTo>
                    <a:lnTo>
                      <a:pt x="1255" y="1288"/>
                    </a:lnTo>
                    <a:lnTo>
                      <a:pt x="1247" y="1334"/>
                    </a:lnTo>
                    <a:lnTo>
                      <a:pt x="1234" y="1380"/>
                    </a:lnTo>
                    <a:lnTo>
                      <a:pt x="1222" y="1426"/>
                    </a:lnTo>
                    <a:lnTo>
                      <a:pt x="1208" y="1468"/>
                    </a:lnTo>
                    <a:lnTo>
                      <a:pt x="1191" y="1515"/>
                    </a:lnTo>
                    <a:lnTo>
                      <a:pt x="1175" y="1561"/>
                    </a:lnTo>
                    <a:lnTo>
                      <a:pt x="1154" y="1603"/>
                    </a:lnTo>
                    <a:lnTo>
                      <a:pt x="1137" y="1649"/>
                    </a:lnTo>
                    <a:lnTo>
                      <a:pt x="1116" y="1691"/>
                    </a:lnTo>
                    <a:lnTo>
                      <a:pt x="1091" y="1733"/>
                    </a:lnTo>
                    <a:lnTo>
                      <a:pt x="1066" y="1775"/>
                    </a:lnTo>
                    <a:lnTo>
                      <a:pt x="1040" y="1817"/>
                    </a:lnTo>
                    <a:lnTo>
                      <a:pt x="1015" y="1860"/>
                    </a:lnTo>
                    <a:lnTo>
                      <a:pt x="1024" y="1813"/>
                    </a:lnTo>
                    <a:lnTo>
                      <a:pt x="1028" y="1771"/>
                    </a:lnTo>
                    <a:lnTo>
                      <a:pt x="1036" y="1733"/>
                    </a:lnTo>
                    <a:lnTo>
                      <a:pt x="1045" y="1691"/>
                    </a:lnTo>
                    <a:lnTo>
                      <a:pt x="1053" y="1649"/>
                    </a:lnTo>
                    <a:lnTo>
                      <a:pt x="1061" y="1611"/>
                    </a:lnTo>
                    <a:lnTo>
                      <a:pt x="1070" y="1569"/>
                    </a:lnTo>
                    <a:lnTo>
                      <a:pt x="1078" y="1531"/>
                    </a:lnTo>
                    <a:lnTo>
                      <a:pt x="1082" y="1494"/>
                    </a:lnTo>
                    <a:lnTo>
                      <a:pt x="1091" y="1456"/>
                    </a:lnTo>
                    <a:lnTo>
                      <a:pt x="1099" y="1414"/>
                    </a:lnTo>
                    <a:lnTo>
                      <a:pt x="1103" y="1376"/>
                    </a:lnTo>
                    <a:lnTo>
                      <a:pt x="1112" y="1338"/>
                    </a:lnTo>
                    <a:lnTo>
                      <a:pt x="1116" y="1300"/>
                    </a:lnTo>
                    <a:lnTo>
                      <a:pt x="1120" y="1262"/>
                    </a:lnTo>
                    <a:lnTo>
                      <a:pt x="1120" y="1224"/>
                    </a:lnTo>
                    <a:lnTo>
                      <a:pt x="1124" y="1182"/>
                    </a:lnTo>
                    <a:lnTo>
                      <a:pt x="1128" y="1145"/>
                    </a:lnTo>
                    <a:lnTo>
                      <a:pt x="1128" y="1106"/>
                    </a:lnTo>
                    <a:lnTo>
                      <a:pt x="1124" y="1064"/>
                    </a:lnTo>
                    <a:lnTo>
                      <a:pt x="1124" y="1026"/>
                    </a:lnTo>
                    <a:lnTo>
                      <a:pt x="1120" y="984"/>
                    </a:lnTo>
                    <a:lnTo>
                      <a:pt x="1116" y="942"/>
                    </a:lnTo>
                    <a:lnTo>
                      <a:pt x="1108" y="900"/>
                    </a:lnTo>
                    <a:lnTo>
                      <a:pt x="1099" y="858"/>
                    </a:lnTo>
                    <a:lnTo>
                      <a:pt x="1091" y="811"/>
                    </a:lnTo>
                    <a:lnTo>
                      <a:pt x="1078" y="769"/>
                    </a:lnTo>
                    <a:lnTo>
                      <a:pt x="1066" y="723"/>
                    </a:lnTo>
                    <a:lnTo>
                      <a:pt x="1049" y="677"/>
                    </a:lnTo>
                    <a:lnTo>
                      <a:pt x="1032" y="626"/>
                    </a:lnTo>
                    <a:lnTo>
                      <a:pt x="1011" y="580"/>
                    </a:lnTo>
                    <a:lnTo>
                      <a:pt x="990" y="529"/>
                    </a:lnTo>
                    <a:lnTo>
                      <a:pt x="982" y="626"/>
                    </a:lnTo>
                    <a:lnTo>
                      <a:pt x="973" y="719"/>
                    </a:lnTo>
                    <a:lnTo>
                      <a:pt x="961" y="807"/>
                    </a:lnTo>
                    <a:lnTo>
                      <a:pt x="944" y="891"/>
                    </a:lnTo>
                    <a:lnTo>
                      <a:pt x="923" y="971"/>
                    </a:lnTo>
                    <a:lnTo>
                      <a:pt x="906" y="1051"/>
                    </a:lnTo>
                    <a:lnTo>
                      <a:pt x="885" y="1127"/>
                    </a:lnTo>
                    <a:lnTo>
                      <a:pt x="860" y="1203"/>
                    </a:lnTo>
                    <a:lnTo>
                      <a:pt x="835" y="1271"/>
                    </a:lnTo>
                    <a:lnTo>
                      <a:pt x="810" y="1338"/>
                    </a:lnTo>
                    <a:lnTo>
                      <a:pt x="780" y="1401"/>
                    </a:lnTo>
                    <a:lnTo>
                      <a:pt x="747" y="1460"/>
                    </a:lnTo>
                    <a:lnTo>
                      <a:pt x="718" y="1523"/>
                    </a:lnTo>
                    <a:lnTo>
                      <a:pt x="684" y="1578"/>
                    </a:lnTo>
                    <a:lnTo>
                      <a:pt x="650" y="1632"/>
                    </a:lnTo>
                    <a:lnTo>
                      <a:pt x="617" y="1683"/>
                    </a:lnTo>
                    <a:lnTo>
                      <a:pt x="579" y="1733"/>
                    </a:lnTo>
                    <a:lnTo>
                      <a:pt x="546" y="1780"/>
                    </a:lnTo>
                    <a:lnTo>
                      <a:pt x="508" y="1822"/>
                    </a:lnTo>
                    <a:lnTo>
                      <a:pt x="466" y="1868"/>
                    </a:lnTo>
                    <a:lnTo>
                      <a:pt x="428" y="1906"/>
                    </a:lnTo>
                    <a:lnTo>
                      <a:pt x="389" y="1948"/>
                    </a:lnTo>
                    <a:lnTo>
                      <a:pt x="352" y="1986"/>
                    </a:lnTo>
                    <a:lnTo>
                      <a:pt x="310" y="2024"/>
                    </a:lnTo>
                    <a:lnTo>
                      <a:pt x="272" y="2057"/>
                    </a:lnTo>
                    <a:lnTo>
                      <a:pt x="230" y="2091"/>
                    </a:lnTo>
                    <a:lnTo>
                      <a:pt x="192" y="2125"/>
                    </a:lnTo>
                    <a:lnTo>
                      <a:pt x="150" y="2158"/>
                    </a:lnTo>
                    <a:lnTo>
                      <a:pt x="113" y="2188"/>
                    </a:lnTo>
                    <a:lnTo>
                      <a:pt x="75" y="2217"/>
                    </a:lnTo>
                    <a:lnTo>
                      <a:pt x="37" y="2246"/>
                    </a:lnTo>
                    <a:lnTo>
                      <a:pt x="0" y="2276"/>
                    </a:lnTo>
                    <a:lnTo>
                      <a:pt x="67" y="2209"/>
                    </a:lnTo>
                    <a:lnTo>
                      <a:pt x="134" y="2141"/>
                    </a:lnTo>
                    <a:lnTo>
                      <a:pt x="197" y="2070"/>
                    </a:lnTo>
                    <a:lnTo>
                      <a:pt x="251" y="2003"/>
                    </a:lnTo>
                    <a:lnTo>
                      <a:pt x="306" y="1939"/>
                    </a:lnTo>
                    <a:lnTo>
                      <a:pt x="356" y="1872"/>
                    </a:lnTo>
                    <a:lnTo>
                      <a:pt x="402" y="1805"/>
                    </a:lnTo>
                    <a:lnTo>
                      <a:pt x="445" y="1738"/>
                    </a:lnTo>
                    <a:lnTo>
                      <a:pt x="487" y="1670"/>
                    </a:lnTo>
                    <a:lnTo>
                      <a:pt x="525" y="1603"/>
                    </a:lnTo>
                    <a:lnTo>
                      <a:pt x="562" y="1540"/>
                    </a:lnTo>
                    <a:lnTo>
                      <a:pt x="592" y="1473"/>
                    </a:lnTo>
                    <a:lnTo>
                      <a:pt x="621" y="1405"/>
                    </a:lnTo>
                    <a:lnTo>
                      <a:pt x="646" y="1342"/>
                    </a:lnTo>
                    <a:lnTo>
                      <a:pt x="671" y="1275"/>
                    </a:lnTo>
                    <a:lnTo>
                      <a:pt x="692" y="1212"/>
                    </a:lnTo>
                    <a:lnTo>
                      <a:pt x="709" y="1149"/>
                    </a:lnTo>
                    <a:lnTo>
                      <a:pt x="730" y="1080"/>
                    </a:lnTo>
                    <a:lnTo>
                      <a:pt x="743" y="1017"/>
                    </a:lnTo>
                    <a:lnTo>
                      <a:pt x="755" y="954"/>
                    </a:lnTo>
                    <a:lnTo>
                      <a:pt x="764" y="891"/>
                    </a:lnTo>
                    <a:lnTo>
                      <a:pt x="776" y="828"/>
                    </a:lnTo>
                    <a:lnTo>
                      <a:pt x="780" y="761"/>
                    </a:lnTo>
                    <a:lnTo>
                      <a:pt x="789" y="702"/>
                    </a:lnTo>
                    <a:lnTo>
                      <a:pt x="789" y="635"/>
                    </a:lnTo>
                    <a:lnTo>
                      <a:pt x="793" y="572"/>
                    </a:lnTo>
                    <a:lnTo>
                      <a:pt x="793" y="513"/>
                    </a:lnTo>
                    <a:lnTo>
                      <a:pt x="793" y="450"/>
                    </a:lnTo>
                    <a:lnTo>
                      <a:pt x="793" y="386"/>
                    </a:lnTo>
                    <a:lnTo>
                      <a:pt x="789" y="328"/>
                    </a:lnTo>
                    <a:lnTo>
                      <a:pt x="789" y="264"/>
                    </a:lnTo>
                    <a:lnTo>
                      <a:pt x="785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50000">
                    <a:srgbClr val="000000"/>
                  </a:gs>
                  <a:gs pos="100000">
                    <a:srgbClr val="cecece"/>
                  </a:gs>
                </a:gsLst>
                <a:lin ang="27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32560" y="1600200"/>
                <a:ext cx="1525680" cy="15256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50000">
                    <a:srgbClr val="000000"/>
                  </a:gs>
                  <a:gs pos="100000">
                    <a:srgbClr val="cecece"/>
                  </a:gs>
                </a:gsLst>
                <a:lin ang="27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599160" y="1673280"/>
                <a:ext cx="1392120" cy="1379520"/>
              </a:xfrm>
              <a:prstGeom prst="ellipse">
                <a:avLst/>
              </a:prstGeom>
              <a:gradFill rotWithShape="0">
                <a:gsLst>
                  <a:gs pos="0">
                    <a:srgbClr val="7f7fff"/>
                  </a:gs>
                  <a:gs pos="100000">
                    <a:srgbClr val="0000ff"/>
                  </a:gs>
                </a:gsLst>
                <a:lin ang="81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18320" y="1916280"/>
                <a:ext cx="1030680" cy="978120"/>
              </a:xfrm>
              <a:custGeom>
                <a:avLst/>
                <a:gdLst/>
                <a:ahLst/>
                <a:rect l="0" t="0" r="r" b="b"/>
                <a:pathLst>
                  <a:path w="2863" h="2717">
                    <a:moveTo>
                      <a:pt x="2630" y="2717"/>
                    </a:moveTo>
                    <a:lnTo>
                      <a:pt x="2417" y="2609"/>
                    </a:lnTo>
                    <a:lnTo>
                      <a:pt x="2405" y="2450"/>
                    </a:lnTo>
                    <a:lnTo>
                      <a:pt x="2313" y="2125"/>
                    </a:lnTo>
                    <a:lnTo>
                      <a:pt x="2329" y="2021"/>
                    </a:lnTo>
                    <a:lnTo>
                      <a:pt x="2242" y="1759"/>
                    </a:lnTo>
                    <a:lnTo>
                      <a:pt x="2132" y="1763"/>
                    </a:lnTo>
                    <a:lnTo>
                      <a:pt x="1970" y="1584"/>
                    </a:lnTo>
                    <a:lnTo>
                      <a:pt x="1999" y="1384"/>
                    </a:lnTo>
                    <a:lnTo>
                      <a:pt x="1857" y="1388"/>
                    </a:lnTo>
                    <a:lnTo>
                      <a:pt x="1824" y="1345"/>
                    </a:lnTo>
                    <a:lnTo>
                      <a:pt x="1703" y="1304"/>
                    </a:lnTo>
                    <a:lnTo>
                      <a:pt x="1477" y="1312"/>
                    </a:lnTo>
                    <a:lnTo>
                      <a:pt x="1394" y="1162"/>
                    </a:lnTo>
                    <a:lnTo>
                      <a:pt x="1265" y="1124"/>
                    </a:lnTo>
                    <a:lnTo>
                      <a:pt x="1373" y="1258"/>
                    </a:lnTo>
                    <a:lnTo>
                      <a:pt x="1181" y="1137"/>
                    </a:lnTo>
                    <a:lnTo>
                      <a:pt x="1006" y="995"/>
                    </a:lnTo>
                    <a:lnTo>
                      <a:pt x="985" y="758"/>
                    </a:lnTo>
                    <a:lnTo>
                      <a:pt x="814" y="679"/>
                    </a:lnTo>
                    <a:lnTo>
                      <a:pt x="684" y="541"/>
                    </a:lnTo>
                    <a:lnTo>
                      <a:pt x="383" y="508"/>
                    </a:lnTo>
                    <a:lnTo>
                      <a:pt x="333" y="612"/>
                    </a:lnTo>
                    <a:lnTo>
                      <a:pt x="387" y="624"/>
                    </a:lnTo>
                    <a:lnTo>
                      <a:pt x="229" y="770"/>
                    </a:lnTo>
                    <a:lnTo>
                      <a:pt x="271" y="654"/>
                    </a:lnTo>
                    <a:lnTo>
                      <a:pt x="229" y="687"/>
                    </a:lnTo>
                    <a:lnTo>
                      <a:pt x="95" y="612"/>
                    </a:lnTo>
                    <a:lnTo>
                      <a:pt x="179" y="458"/>
                    </a:lnTo>
                    <a:lnTo>
                      <a:pt x="179" y="433"/>
                    </a:lnTo>
                    <a:lnTo>
                      <a:pt x="91" y="495"/>
                    </a:lnTo>
                    <a:lnTo>
                      <a:pt x="112" y="383"/>
                    </a:lnTo>
                    <a:lnTo>
                      <a:pt x="0" y="287"/>
                    </a:lnTo>
                    <a:lnTo>
                      <a:pt x="166" y="104"/>
                    </a:lnTo>
                    <a:lnTo>
                      <a:pt x="550" y="141"/>
                    </a:lnTo>
                    <a:lnTo>
                      <a:pt x="680" y="12"/>
                    </a:lnTo>
                    <a:lnTo>
                      <a:pt x="922" y="37"/>
                    </a:lnTo>
                    <a:lnTo>
                      <a:pt x="1052" y="120"/>
                    </a:lnTo>
                    <a:lnTo>
                      <a:pt x="1031" y="0"/>
                    </a:lnTo>
                    <a:lnTo>
                      <a:pt x="1452" y="16"/>
                    </a:lnTo>
                    <a:lnTo>
                      <a:pt x="1431" y="145"/>
                    </a:lnTo>
                    <a:lnTo>
                      <a:pt x="1323" y="274"/>
                    </a:lnTo>
                    <a:lnTo>
                      <a:pt x="1502" y="395"/>
                    </a:lnTo>
                    <a:lnTo>
                      <a:pt x="1590" y="366"/>
                    </a:lnTo>
                    <a:lnTo>
                      <a:pt x="1673" y="491"/>
                    </a:lnTo>
                    <a:lnTo>
                      <a:pt x="1698" y="445"/>
                    </a:lnTo>
                    <a:lnTo>
                      <a:pt x="1661" y="379"/>
                    </a:lnTo>
                    <a:lnTo>
                      <a:pt x="1690" y="291"/>
                    </a:lnTo>
                    <a:lnTo>
                      <a:pt x="1598" y="104"/>
                    </a:lnTo>
                    <a:lnTo>
                      <a:pt x="1782" y="120"/>
                    </a:lnTo>
                    <a:lnTo>
                      <a:pt x="1836" y="183"/>
                    </a:lnTo>
                    <a:lnTo>
                      <a:pt x="1853" y="116"/>
                    </a:lnTo>
                    <a:lnTo>
                      <a:pt x="2082" y="308"/>
                    </a:lnTo>
                    <a:lnTo>
                      <a:pt x="2041" y="374"/>
                    </a:lnTo>
                    <a:lnTo>
                      <a:pt x="1936" y="391"/>
                    </a:lnTo>
                    <a:lnTo>
                      <a:pt x="1895" y="529"/>
                    </a:lnTo>
                    <a:lnTo>
                      <a:pt x="1978" y="449"/>
                    </a:lnTo>
                    <a:lnTo>
                      <a:pt x="2007" y="549"/>
                    </a:lnTo>
                    <a:lnTo>
                      <a:pt x="1828" y="774"/>
                    </a:lnTo>
                    <a:lnTo>
                      <a:pt x="1882" y="812"/>
                    </a:lnTo>
                    <a:lnTo>
                      <a:pt x="1807" y="945"/>
                    </a:lnTo>
                    <a:lnTo>
                      <a:pt x="1878" y="1066"/>
                    </a:lnTo>
                    <a:lnTo>
                      <a:pt x="1840" y="1104"/>
                    </a:lnTo>
                    <a:lnTo>
                      <a:pt x="1744" y="991"/>
                    </a:lnTo>
                    <a:lnTo>
                      <a:pt x="1536" y="1108"/>
                    </a:lnTo>
                    <a:lnTo>
                      <a:pt x="1619" y="1249"/>
                    </a:lnTo>
                    <a:lnTo>
                      <a:pt x="1707" y="1212"/>
                    </a:lnTo>
                    <a:lnTo>
                      <a:pt x="1732" y="1162"/>
                    </a:lnTo>
                    <a:lnTo>
                      <a:pt x="1778" y="1220"/>
                    </a:lnTo>
                    <a:lnTo>
                      <a:pt x="1857" y="1224"/>
                    </a:lnTo>
                    <a:lnTo>
                      <a:pt x="1886" y="1333"/>
                    </a:lnTo>
                    <a:lnTo>
                      <a:pt x="2003" y="1341"/>
                    </a:lnTo>
                    <a:lnTo>
                      <a:pt x="1995" y="1299"/>
                    </a:lnTo>
                    <a:lnTo>
                      <a:pt x="2082" y="1191"/>
                    </a:lnTo>
                    <a:lnTo>
                      <a:pt x="2213" y="1179"/>
                    </a:lnTo>
                    <a:lnTo>
                      <a:pt x="2521" y="1270"/>
                    </a:lnTo>
                    <a:lnTo>
                      <a:pt x="2484" y="1359"/>
                    </a:lnTo>
                    <a:lnTo>
                      <a:pt x="2592" y="1308"/>
                    </a:lnTo>
                    <a:lnTo>
                      <a:pt x="2863" y="1329"/>
                    </a:lnTo>
                    <a:lnTo>
                      <a:pt x="2838" y="1700"/>
                    </a:lnTo>
                    <a:lnTo>
                      <a:pt x="2717" y="1767"/>
                    </a:lnTo>
                    <a:lnTo>
                      <a:pt x="2676" y="2079"/>
                    </a:lnTo>
                    <a:lnTo>
                      <a:pt x="2580" y="2113"/>
                    </a:lnTo>
                    <a:lnTo>
                      <a:pt x="2651" y="2138"/>
                    </a:lnTo>
                    <a:lnTo>
                      <a:pt x="2609" y="2192"/>
                    </a:lnTo>
                    <a:lnTo>
                      <a:pt x="2551" y="2204"/>
                    </a:lnTo>
                    <a:lnTo>
                      <a:pt x="2517" y="2471"/>
                    </a:lnTo>
                    <a:lnTo>
                      <a:pt x="2567" y="2471"/>
                    </a:lnTo>
                    <a:lnTo>
                      <a:pt x="2525" y="2554"/>
                    </a:lnTo>
                    <a:lnTo>
                      <a:pt x="2630" y="27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180200" y="3319560"/>
                <a:ext cx="66960" cy="16200"/>
              </a:xfrm>
              <a:custGeom>
                <a:avLst/>
                <a:gdLst/>
                <a:ahLst/>
                <a:rect l="0" t="0" r="r" b="b"/>
                <a:pathLst>
                  <a:path w="186" h="45">
                    <a:moveTo>
                      <a:pt x="0" y="45"/>
                    </a:moveTo>
                    <a:lnTo>
                      <a:pt x="112" y="0"/>
                    </a:lnTo>
                    <a:lnTo>
                      <a:pt x="186" y="31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785000" y="1839960"/>
                <a:ext cx="49680" cy="49680"/>
              </a:xfrm>
              <a:custGeom>
                <a:avLst/>
                <a:gdLst/>
                <a:ahLst/>
                <a:rect l="0" t="0" r="r" b="b"/>
                <a:pathLst>
                  <a:path w="138" h="138">
                    <a:moveTo>
                      <a:pt x="28" y="0"/>
                    </a:moveTo>
                    <a:lnTo>
                      <a:pt x="0" y="138"/>
                    </a:lnTo>
                    <a:lnTo>
                      <a:pt x="138" y="138"/>
                    </a:lnTo>
                    <a:lnTo>
                      <a:pt x="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785000" y="1839960"/>
                <a:ext cx="59040" cy="59040"/>
              </a:xfrm>
              <a:custGeom>
                <a:avLst/>
                <a:gdLst/>
                <a:ahLst/>
                <a:rect l="0" t="0" r="r" b="b"/>
                <a:pathLst>
                  <a:path w="164" h="164">
                    <a:moveTo>
                      <a:pt x="33" y="0"/>
                    </a:moveTo>
                    <a:lnTo>
                      <a:pt x="0" y="164"/>
                    </a:lnTo>
                    <a:lnTo>
                      <a:pt x="164" y="164"/>
                    </a:ln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50000">
                    <a:srgbClr val="000000"/>
                  </a:gs>
                  <a:gs pos="100000">
                    <a:srgbClr val="cecece"/>
                  </a:gs>
                </a:gsLst>
                <a:lin ang="27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713720" y="1919160"/>
                <a:ext cx="309960" cy="456120"/>
              </a:xfrm>
              <a:custGeom>
                <a:avLst/>
                <a:gdLst/>
                <a:ahLst/>
                <a:rect l="0" t="0" r="r" b="b"/>
                <a:pathLst>
                  <a:path w="861" h="1267">
                    <a:moveTo>
                      <a:pt x="408" y="0"/>
                    </a:moveTo>
                    <a:lnTo>
                      <a:pt x="318" y="57"/>
                    </a:lnTo>
                    <a:lnTo>
                      <a:pt x="249" y="57"/>
                    </a:lnTo>
                    <a:lnTo>
                      <a:pt x="69" y="347"/>
                    </a:lnTo>
                    <a:lnTo>
                      <a:pt x="0" y="705"/>
                    </a:lnTo>
                    <a:lnTo>
                      <a:pt x="114" y="912"/>
                    </a:lnTo>
                    <a:lnTo>
                      <a:pt x="237" y="958"/>
                    </a:lnTo>
                    <a:lnTo>
                      <a:pt x="384" y="887"/>
                    </a:lnTo>
                    <a:lnTo>
                      <a:pt x="534" y="829"/>
                    </a:lnTo>
                    <a:lnTo>
                      <a:pt x="662" y="854"/>
                    </a:lnTo>
                    <a:lnTo>
                      <a:pt x="649" y="979"/>
                    </a:lnTo>
                    <a:lnTo>
                      <a:pt x="751" y="1049"/>
                    </a:lnTo>
                    <a:lnTo>
                      <a:pt x="817" y="1267"/>
                    </a:lnTo>
                    <a:lnTo>
                      <a:pt x="861" y="932"/>
                    </a:lnTo>
                    <a:lnTo>
                      <a:pt x="829" y="541"/>
                    </a:lnTo>
                    <a:lnTo>
                      <a:pt x="662" y="160"/>
                    </a:lnTo>
                    <a:lnTo>
                      <a:pt x="4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713720" y="1919160"/>
                <a:ext cx="319320" cy="465480"/>
              </a:xfrm>
              <a:custGeom>
                <a:avLst/>
                <a:gdLst/>
                <a:ahLst/>
                <a:rect l="0" t="0" r="r" b="b"/>
                <a:pathLst>
                  <a:path w="887" h="1293">
                    <a:moveTo>
                      <a:pt x="420" y="0"/>
                    </a:moveTo>
                    <a:lnTo>
                      <a:pt x="327" y="58"/>
                    </a:lnTo>
                    <a:lnTo>
                      <a:pt x="256" y="58"/>
                    </a:lnTo>
                    <a:lnTo>
                      <a:pt x="71" y="353"/>
                    </a:lnTo>
                    <a:lnTo>
                      <a:pt x="0" y="720"/>
                    </a:lnTo>
                    <a:lnTo>
                      <a:pt x="117" y="931"/>
                    </a:lnTo>
                    <a:lnTo>
                      <a:pt x="243" y="977"/>
                    </a:lnTo>
                    <a:lnTo>
                      <a:pt x="394" y="905"/>
                    </a:lnTo>
                    <a:lnTo>
                      <a:pt x="551" y="846"/>
                    </a:lnTo>
                    <a:lnTo>
                      <a:pt x="681" y="872"/>
                    </a:lnTo>
                    <a:lnTo>
                      <a:pt x="668" y="998"/>
                    </a:lnTo>
                    <a:lnTo>
                      <a:pt x="773" y="1069"/>
                    </a:lnTo>
                    <a:lnTo>
                      <a:pt x="841" y="1293"/>
                    </a:lnTo>
                    <a:lnTo>
                      <a:pt x="887" y="952"/>
                    </a:lnTo>
                    <a:lnTo>
                      <a:pt x="853" y="551"/>
                    </a:lnTo>
                    <a:lnTo>
                      <a:pt x="681" y="164"/>
                    </a:lnTo>
                    <a:lnTo>
                      <a:pt x="4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31000" y="2725560"/>
                <a:ext cx="324360" cy="257400"/>
              </a:xfrm>
              <a:custGeom>
                <a:avLst/>
                <a:gdLst/>
                <a:ahLst/>
                <a:rect l="0" t="0" r="r" b="b"/>
                <a:pathLst>
                  <a:path w="901" h="715">
                    <a:moveTo>
                      <a:pt x="0" y="488"/>
                    </a:moveTo>
                    <a:lnTo>
                      <a:pt x="126" y="316"/>
                    </a:lnTo>
                    <a:lnTo>
                      <a:pt x="171" y="125"/>
                    </a:lnTo>
                    <a:lnTo>
                      <a:pt x="216" y="158"/>
                    </a:lnTo>
                    <a:lnTo>
                      <a:pt x="242" y="32"/>
                    </a:lnTo>
                    <a:lnTo>
                      <a:pt x="356" y="24"/>
                    </a:lnTo>
                    <a:lnTo>
                      <a:pt x="401" y="113"/>
                    </a:lnTo>
                    <a:lnTo>
                      <a:pt x="524" y="158"/>
                    </a:lnTo>
                    <a:lnTo>
                      <a:pt x="536" y="0"/>
                    </a:lnTo>
                    <a:lnTo>
                      <a:pt x="593" y="44"/>
                    </a:lnTo>
                    <a:lnTo>
                      <a:pt x="742" y="227"/>
                    </a:lnTo>
                    <a:lnTo>
                      <a:pt x="901" y="362"/>
                    </a:lnTo>
                    <a:lnTo>
                      <a:pt x="881" y="508"/>
                    </a:lnTo>
                    <a:lnTo>
                      <a:pt x="811" y="634"/>
                    </a:lnTo>
                    <a:lnTo>
                      <a:pt x="675" y="678"/>
                    </a:lnTo>
                    <a:lnTo>
                      <a:pt x="606" y="634"/>
                    </a:lnTo>
                    <a:lnTo>
                      <a:pt x="606" y="557"/>
                    </a:lnTo>
                    <a:lnTo>
                      <a:pt x="561" y="589"/>
                    </a:lnTo>
                    <a:lnTo>
                      <a:pt x="458" y="577"/>
                    </a:lnTo>
                    <a:lnTo>
                      <a:pt x="332" y="670"/>
                    </a:lnTo>
                    <a:lnTo>
                      <a:pt x="262" y="715"/>
                    </a:lnTo>
                    <a:lnTo>
                      <a:pt x="0" y="4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831000" y="2725560"/>
                <a:ext cx="332280" cy="267120"/>
              </a:xfrm>
              <a:custGeom>
                <a:avLst/>
                <a:gdLst/>
                <a:ahLst/>
                <a:rect l="0" t="0" r="r" b="b"/>
                <a:pathLst>
                  <a:path w="923" h="742">
                    <a:moveTo>
                      <a:pt x="0" y="506"/>
                    </a:moveTo>
                    <a:lnTo>
                      <a:pt x="129" y="329"/>
                    </a:lnTo>
                    <a:lnTo>
                      <a:pt x="175" y="130"/>
                    </a:lnTo>
                    <a:lnTo>
                      <a:pt x="222" y="164"/>
                    </a:lnTo>
                    <a:lnTo>
                      <a:pt x="248" y="33"/>
                    </a:lnTo>
                    <a:lnTo>
                      <a:pt x="365" y="25"/>
                    </a:lnTo>
                    <a:lnTo>
                      <a:pt x="411" y="117"/>
                    </a:lnTo>
                    <a:lnTo>
                      <a:pt x="537" y="164"/>
                    </a:lnTo>
                    <a:lnTo>
                      <a:pt x="549" y="0"/>
                    </a:lnTo>
                    <a:lnTo>
                      <a:pt x="608" y="46"/>
                    </a:lnTo>
                    <a:lnTo>
                      <a:pt x="760" y="236"/>
                    </a:lnTo>
                    <a:lnTo>
                      <a:pt x="923" y="375"/>
                    </a:lnTo>
                    <a:lnTo>
                      <a:pt x="902" y="527"/>
                    </a:lnTo>
                    <a:lnTo>
                      <a:pt x="831" y="658"/>
                    </a:lnTo>
                    <a:lnTo>
                      <a:pt x="693" y="704"/>
                    </a:lnTo>
                    <a:lnTo>
                      <a:pt x="621" y="658"/>
                    </a:lnTo>
                    <a:lnTo>
                      <a:pt x="621" y="578"/>
                    </a:lnTo>
                    <a:lnTo>
                      <a:pt x="574" y="612"/>
                    </a:lnTo>
                    <a:lnTo>
                      <a:pt x="470" y="599"/>
                    </a:lnTo>
                    <a:lnTo>
                      <a:pt x="340" y="696"/>
                    </a:lnTo>
                    <a:lnTo>
                      <a:pt x="269" y="742"/>
                    </a:lnTo>
                    <a:lnTo>
                      <a:pt x="0" y="5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543720" y="2125800"/>
                <a:ext cx="146520" cy="519480"/>
              </a:xfrm>
              <a:custGeom>
                <a:avLst/>
                <a:gdLst/>
                <a:ahLst/>
                <a:rect l="0" t="0" r="r" b="b"/>
                <a:pathLst>
                  <a:path w="407" h="1443">
                    <a:moveTo>
                      <a:pt x="86" y="0"/>
                    </a:moveTo>
                    <a:lnTo>
                      <a:pt x="395" y="57"/>
                    </a:lnTo>
                    <a:lnTo>
                      <a:pt x="309" y="90"/>
                    </a:lnTo>
                    <a:lnTo>
                      <a:pt x="364" y="148"/>
                    </a:lnTo>
                    <a:lnTo>
                      <a:pt x="253" y="218"/>
                    </a:lnTo>
                    <a:lnTo>
                      <a:pt x="407" y="334"/>
                    </a:lnTo>
                    <a:lnTo>
                      <a:pt x="123" y="243"/>
                    </a:lnTo>
                    <a:lnTo>
                      <a:pt x="55" y="393"/>
                    </a:lnTo>
                    <a:lnTo>
                      <a:pt x="253" y="521"/>
                    </a:lnTo>
                    <a:lnTo>
                      <a:pt x="190" y="521"/>
                    </a:lnTo>
                    <a:lnTo>
                      <a:pt x="130" y="637"/>
                    </a:lnTo>
                    <a:lnTo>
                      <a:pt x="66" y="637"/>
                    </a:lnTo>
                    <a:lnTo>
                      <a:pt x="55" y="715"/>
                    </a:lnTo>
                    <a:lnTo>
                      <a:pt x="178" y="843"/>
                    </a:lnTo>
                    <a:lnTo>
                      <a:pt x="78" y="876"/>
                    </a:lnTo>
                    <a:lnTo>
                      <a:pt x="78" y="992"/>
                    </a:lnTo>
                    <a:lnTo>
                      <a:pt x="209" y="1121"/>
                    </a:lnTo>
                    <a:lnTo>
                      <a:pt x="209" y="1303"/>
                    </a:lnTo>
                    <a:lnTo>
                      <a:pt x="209" y="1307"/>
                    </a:lnTo>
                    <a:lnTo>
                      <a:pt x="209" y="1315"/>
                    </a:lnTo>
                    <a:lnTo>
                      <a:pt x="205" y="1320"/>
                    </a:lnTo>
                    <a:lnTo>
                      <a:pt x="205" y="1328"/>
                    </a:lnTo>
                    <a:lnTo>
                      <a:pt x="201" y="1336"/>
                    </a:lnTo>
                    <a:lnTo>
                      <a:pt x="201" y="1340"/>
                    </a:lnTo>
                    <a:lnTo>
                      <a:pt x="197" y="1348"/>
                    </a:lnTo>
                    <a:lnTo>
                      <a:pt x="197" y="1353"/>
                    </a:lnTo>
                    <a:lnTo>
                      <a:pt x="142" y="1443"/>
                    </a:lnTo>
                    <a:lnTo>
                      <a:pt x="11" y="1050"/>
                    </a:lnTo>
                    <a:lnTo>
                      <a:pt x="0" y="657"/>
                    </a:lnTo>
                    <a:lnTo>
                      <a:pt x="23" y="301"/>
                    </a:lnTo>
                    <a:lnTo>
                      <a:pt x="23" y="264"/>
                    </a:lnTo>
                    <a:lnTo>
                      <a:pt x="8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543720" y="2125800"/>
                <a:ext cx="155880" cy="527400"/>
              </a:xfrm>
              <a:custGeom>
                <a:avLst/>
                <a:gdLst/>
                <a:ahLst/>
                <a:rect l="0" t="0" r="r" b="b"/>
                <a:pathLst>
                  <a:path fill="none" w="433" h="1465">
                    <a:moveTo>
                      <a:pt x="92" y="0"/>
                    </a:moveTo>
                    <a:lnTo>
                      <a:pt x="420" y="58"/>
                    </a:lnTo>
                    <a:lnTo>
                      <a:pt x="328" y="92"/>
                    </a:lnTo>
                    <a:lnTo>
                      <a:pt x="387" y="151"/>
                    </a:lnTo>
                    <a:lnTo>
                      <a:pt x="269" y="222"/>
                    </a:lnTo>
                    <a:lnTo>
                      <a:pt x="433" y="339"/>
                    </a:lnTo>
                    <a:lnTo>
                      <a:pt x="130" y="247"/>
                    </a:lnTo>
                    <a:lnTo>
                      <a:pt x="58" y="398"/>
                    </a:lnTo>
                    <a:lnTo>
                      <a:pt x="269" y="528"/>
                    </a:lnTo>
                    <a:lnTo>
                      <a:pt x="201" y="528"/>
                    </a:lnTo>
                    <a:lnTo>
                      <a:pt x="138" y="646"/>
                    </a:lnTo>
                    <a:lnTo>
                      <a:pt x="71" y="646"/>
                    </a:lnTo>
                    <a:lnTo>
                      <a:pt x="58" y="725"/>
                    </a:lnTo>
                    <a:lnTo>
                      <a:pt x="188" y="856"/>
                    </a:lnTo>
                    <a:lnTo>
                      <a:pt x="83" y="890"/>
                    </a:lnTo>
                    <a:lnTo>
                      <a:pt x="83" y="1007"/>
                    </a:lnTo>
                    <a:lnTo>
                      <a:pt x="223" y="1137"/>
                    </a:lnTo>
                    <a:lnTo>
                      <a:pt x="223" y="1322"/>
                    </a:lnTo>
                    <a:lnTo>
                      <a:pt x="223" y="1326"/>
                    </a:lnTo>
                    <a:lnTo>
                      <a:pt x="223" y="1334"/>
                    </a:lnTo>
                    <a:lnTo>
                      <a:pt x="219" y="1339"/>
                    </a:lnTo>
                    <a:lnTo>
                      <a:pt x="219" y="1347"/>
                    </a:lnTo>
                    <a:lnTo>
                      <a:pt x="213" y="1355"/>
                    </a:lnTo>
                    <a:lnTo>
                      <a:pt x="213" y="1360"/>
                    </a:lnTo>
                    <a:lnTo>
                      <a:pt x="209" y="1368"/>
                    </a:lnTo>
                    <a:lnTo>
                      <a:pt x="209" y="1372"/>
                    </a:lnTo>
                    <a:lnTo>
                      <a:pt x="151" y="1465"/>
                    </a:lnTo>
                    <a:lnTo>
                      <a:pt x="12" y="1066"/>
                    </a:lnTo>
                    <a:lnTo>
                      <a:pt x="0" y="666"/>
                    </a:lnTo>
                    <a:lnTo>
                      <a:pt x="25" y="306"/>
                    </a:lnTo>
                    <a:lnTo>
                      <a:pt x="25" y="268"/>
                    </a:lnTo>
                    <a:lnTo>
                      <a:pt x="9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98600" y="12384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6d"/>
                </a:solidFill>
                <a:latin typeface="Times New Roman"/>
                <a:ea typeface="Times New Roman"/>
              </a:rPr>
              <a:t>Built In Help Ag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1387440"/>
            <a:ext cx="84661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enie monitors your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fers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tects, explains, a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lps solve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ives tours of dialog bo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hoenix OpView line displays information (complete with Tool Tips) in traditional IBM, text, or 3D 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124680" y="1228680"/>
            <a:ext cx="2362320" cy="1790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65200" y="4452840"/>
            <a:ext cx="8291520" cy="1133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848720" y="0"/>
            <a:ext cx="6681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98600" y="12384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6d"/>
                </a:solidFill>
                <a:latin typeface="Times New Roman"/>
                <a:ea typeface="Times New Roman"/>
              </a:rPr>
              <a:t>Fully Customizable Display</a:t>
            </a:r>
            <a:br>
              <a:rPr sz="3600"/>
            </a:br>
            <a:r>
              <a:rPr b="1" lang="en-US" sz="3600" spc="-1" strike="noStrike">
                <a:solidFill>
                  <a:srgbClr val="00006d"/>
                </a:solidFill>
                <a:latin typeface="Times New Roman"/>
                <a:ea typeface="Times New Roman"/>
              </a:rPr>
              <a:t>with Integrated Admin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520" y="1311120"/>
            <a:ext cx="800100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ly customizabl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D view makes host screens look like Windows 95 dia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p fonts, colors and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ge toolbars and display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y me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0560" y="3146400"/>
            <a:ext cx="4091040" cy="2519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46120" y="3241800"/>
            <a:ext cx="3949560" cy="29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tal distributed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lete tracing and logging 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PI-compliant mess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ministrator-defined macros for session and application laun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848720" y="0"/>
            <a:ext cx="6681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98600" y="12384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6d"/>
                </a:solidFill>
                <a:latin typeface="Times New Roman"/>
                <a:ea typeface="Times New Roman"/>
              </a:rPr>
              <a:t>Printer Management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387440"/>
            <a:ext cx="84661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entralized printer management allows complete control of the printe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individual work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a GUI-based dynamic print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007e7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5105520"/>
            <a:ext cx="9131400" cy="1739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ntralized printer management allows complete control of the printe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individual work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a GUI-based dynamic print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2720" y="95400"/>
            <a:ext cx="6848640" cy="4819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839080" y="1195560"/>
            <a:ext cx="76320" cy="23144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1195560"/>
            <a:ext cx="2209680" cy="23144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915400" y="1195560"/>
            <a:ext cx="76320" cy="2314440"/>
          </a:xfrm>
          <a:prstGeom prst="rect">
            <a:avLst/>
          </a:prstGeom>
          <a:solidFill>
            <a:srgbClr val="00121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991720" y="1195560"/>
            <a:ext cx="76320" cy="2314440"/>
          </a:xfrm>
          <a:prstGeom prst="rect">
            <a:avLst/>
          </a:prstGeom>
          <a:solidFill>
            <a:srgbClr val="00353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497640" y="1098720"/>
            <a:ext cx="250524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98600" y="12384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6d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00006d"/>
                </a:solidFill>
                <a:latin typeface="Times New Roman"/>
                <a:ea typeface="Times New Roman"/>
              </a:rPr>
              <a:t>Portfolio” Paradigm</a:t>
            </a:r>
            <a:br>
              <a:rPr sz="3600"/>
            </a:br>
            <a:r>
              <a:rPr b="1" lang="en-US" sz="3600" spc="-1" strike="noStrike">
                <a:solidFill>
                  <a:srgbClr val="00006d"/>
                </a:solidFill>
                <a:latin typeface="Times New Roman"/>
                <a:ea typeface="Times New Roman"/>
              </a:rPr>
              <a:t>for File Transfer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0880" y="1387440"/>
            <a:ext cx="1981080" cy="348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rag-and-drop fil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rtfolio” serves as a holding area for files in trans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sent files remain in portfolio, along with error log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rtfolios of frequently transferred files may be saved or loa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848720" y="0"/>
            <a:ext cx="668160" cy="1073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475080" y="4086360"/>
            <a:ext cx="5665680" cy="1752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552760" y="1217520"/>
            <a:ext cx="6588000" cy="2452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419720" y="3062160"/>
            <a:ext cx="4048200" cy="1176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76760" y="2133720"/>
            <a:ext cx="733680" cy="1448280"/>
          </a:xfrm>
          <a:custGeom>
            <a:avLst/>
            <a:gdLst/>
            <a:ahLst/>
            <a:rect l="0" t="0" r="r" b="b"/>
            <a:pathLst>
              <a:path w="2038" h="4023">
                <a:moveTo>
                  <a:pt x="132" y="0"/>
                </a:moveTo>
                <a:lnTo>
                  <a:pt x="1191" y="0"/>
                </a:lnTo>
                <a:lnTo>
                  <a:pt x="1535" y="476"/>
                </a:lnTo>
                <a:lnTo>
                  <a:pt x="1694" y="899"/>
                </a:lnTo>
                <a:lnTo>
                  <a:pt x="1826" y="1297"/>
                </a:lnTo>
                <a:lnTo>
                  <a:pt x="1826" y="1694"/>
                </a:lnTo>
                <a:lnTo>
                  <a:pt x="1747" y="1985"/>
                </a:lnTo>
                <a:lnTo>
                  <a:pt x="1614" y="2329"/>
                </a:lnTo>
                <a:lnTo>
                  <a:pt x="1323" y="2858"/>
                </a:lnTo>
                <a:lnTo>
                  <a:pt x="2038" y="2990"/>
                </a:lnTo>
                <a:lnTo>
                  <a:pt x="132" y="4023"/>
                </a:lnTo>
                <a:lnTo>
                  <a:pt x="0" y="2170"/>
                </a:lnTo>
                <a:lnTo>
                  <a:pt x="529" y="2593"/>
                </a:lnTo>
                <a:lnTo>
                  <a:pt x="820" y="2144"/>
                </a:lnTo>
                <a:lnTo>
                  <a:pt x="952" y="1800"/>
                </a:lnTo>
                <a:lnTo>
                  <a:pt x="978" y="1482"/>
                </a:lnTo>
                <a:lnTo>
                  <a:pt x="952" y="1032"/>
                </a:lnTo>
                <a:lnTo>
                  <a:pt x="767" y="635"/>
                </a:lnTo>
                <a:lnTo>
                  <a:pt x="608" y="343"/>
                </a:lnTo>
                <a:lnTo>
                  <a:pt x="132" y="0"/>
                </a:lnTo>
                <a:close/>
              </a:path>
            </a:pathLst>
          </a:custGeom>
          <a:gradFill rotWithShape="0">
            <a:gsLst>
              <a:gs pos="0">
                <a:srgbClr val="0000e5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3809880"/>
            <a:ext cx="838440" cy="1371960"/>
          </a:xfrm>
          <a:custGeom>
            <a:avLst/>
            <a:gdLst/>
            <a:ahLst/>
            <a:rect l="0" t="0" r="r" b="b"/>
            <a:pathLst>
              <a:path w="2329" h="3811">
                <a:moveTo>
                  <a:pt x="0" y="0"/>
                </a:moveTo>
                <a:lnTo>
                  <a:pt x="1058" y="0"/>
                </a:lnTo>
                <a:lnTo>
                  <a:pt x="1376" y="317"/>
                </a:lnTo>
                <a:lnTo>
                  <a:pt x="1482" y="635"/>
                </a:lnTo>
                <a:lnTo>
                  <a:pt x="1694" y="1111"/>
                </a:lnTo>
                <a:lnTo>
                  <a:pt x="1773" y="1402"/>
                </a:lnTo>
                <a:lnTo>
                  <a:pt x="1773" y="1719"/>
                </a:lnTo>
                <a:lnTo>
                  <a:pt x="1747" y="2038"/>
                </a:lnTo>
                <a:lnTo>
                  <a:pt x="1694" y="2329"/>
                </a:lnTo>
                <a:lnTo>
                  <a:pt x="1588" y="2567"/>
                </a:lnTo>
                <a:lnTo>
                  <a:pt x="1482" y="2752"/>
                </a:lnTo>
                <a:lnTo>
                  <a:pt x="2329" y="2752"/>
                </a:lnTo>
                <a:lnTo>
                  <a:pt x="211" y="3811"/>
                </a:lnTo>
                <a:lnTo>
                  <a:pt x="132" y="2091"/>
                </a:lnTo>
                <a:lnTo>
                  <a:pt x="635" y="2541"/>
                </a:lnTo>
                <a:lnTo>
                  <a:pt x="793" y="2197"/>
                </a:lnTo>
                <a:lnTo>
                  <a:pt x="846" y="1905"/>
                </a:lnTo>
                <a:lnTo>
                  <a:pt x="846" y="1481"/>
                </a:lnTo>
                <a:lnTo>
                  <a:pt x="820" y="1137"/>
                </a:lnTo>
                <a:lnTo>
                  <a:pt x="714" y="846"/>
                </a:lnTo>
                <a:lnTo>
                  <a:pt x="423" y="42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e5"/>
              </a:gs>
              <a:gs pos="100000">
                <a:srgbClr val="0000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2057400"/>
            <a:ext cx="800640" cy="1448280"/>
          </a:xfrm>
          <a:custGeom>
            <a:avLst/>
            <a:gdLst/>
            <a:ahLst/>
            <a:rect l="0" t="0" r="r" b="b"/>
            <a:pathLst>
              <a:path w="2224" h="4023">
                <a:moveTo>
                  <a:pt x="0" y="4023"/>
                </a:moveTo>
                <a:lnTo>
                  <a:pt x="1271" y="4023"/>
                </a:lnTo>
                <a:lnTo>
                  <a:pt x="1509" y="3626"/>
                </a:lnTo>
                <a:lnTo>
                  <a:pt x="1695" y="3177"/>
                </a:lnTo>
                <a:lnTo>
                  <a:pt x="1907" y="2673"/>
                </a:lnTo>
                <a:lnTo>
                  <a:pt x="1933" y="2263"/>
                </a:lnTo>
                <a:lnTo>
                  <a:pt x="1973" y="1985"/>
                </a:lnTo>
                <a:lnTo>
                  <a:pt x="1933" y="1667"/>
                </a:lnTo>
                <a:lnTo>
                  <a:pt x="1827" y="1350"/>
                </a:lnTo>
                <a:lnTo>
                  <a:pt x="1456" y="899"/>
                </a:lnTo>
                <a:lnTo>
                  <a:pt x="2224" y="740"/>
                </a:lnTo>
                <a:lnTo>
                  <a:pt x="423" y="0"/>
                </a:lnTo>
                <a:lnTo>
                  <a:pt x="0" y="1694"/>
                </a:lnTo>
                <a:lnTo>
                  <a:pt x="636" y="1271"/>
                </a:lnTo>
                <a:lnTo>
                  <a:pt x="794" y="1588"/>
                </a:lnTo>
                <a:lnTo>
                  <a:pt x="979" y="1879"/>
                </a:lnTo>
                <a:lnTo>
                  <a:pt x="1006" y="2223"/>
                </a:lnTo>
                <a:lnTo>
                  <a:pt x="927" y="2567"/>
                </a:lnTo>
                <a:lnTo>
                  <a:pt x="794" y="2990"/>
                </a:lnTo>
                <a:lnTo>
                  <a:pt x="636" y="3388"/>
                </a:lnTo>
                <a:lnTo>
                  <a:pt x="343" y="3732"/>
                </a:lnTo>
                <a:lnTo>
                  <a:pt x="0" y="4023"/>
                </a:lnTo>
                <a:close/>
              </a:path>
            </a:pathLst>
          </a:custGeom>
          <a:gradFill rotWithShape="0">
            <a:gsLst>
              <a:gs pos="0">
                <a:srgbClr val="00877a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3657600"/>
            <a:ext cx="762480" cy="1448280"/>
          </a:xfrm>
          <a:custGeom>
            <a:avLst/>
            <a:gdLst/>
            <a:ahLst/>
            <a:rect l="0" t="0" r="r" b="b"/>
            <a:pathLst>
              <a:path w="2118" h="4023">
                <a:moveTo>
                  <a:pt x="0" y="4023"/>
                </a:moveTo>
                <a:lnTo>
                  <a:pt x="1271" y="4023"/>
                </a:lnTo>
                <a:lnTo>
                  <a:pt x="1588" y="3600"/>
                </a:lnTo>
                <a:lnTo>
                  <a:pt x="1695" y="3177"/>
                </a:lnTo>
                <a:lnTo>
                  <a:pt x="1827" y="2726"/>
                </a:lnTo>
                <a:lnTo>
                  <a:pt x="1827" y="2302"/>
                </a:lnTo>
                <a:lnTo>
                  <a:pt x="1827" y="2011"/>
                </a:lnTo>
                <a:lnTo>
                  <a:pt x="1695" y="1694"/>
                </a:lnTo>
                <a:lnTo>
                  <a:pt x="1588" y="1376"/>
                </a:lnTo>
                <a:lnTo>
                  <a:pt x="1482" y="1059"/>
                </a:lnTo>
                <a:lnTo>
                  <a:pt x="2118" y="1059"/>
                </a:lnTo>
                <a:lnTo>
                  <a:pt x="423" y="0"/>
                </a:lnTo>
                <a:lnTo>
                  <a:pt x="0" y="1694"/>
                </a:lnTo>
                <a:lnTo>
                  <a:pt x="530" y="1244"/>
                </a:lnTo>
                <a:lnTo>
                  <a:pt x="662" y="1562"/>
                </a:lnTo>
                <a:lnTo>
                  <a:pt x="741" y="1906"/>
                </a:lnTo>
                <a:lnTo>
                  <a:pt x="794" y="2170"/>
                </a:lnTo>
                <a:lnTo>
                  <a:pt x="768" y="2593"/>
                </a:lnTo>
                <a:lnTo>
                  <a:pt x="636" y="2964"/>
                </a:lnTo>
                <a:lnTo>
                  <a:pt x="449" y="3388"/>
                </a:lnTo>
                <a:lnTo>
                  <a:pt x="264" y="3759"/>
                </a:lnTo>
                <a:lnTo>
                  <a:pt x="0" y="4023"/>
                </a:lnTo>
                <a:close/>
              </a:path>
            </a:pathLst>
          </a:custGeom>
          <a:gradFill rotWithShape="0">
            <a:gsLst>
              <a:gs pos="0">
                <a:srgbClr val="00877a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98600" y="12384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6d"/>
                </a:solidFill>
                <a:latin typeface="Times New Roman"/>
                <a:ea typeface="Times New Roman"/>
              </a:rPr>
              <a:t>A World Leader</a:t>
            </a:r>
            <a:br>
              <a:rPr sz="3600"/>
            </a:br>
            <a:r>
              <a:rPr b="1" lang="en-US" sz="3600" spc="-1" strike="noStrike">
                <a:solidFill>
                  <a:srgbClr val="00006d"/>
                </a:solidFill>
                <a:latin typeface="Times New Roman"/>
                <a:ea typeface="Times New Roman"/>
              </a:rPr>
              <a:t>In SNA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3520" y="1387440"/>
            <a:ext cx="84661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ess for DOS was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mplete PC-to-host solution for MS-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ess for Windows 3.0 was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indows SNA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icon Technology has been bringing connectivity solutions to customers for over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les in over 75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now, Phoenix seamlessly merges legacy information and client-server archite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848720" y="0"/>
            <a:ext cx="6681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98600" y="12384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6d"/>
                </a:solidFill>
                <a:latin typeface="Times New Roman"/>
                <a:ea typeface="Times New Roman"/>
              </a:rPr>
              <a:t>Forget Everything You Knew</a:t>
            </a:r>
            <a:br>
              <a:rPr sz="3600"/>
            </a:br>
            <a:r>
              <a:rPr b="1" lang="en-US" sz="3600" spc="-1" strike="noStrike">
                <a:solidFill>
                  <a:srgbClr val="00006d"/>
                </a:solidFill>
                <a:latin typeface="Times New Roman"/>
                <a:ea typeface="Times New Roman"/>
              </a:rPr>
              <a:t>About SNA Client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518148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oenix brings the power and resources of your legacy systems into the distributed Windows 95 client-server architecture with an architecture designed from the ground up to take advantage of the new operating system cap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act EIC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-800-80-E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248520" y="1447920"/>
            <a:ext cx="2209680" cy="3581280"/>
            <a:chOff x="6248520" y="1447920"/>
            <a:chExt cx="2209680" cy="3581280"/>
          </a:xfrm>
        </p:grpSpPr>
        <p:sp>
          <p:nvSpPr>
            <p:cNvPr id="130" name=""/>
            <p:cNvSpPr/>
            <p:nvPr/>
          </p:nvSpPr>
          <p:spPr>
            <a:xfrm>
              <a:off x="6248520" y="1447920"/>
              <a:ext cx="2209680" cy="3581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4c4cf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6351480" y="1600200"/>
              <a:ext cx="2055960" cy="3276720"/>
              <a:chOff x="6351480" y="1600200"/>
              <a:chExt cx="2055960" cy="3276720"/>
            </a:xfrm>
          </p:grpSpPr>
          <p:sp>
            <p:nvSpPr>
              <p:cNvPr id="132" name=""/>
              <p:cNvSpPr/>
              <p:nvPr/>
            </p:nvSpPr>
            <p:spPr>
              <a:xfrm>
                <a:off x="7843680" y="1711440"/>
                <a:ext cx="563760" cy="1443240"/>
              </a:xfrm>
              <a:custGeom>
                <a:avLst/>
                <a:gdLst/>
                <a:ahLst/>
                <a:rect l="0" t="0" r="r" b="b"/>
                <a:pathLst>
                  <a:path w="1566" h="4009">
                    <a:moveTo>
                      <a:pt x="0" y="4009"/>
                    </a:moveTo>
                    <a:lnTo>
                      <a:pt x="0" y="4009"/>
                    </a:lnTo>
                    <a:lnTo>
                      <a:pt x="155" y="3879"/>
                    </a:lnTo>
                    <a:lnTo>
                      <a:pt x="293" y="3748"/>
                    </a:lnTo>
                    <a:lnTo>
                      <a:pt x="419" y="3618"/>
                    </a:lnTo>
                    <a:lnTo>
                      <a:pt x="533" y="3484"/>
                    </a:lnTo>
                    <a:lnTo>
                      <a:pt x="637" y="3349"/>
                    </a:lnTo>
                    <a:lnTo>
                      <a:pt x="726" y="3215"/>
                    </a:lnTo>
                    <a:lnTo>
                      <a:pt x="806" y="3080"/>
                    </a:lnTo>
                    <a:lnTo>
                      <a:pt x="878" y="2950"/>
                    </a:lnTo>
                    <a:lnTo>
                      <a:pt x="936" y="2816"/>
                    </a:lnTo>
                    <a:lnTo>
                      <a:pt x="987" y="2681"/>
                    </a:lnTo>
                    <a:lnTo>
                      <a:pt x="1029" y="2547"/>
                    </a:lnTo>
                    <a:lnTo>
                      <a:pt x="1058" y="2416"/>
                    </a:lnTo>
                    <a:lnTo>
                      <a:pt x="1083" y="2286"/>
                    </a:lnTo>
                    <a:lnTo>
                      <a:pt x="1104" y="2160"/>
                    </a:lnTo>
                    <a:lnTo>
                      <a:pt x="1113" y="2030"/>
                    </a:lnTo>
                    <a:lnTo>
                      <a:pt x="1121" y="1903"/>
                    </a:lnTo>
                    <a:lnTo>
                      <a:pt x="1117" y="1781"/>
                    </a:lnTo>
                    <a:lnTo>
                      <a:pt x="1108" y="1663"/>
                    </a:lnTo>
                    <a:lnTo>
                      <a:pt x="1100" y="1542"/>
                    </a:lnTo>
                    <a:lnTo>
                      <a:pt x="1083" y="1428"/>
                    </a:lnTo>
                    <a:lnTo>
                      <a:pt x="1062" y="1319"/>
                    </a:lnTo>
                    <a:lnTo>
                      <a:pt x="1041" y="1210"/>
                    </a:lnTo>
                    <a:lnTo>
                      <a:pt x="1012" y="1105"/>
                    </a:lnTo>
                    <a:lnTo>
                      <a:pt x="987" y="1004"/>
                    </a:lnTo>
                    <a:lnTo>
                      <a:pt x="953" y="907"/>
                    </a:lnTo>
                    <a:lnTo>
                      <a:pt x="924" y="815"/>
                    </a:lnTo>
                    <a:lnTo>
                      <a:pt x="890" y="731"/>
                    </a:lnTo>
                    <a:lnTo>
                      <a:pt x="857" y="647"/>
                    </a:lnTo>
                    <a:lnTo>
                      <a:pt x="823" y="567"/>
                    </a:lnTo>
                    <a:lnTo>
                      <a:pt x="790" y="495"/>
                    </a:lnTo>
                    <a:lnTo>
                      <a:pt x="759" y="428"/>
                    </a:lnTo>
                    <a:lnTo>
                      <a:pt x="730" y="369"/>
                    </a:lnTo>
                    <a:lnTo>
                      <a:pt x="776" y="428"/>
                    </a:lnTo>
                    <a:lnTo>
                      <a:pt x="819" y="487"/>
                    </a:lnTo>
                    <a:lnTo>
                      <a:pt x="861" y="546"/>
                    </a:lnTo>
                    <a:lnTo>
                      <a:pt x="899" y="609"/>
                    </a:lnTo>
                    <a:lnTo>
                      <a:pt x="936" y="668"/>
                    </a:lnTo>
                    <a:lnTo>
                      <a:pt x="970" y="731"/>
                    </a:lnTo>
                    <a:lnTo>
                      <a:pt x="1004" y="794"/>
                    </a:lnTo>
                    <a:lnTo>
                      <a:pt x="1033" y="857"/>
                    </a:lnTo>
                    <a:lnTo>
                      <a:pt x="1062" y="920"/>
                    </a:lnTo>
                    <a:lnTo>
                      <a:pt x="1088" y="983"/>
                    </a:lnTo>
                    <a:lnTo>
                      <a:pt x="1113" y="1046"/>
                    </a:lnTo>
                    <a:lnTo>
                      <a:pt x="1134" y="1113"/>
                    </a:lnTo>
                    <a:lnTo>
                      <a:pt x="1155" y="1176"/>
                    </a:lnTo>
                    <a:lnTo>
                      <a:pt x="1176" y="1243"/>
                    </a:lnTo>
                    <a:lnTo>
                      <a:pt x="1192" y="1306"/>
                    </a:lnTo>
                    <a:lnTo>
                      <a:pt x="1209" y="1373"/>
                    </a:lnTo>
                    <a:lnTo>
                      <a:pt x="1226" y="1441"/>
                    </a:lnTo>
                    <a:lnTo>
                      <a:pt x="1239" y="1508"/>
                    </a:lnTo>
                    <a:lnTo>
                      <a:pt x="1251" y="1575"/>
                    </a:lnTo>
                    <a:lnTo>
                      <a:pt x="1260" y="1642"/>
                    </a:lnTo>
                    <a:lnTo>
                      <a:pt x="1268" y="1714"/>
                    </a:lnTo>
                    <a:lnTo>
                      <a:pt x="1276" y="1777"/>
                    </a:lnTo>
                    <a:lnTo>
                      <a:pt x="1285" y="1848"/>
                    </a:lnTo>
                    <a:lnTo>
                      <a:pt x="1293" y="1915"/>
                    </a:lnTo>
                    <a:lnTo>
                      <a:pt x="1297" y="1983"/>
                    </a:lnTo>
                    <a:lnTo>
                      <a:pt x="1302" y="2055"/>
                    </a:lnTo>
                    <a:lnTo>
                      <a:pt x="1306" y="2122"/>
                    </a:lnTo>
                    <a:lnTo>
                      <a:pt x="1306" y="2190"/>
                    </a:lnTo>
                    <a:lnTo>
                      <a:pt x="1306" y="2261"/>
                    </a:lnTo>
                    <a:lnTo>
                      <a:pt x="1310" y="2328"/>
                    </a:lnTo>
                    <a:lnTo>
                      <a:pt x="1310" y="2395"/>
                    </a:lnTo>
                    <a:lnTo>
                      <a:pt x="1310" y="2467"/>
                    </a:lnTo>
                    <a:lnTo>
                      <a:pt x="1323" y="2383"/>
                    </a:lnTo>
                    <a:lnTo>
                      <a:pt x="1335" y="2303"/>
                    </a:lnTo>
                    <a:lnTo>
                      <a:pt x="1348" y="2223"/>
                    </a:lnTo>
                    <a:lnTo>
                      <a:pt x="1356" y="2148"/>
                    </a:lnTo>
                    <a:lnTo>
                      <a:pt x="1360" y="2068"/>
                    </a:lnTo>
                    <a:lnTo>
                      <a:pt x="1364" y="1987"/>
                    </a:lnTo>
                    <a:lnTo>
                      <a:pt x="1369" y="1907"/>
                    </a:lnTo>
                    <a:lnTo>
                      <a:pt x="1369" y="1827"/>
                    </a:lnTo>
                    <a:lnTo>
                      <a:pt x="1364" y="1747"/>
                    </a:lnTo>
                    <a:lnTo>
                      <a:pt x="1360" y="1668"/>
                    </a:lnTo>
                    <a:lnTo>
                      <a:pt x="1356" y="1592"/>
                    </a:lnTo>
                    <a:lnTo>
                      <a:pt x="1348" y="1512"/>
                    </a:lnTo>
                    <a:lnTo>
                      <a:pt x="1335" y="1436"/>
                    </a:lnTo>
                    <a:lnTo>
                      <a:pt x="1323" y="1357"/>
                    </a:lnTo>
                    <a:lnTo>
                      <a:pt x="1310" y="1281"/>
                    </a:lnTo>
                    <a:lnTo>
                      <a:pt x="1293" y="1201"/>
                    </a:lnTo>
                    <a:lnTo>
                      <a:pt x="1272" y="1126"/>
                    </a:lnTo>
                    <a:lnTo>
                      <a:pt x="1251" y="1050"/>
                    </a:lnTo>
                    <a:lnTo>
                      <a:pt x="1226" y="970"/>
                    </a:lnTo>
                    <a:lnTo>
                      <a:pt x="1201" y="894"/>
                    </a:lnTo>
                    <a:lnTo>
                      <a:pt x="1171" y="819"/>
                    </a:lnTo>
                    <a:lnTo>
                      <a:pt x="1142" y="743"/>
                    </a:lnTo>
                    <a:lnTo>
                      <a:pt x="1108" y="668"/>
                    </a:lnTo>
                    <a:lnTo>
                      <a:pt x="1071" y="592"/>
                    </a:lnTo>
                    <a:lnTo>
                      <a:pt x="1033" y="521"/>
                    </a:lnTo>
                    <a:lnTo>
                      <a:pt x="995" y="445"/>
                    </a:lnTo>
                    <a:lnTo>
                      <a:pt x="953" y="369"/>
                    </a:lnTo>
                    <a:lnTo>
                      <a:pt x="907" y="294"/>
                    </a:lnTo>
                    <a:lnTo>
                      <a:pt x="857" y="222"/>
                    </a:lnTo>
                    <a:lnTo>
                      <a:pt x="806" y="147"/>
                    </a:lnTo>
                    <a:lnTo>
                      <a:pt x="755" y="75"/>
                    </a:lnTo>
                    <a:lnTo>
                      <a:pt x="700" y="0"/>
                    </a:lnTo>
                    <a:lnTo>
                      <a:pt x="790" y="84"/>
                    </a:lnTo>
                    <a:lnTo>
                      <a:pt x="869" y="168"/>
                    </a:lnTo>
                    <a:lnTo>
                      <a:pt x="949" y="260"/>
                    </a:lnTo>
                    <a:lnTo>
                      <a:pt x="1025" y="357"/>
                    </a:lnTo>
                    <a:lnTo>
                      <a:pt x="1092" y="457"/>
                    </a:lnTo>
                    <a:lnTo>
                      <a:pt x="1155" y="567"/>
                    </a:lnTo>
                    <a:lnTo>
                      <a:pt x="1218" y="676"/>
                    </a:lnTo>
                    <a:lnTo>
                      <a:pt x="1272" y="789"/>
                    </a:lnTo>
                    <a:lnTo>
                      <a:pt x="1323" y="903"/>
                    </a:lnTo>
                    <a:lnTo>
                      <a:pt x="1364" y="1025"/>
                    </a:lnTo>
                    <a:lnTo>
                      <a:pt x="1406" y="1142"/>
                    </a:lnTo>
                    <a:lnTo>
                      <a:pt x="1444" y="1264"/>
                    </a:lnTo>
                    <a:lnTo>
                      <a:pt x="1478" y="1386"/>
                    </a:lnTo>
                    <a:lnTo>
                      <a:pt x="1503" y="1508"/>
                    </a:lnTo>
                    <a:lnTo>
                      <a:pt x="1524" y="1630"/>
                    </a:lnTo>
                    <a:lnTo>
                      <a:pt x="1541" y="1752"/>
                    </a:lnTo>
                    <a:lnTo>
                      <a:pt x="1553" y="1869"/>
                    </a:lnTo>
                    <a:lnTo>
                      <a:pt x="1562" y="1991"/>
                    </a:lnTo>
                    <a:lnTo>
                      <a:pt x="1566" y="2106"/>
                    </a:lnTo>
                    <a:lnTo>
                      <a:pt x="1562" y="2219"/>
                    </a:lnTo>
                    <a:lnTo>
                      <a:pt x="1558" y="2328"/>
                    </a:lnTo>
                    <a:lnTo>
                      <a:pt x="1545" y="2437"/>
                    </a:lnTo>
                    <a:lnTo>
                      <a:pt x="1524" y="2538"/>
                    </a:lnTo>
                    <a:lnTo>
                      <a:pt x="1503" y="2635"/>
                    </a:lnTo>
                    <a:lnTo>
                      <a:pt x="1478" y="2727"/>
                    </a:lnTo>
                    <a:lnTo>
                      <a:pt x="1444" y="2816"/>
                    </a:lnTo>
                    <a:lnTo>
                      <a:pt x="1406" y="2895"/>
                    </a:lnTo>
                    <a:lnTo>
                      <a:pt x="1364" y="2967"/>
                    </a:lnTo>
                    <a:lnTo>
                      <a:pt x="1318" y="3034"/>
                    </a:lnTo>
                    <a:lnTo>
                      <a:pt x="1268" y="3093"/>
                    </a:lnTo>
                    <a:lnTo>
                      <a:pt x="1209" y="3148"/>
                    </a:lnTo>
                    <a:lnTo>
                      <a:pt x="1146" y="3190"/>
                    </a:lnTo>
                    <a:lnTo>
                      <a:pt x="1155" y="3160"/>
                    </a:lnTo>
                    <a:lnTo>
                      <a:pt x="1163" y="3127"/>
                    </a:lnTo>
                    <a:lnTo>
                      <a:pt x="1176" y="3097"/>
                    </a:lnTo>
                    <a:lnTo>
                      <a:pt x="1184" y="3064"/>
                    </a:lnTo>
                    <a:lnTo>
                      <a:pt x="1192" y="3034"/>
                    </a:lnTo>
                    <a:lnTo>
                      <a:pt x="1201" y="3005"/>
                    </a:lnTo>
                    <a:lnTo>
                      <a:pt x="1205" y="2971"/>
                    </a:lnTo>
                    <a:lnTo>
                      <a:pt x="1213" y="2937"/>
                    </a:lnTo>
                    <a:lnTo>
                      <a:pt x="1222" y="2908"/>
                    </a:lnTo>
                    <a:lnTo>
                      <a:pt x="1226" y="2874"/>
                    </a:lnTo>
                    <a:lnTo>
                      <a:pt x="1230" y="2845"/>
                    </a:lnTo>
                    <a:lnTo>
                      <a:pt x="1234" y="2811"/>
                    </a:lnTo>
                    <a:lnTo>
                      <a:pt x="1239" y="2782"/>
                    </a:lnTo>
                    <a:lnTo>
                      <a:pt x="1239" y="2748"/>
                    </a:lnTo>
                    <a:lnTo>
                      <a:pt x="1239" y="2719"/>
                    </a:lnTo>
                    <a:lnTo>
                      <a:pt x="1239" y="2690"/>
                    </a:lnTo>
                    <a:lnTo>
                      <a:pt x="1218" y="2744"/>
                    </a:lnTo>
                    <a:lnTo>
                      <a:pt x="1197" y="2799"/>
                    </a:lnTo>
                    <a:lnTo>
                      <a:pt x="1176" y="2849"/>
                    </a:lnTo>
                    <a:lnTo>
                      <a:pt x="1150" y="2900"/>
                    </a:lnTo>
                    <a:lnTo>
                      <a:pt x="1125" y="2950"/>
                    </a:lnTo>
                    <a:lnTo>
                      <a:pt x="1100" y="2996"/>
                    </a:lnTo>
                    <a:lnTo>
                      <a:pt x="1075" y="3047"/>
                    </a:lnTo>
                    <a:lnTo>
                      <a:pt x="1046" y="3093"/>
                    </a:lnTo>
                    <a:lnTo>
                      <a:pt x="1020" y="3139"/>
                    </a:lnTo>
                    <a:lnTo>
                      <a:pt x="991" y="3185"/>
                    </a:lnTo>
                    <a:lnTo>
                      <a:pt x="957" y="3232"/>
                    </a:lnTo>
                    <a:lnTo>
                      <a:pt x="924" y="3274"/>
                    </a:lnTo>
                    <a:lnTo>
                      <a:pt x="894" y="3320"/>
                    </a:lnTo>
                    <a:lnTo>
                      <a:pt x="857" y="3362"/>
                    </a:lnTo>
                    <a:lnTo>
                      <a:pt x="819" y="3404"/>
                    </a:lnTo>
                    <a:lnTo>
                      <a:pt x="785" y="3442"/>
                    </a:lnTo>
                    <a:lnTo>
                      <a:pt x="747" y="3484"/>
                    </a:lnTo>
                    <a:lnTo>
                      <a:pt x="705" y="3526"/>
                    </a:lnTo>
                    <a:lnTo>
                      <a:pt x="663" y="3564"/>
                    </a:lnTo>
                    <a:lnTo>
                      <a:pt x="621" y="3601"/>
                    </a:lnTo>
                    <a:lnTo>
                      <a:pt x="579" y="3639"/>
                    </a:lnTo>
                    <a:lnTo>
                      <a:pt x="533" y="3677"/>
                    </a:lnTo>
                    <a:lnTo>
                      <a:pt x="486" y="3711"/>
                    </a:lnTo>
                    <a:lnTo>
                      <a:pt x="436" y="3744"/>
                    </a:lnTo>
                    <a:lnTo>
                      <a:pt x="390" y="3782"/>
                    </a:lnTo>
                    <a:lnTo>
                      <a:pt x="335" y="3816"/>
                    </a:lnTo>
                    <a:lnTo>
                      <a:pt x="285" y="3849"/>
                    </a:lnTo>
                    <a:lnTo>
                      <a:pt x="230" y="3883"/>
                    </a:lnTo>
                    <a:lnTo>
                      <a:pt x="176" y="3912"/>
                    </a:lnTo>
                    <a:lnTo>
                      <a:pt x="117" y="3946"/>
                    </a:lnTo>
                    <a:lnTo>
                      <a:pt x="58" y="3975"/>
                    </a:lnTo>
                    <a:lnTo>
                      <a:pt x="0" y="40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50000">
                    <a:srgbClr val="000000"/>
                  </a:gs>
                  <a:gs pos="100000">
                    <a:srgbClr val="cecece"/>
                  </a:gs>
                </a:gsLst>
                <a:lin ang="27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351480" y="2479680"/>
                <a:ext cx="686160" cy="875160"/>
              </a:xfrm>
              <a:custGeom>
                <a:avLst/>
                <a:gdLst/>
                <a:ahLst/>
                <a:rect l="0" t="0" r="r" b="b"/>
                <a:pathLst>
                  <a:path w="1906" h="2431">
                    <a:moveTo>
                      <a:pt x="1906" y="2221"/>
                    </a:moveTo>
                    <a:lnTo>
                      <a:pt x="1906" y="2221"/>
                    </a:lnTo>
                    <a:lnTo>
                      <a:pt x="1869" y="2247"/>
                    </a:lnTo>
                    <a:lnTo>
                      <a:pt x="1835" y="2268"/>
                    </a:lnTo>
                    <a:lnTo>
                      <a:pt x="1806" y="2289"/>
                    </a:lnTo>
                    <a:lnTo>
                      <a:pt x="1776" y="2310"/>
                    </a:lnTo>
                    <a:lnTo>
                      <a:pt x="1755" y="2326"/>
                    </a:lnTo>
                    <a:lnTo>
                      <a:pt x="1734" y="2343"/>
                    </a:lnTo>
                    <a:lnTo>
                      <a:pt x="1718" y="2360"/>
                    </a:lnTo>
                    <a:lnTo>
                      <a:pt x="1697" y="2373"/>
                    </a:lnTo>
                    <a:lnTo>
                      <a:pt x="1680" y="2385"/>
                    </a:lnTo>
                    <a:lnTo>
                      <a:pt x="1663" y="2398"/>
                    </a:lnTo>
                    <a:lnTo>
                      <a:pt x="1646" y="2406"/>
                    </a:lnTo>
                    <a:lnTo>
                      <a:pt x="1630" y="2414"/>
                    </a:lnTo>
                    <a:lnTo>
                      <a:pt x="1609" y="2423"/>
                    </a:lnTo>
                    <a:lnTo>
                      <a:pt x="1588" y="2427"/>
                    </a:lnTo>
                    <a:lnTo>
                      <a:pt x="1562" y="2431"/>
                    </a:lnTo>
                    <a:lnTo>
                      <a:pt x="1533" y="2431"/>
                    </a:lnTo>
                    <a:lnTo>
                      <a:pt x="1483" y="2427"/>
                    </a:lnTo>
                    <a:lnTo>
                      <a:pt x="1427" y="2427"/>
                    </a:lnTo>
                    <a:lnTo>
                      <a:pt x="1377" y="2423"/>
                    </a:lnTo>
                    <a:lnTo>
                      <a:pt x="1322" y="2414"/>
                    </a:lnTo>
                    <a:lnTo>
                      <a:pt x="1272" y="2410"/>
                    </a:lnTo>
                    <a:lnTo>
                      <a:pt x="1222" y="2402"/>
                    </a:lnTo>
                    <a:lnTo>
                      <a:pt x="1167" y="2393"/>
                    </a:lnTo>
                    <a:lnTo>
                      <a:pt x="1117" y="2385"/>
                    </a:lnTo>
                    <a:lnTo>
                      <a:pt x="1066" y="2373"/>
                    </a:lnTo>
                    <a:lnTo>
                      <a:pt x="1012" y="2364"/>
                    </a:lnTo>
                    <a:lnTo>
                      <a:pt x="961" y="2352"/>
                    </a:lnTo>
                    <a:lnTo>
                      <a:pt x="911" y="2339"/>
                    </a:lnTo>
                    <a:lnTo>
                      <a:pt x="861" y="2322"/>
                    </a:lnTo>
                    <a:lnTo>
                      <a:pt x="810" y="2305"/>
                    </a:lnTo>
                    <a:lnTo>
                      <a:pt x="760" y="2289"/>
                    </a:lnTo>
                    <a:lnTo>
                      <a:pt x="710" y="2268"/>
                    </a:lnTo>
                    <a:lnTo>
                      <a:pt x="743" y="2272"/>
                    </a:lnTo>
                    <a:lnTo>
                      <a:pt x="777" y="2272"/>
                    </a:lnTo>
                    <a:lnTo>
                      <a:pt x="810" y="2272"/>
                    </a:lnTo>
                    <a:lnTo>
                      <a:pt x="844" y="2272"/>
                    </a:lnTo>
                    <a:lnTo>
                      <a:pt x="873" y="2272"/>
                    </a:lnTo>
                    <a:lnTo>
                      <a:pt x="907" y="2272"/>
                    </a:lnTo>
                    <a:lnTo>
                      <a:pt x="936" y="2272"/>
                    </a:lnTo>
                    <a:lnTo>
                      <a:pt x="970" y="2268"/>
                    </a:lnTo>
                    <a:lnTo>
                      <a:pt x="999" y="2268"/>
                    </a:lnTo>
                    <a:lnTo>
                      <a:pt x="1029" y="2263"/>
                    </a:lnTo>
                    <a:lnTo>
                      <a:pt x="1062" y="2259"/>
                    </a:lnTo>
                    <a:lnTo>
                      <a:pt x="1091" y="2255"/>
                    </a:lnTo>
                    <a:lnTo>
                      <a:pt x="1121" y="2247"/>
                    </a:lnTo>
                    <a:lnTo>
                      <a:pt x="1154" y="2242"/>
                    </a:lnTo>
                    <a:lnTo>
                      <a:pt x="1184" y="2230"/>
                    </a:lnTo>
                    <a:lnTo>
                      <a:pt x="1213" y="2221"/>
                    </a:lnTo>
                    <a:lnTo>
                      <a:pt x="1175" y="2209"/>
                    </a:lnTo>
                    <a:lnTo>
                      <a:pt x="1142" y="2192"/>
                    </a:lnTo>
                    <a:lnTo>
                      <a:pt x="1104" y="2179"/>
                    </a:lnTo>
                    <a:lnTo>
                      <a:pt x="1066" y="2163"/>
                    </a:lnTo>
                    <a:lnTo>
                      <a:pt x="1029" y="2146"/>
                    </a:lnTo>
                    <a:lnTo>
                      <a:pt x="991" y="2129"/>
                    </a:lnTo>
                    <a:lnTo>
                      <a:pt x="957" y="2108"/>
                    </a:lnTo>
                    <a:lnTo>
                      <a:pt x="919" y="2091"/>
                    </a:lnTo>
                    <a:lnTo>
                      <a:pt x="882" y="2070"/>
                    </a:lnTo>
                    <a:lnTo>
                      <a:pt x="848" y="2049"/>
                    </a:lnTo>
                    <a:lnTo>
                      <a:pt x="810" y="2028"/>
                    </a:lnTo>
                    <a:lnTo>
                      <a:pt x="777" y="2003"/>
                    </a:lnTo>
                    <a:lnTo>
                      <a:pt x="743" y="1982"/>
                    </a:lnTo>
                    <a:lnTo>
                      <a:pt x="705" y="1957"/>
                    </a:lnTo>
                    <a:lnTo>
                      <a:pt x="672" y="1932"/>
                    </a:lnTo>
                    <a:lnTo>
                      <a:pt x="638" y="1907"/>
                    </a:lnTo>
                    <a:lnTo>
                      <a:pt x="601" y="1882"/>
                    </a:lnTo>
                    <a:lnTo>
                      <a:pt x="567" y="1856"/>
                    </a:lnTo>
                    <a:lnTo>
                      <a:pt x="533" y="1827"/>
                    </a:lnTo>
                    <a:lnTo>
                      <a:pt x="500" y="1801"/>
                    </a:lnTo>
                    <a:lnTo>
                      <a:pt x="465" y="1771"/>
                    </a:lnTo>
                    <a:lnTo>
                      <a:pt x="427" y="1746"/>
                    </a:lnTo>
                    <a:lnTo>
                      <a:pt x="394" y="1717"/>
                    </a:lnTo>
                    <a:lnTo>
                      <a:pt x="360" y="1687"/>
                    </a:lnTo>
                    <a:lnTo>
                      <a:pt x="327" y="1658"/>
                    </a:lnTo>
                    <a:lnTo>
                      <a:pt x="289" y="1629"/>
                    </a:lnTo>
                    <a:lnTo>
                      <a:pt x="255" y="1595"/>
                    </a:lnTo>
                    <a:lnTo>
                      <a:pt x="222" y="1566"/>
                    </a:lnTo>
                    <a:lnTo>
                      <a:pt x="188" y="1536"/>
                    </a:lnTo>
                    <a:lnTo>
                      <a:pt x="151" y="1507"/>
                    </a:lnTo>
                    <a:lnTo>
                      <a:pt x="117" y="1473"/>
                    </a:lnTo>
                    <a:lnTo>
                      <a:pt x="79" y="1444"/>
                    </a:lnTo>
                    <a:lnTo>
                      <a:pt x="613" y="1696"/>
                    </a:lnTo>
                    <a:lnTo>
                      <a:pt x="596" y="1675"/>
                    </a:lnTo>
                    <a:lnTo>
                      <a:pt x="575" y="1654"/>
                    </a:lnTo>
                    <a:lnTo>
                      <a:pt x="554" y="1625"/>
                    </a:lnTo>
                    <a:lnTo>
                      <a:pt x="529" y="1595"/>
                    </a:lnTo>
                    <a:lnTo>
                      <a:pt x="508" y="1566"/>
                    </a:lnTo>
                    <a:lnTo>
                      <a:pt x="483" y="1532"/>
                    </a:lnTo>
                    <a:lnTo>
                      <a:pt x="457" y="1494"/>
                    </a:lnTo>
                    <a:lnTo>
                      <a:pt x="432" y="1457"/>
                    </a:lnTo>
                    <a:lnTo>
                      <a:pt x="407" y="1415"/>
                    </a:lnTo>
                    <a:lnTo>
                      <a:pt x="381" y="1373"/>
                    </a:lnTo>
                    <a:lnTo>
                      <a:pt x="352" y="1331"/>
                    </a:lnTo>
                    <a:lnTo>
                      <a:pt x="327" y="1280"/>
                    </a:lnTo>
                    <a:lnTo>
                      <a:pt x="302" y="1234"/>
                    </a:lnTo>
                    <a:lnTo>
                      <a:pt x="272" y="1180"/>
                    </a:lnTo>
                    <a:lnTo>
                      <a:pt x="247" y="1129"/>
                    </a:lnTo>
                    <a:lnTo>
                      <a:pt x="222" y="1075"/>
                    </a:lnTo>
                    <a:lnTo>
                      <a:pt x="197" y="1016"/>
                    </a:lnTo>
                    <a:lnTo>
                      <a:pt x="176" y="957"/>
                    </a:lnTo>
                    <a:lnTo>
                      <a:pt x="151" y="899"/>
                    </a:lnTo>
                    <a:lnTo>
                      <a:pt x="130" y="836"/>
                    </a:lnTo>
                    <a:lnTo>
                      <a:pt x="109" y="777"/>
                    </a:lnTo>
                    <a:lnTo>
                      <a:pt x="88" y="710"/>
                    </a:lnTo>
                    <a:lnTo>
                      <a:pt x="71" y="643"/>
                    </a:lnTo>
                    <a:lnTo>
                      <a:pt x="54" y="579"/>
                    </a:lnTo>
                    <a:lnTo>
                      <a:pt x="41" y="507"/>
                    </a:lnTo>
                    <a:lnTo>
                      <a:pt x="29" y="440"/>
                    </a:lnTo>
                    <a:lnTo>
                      <a:pt x="16" y="369"/>
                    </a:lnTo>
                    <a:lnTo>
                      <a:pt x="8" y="297"/>
                    </a:lnTo>
                    <a:lnTo>
                      <a:pt x="4" y="222"/>
                    </a:lnTo>
                    <a:lnTo>
                      <a:pt x="0" y="151"/>
                    </a:lnTo>
                    <a:lnTo>
                      <a:pt x="0" y="75"/>
                    </a:lnTo>
                    <a:lnTo>
                      <a:pt x="0" y="0"/>
                    </a:lnTo>
                    <a:lnTo>
                      <a:pt x="25" y="130"/>
                    </a:lnTo>
                    <a:lnTo>
                      <a:pt x="54" y="260"/>
                    </a:lnTo>
                    <a:lnTo>
                      <a:pt x="83" y="377"/>
                    </a:lnTo>
                    <a:lnTo>
                      <a:pt x="121" y="499"/>
                    </a:lnTo>
                    <a:lnTo>
                      <a:pt x="163" y="609"/>
                    </a:lnTo>
                    <a:lnTo>
                      <a:pt x="209" y="718"/>
                    </a:lnTo>
                    <a:lnTo>
                      <a:pt x="255" y="823"/>
                    </a:lnTo>
                    <a:lnTo>
                      <a:pt x="306" y="924"/>
                    </a:lnTo>
                    <a:lnTo>
                      <a:pt x="360" y="1020"/>
                    </a:lnTo>
                    <a:lnTo>
                      <a:pt x="415" y="1113"/>
                    </a:lnTo>
                    <a:lnTo>
                      <a:pt x="474" y="1201"/>
                    </a:lnTo>
                    <a:lnTo>
                      <a:pt x="533" y="1285"/>
                    </a:lnTo>
                    <a:lnTo>
                      <a:pt x="601" y="1364"/>
                    </a:lnTo>
                    <a:lnTo>
                      <a:pt x="663" y="1440"/>
                    </a:lnTo>
                    <a:lnTo>
                      <a:pt x="731" y="1511"/>
                    </a:lnTo>
                    <a:lnTo>
                      <a:pt x="798" y="1583"/>
                    </a:lnTo>
                    <a:lnTo>
                      <a:pt x="865" y="1646"/>
                    </a:lnTo>
                    <a:lnTo>
                      <a:pt x="936" y="1708"/>
                    </a:lnTo>
                    <a:lnTo>
                      <a:pt x="1008" y="1763"/>
                    </a:lnTo>
                    <a:lnTo>
                      <a:pt x="1079" y="1818"/>
                    </a:lnTo>
                    <a:lnTo>
                      <a:pt x="1150" y="1869"/>
                    </a:lnTo>
                    <a:lnTo>
                      <a:pt x="1222" y="1919"/>
                    </a:lnTo>
                    <a:lnTo>
                      <a:pt x="1293" y="1961"/>
                    </a:lnTo>
                    <a:lnTo>
                      <a:pt x="1368" y="2003"/>
                    </a:lnTo>
                    <a:lnTo>
                      <a:pt x="1437" y="2041"/>
                    </a:lnTo>
                    <a:lnTo>
                      <a:pt x="1508" y="2075"/>
                    </a:lnTo>
                    <a:lnTo>
                      <a:pt x="1579" y="2108"/>
                    </a:lnTo>
                    <a:lnTo>
                      <a:pt x="1646" y="2133"/>
                    </a:lnTo>
                    <a:lnTo>
                      <a:pt x="1713" y="2163"/>
                    </a:lnTo>
                    <a:lnTo>
                      <a:pt x="1781" y="2184"/>
                    </a:lnTo>
                    <a:lnTo>
                      <a:pt x="1844" y="2205"/>
                    </a:lnTo>
                    <a:lnTo>
                      <a:pt x="1906" y="22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50000">
                    <a:srgbClr val="000000"/>
                  </a:gs>
                  <a:gs pos="100000">
                    <a:srgbClr val="cecece"/>
                  </a:gs>
                </a:gsLst>
                <a:lin ang="27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488360" y="2857680"/>
                <a:ext cx="891000" cy="1060920"/>
              </a:xfrm>
              <a:custGeom>
                <a:avLst/>
                <a:gdLst/>
                <a:ahLst/>
                <a:rect l="0" t="0" r="r" b="b"/>
                <a:pathLst>
                  <a:path w="2475" h="2947">
                    <a:moveTo>
                      <a:pt x="703" y="2839"/>
                    </a:moveTo>
                    <a:lnTo>
                      <a:pt x="711" y="2822"/>
                    </a:lnTo>
                    <a:lnTo>
                      <a:pt x="720" y="2806"/>
                    </a:lnTo>
                    <a:lnTo>
                      <a:pt x="724" y="2789"/>
                    </a:lnTo>
                    <a:lnTo>
                      <a:pt x="732" y="2772"/>
                    </a:lnTo>
                    <a:lnTo>
                      <a:pt x="736" y="2756"/>
                    </a:lnTo>
                    <a:lnTo>
                      <a:pt x="741" y="2739"/>
                    </a:lnTo>
                    <a:lnTo>
                      <a:pt x="741" y="2722"/>
                    </a:lnTo>
                    <a:lnTo>
                      <a:pt x="745" y="2706"/>
                    </a:lnTo>
                    <a:lnTo>
                      <a:pt x="745" y="2689"/>
                    </a:lnTo>
                    <a:lnTo>
                      <a:pt x="745" y="2672"/>
                    </a:lnTo>
                    <a:lnTo>
                      <a:pt x="745" y="2656"/>
                    </a:lnTo>
                    <a:lnTo>
                      <a:pt x="741" y="2643"/>
                    </a:lnTo>
                    <a:lnTo>
                      <a:pt x="741" y="2622"/>
                    </a:lnTo>
                    <a:lnTo>
                      <a:pt x="732" y="2606"/>
                    </a:lnTo>
                    <a:lnTo>
                      <a:pt x="728" y="2593"/>
                    </a:lnTo>
                    <a:lnTo>
                      <a:pt x="724" y="2576"/>
                    </a:lnTo>
                    <a:lnTo>
                      <a:pt x="695" y="2568"/>
                    </a:lnTo>
                    <a:lnTo>
                      <a:pt x="666" y="2564"/>
                    </a:lnTo>
                    <a:lnTo>
                      <a:pt x="641" y="2556"/>
                    </a:lnTo>
                    <a:lnTo>
                      <a:pt x="611" y="2556"/>
                    </a:lnTo>
                    <a:lnTo>
                      <a:pt x="577" y="2551"/>
                    </a:lnTo>
                    <a:lnTo>
                      <a:pt x="548" y="2547"/>
                    </a:lnTo>
                    <a:lnTo>
                      <a:pt x="519" y="2547"/>
                    </a:lnTo>
                    <a:lnTo>
                      <a:pt x="486" y="2547"/>
                    </a:lnTo>
                    <a:lnTo>
                      <a:pt x="457" y="2551"/>
                    </a:lnTo>
                    <a:lnTo>
                      <a:pt x="424" y="2551"/>
                    </a:lnTo>
                    <a:lnTo>
                      <a:pt x="394" y="2560"/>
                    </a:lnTo>
                    <a:lnTo>
                      <a:pt x="361" y="2568"/>
                    </a:lnTo>
                    <a:lnTo>
                      <a:pt x="332" y="2576"/>
                    </a:lnTo>
                    <a:lnTo>
                      <a:pt x="299" y="2589"/>
                    </a:lnTo>
                    <a:lnTo>
                      <a:pt x="270" y="2606"/>
                    </a:lnTo>
                    <a:lnTo>
                      <a:pt x="241" y="2622"/>
                    </a:lnTo>
                    <a:lnTo>
                      <a:pt x="332" y="2947"/>
                    </a:lnTo>
                    <a:lnTo>
                      <a:pt x="0" y="2485"/>
                    </a:lnTo>
                    <a:lnTo>
                      <a:pt x="45" y="2481"/>
                    </a:lnTo>
                    <a:lnTo>
                      <a:pt x="91" y="2481"/>
                    </a:lnTo>
                    <a:lnTo>
                      <a:pt x="137" y="2476"/>
                    </a:lnTo>
                    <a:lnTo>
                      <a:pt x="178" y="2472"/>
                    </a:lnTo>
                    <a:lnTo>
                      <a:pt x="224" y="2472"/>
                    </a:lnTo>
                    <a:lnTo>
                      <a:pt x="261" y="2468"/>
                    </a:lnTo>
                    <a:lnTo>
                      <a:pt x="303" y="2464"/>
                    </a:lnTo>
                    <a:lnTo>
                      <a:pt x="345" y="2464"/>
                    </a:lnTo>
                    <a:lnTo>
                      <a:pt x="382" y="2456"/>
                    </a:lnTo>
                    <a:lnTo>
                      <a:pt x="419" y="2451"/>
                    </a:lnTo>
                    <a:lnTo>
                      <a:pt x="457" y="2447"/>
                    </a:lnTo>
                    <a:lnTo>
                      <a:pt x="494" y="2439"/>
                    </a:lnTo>
                    <a:lnTo>
                      <a:pt x="532" y="2431"/>
                    </a:lnTo>
                    <a:lnTo>
                      <a:pt x="565" y="2422"/>
                    </a:lnTo>
                    <a:lnTo>
                      <a:pt x="602" y="2414"/>
                    </a:lnTo>
                    <a:lnTo>
                      <a:pt x="637" y="2406"/>
                    </a:lnTo>
                    <a:lnTo>
                      <a:pt x="674" y="2393"/>
                    </a:lnTo>
                    <a:lnTo>
                      <a:pt x="707" y="2381"/>
                    </a:lnTo>
                    <a:lnTo>
                      <a:pt x="741" y="2368"/>
                    </a:lnTo>
                    <a:lnTo>
                      <a:pt x="774" y="2356"/>
                    </a:lnTo>
                    <a:lnTo>
                      <a:pt x="811" y="2339"/>
                    </a:lnTo>
                    <a:lnTo>
                      <a:pt x="845" y="2322"/>
                    </a:lnTo>
                    <a:lnTo>
                      <a:pt x="878" y="2306"/>
                    </a:lnTo>
                    <a:lnTo>
                      <a:pt x="915" y="2285"/>
                    </a:lnTo>
                    <a:lnTo>
                      <a:pt x="953" y="2264"/>
                    </a:lnTo>
                    <a:lnTo>
                      <a:pt x="986" y="2239"/>
                    </a:lnTo>
                    <a:lnTo>
                      <a:pt x="1023" y="2218"/>
                    </a:lnTo>
                    <a:lnTo>
                      <a:pt x="1061" y="2188"/>
                    </a:lnTo>
                    <a:lnTo>
                      <a:pt x="1098" y="2163"/>
                    </a:lnTo>
                    <a:lnTo>
                      <a:pt x="1136" y="2134"/>
                    </a:lnTo>
                    <a:lnTo>
                      <a:pt x="1177" y="2100"/>
                    </a:lnTo>
                    <a:lnTo>
                      <a:pt x="1219" y="2067"/>
                    </a:lnTo>
                    <a:lnTo>
                      <a:pt x="1223" y="2050"/>
                    </a:lnTo>
                    <a:lnTo>
                      <a:pt x="1227" y="2034"/>
                    </a:lnTo>
                    <a:lnTo>
                      <a:pt x="1219" y="2013"/>
                    </a:lnTo>
                    <a:lnTo>
                      <a:pt x="1215" y="1996"/>
                    </a:lnTo>
                    <a:lnTo>
                      <a:pt x="1198" y="1975"/>
                    </a:lnTo>
                    <a:lnTo>
                      <a:pt x="1181" y="1955"/>
                    </a:lnTo>
                    <a:lnTo>
                      <a:pt x="1161" y="1934"/>
                    </a:lnTo>
                    <a:lnTo>
                      <a:pt x="1136" y="1913"/>
                    </a:lnTo>
                    <a:lnTo>
                      <a:pt x="1111" y="1896"/>
                    </a:lnTo>
                    <a:lnTo>
                      <a:pt x="1077" y="1880"/>
                    </a:lnTo>
                    <a:lnTo>
                      <a:pt x="1048" y="1863"/>
                    </a:lnTo>
                    <a:lnTo>
                      <a:pt x="1011" y="1850"/>
                    </a:lnTo>
                    <a:lnTo>
                      <a:pt x="978" y="1838"/>
                    </a:lnTo>
                    <a:lnTo>
                      <a:pt x="940" y="1834"/>
                    </a:lnTo>
                    <a:lnTo>
                      <a:pt x="903" y="1825"/>
                    </a:lnTo>
                    <a:lnTo>
                      <a:pt x="865" y="1825"/>
                    </a:lnTo>
                    <a:lnTo>
                      <a:pt x="919" y="1767"/>
                    </a:lnTo>
                    <a:lnTo>
                      <a:pt x="978" y="1713"/>
                    </a:lnTo>
                    <a:lnTo>
                      <a:pt x="1032" y="1655"/>
                    </a:lnTo>
                    <a:lnTo>
                      <a:pt x="1086" y="1600"/>
                    </a:lnTo>
                    <a:lnTo>
                      <a:pt x="1144" y="1542"/>
                    </a:lnTo>
                    <a:lnTo>
                      <a:pt x="1198" y="1488"/>
                    </a:lnTo>
                    <a:lnTo>
                      <a:pt x="1252" y="1434"/>
                    </a:lnTo>
                    <a:lnTo>
                      <a:pt x="1310" y="1375"/>
                    </a:lnTo>
                    <a:lnTo>
                      <a:pt x="1364" y="1321"/>
                    </a:lnTo>
                    <a:lnTo>
                      <a:pt x="1418" y="1267"/>
                    </a:lnTo>
                    <a:lnTo>
                      <a:pt x="1472" y="1213"/>
                    </a:lnTo>
                    <a:lnTo>
                      <a:pt x="1526" y="1155"/>
                    </a:lnTo>
                    <a:lnTo>
                      <a:pt x="1580" y="1100"/>
                    </a:lnTo>
                    <a:lnTo>
                      <a:pt x="1630" y="1046"/>
                    </a:lnTo>
                    <a:lnTo>
                      <a:pt x="1684" y="992"/>
                    </a:lnTo>
                    <a:lnTo>
                      <a:pt x="1738" y="934"/>
                    </a:lnTo>
                    <a:lnTo>
                      <a:pt x="1788" y="880"/>
                    </a:lnTo>
                    <a:lnTo>
                      <a:pt x="1838" y="821"/>
                    </a:lnTo>
                    <a:lnTo>
                      <a:pt x="1893" y="767"/>
                    </a:lnTo>
                    <a:lnTo>
                      <a:pt x="1943" y="708"/>
                    </a:lnTo>
                    <a:lnTo>
                      <a:pt x="1993" y="654"/>
                    </a:lnTo>
                    <a:lnTo>
                      <a:pt x="2039" y="595"/>
                    </a:lnTo>
                    <a:lnTo>
                      <a:pt x="2089" y="537"/>
                    </a:lnTo>
                    <a:lnTo>
                      <a:pt x="2134" y="483"/>
                    </a:lnTo>
                    <a:lnTo>
                      <a:pt x="2180" y="420"/>
                    </a:lnTo>
                    <a:lnTo>
                      <a:pt x="2226" y="362"/>
                    </a:lnTo>
                    <a:lnTo>
                      <a:pt x="2272" y="304"/>
                    </a:lnTo>
                    <a:lnTo>
                      <a:pt x="2313" y="245"/>
                    </a:lnTo>
                    <a:lnTo>
                      <a:pt x="2355" y="183"/>
                    </a:lnTo>
                    <a:lnTo>
                      <a:pt x="2396" y="124"/>
                    </a:lnTo>
                    <a:lnTo>
                      <a:pt x="2438" y="62"/>
                    </a:lnTo>
                    <a:lnTo>
                      <a:pt x="2475" y="0"/>
                    </a:lnTo>
                    <a:lnTo>
                      <a:pt x="2471" y="37"/>
                    </a:lnTo>
                    <a:lnTo>
                      <a:pt x="2463" y="70"/>
                    </a:lnTo>
                    <a:lnTo>
                      <a:pt x="2455" y="104"/>
                    </a:lnTo>
                    <a:lnTo>
                      <a:pt x="2446" y="137"/>
                    </a:lnTo>
                    <a:lnTo>
                      <a:pt x="2442" y="166"/>
                    </a:lnTo>
                    <a:lnTo>
                      <a:pt x="2434" y="195"/>
                    </a:lnTo>
                    <a:lnTo>
                      <a:pt x="2430" y="224"/>
                    </a:lnTo>
                    <a:lnTo>
                      <a:pt x="2425" y="249"/>
                    </a:lnTo>
                    <a:lnTo>
                      <a:pt x="2417" y="279"/>
                    </a:lnTo>
                    <a:lnTo>
                      <a:pt x="2413" y="308"/>
                    </a:lnTo>
                    <a:lnTo>
                      <a:pt x="2405" y="337"/>
                    </a:lnTo>
                    <a:lnTo>
                      <a:pt x="2396" y="366"/>
                    </a:lnTo>
                    <a:lnTo>
                      <a:pt x="2392" y="399"/>
                    </a:lnTo>
                    <a:lnTo>
                      <a:pt x="2380" y="429"/>
                    </a:lnTo>
                    <a:lnTo>
                      <a:pt x="2371" y="462"/>
                    </a:lnTo>
                    <a:lnTo>
                      <a:pt x="2363" y="499"/>
                    </a:lnTo>
                    <a:lnTo>
                      <a:pt x="2342" y="537"/>
                    </a:lnTo>
                    <a:lnTo>
                      <a:pt x="2317" y="570"/>
                    </a:lnTo>
                    <a:lnTo>
                      <a:pt x="2301" y="599"/>
                    </a:lnTo>
                    <a:lnTo>
                      <a:pt x="2276" y="629"/>
                    </a:lnTo>
                    <a:lnTo>
                      <a:pt x="2255" y="658"/>
                    </a:lnTo>
                    <a:lnTo>
                      <a:pt x="2234" y="687"/>
                    </a:lnTo>
                    <a:lnTo>
                      <a:pt x="2209" y="716"/>
                    </a:lnTo>
                    <a:lnTo>
                      <a:pt x="2184" y="746"/>
                    </a:lnTo>
                    <a:lnTo>
                      <a:pt x="2159" y="775"/>
                    </a:lnTo>
                    <a:lnTo>
                      <a:pt x="2130" y="813"/>
                    </a:lnTo>
                    <a:lnTo>
                      <a:pt x="2101" y="846"/>
                    </a:lnTo>
                    <a:lnTo>
                      <a:pt x="2068" y="884"/>
                    </a:lnTo>
                    <a:lnTo>
                      <a:pt x="2030" y="925"/>
                    </a:lnTo>
                    <a:lnTo>
                      <a:pt x="1993" y="971"/>
                    </a:lnTo>
                    <a:lnTo>
                      <a:pt x="1947" y="1021"/>
                    </a:lnTo>
                    <a:lnTo>
                      <a:pt x="1902" y="1075"/>
                    </a:lnTo>
                    <a:lnTo>
                      <a:pt x="1931" y="1063"/>
                    </a:lnTo>
                    <a:lnTo>
                      <a:pt x="1960" y="1050"/>
                    </a:lnTo>
                    <a:lnTo>
                      <a:pt x="1985" y="1034"/>
                    </a:lnTo>
                    <a:lnTo>
                      <a:pt x="2010" y="1021"/>
                    </a:lnTo>
                    <a:lnTo>
                      <a:pt x="2035" y="1009"/>
                    </a:lnTo>
                    <a:lnTo>
                      <a:pt x="2051" y="996"/>
                    </a:lnTo>
                    <a:lnTo>
                      <a:pt x="2072" y="980"/>
                    </a:lnTo>
                    <a:lnTo>
                      <a:pt x="2093" y="967"/>
                    </a:lnTo>
                    <a:lnTo>
                      <a:pt x="2114" y="950"/>
                    </a:lnTo>
                    <a:lnTo>
                      <a:pt x="2130" y="934"/>
                    </a:lnTo>
                    <a:lnTo>
                      <a:pt x="2155" y="913"/>
                    </a:lnTo>
                    <a:lnTo>
                      <a:pt x="2176" y="896"/>
                    </a:lnTo>
                    <a:lnTo>
                      <a:pt x="2197" y="871"/>
                    </a:lnTo>
                    <a:lnTo>
                      <a:pt x="2222" y="850"/>
                    </a:lnTo>
                    <a:lnTo>
                      <a:pt x="2251" y="821"/>
                    </a:lnTo>
                    <a:lnTo>
                      <a:pt x="2284" y="796"/>
                    </a:lnTo>
                    <a:lnTo>
                      <a:pt x="2276" y="817"/>
                    </a:lnTo>
                    <a:lnTo>
                      <a:pt x="2272" y="838"/>
                    </a:lnTo>
                    <a:lnTo>
                      <a:pt x="2267" y="859"/>
                    </a:lnTo>
                    <a:lnTo>
                      <a:pt x="2263" y="884"/>
                    </a:lnTo>
                    <a:lnTo>
                      <a:pt x="2255" y="913"/>
                    </a:lnTo>
                    <a:lnTo>
                      <a:pt x="2251" y="938"/>
                    </a:lnTo>
                    <a:lnTo>
                      <a:pt x="2243" y="967"/>
                    </a:lnTo>
                    <a:lnTo>
                      <a:pt x="2234" y="996"/>
                    </a:lnTo>
                    <a:lnTo>
                      <a:pt x="2226" y="1025"/>
                    </a:lnTo>
                    <a:lnTo>
                      <a:pt x="2222" y="1050"/>
                    </a:lnTo>
                    <a:lnTo>
                      <a:pt x="2213" y="1080"/>
                    </a:lnTo>
                    <a:lnTo>
                      <a:pt x="2205" y="1105"/>
                    </a:lnTo>
                    <a:lnTo>
                      <a:pt x="2197" y="1130"/>
                    </a:lnTo>
                    <a:lnTo>
                      <a:pt x="2188" y="1155"/>
                    </a:lnTo>
                    <a:lnTo>
                      <a:pt x="2180" y="1175"/>
                    </a:lnTo>
                    <a:lnTo>
                      <a:pt x="2172" y="1196"/>
                    </a:lnTo>
                    <a:lnTo>
                      <a:pt x="2151" y="1209"/>
                    </a:lnTo>
                    <a:lnTo>
                      <a:pt x="2130" y="1225"/>
                    </a:lnTo>
                    <a:lnTo>
                      <a:pt x="2114" y="1238"/>
                    </a:lnTo>
                    <a:lnTo>
                      <a:pt x="2093" y="1250"/>
                    </a:lnTo>
                    <a:lnTo>
                      <a:pt x="2072" y="1263"/>
                    </a:lnTo>
                    <a:lnTo>
                      <a:pt x="2051" y="1280"/>
                    </a:lnTo>
                    <a:lnTo>
                      <a:pt x="2030" y="1288"/>
                    </a:lnTo>
                    <a:lnTo>
                      <a:pt x="2010" y="1300"/>
                    </a:lnTo>
                    <a:lnTo>
                      <a:pt x="1989" y="1317"/>
                    </a:lnTo>
                    <a:lnTo>
                      <a:pt x="1964" y="1330"/>
                    </a:lnTo>
                    <a:lnTo>
                      <a:pt x="1939" y="1342"/>
                    </a:lnTo>
                    <a:lnTo>
                      <a:pt x="1914" y="1355"/>
                    </a:lnTo>
                    <a:lnTo>
                      <a:pt x="1885" y="1371"/>
                    </a:lnTo>
                    <a:lnTo>
                      <a:pt x="1855" y="1384"/>
                    </a:lnTo>
                    <a:lnTo>
                      <a:pt x="1822" y="1400"/>
                    </a:lnTo>
                    <a:lnTo>
                      <a:pt x="1788" y="1417"/>
                    </a:lnTo>
                    <a:lnTo>
                      <a:pt x="1809" y="1413"/>
                    </a:lnTo>
                    <a:lnTo>
                      <a:pt x="1834" y="1409"/>
                    </a:lnTo>
                    <a:lnTo>
                      <a:pt x="1855" y="1409"/>
                    </a:lnTo>
                    <a:lnTo>
                      <a:pt x="1877" y="1405"/>
                    </a:lnTo>
                    <a:lnTo>
                      <a:pt x="1897" y="1400"/>
                    </a:lnTo>
                    <a:lnTo>
                      <a:pt x="1918" y="1396"/>
                    </a:lnTo>
                    <a:lnTo>
                      <a:pt x="1943" y="1392"/>
                    </a:lnTo>
                    <a:lnTo>
                      <a:pt x="1964" y="1388"/>
                    </a:lnTo>
                    <a:lnTo>
                      <a:pt x="1985" y="1384"/>
                    </a:lnTo>
                    <a:lnTo>
                      <a:pt x="2010" y="1380"/>
                    </a:lnTo>
                    <a:lnTo>
                      <a:pt x="2030" y="1375"/>
                    </a:lnTo>
                    <a:lnTo>
                      <a:pt x="2051" y="1367"/>
                    </a:lnTo>
                    <a:lnTo>
                      <a:pt x="2072" y="1363"/>
                    </a:lnTo>
                    <a:lnTo>
                      <a:pt x="2097" y="1359"/>
                    </a:lnTo>
                    <a:lnTo>
                      <a:pt x="2118" y="1350"/>
                    </a:lnTo>
                    <a:lnTo>
                      <a:pt x="2139" y="1342"/>
                    </a:lnTo>
                    <a:lnTo>
                      <a:pt x="2134" y="1367"/>
                    </a:lnTo>
                    <a:lnTo>
                      <a:pt x="2126" y="1392"/>
                    </a:lnTo>
                    <a:lnTo>
                      <a:pt x="2122" y="1417"/>
                    </a:lnTo>
                    <a:lnTo>
                      <a:pt x="2114" y="1442"/>
                    </a:lnTo>
                    <a:lnTo>
                      <a:pt x="2109" y="1463"/>
                    </a:lnTo>
                    <a:lnTo>
                      <a:pt x="2101" y="1488"/>
                    </a:lnTo>
                    <a:lnTo>
                      <a:pt x="2093" y="1513"/>
                    </a:lnTo>
                    <a:lnTo>
                      <a:pt x="2089" y="1538"/>
                    </a:lnTo>
                    <a:lnTo>
                      <a:pt x="2080" y="1563"/>
                    </a:lnTo>
                    <a:lnTo>
                      <a:pt x="2076" y="1588"/>
                    </a:lnTo>
                    <a:lnTo>
                      <a:pt x="2068" y="1613"/>
                    </a:lnTo>
                    <a:lnTo>
                      <a:pt x="2060" y="1638"/>
                    </a:lnTo>
                    <a:lnTo>
                      <a:pt x="2051" y="1659"/>
                    </a:lnTo>
                    <a:lnTo>
                      <a:pt x="2047" y="1684"/>
                    </a:lnTo>
                    <a:lnTo>
                      <a:pt x="2039" y="1709"/>
                    </a:lnTo>
                    <a:lnTo>
                      <a:pt x="2030" y="1734"/>
                    </a:lnTo>
                    <a:lnTo>
                      <a:pt x="1993" y="1742"/>
                    </a:lnTo>
                    <a:lnTo>
                      <a:pt x="1951" y="1755"/>
                    </a:lnTo>
                    <a:lnTo>
                      <a:pt x="1914" y="1767"/>
                    </a:lnTo>
                    <a:lnTo>
                      <a:pt x="1877" y="1780"/>
                    </a:lnTo>
                    <a:lnTo>
                      <a:pt x="1834" y="1788"/>
                    </a:lnTo>
                    <a:lnTo>
                      <a:pt x="1797" y="1796"/>
                    </a:lnTo>
                    <a:lnTo>
                      <a:pt x="1755" y="1800"/>
                    </a:lnTo>
                    <a:lnTo>
                      <a:pt x="1718" y="1809"/>
                    </a:lnTo>
                    <a:lnTo>
                      <a:pt x="1676" y="1813"/>
                    </a:lnTo>
                    <a:lnTo>
                      <a:pt x="1634" y="1817"/>
                    </a:lnTo>
                    <a:lnTo>
                      <a:pt x="1597" y="1817"/>
                    </a:lnTo>
                    <a:lnTo>
                      <a:pt x="1555" y="1817"/>
                    </a:lnTo>
                    <a:lnTo>
                      <a:pt x="1518" y="1817"/>
                    </a:lnTo>
                    <a:lnTo>
                      <a:pt x="1476" y="1813"/>
                    </a:lnTo>
                    <a:lnTo>
                      <a:pt x="1439" y="1809"/>
                    </a:lnTo>
                    <a:lnTo>
                      <a:pt x="1397" y="1805"/>
                    </a:lnTo>
                    <a:lnTo>
                      <a:pt x="1443" y="1842"/>
                    </a:lnTo>
                    <a:lnTo>
                      <a:pt x="1485" y="1875"/>
                    </a:lnTo>
                    <a:lnTo>
                      <a:pt x="1526" y="1900"/>
                    </a:lnTo>
                    <a:lnTo>
                      <a:pt x="1564" y="1921"/>
                    </a:lnTo>
                    <a:lnTo>
                      <a:pt x="1605" y="1942"/>
                    </a:lnTo>
                    <a:lnTo>
                      <a:pt x="1639" y="1955"/>
                    </a:lnTo>
                    <a:lnTo>
                      <a:pt x="1676" y="1967"/>
                    </a:lnTo>
                    <a:lnTo>
                      <a:pt x="1705" y="1975"/>
                    </a:lnTo>
                    <a:lnTo>
                      <a:pt x="1738" y="1980"/>
                    </a:lnTo>
                    <a:lnTo>
                      <a:pt x="1772" y="1984"/>
                    </a:lnTo>
                    <a:lnTo>
                      <a:pt x="1801" y="1984"/>
                    </a:lnTo>
                    <a:lnTo>
                      <a:pt x="1834" y="1984"/>
                    </a:lnTo>
                    <a:lnTo>
                      <a:pt x="1864" y="1984"/>
                    </a:lnTo>
                    <a:lnTo>
                      <a:pt x="1897" y="1984"/>
                    </a:lnTo>
                    <a:lnTo>
                      <a:pt x="1927" y="1984"/>
                    </a:lnTo>
                    <a:lnTo>
                      <a:pt x="1960" y="1984"/>
                    </a:lnTo>
                    <a:lnTo>
                      <a:pt x="1893" y="2034"/>
                    </a:lnTo>
                    <a:lnTo>
                      <a:pt x="1830" y="2075"/>
                    </a:lnTo>
                    <a:lnTo>
                      <a:pt x="1772" y="2109"/>
                    </a:lnTo>
                    <a:lnTo>
                      <a:pt x="1718" y="2138"/>
                    </a:lnTo>
                    <a:lnTo>
                      <a:pt x="1664" y="2159"/>
                    </a:lnTo>
                    <a:lnTo>
                      <a:pt x="1614" y="2175"/>
                    </a:lnTo>
                    <a:lnTo>
                      <a:pt x="1568" y="2188"/>
                    </a:lnTo>
                    <a:lnTo>
                      <a:pt x="1522" y="2200"/>
                    </a:lnTo>
                    <a:lnTo>
                      <a:pt x="1476" y="2209"/>
                    </a:lnTo>
                    <a:lnTo>
                      <a:pt x="1431" y="2218"/>
                    </a:lnTo>
                    <a:lnTo>
                      <a:pt x="1385" y="2226"/>
                    </a:lnTo>
                    <a:lnTo>
                      <a:pt x="1335" y="2235"/>
                    </a:lnTo>
                    <a:lnTo>
                      <a:pt x="1289" y="2247"/>
                    </a:lnTo>
                    <a:lnTo>
                      <a:pt x="1235" y="2264"/>
                    </a:lnTo>
                    <a:lnTo>
                      <a:pt x="1181" y="2285"/>
                    </a:lnTo>
                    <a:lnTo>
                      <a:pt x="1127" y="2310"/>
                    </a:lnTo>
                    <a:lnTo>
                      <a:pt x="1277" y="2422"/>
                    </a:lnTo>
                    <a:lnTo>
                      <a:pt x="936" y="2414"/>
                    </a:lnTo>
                    <a:lnTo>
                      <a:pt x="1156" y="2576"/>
                    </a:lnTo>
                    <a:lnTo>
                      <a:pt x="782" y="2522"/>
                    </a:lnTo>
                    <a:lnTo>
                      <a:pt x="903" y="2714"/>
                    </a:lnTo>
                    <a:lnTo>
                      <a:pt x="703" y="28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50000">
                    <a:srgbClr val="000000"/>
                  </a:gs>
                  <a:gs pos="100000">
                    <a:srgbClr val="cecece"/>
                  </a:gs>
                </a:gsLst>
                <a:lin ang="27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064280" y="3668760"/>
                <a:ext cx="286200" cy="179640"/>
              </a:xfrm>
              <a:custGeom>
                <a:avLst/>
                <a:gdLst/>
                <a:ahLst/>
                <a:rect l="0" t="0" r="r" b="b"/>
                <a:pathLst>
                  <a:path w="795" h="499">
                    <a:moveTo>
                      <a:pt x="525" y="499"/>
                    </a:moveTo>
                    <a:lnTo>
                      <a:pt x="795" y="440"/>
                    </a:lnTo>
                    <a:lnTo>
                      <a:pt x="615" y="180"/>
                    </a:lnTo>
                    <a:lnTo>
                      <a:pt x="567" y="171"/>
                    </a:lnTo>
                    <a:lnTo>
                      <a:pt x="530" y="163"/>
                    </a:lnTo>
                    <a:lnTo>
                      <a:pt x="488" y="150"/>
                    </a:lnTo>
                    <a:lnTo>
                      <a:pt x="450" y="142"/>
                    </a:lnTo>
                    <a:lnTo>
                      <a:pt x="416" y="133"/>
                    </a:lnTo>
                    <a:lnTo>
                      <a:pt x="378" y="125"/>
                    </a:lnTo>
                    <a:lnTo>
                      <a:pt x="341" y="117"/>
                    </a:lnTo>
                    <a:lnTo>
                      <a:pt x="307" y="108"/>
                    </a:lnTo>
                    <a:lnTo>
                      <a:pt x="269" y="96"/>
                    </a:lnTo>
                    <a:lnTo>
                      <a:pt x="236" y="83"/>
                    </a:lnTo>
                    <a:lnTo>
                      <a:pt x="197" y="75"/>
                    </a:lnTo>
                    <a:lnTo>
                      <a:pt x="163" y="58"/>
                    </a:lnTo>
                    <a:lnTo>
                      <a:pt x="121" y="46"/>
                    </a:lnTo>
                    <a:lnTo>
                      <a:pt x="83" y="33"/>
                    </a:lnTo>
                    <a:lnTo>
                      <a:pt x="41" y="16"/>
                    </a:lnTo>
                    <a:lnTo>
                      <a:pt x="0" y="0"/>
                    </a:lnTo>
                    <a:lnTo>
                      <a:pt x="180" y="499"/>
                    </a:lnTo>
                    <a:lnTo>
                      <a:pt x="163" y="423"/>
                    </a:lnTo>
                    <a:lnTo>
                      <a:pt x="167" y="361"/>
                    </a:lnTo>
                    <a:lnTo>
                      <a:pt x="184" y="306"/>
                    </a:lnTo>
                    <a:lnTo>
                      <a:pt x="215" y="268"/>
                    </a:lnTo>
                    <a:lnTo>
                      <a:pt x="257" y="238"/>
                    </a:lnTo>
                    <a:lnTo>
                      <a:pt x="303" y="221"/>
                    </a:lnTo>
                    <a:lnTo>
                      <a:pt x="353" y="217"/>
                    </a:lnTo>
                    <a:lnTo>
                      <a:pt x="404" y="217"/>
                    </a:lnTo>
                    <a:lnTo>
                      <a:pt x="454" y="230"/>
                    </a:lnTo>
                    <a:lnTo>
                      <a:pt x="500" y="252"/>
                    </a:lnTo>
                    <a:lnTo>
                      <a:pt x="538" y="277"/>
                    </a:lnTo>
                    <a:lnTo>
                      <a:pt x="567" y="310"/>
                    </a:lnTo>
                    <a:lnTo>
                      <a:pt x="580" y="348"/>
                    </a:lnTo>
                    <a:lnTo>
                      <a:pt x="580" y="394"/>
                    </a:lnTo>
                    <a:lnTo>
                      <a:pt x="563" y="444"/>
                    </a:lnTo>
                    <a:lnTo>
                      <a:pt x="525" y="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50000">
                    <a:srgbClr val="000000"/>
                  </a:gs>
                  <a:gs pos="100000">
                    <a:srgbClr val="cecece"/>
                  </a:gs>
                </a:gsLst>
                <a:lin ang="27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039080" y="3166920"/>
                <a:ext cx="771840" cy="495720"/>
              </a:xfrm>
              <a:custGeom>
                <a:avLst/>
                <a:gdLst/>
                <a:ahLst/>
                <a:rect l="0" t="0" r="r" b="b"/>
                <a:pathLst>
                  <a:path w="2144" h="1377">
                    <a:moveTo>
                      <a:pt x="1274" y="1162"/>
                    </a:moveTo>
                    <a:lnTo>
                      <a:pt x="1278" y="1138"/>
                    </a:lnTo>
                    <a:lnTo>
                      <a:pt x="1278" y="1121"/>
                    </a:lnTo>
                    <a:lnTo>
                      <a:pt x="1274" y="1101"/>
                    </a:lnTo>
                    <a:lnTo>
                      <a:pt x="1266" y="1084"/>
                    </a:lnTo>
                    <a:lnTo>
                      <a:pt x="1253" y="1067"/>
                    </a:lnTo>
                    <a:lnTo>
                      <a:pt x="1241" y="1051"/>
                    </a:lnTo>
                    <a:lnTo>
                      <a:pt x="1228" y="1039"/>
                    </a:lnTo>
                    <a:lnTo>
                      <a:pt x="1211" y="1025"/>
                    </a:lnTo>
                    <a:lnTo>
                      <a:pt x="1191" y="1017"/>
                    </a:lnTo>
                    <a:lnTo>
                      <a:pt x="1174" y="1009"/>
                    </a:lnTo>
                    <a:lnTo>
                      <a:pt x="1153" y="1000"/>
                    </a:lnTo>
                    <a:lnTo>
                      <a:pt x="1128" y="996"/>
                    </a:lnTo>
                    <a:lnTo>
                      <a:pt x="1107" y="992"/>
                    </a:lnTo>
                    <a:lnTo>
                      <a:pt x="1087" y="992"/>
                    </a:lnTo>
                    <a:lnTo>
                      <a:pt x="1065" y="996"/>
                    </a:lnTo>
                    <a:lnTo>
                      <a:pt x="1044" y="996"/>
                    </a:lnTo>
                    <a:lnTo>
                      <a:pt x="823" y="1039"/>
                    </a:lnTo>
                    <a:lnTo>
                      <a:pt x="853" y="1025"/>
                    </a:lnTo>
                    <a:lnTo>
                      <a:pt x="878" y="1009"/>
                    </a:lnTo>
                    <a:lnTo>
                      <a:pt x="894" y="996"/>
                    </a:lnTo>
                    <a:lnTo>
                      <a:pt x="907" y="980"/>
                    </a:lnTo>
                    <a:lnTo>
                      <a:pt x="915" y="967"/>
                    </a:lnTo>
                    <a:lnTo>
                      <a:pt x="919" y="955"/>
                    </a:lnTo>
                    <a:lnTo>
                      <a:pt x="915" y="943"/>
                    </a:lnTo>
                    <a:lnTo>
                      <a:pt x="907" y="934"/>
                    </a:lnTo>
                    <a:lnTo>
                      <a:pt x="898" y="922"/>
                    </a:lnTo>
                    <a:lnTo>
                      <a:pt x="882" y="914"/>
                    </a:lnTo>
                    <a:lnTo>
                      <a:pt x="865" y="905"/>
                    </a:lnTo>
                    <a:lnTo>
                      <a:pt x="840" y="901"/>
                    </a:lnTo>
                    <a:lnTo>
                      <a:pt x="815" y="893"/>
                    </a:lnTo>
                    <a:lnTo>
                      <a:pt x="786" y="889"/>
                    </a:lnTo>
                    <a:lnTo>
                      <a:pt x="757" y="885"/>
                    </a:lnTo>
                    <a:lnTo>
                      <a:pt x="724" y="885"/>
                    </a:lnTo>
                    <a:lnTo>
                      <a:pt x="690" y="885"/>
                    </a:lnTo>
                    <a:lnTo>
                      <a:pt x="653" y="885"/>
                    </a:lnTo>
                    <a:lnTo>
                      <a:pt x="611" y="889"/>
                    </a:lnTo>
                    <a:lnTo>
                      <a:pt x="574" y="889"/>
                    </a:lnTo>
                    <a:lnTo>
                      <a:pt x="532" y="897"/>
                    </a:lnTo>
                    <a:lnTo>
                      <a:pt x="495" y="905"/>
                    </a:lnTo>
                    <a:lnTo>
                      <a:pt x="453" y="914"/>
                    </a:lnTo>
                    <a:lnTo>
                      <a:pt x="411" y="922"/>
                    </a:lnTo>
                    <a:lnTo>
                      <a:pt x="370" y="938"/>
                    </a:lnTo>
                    <a:lnTo>
                      <a:pt x="328" y="951"/>
                    </a:lnTo>
                    <a:lnTo>
                      <a:pt x="291" y="971"/>
                    </a:lnTo>
                    <a:lnTo>
                      <a:pt x="249" y="988"/>
                    </a:lnTo>
                    <a:lnTo>
                      <a:pt x="216" y="1009"/>
                    </a:lnTo>
                    <a:lnTo>
                      <a:pt x="178" y="1034"/>
                    </a:lnTo>
                    <a:lnTo>
                      <a:pt x="145" y="1059"/>
                    </a:lnTo>
                    <a:lnTo>
                      <a:pt x="116" y="1088"/>
                    </a:lnTo>
                    <a:lnTo>
                      <a:pt x="62" y="1043"/>
                    </a:lnTo>
                    <a:lnTo>
                      <a:pt x="29" y="992"/>
                    </a:lnTo>
                    <a:lnTo>
                      <a:pt x="8" y="947"/>
                    </a:lnTo>
                    <a:lnTo>
                      <a:pt x="0" y="901"/>
                    </a:lnTo>
                    <a:lnTo>
                      <a:pt x="4" y="852"/>
                    </a:lnTo>
                    <a:lnTo>
                      <a:pt x="16" y="810"/>
                    </a:lnTo>
                    <a:lnTo>
                      <a:pt x="33" y="765"/>
                    </a:lnTo>
                    <a:lnTo>
                      <a:pt x="62" y="724"/>
                    </a:lnTo>
                    <a:lnTo>
                      <a:pt x="87" y="686"/>
                    </a:lnTo>
                    <a:lnTo>
                      <a:pt x="120" y="649"/>
                    </a:lnTo>
                    <a:lnTo>
                      <a:pt x="153" y="616"/>
                    </a:lnTo>
                    <a:lnTo>
                      <a:pt x="183" y="587"/>
                    </a:lnTo>
                    <a:lnTo>
                      <a:pt x="208" y="562"/>
                    </a:lnTo>
                    <a:lnTo>
                      <a:pt x="228" y="542"/>
                    </a:lnTo>
                    <a:lnTo>
                      <a:pt x="245" y="525"/>
                    </a:lnTo>
                    <a:lnTo>
                      <a:pt x="249" y="517"/>
                    </a:lnTo>
                    <a:lnTo>
                      <a:pt x="249" y="484"/>
                    </a:lnTo>
                    <a:lnTo>
                      <a:pt x="258" y="455"/>
                    </a:lnTo>
                    <a:lnTo>
                      <a:pt x="262" y="426"/>
                    </a:lnTo>
                    <a:lnTo>
                      <a:pt x="274" y="405"/>
                    </a:lnTo>
                    <a:lnTo>
                      <a:pt x="287" y="389"/>
                    </a:lnTo>
                    <a:lnTo>
                      <a:pt x="303" y="372"/>
                    </a:lnTo>
                    <a:lnTo>
                      <a:pt x="324" y="356"/>
                    </a:lnTo>
                    <a:lnTo>
                      <a:pt x="353" y="334"/>
                    </a:lnTo>
                    <a:lnTo>
                      <a:pt x="861" y="148"/>
                    </a:lnTo>
                    <a:lnTo>
                      <a:pt x="1166" y="74"/>
                    </a:lnTo>
                    <a:lnTo>
                      <a:pt x="1195" y="66"/>
                    </a:lnTo>
                    <a:lnTo>
                      <a:pt x="1220" y="57"/>
                    </a:lnTo>
                    <a:lnTo>
                      <a:pt x="1245" y="49"/>
                    </a:lnTo>
                    <a:lnTo>
                      <a:pt x="1266" y="41"/>
                    </a:lnTo>
                    <a:lnTo>
                      <a:pt x="1286" y="28"/>
                    </a:lnTo>
                    <a:lnTo>
                      <a:pt x="1303" y="20"/>
                    </a:lnTo>
                    <a:lnTo>
                      <a:pt x="1324" y="16"/>
                    </a:lnTo>
                    <a:lnTo>
                      <a:pt x="1340" y="8"/>
                    </a:lnTo>
                    <a:lnTo>
                      <a:pt x="1361" y="4"/>
                    </a:lnTo>
                    <a:lnTo>
                      <a:pt x="1382" y="0"/>
                    </a:lnTo>
                    <a:lnTo>
                      <a:pt x="1403" y="0"/>
                    </a:lnTo>
                    <a:lnTo>
                      <a:pt x="1424" y="0"/>
                    </a:lnTo>
                    <a:lnTo>
                      <a:pt x="1453" y="4"/>
                    </a:lnTo>
                    <a:lnTo>
                      <a:pt x="1478" y="12"/>
                    </a:lnTo>
                    <a:lnTo>
                      <a:pt x="1511" y="20"/>
                    </a:lnTo>
                    <a:lnTo>
                      <a:pt x="1549" y="33"/>
                    </a:lnTo>
                    <a:lnTo>
                      <a:pt x="1515" y="53"/>
                    </a:lnTo>
                    <a:lnTo>
                      <a:pt x="1490" y="61"/>
                    </a:lnTo>
                    <a:lnTo>
                      <a:pt x="1474" y="70"/>
                    </a:lnTo>
                    <a:lnTo>
                      <a:pt x="1457" y="74"/>
                    </a:lnTo>
                    <a:lnTo>
                      <a:pt x="1449" y="82"/>
                    </a:lnTo>
                    <a:lnTo>
                      <a:pt x="1432" y="95"/>
                    </a:lnTo>
                    <a:lnTo>
                      <a:pt x="1415" y="111"/>
                    </a:lnTo>
                    <a:lnTo>
                      <a:pt x="1390" y="140"/>
                    </a:lnTo>
                    <a:lnTo>
                      <a:pt x="1428" y="128"/>
                    </a:lnTo>
                    <a:lnTo>
                      <a:pt x="1469" y="119"/>
                    </a:lnTo>
                    <a:lnTo>
                      <a:pt x="1507" y="107"/>
                    </a:lnTo>
                    <a:lnTo>
                      <a:pt x="1549" y="95"/>
                    </a:lnTo>
                    <a:lnTo>
                      <a:pt x="1590" y="78"/>
                    </a:lnTo>
                    <a:lnTo>
                      <a:pt x="1628" y="61"/>
                    </a:lnTo>
                    <a:lnTo>
                      <a:pt x="1669" y="49"/>
                    </a:lnTo>
                    <a:lnTo>
                      <a:pt x="1711" y="37"/>
                    </a:lnTo>
                    <a:lnTo>
                      <a:pt x="1752" y="28"/>
                    </a:lnTo>
                    <a:lnTo>
                      <a:pt x="1794" y="20"/>
                    </a:lnTo>
                    <a:lnTo>
                      <a:pt x="1836" y="16"/>
                    </a:lnTo>
                    <a:lnTo>
                      <a:pt x="1877" y="20"/>
                    </a:lnTo>
                    <a:lnTo>
                      <a:pt x="1919" y="24"/>
                    </a:lnTo>
                    <a:lnTo>
                      <a:pt x="1961" y="37"/>
                    </a:lnTo>
                    <a:lnTo>
                      <a:pt x="2002" y="57"/>
                    </a:lnTo>
                    <a:lnTo>
                      <a:pt x="2044" y="82"/>
                    </a:lnTo>
                    <a:lnTo>
                      <a:pt x="2010" y="86"/>
                    </a:lnTo>
                    <a:lnTo>
                      <a:pt x="1981" y="99"/>
                    </a:lnTo>
                    <a:lnTo>
                      <a:pt x="1952" y="107"/>
                    </a:lnTo>
                    <a:lnTo>
                      <a:pt x="1927" y="119"/>
                    </a:lnTo>
                    <a:lnTo>
                      <a:pt x="1906" y="136"/>
                    </a:lnTo>
                    <a:lnTo>
                      <a:pt x="1886" y="148"/>
                    </a:lnTo>
                    <a:lnTo>
                      <a:pt x="1865" y="165"/>
                    </a:lnTo>
                    <a:lnTo>
                      <a:pt x="1848" y="181"/>
                    </a:lnTo>
                    <a:lnTo>
                      <a:pt x="1832" y="198"/>
                    </a:lnTo>
                    <a:lnTo>
                      <a:pt x="1815" y="218"/>
                    </a:lnTo>
                    <a:lnTo>
                      <a:pt x="1794" y="235"/>
                    </a:lnTo>
                    <a:lnTo>
                      <a:pt x="1777" y="256"/>
                    </a:lnTo>
                    <a:lnTo>
                      <a:pt x="1761" y="272"/>
                    </a:lnTo>
                    <a:lnTo>
                      <a:pt x="1736" y="293"/>
                    </a:lnTo>
                    <a:lnTo>
                      <a:pt x="1715" y="314"/>
                    </a:lnTo>
                    <a:lnTo>
                      <a:pt x="1690" y="330"/>
                    </a:lnTo>
                    <a:lnTo>
                      <a:pt x="1727" y="334"/>
                    </a:lnTo>
                    <a:lnTo>
                      <a:pt x="1761" y="338"/>
                    </a:lnTo>
                    <a:lnTo>
                      <a:pt x="1790" y="342"/>
                    </a:lnTo>
                    <a:lnTo>
                      <a:pt x="1819" y="338"/>
                    </a:lnTo>
                    <a:lnTo>
                      <a:pt x="1848" y="338"/>
                    </a:lnTo>
                    <a:lnTo>
                      <a:pt x="1873" y="338"/>
                    </a:lnTo>
                    <a:lnTo>
                      <a:pt x="1898" y="334"/>
                    </a:lnTo>
                    <a:lnTo>
                      <a:pt x="1923" y="334"/>
                    </a:lnTo>
                    <a:lnTo>
                      <a:pt x="1948" y="338"/>
                    </a:lnTo>
                    <a:lnTo>
                      <a:pt x="1973" y="342"/>
                    </a:lnTo>
                    <a:lnTo>
                      <a:pt x="1998" y="348"/>
                    </a:lnTo>
                    <a:lnTo>
                      <a:pt x="2023" y="356"/>
                    </a:lnTo>
                    <a:lnTo>
                      <a:pt x="2052" y="372"/>
                    </a:lnTo>
                    <a:lnTo>
                      <a:pt x="2077" y="389"/>
                    </a:lnTo>
                    <a:lnTo>
                      <a:pt x="2110" y="414"/>
                    </a:lnTo>
                    <a:lnTo>
                      <a:pt x="2144" y="443"/>
                    </a:lnTo>
                    <a:lnTo>
                      <a:pt x="2106" y="451"/>
                    </a:lnTo>
                    <a:lnTo>
                      <a:pt x="2073" y="467"/>
                    </a:lnTo>
                    <a:lnTo>
                      <a:pt x="2040" y="480"/>
                    </a:lnTo>
                    <a:lnTo>
                      <a:pt x="2015" y="492"/>
                    </a:lnTo>
                    <a:lnTo>
                      <a:pt x="1985" y="509"/>
                    </a:lnTo>
                    <a:lnTo>
                      <a:pt x="1965" y="521"/>
                    </a:lnTo>
                    <a:lnTo>
                      <a:pt x="1940" y="538"/>
                    </a:lnTo>
                    <a:lnTo>
                      <a:pt x="1923" y="550"/>
                    </a:lnTo>
                    <a:lnTo>
                      <a:pt x="1902" y="567"/>
                    </a:lnTo>
                    <a:lnTo>
                      <a:pt x="1881" y="579"/>
                    </a:lnTo>
                    <a:lnTo>
                      <a:pt x="1861" y="595"/>
                    </a:lnTo>
                    <a:lnTo>
                      <a:pt x="1840" y="608"/>
                    </a:lnTo>
                    <a:lnTo>
                      <a:pt x="1815" y="620"/>
                    </a:lnTo>
                    <a:lnTo>
                      <a:pt x="1794" y="633"/>
                    </a:lnTo>
                    <a:lnTo>
                      <a:pt x="1765" y="641"/>
                    </a:lnTo>
                    <a:lnTo>
                      <a:pt x="1736" y="649"/>
                    </a:lnTo>
                    <a:lnTo>
                      <a:pt x="1798" y="662"/>
                    </a:lnTo>
                    <a:lnTo>
                      <a:pt x="1844" y="678"/>
                    </a:lnTo>
                    <a:lnTo>
                      <a:pt x="1873" y="690"/>
                    </a:lnTo>
                    <a:lnTo>
                      <a:pt x="1898" y="711"/>
                    </a:lnTo>
                    <a:lnTo>
                      <a:pt x="1915" y="728"/>
                    </a:lnTo>
                    <a:lnTo>
                      <a:pt x="1931" y="744"/>
                    </a:lnTo>
                    <a:lnTo>
                      <a:pt x="1952" y="761"/>
                    </a:lnTo>
                    <a:lnTo>
                      <a:pt x="1981" y="777"/>
                    </a:lnTo>
                    <a:lnTo>
                      <a:pt x="1736" y="893"/>
                    </a:lnTo>
                    <a:lnTo>
                      <a:pt x="1757" y="1291"/>
                    </a:lnTo>
                    <a:lnTo>
                      <a:pt x="1628" y="1059"/>
                    </a:lnTo>
                    <a:lnTo>
                      <a:pt x="1557" y="1377"/>
                    </a:lnTo>
                    <a:lnTo>
                      <a:pt x="1524" y="1142"/>
                    </a:lnTo>
                    <a:lnTo>
                      <a:pt x="1357" y="1377"/>
                    </a:lnTo>
                    <a:lnTo>
                      <a:pt x="1357" y="1208"/>
                    </a:lnTo>
                    <a:lnTo>
                      <a:pt x="1199" y="1332"/>
                    </a:lnTo>
                    <a:lnTo>
                      <a:pt x="1274" y="11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50000">
                    <a:srgbClr val="000000"/>
                  </a:gs>
                  <a:gs pos="100000">
                    <a:srgbClr val="cecece"/>
                  </a:gs>
                </a:gsLst>
                <a:lin ang="27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470720" y="4057560"/>
                <a:ext cx="584640" cy="819360"/>
              </a:xfrm>
              <a:custGeom>
                <a:avLst/>
                <a:gdLst/>
                <a:ahLst/>
                <a:rect l="0" t="0" r="r" b="b"/>
                <a:pathLst>
                  <a:path w="1624" h="2276">
                    <a:moveTo>
                      <a:pt x="785" y="201"/>
                    </a:moveTo>
                    <a:lnTo>
                      <a:pt x="785" y="201"/>
                    </a:lnTo>
                    <a:lnTo>
                      <a:pt x="827" y="222"/>
                    </a:lnTo>
                    <a:lnTo>
                      <a:pt x="864" y="235"/>
                    </a:lnTo>
                    <a:lnTo>
                      <a:pt x="902" y="243"/>
                    </a:lnTo>
                    <a:lnTo>
                      <a:pt x="936" y="248"/>
                    </a:lnTo>
                    <a:lnTo>
                      <a:pt x="969" y="243"/>
                    </a:lnTo>
                    <a:lnTo>
                      <a:pt x="998" y="235"/>
                    </a:lnTo>
                    <a:lnTo>
                      <a:pt x="1028" y="222"/>
                    </a:lnTo>
                    <a:lnTo>
                      <a:pt x="1053" y="210"/>
                    </a:lnTo>
                    <a:lnTo>
                      <a:pt x="1074" y="189"/>
                    </a:lnTo>
                    <a:lnTo>
                      <a:pt x="1095" y="168"/>
                    </a:lnTo>
                    <a:lnTo>
                      <a:pt x="1116" y="147"/>
                    </a:lnTo>
                    <a:lnTo>
                      <a:pt x="1133" y="117"/>
                    </a:lnTo>
                    <a:lnTo>
                      <a:pt x="1145" y="92"/>
                    </a:lnTo>
                    <a:lnTo>
                      <a:pt x="1158" y="63"/>
                    </a:lnTo>
                    <a:lnTo>
                      <a:pt x="1170" y="29"/>
                    </a:lnTo>
                    <a:lnTo>
                      <a:pt x="1175" y="0"/>
                    </a:lnTo>
                    <a:lnTo>
                      <a:pt x="1212" y="25"/>
                    </a:lnTo>
                    <a:lnTo>
                      <a:pt x="1247" y="50"/>
                    </a:lnTo>
                    <a:lnTo>
                      <a:pt x="1280" y="75"/>
                    </a:lnTo>
                    <a:lnTo>
                      <a:pt x="1310" y="105"/>
                    </a:lnTo>
                    <a:lnTo>
                      <a:pt x="1339" y="134"/>
                    </a:lnTo>
                    <a:lnTo>
                      <a:pt x="1364" y="164"/>
                    </a:lnTo>
                    <a:lnTo>
                      <a:pt x="1394" y="193"/>
                    </a:lnTo>
                    <a:lnTo>
                      <a:pt x="1415" y="222"/>
                    </a:lnTo>
                    <a:lnTo>
                      <a:pt x="1440" y="256"/>
                    </a:lnTo>
                    <a:lnTo>
                      <a:pt x="1461" y="290"/>
                    </a:lnTo>
                    <a:lnTo>
                      <a:pt x="1478" y="323"/>
                    </a:lnTo>
                    <a:lnTo>
                      <a:pt x="1498" y="361"/>
                    </a:lnTo>
                    <a:lnTo>
                      <a:pt x="1515" y="395"/>
                    </a:lnTo>
                    <a:lnTo>
                      <a:pt x="1528" y="433"/>
                    </a:lnTo>
                    <a:lnTo>
                      <a:pt x="1545" y="471"/>
                    </a:lnTo>
                    <a:lnTo>
                      <a:pt x="1557" y="508"/>
                    </a:lnTo>
                    <a:lnTo>
                      <a:pt x="1566" y="546"/>
                    </a:lnTo>
                    <a:lnTo>
                      <a:pt x="1578" y="584"/>
                    </a:lnTo>
                    <a:lnTo>
                      <a:pt x="1587" y="626"/>
                    </a:lnTo>
                    <a:lnTo>
                      <a:pt x="1595" y="664"/>
                    </a:lnTo>
                    <a:lnTo>
                      <a:pt x="1599" y="706"/>
                    </a:lnTo>
                    <a:lnTo>
                      <a:pt x="1608" y="748"/>
                    </a:lnTo>
                    <a:lnTo>
                      <a:pt x="1612" y="790"/>
                    </a:lnTo>
                    <a:lnTo>
                      <a:pt x="1616" y="832"/>
                    </a:lnTo>
                    <a:lnTo>
                      <a:pt x="1616" y="874"/>
                    </a:lnTo>
                    <a:lnTo>
                      <a:pt x="1620" y="916"/>
                    </a:lnTo>
                    <a:lnTo>
                      <a:pt x="1620" y="958"/>
                    </a:lnTo>
                    <a:lnTo>
                      <a:pt x="1624" y="1001"/>
                    </a:lnTo>
                    <a:lnTo>
                      <a:pt x="1624" y="1043"/>
                    </a:lnTo>
                    <a:lnTo>
                      <a:pt x="1620" y="1085"/>
                    </a:lnTo>
                    <a:lnTo>
                      <a:pt x="1620" y="1131"/>
                    </a:lnTo>
                    <a:lnTo>
                      <a:pt x="1616" y="1174"/>
                    </a:lnTo>
                    <a:lnTo>
                      <a:pt x="1603" y="1118"/>
                    </a:lnTo>
                    <a:lnTo>
                      <a:pt x="1587" y="1068"/>
                    </a:lnTo>
                    <a:lnTo>
                      <a:pt x="1570" y="1013"/>
                    </a:lnTo>
                    <a:lnTo>
                      <a:pt x="1549" y="958"/>
                    </a:lnTo>
                    <a:lnTo>
                      <a:pt x="1532" y="904"/>
                    </a:lnTo>
                    <a:lnTo>
                      <a:pt x="1515" y="853"/>
                    </a:lnTo>
                    <a:lnTo>
                      <a:pt x="1494" y="799"/>
                    </a:lnTo>
                    <a:lnTo>
                      <a:pt x="1473" y="748"/>
                    </a:lnTo>
                    <a:lnTo>
                      <a:pt x="1452" y="698"/>
                    </a:lnTo>
                    <a:lnTo>
                      <a:pt x="1427" y="647"/>
                    </a:lnTo>
                    <a:lnTo>
                      <a:pt x="1402" y="601"/>
                    </a:lnTo>
                    <a:lnTo>
                      <a:pt x="1377" y="555"/>
                    </a:lnTo>
                    <a:lnTo>
                      <a:pt x="1348" y="508"/>
                    </a:lnTo>
                    <a:lnTo>
                      <a:pt x="1314" y="471"/>
                    </a:lnTo>
                    <a:lnTo>
                      <a:pt x="1280" y="429"/>
                    </a:lnTo>
                    <a:lnTo>
                      <a:pt x="1243" y="395"/>
                    </a:lnTo>
                    <a:lnTo>
                      <a:pt x="1255" y="441"/>
                    </a:lnTo>
                    <a:lnTo>
                      <a:pt x="1264" y="487"/>
                    </a:lnTo>
                    <a:lnTo>
                      <a:pt x="1268" y="529"/>
                    </a:lnTo>
                    <a:lnTo>
                      <a:pt x="1276" y="580"/>
                    </a:lnTo>
                    <a:lnTo>
                      <a:pt x="1280" y="626"/>
                    </a:lnTo>
                    <a:lnTo>
                      <a:pt x="1289" y="672"/>
                    </a:lnTo>
                    <a:lnTo>
                      <a:pt x="1293" y="719"/>
                    </a:lnTo>
                    <a:lnTo>
                      <a:pt x="1293" y="765"/>
                    </a:lnTo>
                    <a:lnTo>
                      <a:pt x="1297" y="815"/>
                    </a:lnTo>
                    <a:lnTo>
                      <a:pt x="1297" y="862"/>
                    </a:lnTo>
                    <a:lnTo>
                      <a:pt x="1297" y="908"/>
                    </a:lnTo>
                    <a:lnTo>
                      <a:pt x="1297" y="954"/>
                    </a:lnTo>
                    <a:lnTo>
                      <a:pt x="1293" y="1005"/>
                    </a:lnTo>
                    <a:lnTo>
                      <a:pt x="1289" y="1051"/>
                    </a:lnTo>
                    <a:lnTo>
                      <a:pt x="1285" y="1097"/>
                    </a:lnTo>
                    <a:lnTo>
                      <a:pt x="1280" y="1149"/>
                    </a:lnTo>
                    <a:lnTo>
                      <a:pt x="1276" y="1195"/>
                    </a:lnTo>
                    <a:lnTo>
                      <a:pt x="1268" y="1241"/>
                    </a:lnTo>
                    <a:lnTo>
                      <a:pt x="1255" y="1288"/>
                    </a:lnTo>
                    <a:lnTo>
                      <a:pt x="1247" y="1334"/>
                    </a:lnTo>
                    <a:lnTo>
                      <a:pt x="1234" y="1380"/>
                    </a:lnTo>
                    <a:lnTo>
                      <a:pt x="1222" y="1426"/>
                    </a:lnTo>
                    <a:lnTo>
                      <a:pt x="1208" y="1468"/>
                    </a:lnTo>
                    <a:lnTo>
                      <a:pt x="1191" y="1515"/>
                    </a:lnTo>
                    <a:lnTo>
                      <a:pt x="1175" y="1561"/>
                    </a:lnTo>
                    <a:lnTo>
                      <a:pt x="1154" y="1603"/>
                    </a:lnTo>
                    <a:lnTo>
                      <a:pt x="1137" y="1649"/>
                    </a:lnTo>
                    <a:lnTo>
                      <a:pt x="1116" y="1691"/>
                    </a:lnTo>
                    <a:lnTo>
                      <a:pt x="1091" y="1733"/>
                    </a:lnTo>
                    <a:lnTo>
                      <a:pt x="1066" y="1775"/>
                    </a:lnTo>
                    <a:lnTo>
                      <a:pt x="1040" y="1817"/>
                    </a:lnTo>
                    <a:lnTo>
                      <a:pt x="1015" y="1860"/>
                    </a:lnTo>
                    <a:lnTo>
                      <a:pt x="1024" y="1813"/>
                    </a:lnTo>
                    <a:lnTo>
                      <a:pt x="1028" y="1771"/>
                    </a:lnTo>
                    <a:lnTo>
                      <a:pt x="1036" y="1733"/>
                    </a:lnTo>
                    <a:lnTo>
                      <a:pt x="1045" y="1691"/>
                    </a:lnTo>
                    <a:lnTo>
                      <a:pt x="1053" y="1649"/>
                    </a:lnTo>
                    <a:lnTo>
                      <a:pt x="1061" y="1611"/>
                    </a:lnTo>
                    <a:lnTo>
                      <a:pt x="1070" y="1569"/>
                    </a:lnTo>
                    <a:lnTo>
                      <a:pt x="1078" y="1531"/>
                    </a:lnTo>
                    <a:lnTo>
                      <a:pt x="1082" y="1494"/>
                    </a:lnTo>
                    <a:lnTo>
                      <a:pt x="1091" y="1456"/>
                    </a:lnTo>
                    <a:lnTo>
                      <a:pt x="1099" y="1414"/>
                    </a:lnTo>
                    <a:lnTo>
                      <a:pt x="1103" y="1376"/>
                    </a:lnTo>
                    <a:lnTo>
                      <a:pt x="1112" y="1338"/>
                    </a:lnTo>
                    <a:lnTo>
                      <a:pt x="1116" y="1300"/>
                    </a:lnTo>
                    <a:lnTo>
                      <a:pt x="1120" y="1262"/>
                    </a:lnTo>
                    <a:lnTo>
                      <a:pt x="1120" y="1224"/>
                    </a:lnTo>
                    <a:lnTo>
                      <a:pt x="1124" y="1182"/>
                    </a:lnTo>
                    <a:lnTo>
                      <a:pt x="1128" y="1145"/>
                    </a:lnTo>
                    <a:lnTo>
                      <a:pt x="1128" y="1106"/>
                    </a:lnTo>
                    <a:lnTo>
                      <a:pt x="1124" y="1064"/>
                    </a:lnTo>
                    <a:lnTo>
                      <a:pt x="1124" y="1026"/>
                    </a:lnTo>
                    <a:lnTo>
                      <a:pt x="1120" y="984"/>
                    </a:lnTo>
                    <a:lnTo>
                      <a:pt x="1116" y="942"/>
                    </a:lnTo>
                    <a:lnTo>
                      <a:pt x="1108" y="900"/>
                    </a:lnTo>
                    <a:lnTo>
                      <a:pt x="1099" y="858"/>
                    </a:lnTo>
                    <a:lnTo>
                      <a:pt x="1091" y="811"/>
                    </a:lnTo>
                    <a:lnTo>
                      <a:pt x="1078" y="769"/>
                    </a:lnTo>
                    <a:lnTo>
                      <a:pt x="1066" y="723"/>
                    </a:lnTo>
                    <a:lnTo>
                      <a:pt x="1049" y="677"/>
                    </a:lnTo>
                    <a:lnTo>
                      <a:pt x="1032" y="626"/>
                    </a:lnTo>
                    <a:lnTo>
                      <a:pt x="1011" y="580"/>
                    </a:lnTo>
                    <a:lnTo>
                      <a:pt x="990" y="529"/>
                    </a:lnTo>
                    <a:lnTo>
                      <a:pt x="982" y="626"/>
                    </a:lnTo>
                    <a:lnTo>
                      <a:pt x="973" y="719"/>
                    </a:lnTo>
                    <a:lnTo>
                      <a:pt x="961" y="807"/>
                    </a:lnTo>
                    <a:lnTo>
                      <a:pt x="944" y="891"/>
                    </a:lnTo>
                    <a:lnTo>
                      <a:pt x="923" y="971"/>
                    </a:lnTo>
                    <a:lnTo>
                      <a:pt x="906" y="1051"/>
                    </a:lnTo>
                    <a:lnTo>
                      <a:pt x="885" y="1127"/>
                    </a:lnTo>
                    <a:lnTo>
                      <a:pt x="860" y="1203"/>
                    </a:lnTo>
                    <a:lnTo>
                      <a:pt x="835" y="1271"/>
                    </a:lnTo>
                    <a:lnTo>
                      <a:pt x="810" y="1338"/>
                    </a:lnTo>
                    <a:lnTo>
                      <a:pt x="780" y="1401"/>
                    </a:lnTo>
                    <a:lnTo>
                      <a:pt x="747" y="1460"/>
                    </a:lnTo>
                    <a:lnTo>
                      <a:pt x="718" y="1523"/>
                    </a:lnTo>
                    <a:lnTo>
                      <a:pt x="684" y="1578"/>
                    </a:lnTo>
                    <a:lnTo>
                      <a:pt x="650" y="1632"/>
                    </a:lnTo>
                    <a:lnTo>
                      <a:pt x="617" y="1683"/>
                    </a:lnTo>
                    <a:lnTo>
                      <a:pt x="579" y="1733"/>
                    </a:lnTo>
                    <a:lnTo>
                      <a:pt x="546" y="1780"/>
                    </a:lnTo>
                    <a:lnTo>
                      <a:pt x="508" y="1822"/>
                    </a:lnTo>
                    <a:lnTo>
                      <a:pt x="466" y="1868"/>
                    </a:lnTo>
                    <a:lnTo>
                      <a:pt x="428" y="1906"/>
                    </a:lnTo>
                    <a:lnTo>
                      <a:pt x="389" y="1948"/>
                    </a:lnTo>
                    <a:lnTo>
                      <a:pt x="352" y="1986"/>
                    </a:lnTo>
                    <a:lnTo>
                      <a:pt x="310" y="2024"/>
                    </a:lnTo>
                    <a:lnTo>
                      <a:pt x="272" y="2057"/>
                    </a:lnTo>
                    <a:lnTo>
                      <a:pt x="230" y="2091"/>
                    </a:lnTo>
                    <a:lnTo>
                      <a:pt x="192" y="2125"/>
                    </a:lnTo>
                    <a:lnTo>
                      <a:pt x="150" y="2158"/>
                    </a:lnTo>
                    <a:lnTo>
                      <a:pt x="113" y="2188"/>
                    </a:lnTo>
                    <a:lnTo>
                      <a:pt x="75" y="2217"/>
                    </a:lnTo>
                    <a:lnTo>
                      <a:pt x="37" y="2246"/>
                    </a:lnTo>
                    <a:lnTo>
                      <a:pt x="0" y="2276"/>
                    </a:lnTo>
                    <a:lnTo>
                      <a:pt x="67" y="2209"/>
                    </a:lnTo>
                    <a:lnTo>
                      <a:pt x="134" y="2141"/>
                    </a:lnTo>
                    <a:lnTo>
                      <a:pt x="197" y="2070"/>
                    </a:lnTo>
                    <a:lnTo>
                      <a:pt x="251" y="2003"/>
                    </a:lnTo>
                    <a:lnTo>
                      <a:pt x="306" y="1939"/>
                    </a:lnTo>
                    <a:lnTo>
                      <a:pt x="356" y="1872"/>
                    </a:lnTo>
                    <a:lnTo>
                      <a:pt x="402" y="1805"/>
                    </a:lnTo>
                    <a:lnTo>
                      <a:pt x="445" y="1738"/>
                    </a:lnTo>
                    <a:lnTo>
                      <a:pt x="487" y="1670"/>
                    </a:lnTo>
                    <a:lnTo>
                      <a:pt x="525" y="1603"/>
                    </a:lnTo>
                    <a:lnTo>
                      <a:pt x="562" y="1540"/>
                    </a:lnTo>
                    <a:lnTo>
                      <a:pt x="592" y="1473"/>
                    </a:lnTo>
                    <a:lnTo>
                      <a:pt x="621" y="1405"/>
                    </a:lnTo>
                    <a:lnTo>
                      <a:pt x="646" y="1342"/>
                    </a:lnTo>
                    <a:lnTo>
                      <a:pt x="671" y="1275"/>
                    </a:lnTo>
                    <a:lnTo>
                      <a:pt x="692" y="1212"/>
                    </a:lnTo>
                    <a:lnTo>
                      <a:pt x="709" y="1149"/>
                    </a:lnTo>
                    <a:lnTo>
                      <a:pt x="730" y="1080"/>
                    </a:lnTo>
                    <a:lnTo>
                      <a:pt x="743" y="1017"/>
                    </a:lnTo>
                    <a:lnTo>
                      <a:pt x="755" y="954"/>
                    </a:lnTo>
                    <a:lnTo>
                      <a:pt x="764" y="891"/>
                    </a:lnTo>
                    <a:lnTo>
                      <a:pt x="776" y="828"/>
                    </a:lnTo>
                    <a:lnTo>
                      <a:pt x="780" y="761"/>
                    </a:lnTo>
                    <a:lnTo>
                      <a:pt x="789" y="702"/>
                    </a:lnTo>
                    <a:lnTo>
                      <a:pt x="789" y="635"/>
                    </a:lnTo>
                    <a:lnTo>
                      <a:pt x="793" y="572"/>
                    </a:lnTo>
                    <a:lnTo>
                      <a:pt x="793" y="513"/>
                    </a:lnTo>
                    <a:lnTo>
                      <a:pt x="793" y="450"/>
                    </a:lnTo>
                    <a:lnTo>
                      <a:pt x="793" y="386"/>
                    </a:lnTo>
                    <a:lnTo>
                      <a:pt x="789" y="328"/>
                    </a:lnTo>
                    <a:lnTo>
                      <a:pt x="789" y="264"/>
                    </a:lnTo>
                    <a:lnTo>
                      <a:pt x="785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50000">
                    <a:srgbClr val="000000"/>
                  </a:gs>
                  <a:gs pos="100000">
                    <a:srgbClr val="cecece"/>
                  </a:gs>
                </a:gsLst>
                <a:lin ang="27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532560" y="1600200"/>
                <a:ext cx="1525680" cy="15256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50000">
                    <a:srgbClr val="000000"/>
                  </a:gs>
                  <a:gs pos="100000">
                    <a:srgbClr val="cecece"/>
                  </a:gs>
                </a:gsLst>
                <a:lin ang="27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599160" y="1673280"/>
                <a:ext cx="1392120" cy="1379520"/>
              </a:xfrm>
              <a:prstGeom prst="ellipse">
                <a:avLst/>
              </a:prstGeom>
              <a:gradFill rotWithShape="0">
                <a:gsLst>
                  <a:gs pos="0">
                    <a:srgbClr val="7f7fff"/>
                  </a:gs>
                  <a:gs pos="100000">
                    <a:srgbClr val="0000ff"/>
                  </a:gs>
                </a:gsLst>
                <a:lin ang="81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718320" y="1916280"/>
                <a:ext cx="1030680" cy="978120"/>
              </a:xfrm>
              <a:custGeom>
                <a:avLst/>
                <a:gdLst/>
                <a:ahLst/>
                <a:rect l="0" t="0" r="r" b="b"/>
                <a:pathLst>
                  <a:path w="2863" h="2717">
                    <a:moveTo>
                      <a:pt x="2630" y="2717"/>
                    </a:moveTo>
                    <a:lnTo>
                      <a:pt x="2417" y="2609"/>
                    </a:lnTo>
                    <a:lnTo>
                      <a:pt x="2405" y="2450"/>
                    </a:lnTo>
                    <a:lnTo>
                      <a:pt x="2313" y="2125"/>
                    </a:lnTo>
                    <a:lnTo>
                      <a:pt x="2329" y="2021"/>
                    </a:lnTo>
                    <a:lnTo>
                      <a:pt x="2242" y="1759"/>
                    </a:lnTo>
                    <a:lnTo>
                      <a:pt x="2132" y="1763"/>
                    </a:lnTo>
                    <a:lnTo>
                      <a:pt x="1970" y="1584"/>
                    </a:lnTo>
                    <a:lnTo>
                      <a:pt x="1999" y="1384"/>
                    </a:lnTo>
                    <a:lnTo>
                      <a:pt x="1857" y="1388"/>
                    </a:lnTo>
                    <a:lnTo>
                      <a:pt x="1824" y="1345"/>
                    </a:lnTo>
                    <a:lnTo>
                      <a:pt x="1703" y="1304"/>
                    </a:lnTo>
                    <a:lnTo>
                      <a:pt x="1477" y="1312"/>
                    </a:lnTo>
                    <a:lnTo>
                      <a:pt x="1394" y="1162"/>
                    </a:lnTo>
                    <a:lnTo>
                      <a:pt x="1265" y="1124"/>
                    </a:lnTo>
                    <a:lnTo>
                      <a:pt x="1373" y="1258"/>
                    </a:lnTo>
                    <a:lnTo>
                      <a:pt x="1181" y="1137"/>
                    </a:lnTo>
                    <a:lnTo>
                      <a:pt x="1006" y="995"/>
                    </a:lnTo>
                    <a:lnTo>
                      <a:pt x="985" y="758"/>
                    </a:lnTo>
                    <a:lnTo>
                      <a:pt x="814" y="679"/>
                    </a:lnTo>
                    <a:lnTo>
                      <a:pt x="684" y="541"/>
                    </a:lnTo>
                    <a:lnTo>
                      <a:pt x="383" y="508"/>
                    </a:lnTo>
                    <a:lnTo>
                      <a:pt x="333" y="612"/>
                    </a:lnTo>
                    <a:lnTo>
                      <a:pt x="387" y="624"/>
                    </a:lnTo>
                    <a:lnTo>
                      <a:pt x="229" y="770"/>
                    </a:lnTo>
                    <a:lnTo>
                      <a:pt x="271" y="654"/>
                    </a:lnTo>
                    <a:lnTo>
                      <a:pt x="229" y="687"/>
                    </a:lnTo>
                    <a:lnTo>
                      <a:pt x="95" y="612"/>
                    </a:lnTo>
                    <a:lnTo>
                      <a:pt x="179" y="458"/>
                    </a:lnTo>
                    <a:lnTo>
                      <a:pt x="179" y="433"/>
                    </a:lnTo>
                    <a:lnTo>
                      <a:pt x="91" y="495"/>
                    </a:lnTo>
                    <a:lnTo>
                      <a:pt x="112" y="383"/>
                    </a:lnTo>
                    <a:lnTo>
                      <a:pt x="0" y="287"/>
                    </a:lnTo>
                    <a:lnTo>
                      <a:pt x="166" y="104"/>
                    </a:lnTo>
                    <a:lnTo>
                      <a:pt x="550" y="141"/>
                    </a:lnTo>
                    <a:lnTo>
                      <a:pt x="680" y="12"/>
                    </a:lnTo>
                    <a:lnTo>
                      <a:pt x="922" y="37"/>
                    </a:lnTo>
                    <a:lnTo>
                      <a:pt x="1052" y="120"/>
                    </a:lnTo>
                    <a:lnTo>
                      <a:pt x="1031" y="0"/>
                    </a:lnTo>
                    <a:lnTo>
                      <a:pt x="1452" y="16"/>
                    </a:lnTo>
                    <a:lnTo>
                      <a:pt x="1431" y="145"/>
                    </a:lnTo>
                    <a:lnTo>
                      <a:pt x="1323" y="274"/>
                    </a:lnTo>
                    <a:lnTo>
                      <a:pt x="1502" y="395"/>
                    </a:lnTo>
                    <a:lnTo>
                      <a:pt x="1590" y="366"/>
                    </a:lnTo>
                    <a:lnTo>
                      <a:pt x="1673" y="491"/>
                    </a:lnTo>
                    <a:lnTo>
                      <a:pt x="1698" y="445"/>
                    </a:lnTo>
                    <a:lnTo>
                      <a:pt x="1661" y="379"/>
                    </a:lnTo>
                    <a:lnTo>
                      <a:pt x="1690" y="291"/>
                    </a:lnTo>
                    <a:lnTo>
                      <a:pt x="1598" y="104"/>
                    </a:lnTo>
                    <a:lnTo>
                      <a:pt x="1782" y="120"/>
                    </a:lnTo>
                    <a:lnTo>
                      <a:pt x="1836" y="183"/>
                    </a:lnTo>
                    <a:lnTo>
                      <a:pt x="1853" y="116"/>
                    </a:lnTo>
                    <a:lnTo>
                      <a:pt x="2082" y="308"/>
                    </a:lnTo>
                    <a:lnTo>
                      <a:pt x="2041" y="374"/>
                    </a:lnTo>
                    <a:lnTo>
                      <a:pt x="1936" y="391"/>
                    </a:lnTo>
                    <a:lnTo>
                      <a:pt x="1895" y="529"/>
                    </a:lnTo>
                    <a:lnTo>
                      <a:pt x="1978" y="449"/>
                    </a:lnTo>
                    <a:lnTo>
                      <a:pt x="2007" y="549"/>
                    </a:lnTo>
                    <a:lnTo>
                      <a:pt x="1828" y="774"/>
                    </a:lnTo>
                    <a:lnTo>
                      <a:pt x="1882" y="812"/>
                    </a:lnTo>
                    <a:lnTo>
                      <a:pt x="1807" y="945"/>
                    </a:lnTo>
                    <a:lnTo>
                      <a:pt x="1878" y="1066"/>
                    </a:lnTo>
                    <a:lnTo>
                      <a:pt x="1840" y="1104"/>
                    </a:lnTo>
                    <a:lnTo>
                      <a:pt x="1744" y="991"/>
                    </a:lnTo>
                    <a:lnTo>
                      <a:pt x="1536" y="1108"/>
                    </a:lnTo>
                    <a:lnTo>
                      <a:pt x="1619" y="1249"/>
                    </a:lnTo>
                    <a:lnTo>
                      <a:pt x="1707" y="1212"/>
                    </a:lnTo>
                    <a:lnTo>
                      <a:pt x="1732" y="1162"/>
                    </a:lnTo>
                    <a:lnTo>
                      <a:pt x="1778" y="1220"/>
                    </a:lnTo>
                    <a:lnTo>
                      <a:pt x="1857" y="1224"/>
                    </a:lnTo>
                    <a:lnTo>
                      <a:pt x="1886" y="1333"/>
                    </a:lnTo>
                    <a:lnTo>
                      <a:pt x="2003" y="1341"/>
                    </a:lnTo>
                    <a:lnTo>
                      <a:pt x="1995" y="1299"/>
                    </a:lnTo>
                    <a:lnTo>
                      <a:pt x="2082" y="1191"/>
                    </a:lnTo>
                    <a:lnTo>
                      <a:pt x="2213" y="1179"/>
                    </a:lnTo>
                    <a:lnTo>
                      <a:pt x="2521" y="1270"/>
                    </a:lnTo>
                    <a:lnTo>
                      <a:pt x="2484" y="1359"/>
                    </a:lnTo>
                    <a:lnTo>
                      <a:pt x="2592" y="1308"/>
                    </a:lnTo>
                    <a:lnTo>
                      <a:pt x="2863" y="1329"/>
                    </a:lnTo>
                    <a:lnTo>
                      <a:pt x="2838" y="1700"/>
                    </a:lnTo>
                    <a:lnTo>
                      <a:pt x="2717" y="1767"/>
                    </a:lnTo>
                    <a:lnTo>
                      <a:pt x="2676" y="2079"/>
                    </a:lnTo>
                    <a:lnTo>
                      <a:pt x="2580" y="2113"/>
                    </a:lnTo>
                    <a:lnTo>
                      <a:pt x="2651" y="2138"/>
                    </a:lnTo>
                    <a:lnTo>
                      <a:pt x="2609" y="2192"/>
                    </a:lnTo>
                    <a:lnTo>
                      <a:pt x="2551" y="2204"/>
                    </a:lnTo>
                    <a:lnTo>
                      <a:pt x="2517" y="2471"/>
                    </a:lnTo>
                    <a:lnTo>
                      <a:pt x="2567" y="2471"/>
                    </a:lnTo>
                    <a:lnTo>
                      <a:pt x="2525" y="2554"/>
                    </a:lnTo>
                    <a:lnTo>
                      <a:pt x="2630" y="27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180200" y="3319560"/>
                <a:ext cx="66960" cy="16200"/>
              </a:xfrm>
              <a:custGeom>
                <a:avLst/>
                <a:gdLst/>
                <a:ahLst/>
                <a:rect l="0" t="0" r="r" b="b"/>
                <a:pathLst>
                  <a:path w="186" h="45">
                    <a:moveTo>
                      <a:pt x="0" y="45"/>
                    </a:moveTo>
                    <a:lnTo>
                      <a:pt x="112" y="0"/>
                    </a:lnTo>
                    <a:lnTo>
                      <a:pt x="186" y="31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85000" y="1839960"/>
                <a:ext cx="49680" cy="49680"/>
              </a:xfrm>
              <a:custGeom>
                <a:avLst/>
                <a:gdLst/>
                <a:ahLst/>
                <a:rect l="0" t="0" r="r" b="b"/>
                <a:pathLst>
                  <a:path w="138" h="138">
                    <a:moveTo>
                      <a:pt x="28" y="0"/>
                    </a:moveTo>
                    <a:lnTo>
                      <a:pt x="0" y="138"/>
                    </a:lnTo>
                    <a:lnTo>
                      <a:pt x="138" y="138"/>
                    </a:lnTo>
                    <a:lnTo>
                      <a:pt x="2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785000" y="1839960"/>
                <a:ext cx="59040" cy="59040"/>
              </a:xfrm>
              <a:custGeom>
                <a:avLst/>
                <a:gdLst/>
                <a:ahLst/>
                <a:rect l="0" t="0" r="r" b="b"/>
                <a:pathLst>
                  <a:path w="164" h="164">
                    <a:moveTo>
                      <a:pt x="33" y="0"/>
                    </a:moveTo>
                    <a:lnTo>
                      <a:pt x="0" y="164"/>
                    </a:lnTo>
                    <a:lnTo>
                      <a:pt x="164" y="164"/>
                    </a:ln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50000">
                    <a:srgbClr val="000000"/>
                  </a:gs>
                  <a:gs pos="100000">
                    <a:srgbClr val="cecece"/>
                  </a:gs>
                </a:gsLst>
                <a:lin ang="270000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713720" y="1919160"/>
                <a:ext cx="309960" cy="456120"/>
              </a:xfrm>
              <a:custGeom>
                <a:avLst/>
                <a:gdLst/>
                <a:ahLst/>
                <a:rect l="0" t="0" r="r" b="b"/>
                <a:pathLst>
                  <a:path w="861" h="1267">
                    <a:moveTo>
                      <a:pt x="408" y="0"/>
                    </a:moveTo>
                    <a:lnTo>
                      <a:pt x="318" y="57"/>
                    </a:lnTo>
                    <a:lnTo>
                      <a:pt x="249" y="57"/>
                    </a:lnTo>
                    <a:lnTo>
                      <a:pt x="69" y="347"/>
                    </a:lnTo>
                    <a:lnTo>
                      <a:pt x="0" y="705"/>
                    </a:lnTo>
                    <a:lnTo>
                      <a:pt x="114" y="912"/>
                    </a:lnTo>
                    <a:lnTo>
                      <a:pt x="237" y="958"/>
                    </a:lnTo>
                    <a:lnTo>
                      <a:pt x="384" y="887"/>
                    </a:lnTo>
                    <a:lnTo>
                      <a:pt x="534" y="829"/>
                    </a:lnTo>
                    <a:lnTo>
                      <a:pt x="662" y="854"/>
                    </a:lnTo>
                    <a:lnTo>
                      <a:pt x="649" y="979"/>
                    </a:lnTo>
                    <a:lnTo>
                      <a:pt x="751" y="1049"/>
                    </a:lnTo>
                    <a:lnTo>
                      <a:pt x="817" y="1267"/>
                    </a:lnTo>
                    <a:lnTo>
                      <a:pt x="861" y="932"/>
                    </a:lnTo>
                    <a:lnTo>
                      <a:pt x="829" y="541"/>
                    </a:lnTo>
                    <a:lnTo>
                      <a:pt x="662" y="160"/>
                    </a:lnTo>
                    <a:lnTo>
                      <a:pt x="4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713720" y="1919160"/>
                <a:ext cx="319320" cy="465480"/>
              </a:xfrm>
              <a:custGeom>
                <a:avLst/>
                <a:gdLst/>
                <a:ahLst/>
                <a:rect l="0" t="0" r="r" b="b"/>
                <a:pathLst>
                  <a:path w="887" h="1293">
                    <a:moveTo>
                      <a:pt x="420" y="0"/>
                    </a:moveTo>
                    <a:lnTo>
                      <a:pt x="327" y="58"/>
                    </a:lnTo>
                    <a:lnTo>
                      <a:pt x="256" y="58"/>
                    </a:lnTo>
                    <a:lnTo>
                      <a:pt x="71" y="353"/>
                    </a:lnTo>
                    <a:lnTo>
                      <a:pt x="0" y="720"/>
                    </a:lnTo>
                    <a:lnTo>
                      <a:pt x="117" y="931"/>
                    </a:lnTo>
                    <a:lnTo>
                      <a:pt x="243" y="977"/>
                    </a:lnTo>
                    <a:lnTo>
                      <a:pt x="394" y="905"/>
                    </a:lnTo>
                    <a:lnTo>
                      <a:pt x="551" y="846"/>
                    </a:lnTo>
                    <a:lnTo>
                      <a:pt x="681" y="872"/>
                    </a:lnTo>
                    <a:lnTo>
                      <a:pt x="668" y="998"/>
                    </a:lnTo>
                    <a:lnTo>
                      <a:pt x="773" y="1069"/>
                    </a:lnTo>
                    <a:lnTo>
                      <a:pt x="841" y="1293"/>
                    </a:lnTo>
                    <a:lnTo>
                      <a:pt x="887" y="952"/>
                    </a:lnTo>
                    <a:lnTo>
                      <a:pt x="853" y="551"/>
                    </a:lnTo>
                    <a:lnTo>
                      <a:pt x="681" y="164"/>
                    </a:lnTo>
                    <a:lnTo>
                      <a:pt x="4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831000" y="2725560"/>
                <a:ext cx="324360" cy="257400"/>
              </a:xfrm>
              <a:custGeom>
                <a:avLst/>
                <a:gdLst/>
                <a:ahLst/>
                <a:rect l="0" t="0" r="r" b="b"/>
                <a:pathLst>
                  <a:path w="901" h="715">
                    <a:moveTo>
                      <a:pt x="0" y="488"/>
                    </a:moveTo>
                    <a:lnTo>
                      <a:pt x="126" y="316"/>
                    </a:lnTo>
                    <a:lnTo>
                      <a:pt x="171" y="125"/>
                    </a:lnTo>
                    <a:lnTo>
                      <a:pt x="216" y="158"/>
                    </a:lnTo>
                    <a:lnTo>
                      <a:pt x="242" y="32"/>
                    </a:lnTo>
                    <a:lnTo>
                      <a:pt x="356" y="24"/>
                    </a:lnTo>
                    <a:lnTo>
                      <a:pt x="401" y="113"/>
                    </a:lnTo>
                    <a:lnTo>
                      <a:pt x="524" y="158"/>
                    </a:lnTo>
                    <a:lnTo>
                      <a:pt x="536" y="0"/>
                    </a:lnTo>
                    <a:lnTo>
                      <a:pt x="593" y="44"/>
                    </a:lnTo>
                    <a:lnTo>
                      <a:pt x="742" y="227"/>
                    </a:lnTo>
                    <a:lnTo>
                      <a:pt x="901" y="362"/>
                    </a:lnTo>
                    <a:lnTo>
                      <a:pt x="881" y="508"/>
                    </a:lnTo>
                    <a:lnTo>
                      <a:pt x="811" y="634"/>
                    </a:lnTo>
                    <a:lnTo>
                      <a:pt x="675" y="678"/>
                    </a:lnTo>
                    <a:lnTo>
                      <a:pt x="606" y="634"/>
                    </a:lnTo>
                    <a:lnTo>
                      <a:pt x="606" y="557"/>
                    </a:lnTo>
                    <a:lnTo>
                      <a:pt x="561" y="589"/>
                    </a:lnTo>
                    <a:lnTo>
                      <a:pt x="458" y="577"/>
                    </a:lnTo>
                    <a:lnTo>
                      <a:pt x="332" y="670"/>
                    </a:lnTo>
                    <a:lnTo>
                      <a:pt x="262" y="715"/>
                    </a:lnTo>
                    <a:lnTo>
                      <a:pt x="0" y="4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831000" y="2725560"/>
                <a:ext cx="332280" cy="267120"/>
              </a:xfrm>
              <a:custGeom>
                <a:avLst/>
                <a:gdLst/>
                <a:ahLst/>
                <a:rect l="0" t="0" r="r" b="b"/>
                <a:pathLst>
                  <a:path w="923" h="742">
                    <a:moveTo>
                      <a:pt x="0" y="506"/>
                    </a:moveTo>
                    <a:lnTo>
                      <a:pt x="129" y="329"/>
                    </a:lnTo>
                    <a:lnTo>
                      <a:pt x="175" y="130"/>
                    </a:lnTo>
                    <a:lnTo>
                      <a:pt x="222" y="164"/>
                    </a:lnTo>
                    <a:lnTo>
                      <a:pt x="248" y="33"/>
                    </a:lnTo>
                    <a:lnTo>
                      <a:pt x="365" y="25"/>
                    </a:lnTo>
                    <a:lnTo>
                      <a:pt x="411" y="117"/>
                    </a:lnTo>
                    <a:lnTo>
                      <a:pt x="537" y="164"/>
                    </a:lnTo>
                    <a:lnTo>
                      <a:pt x="549" y="0"/>
                    </a:lnTo>
                    <a:lnTo>
                      <a:pt x="608" y="46"/>
                    </a:lnTo>
                    <a:lnTo>
                      <a:pt x="760" y="236"/>
                    </a:lnTo>
                    <a:lnTo>
                      <a:pt x="923" y="375"/>
                    </a:lnTo>
                    <a:lnTo>
                      <a:pt x="902" y="527"/>
                    </a:lnTo>
                    <a:lnTo>
                      <a:pt x="831" y="658"/>
                    </a:lnTo>
                    <a:lnTo>
                      <a:pt x="693" y="704"/>
                    </a:lnTo>
                    <a:lnTo>
                      <a:pt x="621" y="658"/>
                    </a:lnTo>
                    <a:lnTo>
                      <a:pt x="621" y="578"/>
                    </a:lnTo>
                    <a:lnTo>
                      <a:pt x="574" y="612"/>
                    </a:lnTo>
                    <a:lnTo>
                      <a:pt x="470" y="599"/>
                    </a:lnTo>
                    <a:lnTo>
                      <a:pt x="340" y="696"/>
                    </a:lnTo>
                    <a:lnTo>
                      <a:pt x="269" y="742"/>
                    </a:lnTo>
                    <a:lnTo>
                      <a:pt x="0" y="5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43720" y="2125800"/>
                <a:ext cx="146520" cy="519480"/>
              </a:xfrm>
              <a:custGeom>
                <a:avLst/>
                <a:gdLst/>
                <a:ahLst/>
                <a:rect l="0" t="0" r="r" b="b"/>
                <a:pathLst>
                  <a:path w="407" h="1443">
                    <a:moveTo>
                      <a:pt x="86" y="0"/>
                    </a:moveTo>
                    <a:lnTo>
                      <a:pt x="395" y="57"/>
                    </a:lnTo>
                    <a:lnTo>
                      <a:pt x="309" y="90"/>
                    </a:lnTo>
                    <a:lnTo>
                      <a:pt x="364" y="148"/>
                    </a:lnTo>
                    <a:lnTo>
                      <a:pt x="253" y="218"/>
                    </a:lnTo>
                    <a:lnTo>
                      <a:pt x="407" y="334"/>
                    </a:lnTo>
                    <a:lnTo>
                      <a:pt x="123" y="243"/>
                    </a:lnTo>
                    <a:lnTo>
                      <a:pt x="55" y="393"/>
                    </a:lnTo>
                    <a:lnTo>
                      <a:pt x="253" y="521"/>
                    </a:lnTo>
                    <a:lnTo>
                      <a:pt x="190" y="521"/>
                    </a:lnTo>
                    <a:lnTo>
                      <a:pt x="130" y="637"/>
                    </a:lnTo>
                    <a:lnTo>
                      <a:pt x="66" y="637"/>
                    </a:lnTo>
                    <a:lnTo>
                      <a:pt x="55" y="715"/>
                    </a:lnTo>
                    <a:lnTo>
                      <a:pt x="178" y="843"/>
                    </a:lnTo>
                    <a:lnTo>
                      <a:pt x="78" y="876"/>
                    </a:lnTo>
                    <a:lnTo>
                      <a:pt x="78" y="992"/>
                    </a:lnTo>
                    <a:lnTo>
                      <a:pt x="209" y="1121"/>
                    </a:lnTo>
                    <a:lnTo>
                      <a:pt x="209" y="1303"/>
                    </a:lnTo>
                    <a:lnTo>
                      <a:pt x="209" y="1307"/>
                    </a:lnTo>
                    <a:lnTo>
                      <a:pt x="209" y="1315"/>
                    </a:lnTo>
                    <a:lnTo>
                      <a:pt x="205" y="1320"/>
                    </a:lnTo>
                    <a:lnTo>
                      <a:pt x="205" y="1328"/>
                    </a:lnTo>
                    <a:lnTo>
                      <a:pt x="201" y="1336"/>
                    </a:lnTo>
                    <a:lnTo>
                      <a:pt x="201" y="1340"/>
                    </a:lnTo>
                    <a:lnTo>
                      <a:pt x="197" y="1348"/>
                    </a:lnTo>
                    <a:lnTo>
                      <a:pt x="197" y="1353"/>
                    </a:lnTo>
                    <a:lnTo>
                      <a:pt x="142" y="1443"/>
                    </a:lnTo>
                    <a:lnTo>
                      <a:pt x="11" y="1050"/>
                    </a:lnTo>
                    <a:lnTo>
                      <a:pt x="0" y="657"/>
                    </a:lnTo>
                    <a:lnTo>
                      <a:pt x="23" y="301"/>
                    </a:lnTo>
                    <a:lnTo>
                      <a:pt x="23" y="264"/>
                    </a:lnTo>
                    <a:lnTo>
                      <a:pt x="8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43720" y="2125800"/>
                <a:ext cx="155880" cy="527400"/>
              </a:xfrm>
              <a:custGeom>
                <a:avLst/>
                <a:gdLst/>
                <a:ahLst/>
                <a:rect l="0" t="0" r="r" b="b"/>
                <a:pathLst>
                  <a:path fill="none" w="433" h="1465">
                    <a:moveTo>
                      <a:pt x="92" y="0"/>
                    </a:moveTo>
                    <a:lnTo>
                      <a:pt x="420" y="58"/>
                    </a:lnTo>
                    <a:lnTo>
                      <a:pt x="328" y="92"/>
                    </a:lnTo>
                    <a:lnTo>
                      <a:pt x="387" y="151"/>
                    </a:lnTo>
                    <a:lnTo>
                      <a:pt x="269" y="222"/>
                    </a:lnTo>
                    <a:lnTo>
                      <a:pt x="433" y="339"/>
                    </a:lnTo>
                    <a:lnTo>
                      <a:pt x="130" y="247"/>
                    </a:lnTo>
                    <a:lnTo>
                      <a:pt x="58" y="398"/>
                    </a:lnTo>
                    <a:lnTo>
                      <a:pt x="269" y="528"/>
                    </a:lnTo>
                    <a:lnTo>
                      <a:pt x="201" y="528"/>
                    </a:lnTo>
                    <a:lnTo>
                      <a:pt x="138" y="646"/>
                    </a:lnTo>
                    <a:lnTo>
                      <a:pt x="71" y="646"/>
                    </a:lnTo>
                    <a:lnTo>
                      <a:pt x="58" y="725"/>
                    </a:lnTo>
                    <a:lnTo>
                      <a:pt x="188" y="856"/>
                    </a:lnTo>
                    <a:lnTo>
                      <a:pt x="83" y="890"/>
                    </a:lnTo>
                    <a:lnTo>
                      <a:pt x="83" y="1007"/>
                    </a:lnTo>
                    <a:lnTo>
                      <a:pt x="223" y="1137"/>
                    </a:lnTo>
                    <a:lnTo>
                      <a:pt x="223" y="1322"/>
                    </a:lnTo>
                    <a:lnTo>
                      <a:pt x="223" y="1326"/>
                    </a:lnTo>
                    <a:lnTo>
                      <a:pt x="223" y="1334"/>
                    </a:lnTo>
                    <a:lnTo>
                      <a:pt x="219" y="1339"/>
                    </a:lnTo>
                    <a:lnTo>
                      <a:pt x="219" y="1347"/>
                    </a:lnTo>
                    <a:lnTo>
                      <a:pt x="213" y="1355"/>
                    </a:lnTo>
                    <a:lnTo>
                      <a:pt x="213" y="1360"/>
                    </a:lnTo>
                    <a:lnTo>
                      <a:pt x="209" y="1368"/>
                    </a:lnTo>
                    <a:lnTo>
                      <a:pt x="209" y="1372"/>
                    </a:lnTo>
                    <a:lnTo>
                      <a:pt x="151" y="1465"/>
                    </a:lnTo>
                    <a:lnTo>
                      <a:pt x="12" y="1066"/>
                    </a:lnTo>
                    <a:lnTo>
                      <a:pt x="0" y="666"/>
                    </a:lnTo>
                    <a:lnTo>
                      <a:pt x="25" y="306"/>
                    </a:lnTo>
                    <a:lnTo>
                      <a:pt x="25" y="268"/>
                    </a:lnTo>
                    <a:lnTo>
                      <a:pt x="9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98600" y="12384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6d"/>
                </a:solidFill>
                <a:latin typeface="Times New Roman"/>
                <a:ea typeface="Times New Roman"/>
              </a:rPr>
              <a:t>An Innovative Rethink</a:t>
            </a:r>
            <a:br>
              <a:rPr sz="3600"/>
            </a:br>
            <a:r>
              <a:rPr b="1" lang="en-US" sz="3600" spc="-1" strike="noStrike">
                <a:solidFill>
                  <a:srgbClr val="00006d"/>
                </a:solidFill>
                <a:latin typeface="Times New Roman"/>
                <a:ea typeface="Times New Roman"/>
              </a:rPr>
              <a:t>of the SNA Client Paradig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3520" y="1387440"/>
            <a:ext cx="84661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ividual sessions handled by a centralized session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nections based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t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tlink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o distributed data independent of location or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bject-based connection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d administration and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es as both an emulation and an API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urns access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to access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848720" y="0"/>
            <a:ext cx="6681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98600" y="12384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6d"/>
                </a:solidFill>
                <a:latin typeface="Times New Roman"/>
                <a:ea typeface="Times New Roman"/>
              </a:rPr>
              <a:t>100% Windows 95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1387440"/>
            <a:ext cx="84661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veloped entirely in the Windows 95 and Windows NT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timized to take advantage of Microsoft’s latest operating system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tas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th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2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848720" y="0"/>
            <a:ext cx="6681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98600" y="12384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6d"/>
                </a:solidFill>
                <a:latin typeface="Times New Roman"/>
                <a:ea typeface="Times New Roman"/>
              </a:rPr>
              <a:t>Unprecedented</a:t>
            </a:r>
            <a:br>
              <a:rPr sz="3600"/>
            </a:br>
            <a:r>
              <a:rPr b="1" lang="en-US" sz="3600" spc="-1" strike="noStrike">
                <a:solidFill>
                  <a:srgbClr val="00006d"/>
                </a:solidFill>
                <a:latin typeface="Times New Roman"/>
                <a:ea typeface="Times New Roman"/>
              </a:rPr>
              <a:t>Automation Flex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3520" y="1387440"/>
            <a:ext cx="84661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LE 2.0 automation as server and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0% Visual Basic compatible scripting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2-bit WinHLL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ilt-in triggering and linking based on user actions, screen contents, or other Windows 95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848720" y="0"/>
            <a:ext cx="6681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007e7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98600" y="12384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6d"/>
                </a:solidFill>
                <a:latin typeface="Times New Roman"/>
                <a:ea typeface="Times New Roman"/>
              </a:rPr>
              <a:t>OLE 2.0 Auto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3520" y="1387440"/>
            <a:ext cx="85345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oenix is both an OLE 2.0 client and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ssions can be launched and information sought dynamically by other Windows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61800" y="0"/>
            <a:ext cx="8791560" cy="553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0" y="5429160"/>
            <a:ext cx="9131400" cy="1415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complete OLE 2.0 Client and Server support, Phoenix makes it easy to integrate SNA information with Windows 95 applications such as Microsoft Exc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2514600"/>
            <a:ext cx="4496040" cy="2362680"/>
          </a:xfrm>
          <a:custGeom>
            <a:avLst/>
            <a:gdLst/>
            <a:ahLst/>
            <a:rect l="0" t="0" r="r" b="b"/>
            <a:pathLst>
              <a:path w="12489" h="6563">
                <a:moveTo>
                  <a:pt x="0" y="4657"/>
                </a:moveTo>
                <a:lnTo>
                  <a:pt x="2751" y="0"/>
                </a:lnTo>
                <a:lnTo>
                  <a:pt x="2539" y="1906"/>
                </a:lnTo>
                <a:lnTo>
                  <a:pt x="3598" y="846"/>
                </a:lnTo>
                <a:lnTo>
                  <a:pt x="4868" y="423"/>
                </a:lnTo>
                <a:lnTo>
                  <a:pt x="5715" y="423"/>
                </a:lnTo>
                <a:lnTo>
                  <a:pt x="6774" y="635"/>
                </a:lnTo>
                <a:lnTo>
                  <a:pt x="7832" y="1058"/>
                </a:lnTo>
                <a:lnTo>
                  <a:pt x="8891" y="1906"/>
                </a:lnTo>
                <a:lnTo>
                  <a:pt x="9737" y="2752"/>
                </a:lnTo>
                <a:lnTo>
                  <a:pt x="9949" y="1058"/>
                </a:lnTo>
                <a:lnTo>
                  <a:pt x="12489" y="5293"/>
                </a:lnTo>
                <a:lnTo>
                  <a:pt x="7621" y="6563"/>
                </a:lnTo>
                <a:lnTo>
                  <a:pt x="8891" y="5082"/>
                </a:lnTo>
                <a:lnTo>
                  <a:pt x="7832" y="4234"/>
                </a:lnTo>
                <a:lnTo>
                  <a:pt x="6774" y="3811"/>
                </a:lnTo>
                <a:lnTo>
                  <a:pt x="5503" y="3811"/>
                </a:lnTo>
                <a:lnTo>
                  <a:pt x="4444" y="4022"/>
                </a:lnTo>
                <a:lnTo>
                  <a:pt x="3598" y="4657"/>
                </a:lnTo>
                <a:lnTo>
                  <a:pt x="5079" y="5717"/>
                </a:lnTo>
                <a:lnTo>
                  <a:pt x="0" y="4657"/>
                </a:lnTo>
                <a:close/>
              </a:path>
            </a:pathLst>
          </a:custGeom>
          <a:gradFill rotWithShape="0">
            <a:gsLst>
              <a:gs pos="0">
                <a:srgbClr val="b0001c"/>
              </a:gs>
              <a:gs pos="100000">
                <a:srgbClr val="fc0128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98600" y="12384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6d"/>
                </a:solidFill>
                <a:latin typeface="Times New Roman"/>
                <a:ea typeface="Times New Roman"/>
              </a:rPr>
              <a:t>100% Visual Basic</a:t>
            </a:r>
            <a:br>
              <a:rPr sz="3600"/>
            </a:br>
            <a:r>
              <a:rPr b="1" lang="en-US" sz="3600" spc="-1" strike="noStrike">
                <a:solidFill>
                  <a:srgbClr val="00006d"/>
                </a:solidFill>
                <a:latin typeface="Times New Roman"/>
                <a:ea typeface="Times New Roman"/>
              </a:rPr>
              <a:t>Compatible Scripting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3520" y="1387440"/>
            <a:ext cx="27432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oenix’s EiconScript Language is line-for-line cross-compatible with Microsoft’s Visual Basic and Visual Basic for Applications (VBA), making it easy to integrate with Microsoft Offic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27560" y="1252440"/>
            <a:ext cx="3906720" cy="3652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754520" y="2971800"/>
            <a:ext cx="4376880" cy="2800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848720" y="0"/>
            <a:ext cx="6681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98600" y="12384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6d"/>
                </a:solidFill>
                <a:latin typeface="Times New Roman"/>
                <a:ea typeface="Times New Roman"/>
              </a:rPr>
              <a:t>Triggering and L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387440"/>
            <a:ext cx="2590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indent="-1144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 Links and Triggered Links move old host screens into the realm of hypermedia.  Phoenix monitors the screen for information, launching events when certain information is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ing up a PROFS toolb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nk to a separate screen on another h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nd trouble tickets to administ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186000" y="1266840"/>
            <a:ext cx="5945040" cy="424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249800" y="2847960"/>
            <a:ext cx="4881600" cy="2133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848720" y="0"/>
            <a:ext cx="6681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98600" y="12384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6d"/>
                </a:solidFill>
                <a:latin typeface="Times New Roman"/>
                <a:ea typeface="Times New Roman"/>
              </a:rPr>
              <a:t>Intelligent, Dynamic</a:t>
            </a:r>
            <a:br>
              <a:rPr sz="3600"/>
            </a:br>
            <a:r>
              <a:rPr b="1" lang="en-US" sz="3600" spc="-1" strike="noStrike">
                <a:solidFill>
                  <a:srgbClr val="00006d"/>
                </a:solidFill>
                <a:latin typeface="Times New Roman"/>
                <a:ea typeface="Times New Roman"/>
              </a:rPr>
              <a:t>SNA Conne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3520" y="1387440"/>
            <a:ext cx="84661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ject-based communications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tinations, connection types, devices and protocols ensure easy configuration, sophisticated plug-and-play networking, and end-user ease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ynamic reconnection across alternat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ludes Eicon’s next-generation Desktop SNA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ktop Data Link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ktop AP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ktop 802.2 L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848720" y="0"/>
            <a:ext cx="6681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98600" y="12384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6d"/>
                </a:solidFill>
                <a:latin typeface="Times New Roman"/>
                <a:ea typeface="Times New Roman"/>
              </a:rPr>
              <a:t>Meticulously Designed</a:t>
            </a:r>
            <a:br>
              <a:rPr sz="3600"/>
            </a:br>
            <a:r>
              <a:rPr b="1" lang="en-US" sz="3600" spc="-1" strike="noStrike">
                <a:solidFill>
                  <a:srgbClr val="00006d"/>
                </a:solidFill>
                <a:latin typeface="Times New Roman"/>
                <a:ea typeface="Times New Roman"/>
              </a:rPr>
              <a:t>User Inte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520" y="1387440"/>
            <a:ext cx="84661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ilt-in help agents monitor user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fering help in cases of in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orting on connect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ing tours of dia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y customizable dis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lbars, text mapping, 3D “dialog box” mode, and much 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lti-session printer management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rtfolio-based file transf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ch, much mo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848720" y="0"/>
            <a:ext cx="66816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istair Croll, Eicon Technology</dc:creator>
  <dc:description/>
  <dc:language>en-US</dc:language>
  <cp:lastModifiedBy>Edward I. Jenny</cp:lastModifiedBy>
  <cp:revision>0</cp:revision>
  <dc:subject>Windows 95 demo CD-ROM</dc:subject>
  <dc:title>Phoenix AutoDemo</dc:title>
</cp:coreProperties>
</file>