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90360" y="6485040"/>
            <a:ext cx="2324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1994 Felsina Software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3556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Introducing A-Talk for Windows - Office 95 Ed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174840" y="6006960"/>
            <a:ext cx="3056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Felsina Software,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51240" y="2451240"/>
            <a:ext cx="4416480" cy="345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781280" y="1658880"/>
            <a:ext cx="5950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ess Esc to Exit At Any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ektronix 4014 Emu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416320" y="1901880"/>
            <a:ext cx="37512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ransfer Protoc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/Y/ZMOD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K-XMOD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MODEM-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 B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ODEM auto-download / auto-up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154400" y="2133720"/>
            <a:ext cx="362592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Phone Boo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52400" y="1808280"/>
            <a:ext cx="7772400" cy="42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-d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imited Phone Books of 60 Entries 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19320" y="1720800"/>
            <a:ext cx="485928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5800" y="3207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cript Edi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122480"/>
            <a:ext cx="777240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auto-login and unattended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s creating and debugging scripts a snap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dall C. Kennedy, Windows Sources, May 19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039760" y="2693880"/>
            <a:ext cx="51116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4152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pecial Offer: Free Test Dri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44400" y="2359080"/>
            <a:ext cx="8105760" cy="37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wnload from the Intern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 ftp.cica.indiana.edu, atalk95.z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: http://www.crl.com/~felsin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wnload from CompuServ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ATALK, Felsina Software Vendor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UGNET Third Party CD Sampler for Windows 9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18040" y="85680"/>
            <a:ext cx="371160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800" y="304920"/>
            <a:ext cx="7772400" cy="12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How to 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-Talk for Windows 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-Talk for Windows 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l, MIPS and PowerPC edition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-Talk for Windows 3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Users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1-800-300-18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llers: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1-213-669-1497, ext.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 1-213-669-189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54160"/>
            <a:ext cx="7772400" cy="14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elecommunications for Office and Windows 95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p into the Information Superhigh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s (Dow Jones, Dialog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Providers (CompuServe, GEnie, Delphi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Services (Official Airline Guide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ng the information to your Office 9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 the information with other Office  Compatible 95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35388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What Others S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239840"/>
            <a:ext cx="7772400" cy="48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all, A-Talk’s debut is impressiv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s support for Network DDE and MS Mail sets the package apart from the pack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dall C. Kennedy, Windows Sources, May 199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A-Talk includes a] rare and spectacular Tektronix graphics terminal emulation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’s also a bargain compared with the other packages reviewed her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nk J. Derfler, Jr. PC Magazine, March 14, 199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01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771480"/>
            <a:ext cx="777240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Look for the Special Offer at the End of this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6320" y="2627280"/>
            <a:ext cx="32497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18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A-Talk Integrates Online Services with Networking Produ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349360" y="2376360"/>
            <a:ext cx="610884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-Talk runs wi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for Workgroups 3.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3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-Talk integrates u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D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oolbar, Tooltips and Status B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220840"/>
            <a:ext cx="67564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487440"/>
            <a:ext cx="777240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Microsoft Mail Supp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73040" y="1206360"/>
            <a:ext cx="5842080" cy="2984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321080" y="1496880"/>
            <a:ext cx="3922560" cy="1898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284560" y="2651040"/>
            <a:ext cx="6448320" cy="3865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95360" y="4348080"/>
            <a:ext cx="1820880" cy="18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eive Host Mess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in to MS-M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ward Mess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15408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Live Data for Excel Cha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3446640"/>
            <a:ext cx="318456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 to Onlin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Liv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tlink Exc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60640" y="1192320"/>
            <a:ext cx="6870600" cy="1670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860640" y="2927520"/>
            <a:ext cx="47912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Terminal Emul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 VT2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 VT1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 VT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 AN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1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Serve VIDT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226040" y="2260440"/>
            <a:ext cx="31338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ward I. Jenny</cp:lastModifiedBy>
  <cp:revision>0</cp:revision>
  <dc:subject/>
  <dc:title>Slide Show for Microsoft Office Compatible CD</dc:title>
</cp:coreProperties>
</file>