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85800" y="6094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4800600"/>
            <a:ext cx="7467480" cy="29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ed by HALCYON, a leading financial analysis software developer providing analysis software for banks, government, business, consultants 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524400" y="1905120"/>
            <a:ext cx="23432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3520" y="85680"/>
            <a:ext cx="807732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rend Summary Analysis for Sample Retail</a:t>
            </a: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Processed 20-Apr-1995 for Income/Balance from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1-Dec-1990 to 31-Dec-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0880" y="1523880"/>
            <a:ext cx="838188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1-Dec-93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1-Dec-94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% Chg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Standard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Var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sset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ash and Equivalent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12,116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13,706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3.1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56,129          (42,423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ccounts Receivable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57,893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22,134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4.9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23,121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199,013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ventory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87,980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91,839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1.3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406,480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(114,641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ll Other Current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49,688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50,528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1.7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31,686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18,842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OTAL CURRENT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607,677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678,207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1.6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617,415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60,792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Fixed Assets (net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91,923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25,687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7.6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32,662           (6,976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tangibles (net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0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0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0.0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6,337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(6,337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ll Other Non-Current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1,303            1,407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8.0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47,981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(46,574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OTAL ASSET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800,903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905,301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3.0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904,395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Liabilitie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Notes Pay. - Short Term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16,475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09,691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80.0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63,859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45,832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urr. Matured LTD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44,421          45,070           1.5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29,875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15,195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ccounts Payable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28,747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30,113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4.8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17,689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87,576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come Taxes Payable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0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0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inf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2,716         (2,716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Other Current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33,493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38,171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4.0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55,223       (17,052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OTAL CURRENT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23,136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23,045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44.8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68,457       (45,412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Long Term Debt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71,928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74,977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4.2%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56,200     (181,223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Deferred Taxe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0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0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inf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2,716        (2,716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-----   etc   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09480" y="76320"/>
            <a:ext cx="79246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rends Narrative Report for Sample Retai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Processed on 21-Apr-1995 13:27 for Income/Balance dated 31-Dec-1990 to 31-Dec-199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1523880"/>
            <a:ext cx="7772400" cy="55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Sales growth over the last 5 years has been 7.5% per year.  Sales growth in the latest year was 8.3%.  Based on the Index of Sustainable Growth for the latest year, Sample Retail can maintain a growth rate of 7.0% pe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Based on this analysis, sales growth may not be sustainable.  To avoid cash shortage, improve sustainable growth by increasing Profit margin, decreasing Dividends, increasing Asset turnover,  or increasing leve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GROSS PROFIT MA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he Gross Profit Margin Average % of Sales over the last 5 years has been 154.7%, changing by 6.0% per year.  Gross Profit Margin % of Sales in the latest year was 8.7%.  The Retail industry standard for 14235 is 26.8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Gross Profit Margin is less than Industry Standard.  You just try and do something abou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Based on this analysis, the trend of Gross Profit Margin is impro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OPERATING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he Operating Expense Average % of Sales over the last 5 years has been 145.6%, changing by 7.0% per year.  Gross Profit Margin % of Sales in the latest year was 3.6%.  The industry standard is 24.7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ASH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he latest year Cash Flow from Operations is 110,455, changing by -8.4% pe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ash Flow from Operations is positive and improving.  Be sure it is sufficient to cover debt service (both principal and inter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-----   etc   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85800" y="3816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Direct Cash Flow for Sample Retai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Processed 21-Apr-1995 for Income/Balanc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from 31-Dec-1990 to 31-Dec-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1523880"/>
            <a:ext cx="77724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Period Ending: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1-Dec-91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1-Dec-92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1-Dec-93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31-Dec-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Sale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2,287,393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2,577,24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2,682,858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2,905,536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hange in Receivable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51,87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-883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-4,121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64,241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ASH FROM SALE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2,235,516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2,576,364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2,678,73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2,841,295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ost of Good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157,803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280,779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456,900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572,435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Decrease/(Increase) in Inventory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-1,49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26,804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17,750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-3,859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crease/(Decrease) in Payable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1,170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325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829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1,366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ASH PRODUCTION COSTS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158,129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307,258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473,821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574,928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GROSS CASH INCOME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1,077,38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1,269,106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1,204,916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1,266,36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ash Operating Expense  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-957,016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043,11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116,905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154,70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dj to Accrued Operating Exp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1,696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2,408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 2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NET CASH OPERATING EXPENSE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-955,320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040,709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116,903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1,154,6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Other Income/(Expense)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63,545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64,58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66,531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67,1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Decrease/(Increase) Other Curr Asst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-1,770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8,551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21,002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-8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crease/(Decrease) Other Curr Liab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94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193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1,571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terest Expense Paid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17,126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17,952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24,586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30,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come Taxes Paid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21,817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23,299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31,543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36,5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OTHER CASH ADJUSTMENT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-26,278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14,592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-29,833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-1,2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Net Cash Flow - Operations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95,789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213,805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58,180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110,4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-----   etc   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alyzes past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stablishes trend pattern for future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velops an Income Statement and Balance Sheet for 5 future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alyzes projecti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s Ratio Analysis, Cash Flow, and Summ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620120" y="76320"/>
            <a:ext cx="1419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848720" y="114480"/>
            <a:ext cx="1190520" cy="11811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073160" y="2795760"/>
            <a:ext cx="699768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1143000" y="150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 special selection of graphs provides a visual representation of your business. These graphs show the five year trend and compare your latest year to your industry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atio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Executive Summar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06360" y="2590920"/>
            <a:ext cx="133200" cy="1332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01960" y="2590920"/>
            <a:ext cx="133200" cy="1332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43560" y="2590920"/>
            <a:ext cx="133200" cy="13320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Now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al Offer $99.95 (normally $129.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more information cont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ALCYO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Halcyo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.O. Box 12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lly Beach, SC  294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r call:  803-588-3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848720" y="114480"/>
            <a:ext cx="1190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430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Profit’s complete financial analysis system you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tter understand your  business financials,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business risk  and increase your  prob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ccess. The profit of a business is an indicator of 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ancial  strength. However, coupled with a th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 the financials,  managers/owners can tur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w profit business into success or turn a high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siness into great riches. Comparing a compan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s industry norm  provides the means to recog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 solve problems or to find opportunities to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tilize available business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20120" y="114480"/>
            <a:ext cx="14191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Developed as a Microsoft Excel template, Profit retains the look and feel of Microsoft Office.  This means there is no learning curve for Profit, allowing the user to concentrate on the specific information a business person needs to analyze his/her busines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ffice provides the ability for Profit information to be ported to Microsoft Word for customizing repo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fit data can  also be used by Microsoft Excel to  generate virtually any graph desir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620120" y="114480"/>
            <a:ext cx="1419120" cy="1257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762120" y="228600"/>
            <a:ext cx="83692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Office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 &amp;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38080" y="18288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fit provides a complete analysis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siness, including a comparison of 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formance to other success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sinesses in the same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 Period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-Perio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620120" y="38160"/>
            <a:ext cx="14191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Perio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143000" y="152388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alyzes the current status of you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culates ratios, breakeven, capital requirements, bankruptcy indicator, cash market valuation and degree of operating leverage. Compares results to your industry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tes a narrative report that describes strengths and weaknesses and suggests improvement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772400" y="114480"/>
            <a:ext cx="12668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85800" y="8568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come Statement for Sample Retai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Processed on 12/31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1523880"/>
            <a:ext cx="7772400" cy="56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Period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Annualized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come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Gross Sales/Revenues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,112,090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,346,76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Less: Discounts and Returns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0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Net Sales/Revenues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,112,090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,346,7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Less: Cost of Goods Sold/Cost of Contracts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,073,644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,192,9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Gross Profit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,038,446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,153,8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Other Income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0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OTAL RECEIPTS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,038,446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1,153,8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Expenses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dvertising &amp; Promotions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20,948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23,2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Bad Debts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13,421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14,9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Bank Service Charges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0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ar &amp; Delivery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44,979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49,9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-----  etc  -----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480" y="2063880"/>
            <a:ext cx="13900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800" y="314280"/>
            <a:ext cx="777240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Operating Capital Analysis for Sample Retai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Processed 31-Dec-1995 for Income/Balance on 01-Sep-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52388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Sample Retail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Sales / Revenue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,112,090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2,112,0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ash &amp; Equivalents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8,679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32,2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ccts Recvble (net)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201,012 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70,6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ventory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241,929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233,2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ccts Pay (Trade)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26,423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67,5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Avg Sales/Day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5,787     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5,7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Cash On Hand / Average Day's Sales (days)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1.50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5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Receivables / Average Day's Sales  (days)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34.74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12.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Inventory / Average Day's Sales  (days)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41.81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40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Total Trading Cycle  (days)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78.05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58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Payables / Averages Day's Sales  (days)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4.57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11.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Net Cash Cycle  (days)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                      73.48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   46.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Operating Capital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 425,198    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  268,6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------   etc   ------</a:t>
            </a:r>
            <a:r>
              <a:rPr b="0" i="1" lang="en-US" sz="1400" spc="-1" strike="noStrike">
                <a:solidFill>
                  <a:srgbClr val="000000"/>
                </a:solidFill>
                <a:latin typeface="Abadi MT Condensed"/>
                <a:ea typeface="Abadi MT Condensed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0"/>
            <a:ext cx="7772400" cy="14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rrative Summary Report for Sample Retai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ed on 18-Apr-1995 10:58 for Income/Balance dated 01-Sep-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t Before Tax is 465.6% of the standard which is very good performance with respect to the standa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 Worth is 214.4% of the standard which is a very good position according to the standa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ing Capital is 175.9% of the standard which is a poor position according to the standa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rovement may be obtained by concentrating on the follow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 Cash is 26.9% of the standard.  This may indicate a lack of liquid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 Accounts Receivable is 284.5% of the standard.  This may indicate a need for improved Receivables manag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 Inventory is 103.7% of the standard.  This may indicate a need for improved Inventory manag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 Accounts Payable is 39.1% of the standard.  This may indicate a need for improved Accounts Payable manag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-----   etc   -----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period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reads your financial statements for multiple years and compares latest year to your industry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tes a Cash Flow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nerates a narrative  that  describes strengths and weaknesses and suggests strategies for improvemen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848720" y="114480"/>
            <a:ext cx="1190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rry Brinson</dc:creator>
  <dc:description/>
  <dc:language>en-US</dc:language>
  <cp:lastModifiedBy>Jim Conner</cp:lastModifiedBy>
  <cp:revision>0</cp:revision>
  <dc:subject/>
  <dc:title>Profit</dc:title>
</cp:coreProperties>
</file>