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0"/>
            <a:ext cx="9120240" cy="68436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38080" y="685800"/>
            <a:ext cx="7391520" cy="6095880"/>
          </a:xfrm>
          <a:prstGeom prst="rect">
            <a:avLst/>
          </a:prstGeom>
          <a:solidFill>
            <a:srgbClr val="9234db"/>
          </a:solidFill>
          <a:ln w="25560">
            <a:solidFill>
              <a:srgbClr val="9234d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8280" y="914400"/>
            <a:ext cx="469800" cy="4952880"/>
          </a:xfrm>
          <a:prstGeom prst="rect">
            <a:avLst/>
          </a:prstGeom>
          <a:solidFill>
            <a:srgbClr val="9234db"/>
          </a:solidFill>
          <a:ln w="12600">
            <a:solidFill>
              <a:srgbClr val="9234d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242200" y="901800"/>
            <a:ext cx="444600" cy="5041800"/>
          </a:xfrm>
          <a:prstGeom prst="rect">
            <a:avLst/>
          </a:prstGeom>
          <a:solidFill>
            <a:srgbClr val="9234db"/>
          </a:solidFill>
          <a:ln w="12600">
            <a:solidFill>
              <a:srgbClr val="9234d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 flipV="1">
            <a:off x="1135080" y="1616040"/>
            <a:ext cx="7256520" cy="3240"/>
          </a:xfrm>
          <a:prstGeom prst="line">
            <a:avLst/>
          </a:prstGeom>
          <a:ln w="76320">
            <a:solidFill>
              <a:srgbClr val="ffe4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79920" bIns="-79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7621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e477"/>
                </a:solidFill>
                <a:latin typeface="Arial"/>
                <a:ea typeface="Arial"/>
              </a:rPr>
              <a:t>    </a:t>
            </a:r>
            <a:r>
              <a:rPr b="1" lang="en-US" sz="3600" spc="-1" strike="noStrike">
                <a:solidFill>
                  <a:srgbClr val="ffe477"/>
                </a:solidFill>
                <a:latin typeface="Arial"/>
                <a:ea typeface="Arial"/>
              </a:rPr>
              <a:t>WANT TO TAKE ON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82720" y="3429000"/>
            <a:ext cx="7378560" cy="28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3c0023"/>
                </a:solidFill>
                <a:latin typeface="Arial"/>
                <a:ea typeface="Arial"/>
              </a:rPr>
              <a:t>Intergraph Software Solutions</a:t>
            </a:r>
            <a:br>
              <a:rPr sz="2800"/>
            </a:br>
            <a:r>
              <a:rPr b="1" lang="en-US" sz="2800" spc="-1" strike="noStrike">
                <a:solidFill>
                  <a:srgbClr val="3c0023"/>
                </a:solidFill>
                <a:latin typeface="Arial"/>
                <a:ea typeface="Arial"/>
              </a:rPr>
              <a:t>present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br>
              <a:rPr sz="2800"/>
            </a:br>
            <a:r>
              <a:rPr b="1" lang="en-US" sz="4800" spc="-1" strike="noStrike">
                <a:solidFill>
                  <a:srgbClr val="3c0023"/>
                </a:solidFill>
                <a:latin typeface="Century Schoolbook"/>
                <a:ea typeface="Century Schoolbook"/>
              </a:rPr>
              <a:t>T</a:t>
            </a:r>
            <a:r>
              <a:rPr b="1" lang="en-US" sz="3600" spc="-1" strike="noStrike">
                <a:solidFill>
                  <a:srgbClr val="3c0023"/>
                </a:solidFill>
                <a:latin typeface="Century Schoolbook"/>
                <a:ea typeface="Century Schoolbook"/>
              </a:rPr>
              <a:t>RANSCEN</a:t>
            </a:r>
            <a:r>
              <a:rPr b="1" lang="en-US" sz="4800" spc="-1" strike="noStrike">
                <a:solidFill>
                  <a:srgbClr val="3c0023"/>
                </a:solidFill>
                <a:latin typeface="Century Schoolbook"/>
                <a:ea typeface="Century Schoolbook"/>
              </a:rPr>
              <a:t>D</a:t>
            </a:r>
            <a:br>
              <a:rPr sz="1800"/>
            </a:br>
            <a:r>
              <a:rPr b="1" lang="en-US" sz="2800" spc="-1" strike="noStrike">
                <a:solidFill>
                  <a:srgbClr val="fc0128"/>
                </a:solidFill>
                <a:latin typeface="Arial Narrow"/>
                <a:ea typeface="Arial Narrow"/>
              </a:rPr>
              <a:t>Natural Language Trans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38320" y="981000"/>
            <a:ext cx="7310520" cy="6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ranscend Meri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943280"/>
            <a:ext cx="76150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mithsonian-Computerworld Award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nomination for outstanding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Used by nationally known on-line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for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Robust, mature translatio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Highest quality linguistic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Uses the same translation engine as the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higher priced 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Already translating documents for many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corporations world-w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998720"/>
            <a:ext cx="9144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3840" y="2006640"/>
            <a:ext cx="8242200" cy="4618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130400" y="587520"/>
            <a:ext cx="776772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ranscend Makes it Eas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600" y="5956200"/>
            <a:ext cx="9118440" cy="888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with </a:t>
            </a:r>
            <a:r>
              <a:rPr b="1" i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full integration in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 Microsoft Word </a:t>
            </a:r>
            <a:br>
              <a:rPr sz="2600"/>
            </a:br>
            <a:r>
              <a:rPr b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and easy dictionary update faci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41920" y="1778040"/>
            <a:ext cx="21956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Preserves Document Forma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9640" y="1968480"/>
            <a:ext cx="7378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71680" indent="-457200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For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i="1" lang="en-US" sz="3000" spc="-1" strike="noStrike">
                <a:solidFill>
                  <a:srgbClr val="ffe477"/>
                </a:solidFill>
                <a:latin typeface="Arial"/>
                <a:ea typeface="Arial"/>
              </a:rPr>
              <a:t>Microsoft Word</a:t>
            </a:r>
            <a:br>
              <a:rPr sz="3000"/>
            </a:br>
            <a:r>
              <a:rPr b="1" i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and others, including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457200">
              <a:lnSpc>
                <a:spcPct val="90000"/>
              </a:lnSpc>
              <a:spcBef>
                <a:spcPts val="720"/>
              </a:spcBef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Microsoft WinHelp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InterLeaf</a:t>
            </a: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FrameMaker</a:t>
            </a:r>
            <a:r>
              <a:rPr b="1" lang="en-US" sz="26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QuarkXPress</a:t>
            </a: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WordPerfect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GML</a:t>
            </a: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PageMaker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AmiPro</a:t>
            </a: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DOS ASCII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AN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4572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07080" y="1960560"/>
            <a:ext cx="10620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Language Direction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646600" y="838080"/>
            <a:ext cx="2519280" cy="60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882720" y="2133720"/>
            <a:ext cx="7378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pa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  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  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G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  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Italia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"/>
              <a:tabLst>
                <a:tab algn="l" pos="1257480"/>
              </a:tabLst>
            </a:pPr>
            <a:r>
              <a:rPr b="1" lang="en-US" sz="3000" spc="-1" strike="noStrike">
                <a:solidFill>
                  <a:srgbClr val="ffe477"/>
                </a:solidFill>
                <a:latin typeface="Arial"/>
                <a:ea typeface="Arial"/>
              </a:rPr>
              <a:t>Bi-directional Packs Available Too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2133720"/>
            <a:ext cx="41911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  <a:tab algn="l" pos="166356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panish 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  <a:tab algn="l" pos="166356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French   to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  <a:tab algn="l" pos="166356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German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100000"/>
              </a:lnSpc>
              <a:spcBef>
                <a:spcPts val="720"/>
              </a:spcBef>
              <a:buClr>
                <a:srgbClr val="d49fff"/>
              </a:buClr>
              <a:buFont typeface="ZapfDingbats"/>
              <a:buChar char="l"/>
              <a:tabLst>
                <a:tab algn="l" pos="1257480"/>
                <a:tab algn="l" pos="1663560"/>
              </a:tabLs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nglish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o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Portugu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e477"/>
                </a:solidFill>
                <a:latin typeface="Arial"/>
                <a:ea typeface="Arial"/>
              </a:rPr>
              <a:t>Come 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82720" y="2654280"/>
            <a:ext cx="737856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Transcend the Language Barrier</a:t>
            </a:r>
            <a:br>
              <a:rPr sz="3200"/>
            </a:br>
            <a:r>
              <a:rPr b="1" i="1" lang="en-US" sz="2800" spc="-1" strike="noStrike">
                <a:solidFill>
                  <a:srgbClr val="ffe477"/>
                </a:solidFill>
                <a:latin typeface="Wingdings"/>
                <a:ea typeface="Wingdings"/>
              </a:rPr>
              <a:t>&amp;</a:t>
            </a:r>
            <a:r>
              <a:rPr b="1" i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Take on the World! </a:t>
            </a:r>
            <a:br>
              <a:rPr sz="1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800" spc="-1" strike="noStrike">
                <a:solidFill>
                  <a:srgbClr val="fc0000"/>
                </a:solidFill>
                <a:latin typeface="Arial"/>
                <a:ea typeface="Arial"/>
              </a:rPr>
              <a:t>with</a:t>
            </a:r>
            <a:r>
              <a:rPr b="1" lang="en-US" sz="3600" spc="-1" strike="noStrike">
                <a:solidFill>
                  <a:srgbClr val="fc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US" sz="6000" spc="-1" strike="noStrike">
                <a:solidFill>
                  <a:srgbClr val="fc0000"/>
                </a:solidFill>
                <a:latin typeface="Century Schoolbook"/>
                <a:ea typeface="Century Schoolbook"/>
              </a:rPr>
              <a:t>T</a:t>
            </a:r>
            <a:r>
              <a:rPr b="1" lang="en-US" sz="4800" spc="-1" strike="noStrike">
                <a:solidFill>
                  <a:srgbClr val="fc0000"/>
                </a:solidFill>
                <a:latin typeface="Century Schoolbook"/>
                <a:ea typeface="Century Schoolbook"/>
              </a:rPr>
              <a:t>RANSCEN</a:t>
            </a:r>
            <a:r>
              <a:rPr b="1" lang="en-US" sz="6000" spc="-1" strike="noStrike">
                <a:solidFill>
                  <a:srgbClr val="fc0000"/>
                </a:solidFill>
                <a:latin typeface="Century Schoolbook"/>
                <a:ea typeface="Century Schoolbook"/>
              </a:rPr>
              <a:t>D</a:t>
            </a:r>
            <a:r>
              <a:rPr b="1" lang="en-US" sz="36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32120" y="1905120"/>
            <a:ext cx="7113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117440" y="1905120"/>
            <a:ext cx="71136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784680" y="1905120"/>
            <a:ext cx="749160" cy="461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751360" y="1905120"/>
            <a:ext cx="68724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518240" y="1892160"/>
            <a:ext cx="65412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1965240" y="1905120"/>
            <a:ext cx="70164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6616800" y="1905120"/>
            <a:ext cx="736560" cy="43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4788000" y="1905120"/>
            <a:ext cx="73656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5753160" y="5918040"/>
            <a:ext cx="73188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2819520" y="5938920"/>
            <a:ext cx="781200" cy="46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4800600" y="5918040"/>
            <a:ext cx="658800" cy="469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092240" y="5918040"/>
            <a:ext cx="711360" cy="444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1943280" y="5918040"/>
            <a:ext cx="719280" cy="46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6616800" y="5905440"/>
            <a:ext cx="671400" cy="436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5"/>
          <a:stretch/>
        </p:blipFill>
        <p:spPr>
          <a:xfrm>
            <a:off x="7518240" y="5905440"/>
            <a:ext cx="484200" cy="444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6"/>
          <a:stretch/>
        </p:blipFill>
        <p:spPr>
          <a:xfrm>
            <a:off x="3759120" y="5918040"/>
            <a:ext cx="78732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40160" y="1905120"/>
            <a:ext cx="5918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US and Canada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1-800-222-924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Canada Direct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1-403-569-55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Mexico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5-25-207-526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Brazil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55-11-887-5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Worldwide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1-205-730-98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61"/>
              </a:spcBef>
              <a:tabLst>
                <a:tab algn="ctr" pos="3429000"/>
              </a:tabLs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Facsimile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c0000"/>
                </a:solidFill>
                <a:latin typeface="Arial"/>
                <a:ea typeface="Arial"/>
              </a:rPr>
              <a:t>1-205-730-98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22480" y="7016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To Order or For Mor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30400" y="6108840"/>
            <a:ext cx="7238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Or contact your local Intergraph representative.</a:t>
            </a:r>
            <a:br>
              <a:rPr sz="2400"/>
            </a:b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dfca"/>
                </a:solidFill>
                <a:latin typeface="Arial"/>
                <a:ea typeface="Arial"/>
              </a:rPr>
              <a:t>       </a:t>
            </a:r>
            <a:r>
              <a:rPr b="1" i="1" lang="en-US" sz="1000" spc="-1" strike="noStrike">
                <a:solidFill>
                  <a:srgbClr val="d49fff"/>
                </a:solidFill>
                <a:latin typeface="Arial"/>
                <a:ea typeface="Arial"/>
              </a:rPr>
              <a:t>Border illustration</a:t>
            </a:r>
            <a:r>
              <a:rPr b="1" i="1" lang="en-US" sz="1000" spc="-1" strike="noStrike">
                <a:solidFill>
                  <a:srgbClr val="d49fff"/>
                </a:solidFill>
                <a:latin typeface="Symbol"/>
                <a:ea typeface="Symbol"/>
              </a:rPr>
              <a:t> © </a:t>
            </a:r>
            <a:r>
              <a:rPr b="1" i="1" lang="en-US" sz="1000" spc="-1" strike="noStrike">
                <a:solidFill>
                  <a:srgbClr val="d49fff"/>
                </a:solidFill>
                <a:latin typeface="Arial"/>
                <a:ea typeface="Arial"/>
              </a:rPr>
              <a:t>1994 by Lydia J. H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106668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143000" y="1905120"/>
            <a:ext cx="12952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Call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95280" y="1905120"/>
            <a:ext cx="73105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Trade barriers are fa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International communication is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becoming an essential component </a:t>
            </a: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of most busi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Your response time to international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clients is critical to s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You’re getting there,</a:t>
            </a: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but there’s still one </a:t>
            </a:r>
            <a:r>
              <a:rPr b="1" i="1" lang="en-US" sz="3200" spc="-1" strike="noStrike">
                <a:solidFill>
                  <a:srgbClr val="ffe477"/>
                </a:solidFill>
                <a:latin typeface="Arial"/>
                <a:ea typeface="Arial"/>
              </a:rPr>
              <a:t>big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problem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68580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300" spc="-1" strike="noStrike">
                <a:solidFill>
                  <a:srgbClr val="ffe477"/>
                </a:solidFill>
                <a:latin typeface="Arial"/>
                <a:ea typeface="Arial"/>
              </a:rPr>
              <a:t>The Business World has Change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5800" y="1943280"/>
            <a:ext cx="11430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Language.  It Can be a Barri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79640" y="1968480"/>
            <a:ext cx="7378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o you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nd your busines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So, how do you man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76244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Hire a Human Translator?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66680" y="1905120"/>
            <a:ext cx="713736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It’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and time consuming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a8ff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Is there a better w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1671480" cy="890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63960" y="4156200"/>
            <a:ext cx="3181320" cy="1692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502080" y="3149640"/>
            <a:ext cx="2602080" cy="123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760400" y="4192560"/>
            <a:ext cx="1949400" cy="1560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562200" y="5862600"/>
            <a:ext cx="69372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645160" y="2514600"/>
            <a:ext cx="1916280" cy="85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7691400" y="3187800"/>
            <a:ext cx="762120" cy="1062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4305240" y="4129200"/>
            <a:ext cx="923760" cy="104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1525680" y="3446640"/>
            <a:ext cx="60804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here Has to be a Better Way!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1905120"/>
            <a:ext cx="73915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Translating your documents, memos and correspondence should be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br>
              <a:rPr sz="2800"/>
            </a:b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utom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b7a5"/>
                </a:solidFill>
                <a:latin typeface="Arial"/>
                <a:ea typeface="Arial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and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Prac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d49fff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What you need is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44520" y="2844720"/>
            <a:ext cx="2467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he Ideal Translation System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79640" y="1968480"/>
            <a:ext cx="7378560" cy="42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34308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It should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Rapidly translate documents and messages at your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Be Microsoft Office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Preserve formatting of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Have a friendly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Be able to incorporate and learn new termi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Provide good quality first draf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343080">
              <a:lnSpc>
                <a:spcPct val="90000"/>
              </a:lnSpc>
              <a:spcBef>
                <a:spcPts val="720"/>
              </a:spcBef>
              <a:buClr>
                <a:srgbClr val="fc0128"/>
              </a:buClr>
              <a:buFont typeface="ZapfDingbats"/>
              <a:buChar char="4"/>
            </a:pP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Require minimal human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5480" y="673200"/>
            <a:ext cx="7467480" cy="6108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43000" y="838080"/>
            <a:ext cx="76230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Where...</a:t>
            </a:r>
            <a:br>
              <a:rPr sz="3400"/>
            </a:b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can you find a machine translation</a:t>
            </a: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     system today that has </a:t>
            </a:r>
            <a:r>
              <a:rPr b="1" i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all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these </a:t>
            </a: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     qualit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5680" y="876240"/>
            <a:ext cx="584280" cy="5041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40680" y="914400"/>
            <a:ext cx="584280" cy="5041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3416400"/>
            <a:ext cx="737856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br>
              <a:rPr sz="2800"/>
            </a:b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5400" spc="-1" strike="noStrike">
                <a:solidFill>
                  <a:srgbClr val="a000a0"/>
                </a:solidFill>
                <a:latin typeface="Arial"/>
                <a:ea typeface="Arial"/>
              </a:rPr>
              <a:t>T</a:t>
            </a:r>
            <a:r>
              <a:rPr b="1" lang="en-US" sz="4400" spc="-1" strike="noStrike">
                <a:solidFill>
                  <a:srgbClr val="a000a0"/>
                </a:solidFill>
                <a:latin typeface="Arial"/>
                <a:ea typeface="Arial"/>
              </a:rPr>
              <a:t>RANSCEN</a:t>
            </a:r>
            <a:r>
              <a:rPr b="1" lang="en-US" sz="5400" spc="-1" strike="noStrike">
                <a:solidFill>
                  <a:srgbClr val="a000a0"/>
                </a:solidFill>
                <a:latin typeface="Arial"/>
                <a:ea typeface="Arial"/>
              </a:rPr>
              <a:t>D</a:t>
            </a:r>
            <a:r>
              <a:rPr b="1" lang="en-US" sz="54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e477"/>
                </a:solidFill>
                <a:latin typeface="Arial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Natural Language Translator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300" spc="-1" strike="noStrike">
                <a:solidFill>
                  <a:srgbClr val="fc0128"/>
                </a:solidFill>
                <a:latin typeface="Arial"/>
                <a:ea typeface="Arial"/>
              </a:rPr>
              <a:t>      </a:t>
            </a:r>
            <a:r>
              <a:rPr b="1" i="1" lang="en-US" sz="2300" spc="-1" strike="noStrike">
                <a:solidFill>
                  <a:srgbClr val="618ffd"/>
                </a:solidFill>
                <a:latin typeface="Arial"/>
                <a:ea typeface="Arial"/>
              </a:rPr>
              <a:t>from</a:t>
            </a:r>
            <a:r>
              <a:rPr b="1" lang="en-US" sz="2300" spc="-1" strike="noStrike">
                <a:solidFill>
                  <a:srgbClr val="fc0128"/>
                </a:solidFill>
                <a:latin typeface="Arial"/>
                <a:ea typeface="Arial"/>
              </a:rPr>
              <a:t>  </a:t>
            </a:r>
            <a:r>
              <a:rPr b="1" lang="en-US" sz="3000" spc="-1" strike="noStrike">
                <a:solidFill>
                  <a:srgbClr val="618ffd"/>
                </a:solidFill>
                <a:latin typeface="Arial"/>
                <a:ea typeface="Arial"/>
              </a:rPr>
              <a:t>Intergraph Software Soluti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30400" y="714240"/>
            <a:ext cx="7623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ranscend Offer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9640" y="1968480"/>
            <a:ext cx="737856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eamless Integration with Microsoft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Increased Speed and Produ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Microsoft Office Compati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Superior Linguistic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ranslations on Dem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Affordable Pr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457200">
              <a:lnSpc>
                <a:spcPct val="90000"/>
              </a:lnSpc>
              <a:spcBef>
                <a:spcPts val="720"/>
              </a:spcBef>
              <a:buClr>
                <a:srgbClr val="00dfca"/>
              </a:buClr>
              <a:buFont typeface="ZapfDingbats"/>
              <a:buChar char="l"/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ase-of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00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727280" y="2019240"/>
            <a:ext cx="699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ranslates text  from English into and out of</a:t>
            </a:r>
            <a:br>
              <a:rPr sz="2400"/>
            </a:b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most common European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32-bit product runs on PCs using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Windows, Windows NT and </a:t>
            </a:r>
            <a:r>
              <a:rPr b="1" i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Windows 95</a:t>
            </a:r>
            <a:r>
              <a:rPr b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Integrates as a pulldown menu in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Microsoft 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Microsoft Office Compat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Translates up to 360,000 </a:t>
            </a:r>
            <a:r>
              <a:rPr b="1" i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words per hour</a:t>
            </a:r>
            <a:r>
              <a:rPr b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!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ffe477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Retains original formatting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2400" spc="-1" strike="noStrike">
                <a:solidFill>
                  <a:srgbClr val="ffe477"/>
                </a:solidFill>
                <a:latin typeface="Arial"/>
                <a:ea typeface="Arial"/>
              </a:rPr>
              <a:t>Easy-to-use, friendly graphic user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30400" y="676440"/>
            <a:ext cx="78436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400" spc="-1" strike="noStrike">
                <a:solidFill>
                  <a:srgbClr val="ffe477"/>
                </a:solidFill>
                <a:latin typeface="Arial"/>
                <a:ea typeface="Arial"/>
              </a:rPr>
              <a:t>Transcend Featur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5760" y="3200400"/>
            <a:ext cx="1932120" cy="2438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689880" y="6556320"/>
            <a:ext cx="1468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spcAft>
                <a:spcPts val="479"/>
              </a:spcAft>
            </a:pPr>
            <a:r>
              <a:rPr b="1" lang="en-US" sz="1000" spc="-1" strike="noStrike">
                <a:solidFill>
                  <a:srgbClr val="ffe477"/>
                </a:solidFill>
                <a:latin typeface="Arial"/>
                <a:ea typeface="Arial"/>
              </a:rPr>
              <a:t>*on a 90MHz Pentiu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san Moore</dc:creator>
  <dc:description>This is intended for the Microsoft for the OC 95 CD.</dc:description>
  <dc:language>en-US</dc:language>
  <cp:lastModifiedBy>Edward I. Jenny</cp:lastModifiedBy>
  <cp:revision>0</cp:revision>
  <dc:subject>Office CD Demo</dc:subject>
  <dc:title>TRANSCEND  Natural Language Translator</dc:title>
</cp:coreProperties>
</file>