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28160" cy="6845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31400" cy="23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154080" y="266760"/>
            <a:ext cx="1247760" cy="146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00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00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00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18280" cy="6845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3320" y="184320"/>
            <a:ext cx="2278440" cy="2233800"/>
          </a:xfrm>
          <a:custGeom>
            <a:avLst/>
            <a:gdLst/>
            <a:ahLst/>
            <a:rect l="0" t="0" r="r" b="b"/>
            <a:pathLst>
              <a:path w="6329" h="6205">
                <a:moveTo>
                  <a:pt x="3164" y="0"/>
                </a:moveTo>
                <a:lnTo>
                  <a:pt x="3481" y="1774"/>
                </a:lnTo>
                <a:lnTo>
                  <a:pt x="4724" y="434"/>
                </a:lnTo>
                <a:lnTo>
                  <a:pt x="4152" y="2121"/>
                </a:lnTo>
                <a:lnTo>
                  <a:pt x="5918" y="1557"/>
                </a:lnTo>
                <a:lnTo>
                  <a:pt x="4548" y="2770"/>
                </a:lnTo>
                <a:lnTo>
                  <a:pt x="6329" y="3103"/>
                </a:lnTo>
                <a:lnTo>
                  <a:pt x="4548" y="3435"/>
                </a:lnTo>
                <a:lnTo>
                  <a:pt x="5918" y="4654"/>
                </a:lnTo>
                <a:lnTo>
                  <a:pt x="4150" y="4130"/>
                </a:lnTo>
                <a:lnTo>
                  <a:pt x="4724" y="5801"/>
                </a:lnTo>
                <a:lnTo>
                  <a:pt x="3531" y="4459"/>
                </a:lnTo>
                <a:lnTo>
                  <a:pt x="3133" y="6205"/>
                </a:lnTo>
                <a:lnTo>
                  <a:pt x="2785" y="4459"/>
                </a:lnTo>
                <a:lnTo>
                  <a:pt x="1589" y="5802"/>
                </a:lnTo>
                <a:lnTo>
                  <a:pt x="2163" y="4112"/>
                </a:lnTo>
                <a:lnTo>
                  <a:pt x="398" y="4676"/>
                </a:lnTo>
                <a:lnTo>
                  <a:pt x="1766" y="3463"/>
                </a:lnTo>
                <a:lnTo>
                  <a:pt x="0" y="3115"/>
                </a:lnTo>
                <a:lnTo>
                  <a:pt x="1766" y="2770"/>
                </a:lnTo>
                <a:lnTo>
                  <a:pt x="398" y="1557"/>
                </a:lnTo>
                <a:lnTo>
                  <a:pt x="2163" y="2120"/>
                </a:lnTo>
                <a:lnTo>
                  <a:pt x="1589" y="428"/>
                </a:lnTo>
                <a:lnTo>
                  <a:pt x="2782" y="1774"/>
                </a:lnTo>
                <a:lnTo>
                  <a:pt x="3164" y="0"/>
                </a:lnTo>
                <a:close/>
              </a:path>
            </a:pathLst>
          </a:custGeom>
          <a:gradFill rotWithShape="0">
            <a:gsLst>
              <a:gs pos="0">
                <a:srgbClr val="c2b766"/>
              </a:gs>
              <a:gs pos="50000">
                <a:srgbClr val="d8cc72"/>
              </a:gs>
              <a:gs pos="100000">
                <a:srgbClr val="c2b766"/>
              </a:gs>
            </a:gsLst>
            <a:lin ang="81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238880" y="3159000"/>
            <a:ext cx="179856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3920" indent="-223920">
              <a:lnSpc>
                <a:spcPct val="100000"/>
              </a:lnSpc>
              <a:spcBef>
                <a:spcPts val="479"/>
              </a:spcBef>
              <a:buClr>
                <a:srgbClr val="eaec5e"/>
              </a:buClr>
              <a:buSzPct val="13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479"/>
              </a:spcBef>
              <a:buClr>
                <a:srgbClr val="eaec5e"/>
              </a:buClr>
              <a:buSzPct val="13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ine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479"/>
              </a:spcBef>
              <a:buClr>
                <a:srgbClr val="eaec5e"/>
              </a:buClr>
              <a:buSzPct val="13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D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479"/>
              </a:spcBef>
              <a:buClr>
                <a:srgbClr val="eaec5e"/>
              </a:buClr>
              <a:buSzPct val="13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479"/>
              </a:spcBef>
              <a:buClr>
                <a:srgbClr val="eaec5e"/>
              </a:buClr>
              <a:buSzPct val="13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ient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479"/>
              </a:spcBef>
              <a:buClr>
                <a:srgbClr val="eaec5e"/>
              </a:buClr>
              <a:buSzPct val="13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i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479"/>
              </a:spcBef>
              <a:buClr>
                <a:srgbClr val="eaec5e"/>
              </a:buClr>
              <a:buSzPct val="13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Profession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354800" y="619200"/>
            <a:ext cx="1279440" cy="16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ig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in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456320" y="2622600"/>
            <a:ext cx="11685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100" spc="-1" strike="noStrike" u="sng">
                <a:solidFill>
                  <a:srgbClr val="eaec5e"/>
                </a:solidFill>
                <a:uFillTx/>
                <a:latin typeface="Times New Roman"/>
                <a:ea typeface="Times New Roman"/>
              </a:rPr>
              <a:t>Ideal for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89000" y="1851120"/>
            <a:ext cx="16095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5000"/>
              </a:lnSpc>
            </a:pPr>
            <a:r>
              <a:rPr b="1" lang="en-US" sz="2000" spc="-1" strike="noStrike">
                <a:solidFill>
                  <a:srgbClr val="790015"/>
                </a:solidFill>
                <a:latin typeface="Arial"/>
                <a:ea typeface="Arial"/>
              </a:rPr>
              <a:t>Free y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1" lang="en-US" sz="2000" spc="-1" strike="noStrike">
                <a:solidFill>
                  <a:srgbClr val="790015"/>
                </a:solidFill>
                <a:latin typeface="Arial"/>
                <a:ea typeface="Arial"/>
              </a:rPr>
              <a:t>imag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1" lang="en-US" sz="2000" spc="-1" strike="noStrike">
                <a:solidFill>
                  <a:srgbClr val="790015"/>
                </a:solidFill>
                <a:latin typeface="Arial"/>
                <a:ea typeface="Arial"/>
              </a:rPr>
              <a:t>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1" lang="en-US" sz="2000" spc="-1" strike="noStrike">
                <a:solidFill>
                  <a:srgbClr val="790015"/>
                </a:solidFill>
                <a:latin typeface="Arial"/>
                <a:ea typeface="Arial"/>
              </a:rPr>
              <a:t>intelli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1" lang="en-US" sz="2000" spc="-1" strike="noStrike">
                <a:solidFill>
                  <a:srgbClr val="790015"/>
                </a:solidFill>
                <a:latin typeface="Arial"/>
                <a:ea typeface="Arial"/>
              </a:rPr>
              <a:t>prec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1" lang="en-US" sz="2000" spc="-1" strike="noStrike">
                <a:solidFill>
                  <a:srgbClr val="790015"/>
                </a:solidFill>
                <a:latin typeface="Arial"/>
                <a:ea typeface="Arial"/>
              </a:rPr>
              <a:t>draw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454560" y="6286680"/>
            <a:ext cx="3568680" cy="343080"/>
          </a:xfrm>
          <a:prstGeom prst="rect">
            <a:avLst/>
          </a:prstGeom>
          <a:gradFill rotWithShape="0">
            <a:gsLst>
              <a:gs pos="0">
                <a:srgbClr val="081d58"/>
              </a:gs>
              <a:gs pos="100000">
                <a:srgbClr val="203368"/>
              </a:gs>
            </a:gsLst>
            <a:lin ang="5400000"/>
          </a:gra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Windows    95 and Windows 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34000" y="6311880"/>
            <a:ext cx="139680" cy="139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715080" y="6335640"/>
            <a:ext cx="190440" cy="1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03360" y="2700360"/>
            <a:ext cx="6174000" cy="3916800"/>
          </a:xfrm>
          <a:custGeom>
            <a:avLst/>
            <a:gdLst/>
            <a:ahLst/>
            <a:rect l="0" t="0" r="r" b="b"/>
            <a:pathLst>
              <a:path w="17150" h="10880">
                <a:moveTo>
                  <a:pt x="0" y="2175"/>
                </a:moveTo>
                <a:lnTo>
                  <a:pt x="0" y="8705"/>
                </a:lnTo>
                <a:lnTo>
                  <a:pt x="3429" y="8705"/>
                </a:lnTo>
                <a:lnTo>
                  <a:pt x="3429" y="10880"/>
                </a:lnTo>
                <a:lnTo>
                  <a:pt x="13720" y="10880"/>
                </a:lnTo>
                <a:lnTo>
                  <a:pt x="13720" y="8705"/>
                </a:lnTo>
                <a:lnTo>
                  <a:pt x="17150" y="8705"/>
                </a:lnTo>
                <a:lnTo>
                  <a:pt x="17150" y="2175"/>
                </a:lnTo>
                <a:lnTo>
                  <a:pt x="13720" y="2175"/>
                </a:lnTo>
                <a:lnTo>
                  <a:pt x="13720" y="0"/>
                </a:lnTo>
                <a:lnTo>
                  <a:pt x="3429" y="0"/>
                </a:lnTo>
                <a:lnTo>
                  <a:pt x="3429" y="2175"/>
                </a:lnTo>
                <a:lnTo>
                  <a:pt x="0" y="2175"/>
                </a:lnTo>
                <a:close/>
              </a:path>
            </a:pathLst>
          </a:custGeom>
          <a:gradFill rotWithShape="0">
            <a:gsLst>
              <a:gs pos="0">
                <a:srgbClr val="004e47"/>
              </a:gs>
              <a:gs pos="100000">
                <a:srgbClr val="001715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512720" y="2733840"/>
            <a:ext cx="612792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32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Draw on your imag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</a:pPr>
            <a:r>
              <a:rPr b="0" lang="en-US" sz="32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with Imagineer Techn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06400" y="3836880"/>
            <a:ext cx="5997600" cy="27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5000"/>
              </a:lnSpc>
              <a:tabLst>
                <a:tab algn="l" pos="1881360"/>
              </a:tabLst>
            </a:pPr>
            <a:r>
              <a:rPr b="0" lang="en-US" sz="20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Call: 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800) 345-4856 (within the U.S.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18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205) 730-5499 (other are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188136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1881360"/>
              </a:tabLst>
            </a:pPr>
            <a:r>
              <a:rPr b="0" lang="en-US" sz="20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Send a FAX:  </a:t>
            </a:r>
            <a:r>
              <a:rPr b="1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205) 730-76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1881360"/>
              </a:tabLst>
            </a:pPr>
            <a:r>
              <a:rPr b="0" lang="en-US" sz="20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Use the Internet: </a:t>
            </a:r>
            <a:r>
              <a:rPr b="0" lang="en-US" sz="20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ttp://www.intergraph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1881360"/>
              </a:tabLst>
            </a:pPr>
            <a:r>
              <a:rPr b="0" lang="en-US" sz="20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Send e-mail:  </a:t>
            </a:r>
            <a:r>
              <a:rPr b="1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magine@ingr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1881360"/>
              </a:tabLst>
            </a:pPr>
            <a:r>
              <a:rPr b="0" lang="en-US" sz="20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Drop a letter: </a:t>
            </a:r>
            <a:r>
              <a:rPr b="0" lang="en-US" sz="2000" spc="-1" strike="noStrike">
                <a:solidFill>
                  <a:srgbClr val="cf0e3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graph Corpo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18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magineer, Mailstop IW17D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18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untsville, AL  35894-0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79400" y="312840"/>
            <a:ext cx="7136280" cy="1448280"/>
          </a:xfrm>
          <a:custGeom>
            <a:avLst/>
            <a:gdLst/>
            <a:ahLst/>
            <a:rect l="0" t="0" r="r" b="b"/>
            <a:pathLst>
              <a:path w="19823" h="4023">
                <a:moveTo>
                  <a:pt x="0" y="0"/>
                </a:moveTo>
                <a:lnTo>
                  <a:pt x="0" y="4023"/>
                </a:lnTo>
                <a:lnTo>
                  <a:pt x="13876" y="4023"/>
                </a:lnTo>
                <a:lnTo>
                  <a:pt x="19823" y="2011"/>
                </a:lnTo>
                <a:lnTo>
                  <a:pt x="13876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554d"/>
              </a:gs>
              <a:gs pos="50000">
                <a:srgbClr val="006b61"/>
              </a:gs>
              <a:gs pos="100000">
                <a:srgbClr val="00554d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771560" y="411120"/>
            <a:ext cx="670572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rder your</a:t>
            </a:r>
            <a:r>
              <a:rPr b="0" lang="en-US" sz="3200" spc="-1" strike="noStrike">
                <a:solidFill>
                  <a:srgbClr val="cf0e30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eaec5e"/>
                </a:solidFill>
                <a:latin typeface="Arial"/>
                <a:ea typeface="Arial"/>
              </a:rPr>
              <a:t>FREE</a:t>
            </a:r>
            <a:r>
              <a:rPr b="0" lang="en-US" sz="3200" spc="-1" strike="noStrike">
                <a:solidFill>
                  <a:srgbClr val="cf0e3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valuation cop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001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18280" cy="6845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853320" y="184320"/>
            <a:ext cx="2278440" cy="2233800"/>
          </a:xfrm>
          <a:custGeom>
            <a:avLst/>
            <a:gdLst/>
            <a:ahLst/>
            <a:rect l="0" t="0" r="r" b="b"/>
            <a:pathLst>
              <a:path w="6329" h="6205">
                <a:moveTo>
                  <a:pt x="3164" y="0"/>
                </a:moveTo>
                <a:lnTo>
                  <a:pt x="3481" y="1774"/>
                </a:lnTo>
                <a:lnTo>
                  <a:pt x="4724" y="434"/>
                </a:lnTo>
                <a:lnTo>
                  <a:pt x="4152" y="2121"/>
                </a:lnTo>
                <a:lnTo>
                  <a:pt x="5918" y="1557"/>
                </a:lnTo>
                <a:lnTo>
                  <a:pt x="4548" y="2770"/>
                </a:lnTo>
                <a:lnTo>
                  <a:pt x="6329" y="3103"/>
                </a:lnTo>
                <a:lnTo>
                  <a:pt x="4548" y="3435"/>
                </a:lnTo>
                <a:lnTo>
                  <a:pt x="5918" y="4654"/>
                </a:lnTo>
                <a:lnTo>
                  <a:pt x="4150" y="4130"/>
                </a:lnTo>
                <a:lnTo>
                  <a:pt x="4724" y="5801"/>
                </a:lnTo>
                <a:lnTo>
                  <a:pt x="3531" y="4459"/>
                </a:lnTo>
                <a:lnTo>
                  <a:pt x="3133" y="6205"/>
                </a:lnTo>
                <a:lnTo>
                  <a:pt x="2785" y="4459"/>
                </a:lnTo>
                <a:lnTo>
                  <a:pt x="1589" y="5802"/>
                </a:lnTo>
                <a:lnTo>
                  <a:pt x="2163" y="4112"/>
                </a:lnTo>
                <a:lnTo>
                  <a:pt x="398" y="4676"/>
                </a:lnTo>
                <a:lnTo>
                  <a:pt x="1766" y="3463"/>
                </a:lnTo>
                <a:lnTo>
                  <a:pt x="0" y="3115"/>
                </a:lnTo>
                <a:lnTo>
                  <a:pt x="1766" y="2770"/>
                </a:lnTo>
                <a:lnTo>
                  <a:pt x="398" y="1557"/>
                </a:lnTo>
                <a:lnTo>
                  <a:pt x="2163" y="2120"/>
                </a:lnTo>
                <a:lnTo>
                  <a:pt x="1589" y="428"/>
                </a:lnTo>
                <a:lnTo>
                  <a:pt x="2782" y="1774"/>
                </a:lnTo>
                <a:lnTo>
                  <a:pt x="3164" y="0"/>
                </a:lnTo>
                <a:close/>
              </a:path>
            </a:pathLst>
          </a:custGeom>
          <a:gradFill rotWithShape="0">
            <a:gsLst>
              <a:gs pos="0">
                <a:srgbClr val="c2b766"/>
              </a:gs>
              <a:gs pos="50000">
                <a:srgbClr val="d8cc72"/>
              </a:gs>
              <a:gs pos="100000">
                <a:srgbClr val="c2b766"/>
              </a:gs>
            </a:gsLst>
            <a:lin ang="81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238880" y="3159000"/>
            <a:ext cx="1798560" cy="32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3920" indent="-223920">
              <a:lnSpc>
                <a:spcPct val="100000"/>
              </a:lnSpc>
              <a:spcBef>
                <a:spcPts val="479"/>
              </a:spcBef>
              <a:buClr>
                <a:srgbClr val="eaec5e"/>
              </a:buClr>
              <a:buSzPct val="13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479"/>
              </a:spcBef>
              <a:buClr>
                <a:srgbClr val="eaec5e"/>
              </a:buClr>
              <a:buSzPct val="13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ine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479"/>
              </a:spcBef>
              <a:buClr>
                <a:srgbClr val="eaec5e"/>
              </a:buClr>
              <a:buSzPct val="13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D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479"/>
              </a:spcBef>
              <a:buClr>
                <a:srgbClr val="eaec5e"/>
              </a:buClr>
              <a:buSzPct val="13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479"/>
              </a:spcBef>
              <a:buClr>
                <a:srgbClr val="eaec5e"/>
              </a:buClr>
              <a:buSzPct val="13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ient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479"/>
              </a:spcBef>
              <a:buClr>
                <a:srgbClr val="eaec5e"/>
              </a:buClr>
              <a:buSzPct val="13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i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479"/>
              </a:spcBef>
              <a:buClr>
                <a:srgbClr val="eaec5e"/>
              </a:buClr>
              <a:buSzPct val="130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Profession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354800" y="619200"/>
            <a:ext cx="1279440" cy="16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ig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in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456320" y="2622600"/>
            <a:ext cx="11685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100" spc="-1" strike="noStrike" u="sng">
                <a:solidFill>
                  <a:srgbClr val="eaec5e"/>
                </a:solidFill>
                <a:uFillTx/>
                <a:latin typeface="Times New Roman"/>
                <a:ea typeface="Times New Roman"/>
              </a:rPr>
              <a:t>Ideal for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89000" y="1851120"/>
            <a:ext cx="16095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25000"/>
              </a:lnSpc>
            </a:pPr>
            <a:r>
              <a:rPr b="1" lang="en-US" sz="2000" spc="-1" strike="noStrike">
                <a:solidFill>
                  <a:srgbClr val="790015"/>
                </a:solidFill>
                <a:latin typeface="Arial"/>
                <a:ea typeface="Arial"/>
              </a:rPr>
              <a:t>Free y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1" lang="en-US" sz="2000" spc="-1" strike="noStrike">
                <a:solidFill>
                  <a:srgbClr val="790015"/>
                </a:solidFill>
                <a:latin typeface="Arial"/>
                <a:ea typeface="Arial"/>
              </a:rPr>
              <a:t>imag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1" lang="en-US" sz="2000" spc="-1" strike="noStrike">
                <a:solidFill>
                  <a:srgbClr val="790015"/>
                </a:solidFill>
                <a:latin typeface="Arial"/>
                <a:ea typeface="Arial"/>
              </a:rPr>
              <a:t>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1" lang="en-US" sz="2000" spc="-1" strike="noStrike">
                <a:solidFill>
                  <a:srgbClr val="790015"/>
                </a:solidFill>
                <a:latin typeface="Arial"/>
                <a:ea typeface="Arial"/>
              </a:rPr>
              <a:t>intelli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1" lang="en-US" sz="2000" spc="-1" strike="noStrike">
                <a:solidFill>
                  <a:srgbClr val="790015"/>
                </a:solidFill>
                <a:latin typeface="Arial"/>
                <a:ea typeface="Arial"/>
              </a:rPr>
              <a:t>prec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1" lang="en-US" sz="2000" spc="-1" strike="noStrike">
                <a:solidFill>
                  <a:srgbClr val="790015"/>
                </a:solidFill>
                <a:latin typeface="Arial"/>
                <a:ea typeface="Arial"/>
              </a:rPr>
              <a:t>draw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689120" y="5067360"/>
            <a:ext cx="5156280" cy="1650960"/>
          </a:xfrm>
          <a:prstGeom prst="rect">
            <a:avLst/>
          </a:prstGeom>
          <a:gradFill rotWithShape="0">
            <a:gsLst>
              <a:gs pos="0">
                <a:srgbClr val="d8cc72"/>
              </a:gs>
              <a:gs pos="100000">
                <a:srgbClr val="c2b766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372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OLE for Design and Modeling is a Microsoft OLE Industry Solution that extends OLE for graphics/CAD application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graph is a registered trademark and SmartSketch is a trademark of Intergraph Corporation. Other brands and product names are trademarks of their respective own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1995 Intergraph Corporation, Huntsville, AL 35894-0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28480" y="4309920"/>
            <a:ext cx="7666200" cy="20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79400" y="312840"/>
            <a:ext cx="7136280" cy="1448280"/>
          </a:xfrm>
          <a:custGeom>
            <a:avLst/>
            <a:gdLst/>
            <a:ahLst/>
            <a:rect l="0" t="0" r="r" b="b"/>
            <a:pathLst>
              <a:path w="19823" h="4023">
                <a:moveTo>
                  <a:pt x="0" y="0"/>
                </a:moveTo>
                <a:lnTo>
                  <a:pt x="0" y="4023"/>
                </a:lnTo>
                <a:lnTo>
                  <a:pt x="13876" y="4023"/>
                </a:lnTo>
                <a:lnTo>
                  <a:pt x="19823" y="2011"/>
                </a:lnTo>
                <a:lnTo>
                  <a:pt x="13876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554d"/>
              </a:gs>
              <a:gs pos="50000">
                <a:srgbClr val="006b61"/>
              </a:gs>
              <a:gs pos="100000">
                <a:srgbClr val="00554d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85720" y="4368960"/>
            <a:ext cx="3551400" cy="146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D software can requir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ands to perform tasks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m simple -- like placin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e parallel to anoth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58960" y="446040"/>
            <a:ext cx="669276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end your time drawing..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t learning drawing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553000" y="5318280"/>
            <a:ext cx="2616120" cy="9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 One command is all that is required with Imagineer Techn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332240" y="2860560"/>
            <a:ext cx="4227480" cy="174960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554d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3530"/>
            </a:outerShdw>
          </a:effectLst>
        </p:spPr>
        <p:txBody>
          <a:bodyPr lIns="0" rIns="0" tIns="0" bIns="0" anchor="t">
            <a:noAutofit/>
          </a:bodyPr>
          <a:p>
            <a:pPr marL="1760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Drawing with Imagineer is so intuitive that it can make you twice as productive as other design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92360" y="5029200"/>
            <a:ext cx="1451160" cy="928800"/>
          </a:xfrm>
          <a:prstGeom prst="line">
            <a:avLst/>
          </a:prstGeom>
          <a:ln w="255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76720" y="5405400"/>
            <a:ext cx="95400" cy="152280"/>
          </a:xfrm>
          <a:prstGeom prst="line">
            <a:avLst/>
          </a:prstGeom>
          <a:ln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05440" y="5457960"/>
            <a:ext cx="95040" cy="152280"/>
          </a:xfrm>
          <a:prstGeom prst="line">
            <a:avLst/>
          </a:prstGeom>
          <a:ln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030560" y="5029200"/>
            <a:ext cx="1451160" cy="928800"/>
          </a:xfrm>
          <a:prstGeom prst="line">
            <a:avLst/>
          </a:prstGeom>
          <a:ln w="255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4920" y="5405400"/>
            <a:ext cx="95040" cy="152280"/>
          </a:xfrm>
          <a:prstGeom prst="line">
            <a:avLst/>
          </a:prstGeom>
          <a:ln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5457960"/>
            <a:ext cx="95400" cy="152280"/>
          </a:xfrm>
          <a:prstGeom prst="line">
            <a:avLst/>
          </a:prstGeom>
          <a:ln w="12600">
            <a:solidFill>
              <a:srgbClr val="cf0e3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2039760"/>
            <a:ext cx="6350040" cy="480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79400" y="312840"/>
            <a:ext cx="7136280" cy="1448280"/>
          </a:xfrm>
          <a:custGeom>
            <a:avLst/>
            <a:gdLst/>
            <a:ahLst/>
            <a:rect l="0" t="0" r="r" b="b"/>
            <a:pathLst>
              <a:path w="19823" h="4023">
                <a:moveTo>
                  <a:pt x="0" y="0"/>
                </a:moveTo>
                <a:lnTo>
                  <a:pt x="0" y="4023"/>
                </a:lnTo>
                <a:lnTo>
                  <a:pt x="13876" y="4023"/>
                </a:lnTo>
                <a:lnTo>
                  <a:pt x="19823" y="2011"/>
                </a:lnTo>
                <a:lnTo>
                  <a:pt x="13876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40006"/>
              </a:gs>
              <a:gs pos="50000">
                <a:srgbClr val="790015"/>
              </a:gs>
              <a:gs pos="100000">
                <a:srgbClr val="240006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758960" y="446040"/>
            <a:ext cx="636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lace precision geometry quickly and easily with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martSke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7360" y="2206800"/>
            <a:ext cx="6048360" cy="498600"/>
          </a:xfrm>
          <a:prstGeom prst="rect">
            <a:avLst/>
          </a:prstGeom>
          <a:gradFill rotWithShape="0">
            <a:gsLst>
              <a:gs pos="0">
                <a:srgbClr val="790015"/>
              </a:gs>
              <a:gs pos="100000">
                <a:srgbClr val="6c0012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3f000b"/>
            </a:outerShdw>
          </a:effectLst>
        </p:spPr>
        <p:txBody>
          <a:bodyPr lIns="0" rIns="0" tIns="0" bIns="0" anchor="t">
            <a:noAutofit/>
          </a:bodyPr>
          <a:p>
            <a:pPr marL="11736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Imagineer lets you design in </a:t>
            </a:r>
            <a:r>
              <a:rPr b="0" i="1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real world </a:t>
            </a:r>
            <a:r>
              <a:rPr b="0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un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039760"/>
            <a:ext cx="6350040" cy="480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679400" y="312840"/>
            <a:ext cx="7136280" cy="1448280"/>
          </a:xfrm>
          <a:custGeom>
            <a:avLst/>
            <a:gdLst/>
            <a:ahLst/>
            <a:rect l="0" t="0" r="r" b="b"/>
            <a:pathLst>
              <a:path w="19823" h="4023">
                <a:moveTo>
                  <a:pt x="0" y="0"/>
                </a:moveTo>
                <a:lnTo>
                  <a:pt x="0" y="4023"/>
                </a:lnTo>
                <a:lnTo>
                  <a:pt x="13876" y="4023"/>
                </a:lnTo>
                <a:lnTo>
                  <a:pt x="19823" y="2011"/>
                </a:lnTo>
                <a:lnTo>
                  <a:pt x="13876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40006"/>
              </a:gs>
              <a:gs pos="50000">
                <a:srgbClr val="790015"/>
              </a:gs>
              <a:gs pos="100000">
                <a:srgbClr val="240006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58960" y="446040"/>
            <a:ext cx="636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lace precision geometry quickly and easily with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martSke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7360" y="2206800"/>
            <a:ext cx="6048360" cy="498600"/>
          </a:xfrm>
          <a:prstGeom prst="rect">
            <a:avLst/>
          </a:prstGeom>
          <a:gradFill rotWithShape="0">
            <a:gsLst>
              <a:gs pos="0">
                <a:srgbClr val="790015"/>
              </a:gs>
              <a:gs pos="100000">
                <a:srgbClr val="6c0012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3f000b"/>
            </a:outerShdw>
          </a:effectLst>
        </p:spPr>
        <p:txBody>
          <a:bodyPr lIns="0" rIns="0" tIns="0" bIns="0" anchor="t">
            <a:noAutofit/>
          </a:bodyPr>
          <a:p>
            <a:pPr marL="11736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Imagineer lets you design in </a:t>
            </a:r>
            <a:r>
              <a:rPr b="0" i="1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real world </a:t>
            </a:r>
            <a:r>
              <a:rPr b="0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un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27680" y="3562200"/>
            <a:ext cx="1986120" cy="22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65960" y="410220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37360" y="3860640"/>
            <a:ext cx="990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3657600"/>
            <a:ext cx="1397160" cy="13971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32720" y="35812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32720" y="44784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838920" y="4368960"/>
            <a:ext cx="685800" cy="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732800" y="4368960"/>
            <a:ext cx="685800" cy="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7583400" y="4319640"/>
            <a:ext cx="100080" cy="100080"/>
            <a:chOff x="7583400" y="4319640"/>
            <a:chExt cx="100080" cy="100080"/>
          </a:xfrm>
        </p:grpSpPr>
        <p:sp>
          <p:nvSpPr>
            <p:cNvPr id="155" name=""/>
            <p:cNvSpPr/>
            <p:nvPr/>
          </p:nvSpPr>
          <p:spPr>
            <a:xfrm>
              <a:off x="7632720" y="4319640"/>
              <a:ext cx="0" cy="100080"/>
            </a:xfrm>
            <a:prstGeom prst="line">
              <a:avLst/>
            </a:prstGeom>
            <a:ln w="12600">
              <a:solidFill>
                <a:srgbClr val="0096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7583400" y="4368960"/>
              <a:ext cx="100080" cy="0"/>
            </a:xfrm>
            <a:prstGeom prst="line">
              <a:avLst/>
            </a:prstGeom>
            <a:ln w="12600">
              <a:solidFill>
                <a:srgbClr val="00968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7142040" y="4853160"/>
            <a:ext cx="776520" cy="9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32720" y="365760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37400" y="4674600"/>
            <a:ext cx="1079280" cy="378720"/>
          </a:xfrm>
          <a:custGeom>
            <a:avLst/>
            <a:gdLst/>
            <a:ahLst/>
            <a:rect l="0" t="0" r="r" b="b"/>
            <a:pathLst>
              <a:path fill="none" w="2998" h="1052">
                <a:moveTo>
                  <a:pt x="0" y="1052"/>
                </a:moveTo>
                <a:lnTo>
                  <a:pt x="0" y="1052"/>
                </a:lnTo>
                <a:cubicBezTo>
                  <a:pt x="527" y="1052"/>
                  <a:pt x="1045" y="1000"/>
                  <a:pt x="1502" y="901"/>
                </a:cubicBezTo>
                <a:cubicBezTo>
                  <a:pt x="1959" y="802"/>
                  <a:pt x="2338" y="660"/>
                  <a:pt x="2602" y="489"/>
                </a:cubicBezTo>
                <a:cubicBezTo>
                  <a:pt x="2832" y="339"/>
                  <a:pt x="2968" y="172"/>
                  <a:pt x="299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946920" y="4643280"/>
            <a:ext cx="520920" cy="354240"/>
            <a:chOff x="6946920" y="4643280"/>
            <a:chExt cx="520920" cy="354240"/>
          </a:xfrm>
        </p:grpSpPr>
        <p:sp>
          <p:nvSpPr>
            <p:cNvPr id="161" name=""/>
            <p:cNvSpPr/>
            <p:nvPr/>
          </p:nvSpPr>
          <p:spPr>
            <a:xfrm flipV="1">
              <a:off x="7292880" y="4802040"/>
              <a:ext cx="152640" cy="1238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67760" y="4838760"/>
              <a:ext cx="100080" cy="10008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round/>
            </a:ln>
          </p:spPr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22960" y="4643280"/>
              <a:ext cx="0" cy="3542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946920" y="4819680"/>
              <a:ext cx="35712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51680" y="4745160"/>
              <a:ext cx="146160" cy="14616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966000" y="5043600"/>
            <a:ext cx="443160" cy="543240"/>
          </a:xfrm>
          <a:custGeom>
            <a:avLst/>
            <a:gdLst/>
            <a:ahLst/>
            <a:rect l="0" t="0" r="r" b="b"/>
            <a:pathLst>
              <a:path w="1231" h="1509">
                <a:moveTo>
                  <a:pt x="409" y="1509"/>
                </a:moveTo>
                <a:lnTo>
                  <a:pt x="820" y="1509"/>
                </a:lnTo>
                <a:lnTo>
                  <a:pt x="820" y="452"/>
                </a:lnTo>
                <a:lnTo>
                  <a:pt x="1231" y="452"/>
                </a:lnTo>
                <a:lnTo>
                  <a:pt x="616" y="0"/>
                </a:lnTo>
                <a:lnTo>
                  <a:pt x="0" y="452"/>
                </a:lnTo>
                <a:lnTo>
                  <a:pt x="409" y="452"/>
                </a:lnTo>
                <a:lnTo>
                  <a:pt x="409" y="1509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b0001c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622600" y="5805360"/>
            <a:ext cx="6327720" cy="925560"/>
          </a:xfrm>
          <a:prstGeom prst="rect">
            <a:avLst/>
          </a:prstGeom>
          <a:gradFill rotWithShape="0">
            <a:gsLst>
              <a:gs pos="0">
                <a:srgbClr val="790015"/>
              </a:gs>
              <a:gs pos="100000">
                <a:srgbClr val="6c0012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3f000b"/>
            </a:outerShdw>
          </a:effectLst>
        </p:spPr>
        <p:txBody>
          <a:bodyPr lIns="0" rIns="0" tIns="0" bIns="0" anchor="t">
            <a:noAutofit/>
          </a:bodyPr>
          <a:p>
            <a:pPr marL="11736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Drawing is a snap with intuitive visual feedback on angles, lengths, and relationsh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79400" y="312840"/>
            <a:ext cx="7136280" cy="1448280"/>
          </a:xfrm>
          <a:custGeom>
            <a:avLst/>
            <a:gdLst/>
            <a:ahLst/>
            <a:rect l="0" t="0" r="r" b="b"/>
            <a:pathLst>
              <a:path w="19823" h="4023">
                <a:moveTo>
                  <a:pt x="0" y="0"/>
                </a:moveTo>
                <a:lnTo>
                  <a:pt x="0" y="4023"/>
                </a:lnTo>
                <a:lnTo>
                  <a:pt x="13876" y="4023"/>
                </a:lnTo>
                <a:lnTo>
                  <a:pt x="19823" y="2011"/>
                </a:lnTo>
                <a:lnTo>
                  <a:pt x="13876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1f7f"/>
              </a:gs>
              <a:gs pos="50000">
                <a:srgbClr val="00279f"/>
              </a:gs>
              <a:gs pos="100000">
                <a:srgbClr val="001f7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758960" y="446040"/>
            <a:ext cx="636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D drawing power for an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vel of expert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139920" y="2746440"/>
            <a:ext cx="5191200" cy="183816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00238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11736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From drag and drop symbol libraries to intelligent constraint-based design, Imagineer has the power you’ve only dreamed of in a drawing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089000" y="3171960"/>
            <a:ext cx="1487520" cy="3041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527120" y="5289480"/>
            <a:ext cx="29559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941560" y="4037040"/>
            <a:ext cx="363996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679400" y="312840"/>
            <a:ext cx="7136280" cy="1448280"/>
          </a:xfrm>
          <a:custGeom>
            <a:avLst/>
            <a:gdLst/>
            <a:ahLst/>
            <a:rect l="0" t="0" r="r" b="b"/>
            <a:pathLst>
              <a:path w="19823" h="4023">
                <a:moveTo>
                  <a:pt x="0" y="0"/>
                </a:moveTo>
                <a:lnTo>
                  <a:pt x="0" y="4023"/>
                </a:lnTo>
                <a:lnTo>
                  <a:pt x="13876" y="4023"/>
                </a:lnTo>
                <a:lnTo>
                  <a:pt x="19823" y="2011"/>
                </a:lnTo>
                <a:lnTo>
                  <a:pt x="13876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554d"/>
              </a:gs>
              <a:gs pos="50000">
                <a:srgbClr val="006b61"/>
              </a:gs>
              <a:gs pos="100000">
                <a:srgbClr val="00554d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758960" y="446040"/>
            <a:ext cx="636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oost your CAD design and engineering work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85720" y="2689200"/>
            <a:ext cx="4303800" cy="167940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554d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03530"/>
            </a:outerShdw>
          </a:effectLst>
        </p:spPr>
        <p:txBody>
          <a:bodyPr lIns="0" rIns="0" tIns="0" bIns="0" anchor="t">
            <a:noAutofit/>
          </a:bodyPr>
          <a:p>
            <a:pPr marL="11736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A good low-cost alternative for concept design and viewing,  Imagineer works directly with AutoCAD and Micro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79400" y="312840"/>
            <a:ext cx="7136280" cy="1448280"/>
          </a:xfrm>
          <a:custGeom>
            <a:avLst/>
            <a:gdLst/>
            <a:ahLst/>
            <a:rect l="0" t="0" r="r" b="b"/>
            <a:pathLst>
              <a:path w="19823" h="4023">
                <a:moveTo>
                  <a:pt x="0" y="0"/>
                </a:moveTo>
                <a:lnTo>
                  <a:pt x="0" y="4023"/>
                </a:lnTo>
                <a:lnTo>
                  <a:pt x="13876" y="4023"/>
                </a:lnTo>
                <a:lnTo>
                  <a:pt x="19823" y="2011"/>
                </a:lnTo>
                <a:lnTo>
                  <a:pt x="13876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40006"/>
              </a:gs>
              <a:gs pos="50000">
                <a:srgbClr val="790015"/>
              </a:gs>
              <a:gs pos="100000">
                <a:srgbClr val="240006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58960" y="446040"/>
            <a:ext cx="636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d precision graphics to your Office 95 desktop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941560" y="4037040"/>
            <a:ext cx="3639960" cy="2808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865840" y="2143080"/>
            <a:ext cx="3557520" cy="4705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595440" y="2508120"/>
            <a:ext cx="4376880" cy="2444760"/>
          </a:xfrm>
          <a:prstGeom prst="rect">
            <a:avLst/>
          </a:prstGeom>
          <a:gradFill rotWithShape="0">
            <a:gsLst>
              <a:gs pos="0">
                <a:srgbClr val="790015"/>
              </a:gs>
              <a:gs pos="100000">
                <a:srgbClr val="6c0012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3f000b"/>
            </a:outerShdw>
          </a:effectLst>
        </p:spPr>
        <p:txBody>
          <a:bodyPr lIns="0" rIns="0" tIns="0" bIns="0" anchor="t">
            <a:noAutofit/>
          </a:bodyPr>
          <a:p>
            <a:pPr marL="11736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Imagineer lets you insert or link drawings with memos, reports, presentations, databases and spreadsheets -- any of the work you create with Microsoft Office 95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390920" y="4275000"/>
            <a:ext cx="2579760" cy="164952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679400" y="312840"/>
            <a:ext cx="7136280" cy="1448280"/>
          </a:xfrm>
          <a:custGeom>
            <a:avLst/>
            <a:gdLst/>
            <a:ahLst/>
            <a:rect l="0" t="0" r="r" b="b"/>
            <a:pathLst>
              <a:path w="19823" h="4023">
                <a:moveTo>
                  <a:pt x="0" y="0"/>
                </a:moveTo>
                <a:lnTo>
                  <a:pt x="0" y="4023"/>
                </a:lnTo>
                <a:lnTo>
                  <a:pt x="13876" y="4023"/>
                </a:lnTo>
                <a:lnTo>
                  <a:pt x="19823" y="2011"/>
                </a:lnTo>
                <a:lnTo>
                  <a:pt x="13876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1f7f"/>
              </a:gs>
              <a:gs pos="50000">
                <a:srgbClr val="00279f"/>
              </a:gs>
              <a:gs pos="100000">
                <a:srgbClr val="001f7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46440" y="569880"/>
            <a:ext cx="613404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758960" y="446040"/>
            <a:ext cx="636444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hoos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drawing package for Windows  95 and Windows 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433600" y="4343400"/>
            <a:ext cx="5675400" cy="2103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299880" y="2266920"/>
            <a:ext cx="4780080" cy="262260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100000">
                <a:srgbClr val="00238f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 marL="11736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Imagineer i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7360">
              <a:lnSpc>
                <a:spcPct val="100000"/>
              </a:lnSpc>
              <a:spcBef>
                <a:spcPts val="479"/>
              </a:spcBef>
              <a:buClr>
                <a:srgbClr val="eaec5e"/>
              </a:buClr>
              <a:buFont typeface="Symbol"/>
              <a:buChar char=""/>
            </a:pPr>
            <a:r>
              <a:rPr b="0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Robust 32-bit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7360">
              <a:lnSpc>
                <a:spcPct val="100000"/>
              </a:lnSpc>
              <a:spcBef>
                <a:spcPts val="479"/>
              </a:spcBef>
              <a:buClr>
                <a:srgbClr val="eaec5e"/>
              </a:buClr>
              <a:buFont typeface="Symbol"/>
              <a:buChar char=""/>
            </a:pPr>
            <a:r>
              <a:rPr b="0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Fully OLE 2-compl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7360">
              <a:lnSpc>
                <a:spcPct val="100000"/>
              </a:lnSpc>
              <a:spcBef>
                <a:spcPts val="479"/>
              </a:spcBef>
              <a:buClr>
                <a:srgbClr val="eaec5e"/>
              </a:buClr>
              <a:buFont typeface="Symbol"/>
              <a:buChar char=""/>
            </a:pPr>
            <a:r>
              <a:rPr b="0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The only drawing software with   </a:t>
            </a:r>
            <a:r>
              <a:rPr b="0" i="1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OLE for Design &amp; Modeling</a:t>
            </a:r>
            <a:r>
              <a:rPr b="0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* credentia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498840" y="1114560"/>
            <a:ext cx="158760" cy="158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423200" y="1085760"/>
            <a:ext cx="19044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679400" y="312840"/>
            <a:ext cx="7136280" cy="1448280"/>
          </a:xfrm>
          <a:custGeom>
            <a:avLst/>
            <a:gdLst/>
            <a:ahLst/>
            <a:rect l="0" t="0" r="r" b="b"/>
            <a:pathLst>
              <a:path w="19823" h="4023">
                <a:moveTo>
                  <a:pt x="0" y="0"/>
                </a:moveTo>
                <a:lnTo>
                  <a:pt x="0" y="4023"/>
                </a:lnTo>
                <a:lnTo>
                  <a:pt x="13876" y="4023"/>
                </a:lnTo>
                <a:lnTo>
                  <a:pt x="19823" y="2011"/>
                </a:lnTo>
                <a:lnTo>
                  <a:pt x="13876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40006"/>
              </a:gs>
              <a:gs pos="50000">
                <a:srgbClr val="790015"/>
              </a:gs>
              <a:gs pos="100000">
                <a:srgbClr val="240006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58960" y="446040"/>
            <a:ext cx="654048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joy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ffice 9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14560" y="4433760"/>
            <a:ext cx="5572080" cy="1395360"/>
          </a:xfrm>
          <a:prstGeom prst="rect">
            <a:avLst/>
          </a:prstGeom>
          <a:gradFill rotWithShape="0">
            <a:gsLst>
              <a:gs pos="0">
                <a:srgbClr val="790015"/>
              </a:gs>
              <a:gs pos="100000">
                <a:srgbClr val="6c0012"/>
              </a:gs>
            </a:gsLst>
            <a:lin ang="5400000"/>
          </a:gradFill>
          <a:ln w="0">
            <a:noFill/>
          </a:ln>
          <a:effectLst>
            <a:outerShdw dist="0" dir="0" blurRad="0" rotWithShape="0">
              <a:srgbClr val="3f000b"/>
            </a:outerShdw>
          </a:effectLst>
        </p:spPr>
        <p:txBody>
          <a:bodyPr lIns="0" rIns="0" tIns="0" bIns="0" anchor="t">
            <a:noAutofit/>
          </a:bodyPr>
          <a:p>
            <a:pPr marL="11736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eaec5e"/>
                </a:solidFill>
                <a:latin typeface="Times New Roman"/>
                <a:ea typeface="Times New Roman"/>
              </a:rPr>
              <a:t>Imagineer looks and works like Microsoft Office 95, so you’re off and running quickly with a familia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2951280"/>
            <a:ext cx="913140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ncy Jacobs</cp:lastModifiedBy>
  <cp:revision>0</cp:revision>
  <dc:subject>Microsoft CD</dc:subject>
  <dc:title>Imagineer Autodemo</dc:title>
</cp:coreProperties>
</file>