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7640" cy="6172560"/>
            <a:chOff x="0" y="0"/>
            <a:chExt cx="8477640" cy="6172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1160" cy="6172560"/>
            </a:xfrm>
            <a:custGeom>
              <a:avLst/>
              <a:gdLst/>
              <a:ahLst/>
              <a:rect l="0" t="0" r="r" b="b"/>
              <a:pathLst>
                <a:path w="17031" h="17146">
                  <a:moveTo>
                    <a:pt x="17031" y="15075"/>
                  </a:moveTo>
                  <a:lnTo>
                    <a:pt x="2014" y="0"/>
                  </a:lnTo>
                  <a:lnTo>
                    <a:pt x="0" y="0"/>
                  </a:lnTo>
                  <a:lnTo>
                    <a:pt x="0" y="2119"/>
                  </a:lnTo>
                  <a:lnTo>
                    <a:pt x="14968" y="17146"/>
                  </a:lnTo>
                  <a:lnTo>
                    <a:pt x="17031" y="15075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6680" cy="5115240"/>
            </a:xfrm>
            <a:custGeom>
              <a:avLst/>
              <a:gdLst/>
              <a:ahLst/>
              <a:rect l="0" t="0" r="r" b="b"/>
              <a:pathLst>
                <a:path w="14963" h="14209">
                  <a:moveTo>
                    <a:pt x="1630" y="0"/>
                  </a:moveTo>
                  <a:lnTo>
                    <a:pt x="14963" y="13390"/>
                  </a:lnTo>
                  <a:lnTo>
                    <a:pt x="14147" y="14209"/>
                  </a:lnTo>
                  <a:lnTo>
                    <a:pt x="0" y="0"/>
                  </a:lnTo>
                  <a:lnTo>
                    <a:pt x="163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7440" cy="4056480"/>
            </a:xfrm>
            <a:custGeom>
              <a:avLst/>
              <a:gdLst/>
              <a:ahLst/>
              <a:rect l="0" t="0" r="r" b="b"/>
              <a:pathLst>
                <a:path w="12604" h="11268">
                  <a:moveTo>
                    <a:pt x="2779" y="0"/>
                  </a:moveTo>
                  <a:lnTo>
                    <a:pt x="12604" y="9872"/>
                  </a:lnTo>
                  <a:lnTo>
                    <a:pt x="11215" y="11268"/>
                  </a:lnTo>
                  <a:lnTo>
                    <a:pt x="0" y="0"/>
                  </a:lnTo>
                  <a:lnTo>
                    <a:pt x="2779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7720" cy="3366000"/>
            </a:xfrm>
            <a:custGeom>
              <a:avLst/>
              <a:gdLst/>
              <a:ahLst/>
              <a:rect l="0" t="0" r="r" b="b"/>
              <a:pathLst>
                <a:path w="10077" h="9350">
                  <a:moveTo>
                    <a:pt x="0" y="0"/>
                  </a:moveTo>
                  <a:lnTo>
                    <a:pt x="9309" y="9350"/>
                  </a:lnTo>
                  <a:lnTo>
                    <a:pt x="10077" y="8579"/>
                  </a:lnTo>
                  <a:lnTo>
                    <a:pt x="15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4cb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3156120" y="990720"/>
            <a:ext cx="550872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Document / Image Management - </a:t>
            </a:r>
            <a:br>
              <a:rPr sz="2400"/>
            </a:br>
            <a:br>
              <a:rPr sz="1800"/>
            </a:br>
            <a:r>
              <a:rPr b="0" lang="en-US" sz="6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DocuPACT  2.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4664160"/>
            <a:ext cx="12463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393840" y="860400"/>
            <a:ext cx="2867040" cy="34066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2149560" y="5027760"/>
            <a:ext cx="4921200" cy="1112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 txBox="1"/>
          <p:nvPr/>
        </p:nvSpPr>
        <p:spPr>
          <a:xfrm>
            <a:off x="2057400" y="4105440"/>
            <a:ext cx="2937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333333"/>
                </a:solidFill>
                <a:latin typeface="Arial"/>
                <a:ea typeface="Arial"/>
              </a:rPr>
              <a:t>T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976560" y="3094200"/>
            <a:ext cx="3917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cument and Image Management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978600" y="1901880"/>
            <a:ext cx="2937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cf0e30"/>
                </a:solidFill>
                <a:latin typeface="Arial"/>
                <a:ea typeface="Arial"/>
              </a:rPr>
              <a:t>T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685800" y="270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DocuPACT 2.0 is Microsoft Office  Compat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685800" y="2163600"/>
            <a:ext cx="777240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cuPACT 2.0 is easy to learn because it conforms to all Microsoft Office standards including OLE Automation, OLE Drag-and-Drop, OLE Linking, OLE Embedding, and OLE In-Place Acti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cuPACT 2.0 looks, feels, and works just like Office products such as Microsoft Word</a:t>
            </a:r>
            <a:r>
              <a:rPr b="0" lang="en-US" sz="900" spc="-1" strike="noStrike" baseline="100000">
                <a:solidFill>
                  <a:srgbClr val="333333"/>
                </a:solidFill>
                <a:latin typeface="Arial"/>
                <a:ea typeface="Arial"/>
              </a:rPr>
              <a:t>T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PowerPoint</a:t>
            </a:r>
            <a:r>
              <a:rPr b="0" lang="en-US" sz="900" spc="-1" strike="noStrike" baseline="100000">
                <a:solidFill>
                  <a:srgbClr val="333333"/>
                </a:solidFill>
                <a:latin typeface="Arial"/>
                <a:ea typeface="Arial"/>
              </a:rPr>
              <a:t>T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Excel</a:t>
            </a:r>
            <a:r>
              <a:rPr b="0" lang="en-US" sz="900" spc="-1" strike="noStrike" baseline="100000">
                <a:solidFill>
                  <a:srgbClr val="333333"/>
                </a:solidFill>
                <a:latin typeface="Arial"/>
                <a:ea typeface="Arial"/>
              </a:rPr>
              <a:t>T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or Mail</a:t>
            </a:r>
            <a:r>
              <a:rPr b="0" lang="en-US" sz="900" spc="-1" strike="noStrike" baseline="100000">
                <a:solidFill>
                  <a:srgbClr val="333333"/>
                </a:solidFill>
                <a:latin typeface="Arial"/>
                <a:ea typeface="Arial"/>
              </a:rPr>
              <a:t>T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cuPACT 2.0 provides full, context sensitiv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n-line help to provide you with answers to an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estions you might h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cuPACT 2.0 conforms to the Microsof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ound Document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763800" y="1295280"/>
            <a:ext cx="404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cf0e30"/>
                </a:solidFill>
                <a:latin typeface="Arial"/>
                <a:ea typeface="Arial"/>
              </a:rPr>
              <a:t>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6567480" y="3801960"/>
            <a:ext cx="21542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668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DocuPACT 2.0 is Fully Integrated with Microsoft 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2057400"/>
            <a:ext cx="777240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You can use OLE Embedding to place information from one document into another.  Information can be text, graphics, audio/video and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You can link information in one document to other documents so that you can keep several documents current by updating a single 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You can use OLE Drag-and-Drop to mov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formation and files with your mo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LE In-Place Activation and OLE Automation let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you use the resources of another software program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ithout leaving DocuPACT.  For example, you ca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ll DocuPACT to scan, enhance images, OCR, 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ex a document from within Microsoft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6567480" y="3801960"/>
            <a:ext cx="21542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258840" y="95400"/>
            <a:ext cx="866448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DocuPACT 2.0 Adheres to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85800" y="1333440"/>
            <a:ext cx="7794720" cy="52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uns in 16-bit and 32-bit mode with Windows</a:t>
            </a:r>
            <a:r>
              <a:rPr b="0" lang="en-US" sz="900" spc="-1" strike="noStrike" baseline="100000">
                <a:solidFill>
                  <a:srgbClr val="333333"/>
                </a:solidFill>
                <a:latin typeface="Arial"/>
                <a:ea typeface="Arial"/>
              </a:rPr>
              <a:t>T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Windows for Workgroups</a:t>
            </a:r>
            <a:r>
              <a:rPr b="0" lang="en-US" sz="900" spc="-1" strike="noStrike" baseline="100000">
                <a:solidFill>
                  <a:srgbClr val="333333"/>
                </a:solidFill>
                <a:latin typeface="Arial"/>
                <a:ea typeface="Arial"/>
              </a:rPr>
              <a:t>T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Windows 95</a:t>
            </a:r>
            <a:r>
              <a:rPr b="0" lang="en-US" sz="900" spc="-1" strike="noStrike" baseline="100000">
                <a:solidFill>
                  <a:srgbClr val="333333"/>
                </a:solidFill>
                <a:latin typeface="Arial"/>
                <a:ea typeface="Arial"/>
              </a:rPr>
              <a:t>T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Windows NT</a:t>
            </a:r>
            <a:r>
              <a:rPr b="0" lang="en-US" sz="900" spc="-1" strike="noStrike" baseline="100000">
                <a:solidFill>
                  <a:srgbClr val="333333"/>
                </a:solidFill>
                <a:latin typeface="Arial"/>
                <a:ea typeface="Arial"/>
              </a:rPr>
              <a:t>T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and Windows NT  Advanced Server</a:t>
            </a:r>
            <a:r>
              <a:rPr b="0" lang="en-US" sz="900" spc="-1" strike="noStrike" baseline="100000">
                <a:solidFill>
                  <a:srgbClr val="333333"/>
                </a:solidFill>
                <a:latin typeface="Arial"/>
                <a:ea typeface="Arial"/>
              </a:rPr>
              <a:t>T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loped with Microsoft Visual C++/MFC in a real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ject-oriented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ar open architecture.  Scalable from single-use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to enterprise-w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ses Microsoft SQL Server relational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ully compatible with Microsoft Office 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crosoft Back Office</a:t>
            </a:r>
            <a:r>
              <a:rPr b="0" lang="en-US" sz="900" spc="-1" strike="noStrike" baseline="100000">
                <a:solidFill>
                  <a:srgbClr val="333333"/>
                </a:solidFill>
                <a:latin typeface="Arial"/>
                <a:ea typeface="Arial"/>
              </a:rPr>
              <a:t>TM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rue Client/Server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LE 2.0 facilities used through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6567480" y="3801960"/>
            <a:ext cx="21542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685800" y="11124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DocuPACT 2.0 Str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876240" y="1646280"/>
            <a:ext cx="733104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best viewer.  The DocuPACT 2.0 Viewer gives you more tools for working with images than any other viewer.  Multiple windows, windowpanes, and thumbnail views make working with documents ea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equaled flexibility and conformance to standard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tional VBXs for Microsoft Visual Basic an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APIs for OLE Automation (using C/C++) allow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imum flexibility for customizing DocuPACT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to your own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6567480" y="3801960"/>
            <a:ext cx="21542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68580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Why not learn more about DocuPACT 2.0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028880" y="2847960"/>
            <a:ext cx="5257800" cy="29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ll InterTech Imaging Corporation in Atlanta, Georgia USA at (404) 952-8080.  We will be glad to answer any questions you may hav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cuPACT is the right Document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and Image Management solution          for your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6567480" y="3801960"/>
            <a:ext cx="21542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685800" y="2541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What DocuPACT 2.0 </a:t>
            </a:r>
            <a:br>
              <a:rPr sz="4400"/>
            </a:br>
            <a:r>
              <a:rPr b="0" lang="en-US" sz="4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Can Do For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55560" y="197316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You can organize all your documentation into a single relational database. The documents can consist of scanned paper, computer generated ASCII files, graphics files, spread sheets, audio, video, and others.  Over 175 file formats are supp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You can instantly retrieve information by automate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arches so information is never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You can save space by converting bulky paper fil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o compact digital files stored on optical d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You can easily combine different information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s, such as text, audio/video,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nd graphic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o one common file fol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6567480" y="3801960"/>
            <a:ext cx="21542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685800" y="1908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DocuPACT 2.0 Us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919240" y="3994200"/>
            <a:ext cx="3191040" cy="21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ele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84080" y="1523880"/>
            <a:ext cx="73533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cuPACT is designed for organizations that process a large amount of information and share information on a network.  DocuPACT is currently used in Human Resources, Accounting, Claims Processing and many other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6567480" y="3801960"/>
            <a:ext cx="2154240" cy="261468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785880" y="3122640"/>
            <a:ext cx="4565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following examples are businesses that benefit from DocuPACT 2.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46280" y="3894120"/>
            <a:ext cx="1494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801720" y="3986280"/>
            <a:ext cx="1747800" cy="20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  <a:tabLst>
                <a:tab algn="l" pos="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  <a:tabLst>
                <a:tab algn="l" pos="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  <a:tabLst>
                <a:tab algn="l" pos="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  <a:tabLst>
                <a:tab algn="l" pos="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11040" y="114480"/>
            <a:ext cx="856620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How DocuPACT 2.0 Works for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85800" y="1371600"/>
            <a:ext cx="777240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cuPACT has four main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iewer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- allows you to display scanned documents and files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reated with over 175 different file forma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exer -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tomates the process of indexing and entering documents into to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lector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- a browser that lets you organize you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formation and instantly search and retriev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ny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ministrator -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lows a network administrator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to set security rights of individuals, groups, or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ocuments. It also automatically manages th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vement of documents from temporary, cache,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nd permanent sto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6567480" y="3801960"/>
            <a:ext cx="21542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68580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DocuPACT 2.0 Viewer Screen with Rotated Im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19040" y="2117880"/>
            <a:ext cx="393228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Windowpanes allow the display of multiple pages of a single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ultiple Document Interface (MDI) displays several documents at o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otate or zoom any page independently of the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umbnail views allow you to easily navigate through pages and display them with a single mouse cli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4336920" y="2195640"/>
            <a:ext cx="449280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68580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DocuPACT 2.0 Viewer Screen with Added Not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80880" y="2338560"/>
            <a:ext cx="367992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n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lets you add handwri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icky Note 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n contain up to 20 pages of text and includes a spelling check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rrow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oints out important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ircle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allows you to mark words and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Highlighter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so you can emphasize crucial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mp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outine information such time and d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daction</a:t>
            </a: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allows security to be set for various parts of a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82520" y="1614600"/>
            <a:ext cx="8763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cuPACT has the most complete tool set for adding comments to documents.  Comments are added in a separate layer so the integrity of documents is prese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4151160" y="2674800"/>
            <a:ext cx="46782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685800" y="2858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DocuPACT 2.0 Selector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2239920"/>
            <a:ext cx="7772400" cy="37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lector lets you better organize all your busines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formation can be from any source: photos, newspaper clippings, computer files, and many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tomated searches help you save time by instantly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trieving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 information is ever lost or mispla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6567480" y="3801960"/>
            <a:ext cx="21542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685800" y="190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DocuPACT 2.0 Selector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65120" y="1432080"/>
            <a:ext cx="824400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xplorer mode allows you to see your files and directories. A spread sheet displays the elements of each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You can create reusable custom search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You can assign a search to 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tab so that the search can be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formed with a single cli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arch results are displaye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in a spread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cf0e3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cuments can be viewed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with a mouse click on a 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search results b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4195800" y="2871720"/>
            <a:ext cx="46735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1150920" y="266760"/>
            <a:ext cx="6843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DocuPACT 2.0 Uses a Modular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557280" y="1828800"/>
            <a:ext cx="324468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cuPACT 2.0 is based on the latest concepts in modular design and uses the Service Center concept to give you great flexibility in the configuration of your syst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cuPACT uses software modules from other manufacturers that are the very best available for functions such as scanning, file conversion, optical character recognition (OCR) and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3863880" y="1927080"/>
            <a:ext cx="50734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ward I. Jenny</cp:lastModifiedBy>
  <cp:revision>0</cp:revision>
  <dc:subject/>
  <dc:title>Selling an Idea or a Product</dc:title>
</cp:coreProperties>
</file>