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3365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90360" y="6485040"/>
            <a:ext cx="52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533520" y="1143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REALDOCS 5.0© for Windows™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14400" y="2971800"/>
            <a:ext cx="7315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Powerful and Efficien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ortgage Document Software Sys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60012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Program Documents Stored in Ac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08652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28600" y="371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The Strengths of REALDOCS 5.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4920" y="190512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th multiple configurations, it can be scaled to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eet the needs of your comp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mon MS Microsoft Office foundation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ough MS Word &amp; MS Access inte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Guaranteed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MS Windows compatibility now &amp;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 the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ble to take advantage of future performance &amp;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eature enhancements in MS Off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409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What do you need to do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8600" y="152388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urchase the version of REALDOCS 5.0 for Windows that meets your nee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ser / Manager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-- for complete management of your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ms and 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ser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-- for data entry with LDS managing the forms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d 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nd-Alone and Network configurations are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ct LDS for information </a:t>
            </a: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1-800-745-DO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2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REALDOCS 5.0 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3520" y="182880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vide the Mortgage Banking community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th a Windows based Closing Loan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cument softwar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GUARANTEE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MS Windows &amp; MS Office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ati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vide imports to other popular mortgage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cessing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ELIMINATE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the </a:t>
            </a:r>
            <a:r>
              <a:rPr b="1" lang="en-US" sz="32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document transaction f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The Doc User Interfa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04920" y="144792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asy to follow data entry of basic loan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corporate extensive data entry error det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clude a capability to generate QC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ore all loan information in an MS Access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bility to set data defaults to save key strok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 print routine built around MS Word 6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4572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Navigate the User Scre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9080" y="1154160"/>
            <a:ext cx="730584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Easy to Follow Data Ent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08652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376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Total Printing Flexi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08652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409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The Doc Manager Interfa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880" y="144792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werful tools to build documents &amp;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ender Set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an Set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orm Buil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ffff"/>
              </a:buClr>
              <a:buSzPct val="65000"/>
              <a:buFont typeface="Monotype Sorts"/>
              <a:buChar char=""/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 Buil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ild the documents in MS Word 6.0 and link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o MS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ore the program and document information in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409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elect the Needed To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08652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442800"/>
            <a:ext cx="77724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Form Builder Links with Wo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08652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alph</dc:creator>
  <dc:description/>
  <dc:language>en-US</dc:language>
  <cp:lastModifiedBy>Edward I. Jenny</cp:lastModifiedBy>
  <cp:revision>0</cp:revision>
  <dc:subject>AUTODEMO Presentation</dc:subject>
  <dc:title>REALDOCS 5.0© for Windows™</dc:title>
</cp:coreProperties>
</file>