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1960" y="2163600"/>
            <a:ext cx="7944120" cy="3864600"/>
            <a:chOff x="561960" y="2163600"/>
            <a:chExt cx="7944120" cy="3864600"/>
          </a:xfrm>
        </p:grpSpPr>
        <p:sp>
          <p:nvSpPr>
            <p:cNvPr id="1" name=""/>
            <p:cNvSpPr/>
            <p:nvPr/>
          </p:nvSpPr>
          <p:spPr>
            <a:xfrm>
              <a:off x="561960" y="2711520"/>
              <a:ext cx="2943720" cy="3286440"/>
            </a:xfrm>
            <a:custGeom>
              <a:avLst/>
              <a:gdLst/>
              <a:ahLst/>
              <a:rect l="0" t="0" r="r" b="b"/>
              <a:pathLst>
                <a:path w="8177" h="9129">
                  <a:moveTo>
                    <a:pt x="0" y="689"/>
                  </a:moveTo>
                  <a:lnTo>
                    <a:pt x="105" y="717"/>
                  </a:lnTo>
                  <a:lnTo>
                    <a:pt x="66" y="736"/>
                  </a:lnTo>
                  <a:lnTo>
                    <a:pt x="113" y="795"/>
                  </a:lnTo>
                  <a:lnTo>
                    <a:pt x="297" y="783"/>
                  </a:lnTo>
                  <a:lnTo>
                    <a:pt x="333" y="823"/>
                  </a:lnTo>
                  <a:lnTo>
                    <a:pt x="403" y="795"/>
                  </a:lnTo>
                  <a:lnTo>
                    <a:pt x="419" y="901"/>
                  </a:lnTo>
                  <a:lnTo>
                    <a:pt x="172" y="995"/>
                  </a:lnTo>
                  <a:lnTo>
                    <a:pt x="125" y="1089"/>
                  </a:lnTo>
                  <a:lnTo>
                    <a:pt x="172" y="1140"/>
                  </a:lnTo>
                  <a:lnTo>
                    <a:pt x="258" y="1148"/>
                  </a:lnTo>
                  <a:lnTo>
                    <a:pt x="219" y="1207"/>
                  </a:lnTo>
                  <a:lnTo>
                    <a:pt x="258" y="1254"/>
                  </a:lnTo>
                  <a:lnTo>
                    <a:pt x="297" y="1254"/>
                  </a:lnTo>
                  <a:lnTo>
                    <a:pt x="344" y="1195"/>
                  </a:lnTo>
                  <a:lnTo>
                    <a:pt x="391" y="1301"/>
                  </a:lnTo>
                  <a:lnTo>
                    <a:pt x="352" y="1348"/>
                  </a:lnTo>
                  <a:lnTo>
                    <a:pt x="470" y="1293"/>
                  </a:lnTo>
                  <a:lnTo>
                    <a:pt x="556" y="1367"/>
                  </a:lnTo>
                  <a:lnTo>
                    <a:pt x="689" y="1312"/>
                  </a:lnTo>
                  <a:lnTo>
                    <a:pt x="564" y="1512"/>
                  </a:lnTo>
                  <a:lnTo>
                    <a:pt x="470" y="1552"/>
                  </a:lnTo>
                  <a:lnTo>
                    <a:pt x="470" y="1587"/>
                  </a:lnTo>
                  <a:lnTo>
                    <a:pt x="352" y="1599"/>
                  </a:lnTo>
                  <a:lnTo>
                    <a:pt x="278" y="1673"/>
                  </a:lnTo>
                  <a:lnTo>
                    <a:pt x="391" y="1618"/>
                  </a:lnTo>
                  <a:lnTo>
                    <a:pt x="497" y="1618"/>
                  </a:lnTo>
                  <a:lnTo>
                    <a:pt x="536" y="1559"/>
                  </a:lnTo>
                  <a:lnTo>
                    <a:pt x="615" y="1540"/>
                  </a:lnTo>
                  <a:lnTo>
                    <a:pt x="854" y="1387"/>
                  </a:lnTo>
                  <a:lnTo>
                    <a:pt x="893" y="1328"/>
                  </a:lnTo>
                  <a:lnTo>
                    <a:pt x="854" y="1281"/>
                  </a:lnTo>
                  <a:lnTo>
                    <a:pt x="1066" y="1101"/>
                  </a:lnTo>
                  <a:lnTo>
                    <a:pt x="1105" y="1120"/>
                  </a:lnTo>
                  <a:lnTo>
                    <a:pt x="1015" y="1167"/>
                  </a:lnTo>
                  <a:lnTo>
                    <a:pt x="987" y="1254"/>
                  </a:lnTo>
                  <a:lnTo>
                    <a:pt x="1046" y="1254"/>
                  </a:lnTo>
                  <a:lnTo>
                    <a:pt x="987" y="1301"/>
                  </a:lnTo>
                  <a:lnTo>
                    <a:pt x="1191" y="1234"/>
                  </a:lnTo>
                  <a:lnTo>
                    <a:pt x="1226" y="1148"/>
                  </a:lnTo>
                  <a:lnTo>
                    <a:pt x="1324" y="1120"/>
                  </a:lnTo>
                  <a:lnTo>
                    <a:pt x="1305" y="1167"/>
                  </a:lnTo>
                  <a:lnTo>
                    <a:pt x="1469" y="1234"/>
                  </a:lnTo>
                  <a:lnTo>
                    <a:pt x="1775" y="1242"/>
                  </a:lnTo>
                  <a:lnTo>
                    <a:pt x="1802" y="1301"/>
                  </a:lnTo>
                  <a:lnTo>
                    <a:pt x="1861" y="1360"/>
                  </a:lnTo>
                  <a:lnTo>
                    <a:pt x="1928" y="1387"/>
                  </a:lnTo>
                  <a:lnTo>
                    <a:pt x="2046" y="1379"/>
                  </a:lnTo>
                  <a:lnTo>
                    <a:pt x="2140" y="1414"/>
                  </a:lnTo>
                  <a:lnTo>
                    <a:pt x="2121" y="1481"/>
                  </a:lnTo>
                  <a:lnTo>
                    <a:pt x="2266" y="1579"/>
                  </a:lnTo>
                  <a:lnTo>
                    <a:pt x="2313" y="1712"/>
                  </a:lnTo>
                  <a:lnTo>
                    <a:pt x="2458" y="1893"/>
                  </a:lnTo>
                  <a:lnTo>
                    <a:pt x="2477" y="1991"/>
                  </a:lnTo>
                  <a:lnTo>
                    <a:pt x="2670" y="2085"/>
                  </a:lnTo>
                  <a:lnTo>
                    <a:pt x="2768" y="2104"/>
                  </a:lnTo>
                  <a:lnTo>
                    <a:pt x="2795" y="2237"/>
                  </a:lnTo>
                  <a:lnTo>
                    <a:pt x="2670" y="2237"/>
                  </a:lnTo>
                  <a:lnTo>
                    <a:pt x="2709" y="2390"/>
                  </a:lnTo>
                  <a:lnTo>
                    <a:pt x="2689" y="2821"/>
                  </a:lnTo>
                  <a:lnTo>
                    <a:pt x="2815" y="3053"/>
                  </a:lnTo>
                  <a:lnTo>
                    <a:pt x="2920" y="3233"/>
                  </a:lnTo>
                  <a:lnTo>
                    <a:pt x="3046" y="3272"/>
                  </a:lnTo>
                  <a:lnTo>
                    <a:pt x="3140" y="3378"/>
                  </a:lnTo>
                  <a:lnTo>
                    <a:pt x="3226" y="3570"/>
                  </a:lnTo>
                  <a:lnTo>
                    <a:pt x="3379" y="3750"/>
                  </a:lnTo>
                  <a:lnTo>
                    <a:pt x="3438" y="3895"/>
                  </a:lnTo>
                  <a:lnTo>
                    <a:pt x="3571" y="4017"/>
                  </a:lnTo>
                  <a:lnTo>
                    <a:pt x="3610" y="3982"/>
                  </a:lnTo>
                  <a:lnTo>
                    <a:pt x="3293" y="3539"/>
                  </a:lnTo>
                  <a:lnTo>
                    <a:pt x="3273" y="3417"/>
                  </a:lnTo>
                  <a:lnTo>
                    <a:pt x="3344" y="3445"/>
                  </a:lnTo>
                  <a:lnTo>
                    <a:pt x="3457" y="3637"/>
                  </a:lnTo>
                  <a:lnTo>
                    <a:pt x="3630" y="3789"/>
                  </a:lnTo>
                  <a:lnTo>
                    <a:pt x="3622" y="3844"/>
                  </a:lnTo>
                  <a:lnTo>
                    <a:pt x="3841" y="4036"/>
                  </a:lnTo>
                  <a:lnTo>
                    <a:pt x="3869" y="4123"/>
                  </a:lnTo>
                  <a:lnTo>
                    <a:pt x="3853" y="4181"/>
                  </a:lnTo>
                  <a:lnTo>
                    <a:pt x="3900" y="4256"/>
                  </a:lnTo>
                  <a:lnTo>
                    <a:pt x="4343" y="4460"/>
                  </a:lnTo>
                  <a:lnTo>
                    <a:pt x="4535" y="4448"/>
                  </a:lnTo>
                  <a:lnTo>
                    <a:pt x="4668" y="4546"/>
                  </a:lnTo>
                  <a:lnTo>
                    <a:pt x="4794" y="4602"/>
                  </a:lnTo>
                  <a:lnTo>
                    <a:pt x="4935" y="4621"/>
                  </a:lnTo>
                  <a:lnTo>
                    <a:pt x="5060" y="4766"/>
                  </a:lnTo>
                  <a:lnTo>
                    <a:pt x="5060" y="4833"/>
                  </a:lnTo>
                  <a:lnTo>
                    <a:pt x="5111" y="4821"/>
                  </a:lnTo>
                  <a:lnTo>
                    <a:pt x="5233" y="4939"/>
                  </a:lnTo>
                  <a:lnTo>
                    <a:pt x="5378" y="5013"/>
                  </a:lnTo>
                  <a:lnTo>
                    <a:pt x="5390" y="4947"/>
                  </a:lnTo>
                  <a:lnTo>
                    <a:pt x="5464" y="4900"/>
                  </a:lnTo>
                  <a:lnTo>
                    <a:pt x="5531" y="4939"/>
                  </a:lnTo>
                  <a:lnTo>
                    <a:pt x="5542" y="5005"/>
                  </a:lnTo>
                  <a:lnTo>
                    <a:pt x="5570" y="5205"/>
                  </a:lnTo>
                  <a:lnTo>
                    <a:pt x="5417" y="5405"/>
                  </a:lnTo>
                  <a:lnTo>
                    <a:pt x="5370" y="5589"/>
                  </a:lnTo>
                  <a:lnTo>
                    <a:pt x="5350" y="5809"/>
                  </a:lnTo>
                  <a:lnTo>
                    <a:pt x="5484" y="5970"/>
                  </a:lnTo>
                  <a:lnTo>
                    <a:pt x="5636" y="6334"/>
                  </a:lnTo>
                  <a:lnTo>
                    <a:pt x="6005" y="6585"/>
                  </a:lnTo>
                  <a:lnTo>
                    <a:pt x="6021" y="6793"/>
                  </a:lnTo>
                  <a:lnTo>
                    <a:pt x="5934" y="7290"/>
                  </a:lnTo>
                  <a:lnTo>
                    <a:pt x="5934" y="7549"/>
                  </a:lnTo>
                  <a:lnTo>
                    <a:pt x="5813" y="7855"/>
                  </a:lnTo>
                  <a:lnTo>
                    <a:pt x="5801" y="8153"/>
                  </a:lnTo>
                  <a:lnTo>
                    <a:pt x="5887" y="8180"/>
                  </a:lnTo>
                  <a:lnTo>
                    <a:pt x="5868" y="8411"/>
                  </a:lnTo>
                  <a:lnTo>
                    <a:pt x="5774" y="8564"/>
                  </a:lnTo>
                  <a:lnTo>
                    <a:pt x="5754" y="8658"/>
                  </a:lnTo>
                  <a:lnTo>
                    <a:pt x="5801" y="8784"/>
                  </a:lnTo>
                  <a:lnTo>
                    <a:pt x="5781" y="8890"/>
                  </a:lnTo>
                  <a:lnTo>
                    <a:pt x="5860" y="8948"/>
                  </a:lnTo>
                  <a:lnTo>
                    <a:pt x="5860" y="9035"/>
                  </a:lnTo>
                  <a:lnTo>
                    <a:pt x="5887" y="9101"/>
                  </a:lnTo>
                  <a:lnTo>
                    <a:pt x="5966" y="9129"/>
                  </a:lnTo>
                  <a:lnTo>
                    <a:pt x="5985" y="9035"/>
                  </a:lnTo>
                  <a:lnTo>
                    <a:pt x="6126" y="9003"/>
                  </a:lnTo>
                  <a:lnTo>
                    <a:pt x="6071" y="8948"/>
                  </a:lnTo>
                  <a:lnTo>
                    <a:pt x="6159" y="8823"/>
                  </a:lnTo>
                  <a:lnTo>
                    <a:pt x="6304" y="8623"/>
                  </a:lnTo>
                  <a:lnTo>
                    <a:pt x="6186" y="8505"/>
                  </a:lnTo>
                  <a:lnTo>
                    <a:pt x="6312" y="8431"/>
                  </a:lnTo>
                  <a:lnTo>
                    <a:pt x="6417" y="8200"/>
                  </a:lnTo>
                  <a:lnTo>
                    <a:pt x="6331" y="8114"/>
                  </a:lnTo>
                  <a:lnTo>
                    <a:pt x="6496" y="8114"/>
                  </a:lnTo>
                  <a:lnTo>
                    <a:pt x="6504" y="7972"/>
                  </a:lnTo>
                  <a:lnTo>
                    <a:pt x="6774" y="7933"/>
                  </a:lnTo>
                  <a:lnTo>
                    <a:pt x="6848" y="7835"/>
                  </a:lnTo>
                  <a:lnTo>
                    <a:pt x="6743" y="7628"/>
                  </a:lnTo>
                  <a:lnTo>
                    <a:pt x="6966" y="7694"/>
                  </a:lnTo>
                  <a:lnTo>
                    <a:pt x="7052" y="7608"/>
                  </a:lnTo>
                  <a:lnTo>
                    <a:pt x="7350" y="7243"/>
                  </a:lnTo>
                  <a:lnTo>
                    <a:pt x="7370" y="7051"/>
                  </a:lnTo>
                  <a:lnTo>
                    <a:pt x="7597" y="6891"/>
                  </a:lnTo>
                  <a:lnTo>
                    <a:pt x="7801" y="6824"/>
                  </a:lnTo>
                  <a:lnTo>
                    <a:pt x="7926" y="6546"/>
                  </a:lnTo>
                  <a:lnTo>
                    <a:pt x="7946" y="6268"/>
                  </a:lnTo>
                  <a:lnTo>
                    <a:pt x="8177" y="6009"/>
                  </a:lnTo>
                  <a:lnTo>
                    <a:pt x="8158" y="5770"/>
                  </a:lnTo>
                  <a:lnTo>
                    <a:pt x="7915" y="5644"/>
                  </a:lnTo>
                  <a:lnTo>
                    <a:pt x="7609" y="5617"/>
                  </a:lnTo>
                  <a:lnTo>
                    <a:pt x="7581" y="5542"/>
                  </a:lnTo>
                  <a:lnTo>
                    <a:pt x="7444" y="5491"/>
                  </a:lnTo>
                  <a:lnTo>
                    <a:pt x="7178" y="5578"/>
                  </a:lnTo>
                  <a:lnTo>
                    <a:pt x="7186" y="5484"/>
                  </a:lnTo>
                  <a:lnTo>
                    <a:pt x="7272" y="5358"/>
                  </a:lnTo>
                  <a:lnTo>
                    <a:pt x="7166" y="5198"/>
                  </a:lnTo>
                  <a:lnTo>
                    <a:pt x="7021" y="5111"/>
                  </a:lnTo>
                  <a:lnTo>
                    <a:pt x="6829" y="5092"/>
                  </a:lnTo>
                  <a:lnTo>
                    <a:pt x="6656" y="4939"/>
                  </a:lnTo>
                  <a:lnTo>
                    <a:pt x="6582" y="4880"/>
                  </a:lnTo>
                  <a:lnTo>
                    <a:pt x="6476" y="4813"/>
                  </a:lnTo>
                  <a:lnTo>
                    <a:pt x="6159" y="4806"/>
                  </a:lnTo>
                  <a:lnTo>
                    <a:pt x="6032" y="4700"/>
                  </a:lnTo>
                  <a:lnTo>
                    <a:pt x="5946" y="4786"/>
                  </a:lnTo>
                  <a:lnTo>
                    <a:pt x="5934" y="4688"/>
                  </a:lnTo>
                  <a:lnTo>
                    <a:pt x="5723" y="4774"/>
                  </a:lnTo>
                  <a:lnTo>
                    <a:pt x="5609" y="4958"/>
                  </a:lnTo>
                  <a:lnTo>
                    <a:pt x="5570" y="4919"/>
                  </a:lnTo>
                  <a:lnTo>
                    <a:pt x="5464" y="4860"/>
                  </a:lnTo>
                  <a:lnTo>
                    <a:pt x="5339" y="4900"/>
                  </a:lnTo>
                  <a:lnTo>
                    <a:pt x="5264" y="4853"/>
                  </a:lnTo>
                  <a:lnTo>
                    <a:pt x="5186" y="4774"/>
                  </a:lnTo>
                  <a:lnTo>
                    <a:pt x="5217" y="4515"/>
                  </a:lnTo>
                  <a:lnTo>
                    <a:pt x="5099" y="4460"/>
                  </a:lnTo>
                  <a:lnTo>
                    <a:pt x="4868" y="4460"/>
                  </a:lnTo>
                  <a:lnTo>
                    <a:pt x="4927" y="4326"/>
                  </a:lnTo>
                  <a:lnTo>
                    <a:pt x="4994" y="4123"/>
                  </a:lnTo>
                  <a:lnTo>
                    <a:pt x="4919" y="4095"/>
                  </a:lnTo>
                  <a:lnTo>
                    <a:pt x="4774" y="4134"/>
                  </a:lnTo>
                  <a:lnTo>
                    <a:pt x="4696" y="4295"/>
                  </a:lnTo>
                  <a:lnTo>
                    <a:pt x="4445" y="4275"/>
                  </a:lnTo>
                  <a:lnTo>
                    <a:pt x="4331" y="4068"/>
                  </a:lnTo>
                  <a:lnTo>
                    <a:pt x="4371" y="3829"/>
                  </a:lnTo>
                  <a:lnTo>
                    <a:pt x="4351" y="3692"/>
                  </a:lnTo>
                  <a:lnTo>
                    <a:pt x="4496" y="3570"/>
                  </a:lnTo>
                  <a:lnTo>
                    <a:pt x="4676" y="3558"/>
                  </a:lnTo>
                  <a:lnTo>
                    <a:pt x="4841" y="3617"/>
                  </a:lnTo>
                  <a:lnTo>
                    <a:pt x="4841" y="3539"/>
                  </a:lnTo>
                  <a:lnTo>
                    <a:pt x="4927" y="3484"/>
                  </a:lnTo>
                  <a:lnTo>
                    <a:pt x="5186" y="3550"/>
                  </a:lnTo>
                  <a:lnTo>
                    <a:pt x="5245" y="3605"/>
                  </a:lnTo>
                  <a:lnTo>
                    <a:pt x="5252" y="3723"/>
                  </a:lnTo>
                  <a:lnTo>
                    <a:pt x="5339" y="3864"/>
                  </a:lnTo>
                  <a:lnTo>
                    <a:pt x="5378" y="3864"/>
                  </a:lnTo>
                  <a:lnTo>
                    <a:pt x="5409" y="3750"/>
                  </a:lnTo>
                  <a:lnTo>
                    <a:pt x="5323" y="3484"/>
                  </a:lnTo>
                  <a:lnTo>
                    <a:pt x="5370" y="3378"/>
                  </a:lnTo>
                  <a:lnTo>
                    <a:pt x="5676" y="3158"/>
                  </a:lnTo>
                  <a:lnTo>
                    <a:pt x="5636" y="2994"/>
                  </a:lnTo>
                  <a:lnTo>
                    <a:pt x="5676" y="3053"/>
                  </a:lnTo>
                  <a:lnTo>
                    <a:pt x="5734" y="2919"/>
                  </a:lnTo>
                  <a:lnTo>
                    <a:pt x="5801" y="2782"/>
                  </a:lnTo>
                  <a:lnTo>
                    <a:pt x="6032" y="2727"/>
                  </a:lnTo>
                  <a:lnTo>
                    <a:pt x="5973" y="2688"/>
                  </a:lnTo>
                  <a:lnTo>
                    <a:pt x="6021" y="2575"/>
                  </a:lnTo>
                  <a:lnTo>
                    <a:pt x="6214" y="2496"/>
                  </a:lnTo>
                  <a:lnTo>
                    <a:pt x="6214" y="2457"/>
                  </a:lnTo>
                  <a:lnTo>
                    <a:pt x="6370" y="2402"/>
                  </a:lnTo>
                  <a:lnTo>
                    <a:pt x="6359" y="2449"/>
                  </a:lnTo>
                  <a:lnTo>
                    <a:pt x="6445" y="2449"/>
                  </a:lnTo>
                  <a:lnTo>
                    <a:pt x="6272" y="2516"/>
                  </a:lnTo>
                  <a:lnTo>
                    <a:pt x="6319" y="2594"/>
                  </a:lnTo>
                  <a:lnTo>
                    <a:pt x="6398" y="2508"/>
                  </a:lnTo>
                  <a:lnTo>
                    <a:pt x="6582" y="2449"/>
                  </a:lnTo>
                  <a:lnTo>
                    <a:pt x="6656" y="2390"/>
                  </a:lnTo>
                  <a:lnTo>
                    <a:pt x="6609" y="2324"/>
                  </a:lnTo>
                  <a:lnTo>
                    <a:pt x="6562" y="2429"/>
                  </a:lnTo>
                  <a:lnTo>
                    <a:pt x="6410" y="2402"/>
                  </a:lnTo>
                  <a:lnTo>
                    <a:pt x="6331" y="2316"/>
                  </a:lnTo>
                  <a:lnTo>
                    <a:pt x="6359" y="2257"/>
                  </a:lnTo>
                  <a:lnTo>
                    <a:pt x="6245" y="2237"/>
                  </a:lnTo>
                  <a:lnTo>
                    <a:pt x="6390" y="2202"/>
                  </a:lnTo>
                  <a:lnTo>
                    <a:pt x="6312" y="2151"/>
                  </a:lnTo>
                  <a:lnTo>
                    <a:pt x="6111" y="2183"/>
                  </a:lnTo>
                  <a:lnTo>
                    <a:pt x="6265" y="2065"/>
                  </a:lnTo>
                  <a:lnTo>
                    <a:pt x="6637" y="2065"/>
                  </a:lnTo>
                  <a:lnTo>
                    <a:pt x="6915" y="1912"/>
                  </a:lnTo>
                  <a:lnTo>
                    <a:pt x="6907" y="1791"/>
                  </a:lnTo>
                  <a:lnTo>
                    <a:pt x="6821" y="1806"/>
                  </a:lnTo>
                  <a:lnTo>
                    <a:pt x="6821" y="1740"/>
                  </a:lnTo>
                  <a:lnTo>
                    <a:pt x="6629" y="1818"/>
                  </a:lnTo>
                  <a:lnTo>
                    <a:pt x="6582" y="1779"/>
                  </a:lnTo>
                  <a:lnTo>
                    <a:pt x="6809" y="1704"/>
                  </a:lnTo>
                  <a:lnTo>
                    <a:pt x="6629" y="1606"/>
                  </a:lnTo>
                  <a:lnTo>
                    <a:pt x="6543" y="1532"/>
                  </a:lnTo>
                  <a:lnTo>
                    <a:pt x="6531" y="1446"/>
                  </a:lnTo>
                  <a:lnTo>
                    <a:pt x="6457" y="1395"/>
                  </a:lnTo>
                  <a:lnTo>
                    <a:pt x="6476" y="1348"/>
                  </a:lnTo>
                  <a:lnTo>
                    <a:pt x="6437" y="1293"/>
                  </a:lnTo>
                  <a:lnTo>
                    <a:pt x="6370" y="1195"/>
                  </a:lnTo>
                  <a:lnTo>
                    <a:pt x="6304" y="1254"/>
                  </a:lnTo>
                  <a:lnTo>
                    <a:pt x="6253" y="1328"/>
                  </a:lnTo>
                  <a:lnTo>
                    <a:pt x="6139" y="1395"/>
                  </a:lnTo>
                  <a:lnTo>
                    <a:pt x="6126" y="1328"/>
                  </a:lnTo>
                  <a:lnTo>
                    <a:pt x="5985" y="1367"/>
                  </a:lnTo>
                  <a:lnTo>
                    <a:pt x="6079" y="1293"/>
                  </a:lnTo>
                  <a:lnTo>
                    <a:pt x="6060" y="1226"/>
                  </a:lnTo>
                  <a:lnTo>
                    <a:pt x="6052" y="1128"/>
                  </a:lnTo>
                  <a:lnTo>
                    <a:pt x="5934" y="1120"/>
                  </a:lnTo>
                  <a:lnTo>
                    <a:pt x="5934" y="1081"/>
                  </a:lnTo>
                  <a:lnTo>
                    <a:pt x="5801" y="995"/>
                  </a:lnTo>
                  <a:lnTo>
                    <a:pt x="5723" y="1022"/>
                  </a:lnTo>
                  <a:lnTo>
                    <a:pt x="5550" y="995"/>
                  </a:lnTo>
                  <a:lnTo>
                    <a:pt x="5523" y="1042"/>
                  </a:lnTo>
                  <a:lnTo>
                    <a:pt x="5570" y="1081"/>
                  </a:lnTo>
                  <a:lnTo>
                    <a:pt x="5531" y="1156"/>
                  </a:lnTo>
                  <a:lnTo>
                    <a:pt x="5601" y="1262"/>
                  </a:lnTo>
                  <a:lnTo>
                    <a:pt x="5484" y="1340"/>
                  </a:lnTo>
                  <a:lnTo>
                    <a:pt x="5570" y="1387"/>
                  </a:lnTo>
                  <a:lnTo>
                    <a:pt x="5609" y="1559"/>
                  </a:lnTo>
                  <a:lnTo>
                    <a:pt x="5437" y="1704"/>
                  </a:lnTo>
                  <a:lnTo>
                    <a:pt x="5495" y="1885"/>
                  </a:lnTo>
                  <a:lnTo>
                    <a:pt x="5542" y="1904"/>
                  </a:lnTo>
                  <a:lnTo>
                    <a:pt x="5425" y="1998"/>
                  </a:lnTo>
                  <a:lnTo>
                    <a:pt x="5339" y="1998"/>
                  </a:lnTo>
                  <a:lnTo>
                    <a:pt x="5370" y="1943"/>
                  </a:lnTo>
                  <a:lnTo>
                    <a:pt x="5272" y="1846"/>
                  </a:lnTo>
                  <a:lnTo>
                    <a:pt x="5272" y="1665"/>
                  </a:lnTo>
                  <a:lnTo>
                    <a:pt x="5080" y="1638"/>
                  </a:lnTo>
                  <a:lnTo>
                    <a:pt x="4849" y="1512"/>
                  </a:lnTo>
                  <a:lnTo>
                    <a:pt x="4735" y="1473"/>
                  </a:lnTo>
                  <a:lnTo>
                    <a:pt x="4629" y="1501"/>
                  </a:lnTo>
                  <a:lnTo>
                    <a:pt x="4602" y="1340"/>
                  </a:lnTo>
                  <a:lnTo>
                    <a:pt x="4535" y="1367"/>
                  </a:lnTo>
                  <a:lnTo>
                    <a:pt x="4523" y="1101"/>
                  </a:lnTo>
                  <a:lnTo>
                    <a:pt x="4641" y="1034"/>
                  </a:lnTo>
                  <a:lnTo>
                    <a:pt x="4649" y="968"/>
                  </a:lnTo>
                  <a:lnTo>
                    <a:pt x="4762" y="948"/>
                  </a:lnTo>
                  <a:lnTo>
                    <a:pt x="4590" y="842"/>
                  </a:lnTo>
                  <a:lnTo>
                    <a:pt x="4762" y="901"/>
                  </a:lnTo>
                  <a:lnTo>
                    <a:pt x="4813" y="830"/>
                  </a:lnTo>
                  <a:lnTo>
                    <a:pt x="4907" y="842"/>
                  </a:lnTo>
                  <a:lnTo>
                    <a:pt x="4994" y="728"/>
                  </a:lnTo>
                  <a:lnTo>
                    <a:pt x="4860" y="709"/>
                  </a:lnTo>
                  <a:lnTo>
                    <a:pt x="4794" y="662"/>
                  </a:lnTo>
                  <a:lnTo>
                    <a:pt x="5005" y="697"/>
                  </a:lnTo>
                  <a:lnTo>
                    <a:pt x="5013" y="591"/>
                  </a:lnTo>
                  <a:lnTo>
                    <a:pt x="5217" y="611"/>
                  </a:lnTo>
                  <a:lnTo>
                    <a:pt x="5331" y="536"/>
                  </a:lnTo>
                  <a:lnTo>
                    <a:pt x="5264" y="391"/>
                  </a:lnTo>
                  <a:lnTo>
                    <a:pt x="5339" y="372"/>
                  </a:lnTo>
                  <a:lnTo>
                    <a:pt x="5072" y="250"/>
                  </a:lnTo>
                  <a:lnTo>
                    <a:pt x="5131" y="364"/>
                  </a:lnTo>
                  <a:lnTo>
                    <a:pt x="5060" y="372"/>
                  </a:lnTo>
                  <a:lnTo>
                    <a:pt x="4966" y="517"/>
                  </a:lnTo>
                  <a:lnTo>
                    <a:pt x="4927" y="411"/>
                  </a:lnTo>
                  <a:lnTo>
                    <a:pt x="4833" y="305"/>
                  </a:lnTo>
                  <a:lnTo>
                    <a:pt x="4774" y="411"/>
                  </a:lnTo>
                  <a:lnTo>
                    <a:pt x="4715" y="297"/>
                  </a:lnTo>
                  <a:lnTo>
                    <a:pt x="4629" y="258"/>
                  </a:lnTo>
                  <a:lnTo>
                    <a:pt x="4649" y="211"/>
                  </a:lnTo>
                  <a:lnTo>
                    <a:pt x="4708" y="211"/>
                  </a:lnTo>
                  <a:lnTo>
                    <a:pt x="4610" y="86"/>
                  </a:lnTo>
                  <a:lnTo>
                    <a:pt x="4484" y="0"/>
                  </a:lnTo>
                  <a:lnTo>
                    <a:pt x="4410" y="86"/>
                  </a:lnTo>
                  <a:lnTo>
                    <a:pt x="4398" y="211"/>
                  </a:lnTo>
                  <a:lnTo>
                    <a:pt x="4570" y="278"/>
                  </a:lnTo>
                  <a:lnTo>
                    <a:pt x="4590" y="384"/>
                  </a:lnTo>
                  <a:lnTo>
                    <a:pt x="4457" y="431"/>
                  </a:lnTo>
                  <a:lnTo>
                    <a:pt x="4465" y="517"/>
                  </a:lnTo>
                  <a:lnTo>
                    <a:pt x="4410" y="489"/>
                  </a:lnTo>
                  <a:lnTo>
                    <a:pt x="4390" y="431"/>
                  </a:lnTo>
                  <a:lnTo>
                    <a:pt x="4284" y="458"/>
                  </a:lnTo>
                  <a:lnTo>
                    <a:pt x="4045" y="478"/>
                  </a:lnTo>
                  <a:lnTo>
                    <a:pt x="3975" y="419"/>
                  </a:lnTo>
                  <a:lnTo>
                    <a:pt x="3802" y="333"/>
                  </a:lnTo>
                  <a:lnTo>
                    <a:pt x="3642" y="403"/>
                  </a:lnTo>
                  <a:lnTo>
                    <a:pt x="3689" y="419"/>
                  </a:lnTo>
                  <a:lnTo>
                    <a:pt x="3822" y="364"/>
                  </a:lnTo>
                  <a:lnTo>
                    <a:pt x="3736" y="525"/>
                  </a:lnTo>
                  <a:lnTo>
                    <a:pt x="3563" y="431"/>
                  </a:lnTo>
                  <a:lnTo>
                    <a:pt x="3226" y="438"/>
                  </a:lnTo>
                  <a:lnTo>
                    <a:pt x="3324" y="391"/>
                  </a:lnTo>
                  <a:lnTo>
                    <a:pt x="3101" y="344"/>
                  </a:lnTo>
                  <a:lnTo>
                    <a:pt x="2783" y="239"/>
                  </a:lnTo>
                  <a:lnTo>
                    <a:pt x="2670" y="297"/>
                  </a:lnTo>
                  <a:lnTo>
                    <a:pt x="2677" y="211"/>
                  </a:lnTo>
                  <a:lnTo>
                    <a:pt x="2591" y="297"/>
                  </a:lnTo>
                  <a:lnTo>
                    <a:pt x="2477" y="199"/>
                  </a:lnTo>
                  <a:lnTo>
                    <a:pt x="2278" y="317"/>
                  </a:lnTo>
                  <a:lnTo>
                    <a:pt x="2266" y="286"/>
                  </a:lnTo>
                  <a:lnTo>
                    <a:pt x="2054" y="325"/>
                  </a:lnTo>
                  <a:lnTo>
                    <a:pt x="2074" y="384"/>
                  </a:lnTo>
                  <a:lnTo>
                    <a:pt x="1661" y="258"/>
                  </a:lnTo>
                  <a:lnTo>
                    <a:pt x="999" y="172"/>
                  </a:lnTo>
                  <a:lnTo>
                    <a:pt x="968" y="133"/>
                  </a:lnTo>
                  <a:lnTo>
                    <a:pt x="768" y="94"/>
                  </a:lnTo>
                  <a:lnTo>
                    <a:pt x="689" y="78"/>
                  </a:lnTo>
                  <a:lnTo>
                    <a:pt x="623" y="133"/>
                  </a:lnTo>
                  <a:lnTo>
                    <a:pt x="478" y="164"/>
                  </a:lnTo>
                  <a:lnTo>
                    <a:pt x="344" y="219"/>
                  </a:lnTo>
                  <a:lnTo>
                    <a:pt x="266" y="325"/>
                  </a:lnTo>
                  <a:lnTo>
                    <a:pt x="105" y="344"/>
                  </a:lnTo>
                  <a:lnTo>
                    <a:pt x="66" y="403"/>
                  </a:lnTo>
                  <a:lnTo>
                    <a:pt x="266" y="536"/>
                  </a:lnTo>
                  <a:lnTo>
                    <a:pt x="364" y="583"/>
                  </a:lnTo>
                  <a:lnTo>
                    <a:pt x="431" y="623"/>
                  </a:lnTo>
                  <a:lnTo>
                    <a:pt x="266" y="642"/>
                  </a:lnTo>
                  <a:lnTo>
                    <a:pt x="266" y="583"/>
                  </a:lnTo>
                  <a:lnTo>
                    <a:pt x="211" y="583"/>
                  </a:lnTo>
                  <a:lnTo>
                    <a:pt x="0" y="689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403360" y="4151160"/>
              <a:ext cx="236880" cy="74880"/>
            </a:xfrm>
            <a:custGeom>
              <a:avLst/>
              <a:gdLst/>
              <a:ahLst/>
              <a:rect l="0" t="0" r="r" b="b"/>
              <a:pathLst>
                <a:path w="658" h="208">
                  <a:moveTo>
                    <a:pt x="0" y="82"/>
                  </a:moveTo>
                  <a:lnTo>
                    <a:pt x="86" y="15"/>
                  </a:lnTo>
                  <a:lnTo>
                    <a:pt x="251" y="0"/>
                  </a:lnTo>
                  <a:lnTo>
                    <a:pt x="658" y="180"/>
                  </a:lnTo>
                  <a:lnTo>
                    <a:pt x="445" y="208"/>
                  </a:lnTo>
                  <a:lnTo>
                    <a:pt x="378" y="93"/>
                  </a:lnTo>
                  <a:lnTo>
                    <a:pt x="173" y="66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35200" y="4230720"/>
              <a:ext cx="132120" cy="38520"/>
            </a:xfrm>
            <a:custGeom>
              <a:avLst/>
              <a:gdLst/>
              <a:ahLst/>
              <a:rect l="0" t="0" r="r" b="b"/>
              <a:pathLst>
                <a:path w="367" h="107">
                  <a:moveTo>
                    <a:pt x="0" y="75"/>
                  </a:moveTo>
                  <a:lnTo>
                    <a:pt x="125" y="67"/>
                  </a:lnTo>
                  <a:lnTo>
                    <a:pt x="59" y="0"/>
                  </a:lnTo>
                  <a:lnTo>
                    <a:pt x="272" y="7"/>
                  </a:lnTo>
                  <a:lnTo>
                    <a:pt x="367" y="67"/>
                  </a:lnTo>
                  <a:lnTo>
                    <a:pt x="165" y="10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05040" y="5962680"/>
              <a:ext cx="135360" cy="65520"/>
            </a:xfrm>
            <a:custGeom>
              <a:avLst/>
              <a:gdLst/>
              <a:ahLst/>
              <a:rect l="0" t="0" r="r" b="b"/>
              <a:pathLst>
                <a:path w="376" h="182">
                  <a:moveTo>
                    <a:pt x="0" y="155"/>
                  </a:moveTo>
                  <a:lnTo>
                    <a:pt x="19" y="122"/>
                  </a:lnTo>
                  <a:lnTo>
                    <a:pt x="58" y="56"/>
                  </a:lnTo>
                  <a:lnTo>
                    <a:pt x="164" y="0"/>
                  </a:lnTo>
                  <a:lnTo>
                    <a:pt x="211" y="87"/>
                  </a:lnTo>
                  <a:lnTo>
                    <a:pt x="376" y="174"/>
                  </a:lnTo>
                  <a:lnTo>
                    <a:pt x="164" y="182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971800" y="3413160"/>
              <a:ext cx="144720" cy="138600"/>
            </a:xfrm>
            <a:custGeom>
              <a:avLst/>
              <a:gdLst/>
              <a:ahLst/>
              <a:rect l="0" t="0" r="r" b="b"/>
              <a:pathLst>
                <a:path w="402" h="385">
                  <a:moveTo>
                    <a:pt x="0" y="319"/>
                  </a:moveTo>
                  <a:lnTo>
                    <a:pt x="163" y="27"/>
                  </a:lnTo>
                  <a:lnTo>
                    <a:pt x="230" y="0"/>
                  </a:lnTo>
                  <a:lnTo>
                    <a:pt x="203" y="126"/>
                  </a:lnTo>
                  <a:lnTo>
                    <a:pt x="250" y="200"/>
                  </a:lnTo>
                  <a:lnTo>
                    <a:pt x="355" y="192"/>
                  </a:lnTo>
                  <a:lnTo>
                    <a:pt x="394" y="278"/>
                  </a:lnTo>
                  <a:lnTo>
                    <a:pt x="402" y="338"/>
                  </a:lnTo>
                  <a:lnTo>
                    <a:pt x="316" y="385"/>
                  </a:lnTo>
                  <a:lnTo>
                    <a:pt x="316" y="307"/>
                  </a:lnTo>
                  <a:lnTo>
                    <a:pt x="190" y="338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2480" y="3224160"/>
              <a:ext cx="57600" cy="32040"/>
            </a:xfrm>
            <a:custGeom>
              <a:avLst/>
              <a:gdLst/>
              <a:ahLst/>
              <a:rect l="0" t="0" r="r" b="b"/>
              <a:pathLst>
                <a:path w="160" h="89">
                  <a:moveTo>
                    <a:pt x="0" y="40"/>
                  </a:moveTo>
                  <a:lnTo>
                    <a:pt x="47" y="89"/>
                  </a:lnTo>
                  <a:lnTo>
                    <a:pt x="160" y="20"/>
                  </a:lnTo>
                  <a:lnTo>
                    <a:pt x="55" y="0"/>
                  </a:lnTo>
                  <a:lnTo>
                    <a:pt x="55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743280" y="2924280"/>
              <a:ext cx="241560" cy="114840"/>
            </a:xfrm>
            <a:custGeom>
              <a:avLst/>
              <a:gdLst/>
              <a:ahLst/>
              <a:rect l="0" t="0" r="r" b="b"/>
              <a:pathLst>
                <a:path w="671" h="319">
                  <a:moveTo>
                    <a:pt x="0" y="118"/>
                  </a:moveTo>
                  <a:lnTo>
                    <a:pt x="86" y="0"/>
                  </a:lnTo>
                  <a:lnTo>
                    <a:pt x="192" y="138"/>
                  </a:lnTo>
                  <a:lnTo>
                    <a:pt x="385" y="39"/>
                  </a:lnTo>
                  <a:lnTo>
                    <a:pt x="604" y="19"/>
                  </a:lnTo>
                  <a:lnTo>
                    <a:pt x="671" y="146"/>
                  </a:lnTo>
                  <a:lnTo>
                    <a:pt x="333" y="319"/>
                  </a:lnTo>
                  <a:lnTo>
                    <a:pt x="113" y="28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240" bIns="57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49360" y="2949480"/>
              <a:ext cx="141480" cy="95760"/>
            </a:xfrm>
            <a:custGeom>
              <a:avLst/>
              <a:gdLst/>
              <a:ahLst/>
              <a:rect l="0" t="0" r="r" b="b"/>
              <a:pathLst>
                <a:path w="393" h="266">
                  <a:moveTo>
                    <a:pt x="0" y="227"/>
                  </a:moveTo>
                  <a:lnTo>
                    <a:pt x="66" y="168"/>
                  </a:lnTo>
                  <a:lnTo>
                    <a:pt x="105" y="0"/>
                  </a:lnTo>
                  <a:lnTo>
                    <a:pt x="393" y="239"/>
                  </a:lnTo>
                  <a:lnTo>
                    <a:pt x="125" y="266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38160" bIns="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94000" y="2600280"/>
              <a:ext cx="236880" cy="144720"/>
            </a:xfrm>
            <a:custGeom>
              <a:avLst/>
              <a:gdLst/>
              <a:ahLst/>
              <a:rect l="0" t="0" r="r" b="b"/>
              <a:pathLst>
                <a:path w="658" h="402">
                  <a:moveTo>
                    <a:pt x="0" y="307"/>
                  </a:moveTo>
                  <a:lnTo>
                    <a:pt x="125" y="94"/>
                  </a:lnTo>
                  <a:lnTo>
                    <a:pt x="78" y="19"/>
                  </a:lnTo>
                  <a:lnTo>
                    <a:pt x="271" y="0"/>
                  </a:lnTo>
                  <a:lnTo>
                    <a:pt x="406" y="66"/>
                  </a:lnTo>
                  <a:lnTo>
                    <a:pt x="504" y="39"/>
                  </a:lnTo>
                  <a:lnTo>
                    <a:pt x="658" y="114"/>
                  </a:lnTo>
                  <a:lnTo>
                    <a:pt x="351" y="280"/>
                  </a:lnTo>
                  <a:lnTo>
                    <a:pt x="318" y="355"/>
                  </a:lnTo>
                  <a:lnTo>
                    <a:pt x="184" y="402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46280" y="2655720"/>
              <a:ext cx="402120" cy="195480"/>
            </a:xfrm>
            <a:custGeom>
              <a:avLst/>
              <a:gdLst/>
              <a:ahLst/>
              <a:rect l="0" t="0" r="r" b="b"/>
              <a:pathLst>
                <a:path w="1117" h="543">
                  <a:moveTo>
                    <a:pt x="0" y="159"/>
                  </a:moveTo>
                  <a:lnTo>
                    <a:pt x="164" y="27"/>
                  </a:lnTo>
                  <a:lnTo>
                    <a:pt x="435" y="113"/>
                  </a:lnTo>
                  <a:lnTo>
                    <a:pt x="674" y="0"/>
                  </a:lnTo>
                  <a:lnTo>
                    <a:pt x="839" y="58"/>
                  </a:lnTo>
                  <a:lnTo>
                    <a:pt x="894" y="257"/>
                  </a:lnTo>
                  <a:lnTo>
                    <a:pt x="1117" y="363"/>
                  </a:lnTo>
                  <a:lnTo>
                    <a:pt x="992" y="504"/>
                  </a:lnTo>
                  <a:lnTo>
                    <a:pt x="760" y="430"/>
                  </a:lnTo>
                  <a:lnTo>
                    <a:pt x="357" y="543"/>
                  </a:lnTo>
                  <a:lnTo>
                    <a:pt x="97" y="371"/>
                  </a:lnTo>
                  <a:lnTo>
                    <a:pt x="97" y="305"/>
                  </a:lnTo>
                  <a:lnTo>
                    <a:pt x="211" y="199"/>
                  </a:lnTo>
                  <a:lnTo>
                    <a:pt x="58" y="230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240160" y="4943520"/>
              <a:ext cx="155880" cy="309960"/>
            </a:xfrm>
            <a:custGeom>
              <a:avLst/>
              <a:gdLst/>
              <a:ahLst/>
              <a:rect l="0" t="0" r="r" b="b"/>
              <a:pathLst>
                <a:path w="433" h="861">
                  <a:moveTo>
                    <a:pt x="0" y="622"/>
                  </a:moveTo>
                  <a:lnTo>
                    <a:pt x="39" y="795"/>
                  </a:lnTo>
                  <a:lnTo>
                    <a:pt x="125" y="861"/>
                  </a:lnTo>
                  <a:lnTo>
                    <a:pt x="252" y="795"/>
                  </a:lnTo>
                  <a:lnTo>
                    <a:pt x="433" y="219"/>
                  </a:lnTo>
                  <a:lnTo>
                    <a:pt x="358" y="0"/>
                  </a:lnTo>
                  <a:lnTo>
                    <a:pt x="39" y="344"/>
                  </a:lnTo>
                  <a:lnTo>
                    <a:pt x="78" y="489"/>
                  </a:lnTo>
                  <a:lnTo>
                    <a:pt x="0" y="622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807240" y="4908600"/>
              <a:ext cx="879840" cy="673560"/>
            </a:xfrm>
            <a:custGeom>
              <a:avLst/>
              <a:gdLst/>
              <a:ahLst/>
              <a:rect l="0" t="0" r="r" b="b"/>
              <a:pathLst>
                <a:path w="2444" h="1871">
                  <a:moveTo>
                    <a:pt x="0" y="1014"/>
                  </a:moveTo>
                  <a:lnTo>
                    <a:pt x="11" y="755"/>
                  </a:lnTo>
                  <a:lnTo>
                    <a:pt x="172" y="633"/>
                  </a:lnTo>
                  <a:lnTo>
                    <a:pt x="435" y="574"/>
                  </a:lnTo>
                  <a:lnTo>
                    <a:pt x="521" y="400"/>
                  </a:lnTo>
                  <a:lnTo>
                    <a:pt x="749" y="208"/>
                  </a:lnTo>
                  <a:lnTo>
                    <a:pt x="906" y="267"/>
                  </a:lnTo>
                  <a:lnTo>
                    <a:pt x="1012" y="141"/>
                  </a:lnTo>
                  <a:lnTo>
                    <a:pt x="1118" y="35"/>
                  </a:lnTo>
                  <a:lnTo>
                    <a:pt x="1396" y="113"/>
                  </a:lnTo>
                  <a:lnTo>
                    <a:pt x="1338" y="274"/>
                  </a:lnTo>
                  <a:lnTo>
                    <a:pt x="1616" y="447"/>
                  </a:lnTo>
                  <a:lnTo>
                    <a:pt x="1695" y="381"/>
                  </a:lnTo>
                  <a:lnTo>
                    <a:pt x="1722" y="86"/>
                  </a:lnTo>
                  <a:lnTo>
                    <a:pt x="1789" y="0"/>
                  </a:lnTo>
                  <a:lnTo>
                    <a:pt x="1943" y="274"/>
                  </a:lnTo>
                  <a:lnTo>
                    <a:pt x="2013" y="535"/>
                  </a:lnTo>
                  <a:lnTo>
                    <a:pt x="2166" y="613"/>
                  </a:lnTo>
                  <a:lnTo>
                    <a:pt x="2280" y="825"/>
                  </a:lnTo>
                  <a:lnTo>
                    <a:pt x="2405" y="928"/>
                  </a:lnTo>
                  <a:lnTo>
                    <a:pt x="2444" y="1140"/>
                  </a:lnTo>
                  <a:lnTo>
                    <a:pt x="2413" y="1332"/>
                  </a:lnTo>
                  <a:lnTo>
                    <a:pt x="2311" y="1494"/>
                  </a:lnTo>
                  <a:lnTo>
                    <a:pt x="2233" y="1785"/>
                  </a:lnTo>
                  <a:lnTo>
                    <a:pt x="2001" y="1859"/>
                  </a:lnTo>
                  <a:lnTo>
                    <a:pt x="1915" y="1793"/>
                  </a:lnTo>
                  <a:lnTo>
                    <a:pt x="1820" y="1871"/>
                  </a:lnTo>
                  <a:lnTo>
                    <a:pt x="1608" y="1773"/>
                  </a:lnTo>
                  <a:lnTo>
                    <a:pt x="1569" y="1620"/>
                  </a:lnTo>
                  <a:lnTo>
                    <a:pt x="1471" y="1427"/>
                  </a:lnTo>
                  <a:lnTo>
                    <a:pt x="1365" y="1600"/>
                  </a:lnTo>
                  <a:lnTo>
                    <a:pt x="1259" y="1427"/>
                  </a:lnTo>
                  <a:lnTo>
                    <a:pt x="1079" y="1360"/>
                  </a:lnTo>
                  <a:lnTo>
                    <a:pt x="742" y="1408"/>
                  </a:lnTo>
                  <a:lnTo>
                    <a:pt x="607" y="1506"/>
                  </a:lnTo>
                  <a:lnTo>
                    <a:pt x="376" y="1514"/>
                  </a:lnTo>
                  <a:lnTo>
                    <a:pt x="250" y="1600"/>
                  </a:lnTo>
                  <a:lnTo>
                    <a:pt x="78" y="1533"/>
                  </a:lnTo>
                  <a:lnTo>
                    <a:pt x="117" y="1360"/>
                  </a:lnTo>
                  <a:lnTo>
                    <a:pt x="0" y="1014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496280" y="5629320"/>
              <a:ext cx="76680" cy="76680"/>
            </a:xfrm>
            <a:custGeom>
              <a:avLst/>
              <a:gdLst/>
              <a:ahLst/>
              <a:rect l="0" t="0" r="r" b="b"/>
              <a:pathLst>
                <a:path w="213" h="213">
                  <a:moveTo>
                    <a:pt x="0" y="39"/>
                  </a:moveTo>
                  <a:lnTo>
                    <a:pt x="0" y="0"/>
                  </a:lnTo>
                  <a:lnTo>
                    <a:pt x="194" y="7"/>
                  </a:lnTo>
                  <a:lnTo>
                    <a:pt x="213" y="114"/>
                  </a:lnTo>
                  <a:lnTo>
                    <a:pt x="126" y="21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19080" bIns="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972560" y="5629320"/>
              <a:ext cx="170280" cy="162360"/>
            </a:xfrm>
            <a:custGeom>
              <a:avLst/>
              <a:gdLst/>
              <a:ahLst/>
              <a:rect l="0" t="0" r="r" b="b"/>
              <a:pathLst>
                <a:path w="473" h="451">
                  <a:moveTo>
                    <a:pt x="0" y="393"/>
                  </a:moveTo>
                  <a:lnTo>
                    <a:pt x="106" y="259"/>
                  </a:lnTo>
                  <a:lnTo>
                    <a:pt x="280" y="153"/>
                  </a:lnTo>
                  <a:lnTo>
                    <a:pt x="367" y="0"/>
                  </a:lnTo>
                  <a:lnTo>
                    <a:pt x="473" y="74"/>
                  </a:lnTo>
                  <a:lnTo>
                    <a:pt x="418" y="239"/>
                  </a:lnTo>
                  <a:lnTo>
                    <a:pt x="311" y="247"/>
                  </a:lnTo>
                  <a:lnTo>
                    <a:pt x="154" y="451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110440" y="5467320"/>
              <a:ext cx="125640" cy="178200"/>
            </a:xfrm>
            <a:custGeom>
              <a:avLst/>
              <a:gdLst/>
              <a:ahLst/>
              <a:rect l="0" t="0" r="r" b="b"/>
              <a:pathLst>
                <a:path w="349" h="495">
                  <a:moveTo>
                    <a:pt x="0" y="0"/>
                  </a:moveTo>
                  <a:lnTo>
                    <a:pt x="204" y="179"/>
                  </a:lnTo>
                  <a:lnTo>
                    <a:pt x="349" y="230"/>
                  </a:lnTo>
                  <a:lnTo>
                    <a:pt x="329" y="343"/>
                  </a:lnTo>
                  <a:lnTo>
                    <a:pt x="192" y="495"/>
                  </a:lnTo>
                  <a:lnTo>
                    <a:pt x="58" y="351"/>
                  </a:lnTo>
                  <a:lnTo>
                    <a:pt x="136" y="257"/>
                  </a:lnTo>
                  <a:lnTo>
                    <a:pt x="125" y="1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898800" y="3813120"/>
              <a:ext cx="1527480" cy="1654560"/>
            </a:xfrm>
            <a:custGeom>
              <a:avLst/>
              <a:gdLst/>
              <a:ahLst/>
              <a:rect l="0" t="0" r="r" b="b"/>
              <a:pathLst>
                <a:path w="4243" h="4596">
                  <a:moveTo>
                    <a:pt x="133" y="1667"/>
                  </a:moveTo>
                  <a:lnTo>
                    <a:pt x="152" y="1714"/>
                  </a:lnTo>
                  <a:lnTo>
                    <a:pt x="270" y="1831"/>
                  </a:lnTo>
                  <a:lnTo>
                    <a:pt x="383" y="1953"/>
                  </a:lnTo>
                  <a:lnTo>
                    <a:pt x="614" y="2118"/>
                  </a:lnTo>
                  <a:lnTo>
                    <a:pt x="959" y="2106"/>
                  </a:lnTo>
                  <a:lnTo>
                    <a:pt x="1382" y="2012"/>
                  </a:lnTo>
                  <a:lnTo>
                    <a:pt x="1468" y="2125"/>
                  </a:lnTo>
                  <a:lnTo>
                    <a:pt x="1602" y="2106"/>
                  </a:lnTo>
                  <a:lnTo>
                    <a:pt x="1621" y="2431"/>
                  </a:lnTo>
                  <a:lnTo>
                    <a:pt x="1813" y="2702"/>
                  </a:lnTo>
                  <a:lnTo>
                    <a:pt x="1931" y="3062"/>
                  </a:lnTo>
                  <a:lnTo>
                    <a:pt x="1794" y="3467"/>
                  </a:lnTo>
                  <a:lnTo>
                    <a:pt x="1966" y="3812"/>
                  </a:lnTo>
                  <a:lnTo>
                    <a:pt x="2017" y="4126"/>
                  </a:lnTo>
                  <a:lnTo>
                    <a:pt x="2210" y="4596"/>
                  </a:lnTo>
                  <a:lnTo>
                    <a:pt x="2754" y="4538"/>
                  </a:lnTo>
                  <a:lnTo>
                    <a:pt x="3071" y="4197"/>
                  </a:lnTo>
                  <a:lnTo>
                    <a:pt x="3103" y="4004"/>
                  </a:lnTo>
                  <a:lnTo>
                    <a:pt x="3263" y="3906"/>
                  </a:lnTo>
                  <a:lnTo>
                    <a:pt x="3216" y="3632"/>
                  </a:lnTo>
                  <a:lnTo>
                    <a:pt x="3573" y="3353"/>
                  </a:lnTo>
                  <a:lnTo>
                    <a:pt x="3573" y="3035"/>
                  </a:lnTo>
                  <a:lnTo>
                    <a:pt x="3475" y="2776"/>
                  </a:lnTo>
                  <a:lnTo>
                    <a:pt x="3639" y="2490"/>
                  </a:lnTo>
                  <a:lnTo>
                    <a:pt x="4012" y="2137"/>
                  </a:lnTo>
                  <a:lnTo>
                    <a:pt x="4243" y="1753"/>
                  </a:lnTo>
                  <a:lnTo>
                    <a:pt x="4215" y="1647"/>
                  </a:lnTo>
                  <a:lnTo>
                    <a:pt x="3851" y="1753"/>
                  </a:lnTo>
                  <a:lnTo>
                    <a:pt x="3733" y="1600"/>
                  </a:lnTo>
                  <a:lnTo>
                    <a:pt x="3522" y="1455"/>
                  </a:lnTo>
                  <a:lnTo>
                    <a:pt x="3447" y="1267"/>
                  </a:lnTo>
                  <a:lnTo>
                    <a:pt x="3283" y="889"/>
                  </a:lnTo>
                  <a:lnTo>
                    <a:pt x="3071" y="509"/>
                  </a:lnTo>
                  <a:lnTo>
                    <a:pt x="2966" y="372"/>
                  </a:lnTo>
                  <a:lnTo>
                    <a:pt x="2860" y="431"/>
                  </a:lnTo>
                  <a:lnTo>
                    <a:pt x="2621" y="372"/>
                  </a:lnTo>
                  <a:lnTo>
                    <a:pt x="2304" y="345"/>
                  </a:lnTo>
                  <a:lnTo>
                    <a:pt x="2237" y="470"/>
                  </a:lnTo>
                  <a:lnTo>
                    <a:pt x="2005" y="325"/>
                  </a:lnTo>
                  <a:lnTo>
                    <a:pt x="1688" y="211"/>
                  </a:lnTo>
                  <a:lnTo>
                    <a:pt x="1766" y="0"/>
                  </a:lnTo>
                  <a:lnTo>
                    <a:pt x="1621" y="11"/>
                  </a:lnTo>
                  <a:lnTo>
                    <a:pt x="1179" y="31"/>
                  </a:lnTo>
                  <a:lnTo>
                    <a:pt x="951" y="133"/>
                  </a:lnTo>
                  <a:lnTo>
                    <a:pt x="728" y="98"/>
                  </a:lnTo>
                  <a:lnTo>
                    <a:pt x="528" y="317"/>
                  </a:lnTo>
                  <a:lnTo>
                    <a:pt x="462" y="537"/>
                  </a:lnTo>
                  <a:lnTo>
                    <a:pt x="285" y="631"/>
                  </a:lnTo>
                  <a:lnTo>
                    <a:pt x="47" y="1074"/>
                  </a:lnTo>
                  <a:lnTo>
                    <a:pt x="94" y="1228"/>
                  </a:lnTo>
                  <a:lnTo>
                    <a:pt x="0" y="1475"/>
                  </a:lnTo>
                  <a:lnTo>
                    <a:pt x="133" y="1667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188120" y="4680000"/>
              <a:ext cx="443160" cy="222480"/>
            </a:xfrm>
            <a:custGeom>
              <a:avLst/>
              <a:gdLst/>
              <a:ahLst/>
              <a:rect l="0" t="0" r="r" b="b"/>
              <a:pathLst>
                <a:path w="1231" h="618">
                  <a:moveTo>
                    <a:pt x="0" y="58"/>
                  </a:moveTo>
                  <a:lnTo>
                    <a:pt x="180" y="106"/>
                  </a:lnTo>
                  <a:lnTo>
                    <a:pt x="113" y="224"/>
                  </a:lnTo>
                  <a:lnTo>
                    <a:pt x="442" y="319"/>
                  </a:lnTo>
                  <a:lnTo>
                    <a:pt x="423" y="512"/>
                  </a:lnTo>
                  <a:lnTo>
                    <a:pt x="729" y="551"/>
                  </a:lnTo>
                  <a:lnTo>
                    <a:pt x="835" y="445"/>
                  </a:lnTo>
                  <a:lnTo>
                    <a:pt x="1231" y="618"/>
                  </a:lnTo>
                  <a:lnTo>
                    <a:pt x="1027" y="358"/>
                  </a:lnTo>
                  <a:lnTo>
                    <a:pt x="423" y="58"/>
                  </a:lnTo>
                  <a:lnTo>
                    <a:pt x="86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988320" y="4457880"/>
              <a:ext cx="92520" cy="89280"/>
            </a:xfrm>
            <a:custGeom>
              <a:avLst/>
              <a:gdLst/>
              <a:ahLst/>
              <a:rect l="0" t="0" r="r" b="b"/>
              <a:pathLst>
                <a:path w="257" h="248">
                  <a:moveTo>
                    <a:pt x="0" y="161"/>
                  </a:moveTo>
                  <a:lnTo>
                    <a:pt x="54" y="87"/>
                  </a:lnTo>
                  <a:lnTo>
                    <a:pt x="230" y="0"/>
                  </a:lnTo>
                  <a:lnTo>
                    <a:pt x="257" y="153"/>
                  </a:lnTo>
                  <a:lnTo>
                    <a:pt x="219" y="248"/>
                  </a:lnTo>
                  <a:lnTo>
                    <a:pt x="105" y="114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942240" y="4254480"/>
              <a:ext cx="90720" cy="141480"/>
            </a:xfrm>
            <a:custGeom>
              <a:avLst/>
              <a:gdLst/>
              <a:ahLst/>
              <a:rect l="0" t="0" r="r" b="b"/>
              <a:pathLst>
                <a:path w="252" h="393">
                  <a:moveTo>
                    <a:pt x="0" y="153"/>
                  </a:moveTo>
                  <a:lnTo>
                    <a:pt x="47" y="0"/>
                  </a:lnTo>
                  <a:lnTo>
                    <a:pt x="134" y="0"/>
                  </a:lnTo>
                  <a:lnTo>
                    <a:pt x="165" y="105"/>
                  </a:lnTo>
                  <a:lnTo>
                    <a:pt x="86" y="220"/>
                  </a:lnTo>
                  <a:lnTo>
                    <a:pt x="252" y="393"/>
                  </a:lnTo>
                  <a:lnTo>
                    <a:pt x="47" y="307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921360" y="4637160"/>
              <a:ext cx="138600" cy="157680"/>
            </a:xfrm>
            <a:custGeom>
              <a:avLst/>
              <a:gdLst/>
              <a:ahLst/>
              <a:rect l="0" t="0" r="r" b="b"/>
              <a:pathLst>
                <a:path w="385" h="438">
                  <a:moveTo>
                    <a:pt x="0" y="266"/>
                  </a:moveTo>
                  <a:lnTo>
                    <a:pt x="31" y="419"/>
                  </a:lnTo>
                  <a:lnTo>
                    <a:pt x="145" y="438"/>
                  </a:lnTo>
                  <a:lnTo>
                    <a:pt x="239" y="372"/>
                  </a:lnTo>
                  <a:lnTo>
                    <a:pt x="145" y="207"/>
                  </a:lnTo>
                  <a:lnTo>
                    <a:pt x="326" y="74"/>
                  </a:lnTo>
                  <a:lnTo>
                    <a:pt x="385" y="0"/>
                  </a:lnTo>
                  <a:lnTo>
                    <a:pt x="134" y="19"/>
                  </a:lnTo>
                  <a:lnTo>
                    <a:pt x="66" y="54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99240" y="4514760"/>
              <a:ext cx="228960" cy="249480"/>
            </a:xfrm>
            <a:custGeom>
              <a:avLst/>
              <a:gdLst/>
              <a:ahLst/>
              <a:rect l="0" t="0" r="r" b="b"/>
              <a:pathLst>
                <a:path w="636" h="693">
                  <a:moveTo>
                    <a:pt x="0" y="414"/>
                  </a:moveTo>
                  <a:lnTo>
                    <a:pt x="50" y="338"/>
                  </a:lnTo>
                  <a:lnTo>
                    <a:pt x="510" y="0"/>
                  </a:lnTo>
                  <a:lnTo>
                    <a:pt x="636" y="118"/>
                  </a:lnTo>
                  <a:lnTo>
                    <a:pt x="510" y="220"/>
                  </a:lnTo>
                  <a:lnTo>
                    <a:pt x="557" y="378"/>
                  </a:lnTo>
                  <a:lnTo>
                    <a:pt x="365" y="693"/>
                  </a:lnTo>
                  <a:lnTo>
                    <a:pt x="86" y="626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22920" y="4805280"/>
              <a:ext cx="198720" cy="65520"/>
            </a:xfrm>
            <a:custGeom>
              <a:avLst/>
              <a:gdLst/>
              <a:ahLst/>
              <a:rect l="0" t="0" r="r" b="b"/>
              <a:pathLst>
                <a:path w="552" h="182">
                  <a:moveTo>
                    <a:pt x="0" y="51"/>
                  </a:moveTo>
                  <a:lnTo>
                    <a:pt x="31" y="0"/>
                  </a:lnTo>
                  <a:lnTo>
                    <a:pt x="426" y="58"/>
                  </a:lnTo>
                  <a:lnTo>
                    <a:pt x="552" y="116"/>
                  </a:lnTo>
                  <a:lnTo>
                    <a:pt x="552" y="182"/>
                  </a:lnTo>
                  <a:lnTo>
                    <a:pt x="86" y="9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396120" y="4546440"/>
              <a:ext cx="241560" cy="255960"/>
            </a:xfrm>
            <a:custGeom>
              <a:avLst/>
              <a:gdLst/>
              <a:ahLst/>
              <a:rect l="0" t="0" r="r" b="b"/>
              <a:pathLst>
                <a:path w="671" h="711">
                  <a:moveTo>
                    <a:pt x="0" y="0"/>
                  </a:moveTo>
                  <a:lnTo>
                    <a:pt x="141" y="39"/>
                  </a:lnTo>
                  <a:lnTo>
                    <a:pt x="490" y="291"/>
                  </a:lnTo>
                  <a:lnTo>
                    <a:pt x="518" y="405"/>
                  </a:lnTo>
                  <a:lnTo>
                    <a:pt x="671" y="539"/>
                  </a:lnTo>
                  <a:lnTo>
                    <a:pt x="585" y="711"/>
                  </a:lnTo>
                  <a:lnTo>
                    <a:pt x="451" y="606"/>
                  </a:lnTo>
                  <a:lnTo>
                    <a:pt x="219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385040" y="3589200"/>
              <a:ext cx="132120" cy="97200"/>
            </a:xfrm>
            <a:custGeom>
              <a:avLst/>
              <a:gdLst/>
              <a:ahLst/>
              <a:rect l="0" t="0" r="r" b="b"/>
              <a:pathLst>
                <a:path w="367" h="270">
                  <a:moveTo>
                    <a:pt x="0" y="231"/>
                  </a:moveTo>
                  <a:lnTo>
                    <a:pt x="35" y="231"/>
                  </a:lnTo>
                  <a:lnTo>
                    <a:pt x="213" y="270"/>
                  </a:lnTo>
                  <a:lnTo>
                    <a:pt x="367" y="163"/>
                  </a:lnTo>
                  <a:lnTo>
                    <a:pt x="347" y="95"/>
                  </a:lnTo>
                  <a:lnTo>
                    <a:pt x="133" y="0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426440" y="3330720"/>
              <a:ext cx="70200" cy="244800"/>
            </a:xfrm>
            <a:custGeom>
              <a:avLst/>
              <a:gdLst/>
              <a:ahLst/>
              <a:rect l="0" t="0" r="r" b="b"/>
              <a:pathLst>
                <a:path w="195" h="680">
                  <a:moveTo>
                    <a:pt x="0" y="171"/>
                  </a:moveTo>
                  <a:lnTo>
                    <a:pt x="27" y="680"/>
                  </a:lnTo>
                  <a:lnTo>
                    <a:pt x="195" y="469"/>
                  </a:lnTo>
                  <a:lnTo>
                    <a:pt x="59" y="0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88120" y="3700440"/>
              <a:ext cx="248040" cy="189360"/>
            </a:xfrm>
            <a:custGeom>
              <a:avLst/>
              <a:gdLst/>
              <a:ahLst/>
              <a:rect l="0" t="0" r="r" b="b"/>
              <a:pathLst>
                <a:path w="689" h="526">
                  <a:moveTo>
                    <a:pt x="0" y="526"/>
                  </a:moveTo>
                  <a:lnTo>
                    <a:pt x="113" y="421"/>
                  </a:lnTo>
                  <a:lnTo>
                    <a:pt x="298" y="421"/>
                  </a:lnTo>
                  <a:lnTo>
                    <a:pt x="391" y="286"/>
                  </a:lnTo>
                  <a:lnTo>
                    <a:pt x="549" y="192"/>
                  </a:lnTo>
                  <a:lnTo>
                    <a:pt x="654" y="0"/>
                  </a:lnTo>
                  <a:lnTo>
                    <a:pt x="689" y="141"/>
                  </a:lnTo>
                  <a:lnTo>
                    <a:pt x="584" y="440"/>
                  </a:lnTo>
                  <a:lnTo>
                    <a:pt x="364" y="518"/>
                  </a:lnTo>
                  <a:lnTo>
                    <a:pt x="200" y="499"/>
                  </a:lnTo>
                  <a:lnTo>
                    <a:pt x="0" y="526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056280" y="4457880"/>
              <a:ext cx="43200" cy="82800"/>
            </a:xfrm>
            <a:custGeom>
              <a:avLst/>
              <a:gdLst/>
              <a:ahLst/>
              <a:rect l="0" t="0" r="r" b="b"/>
              <a:pathLst>
                <a:path w="120" h="230">
                  <a:moveTo>
                    <a:pt x="0" y="0"/>
                  </a:moveTo>
                  <a:lnTo>
                    <a:pt x="19" y="230"/>
                  </a:lnTo>
                  <a:lnTo>
                    <a:pt x="120" y="182"/>
                  </a:lnTo>
                  <a:lnTo>
                    <a:pt x="59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24480" y="2343240"/>
              <a:ext cx="235440" cy="165600"/>
            </a:xfrm>
            <a:custGeom>
              <a:avLst/>
              <a:gdLst/>
              <a:ahLst/>
              <a:rect l="0" t="0" r="r" b="b"/>
              <a:pathLst>
                <a:path w="654" h="460">
                  <a:moveTo>
                    <a:pt x="0" y="54"/>
                  </a:moveTo>
                  <a:lnTo>
                    <a:pt x="0" y="105"/>
                  </a:lnTo>
                  <a:lnTo>
                    <a:pt x="114" y="259"/>
                  </a:lnTo>
                  <a:lnTo>
                    <a:pt x="299" y="228"/>
                  </a:lnTo>
                  <a:lnTo>
                    <a:pt x="173" y="287"/>
                  </a:lnTo>
                  <a:lnTo>
                    <a:pt x="315" y="354"/>
                  </a:lnTo>
                  <a:lnTo>
                    <a:pt x="193" y="366"/>
                  </a:lnTo>
                  <a:lnTo>
                    <a:pt x="386" y="460"/>
                  </a:lnTo>
                  <a:lnTo>
                    <a:pt x="654" y="173"/>
                  </a:lnTo>
                  <a:lnTo>
                    <a:pt x="335" y="0"/>
                  </a:lnTo>
                  <a:lnTo>
                    <a:pt x="346" y="161"/>
                  </a:lnTo>
                  <a:lnTo>
                    <a:pt x="221" y="3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687920" y="2320920"/>
              <a:ext cx="200520" cy="66960"/>
            </a:xfrm>
            <a:custGeom>
              <a:avLst/>
              <a:gdLst/>
              <a:ahLst/>
              <a:rect l="0" t="0" r="r" b="b"/>
              <a:pathLst>
                <a:path w="557" h="186">
                  <a:moveTo>
                    <a:pt x="0" y="78"/>
                  </a:moveTo>
                  <a:lnTo>
                    <a:pt x="93" y="134"/>
                  </a:lnTo>
                  <a:lnTo>
                    <a:pt x="317" y="186"/>
                  </a:lnTo>
                  <a:lnTo>
                    <a:pt x="557" y="78"/>
                  </a:lnTo>
                  <a:lnTo>
                    <a:pt x="411" y="19"/>
                  </a:lnTo>
                  <a:lnTo>
                    <a:pt x="259" y="78"/>
                  </a:lnTo>
                  <a:lnTo>
                    <a:pt x="93" y="0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745160" y="2432160"/>
              <a:ext cx="90720" cy="47880"/>
            </a:xfrm>
            <a:custGeom>
              <a:avLst/>
              <a:gdLst/>
              <a:ahLst/>
              <a:rect l="0" t="0" r="r" b="b"/>
              <a:pathLst>
                <a:path w="252" h="133">
                  <a:moveTo>
                    <a:pt x="0" y="106"/>
                  </a:moveTo>
                  <a:lnTo>
                    <a:pt x="19" y="38"/>
                  </a:lnTo>
                  <a:lnTo>
                    <a:pt x="125" y="0"/>
                  </a:lnTo>
                  <a:lnTo>
                    <a:pt x="252" y="67"/>
                  </a:lnTo>
                  <a:lnTo>
                    <a:pt x="106" y="133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425920" y="2665440"/>
              <a:ext cx="136800" cy="97200"/>
            </a:xfrm>
            <a:custGeom>
              <a:avLst/>
              <a:gdLst/>
              <a:ahLst/>
              <a:rect l="0" t="0" r="r" b="b"/>
              <a:pathLst>
                <a:path w="380" h="270">
                  <a:moveTo>
                    <a:pt x="0" y="125"/>
                  </a:moveTo>
                  <a:lnTo>
                    <a:pt x="158" y="192"/>
                  </a:lnTo>
                  <a:lnTo>
                    <a:pt x="138" y="259"/>
                  </a:lnTo>
                  <a:lnTo>
                    <a:pt x="380" y="270"/>
                  </a:lnTo>
                  <a:lnTo>
                    <a:pt x="245" y="38"/>
                  </a:lnTo>
                  <a:lnTo>
                    <a:pt x="106" y="0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472000" y="2494080"/>
              <a:ext cx="325800" cy="165600"/>
            </a:xfrm>
            <a:custGeom>
              <a:avLst/>
              <a:gdLst/>
              <a:ahLst/>
              <a:rect l="0" t="0" r="r" b="b"/>
              <a:pathLst>
                <a:path w="905" h="460">
                  <a:moveTo>
                    <a:pt x="0" y="393"/>
                  </a:moveTo>
                  <a:lnTo>
                    <a:pt x="191" y="460"/>
                  </a:lnTo>
                  <a:lnTo>
                    <a:pt x="423" y="240"/>
                  </a:lnTo>
                  <a:lnTo>
                    <a:pt x="905" y="97"/>
                  </a:lnTo>
                  <a:lnTo>
                    <a:pt x="855" y="0"/>
                  </a:lnTo>
                  <a:lnTo>
                    <a:pt x="451" y="86"/>
                  </a:lnTo>
                  <a:lnTo>
                    <a:pt x="125" y="220"/>
                  </a:lnTo>
                  <a:lnTo>
                    <a:pt x="0" y="393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065480" y="3303720"/>
              <a:ext cx="100440" cy="103680"/>
            </a:xfrm>
            <a:custGeom>
              <a:avLst/>
              <a:gdLst/>
              <a:ahLst/>
              <a:rect l="0" t="0" r="r" b="b"/>
              <a:pathLst>
                <a:path w="279" h="288">
                  <a:moveTo>
                    <a:pt x="15" y="288"/>
                  </a:moveTo>
                  <a:lnTo>
                    <a:pt x="228" y="268"/>
                  </a:lnTo>
                  <a:lnTo>
                    <a:pt x="279" y="66"/>
                  </a:lnTo>
                  <a:lnTo>
                    <a:pt x="173" y="0"/>
                  </a:lnTo>
                  <a:lnTo>
                    <a:pt x="0" y="114"/>
                  </a:lnTo>
                  <a:lnTo>
                    <a:pt x="66" y="181"/>
                  </a:lnTo>
                  <a:lnTo>
                    <a:pt x="15" y="288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154400" y="3200400"/>
              <a:ext cx="168480" cy="260640"/>
            </a:xfrm>
            <a:custGeom>
              <a:avLst/>
              <a:gdLst/>
              <a:ahLst/>
              <a:rect l="0" t="0" r="r" b="b"/>
              <a:pathLst>
                <a:path w="468" h="724">
                  <a:moveTo>
                    <a:pt x="0" y="160"/>
                  </a:moveTo>
                  <a:lnTo>
                    <a:pt x="66" y="0"/>
                  </a:lnTo>
                  <a:lnTo>
                    <a:pt x="171" y="0"/>
                  </a:lnTo>
                  <a:lnTo>
                    <a:pt x="105" y="86"/>
                  </a:lnTo>
                  <a:lnTo>
                    <a:pt x="258" y="105"/>
                  </a:lnTo>
                  <a:lnTo>
                    <a:pt x="171" y="226"/>
                  </a:lnTo>
                  <a:lnTo>
                    <a:pt x="269" y="265"/>
                  </a:lnTo>
                  <a:lnTo>
                    <a:pt x="374" y="419"/>
                  </a:lnTo>
                  <a:lnTo>
                    <a:pt x="363" y="497"/>
                  </a:lnTo>
                  <a:lnTo>
                    <a:pt x="468" y="505"/>
                  </a:lnTo>
                  <a:lnTo>
                    <a:pt x="452" y="630"/>
                  </a:lnTo>
                  <a:lnTo>
                    <a:pt x="19" y="724"/>
                  </a:lnTo>
                  <a:lnTo>
                    <a:pt x="155" y="618"/>
                  </a:lnTo>
                  <a:lnTo>
                    <a:pt x="50" y="571"/>
                  </a:lnTo>
                  <a:lnTo>
                    <a:pt x="77" y="497"/>
                  </a:lnTo>
                  <a:lnTo>
                    <a:pt x="183" y="446"/>
                  </a:lnTo>
                  <a:lnTo>
                    <a:pt x="183" y="312"/>
                  </a:lnTo>
                  <a:lnTo>
                    <a:pt x="58" y="332"/>
                  </a:lnTo>
                  <a:lnTo>
                    <a:pt x="38" y="17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465800" y="3701880"/>
              <a:ext cx="33840" cy="60840"/>
            </a:xfrm>
            <a:custGeom>
              <a:avLst/>
              <a:gdLst/>
              <a:ahLst/>
              <a:rect l="0" t="0" r="r" b="b"/>
              <a:pathLst>
                <a:path w="94" h="169">
                  <a:moveTo>
                    <a:pt x="0" y="19"/>
                  </a:moveTo>
                  <a:lnTo>
                    <a:pt x="19" y="157"/>
                  </a:lnTo>
                  <a:lnTo>
                    <a:pt x="58" y="169"/>
                  </a:lnTo>
                  <a:lnTo>
                    <a:pt x="94" y="60"/>
                  </a:lnTo>
                  <a:lnTo>
                    <a:pt x="58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562640" y="3778200"/>
              <a:ext cx="65520" cy="41760"/>
            </a:xfrm>
            <a:custGeom>
              <a:avLst/>
              <a:gdLst/>
              <a:ahLst/>
              <a:rect l="0" t="0" r="r" b="b"/>
              <a:pathLst>
                <a:path w="182" h="116">
                  <a:moveTo>
                    <a:pt x="0" y="27"/>
                  </a:moveTo>
                  <a:lnTo>
                    <a:pt x="163" y="116"/>
                  </a:lnTo>
                  <a:lnTo>
                    <a:pt x="18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081320" y="2459160"/>
              <a:ext cx="4424760" cy="2181600"/>
            </a:xfrm>
            <a:custGeom>
              <a:avLst/>
              <a:gdLst/>
              <a:ahLst/>
              <a:rect l="0" t="0" r="r" b="b"/>
              <a:pathLst>
                <a:path w="12291" h="6060">
                  <a:moveTo>
                    <a:pt x="2563" y="4271"/>
                  </a:moveTo>
                  <a:lnTo>
                    <a:pt x="2728" y="4291"/>
                  </a:lnTo>
                  <a:lnTo>
                    <a:pt x="2940" y="4664"/>
                  </a:lnTo>
                  <a:lnTo>
                    <a:pt x="3094" y="4943"/>
                  </a:lnTo>
                  <a:lnTo>
                    <a:pt x="3207" y="5131"/>
                  </a:lnTo>
                  <a:lnTo>
                    <a:pt x="3246" y="5370"/>
                  </a:lnTo>
                  <a:lnTo>
                    <a:pt x="3564" y="5284"/>
                  </a:lnTo>
                  <a:lnTo>
                    <a:pt x="3960" y="5096"/>
                  </a:lnTo>
                  <a:lnTo>
                    <a:pt x="4132" y="4970"/>
                  </a:lnTo>
                  <a:lnTo>
                    <a:pt x="4258" y="4739"/>
                  </a:lnTo>
                  <a:lnTo>
                    <a:pt x="4027" y="4510"/>
                  </a:lnTo>
                  <a:lnTo>
                    <a:pt x="3893" y="4633"/>
                  </a:lnTo>
                  <a:lnTo>
                    <a:pt x="3795" y="4633"/>
                  </a:lnTo>
                  <a:lnTo>
                    <a:pt x="3697" y="4598"/>
                  </a:lnTo>
                  <a:lnTo>
                    <a:pt x="3544" y="4346"/>
                  </a:lnTo>
                  <a:lnTo>
                    <a:pt x="3537" y="4252"/>
                  </a:lnTo>
                  <a:lnTo>
                    <a:pt x="3650" y="4240"/>
                  </a:lnTo>
                  <a:lnTo>
                    <a:pt x="3736" y="4385"/>
                  </a:lnTo>
                  <a:lnTo>
                    <a:pt x="4101" y="4530"/>
                  </a:lnTo>
                  <a:lnTo>
                    <a:pt x="4669" y="4547"/>
                  </a:lnTo>
                  <a:lnTo>
                    <a:pt x="4901" y="4857"/>
                  </a:lnTo>
                  <a:lnTo>
                    <a:pt x="4995" y="4837"/>
                  </a:lnTo>
                  <a:lnTo>
                    <a:pt x="5140" y="5190"/>
                  </a:lnTo>
                  <a:lnTo>
                    <a:pt x="5199" y="5390"/>
                  </a:lnTo>
                  <a:lnTo>
                    <a:pt x="5332" y="5649"/>
                  </a:lnTo>
                  <a:lnTo>
                    <a:pt x="5485" y="5523"/>
                  </a:lnTo>
                  <a:lnTo>
                    <a:pt x="5516" y="5182"/>
                  </a:lnTo>
                  <a:lnTo>
                    <a:pt x="5995" y="4770"/>
                  </a:lnTo>
                  <a:lnTo>
                    <a:pt x="6132" y="4786"/>
                  </a:lnTo>
                  <a:lnTo>
                    <a:pt x="6206" y="4731"/>
                  </a:lnTo>
                  <a:lnTo>
                    <a:pt x="6390" y="5009"/>
                  </a:lnTo>
                  <a:lnTo>
                    <a:pt x="6379" y="5151"/>
                  </a:lnTo>
                  <a:lnTo>
                    <a:pt x="6536" y="5076"/>
                  </a:lnTo>
                  <a:lnTo>
                    <a:pt x="6630" y="5649"/>
                  </a:lnTo>
                  <a:lnTo>
                    <a:pt x="6755" y="5755"/>
                  </a:lnTo>
                  <a:lnTo>
                    <a:pt x="6822" y="5974"/>
                  </a:lnTo>
                  <a:lnTo>
                    <a:pt x="6975" y="6060"/>
                  </a:lnTo>
                  <a:lnTo>
                    <a:pt x="6947" y="5841"/>
                  </a:lnTo>
                  <a:lnTo>
                    <a:pt x="6775" y="5696"/>
                  </a:lnTo>
                  <a:lnTo>
                    <a:pt x="6677" y="5523"/>
                  </a:lnTo>
                  <a:lnTo>
                    <a:pt x="6743" y="5304"/>
                  </a:lnTo>
                  <a:lnTo>
                    <a:pt x="6947" y="5496"/>
                  </a:lnTo>
                  <a:lnTo>
                    <a:pt x="7041" y="5621"/>
                  </a:lnTo>
                  <a:lnTo>
                    <a:pt x="7304" y="5429"/>
                  </a:lnTo>
                  <a:lnTo>
                    <a:pt x="7273" y="5198"/>
                  </a:lnTo>
                  <a:lnTo>
                    <a:pt x="7073" y="4978"/>
                  </a:lnTo>
                  <a:lnTo>
                    <a:pt x="7225" y="4806"/>
                  </a:lnTo>
                  <a:lnTo>
                    <a:pt x="7359" y="4892"/>
                  </a:lnTo>
                  <a:lnTo>
                    <a:pt x="7531" y="4778"/>
                  </a:lnTo>
                  <a:lnTo>
                    <a:pt x="7888" y="4598"/>
                  </a:lnTo>
                  <a:lnTo>
                    <a:pt x="8080" y="4134"/>
                  </a:lnTo>
                  <a:lnTo>
                    <a:pt x="7919" y="3914"/>
                  </a:lnTo>
                  <a:lnTo>
                    <a:pt x="8127" y="3742"/>
                  </a:lnTo>
                  <a:lnTo>
                    <a:pt x="8021" y="3714"/>
                  </a:lnTo>
                  <a:lnTo>
                    <a:pt x="7908" y="3754"/>
                  </a:lnTo>
                  <a:lnTo>
                    <a:pt x="7814" y="3667"/>
                  </a:lnTo>
                  <a:lnTo>
                    <a:pt x="8072" y="3475"/>
                  </a:lnTo>
                  <a:lnTo>
                    <a:pt x="8041" y="3648"/>
                  </a:lnTo>
                  <a:lnTo>
                    <a:pt x="8304" y="3581"/>
                  </a:lnTo>
                  <a:lnTo>
                    <a:pt x="8370" y="3714"/>
                  </a:lnTo>
                  <a:lnTo>
                    <a:pt x="8351" y="3954"/>
                  </a:lnTo>
                  <a:lnTo>
                    <a:pt x="8551" y="3828"/>
                  </a:lnTo>
                  <a:lnTo>
                    <a:pt x="8425" y="3561"/>
                  </a:lnTo>
                  <a:lnTo>
                    <a:pt x="8696" y="3295"/>
                  </a:lnTo>
                  <a:lnTo>
                    <a:pt x="8794" y="3361"/>
                  </a:lnTo>
                  <a:lnTo>
                    <a:pt x="9213" y="2910"/>
                  </a:lnTo>
                  <a:lnTo>
                    <a:pt x="9292" y="2612"/>
                  </a:lnTo>
                  <a:lnTo>
                    <a:pt x="9186" y="2432"/>
                  </a:lnTo>
                  <a:lnTo>
                    <a:pt x="8907" y="2393"/>
                  </a:lnTo>
                  <a:lnTo>
                    <a:pt x="9359" y="2001"/>
                  </a:lnTo>
                  <a:lnTo>
                    <a:pt x="9735" y="2001"/>
                  </a:lnTo>
                  <a:lnTo>
                    <a:pt x="10108" y="2001"/>
                  </a:lnTo>
                  <a:lnTo>
                    <a:pt x="10253" y="1769"/>
                  </a:lnTo>
                  <a:lnTo>
                    <a:pt x="10457" y="1753"/>
                  </a:lnTo>
                  <a:lnTo>
                    <a:pt x="10437" y="1875"/>
                  </a:lnTo>
                  <a:lnTo>
                    <a:pt x="10684" y="1714"/>
                  </a:lnTo>
                  <a:lnTo>
                    <a:pt x="10233" y="2126"/>
                  </a:lnTo>
                  <a:lnTo>
                    <a:pt x="10178" y="2220"/>
                  </a:lnTo>
                  <a:lnTo>
                    <a:pt x="10233" y="2710"/>
                  </a:lnTo>
                  <a:lnTo>
                    <a:pt x="10563" y="2393"/>
                  </a:lnTo>
                  <a:lnTo>
                    <a:pt x="10543" y="2095"/>
                  </a:lnTo>
                  <a:lnTo>
                    <a:pt x="10649" y="1942"/>
                  </a:lnTo>
                  <a:lnTo>
                    <a:pt x="10927" y="1875"/>
                  </a:lnTo>
                  <a:lnTo>
                    <a:pt x="11060" y="1934"/>
                  </a:lnTo>
                  <a:lnTo>
                    <a:pt x="11484" y="1695"/>
                  </a:lnTo>
                  <a:lnTo>
                    <a:pt x="11617" y="1636"/>
                  </a:lnTo>
                  <a:lnTo>
                    <a:pt x="11570" y="1494"/>
                  </a:lnTo>
                  <a:lnTo>
                    <a:pt x="11750" y="1396"/>
                  </a:lnTo>
                  <a:lnTo>
                    <a:pt x="12127" y="1494"/>
                  </a:lnTo>
                  <a:lnTo>
                    <a:pt x="12291" y="1329"/>
                  </a:lnTo>
                  <a:lnTo>
                    <a:pt x="11946" y="1176"/>
                  </a:lnTo>
                  <a:lnTo>
                    <a:pt x="11550" y="984"/>
                  </a:lnTo>
                  <a:lnTo>
                    <a:pt x="11080" y="917"/>
                  </a:lnTo>
                  <a:lnTo>
                    <a:pt x="11041" y="1062"/>
                  </a:lnTo>
                  <a:lnTo>
                    <a:pt x="10849" y="984"/>
                  </a:lnTo>
                  <a:lnTo>
                    <a:pt x="10512" y="996"/>
                  </a:lnTo>
                  <a:lnTo>
                    <a:pt x="10359" y="823"/>
                  </a:lnTo>
                  <a:lnTo>
                    <a:pt x="9975" y="831"/>
                  </a:lnTo>
                  <a:lnTo>
                    <a:pt x="9775" y="678"/>
                  </a:lnTo>
                  <a:lnTo>
                    <a:pt x="9265" y="603"/>
                  </a:lnTo>
                  <a:lnTo>
                    <a:pt x="9072" y="792"/>
                  </a:lnTo>
                  <a:lnTo>
                    <a:pt x="8743" y="698"/>
                  </a:lnTo>
                  <a:lnTo>
                    <a:pt x="8656" y="850"/>
                  </a:lnTo>
                  <a:lnTo>
                    <a:pt x="8543" y="572"/>
                  </a:lnTo>
                  <a:lnTo>
                    <a:pt x="8166" y="486"/>
                  </a:lnTo>
                  <a:lnTo>
                    <a:pt x="8158" y="572"/>
                  </a:lnTo>
                  <a:lnTo>
                    <a:pt x="7708" y="498"/>
                  </a:lnTo>
                  <a:lnTo>
                    <a:pt x="7398" y="505"/>
                  </a:lnTo>
                  <a:lnTo>
                    <a:pt x="7120" y="564"/>
                  </a:lnTo>
                  <a:lnTo>
                    <a:pt x="7531" y="333"/>
                  </a:lnTo>
                  <a:lnTo>
                    <a:pt x="7582" y="239"/>
                  </a:lnTo>
                  <a:lnTo>
                    <a:pt x="7418" y="125"/>
                  </a:lnTo>
                  <a:lnTo>
                    <a:pt x="7100" y="160"/>
                  </a:lnTo>
                  <a:lnTo>
                    <a:pt x="7178" y="94"/>
                  </a:lnTo>
                  <a:lnTo>
                    <a:pt x="6986" y="0"/>
                  </a:lnTo>
                  <a:lnTo>
                    <a:pt x="6649" y="192"/>
                  </a:lnTo>
                  <a:lnTo>
                    <a:pt x="6324" y="239"/>
                  </a:lnTo>
                  <a:lnTo>
                    <a:pt x="5967" y="345"/>
                  </a:lnTo>
                  <a:lnTo>
                    <a:pt x="5908" y="478"/>
                  </a:lnTo>
                  <a:lnTo>
                    <a:pt x="5536" y="517"/>
                  </a:lnTo>
                  <a:lnTo>
                    <a:pt x="5563" y="650"/>
                  </a:lnTo>
                  <a:lnTo>
                    <a:pt x="5708" y="737"/>
                  </a:lnTo>
                  <a:lnTo>
                    <a:pt x="5399" y="658"/>
                  </a:lnTo>
                  <a:lnTo>
                    <a:pt x="5399" y="823"/>
                  </a:lnTo>
                  <a:lnTo>
                    <a:pt x="5238" y="784"/>
                  </a:lnTo>
                  <a:lnTo>
                    <a:pt x="5187" y="670"/>
                  </a:lnTo>
                  <a:lnTo>
                    <a:pt x="5065" y="745"/>
                  </a:lnTo>
                  <a:lnTo>
                    <a:pt x="5152" y="850"/>
                  </a:lnTo>
                  <a:lnTo>
                    <a:pt x="5073" y="1176"/>
                  </a:lnTo>
                  <a:lnTo>
                    <a:pt x="4975" y="592"/>
                  </a:lnTo>
                  <a:lnTo>
                    <a:pt x="4842" y="592"/>
                  </a:lnTo>
                  <a:lnTo>
                    <a:pt x="4689" y="964"/>
                  </a:lnTo>
                  <a:lnTo>
                    <a:pt x="4834" y="1051"/>
                  </a:lnTo>
                  <a:lnTo>
                    <a:pt x="4775" y="1117"/>
                  </a:lnTo>
                  <a:lnTo>
                    <a:pt x="4524" y="976"/>
                  </a:lnTo>
                  <a:lnTo>
                    <a:pt x="4325" y="937"/>
                  </a:lnTo>
                  <a:lnTo>
                    <a:pt x="4325" y="1043"/>
                  </a:lnTo>
                  <a:lnTo>
                    <a:pt x="3940" y="1117"/>
                  </a:lnTo>
                  <a:lnTo>
                    <a:pt x="3882" y="1043"/>
                  </a:lnTo>
                  <a:lnTo>
                    <a:pt x="3537" y="1188"/>
                  </a:lnTo>
                  <a:lnTo>
                    <a:pt x="3286" y="1109"/>
                  </a:lnTo>
                  <a:lnTo>
                    <a:pt x="3297" y="1368"/>
                  </a:lnTo>
                  <a:lnTo>
                    <a:pt x="3180" y="1290"/>
                  </a:lnTo>
                  <a:lnTo>
                    <a:pt x="3026" y="1388"/>
                  </a:lnTo>
                  <a:lnTo>
                    <a:pt x="3094" y="1494"/>
                  </a:lnTo>
                  <a:lnTo>
                    <a:pt x="2834" y="1474"/>
                  </a:lnTo>
                  <a:lnTo>
                    <a:pt x="2893" y="1581"/>
                  </a:lnTo>
                  <a:lnTo>
                    <a:pt x="2708" y="1494"/>
                  </a:lnTo>
                  <a:lnTo>
                    <a:pt x="2716" y="1368"/>
                  </a:lnTo>
                  <a:lnTo>
                    <a:pt x="2544" y="1235"/>
                  </a:lnTo>
                  <a:lnTo>
                    <a:pt x="2967" y="1341"/>
                  </a:lnTo>
                  <a:lnTo>
                    <a:pt x="3105" y="1176"/>
                  </a:lnTo>
                  <a:lnTo>
                    <a:pt x="2775" y="1015"/>
                  </a:lnTo>
                  <a:lnTo>
                    <a:pt x="2536" y="937"/>
                  </a:lnTo>
                  <a:lnTo>
                    <a:pt x="2332" y="909"/>
                  </a:lnTo>
                  <a:lnTo>
                    <a:pt x="2477" y="878"/>
                  </a:lnTo>
                  <a:lnTo>
                    <a:pt x="2277" y="803"/>
                  </a:lnTo>
                  <a:lnTo>
                    <a:pt x="2112" y="811"/>
                  </a:lnTo>
                  <a:lnTo>
                    <a:pt x="1999" y="929"/>
                  </a:lnTo>
                  <a:lnTo>
                    <a:pt x="1901" y="890"/>
                  </a:lnTo>
                  <a:lnTo>
                    <a:pt x="1775" y="1003"/>
                  </a:lnTo>
                  <a:lnTo>
                    <a:pt x="1701" y="984"/>
                  </a:lnTo>
                  <a:lnTo>
                    <a:pt x="1662" y="1062"/>
                  </a:lnTo>
                  <a:lnTo>
                    <a:pt x="1536" y="1129"/>
                  </a:lnTo>
                  <a:lnTo>
                    <a:pt x="1336" y="1435"/>
                  </a:lnTo>
                  <a:lnTo>
                    <a:pt x="1172" y="1561"/>
                  </a:lnTo>
                  <a:lnTo>
                    <a:pt x="893" y="1722"/>
                  </a:lnTo>
                  <a:lnTo>
                    <a:pt x="1038" y="1789"/>
                  </a:lnTo>
                  <a:lnTo>
                    <a:pt x="882" y="1840"/>
                  </a:lnTo>
                  <a:lnTo>
                    <a:pt x="921" y="2059"/>
                  </a:lnTo>
                  <a:lnTo>
                    <a:pt x="1074" y="2087"/>
                  </a:lnTo>
                  <a:lnTo>
                    <a:pt x="1230" y="1942"/>
                  </a:lnTo>
                  <a:lnTo>
                    <a:pt x="1297" y="2165"/>
                  </a:lnTo>
                  <a:lnTo>
                    <a:pt x="1364" y="2232"/>
                  </a:lnTo>
                  <a:lnTo>
                    <a:pt x="1364" y="2338"/>
                  </a:lnTo>
                  <a:lnTo>
                    <a:pt x="1544" y="2267"/>
                  </a:lnTo>
                  <a:lnTo>
                    <a:pt x="1603" y="2067"/>
                  </a:lnTo>
                  <a:lnTo>
                    <a:pt x="1564" y="2048"/>
                  </a:lnTo>
                  <a:lnTo>
                    <a:pt x="1728" y="1934"/>
                  </a:lnTo>
                  <a:lnTo>
                    <a:pt x="1634" y="1875"/>
                  </a:lnTo>
                  <a:lnTo>
                    <a:pt x="1634" y="1695"/>
                  </a:lnTo>
                  <a:lnTo>
                    <a:pt x="1901" y="1501"/>
                  </a:lnTo>
                  <a:lnTo>
                    <a:pt x="1920" y="1376"/>
                  </a:lnTo>
                  <a:lnTo>
                    <a:pt x="2046" y="1349"/>
                  </a:lnTo>
                  <a:lnTo>
                    <a:pt x="2140" y="1454"/>
                  </a:lnTo>
                  <a:lnTo>
                    <a:pt x="1862" y="1667"/>
                  </a:lnTo>
                  <a:lnTo>
                    <a:pt x="1881" y="1867"/>
                  </a:lnTo>
                  <a:lnTo>
                    <a:pt x="1987" y="1942"/>
                  </a:lnTo>
                  <a:lnTo>
                    <a:pt x="2277" y="1875"/>
                  </a:lnTo>
                  <a:lnTo>
                    <a:pt x="2430" y="1934"/>
                  </a:lnTo>
                  <a:lnTo>
                    <a:pt x="2018" y="1993"/>
                  </a:lnTo>
                  <a:lnTo>
                    <a:pt x="2054" y="2201"/>
                  </a:lnTo>
                  <a:lnTo>
                    <a:pt x="1960" y="2126"/>
                  </a:lnTo>
                  <a:lnTo>
                    <a:pt x="1862" y="2212"/>
                  </a:lnTo>
                  <a:lnTo>
                    <a:pt x="1862" y="2338"/>
                  </a:lnTo>
                  <a:lnTo>
                    <a:pt x="1775" y="2412"/>
                  </a:lnTo>
                  <a:lnTo>
                    <a:pt x="1634" y="2393"/>
                  </a:lnTo>
                  <a:lnTo>
                    <a:pt x="1438" y="2479"/>
                  </a:lnTo>
                  <a:lnTo>
                    <a:pt x="1344" y="2412"/>
                  </a:lnTo>
                  <a:lnTo>
                    <a:pt x="1238" y="2420"/>
                  </a:lnTo>
                  <a:lnTo>
                    <a:pt x="1152" y="2385"/>
                  </a:lnTo>
                  <a:lnTo>
                    <a:pt x="1238" y="2259"/>
                  </a:lnTo>
                  <a:lnTo>
                    <a:pt x="1211" y="2134"/>
                  </a:lnTo>
                  <a:lnTo>
                    <a:pt x="1085" y="2201"/>
                  </a:lnTo>
                  <a:lnTo>
                    <a:pt x="1074" y="2318"/>
                  </a:lnTo>
                  <a:lnTo>
                    <a:pt x="1105" y="2506"/>
                  </a:lnTo>
                  <a:lnTo>
                    <a:pt x="1046" y="2479"/>
                  </a:lnTo>
                  <a:lnTo>
                    <a:pt x="913" y="2518"/>
                  </a:lnTo>
                  <a:lnTo>
                    <a:pt x="874" y="2644"/>
                  </a:lnTo>
                  <a:lnTo>
                    <a:pt x="682" y="2710"/>
                  </a:lnTo>
                  <a:lnTo>
                    <a:pt x="615" y="2824"/>
                  </a:lnTo>
                  <a:lnTo>
                    <a:pt x="458" y="2804"/>
                  </a:lnTo>
                  <a:lnTo>
                    <a:pt x="490" y="2891"/>
                  </a:lnTo>
                  <a:lnTo>
                    <a:pt x="297" y="2903"/>
                  </a:lnTo>
                  <a:lnTo>
                    <a:pt x="317" y="2957"/>
                  </a:lnTo>
                  <a:lnTo>
                    <a:pt x="470" y="2997"/>
                  </a:lnTo>
                  <a:lnTo>
                    <a:pt x="450" y="3036"/>
                  </a:lnTo>
                  <a:lnTo>
                    <a:pt x="537" y="3157"/>
                  </a:lnTo>
                  <a:lnTo>
                    <a:pt x="470" y="3303"/>
                  </a:lnTo>
                  <a:lnTo>
                    <a:pt x="74" y="3283"/>
                  </a:lnTo>
                  <a:lnTo>
                    <a:pt x="19" y="3322"/>
                  </a:lnTo>
                  <a:lnTo>
                    <a:pt x="0" y="3640"/>
                  </a:lnTo>
                  <a:lnTo>
                    <a:pt x="39" y="3761"/>
                  </a:lnTo>
                  <a:lnTo>
                    <a:pt x="133" y="3754"/>
                  </a:lnTo>
                  <a:lnTo>
                    <a:pt x="458" y="3781"/>
                  </a:lnTo>
                  <a:lnTo>
                    <a:pt x="584" y="3648"/>
                  </a:lnTo>
                  <a:lnTo>
                    <a:pt x="564" y="3589"/>
                  </a:lnTo>
                  <a:lnTo>
                    <a:pt x="635" y="3495"/>
                  </a:lnTo>
                  <a:lnTo>
                    <a:pt x="768" y="3416"/>
                  </a:lnTo>
                  <a:lnTo>
                    <a:pt x="768" y="3314"/>
                  </a:lnTo>
                  <a:lnTo>
                    <a:pt x="827" y="3295"/>
                  </a:lnTo>
                  <a:lnTo>
                    <a:pt x="960" y="3322"/>
                  </a:lnTo>
                  <a:lnTo>
                    <a:pt x="1038" y="3263"/>
                  </a:lnTo>
                  <a:lnTo>
                    <a:pt x="1125" y="3216"/>
                  </a:lnTo>
                  <a:lnTo>
                    <a:pt x="1199" y="3255"/>
                  </a:lnTo>
                  <a:lnTo>
                    <a:pt x="1258" y="3369"/>
                  </a:lnTo>
                  <a:lnTo>
                    <a:pt x="1536" y="3542"/>
                  </a:lnTo>
                  <a:lnTo>
                    <a:pt x="1564" y="3695"/>
                  </a:lnTo>
                  <a:lnTo>
                    <a:pt x="1622" y="3620"/>
                  </a:lnTo>
                  <a:lnTo>
                    <a:pt x="1603" y="3522"/>
                  </a:lnTo>
                  <a:lnTo>
                    <a:pt x="1720" y="3542"/>
                  </a:lnTo>
                  <a:lnTo>
                    <a:pt x="1477" y="3389"/>
                  </a:lnTo>
                  <a:lnTo>
                    <a:pt x="1336" y="3244"/>
                  </a:lnTo>
                  <a:lnTo>
                    <a:pt x="1336" y="3150"/>
                  </a:lnTo>
                  <a:lnTo>
                    <a:pt x="1470" y="3150"/>
                  </a:lnTo>
                  <a:lnTo>
                    <a:pt x="1564" y="3295"/>
                  </a:lnTo>
                  <a:lnTo>
                    <a:pt x="1768" y="3408"/>
                  </a:lnTo>
                  <a:lnTo>
                    <a:pt x="1768" y="3514"/>
                  </a:lnTo>
                  <a:lnTo>
                    <a:pt x="1815" y="3569"/>
                  </a:lnTo>
                  <a:lnTo>
                    <a:pt x="1873" y="3667"/>
                  </a:lnTo>
                  <a:lnTo>
                    <a:pt x="1999" y="3687"/>
                  </a:lnTo>
                  <a:lnTo>
                    <a:pt x="1873" y="3706"/>
                  </a:lnTo>
                  <a:lnTo>
                    <a:pt x="1913" y="3781"/>
                  </a:lnTo>
                  <a:lnTo>
                    <a:pt x="1999" y="3801"/>
                  </a:lnTo>
                  <a:lnTo>
                    <a:pt x="2046" y="3687"/>
                  </a:lnTo>
                  <a:lnTo>
                    <a:pt x="1960" y="3628"/>
                  </a:lnTo>
                  <a:lnTo>
                    <a:pt x="2007" y="3608"/>
                  </a:lnTo>
                  <a:lnTo>
                    <a:pt x="1967" y="3503"/>
                  </a:lnTo>
                  <a:lnTo>
                    <a:pt x="2277" y="3475"/>
                  </a:lnTo>
                  <a:lnTo>
                    <a:pt x="2265" y="3369"/>
                  </a:lnTo>
                  <a:lnTo>
                    <a:pt x="2332" y="3275"/>
                  </a:lnTo>
                  <a:lnTo>
                    <a:pt x="2403" y="3150"/>
                  </a:lnTo>
                  <a:lnTo>
                    <a:pt x="2430" y="3071"/>
                  </a:lnTo>
                  <a:lnTo>
                    <a:pt x="2544" y="3036"/>
                  </a:lnTo>
                  <a:lnTo>
                    <a:pt x="2536" y="3083"/>
                  </a:lnTo>
                  <a:lnTo>
                    <a:pt x="2650" y="3091"/>
                  </a:lnTo>
                  <a:lnTo>
                    <a:pt x="2583" y="3142"/>
                  </a:lnTo>
                  <a:lnTo>
                    <a:pt x="2669" y="3216"/>
                  </a:lnTo>
                  <a:lnTo>
                    <a:pt x="2834" y="3142"/>
                  </a:lnTo>
                  <a:lnTo>
                    <a:pt x="2736" y="3150"/>
                  </a:lnTo>
                  <a:lnTo>
                    <a:pt x="2728" y="3110"/>
                  </a:lnTo>
                  <a:lnTo>
                    <a:pt x="2736" y="3063"/>
                  </a:lnTo>
                  <a:lnTo>
                    <a:pt x="2987" y="2997"/>
                  </a:lnTo>
                  <a:lnTo>
                    <a:pt x="2900" y="3044"/>
                  </a:lnTo>
                  <a:lnTo>
                    <a:pt x="2834" y="3157"/>
                  </a:lnTo>
                  <a:lnTo>
                    <a:pt x="3121" y="3330"/>
                  </a:lnTo>
                  <a:lnTo>
                    <a:pt x="3133" y="3436"/>
                  </a:lnTo>
                  <a:lnTo>
                    <a:pt x="2920" y="3475"/>
                  </a:lnTo>
                  <a:lnTo>
                    <a:pt x="2736" y="3389"/>
                  </a:lnTo>
                  <a:lnTo>
                    <a:pt x="2497" y="3467"/>
                  </a:lnTo>
                  <a:lnTo>
                    <a:pt x="2383" y="3455"/>
                  </a:lnTo>
                  <a:lnTo>
                    <a:pt x="2410" y="3495"/>
                  </a:lnTo>
                  <a:lnTo>
                    <a:pt x="2191" y="3554"/>
                  </a:lnTo>
                  <a:lnTo>
                    <a:pt x="2246" y="3667"/>
                  </a:lnTo>
                  <a:lnTo>
                    <a:pt x="2265" y="3793"/>
                  </a:lnTo>
                  <a:lnTo>
                    <a:pt x="2410" y="3820"/>
                  </a:lnTo>
                  <a:lnTo>
                    <a:pt x="2477" y="3773"/>
                  </a:lnTo>
                  <a:lnTo>
                    <a:pt x="2603" y="3828"/>
                  </a:lnTo>
                  <a:lnTo>
                    <a:pt x="2795" y="3773"/>
                  </a:lnTo>
                  <a:lnTo>
                    <a:pt x="2787" y="3926"/>
                  </a:lnTo>
                  <a:lnTo>
                    <a:pt x="2669" y="4165"/>
                  </a:lnTo>
                  <a:lnTo>
                    <a:pt x="2457" y="4134"/>
                  </a:lnTo>
                  <a:lnTo>
                    <a:pt x="2563" y="4271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3360" y="2163600"/>
              <a:ext cx="1343160" cy="989280"/>
            </a:xfrm>
            <a:custGeom>
              <a:avLst/>
              <a:gdLst/>
              <a:ahLst/>
              <a:rect l="0" t="0" r="r" b="b"/>
              <a:pathLst>
                <a:path w="3731" h="2748">
                  <a:moveTo>
                    <a:pt x="0" y="764"/>
                  </a:moveTo>
                  <a:lnTo>
                    <a:pt x="19" y="717"/>
                  </a:lnTo>
                  <a:lnTo>
                    <a:pt x="251" y="638"/>
                  </a:lnTo>
                  <a:lnTo>
                    <a:pt x="415" y="638"/>
                  </a:lnTo>
                  <a:lnTo>
                    <a:pt x="541" y="470"/>
                  </a:lnTo>
                  <a:lnTo>
                    <a:pt x="423" y="517"/>
                  </a:lnTo>
                  <a:lnTo>
                    <a:pt x="317" y="470"/>
                  </a:lnTo>
                  <a:lnTo>
                    <a:pt x="541" y="352"/>
                  </a:lnTo>
                  <a:lnTo>
                    <a:pt x="694" y="344"/>
                  </a:lnTo>
                  <a:lnTo>
                    <a:pt x="682" y="246"/>
                  </a:lnTo>
                  <a:lnTo>
                    <a:pt x="933" y="313"/>
                  </a:lnTo>
                  <a:lnTo>
                    <a:pt x="788" y="227"/>
                  </a:lnTo>
                  <a:lnTo>
                    <a:pt x="1078" y="172"/>
                  </a:lnTo>
                  <a:lnTo>
                    <a:pt x="1192" y="219"/>
                  </a:lnTo>
                  <a:lnTo>
                    <a:pt x="1396" y="239"/>
                  </a:lnTo>
                  <a:lnTo>
                    <a:pt x="1337" y="145"/>
                  </a:lnTo>
                  <a:lnTo>
                    <a:pt x="1694" y="258"/>
                  </a:lnTo>
                  <a:lnTo>
                    <a:pt x="1934" y="172"/>
                  </a:lnTo>
                  <a:lnTo>
                    <a:pt x="1635" y="47"/>
                  </a:lnTo>
                  <a:lnTo>
                    <a:pt x="1788" y="27"/>
                  </a:lnTo>
                  <a:lnTo>
                    <a:pt x="2040" y="105"/>
                  </a:lnTo>
                  <a:lnTo>
                    <a:pt x="2127" y="47"/>
                  </a:lnTo>
                  <a:lnTo>
                    <a:pt x="2099" y="0"/>
                  </a:lnTo>
                  <a:lnTo>
                    <a:pt x="2723" y="27"/>
                  </a:lnTo>
                  <a:lnTo>
                    <a:pt x="2962" y="94"/>
                  </a:lnTo>
                  <a:lnTo>
                    <a:pt x="3135" y="133"/>
                  </a:lnTo>
                  <a:lnTo>
                    <a:pt x="2464" y="199"/>
                  </a:lnTo>
                  <a:lnTo>
                    <a:pt x="2397" y="278"/>
                  </a:lnTo>
                  <a:lnTo>
                    <a:pt x="2876" y="258"/>
                  </a:lnTo>
                  <a:lnTo>
                    <a:pt x="2782" y="305"/>
                  </a:lnTo>
                  <a:lnTo>
                    <a:pt x="3080" y="219"/>
                  </a:lnTo>
                  <a:lnTo>
                    <a:pt x="3096" y="297"/>
                  </a:lnTo>
                  <a:lnTo>
                    <a:pt x="2954" y="450"/>
                  </a:lnTo>
                  <a:lnTo>
                    <a:pt x="3233" y="305"/>
                  </a:lnTo>
                  <a:lnTo>
                    <a:pt x="3406" y="246"/>
                  </a:lnTo>
                  <a:lnTo>
                    <a:pt x="3551" y="239"/>
                  </a:lnTo>
                  <a:lnTo>
                    <a:pt x="3731" y="286"/>
                  </a:lnTo>
                  <a:lnTo>
                    <a:pt x="3570" y="391"/>
                  </a:lnTo>
                  <a:lnTo>
                    <a:pt x="3166" y="431"/>
                  </a:lnTo>
                  <a:lnTo>
                    <a:pt x="3492" y="438"/>
                  </a:lnTo>
                  <a:lnTo>
                    <a:pt x="3221" y="505"/>
                  </a:lnTo>
                  <a:lnTo>
                    <a:pt x="3307" y="611"/>
                  </a:lnTo>
                  <a:lnTo>
                    <a:pt x="3186" y="689"/>
                  </a:lnTo>
                  <a:lnTo>
                    <a:pt x="3300" y="811"/>
                  </a:lnTo>
                  <a:lnTo>
                    <a:pt x="3221" y="862"/>
                  </a:lnTo>
                  <a:lnTo>
                    <a:pt x="3366" y="877"/>
                  </a:lnTo>
                  <a:lnTo>
                    <a:pt x="3213" y="948"/>
                  </a:lnTo>
                  <a:lnTo>
                    <a:pt x="3260" y="1015"/>
                  </a:lnTo>
                  <a:lnTo>
                    <a:pt x="3280" y="1148"/>
                  </a:lnTo>
                  <a:lnTo>
                    <a:pt x="3127" y="1109"/>
                  </a:lnTo>
                  <a:lnTo>
                    <a:pt x="3194" y="1214"/>
                  </a:lnTo>
                  <a:lnTo>
                    <a:pt x="3307" y="1242"/>
                  </a:lnTo>
                  <a:lnTo>
                    <a:pt x="3096" y="1261"/>
                  </a:lnTo>
                  <a:lnTo>
                    <a:pt x="3233" y="1308"/>
                  </a:lnTo>
                  <a:lnTo>
                    <a:pt x="3107" y="1376"/>
                  </a:lnTo>
                  <a:lnTo>
                    <a:pt x="2994" y="1308"/>
                  </a:lnTo>
                  <a:lnTo>
                    <a:pt x="2829" y="1376"/>
                  </a:lnTo>
                  <a:lnTo>
                    <a:pt x="2915" y="1521"/>
                  </a:lnTo>
                  <a:lnTo>
                    <a:pt x="2962" y="1482"/>
                  </a:lnTo>
                  <a:lnTo>
                    <a:pt x="3147" y="1588"/>
                  </a:lnTo>
                  <a:lnTo>
                    <a:pt x="3154" y="1701"/>
                  </a:lnTo>
                  <a:lnTo>
                    <a:pt x="2962" y="1599"/>
                  </a:lnTo>
                  <a:lnTo>
                    <a:pt x="2782" y="1541"/>
                  </a:lnTo>
                  <a:lnTo>
                    <a:pt x="2750" y="1647"/>
                  </a:lnTo>
                  <a:lnTo>
                    <a:pt x="2856" y="1713"/>
                  </a:lnTo>
                  <a:lnTo>
                    <a:pt x="2723" y="1741"/>
                  </a:lnTo>
                  <a:lnTo>
                    <a:pt x="3107" y="1760"/>
                  </a:lnTo>
                  <a:lnTo>
                    <a:pt x="2868" y="1893"/>
                  </a:lnTo>
                  <a:lnTo>
                    <a:pt x="2625" y="1952"/>
                  </a:lnTo>
                  <a:lnTo>
                    <a:pt x="2444" y="1999"/>
                  </a:lnTo>
                  <a:lnTo>
                    <a:pt x="2346" y="2132"/>
                  </a:lnTo>
                  <a:lnTo>
                    <a:pt x="2154" y="2132"/>
                  </a:lnTo>
                  <a:lnTo>
                    <a:pt x="2127" y="2219"/>
                  </a:lnTo>
                  <a:lnTo>
                    <a:pt x="2013" y="2219"/>
                  </a:lnTo>
                  <a:lnTo>
                    <a:pt x="1954" y="2277"/>
                  </a:lnTo>
                  <a:lnTo>
                    <a:pt x="1974" y="2411"/>
                  </a:lnTo>
                  <a:lnTo>
                    <a:pt x="1847" y="2509"/>
                  </a:lnTo>
                  <a:lnTo>
                    <a:pt x="1895" y="2583"/>
                  </a:lnTo>
                  <a:lnTo>
                    <a:pt x="1835" y="2748"/>
                  </a:lnTo>
                  <a:lnTo>
                    <a:pt x="1714" y="2748"/>
                  </a:lnTo>
                  <a:lnTo>
                    <a:pt x="1557" y="2662"/>
                  </a:lnTo>
                  <a:lnTo>
                    <a:pt x="1431" y="2564"/>
                  </a:lnTo>
                  <a:lnTo>
                    <a:pt x="1290" y="2352"/>
                  </a:lnTo>
                  <a:lnTo>
                    <a:pt x="1204" y="2172"/>
                  </a:lnTo>
                  <a:lnTo>
                    <a:pt x="1172" y="2038"/>
                  </a:lnTo>
                  <a:lnTo>
                    <a:pt x="1231" y="1925"/>
                  </a:lnTo>
                  <a:lnTo>
                    <a:pt x="1357" y="1819"/>
                  </a:lnTo>
                  <a:lnTo>
                    <a:pt x="1384" y="1752"/>
                  </a:lnTo>
                  <a:lnTo>
                    <a:pt x="1259" y="1741"/>
                  </a:lnTo>
                  <a:lnTo>
                    <a:pt x="1125" y="1674"/>
                  </a:lnTo>
                  <a:lnTo>
                    <a:pt x="1365" y="1674"/>
                  </a:lnTo>
                  <a:lnTo>
                    <a:pt x="1223" y="1599"/>
                  </a:lnTo>
                  <a:lnTo>
                    <a:pt x="1290" y="1568"/>
                  </a:lnTo>
                  <a:lnTo>
                    <a:pt x="1165" y="1588"/>
                  </a:lnTo>
                  <a:lnTo>
                    <a:pt x="1078" y="1599"/>
                  </a:lnTo>
                  <a:lnTo>
                    <a:pt x="1067" y="1521"/>
                  </a:lnTo>
                  <a:lnTo>
                    <a:pt x="1125" y="1427"/>
                  </a:lnTo>
                  <a:lnTo>
                    <a:pt x="992" y="1234"/>
                  </a:lnTo>
                  <a:lnTo>
                    <a:pt x="874" y="1081"/>
                  </a:lnTo>
                  <a:lnTo>
                    <a:pt x="741" y="1034"/>
                  </a:lnTo>
                  <a:lnTo>
                    <a:pt x="470" y="1042"/>
                  </a:lnTo>
                  <a:lnTo>
                    <a:pt x="203" y="995"/>
                  </a:lnTo>
                  <a:lnTo>
                    <a:pt x="290" y="956"/>
                  </a:lnTo>
                  <a:lnTo>
                    <a:pt x="86" y="917"/>
                  </a:lnTo>
                  <a:lnTo>
                    <a:pt x="443" y="830"/>
                  </a:lnTo>
                  <a:lnTo>
                    <a:pt x="223" y="850"/>
                  </a:lnTo>
                  <a:lnTo>
                    <a:pt x="0" y="764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165400" y="2624040"/>
              <a:ext cx="117720" cy="79560"/>
            </a:xfrm>
            <a:custGeom>
              <a:avLst/>
              <a:gdLst/>
              <a:ahLst/>
              <a:rect l="0" t="0" r="r" b="b"/>
              <a:pathLst>
                <a:path w="327" h="221">
                  <a:moveTo>
                    <a:pt x="0" y="154"/>
                  </a:moveTo>
                  <a:lnTo>
                    <a:pt x="166" y="221"/>
                  </a:lnTo>
                  <a:lnTo>
                    <a:pt x="327" y="19"/>
                  </a:lnTo>
                  <a:lnTo>
                    <a:pt x="7" y="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013120" y="2514600"/>
              <a:ext cx="111600" cy="65520"/>
            </a:xfrm>
            <a:custGeom>
              <a:avLst/>
              <a:gdLst/>
              <a:ahLst/>
              <a:rect l="0" t="0" r="r" b="b"/>
              <a:pathLst>
                <a:path w="310" h="182">
                  <a:moveTo>
                    <a:pt x="0" y="126"/>
                  </a:moveTo>
                  <a:lnTo>
                    <a:pt x="27" y="7"/>
                  </a:lnTo>
                  <a:lnTo>
                    <a:pt x="279" y="0"/>
                  </a:lnTo>
                  <a:lnTo>
                    <a:pt x="310" y="134"/>
                  </a:lnTo>
                  <a:lnTo>
                    <a:pt x="271" y="182"/>
                  </a:lnTo>
                  <a:lnTo>
                    <a:pt x="118" y="174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013120" y="2624040"/>
              <a:ext cx="132120" cy="114840"/>
            </a:xfrm>
            <a:custGeom>
              <a:avLst/>
              <a:gdLst/>
              <a:ahLst/>
              <a:rect l="0" t="0" r="r" b="b"/>
              <a:pathLst>
                <a:path w="367" h="319">
                  <a:moveTo>
                    <a:pt x="0" y="173"/>
                  </a:moveTo>
                  <a:lnTo>
                    <a:pt x="145" y="0"/>
                  </a:lnTo>
                  <a:lnTo>
                    <a:pt x="319" y="87"/>
                  </a:lnTo>
                  <a:lnTo>
                    <a:pt x="252" y="146"/>
                  </a:lnTo>
                  <a:lnTo>
                    <a:pt x="359" y="153"/>
                  </a:lnTo>
                  <a:lnTo>
                    <a:pt x="367" y="260"/>
                  </a:lnTo>
                  <a:lnTo>
                    <a:pt x="213" y="31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240" bIns="57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77960" y="2496960"/>
              <a:ext cx="270360" cy="111600"/>
            </a:xfrm>
            <a:custGeom>
              <a:avLst/>
              <a:gdLst/>
              <a:ahLst/>
              <a:rect l="0" t="0" r="r" b="b"/>
              <a:pathLst>
                <a:path w="751" h="310">
                  <a:moveTo>
                    <a:pt x="0" y="202"/>
                  </a:moveTo>
                  <a:lnTo>
                    <a:pt x="163" y="47"/>
                  </a:lnTo>
                  <a:lnTo>
                    <a:pt x="309" y="88"/>
                  </a:lnTo>
                  <a:lnTo>
                    <a:pt x="383" y="163"/>
                  </a:lnTo>
                  <a:lnTo>
                    <a:pt x="539" y="175"/>
                  </a:lnTo>
                  <a:lnTo>
                    <a:pt x="442" y="55"/>
                  </a:lnTo>
                  <a:lnTo>
                    <a:pt x="539" y="0"/>
                  </a:lnTo>
                  <a:lnTo>
                    <a:pt x="587" y="75"/>
                  </a:lnTo>
                  <a:lnTo>
                    <a:pt x="700" y="107"/>
                  </a:lnTo>
                  <a:lnTo>
                    <a:pt x="751" y="163"/>
                  </a:lnTo>
                  <a:lnTo>
                    <a:pt x="712" y="222"/>
                  </a:lnTo>
                  <a:lnTo>
                    <a:pt x="547" y="222"/>
                  </a:lnTo>
                  <a:lnTo>
                    <a:pt x="309" y="310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4000" bIns="54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63840" y="2462040"/>
              <a:ext cx="159120" cy="84600"/>
            </a:xfrm>
            <a:custGeom>
              <a:avLst/>
              <a:gdLst/>
              <a:ahLst/>
              <a:rect l="0" t="0" r="r" b="b"/>
              <a:pathLst>
                <a:path w="442" h="235">
                  <a:moveTo>
                    <a:pt x="0" y="188"/>
                  </a:moveTo>
                  <a:lnTo>
                    <a:pt x="145" y="235"/>
                  </a:lnTo>
                  <a:lnTo>
                    <a:pt x="297" y="107"/>
                  </a:lnTo>
                  <a:lnTo>
                    <a:pt x="317" y="175"/>
                  </a:lnTo>
                  <a:lnTo>
                    <a:pt x="415" y="119"/>
                  </a:lnTo>
                  <a:lnTo>
                    <a:pt x="442" y="31"/>
                  </a:lnTo>
                  <a:lnTo>
                    <a:pt x="384" y="0"/>
                  </a:lnTo>
                  <a:lnTo>
                    <a:pt x="211" y="3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27000" bIns="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47960" y="2381400"/>
              <a:ext cx="138600" cy="68760"/>
            </a:xfrm>
            <a:custGeom>
              <a:avLst/>
              <a:gdLst/>
              <a:ahLst/>
              <a:rect l="0" t="0" r="r" b="b"/>
              <a:pathLst>
                <a:path w="385" h="191">
                  <a:moveTo>
                    <a:pt x="0" y="0"/>
                  </a:moveTo>
                  <a:lnTo>
                    <a:pt x="27" y="74"/>
                  </a:lnTo>
                  <a:lnTo>
                    <a:pt x="35" y="120"/>
                  </a:lnTo>
                  <a:lnTo>
                    <a:pt x="385" y="191"/>
                  </a:lnTo>
                  <a:lnTo>
                    <a:pt x="366" y="93"/>
                  </a:lnTo>
                  <a:lnTo>
                    <a:pt x="200" y="19"/>
                  </a:lnTo>
                  <a:lnTo>
                    <a:pt x="13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5160" y="2486160"/>
              <a:ext cx="383040" cy="114840"/>
            </a:xfrm>
            <a:custGeom>
              <a:avLst/>
              <a:gdLst/>
              <a:ahLst/>
              <a:rect l="0" t="0" r="r" b="b"/>
              <a:pathLst>
                <a:path w="1064" h="319">
                  <a:moveTo>
                    <a:pt x="0" y="50"/>
                  </a:moveTo>
                  <a:lnTo>
                    <a:pt x="66" y="0"/>
                  </a:lnTo>
                  <a:lnTo>
                    <a:pt x="508" y="138"/>
                  </a:lnTo>
                  <a:lnTo>
                    <a:pt x="688" y="224"/>
                  </a:lnTo>
                  <a:lnTo>
                    <a:pt x="892" y="165"/>
                  </a:lnTo>
                  <a:lnTo>
                    <a:pt x="1064" y="232"/>
                  </a:lnTo>
                  <a:lnTo>
                    <a:pt x="1037" y="319"/>
                  </a:lnTo>
                  <a:lnTo>
                    <a:pt x="325" y="319"/>
                  </a:lnTo>
                  <a:lnTo>
                    <a:pt x="125" y="11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240" bIns="57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44600" y="2187720"/>
              <a:ext cx="679680" cy="344880"/>
            </a:xfrm>
            <a:custGeom>
              <a:avLst/>
              <a:gdLst/>
              <a:ahLst/>
              <a:rect l="0" t="0" r="r" b="b"/>
              <a:pathLst>
                <a:path w="1888" h="958">
                  <a:moveTo>
                    <a:pt x="0" y="200"/>
                  </a:moveTo>
                  <a:lnTo>
                    <a:pt x="164" y="200"/>
                  </a:lnTo>
                  <a:lnTo>
                    <a:pt x="164" y="318"/>
                  </a:lnTo>
                  <a:lnTo>
                    <a:pt x="290" y="365"/>
                  </a:lnTo>
                  <a:lnTo>
                    <a:pt x="886" y="231"/>
                  </a:lnTo>
                  <a:lnTo>
                    <a:pt x="529" y="404"/>
                  </a:lnTo>
                  <a:lnTo>
                    <a:pt x="337" y="404"/>
                  </a:lnTo>
                  <a:lnTo>
                    <a:pt x="337" y="459"/>
                  </a:lnTo>
                  <a:lnTo>
                    <a:pt x="529" y="573"/>
                  </a:lnTo>
                  <a:lnTo>
                    <a:pt x="647" y="585"/>
                  </a:lnTo>
                  <a:lnTo>
                    <a:pt x="541" y="612"/>
                  </a:lnTo>
                  <a:lnTo>
                    <a:pt x="415" y="593"/>
                  </a:lnTo>
                  <a:lnTo>
                    <a:pt x="317" y="624"/>
                  </a:lnTo>
                  <a:lnTo>
                    <a:pt x="278" y="699"/>
                  </a:lnTo>
                  <a:lnTo>
                    <a:pt x="384" y="731"/>
                  </a:lnTo>
                  <a:lnTo>
                    <a:pt x="223" y="747"/>
                  </a:lnTo>
                  <a:lnTo>
                    <a:pt x="317" y="825"/>
                  </a:lnTo>
                  <a:lnTo>
                    <a:pt x="164" y="872"/>
                  </a:lnTo>
                  <a:lnTo>
                    <a:pt x="172" y="931"/>
                  </a:lnTo>
                  <a:lnTo>
                    <a:pt x="317" y="900"/>
                  </a:lnTo>
                  <a:lnTo>
                    <a:pt x="396" y="951"/>
                  </a:lnTo>
                  <a:lnTo>
                    <a:pt x="415" y="911"/>
                  </a:lnTo>
                  <a:lnTo>
                    <a:pt x="674" y="958"/>
                  </a:lnTo>
                  <a:lnTo>
                    <a:pt x="827" y="919"/>
                  </a:lnTo>
                  <a:lnTo>
                    <a:pt x="886" y="766"/>
                  </a:lnTo>
                  <a:lnTo>
                    <a:pt x="847" y="719"/>
                  </a:lnTo>
                  <a:lnTo>
                    <a:pt x="981" y="731"/>
                  </a:lnTo>
                  <a:lnTo>
                    <a:pt x="1068" y="644"/>
                  </a:lnTo>
                  <a:lnTo>
                    <a:pt x="875" y="593"/>
                  </a:lnTo>
                  <a:lnTo>
                    <a:pt x="1138" y="506"/>
                  </a:lnTo>
                  <a:lnTo>
                    <a:pt x="1068" y="471"/>
                  </a:lnTo>
                  <a:lnTo>
                    <a:pt x="1252" y="487"/>
                  </a:lnTo>
                  <a:lnTo>
                    <a:pt x="1378" y="393"/>
                  </a:lnTo>
                  <a:lnTo>
                    <a:pt x="1696" y="240"/>
                  </a:lnTo>
                  <a:lnTo>
                    <a:pt x="1339" y="287"/>
                  </a:lnTo>
                  <a:lnTo>
                    <a:pt x="1539" y="231"/>
                  </a:lnTo>
                  <a:lnTo>
                    <a:pt x="1397" y="200"/>
                  </a:lnTo>
                  <a:lnTo>
                    <a:pt x="1609" y="200"/>
                  </a:lnTo>
                  <a:lnTo>
                    <a:pt x="1888" y="125"/>
                  </a:lnTo>
                  <a:lnTo>
                    <a:pt x="1743" y="27"/>
                  </a:lnTo>
                  <a:lnTo>
                    <a:pt x="1417" y="58"/>
                  </a:lnTo>
                  <a:lnTo>
                    <a:pt x="1558" y="7"/>
                  </a:lnTo>
                  <a:lnTo>
                    <a:pt x="855" y="0"/>
                  </a:lnTo>
                  <a:lnTo>
                    <a:pt x="694" y="7"/>
                  </a:lnTo>
                  <a:lnTo>
                    <a:pt x="529" y="86"/>
                  </a:lnTo>
                  <a:lnTo>
                    <a:pt x="364" y="86"/>
                  </a:lnTo>
                  <a:lnTo>
                    <a:pt x="290" y="133"/>
                  </a:lnTo>
                  <a:lnTo>
                    <a:pt x="211" y="145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51000" y="2290680"/>
              <a:ext cx="246600" cy="147960"/>
            </a:xfrm>
            <a:custGeom>
              <a:avLst/>
              <a:gdLst/>
              <a:ahLst/>
              <a:rect l="0" t="0" r="r" b="b"/>
              <a:pathLst>
                <a:path w="685" h="411">
                  <a:moveTo>
                    <a:pt x="0" y="105"/>
                  </a:moveTo>
                  <a:lnTo>
                    <a:pt x="173" y="85"/>
                  </a:lnTo>
                  <a:lnTo>
                    <a:pt x="78" y="19"/>
                  </a:lnTo>
                  <a:lnTo>
                    <a:pt x="299" y="0"/>
                  </a:lnTo>
                  <a:lnTo>
                    <a:pt x="346" y="85"/>
                  </a:lnTo>
                  <a:lnTo>
                    <a:pt x="532" y="105"/>
                  </a:lnTo>
                  <a:lnTo>
                    <a:pt x="532" y="211"/>
                  </a:lnTo>
                  <a:lnTo>
                    <a:pt x="646" y="211"/>
                  </a:lnTo>
                  <a:lnTo>
                    <a:pt x="685" y="258"/>
                  </a:lnTo>
                  <a:lnTo>
                    <a:pt x="503" y="286"/>
                  </a:lnTo>
                  <a:lnTo>
                    <a:pt x="464" y="411"/>
                  </a:lnTo>
                  <a:lnTo>
                    <a:pt x="260" y="411"/>
                  </a:lnTo>
                  <a:lnTo>
                    <a:pt x="153" y="297"/>
                  </a:lnTo>
                  <a:lnTo>
                    <a:pt x="378" y="250"/>
                  </a:lnTo>
                  <a:lnTo>
                    <a:pt x="106" y="258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87440" y="2635200"/>
              <a:ext cx="636840" cy="456120"/>
            </a:xfrm>
            <a:custGeom>
              <a:avLst/>
              <a:gdLst/>
              <a:ahLst/>
              <a:rect l="0" t="0" r="r" b="b"/>
              <a:pathLst>
                <a:path w="1769" h="1267">
                  <a:moveTo>
                    <a:pt x="0" y="278"/>
                  </a:moveTo>
                  <a:lnTo>
                    <a:pt x="19" y="144"/>
                  </a:lnTo>
                  <a:lnTo>
                    <a:pt x="211" y="0"/>
                  </a:lnTo>
                  <a:lnTo>
                    <a:pt x="317" y="11"/>
                  </a:lnTo>
                  <a:lnTo>
                    <a:pt x="231" y="172"/>
                  </a:lnTo>
                  <a:lnTo>
                    <a:pt x="305" y="258"/>
                  </a:lnTo>
                  <a:lnTo>
                    <a:pt x="325" y="172"/>
                  </a:lnTo>
                  <a:lnTo>
                    <a:pt x="392" y="58"/>
                  </a:lnTo>
                  <a:lnTo>
                    <a:pt x="529" y="11"/>
                  </a:lnTo>
                  <a:lnTo>
                    <a:pt x="564" y="219"/>
                  </a:lnTo>
                  <a:lnTo>
                    <a:pt x="768" y="125"/>
                  </a:lnTo>
                  <a:lnTo>
                    <a:pt x="914" y="152"/>
                  </a:lnTo>
                  <a:lnTo>
                    <a:pt x="969" y="219"/>
                  </a:lnTo>
                  <a:lnTo>
                    <a:pt x="1036" y="297"/>
                  </a:lnTo>
                  <a:lnTo>
                    <a:pt x="1087" y="250"/>
                  </a:lnTo>
                  <a:lnTo>
                    <a:pt x="1200" y="318"/>
                  </a:lnTo>
                  <a:lnTo>
                    <a:pt x="1212" y="384"/>
                  </a:lnTo>
                  <a:lnTo>
                    <a:pt x="1353" y="404"/>
                  </a:lnTo>
                  <a:lnTo>
                    <a:pt x="1420" y="451"/>
                  </a:lnTo>
                  <a:lnTo>
                    <a:pt x="1318" y="490"/>
                  </a:lnTo>
                  <a:lnTo>
                    <a:pt x="1459" y="510"/>
                  </a:lnTo>
                  <a:lnTo>
                    <a:pt x="1345" y="596"/>
                  </a:lnTo>
                  <a:lnTo>
                    <a:pt x="1490" y="663"/>
                  </a:lnTo>
                  <a:lnTo>
                    <a:pt x="1557" y="643"/>
                  </a:lnTo>
                  <a:lnTo>
                    <a:pt x="1769" y="796"/>
                  </a:lnTo>
                  <a:lnTo>
                    <a:pt x="1643" y="890"/>
                  </a:lnTo>
                  <a:lnTo>
                    <a:pt x="1632" y="969"/>
                  </a:lnTo>
                  <a:lnTo>
                    <a:pt x="1432" y="804"/>
                  </a:lnTo>
                  <a:lnTo>
                    <a:pt x="1353" y="823"/>
                  </a:lnTo>
                  <a:lnTo>
                    <a:pt x="1451" y="977"/>
                  </a:lnTo>
                  <a:lnTo>
                    <a:pt x="1557" y="1008"/>
                  </a:lnTo>
                  <a:lnTo>
                    <a:pt x="1557" y="1208"/>
                  </a:lnTo>
                  <a:lnTo>
                    <a:pt x="1306" y="1095"/>
                  </a:lnTo>
                  <a:lnTo>
                    <a:pt x="1490" y="1267"/>
                  </a:lnTo>
                  <a:lnTo>
                    <a:pt x="1161" y="1161"/>
                  </a:lnTo>
                  <a:lnTo>
                    <a:pt x="949" y="1016"/>
                  </a:lnTo>
                  <a:lnTo>
                    <a:pt x="815" y="1044"/>
                  </a:lnTo>
                  <a:lnTo>
                    <a:pt x="788" y="921"/>
                  </a:lnTo>
                  <a:lnTo>
                    <a:pt x="1020" y="921"/>
                  </a:lnTo>
                  <a:lnTo>
                    <a:pt x="961" y="843"/>
                  </a:lnTo>
                  <a:lnTo>
                    <a:pt x="1094" y="729"/>
                  </a:lnTo>
                  <a:lnTo>
                    <a:pt x="1008" y="584"/>
                  </a:lnTo>
                  <a:lnTo>
                    <a:pt x="827" y="584"/>
                  </a:lnTo>
                  <a:lnTo>
                    <a:pt x="815" y="545"/>
                  </a:lnTo>
                  <a:lnTo>
                    <a:pt x="882" y="510"/>
                  </a:lnTo>
                  <a:lnTo>
                    <a:pt x="768" y="463"/>
                  </a:lnTo>
                  <a:lnTo>
                    <a:pt x="670" y="392"/>
                  </a:lnTo>
                  <a:lnTo>
                    <a:pt x="690" y="451"/>
                  </a:lnTo>
                  <a:lnTo>
                    <a:pt x="564" y="471"/>
                  </a:lnTo>
                  <a:lnTo>
                    <a:pt x="113" y="404"/>
                  </a:lnTo>
                  <a:lnTo>
                    <a:pt x="39" y="318"/>
                  </a:lnTo>
                  <a:lnTo>
                    <a:pt x="172" y="326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15475a"/>
            </a:solidFill>
            <a:ln w="25560">
              <a:solidFill>
                <a:srgbClr val="15475a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07960" y="380880"/>
            <a:ext cx="8115480" cy="876240"/>
          </a:xfrm>
          <a:prstGeom prst="rect">
            <a:avLst/>
          </a:prstGeom>
          <a:gradFill rotWithShape="0">
            <a:gsLst>
              <a:gs pos="0">
                <a:srgbClr val="93723f"/>
              </a:gs>
              <a:gs pos="50000">
                <a:srgbClr val="f6bf69"/>
              </a:gs>
              <a:gs pos="100000">
                <a:srgbClr val="93723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565440" y="531720"/>
            <a:ext cx="258444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75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Inf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51120" y="460440"/>
            <a:ext cx="817560" cy="81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1200" y="2762280"/>
            <a:ext cx="7562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pplets and Data</a:t>
            </a:r>
            <a:br>
              <a:rPr sz="4400"/>
            </a:b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y Map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380988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new Excel ‘95 Data Map fe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emographic Viewer (mapp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07960" y="2120760"/>
            <a:ext cx="7861320" cy="38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Define, analyze, and target specific marke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e demographic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ets in intelligen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ys to help you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ly find an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ze your targe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ets. Include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graphic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ounty level boundari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303800" y="2793960"/>
            <a:ext cx="4319640" cy="2975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832280" y="4538520"/>
            <a:ext cx="130176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8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$2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0,000 - $34,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5,000 - $49,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8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$50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40240" y="4228920"/>
            <a:ext cx="252108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 Household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405320" y="5369040"/>
            <a:ext cx="27241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6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Dual Income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65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ot =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40360" y="3679920"/>
            <a:ext cx="1052640" cy="58428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64400" y="2846520"/>
            <a:ext cx="1052640" cy="58428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47040" y="4183200"/>
            <a:ext cx="1052640" cy="584280"/>
          </a:xfrm>
          <a:prstGeom prst="ellipse">
            <a:avLst/>
          </a:prstGeom>
          <a:noFill/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424640" y="3505320"/>
            <a:ext cx="8906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85000"/>
              </a:lnSpc>
              <a:spcBef>
                <a:spcPts val="479"/>
              </a:spcBef>
            </a:pPr>
            <a:r>
              <a:rPr b="1" i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arget</a:t>
            </a:r>
            <a:br>
              <a:rPr sz="1400"/>
            </a:br>
            <a:r>
              <a:rPr b="1" i="1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124760" y="3679920"/>
            <a:ext cx="555480" cy="77796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524560" y="3672000"/>
            <a:ext cx="2162160" cy="38556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7391520" y="3124080"/>
            <a:ext cx="309600" cy="56196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dditional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07960" y="1962000"/>
            <a:ext cx="80265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Analyze your data in varying detail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 comes with standard maps for use with Data Map, including country boundaries and state or province boundari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ze your data in more detail by purchasing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maps such as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5-Digit Zip Codes</a:t>
            </a:r>
            <a:r>
              <a:rPr b="0" lang="en-US" sz="1800" spc="-1" strike="noStrike">
                <a:solidFill>
                  <a:srgbClr val="fe9b03"/>
                </a:solidFill>
                <a:latin typeface="Symbol"/>
                <a:ea typeface="Symbol"/>
              </a:rPr>
              <a:t>®</a:t>
            </a:r>
            <a:r>
              <a:rPr b="0" lang="en-US" sz="18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County Boundari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name only a few!  Contact MapInfo for a full list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22160" y="141912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ore to Co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4440" y="2025720"/>
            <a:ext cx="81090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dd-on products listed within this presentation are just the beginning.  In the coming months, MapInfo will be providing you with many more products, includ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Demographic Packs -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of statistical information on a variety of top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City Streets -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ed display maps of city streets and landmarks for major metropolitan ar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MapEnhancers -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the paper map look, such as detailed highways, major waterways and mo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ffice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04880" y="2044800"/>
            <a:ext cx="779796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Use the Data Map feature throughout the entire Office Suite of application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dition to being able to create powerful maps that allow you to analyze your data more effectively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−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ta from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Exce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readsheets and/or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Acces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tabase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−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y map created with a Mapplet or other add-on data product can be easily included in your next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PowerPoint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esentation or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Wor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cumen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ffice Compat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480" y="2387520"/>
            <a:ext cx="78166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o ensure that you are able to get up and running quickly and easily, the Mapplets have been designed and certified as </a:t>
            </a:r>
            <a:br>
              <a:rPr sz="3000"/>
            </a:b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Office Compatibl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−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ing the same consistent “look and feel” you’ve become familiar with using Windows ‘95 and other Office compatible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For More Informa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07960" y="2109960"/>
            <a:ext cx="81154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Electronic Catalog -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Excel Data Map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-line help will link you directly to a catalog containing more detailed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MapInfo Forum -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he most up to date information, go to the MapInfo Forum on the Microsoft Network (go word: MapInfo).  On-line purchasing available so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Contact MapInfo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or your local retailer)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00) 488-3552  US onl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(518) 285-7110 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8280" y="5192640"/>
            <a:ext cx="4950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65320" y="3424320"/>
            <a:ext cx="6813720" cy="2914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07960" y="1314360"/>
            <a:ext cx="8115480" cy="20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ow have an effective, colorful and dramatic way of visualizing and analyzing your data with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Map,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new Excel ‘95 feature. This feature was developed by the leader in desktop mapping solution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−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nfo Corporation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10160" y="3753000"/>
            <a:ext cx="3289320" cy="21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9360" y="3855960"/>
            <a:ext cx="268920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me Product Sales for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28600" y="3386160"/>
            <a:ext cx="3043080" cy="30002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29280" y="4929120"/>
            <a:ext cx="314280" cy="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4240" y="4538520"/>
            <a:ext cx="314280" cy="0"/>
          </a:xfrm>
          <a:prstGeom prst="line">
            <a:avLst/>
          </a:prstGeom>
          <a:ln w="255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2387520"/>
            <a:ext cx="785484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ddition to providing leading edge desktop mapping software solutions and worldwide data products, MapInfo has developed a suite of exciting Excel add-on products to make you a mapping expert -- all designed to help you create maps that meet your business needs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ut what is Desktop Mapp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480" y="2120760"/>
            <a:ext cx="80136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mapping provides an exciting way to analyze business information using geograph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Why geography?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90% of business data has geographic or locational components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−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ch as ZIP Codes, city, county or state nam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mapping software provides you with tools to correlate that information based on where it occurs, building a visual display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−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yer by layer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−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ffering a variety of analysis tools that provide new insight into your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79400" y="1476360"/>
            <a:ext cx="7788240" cy="15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pplets and Data </a:t>
            </a:r>
            <a:br>
              <a:rPr sz="4400"/>
            </a:br>
            <a:br>
              <a:rPr sz="18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Info has developed a variety of data products specifically for use with the Data Map feature:</a:t>
            </a:r>
            <a:br>
              <a:rPr sz="18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23960" y="3035160"/>
            <a:ext cx="7899480" cy="31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Mapplets -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uite of Visual Basic applications &amp; tutorials designed to hone your mapping skills and enhance your data analysis 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Maps -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ies, ZIP Code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®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undaries an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, as well as additional map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  <a:buClr>
                <a:srgbClr val="ffaa24"/>
              </a:buClr>
              <a:buSzPct val="70000"/>
              <a:buFont typeface="Wingdings"/>
              <a:buChar char=""/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Demographics -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ast storehouse of fact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igures on businesses, consumers, and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s (to name just a few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755880" y="2490840"/>
            <a:ext cx="4562640" cy="3648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779400" y="13431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stering Data Map (mapp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7960" y="1930320"/>
            <a:ext cx="760716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Get the most out of the Data Map featur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tep-by-step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torial will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you us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Map to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fulles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 withi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ffice su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al for thos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are new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pp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51120" y="5448240"/>
            <a:ext cx="15559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85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662880" y="5132520"/>
            <a:ext cx="1654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76720" y="5451480"/>
            <a:ext cx="1654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Poi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969240" y="3362400"/>
            <a:ext cx="16542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p Magic (mapp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4560" y="1987560"/>
            <a:ext cx="8048520" cy="38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Create great looking and informative map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ull map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arn basic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 design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ensur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nd</a:t>
            </a:r>
            <a:br>
              <a:rPr sz="3000"/>
            </a:b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ingful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ation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your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695760" y="2610000"/>
            <a:ext cx="4562640" cy="3648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128000" y="5761080"/>
            <a:ext cx="62388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b242d"/>
                </a:solidFill>
                <a:latin typeface="Times New Roman"/>
                <a:ea typeface="Times New Roman"/>
              </a:rPr>
              <a:t>Otta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2629080"/>
            <a:ext cx="2266920" cy="1676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72240" y="4343400"/>
            <a:ext cx="2286000" cy="1695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70360" y="2598840"/>
            <a:ext cx="1820880" cy="29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b242d"/>
                </a:solidFill>
                <a:latin typeface="Times New Roman"/>
                <a:ea typeface="Times New Roman"/>
              </a:rPr>
              <a:t>Canada by Provi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565600" y="5551560"/>
            <a:ext cx="142560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85000"/>
              </a:lnSpc>
              <a:spcBef>
                <a:spcPts val="479"/>
              </a:spcBef>
            </a:pPr>
            <a:r>
              <a:rPr b="1" i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</a:t>
            </a:r>
            <a:r>
              <a:rPr b="1" i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anada</a:t>
            </a:r>
            <a:br>
              <a:rPr sz="1600"/>
            </a:br>
            <a:r>
              <a:rPr b="1" i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y Provi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rketing Savvy (mapp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7960" y="2027160"/>
            <a:ext cx="767088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Eliminate the guess work in planning your next</a:t>
            </a:r>
            <a:br>
              <a:rPr sz="3000"/>
            </a:b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marketing campaig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lyze your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eting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ness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rder to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high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areas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avoid low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onse r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95520" y="2944800"/>
            <a:ext cx="4863960" cy="340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259080" y="2941560"/>
            <a:ext cx="30672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85000"/>
              </a:lnSpc>
              <a:spcBef>
                <a:spcPts val="479"/>
              </a:spcBef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m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Mail Campaig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196040" y="3782880"/>
            <a:ext cx="48888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699240" y="5340240"/>
            <a:ext cx="107316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,001-5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,001-4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001-3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2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388200" y="4902120"/>
            <a:ext cx="1611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ctr">
              <a:lnSpc>
                <a:spcPct val="6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s 25 -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397560" y="3448080"/>
            <a:ext cx="15922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 algn="ctr">
              <a:lnSpc>
                <a:spcPct val="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ctr">
              <a:lnSpc>
                <a:spcPct val="6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740640" y="4218120"/>
            <a:ext cx="768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99360" y="4849920"/>
            <a:ext cx="1587600" cy="1052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99360" y="3414600"/>
            <a:ext cx="1587600" cy="1150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64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79400" y="1476360"/>
            <a:ext cx="77882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1" i="1" lang="en-US" sz="4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erritory Builder (mapp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14440" y="2031840"/>
            <a:ext cx="803916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06360" indent="-306360" algn="ctr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e9b03"/>
                </a:solidFill>
                <a:latin typeface="Times New Roman"/>
                <a:ea typeface="Times New Roman"/>
              </a:rPr>
              <a:t>Precisely align your territorie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your own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ritories an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aps that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 your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for those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reg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pplication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ually extends the capabilities of  Data Map to help you align sales, service and other territo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6360" indent="-306360">
              <a:lnSpc>
                <a:spcPct val="85000"/>
              </a:lnSpc>
              <a:spcBef>
                <a:spcPts val="479"/>
              </a:spcBef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68760" y="2455920"/>
            <a:ext cx="4664160" cy="2859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179960" y="4768920"/>
            <a:ext cx="71748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99160" y="4768920"/>
            <a:ext cx="69048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425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4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45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5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6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133960" y="2522520"/>
            <a:ext cx="278136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54160" indent="-254160">
              <a:lnSpc>
                <a:spcPct val="85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Volume by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pInfo Corporation</dc:creator>
  <dc:description>5/8/95</dc:description>
  <dc:language>en-US</dc:language>
  <cp:lastModifiedBy>Edward I. Jenny</cp:lastModifiedBy>
  <cp:revision>0</cp:revision>
  <dc:subject>MapInfo Autodemo for Office Compatible Browswer</dc:subject>
  <dc:title>Mapplets and Data</dc:title>
</cp:coreProperties>
</file>