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60480" y="6453360"/>
            <a:ext cx="1625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lick any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810400" y="57240"/>
            <a:ext cx="1324080" cy="79056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7086600" y="21276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TZ Ph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4.wmf"/><Relationship Id="rId3" Type="http://schemas.openxmlformats.org/officeDocument/2006/relationships/image" Target="../media/image14.wmf"/><Relationship Id="rId4" Type="http://schemas.openxmlformats.org/officeDocument/2006/relationships/image" Target="../media/image7.wmf"/><Relationship Id="rId5" Type="http://schemas.openxmlformats.org/officeDocument/2006/relationships/image" Target="../media/image3.wmf"/><Relationship Id="rId6" Type="http://schemas.openxmlformats.org/officeDocument/2006/relationships/image" Target="../media/image15.wmf"/><Relationship Id="rId7" Type="http://schemas.openxmlformats.org/officeDocument/2006/relationships/image" Target="../media/image16.wm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685800"/>
            <a:ext cx="54864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roducing METZ Phones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09480" y="449568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TZ Phones is your integrated Microsoft Office solution for workgroup address and telephone management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090880" y="1467000"/>
            <a:ext cx="494352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8080" y="1371600"/>
            <a:ext cx="46483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int labels using standard formats or create your ow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int envelopes including return addr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lexible report op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int one or multiple records, a single copy or man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DE support for Mail Merge and custom repor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762120" y="533520"/>
            <a:ext cx="34290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made eas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943600" y="3224160"/>
            <a:ext cx="1981080" cy="12081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805360" y="4694400"/>
            <a:ext cx="2486160" cy="17064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5351400" y="1393920"/>
            <a:ext cx="1952640" cy="17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7621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the experts sa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29528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0" i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“</a:t>
            </a:r>
            <a:r>
              <a:rPr b="0" i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TZ Phones is the simple and sensible way to centralize your address and telephone information.”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i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Magazine - January 19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i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“</a:t>
            </a:r>
            <a:r>
              <a:rPr b="0" i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th its ease of use, speed of access, configurability, and admirably small footprint, METZ Phones comes up a winner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i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C Magazine - November 22, 199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i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“</a:t>
            </a:r>
            <a:r>
              <a:rPr b="0" i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TZ Phones... does all the things you wish a Rolodex would do and a little bit  more.”</a:t>
            </a:r>
            <a:br>
              <a:rPr sz="2400"/>
            </a:br>
            <a:r>
              <a:rPr b="0" i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foWorld - October 17, 199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i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            </a:t>
            </a:r>
            <a:r>
              <a:rPr b="0" i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Magazine WIN100 Award - February 19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90720" y="5867280"/>
            <a:ext cx="54288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762120" y="838080"/>
            <a:ext cx="769608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rder now!  Centralize your telephone and address book information with METZ Phones for only $49.  Call today - </a:t>
            </a:r>
            <a:r>
              <a:rPr b="1" lang="en-US" sz="28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1-800-447-17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600200" indent="-228600">
              <a:lnSpc>
                <a:spcPct val="85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TZ Software, In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00200" indent="-228600">
              <a:lnSpc>
                <a:spcPct val="85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.O. Box 669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00200" indent="-228600">
              <a:lnSpc>
                <a:spcPct val="85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ellevue, WA  98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00200" indent="-228600">
              <a:lnSpc>
                <a:spcPct val="85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-800-447-17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00200" indent="-228600">
              <a:lnSpc>
                <a:spcPct val="85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-206-641-45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600200" indent="-228600">
              <a:lnSpc>
                <a:spcPct val="85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-206-644-6026 (Fax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net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TZSoft@aol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uServe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75300,1627  (GO M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OL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TZSoft   (GoTo M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BS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206) 644-366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55800" y="2971800"/>
            <a:ext cx="4102200" cy="838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839880" y="3703680"/>
            <a:ext cx="4273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    WINDOWS</a:t>
            </a:r>
            <a:r>
              <a:rPr b="0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Ware     BANYAN    Offic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dows       MAGAZINE                                             Compati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373560" y="2955960"/>
            <a:ext cx="2398680" cy="1557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135920" y="2625840"/>
            <a:ext cx="1474920" cy="1608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084640" y="3089160"/>
            <a:ext cx="1774800" cy="1442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108160" y="3733920"/>
            <a:ext cx="1108080" cy="890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446040" y="2552760"/>
            <a:ext cx="1459080" cy="1754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822240" y="808200"/>
            <a:ext cx="7559640" cy="15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your important phone and address information scattered among your workgroup, personal and office applica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822240" y="5151600"/>
            <a:ext cx="79405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et METZ Phones organize the information for easy access, maintenance and integr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838080" y="2666880"/>
            <a:ext cx="74674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oks and works like Microsoft Office applications with familiar and consistent commands, menus and toolba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aves time and money with less training, support and data inp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grates nicely with Microsoft</a:t>
            </a:r>
            <a:r>
              <a:rPr b="0" lang="en-US" sz="1400" spc="-1" strike="noStrike">
                <a:solidFill>
                  <a:srgbClr val="fafd00"/>
                </a:solidFill>
                <a:latin typeface="Symbol"/>
                <a:ea typeface="Symbol"/>
              </a:rPr>
              <a:t>®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Word for mail merg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62120" y="1219320"/>
            <a:ext cx="4267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ice Suite Compat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74720" y="1914480"/>
            <a:ext cx="75945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5800" y="762120"/>
            <a:ext cx="48769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groups and Network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pports multiple us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hare company directories, vendor lists and client inform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entralize company and customer information for easy upda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orks with all major network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912080" y="3917880"/>
            <a:ext cx="1054080" cy="806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411960" y="4603680"/>
            <a:ext cx="1197000" cy="896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7467480" y="5670720"/>
            <a:ext cx="1219320" cy="8571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486400" y="5105520"/>
            <a:ext cx="1067040" cy="914760"/>
          </a:xfrm>
          <a:custGeom>
            <a:avLst/>
            <a:gdLst/>
            <a:ahLst/>
            <a:rect l="0" t="0" r="r" b="b"/>
            <a:pathLst>
              <a:path fill="none" w="2964" h="2541">
                <a:moveTo>
                  <a:pt x="2964" y="0"/>
                </a:moveTo>
                <a:lnTo>
                  <a:pt x="2964" y="0"/>
                </a:lnTo>
                <a:cubicBezTo>
                  <a:pt x="2444" y="0"/>
                  <a:pt x="1933" y="117"/>
                  <a:pt x="1482" y="340"/>
                </a:cubicBezTo>
                <a:cubicBezTo>
                  <a:pt x="1031" y="563"/>
                  <a:pt x="657" y="884"/>
                  <a:pt x="397" y="1271"/>
                </a:cubicBezTo>
                <a:cubicBezTo>
                  <a:pt x="137" y="1657"/>
                  <a:pt x="0" y="2095"/>
                  <a:pt x="0" y="2541"/>
                </a:cubicBezTo>
              </a:path>
            </a:pathLst>
          </a:custGeom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6019920"/>
            <a:ext cx="2057760" cy="305280"/>
          </a:xfrm>
          <a:custGeom>
            <a:avLst/>
            <a:gdLst/>
            <a:ahLst/>
            <a:rect l="0" t="0" r="r" b="b"/>
            <a:pathLst>
              <a:path fill="none" w="5716" h="848">
                <a:moveTo>
                  <a:pt x="0" y="0"/>
                </a:moveTo>
                <a:lnTo>
                  <a:pt x="0" y="0"/>
                </a:lnTo>
                <a:cubicBezTo>
                  <a:pt x="0" y="149"/>
                  <a:pt x="264" y="295"/>
                  <a:pt x="766" y="424"/>
                </a:cubicBezTo>
                <a:cubicBezTo>
                  <a:pt x="1267" y="553"/>
                  <a:pt x="1989" y="660"/>
                  <a:pt x="2858" y="734"/>
                </a:cubicBezTo>
                <a:cubicBezTo>
                  <a:pt x="3727" y="809"/>
                  <a:pt x="4713" y="848"/>
                  <a:pt x="5716" y="848"/>
                </a:cubicBezTo>
              </a:path>
            </a:pathLst>
          </a:custGeom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534520" y="4495680"/>
            <a:ext cx="305280" cy="1752840"/>
          </a:xfrm>
          <a:custGeom>
            <a:avLst/>
            <a:gdLst/>
            <a:ahLst/>
            <a:rect l="0" t="0" r="r" b="b"/>
            <a:pathLst>
              <a:path fill="none" w="848" h="4869">
                <a:moveTo>
                  <a:pt x="0" y="4869"/>
                </a:moveTo>
                <a:lnTo>
                  <a:pt x="0" y="4869"/>
                </a:lnTo>
                <a:cubicBezTo>
                  <a:pt x="149" y="4869"/>
                  <a:pt x="295" y="4644"/>
                  <a:pt x="424" y="4217"/>
                </a:cubicBezTo>
                <a:cubicBezTo>
                  <a:pt x="553" y="3789"/>
                  <a:pt x="660" y="3175"/>
                  <a:pt x="734" y="2434"/>
                </a:cubicBezTo>
                <a:cubicBezTo>
                  <a:pt x="809" y="1694"/>
                  <a:pt x="848" y="855"/>
                  <a:pt x="848" y="0"/>
                </a:cubicBezTo>
              </a:path>
            </a:pathLst>
          </a:custGeom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467480" y="4419720"/>
            <a:ext cx="533880" cy="762480"/>
          </a:xfrm>
          <a:custGeom>
            <a:avLst/>
            <a:gdLst/>
            <a:ahLst/>
            <a:rect l="0" t="0" r="r" b="b"/>
            <a:pathLst>
              <a:path fill="none" w="1483" h="2118">
                <a:moveTo>
                  <a:pt x="1483" y="0"/>
                </a:moveTo>
                <a:lnTo>
                  <a:pt x="1483" y="0"/>
                </a:lnTo>
                <a:cubicBezTo>
                  <a:pt x="1223" y="0"/>
                  <a:pt x="967" y="98"/>
                  <a:pt x="741" y="284"/>
                </a:cubicBezTo>
                <a:cubicBezTo>
                  <a:pt x="516" y="470"/>
                  <a:pt x="329" y="737"/>
                  <a:pt x="199" y="1059"/>
                </a:cubicBezTo>
                <a:cubicBezTo>
                  <a:pt x="69" y="1381"/>
                  <a:pt x="0" y="1746"/>
                  <a:pt x="0" y="2118"/>
                </a:cubicBezTo>
              </a:path>
            </a:pathLst>
          </a:custGeom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3862440" y="5181480"/>
            <a:ext cx="19288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028960" y="2603520"/>
            <a:ext cx="5087880" cy="31449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1135080" y="884160"/>
            <a:ext cx="68738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 and use your telephone and address information the way you want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838080" y="609480"/>
            <a:ext cx="42670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ful Information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762120" y="1600200"/>
            <a:ext cx="74674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nlimited user-definable fiel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ultiple addres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tensive notes capabil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ategorize and group recor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146320" y="4651200"/>
            <a:ext cx="4976640" cy="576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7223040" y="3481560"/>
            <a:ext cx="1174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ultipl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ddres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937040" y="5691240"/>
            <a:ext cx="11811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wo no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432080" y="5462640"/>
            <a:ext cx="20732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nlimited number of user-definable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200400" y="5105520"/>
            <a:ext cx="762120" cy="76176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0" y="5105520"/>
            <a:ext cx="838080" cy="68580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5410080" y="5029200"/>
            <a:ext cx="76320" cy="76212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286000" y="3809880"/>
            <a:ext cx="4952880" cy="91440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867280" y="3809880"/>
            <a:ext cx="1371600" cy="91440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781680" y="3809880"/>
            <a:ext cx="457200" cy="99072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811160" y="2610000"/>
            <a:ext cx="5522760" cy="31910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974880" y="1112760"/>
            <a:ext cx="64594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nlimited Phone Numbers Per Rec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033880" y="4489560"/>
            <a:ext cx="1403280" cy="9968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762120" y="762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METZ Phones to maintain  shared and private contact datab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nter phone and address information o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veryone has the most current inform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55640" y="3789360"/>
            <a:ext cx="1073160" cy="11685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879560" y="3627360"/>
            <a:ext cx="1108080" cy="8906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4103640" y="4302000"/>
            <a:ext cx="985680" cy="11844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479600" y="4299120"/>
            <a:ext cx="1949400" cy="12668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2733840" y="4154400"/>
            <a:ext cx="1533600" cy="1249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7139160" y="4254480"/>
            <a:ext cx="1004760" cy="976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6765840" y="5318280"/>
            <a:ext cx="1969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TZ Ph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762120" y="182880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Quickly insert information into other applications such as Microsoft</a:t>
            </a:r>
            <a:r>
              <a:rPr b="0" lang="en-US" sz="1400" spc="-1" strike="noStrike">
                <a:solidFill>
                  <a:srgbClr val="fafd00"/>
                </a:solidFill>
                <a:latin typeface="Symbol"/>
                <a:ea typeface="Symbol"/>
              </a:rPr>
              <a:t>®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Word or Exc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62120" y="838080"/>
            <a:ext cx="52578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ful integration with your Microsoft Office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6920" y="3062160"/>
            <a:ext cx="5054760" cy="31338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257800" y="2819520"/>
            <a:ext cx="686160" cy="2210040"/>
          </a:xfrm>
          <a:custGeom>
            <a:avLst/>
            <a:gdLst/>
            <a:ahLst/>
            <a:rect l="0" t="0" r="r" b="b"/>
            <a:pathLst>
              <a:path w="1906" h="6139">
                <a:moveTo>
                  <a:pt x="0" y="1227"/>
                </a:moveTo>
                <a:lnTo>
                  <a:pt x="0" y="4911"/>
                </a:lnTo>
                <a:lnTo>
                  <a:pt x="1334" y="4911"/>
                </a:lnTo>
                <a:lnTo>
                  <a:pt x="1334" y="6139"/>
                </a:lnTo>
                <a:lnTo>
                  <a:pt x="1906" y="3069"/>
                </a:lnTo>
                <a:lnTo>
                  <a:pt x="1334" y="0"/>
                </a:lnTo>
                <a:lnTo>
                  <a:pt x="1334" y="1227"/>
                </a:lnTo>
                <a:lnTo>
                  <a:pt x="0" y="1227"/>
                </a:lnTo>
                <a:close/>
              </a:path>
            </a:pathLst>
          </a:custGeom>
          <a:solidFill>
            <a:srgbClr val="114ffb"/>
          </a:solidFill>
          <a:ln w="12600">
            <a:solidFill>
              <a:srgbClr val="fafd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335640" y="3067200"/>
            <a:ext cx="237960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ouglas D. Smith</dc:creator>
  <dc:description/>
  <dc:language>en-US</dc:language>
  <cp:lastModifiedBy>Edward I. Jenny</cp:lastModifiedBy>
  <cp:revision>0</cp:revision>
  <dc:subject/>
  <dc:title>METZ Demo for CD ROM</dc:title>
</cp:coreProperties>
</file>