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918560" y="200160"/>
            <a:ext cx="1166760" cy="71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79320" y="7621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grafx</a:t>
            </a:r>
            <a:r>
              <a:rPr b="0" lang="en-US" sz="3600" spc="-1" strike="noStrike" baseline="30000">
                <a:solidFill>
                  <a:srgbClr val="f6bf69"/>
                </a:solidFill>
                <a:latin typeface="Times New Roman"/>
                <a:ea typeface="Times New Roman"/>
              </a:rPr>
              <a:t>®</a:t>
            </a: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Suite for 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</a:t>
            </a:r>
            <a:r>
              <a:rPr b="0" lang="en-US" sz="2800" spc="-1" strike="noStrike" baseline="-10000">
                <a:solidFill>
                  <a:srgbClr val="f6bf69"/>
                </a:solidFill>
                <a:latin typeface="Times New Roman"/>
                <a:ea typeface="Times New Roman"/>
              </a:rPr>
              <a:t>®</a:t>
            </a: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9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69960" y="5165640"/>
            <a:ext cx="78645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wesome array of integrated graphics tools for Microsoft</a:t>
            </a:r>
            <a:r>
              <a:rPr b="0" lang="en-US" sz="2400" spc="-1" strike="noStrike" baseline="-1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fice.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19200" y="2209680"/>
            <a:ext cx="4608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sing the Micrografx Suite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with Microsoft Off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8288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e Visualiz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icture Publisher to scan in and enhance your pho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2880" y="3571920"/>
            <a:ext cx="82072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sing the Micrografx Suite 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th Microsoft Off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47640" y="3076560"/>
            <a:ext cx="7988400" cy="3598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integration of technical illus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Designer to embellish your CAD draw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sing the Micrografx Suite 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th Microsoft Off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8288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Analy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BC FlowCharter to map out the entire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8080" y="3629160"/>
            <a:ext cx="776916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sing the Micrografx Suite 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th Microsoft Off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Clip Art Manager to enhance your proposal with impactful clip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80960" y="4267080"/>
            <a:ext cx="2014560" cy="1808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76720" y="3733920"/>
            <a:ext cx="2471760" cy="96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915160" y="4838760"/>
            <a:ext cx="2184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1522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grafx Suite </a:t>
            </a:r>
            <a:br>
              <a:rPr sz="4400"/>
            </a:b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or Windows 9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3716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afd00"/>
              </a:buClr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wesome array of integrated graphics tools for Microsoft Off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grafx Clip Art Manager, thousands of useful drag-and-drop clip 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grafx ABC FlowCharter, create any business diagram instan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grafx Designer, the complete drawing commmunication tool for Microsoft Off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grafx Picture Publisher, the fastest, easiest, and most powerful image editor for Windows 9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o Learn More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051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 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 contact Micrografx 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 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603-0074 in the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 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4 1483 747 526 in the U.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 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 2 4152642 in Austra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0160" y="5364000"/>
            <a:ext cx="78008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wesome array of integrate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s tools for Microsoft</a:t>
            </a:r>
            <a:r>
              <a:rPr b="0" lang="en-US" sz="2400" spc="-1" strike="noStrike" baseline="-1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fice.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75080" y="4678200"/>
            <a:ext cx="3929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grafx</a:t>
            </a:r>
            <a:r>
              <a:rPr b="0" lang="en-US" sz="4000" spc="-1" strike="noStrike" baseline="30000">
                <a:solidFill>
                  <a:srgbClr val="f6bf69"/>
                </a:solidFill>
                <a:latin typeface="Times New Roman"/>
                <a:ea typeface="Times New Roman"/>
              </a:rPr>
              <a:t>®</a:t>
            </a:r>
            <a:r>
              <a:rPr b="0" lang="en-US" sz="4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Sui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at’s in the Micrografx Sui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447920" y="17524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wesome array of graphics too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-and-Drop Clip Ar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ram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nting and Image Ed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with Microsoft Of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 Compatibl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OLE 2.0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52280" y="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rag-and-Drop Clip Art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9907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lip Art Manager is the ultimate drag-and-drop clip art tool for Microsoft Off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81160" y="2124000"/>
            <a:ext cx="662292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iagramm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91440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grafx ABC FlowCharter allows you to create any business diagram instantl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ner of  PC Magazine’s Editors Choice Award for 199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8672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raw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grafx Designer is the complete drawing communication tool for Offi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ner of Windows Magazine Win 100 Award for 1995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0" y="3114720"/>
            <a:ext cx="486720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ainting and Image Edi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grafx Picture Publisher is the fastest, easiest, and most powerful image edit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ted Top Product of 1995 by Computer Artist’s Magazi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8672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ffice Compatible Interf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Look and Feel - The same toolbars, menus, and hot keys that you are familiar with in Microsoft Off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95480" y="3105000"/>
            <a:ext cx="74026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LE 2.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graphics modules of the Micrografx Suite fully support OLE 2.0, including OLE automation, in-place editing, and drag-and-dro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48040" y="2952720"/>
            <a:ext cx="519588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sing the Micrografx Suite with Microsoft Off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’s say that you are in charge of putting together a proposal for the construction of new runways at the airport. You will need a way to prove that your proposal is best, but how do you make yourself outshine all of the other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 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the </a:t>
            </a:r>
            <a:r>
              <a:rPr b="1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grafx Sui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Simmons</dc:creator>
  <dc:description/>
  <dc:language>en-US</dc:language>
  <cp:lastModifiedBy>Craig Simmons</cp:lastModifiedBy>
  <cp:revision>0</cp:revision>
  <dc:subject/>
  <dc:title>Micrografx® Picture Publisher®  for Windows '95</dc:title>
</cp:coreProperties>
</file>