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2928960"/>
            <a:ext cx="6114960" cy="270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8600" y="838080"/>
            <a:ext cx="883908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60680" y="5456160"/>
            <a:ext cx="567072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741240"/>
                <a:tab algn="l" pos="1147680"/>
                <a:tab algn="l" pos="2459160"/>
                <a:tab algn="l" pos="2803680"/>
                <a:tab algn="l" pos="3941640"/>
                <a:tab algn="l" pos="41752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NECTIVITY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741240"/>
                <a:tab algn="l" pos="1147680"/>
                <a:tab algn="l" pos="2459160"/>
                <a:tab algn="l" pos="2803680"/>
                <a:tab algn="l" pos="3941640"/>
                <a:tab algn="l" pos="4175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indow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hern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oken 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29680" y="3436920"/>
            <a:ext cx="2127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85800" y="380880"/>
            <a:ext cx="77724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User Support Featur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295280"/>
            <a:ext cx="7772400" cy="45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dire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 to 16 simultaneous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ehensive suite of toolb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able button pale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 language and script rec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D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-up terminal keyboard (2 siz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keyboar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Mouse programmable mouse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CP Addition</a:t>
            </a:r>
            <a:r>
              <a:rPr b="1" lang="en-US" sz="2400" spc="-1" strike="noStrike" baseline="76000">
                <a:solidFill>
                  <a:srgbClr val="ffffff"/>
                </a:solidFill>
                <a:latin typeface="Arial"/>
                <a:ea typeface="Arial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371600"/>
            <a:ext cx="3352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to enhance SmarTerm’s TCP/IP stack and double its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phisticated dial-up conn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user FTP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73600" y="1541520"/>
            <a:ext cx="425772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08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Portable TCP</a:t>
            </a:r>
            <a:r>
              <a:rPr b="1" lang="en-US" sz="2400" spc="-1" strike="noStrike" baseline="78000">
                <a:solidFill>
                  <a:srgbClr val="ffffff"/>
                </a:solidFill>
                <a:latin typeface="Arial"/>
                <a:ea typeface="Arial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295280"/>
            <a:ext cx="7772400" cy="45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tack (Windows Sockets D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dial-up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er script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er script rec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l on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 disconnect upon detection of idl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nnection dire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3808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N3270 Addition</a:t>
            </a:r>
            <a:r>
              <a:rPr b="1" lang="en-US" sz="2400" spc="-1" strike="noStrike" baseline="78000">
                <a:solidFill>
                  <a:srgbClr val="ffffff"/>
                </a:solidFill>
                <a:latin typeface="Arial"/>
                <a:ea typeface="Arial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295280"/>
            <a:ext cx="8077320" cy="45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3278/3279 e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attribut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-up 3270 terminal key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F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78/3279 style operator inform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graphical keyboard rema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script language and script rec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DE client and server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ocument Interface (MDI)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7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onal SmarTerm Resell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914400"/>
            <a:ext cx="7924680" cy="672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0 Software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AP Software Express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D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3 Canal Blvd.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0 Asbury Drive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20 East Lake Cook Ro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mond, CA  948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alo Grove, IL  60089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uffalo Grove, IL  6008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0-888-5950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0-248-2727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-622-6659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classics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amond Micro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ustin Softwar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23 Nordhoff Street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615 Alvarado Street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1010 Superior Stree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tsworth, CA  91311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an Leandro, CA  94577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tsworth, CA  9131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0-733-3888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-366-4367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-274-661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gghead Software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s Connection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mar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011 SE 51st Street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249 Whipple Avenue NW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67 Creamery Wa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aquah, WA  98027-7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th Canton, OH  44720-7143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xton, PA  1934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0-347-5400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0-336-1166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-328-131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House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 Spectrum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ndows Exchan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Riverview Drive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140 Merritt Drive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2350 Grand River Avenu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rset, NJ  08873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arland, TX  75041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vi, MI  4837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0-527-6389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-824-3323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-845-19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vernment GSA Sour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TSI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Technology Services, Inc., 4100 Lafayette Center Drive, Chantilly, VA  220121  Phone: 800-999-487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40000" y="598320"/>
            <a:ext cx="4441680" cy="1798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0" y="3200400"/>
            <a:ext cx="906768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ft, Inc., 465 Science Drive, Madison, WI 537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608-273-6000  1-800-EMU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oft Inc, European Headquarters, Lower Woodend Barns Fawley Henley-on-Thames, Oxfordshire, RG9 6JF, United Kingd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44 (0)1491 6380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©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1995 Persoft, Inc. All Rights Reserved. Persoft, SmarTerm, and SmartMouse are registered trademarks and TCP Addition, TN3270 Addition, and Portable TCP are trademarks of Persoft, Inc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743880" y="846000"/>
            <a:ext cx="21276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81080" y="5257800"/>
            <a:ext cx="1067040" cy="457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505400"/>
            <a:ext cx="1314360" cy="1133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85800" y="4572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marTerm</a:t>
            </a:r>
            <a:r>
              <a:rPr b="1" lang="en-US" sz="1800" spc="-1" strike="noStrike" baseline="100000">
                <a:solidFill>
                  <a:srgbClr val="ffffff"/>
                </a:solidFill>
                <a:latin typeface="Symbol"/>
                <a:ea typeface="Symbol"/>
              </a:rPr>
              <a:t>®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PC-to-Host Conne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828800"/>
            <a:ext cx="3048120" cy="44956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581280"/>
            <a:ext cx="28954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5638680"/>
            <a:ext cx="31240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781680" y="586728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562720" y="4038480"/>
            <a:ext cx="17524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724280" y="2819520"/>
            <a:ext cx="14479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24520" y="1990800"/>
            <a:ext cx="1314360" cy="1133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067520" y="3209760"/>
            <a:ext cx="1314360" cy="113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372440" y="5038560"/>
            <a:ext cx="1314360" cy="113364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057400" y="2438280"/>
            <a:ext cx="1066680" cy="1447920"/>
            <a:chOff x="2057400" y="2438280"/>
            <a:chExt cx="1066680" cy="1447920"/>
          </a:xfrm>
        </p:grpSpPr>
        <p:sp>
          <p:nvSpPr>
            <p:cNvPr id="58" name=""/>
            <p:cNvSpPr/>
            <p:nvPr/>
          </p:nvSpPr>
          <p:spPr>
            <a:xfrm>
              <a:off x="2057400" y="2438280"/>
              <a:ext cx="1066680" cy="1447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33720" y="243828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8120" y="2438280"/>
              <a:ext cx="0" cy="144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33720" y="259092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33720" y="26668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43200" y="2666880"/>
              <a:ext cx="0" cy="121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43200" y="2971800"/>
              <a:ext cx="30492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09680" y="2819520"/>
              <a:ext cx="457200" cy="152280"/>
            </a:xfrm>
            <a:prstGeom prst="rect">
              <a:avLst/>
            </a:prstGeom>
            <a:blipFill rotWithShape="0">
              <a:blip r:embed="rId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09680" y="3048120"/>
              <a:ext cx="457200" cy="152280"/>
            </a:xfrm>
            <a:prstGeom prst="rect">
              <a:avLst/>
            </a:prstGeom>
            <a:blipFill rotWithShape="0">
              <a:blip r:embed="rId6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048120" y="4724280"/>
            <a:ext cx="1295280" cy="1219320"/>
            <a:chOff x="3048120" y="4724280"/>
            <a:chExt cx="1295280" cy="1219320"/>
          </a:xfrm>
        </p:grpSpPr>
        <p:sp>
          <p:nvSpPr>
            <p:cNvPr id="68" name=""/>
            <p:cNvSpPr/>
            <p:nvPr/>
          </p:nvSpPr>
          <p:spPr>
            <a:xfrm>
              <a:off x="3048120" y="4724280"/>
              <a:ext cx="1295280" cy="12193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24080" y="4724280"/>
              <a:ext cx="0" cy="121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7080" y="4724280"/>
              <a:ext cx="0" cy="121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24080" y="495288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809880" y="4952880"/>
              <a:ext cx="0" cy="990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09880" y="5105520"/>
              <a:ext cx="45720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4800600"/>
              <a:ext cx="609480" cy="76320"/>
            </a:xfrm>
            <a:prstGeom prst="rect">
              <a:avLst/>
            </a:prstGeom>
            <a:blipFill rotWithShape="0">
              <a:blip r:embed="rId7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86200" y="5486400"/>
              <a:ext cx="304920" cy="228600"/>
            </a:xfrm>
            <a:prstGeom prst="rect">
              <a:avLst/>
            </a:prstGeom>
            <a:blipFill rotWithShape="0">
              <a:blip r:embed="rId8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 txBox="1"/>
          <p:nvPr/>
        </p:nvSpPr>
        <p:spPr>
          <a:xfrm>
            <a:off x="3124080" y="2514600"/>
            <a:ext cx="91440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Digital Host (VAX, Alph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43400" y="4876920"/>
            <a:ext cx="9144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UNIX Ho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47920" y="46483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400800" y="2133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43800" y="335268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848720" y="518148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123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marTerm Product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21932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32-Bit Edition for Windows 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32-Bit Edition for Windows 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340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420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470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T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 Addi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N3270 Ad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191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123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marTerm Product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21932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eign Language Ver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340 for Windows Multilingual (English, French, Spanish, and Germ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420 for Windows Multilingual (English, French, Spanish, and Germ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340 for DO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erm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91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114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marTerm Product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1600200"/>
            <a:ext cx="4800600" cy="38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320 for 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340 for 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400 for 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erm 470 for 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191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marTerm for Wind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9040" y="1285920"/>
            <a:ext cx="830592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Office Compatible.  Interface has same look and feel as Office applications.  Simply cut-and-paste from you apps into SmarTe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precise, full-featured VT, DG, ANSI, SCO Console, and TN3270 emulation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ehensive network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stack (Windows Sockets D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-alone FTP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third-party TCP/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62200" y="1701720"/>
            <a:ext cx="5589720" cy="4189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The SmarTerm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200" y="1209600"/>
            <a:ext cx="7556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6059520"/>
            <a:ext cx="2027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tion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320" y="4525920"/>
            <a:ext cx="13273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tus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473960" y="5024520"/>
            <a:ext cx="1620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utton Palet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2440" y="1592280"/>
            <a:ext cx="9586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olb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2355840"/>
            <a:ext cx="10605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n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81680" y="6211800"/>
            <a:ext cx="13273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38080" y="5791320"/>
            <a:ext cx="838440" cy="30456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876920"/>
            <a:ext cx="1219320" cy="7596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1828800"/>
            <a:ext cx="533160" cy="22860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895480"/>
            <a:ext cx="1371600" cy="22860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010280" y="1523880"/>
            <a:ext cx="1143000" cy="7621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5867280" y="5410080"/>
            <a:ext cx="914400" cy="83844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896240" y="1211400"/>
            <a:ext cx="10731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olb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391520" y="1523880"/>
            <a:ext cx="838080" cy="99072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705720" y="4419720"/>
            <a:ext cx="1218960" cy="60948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819520" y="5486400"/>
            <a:ext cx="1371600" cy="83808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191120" y="6089760"/>
            <a:ext cx="12128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nimiz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ss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52840" y="1239840"/>
            <a:ext cx="9842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olt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809880" y="1523880"/>
            <a:ext cx="304920" cy="68580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marTerm’s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3334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- only 9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comp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- client and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FTP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tation config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ralized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409680"/>
            <a:ext cx="77724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rag-and-Drop FT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1162080"/>
            <a:ext cx="5019840" cy="5411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267080" y="3276720"/>
            <a:ext cx="2286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rsoft, Inc.</dc:creator>
  <dc:description/>
  <dc:language>en-US</dc:language>
  <cp:lastModifiedBy>Edward I. Jenny</cp:lastModifiedBy>
  <cp:revision>0</cp:revision>
  <dc:subject>Connectivity Solutions</dc:subject>
  <dc:title>SmarTerm for Windows</dc:title>
</cp:coreProperties>
</file>