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Harvard ChartXL for Office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lling Charts from Critical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makers of Harvard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751800" y="3119400"/>
            <a:ext cx="2095560" cy="34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ff"/>
              </a:buClr>
              <a:buSzPct val="170000"/>
              <a:buFont typeface="Wingdings"/>
              <a:buChar char=""/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ust right-click on any object, to see a customized list of o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47520" y="996840"/>
            <a:ext cx="6662880" cy="57769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11430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Working with Microsoft Office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405480" y="1595520"/>
            <a:ext cx="2725560" cy="48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igh-impact graphs, without ever leaving Exc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ve links to your Excel data are instantly reflected in your grap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, ChartXL is completely compatible with all of your Excel spreadsheet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Harvard ChartXL for Office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198108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12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tified as Microsoft Office-Compatible, for direct compatibility with all of your favorite Windows softw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12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5 Graph types for business, statistical, and technical data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12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graph formatting &amp; complete customiz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12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- looks and works like the software you already ha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Harvard ChartXL for Office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15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us a call at (800) 336-8360 x M79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more information, or to order you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of Harvard ChartXL at the spec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 of just $99 (reg. $149) for a limited time on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  <a:ea typeface="Times New Roman"/>
              </a:rPr>
              <a:t>Unlock your imaginat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000c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you wish,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 you w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over 185 grap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types, the only limit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your imag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07000" y="301680"/>
            <a:ext cx="2624040" cy="20667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5683320" y="5672160"/>
            <a:ext cx="417600" cy="1104840"/>
            <a:chOff x="5683320" y="5672160"/>
            <a:chExt cx="417600" cy="1104840"/>
          </a:xfrm>
        </p:grpSpPr>
        <p:sp>
          <p:nvSpPr>
            <p:cNvPr id="47" name=""/>
            <p:cNvSpPr/>
            <p:nvPr/>
          </p:nvSpPr>
          <p:spPr>
            <a:xfrm>
              <a:off x="5891040" y="5672160"/>
              <a:ext cx="0" cy="10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83320" y="567216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83320" y="677700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448400" y="4557600"/>
            <a:ext cx="417600" cy="1104840"/>
            <a:chOff x="7448400" y="4557600"/>
            <a:chExt cx="417600" cy="1104840"/>
          </a:xfrm>
        </p:grpSpPr>
        <p:sp>
          <p:nvSpPr>
            <p:cNvPr id="51" name=""/>
            <p:cNvSpPr/>
            <p:nvPr/>
          </p:nvSpPr>
          <p:spPr>
            <a:xfrm>
              <a:off x="7656480" y="4557600"/>
              <a:ext cx="0" cy="10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48400" y="455760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448400" y="566244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516720" y="5276880"/>
            <a:ext cx="417600" cy="1104840"/>
            <a:chOff x="6516720" y="5276880"/>
            <a:chExt cx="417600" cy="1104840"/>
          </a:xfrm>
        </p:grpSpPr>
        <p:sp>
          <p:nvSpPr>
            <p:cNvPr id="55" name=""/>
            <p:cNvSpPr/>
            <p:nvPr/>
          </p:nvSpPr>
          <p:spPr>
            <a:xfrm>
              <a:off x="6724800" y="5276880"/>
              <a:ext cx="0" cy="10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16720" y="527688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16720" y="638172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173400" y="4998960"/>
            <a:ext cx="417600" cy="1104840"/>
            <a:chOff x="3173400" y="4998960"/>
            <a:chExt cx="417600" cy="1104840"/>
          </a:xfrm>
        </p:grpSpPr>
        <p:sp>
          <p:nvSpPr>
            <p:cNvPr id="59" name=""/>
            <p:cNvSpPr/>
            <p:nvPr/>
          </p:nvSpPr>
          <p:spPr>
            <a:xfrm>
              <a:off x="3381480" y="4998960"/>
              <a:ext cx="0" cy="1068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73400" y="499896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73400" y="610380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336760" y="5740560"/>
            <a:ext cx="417600" cy="1104840"/>
            <a:chOff x="2336760" y="5740560"/>
            <a:chExt cx="417600" cy="1104840"/>
          </a:xfrm>
        </p:grpSpPr>
        <p:sp>
          <p:nvSpPr>
            <p:cNvPr id="63" name=""/>
            <p:cNvSpPr/>
            <p:nvPr/>
          </p:nvSpPr>
          <p:spPr>
            <a:xfrm>
              <a:off x="2544840" y="5740560"/>
              <a:ext cx="0" cy="10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36760" y="574056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36760" y="684540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8609040" y="2443320"/>
            <a:ext cx="417600" cy="1104840"/>
            <a:chOff x="8609040" y="2443320"/>
            <a:chExt cx="417600" cy="1104840"/>
          </a:xfrm>
        </p:grpSpPr>
        <p:sp>
          <p:nvSpPr>
            <p:cNvPr id="67" name=""/>
            <p:cNvSpPr/>
            <p:nvPr/>
          </p:nvSpPr>
          <p:spPr>
            <a:xfrm>
              <a:off x="8817120" y="2443320"/>
              <a:ext cx="0" cy="10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609040" y="244332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09040" y="3548160"/>
              <a:ext cx="417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438800" y="5264280"/>
            <a:ext cx="417240" cy="1104840"/>
            <a:chOff x="4438800" y="5264280"/>
            <a:chExt cx="417240" cy="1104840"/>
          </a:xfrm>
        </p:grpSpPr>
        <p:sp>
          <p:nvSpPr>
            <p:cNvPr id="71" name=""/>
            <p:cNvSpPr/>
            <p:nvPr/>
          </p:nvSpPr>
          <p:spPr>
            <a:xfrm>
              <a:off x="4646520" y="5264280"/>
              <a:ext cx="0" cy="1068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38800" y="5264280"/>
              <a:ext cx="41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38800" y="6369120"/>
              <a:ext cx="4172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 flipV="1">
            <a:off x="2593800" y="6270480"/>
            <a:ext cx="35280" cy="46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29080" y="6224760"/>
            <a:ext cx="34920" cy="45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64000" y="6180120"/>
            <a:ext cx="34920" cy="44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698920" y="6137280"/>
            <a:ext cx="34920" cy="42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733840" y="6095880"/>
            <a:ext cx="34920" cy="41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768760" y="6056280"/>
            <a:ext cx="34920" cy="39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803680" y="6018120"/>
            <a:ext cx="34920" cy="38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838600" y="5979960"/>
            <a:ext cx="34920" cy="38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73520" y="5945040"/>
            <a:ext cx="34920" cy="34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908440" y="5910120"/>
            <a:ext cx="33120" cy="34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941560" y="5877000"/>
            <a:ext cx="36720" cy="33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78280" y="5845320"/>
            <a:ext cx="33120" cy="31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11400" y="5813280"/>
            <a:ext cx="34920" cy="32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046320" y="5784840"/>
            <a:ext cx="34920" cy="284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081240" y="5756400"/>
            <a:ext cx="34920" cy="284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116160" y="5729400"/>
            <a:ext cx="3492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151080" y="5703840"/>
            <a:ext cx="34920" cy="25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186000" y="5680080"/>
            <a:ext cx="3492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220920" y="5657760"/>
            <a:ext cx="34920" cy="223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55840" y="5637240"/>
            <a:ext cx="34920" cy="20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90760" y="5616720"/>
            <a:ext cx="34920" cy="20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325680" y="5597640"/>
            <a:ext cx="34920" cy="19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60600" y="5580000"/>
            <a:ext cx="34920" cy="17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95520" y="5564160"/>
            <a:ext cx="34920" cy="15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30440" y="5551560"/>
            <a:ext cx="52560" cy="12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83000" y="5541840"/>
            <a:ext cx="52200" cy="9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535200" y="5535720"/>
            <a:ext cx="51120" cy="6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586320" y="5530680"/>
            <a:ext cx="52200" cy="5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8520" y="5530680"/>
            <a:ext cx="5256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91080" y="5530680"/>
            <a:ext cx="52200" cy="1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3280" y="5532480"/>
            <a:ext cx="52560" cy="4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95840" y="5537160"/>
            <a:ext cx="52200" cy="6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5543640"/>
            <a:ext cx="52560" cy="9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00600" y="5553000"/>
            <a:ext cx="52200" cy="11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0" y="5564160"/>
            <a:ext cx="52560" cy="14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5578560"/>
            <a:ext cx="50760" cy="14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56120" y="5592600"/>
            <a:ext cx="52200" cy="17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08320" y="5610240"/>
            <a:ext cx="52560" cy="19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60880" y="5629320"/>
            <a:ext cx="52200" cy="19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3080" y="5648400"/>
            <a:ext cx="52560" cy="20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5640" y="5668920"/>
            <a:ext cx="5220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7840" y="5692680"/>
            <a:ext cx="5256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70400" y="5716440"/>
            <a:ext cx="52200" cy="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22600" y="5740560"/>
            <a:ext cx="52560" cy="252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75160" y="5765760"/>
            <a:ext cx="5256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27720" y="5792760"/>
            <a:ext cx="52200" cy="25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9920" y="5818320"/>
            <a:ext cx="5076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0680" y="5845320"/>
            <a:ext cx="5256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240" y="5872320"/>
            <a:ext cx="52200" cy="252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35440" y="5897520"/>
            <a:ext cx="5256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5921280"/>
            <a:ext cx="52200" cy="25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40200" y="5946840"/>
            <a:ext cx="5256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92760" y="5970600"/>
            <a:ext cx="5220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44960" y="5994360"/>
            <a:ext cx="5256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97520" y="6018120"/>
            <a:ext cx="5076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8280" y="6041880"/>
            <a:ext cx="52200" cy="223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0480" y="6064200"/>
            <a:ext cx="52560" cy="223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53040" y="6086520"/>
            <a:ext cx="52200" cy="20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05240" y="6107040"/>
            <a:ext cx="52560" cy="20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57800" y="6127920"/>
            <a:ext cx="52560" cy="18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10360" y="6146640"/>
            <a:ext cx="52200" cy="17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62560" y="6164280"/>
            <a:ext cx="50760" cy="172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3320" y="6181560"/>
            <a:ext cx="52560" cy="162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65880" y="6197760"/>
            <a:ext cx="52200" cy="14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18080" y="6211800"/>
            <a:ext cx="52560" cy="129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70640" y="6224760"/>
            <a:ext cx="52200" cy="10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22840" y="6235560"/>
            <a:ext cx="52560" cy="9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75400" y="6245280"/>
            <a:ext cx="52200" cy="7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7600" y="6253200"/>
            <a:ext cx="52560" cy="4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80160" y="6257880"/>
            <a:ext cx="50760" cy="4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30920" y="6262560"/>
            <a:ext cx="52200" cy="1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883120" y="6262560"/>
            <a:ext cx="52560" cy="1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935680" y="6254640"/>
            <a:ext cx="34920" cy="7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970600" y="6246720"/>
            <a:ext cx="34920" cy="7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005520" y="6238800"/>
            <a:ext cx="34920" cy="7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40440" y="6227640"/>
            <a:ext cx="34920" cy="11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75360" y="6218280"/>
            <a:ext cx="34920" cy="9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110280" y="6205680"/>
            <a:ext cx="34920" cy="12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145200" y="6194520"/>
            <a:ext cx="34920" cy="11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80120" y="6180120"/>
            <a:ext cx="34920" cy="14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215040" y="6165720"/>
            <a:ext cx="33480" cy="14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248520" y="6151680"/>
            <a:ext cx="34920" cy="140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283440" y="6135840"/>
            <a:ext cx="34920" cy="15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318360" y="6119640"/>
            <a:ext cx="34920" cy="162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353280" y="6102360"/>
            <a:ext cx="34920" cy="172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88200" y="6084720"/>
            <a:ext cx="34920" cy="17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480" bIns="-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23120" y="6066000"/>
            <a:ext cx="34920" cy="18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6046920"/>
            <a:ext cx="34920" cy="19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492960" y="6026040"/>
            <a:ext cx="34920" cy="20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527880" y="6004080"/>
            <a:ext cx="34920" cy="219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562800" y="5983200"/>
            <a:ext cx="34920" cy="20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597720" y="5961240"/>
            <a:ext cx="34920" cy="219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632640" y="5937120"/>
            <a:ext cx="34920" cy="24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667560" y="5913360"/>
            <a:ext cx="34920" cy="23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702480" y="5888160"/>
            <a:ext cx="33120" cy="252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5600" y="5862600"/>
            <a:ext cx="36720" cy="25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560" bIns="-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772320" y="5835600"/>
            <a:ext cx="3816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10480" y="5808600"/>
            <a:ext cx="38160" cy="27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48640" y="5780160"/>
            <a:ext cx="37800" cy="284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886440" y="5749920"/>
            <a:ext cx="38160" cy="302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924600" y="5719680"/>
            <a:ext cx="38160" cy="302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962760" y="5689440"/>
            <a:ext cx="38160" cy="302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000920" y="5656320"/>
            <a:ext cx="38160" cy="33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039080" y="5624640"/>
            <a:ext cx="38160" cy="316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077240" y="5589720"/>
            <a:ext cx="37800" cy="349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115040" y="5556240"/>
            <a:ext cx="39960" cy="33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155000" y="5519880"/>
            <a:ext cx="37800" cy="36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192800" y="5483160"/>
            <a:ext cx="38160" cy="36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230960" y="5446800"/>
            <a:ext cx="38160" cy="36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269120" y="5408640"/>
            <a:ext cx="38160" cy="38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07280" y="5369040"/>
            <a:ext cx="38160" cy="39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345440" y="5327640"/>
            <a:ext cx="38160" cy="41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83600" y="5288040"/>
            <a:ext cx="37800" cy="396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421400" y="5245200"/>
            <a:ext cx="38160" cy="42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459560" y="5202360"/>
            <a:ext cx="38160" cy="42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8280" bIns="-8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497720" y="5157720"/>
            <a:ext cx="39600" cy="446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537320" y="5111640"/>
            <a:ext cx="38160" cy="46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575480" y="5065560"/>
            <a:ext cx="38160" cy="46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613640" y="5019840"/>
            <a:ext cx="38160" cy="45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400" bIns="-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651800" y="4971960"/>
            <a:ext cx="38160" cy="478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689960" y="4906800"/>
            <a:ext cx="48960" cy="651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38920" y="4842000"/>
            <a:ext cx="47880" cy="64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786800" y="4773600"/>
            <a:ext cx="48960" cy="68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835760" y="4703760"/>
            <a:ext cx="49320" cy="69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885080" y="4633920"/>
            <a:ext cx="49320" cy="698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934400" y="4560840"/>
            <a:ext cx="47520" cy="73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981920" y="4487760"/>
            <a:ext cx="49320" cy="73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031240" y="4411800"/>
            <a:ext cx="48960" cy="759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080200" y="4334040"/>
            <a:ext cx="47880" cy="777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8128080" y="4254480"/>
            <a:ext cx="48960" cy="795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177040" y="4173480"/>
            <a:ext cx="49320" cy="810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26360" y="4091040"/>
            <a:ext cx="47520" cy="824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273880" y="4006800"/>
            <a:ext cx="49320" cy="8424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8323200" y="3919680"/>
            <a:ext cx="49320" cy="871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8372520" y="3832200"/>
            <a:ext cx="49320" cy="874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421840" y="3741840"/>
            <a:ext cx="47520" cy="9036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240" bIns="39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469360" y="3651120"/>
            <a:ext cx="49320" cy="907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9600" bIns="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8518680" y="3559320"/>
            <a:ext cx="48960" cy="918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0680" bIns="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567640" y="3463920"/>
            <a:ext cx="47880" cy="95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8615520" y="3368520"/>
            <a:ext cx="48960" cy="9540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8664480" y="3270240"/>
            <a:ext cx="49320" cy="982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713800" y="3170160"/>
            <a:ext cx="47520" cy="10008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761320" y="3068640"/>
            <a:ext cx="49320" cy="1015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810640" y="2965320"/>
            <a:ext cx="47520" cy="10332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7760" y="6159600"/>
            <a:ext cx="34308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21000" y="6161040"/>
            <a:ext cx="33480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22440" y="6162840"/>
            <a:ext cx="326880" cy="29196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25680" y="6165720"/>
            <a:ext cx="317520" cy="28260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7120" y="6167520"/>
            <a:ext cx="31104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0360" y="6168960"/>
            <a:ext cx="301680" cy="2700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2160" y="6172200"/>
            <a:ext cx="293760" cy="2602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5400" y="6173640"/>
            <a:ext cx="2840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6840" y="6175440"/>
            <a:ext cx="277920" cy="24768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40080" y="6178680"/>
            <a:ext cx="268200" cy="2379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41520" y="618012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44760" y="6181560"/>
            <a:ext cx="252360" cy="22536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6200" y="6184800"/>
            <a:ext cx="244440" cy="21600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49440" y="6186600"/>
            <a:ext cx="235080" cy="20952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51240" y="6188040"/>
            <a:ext cx="228600" cy="2030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54120" y="6191280"/>
            <a:ext cx="21924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455920" y="6192720"/>
            <a:ext cx="210960" cy="1872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59160" y="6194520"/>
            <a:ext cx="201600" cy="1810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60600" y="6197760"/>
            <a:ext cx="19512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63840" y="6199200"/>
            <a:ext cx="185760" cy="16524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65280" y="620064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68520" y="620388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70320" y="6205680"/>
            <a:ext cx="162000" cy="14292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71760" y="620712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75000" y="6208560"/>
            <a:ext cx="146160" cy="1303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76440" y="6211800"/>
            <a:ext cx="138240" cy="1206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79680" y="6213600"/>
            <a:ext cx="1285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1120" y="6215040"/>
            <a:ext cx="120600" cy="1080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6218280"/>
            <a:ext cx="11268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86160" y="6219720"/>
            <a:ext cx="104760" cy="9216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9040" y="6221520"/>
            <a:ext cx="95400" cy="8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54400" y="5407200"/>
            <a:ext cx="34308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5840" y="5408640"/>
            <a:ext cx="33480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5411880"/>
            <a:ext cx="32544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0880" y="5413320"/>
            <a:ext cx="318960" cy="28404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63760" y="5415120"/>
            <a:ext cx="30960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65560" y="5418000"/>
            <a:ext cx="301680" cy="2682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8800" y="5419800"/>
            <a:ext cx="291960" cy="2620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0240" y="5421240"/>
            <a:ext cx="2858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3480" y="5424480"/>
            <a:ext cx="276120" cy="24624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4920" y="5425920"/>
            <a:ext cx="2682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8160" y="542772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9600" y="5430960"/>
            <a:ext cx="252360" cy="22392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82840" y="5432400"/>
            <a:ext cx="24300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4640" y="5433840"/>
            <a:ext cx="236520" cy="21096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86080" y="5437080"/>
            <a:ext cx="228600" cy="201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89320" y="5438880"/>
            <a:ext cx="21924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90760" y="5440320"/>
            <a:ext cx="210960" cy="189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94000" y="5443560"/>
            <a:ext cx="203040" cy="1792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95800" y="5445000"/>
            <a:ext cx="19512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98680" y="5446800"/>
            <a:ext cx="185760" cy="16668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00480" y="5450040"/>
            <a:ext cx="179280" cy="15732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303720" y="545148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05160" y="5452920"/>
            <a:ext cx="162000" cy="14436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08400" y="545472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09840" y="5457960"/>
            <a:ext cx="146160" cy="1285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3080" y="5459400"/>
            <a:ext cx="136440" cy="1224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14880" y="5460840"/>
            <a:ext cx="130320" cy="11592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17760" y="5464080"/>
            <a:ext cx="120600" cy="1062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19560" y="5465880"/>
            <a:ext cx="11268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22800" y="5467320"/>
            <a:ext cx="103320" cy="9360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324240" y="5470560"/>
            <a:ext cx="9684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06840" y="5715000"/>
            <a:ext cx="343080" cy="306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10080" y="5718240"/>
            <a:ext cx="333360" cy="29700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11520" y="5719680"/>
            <a:ext cx="32688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13320" y="5721480"/>
            <a:ext cx="318960" cy="28404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16560" y="5724360"/>
            <a:ext cx="309600" cy="27468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18000" y="5726160"/>
            <a:ext cx="301680" cy="2682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21240" y="5727600"/>
            <a:ext cx="293760" cy="2620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22680" y="5729400"/>
            <a:ext cx="285840" cy="25560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25920" y="5732640"/>
            <a:ext cx="276120" cy="24624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27720" y="5734080"/>
            <a:ext cx="2700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30600" y="5735520"/>
            <a:ext cx="260280" cy="23328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32400" y="5738760"/>
            <a:ext cx="252360" cy="22392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35640" y="5740560"/>
            <a:ext cx="24444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37080" y="5742000"/>
            <a:ext cx="236520" cy="21096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40320" y="5745240"/>
            <a:ext cx="227160" cy="201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41760" y="5746680"/>
            <a:ext cx="21924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545000" y="5748480"/>
            <a:ext cx="210960" cy="189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46440" y="5751360"/>
            <a:ext cx="203040" cy="1792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49680" y="5753160"/>
            <a:ext cx="19368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51480" y="5754600"/>
            <a:ext cx="187200" cy="16668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4360" y="575784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56160" y="575928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59400" y="5761080"/>
            <a:ext cx="162000" cy="14436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60840" y="576432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64080" y="5765760"/>
            <a:ext cx="144360" cy="1285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65520" y="5767560"/>
            <a:ext cx="136440" cy="1224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68760" y="5770440"/>
            <a:ext cx="1285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70560" y="5772240"/>
            <a:ext cx="120600" cy="1062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5773680"/>
            <a:ext cx="11268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5240" y="5776920"/>
            <a:ext cx="104760" cy="9216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6680" y="5778360"/>
            <a:ext cx="9684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59280" y="6105600"/>
            <a:ext cx="34308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61080" y="6107040"/>
            <a:ext cx="33480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64320" y="6110280"/>
            <a:ext cx="32544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65760" y="6111720"/>
            <a:ext cx="318960" cy="28404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69000" y="6113520"/>
            <a:ext cx="30960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70440" y="6116760"/>
            <a:ext cx="301680" cy="2682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73680" y="6118200"/>
            <a:ext cx="293760" cy="2620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75480" y="6119640"/>
            <a:ext cx="2858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78360" y="6122880"/>
            <a:ext cx="276120" cy="24624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780160" y="6124680"/>
            <a:ext cx="2700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83400" y="612612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784840" y="6129360"/>
            <a:ext cx="252360" cy="22392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88080" y="6130800"/>
            <a:ext cx="24300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89520" y="6132600"/>
            <a:ext cx="236520" cy="20952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92760" y="6135840"/>
            <a:ext cx="227160" cy="201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4200" y="6137280"/>
            <a:ext cx="21924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797440" y="6138720"/>
            <a:ext cx="210960" cy="189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9240" y="6140520"/>
            <a:ext cx="203040" cy="1810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02480" y="6143760"/>
            <a:ext cx="19368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803920" y="6145200"/>
            <a:ext cx="187200" cy="16668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07160" y="614664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08600" y="614988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11840" y="6151680"/>
            <a:ext cx="162000" cy="14436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13280" y="615312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15080" y="6156360"/>
            <a:ext cx="146160" cy="1285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18320" y="6157800"/>
            <a:ext cx="136440" cy="1224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19760" y="6159600"/>
            <a:ext cx="1303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23000" y="6162840"/>
            <a:ext cx="120600" cy="1062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824440" y="6164280"/>
            <a:ext cx="11268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27680" y="6165720"/>
            <a:ext cx="104760" cy="9360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29480" y="6168960"/>
            <a:ext cx="9684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94480" y="5707080"/>
            <a:ext cx="34308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97720" y="5708520"/>
            <a:ext cx="33336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99160" y="5710320"/>
            <a:ext cx="32688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02400" y="5713560"/>
            <a:ext cx="317520" cy="28260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03840" y="5715000"/>
            <a:ext cx="30960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07080" y="5716440"/>
            <a:ext cx="301680" cy="2700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08880" y="5719680"/>
            <a:ext cx="293760" cy="2602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11760" y="5721480"/>
            <a:ext cx="2840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13560" y="5722920"/>
            <a:ext cx="277920" cy="24768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616800" y="5724360"/>
            <a:ext cx="2682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18240" y="572760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21480" y="5729400"/>
            <a:ext cx="252360" cy="22536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622920" y="5730840"/>
            <a:ext cx="24444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26160" y="5734080"/>
            <a:ext cx="235080" cy="20952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627960" y="5735520"/>
            <a:ext cx="227160" cy="2030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29400" y="5737320"/>
            <a:ext cx="22068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32640" y="5740560"/>
            <a:ext cx="210960" cy="1872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34080" y="5742000"/>
            <a:ext cx="203040" cy="1810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637320" y="5743440"/>
            <a:ext cx="195120" cy="17460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38760" y="5746680"/>
            <a:ext cx="187200" cy="16524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642000" y="574848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43800" y="5749920"/>
            <a:ext cx="171360" cy="15228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647040" y="5753160"/>
            <a:ext cx="162000" cy="14292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648480" y="575460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51720" y="5756400"/>
            <a:ext cx="144360" cy="1303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53160" y="5759280"/>
            <a:ext cx="138240" cy="1206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6400" y="5761080"/>
            <a:ext cx="1285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57840" y="5762520"/>
            <a:ext cx="120600" cy="1080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1080" y="5765760"/>
            <a:ext cx="112680" cy="982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2880" y="5767560"/>
            <a:ext cx="104760" cy="9216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5760" y="5769000"/>
            <a:ext cx="95400" cy="85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13560" y="4815000"/>
            <a:ext cx="34308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516800" y="4816440"/>
            <a:ext cx="33336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8240" y="4819680"/>
            <a:ext cx="32688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1480" y="4821120"/>
            <a:ext cx="317520" cy="28260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3280" y="4822920"/>
            <a:ext cx="30960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26160" y="4826160"/>
            <a:ext cx="301680" cy="2682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27960" y="4827600"/>
            <a:ext cx="293760" cy="2620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29400" y="4829040"/>
            <a:ext cx="2858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32640" y="4832280"/>
            <a:ext cx="276120" cy="24624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534440" y="4834080"/>
            <a:ext cx="2700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37320" y="483552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39120" y="4836960"/>
            <a:ext cx="252360" cy="22536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42360" y="4840200"/>
            <a:ext cx="24444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4842000"/>
            <a:ext cx="236520" cy="20952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547040" y="4843440"/>
            <a:ext cx="227160" cy="2030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48480" y="4846680"/>
            <a:ext cx="22068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51720" y="4848120"/>
            <a:ext cx="210960" cy="1872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3160" y="4849920"/>
            <a:ext cx="203040" cy="1810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0" y="4853160"/>
            <a:ext cx="19368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58200" y="4854600"/>
            <a:ext cx="187200" cy="16668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561440" y="485604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62880" y="485928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566120" y="4861080"/>
            <a:ext cx="162000" cy="14436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67560" y="4862520"/>
            <a:ext cx="1540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570800" y="4865760"/>
            <a:ext cx="144360" cy="1285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72240" y="4867200"/>
            <a:ext cx="138240" cy="1224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75480" y="4869000"/>
            <a:ext cx="1285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577280" y="4871880"/>
            <a:ext cx="120600" cy="1062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80160" y="4873680"/>
            <a:ext cx="11124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81960" y="4875120"/>
            <a:ext cx="104760" cy="9216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83400" y="4878360"/>
            <a:ext cx="9684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83560" y="2809800"/>
            <a:ext cx="341280" cy="304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85360" y="2811600"/>
            <a:ext cx="334800" cy="298440"/>
          </a:xfrm>
          <a:prstGeom prst="ellipse">
            <a:avLst/>
          </a:prstGeom>
          <a:solidFill>
            <a:srgbClr val="00001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86800" y="2814480"/>
            <a:ext cx="326880" cy="290520"/>
          </a:xfrm>
          <a:prstGeom prst="ellipse">
            <a:avLst/>
          </a:prstGeom>
          <a:solidFill>
            <a:srgbClr val="00002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90040" y="2816280"/>
            <a:ext cx="317520" cy="284040"/>
          </a:xfrm>
          <a:prstGeom prst="ellipse">
            <a:avLst/>
          </a:prstGeom>
          <a:solidFill>
            <a:srgbClr val="00003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2817720"/>
            <a:ext cx="311040" cy="276120"/>
          </a:xfrm>
          <a:prstGeom prst="ellipse">
            <a:avLst/>
          </a:prstGeom>
          <a:solidFill>
            <a:srgbClr val="00004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694720" y="2820960"/>
            <a:ext cx="301680" cy="268200"/>
          </a:xfrm>
          <a:prstGeom prst="ellipse">
            <a:avLst/>
          </a:prstGeom>
          <a:solidFill>
            <a:srgbClr val="00005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696160" y="2822400"/>
            <a:ext cx="293760" cy="262080"/>
          </a:xfrm>
          <a:prstGeom prst="ellipse">
            <a:avLst/>
          </a:prstGeom>
          <a:solidFill>
            <a:srgbClr val="00006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699400" y="2824200"/>
            <a:ext cx="285840" cy="254160"/>
          </a:xfrm>
          <a:prstGeom prst="ellipse">
            <a:avLst/>
          </a:pr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701200" y="2827440"/>
            <a:ext cx="277920" cy="246240"/>
          </a:xfrm>
          <a:prstGeom prst="ellipse">
            <a:avLst/>
          </a:prstGeom>
          <a:solidFill>
            <a:srgbClr val="0000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04440" y="2828880"/>
            <a:ext cx="268200" cy="239760"/>
          </a:xfrm>
          <a:prstGeom prst="ellipse">
            <a:avLst/>
          </a:prstGeom>
          <a:solidFill>
            <a:srgbClr val="0000a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705880" y="2830680"/>
            <a:ext cx="260280" cy="231840"/>
          </a:xfrm>
          <a:prstGeom prst="ellipse">
            <a:avLst/>
          </a:prstGeom>
          <a:solidFill>
            <a:srgbClr val="0000b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709120" y="2833560"/>
            <a:ext cx="252360" cy="223920"/>
          </a:xfrm>
          <a:prstGeom prst="ellipse">
            <a:avLst/>
          </a:prstGeom>
          <a:solidFill>
            <a:srgbClr val="0000c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710560" y="2835360"/>
            <a:ext cx="244440" cy="217440"/>
          </a:xfrm>
          <a:prstGeom prst="ellipse">
            <a:avLst/>
          </a:prstGeom>
          <a:solidFill>
            <a:srgbClr val="0000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713800" y="2836800"/>
            <a:ext cx="235080" cy="209520"/>
          </a:xfrm>
          <a:prstGeom prst="ellipse">
            <a:avLst/>
          </a:prstGeom>
          <a:solidFill>
            <a:srgbClr val="0000e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15240" y="2840040"/>
            <a:ext cx="228600" cy="2016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718480" y="2841480"/>
            <a:ext cx="219240" cy="1951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720280" y="2843280"/>
            <a:ext cx="210960" cy="1890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723160" y="2846520"/>
            <a:ext cx="203040" cy="179280"/>
          </a:xfrm>
          <a:prstGeom prst="ellipse">
            <a:avLst/>
          </a:prstGeom>
          <a:solidFill>
            <a:srgbClr val="1212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724960" y="2847960"/>
            <a:ext cx="195120" cy="173160"/>
          </a:xfrm>
          <a:prstGeom prst="ellipse">
            <a:avLst/>
          </a:prstGeom>
          <a:solidFill>
            <a:srgbClr val="2424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28200" y="2849400"/>
            <a:ext cx="185760" cy="166680"/>
          </a:xfrm>
          <a:prstGeom prst="ellipse">
            <a:avLst/>
          </a:prstGeom>
          <a:solidFill>
            <a:srgbClr val="363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729640" y="2851200"/>
            <a:ext cx="177840" cy="158760"/>
          </a:xfrm>
          <a:prstGeom prst="ellipse">
            <a:avLst/>
          </a:prstGeom>
          <a:solidFill>
            <a:srgbClr val="484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732880" y="2854440"/>
            <a:ext cx="169920" cy="150840"/>
          </a:xfrm>
          <a:prstGeom prst="ellipse">
            <a:avLst/>
          </a:prstGeom>
          <a:solidFill>
            <a:srgbClr val="5b5b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734320" y="2855880"/>
            <a:ext cx="162000" cy="144360"/>
          </a:xfrm>
          <a:prstGeom prst="ellipse">
            <a:avLst/>
          </a:prstGeom>
          <a:solidFill>
            <a:srgbClr val="6d6d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737560" y="2857680"/>
            <a:ext cx="152280" cy="136440"/>
          </a:xfrm>
          <a:prstGeom prst="ellipse">
            <a:avLst/>
          </a:prstGeom>
          <a:solidFill>
            <a:srgbClr val="7f7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739360" y="2860560"/>
            <a:ext cx="146160" cy="128520"/>
          </a:xfrm>
          <a:prstGeom prst="ellipse">
            <a:avLst/>
          </a:prstGeom>
          <a:solidFill>
            <a:srgbClr val="9191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740800" y="2862360"/>
            <a:ext cx="138240" cy="122400"/>
          </a:xfrm>
          <a:prstGeom prst="ellipse">
            <a:avLst/>
          </a:prstGeom>
          <a:solidFill>
            <a:srgbClr val="a3a3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744040" y="2863800"/>
            <a:ext cx="128520" cy="114480"/>
          </a:xfrm>
          <a:prstGeom prst="ellipse">
            <a:avLst/>
          </a:prstGeom>
          <a:solidFill>
            <a:srgbClr val="b6b6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45480" y="2867040"/>
            <a:ext cx="122400" cy="106200"/>
          </a:xfrm>
          <a:prstGeom prst="ellipse">
            <a:avLst/>
          </a:prstGeom>
          <a:solidFill>
            <a:srgbClr val="c8c8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8748720" y="2868480"/>
            <a:ext cx="112680" cy="100080"/>
          </a:xfrm>
          <a:prstGeom prst="ellipse">
            <a:avLst/>
          </a:prstGeom>
          <a:solidFill>
            <a:srgbClr val="dada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750160" y="2870280"/>
            <a:ext cx="104760" cy="93600"/>
          </a:xfrm>
          <a:prstGeom prst="ellipse">
            <a:avLst/>
          </a:prstGeom>
          <a:solidFill>
            <a:srgbClr val="ecec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753400" y="2873520"/>
            <a:ext cx="95400" cy="84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0" y="3057480"/>
            <a:ext cx="34336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0" y="0"/>
            <a:ext cx="9144000" cy="6823080"/>
            <a:chOff x="0" y="0"/>
            <a:chExt cx="9144000" cy="6823080"/>
          </a:xfrm>
        </p:grpSpPr>
        <p:grpSp>
          <p:nvGrpSpPr>
            <p:cNvPr id="437" name=""/>
            <p:cNvGrpSpPr/>
            <p:nvPr/>
          </p:nvGrpSpPr>
          <p:grpSpPr>
            <a:xfrm>
              <a:off x="0" y="0"/>
              <a:ext cx="9144000" cy="2660400"/>
              <a:chOff x="0" y="0"/>
              <a:chExt cx="9144000" cy="2660400"/>
            </a:xfrm>
          </p:grpSpPr>
          <p:sp>
            <p:nvSpPr>
              <p:cNvPr id="438" name=""/>
              <p:cNvSpPr txBox="1"/>
              <p:nvPr/>
            </p:nvSpPr>
            <p:spPr>
              <a:xfrm>
                <a:off x="1143000" y="343080"/>
                <a:ext cx="7772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00cece"/>
                    </a:solidFill>
                    <a:latin typeface="Times New Roman"/>
                    <a:ea typeface="Times New Roman"/>
                  </a:rPr>
                  <a:t>Objective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335240" y="0"/>
                <a:ext cx="1314360" cy="2638440"/>
                <a:chOff x="1335240" y="0"/>
                <a:chExt cx="1314360" cy="2638440"/>
              </a:xfrm>
            </p:grpSpPr>
            <p:pic>
              <p:nvPicPr>
                <p:cNvPr id="4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5240" y="132408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3524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2" name=""/>
              <p:cNvGrpSpPr/>
              <p:nvPr/>
            </p:nvGrpSpPr>
            <p:grpSpPr>
              <a:xfrm>
                <a:off x="0" y="0"/>
                <a:ext cx="1314360" cy="2660400"/>
                <a:chOff x="0" y="0"/>
                <a:chExt cx="1314360" cy="2660400"/>
              </a:xfrm>
            </p:grpSpPr>
            <p:pic>
              <p:nvPicPr>
                <p:cNvPr id="44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34604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5" name=""/>
              <p:cNvGrpSpPr/>
              <p:nvPr/>
            </p:nvGrpSpPr>
            <p:grpSpPr>
              <a:xfrm>
                <a:off x="2643120" y="0"/>
                <a:ext cx="1314360" cy="2614680"/>
                <a:chOff x="2643120" y="0"/>
                <a:chExt cx="1314360" cy="2614680"/>
              </a:xfrm>
            </p:grpSpPr>
            <p:pic>
              <p:nvPicPr>
                <p:cNvPr id="44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64312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643120" y="130032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48" name=""/>
              <p:cNvGrpSpPr/>
              <p:nvPr/>
            </p:nvGrpSpPr>
            <p:grpSpPr>
              <a:xfrm>
                <a:off x="5275440" y="0"/>
                <a:ext cx="1314360" cy="2638440"/>
                <a:chOff x="5275440" y="0"/>
                <a:chExt cx="1314360" cy="2638440"/>
              </a:xfrm>
            </p:grpSpPr>
            <p:pic>
              <p:nvPicPr>
                <p:cNvPr id="44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275440" y="132408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27544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1" name=""/>
              <p:cNvGrpSpPr/>
              <p:nvPr/>
            </p:nvGrpSpPr>
            <p:grpSpPr>
              <a:xfrm>
                <a:off x="3940200" y="0"/>
                <a:ext cx="1314360" cy="2660400"/>
                <a:chOff x="3940200" y="0"/>
                <a:chExt cx="1314360" cy="266040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940200" y="134604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94020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4" name=""/>
              <p:cNvGrpSpPr/>
              <p:nvPr/>
            </p:nvGrpSpPr>
            <p:grpSpPr>
              <a:xfrm>
                <a:off x="6583320" y="0"/>
                <a:ext cx="1314360" cy="2614680"/>
                <a:chOff x="6583320" y="0"/>
                <a:chExt cx="1314360" cy="261468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583320" y="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583320" y="130032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7" name=""/>
              <p:cNvGrpSpPr/>
              <p:nvPr/>
            </p:nvGrpSpPr>
            <p:grpSpPr>
              <a:xfrm>
                <a:off x="7905600" y="0"/>
                <a:ext cx="1238400" cy="2581200"/>
                <a:chOff x="7905600" y="0"/>
                <a:chExt cx="1238400" cy="2581200"/>
              </a:xfrm>
            </p:grpSpPr>
            <p:pic>
              <p:nvPicPr>
                <p:cNvPr id="45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905600" y="0"/>
                  <a:ext cx="123840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05600" y="1266840"/>
                  <a:ext cx="123840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0" name=""/>
            <p:cNvGrpSpPr/>
            <p:nvPr/>
          </p:nvGrpSpPr>
          <p:grpSpPr>
            <a:xfrm>
              <a:off x="0" y="2568600"/>
              <a:ext cx="9144000" cy="2660400"/>
              <a:chOff x="0" y="2568600"/>
              <a:chExt cx="9144000" cy="2660400"/>
            </a:xfrm>
          </p:grpSpPr>
          <p:sp>
            <p:nvSpPr>
              <p:cNvPr id="461" name=""/>
              <p:cNvSpPr txBox="1"/>
              <p:nvPr/>
            </p:nvSpPr>
            <p:spPr>
              <a:xfrm>
                <a:off x="1143000" y="2911320"/>
                <a:ext cx="7772400" cy="114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00cece"/>
                    </a:solidFill>
                    <a:latin typeface="Times New Roman"/>
                    <a:ea typeface="Times New Roman"/>
                  </a:rPr>
                  <a:t>Objective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1335240" y="2568600"/>
                <a:ext cx="1314360" cy="2638440"/>
                <a:chOff x="1335240" y="2568600"/>
                <a:chExt cx="1314360" cy="2638440"/>
              </a:xfrm>
            </p:grpSpPr>
            <p:pic>
              <p:nvPicPr>
                <p:cNvPr id="463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335240" y="389268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33524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5" name=""/>
              <p:cNvGrpSpPr/>
              <p:nvPr/>
            </p:nvGrpSpPr>
            <p:grpSpPr>
              <a:xfrm>
                <a:off x="0" y="2568600"/>
                <a:ext cx="1314360" cy="2660400"/>
                <a:chOff x="0" y="2568600"/>
                <a:chExt cx="1314360" cy="2660400"/>
              </a:xfrm>
            </p:grpSpPr>
            <p:pic>
              <p:nvPicPr>
                <p:cNvPr id="466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0" y="391464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68" name=""/>
              <p:cNvGrpSpPr/>
              <p:nvPr/>
            </p:nvGrpSpPr>
            <p:grpSpPr>
              <a:xfrm>
                <a:off x="2643120" y="2568600"/>
                <a:ext cx="1314360" cy="2614320"/>
                <a:chOff x="2643120" y="2568600"/>
                <a:chExt cx="1314360" cy="2614320"/>
              </a:xfrm>
            </p:grpSpPr>
            <p:pic>
              <p:nvPicPr>
                <p:cNvPr id="46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64312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643120" y="386856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1" name=""/>
              <p:cNvGrpSpPr/>
              <p:nvPr/>
            </p:nvGrpSpPr>
            <p:grpSpPr>
              <a:xfrm>
                <a:off x="5275440" y="2568600"/>
                <a:ext cx="1314360" cy="2638440"/>
                <a:chOff x="5275440" y="2568600"/>
                <a:chExt cx="1314360" cy="2638440"/>
              </a:xfrm>
            </p:grpSpPr>
            <p:pic>
              <p:nvPicPr>
                <p:cNvPr id="47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5275440" y="389268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527544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4" name=""/>
              <p:cNvGrpSpPr/>
              <p:nvPr/>
            </p:nvGrpSpPr>
            <p:grpSpPr>
              <a:xfrm>
                <a:off x="3940200" y="2568600"/>
                <a:ext cx="1314360" cy="2660400"/>
                <a:chOff x="3940200" y="2568600"/>
                <a:chExt cx="1314360" cy="2660400"/>
              </a:xfrm>
            </p:grpSpPr>
            <p:pic>
              <p:nvPicPr>
                <p:cNvPr id="4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940200" y="391464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94020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77" name=""/>
              <p:cNvGrpSpPr/>
              <p:nvPr/>
            </p:nvGrpSpPr>
            <p:grpSpPr>
              <a:xfrm>
                <a:off x="6583320" y="2568600"/>
                <a:ext cx="1314360" cy="2614320"/>
                <a:chOff x="6583320" y="2568600"/>
                <a:chExt cx="1314360" cy="2614320"/>
              </a:xfrm>
            </p:grpSpPr>
            <p:pic>
              <p:nvPicPr>
                <p:cNvPr id="47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6583320" y="256860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583320" y="3868560"/>
                  <a:ext cx="131436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0" name=""/>
              <p:cNvGrpSpPr/>
              <p:nvPr/>
            </p:nvGrpSpPr>
            <p:grpSpPr>
              <a:xfrm>
                <a:off x="7905600" y="2568600"/>
                <a:ext cx="1238400" cy="2581200"/>
                <a:chOff x="7905600" y="2568600"/>
                <a:chExt cx="1238400" cy="2581200"/>
              </a:xfrm>
            </p:grpSpPr>
            <p:pic>
              <p:nvPicPr>
                <p:cNvPr id="48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05600" y="2568600"/>
                  <a:ext cx="123840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905600" y="3835440"/>
                  <a:ext cx="1238400" cy="1314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83" name=""/>
            <p:cNvGrpSpPr/>
            <p:nvPr/>
          </p:nvGrpSpPr>
          <p:grpSpPr>
            <a:xfrm>
              <a:off x="0" y="4591080"/>
              <a:ext cx="9144000" cy="2232000"/>
              <a:chOff x="0" y="4591080"/>
              <a:chExt cx="9144000" cy="2232000"/>
            </a:xfrm>
          </p:grpSpPr>
          <p:sp>
            <p:nvSpPr>
              <p:cNvPr id="484" name=""/>
              <p:cNvSpPr txBox="1"/>
              <p:nvPr/>
            </p:nvSpPr>
            <p:spPr>
              <a:xfrm>
                <a:off x="1143000" y="4878360"/>
                <a:ext cx="7772400" cy="9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4400" spc="-1" strike="noStrike">
                    <a:solidFill>
                      <a:srgbClr val="00cece"/>
                    </a:solidFill>
                    <a:latin typeface="Times New Roman"/>
                    <a:ea typeface="Times New Roman"/>
                  </a:rPr>
                  <a:t>Objective</a:t>
                </a:r>
                <a:endParaRPr b="0" lang="en-US" sz="4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485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1335240" y="5700600"/>
                <a:ext cx="131436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33524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0" y="57214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64312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0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2643120" y="5681520"/>
                <a:ext cx="131436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275440" y="5700600"/>
                <a:ext cx="131436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7544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3940200" y="57214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394020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6583320" y="4591080"/>
                <a:ext cx="131436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6583320" y="5681520"/>
                <a:ext cx="131436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7905600" y="4591080"/>
                <a:ext cx="1238400" cy="11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7905600" y="5654520"/>
                <a:ext cx="1238400" cy="110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9" name=""/>
          <p:cNvSpPr txBox="1"/>
          <p:nvPr/>
        </p:nvSpPr>
        <p:spPr>
          <a:xfrm>
            <a:off x="1417680" y="1630440"/>
            <a:ext cx="6222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Break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Spreadsheet Grap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Limitatio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9153360" cy="6867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 txBox="1"/>
          <p:nvPr/>
        </p:nvSpPr>
        <p:spPr>
          <a:xfrm>
            <a:off x="2289240" y="4168800"/>
            <a:ext cx="620244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57400" indent="-228600" algn="ctr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ndows 9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057400" indent="-22860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t’s take a look at some of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tXL’s unique feature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014720" y="4892760"/>
            <a:ext cx="4251240" cy="237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743040" y="4896000"/>
            <a:ext cx="399960" cy="9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8240" bIns="-48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4240" y="4905360"/>
            <a:ext cx="67644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123920" y="4905360"/>
            <a:ext cx="62856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85960" y="4905360"/>
            <a:ext cx="457200" cy="0"/>
          </a:xfrm>
          <a:prstGeom prst="line">
            <a:avLst/>
          </a:prstGeom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019240" y="4905360"/>
            <a:ext cx="638280" cy="0"/>
          </a:xfrm>
          <a:prstGeom prst="line">
            <a:avLst/>
          </a:prstGeom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133800" y="4896000"/>
            <a:ext cx="181080" cy="936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8240" bIns="-48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781280" y="4896000"/>
            <a:ext cx="180720" cy="9360"/>
          </a:xfrm>
          <a:prstGeom prst="line">
            <a:avLst/>
          </a:prstGeom>
          <a:ln w="2556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48240" bIns="-48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79320" y="708120"/>
            <a:ext cx="77486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79320" y="708120"/>
            <a:ext cx="7748640" cy="54054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1228680" y="401760"/>
            <a:ext cx="6792840" cy="84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The visual Graph Gallery contains ‘live’ samples of every graph type by category.  You can even create your own custom sty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79320" y="708120"/>
            <a:ext cx="7748640" cy="54054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63360" y="1841400"/>
            <a:ext cx="4521240" cy="99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ff"/>
              </a:buClr>
              <a:buSzPct val="15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Just click on a graph type, click on your data - and you’re d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228680" y="401760"/>
            <a:ext cx="6792840" cy="84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The visual Graph Gallery contains ‘live’ samples of every graph type by category.  You can even create your own custom sty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679320" y="708120"/>
            <a:ext cx="7748640" cy="5405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63360" y="1841400"/>
            <a:ext cx="4521240" cy="995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ff"/>
              </a:buClr>
              <a:buSzPct val="15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Just click on a graph type, click on your data - and you’re don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228680" y="401760"/>
            <a:ext cx="6792840" cy="8460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The visual Graph Gallery contains ‘live’ samples of every graph type by category.  You can even create your own custom styl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473800" y="4910040"/>
            <a:ext cx="3657600" cy="12542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2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100000"/>
              </a:lnSpc>
              <a:buClr>
                <a:srgbClr val="0000ff"/>
              </a:buClr>
              <a:buSzPct val="150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20"/>
                </a:solidFill>
                <a:latin typeface="Times New Roman"/>
                <a:ea typeface="Times New Roman"/>
              </a:rPr>
              <a:t>And there’s always the award-winning ADVISOR to guide you along th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-4680" y="-468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5651640" y="1747800"/>
            <a:ext cx="306864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ce you’ve   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reated the graph you want, each and every aspect of the graph can be easily edi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PC</dc:creator>
  <dc:description/>
  <dc:language>en-US</dc:language>
  <cp:lastModifiedBy>Edward I. Jenny</cp:lastModifiedBy>
  <cp:revision>0</cp:revision>
  <dc:subject/>
  <dc:title>ChartXL demo for Office95</dc:title>
</cp:coreProperties>
</file>