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7960" y="379440"/>
            <a:ext cx="1741320" cy="6031080"/>
          </a:xfrm>
          <a:prstGeom prst="rect">
            <a:avLst/>
          </a:prstGeom>
          <a:solidFill>
            <a:srgbClr val="002baf"/>
          </a:solidFill>
          <a:ln w="25560">
            <a:solidFill>
              <a:srgbClr val="002ba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07960" y="1163520"/>
            <a:ext cx="1752480" cy="51404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507960" y="534960"/>
            <a:ext cx="8062920" cy="2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51dc00"/>
                </a:solidFill>
                <a:latin typeface="Monotype Sorts"/>
                <a:ea typeface="Monotype Sorts"/>
              </a:rPr>
              <a:t>◆        ⬛        ●        ▲</a:t>
            </a:r>
            <a:r>
              <a:rPr b="0" lang="en-US" sz="1200" spc="-1" strike="noStrike">
                <a:solidFill>
                  <a:srgbClr val="001e78"/>
                </a:solidFill>
                <a:latin typeface="Monotype Sorts"/>
                <a:ea typeface="Monotype Sorts"/>
              </a:rPr>
              <a:t>        ◆        ⬛        ●        ▲        ◆        ⬛        ●        ▲        ◆        ⬛       ●       ▲        ◆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59000" y="379440"/>
            <a:ext cx="0" cy="6030720"/>
          </a:xfrm>
          <a:prstGeom prst="line">
            <a:avLst/>
          </a:prstGeom>
          <a:ln w="12600">
            <a:solidFill>
              <a:srgbClr val="002b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379440"/>
            <a:ext cx="8116920" cy="608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689200" y="1403280"/>
            <a:ext cx="3918240" cy="3932640"/>
            <a:chOff x="2689200" y="1403280"/>
            <a:chExt cx="3918240" cy="3932640"/>
          </a:xfrm>
        </p:grpSpPr>
        <p:sp>
          <p:nvSpPr>
            <p:cNvPr id="44" name=""/>
            <p:cNvSpPr/>
            <p:nvPr/>
          </p:nvSpPr>
          <p:spPr>
            <a:xfrm>
              <a:off x="2689200" y="1403280"/>
              <a:ext cx="2391120" cy="3932640"/>
            </a:xfrm>
            <a:custGeom>
              <a:avLst/>
              <a:gdLst/>
              <a:ahLst/>
              <a:rect l="0" t="0" r="r" b="b"/>
              <a:pathLst>
                <a:path w="6642" h="10924">
                  <a:moveTo>
                    <a:pt x="0" y="5462"/>
                  </a:moveTo>
                  <a:lnTo>
                    <a:pt x="5442" y="0"/>
                  </a:lnTo>
                  <a:lnTo>
                    <a:pt x="5442" y="1699"/>
                  </a:lnTo>
                  <a:lnTo>
                    <a:pt x="4374" y="1699"/>
                  </a:lnTo>
                  <a:lnTo>
                    <a:pt x="4374" y="3762"/>
                  </a:lnTo>
                  <a:lnTo>
                    <a:pt x="5442" y="3762"/>
                  </a:lnTo>
                  <a:lnTo>
                    <a:pt x="5442" y="5018"/>
                  </a:lnTo>
                  <a:lnTo>
                    <a:pt x="5053" y="5044"/>
                  </a:lnTo>
                  <a:lnTo>
                    <a:pt x="5442" y="5985"/>
                  </a:lnTo>
                  <a:lnTo>
                    <a:pt x="5442" y="7369"/>
                  </a:lnTo>
                  <a:lnTo>
                    <a:pt x="5573" y="7369"/>
                  </a:lnTo>
                  <a:lnTo>
                    <a:pt x="5678" y="7395"/>
                  </a:lnTo>
                  <a:lnTo>
                    <a:pt x="5806" y="7422"/>
                  </a:lnTo>
                  <a:lnTo>
                    <a:pt x="5911" y="7474"/>
                  </a:lnTo>
                  <a:lnTo>
                    <a:pt x="6016" y="7527"/>
                  </a:lnTo>
                  <a:lnTo>
                    <a:pt x="6121" y="7579"/>
                  </a:lnTo>
                  <a:lnTo>
                    <a:pt x="6196" y="7632"/>
                  </a:lnTo>
                  <a:lnTo>
                    <a:pt x="6275" y="7711"/>
                  </a:lnTo>
                  <a:lnTo>
                    <a:pt x="6353" y="7813"/>
                  </a:lnTo>
                  <a:lnTo>
                    <a:pt x="6432" y="7892"/>
                  </a:lnTo>
                  <a:lnTo>
                    <a:pt x="6484" y="7997"/>
                  </a:lnTo>
                  <a:lnTo>
                    <a:pt x="6537" y="8102"/>
                  </a:lnTo>
                  <a:lnTo>
                    <a:pt x="6589" y="8208"/>
                  </a:lnTo>
                  <a:lnTo>
                    <a:pt x="6615" y="8310"/>
                  </a:lnTo>
                  <a:lnTo>
                    <a:pt x="6615" y="8442"/>
                  </a:lnTo>
                  <a:lnTo>
                    <a:pt x="6642" y="8573"/>
                  </a:lnTo>
                  <a:lnTo>
                    <a:pt x="6615" y="8679"/>
                  </a:lnTo>
                  <a:lnTo>
                    <a:pt x="6615" y="8807"/>
                  </a:lnTo>
                  <a:lnTo>
                    <a:pt x="6589" y="8912"/>
                  </a:lnTo>
                  <a:lnTo>
                    <a:pt x="6537" y="9017"/>
                  </a:lnTo>
                  <a:lnTo>
                    <a:pt x="6484" y="9123"/>
                  </a:lnTo>
                  <a:lnTo>
                    <a:pt x="6432" y="9228"/>
                  </a:lnTo>
                  <a:lnTo>
                    <a:pt x="6353" y="9330"/>
                  </a:lnTo>
                  <a:lnTo>
                    <a:pt x="6275" y="9409"/>
                  </a:lnTo>
                  <a:lnTo>
                    <a:pt x="6196" y="9488"/>
                  </a:lnTo>
                  <a:lnTo>
                    <a:pt x="6121" y="9540"/>
                  </a:lnTo>
                  <a:lnTo>
                    <a:pt x="6016" y="9619"/>
                  </a:lnTo>
                  <a:lnTo>
                    <a:pt x="5911" y="9672"/>
                  </a:lnTo>
                  <a:lnTo>
                    <a:pt x="5806" y="9698"/>
                  </a:lnTo>
                  <a:lnTo>
                    <a:pt x="5678" y="9724"/>
                  </a:lnTo>
                  <a:lnTo>
                    <a:pt x="5573" y="9751"/>
                  </a:lnTo>
                  <a:lnTo>
                    <a:pt x="5442" y="9751"/>
                  </a:lnTo>
                  <a:lnTo>
                    <a:pt x="5442" y="10924"/>
                  </a:lnTo>
                  <a:lnTo>
                    <a:pt x="0" y="5462"/>
                  </a:lnTo>
                  <a:close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34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67080" y="1403280"/>
              <a:ext cx="2340360" cy="3932640"/>
            </a:xfrm>
            <a:custGeom>
              <a:avLst/>
              <a:gdLst/>
              <a:ahLst/>
              <a:rect l="0" t="0" r="r" b="b"/>
              <a:pathLst>
                <a:path w="6501" h="10924">
                  <a:moveTo>
                    <a:pt x="1066" y="0"/>
                  </a:moveTo>
                  <a:lnTo>
                    <a:pt x="6501" y="5462"/>
                  </a:lnTo>
                  <a:lnTo>
                    <a:pt x="1066" y="10924"/>
                  </a:lnTo>
                  <a:lnTo>
                    <a:pt x="1066" y="9751"/>
                  </a:lnTo>
                  <a:lnTo>
                    <a:pt x="1197" y="9751"/>
                  </a:lnTo>
                  <a:lnTo>
                    <a:pt x="1301" y="9724"/>
                  </a:lnTo>
                  <a:lnTo>
                    <a:pt x="1429" y="9698"/>
                  </a:lnTo>
                  <a:lnTo>
                    <a:pt x="1534" y="9672"/>
                  </a:lnTo>
                  <a:lnTo>
                    <a:pt x="1639" y="9619"/>
                  </a:lnTo>
                  <a:lnTo>
                    <a:pt x="1744" y="9540"/>
                  </a:lnTo>
                  <a:lnTo>
                    <a:pt x="1819" y="9488"/>
                  </a:lnTo>
                  <a:lnTo>
                    <a:pt x="1898" y="9409"/>
                  </a:lnTo>
                  <a:lnTo>
                    <a:pt x="1976" y="9330"/>
                  </a:lnTo>
                  <a:lnTo>
                    <a:pt x="2055" y="9228"/>
                  </a:lnTo>
                  <a:lnTo>
                    <a:pt x="2107" y="9123"/>
                  </a:lnTo>
                  <a:lnTo>
                    <a:pt x="2160" y="9017"/>
                  </a:lnTo>
                  <a:lnTo>
                    <a:pt x="2212" y="8912"/>
                  </a:lnTo>
                  <a:lnTo>
                    <a:pt x="2238" y="8807"/>
                  </a:lnTo>
                  <a:lnTo>
                    <a:pt x="2238" y="8679"/>
                  </a:lnTo>
                  <a:lnTo>
                    <a:pt x="2264" y="8573"/>
                  </a:lnTo>
                  <a:lnTo>
                    <a:pt x="2238" y="8442"/>
                  </a:lnTo>
                  <a:lnTo>
                    <a:pt x="2238" y="8310"/>
                  </a:lnTo>
                  <a:lnTo>
                    <a:pt x="2212" y="8208"/>
                  </a:lnTo>
                  <a:lnTo>
                    <a:pt x="2160" y="8102"/>
                  </a:lnTo>
                  <a:lnTo>
                    <a:pt x="2107" y="7997"/>
                  </a:lnTo>
                  <a:lnTo>
                    <a:pt x="2055" y="7892"/>
                  </a:lnTo>
                  <a:lnTo>
                    <a:pt x="1976" y="7813"/>
                  </a:lnTo>
                  <a:lnTo>
                    <a:pt x="1898" y="7711"/>
                  </a:lnTo>
                  <a:lnTo>
                    <a:pt x="1819" y="7632"/>
                  </a:lnTo>
                  <a:lnTo>
                    <a:pt x="1744" y="7579"/>
                  </a:lnTo>
                  <a:lnTo>
                    <a:pt x="1639" y="7527"/>
                  </a:lnTo>
                  <a:lnTo>
                    <a:pt x="1534" y="7474"/>
                  </a:lnTo>
                  <a:lnTo>
                    <a:pt x="1429" y="7422"/>
                  </a:lnTo>
                  <a:lnTo>
                    <a:pt x="1301" y="7395"/>
                  </a:lnTo>
                  <a:lnTo>
                    <a:pt x="1197" y="7369"/>
                  </a:lnTo>
                  <a:lnTo>
                    <a:pt x="1066" y="7369"/>
                  </a:lnTo>
                  <a:lnTo>
                    <a:pt x="1066" y="5985"/>
                  </a:lnTo>
                  <a:lnTo>
                    <a:pt x="677" y="5044"/>
                  </a:lnTo>
                  <a:lnTo>
                    <a:pt x="1066" y="5018"/>
                  </a:lnTo>
                  <a:lnTo>
                    <a:pt x="1066" y="3762"/>
                  </a:lnTo>
                  <a:lnTo>
                    <a:pt x="0" y="3762"/>
                  </a:lnTo>
                  <a:lnTo>
                    <a:pt x="0" y="1699"/>
                  </a:lnTo>
                  <a:lnTo>
                    <a:pt x="1066" y="1699"/>
                  </a:lnTo>
                  <a:lnTo>
                    <a:pt x="1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34f"/>
                </a:gs>
                <a:gs pos="100000">
                  <a:srgbClr val="00279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78160" y="3032280"/>
              <a:ext cx="792360" cy="806760"/>
            </a:xfrm>
            <a:custGeom>
              <a:avLst/>
              <a:gdLst/>
              <a:ahLst/>
              <a:rect l="0" t="0" r="r" b="b"/>
              <a:pathLst>
                <a:path w="2201" h="2241">
                  <a:moveTo>
                    <a:pt x="749" y="2241"/>
                  </a:moveTo>
                  <a:lnTo>
                    <a:pt x="0" y="0"/>
                  </a:lnTo>
                  <a:lnTo>
                    <a:pt x="775" y="0"/>
                  </a:lnTo>
                  <a:lnTo>
                    <a:pt x="1112" y="962"/>
                  </a:lnTo>
                  <a:lnTo>
                    <a:pt x="1451" y="0"/>
                  </a:lnTo>
                  <a:lnTo>
                    <a:pt x="2201" y="0"/>
                  </a:lnTo>
                  <a:lnTo>
                    <a:pt x="1451" y="2241"/>
                  </a:lnTo>
                  <a:lnTo>
                    <a:pt x="749" y="2241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78440" y="3300480"/>
              <a:ext cx="217800" cy="538560"/>
            </a:xfrm>
            <a:custGeom>
              <a:avLst/>
              <a:gdLst/>
              <a:ahLst/>
              <a:rect l="0" t="0" r="r" b="b"/>
              <a:pathLst>
                <a:path w="605" h="1496">
                  <a:moveTo>
                    <a:pt x="0" y="0"/>
                  </a:moveTo>
                  <a:lnTo>
                    <a:pt x="605" y="0"/>
                  </a:lnTo>
                  <a:lnTo>
                    <a:pt x="605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78440" y="3032280"/>
              <a:ext cx="239760" cy="2397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64040" y="3300480"/>
              <a:ext cx="219600" cy="538560"/>
            </a:xfrm>
            <a:custGeom>
              <a:avLst/>
              <a:gdLst/>
              <a:ahLst/>
              <a:rect l="0" t="0" r="r" b="b"/>
              <a:pathLst>
                <a:path w="610" h="1496">
                  <a:moveTo>
                    <a:pt x="0" y="0"/>
                  </a:moveTo>
                  <a:lnTo>
                    <a:pt x="610" y="0"/>
                  </a:lnTo>
                  <a:lnTo>
                    <a:pt x="610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41720" y="3032280"/>
              <a:ext cx="262440" cy="246600"/>
            </a:xfrm>
            <a:custGeom>
              <a:avLst/>
              <a:gdLst/>
              <a:ahLst/>
              <a:rect l="0" t="0" r="r" b="b"/>
              <a:pathLst>
                <a:path w="729" h="685">
                  <a:moveTo>
                    <a:pt x="0" y="0"/>
                  </a:moveTo>
                  <a:lnTo>
                    <a:pt x="729" y="0"/>
                  </a:lnTo>
                  <a:lnTo>
                    <a:pt x="366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46640" y="3032280"/>
              <a:ext cx="545040" cy="806760"/>
            </a:xfrm>
            <a:custGeom>
              <a:avLst/>
              <a:gdLst/>
              <a:ahLst/>
              <a:rect l="0" t="0" r="r" b="b"/>
              <a:pathLst>
                <a:path w="1514" h="2241">
                  <a:moveTo>
                    <a:pt x="0" y="1589"/>
                  </a:moveTo>
                  <a:lnTo>
                    <a:pt x="306" y="1615"/>
                  </a:lnTo>
                  <a:lnTo>
                    <a:pt x="513" y="1615"/>
                  </a:lnTo>
                  <a:lnTo>
                    <a:pt x="716" y="1589"/>
                  </a:lnTo>
                  <a:lnTo>
                    <a:pt x="716" y="1484"/>
                  </a:lnTo>
                  <a:lnTo>
                    <a:pt x="587" y="1458"/>
                  </a:lnTo>
                  <a:lnTo>
                    <a:pt x="539" y="1458"/>
                  </a:lnTo>
                  <a:lnTo>
                    <a:pt x="462" y="1432"/>
                  </a:lnTo>
                  <a:lnTo>
                    <a:pt x="357" y="1353"/>
                  </a:lnTo>
                  <a:lnTo>
                    <a:pt x="254" y="1274"/>
                  </a:lnTo>
                  <a:lnTo>
                    <a:pt x="177" y="1147"/>
                  </a:lnTo>
                  <a:lnTo>
                    <a:pt x="99" y="1041"/>
                  </a:lnTo>
                  <a:lnTo>
                    <a:pt x="51" y="910"/>
                  </a:lnTo>
                  <a:lnTo>
                    <a:pt x="51" y="831"/>
                  </a:lnTo>
                  <a:lnTo>
                    <a:pt x="51" y="753"/>
                  </a:lnTo>
                  <a:lnTo>
                    <a:pt x="51" y="677"/>
                  </a:lnTo>
                  <a:lnTo>
                    <a:pt x="51" y="599"/>
                  </a:lnTo>
                  <a:lnTo>
                    <a:pt x="74" y="546"/>
                  </a:lnTo>
                  <a:lnTo>
                    <a:pt x="99" y="468"/>
                  </a:lnTo>
                  <a:lnTo>
                    <a:pt x="151" y="337"/>
                  </a:lnTo>
                  <a:lnTo>
                    <a:pt x="254" y="209"/>
                  </a:lnTo>
                  <a:lnTo>
                    <a:pt x="357" y="131"/>
                  </a:lnTo>
                  <a:lnTo>
                    <a:pt x="487" y="52"/>
                  </a:lnTo>
                  <a:lnTo>
                    <a:pt x="613" y="0"/>
                  </a:lnTo>
                  <a:lnTo>
                    <a:pt x="768" y="0"/>
                  </a:lnTo>
                  <a:lnTo>
                    <a:pt x="1514" y="0"/>
                  </a:lnTo>
                  <a:lnTo>
                    <a:pt x="1514" y="625"/>
                  </a:lnTo>
                  <a:lnTo>
                    <a:pt x="794" y="625"/>
                  </a:lnTo>
                  <a:lnTo>
                    <a:pt x="794" y="753"/>
                  </a:lnTo>
                  <a:lnTo>
                    <a:pt x="923" y="779"/>
                  </a:lnTo>
                  <a:lnTo>
                    <a:pt x="1074" y="805"/>
                  </a:lnTo>
                  <a:lnTo>
                    <a:pt x="1204" y="884"/>
                  </a:lnTo>
                  <a:lnTo>
                    <a:pt x="1308" y="962"/>
                  </a:lnTo>
                  <a:lnTo>
                    <a:pt x="1385" y="1067"/>
                  </a:lnTo>
                  <a:lnTo>
                    <a:pt x="1437" y="1147"/>
                  </a:lnTo>
                  <a:lnTo>
                    <a:pt x="1462" y="1199"/>
                  </a:lnTo>
                  <a:lnTo>
                    <a:pt x="1488" y="1353"/>
                  </a:lnTo>
                  <a:lnTo>
                    <a:pt x="1514" y="1432"/>
                  </a:lnTo>
                  <a:lnTo>
                    <a:pt x="1514" y="1510"/>
                  </a:lnTo>
                  <a:lnTo>
                    <a:pt x="1488" y="1668"/>
                  </a:lnTo>
                  <a:lnTo>
                    <a:pt x="1462" y="1795"/>
                  </a:lnTo>
                  <a:lnTo>
                    <a:pt x="1385" y="1926"/>
                  </a:lnTo>
                  <a:lnTo>
                    <a:pt x="1282" y="2031"/>
                  </a:lnTo>
                  <a:lnTo>
                    <a:pt x="1179" y="2110"/>
                  </a:lnTo>
                  <a:lnTo>
                    <a:pt x="1052" y="2188"/>
                  </a:lnTo>
                  <a:lnTo>
                    <a:pt x="974" y="2214"/>
                  </a:lnTo>
                  <a:lnTo>
                    <a:pt x="923" y="2214"/>
                  </a:lnTo>
                  <a:lnTo>
                    <a:pt x="768" y="2241"/>
                  </a:lnTo>
                  <a:lnTo>
                    <a:pt x="0" y="2241"/>
                  </a:lnTo>
                  <a:lnTo>
                    <a:pt x="0" y="1589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52960" y="3046320"/>
              <a:ext cx="79560" cy="87840"/>
            </a:xfrm>
            <a:custGeom>
              <a:avLst/>
              <a:gdLst/>
              <a:ahLst/>
              <a:rect l="0" t="0" r="r" b="b"/>
              <a:pathLst>
                <a:path w="221" h="244">
                  <a:moveTo>
                    <a:pt x="108" y="0"/>
                  </a:moveTo>
                  <a:lnTo>
                    <a:pt x="66" y="0"/>
                  </a:lnTo>
                  <a:lnTo>
                    <a:pt x="22" y="24"/>
                  </a:lnTo>
                  <a:lnTo>
                    <a:pt x="0" y="74"/>
                  </a:lnTo>
                  <a:lnTo>
                    <a:pt x="0" y="123"/>
                  </a:lnTo>
                  <a:lnTo>
                    <a:pt x="0" y="172"/>
                  </a:lnTo>
                  <a:lnTo>
                    <a:pt x="22" y="219"/>
                  </a:lnTo>
                  <a:lnTo>
                    <a:pt x="66" y="244"/>
                  </a:lnTo>
                  <a:lnTo>
                    <a:pt x="108" y="244"/>
                  </a:lnTo>
                  <a:lnTo>
                    <a:pt x="154" y="244"/>
                  </a:lnTo>
                  <a:lnTo>
                    <a:pt x="199" y="219"/>
                  </a:lnTo>
                  <a:lnTo>
                    <a:pt x="221" y="172"/>
                  </a:lnTo>
                  <a:lnTo>
                    <a:pt x="221" y="123"/>
                  </a:lnTo>
                  <a:lnTo>
                    <a:pt x="221" y="74"/>
                  </a:lnTo>
                  <a:lnTo>
                    <a:pt x="199" y="24"/>
                  </a:lnTo>
                  <a:lnTo>
                    <a:pt x="154" y="0"/>
                  </a:lnTo>
                  <a:lnTo>
                    <a:pt x="108" y="0"/>
                  </a:lnTo>
                  <a:lnTo>
                    <a:pt x="108" y="24"/>
                  </a:lnTo>
                  <a:lnTo>
                    <a:pt x="154" y="24"/>
                  </a:lnTo>
                  <a:lnTo>
                    <a:pt x="176" y="49"/>
                  </a:lnTo>
                  <a:lnTo>
                    <a:pt x="199" y="74"/>
                  </a:lnTo>
                  <a:lnTo>
                    <a:pt x="221" y="123"/>
                  </a:lnTo>
                  <a:lnTo>
                    <a:pt x="199" y="172"/>
                  </a:lnTo>
                  <a:lnTo>
                    <a:pt x="176" y="195"/>
                  </a:lnTo>
                  <a:lnTo>
                    <a:pt x="154" y="219"/>
                  </a:lnTo>
                  <a:lnTo>
                    <a:pt x="108" y="244"/>
                  </a:lnTo>
                  <a:lnTo>
                    <a:pt x="66" y="219"/>
                  </a:lnTo>
                  <a:lnTo>
                    <a:pt x="44" y="195"/>
                  </a:lnTo>
                  <a:lnTo>
                    <a:pt x="22" y="172"/>
                  </a:lnTo>
                  <a:lnTo>
                    <a:pt x="22" y="123"/>
                  </a:lnTo>
                  <a:lnTo>
                    <a:pt x="22" y="74"/>
                  </a:lnTo>
                  <a:lnTo>
                    <a:pt x="44" y="49"/>
                  </a:lnTo>
                  <a:lnTo>
                    <a:pt x="66" y="24"/>
                  </a:lnTo>
                  <a:lnTo>
                    <a:pt x="108" y="24"/>
                  </a:lnTo>
                  <a:lnTo>
                    <a:pt x="89" y="123"/>
                  </a:lnTo>
                  <a:lnTo>
                    <a:pt x="108" y="123"/>
                  </a:lnTo>
                  <a:lnTo>
                    <a:pt x="132" y="148"/>
                  </a:lnTo>
                  <a:lnTo>
                    <a:pt x="132" y="195"/>
                  </a:lnTo>
                  <a:lnTo>
                    <a:pt x="154" y="195"/>
                  </a:lnTo>
                  <a:lnTo>
                    <a:pt x="154" y="172"/>
                  </a:lnTo>
                  <a:lnTo>
                    <a:pt x="154" y="123"/>
                  </a:lnTo>
                  <a:lnTo>
                    <a:pt x="132" y="123"/>
                  </a:lnTo>
                  <a:lnTo>
                    <a:pt x="154" y="99"/>
                  </a:lnTo>
                  <a:lnTo>
                    <a:pt x="154" y="49"/>
                  </a:lnTo>
                  <a:lnTo>
                    <a:pt x="132" y="49"/>
                  </a:lnTo>
                  <a:lnTo>
                    <a:pt x="66" y="49"/>
                  </a:lnTo>
                  <a:lnTo>
                    <a:pt x="66" y="195"/>
                  </a:lnTo>
                  <a:lnTo>
                    <a:pt x="89" y="195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74"/>
                  </a:lnTo>
                  <a:lnTo>
                    <a:pt x="132" y="74"/>
                  </a:lnTo>
                  <a:lnTo>
                    <a:pt x="132" y="99"/>
                  </a:lnTo>
                  <a:lnTo>
                    <a:pt x="108" y="123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4040" y="3016080"/>
              <a:ext cx="813240" cy="822600"/>
            </a:xfrm>
            <a:custGeom>
              <a:avLst/>
              <a:gdLst/>
              <a:ahLst/>
              <a:rect l="0" t="0" r="r" b="b"/>
              <a:pathLst>
                <a:path w="2259" h="2285">
                  <a:moveTo>
                    <a:pt x="804" y="1156"/>
                  </a:moveTo>
                  <a:lnTo>
                    <a:pt x="804" y="1076"/>
                  </a:lnTo>
                  <a:lnTo>
                    <a:pt x="830" y="1023"/>
                  </a:lnTo>
                  <a:lnTo>
                    <a:pt x="883" y="917"/>
                  </a:lnTo>
                  <a:lnTo>
                    <a:pt x="935" y="864"/>
                  </a:lnTo>
                  <a:lnTo>
                    <a:pt x="1013" y="838"/>
                  </a:lnTo>
                  <a:lnTo>
                    <a:pt x="1066" y="812"/>
                  </a:lnTo>
                  <a:lnTo>
                    <a:pt x="1141" y="812"/>
                  </a:lnTo>
                  <a:lnTo>
                    <a:pt x="1193" y="812"/>
                  </a:lnTo>
                  <a:lnTo>
                    <a:pt x="1272" y="838"/>
                  </a:lnTo>
                  <a:lnTo>
                    <a:pt x="1376" y="917"/>
                  </a:lnTo>
                  <a:lnTo>
                    <a:pt x="1428" y="944"/>
                  </a:lnTo>
                  <a:lnTo>
                    <a:pt x="1454" y="1023"/>
                  </a:lnTo>
                  <a:lnTo>
                    <a:pt x="1481" y="1076"/>
                  </a:lnTo>
                  <a:lnTo>
                    <a:pt x="1481" y="1156"/>
                  </a:lnTo>
                  <a:lnTo>
                    <a:pt x="1481" y="1209"/>
                  </a:lnTo>
                  <a:lnTo>
                    <a:pt x="1454" y="1285"/>
                  </a:lnTo>
                  <a:lnTo>
                    <a:pt x="1376" y="1390"/>
                  </a:lnTo>
                  <a:lnTo>
                    <a:pt x="1324" y="1443"/>
                  </a:lnTo>
                  <a:lnTo>
                    <a:pt x="1272" y="1469"/>
                  </a:lnTo>
                  <a:lnTo>
                    <a:pt x="1193" y="1496"/>
                  </a:lnTo>
                  <a:lnTo>
                    <a:pt x="1141" y="1496"/>
                  </a:lnTo>
                  <a:lnTo>
                    <a:pt x="1066" y="1496"/>
                  </a:lnTo>
                  <a:lnTo>
                    <a:pt x="1013" y="1469"/>
                  </a:lnTo>
                  <a:lnTo>
                    <a:pt x="883" y="1390"/>
                  </a:lnTo>
                  <a:lnTo>
                    <a:pt x="857" y="1337"/>
                  </a:lnTo>
                  <a:lnTo>
                    <a:pt x="830" y="1285"/>
                  </a:lnTo>
                  <a:lnTo>
                    <a:pt x="804" y="1209"/>
                  </a:lnTo>
                  <a:lnTo>
                    <a:pt x="804" y="1156"/>
                  </a:lnTo>
                  <a:lnTo>
                    <a:pt x="0" y="1156"/>
                  </a:lnTo>
                  <a:lnTo>
                    <a:pt x="26" y="1023"/>
                  </a:lnTo>
                  <a:lnTo>
                    <a:pt x="26" y="970"/>
                  </a:lnTo>
                  <a:lnTo>
                    <a:pt x="26" y="917"/>
                  </a:lnTo>
                  <a:lnTo>
                    <a:pt x="52" y="812"/>
                  </a:lnTo>
                  <a:lnTo>
                    <a:pt x="101" y="709"/>
                  </a:lnTo>
                  <a:lnTo>
                    <a:pt x="153" y="604"/>
                  </a:lnTo>
                  <a:lnTo>
                    <a:pt x="205" y="524"/>
                  </a:lnTo>
                  <a:lnTo>
                    <a:pt x="258" y="419"/>
                  </a:lnTo>
                  <a:lnTo>
                    <a:pt x="336" y="339"/>
                  </a:lnTo>
                  <a:lnTo>
                    <a:pt x="414" y="264"/>
                  </a:lnTo>
                  <a:lnTo>
                    <a:pt x="493" y="211"/>
                  </a:lnTo>
                  <a:lnTo>
                    <a:pt x="598" y="158"/>
                  </a:lnTo>
                  <a:lnTo>
                    <a:pt x="700" y="105"/>
                  </a:lnTo>
                  <a:lnTo>
                    <a:pt x="804" y="52"/>
                  </a:lnTo>
                  <a:lnTo>
                    <a:pt x="909" y="26"/>
                  </a:lnTo>
                  <a:lnTo>
                    <a:pt x="1013" y="26"/>
                  </a:lnTo>
                  <a:lnTo>
                    <a:pt x="1141" y="0"/>
                  </a:lnTo>
                  <a:lnTo>
                    <a:pt x="1245" y="26"/>
                  </a:lnTo>
                  <a:lnTo>
                    <a:pt x="1350" y="26"/>
                  </a:lnTo>
                  <a:lnTo>
                    <a:pt x="1481" y="52"/>
                  </a:lnTo>
                  <a:lnTo>
                    <a:pt x="1585" y="105"/>
                  </a:lnTo>
                  <a:lnTo>
                    <a:pt x="1660" y="158"/>
                  </a:lnTo>
                  <a:lnTo>
                    <a:pt x="1766" y="211"/>
                  </a:lnTo>
                  <a:lnTo>
                    <a:pt x="1844" y="264"/>
                  </a:lnTo>
                  <a:lnTo>
                    <a:pt x="1923" y="339"/>
                  </a:lnTo>
                  <a:lnTo>
                    <a:pt x="2001" y="419"/>
                  </a:lnTo>
                  <a:lnTo>
                    <a:pt x="2080" y="524"/>
                  </a:lnTo>
                  <a:lnTo>
                    <a:pt x="2129" y="604"/>
                  </a:lnTo>
                  <a:lnTo>
                    <a:pt x="2181" y="709"/>
                  </a:lnTo>
                  <a:lnTo>
                    <a:pt x="2207" y="812"/>
                  </a:lnTo>
                  <a:lnTo>
                    <a:pt x="2233" y="917"/>
                  </a:lnTo>
                  <a:lnTo>
                    <a:pt x="2259" y="1023"/>
                  </a:lnTo>
                  <a:lnTo>
                    <a:pt x="2259" y="1156"/>
                  </a:lnTo>
                  <a:lnTo>
                    <a:pt x="2259" y="1261"/>
                  </a:lnTo>
                  <a:lnTo>
                    <a:pt x="2259" y="1311"/>
                  </a:lnTo>
                  <a:lnTo>
                    <a:pt x="2233" y="1390"/>
                  </a:lnTo>
                  <a:lnTo>
                    <a:pt x="2207" y="1496"/>
                  </a:lnTo>
                  <a:lnTo>
                    <a:pt x="2181" y="1601"/>
                  </a:lnTo>
                  <a:lnTo>
                    <a:pt x="2129" y="1707"/>
                  </a:lnTo>
                  <a:lnTo>
                    <a:pt x="2080" y="1783"/>
                  </a:lnTo>
                  <a:lnTo>
                    <a:pt x="2001" y="1862"/>
                  </a:lnTo>
                  <a:lnTo>
                    <a:pt x="1923" y="1968"/>
                  </a:lnTo>
                  <a:lnTo>
                    <a:pt x="1844" y="2021"/>
                  </a:lnTo>
                  <a:lnTo>
                    <a:pt x="1766" y="2100"/>
                  </a:lnTo>
                  <a:lnTo>
                    <a:pt x="1660" y="2153"/>
                  </a:lnTo>
                  <a:lnTo>
                    <a:pt x="1585" y="2206"/>
                  </a:lnTo>
                  <a:lnTo>
                    <a:pt x="1481" y="2232"/>
                  </a:lnTo>
                  <a:lnTo>
                    <a:pt x="1350" y="2258"/>
                  </a:lnTo>
                  <a:lnTo>
                    <a:pt x="1245" y="2285"/>
                  </a:lnTo>
                  <a:lnTo>
                    <a:pt x="1141" y="2285"/>
                  </a:lnTo>
                  <a:lnTo>
                    <a:pt x="1013" y="2285"/>
                  </a:lnTo>
                  <a:lnTo>
                    <a:pt x="909" y="2258"/>
                  </a:lnTo>
                  <a:lnTo>
                    <a:pt x="804" y="2232"/>
                  </a:lnTo>
                  <a:lnTo>
                    <a:pt x="700" y="2206"/>
                  </a:lnTo>
                  <a:lnTo>
                    <a:pt x="598" y="2153"/>
                  </a:lnTo>
                  <a:lnTo>
                    <a:pt x="493" y="2100"/>
                  </a:lnTo>
                  <a:lnTo>
                    <a:pt x="414" y="2021"/>
                  </a:lnTo>
                  <a:lnTo>
                    <a:pt x="336" y="1968"/>
                  </a:lnTo>
                  <a:lnTo>
                    <a:pt x="258" y="1862"/>
                  </a:lnTo>
                  <a:lnTo>
                    <a:pt x="205" y="1783"/>
                  </a:lnTo>
                  <a:lnTo>
                    <a:pt x="153" y="1707"/>
                  </a:lnTo>
                  <a:lnTo>
                    <a:pt x="101" y="1601"/>
                  </a:lnTo>
                  <a:lnTo>
                    <a:pt x="52" y="1496"/>
                  </a:lnTo>
                  <a:lnTo>
                    <a:pt x="26" y="1390"/>
                  </a:lnTo>
                  <a:lnTo>
                    <a:pt x="26" y="1261"/>
                  </a:lnTo>
                  <a:lnTo>
                    <a:pt x="0" y="1156"/>
                  </a:lnTo>
                  <a:lnTo>
                    <a:pt x="804" y="1156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1906560" y="5497560"/>
            <a:ext cx="5630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ing New Visio 4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s:  Offic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77960" y="1790640"/>
            <a:ext cx="5956200" cy="445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09800" y="1809720"/>
            <a:ext cx="52862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689200" y="843120"/>
            <a:ext cx="589284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verages your desktop inve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2665440" y="2297160"/>
            <a:ext cx="5892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emiere diagramming program for Windows 9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includes Windows 3.1 compatib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 Microsoft Office Compatible so you can leverage all your learn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732040" y="866880"/>
            <a:ext cx="589284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Office compati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 4.0 has the exact “look and feel” of Office applications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menu i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toolbar buttons  for common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dialog boxes for major functi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990720" y="2944800"/>
            <a:ext cx="761040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2305080" y="905040"/>
            <a:ext cx="63198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perfect diagramming tool integrated with Office 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73400" y="2166840"/>
            <a:ext cx="621036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2676600" y="1057320"/>
            <a:ext cx="589284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 and drop between Visio and Off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116160" y="2303640"/>
            <a:ext cx="41860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07960" y="379440"/>
            <a:ext cx="8116920" cy="608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689200" y="1403280"/>
            <a:ext cx="3918240" cy="3932640"/>
            <a:chOff x="2689200" y="1403280"/>
            <a:chExt cx="3918240" cy="3932640"/>
          </a:xfrm>
        </p:grpSpPr>
        <p:sp>
          <p:nvSpPr>
            <p:cNvPr id="429" name=""/>
            <p:cNvSpPr/>
            <p:nvPr/>
          </p:nvSpPr>
          <p:spPr>
            <a:xfrm>
              <a:off x="2689200" y="1403280"/>
              <a:ext cx="2391120" cy="3932640"/>
            </a:xfrm>
            <a:custGeom>
              <a:avLst/>
              <a:gdLst/>
              <a:ahLst/>
              <a:rect l="0" t="0" r="r" b="b"/>
              <a:pathLst>
                <a:path w="6642" h="10924">
                  <a:moveTo>
                    <a:pt x="0" y="5462"/>
                  </a:moveTo>
                  <a:lnTo>
                    <a:pt x="5442" y="0"/>
                  </a:lnTo>
                  <a:lnTo>
                    <a:pt x="5442" y="1699"/>
                  </a:lnTo>
                  <a:lnTo>
                    <a:pt x="4374" y="1699"/>
                  </a:lnTo>
                  <a:lnTo>
                    <a:pt x="4374" y="3762"/>
                  </a:lnTo>
                  <a:lnTo>
                    <a:pt x="5442" y="3762"/>
                  </a:lnTo>
                  <a:lnTo>
                    <a:pt x="5442" y="5018"/>
                  </a:lnTo>
                  <a:lnTo>
                    <a:pt x="5053" y="5044"/>
                  </a:lnTo>
                  <a:lnTo>
                    <a:pt x="5442" y="5985"/>
                  </a:lnTo>
                  <a:lnTo>
                    <a:pt x="5442" y="7369"/>
                  </a:lnTo>
                  <a:lnTo>
                    <a:pt x="5573" y="7369"/>
                  </a:lnTo>
                  <a:lnTo>
                    <a:pt x="5678" y="7395"/>
                  </a:lnTo>
                  <a:lnTo>
                    <a:pt x="5806" y="7422"/>
                  </a:lnTo>
                  <a:lnTo>
                    <a:pt x="5911" y="7474"/>
                  </a:lnTo>
                  <a:lnTo>
                    <a:pt x="6016" y="7527"/>
                  </a:lnTo>
                  <a:lnTo>
                    <a:pt x="6121" y="7579"/>
                  </a:lnTo>
                  <a:lnTo>
                    <a:pt x="6196" y="7632"/>
                  </a:lnTo>
                  <a:lnTo>
                    <a:pt x="6275" y="7711"/>
                  </a:lnTo>
                  <a:lnTo>
                    <a:pt x="6353" y="7813"/>
                  </a:lnTo>
                  <a:lnTo>
                    <a:pt x="6432" y="7892"/>
                  </a:lnTo>
                  <a:lnTo>
                    <a:pt x="6484" y="7997"/>
                  </a:lnTo>
                  <a:lnTo>
                    <a:pt x="6537" y="8102"/>
                  </a:lnTo>
                  <a:lnTo>
                    <a:pt x="6589" y="8208"/>
                  </a:lnTo>
                  <a:lnTo>
                    <a:pt x="6615" y="8310"/>
                  </a:lnTo>
                  <a:lnTo>
                    <a:pt x="6615" y="8442"/>
                  </a:lnTo>
                  <a:lnTo>
                    <a:pt x="6642" y="8573"/>
                  </a:lnTo>
                  <a:lnTo>
                    <a:pt x="6615" y="8679"/>
                  </a:lnTo>
                  <a:lnTo>
                    <a:pt x="6615" y="8807"/>
                  </a:lnTo>
                  <a:lnTo>
                    <a:pt x="6589" y="8912"/>
                  </a:lnTo>
                  <a:lnTo>
                    <a:pt x="6537" y="9017"/>
                  </a:lnTo>
                  <a:lnTo>
                    <a:pt x="6484" y="9123"/>
                  </a:lnTo>
                  <a:lnTo>
                    <a:pt x="6432" y="9228"/>
                  </a:lnTo>
                  <a:lnTo>
                    <a:pt x="6353" y="9330"/>
                  </a:lnTo>
                  <a:lnTo>
                    <a:pt x="6275" y="9409"/>
                  </a:lnTo>
                  <a:lnTo>
                    <a:pt x="6196" y="9488"/>
                  </a:lnTo>
                  <a:lnTo>
                    <a:pt x="6121" y="9540"/>
                  </a:lnTo>
                  <a:lnTo>
                    <a:pt x="6016" y="9619"/>
                  </a:lnTo>
                  <a:lnTo>
                    <a:pt x="5911" y="9672"/>
                  </a:lnTo>
                  <a:lnTo>
                    <a:pt x="5806" y="9698"/>
                  </a:lnTo>
                  <a:lnTo>
                    <a:pt x="5678" y="9724"/>
                  </a:lnTo>
                  <a:lnTo>
                    <a:pt x="5573" y="9751"/>
                  </a:lnTo>
                  <a:lnTo>
                    <a:pt x="5442" y="9751"/>
                  </a:lnTo>
                  <a:lnTo>
                    <a:pt x="5442" y="10924"/>
                  </a:lnTo>
                  <a:lnTo>
                    <a:pt x="0" y="5462"/>
                  </a:lnTo>
                  <a:close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00134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67080" y="1403280"/>
              <a:ext cx="2340360" cy="3932640"/>
            </a:xfrm>
            <a:custGeom>
              <a:avLst/>
              <a:gdLst/>
              <a:ahLst/>
              <a:rect l="0" t="0" r="r" b="b"/>
              <a:pathLst>
                <a:path w="6501" h="10924">
                  <a:moveTo>
                    <a:pt x="1066" y="0"/>
                  </a:moveTo>
                  <a:lnTo>
                    <a:pt x="6501" y="5462"/>
                  </a:lnTo>
                  <a:lnTo>
                    <a:pt x="1066" y="10924"/>
                  </a:lnTo>
                  <a:lnTo>
                    <a:pt x="1066" y="9751"/>
                  </a:lnTo>
                  <a:lnTo>
                    <a:pt x="1197" y="9751"/>
                  </a:lnTo>
                  <a:lnTo>
                    <a:pt x="1301" y="9724"/>
                  </a:lnTo>
                  <a:lnTo>
                    <a:pt x="1429" y="9698"/>
                  </a:lnTo>
                  <a:lnTo>
                    <a:pt x="1534" y="9672"/>
                  </a:lnTo>
                  <a:lnTo>
                    <a:pt x="1639" y="9619"/>
                  </a:lnTo>
                  <a:lnTo>
                    <a:pt x="1744" y="9540"/>
                  </a:lnTo>
                  <a:lnTo>
                    <a:pt x="1819" y="9488"/>
                  </a:lnTo>
                  <a:lnTo>
                    <a:pt x="1898" y="9409"/>
                  </a:lnTo>
                  <a:lnTo>
                    <a:pt x="1976" y="9330"/>
                  </a:lnTo>
                  <a:lnTo>
                    <a:pt x="2055" y="9228"/>
                  </a:lnTo>
                  <a:lnTo>
                    <a:pt x="2107" y="9123"/>
                  </a:lnTo>
                  <a:lnTo>
                    <a:pt x="2160" y="9017"/>
                  </a:lnTo>
                  <a:lnTo>
                    <a:pt x="2212" y="8912"/>
                  </a:lnTo>
                  <a:lnTo>
                    <a:pt x="2238" y="8807"/>
                  </a:lnTo>
                  <a:lnTo>
                    <a:pt x="2238" y="8679"/>
                  </a:lnTo>
                  <a:lnTo>
                    <a:pt x="2264" y="8573"/>
                  </a:lnTo>
                  <a:lnTo>
                    <a:pt x="2238" y="8442"/>
                  </a:lnTo>
                  <a:lnTo>
                    <a:pt x="2238" y="8310"/>
                  </a:lnTo>
                  <a:lnTo>
                    <a:pt x="2212" y="8208"/>
                  </a:lnTo>
                  <a:lnTo>
                    <a:pt x="2160" y="8102"/>
                  </a:lnTo>
                  <a:lnTo>
                    <a:pt x="2107" y="7997"/>
                  </a:lnTo>
                  <a:lnTo>
                    <a:pt x="2055" y="7892"/>
                  </a:lnTo>
                  <a:lnTo>
                    <a:pt x="1976" y="7813"/>
                  </a:lnTo>
                  <a:lnTo>
                    <a:pt x="1898" y="7711"/>
                  </a:lnTo>
                  <a:lnTo>
                    <a:pt x="1819" y="7632"/>
                  </a:lnTo>
                  <a:lnTo>
                    <a:pt x="1744" y="7579"/>
                  </a:lnTo>
                  <a:lnTo>
                    <a:pt x="1639" y="7527"/>
                  </a:lnTo>
                  <a:lnTo>
                    <a:pt x="1534" y="7474"/>
                  </a:lnTo>
                  <a:lnTo>
                    <a:pt x="1429" y="7422"/>
                  </a:lnTo>
                  <a:lnTo>
                    <a:pt x="1301" y="7395"/>
                  </a:lnTo>
                  <a:lnTo>
                    <a:pt x="1197" y="7369"/>
                  </a:lnTo>
                  <a:lnTo>
                    <a:pt x="1066" y="7369"/>
                  </a:lnTo>
                  <a:lnTo>
                    <a:pt x="1066" y="5985"/>
                  </a:lnTo>
                  <a:lnTo>
                    <a:pt x="677" y="5044"/>
                  </a:lnTo>
                  <a:lnTo>
                    <a:pt x="1066" y="5018"/>
                  </a:lnTo>
                  <a:lnTo>
                    <a:pt x="1066" y="3762"/>
                  </a:lnTo>
                  <a:lnTo>
                    <a:pt x="0" y="3762"/>
                  </a:lnTo>
                  <a:lnTo>
                    <a:pt x="0" y="1699"/>
                  </a:lnTo>
                  <a:lnTo>
                    <a:pt x="1066" y="1699"/>
                  </a:lnTo>
                  <a:lnTo>
                    <a:pt x="106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34f"/>
                </a:gs>
                <a:gs pos="100000">
                  <a:srgbClr val="00279f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78160" y="3032280"/>
              <a:ext cx="792360" cy="806760"/>
            </a:xfrm>
            <a:custGeom>
              <a:avLst/>
              <a:gdLst/>
              <a:ahLst/>
              <a:rect l="0" t="0" r="r" b="b"/>
              <a:pathLst>
                <a:path w="2201" h="2241">
                  <a:moveTo>
                    <a:pt x="749" y="2241"/>
                  </a:moveTo>
                  <a:lnTo>
                    <a:pt x="0" y="0"/>
                  </a:lnTo>
                  <a:lnTo>
                    <a:pt x="775" y="0"/>
                  </a:lnTo>
                  <a:lnTo>
                    <a:pt x="1112" y="962"/>
                  </a:lnTo>
                  <a:lnTo>
                    <a:pt x="1451" y="0"/>
                  </a:lnTo>
                  <a:lnTo>
                    <a:pt x="2201" y="0"/>
                  </a:lnTo>
                  <a:lnTo>
                    <a:pt x="1451" y="2241"/>
                  </a:lnTo>
                  <a:lnTo>
                    <a:pt x="749" y="2241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8440" y="3300480"/>
              <a:ext cx="217800" cy="538560"/>
            </a:xfrm>
            <a:custGeom>
              <a:avLst/>
              <a:gdLst/>
              <a:ahLst/>
              <a:rect l="0" t="0" r="r" b="b"/>
              <a:pathLst>
                <a:path w="605" h="1496">
                  <a:moveTo>
                    <a:pt x="0" y="0"/>
                  </a:moveTo>
                  <a:lnTo>
                    <a:pt x="605" y="0"/>
                  </a:lnTo>
                  <a:lnTo>
                    <a:pt x="605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78440" y="3032280"/>
              <a:ext cx="239760" cy="23976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4040" y="3300480"/>
              <a:ext cx="219600" cy="538560"/>
            </a:xfrm>
            <a:custGeom>
              <a:avLst/>
              <a:gdLst/>
              <a:ahLst/>
              <a:rect l="0" t="0" r="r" b="b"/>
              <a:pathLst>
                <a:path w="610" h="1496">
                  <a:moveTo>
                    <a:pt x="0" y="0"/>
                  </a:moveTo>
                  <a:lnTo>
                    <a:pt x="610" y="0"/>
                  </a:lnTo>
                  <a:lnTo>
                    <a:pt x="610" y="1496"/>
                  </a:lnTo>
                  <a:lnTo>
                    <a:pt x="0" y="14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41720" y="3032280"/>
              <a:ext cx="262440" cy="246600"/>
            </a:xfrm>
            <a:custGeom>
              <a:avLst/>
              <a:gdLst/>
              <a:ahLst/>
              <a:rect l="0" t="0" r="r" b="b"/>
              <a:pathLst>
                <a:path w="729" h="685">
                  <a:moveTo>
                    <a:pt x="0" y="0"/>
                  </a:moveTo>
                  <a:lnTo>
                    <a:pt x="729" y="0"/>
                  </a:lnTo>
                  <a:lnTo>
                    <a:pt x="366" y="6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6640" y="3032280"/>
              <a:ext cx="545040" cy="806760"/>
            </a:xfrm>
            <a:custGeom>
              <a:avLst/>
              <a:gdLst/>
              <a:ahLst/>
              <a:rect l="0" t="0" r="r" b="b"/>
              <a:pathLst>
                <a:path w="1514" h="2241">
                  <a:moveTo>
                    <a:pt x="0" y="1589"/>
                  </a:moveTo>
                  <a:lnTo>
                    <a:pt x="306" y="1615"/>
                  </a:lnTo>
                  <a:lnTo>
                    <a:pt x="513" y="1615"/>
                  </a:lnTo>
                  <a:lnTo>
                    <a:pt x="716" y="1589"/>
                  </a:lnTo>
                  <a:lnTo>
                    <a:pt x="716" y="1484"/>
                  </a:lnTo>
                  <a:lnTo>
                    <a:pt x="587" y="1458"/>
                  </a:lnTo>
                  <a:lnTo>
                    <a:pt x="539" y="1458"/>
                  </a:lnTo>
                  <a:lnTo>
                    <a:pt x="462" y="1432"/>
                  </a:lnTo>
                  <a:lnTo>
                    <a:pt x="357" y="1353"/>
                  </a:lnTo>
                  <a:lnTo>
                    <a:pt x="254" y="1274"/>
                  </a:lnTo>
                  <a:lnTo>
                    <a:pt x="177" y="1147"/>
                  </a:lnTo>
                  <a:lnTo>
                    <a:pt x="99" y="1041"/>
                  </a:lnTo>
                  <a:lnTo>
                    <a:pt x="51" y="910"/>
                  </a:lnTo>
                  <a:lnTo>
                    <a:pt x="51" y="831"/>
                  </a:lnTo>
                  <a:lnTo>
                    <a:pt x="51" y="753"/>
                  </a:lnTo>
                  <a:lnTo>
                    <a:pt x="51" y="677"/>
                  </a:lnTo>
                  <a:lnTo>
                    <a:pt x="51" y="599"/>
                  </a:lnTo>
                  <a:lnTo>
                    <a:pt x="74" y="546"/>
                  </a:lnTo>
                  <a:lnTo>
                    <a:pt x="99" y="468"/>
                  </a:lnTo>
                  <a:lnTo>
                    <a:pt x="151" y="337"/>
                  </a:lnTo>
                  <a:lnTo>
                    <a:pt x="254" y="209"/>
                  </a:lnTo>
                  <a:lnTo>
                    <a:pt x="357" y="131"/>
                  </a:lnTo>
                  <a:lnTo>
                    <a:pt x="487" y="52"/>
                  </a:lnTo>
                  <a:lnTo>
                    <a:pt x="613" y="0"/>
                  </a:lnTo>
                  <a:lnTo>
                    <a:pt x="768" y="0"/>
                  </a:lnTo>
                  <a:lnTo>
                    <a:pt x="1514" y="0"/>
                  </a:lnTo>
                  <a:lnTo>
                    <a:pt x="1514" y="625"/>
                  </a:lnTo>
                  <a:lnTo>
                    <a:pt x="794" y="625"/>
                  </a:lnTo>
                  <a:lnTo>
                    <a:pt x="794" y="753"/>
                  </a:lnTo>
                  <a:lnTo>
                    <a:pt x="923" y="779"/>
                  </a:lnTo>
                  <a:lnTo>
                    <a:pt x="1074" y="805"/>
                  </a:lnTo>
                  <a:lnTo>
                    <a:pt x="1204" y="884"/>
                  </a:lnTo>
                  <a:lnTo>
                    <a:pt x="1308" y="962"/>
                  </a:lnTo>
                  <a:lnTo>
                    <a:pt x="1385" y="1067"/>
                  </a:lnTo>
                  <a:lnTo>
                    <a:pt x="1437" y="1147"/>
                  </a:lnTo>
                  <a:lnTo>
                    <a:pt x="1462" y="1199"/>
                  </a:lnTo>
                  <a:lnTo>
                    <a:pt x="1488" y="1353"/>
                  </a:lnTo>
                  <a:lnTo>
                    <a:pt x="1514" y="1432"/>
                  </a:lnTo>
                  <a:lnTo>
                    <a:pt x="1514" y="1510"/>
                  </a:lnTo>
                  <a:lnTo>
                    <a:pt x="1488" y="1668"/>
                  </a:lnTo>
                  <a:lnTo>
                    <a:pt x="1462" y="1795"/>
                  </a:lnTo>
                  <a:lnTo>
                    <a:pt x="1385" y="1926"/>
                  </a:lnTo>
                  <a:lnTo>
                    <a:pt x="1282" y="2031"/>
                  </a:lnTo>
                  <a:lnTo>
                    <a:pt x="1179" y="2110"/>
                  </a:lnTo>
                  <a:lnTo>
                    <a:pt x="1052" y="2188"/>
                  </a:lnTo>
                  <a:lnTo>
                    <a:pt x="974" y="2214"/>
                  </a:lnTo>
                  <a:lnTo>
                    <a:pt x="923" y="2214"/>
                  </a:lnTo>
                  <a:lnTo>
                    <a:pt x="768" y="2241"/>
                  </a:lnTo>
                  <a:lnTo>
                    <a:pt x="0" y="2241"/>
                  </a:lnTo>
                  <a:lnTo>
                    <a:pt x="0" y="1589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2960" y="3046320"/>
              <a:ext cx="79560" cy="87840"/>
            </a:xfrm>
            <a:custGeom>
              <a:avLst/>
              <a:gdLst/>
              <a:ahLst/>
              <a:rect l="0" t="0" r="r" b="b"/>
              <a:pathLst>
                <a:path w="221" h="244">
                  <a:moveTo>
                    <a:pt x="108" y="0"/>
                  </a:moveTo>
                  <a:lnTo>
                    <a:pt x="66" y="0"/>
                  </a:lnTo>
                  <a:lnTo>
                    <a:pt x="22" y="24"/>
                  </a:lnTo>
                  <a:lnTo>
                    <a:pt x="0" y="74"/>
                  </a:lnTo>
                  <a:lnTo>
                    <a:pt x="0" y="123"/>
                  </a:lnTo>
                  <a:lnTo>
                    <a:pt x="0" y="172"/>
                  </a:lnTo>
                  <a:lnTo>
                    <a:pt x="22" y="219"/>
                  </a:lnTo>
                  <a:lnTo>
                    <a:pt x="66" y="244"/>
                  </a:lnTo>
                  <a:lnTo>
                    <a:pt x="108" y="244"/>
                  </a:lnTo>
                  <a:lnTo>
                    <a:pt x="154" y="244"/>
                  </a:lnTo>
                  <a:lnTo>
                    <a:pt x="199" y="219"/>
                  </a:lnTo>
                  <a:lnTo>
                    <a:pt x="221" y="172"/>
                  </a:lnTo>
                  <a:lnTo>
                    <a:pt x="221" y="123"/>
                  </a:lnTo>
                  <a:lnTo>
                    <a:pt x="221" y="74"/>
                  </a:lnTo>
                  <a:lnTo>
                    <a:pt x="199" y="24"/>
                  </a:lnTo>
                  <a:lnTo>
                    <a:pt x="154" y="0"/>
                  </a:lnTo>
                  <a:lnTo>
                    <a:pt x="108" y="0"/>
                  </a:lnTo>
                  <a:lnTo>
                    <a:pt x="108" y="24"/>
                  </a:lnTo>
                  <a:lnTo>
                    <a:pt x="154" y="24"/>
                  </a:lnTo>
                  <a:lnTo>
                    <a:pt x="176" y="49"/>
                  </a:lnTo>
                  <a:lnTo>
                    <a:pt x="199" y="74"/>
                  </a:lnTo>
                  <a:lnTo>
                    <a:pt x="221" y="123"/>
                  </a:lnTo>
                  <a:lnTo>
                    <a:pt x="199" y="172"/>
                  </a:lnTo>
                  <a:lnTo>
                    <a:pt x="176" y="195"/>
                  </a:lnTo>
                  <a:lnTo>
                    <a:pt x="154" y="219"/>
                  </a:lnTo>
                  <a:lnTo>
                    <a:pt x="108" y="244"/>
                  </a:lnTo>
                  <a:lnTo>
                    <a:pt x="66" y="219"/>
                  </a:lnTo>
                  <a:lnTo>
                    <a:pt x="44" y="195"/>
                  </a:lnTo>
                  <a:lnTo>
                    <a:pt x="22" y="172"/>
                  </a:lnTo>
                  <a:lnTo>
                    <a:pt x="22" y="123"/>
                  </a:lnTo>
                  <a:lnTo>
                    <a:pt x="22" y="74"/>
                  </a:lnTo>
                  <a:lnTo>
                    <a:pt x="44" y="49"/>
                  </a:lnTo>
                  <a:lnTo>
                    <a:pt x="66" y="24"/>
                  </a:lnTo>
                  <a:lnTo>
                    <a:pt x="108" y="24"/>
                  </a:lnTo>
                  <a:lnTo>
                    <a:pt x="89" y="123"/>
                  </a:lnTo>
                  <a:lnTo>
                    <a:pt x="108" y="123"/>
                  </a:lnTo>
                  <a:lnTo>
                    <a:pt x="132" y="148"/>
                  </a:lnTo>
                  <a:lnTo>
                    <a:pt x="132" y="195"/>
                  </a:lnTo>
                  <a:lnTo>
                    <a:pt x="154" y="195"/>
                  </a:lnTo>
                  <a:lnTo>
                    <a:pt x="154" y="172"/>
                  </a:lnTo>
                  <a:lnTo>
                    <a:pt x="154" y="123"/>
                  </a:lnTo>
                  <a:lnTo>
                    <a:pt x="132" y="123"/>
                  </a:lnTo>
                  <a:lnTo>
                    <a:pt x="154" y="99"/>
                  </a:lnTo>
                  <a:lnTo>
                    <a:pt x="154" y="49"/>
                  </a:lnTo>
                  <a:lnTo>
                    <a:pt x="132" y="49"/>
                  </a:lnTo>
                  <a:lnTo>
                    <a:pt x="66" y="49"/>
                  </a:lnTo>
                  <a:lnTo>
                    <a:pt x="66" y="195"/>
                  </a:lnTo>
                  <a:lnTo>
                    <a:pt x="89" y="195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74"/>
                  </a:lnTo>
                  <a:lnTo>
                    <a:pt x="132" y="74"/>
                  </a:lnTo>
                  <a:lnTo>
                    <a:pt x="132" y="99"/>
                  </a:lnTo>
                  <a:lnTo>
                    <a:pt x="108" y="123"/>
                  </a:lnTo>
                  <a:lnTo>
                    <a:pt x="89" y="123"/>
                  </a:lnTo>
                  <a:lnTo>
                    <a:pt x="89" y="74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34040" y="3016080"/>
              <a:ext cx="813240" cy="822600"/>
            </a:xfrm>
            <a:custGeom>
              <a:avLst/>
              <a:gdLst/>
              <a:ahLst/>
              <a:rect l="0" t="0" r="r" b="b"/>
              <a:pathLst>
                <a:path w="2259" h="2285">
                  <a:moveTo>
                    <a:pt x="804" y="1156"/>
                  </a:moveTo>
                  <a:lnTo>
                    <a:pt x="804" y="1076"/>
                  </a:lnTo>
                  <a:lnTo>
                    <a:pt x="830" y="1023"/>
                  </a:lnTo>
                  <a:lnTo>
                    <a:pt x="883" y="917"/>
                  </a:lnTo>
                  <a:lnTo>
                    <a:pt x="935" y="864"/>
                  </a:lnTo>
                  <a:lnTo>
                    <a:pt x="1013" y="838"/>
                  </a:lnTo>
                  <a:lnTo>
                    <a:pt x="1066" y="812"/>
                  </a:lnTo>
                  <a:lnTo>
                    <a:pt x="1141" y="812"/>
                  </a:lnTo>
                  <a:lnTo>
                    <a:pt x="1193" y="812"/>
                  </a:lnTo>
                  <a:lnTo>
                    <a:pt x="1272" y="838"/>
                  </a:lnTo>
                  <a:lnTo>
                    <a:pt x="1376" y="917"/>
                  </a:lnTo>
                  <a:lnTo>
                    <a:pt x="1428" y="944"/>
                  </a:lnTo>
                  <a:lnTo>
                    <a:pt x="1454" y="1023"/>
                  </a:lnTo>
                  <a:lnTo>
                    <a:pt x="1481" y="1076"/>
                  </a:lnTo>
                  <a:lnTo>
                    <a:pt x="1481" y="1156"/>
                  </a:lnTo>
                  <a:lnTo>
                    <a:pt x="1481" y="1209"/>
                  </a:lnTo>
                  <a:lnTo>
                    <a:pt x="1454" y="1285"/>
                  </a:lnTo>
                  <a:lnTo>
                    <a:pt x="1376" y="1390"/>
                  </a:lnTo>
                  <a:lnTo>
                    <a:pt x="1324" y="1443"/>
                  </a:lnTo>
                  <a:lnTo>
                    <a:pt x="1272" y="1469"/>
                  </a:lnTo>
                  <a:lnTo>
                    <a:pt x="1193" y="1496"/>
                  </a:lnTo>
                  <a:lnTo>
                    <a:pt x="1141" y="1496"/>
                  </a:lnTo>
                  <a:lnTo>
                    <a:pt x="1066" y="1496"/>
                  </a:lnTo>
                  <a:lnTo>
                    <a:pt x="1013" y="1469"/>
                  </a:lnTo>
                  <a:lnTo>
                    <a:pt x="883" y="1390"/>
                  </a:lnTo>
                  <a:lnTo>
                    <a:pt x="857" y="1337"/>
                  </a:lnTo>
                  <a:lnTo>
                    <a:pt x="830" y="1285"/>
                  </a:lnTo>
                  <a:lnTo>
                    <a:pt x="804" y="1209"/>
                  </a:lnTo>
                  <a:lnTo>
                    <a:pt x="804" y="1156"/>
                  </a:lnTo>
                  <a:lnTo>
                    <a:pt x="0" y="1156"/>
                  </a:lnTo>
                  <a:lnTo>
                    <a:pt x="26" y="1023"/>
                  </a:lnTo>
                  <a:lnTo>
                    <a:pt x="26" y="970"/>
                  </a:lnTo>
                  <a:lnTo>
                    <a:pt x="26" y="917"/>
                  </a:lnTo>
                  <a:lnTo>
                    <a:pt x="52" y="812"/>
                  </a:lnTo>
                  <a:lnTo>
                    <a:pt x="101" y="709"/>
                  </a:lnTo>
                  <a:lnTo>
                    <a:pt x="153" y="604"/>
                  </a:lnTo>
                  <a:lnTo>
                    <a:pt x="205" y="524"/>
                  </a:lnTo>
                  <a:lnTo>
                    <a:pt x="258" y="419"/>
                  </a:lnTo>
                  <a:lnTo>
                    <a:pt x="336" y="339"/>
                  </a:lnTo>
                  <a:lnTo>
                    <a:pt x="414" y="264"/>
                  </a:lnTo>
                  <a:lnTo>
                    <a:pt x="493" y="211"/>
                  </a:lnTo>
                  <a:lnTo>
                    <a:pt x="598" y="158"/>
                  </a:lnTo>
                  <a:lnTo>
                    <a:pt x="700" y="105"/>
                  </a:lnTo>
                  <a:lnTo>
                    <a:pt x="804" y="52"/>
                  </a:lnTo>
                  <a:lnTo>
                    <a:pt x="909" y="26"/>
                  </a:lnTo>
                  <a:lnTo>
                    <a:pt x="1013" y="26"/>
                  </a:lnTo>
                  <a:lnTo>
                    <a:pt x="1141" y="0"/>
                  </a:lnTo>
                  <a:lnTo>
                    <a:pt x="1245" y="26"/>
                  </a:lnTo>
                  <a:lnTo>
                    <a:pt x="1350" y="26"/>
                  </a:lnTo>
                  <a:lnTo>
                    <a:pt x="1481" y="52"/>
                  </a:lnTo>
                  <a:lnTo>
                    <a:pt x="1585" y="105"/>
                  </a:lnTo>
                  <a:lnTo>
                    <a:pt x="1660" y="158"/>
                  </a:lnTo>
                  <a:lnTo>
                    <a:pt x="1766" y="211"/>
                  </a:lnTo>
                  <a:lnTo>
                    <a:pt x="1844" y="264"/>
                  </a:lnTo>
                  <a:lnTo>
                    <a:pt x="1923" y="339"/>
                  </a:lnTo>
                  <a:lnTo>
                    <a:pt x="2001" y="419"/>
                  </a:lnTo>
                  <a:lnTo>
                    <a:pt x="2080" y="524"/>
                  </a:lnTo>
                  <a:lnTo>
                    <a:pt x="2129" y="604"/>
                  </a:lnTo>
                  <a:lnTo>
                    <a:pt x="2181" y="709"/>
                  </a:lnTo>
                  <a:lnTo>
                    <a:pt x="2207" y="812"/>
                  </a:lnTo>
                  <a:lnTo>
                    <a:pt x="2233" y="917"/>
                  </a:lnTo>
                  <a:lnTo>
                    <a:pt x="2259" y="1023"/>
                  </a:lnTo>
                  <a:lnTo>
                    <a:pt x="2259" y="1156"/>
                  </a:lnTo>
                  <a:lnTo>
                    <a:pt x="2259" y="1261"/>
                  </a:lnTo>
                  <a:lnTo>
                    <a:pt x="2259" y="1311"/>
                  </a:lnTo>
                  <a:lnTo>
                    <a:pt x="2233" y="1390"/>
                  </a:lnTo>
                  <a:lnTo>
                    <a:pt x="2207" y="1496"/>
                  </a:lnTo>
                  <a:lnTo>
                    <a:pt x="2181" y="1601"/>
                  </a:lnTo>
                  <a:lnTo>
                    <a:pt x="2129" y="1707"/>
                  </a:lnTo>
                  <a:lnTo>
                    <a:pt x="2080" y="1783"/>
                  </a:lnTo>
                  <a:lnTo>
                    <a:pt x="2001" y="1862"/>
                  </a:lnTo>
                  <a:lnTo>
                    <a:pt x="1923" y="1968"/>
                  </a:lnTo>
                  <a:lnTo>
                    <a:pt x="1844" y="2021"/>
                  </a:lnTo>
                  <a:lnTo>
                    <a:pt x="1766" y="2100"/>
                  </a:lnTo>
                  <a:lnTo>
                    <a:pt x="1660" y="2153"/>
                  </a:lnTo>
                  <a:lnTo>
                    <a:pt x="1585" y="2206"/>
                  </a:lnTo>
                  <a:lnTo>
                    <a:pt x="1481" y="2232"/>
                  </a:lnTo>
                  <a:lnTo>
                    <a:pt x="1350" y="2258"/>
                  </a:lnTo>
                  <a:lnTo>
                    <a:pt x="1245" y="2285"/>
                  </a:lnTo>
                  <a:lnTo>
                    <a:pt x="1141" y="2285"/>
                  </a:lnTo>
                  <a:lnTo>
                    <a:pt x="1013" y="2285"/>
                  </a:lnTo>
                  <a:lnTo>
                    <a:pt x="909" y="2258"/>
                  </a:lnTo>
                  <a:lnTo>
                    <a:pt x="804" y="2232"/>
                  </a:lnTo>
                  <a:lnTo>
                    <a:pt x="700" y="2206"/>
                  </a:lnTo>
                  <a:lnTo>
                    <a:pt x="598" y="2153"/>
                  </a:lnTo>
                  <a:lnTo>
                    <a:pt x="493" y="2100"/>
                  </a:lnTo>
                  <a:lnTo>
                    <a:pt x="414" y="2021"/>
                  </a:lnTo>
                  <a:lnTo>
                    <a:pt x="336" y="1968"/>
                  </a:lnTo>
                  <a:lnTo>
                    <a:pt x="258" y="1862"/>
                  </a:lnTo>
                  <a:lnTo>
                    <a:pt x="205" y="1783"/>
                  </a:lnTo>
                  <a:lnTo>
                    <a:pt x="153" y="1707"/>
                  </a:lnTo>
                  <a:lnTo>
                    <a:pt x="101" y="1601"/>
                  </a:lnTo>
                  <a:lnTo>
                    <a:pt x="52" y="1496"/>
                  </a:lnTo>
                  <a:lnTo>
                    <a:pt x="26" y="1390"/>
                  </a:lnTo>
                  <a:lnTo>
                    <a:pt x="26" y="1261"/>
                  </a:lnTo>
                  <a:lnTo>
                    <a:pt x="0" y="1156"/>
                  </a:lnTo>
                  <a:lnTo>
                    <a:pt x="804" y="1156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 txBox="1"/>
          <p:nvPr/>
        </p:nvSpPr>
        <p:spPr>
          <a:xfrm>
            <a:off x="1216080" y="5526000"/>
            <a:ext cx="673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o and Microsoft Office work hand in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85960" y="4329000"/>
            <a:ext cx="3929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1-800-446-33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4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 is the one business diagramm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 Windows users rely on to help the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y and manage their organization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 and inform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isio 4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working business diagra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27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agramming tool for all your diagramming nee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your investment in the Windows deskto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rking business diagra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665440" y="1892160"/>
            <a:ext cx="5892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&amp; easy to genera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zard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your company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70000"/>
              <a:buFont typeface="Wingdings"/>
              <a:buChar char=""/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 &amp; versati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62040" indent="-255600">
              <a:lnSpc>
                <a:spcPct val="100000"/>
              </a:lnSpc>
              <a:spcBef>
                <a:spcPts val="479"/>
              </a:spcBef>
              <a:buClr>
                <a:srgbClr val="51dc00"/>
              </a:buClr>
              <a:buSzPct val="80000"/>
              <a:buFont typeface="Wingdings"/>
              <a:buChar char=""/>
            </a:pPr>
            <a:r>
              <a:rPr b="0" i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ing diagrams that are easy to edit and change over tim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712960" y="652320"/>
            <a:ext cx="5892840" cy="7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8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st diagramming t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178080" y="1862280"/>
            <a:ext cx="4503960" cy="4448160"/>
            <a:chOff x="3178080" y="1862280"/>
            <a:chExt cx="4503960" cy="4448160"/>
          </a:xfrm>
        </p:grpSpPr>
        <p:sp>
          <p:nvSpPr>
            <p:cNvPr id="64" name=""/>
            <p:cNvSpPr txBox="1"/>
            <p:nvPr/>
          </p:nvSpPr>
          <p:spPr>
            <a:xfrm>
              <a:off x="5216400" y="4532400"/>
              <a:ext cx="1295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eographic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761000" y="2232000"/>
              <a:ext cx="1157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ffice Layou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6724800" y="4626000"/>
              <a:ext cx="649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or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5641920" y="3726000"/>
              <a:ext cx="11415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lock/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lationship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gra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6330960" y="2916360"/>
              <a:ext cx="971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rection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p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3449520" y="2971800"/>
              <a:ext cx="9129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asic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gra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4241880" y="3825720"/>
              <a:ext cx="887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melin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333600" y="4567320"/>
              <a:ext cx="903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rke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ha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4414680" y="4567320"/>
              <a:ext cx="97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g Cha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4876920" y="3143160"/>
              <a:ext cx="988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lowchar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540320" y="5562720"/>
              <a:ext cx="1920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QM/Business Proces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-engineer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6320" y="2887560"/>
              <a:ext cx="2427120" cy="239724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78080" y="1862280"/>
              <a:ext cx="4503600" cy="4448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80000" y="3174840"/>
              <a:ext cx="636480" cy="854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86400" y="3060720"/>
              <a:ext cx="577800" cy="9111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32400" y="4143240"/>
              <a:ext cx="1093680" cy="4557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73720" y="4143240"/>
              <a:ext cx="0" cy="11415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334040" y="4143240"/>
              <a:ext cx="982440" cy="39852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59080" y="2260440"/>
              <a:ext cx="636840" cy="800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904000" y="2065320"/>
              <a:ext cx="460440" cy="91296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43800" y="3971880"/>
              <a:ext cx="1038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3178080" y="3971880"/>
              <a:ext cx="1038240" cy="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159080" y="5111640"/>
              <a:ext cx="636840" cy="8002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78680" y="5029200"/>
              <a:ext cx="691920" cy="771480"/>
            </a:xfrm>
            <a:prstGeom prst="line">
              <a:avLst/>
            </a:prstGeom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038560" y="3613320"/>
              <a:ext cx="704880" cy="84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 txBox="1"/>
          <p:nvPr/>
        </p:nvSpPr>
        <p:spPr>
          <a:xfrm>
            <a:off x="2606760" y="1327320"/>
            <a:ext cx="595620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38000"/>
              </a:lnSpc>
            </a:pPr>
            <a:r>
              <a:rPr b="0" i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.. learn &amp; train on 1 package for all your diagramming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77960" y="1790640"/>
            <a:ext cx="5956200" cy="445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s:  Process fl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743200" y="1886040"/>
            <a:ext cx="55818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77960" y="1790640"/>
            <a:ext cx="5956200" cy="445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s:  Org char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3080" y="1803240"/>
            <a:ext cx="50641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s: 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77960" y="1790640"/>
            <a:ext cx="5956200" cy="445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55720" y="1847880"/>
            <a:ext cx="5772600" cy="4248720"/>
            <a:chOff x="2655720" y="1847880"/>
            <a:chExt cx="5772600" cy="4248720"/>
          </a:xfrm>
        </p:grpSpPr>
        <p:sp>
          <p:nvSpPr>
            <p:cNvPr id="102" name=""/>
            <p:cNvSpPr/>
            <p:nvPr/>
          </p:nvSpPr>
          <p:spPr>
            <a:xfrm>
              <a:off x="2727360" y="1916280"/>
              <a:ext cx="5700960" cy="4180320"/>
            </a:xfrm>
            <a:custGeom>
              <a:avLst/>
              <a:gdLst/>
              <a:ahLst/>
              <a:rect l="0" t="0" r="r" b="b"/>
              <a:pathLst>
                <a:path w="15836" h="11612">
                  <a:moveTo>
                    <a:pt x="0" y="11612"/>
                  </a:moveTo>
                  <a:lnTo>
                    <a:pt x="15836" y="11612"/>
                  </a:lnTo>
                  <a:lnTo>
                    <a:pt x="15836" y="0"/>
                  </a:lnTo>
                  <a:lnTo>
                    <a:pt x="0" y="0"/>
                  </a:lnTo>
                  <a:lnTo>
                    <a:pt x="0" y="1161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55720" y="1847880"/>
              <a:ext cx="5710680" cy="4189680"/>
            </a:xfrm>
            <a:custGeom>
              <a:avLst/>
              <a:gdLst/>
              <a:ahLst/>
              <a:rect l="0" t="0" r="r" b="b"/>
              <a:pathLst>
                <a:path w="15863" h="11638">
                  <a:moveTo>
                    <a:pt x="0" y="11638"/>
                  </a:moveTo>
                  <a:lnTo>
                    <a:pt x="15863" y="11638"/>
                  </a:lnTo>
                  <a:lnTo>
                    <a:pt x="15863" y="0"/>
                  </a:lnTo>
                  <a:lnTo>
                    <a:pt x="0" y="0"/>
                  </a:lnTo>
                  <a:lnTo>
                    <a:pt x="0" y="116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0120" y="2085840"/>
              <a:ext cx="2856240" cy="2316600"/>
            </a:xfrm>
            <a:custGeom>
              <a:avLst/>
              <a:gdLst/>
              <a:ahLst/>
              <a:rect l="0" t="0" r="r" b="b"/>
              <a:pathLst>
                <a:path w="7934" h="6435">
                  <a:moveTo>
                    <a:pt x="7735" y="6435"/>
                  </a:moveTo>
                  <a:lnTo>
                    <a:pt x="7779" y="6431"/>
                  </a:lnTo>
                  <a:lnTo>
                    <a:pt x="7823" y="6418"/>
                  </a:lnTo>
                  <a:lnTo>
                    <a:pt x="7859" y="6396"/>
                  </a:lnTo>
                  <a:lnTo>
                    <a:pt x="7889" y="6365"/>
                  </a:lnTo>
                  <a:lnTo>
                    <a:pt x="7916" y="6329"/>
                  </a:lnTo>
                  <a:lnTo>
                    <a:pt x="7929" y="6290"/>
                  </a:lnTo>
                  <a:lnTo>
                    <a:pt x="7934" y="6246"/>
                  </a:lnTo>
                  <a:lnTo>
                    <a:pt x="7934" y="189"/>
                  </a:lnTo>
                  <a:lnTo>
                    <a:pt x="7929" y="149"/>
                  </a:lnTo>
                  <a:lnTo>
                    <a:pt x="7916" y="110"/>
                  </a:lnTo>
                  <a:lnTo>
                    <a:pt x="7889" y="70"/>
                  </a:lnTo>
                  <a:lnTo>
                    <a:pt x="7859" y="44"/>
                  </a:lnTo>
                  <a:lnTo>
                    <a:pt x="7823" y="17"/>
                  </a:lnTo>
                  <a:lnTo>
                    <a:pt x="7779" y="8"/>
                  </a:lnTo>
                  <a:lnTo>
                    <a:pt x="7735" y="0"/>
                  </a:lnTo>
                  <a:lnTo>
                    <a:pt x="198" y="0"/>
                  </a:lnTo>
                  <a:lnTo>
                    <a:pt x="158" y="8"/>
                  </a:lnTo>
                  <a:lnTo>
                    <a:pt x="114" y="17"/>
                  </a:lnTo>
                  <a:lnTo>
                    <a:pt x="79" y="44"/>
                  </a:lnTo>
                  <a:lnTo>
                    <a:pt x="48" y="70"/>
                  </a:lnTo>
                  <a:lnTo>
                    <a:pt x="22" y="110"/>
                  </a:lnTo>
                  <a:lnTo>
                    <a:pt x="8" y="149"/>
                  </a:lnTo>
                  <a:lnTo>
                    <a:pt x="0" y="189"/>
                  </a:lnTo>
                  <a:lnTo>
                    <a:pt x="0" y="6246"/>
                  </a:lnTo>
                  <a:lnTo>
                    <a:pt x="8" y="6290"/>
                  </a:lnTo>
                  <a:lnTo>
                    <a:pt x="22" y="6329"/>
                  </a:lnTo>
                  <a:lnTo>
                    <a:pt x="48" y="6365"/>
                  </a:lnTo>
                  <a:lnTo>
                    <a:pt x="79" y="6396"/>
                  </a:lnTo>
                  <a:lnTo>
                    <a:pt x="114" y="6418"/>
                  </a:lnTo>
                  <a:lnTo>
                    <a:pt x="158" y="6431"/>
                  </a:lnTo>
                  <a:lnTo>
                    <a:pt x="198" y="6435"/>
                  </a:lnTo>
                  <a:lnTo>
                    <a:pt x="7735" y="643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32240" y="2603520"/>
              <a:ext cx="284400" cy="101880"/>
            </a:xfrm>
            <a:custGeom>
              <a:avLst/>
              <a:gdLst/>
              <a:ahLst/>
              <a:rect l="0" t="0" r="r" b="b"/>
              <a:pathLst>
                <a:path w="790" h="283">
                  <a:moveTo>
                    <a:pt x="724" y="44"/>
                  </a:moveTo>
                  <a:lnTo>
                    <a:pt x="640" y="0"/>
                  </a:lnTo>
                  <a:lnTo>
                    <a:pt x="145" y="0"/>
                  </a:lnTo>
                  <a:lnTo>
                    <a:pt x="66" y="44"/>
                  </a:lnTo>
                  <a:lnTo>
                    <a:pt x="0" y="44"/>
                  </a:lnTo>
                  <a:lnTo>
                    <a:pt x="0" y="283"/>
                  </a:lnTo>
                  <a:lnTo>
                    <a:pt x="790" y="283"/>
                  </a:lnTo>
                  <a:lnTo>
                    <a:pt x="790" y="44"/>
                  </a:lnTo>
                  <a:lnTo>
                    <a:pt x="724" y="4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0160" y="2633760"/>
              <a:ext cx="267120" cy="59040"/>
            </a:xfrm>
            <a:custGeom>
              <a:avLst/>
              <a:gdLst/>
              <a:ahLst/>
              <a:rect l="0" t="0" r="r" b="b"/>
              <a:pathLst>
                <a:path w="742" h="164">
                  <a:moveTo>
                    <a:pt x="97" y="84"/>
                  </a:moveTo>
                  <a:lnTo>
                    <a:pt x="97" y="66"/>
                  </a:lnTo>
                  <a:lnTo>
                    <a:pt x="110" y="52"/>
                  </a:lnTo>
                  <a:lnTo>
                    <a:pt x="123" y="44"/>
                  </a:lnTo>
                  <a:lnTo>
                    <a:pt x="141" y="44"/>
                  </a:lnTo>
                  <a:lnTo>
                    <a:pt x="158" y="52"/>
                  </a:lnTo>
                  <a:lnTo>
                    <a:pt x="167" y="66"/>
                  </a:lnTo>
                  <a:lnTo>
                    <a:pt x="176" y="84"/>
                  </a:lnTo>
                  <a:lnTo>
                    <a:pt x="167" y="98"/>
                  </a:lnTo>
                  <a:lnTo>
                    <a:pt x="158" y="115"/>
                  </a:lnTo>
                  <a:lnTo>
                    <a:pt x="141" y="120"/>
                  </a:lnTo>
                  <a:lnTo>
                    <a:pt x="123" y="120"/>
                  </a:lnTo>
                  <a:lnTo>
                    <a:pt x="110" y="115"/>
                  </a:lnTo>
                  <a:lnTo>
                    <a:pt x="97" y="98"/>
                  </a:lnTo>
                  <a:lnTo>
                    <a:pt x="97" y="84"/>
                  </a:lnTo>
                  <a:lnTo>
                    <a:pt x="256" y="84"/>
                  </a:lnTo>
                  <a:lnTo>
                    <a:pt x="256" y="66"/>
                  </a:lnTo>
                  <a:lnTo>
                    <a:pt x="269" y="52"/>
                  </a:lnTo>
                  <a:lnTo>
                    <a:pt x="283" y="44"/>
                  </a:lnTo>
                  <a:lnTo>
                    <a:pt x="300" y="44"/>
                  </a:lnTo>
                  <a:lnTo>
                    <a:pt x="318" y="52"/>
                  </a:lnTo>
                  <a:lnTo>
                    <a:pt x="327" y="66"/>
                  </a:lnTo>
                  <a:lnTo>
                    <a:pt x="331" y="84"/>
                  </a:lnTo>
                  <a:lnTo>
                    <a:pt x="327" y="98"/>
                  </a:lnTo>
                  <a:lnTo>
                    <a:pt x="318" y="115"/>
                  </a:lnTo>
                  <a:lnTo>
                    <a:pt x="300" y="120"/>
                  </a:lnTo>
                  <a:lnTo>
                    <a:pt x="283" y="120"/>
                  </a:lnTo>
                  <a:lnTo>
                    <a:pt x="269" y="115"/>
                  </a:lnTo>
                  <a:lnTo>
                    <a:pt x="256" y="98"/>
                  </a:lnTo>
                  <a:lnTo>
                    <a:pt x="256" y="84"/>
                  </a:lnTo>
                  <a:lnTo>
                    <a:pt x="411" y="84"/>
                  </a:lnTo>
                  <a:lnTo>
                    <a:pt x="415" y="66"/>
                  </a:lnTo>
                  <a:lnTo>
                    <a:pt x="424" y="52"/>
                  </a:lnTo>
                  <a:lnTo>
                    <a:pt x="441" y="44"/>
                  </a:lnTo>
                  <a:lnTo>
                    <a:pt x="459" y="44"/>
                  </a:lnTo>
                  <a:lnTo>
                    <a:pt x="477" y="52"/>
                  </a:lnTo>
                  <a:lnTo>
                    <a:pt x="486" y="66"/>
                  </a:lnTo>
                  <a:lnTo>
                    <a:pt x="490" y="84"/>
                  </a:lnTo>
                  <a:lnTo>
                    <a:pt x="486" y="98"/>
                  </a:lnTo>
                  <a:lnTo>
                    <a:pt x="477" y="115"/>
                  </a:lnTo>
                  <a:lnTo>
                    <a:pt x="459" y="120"/>
                  </a:lnTo>
                  <a:lnTo>
                    <a:pt x="441" y="120"/>
                  </a:lnTo>
                  <a:lnTo>
                    <a:pt x="424" y="115"/>
                  </a:lnTo>
                  <a:lnTo>
                    <a:pt x="415" y="98"/>
                  </a:lnTo>
                  <a:lnTo>
                    <a:pt x="411" y="84"/>
                  </a:lnTo>
                  <a:lnTo>
                    <a:pt x="570" y="84"/>
                  </a:lnTo>
                  <a:lnTo>
                    <a:pt x="575" y="66"/>
                  </a:lnTo>
                  <a:lnTo>
                    <a:pt x="584" y="52"/>
                  </a:lnTo>
                  <a:lnTo>
                    <a:pt x="601" y="44"/>
                  </a:lnTo>
                  <a:lnTo>
                    <a:pt x="619" y="44"/>
                  </a:lnTo>
                  <a:lnTo>
                    <a:pt x="637" y="52"/>
                  </a:lnTo>
                  <a:lnTo>
                    <a:pt x="645" y="66"/>
                  </a:lnTo>
                  <a:lnTo>
                    <a:pt x="650" y="84"/>
                  </a:lnTo>
                  <a:lnTo>
                    <a:pt x="645" y="98"/>
                  </a:lnTo>
                  <a:lnTo>
                    <a:pt x="637" y="115"/>
                  </a:lnTo>
                  <a:lnTo>
                    <a:pt x="619" y="120"/>
                  </a:lnTo>
                  <a:lnTo>
                    <a:pt x="601" y="120"/>
                  </a:lnTo>
                  <a:lnTo>
                    <a:pt x="584" y="115"/>
                  </a:lnTo>
                  <a:lnTo>
                    <a:pt x="575" y="98"/>
                  </a:lnTo>
                  <a:lnTo>
                    <a:pt x="570" y="84"/>
                  </a:lnTo>
                  <a:lnTo>
                    <a:pt x="0" y="164"/>
                  </a:lnTo>
                  <a:lnTo>
                    <a:pt x="742" y="164"/>
                  </a:lnTo>
                  <a:lnTo>
                    <a:pt x="742" y="35"/>
                  </a:lnTo>
                  <a:lnTo>
                    <a:pt x="738" y="17"/>
                  </a:lnTo>
                  <a:lnTo>
                    <a:pt x="725" y="4"/>
                  </a:lnTo>
                  <a:lnTo>
                    <a:pt x="703" y="0"/>
                  </a:lnTo>
                  <a:lnTo>
                    <a:pt x="39" y="0"/>
                  </a:lnTo>
                  <a:lnTo>
                    <a:pt x="22" y="4"/>
                  </a:lnTo>
                  <a:lnTo>
                    <a:pt x="4" y="17"/>
                  </a:lnTo>
                  <a:lnTo>
                    <a:pt x="0" y="35"/>
                  </a:lnTo>
                  <a:lnTo>
                    <a:pt x="0" y="164"/>
                  </a:lnTo>
                  <a:lnTo>
                    <a:pt x="97" y="8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3280" y="2730600"/>
              <a:ext cx="371880" cy="127440"/>
            </a:xfrm>
            <a:custGeom>
              <a:avLst/>
              <a:gdLst/>
              <a:ahLst/>
              <a:rect l="0" t="0" r="r" b="b"/>
              <a:pathLst>
                <a:path w="1033" h="354">
                  <a:moveTo>
                    <a:pt x="0" y="0"/>
                  </a:moveTo>
                  <a:lnTo>
                    <a:pt x="0" y="354"/>
                  </a:lnTo>
                  <a:lnTo>
                    <a:pt x="1033" y="354"/>
                  </a:lnTo>
                  <a:lnTo>
                    <a:pt x="10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5097600" y="2692440"/>
              <a:ext cx="5223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35840" y="2455920"/>
              <a:ext cx="429120" cy="408240"/>
            </a:xfrm>
            <a:custGeom>
              <a:avLst/>
              <a:gdLst/>
              <a:ahLst/>
              <a:rect l="0" t="0" r="r" b="b"/>
              <a:pathLst>
                <a:path w="1192" h="1134">
                  <a:moveTo>
                    <a:pt x="97" y="662"/>
                  </a:moveTo>
                  <a:lnTo>
                    <a:pt x="97" y="0"/>
                  </a:lnTo>
                  <a:lnTo>
                    <a:pt x="1091" y="0"/>
                  </a:lnTo>
                  <a:lnTo>
                    <a:pt x="1091" y="662"/>
                  </a:lnTo>
                  <a:lnTo>
                    <a:pt x="1192" y="1041"/>
                  </a:lnTo>
                  <a:lnTo>
                    <a:pt x="1192" y="1134"/>
                  </a:lnTo>
                  <a:lnTo>
                    <a:pt x="0" y="1134"/>
                  </a:lnTo>
                  <a:lnTo>
                    <a:pt x="0" y="1041"/>
                  </a:lnTo>
                  <a:lnTo>
                    <a:pt x="97" y="66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70760" y="2693880"/>
              <a:ext cx="35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5840" y="2830680"/>
              <a:ext cx="42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53120" y="2719440"/>
              <a:ext cx="394200" cy="93960"/>
            </a:xfrm>
            <a:custGeom>
              <a:avLst/>
              <a:gdLst/>
              <a:ahLst/>
              <a:rect l="0" t="0" r="r" b="b"/>
              <a:pathLst>
                <a:path w="1095" h="261">
                  <a:moveTo>
                    <a:pt x="52" y="48"/>
                  </a:moveTo>
                  <a:lnTo>
                    <a:pt x="66" y="0"/>
                  </a:lnTo>
                  <a:lnTo>
                    <a:pt x="1025" y="0"/>
                  </a:lnTo>
                  <a:lnTo>
                    <a:pt x="1038" y="48"/>
                  </a:lnTo>
                  <a:lnTo>
                    <a:pt x="52" y="48"/>
                  </a:lnTo>
                  <a:lnTo>
                    <a:pt x="0" y="261"/>
                  </a:lnTo>
                  <a:lnTo>
                    <a:pt x="48" y="70"/>
                  </a:lnTo>
                  <a:lnTo>
                    <a:pt x="1042" y="70"/>
                  </a:lnTo>
                  <a:lnTo>
                    <a:pt x="1095" y="261"/>
                  </a:lnTo>
                  <a:lnTo>
                    <a:pt x="0" y="261"/>
                  </a:lnTo>
                  <a:lnTo>
                    <a:pt x="52" y="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21320" y="2633760"/>
              <a:ext cx="125640" cy="222480"/>
            </a:xfrm>
            <a:custGeom>
              <a:avLst/>
              <a:gdLst/>
              <a:ahLst/>
              <a:rect l="0" t="0" r="r" b="b"/>
              <a:pathLst>
                <a:path w="349" h="618">
                  <a:moveTo>
                    <a:pt x="149" y="26"/>
                  </a:moveTo>
                  <a:lnTo>
                    <a:pt x="154" y="13"/>
                  </a:lnTo>
                  <a:lnTo>
                    <a:pt x="163" y="0"/>
                  </a:lnTo>
                  <a:lnTo>
                    <a:pt x="181" y="0"/>
                  </a:lnTo>
                  <a:lnTo>
                    <a:pt x="195" y="13"/>
                  </a:lnTo>
                  <a:lnTo>
                    <a:pt x="199" y="26"/>
                  </a:lnTo>
                  <a:lnTo>
                    <a:pt x="195" y="39"/>
                  </a:lnTo>
                  <a:lnTo>
                    <a:pt x="181" y="48"/>
                  </a:lnTo>
                  <a:lnTo>
                    <a:pt x="163" y="48"/>
                  </a:lnTo>
                  <a:lnTo>
                    <a:pt x="154" y="39"/>
                  </a:lnTo>
                  <a:lnTo>
                    <a:pt x="149" y="26"/>
                  </a:lnTo>
                  <a:lnTo>
                    <a:pt x="0" y="618"/>
                  </a:lnTo>
                  <a:lnTo>
                    <a:pt x="349" y="618"/>
                  </a:lnTo>
                  <a:lnTo>
                    <a:pt x="349" y="569"/>
                  </a:lnTo>
                  <a:lnTo>
                    <a:pt x="0" y="569"/>
                  </a:lnTo>
                  <a:lnTo>
                    <a:pt x="0" y="618"/>
                  </a:lnTo>
                  <a:lnTo>
                    <a:pt x="149" y="2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65960" y="2625840"/>
              <a:ext cx="35280" cy="33840"/>
            </a:xfrm>
            <a:custGeom>
              <a:avLst/>
              <a:gdLst/>
              <a:ahLst/>
              <a:rect l="0" t="0" r="r" b="b"/>
              <a:pathLst>
                <a:path fill="none" w="98" h="94">
                  <a:moveTo>
                    <a:pt x="0" y="94"/>
                  </a:moveTo>
                  <a:lnTo>
                    <a:pt x="98" y="94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9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07120" y="2489040"/>
              <a:ext cx="249480" cy="170280"/>
            </a:xfrm>
            <a:custGeom>
              <a:avLst/>
              <a:gdLst/>
              <a:ahLst/>
              <a:rect l="0" t="0" r="r" b="b"/>
              <a:pathLst>
                <a:path w="693" h="473">
                  <a:moveTo>
                    <a:pt x="0" y="473"/>
                  </a:moveTo>
                  <a:lnTo>
                    <a:pt x="693" y="473"/>
                  </a:lnTo>
                  <a:lnTo>
                    <a:pt x="693" y="0"/>
                  </a:lnTo>
                  <a:lnTo>
                    <a:pt x="0" y="0"/>
                  </a:lnTo>
                  <a:lnTo>
                    <a:pt x="0" y="4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840" y="2473200"/>
              <a:ext cx="321120" cy="203400"/>
            </a:xfrm>
            <a:custGeom>
              <a:avLst/>
              <a:gdLst/>
              <a:ahLst/>
              <a:rect l="0" t="0" r="r" b="b"/>
              <a:pathLst>
                <a:path fill="none" w="892" h="565">
                  <a:moveTo>
                    <a:pt x="0" y="565"/>
                  </a:moveTo>
                  <a:lnTo>
                    <a:pt x="892" y="565"/>
                  </a:lnTo>
                  <a:lnTo>
                    <a:pt x="892" y="0"/>
                  </a:lnTo>
                  <a:lnTo>
                    <a:pt x="0" y="0"/>
                  </a:lnTo>
                  <a:lnTo>
                    <a:pt x="0" y="56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5320" y="2489040"/>
              <a:ext cx="25920" cy="27360"/>
            </a:xfrm>
            <a:custGeom>
              <a:avLst/>
              <a:gdLst/>
              <a:ahLst/>
              <a:rect l="0" t="0" r="r" b="b"/>
              <a:pathLst>
                <a:path fill="none" w="72" h="76">
                  <a:moveTo>
                    <a:pt x="0" y="76"/>
                  </a:moveTo>
                  <a:lnTo>
                    <a:pt x="72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10360" y="2889360"/>
              <a:ext cx="268560" cy="128880"/>
            </a:xfrm>
            <a:custGeom>
              <a:avLst/>
              <a:gdLst/>
              <a:ahLst/>
              <a:rect l="0" t="0" r="r" b="b"/>
              <a:pathLst>
                <a:path w="746" h="358">
                  <a:moveTo>
                    <a:pt x="0" y="0"/>
                  </a:moveTo>
                  <a:lnTo>
                    <a:pt x="0" y="358"/>
                  </a:lnTo>
                  <a:lnTo>
                    <a:pt x="746" y="358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6122880" y="285120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im 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5160" y="3857760"/>
              <a:ext cx="351360" cy="68760"/>
            </a:xfrm>
            <a:custGeom>
              <a:avLst/>
              <a:gdLst/>
              <a:ahLst/>
              <a:rect l="0" t="0" r="r" b="b"/>
              <a:pathLst>
                <a:path w="976" h="191">
                  <a:moveTo>
                    <a:pt x="0" y="191"/>
                  </a:moveTo>
                  <a:lnTo>
                    <a:pt x="976" y="191"/>
                  </a:lnTo>
                  <a:lnTo>
                    <a:pt x="976" y="0"/>
                  </a:lnTo>
                  <a:lnTo>
                    <a:pt x="0" y="0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32440" y="388296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0" y="50"/>
                  </a:moveTo>
                  <a:lnTo>
                    <a:pt x="50" y="5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64200" y="3882960"/>
              <a:ext cx="182880" cy="18000"/>
            </a:xfrm>
            <a:custGeom>
              <a:avLst/>
              <a:gdLst/>
              <a:ahLst/>
              <a:rect l="0" t="0" r="r" b="b"/>
              <a:pathLst>
                <a:path fill="none" w="508" h="50">
                  <a:moveTo>
                    <a:pt x="0" y="50"/>
                  </a:moveTo>
                  <a:lnTo>
                    <a:pt x="508" y="50"/>
                  </a:lnTo>
                  <a:lnTo>
                    <a:pt x="508" y="0"/>
                  </a:lnTo>
                  <a:lnTo>
                    <a:pt x="0" y="0"/>
                  </a:lnTo>
                  <a:lnTo>
                    <a:pt x="0" y="5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15160" y="3865680"/>
              <a:ext cx="35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3920" y="3887640"/>
              <a:ext cx="165600" cy="9720"/>
            </a:xfrm>
            <a:custGeom>
              <a:avLst/>
              <a:gdLst/>
              <a:ahLst/>
              <a:rect l="0" t="0" r="r" b="b"/>
              <a:pathLst>
                <a:path w="460" h="27">
                  <a:moveTo>
                    <a:pt x="92" y="27"/>
                  </a:moveTo>
                  <a:lnTo>
                    <a:pt x="120" y="27"/>
                  </a:lnTo>
                  <a:lnTo>
                    <a:pt x="120" y="0"/>
                  </a:lnTo>
                  <a:lnTo>
                    <a:pt x="92" y="0"/>
                  </a:lnTo>
                  <a:lnTo>
                    <a:pt x="92" y="27"/>
                  </a:lnTo>
                  <a:lnTo>
                    <a:pt x="44" y="27"/>
                  </a:lnTo>
                  <a:lnTo>
                    <a:pt x="70" y="27"/>
                  </a:lnTo>
                  <a:lnTo>
                    <a:pt x="70" y="0"/>
                  </a:lnTo>
                  <a:lnTo>
                    <a:pt x="44" y="0"/>
                  </a:lnTo>
                  <a:lnTo>
                    <a:pt x="44" y="27"/>
                  </a:lnTo>
                  <a:lnTo>
                    <a:pt x="0" y="27"/>
                  </a:lnTo>
                  <a:lnTo>
                    <a:pt x="22" y="2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168" y="27"/>
                  </a:lnTo>
                  <a:lnTo>
                    <a:pt x="190" y="27"/>
                  </a:lnTo>
                  <a:lnTo>
                    <a:pt x="190" y="0"/>
                  </a:lnTo>
                  <a:lnTo>
                    <a:pt x="168" y="0"/>
                  </a:lnTo>
                  <a:lnTo>
                    <a:pt x="168" y="27"/>
                  </a:lnTo>
                  <a:lnTo>
                    <a:pt x="243" y="27"/>
                  </a:lnTo>
                  <a:lnTo>
                    <a:pt x="265" y="27"/>
                  </a:lnTo>
                  <a:lnTo>
                    <a:pt x="265" y="0"/>
                  </a:lnTo>
                  <a:lnTo>
                    <a:pt x="243" y="0"/>
                  </a:lnTo>
                  <a:lnTo>
                    <a:pt x="243" y="27"/>
                  </a:lnTo>
                  <a:lnTo>
                    <a:pt x="287" y="27"/>
                  </a:lnTo>
                  <a:lnTo>
                    <a:pt x="314" y="27"/>
                  </a:lnTo>
                  <a:lnTo>
                    <a:pt x="314" y="0"/>
                  </a:lnTo>
                  <a:lnTo>
                    <a:pt x="287" y="0"/>
                  </a:lnTo>
                  <a:lnTo>
                    <a:pt x="287" y="27"/>
                  </a:lnTo>
                  <a:lnTo>
                    <a:pt x="336" y="27"/>
                  </a:lnTo>
                  <a:lnTo>
                    <a:pt x="363" y="27"/>
                  </a:lnTo>
                  <a:lnTo>
                    <a:pt x="363" y="0"/>
                  </a:lnTo>
                  <a:lnTo>
                    <a:pt x="336" y="0"/>
                  </a:lnTo>
                  <a:lnTo>
                    <a:pt x="336" y="27"/>
                  </a:lnTo>
                  <a:lnTo>
                    <a:pt x="390" y="27"/>
                  </a:lnTo>
                  <a:lnTo>
                    <a:pt x="412" y="27"/>
                  </a:lnTo>
                  <a:lnTo>
                    <a:pt x="412" y="0"/>
                  </a:lnTo>
                  <a:lnTo>
                    <a:pt x="390" y="0"/>
                  </a:lnTo>
                  <a:lnTo>
                    <a:pt x="390" y="27"/>
                  </a:lnTo>
                  <a:lnTo>
                    <a:pt x="434" y="27"/>
                  </a:lnTo>
                  <a:lnTo>
                    <a:pt x="460" y="27"/>
                  </a:lnTo>
                  <a:lnTo>
                    <a:pt x="460" y="0"/>
                  </a:lnTo>
                  <a:lnTo>
                    <a:pt x="434" y="0"/>
                  </a:lnTo>
                  <a:lnTo>
                    <a:pt x="434" y="27"/>
                  </a:lnTo>
                  <a:lnTo>
                    <a:pt x="92" y="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21280" y="3949560"/>
              <a:ext cx="322560" cy="128880"/>
            </a:xfrm>
            <a:custGeom>
              <a:avLst/>
              <a:gdLst/>
              <a:ahLst/>
              <a:rect l="0" t="0" r="r" b="b"/>
              <a:pathLst>
                <a:path w="896" h="358">
                  <a:moveTo>
                    <a:pt x="0" y="0"/>
                  </a:moveTo>
                  <a:lnTo>
                    <a:pt x="0" y="358"/>
                  </a:lnTo>
                  <a:lnTo>
                    <a:pt x="896" y="358"/>
                  </a:lnTo>
                  <a:lnTo>
                    <a:pt x="8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5834160" y="3913200"/>
              <a:ext cx="4777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idg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16800" y="3652920"/>
              <a:ext cx="857520" cy="546480"/>
            </a:xfrm>
            <a:custGeom>
              <a:avLst/>
              <a:gdLst/>
              <a:ahLst/>
              <a:rect l="0" t="0" r="r" b="b"/>
              <a:pathLst>
                <a:path w="2382" h="1518">
                  <a:moveTo>
                    <a:pt x="352" y="1125"/>
                  </a:moveTo>
                  <a:lnTo>
                    <a:pt x="383" y="1197"/>
                  </a:lnTo>
                  <a:lnTo>
                    <a:pt x="423" y="1258"/>
                  </a:lnTo>
                  <a:lnTo>
                    <a:pt x="463" y="1320"/>
                  </a:lnTo>
                  <a:lnTo>
                    <a:pt x="511" y="1369"/>
                  </a:lnTo>
                  <a:lnTo>
                    <a:pt x="564" y="1417"/>
                  </a:lnTo>
                  <a:lnTo>
                    <a:pt x="617" y="1452"/>
                  </a:lnTo>
                  <a:lnTo>
                    <a:pt x="674" y="1483"/>
                  </a:lnTo>
                  <a:lnTo>
                    <a:pt x="732" y="1501"/>
                  </a:lnTo>
                  <a:lnTo>
                    <a:pt x="793" y="1514"/>
                  </a:lnTo>
                  <a:lnTo>
                    <a:pt x="855" y="1518"/>
                  </a:lnTo>
                  <a:lnTo>
                    <a:pt x="912" y="1510"/>
                  </a:lnTo>
                  <a:lnTo>
                    <a:pt x="974" y="1492"/>
                  </a:lnTo>
                  <a:lnTo>
                    <a:pt x="1031" y="1470"/>
                  </a:lnTo>
                  <a:lnTo>
                    <a:pt x="1089" y="1439"/>
                  </a:lnTo>
                  <a:lnTo>
                    <a:pt x="1142" y="1399"/>
                  </a:lnTo>
                  <a:lnTo>
                    <a:pt x="1190" y="1351"/>
                  </a:lnTo>
                  <a:lnTo>
                    <a:pt x="1244" y="1399"/>
                  </a:lnTo>
                  <a:lnTo>
                    <a:pt x="1297" y="1439"/>
                  </a:lnTo>
                  <a:lnTo>
                    <a:pt x="1350" y="1470"/>
                  </a:lnTo>
                  <a:lnTo>
                    <a:pt x="1407" y="1492"/>
                  </a:lnTo>
                  <a:lnTo>
                    <a:pt x="1469" y="1510"/>
                  </a:lnTo>
                  <a:lnTo>
                    <a:pt x="1526" y="1518"/>
                  </a:lnTo>
                  <a:lnTo>
                    <a:pt x="1588" y="1514"/>
                  </a:lnTo>
                  <a:lnTo>
                    <a:pt x="1650" y="1501"/>
                  </a:lnTo>
                  <a:lnTo>
                    <a:pt x="1711" y="1483"/>
                  </a:lnTo>
                  <a:lnTo>
                    <a:pt x="1764" y="1452"/>
                  </a:lnTo>
                  <a:lnTo>
                    <a:pt x="1822" y="1417"/>
                  </a:lnTo>
                  <a:lnTo>
                    <a:pt x="1870" y="1369"/>
                  </a:lnTo>
                  <a:lnTo>
                    <a:pt x="1919" y="1320"/>
                  </a:lnTo>
                  <a:lnTo>
                    <a:pt x="1963" y="1258"/>
                  </a:lnTo>
                  <a:lnTo>
                    <a:pt x="1998" y="1197"/>
                  </a:lnTo>
                  <a:lnTo>
                    <a:pt x="2033" y="1125"/>
                  </a:lnTo>
                  <a:lnTo>
                    <a:pt x="2073" y="1134"/>
                  </a:lnTo>
                  <a:lnTo>
                    <a:pt x="2117" y="1139"/>
                  </a:lnTo>
                  <a:lnTo>
                    <a:pt x="2157" y="1129"/>
                  </a:lnTo>
                  <a:lnTo>
                    <a:pt x="2201" y="1116"/>
                  </a:lnTo>
                  <a:lnTo>
                    <a:pt x="2236" y="1090"/>
                  </a:lnTo>
                  <a:lnTo>
                    <a:pt x="2272" y="1054"/>
                  </a:lnTo>
                  <a:lnTo>
                    <a:pt x="2307" y="1019"/>
                  </a:lnTo>
                  <a:lnTo>
                    <a:pt x="2333" y="975"/>
                  </a:lnTo>
                  <a:lnTo>
                    <a:pt x="2351" y="927"/>
                  </a:lnTo>
                  <a:lnTo>
                    <a:pt x="2369" y="874"/>
                  </a:lnTo>
                  <a:lnTo>
                    <a:pt x="2377" y="816"/>
                  </a:lnTo>
                  <a:lnTo>
                    <a:pt x="2382" y="759"/>
                  </a:lnTo>
                  <a:lnTo>
                    <a:pt x="2377" y="702"/>
                  </a:lnTo>
                  <a:lnTo>
                    <a:pt x="2369" y="644"/>
                  </a:lnTo>
                  <a:lnTo>
                    <a:pt x="2351" y="591"/>
                  </a:lnTo>
                  <a:lnTo>
                    <a:pt x="2333" y="543"/>
                  </a:lnTo>
                  <a:lnTo>
                    <a:pt x="2307" y="499"/>
                  </a:lnTo>
                  <a:lnTo>
                    <a:pt x="2272" y="459"/>
                  </a:lnTo>
                  <a:lnTo>
                    <a:pt x="2236" y="428"/>
                  </a:lnTo>
                  <a:lnTo>
                    <a:pt x="2201" y="402"/>
                  </a:lnTo>
                  <a:lnTo>
                    <a:pt x="2157" y="389"/>
                  </a:lnTo>
                  <a:lnTo>
                    <a:pt x="2117" y="380"/>
                  </a:lnTo>
                  <a:lnTo>
                    <a:pt x="2073" y="384"/>
                  </a:lnTo>
                  <a:lnTo>
                    <a:pt x="2033" y="393"/>
                  </a:lnTo>
                  <a:lnTo>
                    <a:pt x="1998" y="321"/>
                  </a:lnTo>
                  <a:lnTo>
                    <a:pt x="1963" y="255"/>
                  </a:lnTo>
                  <a:lnTo>
                    <a:pt x="1919" y="198"/>
                  </a:lnTo>
                  <a:lnTo>
                    <a:pt x="1870" y="149"/>
                  </a:lnTo>
                  <a:lnTo>
                    <a:pt x="1822" y="101"/>
                  </a:lnTo>
                  <a:lnTo>
                    <a:pt x="1764" y="66"/>
                  </a:lnTo>
                  <a:lnTo>
                    <a:pt x="1711" y="35"/>
                  </a:lnTo>
                  <a:lnTo>
                    <a:pt x="1650" y="17"/>
                  </a:lnTo>
                  <a:lnTo>
                    <a:pt x="1588" y="4"/>
                  </a:lnTo>
                  <a:lnTo>
                    <a:pt x="1526" y="0"/>
                  </a:lnTo>
                  <a:lnTo>
                    <a:pt x="1469" y="4"/>
                  </a:lnTo>
                  <a:lnTo>
                    <a:pt x="1407" y="22"/>
                  </a:lnTo>
                  <a:lnTo>
                    <a:pt x="1350" y="48"/>
                  </a:lnTo>
                  <a:lnTo>
                    <a:pt x="1297" y="79"/>
                  </a:lnTo>
                  <a:lnTo>
                    <a:pt x="1244" y="119"/>
                  </a:lnTo>
                  <a:lnTo>
                    <a:pt x="1190" y="167"/>
                  </a:lnTo>
                  <a:lnTo>
                    <a:pt x="1142" y="119"/>
                  </a:lnTo>
                  <a:lnTo>
                    <a:pt x="1089" y="79"/>
                  </a:lnTo>
                  <a:lnTo>
                    <a:pt x="1031" y="48"/>
                  </a:lnTo>
                  <a:lnTo>
                    <a:pt x="974" y="22"/>
                  </a:lnTo>
                  <a:lnTo>
                    <a:pt x="912" y="4"/>
                  </a:lnTo>
                  <a:lnTo>
                    <a:pt x="855" y="0"/>
                  </a:lnTo>
                  <a:lnTo>
                    <a:pt x="793" y="4"/>
                  </a:lnTo>
                  <a:lnTo>
                    <a:pt x="732" y="17"/>
                  </a:lnTo>
                  <a:lnTo>
                    <a:pt x="674" y="35"/>
                  </a:lnTo>
                  <a:lnTo>
                    <a:pt x="617" y="66"/>
                  </a:lnTo>
                  <a:lnTo>
                    <a:pt x="564" y="101"/>
                  </a:lnTo>
                  <a:lnTo>
                    <a:pt x="511" y="149"/>
                  </a:lnTo>
                  <a:lnTo>
                    <a:pt x="463" y="198"/>
                  </a:lnTo>
                  <a:lnTo>
                    <a:pt x="423" y="255"/>
                  </a:lnTo>
                  <a:lnTo>
                    <a:pt x="383" y="321"/>
                  </a:lnTo>
                  <a:lnTo>
                    <a:pt x="352" y="393"/>
                  </a:lnTo>
                  <a:lnTo>
                    <a:pt x="308" y="384"/>
                  </a:lnTo>
                  <a:lnTo>
                    <a:pt x="264" y="380"/>
                  </a:lnTo>
                  <a:lnTo>
                    <a:pt x="224" y="389"/>
                  </a:lnTo>
                  <a:lnTo>
                    <a:pt x="185" y="402"/>
                  </a:lnTo>
                  <a:lnTo>
                    <a:pt x="145" y="428"/>
                  </a:lnTo>
                  <a:lnTo>
                    <a:pt x="110" y="459"/>
                  </a:lnTo>
                  <a:lnTo>
                    <a:pt x="79" y="499"/>
                  </a:lnTo>
                  <a:lnTo>
                    <a:pt x="52" y="543"/>
                  </a:lnTo>
                  <a:lnTo>
                    <a:pt x="30" y="591"/>
                  </a:lnTo>
                  <a:lnTo>
                    <a:pt x="13" y="644"/>
                  </a:lnTo>
                  <a:lnTo>
                    <a:pt x="4" y="702"/>
                  </a:lnTo>
                  <a:lnTo>
                    <a:pt x="0" y="759"/>
                  </a:lnTo>
                  <a:lnTo>
                    <a:pt x="4" y="816"/>
                  </a:lnTo>
                  <a:lnTo>
                    <a:pt x="13" y="874"/>
                  </a:lnTo>
                  <a:lnTo>
                    <a:pt x="30" y="927"/>
                  </a:lnTo>
                  <a:lnTo>
                    <a:pt x="52" y="975"/>
                  </a:lnTo>
                  <a:lnTo>
                    <a:pt x="79" y="1019"/>
                  </a:lnTo>
                  <a:lnTo>
                    <a:pt x="110" y="1054"/>
                  </a:lnTo>
                  <a:lnTo>
                    <a:pt x="145" y="1090"/>
                  </a:lnTo>
                  <a:lnTo>
                    <a:pt x="185" y="1116"/>
                  </a:lnTo>
                  <a:lnTo>
                    <a:pt x="224" y="1129"/>
                  </a:lnTo>
                  <a:lnTo>
                    <a:pt x="264" y="1139"/>
                  </a:lnTo>
                  <a:lnTo>
                    <a:pt x="308" y="1134"/>
                  </a:lnTo>
                  <a:lnTo>
                    <a:pt x="352" y="11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6807240" y="3794040"/>
              <a:ext cx="471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X.2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10160" y="4567320"/>
              <a:ext cx="2570400" cy="1430640"/>
            </a:xfrm>
            <a:custGeom>
              <a:avLst/>
              <a:gdLst/>
              <a:ahLst/>
              <a:rect l="0" t="0" r="r" b="b"/>
              <a:pathLst>
                <a:path w="7140" h="3974">
                  <a:moveTo>
                    <a:pt x="6941" y="3974"/>
                  </a:moveTo>
                  <a:lnTo>
                    <a:pt x="6985" y="3969"/>
                  </a:lnTo>
                  <a:lnTo>
                    <a:pt x="7030" y="3956"/>
                  </a:lnTo>
                  <a:lnTo>
                    <a:pt x="7065" y="3934"/>
                  </a:lnTo>
                  <a:lnTo>
                    <a:pt x="7096" y="3903"/>
                  </a:lnTo>
                  <a:lnTo>
                    <a:pt x="7122" y="3868"/>
                  </a:lnTo>
                  <a:lnTo>
                    <a:pt x="7135" y="3828"/>
                  </a:lnTo>
                  <a:lnTo>
                    <a:pt x="7140" y="3784"/>
                  </a:lnTo>
                  <a:lnTo>
                    <a:pt x="7140" y="189"/>
                  </a:lnTo>
                  <a:lnTo>
                    <a:pt x="7135" y="145"/>
                  </a:lnTo>
                  <a:lnTo>
                    <a:pt x="7122" y="105"/>
                  </a:lnTo>
                  <a:lnTo>
                    <a:pt x="7096" y="70"/>
                  </a:lnTo>
                  <a:lnTo>
                    <a:pt x="7065" y="39"/>
                  </a:lnTo>
                  <a:lnTo>
                    <a:pt x="7030" y="17"/>
                  </a:lnTo>
                  <a:lnTo>
                    <a:pt x="6985" y="4"/>
                  </a:lnTo>
                  <a:lnTo>
                    <a:pt x="6941" y="0"/>
                  </a:lnTo>
                  <a:lnTo>
                    <a:pt x="198" y="0"/>
                  </a:lnTo>
                  <a:lnTo>
                    <a:pt x="158" y="4"/>
                  </a:lnTo>
                  <a:lnTo>
                    <a:pt x="114" y="17"/>
                  </a:lnTo>
                  <a:lnTo>
                    <a:pt x="79" y="39"/>
                  </a:lnTo>
                  <a:lnTo>
                    <a:pt x="44" y="70"/>
                  </a:lnTo>
                  <a:lnTo>
                    <a:pt x="22" y="105"/>
                  </a:lnTo>
                  <a:lnTo>
                    <a:pt x="4" y="145"/>
                  </a:lnTo>
                  <a:lnTo>
                    <a:pt x="0" y="189"/>
                  </a:lnTo>
                  <a:lnTo>
                    <a:pt x="0" y="3784"/>
                  </a:lnTo>
                  <a:lnTo>
                    <a:pt x="4" y="3828"/>
                  </a:lnTo>
                  <a:lnTo>
                    <a:pt x="22" y="3868"/>
                  </a:lnTo>
                  <a:lnTo>
                    <a:pt x="44" y="3903"/>
                  </a:lnTo>
                  <a:lnTo>
                    <a:pt x="79" y="3934"/>
                  </a:lnTo>
                  <a:lnTo>
                    <a:pt x="114" y="3956"/>
                  </a:lnTo>
                  <a:lnTo>
                    <a:pt x="158" y="3969"/>
                  </a:lnTo>
                  <a:lnTo>
                    <a:pt x="198" y="3974"/>
                  </a:lnTo>
                  <a:lnTo>
                    <a:pt x="6941" y="397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1040" y="4910040"/>
              <a:ext cx="535320" cy="568800"/>
            </a:xfrm>
            <a:custGeom>
              <a:avLst/>
              <a:gdLst/>
              <a:ahLst/>
              <a:rect l="0" t="0" r="r" b="b"/>
              <a:pathLst>
                <a:path w="1487" h="1580">
                  <a:moveTo>
                    <a:pt x="0" y="1580"/>
                  </a:moveTo>
                  <a:lnTo>
                    <a:pt x="185" y="1580"/>
                  </a:lnTo>
                  <a:lnTo>
                    <a:pt x="185" y="0"/>
                  </a:lnTo>
                  <a:lnTo>
                    <a:pt x="0" y="0"/>
                  </a:lnTo>
                  <a:lnTo>
                    <a:pt x="0" y="1580"/>
                  </a:lnTo>
                  <a:lnTo>
                    <a:pt x="1301" y="1580"/>
                  </a:lnTo>
                  <a:lnTo>
                    <a:pt x="1487" y="1580"/>
                  </a:lnTo>
                  <a:lnTo>
                    <a:pt x="1487" y="0"/>
                  </a:lnTo>
                  <a:lnTo>
                    <a:pt x="1301" y="0"/>
                  </a:lnTo>
                  <a:lnTo>
                    <a:pt x="1301" y="1580"/>
                  </a:lnTo>
                  <a:lnTo>
                    <a:pt x="185" y="1580"/>
                  </a:lnTo>
                  <a:lnTo>
                    <a:pt x="1301" y="1580"/>
                  </a:lnTo>
                  <a:lnTo>
                    <a:pt x="1301" y="0"/>
                  </a:lnTo>
                  <a:lnTo>
                    <a:pt x="185" y="0"/>
                  </a:lnTo>
                  <a:lnTo>
                    <a:pt x="185" y="1580"/>
                  </a:lnTo>
                  <a:lnTo>
                    <a:pt x="0" y="1580"/>
                  </a:lnTo>
                  <a:close/>
                </a:path>
              </a:pathLst>
            </a:custGeom>
            <a:solidFill>
              <a:srgbClr val="9a9a9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7640" y="5478480"/>
              <a:ext cx="402120" cy="14760"/>
            </a:xfrm>
            <a:custGeom>
              <a:avLst/>
              <a:gdLst/>
              <a:ahLst/>
              <a:rect l="0" t="0" r="r" b="b"/>
              <a:pathLst>
                <a:path w="1117" h="41">
                  <a:moveTo>
                    <a:pt x="0" y="41"/>
                  </a:moveTo>
                  <a:lnTo>
                    <a:pt x="92" y="41"/>
                  </a:lnTo>
                  <a:lnTo>
                    <a:pt x="92" y="0"/>
                  </a:lnTo>
                  <a:lnTo>
                    <a:pt x="0" y="0"/>
                  </a:lnTo>
                  <a:lnTo>
                    <a:pt x="0" y="41"/>
                  </a:lnTo>
                  <a:lnTo>
                    <a:pt x="1025" y="41"/>
                  </a:lnTo>
                  <a:lnTo>
                    <a:pt x="1117" y="41"/>
                  </a:lnTo>
                  <a:lnTo>
                    <a:pt x="1117" y="0"/>
                  </a:lnTo>
                  <a:lnTo>
                    <a:pt x="1025" y="0"/>
                  </a:lnTo>
                  <a:lnTo>
                    <a:pt x="1025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a9a9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67240" y="4923000"/>
              <a:ext cx="51120" cy="55800"/>
            </a:xfrm>
            <a:custGeom>
              <a:avLst/>
              <a:gdLst/>
              <a:ahLst/>
              <a:rect l="0" t="0" r="r" b="b"/>
              <a:pathLst>
                <a:path w="142" h="155">
                  <a:moveTo>
                    <a:pt x="0" y="155"/>
                  </a:moveTo>
                  <a:lnTo>
                    <a:pt x="142" y="155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9a9a9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240" y="491004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21200" y="5516640"/>
              <a:ext cx="665640" cy="128880"/>
            </a:xfrm>
            <a:custGeom>
              <a:avLst/>
              <a:gdLst/>
              <a:ahLst/>
              <a:rect l="0" t="0" r="r" b="b"/>
              <a:pathLst>
                <a:path w="1849" h="358">
                  <a:moveTo>
                    <a:pt x="0" y="0"/>
                  </a:moveTo>
                  <a:lnTo>
                    <a:pt x="0" y="358"/>
                  </a:lnTo>
                  <a:lnTo>
                    <a:pt x="1849" y="358"/>
                  </a:lnTo>
                  <a:lnTo>
                    <a:pt x="18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3033720" y="5479920"/>
              <a:ext cx="789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 Switch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27520" y="5075280"/>
              <a:ext cx="330480" cy="68760"/>
            </a:xfrm>
            <a:custGeom>
              <a:avLst/>
              <a:gdLst/>
              <a:ahLst/>
              <a:rect l="0" t="0" r="r" b="b"/>
              <a:pathLst>
                <a:path w="918" h="191">
                  <a:moveTo>
                    <a:pt x="0" y="93"/>
                  </a:moveTo>
                  <a:lnTo>
                    <a:pt x="561" y="0"/>
                  </a:lnTo>
                  <a:lnTo>
                    <a:pt x="486" y="133"/>
                  </a:lnTo>
                  <a:lnTo>
                    <a:pt x="918" y="93"/>
                  </a:lnTo>
                  <a:lnTo>
                    <a:pt x="361" y="191"/>
                  </a:lnTo>
                  <a:lnTo>
                    <a:pt x="432" y="58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27520" y="5159520"/>
              <a:ext cx="330480" cy="68760"/>
            </a:xfrm>
            <a:custGeom>
              <a:avLst/>
              <a:gdLst/>
              <a:ahLst/>
              <a:rect l="0" t="0" r="r" b="b"/>
              <a:pathLst>
                <a:path w="918" h="191">
                  <a:moveTo>
                    <a:pt x="0" y="98"/>
                  </a:moveTo>
                  <a:lnTo>
                    <a:pt x="561" y="0"/>
                  </a:lnTo>
                  <a:lnTo>
                    <a:pt x="486" y="137"/>
                  </a:lnTo>
                  <a:lnTo>
                    <a:pt x="918" y="98"/>
                  </a:lnTo>
                  <a:lnTo>
                    <a:pt x="361" y="191"/>
                  </a:lnTo>
                  <a:lnTo>
                    <a:pt x="432" y="6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941560" y="5253120"/>
              <a:ext cx="329040" cy="68760"/>
            </a:xfrm>
            <a:custGeom>
              <a:avLst/>
              <a:gdLst/>
              <a:ahLst/>
              <a:rect l="0" t="0" r="r" b="b"/>
              <a:pathLst>
                <a:path w="914" h="191">
                  <a:moveTo>
                    <a:pt x="0" y="98"/>
                  </a:moveTo>
                  <a:lnTo>
                    <a:pt x="561" y="0"/>
                  </a:lnTo>
                  <a:lnTo>
                    <a:pt x="481" y="137"/>
                  </a:lnTo>
                  <a:lnTo>
                    <a:pt x="914" y="98"/>
                  </a:lnTo>
                  <a:lnTo>
                    <a:pt x="362" y="191"/>
                  </a:lnTo>
                  <a:lnTo>
                    <a:pt x="433" y="6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5320" y="4606920"/>
              <a:ext cx="464040" cy="443160"/>
            </a:xfrm>
            <a:custGeom>
              <a:avLst/>
              <a:gdLst/>
              <a:ahLst/>
              <a:rect l="0" t="0" r="r" b="b"/>
              <a:pathLst>
                <a:path w="1289" h="1231">
                  <a:moveTo>
                    <a:pt x="282" y="807"/>
                  </a:moveTo>
                  <a:lnTo>
                    <a:pt x="0" y="807"/>
                  </a:lnTo>
                  <a:lnTo>
                    <a:pt x="0" y="1231"/>
                  </a:lnTo>
                  <a:lnTo>
                    <a:pt x="1289" y="1231"/>
                  </a:lnTo>
                  <a:lnTo>
                    <a:pt x="1289" y="807"/>
                  </a:lnTo>
                  <a:lnTo>
                    <a:pt x="1007" y="807"/>
                  </a:lnTo>
                  <a:lnTo>
                    <a:pt x="1007" y="750"/>
                  </a:lnTo>
                  <a:lnTo>
                    <a:pt x="1126" y="750"/>
                  </a:lnTo>
                  <a:lnTo>
                    <a:pt x="1126" y="0"/>
                  </a:lnTo>
                  <a:lnTo>
                    <a:pt x="158" y="0"/>
                  </a:lnTo>
                  <a:lnTo>
                    <a:pt x="158" y="750"/>
                  </a:lnTo>
                  <a:lnTo>
                    <a:pt x="282" y="750"/>
                  </a:lnTo>
                  <a:lnTo>
                    <a:pt x="282" y="8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76840" y="4897440"/>
              <a:ext cx="26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76840" y="4876920"/>
              <a:ext cx="260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13640" y="4911840"/>
              <a:ext cx="189360" cy="124200"/>
            </a:xfrm>
            <a:custGeom>
              <a:avLst/>
              <a:gdLst/>
              <a:ahLst/>
              <a:rect l="0" t="0" r="r" b="b"/>
              <a:pathLst>
                <a:path w="526" h="345">
                  <a:moveTo>
                    <a:pt x="0" y="345"/>
                  </a:moveTo>
                  <a:lnTo>
                    <a:pt x="425" y="345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65" y="57"/>
                  </a:lnTo>
                  <a:lnTo>
                    <a:pt x="526" y="57"/>
                  </a:lnTo>
                  <a:lnTo>
                    <a:pt x="526" y="0"/>
                  </a:lnTo>
                  <a:lnTo>
                    <a:pt x="465" y="0"/>
                  </a:lnTo>
                  <a:lnTo>
                    <a:pt x="465" y="5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13640" y="4952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3640" y="4994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21560" y="497376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00760" y="4959360"/>
              <a:ext cx="43200" cy="28800"/>
            </a:xfrm>
            <a:custGeom>
              <a:avLst/>
              <a:gdLst/>
              <a:ahLst/>
              <a:rect l="0" t="0" r="r" b="b"/>
              <a:pathLst>
                <a:path fill="none" w="120" h="80">
                  <a:moveTo>
                    <a:pt x="0" y="80"/>
                  </a:moveTo>
                  <a:lnTo>
                    <a:pt x="120" y="8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89720" y="4637160"/>
              <a:ext cx="435240" cy="298800"/>
            </a:xfrm>
            <a:custGeom>
              <a:avLst/>
              <a:gdLst/>
              <a:ahLst/>
              <a:rect l="0" t="0" r="r" b="b"/>
              <a:pathLst>
                <a:path w="1209" h="830">
                  <a:moveTo>
                    <a:pt x="1010" y="591"/>
                  </a:moveTo>
                  <a:lnTo>
                    <a:pt x="1054" y="591"/>
                  </a:lnTo>
                  <a:lnTo>
                    <a:pt x="1054" y="578"/>
                  </a:lnTo>
                  <a:lnTo>
                    <a:pt x="1010" y="578"/>
                  </a:lnTo>
                  <a:lnTo>
                    <a:pt x="1010" y="591"/>
                  </a:lnTo>
                  <a:lnTo>
                    <a:pt x="268" y="490"/>
                  </a:lnTo>
                  <a:lnTo>
                    <a:pt x="268" y="61"/>
                  </a:lnTo>
                  <a:lnTo>
                    <a:pt x="935" y="61"/>
                  </a:lnTo>
                  <a:lnTo>
                    <a:pt x="935" y="490"/>
                  </a:lnTo>
                  <a:lnTo>
                    <a:pt x="268" y="490"/>
                  </a:lnTo>
                  <a:lnTo>
                    <a:pt x="242" y="521"/>
                  </a:lnTo>
                  <a:lnTo>
                    <a:pt x="966" y="521"/>
                  </a:lnTo>
                  <a:lnTo>
                    <a:pt x="966" y="30"/>
                  </a:lnTo>
                  <a:lnTo>
                    <a:pt x="997" y="30"/>
                  </a:lnTo>
                  <a:lnTo>
                    <a:pt x="997" y="0"/>
                  </a:lnTo>
                  <a:lnTo>
                    <a:pt x="211" y="0"/>
                  </a:lnTo>
                  <a:lnTo>
                    <a:pt x="211" y="552"/>
                  </a:lnTo>
                  <a:lnTo>
                    <a:pt x="242" y="552"/>
                  </a:lnTo>
                  <a:lnTo>
                    <a:pt x="242" y="521"/>
                  </a:lnTo>
                  <a:lnTo>
                    <a:pt x="0" y="799"/>
                  </a:lnTo>
                  <a:lnTo>
                    <a:pt x="119" y="799"/>
                  </a:lnTo>
                  <a:lnTo>
                    <a:pt x="119" y="763"/>
                  </a:lnTo>
                  <a:lnTo>
                    <a:pt x="0" y="763"/>
                  </a:lnTo>
                  <a:lnTo>
                    <a:pt x="0" y="799"/>
                  </a:lnTo>
                  <a:lnTo>
                    <a:pt x="706" y="830"/>
                  </a:lnTo>
                  <a:lnTo>
                    <a:pt x="966" y="830"/>
                  </a:lnTo>
                  <a:lnTo>
                    <a:pt x="966" y="812"/>
                  </a:lnTo>
                  <a:lnTo>
                    <a:pt x="706" y="812"/>
                  </a:lnTo>
                  <a:lnTo>
                    <a:pt x="706" y="830"/>
                  </a:lnTo>
                  <a:lnTo>
                    <a:pt x="1169" y="781"/>
                  </a:lnTo>
                  <a:lnTo>
                    <a:pt x="1209" y="781"/>
                  </a:lnTo>
                  <a:lnTo>
                    <a:pt x="1209" y="763"/>
                  </a:lnTo>
                  <a:lnTo>
                    <a:pt x="1169" y="763"/>
                  </a:lnTo>
                  <a:lnTo>
                    <a:pt x="1169" y="781"/>
                  </a:lnTo>
                  <a:lnTo>
                    <a:pt x="1169" y="821"/>
                  </a:lnTo>
                  <a:lnTo>
                    <a:pt x="1209" y="821"/>
                  </a:lnTo>
                  <a:lnTo>
                    <a:pt x="1209" y="799"/>
                  </a:lnTo>
                  <a:lnTo>
                    <a:pt x="1169" y="799"/>
                  </a:lnTo>
                  <a:lnTo>
                    <a:pt x="1169" y="821"/>
                  </a:lnTo>
                  <a:lnTo>
                    <a:pt x="1010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32560" y="48610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620040" y="486108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707160" y="486108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35880" y="5075280"/>
              <a:ext cx="132120" cy="128880"/>
            </a:xfrm>
            <a:custGeom>
              <a:avLst/>
              <a:gdLst/>
              <a:ahLst/>
              <a:rect l="0" t="0" r="r" b="b"/>
              <a:pathLst>
                <a:path w="367" h="358">
                  <a:moveTo>
                    <a:pt x="0" y="0"/>
                  </a:moveTo>
                  <a:lnTo>
                    <a:pt x="0" y="358"/>
                  </a:lnTo>
                  <a:lnTo>
                    <a:pt x="367" y="358"/>
                  </a:lnTo>
                  <a:lnTo>
                    <a:pt x="3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548400" y="5037120"/>
              <a:ext cx="30312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ill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23040" y="4606920"/>
              <a:ext cx="465480" cy="443160"/>
            </a:xfrm>
            <a:custGeom>
              <a:avLst/>
              <a:gdLst/>
              <a:ahLst/>
              <a:rect l="0" t="0" r="r" b="b"/>
              <a:pathLst>
                <a:path w="1293" h="1231">
                  <a:moveTo>
                    <a:pt x="286" y="807"/>
                  </a:moveTo>
                  <a:lnTo>
                    <a:pt x="0" y="807"/>
                  </a:lnTo>
                  <a:lnTo>
                    <a:pt x="0" y="1231"/>
                  </a:lnTo>
                  <a:lnTo>
                    <a:pt x="1293" y="1231"/>
                  </a:lnTo>
                  <a:lnTo>
                    <a:pt x="1293" y="807"/>
                  </a:lnTo>
                  <a:lnTo>
                    <a:pt x="1010" y="807"/>
                  </a:lnTo>
                  <a:lnTo>
                    <a:pt x="1010" y="750"/>
                  </a:lnTo>
                  <a:lnTo>
                    <a:pt x="1129" y="750"/>
                  </a:lnTo>
                  <a:lnTo>
                    <a:pt x="1129" y="0"/>
                  </a:lnTo>
                  <a:lnTo>
                    <a:pt x="163" y="0"/>
                  </a:lnTo>
                  <a:lnTo>
                    <a:pt x="163" y="750"/>
                  </a:lnTo>
                  <a:lnTo>
                    <a:pt x="286" y="750"/>
                  </a:lnTo>
                  <a:lnTo>
                    <a:pt x="286" y="8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26360" y="489744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26360" y="487692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62800" y="4911840"/>
              <a:ext cx="189360" cy="124200"/>
            </a:xfrm>
            <a:custGeom>
              <a:avLst/>
              <a:gdLst/>
              <a:ahLst/>
              <a:rect l="0" t="0" r="r" b="b"/>
              <a:pathLst>
                <a:path w="526" h="345">
                  <a:moveTo>
                    <a:pt x="0" y="345"/>
                  </a:moveTo>
                  <a:lnTo>
                    <a:pt x="425" y="345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65" y="57"/>
                  </a:lnTo>
                  <a:lnTo>
                    <a:pt x="526" y="57"/>
                  </a:lnTo>
                  <a:lnTo>
                    <a:pt x="526" y="0"/>
                  </a:lnTo>
                  <a:lnTo>
                    <a:pt x="465" y="0"/>
                  </a:lnTo>
                  <a:lnTo>
                    <a:pt x="465" y="5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2800" y="4952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2800" y="4994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70720" y="497376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50280" y="4959360"/>
              <a:ext cx="44640" cy="28800"/>
            </a:xfrm>
            <a:custGeom>
              <a:avLst/>
              <a:gdLst/>
              <a:ahLst/>
              <a:rect l="0" t="0" r="r" b="b"/>
              <a:pathLst>
                <a:path fill="none" w="124" h="80">
                  <a:moveTo>
                    <a:pt x="0" y="80"/>
                  </a:moveTo>
                  <a:lnTo>
                    <a:pt x="124" y="80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8880" y="4637160"/>
              <a:ext cx="435240" cy="298800"/>
            </a:xfrm>
            <a:custGeom>
              <a:avLst/>
              <a:gdLst/>
              <a:ahLst/>
              <a:rect l="0" t="0" r="r" b="b"/>
              <a:pathLst>
                <a:path w="1209" h="830">
                  <a:moveTo>
                    <a:pt x="1010" y="591"/>
                  </a:moveTo>
                  <a:lnTo>
                    <a:pt x="1059" y="591"/>
                  </a:lnTo>
                  <a:lnTo>
                    <a:pt x="1059" y="578"/>
                  </a:lnTo>
                  <a:lnTo>
                    <a:pt x="1010" y="578"/>
                  </a:lnTo>
                  <a:lnTo>
                    <a:pt x="1010" y="591"/>
                  </a:lnTo>
                  <a:lnTo>
                    <a:pt x="268" y="490"/>
                  </a:lnTo>
                  <a:lnTo>
                    <a:pt x="268" y="61"/>
                  </a:lnTo>
                  <a:lnTo>
                    <a:pt x="935" y="61"/>
                  </a:lnTo>
                  <a:lnTo>
                    <a:pt x="935" y="490"/>
                  </a:lnTo>
                  <a:lnTo>
                    <a:pt x="268" y="490"/>
                  </a:lnTo>
                  <a:lnTo>
                    <a:pt x="242" y="521"/>
                  </a:lnTo>
                  <a:lnTo>
                    <a:pt x="966" y="521"/>
                  </a:lnTo>
                  <a:lnTo>
                    <a:pt x="966" y="30"/>
                  </a:lnTo>
                  <a:lnTo>
                    <a:pt x="997" y="30"/>
                  </a:lnTo>
                  <a:lnTo>
                    <a:pt x="997" y="0"/>
                  </a:lnTo>
                  <a:lnTo>
                    <a:pt x="211" y="0"/>
                  </a:lnTo>
                  <a:lnTo>
                    <a:pt x="211" y="552"/>
                  </a:lnTo>
                  <a:lnTo>
                    <a:pt x="242" y="552"/>
                  </a:lnTo>
                  <a:lnTo>
                    <a:pt x="242" y="521"/>
                  </a:lnTo>
                  <a:lnTo>
                    <a:pt x="0" y="799"/>
                  </a:lnTo>
                  <a:lnTo>
                    <a:pt x="119" y="799"/>
                  </a:lnTo>
                  <a:lnTo>
                    <a:pt x="119" y="763"/>
                  </a:lnTo>
                  <a:lnTo>
                    <a:pt x="0" y="763"/>
                  </a:lnTo>
                  <a:lnTo>
                    <a:pt x="0" y="799"/>
                  </a:lnTo>
                  <a:lnTo>
                    <a:pt x="702" y="830"/>
                  </a:lnTo>
                  <a:lnTo>
                    <a:pt x="966" y="830"/>
                  </a:lnTo>
                  <a:lnTo>
                    <a:pt x="966" y="812"/>
                  </a:lnTo>
                  <a:lnTo>
                    <a:pt x="702" y="812"/>
                  </a:lnTo>
                  <a:lnTo>
                    <a:pt x="702" y="830"/>
                  </a:lnTo>
                  <a:lnTo>
                    <a:pt x="1165" y="781"/>
                  </a:lnTo>
                  <a:lnTo>
                    <a:pt x="1209" y="781"/>
                  </a:lnTo>
                  <a:lnTo>
                    <a:pt x="1209" y="763"/>
                  </a:lnTo>
                  <a:lnTo>
                    <a:pt x="1165" y="763"/>
                  </a:lnTo>
                  <a:lnTo>
                    <a:pt x="1165" y="781"/>
                  </a:lnTo>
                  <a:lnTo>
                    <a:pt x="1165" y="821"/>
                  </a:lnTo>
                  <a:lnTo>
                    <a:pt x="1209" y="821"/>
                  </a:lnTo>
                  <a:lnTo>
                    <a:pt x="1209" y="799"/>
                  </a:lnTo>
                  <a:lnTo>
                    <a:pt x="1165" y="799"/>
                  </a:lnTo>
                  <a:lnTo>
                    <a:pt x="1165" y="821"/>
                  </a:lnTo>
                  <a:lnTo>
                    <a:pt x="1010" y="5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1720" y="48610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69200" y="486108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7456320" y="486108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358040" y="5075280"/>
              <a:ext cx="186120" cy="128880"/>
            </a:xfrm>
            <a:custGeom>
              <a:avLst/>
              <a:gdLst/>
              <a:ahLst/>
              <a:rect l="0" t="0" r="r" b="b"/>
              <a:pathLst>
                <a:path w="517" h="358">
                  <a:moveTo>
                    <a:pt x="0" y="0"/>
                  </a:moveTo>
                  <a:lnTo>
                    <a:pt x="0" y="358"/>
                  </a:lnTo>
                  <a:lnTo>
                    <a:pt x="517" y="358"/>
                  </a:lnTo>
                  <a:lnTo>
                    <a:pt x="5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7272360" y="503712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13560" y="5381640"/>
              <a:ext cx="465480" cy="443160"/>
            </a:xfrm>
            <a:custGeom>
              <a:avLst/>
              <a:gdLst/>
              <a:ahLst/>
              <a:rect l="0" t="0" r="r" b="b"/>
              <a:pathLst>
                <a:path w="1293" h="1231">
                  <a:moveTo>
                    <a:pt x="282" y="807"/>
                  </a:moveTo>
                  <a:lnTo>
                    <a:pt x="0" y="807"/>
                  </a:lnTo>
                  <a:lnTo>
                    <a:pt x="0" y="1231"/>
                  </a:lnTo>
                  <a:lnTo>
                    <a:pt x="1293" y="1231"/>
                  </a:lnTo>
                  <a:lnTo>
                    <a:pt x="1293" y="807"/>
                  </a:lnTo>
                  <a:lnTo>
                    <a:pt x="1010" y="807"/>
                  </a:lnTo>
                  <a:lnTo>
                    <a:pt x="1010" y="750"/>
                  </a:lnTo>
                  <a:lnTo>
                    <a:pt x="1129" y="750"/>
                  </a:lnTo>
                  <a:lnTo>
                    <a:pt x="1129" y="0"/>
                  </a:lnTo>
                  <a:lnTo>
                    <a:pt x="163" y="0"/>
                  </a:lnTo>
                  <a:lnTo>
                    <a:pt x="163" y="750"/>
                  </a:lnTo>
                  <a:lnTo>
                    <a:pt x="282" y="750"/>
                  </a:lnTo>
                  <a:lnTo>
                    <a:pt x="282" y="8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5080" y="567216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15080" y="565164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53320" y="5686560"/>
              <a:ext cx="187560" cy="124200"/>
            </a:xfrm>
            <a:custGeom>
              <a:avLst/>
              <a:gdLst/>
              <a:ahLst/>
              <a:rect l="0" t="0" r="r" b="b"/>
              <a:pathLst>
                <a:path w="521" h="345">
                  <a:moveTo>
                    <a:pt x="0" y="345"/>
                  </a:moveTo>
                  <a:lnTo>
                    <a:pt x="424" y="345"/>
                  </a:lnTo>
                  <a:lnTo>
                    <a:pt x="424" y="0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64" y="57"/>
                  </a:lnTo>
                  <a:lnTo>
                    <a:pt x="521" y="57"/>
                  </a:lnTo>
                  <a:lnTo>
                    <a:pt x="521" y="0"/>
                  </a:lnTo>
                  <a:lnTo>
                    <a:pt x="464" y="0"/>
                  </a:lnTo>
                  <a:lnTo>
                    <a:pt x="464" y="5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53320" y="5727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53320" y="576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61240" y="574848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40800" y="5734080"/>
              <a:ext cx="43200" cy="28800"/>
            </a:xfrm>
            <a:custGeom>
              <a:avLst/>
              <a:gdLst/>
              <a:ahLst/>
              <a:rect l="0" t="0" r="r" b="b"/>
              <a:pathLst>
                <a:path fill="none" w="120" h="80">
                  <a:moveTo>
                    <a:pt x="0" y="80"/>
                  </a:moveTo>
                  <a:lnTo>
                    <a:pt x="120" y="80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27960" y="5411880"/>
              <a:ext cx="435240" cy="298800"/>
            </a:xfrm>
            <a:custGeom>
              <a:avLst/>
              <a:gdLst/>
              <a:ahLst/>
              <a:rect l="0" t="0" r="r" b="b"/>
              <a:pathLst>
                <a:path w="1209" h="830">
                  <a:moveTo>
                    <a:pt x="1015" y="596"/>
                  </a:moveTo>
                  <a:lnTo>
                    <a:pt x="1059" y="596"/>
                  </a:lnTo>
                  <a:lnTo>
                    <a:pt x="1059" y="578"/>
                  </a:lnTo>
                  <a:lnTo>
                    <a:pt x="1015" y="578"/>
                  </a:lnTo>
                  <a:lnTo>
                    <a:pt x="1015" y="596"/>
                  </a:lnTo>
                  <a:lnTo>
                    <a:pt x="273" y="494"/>
                  </a:lnTo>
                  <a:lnTo>
                    <a:pt x="273" y="61"/>
                  </a:lnTo>
                  <a:lnTo>
                    <a:pt x="935" y="61"/>
                  </a:lnTo>
                  <a:lnTo>
                    <a:pt x="935" y="494"/>
                  </a:lnTo>
                  <a:lnTo>
                    <a:pt x="273" y="494"/>
                  </a:lnTo>
                  <a:lnTo>
                    <a:pt x="242" y="521"/>
                  </a:lnTo>
                  <a:lnTo>
                    <a:pt x="971" y="521"/>
                  </a:lnTo>
                  <a:lnTo>
                    <a:pt x="971" y="30"/>
                  </a:lnTo>
                  <a:lnTo>
                    <a:pt x="997" y="30"/>
                  </a:lnTo>
                  <a:lnTo>
                    <a:pt x="997" y="0"/>
                  </a:lnTo>
                  <a:lnTo>
                    <a:pt x="211" y="0"/>
                  </a:lnTo>
                  <a:lnTo>
                    <a:pt x="211" y="552"/>
                  </a:lnTo>
                  <a:lnTo>
                    <a:pt x="242" y="552"/>
                  </a:lnTo>
                  <a:lnTo>
                    <a:pt x="242" y="521"/>
                  </a:lnTo>
                  <a:lnTo>
                    <a:pt x="0" y="799"/>
                  </a:lnTo>
                  <a:lnTo>
                    <a:pt x="123" y="799"/>
                  </a:lnTo>
                  <a:lnTo>
                    <a:pt x="123" y="763"/>
                  </a:lnTo>
                  <a:lnTo>
                    <a:pt x="0" y="763"/>
                  </a:lnTo>
                  <a:lnTo>
                    <a:pt x="0" y="799"/>
                  </a:lnTo>
                  <a:lnTo>
                    <a:pt x="706" y="830"/>
                  </a:lnTo>
                  <a:lnTo>
                    <a:pt x="971" y="830"/>
                  </a:lnTo>
                  <a:lnTo>
                    <a:pt x="971" y="812"/>
                  </a:lnTo>
                  <a:lnTo>
                    <a:pt x="706" y="812"/>
                  </a:lnTo>
                  <a:lnTo>
                    <a:pt x="706" y="830"/>
                  </a:lnTo>
                  <a:lnTo>
                    <a:pt x="1169" y="781"/>
                  </a:lnTo>
                  <a:lnTo>
                    <a:pt x="1209" y="781"/>
                  </a:lnTo>
                  <a:lnTo>
                    <a:pt x="1209" y="763"/>
                  </a:lnTo>
                  <a:lnTo>
                    <a:pt x="1169" y="763"/>
                  </a:lnTo>
                  <a:lnTo>
                    <a:pt x="1169" y="781"/>
                  </a:lnTo>
                  <a:lnTo>
                    <a:pt x="1169" y="821"/>
                  </a:lnTo>
                  <a:lnTo>
                    <a:pt x="1209" y="821"/>
                  </a:lnTo>
                  <a:lnTo>
                    <a:pt x="1209" y="799"/>
                  </a:lnTo>
                  <a:lnTo>
                    <a:pt x="1169" y="799"/>
                  </a:lnTo>
                  <a:lnTo>
                    <a:pt x="1169" y="821"/>
                  </a:lnTo>
                  <a:lnTo>
                    <a:pt x="1015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72240" y="56358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658280" y="563580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746840" y="563580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7120" y="5850000"/>
              <a:ext cx="187560" cy="128880"/>
            </a:xfrm>
            <a:custGeom>
              <a:avLst/>
              <a:gdLst/>
              <a:ahLst/>
              <a:rect l="0" t="0" r="r" b="b"/>
              <a:pathLst>
                <a:path w="521" h="358">
                  <a:moveTo>
                    <a:pt x="0" y="0"/>
                  </a:moveTo>
                  <a:lnTo>
                    <a:pt x="0" y="358"/>
                  </a:lnTo>
                  <a:lnTo>
                    <a:pt x="521" y="358"/>
                  </a:lnTo>
                  <a:lnTo>
                    <a:pt x="5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7561440" y="581184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ri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94360" y="5381640"/>
              <a:ext cx="464040" cy="443160"/>
            </a:xfrm>
            <a:custGeom>
              <a:avLst/>
              <a:gdLst/>
              <a:ahLst/>
              <a:rect l="0" t="0" r="r" b="b"/>
              <a:pathLst>
                <a:path w="1289" h="1231">
                  <a:moveTo>
                    <a:pt x="282" y="807"/>
                  </a:moveTo>
                  <a:lnTo>
                    <a:pt x="0" y="807"/>
                  </a:lnTo>
                  <a:lnTo>
                    <a:pt x="0" y="1231"/>
                  </a:lnTo>
                  <a:lnTo>
                    <a:pt x="1289" y="1231"/>
                  </a:lnTo>
                  <a:lnTo>
                    <a:pt x="1289" y="807"/>
                  </a:lnTo>
                  <a:lnTo>
                    <a:pt x="1007" y="807"/>
                  </a:lnTo>
                  <a:lnTo>
                    <a:pt x="1007" y="750"/>
                  </a:lnTo>
                  <a:lnTo>
                    <a:pt x="1126" y="750"/>
                  </a:lnTo>
                  <a:lnTo>
                    <a:pt x="1126" y="0"/>
                  </a:lnTo>
                  <a:lnTo>
                    <a:pt x="158" y="0"/>
                  </a:lnTo>
                  <a:lnTo>
                    <a:pt x="158" y="750"/>
                  </a:lnTo>
                  <a:lnTo>
                    <a:pt x="282" y="750"/>
                  </a:lnTo>
                  <a:lnTo>
                    <a:pt x="282" y="80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96240" y="567216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96240" y="565164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32680" y="5686560"/>
              <a:ext cx="189360" cy="124200"/>
            </a:xfrm>
            <a:custGeom>
              <a:avLst/>
              <a:gdLst/>
              <a:ahLst/>
              <a:rect l="0" t="0" r="r" b="b"/>
              <a:pathLst>
                <a:path w="526" h="345">
                  <a:moveTo>
                    <a:pt x="0" y="345"/>
                  </a:moveTo>
                  <a:lnTo>
                    <a:pt x="425" y="345"/>
                  </a:lnTo>
                  <a:lnTo>
                    <a:pt x="425" y="0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65" y="57"/>
                  </a:lnTo>
                  <a:lnTo>
                    <a:pt x="526" y="57"/>
                  </a:lnTo>
                  <a:lnTo>
                    <a:pt x="526" y="0"/>
                  </a:lnTo>
                  <a:lnTo>
                    <a:pt x="465" y="0"/>
                  </a:lnTo>
                  <a:lnTo>
                    <a:pt x="465" y="57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32680" y="5727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32680" y="576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40600" y="5748480"/>
              <a:ext cx="138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19800" y="5734080"/>
              <a:ext cx="44640" cy="28800"/>
            </a:xfrm>
            <a:custGeom>
              <a:avLst/>
              <a:gdLst/>
              <a:ahLst/>
              <a:rect l="0" t="0" r="r" b="b"/>
              <a:pathLst>
                <a:path fill="none" w="124" h="80">
                  <a:moveTo>
                    <a:pt x="0" y="80"/>
                  </a:moveTo>
                  <a:lnTo>
                    <a:pt x="124" y="80"/>
                  </a:lnTo>
                  <a:lnTo>
                    <a:pt x="124" y="0"/>
                  </a:ln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8760" y="5411880"/>
              <a:ext cx="435240" cy="298800"/>
            </a:xfrm>
            <a:custGeom>
              <a:avLst/>
              <a:gdLst/>
              <a:ahLst/>
              <a:rect l="0" t="0" r="r" b="b"/>
              <a:pathLst>
                <a:path w="1209" h="830">
                  <a:moveTo>
                    <a:pt x="1010" y="596"/>
                  </a:moveTo>
                  <a:lnTo>
                    <a:pt x="1059" y="596"/>
                  </a:lnTo>
                  <a:lnTo>
                    <a:pt x="1059" y="578"/>
                  </a:lnTo>
                  <a:lnTo>
                    <a:pt x="1010" y="578"/>
                  </a:lnTo>
                  <a:lnTo>
                    <a:pt x="1010" y="596"/>
                  </a:lnTo>
                  <a:lnTo>
                    <a:pt x="273" y="494"/>
                  </a:lnTo>
                  <a:lnTo>
                    <a:pt x="273" y="61"/>
                  </a:lnTo>
                  <a:lnTo>
                    <a:pt x="935" y="61"/>
                  </a:lnTo>
                  <a:lnTo>
                    <a:pt x="935" y="494"/>
                  </a:lnTo>
                  <a:lnTo>
                    <a:pt x="273" y="494"/>
                  </a:lnTo>
                  <a:lnTo>
                    <a:pt x="242" y="521"/>
                  </a:lnTo>
                  <a:lnTo>
                    <a:pt x="966" y="521"/>
                  </a:lnTo>
                  <a:lnTo>
                    <a:pt x="966" y="30"/>
                  </a:lnTo>
                  <a:lnTo>
                    <a:pt x="997" y="30"/>
                  </a:lnTo>
                  <a:lnTo>
                    <a:pt x="997" y="0"/>
                  </a:lnTo>
                  <a:lnTo>
                    <a:pt x="211" y="0"/>
                  </a:lnTo>
                  <a:lnTo>
                    <a:pt x="211" y="552"/>
                  </a:lnTo>
                  <a:lnTo>
                    <a:pt x="242" y="552"/>
                  </a:lnTo>
                  <a:lnTo>
                    <a:pt x="242" y="521"/>
                  </a:lnTo>
                  <a:lnTo>
                    <a:pt x="0" y="799"/>
                  </a:lnTo>
                  <a:lnTo>
                    <a:pt x="119" y="799"/>
                  </a:lnTo>
                  <a:lnTo>
                    <a:pt x="119" y="763"/>
                  </a:lnTo>
                  <a:lnTo>
                    <a:pt x="0" y="763"/>
                  </a:lnTo>
                  <a:lnTo>
                    <a:pt x="0" y="799"/>
                  </a:lnTo>
                  <a:lnTo>
                    <a:pt x="702" y="830"/>
                  </a:lnTo>
                  <a:lnTo>
                    <a:pt x="966" y="830"/>
                  </a:lnTo>
                  <a:lnTo>
                    <a:pt x="966" y="812"/>
                  </a:lnTo>
                  <a:lnTo>
                    <a:pt x="702" y="812"/>
                  </a:lnTo>
                  <a:lnTo>
                    <a:pt x="702" y="830"/>
                  </a:lnTo>
                  <a:lnTo>
                    <a:pt x="1169" y="781"/>
                  </a:lnTo>
                  <a:lnTo>
                    <a:pt x="1209" y="781"/>
                  </a:lnTo>
                  <a:lnTo>
                    <a:pt x="1209" y="763"/>
                  </a:lnTo>
                  <a:lnTo>
                    <a:pt x="1169" y="763"/>
                  </a:lnTo>
                  <a:lnTo>
                    <a:pt x="1169" y="781"/>
                  </a:lnTo>
                  <a:lnTo>
                    <a:pt x="1169" y="821"/>
                  </a:lnTo>
                  <a:lnTo>
                    <a:pt x="1209" y="821"/>
                  </a:lnTo>
                  <a:lnTo>
                    <a:pt x="1209" y="799"/>
                  </a:lnTo>
                  <a:lnTo>
                    <a:pt x="1169" y="799"/>
                  </a:lnTo>
                  <a:lnTo>
                    <a:pt x="1169" y="821"/>
                  </a:lnTo>
                  <a:lnTo>
                    <a:pt x="1010" y="59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51600" y="56358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039080" y="563580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26200" y="5635800"/>
              <a:ext cx="0" cy="15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6520" y="5850000"/>
              <a:ext cx="268560" cy="128880"/>
            </a:xfrm>
            <a:custGeom>
              <a:avLst/>
              <a:gdLst/>
              <a:ahLst/>
              <a:rect l="0" t="0" r="r" b="b"/>
              <a:pathLst>
                <a:path w="746" h="358">
                  <a:moveTo>
                    <a:pt x="0" y="0"/>
                  </a:moveTo>
                  <a:lnTo>
                    <a:pt x="0" y="358"/>
                  </a:lnTo>
                  <a:lnTo>
                    <a:pt x="746" y="358"/>
                  </a:lnTo>
                  <a:lnTo>
                    <a:pt x="7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900840" y="581184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89840" y="5443560"/>
              <a:ext cx="498960" cy="381240"/>
            </a:xfrm>
            <a:custGeom>
              <a:avLst/>
              <a:gdLst/>
              <a:ahLst/>
              <a:rect l="0" t="0" r="r" b="b"/>
              <a:pathLst>
                <a:path w="1386" h="1059">
                  <a:moveTo>
                    <a:pt x="0" y="1059"/>
                  </a:moveTo>
                  <a:lnTo>
                    <a:pt x="0" y="1037"/>
                  </a:lnTo>
                  <a:lnTo>
                    <a:pt x="136" y="971"/>
                  </a:lnTo>
                  <a:lnTo>
                    <a:pt x="136" y="0"/>
                  </a:lnTo>
                  <a:lnTo>
                    <a:pt x="508" y="0"/>
                  </a:lnTo>
                  <a:lnTo>
                    <a:pt x="508" y="971"/>
                  </a:lnTo>
                  <a:lnTo>
                    <a:pt x="658" y="1037"/>
                  </a:lnTo>
                  <a:lnTo>
                    <a:pt x="658" y="1059"/>
                  </a:lnTo>
                  <a:lnTo>
                    <a:pt x="0" y="1059"/>
                  </a:lnTo>
                  <a:lnTo>
                    <a:pt x="556" y="909"/>
                  </a:lnTo>
                  <a:lnTo>
                    <a:pt x="684" y="909"/>
                  </a:lnTo>
                  <a:lnTo>
                    <a:pt x="825" y="944"/>
                  </a:lnTo>
                  <a:lnTo>
                    <a:pt x="825" y="1024"/>
                  </a:lnTo>
                  <a:lnTo>
                    <a:pt x="684" y="1024"/>
                  </a:lnTo>
                  <a:lnTo>
                    <a:pt x="684" y="1059"/>
                  </a:lnTo>
                  <a:lnTo>
                    <a:pt x="1258" y="1059"/>
                  </a:lnTo>
                  <a:lnTo>
                    <a:pt x="1258" y="1024"/>
                  </a:lnTo>
                  <a:lnTo>
                    <a:pt x="1117" y="1024"/>
                  </a:lnTo>
                  <a:lnTo>
                    <a:pt x="1117" y="944"/>
                  </a:lnTo>
                  <a:lnTo>
                    <a:pt x="1258" y="909"/>
                  </a:lnTo>
                  <a:lnTo>
                    <a:pt x="1386" y="909"/>
                  </a:lnTo>
                  <a:lnTo>
                    <a:pt x="1386" y="264"/>
                  </a:lnTo>
                  <a:lnTo>
                    <a:pt x="556" y="264"/>
                  </a:lnTo>
                  <a:lnTo>
                    <a:pt x="556" y="909"/>
                  </a:lnTo>
                  <a:lnTo>
                    <a:pt x="0" y="10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38800" y="57927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372360" y="579276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280200" y="556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72280" y="552276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6440" y="5459400"/>
              <a:ext cx="100440" cy="222480"/>
            </a:xfrm>
            <a:custGeom>
              <a:avLst/>
              <a:gdLst/>
              <a:ahLst/>
              <a:rect l="0" t="0" r="r" b="b"/>
              <a:pathLst>
                <a:path fill="none" w="279" h="618">
                  <a:moveTo>
                    <a:pt x="0" y="0"/>
                  </a:moveTo>
                  <a:lnTo>
                    <a:pt x="279" y="0"/>
                  </a:lnTo>
                  <a:lnTo>
                    <a:pt x="279" y="618"/>
                  </a:ln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86480" y="581184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86480" y="5783400"/>
              <a:ext cx="10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35720" y="577044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51400" y="5697360"/>
              <a:ext cx="108360" cy="103680"/>
            </a:xfrm>
            <a:custGeom>
              <a:avLst/>
              <a:gdLst/>
              <a:ahLst/>
              <a:rect l="0" t="0" r="r" b="b"/>
              <a:pathLst>
                <a:path w="301" h="288">
                  <a:moveTo>
                    <a:pt x="0" y="177"/>
                  </a:moveTo>
                  <a:lnTo>
                    <a:pt x="22" y="177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177"/>
                  </a:lnTo>
                  <a:lnTo>
                    <a:pt x="44" y="177"/>
                  </a:lnTo>
                  <a:lnTo>
                    <a:pt x="70" y="177"/>
                  </a:lnTo>
                  <a:lnTo>
                    <a:pt x="70" y="0"/>
                  </a:lnTo>
                  <a:lnTo>
                    <a:pt x="44" y="0"/>
                  </a:lnTo>
                  <a:lnTo>
                    <a:pt x="44" y="177"/>
                  </a:lnTo>
                  <a:lnTo>
                    <a:pt x="93" y="177"/>
                  </a:lnTo>
                  <a:lnTo>
                    <a:pt x="115" y="177"/>
                  </a:lnTo>
                  <a:lnTo>
                    <a:pt x="115" y="0"/>
                  </a:lnTo>
                  <a:lnTo>
                    <a:pt x="93" y="0"/>
                  </a:lnTo>
                  <a:lnTo>
                    <a:pt x="93" y="177"/>
                  </a:lnTo>
                  <a:lnTo>
                    <a:pt x="137" y="177"/>
                  </a:lnTo>
                  <a:lnTo>
                    <a:pt x="164" y="177"/>
                  </a:lnTo>
                  <a:lnTo>
                    <a:pt x="164" y="0"/>
                  </a:lnTo>
                  <a:lnTo>
                    <a:pt x="137" y="0"/>
                  </a:lnTo>
                  <a:lnTo>
                    <a:pt x="137" y="177"/>
                  </a:lnTo>
                  <a:lnTo>
                    <a:pt x="186" y="177"/>
                  </a:lnTo>
                  <a:lnTo>
                    <a:pt x="208" y="177"/>
                  </a:lnTo>
                  <a:lnTo>
                    <a:pt x="208" y="0"/>
                  </a:lnTo>
                  <a:lnTo>
                    <a:pt x="186" y="0"/>
                  </a:lnTo>
                  <a:lnTo>
                    <a:pt x="186" y="177"/>
                  </a:lnTo>
                  <a:lnTo>
                    <a:pt x="231" y="177"/>
                  </a:lnTo>
                  <a:lnTo>
                    <a:pt x="257" y="177"/>
                  </a:lnTo>
                  <a:lnTo>
                    <a:pt x="257" y="0"/>
                  </a:lnTo>
                  <a:lnTo>
                    <a:pt x="231" y="0"/>
                  </a:lnTo>
                  <a:lnTo>
                    <a:pt x="231" y="177"/>
                  </a:lnTo>
                  <a:lnTo>
                    <a:pt x="279" y="177"/>
                  </a:lnTo>
                  <a:lnTo>
                    <a:pt x="301" y="177"/>
                  </a:lnTo>
                  <a:lnTo>
                    <a:pt x="301" y="0"/>
                  </a:lnTo>
                  <a:lnTo>
                    <a:pt x="279" y="0"/>
                  </a:lnTo>
                  <a:lnTo>
                    <a:pt x="279" y="177"/>
                  </a:lnTo>
                  <a:lnTo>
                    <a:pt x="279" y="288"/>
                  </a:lnTo>
                  <a:lnTo>
                    <a:pt x="301" y="288"/>
                  </a:lnTo>
                  <a:lnTo>
                    <a:pt x="301" y="199"/>
                  </a:lnTo>
                  <a:lnTo>
                    <a:pt x="279" y="199"/>
                  </a:lnTo>
                  <a:lnTo>
                    <a:pt x="279" y="288"/>
                  </a:lnTo>
                  <a:lnTo>
                    <a:pt x="231" y="288"/>
                  </a:lnTo>
                  <a:lnTo>
                    <a:pt x="257" y="288"/>
                  </a:lnTo>
                  <a:lnTo>
                    <a:pt x="257" y="199"/>
                  </a:lnTo>
                  <a:lnTo>
                    <a:pt x="231" y="199"/>
                  </a:lnTo>
                  <a:lnTo>
                    <a:pt x="231" y="288"/>
                  </a:lnTo>
                  <a:lnTo>
                    <a:pt x="186" y="288"/>
                  </a:lnTo>
                  <a:lnTo>
                    <a:pt x="208" y="288"/>
                  </a:lnTo>
                  <a:lnTo>
                    <a:pt x="208" y="199"/>
                  </a:lnTo>
                  <a:lnTo>
                    <a:pt x="186" y="199"/>
                  </a:lnTo>
                  <a:lnTo>
                    <a:pt x="186" y="288"/>
                  </a:lnTo>
                  <a:lnTo>
                    <a:pt x="137" y="288"/>
                  </a:lnTo>
                  <a:lnTo>
                    <a:pt x="164" y="288"/>
                  </a:lnTo>
                  <a:lnTo>
                    <a:pt x="164" y="199"/>
                  </a:lnTo>
                  <a:lnTo>
                    <a:pt x="137" y="199"/>
                  </a:lnTo>
                  <a:lnTo>
                    <a:pt x="137" y="288"/>
                  </a:lnTo>
                  <a:lnTo>
                    <a:pt x="93" y="288"/>
                  </a:lnTo>
                  <a:lnTo>
                    <a:pt x="115" y="288"/>
                  </a:lnTo>
                  <a:lnTo>
                    <a:pt x="115" y="199"/>
                  </a:lnTo>
                  <a:lnTo>
                    <a:pt x="93" y="199"/>
                  </a:lnTo>
                  <a:lnTo>
                    <a:pt x="93" y="288"/>
                  </a:lnTo>
                  <a:lnTo>
                    <a:pt x="44" y="288"/>
                  </a:lnTo>
                  <a:lnTo>
                    <a:pt x="70" y="288"/>
                  </a:lnTo>
                  <a:lnTo>
                    <a:pt x="70" y="199"/>
                  </a:lnTo>
                  <a:lnTo>
                    <a:pt x="44" y="199"/>
                  </a:lnTo>
                  <a:lnTo>
                    <a:pt x="44" y="288"/>
                  </a:lnTo>
                  <a:lnTo>
                    <a:pt x="0" y="288"/>
                  </a:lnTo>
                  <a:lnTo>
                    <a:pt x="22" y="288"/>
                  </a:lnTo>
                  <a:lnTo>
                    <a:pt x="22" y="199"/>
                  </a:lnTo>
                  <a:lnTo>
                    <a:pt x="0" y="199"/>
                  </a:lnTo>
                  <a:lnTo>
                    <a:pt x="0" y="288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264360" y="5467320"/>
              <a:ext cx="82800" cy="32040"/>
            </a:xfrm>
            <a:custGeom>
              <a:avLst/>
              <a:gdLst/>
              <a:ahLst/>
              <a:rect l="0" t="0" r="r" b="b"/>
              <a:pathLst>
                <a:path fill="none" w="230" h="89">
                  <a:moveTo>
                    <a:pt x="0" y="0"/>
                  </a:moveTo>
                  <a:lnTo>
                    <a:pt x="0" y="89"/>
                  </a:lnTo>
                  <a:lnTo>
                    <a:pt x="230" y="89"/>
                  </a:ln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64360" y="5467320"/>
              <a:ext cx="82800" cy="8280"/>
            </a:xfrm>
            <a:custGeom>
              <a:avLst/>
              <a:gdLst/>
              <a:ahLst/>
              <a:rect l="0" t="0" r="r" b="b"/>
              <a:pathLst>
                <a:path fill="none" w="230" h="23">
                  <a:moveTo>
                    <a:pt x="0" y="0"/>
                  </a:moveTo>
                  <a:lnTo>
                    <a:pt x="22" y="23"/>
                  </a:lnTo>
                  <a:lnTo>
                    <a:pt x="208" y="23"/>
                  </a:lnTo>
                  <a:lnTo>
                    <a:pt x="23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64360" y="5506920"/>
              <a:ext cx="82800" cy="32040"/>
            </a:xfrm>
            <a:custGeom>
              <a:avLst/>
              <a:gdLst/>
              <a:ahLst/>
              <a:rect l="0" t="0" r="r" b="b"/>
              <a:pathLst>
                <a:path fill="none" w="230" h="89">
                  <a:moveTo>
                    <a:pt x="0" y="89"/>
                  </a:moveTo>
                  <a:lnTo>
                    <a:pt x="230" y="89"/>
                  </a:lnTo>
                  <a:lnTo>
                    <a:pt x="230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64360" y="5546880"/>
              <a:ext cx="82800" cy="32040"/>
            </a:xfrm>
            <a:custGeom>
              <a:avLst/>
              <a:gdLst/>
              <a:ahLst/>
              <a:rect l="0" t="0" r="r" b="b"/>
              <a:pathLst>
                <a:path fill="none" w="230" h="89">
                  <a:moveTo>
                    <a:pt x="0" y="89"/>
                  </a:moveTo>
                  <a:lnTo>
                    <a:pt x="230" y="89"/>
                  </a:lnTo>
                  <a:lnTo>
                    <a:pt x="230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64360" y="5586480"/>
              <a:ext cx="82800" cy="32040"/>
            </a:xfrm>
            <a:custGeom>
              <a:avLst/>
              <a:gdLst/>
              <a:ahLst/>
              <a:rect l="0" t="0" r="r" b="b"/>
              <a:pathLst>
                <a:path fill="none" w="230" h="89">
                  <a:moveTo>
                    <a:pt x="0" y="89"/>
                  </a:moveTo>
                  <a:lnTo>
                    <a:pt x="230" y="89"/>
                  </a:lnTo>
                  <a:lnTo>
                    <a:pt x="230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64360" y="5626080"/>
              <a:ext cx="82800" cy="32040"/>
            </a:xfrm>
            <a:custGeom>
              <a:avLst/>
              <a:gdLst/>
              <a:ahLst/>
              <a:rect l="0" t="0" r="r" b="b"/>
              <a:pathLst>
                <a:path fill="none" w="230" h="89">
                  <a:moveTo>
                    <a:pt x="0" y="89"/>
                  </a:moveTo>
                  <a:lnTo>
                    <a:pt x="230" y="89"/>
                  </a:lnTo>
                  <a:lnTo>
                    <a:pt x="230" y="0"/>
                  </a:lnTo>
                  <a:lnTo>
                    <a:pt x="0" y="0"/>
                  </a:lnTo>
                  <a:lnTo>
                    <a:pt x="0" y="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264360" y="5475240"/>
              <a:ext cx="792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38880" y="5475240"/>
              <a:ext cx="792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67600" y="561348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67600" y="560700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7600" y="560232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67600" y="559584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67600" y="5589720"/>
              <a:ext cx="5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5514840"/>
              <a:ext cx="25920" cy="16200"/>
            </a:xfrm>
            <a:custGeom>
              <a:avLst/>
              <a:gdLst/>
              <a:ahLst/>
              <a:rect l="0" t="0" r="r" b="b"/>
              <a:pathLst>
                <a:path fill="none" w="72" h="45">
                  <a:moveTo>
                    <a:pt x="0" y="45"/>
                  </a:moveTo>
                  <a:lnTo>
                    <a:pt x="72" y="45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27720" y="5567400"/>
              <a:ext cx="14760" cy="5040"/>
            </a:xfrm>
            <a:custGeom>
              <a:avLst/>
              <a:gdLst/>
              <a:ahLst/>
              <a:rect l="0" t="0" r="r" b="b"/>
              <a:pathLst>
                <a:path fill="none" w="41" h="14">
                  <a:moveTo>
                    <a:pt x="0" y="14"/>
                  </a:moveTo>
                  <a:lnTo>
                    <a:pt x="41" y="1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27720" y="5589720"/>
              <a:ext cx="14760" cy="5040"/>
            </a:xfrm>
            <a:custGeom>
              <a:avLst/>
              <a:gdLst/>
              <a:ahLst/>
              <a:rect l="0" t="0" r="r" b="b"/>
              <a:pathLst>
                <a:path fill="none" w="41" h="14">
                  <a:moveTo>
                    <a:pt x="0" y="14"/>
                  </a:moveTo>
                  <a:lnTo>
                    <a:pt x="41" y="1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27720" y="5597640"/>
              <a:ext cx="14760" cy="5040"/>
            </a:xfrm>
            <a:custGeom>
              <a:avLst/>
              <a:gdLst/>
              <a:ahLst/>
              <a:rect l="0" t="0" r="r" b="b"/>
              <a:pathLst>
                <a:path fill="none" w="41" h="14">
                  <a:moveTo>
                    <a:pt x="0" y="14"/>
                  </a:moveTo>
                  <a:lnTo>
                    <a:pt x="41" y="1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92800" y="5557680"/>
              <a:ext cx="386280" cy="205200"/>
            </a:xfrm>
            <a:custGeom>
              <a:avLst/>
              <a:gdLst/>
              <a:ahLst/>
              <a:rect l="0" t="0" r="r" b="b"/>
              <a:pathLst>
                <a:path w="1073" h="570">
                  <a:moveTo>
                    <a:pt x="0" y="22"/>
                  </a:moveTo>
                  <a:lnTo>
                    <a:pt x="70" y="22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033" y="570"/>
                  </a:lnTo>
                  <a:lnTo>
                    <a:pt x="1073" y="570"/>
                  </a:lnTo>
                  <a:lnTo>
                    <a:pt x="1073" y="557"/>
                  </a:lnTo>
                  <a:lnTo>
                    <a:pt x="1033" y="557"/>
                  </a:lnTo>
                  <a:lnTo>
                    <a:pt x="1033" y="570"/>
                  </a:lnTo>
                  <a:lnTo>
                    <a:pt x="397" y="442"/>
                  </a:lnTo>
                  <a:lnTo>
                    <a:pt x="397" y="70"/>
                  </a:lnTo>
                  <a:lnTo>
                    <a:pt x="972" y="70"/>
                  </a:lnTo>
                  <a:lnTo>
                    <a:pt x="972" y="442"/>
                  </a:lnTo>
                  <a:lnTo>
                    <a:pt x="397" y="442"/>
                  </a:lnTo>
                  <a:lnTo>
                    <a:pt x="371" y="469"/>
                  </a:lnTo>
                  <a:lnTo>
                    <a:pt x="998" y="469"/>
                  </a:lnTo>
                  <a:lnTo>
                    <a:pt x="998" y="44"/>
                  </a:lnTo>
                  <a:lnTo>
                    <a:pt x="1020" y="44"/>
                  </a:lnTo>
                  <a:lnTo>
                    <a:pt x="1020" y="22"/>
                  </a:lnTo>
                  <a:lnTo>
                    <a:pt x="344" y="22"/>
                  </a:lnTo>
                  <a:lnTo>
                    <a:pt x="344" y="39"/>
                  </a:lnTo>
                  <a:lnTo>
                    <a:pt x="344" y="495"/>
                  </a:lnTo>
                  <a:lnTo>
                    <a:pt x="371" y="495"/>
                  </a:lnTo>
                  <a:lnTo>
                    <a:pt x="371" y="469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9640" y="5757840"/>
              <a:ext cx="149760" cy="12960"/>
            </a:xfrm>
            <a:custGeom>
              <a:avLst/>
              <a:gdLst/>
              <a:ahLst/>
              <a:rect l="0" t="0" r="r" b="b"/>
              <a:pathLst>
                <a:path fill="none" w="416" h="36">
                  <a:moveTo>
                    <a:pt x="0" y="0"/>
                  </a:moveTo>
                  <a:lnTo>
                    <a:pt x="416" y="0"/>
                  </a:lnTo>
                  <a:lnTo>
                    <a:pt x="416" y="3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64160" y="5757840"/>
              <a:ext cx="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86680" y="5850000"/>
              <a:ext cx="294120" cy="128880"/>
            </a:xfrm>
            <a:custGeom>
              <a:avLst/>
              <a:gdLst/>
              <a:ahLst/>
              <a:rect l="0" t="0" r="r" b="b"/>
              <a:pathLst>
                <a:path w="817" h="358">
                  <a:moveTo>
                    <a:pt x="0" y="0"/>
                  </a:moveTo>
                  <a:lnTo>
                    <a:pt x="0" y="358"/>
                  </a:lnTo>
                  <a:lnTo>
                    <a:pt x="817" y="358"/>
                  </a:lnTo>
                  <a:lnTo>
                    <a:pt x="8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6200640" y="5811840"/>
              <a:ext cx="449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nt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29320" y="4981680"/>
              <a:ext cx="214560" cy="273240"/>
            </a:xfrm>
            <a:custGeom>
              <a:avLst/>
              <a:gdLst/>
              <a:ahLst/>
              <a:rect l="0" t="0" r="r" b="b"/>
              <a:pathLst>
                <a:path w="596" h="759">
                  <a:moveTo>
                    <a:pt x="0" y="759"/>
                  </a:moveTo>
                  <a:lnTo>
                    <a:pt x="596" y="759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8400" y="4998960"/>
              <a:ext cx="62280" cy="238320"/>
            </a:xfrm>
            <a:custGeom>
              <a:avLst/>
              <a:gdLst/>
              <a:ahLst/>
              <a:rect l="0" t="0" r="r" b="b"/>
              <a:pathLst>
                <a:path fill="none" w="173" h="662">
                  <a:moveTo>
                    <a:pt x="0" y="141"/>
                  </a:moveTo>
                  <a:lnTo>
                    <a:pt x="0" y="22"/>
                  </a:lnTo>
                  <a:lnTo>
                    <a:pt x="26" y="0"/>
                  </a:lnTo>
                  <a:lnTo>
                    <a:pt x="147" y="0"/>
                  </a:lnTo>
                  <a:lnTo>
                    <a:pt x="173" y="22"/>
                  </a:lnTo>
                  <a:lnTo>
                    <a:pt x="173" y="141"/>
                  </a:lnTo>
                  <a:lnTo>
                    <a:pt x="147" y="189"/>
                  </a:lnTo>
                  <a:lnTo>
                    <a:pt x="147" y="472"/>
                  </a:lnTo>
                  <a:lnTo>
                    <a:pt x="173" y="521"/>
                  </a:lnTo>
                  <a:lnTo>
                    <a:pt x="173" y="640"/>
                  </a:lnTo>
                  <a:lnTo>
                    <a:pt x="147" y="662"/>
                  </a:lnTo>
                  <a:lnTo>
                    <a:pt x="26" y="662"/>
                  </a:lnTo>
                  <a:lnTo>
                    <a:pt x="0" y="640"/>
                  </a:lnTo>
                  <a:lnTo>
                    <a:pt x="0" y="521"/>
                  </a:lnTo>
                  <a:lnTo>
                    <a:pt x="26" y="472"/>
                  </a:lnTo>
                  <a:lnTo>
                    <a:pt x="26" y="189"/>
                  </a:lnTo>
                  <a:lnTo>
                    <a:pt x="0" y="1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29400" y="4998960"/>
              <a:ext cx="97200" cy="238320"/>
            </a:xfrm>
            <a:custGeom>
              <a:avLst/>
              <a:gdLst/>
              <a:ahLst/>
              <a:rect l="0" t="0" r="r" b="b"/>
              <a:pathLst>
                <a:path w="270" h="662">
                  <a:moveTo>
                    <a:pt x="0" y="233"/>
                  </a:moveTo>
                  <a:lnTo>
                    <a:pt x="120" y="233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146" y="233"/>
                  </a:lnTo>
                  <a:lnTo>
                    <a:pt x="270" y="233"/>
                  </a:lnTo>
                  <a:lnTo>
                    <a:pt x="270" y="0"/>
                  </a:lnTo>
                  <a:lnTo>
                    <a:pt x="146" y="0"/>
                  </a:lnTo>
                  <a:lnTo>
                    <a:pt x="146" y="233"/>
                  </a:lnTo>
                  <a:lnTo>
                    <a:pt x="0" y="662"/>
                  </a:lnTo>
                  <a:lnTo>
                    <a:pt x="270" y="662"/>
                  </a:lnTo>
                  <a:lnTo>
                    <a:pt x="270" y="424"/>
                  </a:lnTo>
                  <a:lnTo>
                    <a:pt x="0" y="424"/>
                  </a:lnTo>
                  <a:lnTo>
                    <a:pt x="0" y="662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29400" y="513540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29400" y="51260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29400" y="511812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29400" y="511020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29400" y="510048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81600" y="501984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81600" y="50626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81600" y="504036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29400" y="501984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29400" y="50626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29400" y="504036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29400" y="521496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29400" y="51944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29400" y="517212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92760" y="515160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61080" y="515160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3000" y="5278320"/>
              <a:ext cx="359280" cy="111600"/>
            </a:xfrm>
            <a:custGeom>
              <a:avLst/>
              <a:gdLst/>
              <a:ahLst/>
              <a:rect l="0" t="0" r="r" b="b"/>
              <a:pathLst>
                <a:path w="998" h="310">
                  <a:moveTo>
                    <a:pt x="0" y="0"/>
                  </a:moveTo>
                  <a:lnTo>
                    <a:pt x="0" y="310"/>
                  </a:lnTo>
                  <a:lnTo>
                    <a:pt x="998" y="310"/>
                  </a:lnTo>
                  <a:lnTo>
                    <a:pt x="9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465880" y="5240160"/>
              <a:ext cx="515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 1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29320" y="5532480"/>
              <a:ext cx="214560" cy="273240"/>
            </a:xfrm>
            <a:custGeom>
              <a:avLst/>
              <a:gdLst/>
              <a:ahLst/>
              <a:rect l="0" t="0" r="r" b="b"/>
              <a:pathLst>
                <a:path w="596" h="759">
                  <a:moveTo>
                    <a:pt x="0" y="759"/>
                  </a:moveTo>
                  <a:lnTo>
                    <a:pt x="596" y="759"/>
                  </a:lnTo>
                  <a:lnTo>
                    <a:pt x="596" y="0"/>
                  </a:lnTo>
                  <a:lnTo>
                    <a:pt x="0" y="0"/>
                  </a:lnTo>
                  <a:lnTo>
                    <a:pt x="0" y="75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48400" y="5549760"/>
              <a:ext cx="62280" cy="238320"/>
            </a:xfrm>
            <a:custGeom>
              <a:avLst/>
              <a:gdLst/>
              <a:ahLst/>
              <a:rect l="0" t="0" r="r" b="b"/>
              <a:pathLst>
                <a:path fill="none" w="173" h="662">
                  <a:moveTo>
                    <a:pt x="0" y="141"/>
                  </a:moveTo>
                  <a:lnTo>
                    <a:pt x="0" y="22"/>
                  </a:lnTo>
                  <a:lnTo>
                    <a:pt x="26" y="0"/>
                  </a:lnTo>
                  <a:lnTo>
                    <a:pt x="147" y="0"/>
                  </a:lnTo>
                  <a:lnTo>
                    <a:pt x="173" y="22"/>
                  </a:lnTo>
                  <a:lnTo>
                    <a:pt x="173" y="141"/>
                  </a:lnTo>
                  <a:lnTo>
                    <a:pt x="147" y="189"/>
                  </a:lnTo>
                  <a:lnTo>
                    <a:pt x="147" y="472"/>
                  </a:lnTo>
                  <a:lnTo>
                    <a:pt x="173" y="521"/>
                  </a:lnTo>
                  <a:lnTo>
                    <a:pt x="173" y="640"/>
                  </a:lnTo>
                  <a:lnTo>
                    <a:pt x="147" y="662"/>
                  </a:lnTo>
                  <a:lnTo>
                    <a:pt x="26" y="662"/>
                  </a:lnTo>
                  <a:lnTo>
                    <a:pt x="0" y="640"/>
                  </a:lnTo>
                  <a:lnTo>
                    <a:pt x="0" y="521"/>
                  </a:lnTo>
                  <a:lnTo>
                    <a:pt x="26" y="472"/>
                  </a:lnTo>
                  <a:lnTo>
                    <a:pt x="26" y="189"/>
                  </a:lnTo>
                  <a:lnTo>
                    <a:pt x="0" y="1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29400" y="5549760"/>
              <a:ext cx="97200" cy="238320"/>
            </a:xfrm>
            <a:custGeom>
              <a:avLst/>
              <a:gdLst/>
              <a:ahLst/>
              <a:rect l="0" t="0" r="r" b="b"/>
              <a:pathLst>
                <a:path w="270" h="662">
                  <a:moveTo>
                    <a:pt x="0" y="238"/>
                  </a:moveTo>
                  <a:lnTo>
                    <a:pt x="120" y="238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238"/>
                  </a:lnTo>
                  <a:lnTo>
                    <a:pt x="146" y="238"/>
                  </a:lnTo>
                  <a:lnTo>
                    <a:pt x="270" y="238"/>
                  </a:lnTo>
                  <a:lnTo>
                    <a:pt x="270" y="0"/>
                  </a:lnTo>
                  <a:lnTo>
                    <a:pt x="146" y="0"/>
                  </a:lnTo>
                  <a:lnTo>
                    <a:pt x="146" y="238"/>
                  </a:lnTo>
                  <a:lnTo>
                    <a:pt x="0" y="662"/>
                  </a:lnTo>
                  <a:lnTo>
                    <a:pt x="270" y="662"/>
                  </a:lnTo>
                  <a:lnTo>
                    <a:pt x="270" y="424"/>
                  </a:lnTo>
                  <a:lnTo>
                    <a:pt x="0" y="424"/>
                  </a:lnTo>
                  <a:lnTo>
                    <a:pt x="0" y="662"/>
                  </a:lnTo>
                  <a:lnTo>
                    <a:pt x="0" y="2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29400" y="568656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9400" y="56786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9400" y="566892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9400" y="566100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29400" y="56516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81600" y="557064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81600" y="561348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81600" y="5591160"/>
              <a:ext cx="44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400" y="557064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9400" y="561348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29400" y="5591160"/>
              <a:ext cx="4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29400" y="576576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29400" y="574524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29400" y="5724360"/>
              <a:ext cx="96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92760" y="570240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61080" y="570240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53000" y="5829480"/>
              <a:ext cx="359280" cy="111600"/>
            </a:xfrm>
            <a:custGeom>
              <a:avLst/>
              <a:gdLst/>
              <a:ahLst/>
              <a:rect l="0" t="0" r="r" b="b"/>
              <a:pathLst>
                <a:path w="998" h="310">
                  <a:moveTo>
                    <a:pt x="0" y="0"/>
                  </a:moveTo>
                  <a:lnTo>
                    <a:pt x="0" y="310"/>
                  </a:lnTo>
                  <a:lnTo>
                    <a:pt x="998" y="310"/>
                  </a:lnTo>
                  <a:lnTo>
                    <a:pt x="9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5465880" y="5791320"/>
              <a:ext cx="515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one 6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11760" y="5376960"/>
              <a:ext cx="38520" cy="35280"/>
            </a:xfrm>
            <a:custGeom>
              <a:avLst/>
              <a:gdLst/>
              <a:ahLst/>
              <a:rect l="0" t="0" r="r" b="b"/>
              <a:pathLst>
                <a:path w="107" h="98">
                  <a:moveTo>
                    <a:pt x="0" y="48"/>
                  </a:moveTo>
                  <a:lnTo>
                    <a:pt x="4" y="26"/>
                  </a:lnTo>
                  <a:lnTo>
                    <a:pt x="13" y="13"/>
                  </a:lnTo>
                  <a:lnTo>
                    <a:pt x="36" y="0"/>
                  </a:lnTo>
                  <a:lnTo>
                    <a:pt x="53" y="0"/>
                  </a:lnTo>
                  <a:lnTo>
                    <a:pt x="75" y="0"/>
                  </a:lnTo>
                  <a:lnTo>
                    <a:pt x="94" y="13"/>
                  </a:lnTo>
                  <a:lnTo>
                    <a:pt x="103" y="26"/>
                  </a:lnTo>
                  <a:lnTo>
                    <a:pt x="107" y="48"/>
                  </a:lnTo>
                  <a:lnTo>
                    <a:pt x="103" y="71"/>
                  </a:lnTo>
                  <a:lnTo>
                    <a:pt x="94" y="84"/>
                  </a:lnTo>
                  <a:lnTo>
                    <a:pt x="75" y="98"/>
                  </a:lnTo>
                  <a:lnTo>
                    <a:pt x="53" y="98"/>
                  </a:lnTo>
                  <a:lnTo>
                    <a:pt x="36" y="98"/>
                  </a:lnTo>
                  <a:lnTo>
                    <a:pt x="13" y="84"/>
                  </a:lnTo>
                  <a:lnTo>
                    <a:pt x="4" y="7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1760" y="547200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0" y="53"/>
                  </a:moveTo>
                  <a:lnTo>
                    <a:pt x="4" y="36"/>
                  </a:lnTo>
                  <a:lnTo>
                    <a:pt x="13" y="17"/>
                  </a:lnTo>
                  <a:lnTo>
                    <a:pt x="36" y="4"/>
                  </a:lnTo>
                  <a:lnTo>
                    <a:pt x="53" y="0"/>
                  </a:lnTo>
                  <a:lnTo>
                    <a:pt x="75" y="4"/>
                  </a:lnTo>
                  <a:lnTo>
                    <a:pt x="94" y="17"/>
                  </a:lnTo>
                  <a:lnTo>
                    <a:pt x="103" y="36"/>
                  </a:lnTo>
                  <a:lnTo>
                    <a:pt x="107" y="53"/>
                  </a:lnTo>
                  <a:lnTo>
                    <a:pt x="103" y="71"/>
                  </a:lnTo>
                  <a:lnTo>
                    <a:pt x="94" y="90"/>
                  </a:lnTo>
                  <a:lnTo>
                    <a:pt x="75" y="103"/>
                  </a:lnTo>
                  <a:lnTo>
                    <a:pt x="53" y="107"/>
                  </a:lnTo>
                  <a:lnTo>
                    <a:pt x="36" y="103"/>
                  </a:lnTo>
                  <a:lnTo>
                    <a:pt x="13" y="90"/>
                  </a:lnTo>
                  <a:lnTo>
                    <a:pt x="4" y="71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11760" y="5427720"/>
              <a:ext cx="38520" cy="36720"/>
            </a:xfrm>
            <a:custGeom>
              <a:avLst/>
              <a:gdLst/>
              <a:ahLst/>
              <a:rect l="0" t="0" r="r" b="b"/>
              <a:pathLst>
                <a:path w="107" h="102">
                  <a:moveTo>
                    <a:pt x="0" y="48"/>
                  </a:moveTo>
                  <a:lnTo>
                    <a:pt x="4" y="30"/>
                  </a:lnTo>
                  <a:lnTo>
                    <a:pt x="13" y="13"/>
                  </a:lnTo>
                  <a:lnTo>
                    <a:pt x="36" y="4"/>
                  </a:lnTo>
                  <a:lnTo>
                    <a:pt x="53" y="0"/>
                  </a:lnTo>
                  <a:lnTo>
                    <a:pt x="75" y="4"/>
                  </a:lnTo>
                  <a:lnTo>
                    <a:pt x="94" y="13"/>
                  </a:lnTo>
                  <a:lnTo>
                    <a:pt x="103" y="30"/>
                  </a:lnTo>
                  <a:lnTo>
                    <a:pt x="107" y="48"/>
                  </a:lnTo>
                  <a:lnTo>
                    <a:pt x="103" y="71"/>
                  </a:lnTo>
                  <a:lnTo>
                    <a:pt x="94" y="89"/>
                  </a:lnTo>
                  <a:lnTo>
                    <a:pt x="75" y="98"/>
                  </a:lnTo>
                  <a:lnTo>
                    <a:pt x="53" y="102"/>
                  </a:lnTo>
                  <a:lnTo>
                    <a:pt x="36" y="98"/>
                  </a:lnTo>
                  <a:lnTo>
                    <a:pt x="13" y="89"/>
                  </a:lnTo>
                  <a:lnTo>
                    <a:pt x="4" y="71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94400" y="4675320"/>
              <a:ext cx="833760" cy="178200"/>
            </a:xfrm>
            <a:custGeom>
              <a:avLst/>
              <a:gdLst/>
              <a:ahLst/>
              <a:rect l="0" t="0" r="r" b="b"/>
              <a:pathLst>
                <a:path w="2316" h="495">
                  <a:moveTo>
                    <a:pt x="0" y="495"/>
                  </a:moveTo>
                  <a:lnTo>
                    <a:pt x="2316" y="495"/>
                  </a:lnTo>
                  <a:lnTo>
                    <a:pt x="2316" y="0"/>
                  </a:lnTo>
                  <a:lnTo>
                    <a:pt x="0" y="0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594400" y="4554360"/>
              <a:ext cx="828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chnica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649840" y="4718160"/>
              <a:ext cx="719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70840" y="4199040"/>
              <a:ext cx="286200" cy="408240"/>
            </a:xfrm>
            <a:custGeom>
              <a:avLst/>
              <a:gdLst/>
              <a:ahLst/>
              <a:rect l="0" t="0" r="r" b="b"/>
              <a:pathLst>
                <a:path w="795" h="1134">
                  <a:moveTo>
                    <a:pt x="0" y="0"/>
                  </a:moveTo>
                  <a:lnTo>
                    <a:pt x="525" y="578"/>
                  </a:lnTo>
                  <a:lnTo>
                    <a:pt x="358" y="591"/>
                  </a:lnTo>
                  <a:lnTo>
                    <a:pt x="795" y="1134"/>
                  </a:lnTo>
                  <a:lnTo>
                    <a:pt x="274" y="555"/>
                  </a:lnTo>
                  <a:lnTo>
                    <a:pt x="437" y="5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61120" y="3876840"/>
              <a:ext cx="356040" cy="63720"/>
            </a:xfrm>
            <a:custGeom>
              <a:avLst/>
              <a:gdLst/>
              <a:ahLst/>
              <a:rect l="0" t="0" r="r" b="b"/>
              <a:pathLst>
                <a:path w="989" h="177">
                  <a:moveTo>
                    <a:pt x="0" y="39"/>
                  </a:moveTo>
                  <a:lnTo>
                    <a:pt x="561" y="0"/>
                  </a:lnTo>
                  <a:lnTo>
                    <a:pt x="490" y="137"/>
                  </a:lnTo>
                  <a:lnTo>
                    <a:pt x="989" y="137"/>
                  </a:lnTo>
                  <a:lnTo>
                    <a:pt x="428" y="177"/>
                  </a:lnTo>
                  <a:lnTo>
                    <a:pt x="499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6000" y="5118120"/>
              <a:ext cx="1903680" cy="84600"/>
            </a:xfrm>
            <a:custGeom>
              <a:avLst/>
              <a:gdLst/>
              <a:ahLst/>
              <a:rect l="0" t="0" r="r" b="b"/>
              <a:pathLst>
                <a:path w="5288" h="235">
                  <a:moveTo>
                    <a:pt x="0" y="235"/>
                  </a:moveTo>
                  <a:lnTo>
                    <a:pt x="2937" y="8"/>
                  </a:lnTo>
                  <a:lnTo>
                    <a:pt x="2646" y="164"/>
                  </a:lnTo>
                  <a:lnTo>
                    <a:pt x="5288" y="0"/>
                  </a:lnTo>
                  <a:lnTo>
                    <a:pt x="2354" y="226"/>
                  </a:lnTo>
                  <a:lnTo>
                    <a:pt x="2641" y="71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26000" y="5202360"/>
              <a:ext cx="1903680" cy="466920"/>
            </a:xfrm>
            <a:custGeom>
              <a:avLst/>
              <a:gdLst/>
              <a:ahLst/>
              <a:rect l="0" t="0" r="r" b="b"/>
              <a:pathLst>
                <a:path w="5288" h="1297">
                  <a:moveTo>
                    <a:pt x="0" y="0"/>
                  </a:moveTo>
                  <a:lnTo>
                    <a:pt x="2964" y="630"/>
                  </a:lnTo>
                  <a:lnTo>
                    <a:pt x="2632" y="697"/>
                  </a:lnTo>
                  <a:lnTo>
                    <a:pt x="5288" y="1297"/>
                  </a:lnTo>
                  <a:lnTo>
                    <a:pt x="2328" y="666"/>
                  </a:lnTo>
                  <a:lnTo>
                    <a:pt x="2660" y="5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16640" y="2624040"/>
              <a:ext cx="654480" cy="66960"/>
            </a:xfrm>
            <a:custGeom>
              <a:avLst/>
              <a:gdLst/>
              <a:ahLst/>
              <a:rect l="0" t="0" r="r" b="b"/>
              <a:pathLst>
                <a:path w="1818" h="186">
                  <a:moveTo>
                    <a:pt x="0" y="83"/>
                  </a:moveTo>
                  <a:lnTo>
                    <a:pt x="1010" y="0"/>
                  </a:lnTo>
                  <a:lnTo>
                    <a:pt x="909" y="142"/>
                  </a:lnTo>
                  <a:lnTo>
                    <a:pt x="1818" y="98"/>
                  </a:lnTo>
                  <a:lnTo>
                    <a:pt x="807" y="186"/>
                  </a:lnTo>
                  <a:lnTo>
                    <a:pt x="913" y="44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63920" y="3281400"/>
              <a:ext cx="617400" cy="41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081320" y="328140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081320" y="3281400"/>
              <a:ext cx="1922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081320" y="3281400"/>
              <a:ext cx="679680" cy="558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081320" y="2654280"/>
              <a:ext cx="358920" cy="62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18080" y="2784600"/>
              <a:ext cx="363240" cy="49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9440" y="3097080"/>
              <a:ext cx="191880" cy="18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792600" y="3281400"/>
              <a:ext cx="288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95760" y="2914560"/>
              <a:ext cx="770400" cy="733680"/>
            </a:xfrm>
            <a:custGeom>
              <a:avLst/>
              <a:gdLst/>
              <a:ahLst/>
              <a:rect l="0" t="0" r="r" b="b"/>
              <a:pathLst>
                <a:path w="2140" h="2038">
                  <a:moveTo>
                    <a:pt x="0" y="1018"/>
                  </a:moveTo>
                  <a:lnTo>
                    <a:pt x="8" y="917"/>
                  </a:lnTo>
                  <a:lnTo>
                    <a:pt x="22" y="820"/>
                  </a:lnTo>
                  <a:lnTo>
                    <a:pt x="48" y="718"/>
                  </a:lnTo>
                  <a:lnTo>
                    <a:pt x="83" y="626"/>
                  </a:lnTo>
                  <a:lnTo>
                    <a:pt x="127" y="537"/>
                  </a:lnTo>
                  <a:lnTo>
                    <a:pt x="180" y="449"/>
                  </a:lnTo>
                  <a:lnTo>
                    <a:pt x="246" y="370"/>
                  </a:lnTo>
                  <a:lnTo>
                    <a:pt x="313" y="295"/>
                  </a:lnTo>
                  <a:lnTo>
                    <a:pt x="392" y="229"/>
                  </a:lnTo>
                  <a:lnTo>
                    <a:pt x="476" y="171"/>
                  </a:lnTo>
                  <a:lnTo>
                    <a:pt x="569" y="119"/>
                  </a:lnTo>
                  <a:lnTo>
                    <a:pt x="662" y="74"/>
                  </a:lnTo>
                  <a:lnTo>
                    <a:pt x="763" y="39"/>
                  </a:lnTo>
                  <a:lnTo>
                    <a:pt x="860" y="17"/>
                  </a:lnTo>
                  <a:lnTo>
                    <a:pt x="966" y="4"/>
                  </a:lnTo>
                  <a:lnTo>
                    <a:pt x="1072" y="0"/>
                  </a:lnTo>
                  <a:lnTo>
                    <a:pt x="1178" y="4"/>
                  </a:lnTo>
                  <a:lnTo>
                    <a:pt x="1279" y="17"/>
                  </a:lnTo>
                  <a:lnTo>
                    <a:pt x="1381" y="39"/>
                  </a:lnTo>
                  <a:lnTo>
                    <a:pt x="1482" y="74"/>
                  </a:lnTo>
                  <a:lnTo>
                    <a:pt x="1575" y="119"/>
                  </a:lnTo>
                  <a:lnTo>
                    <a:pt x="1664" y="171"/>
                  </a:lnTo>
                  <a:lnTo>
                    <a:pt x="1748" y="229"/>
                  </a:lnTo>
                  <a:lnTo>
                    <a:pt x="1827" y="295"/>
                  </a:lnTo>
                  <a:lnTo>
                    <a:pt x="1898" y="370"/>
                  </a:lnTo>
                  <a:lnTo>
                    <a:pt x="1959" y="449"/>
                  </a:lnTo>
                  <a:lnTo>
                    <a:pt x="2012" y="537"/>
                  </a:lnTo>
                  <a:lnTo>
                    <a:pt x="2056" y="626"/>
                  </a:lnTo>
                  <a:lnTo>
                    <a:pt x="2096" y="718"/>
                  </a:lnTo>
                  <a:lnTo>
                    <a:pt x="2118" y="820"/>
                  </a:lnTo>
                  <a:lnTo>
                    <a:pt x="2136" y="917"/>
                  </a:lnTo>
                  <a:lnTo>
                    <a:pt x="2140" y="1018"/>
                  </a:lnTo>
                  <a:lnTo>
                    <a:pt x="2136" y="1116"/>
                  </a:lnTo>
                  <a:lnTo>
                    <a:pt x="2118" y="1218"/>
                  </a:lnTo>
                  <a:lnTo>
                    <a:pt x="2096" y="1315"/>
                  </a:lnTo>
                  <a:lnTo>
                    <a:pt x="2056" y="1407"/>
                  </a:lnTo>
                  <a:lnTo>
                    <a:pt x="2012" y="1495"/>
                  </a:lnTo>
                  <a:lnTo>
                    <a:pt x="1959" y="1584"/>
                  </a:lnTo>
                  <a:lnTo>
                    <a:pt x="1898" y="1663"/>
                  </a:lnTo>
                  <a:lnTo>
                    <a:pt x="1827" y="1738"/>
                  </a:lnTo>
                  <a:lnTo>
                    <a:pt x="1748" y="1804"/>
                  </a:lnTo>
                  <a:lnTo>
                    <a:pt x="1664" y="1866"/>
                  </a:lnTo>
                  <a:lnTo>
                    <a:pt x="1575" y="1914"/>
                  </a:lnTo>
                  <a:lnTo>
                    <a:pt x="1482" y="1958"/>
                  </a:lnTo>
                  <a:lnTo>
                    <a:pt x="1381" y="1994"/>
                  </a:lnTo>
                  <a:lnTo>
                    <a:pt x="1279" y="2016"/>
                  </a:lnTo>
                  <a:lnTo>
                    <a:pt x="1178" y="2033"/>
                  </a:lnTo>
                  <a:lnTo>
                    <a:pt x="1072" y="2038"/>
                  </a:lnTo>
                  <a:lnTo>
                    <a:pt x="966" y="2033"/>
                  </a:lnTo>
                  <a:lnTo>
                    <a:pt x="860" y="2016"/>
                  </a:lnTo>
                  <a:lnTo>
                    <a:pt x="763" y="1994"/>
                  </a:lnTo>
                  <a:lnTo>
                    <a:pt x="662" y="1958"/>
                  </a:lnTo>
                  <a:lnTo>
                    <a:pt x="569" y="1914"/>
                  </a:lnTo>
                  <a:lnTo>
                    <a:pt x="476" y="1866"/>
                  </a:lnTo>
                  <a:lnTo>
                    <a:pt x="392" y="1804"/>
                  </a:lnTo>
                  <a:lnTo>
                    <a:pt x="313" y="1738"/>
                  </a:lnTo>
                  <a:lnTo>
                    <a:pt x="246" y="1663"/>
                  </a:lnTo>
                  <a:lnTo>
                    <a:pt x="180" y="1584"/>
                  </a:lnTo>
                  <a:lnTo>
                    <a:pt x="127" y="1495"/>
                  </a:lnTo>
                  <a:lnTo>
                    <a:pt x="83" y="1407"/>
                  </a:lnTo>
                  <a:lnTo>
                    <a:pt x="48" y="1315"/>
                  </a:lnTo>
                  <a:lnTo>
                    <a:pt x="22" y="1218"/>
                  </a:lnTo>
                  <a:lnTo>
                    <a:pt x="8" y="1116"/>
                  </a:lnTo>
                  <a:lnTo>
                    <a:pt x="0" y="10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41840" y="3111480"/>
              <a:ext cx="668520" cy="329040"/>
            </a:xfrm>
            <a:custGeom>
              <a:avLst/>
              <a:gdLst/>
              <a:ahLst/>
              <a:rect l="0" t="0" r="r" b="b"/>
              <a:pathLst>
                <a:path w="1857" h="914">
                  <a:moveTo>
                    <a:pt x="0" y="0"/>
                  </a:moveTo>
                  <a:lnTo>
                    <a:pt x="0" y="914"/>
                  </a:lnTo>
                  <a:lnTo>
                    <a:pt x="1857" y="914"/>
                  </a:lnTo>
                  <a:lnTo>
                    <a:pt x="18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3656160" y="3067200"/>
              <a:ext cx="8366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3714840" y="3230640"/>
              <a:ext cx="7192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02120" y="2239920"/>
              <a:ext cx="713160" cy="545040"/>
            </a:xfrm>
            <a:custGeom>
              <a:avLst/>
              <a:gdLst/>
              <a:ahLst/>
              <a:rect l="0" t="0" r="r" b="b"/>
              <a:pathLst>
                <a:path w="1981" h="1514">
                  <a:moveTo>
                    <a:pt x="0" y="1514"/>
                  </a:moveTo>
                  <a:lnTo>
                    <a:pt x="0" y="1483"/>
                  </a:lnTo>
                  <a:lnTo>
                    <a:pt x="198" y="1391"/>
                  </a:lnTo>
                  <a:lnTo>
                    <a:pt x="198" y="0"/>
                  </a:lnTo>
                  <a:lnTo>
                    <a:pt x="728" y="0"/>
                  </a:lnTo>
                  <a:lnTo>
                    <a:pt x="728" y="1391"/>
                  </a:lnTo>
                  <a:lnTo>
                    <a:pt x="940" y="1483"/>
                  </a:lnTo>
                  <a:lnTo>
                    <a:pt x="940" y="1514"/>
                  </a:lnTo>
                  <a:lnTo>
                    <a:pt x="0" y="1514"/>
                  </a:lnTo>
                  <a:lnTo>
                    <a:pt x="794" y="1302"/>
                  </a:lnTo>
                  <a:lnTo>
                    <a:pt x="979" y="1302"/>
                  </a:lnTo>
                  <a:lnTo>
                    <a:pt x="1182" y="1355"/>
                  </a:lnTo>
                  <a:lnTo>
                    <a:pt x="1182" y="1461"/>
                  </a:lnTo>
                  <a:lnTo>
                    <a:pt x="979" y="1461"/>
                  </a:lnTo>
                  <a:lnTo>
                    <a:pt x="979" y="1514"/>
                  </a:lnTo>
                  <a:lnTo>
                    <a:pt x="1796" y="1514"/>
                  </a:lnTo>
                  <a:lnTo>
                    <a:pt x="1796" y="1461"/>
                  </a:lnTo>
                  <a:lnTo>
                    <a:pt x="1593" y="1461"/>
                  </a:lnTo>
                  <a:lnTo>
                    <a:pt x="1593" y="1355"/>
                  </a:lnTo>
                  <a:lnTo>
                    <a:pt x="1796" y="1302"/>
                  </a:lnTo>
                  <a:lnTo>
                    <a:pt x="1981" y="1302"/>
                  </a:lnTo>
                  <a:lnTo>
                    <a:pt x="1981" y="380"/>
                  </a:lnTo>
                  <a:lnTo>
                    <a:pt x="794" y="380"/>
                  </a:lnTo>
                  <a:lnTo>
                    <a:pt x="794" y="1302"/>
                  </a:lnTo>
                  <a:lnTo>
                    <a:pt x="0" y="15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73400" y="27399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63840" y="2739960"/>
              <a:ext cx="0" cy="4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33880" y="2409840"/>
              <a:ext cx="6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0920" y="235440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97160" y="2262240"/>
              <a:ext cx="143280" cy="319320"/>
            </a:xfrm>
            <a:custGeom>
              <a:avLst/>
              <a:gdLst/>
              <a:ahLst/>
              <a:rect l="0" t="0" r="r" b="b"/>
              <a:pathLst>
                <a:path fill="none" w="398" h="887">
                  <a:moveTo>
                    <a:pt x="0" y="0"/>
                  </a:moveTo>
                  <a:lnTo>
                    <a:pt x="398" y="0"/>
                  </a:lnTo>
                  <a:lnTo>
                    <a:pt x="398" y="887"/>
                  </a:lnTo>
                  <a:lnTo>
                    <a:pt x="0" y="88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7280" y="276552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27280" y="2727360"/>
              <a:ext cx="14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4560" y="2708280"/>
              <a:ext cx="293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91040" y="2603520"/>
              <a:ext cx="154440" cy="147960"/>
            </a:xfrm>
            <a:custGeom>
              <a:avLst/>
              <a:gdLst/>
              <a:ahLst/>
              <a:rect l="0" t="0" r="r" b="b"/>
              <a:pathLst>
                <a:path w="429" h="411">
                  <a:moveTo>
                    <a:pt x="0" y="252"/>
                  </a:moveTo>
                  <a:lnTo>
                    <a:pt x="30" y="25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66" y="252"/>
                  </a:lnTo>
                  <a:lnTo>
                    <a:pt x="97" y="252"/>
                  </a:lnTo>
                  <a:lnTo>
                    <a:pt x="97" y="0"/>
                  </a:lnTo>
                  <a:lnTo>
                    <a:pt x="66" y="0"/>
                  </a:lnTo>
                  <a:lnTo>
                    <a:pt x="66" y="252"/>
                  </a:lnTo>
                  <a:lnTo>
                    <a:pt x="133" y="252"/>
                  </a:lnTo>
                  <a:lnTo>
                    <a:pt x="164" y="252"/>
                  </a:lnTo>
                  <a:lnTo>
                    <a:pt x="164" y="0"/>
                  </a:lnTo>
                  <a:lnTo>
                    <a:pt x="133" y="0"/>
                  </a:lnTo>
                  <a:lnTo>
                    <a:pt x="133" y="252"/>
                  </a:lnTo>
                  <a:lnTo>
                    <a:pt x="199" y="252"/>
                  </a:lnTo>
                  <a:lnTo>
                    <a:pt x="230" y="252"/>
                  </a:lnTo>
                  <a:lnTo>
                    <a:pt x="230" y="0"/>
                  </a:lnTo>
                  <a:lnTo>
                    <a:pt x="199" y="0"/>
                  </a:lnTo>
                  <a:lnTo>
                    <a:pt x="199" y="252"/>
                  </a:lnTo>
                  <a:lnTo>
                    <a:pt x="265" y="252"/>
                  </a:lnTo>
                  <a:lnTo>
                    <a:pt x="296" y="252"/>
                  </a:lnTo>
                  <a:lnTo>
                    <a:pt x="296" y="0"/>
                  </a:lnTo>
                  <a:lnTo>
                    <a:pt x="265" y="0"/>
                  </a:lnTo>
                  <a:lnTo>
                    <a:pt x="265" y="252"/>
                  </a:lnTo>
                  <a:lnTo>
                    <a:pt x="332" y="252"/>
                  </a:lnTo>
                  <a:lnTo>
                    <a:pt x="363" y="252"/>
                  </a:lnTo>
                  <a:lnTo>
                    <a:pt x="363" y="0"/>
                  </a:lnTo>
                  <a:lnTo>
                    <a:pt x="332" y="0"/>
                  </a:lnTo>
                  <a:lnTo>
                    <a:pt x="332" y="252"/>
                  </a:lnTo>
                  <a:lnTo>
                    <a:pt x="398" y="252"/>
                  </a:lnTo>
                  <a:lnTo>
                    <a:pt x="429" y="252"/>
                  </a:lnTo>
                  <a:lnTo>
                    <a:pt x="429" y="0"/>
                  </a:lnTo>
                  <a:lnTo>
                    <a:pt x="398" y="0"/>
                  </a:lnTo>
                  <a:lnTo>
                    <a:pt x="398" y="252"/>
                  </a:lnTo>
                  <a:lnTo>
                    <a:pt x="398" y="411"/>
                  </a:lnTo>
                  <a:lnTo>
                    <a:pt x="429" y="411"/>
                  </a:lnTo>
                  <a:lnTo>
                    <a:pt x="429" y="283"/>
                  </a:lnTo>
                  <a:lnTo>
                    <a:pt x="398" y="283"/>
                  </a:lnTo>
                  <a:lnTo>
                    <a:pt x="398" y="411"/>
                  </a:lnTo>
                  <a:lnTo>
                    <a:pt x="332" y="411"/>
                  </a:lnTo>
                  <a:lnTo>
                    <a:pt x="363" y="411"/>
                  </a:lnTo>
                  <a:lnTo>
                    <a:pt x="363" y="283"/>
                  </a:lnTo>
                  <a:lnTo>
                    <a:pt x="332" y="283"/>
                  </a:lnTo>
                  <a:lnTo>
                    <a:pt x="332" y="411"/>
                  </a:lnTo>
                  <a:lnTo>
                    <a:pt x="265" y="411"/>
                  </a:lnTo>
                  <a:lnTo>
                    <a:pt x="296" y="411"/>
                  </a:lnTo>
                  <a:lnTo>
                    <a:pt x="296" y="283"/>
                  </a:lnTo>
                  <a:lnTo>
                    <a:pt x="265" y="283"/>
                  </a:lnTo>
                  <a:lnTo>
                    <a:pt x="265" y="411"/>
                  </a:lnTo>
                  <a:lnTo>
                    <a:pt x="199" y="411"/>
                  </a:lnTo>
                  <a:lnTo>
                    <a:pt x="230" y="411"/>
                  </a:lnTo>
                  <a:lnTo>
                    <a:pt x="230" y="283"/>
                  </a:lnTo>
                  <a:lnTo>
                    <a:pt x="199" y="283"/>
                  </a:lnTo>
                  <a:lnTo>
                    <a:pt x="199" y="411"/>
                  </a:lnTo>
                  <a:lnTo>
                    <a:pt x="133" y="411"/>
                  </a:lnTo>
                  <a:lnTo>
                    <a:pt x="164" y="411"/>
                  </a:lnTo>
                  <a:lnTo>
                    <a:pt x="164" y="283"/>
                  </a:lnTo>
                  <a:lnTo>
                    <a:pt x="133" y="283"/>
                  </a:lnTo>
                  <a:lnTo>
                    <a:pt x="133" y="411"/>
                  </a:lnTo>
                  <a:lnTo>
                    <a:pt x="66" y="411"/>
                  </a:lnTo>
                  <a:lnTo>
                    <a:pt x="97" y="411"/>
                  </a:lnTo>
                  <a:lnTo>
                    <a:pt x="97" y="283"/>
                  </a:lnTo>
                  <a:lnTo>
                    <a:pt x="66" y="283"/>
                  </a:lnTo>
                  <a:lnTo>
                    <a:pt x="66" y="411"/>
                  </a:lnTo>
                  <a:lnTo>
                    <a:pt x="0" y="411"/>
                  </a:lnTo>
                  <a:lnTo>
                    <a:pt x="30" y="411"/>
                  </a:lnTo>
                  <a:lnTo>
                    <a:pt x="30" y="283"/>
                  </a:lnTo>
                  <a:lnTo>
                    <a:pt x="0" y="283"/>
                  </a:lnTo>
                  <a:lnTo>
                    <a:pt x="0" y="411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09760" y="2273400"/>
              <a:ext cx="117720" cy="46440"/>
            </a:xfrm>
            <a:custGeom>
              <a:avLst/>
              <a:gdLst/>
              <a:ahLst/>
              <a:rect l="0" t="0" r="r" b="b"/>
              <a:pathLst>
                <a:path fill="none" w="327" h="129">
                  <a:moveTo>
                    <a:pt x="0" y="0"/>
                  </a:moveTo>
                  <a:lnTo>
                    <a:pt x="0" y="129"/>
                  </a:lnTo>
                  <a:lnTo>
                    <a:pt x="327" y="129"/>
                  </a:lnTo>
                  <a:lnTo>
                    <a:pt x="327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09760" y="2273400"/>
              <a:ext cx="117720" cy="12960"/>
            </a:xfrm>
            <a:custGeom>
              <a:avLst/>
              <a:gdLst/>
              <a:ahLst/>
              <a:rect l="0" t="0" r="r" b="b"/>
              <a:pathLst>
                <a:path fill="none" w="327" h="36">
                  <a:moveTo>
                    <a:pt x="0" y="0"/>
                  </a:moveTo>
                  <a:lnTo>
                    <a:pt x="30" y="36"/>
                  </a:lnTo>
                  <a:lnTo>
                    <a:pt x="296" y="36"/>
                  </a:lnTo>
                  <a:lnTo>
                    <a:pt x="32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09760" y="2330280"/>
              <a:ext cx="117720" cy="46440"/>
            </a:xfrm>
            <a:custGeom>
              <a:avLst/>
              <a:gdLst/>
              <a:ahLst/>
              <a:rect l="0" t="0" r="r" b="b"/>
              <a:pathLst>
                <a:path fill="none" w="327" h="129">
                  <a:moveTo>
                    <a:pt x="0" y="129"/>
                  </a:moveTo>
                  <a:lnTo>
                    <a:pt x="327" y="129"/>
                  </a:lnTo>
                  <a:lnTo>
                    <a:pt x="327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9760" y="2387520"/>
              <a:ext cx="117720" cy="44640"/>
            </a:xfrm>
            <a:custGeom>
              <a:avLst/>
              <a:gdLst/>
              <a:ahLst/>
              <a:rect l="0" t="0" r="r" b="b"/>
              <a:pathLst>
                <a:path fill="none" w="327" h="124">
                  <a:moveTo>
                    <a:pt x="0" y="124"/>
                  </a:moveTo>
                  <a:lnTo>
                    <a:pt x="327" y="124"/>
                  </a:lnTo>
                  <a:lnTo>
                    <a:pt x="327" y="0"/>
                  </a:ln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9760" y="2444760"/>
              <a:ext cx="117720" cy="44640"/>
            </a:xfrm>
            <a:custGeom>
              <a:avLst/>
              <a:gdLst/>
              <a:ahLst/>
              <a:rect l="0" t="0" r="r" b="b"/>
              <a:pathLst>
                <a:path fill="none" w="327" h="124">
                  <a:moveTo>
                    <a:pt x="0" y="124"/>
                  </a:moveTo>
                  <a:lnTo>
                    <a:pt x="327" y="124"/>
                  </a:lnTo>
                  <a:lnTo>
                    <a:pt x="327" y="0"/>
                  </a:lnTo>
                  <a:lnTo>
                    <a:pt x="0" y="0"/>
                  </a:lnTo>
                  <a:lnTo>
                    <a:pt x="0" y="12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9760" y="2500200"/>
              <a:ext cx="117720" cy="46440"/>
            </a:xfrm>
            <a:custGeom>
              <a:avLst/>
              <a:gdLst/>
              <a:ahLst/>
              <a:rect l="0" t="0" r="r" b="b"/>
              <a:pathLst>
                <a:path fill="none" w="327" h="129">
                  <a:moveTo>
                    <a:pt x="0" y="129"/>
                  </a:moveTo>
                  <a:lnTo>
                    <a:pt x="327" y="129"/>
                  </a:lnTo>
                  <a:lnTo>
                    <a:pt x="327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209760" y="228600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16320" y="228600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14800" y="248292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14800" y="247500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14800" y="246708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14800" y="245736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14800" y="2449440"/>
              <a:ext cx="7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68800" y="2341440"/>
              <a:ext cx="35280" cy="24120"/>
            </a:xfrm>
            <a:custGeom>
              <a:avLst/>
              <a:gdLst/>
              <a:ahLst/>
              <a:rect l="0" t="0" r="r" b="b"/>
              <a:pathLst>
                <a:path fill="none" w="98" h="67">
                  <a:moveTo>
                    <a:pt x="0" y="67"/>
                  </a:moveTo>
                  <a:lnTo>
                    <a:pt x="98" y="67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01920" y="2419200"/>
              <a:ext cx="16200" cy="5040"/>
            </a:xfrm>
            <a:custGeom>
              <a:avLst/>
              <a:gdLst/>
              <a:ahLst/>
              <a:rect l="0" t="0" r="r" b="b"/>
              <a:pathLst>
                <a:path fill="none" w="45" h="14">
                  <a:moveTo>
                    <a:pt x="0" y="14"/>
                  </a:moveTo>
                  <a:lnTo>
                    <a:pt x="45" y="1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01920" y="2449440"/>
              <a:ext cx="16200" cy="6840"/>
            </a:xfrm>
            <a:custGeom>
              <a:avLst/>
              <a:gdLst/>
              <a:ahLst/>
              <a:rect l="0" t="0" r="r" b="b"/>
              <a:pathLst>
                <a:path fill="none" w="45" h="19">
                  <a:moveTo>
                    <a:pt x="0" y="19"/>
                  </a:moveTo>
                  <a:lnTo>
                    <a:pt x="45" y="19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01920" y="2462040"/>
              <a:ext cx="16200" cy="5040"/>
            </a:xfrm>
            <a:custGeom>
              <a:avLst/>
              <a:gdLst/>
              <a:ahLst/>
              <a:rect l="0" t="0" r="r" b="b"/>
              <a:pathLst>
                <a:path fill="none" w="45" h="14">
                  <a:moveTo>
                    <a:pt x="0" y="14"/>
                  </a:moveTo>
                  <a:lnTo>
                    <a:pt x="45" y="14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49720" y="2405160"/>
              <a:ext cx="552960" cy="290880"/>
            </a:xfrm>
            <a:custGeom>
              <a:avLst/>
              <a:gdLst/>
              <a:ahLst/>
              <a:rect l="0" t="0" r="r" b="b"/>
              <a:pathLst>
                <a:path w="1536" h="808">
                  <a:moveTo>
                    <a:pt x="0" y="30"/>
                  </a:moveTo>
                  <a:lnTo>
                    <a:pt x="101" y="30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479" y="808"/>
                  </a:lnTo>
                  <a:lnTo>
                    <a:pt x="1536" y="808"/>
                  </a:lnTo>
                  <a:lnTo>
                    <a:pt x="1536" y="791"/>
                  </a:lnTo>
                  <a:lnTo>
                    <a:pt x="1479" y="791"/>
                  </a:lnTo>
                  <a:lnTo>
                    <a:pt x="1479" y="808"/>
                  </a:lnTo>
                  <a:lnTo>
                    <a:pt x="569" y="632"/>
                  </a:lnTo>
                  <a:lnTo>
                    <a:pt x="569" y="97"/>
                  </a:lnTo>
                  <a:lnTo>
                    <a:pt x="1386" y="97"/>
                  </a:lnTo>
                  <a:lnTo>
                    <a:pt x="1386" y="632"/>
                  </a:lnTo>
                  <a:lnTo>
                    <a:pt x="569" y="632"/>
                  </a:lnTo>
                  <a:lnTo>
                    <a:pt x="530" y="667"/>
                  </a:lnTo>
                  <a:lnTo>
                    <a:pt x="1426" y="667"/>
                  </a:lnTo>
                  <a:lnTo>
                    <a:pt x="1426" y="61"/>
                  </a:lnTo>
                  <a:lnTo>
                    <a:pt x="1461" y="61"/>
                  </a:lnTo>
                  <a:lnTo>
                    <a:pt x="1461" y="26"/>
                  </a:lnTo>
                  <a:lnTo>
                    <a:pt x="494" y="26"/>
                  </a:lnTo>
                  <a:lnTo>
                    <a:pt x="494" y="52"/>
                  </a:lnTo>
                  <a:lnTo>
                    <a:pt x="494" y="703"/>
                  </a:lnTo>
                  <a:lnTo>
                    <a:pt x="530" y="703"/>
                  </a:lnTo>
                  <a:lnTo>
                    <a:pt x="530" y="66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87600" y="2689200"/>
              <a:ext cx="214560" cy="19440"/>
            </a:xfrm>
            <a:custGeom>
              <a:avLst/>
              <a:gdLst/>
              <a:ahLst/>
              <a:rect l="0" t="0" r="r" b="b"/>
              <a:pathLst>
                <a:path fill="none" w="596" h="54">
                  <a:moveTo>
                    <a:pt x="0" y="0"/>
                  </a:moveTo>
                  <a:lnTo>
                    <a:pt x="596" y="0"/>
                  </a:lnTo>
                  <a:lnTo>
                    <a:pt x="596" y="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94160" y="26892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32160" y="2809800"/>
              <a:ext cx="243360" cy="128880"/>
            </a:xfrm>
            <a:custGeom>
              <a:avLst/>
              <a:gdLst/>
              <a:ahLst/>
              <a:rect l="0" t="0" r="r" b="b"/>
              <a:pathLst>
                <a:path w="676" h="358">
                  <a:moveTo>
                    <a:pt x="0" y="0"/>
                  </a:moveTo>
                  <a:lnTo>
                    <a:pt x="0" y="358"/>
                  </a:lnTo>
                  <a:lnTo>
                    <a:pt x="676" y="358"/>
                  </a:lnTo>
                  <a:lnTo>
                    <a:pt x="6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3244680" y="2771640"/>
              <a:ext cx="404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lly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40240" y="2246400"/>
              <a:ext cx="570240" cy="545040"/>
            </a:xfrm>
            <a:custGeom>
              <a:avLst/>
              <a:gdLst/>
              <a:ahLst/>
              <a:rect l="0" t="0" r="r" b="b"/>
              <a:pathLst>
                <a:path w="1584" h="1514">
                  <a:moveTo>
                    <a:pt x="348" y="993"/>
                  </a:moveTo>
                  <a:lnTo>
                    <a:pt x="0" y="993"/>
                  </a:lnTo>
                  <a:lnTo>
                    <a:pt x="0" y="1514"/>
                  </a:lnTo>
                  <a:lnTo>
                    <a:pt x="1584" y="1514"/>
                  </a:lnTo>
                  <a:lnTo>
                    <a:pt x="1584" y="993"/>
                  </a:lnTo>
                  <a:lnTo>
                    <a:pt x="1240" y="993"/>
                  </a:lnTo>
                  <a:lnTo>
                    <a:pt x="1240" y="922"/>
                  </a:lnTo>
                  <a:lnTo>
                    <a:pt x="1385" y="922"/>
                  </a:lnTo>
                  <a:lnTo>
                    <a:pt x="1385" y="0"/>
                  </a:lnTo>
                  <a:lnTo>
                    <a:pt x="198" y="0"/>
                  </a:lnTo>
                  <a:lnTo>
                    <a:pt x="198" y="922"/>
                  </a:lnTo>
                  <a:lnTo>
                    <a:pt x="348" y="922"/>
                  </a:lnTo>
                  <a:lnTo>
                    <a:pt x="348" y="99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65520" y="260352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65520" y="2577960"/>
              <a:ext cx="320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35440" y="2619360"/>
              <a:ext cx="232200" cy="154440"/>
            </a:xfrm>
            <a:custGeom>
              <a:avLst/>
              <a:gdLst/>
              <a:ahLst/>
              <a:rect l="0" t="0" r="r" b="b"/>
              <a:pathLst>
                <a:path w="645" h="429">
                  <a:moveTo>
                    <a:pt x="0" y="429"/>
                  </a:moveTo>
                  <a:lnTo>
                    <a:pt x="522" y="429"/>
                  </a:lnTo>
                  <a:lnTo>
                    <a:pt x="522" y="0"/>
                  </a:lnTo>
                  <a:lnTo>
                    <a:pt x="0" y="0"/>
                  </a:lnTo>
                  <a:lnTo>
                    <a:pt x="0" y="429"/>
                  </a:lnTo>
                  <a:lnTo>
                    <a:pt x="566" y="74"/>
                  </a:lnTo>
                  <a:lnTo>
                    <a:pt x="645" y="74"/>
                  </a:lnTo>
                  <a:lnTo>
                    <a:pt x="645" y="0"/>
                  </a:lnTo>
                  <a:lnTo>
                    <a:pt x="566" y="0"/>
                  </a:lnTo>
                  <a:lnTo>
                    <a:pt x="566" y="74"/>
                  </a:lnTo>
                  <a:lnTo>
                    <a:pt x="0" y="42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35440" y="267192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35440" y="272268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43360" y="269712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42000" y="2679840"/>
              <a:ext cx="54360" cy="35280"/>
            </a:xfrm>
            <a:custGeom>
              <a:avLst/>
              <a:gdLst/>
              <a:ahLst/>
              <a:rect l="0" t="0" r="r" b="b"/>
              <a:pathLst>
                <a:path fill="none" w="151" h="98">
                  <a:moveTo>
                    <a:pt x="0" y="98"/>
                  </a:moveTo>
                  <a:lnTo>
                    <a:pt x="151" y="98"/>
                  </a:lnTo>
                  <a:lnTo>
                    <a:pt x="151" y="0"/>
                  </a:lnTo>
                  <a:lnTo>
                    <a:pt x="0" y="0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7880" y="2284560"/>
              <a:ext cx="536760" cy="365400"/>
            </a:xfrm>
            <a:custGeom>
              <a:avLst/>
              <a:gdLst/>
              <a:ahLst/>
              <a:rect l="0" t="0" r="r" b="b"/>
              <a:pathLst>
                <a:path w="1491" h="1015">
                  <a:moveTo>
                    <a:pt x="1248" y="724"/>
                  </a:moveTo>
                  <a:lnTo>
                    <a:pt x="1301" y="724"/>
                  </a:lnTo>
                  <a:lnTo>
                    <a:pt x="1301" y="706"/>
                  </a:lnTo>
                  <a:lnTo>
                    <a:pt x="1248" y="706"/>
                  </a:lnTo>
                  <a:lnTo>
                    <a:pt x="1248" y="724"/>
                  </a:lnTo>
                  <a:lnTo>
                    <a:pt x="335" y="600"/>
                  </a:lnTo>
                  <a:lnTo>
                    <a:pt x="335" y="70"/>
                  </a:lnTo>
                  <a:lnTo>
                    <a:pt x="1156" y="70"/>
                  </a:lnTo>
                  <a:lnTo>
                    <a:pt x="1156" y="600"/>
                  </a:lnTo>
                  <a:lnTo>
                    <a:pt x="335" y="600"/>
                  </a:lnTo>
                  <a:lnTo>
                    <a:pt x="299" y="636"/>
                  </a:lnTo>
                  <a:lnTo>
                    <a:pt x="1191" y="636"/>
                  </a:lnTo>
                  <a:lnTo>
                    <a:pt x="1191" y="35"/>
                  </a:lnTo>
                  <a:lnTo>
                    <a:pt x="1226" y="35"/>
                  </a:lnTo>
                  <a:lnTo>
                    <a:pt x="1226" y="0"/>
                  </a:lnTo>
                  <a:lnTo>
                    <a:pt x="260" y="0"/>
                  </a:lnTo>
                  <a:lnTo>
                    <a:pt x="260" y="671"/>
                  </a:lnTo>
                  <a:lnTo>
                    <a:pt x="299" y="671"/>
                  </a:lnTo>
                  <a:lnTo>
                    <a:pt x="299" y="636"/>
                  </a:lnTo>
                  <a:lnTo>
                    <a:pt x="0" y="979"/>
                  </a:lnTo>
                  <a:lnTo>
                    <a:pt x="149" y="979"/>
                  </a:lnTo>
                  <a:lnTo>
                    <a:pt x="149" y="931"/>
                  </a:lnTo>
                  <a:lnTo>
                    <a:pt x="0" y="931"/>
                  </a:lnTo>
                  <a:lnTo>
                    <a:pt x="0" y="979"/>
                  </a:lnTo>
                  <a:lnTo>
                    <a:pt x="869" y="1015"/>
                  </a:lnTo>
                  <a:lnTo>
                    <a:pt x="1191" y="1015"/>
                  </a:lnTo>
                  <a:lnTo>
                    <a:pt x="1191" y="993"/>
                  </a:lnTo>
                  <a:lnTo>
                    <a:pt x="869" y="993"/>
                  </a:lnTo>
                  <a:lnTo>
                    <a:pt x="869" y="1015"/>
                  </a:lnTo>
                  <a:lnTo>
                    <a:pt x="1438" y="957"/>
                  </a:lnTo>
                  <a:lnTo>
                    <a:pt x="1491" y="957"/>
                  </a:lnTo>
                  <a:lnTo>
                    <a:pt x="1491" y="931"/>
                  </a:lnTo>
                  <a:lnTo>
                    <a:pt x="1438" y="931"/>
                  </a:lnTo>
                  <a:lnTo>
                    <a:pt x="1438" y="957"/>
                  </a:lnTo>
                  <a:lnTo>
                    <a:pt x="1438" y="1006"/>
                  </a:lnTo>
                  <a:lnTo>
                    <a:pt x="1491" y="1006"/>
                  </a:lnTo>
                  <a:lnTo>
                    <a:pt x="1491" y="979"/>
                  </a:lnTo>
                  <a:lnTo>
                    <a:pt x="1438" y="979"/>
                  </a:lnTo>
                  <a:lnTo>
                    <a:pt x="1438" y="1006"/>
                  </a:lnTo>
                  <a:lnTo>
                    <a:pt x="1248" y="7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11520" y="2557440"/>
              <a:ext cx="427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618080" y="25574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726080" y="25574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32480" y="2814480"/>
              <a:ext cx="176400" cy="128880"/>
            </a:xfrm>
            <a:custGeom>
              <a:avLst/>
              <a:gdLst/>
              <a:ahLst/>
              <a:rect l="0" t="0" r="r" b="b"/>
              <a:pathLst>
                <a:path w="490" h="358">
                  <a:moveTo>
                    <a:pt x="0" y="0"/>
                  </a:moveTo>
                  <a:lnTo>
                    <a:pt x="0" y="358"/>
                  </a:lnTo>
                  <a:lnTo>
                    <a:pt x="490" y="358"/>
                  </a:lnTo>
                  <a:lnTo>
                    <a:pt x="49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>
              <a:off x="4546440" y="2778120"/>
              <a:ext cx="3430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i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91360" y="5224320"/>
              <a:ext cx="1713240" cy="76680"/>
            </a:xfrm>
            <a:custGeom>
              <a:avLst/>
              <a:gdLst/>
              <a:ahLst/>
              <a:rect l="0" t="0" r="r" b="b"/>
              <a:pathLst>
                <a:path w="4759" h="213">
                  <a:moveTo>
                    <a:pt x="57" y="200"/>
                  </a:moveTo>
                  <a:lnTo>
                    <a:pt x="44" y="196"/>
                  </a:lnTo>
                  <a:lnTo>
                    <a:pt x="30" y="182"/>
                  </a:lnTo>
                  <a:lnTo>
                    <a:pt x="22" y="159"/>
                  </a:lnTo>
                  <a:lnTo>
                    <a:pt x="17" y="133"/>
                  </a:lnTo>
                  <a:lnTo>
                    <a:pt x="13" y="106"/>
                  </a:lnTo>
                  <a:lnTo>
                    <a:pt x="17" y="75"/>
                  </a:lnTo>
                  <a:lnTo>
                    <a:pt x="22" y="48"/>
                  </a:lnTo>
                  <a:lnTo>
                    <a:pt x="30" y="30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70" y="17"/>
                  </a:lnTo>
                  <a:lnTo>
                    <a:pt x="79" y="30"/>
                  </a:lnTo>
                  <a:lnTo>
                    <a:pt x="92" y="48"/>
                  </a:lnTo>
                  <a:lnTo>
                    <a:pt x="97" y="75"/>
                  </a:lnTo>
                  <a:lnTo>
                    <a:pt x="101" y="106"/>
                  </a:lnTo>
                  <a:lnTo>
                    <a:pt x="97" y="133"/>
                  </a:lnTo>
                  <a:lnTo>
                    <a:pt x="92" y="159"/>
                  </a:lnTo>
                  <a:lnTo>
                    <a:pt x="79" y="182"/>
                  </a:lnTo>
                  <a:lnTo>
                    <a:pt x="70" y="196"/>
                  </a:lnTo>
                  <a:lnTo>
                    <a:pt x="57" y="200"/>
                  </a:lnTo>
                  <a:lnTo>
                    <a:pt x="57" y="0"/>
                  </a:lnTo>
                  <a:lnTo>
                    <a:pt x="4706" y="0"/>
                  </a:lnTo>
                  <a:lnTo>
                    <a:pt x="4723" y="4"/>
                  </a:lnTo>
                  <a:lnTo>
                    <a:pt x="4737" y="13"/>
                  </a:lnTo>
                  <a:lnTo>
                    <a:pt x="4750" y="35"/>
                  </a:lnTo>
                  <a:lnTo>
                    <a:pt x="4754" y="62"/>
                  </a:lnTo>
                  <a:lnTo>
                    <a:pt x="4759" y="93"/>
                  </a:lnTo>
                  <a:lnTo>
                    <a:pt x="4759" y="124"/>
                  </a:lnTo>
                  <a:lnTo>
                    <a:pt x="4754" y="150"/>
                  </a:lnTo>
                  <a:lnTo>
                    <a:pt x="4750" y="178"/>
                  </a:lnTo>
                  <a:lnTo>
                    <a:pt x="4737" y="196"/>
                  </a:lnTo>
                  <a:lnTo>
                    <a:pt x="4723" y="209"/>
                  </a:lnTo>
                  <a:lnTo>
                    <a:pt x="4706" y="213"/>
                  </a:lnTo>
                  <a:lnTo>
                    <a:pt x="57" y="213"/>
                  </a:lnTo>
                  <a:lnTo>
                    <a:pt x="39" y="209"/>
                  </a:lnTo>
                  <a:lnTo>
                    <a:pt x="26" y="196"/>
                  </a:lnTo>
                  <a:lnTo>
                    <a:pt x="13" y="178"/>
                  </a:lnTo>
                  <a:lnTo>
                    <a:pt x="8" y="150"/>
                  </a:lnTo>
                  <a:lnTo>
                    <a:pt x="0" y="124"/>
                  </a:lnTo>
                  <a:lnTo>
                    <a:pt x="0" y="93"/>
                  </a:lnTo>
                  <a:lnTo>
                    <a:pt x="8" y="62"/>
                  </a:lnTo>
                  <a:lnTo>
                    <a:pt x="13" y="35"/>
                  </a:lnTo>
                  <a:lnTo>
                    <a:pt x="26" y="13"/>
                  </a:lnTo>
                  <a:lnTo>
                    <a:pt x="39" y="4"/>
                  </a:lnTo>
                  <a:lnTo>
                    <a:pt x="57" y="0"/>
                  </a:lnTo>
                  <a:lnTo>
                    <a:pt x="57" y="20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31000" y="5040360"/>
              <a:ext cx="317880" cy="222480"/>
            </a:xfrm>
            <a:custGeom>
              <a:avLst/>
              <a:gdLst/>
              <a:ahLst/>
              <a:rect l="0" t="0" r="r" b="b"/>
              <a:pathLst>
                <a:path fill="none" w="883" h="618">
                  <a:moveTo>
                    <a:pt x="0" y="0"/>
                  </a:moveTo>
                  <a:lnTo>
                    <a:pt x="0" y="618"/>
                  </a:lnTo>
                  <a:lnTo>
                    <a:pt x="883" y="61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39040" y="5262480"/>
              <a:ext cx="609840" cy="276480"/>
            </a:xfrm>
            <a:custGeom>
              <a:avLst/>
              <a:gdLst/>
              <a:ahLst/>
              <a:rect l="0" t="0" r="r" b="b"/>
              <a:pathLst>
                <a:path fill="none" w="1694" h="768">
                  <a:moveTo>
                    <a:pt x="0" y="768"/>
                  </a:moveTo>
                  <a:lnTo>
                    <a:pt x="0" y="0"/>
                  </a:lnTo>
                  <a:lnTo>
                    <a:pt x="169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26200" y="5262480"/>
              <a:ext cx="22680" cy="119520"/>
            </a:xfrm>
            <a:custGeom>
              <a:avLst/>
              <a:gdLst/>
              <a:ahLst/>
              <a:rect l="0" t="0" r="r" b="b"/>
              <a:pathLst>
                <a:path fill="none" w="63" h="332">
                  <a:moveTo>
                    <a:pt x="0" y="332"/>
                  </a:moveTo>
                  <a:lnTo>
                    <a:pt x="0" y="0"/>
                  </a:lnTo>
                  <a:lnTo>
                    <a:pt x="6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148520" y="5262480"/>
              <a:ext cx="598680" cy="119520"/>
            </a:xfrm>
            <a:custGeom>
              <a:avLst/>
              <a:gdLst/>
              <a:ahLst/>
              <a:rect l="0" t="0" r="r" b="b"/>
              <a:pathLst>
                <a:path fill="none" w="1663" h="332">
                  <a:moveTo>
                    <a:pt x="1663" y="332"/>
                  </a:moveTo>
                  <a:lnTo>
                    <a:pt x="1663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148520" y="5049720"/>
              <a:ext cx="192600" cy="213120"/>
            </a:xfrm>
            <a:custGeom>
              <a:avLst/>
              <a:gdLst/>
              <a:ahLst/>
              <a:rect l="0" t="0" r="r" b="b"/>
              <a:pathLst>
                <a:path fill="none" w="535" h="592">
                  <a:moveTo>
                    <a:pt x="535" y="0"/>
                  </a:moveTo>
                  <a:lnTo>
                    <a:pt x="535" y="592"/>
                  </a:lnTo>
                  <a:lnTo>
                    <a:pt x="0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48520" y="52624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05600" y="5262480"/>
              <a:ext cx="142560" cy="0"/>
            </a:xfrm>
            <a:custGeom>
              <a:avLst/>
              <a:gdLst/>
              <a:ahLst/>
              <a:rect l="0" t="0" r="r" b="b"/>
              <a:pathLst>
                <a:path fill="none" w="396" h="0">
                  <a:moveTo>
                    <a:pt x="0" y="0"/>
                  </a:moveTo>
                  <a:lnTo>
                    <a:pt x="0" y="0"/>
                  </a:lnTo>
                  <a:lnTo>
                    <a:pt x="39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48520" y="5262480"/>
              <a:ext cx="142560" cy="0"/>
            </a:xfrm>
            <a:custGeom>
              <a:avLst/>
              <a:gdLst/>
              <a:ahLst/>
              <a:rect l="0" t="0" r="r" b="b"/>
              <a:pathLst>
                <a:path fill="none" w="396" h="0">
                  <a:moveTo>
                    <a:pt x="396" y="0"/>
                  </a:moveTo>
                  <a:lnTo>
                    <a:pt x="396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021440" y="5221440"/>
              <a:ext cx="243360" cy="73440"/>
            </a:xfrm>
            <a:custGeom>
              <a:avLst/>
              <a:gdLst/>
              <a:ahLst/>
              <a:rect l="0" t="0" r="r" b="b"/>
              <a:pathLst>
                <a:path w="676" h="204">
                  <a:moveTo>
                    <a:pt x="0" y="0"/>
                  </a:moveTo>
                  <a:lnTo>
                    <a:pt x="0" y="204"/>
                  </a:lnTo>
                  <a:lnTo>
                    <a:pt x="676" y="204"/>
                  </a:lnTo>
                  <a:lnTo>
                    <a:pt x="67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6935760" y="5178600"/>
              <a:ext cx="423720" cy="16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</a:t>
              </a:r>
              <a:endParaRPr b="0" lang="en-US" sz="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2654280"/>
              <a:ext cx="222120" cy="0"/>
            </a:xfrm>
            <a:custGeom>
              <a:avLst/>
              <a:gdLst/>
              <a:ahLst/>
              <a:rect l="0" t="0" r="r" b="b"/>
              <a:pathLst>
                <a:path fill="none" w="617" h="0">
                  <a:moveTo>
                    <a:pt x="0" y="0"/>
                  </a:moveTo>
                  <a:lnTo>
                    <a:pt x="308" y="0"/>
                  </a:lnTo>
                  <a:lnTo>
                    <a:pt x="61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83440" y="2097000"/>
              <a:ext cx="865440" cy="438480"/>
            </a:xfrm>
            <a:custGeom>
              <a:avLst/>
              <a:gdLst/>
              <a:ahLst/>
              <a:rect l="0" t="0" r="r" b="b"/>
              <a:pathLst>
                <a:path w="2404" h="1218">
                  <a:moveTo>
                    <a:pt x="1147" y="414"/>
                  </a:moveTo>
                  <a:lnTo>
                    <a:pt x="1261" y="431"/>
                  </a:lnTo>
                  <a:lnTo>
                    <a:pt x="1383" y="444"/>
                  </a:lnTo>
                  <a:lnTo>
                    <a:pt x="1501" y="440"/>
                  </a:lnTo>
                  <a:lnTo>
                    <a:pt x="1623" y="427"/>
                  </a:lnTo>
                  <a:lnTo>
                    <a:pt x="1741" y="405"/>
                  </a:lnTo>
                  <a:lnTo>
                    <a:pt x="1854" y="366"/>
                  </a:lnTo>
                  <a:lnTo>
                    <a:pt x="1959" y="323"/>
                  </a:lnTo>
                  <a:lnTo>
                    <a:pt x="2064" y="267"/>
                  </a:lnTo>
                  <a:lnTo>
                    <a:pt x="2164" y="207"/>
                  </a:lnTo>
                  <a:lnTo>
                    <a:pt x="2256" y="133"/>
                  </a:lnTo>
                  <a:lnTo>
                    <a:pt x="2221" y="0"/>
                  </a:lnTo>
                  <a:lnTo>
                    <a:pt x="2129" y="77"/>
                  </a:lnTo>
                  <a:lnTo>
                    <a:pt x="2029" y="138"/>
                  </a:lnTo>
                  <a:lnTo>
                    <a:pt x="1924" y="194"/>
                  </a:lnTo>
                  <a:lnTo>
                    <a:pt x="1815" y="241"/>
                  </a:lnTo>
                  <a:lnTo>
                    <a:pt x="1702" y="271"/>
                  </a:lnTo>
                  <a:lnTo>
                    <a:pt x="1584" y="297"/>
                  </a:lnTo>
                  <a:lnTo>
                    <a:pt x="1466" y="306"/>
                  </a:lnTo>
                  <a:lnTo>
                    <a:pt x="1344" y="310"/>
                  </a:lnTo>
                  <a:lnTo>
                    <a:pt x="1226" y="302"/>
                  </a:lnTo>
                  <a:lnTo>
                    <a:pt x="1107" y="280"/>
                  </a:lnTo>
                  <a:lnTo>
                    <a:pt x="1147" y="414"/>
                  </a:lnTo>
                  <a:lnTo>
                    <a:pt x="1222" y="674"/>
                  </a:lnTo>
                  <a:lnTo>
                    <a:pt x="1340" y="695"/>
                  </a:lnTo>
                  <a:lnTo>
                    <a:pt x="1457" y="704"/>
                  </a:lnTo>
                  <a:lnTo>
                    <a:pt x="1575" y="704"/>
                  </a:lnTo>
                  <a:lnTo>
                    <a:pt x="1693" y="691"/>
                  </a:lnTo>
                  <a:lnTo>
                    <a:pt x="1811" y="665"/>
                  </a:lnTo>
                  <a:lnTo>
                    <a:pt x="1924" y="631"/>
                  </a:lnTo>
                  <a:lnTo>
                    <a:pt x="2037" y="586"/>
                  </a:lnTo>
                  <a:lnTo>
                    <a:pt x="2138" y="530"/>
                  </a:lnTo>
                  <a:lnTo>
                    <a:pt x="2238" y="466"/>
                  </a:lnTo>
                  <a:lnTo>
                    <a:pt x="2330" y="397"/>
                  </a:lnTo>
                  <a:lnTo>
                    <a:pt x="2290" y="263"/>
                  </a:lnTo>
                  <a:lnTo>
                    <a:pt x="2199" y="336"/>
                  </a:lnTo>
                  <a:lnTo>
                    <a:pt x="2103" y="401"/>
                  </a:lnTo>
                  <a:lnTo>
                    <a:pt x="1998" y="453"/>
                  </a:lnTo>
                  <a:lnTo>
                    <a:pt x="1889" y="500"/>
                  </a:lnTo>
                  <a:lnTo>
                    <a:pt x="1776" y="535"/>
                  </a:lnTo>
                  <a:lnTo>
                    <a:pt x="1658" y="561"/>
                  </a:lnTo>
                  <a:lnTo>
                    <a:pt x="1540" y="569"/>
                  </a:lnTo>
                  <a:lnTo>
                    <a:pt x="1422" y="574"/>
                  </a:lnTo>
                  <a:lnTo>
                    <a:pt x="1300" y="565"/>
                  </a:lnTo>
                  <a:lnTo>
                    <a:pt x="1182" y="543"/>
                  </a:lnTo>
                  <a:lnTo>
                    <a:pt x="1222" y="674"/>
                  </a:lnTo>
                  <a:lnTo>
                    <a:pt x="1296" y="937"/>
                  </a:lnTo>
                  <a:lnTo>
                    <a:pt x="1409" y="954"/>
                  </a:lnTo>
                  <a:lnTo>
                    <a:pt x="1531" y="967"/>
                  </a:lnTo>
                  <a:lnTo>
                    <a:pt x="1649" y="963"/>
                  </a:lnTo>
                  <a:lnTo>
                    <a:pt x="1771" y="954"/>
                  </a:lnTo>
                  <a:lnTo>
                    <a:pt x="1889" y="928"/>
                  </a:lnTo>
                  <a:lnTo>
                    <a:pt x="2003" y="894"/>
                  </a:lnTo>
                  <a:lnTo>
                    <a:pt x="2107" y="851"/>
                  </a:lnTo>
                  <a:lnTo>
                    <a:pt x="2212" y="795"/>
                  </a:lnTo>
                  <a:lnTo>
                    <a:pt x="2312" y="730"/>
                  </a:lnTo>
                  <a:lnTo>
                    <a:pt x="2404" y="657"/>
                  </a:lnTo>
                  <a:lnTo>
                    <a:pt x="2369" y="526"/>
                  </a:lnTo>
                  <a:lnTo>
                    <a:pt x="2277" y="599"/>
                  </a:lnTo>
                  <a:lnTo>
                    <a:pt x="2177" y="665"/>
                  </a:lnTo>
                  <a:lnTo>
                    <a:pt x="2072" y="717"/>
                  </a:lnTo>
                  <a:lnTo>
                    <a:pt x="1963" y="764"/>
                  </a:lnTo>
                  <a:lnTo>
                    <a:pt x="1850" y="799"/>
                  </a:lnTo>
                  <a:lnTo>
                    <a:pt x="1732" y="821"/>
                  </a:lnTo>
                  <a:lnTo>
                    <a:pt x="1614" y="833"/>
                  </a:lnTo>
                  <a:lnTo>
                    <a:pt x="1492" y="838"/>
                  </a:lnTo>
                  <a:lnTo>
                    <a:pt x="1374" y="829"/>
                  </a:lnTo>
                  <a:lnTo>
                    <a:pt x="1261" y="808"/>
                  </a:lnTo>
                  <a:lnTo>
                    <a:pt x="1296" y="937"/>
                  </a:lnTo>
                  <a:lnTo>
                    <a:pt x="148" y="1088"/>
                  </a:lnTo>
                  <a:lnTo>
                    <a:pt x="239" y="1015"/>
                  </a:lnTo>
                  <a:lnTo>
                    <a:pt x="335" y="950"/>
                  </a:lnTo>
                  <a:lnTo>
                    <a:pt x="440" y="898"/>
                  </a:lnTo>
                  <a:lnTo>
                    <a:pt x="553" y="851"/>
                  </a:lnTo>
                  <a:lnTo>
                    <a:pt x="667" y="816"/>
                  </a:lnTo>
                  <a:lnTo>
                    <a:pt x="780" y="790"/>
                  </a:lnTo>
                  <a:lnTo>
                    <a:pt x="902" y="782"/>
                  </a:lnTo>
                  <a:lnTo>
                    <a:pt x="1020" y="777"/>
                  </a:lnTo>
                  <a:lnTo>
                    <a:pt x="1138" y="786"/>
                  </a:lnTo>
                  <a:lnTo>
                    <a:pt x="1261" y="808"/>
                  </a:lnTo>
                  <a:lnTo>
                    <a:pt x="1296" y="937"/>
                  </a:lnTo>
                  <a:lnTo>
                    <a:pt x="1177" y="915"/>
                  </a:lnTo>
                  <a:lnTo>
                    <a:pt x="1055" y="907"/>
                  </a:lnTo>
                  <a:lnTo>
                    <a:pt x="942" y="911"/>
                  </a:lnTo>
                  <a:lnTo>
                    <a:pt x="819" y="924"/>
                  </a:lnTo>
                  <a:lnTo>
                    <a:pt x="702" y="946"/>
                  </a:lnTo>
                  <a:lnTo>
                    <a:pt x="588" y="980"/>
                  </a:lnTo>
                  <a:lnTo>
                    <a:pt x="479" y="1023"/>
                  </a:lnTo>
                  <a:lnTo>
                    <a:pt x="375" y="1079"/>
                  </a:lnTo>
                  <a:lnTo>
                    <a:pt x="279" y="1144"/>
                  </a:lnTo>
                  <a:lnTo>
                    <a:pt x="187" y="1218"/>
                  </a:lnTo>
                  <a:lnTo>
                    <a:pt x="148" y="1088"/>
                  </a:lnTo>
                  <a:lnTo>
                    <a:pt x="74" y="825"/>
                  </a:lnTo>
                  <a:lnTo>
                    <a:pt x="165" y="751"/>
                  </a:lnTo>
                  <a:lnTo>
                    <a:pt x="266" y="687"/>
                  </a:lnTo>
                  <a:lnTo>
                    <a:pt x="370" y="635"/>
                  </a:lnTo>
                  <a:lnTo>
                    <a:pt x="479" y="586"/>
                  </a:lnTo>
                  <a:lnTo>
                    <a:pt x="593" y="552"/>
                  </a:lnTo>
                  <a:lnTo>
                    <a:pt x="710" y="530"/>
                  </a:lnTo>
                  <a:lnTo>
                    <a:pt x="824" y="517"/>
                  </a:lnTo>
                  <a:lnTo>
                    <a:pt x="946" y="513"/>
                  </a:lnTo>
                  <a:lnTo>
                    <a:pt x="1064" y="522"/>
                  </a:lnTo>
                  <a:lnTo>
                    <a:pt x="1182" y="543"/>
                  </a:lnTo>
                  <a:lnTo>
                    <a:pt x="1222" y="674"/>
                  </a:lnTo>
                  <a:lnTo>
                    <a:pt x="1103" y="657"/>
                  </a:lnTo>
                  <a:lnTo>
                    <a:pt x="985" y="648"/>
                  </a:lnTo>
                  <a:lnTo>
                    <a:pt x="863" y="648"/>
                  </a:lnTo>
                  <a:lnTo>
                    <a:pt x="745" y="661"/>
                  </a:lnTo>
                  <a:lnTo>
                    <a:pt x="628" y="687"/>
                  </a:lnTo>
                  <a:lnTo>
                    <a:pt x="514" y="721"/>
                  </a:lnTo>
                  <a:lnTo>
                    <a:pt x="405" y="764"/>
                  </a:lnTo>
                  <a:lnTo>
                    <a:pt x="300" y="821"/>
                  </a:lnTo>
                  <a:lnTo>
                    <a:pt x="205" y="885"/>
                  </a:lnTo>
                  <a:lnTo>
                    <a:pt x="113" y="954"/>
                  </a:lnTo>
                  <a:lnTo>
                    <a:pt x="74" y="825"/>
                  </a:lnTo>
                  <a:lnTo>
                    <a:pt x="0" y="561"/>
                  </a:lnTo>
                  <a:lnTo>
                    <a:pt x="91" y="492"/>
                  </a:lnTo>
                  <a:lnTo>
                    <a:pt x="187" y="422"/>
                  </a:lnTo>
                  <a:lnTo>
                    <a:pt x="292" y="371"/>
                  </a:lnTo>
                  <a:lnTo>
                    <a:pt x="405" y="328"/>
                  </a:lnTo>
                  <a:lnTo>
                    <a:pt x="519" y="289"/>
                  </a:lnTo>
                  <a:lnTo>
                    <a:pt x="632" y="267"/>
                  </a:lnTo>
                  <a:lnTo>
                    <a:pt x="754" y="254"/>
                  </a:lnTo>
                  <a:lnTo>
                    <a:pt x="872" y="254"/>
                  </a:lnTo>
                  <a:lnTo>
                    <a:pt x="990" y="263"/>
                  </a:lnTo>
                  <a:lnTo>
                    <a:pt x="1107" y="280"/>
                  </a:lnTo>
                  <a:lnTo>
                    <a:pt x="1147" y="414"/>
                  </a:lnTo>
                  <a:lnTo>
                    <a:pt x="1029" y="392"/>
                  </a:lnTo>
                  <a:lnTo>
                    <a:pt x="907" y="384"/>
                  </a:lnTo>
                  <a:lnTo>
                    <a:pt x="789" y="384"/>
                  </a:lnTo>
                  <a:lnTo>
                    <a:pt x="671" y="397"/>
                  </a:lnTo>
                  <a:lnTo>
                    <a:pt x="553" y="422"/>
                  </a:lnTo>
                  <a:lnTo>
                    <a:pt x="440" y="457"/>
                  </a:lnTo>
                  <a:lnTo>
                    <a:pt x="331" y="500"/>
                  </a:lnTo>
                  <a:lnTo>
                    <a:pt x="226" y="556"/>
                  </a:lnTo>
                  <a:lnTo>
                    <a:pt x="130" y="622"/>
                  </a:lnTo>
                  <a:lnTo>
                    <a:pt x="39" y="695"/>
                  </a:lnTo>
                  <a:lnTo>
                    <a:pt x="0" y="561"/>
                  </a:lnTo>
                  <a:lnTo>
                    <a:pt x="1147" y="41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740640" y="2292480"/>
              <a:ext cx="35892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6919920" y="232560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7080120" y="2325600"/>
              <a:ext cx="1155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THST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56440" y="2509920"/>
              <a:ext cx="184320" cy="92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08840" y="2387520"/>
              <a:ext cx="182880" cy="174960"/>
            </a:xfrm>
            <a:custGeom>
              <a:avLst/>
              <a:gdLst/>
              <a:ahLst/>
              <a:rect l="0" t="0" r="r" b="b"/>
              <a:pathLst>
                <a:path w="508" h="486">
                  <a:moveTo>
                    <a:pt x="189" y="176"/>
                  </a:moveTo>
                  <a:lnTo>
                    <a:pt x="189" y="176"/>
                  </a:lnTo>
                  <a:lnTo>
                    <a:pt x="0" y="176"/>
                  </a:lnTo>
                  <a:lnTo>
                    <a:pt x="154" y="287"/>
                  </a:lnTo>
                  <a:lnTo>
                    <a:pt x="83" y="486"/>
                  </a:lnTo>
                  <a:lnTo>
                    <a:pt x="256" y="362"/>
                  </a:lnTo>
                  <a:lnTo>
                    <a:pt x="428" y="486"/>
                  </a:lnTo>
                  <a:lnTo>
                    <a:pt x="358" y="287"/>
                  </a:lnTo>
                  <a:lnTo>
                    <a:pt x="508" y="176"/>
                  </a:lnTo>
                  <a:lnTo>
                    <a:pt x="318" y="176"/>
                  </a:lnTo>
                  <a:lnTo>
                    <a:pt x="256" y="0"/>
                  </a:lnTo>
                  <a:lnTo>
                    <a:pt x="189" y="17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6759720" y="2535120"/>
              <a:ext cx="1379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  N   D   U   S   T   R   I   A   L</a:t>
              </a:r>
              <a:endParaRPr b="0" lang="en-US" sz="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03960" y="3822840"/>
              <a:ext cx="511560" cy="68760"/>
            </a:xfrm>
            <a:custGeom>
              <a:avLst/>
              <a:gdLst/>
              <a:ahLst/>
              <a:rect l="0" t="0" r="r" b="b"/>
              <a:pathLst>
                <a:path w="1421" h="191">
                  <a:moveTo>
                    <a:pt x="1421" y="191"/>
                  </a:moveTo>
                  <a:lnTo>
                    <a:pt x="600" y="178"/>
                  </a:lnTo>
                  <a:lnTo>
                    <a:pt x="693" y="58"/>
                  </a:lnTo>
                  <a:lnTo>
                    <a:pt x="0" y="0"/>
                  </a:lnTo>
                  <a:lnTo>
                    <a:pt x="825" y="17"/>
                  </a:lnTo>
                  <a:lnTo>
                    <a:pt x="733" y="137"/>
                  </a:lnTo>
                  <a:lnTo>
                    <a:pt x="1421" y="19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9360" y="3551400"/>
              <a:ext cx="714600" cy="545040"/>
            </a:xfrm>
            <a:custGeom>
              <a:avLst/>
              <a:gdLst/>
              <a:ahLst/>
              <a:rect l="0" t="0" r="r" b="b"/>
              <a:pathLst>
                <a:path w="1985" h="1514">
                  <a:moveTo>
                    <a:pt x="0" y="1514"/>
                  </a:moveTo>
                  <a:lnTo>
                    <a:pt x="0" y="1483"/>
                  </a:lnTo>
                  <a:lnTo>
                    <a:pt x="198" y="1386"/>
                  </a:lnTo>
                  <a:lnTo>
                    <a:pt x="198" y="0"/>
                  </a:lnTo>
                  <a:lnTo>
                    <a:pt x="727" y="0"/>
                  </a:lnTo>
                  <a:lnTo>
                    <a:pt x="727" y="1386"/>
                  </a:lnTo>
                  <a:lnTo>
                    <a:pt x="943" y="1483"/>
                  </a:lnTo>
                  <a:lnTo>
                    <a:pt x="943" y="1514"/>
                  </a:lnTo>
                  <a:lnTo>
                    <a:pt x="0" y="1514"/>
                  </a:lnTo>
                  <a:lnTo>
                    <a:pt x="793" y="1302"/>
                  </a:lnTo>
                  <a:lnTo>
                    <a:pt x="978" y="1302"/>
                  </a:lnTo>
                  <a:lnTo>
                    <a:pt x="1187" y="1355"/>
                  </a:lnTo>
                  <a:lnTo>
                    <a:pt x="1187" y="1461"/>
                  </a:lnTo>
                  <a:lnTo>
                    <a:pt x="978" y="1461"/>
                  </a:lnTo>
                  <a:lnTo>
                    <a:pt x="978" y="1514"/>
                  </a:lnTo>
                  <a:lnTo>
                    <a:pt x="1800" y="1514"/>
                  </a:lnTo>
                  <a:lnTo>
                    <a:pt x="1800" y="1461"/>
                  </a:lnTo>
                  <a:lnTo>
                    <a:pt x="1592" y="1461"/>
                  </a:lnTo>
                  <a:lnTo>
                    <a:pt x="1592" y="1355"/>
                  </a:lnTo>
                  <a:lnTo>
                    <a:pt x="1800" y="1302"/>
                  </a:lnTo>
                  <a:lnTo>
                    <a:pt x="1985" y="1302"/>
                  </a:lnTo>
                  <a:lnTo>
                    <a:pt x="1985" y="380"/>
                  </a:lnTo>
                  <a:lnTo>
                    <a:pt x="793" y="380"/>
                  </a:lnTo>
                  <a:lnTo>
                    <a:pt x="793" y="1302"/>
                  </a:lnTo>
                  <a:lnTo>
                    <a:pt x="0" y="151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1000" y="404964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51440" y="404964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21120" y="3720960"/>
              <a:ext cx="71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08520" y="3664080"/>
              <a:ext cx="95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84760" y="3573360"/>
              <a:ext cx="143280" cy="317880"/>
            </a:xfrm>
            <a:custGeom>
              <a:avLst/>
              <a:gdLst/>
              <a:ahLst/>
              <a:rect l="0" t="0" r="r" b="b"/>
              <a:pathLst>
                <a:path fill="none" w="398" h="883">
                  <a:moveTo>
                    <a:pt x="0" y="0"/>
                  </a:moveTo>
                  <a:lnTo>
                    <a:pt x="398" y="0"/>
                  </a:lnTo>
                  <a:lnTo>
                    <a:pt x="398" y="883"/>
                  </a:lnTo>
                  <a:lnTo>
                    <a:pt x="0" y="8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16680" y="407664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16680" y="403848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41800" y="401940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0080" y="3914640"/>
              <a:ext cx="154440" cy="147960"/>
            </a:xfrm>
            <a:custGeom>
              <a:avLst/>
              <a:gdLst/>
              <a:ahLst/>
              <a:rect l="0" t="0" r="r" b="b"/>
              <a:pathLst>
                <a:path w="429" h="411">
                  <a:moveTo>
                    <a:pt x="0" y="252"/>
                  </a:moveTo>
                  <a:lnTo>
                    <a:pt x="30" y="25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66" y="252"/>
                  </a:lnTo>
                  <a:lnTo>
                    <a:pt x="97" y="252"/>
                  </a:lnTo>
                  <a:lnTo>
                    <a:pt x="97" y="0"/>
                  </a:lnTo>
                  <a:lnTo>
                    <a:pt x="66" y="0"/>
                  </a:lnTo>
                  <a:lnTo>
                    <a:pt x="66" y="252"/>
                  </a:lnTo>
                  <a:lnTo>
                    <a:pt x="133" y="252"/>
                  </a:lnTo>
                  <a:lnTo>
                    <a:pt x="164" y="252"/>
                  </a:lnTo>
                  <a:lnTo>
                    <a:pt x="164" y="0"/>
                  </a:lnTo>
                  <a:lnTo>
                    <a:pt x="133" y="0"/>
                  </a:lnTo>
                  <a:lnTo>
                    <a:pt x="133" y="252"/>
                  </a:lnTo>
                  <a:lnTo>
                    <a:pt x="199" y="252"/>
                  </a:lnTo>
                  <a:lnTo>
                    <a:pt x="230" y="252"/>
                  </a:lnTo>
                  <a:lnTo>
                    <a:pt x="230" y="0"/>
                  </a:lnTo>
                  <a:lnTo>
                    <a:pt x="199" y="0"/>
                  </a:lnTo>
                  <a:lnTo>
                    <a:pt x="199" y="252"/>
                  </a:lnTo>
                  <a:lnTo>
                    <a:pt x="265" y="252"/>
                  </a:lnTo>
                  <a:lnTo>
                    <a:pt x="296" y="252"/>
                  </a:lnTo>
                  <a:lnTo>
                    <a:pt x="296" y="0"/>
                  </a:lnTo>
                  <a:lnTo>
                    <a:pt x="265" y="0"/>
                  </a:lnTo>
                  <a:lnTo>
                    <a:pt x="265" y="252"/>
                  </a:lnTo>
                  <a:lnTo>
                    <a:pt x="332" y="252"/>
                  </a:lnTo>
                  <a:lnTo>
                    <a:pt x="363" y="252"/>
                  </a:lnTo>
                  <a:lnTo>
                    <a:pt x="363" y="0"/>
                  </a:lnTo>
                  <a:lnTo>
                    <a:pt x="332" y="0"/>
                  </a:lnTo>
                  <a:lnTo>
                    <a:pt x="332" y="252"/>
                  </a:lnTo>
                  <a:lnTo>
                    <a:pt x="398" y="252"/>
                  </a:lnTo>
                  <a:lnTo>
                    <a:pt x="429" y="252"/>
                  </a:lnTo>
                  <a:lnTo>
                    <a:pt x="429" y="0"/>
                  </a:lnTo>
                  <a:lnTo>
                    <a:pt x="398" y="0"/>
                  </a:lnTo>
                  <a:lnTo>
                    <a:pt x="398" y="252"/>
                  </a:lnTo>
                  <a:lnTo>
                    <a:pt x="398" y="411"/>
                  </a:lnTo>
                  <a:lnTo>
                    <a:pt x="429" y="411"/>
                  </a:lnTo>
                  <a:lnTo>
                    <a:pt x="429" y="283"/>
                  </a:lnTo>
                  <a:lnTo>
                    <a:pt x="398" y="283"/>
                  </a:lnTo>
                  <a:lnTo>
                    <a:pt x="398" y="411"/>
                  </a:lnTo>
                  <a:lnTo>
                    <a:pt x="332" y="411"/>
                  </a:lnTo>
                  <a:lnTo>
                    <a:pt x="363" y="411"/>
                  </a:lnTo>
                  <a:lnTo>
                    <a:pt x="363" y="283"/>
                  </a:lnTo>
                  <a:lnTo>
                    <a:pt x="332" y="283"/>
                  </a:lnTo>
                  <a:lnTo>
                    <a:pt x="332" y="411"/>
                  </a:lnTo>
                  <a:lnTo>
                    <a:pt x="265" y="411"/>
                  </a:lnTo>
                  <a:lnTo>
                    <a:pt x="296" y="411"/>
                  </a:lnTo>
                  <a:lnTo>
                    <a:pt x="296" y="283"/>
                  </a:lnTo>
                  <a:lnTo>
                    <a:pt x="265" y="283"/>
                  </a:lnTo>
                  <a:lnTo>
                    <a:pt x="265" y="411"/>
                  </a:lnTo>
                  <a:lnTo>
                    <a:pt x="199" y="411"/>
                  </a:lnTo>
                  <a:lnTo>
                    <a:pt x="230" y="411"/>
                  </a:lnTo>
                  <a:lnTo>
                    <a:pt x="230" y="283"/>
                  </a:lnTo>
                  <a:lnTo>
                    <a:pt x="199" y="283"/>
                  </a:lnTo>
                  <a:lnTo>
                    <a:pt x="199" y="411"/>
                  </a:lnTo>
                  <a:lnTo>
                    <a:pt x="133" y="411"/>
                  </a:lnTo>
                  <a:lnTo>
                    <a:pt x="164" y="411"/>
                  </a:lnTo>
                  <a:lnTo>
                    <a:pt x="164" y="283"/>
                  </a:lnTo>
                  <a:lnTo>
                    <a:pt x="133" y="283"/>
                  </a:lnTo>
                  <a:lnTo>
                    <a:pt x="133" y="411"/>
                  </a:lnTo>
                  <a:lnTo>
                    <a:pt x="66" y="411"/>
                  </a:lnTo>
                  <a:lnTo>
                    <a:pt x="97" y="411"/>
                  </a:lnTo>
                  <a:lnTo>
                    <a:pt x="97" y="283"/>
                  </a:lnTo>
                  <a:lnTo>
                    <a:pt x="66" y="283"/>
                  </a:lnTo>
                  <a:lnTo>
                    <a:pt x="66" y="411"/>
                  </a:lnTo>
                  <a:lnTo>
                    <a:pt x="0" y="411"/>
                  </a:lnTo>
                  <a:lnTo>
                    <a:pt x="30" y="411"/>
                  </a:lnTo>
                  <a:lnTo>
                    <a:pt x="30" y="283"/>
                  </a:lnTo>
                  <a:lnTo>
                    <a:pt x="0" y="283"/>
                  </a:lnTo>
                  <a:lnTo>
                    <a:pt x="0" y="411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97360" y="3584520"/>
              <a:ext cx="119520" cy="46440"/>
            </a:xfrm>
            <a:custGeom>
              <a:avLst/>
              <a:gdLst/>
              <a:ahLst/>
              <a:rect l="0" t="0" r="r" b="b"/>
              <a:pathLst>
                <a:path fill="none" w="332" h="129">
                  <a:moveTo>
                    <a:pt x="0" y="0"/>
                  </a:moveTo>
                  <a:lnTo>
                    <a:pt x="0" y="129"/>
                  </a:lnTo>
                  <a:lnTo>
                    <a:pt x="332" y="129"/>
                  </a:lnTo>
                  <a:lnTo>
                    <a:pt x="33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7360" y="3584520"/>
              <a:ext cx="119520" cy="11520"/>
            </a:xfrm>
            <a:custGeom>
              <a:avLst/>
              <a:gdLst/>
              <a:ahLst/>
              <a:rect l="0" t="0" r="r" b="b"/>
              <a:pathLst>
                <a:path fill="none" w="332" h="32">
                  <a:moveTo>
                    <a:pt x="0" y="0"/>
                  </a:moveTo>
                  <a:lnTo>
                    <a:pt x="30" y="32"/>
                  </a:lnTo>
                  <a:lnTo>
                    <a:pt x="297" y="32"/>
                  </a:lnTo>
                  <a:lnTo>
                    <a:pt x="3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9600" bIns="-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7360" y="3641760"/>
              <a:ext cx="119520" cy="46440"/>
            </a:xfrm>
            <a:custGeom>
              <a:avLst/>
              <a:gdLst/>
              <a:ahLst/>
              <a:rect l="0" t="0" r="r" b="b"/>
              <a:pathLst>
                <a:path fill="none" w="332" h="129">
                  <a:moveTo>
                    <a:pt x="0" y="129"/>
                  </a:moveTo>
                  <a:lnTo>
                    <a:pt x="332" y="129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97360" y="3699000"/>
              <a:ext cx="119520" cy="46440"/>
            </a:xfrm>
            <a:custGeom>
              <a:avLst/>
              <a:gdLst/>
              <a:ahLst/>
              <a:rect l="0" t="0" r="r" b="b"/>
              <a:pathLst>
                <a:path fill="none" w="332" h="129">
                  <a:moveTo>
                    <a:pt x="0" y="129"/>
                  </a:moveTo>
                  <a:lnTo>
                    <a:pt x="332" y="129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97360" y="3754440"/>
              <a:ext cx="119520" cy="46440"/>
            </a:xfrm>
            <a:custGeom>
              <a:avLst/>
              <a:gdLst/>
              <a:ahLst/>
              <a:rect l="0" t="0" r="r" b="b"/>
              <a:pathLst>
                <a:path fill="none" w="332" h="129">
                  <a:moveTo>
                    <a:pt x="0" y="129"/>
                  </a:moveTo>
                  <a:lnTo>
                    <a:pt x="332" y="129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97360" y="3811680"/>
              <a:ext cx="119520" cy="46440"/>
            </a:xfrm>
            <a:custGeom>
              <a:avLst/>
              <a:gdLst/>
              <a:ahLst/>
              <a:rect l="0" t="0" r="r" b="b"/>
              <a:pathLst>
                <a:path fill="none" w="332" h="129">
                  <a:moveTo>
                    <a:pt x="0" y="129"/>
                  </a:moveTo>
                  <a:lnTo>
                    <a:pt x="332" y="129"/>
                  </a:lnTo>
                  <a:lnTo>
                    <a:pt x="332" y="0"/>
                  </a:lnTo>
                  <a:lnTo>
                    <a:pt x="0" y="0"/>
                  </a:lnTo>
                  <a:lnTo>
                    <a:pt x="0" y="1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797360" y="3595680"/>
              <a:ext cx="1116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03920" y="3595680"/>
              <a:ext cx="1260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03840" y="3795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03840" y="37861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03840" y="3778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03840" y="377028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03840" y="376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56040" y="3652920"/>
              <a:ext cx="36720" cy="24120"/>
            </a:xfrm>
            <a:custGeom>
              <a:avLst/>
              <a:gdLst/>
              <a:ahLst/>
              <a:rect l="0" t="0" r="r" b="b"/>
              <a:pathLst>
                <a:path fill="none" w="102" h="67">
                  <a:moveTo>
                    <a:pt x="0" y="67"/>
                  </a:moveTo>
                  <a:lnTo>
                    <a:pt x="102" y="67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6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89520" y="3728880"/>
              <a:ext cx="18000" cy="6840"/>
            </a:xfrm>
            <a:custGeom>
              <a:avLst/>
              <a:gdLst/>
              <a:ahLst/>
              <a:rect l="0" t="0" r="r" b="b"/>
              <a:pathLst>
                <a:path fill="none" w="50" h="19">
                  <a:moveTo>
                    <a:pt x="0" y="19"/>
                  </a:moveTo>
                  <a:lnTo>
                    <a:pt x="50" y="1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89520" y="3760920"/>
              <a:ext cx="18000" cy="6840"/>
            </a:xfrm>
            <a:custGeom>
              <a:avLst/>
              <a:gdLst/>
              <a:ahLst/>
              <a:rect l="0" t="0" r="r" b="b"/>
              <a:pathLst>
                <a:path fill="none" w="50" h="19">
                  <a:moveTo>
                    <a:pt x="0" y="19"/>
                  </a:moveTo>
                  <a:lnTo>
                    <a:pt x="50" y="19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1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89520" y="3773520"/>
              <a:ext cx="18000" cy="5040"/>
            </a:xfrm>
            <a:custGeom>
              <a:avLst/>
              <a:gdLst/>
              <a:ahLst/>
              <a:rect l="0" t="0" r="r" b="b"/>
              <a:pathLst>
                <a:path fill="none" w="50" h="14">
                  <a:moveTo>
                    <a:pt x="0" y="14"/>
                  </a:moveTo>
                  <a:lnTo>
                    <a:pt x="50" y="14"/>
                  </a:lnTo>
                  <a:lnTo>
                    <a:pt x="50" y="0"/>
                  </a:lnTo>
                  <a:lnTo>
                    <a:pt x="0" y="0"/>
                  </a:lnTo>
                  <a:lnTo>
                    <a:pt x="0" y="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38760" y="3716280"/>
              <a:ext cx="552960" cy="290880"/>
            </a:xfrm>
            <a:custGeom>
              <a:avLst/>
              <a:gdLst/>
              <a:ahLst/>
              <a:rect l="0" t="0" r="r" b="b"/>
              <a:pathLst>
                <a:path w="1536" h="808">
                  <a:moveTo>
                    <a:pt x="0" y="30"/>
                  </a:moveTo>
                  <a:lnTo>
                    <a:pt x="101" y="30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479" y="808"/>
                  </a:lnTo>
                  <a:lnTo>
                    <a:pt x="1536" y="808"/>
                  </a:lnTo>
                  <a:lnTo>
                    <a:pt x="1536" y="791"/>
                  </a:lnTo>
                  <a:lnTo>
                    <a:pt x="1479" y="791"/>
                  </a:lnTo>
                  <a:lnTo>
                    <a:pt x="1479" y="808"/>
                  </a:lnTo>
                  <a:lnTo>
                    <a:pt x="565" y="632"/>
                  </a:lnTo>
                  <a:lnTo>
                    <a:pt x="565" y="97"/>
                  </a:lnTo>
                  <a:lnTo>
                    <a:pt x="1386" y="97"/>
                  </a:lnTo>
                  <a:lnTo>
                    <a:pt x="1386" y="632"/>
                  </a:lnTo>
                  <a:lnTo>
                    <a:pt x="565" y="632"/>
                  </a:lnTo>
                  <a:lnTo>
                    <a:pt x="530" y="667"/>
                  </a:lnTo>
                  <a:lnTo>
                    <a:pt x="1421" y="667"/>
                  </a:lnTo>
                  <a:lnTo>
                    <a:pt x="1421" y="61"/>
                  </a:lnTo>
                  <a:lnTo>
                    <a:pt x="1461" y="61"/>
                  </a:lnTo>
                  <a:lnTo>
                    <a:pt x="1461" y="26"/>
                  </a:lnTo>
                  <a:lnTo>
                    <a:pt x="490" y="26"/>
                  </a:lnTo>
                  <a:lnTo>
                    <a:pt x="490" y="52"/>
                  </a:lnTo>
                  <a:lnTo>
                    <a:pt x="490" y="703"/>
                  </a:lnTo>
                  <a:lnTo>
                    <a:pt x="530" y="703"/>
                  </a:lnTo>
                  <a:lnTo>
                    <a:pt x="530" y="667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75200" y="4000680"/>
              <a:ext cx="214560" cy="19440"/>
            </a:xfrm>
            <a:custGeom>
              <a:avLst/>
              <a:gdLst/>
              <a:ahLst/>
              <a:rect l="0" t="0" r="r" b="b"/>
              <a:pathLst>
                <a:path fill="none" w="596" h="54">
                  <a:moveTo>
                    <a:pt x="0" y="0"/>
                  </a:moveTo>
                  <a:lnTo>
                    <a:pt x="596" y="0"/>
                  </a:lnTo>
                  <a:lnTo>
                    <a:pt x="596" y="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081760" y="4000680"/>
              <a:ext cx="0" cy="18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73680" y="4121280"/>
              <a:ext cx="336960" cy="128880"/>
            </a:xfrm>
            <a:custGeom>
              <a:avLst/>
              <a:gdLst/>
              <a:ahLst/>
              <a:rect l="0" t="0" r="r" b="b"/>
              <a:pathLst>
                <a:path w="936" h="358">
                  <a:moveTo>
                    <a:pt x="0" y="0"/>
                  </a:moveTo>
                  <a:lnTo>
                    <a:pt x="0" y="358"/>
                  </a:lnTo>
                  <a:lnTo>
                    <a:pt x="936" y="358"/>
                  </a:lnTo>
                  <a:lnTo>
                    <a:pt x="9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4788000" y="4083120"/>
              <a:ext cx="488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bert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71880" y="3494160"/>
              <a:ext cx="429120" cy="410040"/>
            </a:xfrm>
            <a:custGeom>
              <a:avLst/>
              <a:gdLst/>
              <a:ahLst/>
              <a:rect l="0" t="0" r="r" b="b"/>
              <a:pathLst>
                <a:path w="1192" h="1139">
                  <a:moveTo>
                    <a:pt x="97" y="662"/>
                  </a:moveTo>
                  <a:lnTo>
                    <a:pt x="97" y="0"/>
                  </a:lnTo>
                  <a:lnTo>
                    <a:pt x="1091" y="0"/>
                  </a:lnTo>
                  <a:lnTo>
                    <a:pt x="1091" y="662"/>
                  </a:lnTo>
                  <a:lnTo>
                    <a:pt x="1192" y="1042"/>
                  </a:lnTo>
                  <a:lnTo>
                    <a:pt x="1192" y="1139"/>
                  </a:lnTo>
                  <a:lnTo>
                    <a:pt x="0" y="1139"/>
                  </a:lnTo>
                  <a:lnTo>
                    <a:pt x="0" y="1042"/>
                  </a:lnTo>
                  <a:lnTo>
                    <a:pt x="97" y="66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06800" y="3732120"/>
              <a:ext cx="357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71880" y="3868560"/>
              <a:ext cx="42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90960" y="3759120"/>
              <a:ext cx="392400" cy="93960"/>
            </a:xfrm>
            <a:custGeom>
              <a:avLst/>
              <a:gdLst/>
              <a:ahLst/>
              <a:rect l="0" t="0" r="r" b="b"/>
              <a:pathLst>
                <a:path w="1090" h="261">
                  <a:moveTo>
                    <a:pt x="52" y="44"/>
                  </a:moveTo>
                  <a:lnTo>
                    <a:pt x="66" y="0"/>
                  </a:lnTo>
                  <a:lnTo>
                    <a:pt x="1019" y="0"/>
                  </a:lnTo>
                  <a:lnTo>
                    <a:pt x="1032" y="44"/>
                  </a:lnTo>
                  <a:lnTo>
                    <a:pt x="52" y="44"/>
                  </a:lnTo>
                  <a:lnTo>
                    <a:pt x="0" y="261"/>
                  </a:lnTo>
                  <a:lnTo>
                    <a:pt x="44" y="70"/>
                  </a:lnTo>
                  <a:lnTo>
                    <a:pt x="1037" y="70"/>
                  </a:lnTo>
                  <a:lnTo>
                    <a:pt x="1090" y="261"/>
                  </a:lnTo>
                  <a:lnTo>
                    <a:pt x="0" y="261"/>
                  </a:lnTo>
                  <a:lnTo>
                    <a:pt x="52" y="4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57720" y="3673440"/>
              <a:ext cx="125640" cy="222480"/>
            </a:xfrm>
            <a:custGeom>
              <a:avLst/>
              <a:gdLst/>
              <a:ahLst/>
              <a:rect l="0" t="0" r="r" b="b"/>
              <a:pathLst>
                <a:path w="349" h="618">
                  <a:moveTo>
                    <a:pt x="149" y="22"/>
                  </a:moveTo>
                  <a:lnTo>
                    <a:pt x="154" y="8"/>
                  </a:lnTo>
                  <a:lnTo>
                    <a:pt x="167" y="0"/>
                  </a:lnTo>
                  <a:lnTo>
                    <a:pt x="181" y="0"/>
                  </a:lnTo>
                  <a:lnTo>
                    <a:pt x="195" y="8"/>
                  </a:lnTo>
                  <a:lnTo>
                    <a:pt x="199" y="22"/>
                  </a:lnTo>
                  <a:lnTo>
                    <a:pt x="195" y="39"/>
                  </a:lnTo>
                  <a:lnTo>
                    <a:pt x="181" y="44"/>
                  </a:lnTo>
                  <a:lnTo>
                    <a:pt x="167" y="44"/>
                  </a:lnTo>
                  <a:lnTo>
                    <a:pt x="154" y="39"/>
                  </a:lnTo>
                  <a:lnTo>
                    <a:pt x="149" y="22"/>
                  </a:lnTo>
                  <a:lnTo>
                    <a:pt x="0" y="618"/>
                  </a:lnTo>
                  <a:lnTo>
                    <a:pt x="349" y="618"/>
                  </a:lnTo>
                  <a:lnTo>
                    <a:pt x="349" y="569"/>
                  </a:lnTo>
                  <a:lnTo>
                    <a:pt x="0" y="569"/>
                  </a:lnTo>
                  <a:lnTo>
                    <a:pt x="0" y="618"/>
                  </a:lnTo>
                  <a:lnTo>
                    <a:pt x="149" y="22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02000" y="3664080"/>
              <a:ext cx="35280" cy="35280"/>
            </a:xfrm>
            <a:custGeom>
              <a:avLst/>
              <a:gdLst/>
              <a:ahLst/>
              <a:rect l="0" t="0" r="r" b="b"/>
              <a:pathLst>
                <a:path fill="none" w="98" h="98">
                  <a:moveTo>
                    <a:pt x="0" y="98"/>
                  </a:moveTo>
                  <a:lnTo>
                    <a:pt x="98" y="98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3160" y="3527280"/>
              <a:ext cx="249480" cy="171720"/>
            </a:xfrm>
            <a:custGeom>
              <a:avLst/>
              <a:gdLst/>
              <a:ahLst/>
              <a:rect l="0" t="0" r="r" b="b"/>
              <a:pathLst>
                <a:path w="693" h="477">
                  <a:moveTo>
                    <a:pt x="0" y="477"/>
                  </a:moveTo>
                  <a:lnTo>
                    <a:pt x="693" y="477"/>
                  </a:lnTo>
                  <a:lnTo>
                    <a:pt x="693" y="0"/>
                  </a:lnTo>
                  <a:lnTo>
                    <a:pt x="0" y="0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25880" y="3511440"/>
              <a:ext cx="321120" cy="205200"/>
            </a:xfrm>
            <a:custGeom>
              <a:avLst/>
              <a:gdLst/>
              <a:ahLst/>
              <a:rect l="0" t="0" r="r" b="b"/>
              <a:pathLst>
                <a:path fill="none" w="892" h="570">
                  <a:moveTo>
                    <a:pt x="0" y="570"/>
                  </a:moveTo>
                  <a:lnTo>
                    <a:pt x="892" y="570"/>
                  </a:lnTo>
                  <a:lnTo>
                    <a:pt x="892" y="0"/>
                  </a:lnTo>
                  <a:lnTo>
                    <a:pt x="0" y="0"/>
                  </a:lnTo>
                  <a:lnTo>
                    <a:pt x="0" y="57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11360" y="3527280"/>
              <a:ext cx="25920" cy="27360"/>
            </a:xfrm>
            <a:custGeom>
              <a:avLst/>
              <a:gdLst/>
              <a:ahLst/>
              <a:rect l="0" t="0" r="r" b="b"/>
              <a:pathLst>
                <a:path fill="none" w="72" h="76">
                  <a:moveTo>
                    <a:pt x="0" y="76"/>
                  </a:moveTo>
                  <a:lnTo>
                    <a:pt x="72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3760" bIns="-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125880" y="3949560"/>
              <a:ext cx="300240" cy="128880"/>
            </a:xfrm>
            <a:custGeom>
              <a:avLst/>
              <a:gdLst/>
              <a:ahLst/>
              <a:rect l="0" t="0" r="r" b="b"/>
              <a:pathLst>
                <a:path w="834" h="358">
                  <a:moveTo>
                    <a:pt x="0" y="0"/>
                  </a:moveTo>
                  <a:lnTo>
                    <a:pt x="0" y="358"/>
                  </a:lnTo>
                  <a:lnTo>
                    <a:pt x="834" y="358"/>
                  </a:lnTo>
                  <a:lnTo>
                    <a:pt x="8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3038400" y="3913200"/>
              <a:ext cx="4557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cob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65920" y="5126040"/>
              <a:ext cx="89280" cy="546480"/>
            </a:xfrm>
            <a:custGeom>
              <a:avLst/>
              <a:gdLst/>
              <a:ahLst/>
              <a:rect l="0" t="0" r="r" b="b"/>
              <a:pathLst>
                <a:path fill="none" w="248" h="1518">
                  <a:moveTo>
                    <a:pt x="0" y="0"/>
                  </a:moveTo>
                  <a:lnTo>
                    <a:pt x="248" y="0"/>
                  </a:lnTo>
                  <a:lnTo>
                    <a:pt x="248" y="1518"/>
                  </a:lnTo>
                  <a:lnTo>
                    <a:pt x="0" y="151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059520" y="526248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74920" y="4282920"/>
              <a:ext cx="184680" cy="630720"/>
            </a:xfrm>
            <a:custGeom>
              <a:avLst/>
              <a:gdLst/>
              <a:ahLst/>
              <a:rect l="0" t="0" r="r" b="b"/>
              <a:pathLst>
                <a:path w="513" h="1752">
                  <a:moveTo>
                    <a:pt x="0" y="0"/>
                  </a:moveTo>
                  <a:lnTo>
                    <a:pt x="380" y="949"/>
                  </a:lnTo>
                  <a:lnTo>
                    <a:pt x="208" y="891"/>
                  </a:lnTo>
                  <a:lnTo>
                    <a:pt x="513" y="1752"/>
                  </a:lnTo>
                  <a:lnTo>
                    <a:pt x="133" y="803"/>
                  </a:lnTo>
                  <a:lnTo>
                    <a:pt x="305" y="8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41720" y="4087800"/>
              <a:ext cx="286200" cy="101880"/>
            </a:xfrm>
            <a:custGeom>
              <a:avLst/>
              <a:gdLst/>
              <a:ahLst/>
              <a:rect l="0" t="0" r="r" b="b"/>
              <a:pathLst>
                <a:path w="795" h="283">
                  <a:moveTo>
                    <a:pt x="729" y="48"/>
                  </a:moveTo>
                  <a:lnTo>
                    <a:pt x="645" y="0"/>
                  </a:lnTo>
                  <a:lnTo>
                    <a:pt x="149" y="0"/>
                  </a:lnTo>
                  <a:lnTo>
                    <a:pt x="66" y="48"/>
                  </a:lnTo>
                  <a:lnTo>
                    <a:pt x="0" y="48"/>
                  </a:lnTo>
                  <a:lnTo>
                    <a:pt x="0" y="283"/>
                  </a:lnTo>
                  <a:lnTo>
                    <a:pt x="795" y="283"/>
                  </a:lnTo>
                  <a:lnTo>
                    <a:pt x="795" y="48"/>
                  </a:lnTo>
                  <a:lnTo>
                    <a:pt x="729" y="48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51080" y="4118040"/>
              <a:ext cx="267120" cy="59040"/>
            </a:xfrm>
            <a:custGeom>
              <a:avLst/>
              <a:gdLst/>
              <a:ahLst/>
              <a:rect l="0" t="0" r="r" b="b"/>
              <a:pathLst>
                <a:path w="742" h="164">
                  <a:moveTo>
                    <a:pt x="92" y="84"/>
                  </a:moveTo>
                  <a:lnTo>
                    <a:pt x="97" y="66"/>
                  </a:lnTo>
                  <a:lnTo>
                    <a:pt x="110" y="52"/>
                  </a:lnTo>
                  <a:lnTo>
                    <a:pt x="123" y="48"/>
                  </a:lnTo>
                  <a:lnTo>
                    <a:pt x="141" y="48"/>
                  </a:lnTo>
                  <a:lnTo>
                    <a:pt x="158" y="52"/>
                  </a:lnTo>
                  <a:lnTo>
                    <a:pt x="167" y="66"/>
                  </a:lnTo>
                  <a:lnTo>
                    <a:pt x="171" y="84"/>
                  </a:lnTo>
                  <a:lnTo>
                    <a:pt x="167" y="102"/>
                  </a:lnTo>
                  <a:lnTo>
                    <a:pt x="158" y="111"/>
                  </a:lnTo>
                  <a:lnTo>
                    <a:pt x="141" y="120"/>
                  </a:lnTo>
                  <a:lnTo>
                    <a:pt x="123" y="120"/>
                  </a:lnTo>
                  <a:lnTo>
                    <a:pt x="110" y="111"/>
                  </a:lnTo>
                  <a:lnTo>
                    <a:pt x="97" y="102"/>
                  </a:lnTo>
                  <a:lnTo>
                    <a:pt x="92" y="84"/>
                  </a:lnTo>
                  <a:lnTo>
                    <a:pt x="252" y="84"/>
                  </a:lnTo>
                  <a:lnTo>
                    <a:pt x="256" y="66"/>
                  </a:lnTo>
                  <a:lnTo>
                    <a:pt x="269" y="52"/>
                  </a:lnTo>
                  <a:lnTo>
                    <a:pt x="283" y="48"/>
                  </a:lnTo>
                  <a:lnTo>
                    <a:pt x="300" y="48"/>
                  </a:lnTo>
                  <a:lnTo>
                    <a:pt x="318" y="52"/>
                  </a:lnTo>
                  <a:lnTo>
                    <a:pt x="327" y="66"/>
                  </a:lnTo>
                  <a:lnTo>
                    <a:pt x="331" y="84"/>
                  </a:lnTo>
                  <a:lnTo>
                    <a:pt x="327" y="102"/>
                  </a:lnTo>
                  <a:lnTo>
                    <a:pt x="318" y="111"/>
                  </a:lnTo>
                  <a:lnTo>
                    <a:pt x="300" y="120"/>
                  </a:lnTo>
                  <a:lnTo>
                    <a:pt x="283" y="120"/>
                  </a:lnTo>
                  <a:lnTo>
                    <a:pt x="269" y="111"/>
                  </a:lnTo>
                  <a:lnTo>
                    <a:pt x="256" y="102"/>
                  </a:lnTo>
                  <a:lnTo>
                    <a:pt x="252" y="84"/>
                  </a:lnTo>
                  <a:lnTo>
                    <a:pt x="411" y="84"/>
                  </a:lnTo>
                  <a:lnTo>
                    <a:pt x="415" y="66"/>
                  </a:lnTo>
                  <a:lnTo>
                    <a:pt x="424" y="52"/>
                  </a:lnTo>
                  <a:lnTo>
                    <a:pt x="441" y="48"/>
                  </a:lnTo>
                  <a:lnTo>
                    <a:pt x="459" y="48"/>
                  </a:lnTo>
                  <a:lnTo>
                    <a:pt x="477" y="52"/>
                  </a:lnTo>
                  <a:lnTo>
                    <a:pt x="486" y="66"/>
                  </a:lnTo>
                  <a:lnTo>
                    <a:pt x="490" y="84"/>
                  </a:lnTo>
                  <a:lnTo>
                    <a:pt x="486" y="102"/>
                  </a:lnTo>
                  <a:lnTo>
                    <a:pt x="477" y="111"/>
                  </a:lnTo>
                  <a:lnTo>
                    <a:pt x="459" y="120"/>
                  </a:lnTo>
                  <a:lnTo>
                    <a:pt x="441" y="120"/>
                  </a:lnTo>
                  <a:lnTo>
                    <a:pt x="424" y="111"/>
                  </a:lnTo>
                  <a:lnTo>
                    <a:pt x="415" y="102"/>
                  </a:lnTo>
                  <a:lnTo>
                    <a:pt x="411" y="84"/>
                  </a:lnTo>
                  <a:lnTo>
                    <a:pt x="570" y="84"/>
                  </a:lnTo>
                  <a:lnTo>
                    <a:pt x="575" y="66"/>
                  </a:lnTo>
                  <a:lnTo>
                    <a:pt x="584" y="52"/>
                  </a:lnTo>
                  <a:lnTo>
                    <a:pt x="601" y="48"/>
                  </a:lnTo>
                  <a:lnTo>
                    <a:pt x="619" y="48"/>
                  </a:lnTo>
                  <a:lnTo>
                    <a:pt x="637" y="52"/>
                  </a:lnTo>
                  <a:lnTo>
                    <a:pt x="645" y="66"/>
                  </a:lnTo>
                  <a:lnTo>
                    <a:pt x="650" y="84"/>
                  </a:lnTo>
                  <a:lnTo>
                    <a:pt x="645" y="102"/>
                  </a:lnTo>
                  <a:lnTo>
                    <a:pt x="637" y="111"/>
                  </a:lnTo>
                  <a:lnTo>
                    <a:pt x="619" y="120"/>
                  </a:lnTo>
                  <a:lnTo>
                    <a:pt x="601" y="120"/>
                  </a:lnTo>
                  <a:lnTo>
                    <a:pt x="584" y="111"/>
                  </a:lnTo>
                  <a:lnTo>
                    <a:pt x="575" y="102"/>
                  </a:lnTo>
                  <a:lnTo>
                    <a:pt x="570" y="84"/>
                  </a:lnTo>
                  <a:lnTo>
                    <a:pt x="0" y="164"/>
                  </a:lnTo>
                  <a:lnTo>
                    <a:pt x="742" y="164"/>
                  </a:lnTo>
                  <a:lnTo>
                    <a:pt x="742" y="35"/>
                  </a:lnTo>
                  <a:lnTo>
                    <a:pt x="738" y="17"/>
                  </a:lnTo>
                  <a:lnTo>
                    <a:pt x="725" y="4"/>
                  </a:lnTo>
                  <a:lnTo>
                    <a:pt x="703" y="0"/>
                  </a:lnTo>
                  <a:lnTo>
                    <a:pt x="39" y="0"/>
                  </a:lnTo>
                  <a:lnTo>
                    <a:pt x="22" y="4"/>
                  </a:lnTo>
                  <a:lnTo>
                    <a:pt x="4" y="17"/>
                  </a:lnTo>
                  <a:lnTo>
                    <a:pt x="0" y="35"/>
                  </a:lnTo>
                  <a:lnTo>
                    <a:pt x="0" y="164"/>
                  </a:lnTo>
                  <a:lnTo>
                    <a:pt x="92" y="84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94200" y="4227480"/>
              <a:ext cx="371880" cy="128880"/>
            </a:xfrm>
            <a:custGeom>
              <a:avLst/>
              <a:gdLst/>
              <a:ahLst/>
              <a:rect l="0" t="0" r="r" b="b"/>
              <a:pathLst>
                <a:path w="1033" h="358">
                  <a:moveTo>
                    <a:pt x="0" y="0"/>
                  </a:moveTo>
                  <a:lnTo>
                    <a:pt x="0" y="358"/>
                  </a:lnTo>
                  <a:lnTo>
                    <a:pt x="1033" y="358"/>
                  </a:lnTo>
                  <a:lnTo>
                    <a:pt x="103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3008160" y="4189320"/>
              <a:ext cx="5223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676600" y="1057320"/>
            <a:ext cx="589284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amples:  Ma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665440" y="2006640"/>
            <a:ext cx="58928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77960" y="1790640"/>
            <a:ext cx="5956200" cy="44578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705040" y="1905120"/>
            <a:ext cx="55609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.Link</dc:creator>
  <dc:description/>
  <dc:language>en-US</dc:language>
  <cp:lastModifiedBy>Edward I. Jenny</cp:lastModifiedBy>
  <cp:revision>0</cp:revision>
  <dc:subject/>
  <dc:title>Visio Corp</dc:title>
</cp:coreProperties>
</file>