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7960" y="379440"/>
            <a:ext cx="1741320" cy="6031080"/>
          </a:xfrm>
          <a:prstGeom prst="rect">
            <a:avLst/>
          </a:prstGeom>
          <a:solidFill>
            <a:srgbClr val="002baf"/>
          </a:solidFill>
          <a:ln w="25560">
            <a:solidFill>
              <a:srgbClr val="002ba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07960" y="1163520"/>
            <a:ext cx="1752480" cy="51404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507960" y="534960"/>
            <a:ext cx="806292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1dc00"/>
                </a:solidFill>
                <a:latin typeface="Monotype Sorts"/>
                <a:ea typeface="Monotype Sorts"/>
              </a:rPr>
              <a:t>◆        ⬛        ●        ▲</a:t>
            </a:r>
            <a:r>
              <a:rPr b="0" lang="en-US" sz="1200" spc="-1" strike="noStrike">
                <a:solidFill>
                  <a:srgbClr val="001e78"/>
                </a:solidFill>
                <a:latin typeface="Monotype Sorts"/>
                <a:ea typeface="Monotype Sorts"/>
              </a:rPr>
              <a:t>        ◆        ⬛        ●        ▲        ◆        ⬛        ●        ▲        ◆        ⬛       ●       ▲        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59000" y="379440"/>
            <a:ext cx="0" cy="6030720"/>
          </a:xfrm>
          <a:prstGeom prst="line">
            <a:avLst/>
          </a:prstGeom>
          <a:ln w="12600">
            <a:solidFill>
              <a:srgbClr val="002b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7960" y="379440"/>
            <a:ext cx="8116920" cy="608652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612880" y="2241720"/>
            <a:ext cx="3918600" cy="3932640"/>
            <a:chOff x="2612880" y="2241720"/>
            <a:chExt cx="3918600" cy="3932640"/>
          </a:xfrm>
        </p:grpSpPr>
        <p:sp>
          <p:nvSpPr>
            <p:cNvPr id="44" name=""/>
            <p:cNvSpPr/>
            <p:nvPr/>
          </p:nvSpPr>
          <p:spPr>
            <a:xfrm>
              <a:off x="2612880" y="2241720"/>
              <a:ext cx="2391120" cy="3932640"/>
            </a:xfrm>
            <a:custGeom>
              <a:avLst/>
              <a:gdLst/>
              <a:ahLst/>
              <a:rect l="0" t="0" r="r" b="b"/>
              <a:pathLst>
                <a:path w="6642" h="10924">
                  <a:moveTo>
                    <a:pt x="0" y="5462"/>
                  </a:moveTo>
                  <a:lnTo>
                    <a:pt x="5442" y="0"/>
                  </a:lnTo>
                  <a:lnTo>
                    <a:pt x="5442" y="1699"/>
                  </a:lnTo>
                  <a:lnTo>
                    <a:pt x="4374" y="1699"/>
                  </a:lnTo>
                  <a:lnTo>
                    <a:pt x="4374" y="3762"/>
                  </a:lnTo>
                  <a:lnTo>
                    <a:pt x="5442" y="3762"/>
                  </a:lnTo>
                  <a:lnTo>
                    <a:pt x="5442" y="5018"/>
                  </a:lnTo>
                  <a:lnTo>
                    <a:pt x="5053" y="5044"/>
                  </a:lnTo>
                  <a:lnTo>
                    <a:pt x="5442" y="5985"/>
                  </a:lnTo>
                  <a:lnTo>
                    <a:pt x="5442" y="7369"/>
                  </a:lnTo>
                  <a:lnTo>
                    <a:pt x="5573" y="7369"/>
                  </a:lnTo>
                  <a:lnTo>
                    <a:pt x="5678" y="7395"/>
                  </a:lnTo>
                  <a:lnTo>
                    <a:pt x="5806" y="7422"/>
                  </a:lnTo>
                  <a:lnTo>
                    <a:pt x="5911" y="7474"/>
                  </a:lnTo>
                  <a:lnTo>
                    <a:pt x="6016" y="7527"/>
                  </a:lnTo>
                  <a:lnTo>
                    <a:pt x="6121" y="7579"/>
                  </a:lnTo>
                  <a:lnTo>
                    <a:pt x="6196" y="7632"/>
                  </a:lnTo>
                  <a:lnTo>
                    <a:pt x="6275" y="7711"/>
                  </a:lnTo>
                  <a:lnTo>
                    <a:pt x="6353" y="7813"/>
                  </a:lnTo>
                  <a:lnTo>
                    <a:pt x="6432" y="7892"/>
                  </a:lnTo>
                  <a:lnTo>
                    <a:pt x="6484" y="7997"/>
                  </a:lnTo>
                  <a:lnTo>
                    <a:pt x="6537" y="8102"/>
                  </a:lnTo>
                  <a:lnTo>
                    <a:pt x="6589" y="8208"/>
                  </a:lnTo>
                  <a:lnTo>
                    <a:pt x="6615" y="8310"/>
                  </a:lnTo>
                  <a:lnTo>
                    <a:pt x="6615" y="8442"/>
                  </a:lnTo>
                  <a:lnTo>
                    <a:pt x="6642" y="8573"/>
                  </a:lnTo>
                  <a:lnTo>
                    <a:pt x="6615" y="8679"/>
                  </a:lnTo>
                  <a:lnTo>
                    <a:pt x="6615" y="8807"/>
                  </a:lnTo>
                  <a:lnTo>
                    <a:pt x="6589" y="8912"/>
                  </a:lnTo>
                  <a:lnTo>
                    <a:pt x="6537" y="9017"/>
                  </a:lnTo>
                  <a:lnTo>
                    <a:pt x="6484" y="9123"/>
                  </a:lnTo>
                  <a:lnTo>
                    <a:pt x="6432" y="9228"/>
                  </a:lnTo>
                  <a:lnTo>
                    <a:pt x="6353" y="9330"/>
                  </a:lnTo>
                  <a:lnTo>
                    <a:pt x="6275" y="9409"/>
                  </a:lnTo>
                  <a:lnTo>
                    <a:pt x="6196" y="9488"/>
                  </a:lnTo>
                  <a:lnTo>
                    <a:pt x="6121" y="9540"/>
                  </a:lnTo>
                  <a:lnTo>
                    <a:pt x="6016" y="9619"/>
                  </a:lnTo>
                  <a:lnTo>
                    <a:pt x="5911" y="9672"/>
                  </a:lnTo>
                  <a:lnTo>
                    <a:pt x="5806" y="9698"/>
                  </a:lnTo>
                  <a:lnTo>
                    <a:pt x="5678" y="9724"/>
                  </a:lnTo>
                  <a:lnTo>
                    <a:pt x="5573" y="9751"/>
                  </a:lnTo>
                  <a:lnTo>
                    <a:pt x="5442" y="9751"/>
                  </a:lnTo>
                  <a:lnTo>
                    <a:pt x="5442" y="10924"/>
                  </a:lnTo>
                  <a:lnTo>
                    <a:pt x="0" y="5462"/>
                  </a:lnTo>
                  <a:close/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00134f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91120" y="2241720"/>
              <a:ext cx="2340360" cy="3932640"/>
            </a:xfrm>
            <a:custGeom>
              <a:avLst/>
              <a:gdLst/>
              <a:ahLst/>
              <a:rect l="0" t="0" r="r" b="b"/>
              <a:pathLst>
                <a:path w="6501" h="10924">
                  <a:moveTo>
                    <a:pt x="1066" y="0"/>
                  </a:moveTo>
                  <a:lnTo>
                    <a:pt x="6501" y="5462"/>
                  </a:lnTo>
                  <a:lnTo>
                    <a:pt x="1066" y="10924"/>
                  </a:lnTo>
                  <a:lnTo>
                    <a:pt x="1066" y="9751"/>
                  </a:lnTo>
                  <a:lnTo>
                    <a:pt x="1197" y="9751"/>
                  </a:lnTo>
                  <a:lnTo>
                    <a:pt x="1301" y="9724"/>
                  </a:lnTo>
                  <a:lnTo>
                    <a:pt x="1429" y="9698"/>
                  </a:lnTo>
                  <a:lnTo>
                    <a:pt x="1534" y="9672"/>
                  </a:lnTo>
                  <a:lnTo>
                    <a:pt x="1639" y="9619"/>
                  </a:lnTo>
                  <a:lnTo>
                    <a:pt x="1744" y="9540"/>
                  </a:lnTo>
                  <a:lnTo>
                    <a:pt x="1819" y="9488"/>
                  </a:lnTo>
                  <a:lnTo>
                    <a:pt x="1898" y="9409"/>
                  </a:lnTo>
                  <a:lnTo>
                    <a:pt x="1976" y="9330"/>
                  </a:lnTo>
                  <a:lnTo>
                    <a:pt x="2055" y="9228"/>
                  </a:lnTo>
                  <a:lnTo>
                    <a:pt x="2107" y="9123"/>
                  </a:lnTo>
                  <a:lnTo>
                    <a:pt x="2160" y="9017"/>
                  </a:lnTo>
                  <a:lnTo>
                    <a:pt x="2212" y="8912"/>
                  </a:lnTo>
                  <a:lnTo>
                    <a:pt x="2238" y="8807"/>
                  </a:lnTo>
                  <a:lnTo>
                    <a:pt x="2238" y="8679"/>
                  </a:lnTo>
                  <a:lnTo>
                    <a:pt x="2264" y="8573"/>
                  </a:lnTo>
                  <a:lnTo>
                    <a:pt x="2238" y="8442"/>
                  </a:lnTo>
                  <a:lnTo>
                    <a:pt x="2238" y="8310"/>
                  </a:lnTo>
                  <a:lnTo>
                    <a:pt x="2212" y="8208"/>
                  </a:lnTo>
                  <a:lnTo>
                    <a:pt x="2160" y="8102"/>
                  </a:lnTo>
                  <a:lnTo>
                    <a:pt x="2107" y="7997"/>
                  </a:lnTo>
                  <a:lnTo>
                    <a:pt x="2055" y="7892"/>
                  </a:lnTo>
                  <a:lnTo>
                    <a:pt x="1976" y="7813"/>
                  </a:lnTo>
                  <a:lnTo>
                    <a:pt x="1898" y="7711"/>
                  </a:lnTo>
                  <a:lnTo>
                    <a:pt x="1819" y="7632"/>
                  </a:lnTo>
                  <a:lnTo>
                    <a:pt x="1744" y="7579"/>
                  </a:lnTo>
                  <a:lnTo>
                    <a:pt x="1639" y="7527"/>
                  </a:lnTo>
                  <a:lnTo>
                    <a:pt x="1534" y="7474"/>
                  </a:lnTo>
                  <a:lnTo>
                    <a:pt x="1429" y="7422"/>
                  </a:lnTo>
                  <a:lnTo>
                    <a:pt x="1301" y="7395"/>
                  </a:lnTo>
                  <a:lnTo>
                    <a:pt x="1197" y="7369"/>
                  </a:lnTo>
                  <a:lnTo>
                    <a:pt x="1066" y="7369"/>
                  </a:lnTo>
                  <a:lnTo>
                    <a:pt x="1066" y="5985"/>
                  </a:lnTo>
                  <a:lnTo>
                    <a:pt x="677" y="5044"/>
                  </a:lnTo>
                  <a:lnTo>
                    <a:pt x="1066" y="5018"/>
                  </a:lnTo>
                  <a:lnTo>
                    <a:pt x="1066" y="3762"/>
                  </a:lnTo>
                  <a:lnTo>
                    <a:pt x="0" y="3762"/>
                  </a:lnTo>
                  <a:lnTo>
                    <a:pt x="0" y="1699"/>
                  </a:lnTo>
                  <a:lnTo>
                    <a:pt x="1066" y="1699"/>
                  </a:lnTo>
                  <a:lnTo>
                    <a:pt x="106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134f"/>
                </a:gs>
                <a:gs pos="100000">
                  <a:srgbClr val="00279f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01840" y="3870360"/>
              <a:ext cx="792360" cy="806760"/>
            </a:xfrm>
            <a:custGeom>
              <a:avLst/>
              <a:gdLst/>
              <a:ahLst/>
              <a:rect l="0" t="0" r="r" b="b"/>
              <a:pathLst>
                <a:path w="2201" h="2241">
                  <a:moveTo>
                    <a:pt x="749" y="2241"/>
                  </a:moveTo>
                  <a:lnTo>
                    <a:pt x="0" y="0"/>
                  </a:lnTo>
                  <a:lnTo>
                    <a:pt x="775" y="0"/>
                  </a:lnTo>
                  <a:lnTo>
                    <a:pt x="1112" y="962"/>
                  </a:lnTo>
                  <a:lnTo>
                    <a:pt x="1451" y="0"/>
                  </a:lnTo>
                  <a:lnTo>
                    <a:pt x="2201" y="0"/>
                  </a:lnTo>
                  <a:lnTo>
                    <a:pt x="1451" y="2241"/>
                  </a:lnTo>
                  <a:lnTo>
                    <a:pt x="749" y="2241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02120" y="4138560"/>
              <a:ext cx="217800" cy="538560"/>
            </a:xfrm>
            <a:custGeom>
              <a:avLst/>
              <a:gdLst/>
              <a:ahLst/>
              <a:rect l="0" t="0" r="r" b="b"/>
              <a:pathLst>
                <a:path w="605" h="1496">
                  <a:moveTo>
                    <a:pt x="0" y="0"/>
                  </a:moveTo>
                  <a:lnTo>
                    <a:pt x="605" y="0"/>
                  </a:lnTo>
                  <a:lnTo>
                    <a:pt x="605" y="1496"/>
                  </a:lnTo>
                  <a:lnTo>
                    <a:pt x="0" y="14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02120" y="3870360"/>
              <a:ext cx="239760" cy="2397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88080" y="4138560"/>
              <a:ext cx="219600" cy="538560"/>
            </a:xfrm>
            <a:custGeom>
              <a:avLst/>
              <a:gdLst/>
              <a:ahLst/>
              <a:rect l="0" t="0" r="r" b="b"/>
              <a:pathLst>
                <a:path w="610" h="1496">
                  <a:moveTo>
                    <a:pt x="0" y="0"/>
                  </a:moveTo>
                  <a:lnTo>
                    <a:pt x="610" y="0"/>
                  </a:lnTo>
                  <a:lnTo>
                    <a:pt x="610" y="1496"/>
                  </a:lnTo>
                  <a:lnTo>
                    <a:pt x="0" y="14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65760" y="3870360"/>
              <a:ext cx="262440" cy="246600"/>
            </a:xfrm>
            <a:custGeom>
              <a:avLst/>
              <a:gdLst/>
              <a:ahLst/>
              <a:rect l="0" t="0" r="r" b="b"/>
              <a:pathLst>
                <a:path w="729" h="685">
                  <a:moveTo>
                    <a:pt x="0" y="0"/>
                  </a:moveTo>
                  <a:lnTo>
                    <a:pt x="729" y="0"/>
                  </a:lnTo>
                  <a:lnTo>
                    <a:pt x="366" y="6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270320" y="3870360"/>
              <a:ext cx="545040" cy="806760"/>
            </a:xfrm>
            <a:custGeom>
              <a:avLst/>
              <a:gdLst/>
              <a:ahLst/>
              <a:rect l="0" t="0" r="r" b="b"/>
              <a:pathLst>
                <a:path w="1514" h="2241">
                  <a:moveTo>
                    <a:pt x="0" y="1589"/>
                  </a:moveTo>
                  <a:lnTo>
                    <a:pt x="306" y="1615"/>
                  </a:lnTo>
                  <a:lnTo>
                    <a:pt x="513" y="1615"/>
                  </a:lnTo>
                  <a:lnTo>
                    <a:pt x="716" y="1589"/>
                  </a:lnTo>
                  <a:lnTo>
                    <a:pt x="716" y="1484"/>
                  </a:lnTo>
                  <a:lnTo>
                    <a:pt x="587" y="1458"/>
                  </a:lnTo>
                  <a:lnTo>
                    <a:pt x="539" y="1458"/>
                  </a:lnTo>
                  <a:lnTo>
                    <a:pt x="462" y="1432"/>
                  </a:lnTo>
                  <a:lnTo>
                    <a:pt x="357" y="1353"/>
                  </a:lnTo>
                  <a:lnTo>
                    <a:pt x="254" y="1274"/>
                  </a:lnTo>
                  <a:lnTo>
                    <a:pt x="177" y="1147"/>
                  </a:lnTo>
                  <a:lnTo>
                    <a:pt x="99" y="1041"/>
                  </a:lnTo>
                  <a:lnTo>
                    <a:pt x="51" y="910"/>
                  </a:lnTo>
                  <a:lnTo>
                    <a:pt x="51" y="831"/>
                  </a:lnTo>
                  <a:lnTo>
                    <a:pt x="51" y="753"/>
                  </a:lnTo>
                  <a:lnTo>
                    <a:pt x="51" y="677"/>
                  </a:lnTo>
                  <a:lnTo>
                    <a:pt x="51" y="599"/>
                  </a:lnTo>
                  <a:lnTo>
                    <a:pt x="74" y="546"/>
                  </a:lnTo>
                  <a:lnTo>
                    <a:pt x="99" y="468"/>
                  </a:lnTo>
                  <a:lnTo>
                    <a:pt x="151" y="337"/>
                  </a:lnTo>
                  <a:lnTo>
                    <a:pt x="254" y="209"/>
                  </a:lnTo>
                  <a:lnTo>
                    <a:pt x="357" y="131"/>
                  </a:lnTo>
                  <a:lnTo>
                    <a:pt x="487" y="52"/>
                  </a:lnTo>
                  <a:lnTo>
                    <a:pt x="613" y="0"/>
                  </a:lnTo>
                  <a:lnTo>
                    <a:pt x="768" y="0"/>
                  </a:lnTo>
                  <a:lnTo>
                    <a:pt x="1514" y="0"/>
                  </a:lnTo>
                  <a:lnTo>
                    <a:pt x="1514" y="625"/>
                  </a:lnTo>
                  <a:lnTo>
                    <a:pt x="794" y="625"/>
                  </a:lnTo>
                  <a:lnTo>
                    <a:pt x="794" y="753"/>
                  </a:lnTo>
                  <a:lnTo>
                    <a:pt x="923" y="779"/>
                  </a:lnTo>
                  <a:lnTo>
                    <a:pt x="1074" y="805"/>
                  </a:lnTo>
                  <a:lnTo>
                    <a:pt x="1204" y="884"/>
                  </a:lnTo>
                  <a:lnTo>
                    <a:pt x="1308" y="962"/>
                  </a:lnTo>
                  <a:lnTo>
                    <a:pt x="1385" y="1067"/>
                  </a:lnTo>
                  <a:lnTo>
                    <a:pt x="1437" y="1147"/>
                  </a:lnTo>
                  <a:lnTo>
                    <a:pt x="1462" y="1199"/>
                  </a:lnTo>
                  <a:lnTo>
                    <a:pt x="1488" y="1353"/>
                  </a:lnTo>
                  <a:lnTo>
                    <a:pt x="1514" y="1432"/>
                  </a:lnTo>
                  <a:lnTo>
                    <a:pt x="1514" y="1510"/>
                  </a:lnTo>
                  <a:lnTo>
                    <a:pt x="1488" y="1668"/>
                  </a:lnTo>
                  <a:lnTo>
                    <a:pt x="1462" y="1795"/>
                  </a:lnTo>
                  <a:lnTo>
                    <a:pt x="1385" y="1926"/>
                  </a:lnTo>
                  <a:lnTo>
                    <a:pt x="1282" y="2031"/>
                  </a:lnTo>
                  <a:lnTo>
                    <a:pt x="1179" y="2110"/>
                  </a:lnTo>
                  <a:lnTo>
                    <a:pt x="1052" y="2188"/>
                  </a:lnTo>
                  <a:lnTo>
                    <a:pt x="974" y="2214"/>
                  </a:lnTo>
                  <a:lnTo>
                    <a:pt x="923" y="2214"/>
                  </a:lnTo>
                  <a:lnTo>
                    <a:pt x="768" y="2241"/>
                  </a:lnTo>
                  <a:lnTo>
                    <a:pt x="0" y="2241"/>
                  </a:lnTo>
                  <a:lnTo>
                    <a:pt x="0" y="1589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77000" y="3884760"/>
              <a:ext cx="79560" cy="87840"/>
            </a:xfrm>
            <a:custGeom>
              <a:avLst/>
              <a:gdLst/>
              <a:ahLst/>
              <a:rect l="0" t="0" r="r" b="b"/>
              <a:pathLst>
                <a:path w="221" h="244">
                  <a:moveTo>
                    <a:pt x="108" y="0"/>
                  </a:moveTo>
                  <a:lnTo>
                    <a:pt x="66" y="0"/>
                  </a:lnTo>
                  <a:lnTo>
                    <a:pt x="22" y="24"/>
                  </a:lnTo>
                  <a:lnTo>
                    <a:pt x="0" y="74"/>
                  </a:lnTo>
                  <a:lnTo>
                    <a:pt x="0" y="123"/>
                  </a:lnTo>
                  <a:lnTo>
                    <a:pt x="0" y="172"/>
                  </a:lnTo>
                  <a:lnTo>
                    <a:pt x="22" y="219"/>
                  </a:lnTo>
                  <a:lnTo>
                    <a:pt x="66" y="244"/>
                  </a:lnTo>
                  <a:lnTo>
                    <a:pt x="108" y="244"/>
                  </a:lnTo>
                  <a:lnTo>
                    <a:pt x="154" y="244"/>
                  </a:lnTo>
                  <a:lnTo>
                    <a:pt x="199" y="219"/>
                  </a:lnTo>
                  <a:lnTo>
                    <a:pt x="221" y="172"/>
                  </a:lnTo>
                  <a:lnTo>
                    <a:pt x="221" y="123"/>
                  </a:lnTo>
                  <a:lnTo>
                    <a:pt x="221" y="74"/>
                  </a:lnTo>
                  <a:lnTo>
                    <a:pt x="199" y="24"/>
                  </a:lnTo>
                  <a:lnTo>
                    <a:pt x="154" y="0"/>
                  </a:lnTo>
                  <a:lnTo>
                    <a:pt x="108" y="0"/>
                  </a:lnTo>
                  <a:lnTo>
                    <a:pt x="108" y="24"/>
                  </a:lnTo>
                  <a:lnTo>
                    <a:pt x="154" y="24"/>
                  </a:lnTo>
                  <a:lnTo>
                    <a:pt x="176" y="49"/>
                  </a:lnTo>
                  <a:lnTo>
                    <a:pt x="199" y="74"/>
                  </a:lnTo>
                  <a:lnTo>
                    <a:pt x="221" y="123"/>
                  </a:lnTo>
                  <a:lnTo>
                    <a:pt x="199" y="172"/>
                  </a:lnTo>
                  <a:lnTo>
                    <a:pt x="176" y="195"/>
                  </a:lnTo>
                  <a:lnTo>
                    <a:pt x="154" y="219"/>
                  </a:lnTo>
                  <a:lnTo>
                    <a:pt x="108" y="244"/>
                  </a:lnTo>
                  <a:lnTo>
                    <a:pt x="66" y="219"/>
                  </a:lnTo>
                  <a:lnTo>
                    <a:pt x="44" y="195"/>
                  </a:lnTo>
                  <a:lnTo>
                    <a:pt x="22" y="172"/>
                  </a:lnTo>
                  <a:lnTo>
                    <a:pt x="22" y="123"/>
                  </a:lnTo>
                  <a:lnTo>
                    <a:pt x="22" y="74"/>
                  </a:lnTo>
                  <a:lnTo>
                    <a:pt x="44" y="49"/>
                  </a:lnTo>
                  <a:lnTo>
                    <a:pt x="66" y="24"/>
                  </a:lnTo>
                  <a:lnTo>
                    <a:pt x="108" y="24"/>
                  </a:lnTo>
                  <a:lnTo>
                    <a:pt x="89" y="123"/>
                  </a:lnTo>
                  <a:lnTo>
                    <a:pt x="108" y="123"/>
                  </a:lnTo>
                  <a:lnTo>
                    <a:pt x="132" y="148"/>
                  </a:lnTo>
                  <a:lnTo>
                    <a:pt x="132" y="195"/>
                  </a:lnTo>
                  <a:lnTo>
                    <a:pt x="154" y="195"/>
                  </a:lnTo>
                  <a:lnTo>
                    <a:pt x="154" y="172"/>
                  </a:lnTo>
                  <a:lnTo>
                    <a:pt x="154" y="123"/>
                  </a:lnTo>
                  <a:lnTo>
                    <a:pt x="132" y="123"/>
                  </a:lnTo>
                  <a:lnTo>
                    <a:pt x="154" y="99"/>
                  </a:lnTo>
                  <a:lnTo>
                    <a:pt x="154" y="49"/>
                  </a:lnTo>
                  <a:lnTo>
                    <a:pt x="132" y="49"/>
                  </a:lnTo>
                  <a:lnTo>
                    <a:pt x="66" y="49"/>
                  </a:lnTo>
                  <a:lnTo>
                    <a:pt x="66" y="195"/>
                  </a:lnTo>
                  <a:lnTo>
                    <a:pt x="89" y="195"/>
                  </a:lnTo>
                  <a:lnTo>
                    <a:pt x="89" y="123"/>
                  </a:lnTo>
                  <a:lnTo>
                    <a:pt x="89" y="74"/>
                  </a:lnTo>
                  <a:lnTo>
                    <a:pt x="108" y="74"/>
                  </a:lnTo>
                  <a:lnTo>
                    <a:pt x="132" y="74"/>
                  </a:lnTo>
                  <a:lnTo>
                    <a:pt x="132" y="99"/>
                  </a:lnTo>
                  <a:lnTo>
                    <a:pt x="108" y="123"/>
                  </a:lnTo>
                  <a:lnTo>
                    <a:pt x="89" y="123"/>
                  </a:lnTo>
                  <a:lnTo>
                    <a:pt x="89" y="74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157720" y="3854520"/>
              <a:ext cx="813240" cy="822600"/>
            </a:xfrm>
            <a:custGeom>
              <a:avLst/>
              <a:gdLst/>
              <a:ahLst/>
              <a:rect l="0" t="0" r="r" b="b"/>
              <a:pathLst>
                <a:path w="2259" h="2285">
                  <a:moveTo>
                    <a:pt x="804" y="1156"/>
                  </a:moveTo>
                  <a:lnTo>
                    <a:pt x="804" y="1076"/>
                  </a:lnTo>
                  <a:lnTo>
                    <a:pt x="830" y="1023"/>
                  </a:lnTo>
                  <a:lnTo>
                    <a:pt x="883" y="917"/>
                  </a:lnTo>
                  <a:lnTo>
                    <a:pt x="935" y="864"/>
                  </a:lnTo>
                  <a:lnTo>
                    <a:pt x="1013" y="838"/>
                  </a:lnTo>
                  <a:lnTo>
                    <a:pt x="1066" y="812"/>
                  </a:lnTo>
                  <a:lnTo>
                    <a:pt x="1141" y="812"/>
                  </a:lnTo>
                  <a:lnTo>
                    <a:pt x="1193" y="812"/>
                  </a:lnTo>
                  <a:lnTo>
                    <a:pt x="1272" y="838"/>
                  </a:lnTo>
                  <a:lnTo>
                    <a:pt x="1376" y="917"/>
                  </a:lnTo>
                  <a:lnTo>
                    <a:pt x="1428" y="944"/>
                  </a:lnTo>
                  <a:lnTo>
                    <a:pt x="1454" y="1023"/>
                  </a:lnTo>
                  <a:lnTo>
                    <a:pt x="1481" y="1076"/>
                  </a:lnTo>
                  <a:lnTo>
                    <a:pt x="1481" y="1156"/>
                  </a:lnTo>
                  <a:lnTo>
                    <a:pt x="1481" y="1209"/>
                  </a:lnTo>
                  <a:lnTo>
                    <a:pt x="1454" y="1285"/>
                  </a:lnTo>
                  <a:lnTo>
                    <a:pt x="1376" y="1390"/>
                  </a:lnTo>
                  <a:lnTo>
                    <a:pt x="1324" y="1443"/>
                  </a:lnTo>
                  <a:lnTo>
                    <a:pt x="1272" y="1469"/>
                  </a:lnTo>
                  <a:lnTo>
                    <a:pt x="1193" y="1496"/>
                  </a:lnTo>
                  <a:lnTo>
                    <a:pt x="1141" y="1496"/>
                  </a:lnTo>
                  <a:lnTo>
                    <a:pt x="1066" y="1496"/>
                  </a:lnTo>
                  <a:lnTo>
                    <a:pt x="1013" y="1469"/>
                  </a:lnTo>
                  <a:lnTo>
                    <a:pt x="883" y="1390"/>
                  </a:lnTo>
                  <a:lnTo>
                    <a:pt x="857" y="1337"/>
                  </a:lnTo>
                  <a:lnTo>
                    <a:pt x="830" y="1285"/>
                  </a:lnTo>
                  <a:lnTo>
                    <a:pt x="804" y="1209"/>
                  </a:lnTo>
                  <a:lnTo>
                    <a:pt x="804" y="1156"/>
                  </a:lnTo>
                  <a:lnTo>
                    <a:pt x="0" y="1156"/>
                  </a:lnTo>
                  <a:lnTo>
                    <a:pt x="26" y="1023"/>
                  </a:lnTo>
                  <a:lnTo>
                    <a:pt x="26" y="970"/>
                  </a:lnTo>
                  <a:lnTo>
                    <a:pt x="26" y="917"/>
                  </a:lnTo>
                  <a:lnTo>
                    <a:pt x="52" y="812"/>
                  </a:lnTo>
                  <a:lnTo>
                    <a:pt x="101" y="709"/>
                  </a:lnTo>
                  <a:lnTo>
                    <a:pt x="153" y="604"/>
                  </a:lnTo>
                  <a:lnTo>
                    <a:pt x="205" y="524"/>
                  </a:lnTo>
                  <a:lnTo>
                    <a:pt x="258" y="419"/>
                  </a:lnTo>
                  <a:lnTo>
                    <a:pt x="336" y="339"/>
                  </a:lnTo>
                  <a:lnTo>
                    <a:pt x="414" y="264"/>
                  </a:lnTo>
                  <a:lnTo>
                    <a:pt x="493" y="211"/>
                  </a:lnTo>
                  <a:lnTo>
                    <a:pt x="598" y="158"/>
                  </a:lnTo>
                  <a:lnTo>
                    <a:pt x="700" y="105"/>
                  </a:lnTo>
                  <a:lnTo>
                    <a:pt x="804" y="52"/>
                  </a:lnTo>
                  <a:lnTo>
                    <a:pt x="909" y="26"/>
                  </a:lnTo>
                  <a:lnTo>
                    <a:pt x="1013" y="26"/>
                  </a:lnTo>
                  <a:lnTo>
                    <a:pt x="1141" y="0"/>
                  </a:lnTo>
                  <a:lnTo>
                    <a:pt x="1245" y="26"/>
                  </a:lnTo>
                  <a:lnTo>
                    <a:pt x="1350" y="26"/>
                  </a:lnTo>
                  <a:lnTo>
                    <a:pt x="1481" y="52"/>
                  </a:lnTo>
                  <a:lnTo>
                    <a:pt x="1585" y="105"/>
                  </a:lnTo>
                  <a:lnTo>
                    <a:pt x="1660" y="158"/>
                  </a:lnTo>
                  <a:lnTo>
                    <a:pt x="1766" y="211"/>
                  </a:lnTo>
                  <a:lnTo>
                    <a:pt x="1844" y="264"/>
                  </a:lnTo>
                  <a:lnTo>
                    <a:pt x="1923" y="339"/>
                  </a:lnTo>
                  <a:lnTo>
                    <a:pt x="2001" y="419"/>
                  </a:lnTo>
                  <a:lnTo>
                    <a:pt x="2080" y="524"/>
                  </a:lnTo>
                  <a:lnTo>
                    <a:pt x="2129" y="604"/>
                  </a:lnTo>
                  <a:lnTo>
                    <a:pt x="2181" y="709"/>
                  </a:lnTo>
                  <a:lnTo>
                    <a:pt x="2207" y="812"/>
                  </a:lnTo>
                  <a:lnTo>
                    <a:pt x="2233" y="917"/>
                  </a:lnTo>
                  <a:lnTo>
                    <a:pt x="2259" y="1023"/>
                  </a:lnTo>
                  <a:lnTo>
                    <a:pt x="2259" y="1156"/>
                  </a:lnTo>
                  <a:lnTo>
                    <a:pt x="2259" y="1261"/>
                  </a:lnTo>
                  <a:lnTo>
                    <a:pt x="2259" y="1311"/>
                  </a:lnTo>
                  <a:lnTo>
                    <a:pt x="2233" y="1390"/>
                  </a:lnTo>
                  <a:lnTo>
                    <a:pt x="2207" y="1496"/>
                  </a:lnTo>
                  <a:lnTo>
                    <a:pt x="2181" y="1601"/>
                  </a:lnTo>
                  <a:lnTo>
                    <a:pt x="2129" y="1707"/>
                  </a:lnTo>
                  <a:lnTo>
                    <a:pt x="2080" y="1783"/>
                  </a:lnTo>
                  <a:lnTo>
                    <a:pt x="2001" y="1862"/>
                  </a:lnTo>
                  <a:lnTo>
                    <a:pt x="1923" y="1968"/>
                  </a:lnTo>
                  <a:lnTo>
                    <a:pt x="1844" y="2021"/>
                  </a:lnTo>
                  <a:lnTo>
                    <a:pt x="1766" y="2100"/>
                  </a:lnTo>
                  <a:lnTo>
                    <a:pt x="1660" y="2153"/>
                  </a:lnTo>
                  <a:lnTo>
                    <a:pt x="1585" y="2206"/>
                  </a:lnTo>
                  <a:lnTo>
                    <a:pt x="1481" y="2232"/>
                  </a:lnTo>
                  <a:lnTo>
                    <a:pt x="1350" y="2258"/>
                  </a:lnTo>
                  <a:lnTo>
                    <a:pt x="1245" y="2285"/>
                  </a:lnTo>
                  <a:lnTo>
                    <a:pt x="1141" y="2285"/>
                  </a:lnTo>
                  <a:lnTo>
                    <a:pt x="1013" y="2285"/>
                  </a:lnTo>
                  <a:lnTo>
                    <a:pt x="909" y="2258"/>
                  </a:lnTo>
                  <a:lnTo>
                    <a:pt x="804" y="2232"/>
                  </a:lnTo>
                  <a:lnTo>
                    <a:pt x="700" y="2206"/>
                  </a:lnTo>
                  <a:lnTo>
                    <a:pt x="598" y="2153"/>
                  </a:lnTo>
                  <a:lnTo>
                    <a:pt x="493" y="2100"/>
                  </a:lnTo>
                  <a:lnTo>
                    <a:pt x="414" y="2021"/>
                  </a:lnTo>
                  <a:lnTo>
                    <a:pt x="336" y="1968"/>
                  </a:lnTo>
                  <a:lnTo>
                    <a:pt x="258" y="1862"/>
                  </a:lnTo>
                  <a:lnTo>
                    <a:pt x="205" y="1783"/>
                  </a:lnTo>
                  <a:lnTo>
                    <a:pt x="153" y="1707"/>
                  </a:lnTo>
                  <a:lnTo>
                    <a:pt x="101" y="1601"/>
                  </a:lnTo>
                  <a:lnTo>
                    <a:pt x="52" y="1496"/>
                  </a:lnTo>
                  <a:lnTo>
                    <a:pt x="26" y="1390"/>
                  </a:lnTo>
                  <a:lnTo>
                    <a:pt x="26" y="1261"/>
                  </a:lnTo>
                  <a:lnTo>
                    <a:pt x="0" y="1156"/>
                  </a:lnTo>
                  <a:lnTo>
                    <a:pt x="804" y="1156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011240" y="5497560"/>
            <a:ext cx="68151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70080" y="981000"/>
            <a:ext cx="6654960" cy="744480"/>
          </a:xfrm>
          <a:prstGeom prst="rect">
            <a:avLst/>
          </a:prstGeom>
          <a:solidFill>
            <a:srgbClr val="002baf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ing Visio Technical 4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676600" y="1057320"/>
            <a:ext cx="589284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lly Customizable </a:t>
            </a:r>
            <a:br>
              <a:rPr sz="3600"/>
            </a:b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ing OLE Autom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54280" y="2844720"/>
            <a:ext cx="589284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’s standard programming interface for Windows applicati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Basic, C/C++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applications that drive </a:t>
            </a:r>
            <a:br>
              <a:rPr sz="2700"/>
            </a:b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o Technical, Word, Excel, Access, Proje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575080" y="905040"/>
            <a:ext cx="580716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e Intelligent Draw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02000" y="2158920"/>
            <a:ext cx="5651640" cy="29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ociate non-graphical data, such as a price or part number, with any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rt data to OLE-compliant database or spreadsheet applications, including Access and Exc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LE Automation to automate creation of price lists and bills of materials from Visio Technical draw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676600" y="930240"/>
            <a:ext cx="58928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sio Technical 4.0 Benefi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97040" y="2125800"/>
            <a:ext cx="589284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d modify technical drawings without the complexity and long learning curve of traditional CA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training and support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echnical drawings more quickly and effici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 technical drawings more efficiently once they are cre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676600" y="1057320"/>
            <a:ext cx="58928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sio Technical 4.0 Benefi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89120" y="2235240"/>
            <a:ext cx="5716440" cy="34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drawings intelligent by linking them to databa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 your desktop invest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integrate technical drawings with the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Office and other Windows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Microsoft Office compat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Windows 95 and Windows 3.1 compli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32-bit and 16-bit versions inclu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07960" y="379440"/>
            <a:ext cx="8116920" cy="608652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64000" y="2089080"/>
            <a:ext cx="3918240" cy="3932640"/>
            <a:chOff x="2664000" y="2089080"/>
            <a:chExt cx="3918240" cy="3932640"/>
          </a:xfrm>
        </p:grpSpPr>
        <p:sp>
          <p:nvSpPr>
            <p:cNvPr id="110" name=""/>
            <p:cNvSpPr/>
            <p:nvPr/>
          </p:nvSpPr>
          <p:spPr>
            <a:xfrm>
              <a:off x="2664000" y="2089080"/>
              <a:ext cx="2391120" cy="3932640"/>
            </a:xfrm>
            <a:custGeom>
              <a:avLst/>
              <a:gdLst/>
              <a:ahLst/>
              <a:rect l="0" t="0" r="r" b="b"/>
              <a:pathLst>
                <a:path w="6642" h="10924">
                  <a:moveTo>
                    <a:pt x="0" y="5462"/>
                  </a:moveTo>
                  <a:lnTo>
                    <a:pt x="5442" y="0"/>
                  </a:lnTo>
                  <a:lnTo>
                    <a:pt x="5442" y="1699"/>
                  </a:lnTo>
                  <a:lnTo>
                    <a:pt x="4374" y="1699"/>
                  </a:lnTo>
                  <a:lnTo>
                    <a:pt x="4374" y="3762"/>
                  </a:lnTo>
                  <a:lnTo>
                    <a:pt x="5442" y="3762"/>
                  </a:lnTo>
                  <a:lnTo>
                    <a:pt x="5442" y="5018"/>
                  </a:lnTo>
                  <a:lnTo>
                    <a:pt x="5053" y="5044"/>
                  </a:lnTo>
                  <a:lnTo>
                    <a:pt x="5442" y="5985"/>
                  </a:lnTo>
                  <a:lnTo>
                    <a:pt x="5442" y="7369"/>
                  </a:lnTo>
                  <a:lnTo>
                    <a:pt x="5573" y="7369"/>
                  </a:lnTo>
                  <a:lnTo>
                    <a:pt x="5678" y="7395"/>
                  </a:lnTo>
                  <a:lnTo>
                    <a:pt x="5806" y="7422"/>
                  </a:lnTo>
                  <a:lnTo>
                    <a:pt x="5911" y="7474"/>
                  </a:lnTo>
                  <a:lnTo>
                    <a:pt x="6016" y="7527"/>
                  </a:lnTo>
                  <a:lnTo>
                    <a:pt x="6121" y="7579"/>
                  </a:lnTo>
                  <a:lnTo>
                    <a:pt x="6196" y="7632"/>
                  </a:lnTo>
                  <a:lnTo>
                    <a:pt x="6275" y="7711"/>
                  </a:lnTo>
                  <a:lnTo>
                    <a:pt x="6353" y="7813"/>
                  </a:lnTo>
                  <a:lnTo>
                    <a:pt x="6432" y="7892"/>
                  </a:lnTo>
                  <a:lnTo>
                    <a:pt x="6484" y="7997"/>
                  </a:lnTo>
                  <a:lnTo>
                    <a:pt x="6537" y="8102"/>
                  </a:lnTo>
                  <a:lnTo>
                    <a:pt x="6589" y="8208"/>
                  </a:lnTo>
                  <a:lnTo>
                    <a:pt x="6615" y="8310"/>
                  </a:lnTo>
                  <a:lnTo>
                    <a:pt x="6615" y="8442"/>
                  </a:lnTo>
                  <a:lnTo>
                    <a:pt x="6642" y="8573"/>
                  </a:lnTo>
                  <a:lnTo>
                    <a:pt x="6615" y="8679"/>
                  </a:lnTo>
                  <a:lnTo>
                    <a:pt x="6615" y="8807"/>
                  </a:lnTo>
                  <a:lnTo>
                    <a:pt x="6589" y="8912"/>
                  </a:lnTo>
                  <a:lnTo>
                    <a:pt x="6537" y="9017"/>
                  </a:lnTo>
                  <a:lnTo>
                    <a:pt x="6484" y="9123"/>
                  </a:lnTo>
                  <a:lnTo>
                    <a:pt x="6432" y="9228"/>
                  </a:lnTo>
                  <a:lnTo>
                    <a:pt x="6353" y="9330"/>
                  </a:lnTo>
                  <a:lnTo>
                    <a:pt x="6275" y="9409"/>
                  </a:lnTo>
                  <a:lnTo>
                    <a:pt x="6196" y="9488"/>
                  </a:lnTo>
                  <a:lnTo>
                    <a:pt x="6121" y="9540"/>
                  </a:lnTo>
                  <a:lnTo>
                    <a:pt x="6016" y="9619"/>
                  </a:lnTo>
                  <a:lnTo>
                    <a:pt x="5911" y="9672"/>
                  </a:lnTo>
                  <a:lnTo>
                    <a:pt x="5806" y="9698"/>
                  </a:lnTo>
                  <a:lnTo>
                    <a:pt x="5678" y="9724"/>
                  </a:lnTo>
                  <a:lnTo>
                    <a:pt x="5573" y="9751"/>
                  </a:lnTo>
                  <a:lnTo>
                    <a:pt x="5442" y="9751"/>
                  </a:lnTo>
                  <a:lnTo>
                    <a:pt x="5442" y="10924"/>
                  </a:lnTo>
                  <a:lnTo>
                    <a:pt x="0" y="5462"/>
                  </a:lnTo>
                  <a:close/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00134f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41880" y="2089080"/>
              <a:ext cx="2340360" cy="3932640"/>
            </a:xfrm>
            <a:custGeom>
              <a:avLst/>
              <a:gdLst/>
              <a:ahLst/>
              <a:rect l="0" t="0" r="r" b="b"/>
              <a:pathLst>
                <a:path w="6501" h="10924">
                  <a:moveTo>
                    <a:pt x="1066" y="0"/>
                  </a:moveTo>
                  <a:lnTo>
                    <a:pt x="6501" y="5462"/>
                  </a:lnTo>
                  <a:lnTo>
                    <a:pt x="1066" y="10924"/>
                  </a:lnTo>
                  <a:lnTo>
                    <a:pt x="1066" y="9751"/>
                  </a:lnTo>
                  <a:lnTo>
                    <a:pt x="1197" y="9751"/>
                  </a:lnTo>
                  <a:lnTo>
                    <a:pt x="1301" y="9724"/>
                  </a:lnTo>
                  <a:lnTo>
                    <a:pt x="1429" y="9698"/>
                  </a:lnTo>
                  <a:lnTo>
                    <a:pt x="1534" y="9672"/>
                  </a:lnTo>
                  <a:lnTo>
                    <a:pt x="1639" y="9619"/>
                  </a:lnTo>
                  <a:lnTo>
                    <a:pt x="1744" y="9540"/>
                  </a:lnTo>
                  <a:lnTo>
                    <a:pt x="1819" y="9488"/>
                  </a:lnTo>
                  <a:lnTo>
                    <a:pt x="1898" y="9409"/>
                  </a:lnTo>
                  <a:lnTo>
                    <a:pt x="1976" y="9330"/>
                  </a:lnTo>
                  <a:lnTo>
                    <a:pt x="2055" y="9228"/>
                  </a:lnTo>
                  <a:lnTo>
                    <a:pt x="2107" y="9123"/>
                  </a:lnTo>
                  <a:lnTo>
                    <a:pt x="2160" y="9017"/>
                  </a:lnTo>
                  <a:lnTo>
                    <a:pt x="2212" y="8912"/>
                  </a:lnTo>
                  <a:lnTo>
                    <a:pt x="2238" y="8807"/>
                  </a:lnTo>
                  <a:lnTo>
                    <a:pt x="2238" y="8679"/>
                  </a:lnTo>
                  <a:lnTo>
                    <a:pt x="2264" y="8573"/>
                  </a:lnTo>
                  <a:lnTo>
                    <a:pt x="2238" y="8442"/>
                  </a:lnTo>
                  <a:lnTo>
                    <a:pt x="2238" y="8310"/>
                  </a:lnTo>
                  <a:lnTo>
                    <a:pt x="2212" y="8208"/>
                  </a:lnTo>
                  <a:lnTo>
                    <a:pt x="2160" y="8102"/>
                  </a:lnTo>
                  <a:lnTo>
                    <a:pt x="2107" y="7997"/>
                  </a:lnTo>
                  <a:lnTo>
                    <a:pt x="2055" y="7892"/>
                  </a:lnTo>
                  <a:lnTo>
                    <a:pt x="1976" y="7813"/>
                  </a:lnTo>
                  <a:lnTo>
                    <a:pt x="1898" y="7711"/>
                  </a:lnTo>
                  <a:lnTo>
                    <a:pt x="1819" y="7632"/>
                  </a:lnTo>
                  <a:lnTo>
                    <a:pt x="1744" y="7579"/>
                  </a:lnTo>
                  <a:lnTo>
                    <a:pt x="1639" y="7527"/>
                  </a:lnTo>
                  <a:lnTo>
                    <a:pt x="1534" y="7474"/>
                  </a:lnTo>
                  <a:lnTo>
                    <a:pt x="1429" y="7422"/>
                  </a:lnTo>
                  <a:lnTo>
                    <a:pt x="1301" y="7395"/>
                  </a:lnTo>
                  <a:lnTo>
                    <a:pt x="1197" y="7369"/>
                  </a:lnTo>
                  <a:lnTo>
                    <a:pt x="1066" y="7369"/>
                  </a:lnTo>
                  <a:lnTo>
                    <a:pt x="1066" y="5985"/>
                  </a:lnTo>
                  <a:lnTo>
                    <a:pt x="677" y="5044"/>
                  </a:lnTo>
                  <a:lnTo>
                    <a:pt x="1066" y="5018"/>
                  </a:lnTo>
                  <a:lnTo>
                    <a:pt x="1066" y="3762"/>
                  </a:lnTo>
                  <a:lnTo>
                    <a:pt x="0" y="3762"/>
                  </a:lnTo>
                  <a:lnTo>
                    <a:pt x="0" y="1699"/>
                  </a:lnTo>
                  <a:lnTo>
                    <a:pt x="1066" y="1699"/>
                  </a:lnTo>
                  <a:lnTo>
                    <a:pt x="106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134f"/>
                </a:gs>
                <a:gs pos="100000">
                  <a:srgbClr val="00279f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52960" y="3718080"/>
              <a:ext cx="792360" cy="806760"/>
            </a:xfrm>
            <a:custGeom>
              <a:avLst/>
              <a:gdLst/>
              <a:ahLst/>
              <a:rect l="0" t="0" r="r" b="b"/>
              <a:pathLst>
                <a:path w="2201" h="2241">
                  <a:moveTo>
                    <a:pt x="749" y="2241"/>
                  </a:moveTo>
                  <a:lnTo>
                    <a:pt x="0" y="0"/>
                  </a:lnTo>
                  <a:lnTo>
                    <a:pt x="775" y="0"/>
                  </a:lnTo>
                  <a:lnTo>
                    <a:pt x="1112" y="962"/>
                  </a:lnTo>
                  <a:lnTo>
                    <a:pt x="1451" y="0"/>
                  </a:lnTo>
                  <a:lnTo>
                    <a:pt x="2201" y="0"/>
                  </a:lnTo>
                  <a:lnTo>
                    <a:pt x="1451" y="2241"/>
                  </a:lnTo>
                  <a:lnTo>
                    <a:pt x="749" y="2241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52880" y="3986280"/>
              <a:ext cx="217800" cy="538560"/>
            </a:xfrm>
            <a:custGeom>
              <a:avLst/>
              <a:gdLst/>
              <a:ahLst/>
              <a:rect l="0" t="0" r="r" b="b"/>
              <a:pathLst>
                <a:path w="605" h="1496">
                  <a:moveTo>
                    <a:pt x="0" y="0"/>
                  </a:moveTo>
                  <a:lnTo>
                    <a:pt x="605" y="0"/>
                  </a:lnTo>
                  <a:lnTo>
                    <a:pt x="605" y="1496"/>
                  </a:lnTo>
                  <a:lnTo>
                    <a:pt x="0" y="14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52880" y="3718080"/>
              <a:ext cx="239760" cy="2397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38840" y="3986280"/>
              <a:ext cx="219600" cy="538560"/>
            </a:xfrm>
            <a:custGeom>
              <a:avLst/>
              <a:gdLst/>
              <a:ahLst/>
              <a:rect l="0" t="0" r="r" b="b"/>
              <a:pathLst>
                <a:path w="610" h="1496">
                  <a:moveTo>
                    <a:pt x="0" y="0"/>
                  </a:moveTo>
                  <a:lnTo>
                    <a:pt x="610" y="0"/>
                  </a:lnTo>
                  <a:lnTo>
                    <a:pt x="610" y="1496"/>
                  </a:lnTo>
                  <a:lnTo>
                    <a:pt x="0" y="14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16520" y="3718080"/>
              <a:ext cx="262440" cy="246600"/>
            </a:xfrm>
            <a:custGeom>
              <a:avLst/>
              <a:gdLst/>
              <a:ahLst/>
              <a:rect l="0" t="0" r="r" b="b"/>
              <a:pathLst>
                <a:path w="729" h="685">
                  <a:moveTo>
                    <a:pt x="0" y="0"/>
                  </a:moveTo>
                  <a:lnTo>
                    <a:pt x="729" y="0"/>
                  </a:lnTo>
                  <a:lnTo>
                    <a:pt x="366" y="6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21080" y="3718080"/>
              <a:ext cx="545040" cy="806760"/>
            </a:xfrm>
            <a:custGeom>
              <a:avLst/>
              <a:gdLst/>
              <a:ahLst/>
              <a:rect l="0" t="0" r="r" b="b"/>
              <a:pathLst>
                <a:path w="1514" h="2241">
                  <a:moveTo>
                    <a:pt x="0" y="1589"/>
                  </a:moveTo>
                  <a:lnTo>
                    <a:pt x="306" y="1615"/>
                  </a:lnTo>
                  <a:lnTo>
                    <a:pt x="513" y="1615"/>
                  </a:lnTo>
                  <a:lnTo>
                    <a:pt x="716" y="1589"/>
                  </a:lnTo>
                  <a:lnTo>
                    <a:pt x="716" y="1484"/>
                  </a:lnTo>
                  <a:lnTo>
                    <a:pt x="587" y="1458"/>
                  </a:lnTo>
                  <a:lnTo>
                    <a:pt x="539" y="1458"/>
                  </a:lnTo>
                  <a:lnTo>
                    <a:pt x="462" y="1432"/>
                  </a:lnTo>
                  <a:lnTo>
                    <a:pt x="357" y="1353"/>
                  </a:lnTo>
                  <a:lnTo>
                    <a:pt x="254" y="1274"/>
                  </a:lnTo>
                  <a:lnTo>
                    <a:pt x="177" y="1147"/>
                  </a:lnTo>
                  <a:lnTo>
                    <a:pt x="99" y="1041"/>
                  </a:lnTo>
                  <a:lnTo>
                    <a:pt x="51" y="910"/>
                  </a:lnTo>
                  <a:lnTo>
                    <a:pt x="51" y="831"/>
                  </a:lnTo>
                  <a:lnTo>
                    <a:pt x="51" y="753"/>
                  </a:lnTo>
                  <a:lnTo>
                    <a:pt x="51" y="677"/>
                  </a:lnTo>
                  <a:lnTo>
                    <a:pt x="51" y="599"/>
                  </a:lnTo>
                  <a:lnTo>
                    <a:pt x="74" y="546"/>
                  </a:lnTo>
                  <a:lnTo>
                    <a:pt x="99" y="468"/>
                  </a:lnTo>
                  <a:lnTo>
                    <a:pt x="151" y="337"/>
                  </a:lnTo>
                  <a:lnTo>
                    <a:pt x="254" y="209"/>
                  </a:lnTo>
                  <a:lnTo>
                    <a:pt x="357" y="131"/>
                  </a:lnTo>
                  <a:lnTo>
                    <a:pt x="487" y="52"/>
                  </a:lnTo>
                  <a:lnTo>
                    <a:pt x="613" y="0"/>
                  </a:lnTo>
                  <a:lnTo>
                    <a:pt x="768" y="0"/>
                  </a:lnTo>
                  <a:lnTo>
                    <a:pt x="1514" y="0"/>
                  </a:lnTo>
                  <a:lnTo>
                    <a:pt x="1514" y="625"/>
                  </a:lnTo>
                  <a:lnTo>
                    <a:pt x="794" y="625"/>
                  </a:lnTo>
                  <a:lnTo>
                    <a:pt x="794" y="753"/>
                  </a:lnTo>
                  <a:lnTo>
                    <a:pt x="923" y="779"/>
                  </a:lnTo>
                  <a:lnTo>
                    <a:pt x="1074" y="805"/>
                  </a:lnTo>
                  <a:lnTo>
                    <a:pt x="1204" y="884"/>
                  </a:lnTo>
                  <a:lnTo>
                    <a:pt x="1308" y="962"/>
                  </a:lnTo>
                  <a:lnTo>
                    <a:pt x="1385" y="1067"/>
                  </a:lnTo>
                  <a:lnTo>
                    <a:pt x="1437" y="1147"/>
                  </a:lnTo>
                  <a:lnTo>
                    <a:pt x="1462" y="1199"/>
                  </a:lnTo>
                  <a:lnTo>
                    <a:pt x="1488" y="1353"/>
                  </a:lnTo>
                  <a:lnTo>
                    <a:pt x="1514" y="1432"/>
                  </a:lnTo>
                  <a:lnTo>
                    <a:pt x="1514" y="1510"/>
                  </a:lnTo>
                  <a:lnTo>
                    <a:pt x="1488" y="1668"/>
                  </a:lnTo>
                  <a:lnTo>
                    <a:pt x="1462" y="1795"/>
                  </a:lnTo>
                  <a:lnTo>
                    <a:pt x="1385" y="1926"/>
                  </a:lnTo>
                  <a:lnTo>
                    <a:pt x="1282" y="2031"/>
                  </a:lnTo>
                  <a:lnTo>
                    <a:pt x="1179" y="2110"/>
                  </a:lnTo>
                  <a:lnTo>
                    <a:pt x="1052" y="2188"/>
                  </a:lnTo>
                  <a:lnTo>
                    <a:pt x="974" y="2214"/>
                  </a:lnTo>
                  <a:lnTo>
                    <a:pt x="923" y="2214"/>
                  </a:lnTo>
                  <a:lnTo>
                    <a:pt x="768" y="2241"/>
                  </a:lnTo>
                  <a:lnTo>
                    <a:pt x="0" y="2241"/>
                  </a:lnTo>
                  <a:lnTo>
                    <a:pt x="0" y="1589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27760" y="3732120"/>
              <a:ext cx="79560" cy="87840"/>
            </a:xfrm>
            <a:custGeom>
              <a:avLst/>
              <a:gdLst/>
              <a:ahLst/>
              <a:rect l="0" t="0" r="r" b="b"/>
              <a:pathLst>
                <a:path w="221" h="244">
                  <a:moveTo>
                    <a:pt x="108" y="0"/>
                  </a:moveTo>
                  <a:lnTo>
                    <a:pt x="66" y="0"/>
                  </a:lnTo>
                  <a:lnTo>
                    <a:pt x="22" y="24"/>
                  </a:lnTo>
                  <a:lnTo>
                    <a:pt x="0" y="74"/>
                  </a:lnTo>
                  <a:lnTo>
                    <a:pt x="0" y="123"/>
                  </a:lnTo>
                  <a:lnTo>
                    <a:pt x="0" y="172"/>
                  </a:lnTo>
                  <a:lnTo>
                    <a:pt x="22" y="219"/>
                  </a:lnTo>
                  <a:lnTo>
                    <a:pt x="66" y="244"/>
                  </a:lnTo>
                  <a:lnTo>
                    <a:pt x="108" y="244"/>
                  </a:lnTo>
                  <a:lnTo>
                    <a:pt x="154" y="244"/>
                  </a:lnTo>
                  <a:lnTo>
                    <a:pt x="199" y="219"/>
                  </a:lnTo>
                  <a:lnTo>
                    <a:pt x="221" y="172"/>
                  </a:lnTo>
                  <a:lnTo>
                    <a:pt x="221" y="123"/>
                  </a:lnTo>
                  <a:lnTo>
                    <a:pt x="221" y="74"/>
                  </a:lnTo>
                  <a:lnTo>
                    <a:pt x="199" y="24"/>
                  </a:lnTo>
                  <a:lnTo>
                    <a:pt x="154" y="0"/>
                  </a:lnTo>
                  <a:lnTo>
                    <a:pt x="108" y="0"/>
                  </a:lnTo>
                  <a:lnTo>
                    <a:pt x="108" y="24"/>
                  </a:lnTo>
                  <a:lnTo>
                    <a:pt x="154" y="24"/>
                  </a:lnTo>
                  <a:lnTo>
                    <a:pt x="176" y="49"/>
                  </a:lnTo>
                  <a:lnTo>
                    <a:pt x="199" y="74"/>
                  </a:lnTo>
                  <a:lnTo>
                    <a:pt x="221" y="123"/>
                  </a:lnTo>
                  <a:lnTo>
                    <a:pt x="199" y="172"/>
                  </a:lnTo>
                  <a:lnTo>
                    <a:pt x="176" y="195"/>
                  </a:lnTo>
                  <a:lnTo>
                    <a:pt x="154" y="219"/>
                  </a:lnTo>
                  <a:lnTo>
                    <a:pt x="108" y="244"/>
                  </a:lnTo>
                  <a:lnTo>
                    <a:pt x="66" y="219"/>
                  </a:lnTo>
                  <a:lnTo>
                    <a:pt x="44" y="195"/>
                  </a:lnTo>
                  <a:lnTo>
                    <a:pt x="22" y="172"/>
                  </a:lnTo>
                  <a:lnTo>
                    <a:pt x="22" y="123"/>
                  </a:lnTo>
                  <a:lnTo>
                    <a:pt x="22" y="74"/>
                  </a:lnTo>
                  <a:lnTo>
                    <a:pt x="44" y="49"/>
                  </a:lnTo>
                  <a:lnTo>
                    <a:pt x="66" y="24"/>
                  </a:lnTo>
                  <a:lnTo>
                    <a:pt x="108" y="24"/>
                  </a:lnTo>
                  <a:lnTo>
                    <a:pt x="89" y="123"/>
                  </a:lnTo>
                  <a:lnTo>
                    <a:pt x="108" y="123"/>
                  </a:lnTo>
                  <a:lnTo>
                    <a:pt x="132" y="148"/>
                  </a:lnTo>
                  <a:lnTo>
                    <a:pt x="132" y="195"/>
                  </a:lnTo>
                  <a:lnTo>
                    <a:pt x="154" y="195"/>
                  </a:lnTo>
                  <a:lnTo>
                    <a:pt x="154" y="172"/>
                  </a:lnTo>
                  <a:lnTo>
                    <a:pt x="154" y="123"/>
                  </a:lnTo>
                  <a:lnTo>
                    <a:pt x="132" y="123"/>
                  </a:lnTo>
                  <a:lnTo>
                    <a:pt x="154" y="99"/>
                  </a:lnTo>
                  <a:lnTo>
                    <a:pt x="154" y="49"/>
                  </a:lnTo>
                  <a:lnTo>
                    <a:pt x="132" y="49"/>
                  </a:lnTo>
                  <a:lnTo>
                    <a:pt x="66" y="49"/>
                  </a:lnTo>
                  <a:lnTo>
                    <a:pt x="66" y="195"/>
                  </a:lnTo>
                  <a:lnTo>
                    <a:pt x="89" y="195"/>
                  </a:lnTo>
                  <a:lnTo>
                    <a:pt x="89" y="123"/>
                  </a:lnTo>
                  <a:lnTo>
                    <a:pt x="89" y="74"/>
                  </a:lnTo>
                  <a:lnTo>
                    <a:pt x="108" y="74"/>
                  </a:lnTo>
                  <a:lnTo>
                    <a:pt x="132" y="74"/>
                  </a:lnTo>
                  <a:lnTo>
                    <a:pt x="132" y="99"/>
                  </a:lnTo>
                  <a:lnTo>
                    <a:pt x="108" y="123"/>
                  </a:lnTo>
                  <a:lnTo>
                    <a:pt x="89" y="123"/>
                  </a:lnTo>
                  <a:lnTo>
                    <a:pt x="89" y="74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08480" y="3701880"/>
              <a:ext cx="813240" cy="822600"/>
            </a:xfrm>
            <a:custGeom>
              <a:avLst/>
              <a:gdLst/>
              <a:ahLst/>
              <a:rect l="0" t="0" r="r" b="b"/>
              <a:pathLst>
                <a:path w="2259" h="2285">
                  <a:moveTo>
                    <a:pt x="804" y="1156"/>
                  </a:moveTo>
                  <a:lnTo>
                    <a:pt x="804" y="1076"/>
                  </a:lnTo>
                  <a:lnTo>
                    <a:pt x="830" y="1023"/>
                  </a:lnTo>
                  <a:lnTo>
                    <a:pt x="883" y="917"/>
                  </a:lnTo>
                  <a:lnTo>
                    <a:pt x="935" y="864"/>
                  </a:lnTo>
                  <a:lnTo>
                    <a:pt x="1013" y="838"/>
                  </a:lnTo>
                  <a:lnTo>
                    <a:pt x="1066" y="812"/>
                  </a:lnTo>
                  <a:lnTo>
                    <a:pt x="1141" y="812"/>
                  </a:lnTo>
                  <a:lnTo>
                    <a:pt x="1193" y="812"/>
                  </a:lnTo>
                  <a:lnTo>
                    <a:pt x="1272" y="838"/>
                  </a:lnTo>
                  <a:lnTo>
                    <a:pt x="1376" y="917"/>
                  </a:lnTo>
                  <a:lnTo>
                    <a:pt x="1428" y="944"/>
                  </a:lnTo>
                  <a:lnTo>
                    <a:pt x="1454" y="1023"/>
                  </a:lnTo>
                  <a:lnTo>
                    <a:pt x="1481" y="1076"/>
                  </a:lnTo>
                  <a:lnTo>
                    <a:pt x="1481" y="1156"/>
                  </a:lnTo>
                  <a:lnTo>
                    <a:pt x="1481" y="1209"/>
                  </a:lnTo>
                  <a:lnTo>
                    <a:pt x="1454" y="1285"/>
                  </a:lnTo>
                  <a:lnTo>
                    <a:pt x="1376" y="1390"/>
                  </a:lnTo>
                  <a:lnTo>
                    <a:pt x="1324" y="1443"/>
                  </a:lnTo>
                  <a:lnTo>
                    <a:pt x="1272" y="1469"/>
                  </a:lnTo>
                  <a:lnTo>
                    <a:pt x="1193" y="1496"/>
                  </a:lnTo>
                  <a:lnTo>
                    <a:pt x="1141" y="1496"/>
                  </a:lnTo>
                  <a:lnTo>
                    <a:pt x="1066" y="1496"/>
                  </a:lnTo>
                  <a:lnTo>
                    <a:pt x="1013" y="1469"/>
                  </a:lnTo>
                  <a:lnTo>
                    <a:pt x="883" y="1390"/>
                  </a:lnTo>
                  <a:lnTo>
                    <a:pt x="857" y="1337"/>
                  </a:lnTo>
                  <a:lnTo>
                    <a:pt x="830" y="1285"/>
                  </a:lnTo>
                  <a:lnTo>
                    <a:pt x="804" y="1209"/>
                  </a:lnTo>
                  <a:lnTo>
                    <a:pt x="804" y="1156"/>
                  </a:lnTo>
                  <a:lnTo>
                    <a:pt x="0" y="1156"/>
                  </a:lnTo>
                  <a:lnTo>
                    <a:pt x="26" y="1023"/>
                  </a:lnTo>
                  <a:lnTo>
                    <a:pt x="26" y="970"/>
                  </a:lnTo>
                  <a:lnTo>
                    <a:pt x="26" y="917"/>
                  </a:lnTo>
                  <a:lnTo>
                    <a:pt x="52" y="812"/>
                  </a:lnTo>
                  <a:lnTo>
                    <a:pt x="101" y="709"/>
                  </a:lnTo>
                  <a:lnTo>
                    <a:pt x="153" y="604"/>
                  </a:lnTo>
                  <a:lnTo>
                    <a:pt x="205" y="524"/>
                  </a:lnTo>
                  <a:lnTo>
                    <a:pt x="258" y="419"/>
                  </a:lnTo>
                  <a:lnTo>
                    <a:pt x="336" y="339"/>
                  </a:lnTo>
                  <a:lnTo>
                    <a:pt x="414" y="264"/>
                  </a:lnTo>
                  <a:lnTo>
                    <a:pt x="493" y="211"/>
                  </a:lnTo>
                  <a:lnTo>
                    <a:pt x="598" y="158"/>
                  </a:lnTo>
                  <a:lnTo>
                    <a:pt x="700" y="105"/>
                  </a:lnTo>
                  <a:lnTo>
                    <a:pt x="804" y="52"/>
                  </a:lnTo>
                  <a:lnTo>
                    <a:pt x="909" y="26"/>
                  </a:lnTo>
                  <a:lnTo>
                    <a:pt x="1013" y="26"/>
                  </a:lnTo>
                  <a:lnTo>
                    <a:pt x="1141" y="0"/>
                  </a:lnTo>
                  <a:lnTo>
                    <a:pt x="1245" y="26"/>
                  </a:lnTo>
                  <a:lnTo>
                    <a:pt x="1350" y="26"/>
                  </a:lnTo>
                  <a:lnTo>
                    <a:pt x="1481" y="52"/>
                  </a:lnTo>
                  <a:lnTo>
                    <a:pt x="1585" y="105"/>
                  </a:lnTo>
                  <a:lnTo>
                    <a:pt x="1660" y="158"/>
                  </a:lnTo>
                  <a:lnTo>
                    <a:pt x="1766" y="211"/>
                  </a:lnTo>
                  <a:lnTo>
                    <a:pt x="1844" y="264"/>
                  </a:lnTo>
                  <a:lnTo>
                    <a:pt x="1923" y="339"/>
                  </a:lnTo>
                  <a:lnTo>
                    <a:pt x="2001" y="419"/>
                  </a:lnTo>
                  <a:lnTo>
                    <a:pt x="2080" y="524"/>
                  </a:lnTo>
                  <a:lnTo>
                    <a:pt x="2129" y="604"/>
                  </a:lnTo>
                  <a:lnTo>
                    <a:pt x="2181" y="709"/>
                  </a:lnTo>
                  <a:lnTo>
                    <a:pt x="2207" y="812"/>
                  </a:lnTo>
                  <a:lnTo>
                    <a:pt x="2233" y="917"/>
                  </a:lnTo>
                  <a:lnTo>
                    <a:pt x="2259" y="1023"/>
                  </a:lnTo>
                  <a:lnTo>
                    <a:pt x="2259" y="1156"/>
                  </a:lnTo>
                  <a:lnTo>
                    <a:pt x="2259" y="1261"/>
                  </a:lnTo>
                  <a:lnTo>
                    <a:pt x="2259" y="1311"/>
                  </a:lnTo>
                  <a:lnTo>
                    <a:pt x="2233" y="1390"/>
                  </a:lnTo>
                  <a:lnTo>
                    <a:pt x="2207" y="1496"/>
                  </a:lnTo>
                  <a:lnTo>
                    <a:pt x="2181" y="1601"/>
                  </a:lnTo>
                  <a:lnTo>
                    <a:pt x="2129" y="1707"/>
                  </a:lnTo>
                  <a:lnTo>
                    <a:pt x="2080" y="1783"/>
                  </a:lnTo>
                  <a:lnTo>
                    <a:pt x="2001" y="1862"/>
                  </a:lnTo>
                  <a:lnTo>
                    <a:pt x="1923" y="1968"/>
                  </a:lnTo>
                  <a:lnTo>
                    <a:pt x="1844" y="2021"/>
                  </a:lnTo>
                  <a:lnTo>
                    <a:pt x="1766" y="2100"/>
                  </a:lnTo>
                  <a:lnTo>
                    <a:pt x="1660" y="2153"/>
                  </a:lnTo>
                  <a:lnTo>
                    <a:pt x="1585" y="2206"/>
                  </a:lnTo>
                  <a:lnTo>
                    <a:pt x="1481" y="2232"/>
                  </a:lnTo>
                  <a:lnTo>
                    <a:pt x="1350" y="2258"/>
                  </a:lnTo>
                  <a:lnTo>
                    <a:pt x="1245" y="2285"/>
                  </a:lnTo>
                  <a:lnTo>
                    <a:pt x="1141" y="2285"/>
                  </a:lnTo>
                  <a:lnTo>
                    <a:pt x="1013" y="2285"/>
                  </a:lnTo>
                  <a:lnTo>
                    <a:pt x="909" y="2258"/>
                  </a:lnTo>
                  <a:lnTo>
                    <a:pt x="804" y="2232"/>
                  </a:lnTo>
                  <a:lnTo>
                    <a:pt x="700" y="2206"/>
                  </a:lnTo>
                  <a:lnTo>
                    <a:pt x="598" y="2153"/>
                  </a:lnTo>
                  <a:lnTo>
                    <a:pt x="493" y="2100"/>
                  </a:lnTo>
                  <a:lnTo>
                    <a:pt x="414" y="2021"/>
                  </a:lnTo>
                  <a:lnTo>
                    <a:pt x="336" y="1968"/>
                  </a:lnTo>
                  <a:lnTo>
                    <a:pt x="258" y="1862"/>
                  </a:lnTo>
                  <a:lnTo>
                    <a:pt x="205" y="1783"/>
                  </a:lnTo>
                  <a:lnTo>
                    <a:pt x="153" y="1707"/>
                  </a:lnTo>
                  <a:lnTo>
                    <a:pt x="101" y="1601"/>
                  </a:lnTo>
                  <a:lnTo>
                    <a:pt x="52" y="1496"/>
                  </a:lnTo>
                  <a:lnTo>
                    <a:pt x="26" y="1390"/>
                  </a:lnTo>
                  <a:lnTo>
                    <a:pt x="26" y="1261"/>
                  </a:lnTo>
                  <a:lnTo>
                    <a:pt x="0" y="1156"/>
                  </a:lnTo>
                  <a:lnTo>
                    <a:pt x="804" y="1156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365120" y="5322960"/>
            <a:ext cx="65152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6040" y="752400"/>
            <a:ext cx="6578640" cy="923760"/>
          </a:xfrm>
          <a:prstGeom prst="rect">
            <a:avLst/>
          </a:prstGeom>
          <a:solidFill>
            <a:srgbClr val="002baf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o Technical 4.0 and the Microsoft Office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a perfect match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610000" y="5243400"/>
            <a:ext cx="3929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1-800-446-33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676600" y="1057320"/>
            <a:ext cx="58928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sio Technical 4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665440" y="2590920"/>
            <a:ext cx="5892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efficient way to create technical draw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s professional, high-quality draw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share technical draw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the full power of the Windows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1828800"/>
            <a:ext cx="5105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676600" y="676440"/>
            <a:ext cx="589284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Most Efficient Way </a:t>
            </a:r>
            <a:br>
              <a:rPr sz="2800"/>
            </a:b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Create Technical Draw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828800"/>
            <a:ext cx="5562720" cy="23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438280" y="1701720"/>
            <a:ext cx="556272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y drag and drop SmartShapes from a stencil onto a drawing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martConnectors to create permanent links between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ustom SmartShapes with built-in intellig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638520" y="3693960"/>
            <a:ext cx="299088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743200" y="905040"/>
            <a:ext cx="411480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ver 2,000 Technical </a:t>
            </a:r>
            <a:br>
              <a:rPr sz="2600"/>
            </a:br>
            <a:r>
              <a:rPr b="0" lang="en-US" sz="2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martShapes Inclu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057400" y="2268360"/>
            <a:ext cx="3124080" cy="33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cal Engine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troleum Engine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al Engine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ical Engine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Diagra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ace 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iagra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e 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scape Plan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mensi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86400" y="2554200"/>
            <a:ext cx="27338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484360" y="804960"/>
            <a:ext cx="58928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sio Technical Market Seg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37000" y="1314360"/>
            <a:ext cx="54817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971800" y="1433520"/>
            <a:ext cx="4952880" cy="4968720"/>
            <a:chOff x="2971800" y="1433520"/>
            <a:chExt cx="4952880" cy="4968720"/>
          </a:xfrm>
        </p:grpSpPr>
        <p:sp>
          <p:nvSpPr>
            <p:cNvPr id="69" name=""/>
            <p:cNvSpPr txBox="1"/>
            <p:nvPr/>
          </p:nvSpPr>
          <p:spPr>
            <a:xfrm>
              <a:off x="5276880" y="4424400"/>
              <a:ext cx="1295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lectrical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tic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6249960" y="495468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ufactur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5881680" y="35272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work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sig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6357960" y="2381400"/>
              <a:ext cx="870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ri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rawing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3498840" y="2367000"/>
              <a:ext cx="1065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chanic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gineer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4098960" y="3494160"/>
              <a:ext cx="103968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ace Plan/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aciliti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Mgmt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3413160" y="4994280"/>
              <a:ext cx="1174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struction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rawing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4340160" y="4467240"/>
              <a:ext cx="6159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HVA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4719600" y="2700360"/>
              <a:ext cx="1335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iping &amp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strument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14800" y="2590920"/>
              <a:ext cx="2666880" cy="266688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1800" y="1447920"/>
              <a:ext cx="4952880" cy="495288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22760" y="2908440"/>
              <a:ext cx="698400" cy="9522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5511960" y="2781360"/>
              <a:ext cx="634680" cy="10159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48240" y="3987720"/>
              <a:ext cx="1206720" cy="5079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4880" y="3987720"/>
              <a:ext cx="0" cy="24145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241880" y="3987720"/>
              <a:ext cx="1079280" cy="44460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781680" y="3797280"/>
              <a:ext cx="11430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971800" y="3797280"/>
              <a:ext cx="114300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5003640" y="3378240"/>
              <a:ext cx="824040" cy="9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410080" y="1433520"/>
              <a:ext cx="0" cy="114624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514600" y="1019160"/>
            <a:ext cx="61102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Office 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14400" y="1725480"/>
            <a:ext cx="7610400" cy="979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14600" y="2895480"/>
            <a:ext cx="571500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36840" y="3073320"/>
            <a:ext cx="5892840" cy="27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“look and feel” of Office appl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menu items, toolbars, but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dialog boxes through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editing of Visio Technical drawings in Word, Excel, Power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compliant with Windows 95 and Windows 3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676600" y="1057320"/>
            <a:ext cx="58928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CAD</a:t>
            </a:r>
            <a:r>
              <a:rPr b="0" lang="en-US" sz="2400" spc="-1" strike="noStrike" baseline="70000">
                <a:solidFill>
                  <a:srgbClr val="fafd00"/>
                </a:solidFill>
                <a:latin typeface="Times New Roman"/>
                <a:ea typeface="Times New Roman"/>
              </a:rPr>
              <a:t>®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atibi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654280" y="2006640"/>
            <a:ext cx="58928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s/exports AutoCAD files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.DWG and .DXF forma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rns blocks into SmartSha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mensions into SmartDimen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rves standard line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rves attrib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stencils of SmartShapes automatically from AutoCAD symbol libr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676600" y="1057320"/>
            <a:ext cx="58928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se Stud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654280" y="2235240"/>
            <a:ext cx="5346720" cy="3784680"/>
          </a:xfrm>
          <a:prstGeom prst="rect">
            <a:avLst/>
          </a:prstGeom>
          <a:solidFill>
            <a:srgbClr val="002baf"/>
          </a:soli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o Technical makes it possible to move from a complex world of CAD to a much simpler world of Windows desktop drawing tools.  We went from 4000 CAD symbols in AutoCAD to 200 Visio SmartShapes.  This simplicity drives a great deal of value.  We estimate a $6 million per year cost saving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 Bill Huth, Johnson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651040" y="905040"/>
            <a:ext cx="557856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fessional Quality Outp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25680" y="1701720"/>
            <a:ext cx="565164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SI A-E, ISO A0-A4 page siz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al and engineering drawing sc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581280" y="3114720"/>
            <a:ext cx="36482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.Sherman</dc:creator>
  <dc:description/>
  <dc:language>en-US</dc:language>
  <cp:lastModifiedBy>Edward I. Jenny</cp:lastModifiedBy>
  <cp:revision>0</cp:revision>
  <dc:subject>Visio Technical 4.0</dc:subject>
  <dc:title>Visio Corp</dc:title>
</cp:coreProperties>
</file>