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0"/>
            <a:ext cx="5713560" cy="6856560"/>
          </a:xfrm>
          <a:prstGeom prst="rect">
            <a:avLst/>
          </a:prstGeom>
          <a:solidFill>
            <a:srgbClr val="aec6e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15000" y="0"/>
            <a:ext cx="331920" cy="6856560"/>
          </a:xfrm>
          <a:prstGeom prst="rect">
            <a:avLst/>
          </a:prstGeom>
          <a:gradFill rotWithShape="0">
            <a:gsLst>
              <a:gs pos="0">
                <a:srgbClr val="aec6e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0"/>
            <a:ext cx="5713560" cy="6856560"/>
          </a:xfrm>
          <a:prstGeom prst="rect">
            <a:avLst/>
          </a:prstGeom>
          <a:solidFill>
            <a:srgbClr val="aec6e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97080" y="0"/>
            <a:ext cx="33192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ec6e2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429000" y="228600"/>
            <a:ext cx="5486400" cy="19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SS YOUR PRESENTATIONS FOR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9000" y="23623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479"/>
              </a:spcBef>
              <a:spcAft>
                <a:spcPts val="720"/>
              </a:spcAf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... with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  <a:ea typeface="Arial"/>
              </a:rPr>
              <a:t>PhotoDisc Digital Photography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included in PowerPoint.  Within this quick presentation you’ll lea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6000">
              <a:lnSpc>
                <a:spcPct val="110000"/>
              </a:lnSpc>
              <a:spcBef>
                <a:spcPts val="479"/>
              </a:spcBef>
              <a:spcAft>
                <a:spcPts val="720"/>
              </a:spcAft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Arial"/>
              </a:rPr>
              <a:t>How to use Digital Photography in PowerPoint to give your presentations a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powerful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6000">
              <a:lnSpc>
                <a:spcPct val="110000"/>
              </a:lnSpc>
              <a:spcBef>
                <a:spcPts val="479"/>
              </a:spcBef>
              <a:spcAft>
                <a:spcPts val="720"/>
              </a:spcAft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1" i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How to access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Arial"/>
              </a:rPr>
              <a:t> PhotoDisc’s entire archive of Digital Photography on the Microsoft Network and the 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216000">
              <a:lnSpc>
                <a:spcPct val="110000"/>
              </a:lnSpc>
              <a:spcBef>
                <a:spcPts val="479"/>
              </a:spcBef>
              <a:spcAft>
                <a:spcPts val="720"/>
              </a:spcAft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Arial"/>
              </a:rPr>
              <a:t>Information about a </a:t>
            </a:r>
            <a:r>
              <a:rPr b="1" i="1" lang="en-US" sz="1800" spc="-1" strike="noStrike">
                <a:solidFill>
                  <a:srgbClr val="006699"/>
                </a:solidFill>
                <a:latin typeface="Arial"/>
                <a:ea typeface="Arial"/>
              </a:rPr>
              <a:t>special offer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Arial"/>
              </a:rPr>
              <a:t> for PowerPoint users from PhotoDi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057400"/>
            <a:ext cx="548640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2612880" cy="1492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81952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28600" y="22860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TOS, SAMPLES, TIPS, &amp; TRICKS</a:t>
            </a:r>
            <a:br>
              <a:rPr sz="22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-LIN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28600" y="20574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360"/>
              </a:spcBef>
              <a:tabLst>
                <a:tab algn="l" pos="217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ok for the entire PhotoDisc Collection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ing free samples and incredible tip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ricks from leading designers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ers On-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217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Network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toDisc Digital Image Foru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ld Wide Web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//WWW.photodis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  <a:tabLst>
                <a:tab algn="l" pos="217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also contact us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60"/>
              </a:spcBef>
              <a:tabLst>
                <a:tab algn="l" pos="217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s@photodisc.com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support@photodis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60"/>
              </a:spcBef>
              <a:tabLst>
                <a:tab algn="l" pos="21747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erica On-Lin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todis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l" pos="217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ther source can provide you with images of such high quality and breadth, royalty-free and ready for immediate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3880"/>
            <a:ext cx="54864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477120" y="3581280"/>
            <a:ext cx="228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92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toDisc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3 4th A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ttle, WA 98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302520" y="2057400"/>
            <a:ext cx="2612880" cy="1492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6589800" y="6384960"/>
            <a:ext cx="2063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5 PhotoDisc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28600" y="22860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POWER OF </a:t>
            </a:r>
            <a:br>
              <a:rPr sz="22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GRAPH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2057400"/>
            <a:ext cx="2971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Human speech is made of a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core vocabulary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of w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Similarly, a core set of photographic scenes, backgrounds and objects are used to enhance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visual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These images can be used effectively to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reinforce concept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and create compelling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172200" y="3162240"/>
            <a:ext cx="2743200" cy="32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Images like these can be used to convey simple themes like speed, or broader ideas like econo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PhotoDisc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 has created a library of these objects, scenes and backgrounds for your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523880"/>
            <a:ext cx="548640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41520" y="2057400"/>
            <a:ext cx="230652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72200" y="228600"/>
            <a:ext cx="27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28600" y="22860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QUICK TIPS FROM</a:t>
            </a:r>
            <a:br>
              <a:rPr sz="22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ODISC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205740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1280" indent="-341280">
              <a:lnSpc>
                <a:spcPct val="110000"/>
              </a:lnSpc>
              <a:spcBef>
                <a:spcPts val="1440"/>
              </a:spcBef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Select photos that convey your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1440"/>
              </a:spcBef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heck your file size often; use PowerPoint’s “Pack and Go” Wizard to save across diskettes if your file is too b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1440"/>
              </a:spcBef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Use 8-bit photos for on-screen presentations; 24-bit for 35mm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1440"/>
              </a:spcBef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Use free space within images for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adding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1440"/>
              </a:spcBef>
              <a:buClr>
                <a:srgbClr val="cc00cc"/>
              </a:buClr>
              <a:buSzPct val="45000"/>
              <a:buFont typeface="Monotype Sorts"/>
              <a:buChar char=""/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Avoid using shaded objects (or other objects that use up palette colors)on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slides with pho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48360" y="-6480"/>
            <a:ext cx="3095640" cy="4508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6019920" y="4448160"/>
            <a:ext cx="31240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9280" indent="-179280">
              <a:lnSpc>
                <a:spcPct val="10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1.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From PowerPoint’s Insert menu, select “Picture..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2.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In the box marked “Look in”, select your CD-ROM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3. Use the navigation tools to select the file you wish to 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4.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5.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From the Draw menu, use the Scale command to resize your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6.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66cc"/>
                </a:solidFill>
                <a:latin typeface="Arial"/>
                <a:ea typeface="Arial"/>
              </a:rPr>
              <a:t>From the Tools menu, use the Crop tool to crop your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1523880"/>
            <a:ext cx="548640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429000" y="22860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RY THE NEW PHOTODISC</a:t>
            </a:r>
            <a:br>
              <a:rPr sz="2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Pix Coll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29000" y="2057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449280"/>
                <a:tab algn="l" pos="274968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500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of PhotoDisc’s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est photograph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, have been carefully selected and optimized for present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Subject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usines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People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Background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Objects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echnology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Sports... and mo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0"/>
              </a:spcBef>
              <a:spcAft>
                <a:spcPts val="479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lipPix award-winning photos give you a powerful edge for business communic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20"/>
              </a:spcBef>
              <a:spcAft>
                <a:spcPts val="479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And the best part is they’re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eady to use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             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royalty-free, </a:t>
            </a:r>
            <a:br>
              <a:rPr sz="2000"/>
            </a:b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                    right now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523880"/>
            <a:ext cx="548640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5778360"/>
            <a:ext cx="281952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920" y="3100320"/>
            <a:ext cx="26668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429000" y="22860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AKE ADVANTAGE OF THIS</a:t>
            </a:r>
            <a:br>
              <a:rPr sz="2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OFF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429000" y="205740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all PhotoDisc today for a special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$79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ClipPix price for PowerPoint ow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is 2-CD set also gives you quick and easy access to all 500 images through the bundled browsing util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523880"/>
            <a:ext cx="548640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666880" cy="3989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362320" y="4648320"/>
            <a:ext cx="2057400" cy="1981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648320" y="4724280"/>
            <a:ext cx="3809880" cy="17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  <a:ea typeface="Arial"/>
              </a:rPr>
              <a:t>The 500 ClipPix images are optimized for full-screen display at 72 dpi (screen resolution). One CD includes uncompressed 8-bit color images at 640x486 pixels; the second CD contains compressed, 24-bit color, higher resolution versions of the same images optimized for full-screen display at both 640x486 and 1024x786 pix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22860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VE TAKEN CARE OF</a:t>
            </a:r>
            <a:br>
              <a:rPr sz="22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RYTH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" y="205740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5000"/>
              </a:lnSpc>
              <a:spcBef>
                <a:spcPts val="132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he highest-rated producer of professional digital photography, PhotoDisc has the keys to getting the image right, every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21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of the photographs is chosen from the portfolios of award-winning photographers, carefully scanned with the highest quality scanning technology, color-corrected and stored in full-color for dazzling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1523880"/>
            <a:ext cx="54864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57600" cy="4724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248520" y="5137200"/>
            <a:ext cx="261288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28600" y="22860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VISUAL CONCEPT...</a:t>
            </a:r>
            <a:br>
              <a:rPr sz="2200"/>
            </a:br>
            <a:r>
              <a:rPr b="0" lang="en-US" sz="5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RI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20574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hotoDisc Object Series gives you entire categories of, well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ng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personality to presentations, spice up a sales pitch or whate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these discs to your design toolbox, sprinkle in a little imagination.... the possibilities boggle the m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523880"/>
            <a:ext cx="5486400" cy="76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67520" y="228600"/>
            <a:ext cx="2747880" cy="5410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4829040"/>
            <a:ext cx="2057400" cy="1800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3886200" y="4191120"/>
            <a:ext cx="25909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429000" y="22860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ND IF YOU NEED MORE, THERE’S</a:t>
            </a:r>
            <a:br>
              <a:rPr sz="2400"/>
            </a:b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 VOLU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0574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If you need more, the entire PhotoDisc digital photography series currently features thirty five high-resolution Volumes on CD-ROM with a broad offering of subjects and over 10,000 imag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Approximately 2,500 new images are released every quarter. PhotoDisc Volume subjects range from European Business to Italian Fine Art to American Retro Im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1523880"/>
            <a:ext cx="548640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861840"/>
            <a:ext cx="2819520" cy="2389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3597120"/>
            <a:ext cx="253692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0" y="0"/>
            <a:ext cx="4037040" cy="685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0"/>
            <a:ext cx="380880" cy="68565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38088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ctr" pos="60562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ENSING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20574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ClipPix images are royalty-free for use in such things as communications, marketing, and adverti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You can even use them in products for sale, up to 10,000 cop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tabLst>
                <a:tab algn="l" pos="449280"/>
                <a:tab algn="l" pos="27496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licensing for your PowerPoint images is detailed in your Microsoft PowerPoint end user license agre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523880"/>
            <a:ext cx="3530520" cy="71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1523880"/>
            <a:ext cx="4487760" cy="71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343400" y="205740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915840"/>
                <a:tab algn="l" pos="19954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Please call or fax for a </a:t>
            </a: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FREE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 product catalog or to order ClipPix direc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1"/>
              </a:spcBef>
              <a:tabLst>
                <a:tab algn="l" pos="915840"/>
                <a:tab algn="l" pos="199548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Within the U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1-800-528-34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l" pos="915840"/>
                <a:tab algn="l" pos="19954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Fax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(206) 441-93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1"/>
              </a:spcBef>
              <a:tabLst>
                <a:tab algn="l" pos="915840"/>
                <a:tab algn="l" pos="199548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Outside the U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(206) 441-9355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Fax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(206) 441-93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1"/>
              </a:spcBef>
              <a:tabLst>
                <a:tab algn="l" pos="915840"/>
                <a:tab algn="l" pos="199548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From Europe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+44(0)181 948 5322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Fax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+44(0)181 332 9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1"/>
              </a:spcBef>
              <a:tabLst>
                <a:tab algn="l" pos="915840"/>
                <a:tab algn="l" pos="199548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Or print the notes page from this presentation page and fax it to 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otoDisc, Inc.</dc:creator>
  <dc:description>This presentation created in PowerPoint 7.0 for Windows by A Bit Better Corporation of Los Altos California.Copyright 1995 PhotoDisc Inc.</dc:description>
  <dc:language>en-US</dc:language>
  <cp:lastModifiedBy>PhotoDisc, Inc.</cp:lastModifiedBy>
  <cp:revision>0</cp:revision>
  <dc:subject/>
  <dc:title>PhotoDisc Digital Stock Photography</dc:title>
</cp:coreProperties>
</file>