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3"/>
                  </a:moveTo>
                  <a:lnTo>
                    <a:pt x="2015" y="0"/>
                  </a:lnTo>
                  <a:lnTo>
                    <a:pt x="0" y="0"/>
                  </a:lnTo>
                  <a:lnTo>
                    <a:pt x="0" y="2121"/>
                  </a:lnTo>
                  <a:lnTo>
                    <a:pt x="14967" y="17146"/>
                  </a:lnTo>
                  <a:lnTo>
                    <a:pt x="17031" y="15073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1" y="0"/>
                  </a:moveTo>
                  <a:lnTo>
                    <a:pt x="14963" y="13388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8" y="0"/>
                  </a:moveTo>
                  <a:lnTo>
                    <a:pt x="12604" y="9870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8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8"/>
                  </a:lnTo>
                  <a:lnTo>
                    <a:pt x="15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3733920" y="5423040"/>
            <a:ext cx="1816200" cy="86364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 txBox="1"/>
          <p:nvPr/>
        </p:nvSpPr>
        <p:spPr>
          <a:xfrm>
            <a:off x="152280" y="53352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s for your interest in ou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-perfect” photo C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th Air Fire Wat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RICA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ollowing presentation takes about 2 minut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’d like to get right to the details about a special offer for PowerPoint for Windows 95 users, call us a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-SENSE (800-757-3673) or (713) 523-5757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6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s and enjoy the s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500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50760" y="0"/>
            <a:ext cx="9016920" cy="518148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illustrate your growth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320" y="30492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and increase your share of the p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rth Air Fire Water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80880" y="167652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e, landscapes, seascapes, skies, suns &amp; moons, cities, industry, energy &amp; transpor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collection of          304 color photograp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yalty-free for presentations, brochures, and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$49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4114800" y="1790640"/>
            <a:ext cx="4648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MERICA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3657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rt &amp; soul of the U.S. - the land, the cities, people at work and play, lifestyles, landmarks, festivals, families,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0 color phot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yalty-free for presentations, brochures,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$39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4267080" y="1714680"/>
            <a:ext cx="4444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 txBox="1"/>
          <p:nvPr/>
        </p:nvSpPr>
        <p:spPr>
          <a:xfrm>
            <a:off x="68580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undreds of beautiful images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help you illustrate your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399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de variety of subjects for many presentation topic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 for first-time photo buyers &amp; seasoned presenters, to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s have content &amp; real-life meanings to help reinforce your message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399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tures are easy to find with powerful slide page style catalog brows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4799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they say about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ur photograph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04920" y="243828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2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essive ...  a great                                   collection.”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D-ROM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2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zor-sharp images from                                  award-winning photographers.”  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c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2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standing color and quality, the best I’ve seen.”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ultimedia software devel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2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for the inaugural edition of PowerPoint for Windows 95 multimedia CD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85800" y="434880"/>
            <a:ext cx="777240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199"/>
              </a:lnSpc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nale.</a:t>
            </a:r>
            <a:br>
              <a:rPr sz="18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pecial offer for PowerPoint users: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Both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Earth Air Fire Water </a:t>
            </a:r>
            <a:br>
              <a:rPr sz="18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amp;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merica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464 photos) for on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2840" y="3735360"/>
            <a:ext cx="907560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9000"/>
              </a:lnSpc>
            </a:pPr>
            <a:r>
              <a:rPr b="0" lang="en-US" sz="75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$49.95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52280" y="4782960"/>
            <a:ext cx="8839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$89.90 val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76320" y="5638680"/>
            <a:ext cx="8915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e’s how to order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 txBox="1"/>
          <p:nvPr/>
        </p:nvSpPr>
        <p:spPr>
          <a:xfrm>
            <a:off x="533520" y="1371600"/>
            <a:ext cx="8305920" cy="59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1-800-75-SENSE</a:t>
            </a:r>
            <a:br>
              <a:rPr sz="18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00-757-3673) or (713) 523-5757 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e Interactive Corpo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12 West Alabama, Houston, TX 77006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(713) 523-3057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hanks for watching!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38080" y="380880"/>
            <a:ext cx="73152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5079960" y="550800"/>
            <a:ext cx="37670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4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 a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 pictur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6705720" y="5499000"/>
            <a:ext cx="18162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380880" y="1066680"/>
            <a:ext cx="8534520" cy="21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8399"/>
              </a:lnSpc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ictures Add Impac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999"/>
              </a:lnSpc>
            </a:pPr>
            <a:r>
              <a:rPr b="0" lang="en-US" sz="7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PowerPoint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4920" y="3505320"/>
            <a:ext cx="8610480" cy="25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5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nlightening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 With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oney-Saving Final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533520" y="4572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799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en the folks at Microsoft decided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create a multimedia CD for PowerPoint users, they asked Sense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provide them with some great images from our high quality,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-to-use photo CDs.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 said y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2286000"/>
            <a:ext cx="8229600" cy="48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799"/>
              </a:lnSpc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 knew that our two collections,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Earth Air Fire Water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r>
              <a:rPr b="1" lang="en-US" sz="40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MERICA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ould be perfect for PowerPoint users. We designed them to help people make great presentations with pictur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4038480"/>
            <a:ext cx="84582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-9360" y="0"/>
            <a:ext cx="9164520" cy="686916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 txBox="1"/>
          <p:nvPr/>
        </p:nvSpPr>
        <p:spPr>
          <a:xfrm>
            <a:off x="609480" y="6094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4799"/>
              </a:lnSpc>
            </a:pPr>
            <a:r>
              <a:rPr b="0" lang="en-US" sz="5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 CDs chock full </a:t>
            </a:r>
            <a:br>
              <a:rPr sz="5000"/>
            </a:br>
            <a:r>
              <a:rPr b="0" lang="en-US" sz="5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 color photos</a:t>
            </a:r>
            <a:br>
              <a:rPr sz="5000"/>
            </a:br>
            <a:r>
              <a:rPr b="0" lang="en-US" sz="5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improve </a:t>
            </a:r>
            <a:br>
              <a:rPr sz="5000"/>
            </a:br>
            <a:r>
              <a:rPr b="0" lang="en-US" sz="5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your pitch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066680"/>
            <a:ext cx="7772400" cy="54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4799"/>
              </a:lnSpc>
            </a:pP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Point makes it easy.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nse makes it fun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ere’s how our pictures 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n help you ...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clarify your messag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09480" y="16002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ny party at the Washington Monu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one meet at the reflection pond at sundow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3556080" y="1820880"/>
            <a:ext cx="506736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 txBox="1"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educate your audien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07960" y="1376280"/>
            <a:ext cx="8115480" cy="48261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68580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motivate your team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876920" y="4724280"/>
            <a:ext cx="39625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good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914400" y="472428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your 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e your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No Slide Title</dc:title>
</cp:coreProperties>
</file>