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bmp" ContentType="image/bmp"/>
  <Override PartName="/ppt/media/image26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bmp"/><Relationship Id="rId3" Type="http://schemas.openxmlformats.org/officeDocument/2006/relationships/image" Target="../media/image1.bmp"/><Relationship Id="rId4" Type="http://schemas.openxmlformats.org/officeDocument/2006/relationships/image" Target="../media/image1.bmp"/><Relationship Id="rId5" Type="http://schemas.openxmlformats.org/officeDocument/2006/relationships/image" Target="../media/image1.bmp"/><Relationship Id="rId6" Type="http://schemas.openxmlformats.org/officeDocument/2006/relationships/image" Target="../media/image1.bmp"/><Relationship Id="rId7" Type="http://schemas.openxmlformats.org/officeDocument/2006/relationships/image" Target="../media/image1.bmp"/><Relationship Id="rId8" Type="http://schemas.openxmlformats.org/officeDocument/2006/relationships/image" Target="../media/image1.bmp"/><Relationship Id="rId9" Type="http://schemas.openxmlformats.org/officeDocument/2006/relationships/image" Target="../media/image1.bmp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bmp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16400" y="1746360"/>
            <a:ext cx="5726160" cy="51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5840" y="0"/>
            <a:ext cx="3124080" cy="1743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4120" y="1649520"/>
            <a:ext cx="190440" cy="166680"/>
          </a:xfrm>
          <a:prstGeom prst="ellipse">
            <a:avLst/>
          </a:prstGeom>
          <a:blipFill rotWithShape="0">
            <a:blip r:embed="rId3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7560" y="1649520"/>
            <a:ext cx="190440" cy="166680"/>
          </a:xfrm>
          <a:prstGeom prst="ellipse">
            <a:avLst/>
          </a:prstGeom>
          <a:blipFill rotWithShape="0">
            <a:blip r:embed="rId4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82680" y="1649520"/>
            <a:ext cx="192240" cy="166680"/>
          </a:xfrm>
          <a:prstGeom prst="ellipse">
            <a:avLst/>
          </a:prstGeom>
          <a:blipFill rotWithShape="0">
            <a:blip r:embed="rId5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49600" y="1649520"/>
            <a:ext cx="190440" cy="166680"/>
          </a:xfrm>
          <a:prstGeom prst="ellipse">
            <a:avLst/>
          </a:prstGeom>
          <a:blipFill rotWithShape="0">
            <a:blip r:embed="rId6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14720" y="1630440"/>
            <a:ext cx="190440" cy="166680"/>
          </a:xfrm>
          <a:prstGeom prst="ellipse">
            <a:avLst/>
          </a:prstGeom>
          <a:blipFill rotWithShape="0">
            <a:blip r:embed="rId7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679840" y="1649520"/>
            <a:ext cx="192240" cy="166680"/>
          </a:xfrm>
          <a:prstGeom prst="ellipse">
            <a:avLst/>
          </a:prstGeom>
          <a:blipFill rotWithShape="0">
            <a:blip r:embed="rId8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146400" y="1649520"/>
            <a:ext cx="190440" cy="166680"/>
          </a:xfrm>
          <a:prstGeom prst="ellipse">
            <a:avLst/>
          </a:prstGeom>
          <a:blipFill rotWithShape="0">
            <a:blip r:embed="rId9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2640" y="730080"/>
            <a:ext cx="7623720" cy="5391360"/>
            <a:chOff x="782640" y="730080"/>
            <a:chExt cx="7623720" cy="5391360"/>
          </a:xfrm>
        </p:grpSpPr>
        <p:sp>
          <p:nvSpPr>
            <p:cNvPr id="50" name=""/>
            <p:cNvSpPr/>
            <p:nvPr/>
          </p:nvSpPr>
          <p:spPr>
            <a:xfrm>
              <a:off x="790560" y="730080"/>
              <a:ext cx="7607160" cy="5391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2640" y="730080"/>
              <a:ext cx="7606080" cy="5391360"/>
            </a:xfrm>
            <a:custGeom>
              <a:avLst/>
              <a:gdLst/>
              <a:ahLst/>
              <a:rect l="0" t="0" r="r" b="b"/>
              <a:pathLst>
                <a:path fill="none" w="21128" h="14976">
                  <a:moveTo>
                    <a:pt x="21128" y="0"/>
                  </a:moveTo>
                  <a:lnTo>
                    <a:pt x="0" y="0"/>
                  </a:lnTo>
                  <a:lnTo>
                    <a:pt x="0" y="14976"/>
                  </a:lnTo>
                </a:path>
              </a:pathLst>
            </a:custGeom>
            <a:ln w="12600">
              <a:solidFill>
                <a:srgbClr val="b2b2b2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280" y="730080"/>
              <a:ext cx="7606080" cy="5391360"/>
            </a:xfrm>
            <a:custGeom>
              <a:avLst/>
              <a:gdLst/>
              <a:ahLst/>
              <a:rect l="0" t="0" r="r" b="b"/>
              <a:pathLst>
                <a:path fill="none" w="21128" h="14976">
                  <a:moveTo>
                    <a:pt x="21128" y="0"/>
                  </a:moveTo>
                  <a:lnTo>
                    <a:pt x="21128" y="14976"/>
                  </a:lnTo>
                  <a:lnTo>
                    <a:pt x="0" y="1497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bmp"/><Relationship Id="rId2" Type="http://schemas.openxmlformats.org/officeDocument/2006/relationships/image" Target="../media/image1.bmp"/><Relationship Id="rId3" Type="http://schemas.openxmlformats.org/officeDocument/2006/relationships/image" Target="../media/image1.bmp"/><Relationship Id="rId4" Type="http://schemas.openxmlformats.org/officeDocument/2006/relationships/image" Target="../media/image1.bmp"/><Relationship Id="rId5" Type="http://schemas.openxmlformats.org/officeDocument/2006/relationships/image" Target="../media/image1.bmp"/><Relationship Id="rId6" Type="http://schemas.openxmlformats.org/officeDocument/2006/relationships/image" Target="../media/image1.bmp"/><Relationship Id="rId7" Type="http://schemas.openxmlformats.org/officeDocument/2006/relationships/image" Target="../media/image1.bmp"/><Relationship Id="rId8" Type="http://schemas.openxmlformats.org/officeDocument/2006/relationships/image" Target="../media/image1.bmp"/><Relationship Id="rId9" Type="http://schemas.openxmlformats.org/officeDocument/2006/relationships/image" Target="../media/image1.bmp"/><Relationship Id="rId10" Type="http://schemas.openxmlformats.org/officeDocument/2006/relationships/image" Target="../media/image1.bmp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8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9.wmf"/><Relationship Id="rId3" Type="http://schemas.openxmlformats.org/officeDocument/2006/relationships/image" Target="../media/image38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49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3528125" sy="3528125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0160" y="0"/>
            <a:ext cx="4114800" cy="1568520"/>
            <a:chOff x="830160" y="0"/>
            <a:chExt cx="4114800" cy="1568520"/>
          </a:xfrm>
        </p:grpSpPr>
        <p:grpSp>
          <p:nvGrpSpPr>
            <p:cNvPr id="169" name=""/>
            <p:cNvGrpSpPr/>
            <p:nvPr/>
          </p:nvGrpSpPr>
          <p:grpSpPr>
            <a:xfrm>
              <a:off x="830160" y="0"/>
              <a:ext cx="4114800" cy="1568520"/>
              <a:chOff x="830160" y="0"/>
              <a:chExt cx="4114800" cy="1568520"/>
            </a:xfrm>
          </p:grpSpPr>
          <p:sp>
            <p:nvSpPr>
              <p:cNvPr id="170" name=""/>
              <p:cNvSpPr/>
              <p:nvPr/>
            </p:nvSpPr>
            <p:spPr>
              <a:xfrm>
                <a:off x="830160" y="0"/>
                <a:ext cx="4114800" cy="14954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27000" y="1401840"/>
                <a:ext cx="187200" cy="166680"/>
              </a:xfrm>
              <a:prstGeom prst="ellipse">
                <a:avLst/>
              </a:prstGeom>
              <a:blipFill rotWithShape="0">
                <a:blip r:embed="rId2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52520" y="1401840"/>
                <a:ext cx="187200" cy="166680"/>
              </a:xfrm>
              <a:prstGeom prst="ellipse">
                <a:avLst/>
              </a:prstGeom>
              <a:blipFill rotWithShape="0">
                <a:blip r:embed="rId3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809720" y="1401840"/>
                <a:ext cx="187200" cy="166680"/>
              </a:xfrm>
              <a:prstGeom prst="ellipse">
                <a:avLst/>
              </a:prstGeom>
              <a:blipFill rotWithShape="0">
                <a:blip r:embed="rId4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66920" y="1401840"/>
                <a:ext cx="187200" cy="166680"/>
              </a:xfrm>
              <a:prstGeom prst="ellipse">
                <a:avLst/>
              </a:prstGeom>
              <a:blipFill rotWithShape="0">
                <a:blip r:embed="rId5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724120" y="1382760"/>
                <a:ext cx="187200" cy="166680"/>
              </a:xfrm>
              <a:prstGeom prst="ellipse">
                <a:avLst/>
              </a:prstGeom>
              <a:blipFill rotWithShape="0">
                <a:blip r:embed="rId6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81320" y="1401840"/>
                <a:ext cx="187200" cy="166680"/>
              </a:xfrm>
              <a:prstGeom prst="ellipse">
                <a:avLst/>
              </a:prstGeom>
              <a:blipFill rotWithShape="0">
                <a:blip r:embed="rId7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8520" y="1401840"/>
                <a:ext cx="187200" cy="166680"/>
              </a:xfrm>
              <a:prstGeom prst="ellipse">
                <a:avLst/>
              </a:prstGeom>
              <a:blipFill rotWithShape="0">
                <a:blip r:embed="rId8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2360" y="1401840"/>
                <a:ext cx="187200" cy="166680"/>
              </a:xfrm>
              <a:prstGeom prst="ellipse">
                <a:avLst/>
              </a:prstGeom>
              <a:blipFill rotWithShape="0">
                <a:blip r:embed="rId9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70480" y="1401840"/>
                <a:ext cx="187200" cy="166680"/>
              </a:xfrm>
              <a:prstGeom prst="ellipse">
                <a:avLst/>
              </a:prstGeom>
              <a:blipFill rotWithShape="0">
                <a:blip r:embed="rId10"/>
                <a:tile tx="0" ty="0" sx="3528125" sy="3528125" algn="ctr"/>
              </a:blip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 txBox="1"/>
            <p:nvPr/>
          </p:nvSpPr>
          <p:spPr>
            <a:xfrm>
              <a:off x="1162080" y="530280"/>
              <a:ext cx="351648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00ae00"/>
                  </a:solidFill>
                  <a:latin typeface="Times New Roman"/>
                  <a:ea typeface="Times New Roman"/>
                </a:rPr>
                <a:t>Welcome t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52480" y="1744560"/>
            <a:ext cx="7716960" cy="264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870440" y="4944960"/>
            <a:ext cx="187200" cy="166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72200" y="4836960"/>
            <a:ext cx="185760" cy="165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5680" y="4925880"/>
            <a:ext cx="187200" cy="165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72120" y="5006880"/>
            <a:ext cx="185760" cy="166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0640" y="4935600"/>
            <a:ext cx="187200" cy="165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0600" y="4863960"/>
            <a:ext cx="187200" cy="166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72360" y="4821120"/>
            <a:ext cx="185760" cy="165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70880" y="4921200"/>
            <a:ext cx="187200" cy="165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72280" y="5006880"/>
            <a:ext cx="185760" cy="166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477280" y="4932360"/>
            <a:ext cx="185760" cy="1666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880480" y="4836960"/>
            <a:ext cx="187200" cy="1652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910040" y="5226120"/>
            <a:ext cx="3386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Quick P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22760" y="6072120"/>
            <a:ext cx="4367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Quick Preview will take about 5 minutes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ck at any time to contin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ften the hardest part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bout creating a presentation is getting star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365120" y="1719360"/>
            <a:ext cx="1498680" cy="1538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967360" y="4114800"/>
            <a:ext cx="1405080" cy="1998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owerPoint 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kes it easy for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3965400" y="3560760"/>
            <a:ext cx="1263600" cy="2054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Use a templat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help organize your thou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to get going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457440" y="1751040"/>
            <a:ext cx="5684760" cy="51055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Th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rst, pick the ki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resentation you want to m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3386160" y="1754280"/>
            <a:ext cx="5719680" cy="51022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75280" y="441360"/>
            <a:ext cx="1825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7746840" y="4595760"/>
            <a:ext cx="1319040" cy="1540080"/>
            <a:chOff x="7746840" y="4595760"/>
            <a:chExt cx="1319040" cy="1540080"/>
          </a:xfrm>
        </p:grpSpPr>
        <p:sp>
          <p:nvSpPr>
            <p:cNvPr id="356" name=""/>
            <p:cNvSpPr txBox="1"/>
            <p:nvPr/>
          </p:nvSpPr>
          <p:spPr>
            <a:xfrm>
              <a:off x="7746840" y="4595760"/>
              <a:ext cx="131904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oll for mor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la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658360" y="6012000"/>
              <a:ext cx="123840" cy="1238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29760" y="6086520"/>
              <a:ext cx="218880" cy="0"/>
            </a:xfrm>
            <a:prstGeom prst="line">
              <a:avLst/>
            </a:prstGeom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20040" y="5114880"/>
              <a:ext cx="0" cy="971640"/>
            </a:xfrm>
            <a:prstGeom prst="line">
              <a:avLst/>
            </a:prstGeom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t’s Th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ccccc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empla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rts you out with a sample out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3280" y="1749600"/>
            <a:ext cx="4389480" cy="499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556080" y="1797120"/>
            <a:ext cx="4290840" cy="4927680"/>
            <a:chOff x="3556080" y="1797120"/>
            <a:chExt cx="4290840" cy="492768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3556080" y="1893960"/>
              <a:ext cx="4290840" cy="480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3927600" y="1797120"/>
              <a:ext cx="0" cy="492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Th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st replace the suggested text with your own ideas as you work in outline view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73280" y="1749600"/>
            <a:ext cx="4389480" cy="504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519360" y="1733400"/>
            <a:ext cx="4138560" cy="5016600"/>
            <a:chOff x="3519360" y="1733400"/>
            <a:chExt cx="4138560" cy="5016600"/>
          </a:xfrm>
        </p:grpSpPr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3519360" y="1832040"/>
              <a:ext cx="413856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878280" y="1733400"/>
              <a:ext cx="0" cy="5016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 txBox="1"/>
          <p:nvPr/>
        </p:nvSpPr>
        <p:spPr>
          <a:xfrm>
            <a:off x="4148280" y="1893960"/>
            <a:ext cx="2471760" cy="2192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ing Status or Prog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41800" y="1895400"/>
            <a:ext cx="25542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18120" y="1928880"/>
            <a:ext cx="1952640" cy="18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re Musical Instru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63520" y="152280"/>
            <a:ext cx="3160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Th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type your text directly on the slides in slid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3921120" y="2216160"/>
            <a:ext cx="4416480" cy="34830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191120" y="4076640"/>
            <a:ext cx="3048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1360" indent="-171360">
              <a:lnSpc>
                <a:spcPct val="100000"/>
              </a:lnSpc>
              <a:buClr>
                <a:srgbClr val="00ffcc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nue per employe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xceed $150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63520" y="152280"/>
            <a:ext cx="3160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Th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slides are easy to add with the click of a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087800" y="2235240"/>
            <a:ext cx="4416480" cy="3483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41520" y="5985000"/>
            <a:ext cx="5348160" cy="703080"/>
            <a:chOff x="3341520" y="5985000"/>
            <a:chExt cx="5348160" cy="70308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3341520" y="5985000"/>
              <a:ext cx="5348160" cy="29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"/>
            <p:cNvGrpSpPr/>
            <p:nvPr/>
          </p:nvGrpSpPr>
          <p:grpSpPr>
            <a:xfrm>
              <a:off x="4102200" y="6129360"/>
              <a:ext cx="1719000" cy="558720"/>
              <a:chOff x="4102200" y="6129360"/>
              <a:chExt cx="1719000" cy="558720"/>
            </a:xfrm>
          </p:grpSpPr>
          <p:sp>
            <p:nvSpPr>
              <p:cNvPr id="397" name=""/>
              <p:cNvSpPr txBox="1"/>
              <p:nvPr/>
            </p:nvSpPr>
            <p:spPr>
              <a:xfrm>
                <a:off x="4102200" y="6362640"/>
                <a:ext cx="954000" cy="325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ecece"/>
                </a:solidFill>
                <a:round/>
              </a:ln>
              <a:effectLst>
                <a:outerShdw dist="0" dir="0" blurRad="0" rotWithShape="0">
                  <a:srgbClr val="868686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w Sl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5059440" y="6129360"/>
                <a:ext cx="761760" cy="399960"/>
                <a:chOff x="5059440" y="6129360"/>
                <a:chExt cx="761760" cy="3999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5059440" y="6529320"/>
                  <a:ext cx="704880" cy="0"/>
                </a:xfrm>
                <a:prstGeom prst="line">
                  <a:avLst/>
                </a:prstGeom>
                <a:ln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764320" y="6262560"/>
                  <a:ext cx="0" cy="266760"/>
                </a:xfrm>
                <a:prstGeom prst="line">
                  <a:avLst/>
                </a:prstGeom>
                <a:ln w="2556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697360" y="6129360"/>
                  <a:ext cx="123840" cy="1238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cecece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63520" y="152280"/>
            <a:ext cx="31608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Th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st choose the layout you want from the great selection of AutoLayou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3459240" y="1768320"/>
            <a:ext cx="4749840" cy="3828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6039000" y="5462640"/>
            <a:ext cx="2081160" cy="652320"/>
            <a:chOff x="6039000" y="5462640"/>
            <a:chExt cx="2081160" cy="652320"/>
          </a:xfrm>
        </p:grpSpPr>
        <p:sp>
          <p:nvSpPr>
            <p:cNvPr id="409" name=""/>
            <p:cNvSpPr txBox="1"/>
            <p:nvPr/>
          </p:nvSpPr>
          <p:spPr>
            <a:xfrm>
              <a:off x="6039000" y="5607000"/>
              <a:ext cx="131904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roll for mor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Layo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7358040" y="5462640"/>
              <a:ext cx="762120" cy="399960"/>
              <a:chOff x="7358040" y="5462640"/>
              <a:chExt cx="762120" cy="399960"/>
            </a:xfrm>
          </p:grpSpPr>
          <p:sp>
            <p:nvSpPr>
              <p:cNvPr id="411" name=""/>
              <p:cNvSpPr/>
              <p:nvPr/>
            </p:nvSpPr>
            <p:spPr>
              <a:xfrm>
                <a:off x="7358040" y="5862600"/>
                <a:ext cx="704880" cy="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62920" y="5595840"/>
                <a:ext cx="0" cy="26676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996320" y="5462640"/>
                <a:ext cx="123840" cy="1238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Thi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follow the instructions on the s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187880" y="2502000"/>
            <a:ext cx="4416480" cy="3483000"/>
            <a:chOff x="4187880" y="2502000"/>
            <a:chExt cx="4416480" cy="348300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4187880" y="2502000"/>
              <a:ext cx="4416480" cy="348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8" name=""/>
            <p:cNvGrpSpPr/>
            <p:nvPr/>
          </p:nvGrpSpPr>
          <p:grpSpPr>
            <a:xfrm>
              <a:off x="4595760" y="2886120"/>
              <a:ext cx="3867480" cy="2666880"/>
              <a:chOff x="4595760" y="2886120"/>
              <a:chExt cx="3867480" cy="2666880"/>
            </a:xfrm>
          </p:grpSpPr>
          <p:sp>
            <p:nvSpPr>
              <p:cNvPr id="419" name=""/>
              <p:cNvSpPr/>
              <p:nvPr/>
            </p:nvSpPr>
            <p:spPr>
              <a:xfrm>
                <a:off x="4976640" y="2886120"/>
                <a:ext cx="3143160" cy="3999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custDash>
                  <a:ds d="202857" sp="2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957920" y="3552840"/>
                <a:ext cx="1447920" cy="2000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custDash>
                  <a:ds d="202857" sp="2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72240" y="3552840"/>
                <a:ext cx="1447920" cy="20001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custDash>
                  <a:ds d="202857" sp="202857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 txBox="1"/>
              <p:nvPr/>
            </p:nvSpPr>
            <p:spPr>
              <a:xfrm>
                <a:off x="4595760" y="3648240"/>
                <a:ext cx="21528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91440" indent="-91440" algn="ctr">
                  <a:lnSpc>
                    <a:spcPct val="100000"/>
                  </a:lnSpc>
                  <a:buClr>
                    <a:srgbClr val="cecece"/>
                  </a:buClr>
                  <a:buSzPct val="45000"/>
                  <a:buFont typeface="Monotype Sorts"/>
                  <a:buChar char=""/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Click to 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53200" y="3743280"/>
                <a:ext cx="44784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 txBox="1"/>
              <p:nvPr/>
            </p:nvSpPr>
            <p:spPr>
              <a:xfrm>
                <a:off x="6310440" y="4295880"/>
                <a:ext cx="2152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Double click to ad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grap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5" name=""/>
          <p:cNvSpPr txBox="1"/>
          <p:nvPr/>
        </p:nvSpPr>
        <p:spPr>
          <a:xfrm>
            <a:off x="5029200" y="2900520"/>
            <a:ext cx="1727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ant to create a presentation that </a:t>
            </a:r>
            <a:r>
              <a:rPr b="1" i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ally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gets your point 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ros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433520" y="4195800"/>
            <a:ext cx="1427040" cy="11811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76440" y="3670920"/>
            <a:ext cx="1584000" cy="1002600"/>
          </a:xfrm>
          <a:custGeom>
            <a:avLst/>
            <a:gdLst/>
            <a:ahLst/>
            <a:rect l="0" t="0" r="r" b="b"/>
            <a:pathLst>
              <a:path w="4400" h="2785">
                <a:moveTo>
                  <a:pt x="319" y="0"/>
                </a:moveTo>
                <a:lnTo>
                  <a:pt x="0" y="792"/>
                </a:lnTo>
                <a:lnTo>
                  <a:pt x="2968" y="1991"/>
                </a:lnTo>
                <a:lnTo>
                  <a:pt x="2648" y="2785"/>
                </a:lnTo>
                <a:lnTo>
                  <a:pt x="4400" y="2111"/>
                </a:lnTo>
                <a:lnTo>
                  <a:pt x="3608" y="408"/>
                </a:lnTo>
                <a:lnTo>
                  <a:pt x="3288" y="1200"/>
                </a:lnTo>
                <a:lnTo>
                  <a:pt x="319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85920" y="246240"/>
            <a:ext cx="2351160" cy="2056320"/>
            <a:chOff x="385920" y="246240"/>
            <a:chExt cx="2351160" cy="2056320"/>
          </a:xfrm>
        </p:grpSpPr>
        <p:grpSp>
          <p:nvGrpSpPr>
            <p:cNvPr id="202" name=""/>
            <p:cNvGrpSpPr/>
            <p:nvPr/>
          </p:nvGrpSpPr>
          <p:grpSpPr>
            <a:xfrm>
              <a:off x="1019160" y="246240"/>
              <a:ext cx="1084680" cy="1092600"/>
              <a:chOff x="1019160" y="246240"/>
              <a:chExt cx="1084680" cy="10926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019160" y="246240"/>
                <a:ext cx="1084680" cy="1092600"/>
                <a:chOff x="1019160" y="246240"/>
                <a:chExt cx="1084680" cy="10926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019160" y="246240"/>
                  <a:ext cx="1084680" cy="1081440"/>
                </a:xfrm>
                <a:custGeom>
                  <a:avLst/>
                  <a:gdLst/>
                  <a:ahLst/>
                  <a:rect l="0" t="0" r="r" b="b"/>
                  <a:pathLst>
                    <a:path w="3013" h="3004">
                      <a:moveTo>
                        <a:pt x="0" y="22"/>
                      </a:moveTo>
                      <a:lnTo>
                        <a:pt x="2991" y="0"/>
                      </a:lnTo>
                      <a:lnTo>
                        <a:pt x="3013" y="2982"/>
                      </a:lnTo>
                      <a:lnTo>
                        <a:pt x="22" y="300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019160" y="246240"/>
                  <a:ext cx="1084680" cy="1081440"/>
                </a:xfrm>
                <a:custGeom>
                  <a:avLst/>
                  <a:gdLst/>
                  <a:ahLst/>
                  <a:rect l="0" t="0" r="r" b="b"/>
                  <a:pathLst>
                    <a:path fill="none" w="3013" h="3004">
                      <a:moveTo>
                        <a:pt x="0" y="22"/>
                      </a:moveTo>
                      <a:lnTo>
                        <a:pt x="2991" y="0"/>
                      </a:lnTo>
                      <a:lnTo>
                        <a:pt x="3013" y="2982"/>
                      </a:lnTo>
                      <a:lnTo>
                        <a:pt x="22" y="3004"/>
                      </a:lnTo>
                      <a:lnTo>
                        <a:pt x="0" y="2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150920" y="512640"/>
                  <a:ext cx="816480" cy="547920"/>
                </a:xfrm>
                <a:custGeom>
                  <a:avLst/>
                  <a:gdLst/>
                  <a:ahLst/>
                  <a:rect l="0" t="0" r="r" b="b"/>
                  <a:pathLst>
                    <a:path w="2268" h="1522">
                      <a:moveTo>
                        <a:pt x="0" y="19"/>
                      </a:moveTo>
                      <a:lnTo>
                        <a:pt x="2257" y="0"/>
                      </a:lnTo>
                      <a:lnTo>
                        <a:pt x="2268" y="1507"/>
                      </a:lnTo>
                      <a:lnTo>
                        <a:pt x="11" y="1522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150920" y="512640"/>
                  <a:ext cx="816480" cy="547920"/>
                </a:xfrm>
                <a:custGeom>
                  <a:avLst/>
                  <a:gdLst/>
                  <a:ahLst/>
                  <a:rect l="0" t="0" r="r" b="b"/>
                  <a:pathLst>
                    <a:path fill="none" w="2268" h="1522">
                      <a:moveTo>
                        <a:pt x="0" y="19"/>
                      </a:moveTo>
                      <a:lnTo>
                        <a:pt x="2257" y="0"/>
                      </a:lnTo>
                      <a:lnTo>
                        <a:pt x="2268" y="1507"/>
                      </a:lnTo>
                      <a:lnTo>
                        <a:pt x="11" y="1522"/>
                      </a:lnTo>
                      <a:lnTo>
                        <a:pt x="0" y="1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150920" y="512640"/>
                  <a:ext cx="816480" cy="547920"/>
                </a:xfrm>
                <a:custGeom>
                  <a:avLst/>
                  <a:gdLst/>
                  <a:ahLst/>
                  <a:rect l="0" t="0" r="r" b="b"/>
                  <a:pathLst>
                    <a:path fill="none" w="2268" h="1522">
                      <a:moveTo>
                        <a:pt x="11" y="1522"/>
                      </a:moveTo>
                      <a:lnTo>
                        <a:pt x="2268" y="1507"/>
                      </a:lnTo>
                      <a:lnTo>
                        <a:pt x="2257" y="0"/>
                      </a:lnTo>
                      <a:lnTo>
                        <a:pt x="0" y="19"/>
                      </a:lnTo>
                      <a:lnTo>
                        <a:pt x="11" y="1522"/>
                      </a:lnTo>
                    </a:path>
                  </a:pathLst>
                </a:custGeom>
                <a:ln w="12600">
                  <a:solidFill>
                    <a:srgbClr val="87878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019160" y="246240"/>
                  <a:ext cx="1084680" cy="1081440"/>
                </a:xfrm>
                <a:custGeom>
                  <a:avLst/>
                  <a:gdLst/>
                  <a:ahLst/>
                  <a:rect l="0" t="0" r="r" b="b"/>
                  <a:pathLst>
                    <a:path fill="none" w="3013" h="3004">
                      <a:moveTo>
                        <a:pt x="22" y="3004"/>
                      </a:moveTo>
                      <a:lnTo>
                        <a:pt x="3013" y="2982"/>
                      </a:lnTo>
                      <a:lnTo>
                        <a:pt x="2991" y="0"/>
                      </a:lnTo>
                      <a:lnTo>
                        <a:pt x="0" y="22"/>
                      </a:lnTo>
                      <a:lnTo>
                        <a:pt x="22" y="3004"/>
                      </a:lnTo>
                    </a:path>
                  </a:pathLst>
                </a:custGeom>
                <a:ln w="12600">
                  <a:solidFill>
                    <a:srgbClr val="a8a8a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019160" y="246240"/>
                  <a:ext cx="1076760" cy="1081440"/>
                </a:xfrm>
                <a:custGeom>
                  <a:avLst/>
                  <a:gdLst/>
                  <a:ahLst/>
                  <a:rect l="0" t="0" r="r" b="b"/>
                  <a:pathLst>
                    <a:path fill="none" w="2991" h="3004">
                      <a:moveTo>
                        <a:pt x="2991" y="0"/>
                      </a:moveTo>
                      <a:lnTo>
                        <a:pt x="0" y="22"/>
                      </a:lnTo>
                      <a:lnTo>
                        <a:pt x="22" y="3004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155600" y="512640"/>
                  <a:ext cx="811440" cy="547920"/>
                </a:xfrm>
                <a:custGeom>
                  <a:avLst/>
                  <a:gdLst/>
                  <a:ahLst/>
                  <a:rect l="0" t="0" r="r" b="b"/>
                  <a:pathLst>
                    <a:path fill="none" w="2254" h="1522">
                      <a:moveTo>
                        <a:pt x="2243" y="0"/>
                      </a:moveTo>
                      <a:lnTo>
                        <a:pt x="2254" y="1507"/>
                      </a:lnTo>
                      <a:lnTo>
                        <a:pt x="0" y="1522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095480" y="1104840"/>
                  <a:ext cx="935280" cy="151200"/>
                </a:xfrm>
                <a:custGeom>
                  <a:avLst/>
                  <a:gdLst/>
                  <a:ahLst/>
                  <a:rect l="0" t="0" r="r" b="b"/>
                  <a:pathLst>
                    <a:path w="2598" h="420">
                      <a:moveTo>
                        <a:pt x="0" y="25"/>
                      </a:moveTo>
                      <a:lnTo>
                        <a:pt x="2595" y="0"/>
                      </a:lnTo>
                      <a:lnTo>
                        <a:pt x="2598" y="406"/>
                      </a:lnTo>
                      <a:lnTo>
                        <a:pt x="2" y="42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095480" y="1104840"/>
                  <a:ext cx="93528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8" h="420">
                      <a:moveTo>
                        <a:pt x="0" y="25"/>
                      </a:moveTo>
                      <a:lnTo>
                        <a:pt x="2595" y="0"/>
                      </a:lnTo>
                      <a:lnTo>
                        <a:pt x="2598" y="406"/>
                      </a:lnTo>
                      <a:lnTo>
                        <a:pt x="2" y="420"/>
                      </a:lnTo>
                      <a:lnTo>
                        <a:pt x="0" y="25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284120" y="1284120"/>
                  <a:ext cx="559080" cy="47880"/>
                </a:xfrm>
                <a:custGeom>
                  <a:avLst/>
                  <a:gdLst/>
                  <a:ahLst/>
                  <a:rect l="0" t="0" r="r" b="b"/>
                  <a:pathLst>
                    <a:path w="1553" h="133">
                      <a:moveTo>
                        <a:pt x="0" y="133"/>
                      </a:moveTo>
                      <a:lnTo>
                        <a:pt x="8" y="12"/>
                      </a:lnTo>
                      <a:lnTo>
                        <a:pt x="1553" y="0"/>
                      </a:lnTo>
                      <a:lnTo>
                        <a:pt x="1549" y="121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898989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284120" y="1284120"/>
                  <a:ext cx="559080" cy="47880"/>
                </a:xfrm>
                <a:custGeom>
                  <a:avLst/>
                  <a:gdLst/>
                  <a:ahLst/>
                  <a:rect l="0" t="0" r="r" b="b"/>
                  <a:pathLst>
                    <a:path fill="none" w="1553" h="133">
                      <a:moveTo>
                        <a:pt x="0" y="133"/>
                      </a:moveTo>
                      <a:lnTo>
                        <a:pt x="8" y="12"/>
                      </a:lnTo>
                      <a:lnTo>
                        <a:pt x="1553" y="0"/>
                      </a:lnTo>
                      <a:lnTo>
                        <a:pt x="1549" y="121"/>
                      </a:lnTo>
                      <a:lnTo>
                        <a:pt x="0" y="133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300320" y="1293840"/>
                  <a:ext cx="527400" cy="36720"/>
                </a:xfrm>
                <a:custGeom>
                  <a:avLst/>
                  <a:gdLst/>
                  <a:ahLst/>
                  <a:rect l="0" t="0" r="r" b="b"/>
                  <a:pathLst>
                    <a:path w="1465" h="102">
                      <a:moveTo>
                        <a:pt x="3" y="41"/>
                      </a:moveTo>
                      <a:lnTo>
                        <a:pt x="0" y="102"/>
                      </a:lnTo>
                      <a:lnTo>
                        <a:pt x="89" y="101"/>
                      </a:lnTo>
                      <a:lnTo>
                        <a:pt x="123" y="65"/>
                      </a:lnTo>
                      <a:lnTo>
                        <a:pt x="154" y="99"/>
                      </a:lnTo>
                      <a:lnTo>
                        <a:pt x="199" y="93"/>
                      </a:lnTo>
                      <a:lnTo>
                        <a:pt x="228" y="63"/>
                      </a:lnTo>
                      <a:lnTo>
                        <a:pt x="259" y="98"/>
                      </a:lnTo>
                      <a:lnTo>
                        <a:pt x="308" y="97"/>
                      </a:lnTo>
                      <a:lnTo>
                        <a:pt x="332" y="66"/>
                      </a:lnTo>
                      <a:lnTo>
                        <a:pt x="368" y="96"/>
                      </a:lnTo>
                      <a:lnTo>
                        <a:pt x="408" y="95"/>
                      </a:lnTo>
                      <a:lnTo>
                        <a:pt x="442" y="69"/>
                      </a:lnTo>
                      <a:lnTo>
                        <a:pt x="473" y="95"/>
                      </a:lnTo>
                      <a:lnTo>
                        <a:pt x="522" y="93"/>
                      </a:lnTo>
                      <a:lnTo>
                        <a:pt x="551" y="63"/>
                      </a:lnTo>
                      <a:lnTo>
                        <a:pt x="587" y="97"/>
                      </a:lnTo>
                      <a:lnTo>
                        <a:pt x="627" y="91"/>
                      </a:lnTo>
                      <a:lnTo>
                        <a:pt x="661" y="65"/>
                      </a:lnTo>
                      <a:lnTo>
                        <a:pt x="807" y="58"/>
                      </a:lnTo>
                      <a:lnTo>
                        <a:pt x="842" y="92"/>
                      </a:lnTo>
                      <a:lnTo>
                        <a:pt x="876" y="97"/>
                      </a:lnTo>
                      <a:lnTo>
                        <a:pt x="917" y="66"/>
                      </a:lnTo>
                      <a:lnTo>
                        <a:pt x="941" y="91"/>
                      </a:lnTo>
                      <a:lnTo>
                        <a:pt x="981" y="90"/>
                      </a:lnTo>
                      <a:lnTo>
                        <a:pt x="1016" y="59"/>
                      </a:lnTo>
                      <a:lnTo>
                        <a:pt x="1041" y="95"/>
                      </a:lnTo>
                      <a:lnTo>
                        <a:pt x="1095" y="88"/>
                      </a:lnTo>
                      <a:lnTo>
                        <a:pt x="1120" y="58"/>
                      </a:lnTo>
                      <a:lnTo>
                        <a:pt x="1150" y="92"/>
                      </a:lnTo>
                      <a:lnTo>
                        <a:pt x="1205" y="91"/>
                      </a:lnTo>
                      <a:lnTo>
                        <a:pt x="1205" y="91"/>
                      </a:lnTo>
                      <a:lnTo>
                        <a:pt x="1230" y="60"/>
                      </a:lnTo>
                      <a:lnTo>
                        <a:pt x="1260" y="91"/>
                      </a:lnTo>
                      <a:lnTo>
                        <a:pt x="1310" y="90"/>
                      </a:lnTo>
                      <a:lnTo>
                        <a:pt x="1340" y="59"/>
                      </a:lnTo>
                      <a:lnTo>
                        <a:pt x="1364" y="88"/>
                      </a:lnTo>
                      <a:lnTo>
                        <a:pt x="1465" y="87"/>
                      </a:lnTo>
                      <a:lnTo>
                        <a:pt x="1463" y="31"/>
                      </a:lnTo>
                      <a:lnTo>
                        <a:pt x="966" y="35"/>
                      </a:lnTo>
                      <a:lnTo>
                        <a:pt x="920" y="0"/>
                      </a:lnTo>
                      <a:lnTo>
                        <a:pt x="550" y="7"/>
                      </a:lnTo>
                      <a:lnTo>
                        <a:pt x="501" y="37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300320" y="1293840"/>
                  <a:ext cx="52740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1465" h="102">
                      <a:moveTo>
                        <a:pt x="3" y="41"/>
                      </a:moveTo>
                      <a:lnTo>
                        <a:pt x="0" y="102"/>
                      </a:lnTo>
                      <a:lnTo>
                        <a:pt x="89" y="101"/>
                      </a:lnTo>
                      <a:lnTo>
                        <a:pt x="123" y="65"/>
                      </a:lnTo>
                      <a:lnTo>
                        <a:pt x="154" y="99"/>
                      </a:lnTo>
                      <a:lnTo>
                        <a:pt x="199" y="93"/>
                      </a:lnTo>
                      <a:lnTo>
                        <a:pt x="228" y="63"/>
                      </a:lnTo>
                      <a:lnTo>
                        <a:pt x="259" y="98"/>
                      </a:lnTo>
                      <a:lnTo>
                        <a:pt x="308" y="97"/>
                      </a:lnTo>
                      <a:lnTo>
                        <a:pt x="332" y="66"/>
                      </a:lnTo>
                      <a:lnTo>
                        <a:pt x="368" y="96"/>
                      </a:lnTo>
                      <a:lnTo>
                        <a:pt x="408" y="95"/>
                      </a:lnTo>
                      <a:lnTo>
                        <a:pt x="442" y="69"/>
                      </a:lnTo>
                      <a:lnTo>
                        <a:pt x="473" y="95"/>
                      </a:lnTo>
                      <a:lnTo>
                        <a:pt x="522" y="93"/>
                      </a:lnTo>
                      <a:lnTo>
                        <a:pt x="551" y="63"/>
                      </a:lnTo>
                      <a:lnTo>
                        <a:pt x="587" y="97"/>
                      </a:lnTo>
                      <a:lnTo>
                        <a:pt x="627" y="91"/>
                      </a:lnTo>
                      <a:lnTo>
                        <a:pt x="661" y="65"/>
                      </a:lnTo>
                      <a:lnTo>
                        <a:pt x="807" y="58"/>
                      </a:lnTo>
                      <a:lnTo>
                        <a:pt x="842" y="92"/>
                      </a:lnTo>
                      <a:lnTo>
                        <a:pt x="876" y="97"/>
                      </a:lnTo>
                      <a:lnTo>
                        <a:pt x="917" y="66"/>
                      </a:lnTo>
                      <a:lnTo>
                        <a:pt x="941" y="91"/>
                      </a:lnTo>
                      <a:lnTo>
                        <a:pt x="981" y="90"/>
                      </a:lnTo>
                      <a:lnTo>
                        <a:pt x="1016" y="59"/>
                      </a:lnTo>
                      <a:lnTo>
                        <a:pt x="1041" y="95"/>
                      </a:lnTo>
                      <a:lnTo>
                        <a:pt x="1095" y="88"/>
                      </a:lnTo>
                      <a:lnTo>
                        <a:pt x="1120" y="58"/>
                      </a:lnTo>
                      <a:lnTo>
                        <a:pt x="1150" y="92"/>
                      </a:lnTo>
                      <a:lnTo>
                        <a:pt x="1205" y="91"/>
                      </a:lnTo>
                      <a:lnTo>
                        <a:pt x="1205" y="91"/>
                      </a:lnTo>
                      <a:lnTo>
                        <a:pt x="1230" y="60"/>
                      </a:lnTo>
                      <a:lnTo>
                        <a:pt x="1260" y="91"/>
                      </a:lnTo>
                      <a:lnTo>
                        <a:pt x="1310" y="90"/>
                      </a:lnTo>
                      <a:lnTo>
                        <a:pt x="1340" y="59"/>
                      </a:lnTo>
                      <a:lnTo>
                        <a:pt x="1364" y="88"/>
                      </a:lnTo>
                      <a:lnTo>
                        <a:pt x="1465" y="87"/>
                      </a:lnTo>
                      <a:lnTo>
                        <a:pt x="1463" y="31"/>
                      </a:lnTo>
                      <a:lnTo>
                        <a:pt x="966" y="35"/>
                      </a:lnTo>
                      <a:lnTo>
                        <a:pt x="920" y="0"/>
                      </a:lnTo>
                      <a:lnTo>
                        <a:pt x="550" y="7"/>
                      </a:lnTo>
                      <a:lnTo>
                        <a:pt x="501" y="37"/>
                      </a:lnTo>
                      <a:lnTo>
                        <a:pt x="3" y="41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43200" y="1282680"/>
                  <a:ext cx="0" cy="38160"/>
                </a:xfrm>
                <a:prstGeom prst="line">
                  <a:avLst/>
                </a:prstGeom>
                <a:ln w="12600">
                  <a:solidFill>
                    <a:srgbClr val="b7b7b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284120" y="1282680"/>
                  <a:ext cx="559080" cy="44640"/>
                </a:xfrm>
                <a:custGeom>
                  <a:avLst/>
                  <a:gdLst/>
                  <a:ahLst/>
                  <a:rect l="0" t="0" r="r" b="b"/>
                  <a:pathLst>
                    <a:path fill="none" w="1553" h="124">
                      <a:moveTo>
                        <a:pt x="0" y="124"/>
                      </a:moveTo>
                      <a:lnTo>
                        <a:pt x="8" y="11"/>
                      </a:lnTo>
                      <a:lnTo>
                        <a:pt x="1553" y="0"/>
                      </a:lnTo>
                    </a:path>
                  </a:pathLst>
                </a:custGeom>
                <a:ln w="12600">
                  <a:solidFill>
                    <a:srgbClr val="aaaaaa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095480" y="1104840"/>
                  <a:ext cx="93384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4" h="420">
                      <a:moveTo>
                        <a:pt x="2" y="420"/>
                      </a:moveTo>
                      <a:lnTo>
                        <a:pt x="0" y="25"/>
                      </a:lnTo>
                      <a:lnTo>
                        <a:pt x="2594" y="0"/>
                      </a:lnTo>
                    </a:path>
                  </a:pathLst>
                </a:custGeom>
                <a:ln w="12600">
                  <a:solidFill>
                    <a:srgbClr val="8c8c8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096920" y="1104840"/>
                  <a:ext cx="93384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4" h="420">
                      <a:moveTo>
                        <a:pt x="2592" y="0"/>
                      </a:moveTo>
                      <a:lnTo>
                        <a:pt x="2594" y="406"/>
                      </a:lnTo>
                      <a:lnTo>
                        <a:pt x="0" y="420"/>
                      </a:lnTo>
                    </a:path>
                  </a:pathLst>
                </a:custGeom>
                <a:ln w="12600">
                  <a:solidFill>
                    <a:srgbClr val="d1d1d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096920" y="1104840"/>
                  <a:ext cx="93384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4" h="420">
                      <a:moveTo>
                        <a:pt x="2592" y="0"/>
                      </a:moveTo>
                      <a:lnTo>
                        <a:pt x="2594" y="406"/>
                      </a:lnTo>
                      <a:lnTo>
                        <a:pt x="0" y="420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300320" y="1305000"/>
                  <a:ext cx="527400" cy="33840"/>
                </a:xfrm>
                <a:custGeom>
                  <a:avLst/>
                  <a:gdLst/>
                  <a:ahLst/>
                  <a:rect l="0" t="0" r="r" b="b"/>
                  <a:pathLst>
                    <a:path fill="none" w="1465" h="94">
                      <a:moveTo>
                        <a:pt x="0" y="94"/>
                      </a:moveTo>
                      <a:lnTo>
                        <a:pt x="89" y="93"/>
                      </a:lnTo>
                      <a:lnTo>
                        <a:pt x="123" y="39"/>
                      </a:lnTo>
                      <a:lnTo>
                        <a:pt x="154" y="92"/>
                      </a:lnTo>
                      <a:lnTo>
                        <a:pt x="199" y="83"/>
                      </a:lnTo>
                      <a:lnTo>
                        <a:pt x="228" y="37"/>
                      </a:lnTo>
                      <a:lnTo>
                        <a:pt x="259" y="89"/>
                      </a:lnTo>
                      <a:lnTo>
                        <a:pt x="309" y="89"/>
                      </a:lnTo>
                      <a:lnTo>
                        <a:pt x="332" y="43"/>
                      </a:lnTo>
                      <a:lnTo>
                        <a:pt x="368" y="88"/>
                      </a:lnTo>
                      <a:lnTo>
                        <a:pt x="408" y="87"/>
                      </a:lnTo>
                      <a:lnTo>
                        <a:pt x="442" y="48"/>
                      </a:lnTo>
                      <a:lnTo>
                        <a:pt x="473" y="85"/>
                      </a:lnTo>
                      <a:lnTo>
                        <a:pt x="523" y="85"/>
                      </a:lnTo>
                      <a:lnTo>
                        <a:pt x="551" y="39"/>
                      </a:lnTo>
                      <a:lnTo>
                        <a:pt x="588" y="92"/>
                      </a:lnTo>
                      <a:lnTo>
                        <a:pt x="627" y="83"/>
                      </a:lnTo>
                      <a:lnTo>
                        <a:pt x="661" y="44"/>
                      </a:lnTo>
                      <a:lnTo>
                        <a:pt x="807" y="34"/>
                      </a:lnTo>
                      <a:lnTo>
                        <a:pt x="842" y="87"/>
                      </a:lnTo>
                      <a:lnTo>
                        <a:pt x="877" y="93"/>
                      </a:lnTo>
                      <a:lnTo>
                        <a:pt x="917" y="47"/>
                      </a:lnTo>
                      <a:lnTo>
                        <a:pt x="942" y="85"/>
                      </a:lnTo>
                      <a:lnTo>
                        <a:pt x="981" y="84"/>
                      </a:lnTo>
                      <a:lnTo>
                        <a:pt x="1016" y="38"/>
                      </a:lnTo>
                      <a:lnTo>
                        <a:pt x="1041" y="90"/>
                      </a:lnTo>
                      <a:lnTo>
                        <a:pt x="1096" y="82"/>
                      </a:lnTo>
                      <a:lnTo>
                        <a:pt x="1121" y="37"/>
                      </a:lnTo>
                      <a:lnTo>
                        <a:pt x="1151" y="89"/>
                      </a:lnTo>
                      <a:lnTo>
                        <a:pt x="1205" y="88"/>
                      </a:lnTo>
                      <a:lnTo>
                        <a:pt x="1205" y="88"/>
                      </a:lnTo>
                      <a:lnTo>
                        <a:pt x="1230" y="42"/>
                      </a:lnTo>
                      <a:lnTo>
                        <a:pt x="1260" y="87"/>
                      </a:lnTo>
                      <a:lnTo>
                        <a:pt x="1310" y="85"/>
                      </a:lnTo>
                      <a:lnTo>
                        <a:pt x="1340" y="39"/>
                      </a:lnTo>
                      <a:lnTo>
                        <a:pt x="1365" y="84"/>
                      </a:lnTo>
                      <a:lnTo>
                        <a:pt x="1465" y="83"/>
                      </a:lnTo>
                      <a:lnTo>
                        <a:pt x="1463" y="0"/>
                      </a:lnTo>
                    </a:path>
                  </a:pathLst>
                </a:custGeom>
                <a:ln w="12600">
                  <a:solidFill>
                    <a:srgbClr val="6d6d6d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1158840" y="534960"/>
                <a:ext cx="797040" cy="5144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311120" y="878040"/>
              <a:ext cx="1425960" cy="1424520"/>
              <a:chOff x="1311120" y="878040"/>
              <a:chExt cx="1425960" cy="142452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311120" y="878040"/>
                <a:ext cx="1425960" cy="1424520"/>
                <a:chOff x="1311120" y="878040"/>
                <a:chExt cx="1425960" cy="14245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311120" y="878040"/>
                  <a:ext cx="1425960" cy="1424520"/>
                </a:xfrm>
                <a:custGeom>
                  <a:avLst/>
                  <a:gdLst/>
                  <a:ahLst/>
                  <a:rect l="0" t="0" r="r" b="b"/>
                  <a:pathLst>
                    <a:path w="3961" h="3957">
                      <a:moveTo>
                        <a:pt x="1240" y="0"/>
                      </a:moveTo>
                      <a:lnTo>
                        <a:pt x="3961" y="1244"/>
                      </a:lnTo>
                      <a:lnTo>
                        <a:pt x="2717" y="3957"/>
                      </a:lnTo>
                      <a:lnTo>
                        <a:pt x="0" y="2712"/>
                      </a:lnTo>
                      <a:lnTo>
                        <a:pt x="1240" y="0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311120" y="878040"/>
                  <a:ext cx="1425960" cy="1424520"/>
                </a:xfrm>
                <a:custGeom>
                  <a:avLst/>
                  <a:gdLst/>
                  <a:ahLst/>
                  <a:rect l="0" t="0" r="r" b="b"/>
                  <a:pathLst>
                    <a:path fill="none" w="3961" h="3957">
                      <a:moveTo>
                        <a:pt x="1240" y="0"/>
                      </a:moveTo>
                      <a:lnTo>
                        <a:pt x="3961" y="1244"/>
                      </a:lnTo>
                      <a:lnTo>
                        <a:pt x="2717" y="3957"/>
                      </a:lnTo>
                      <a:lnTo>
                        <a:pt x="0" y="2712"/>
                      </a:lnTo>
                      <a:lnTo>
                        <a:pt x="1240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39720" y="1174680"/>
                  <a:ext cx="964080" cy="830520"/>
                </a:xfrm>
                <a:custGeom>
                  <a:avLst/>
                  <a:gdLst/>
                  <a:ahLst/>
                  <a:rect l="0" t="0" r="r" b="b"/>
                  <a:pathLst>
                    <a:path w="2678" h="2307">
                      <a:moveTo>
                        <a:pt x="626" y="0"/>
                      </a:moveTo>
                      <a:lnTo>
                        <a:pt x="2678" y="934"/>
                      </a:lnTo>
                      <a:lnTo>
                        <a:pt x="2052" y="2307"/>
                      </a:lnTo>
                      <a:lnTo>
                        <a:pt x="0" y="1368"/>
                      </a:lnTo>
                      <a:lnTo>
                        <a:pt x="62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539720" y="1174680"/>
                  <a:ext cx="964080" cy="830520"/>
                </a:xfrm>
                <a:custGeom>
                  <a:avLst/>
                  <a:gdLst/>
                  <a:ahLst/>
                  <a:rect l="0" t="0" r="r" b="b"/>
                  <a:pathLst>
                    <a:path fill="none" w="2678" h="2307">
                      <a:moveTo>
                        <a:pt x="626" y="0"/>
                      </a:moveTo>
                      <a:lnTo>
                        <a:pt x="2678" y="934"/>
                      </a:lnTo>
                      <a:lnTo>
                        <a:pt x="2052" y="2307"/>
                      </a:lnTo>
                      <a:lnTo>
                        <a:pt x="0" y="1368"/>
                      </a:lnTo>
                      <a:lnTo>
                        <a:pt x="626" y="0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1539720" y="1174680"/>
                  <a:ext cx="964080" cy="830520"/>
                </a:xfrm>
                <a:custGeom>
                  <a:avLst/>
                  <a:gdLst/>
                  <a:ahLst/>
                  <a:rect l="0" t="0" r="r" b="b"/>
                  <a:pathLst>
                    <a:path fill="none" w="2678" h="2307">
                      <a:moveTo>
                        <a:pt x="0" y="1368"/>
                      </a:moveTo>
                      <a:lnTo>
                        <a:pt x="2052" y="2307"/>
                      </a:lnTo>
                      <a:lnTo>
                        <a:pt x="2678" y="934"/>
                      </a:lnTo>
                      <a:lnTo>
                        <a:pt x="626" y="0"/>
                      </a:lnTo>
                      <a:lnTo>
                        <a:pt x="0" y="1368"/>
                      </a:lnTo>
                    </a:path>
                  </a:pathLst>
                </a:custGeom>
                <a:ln w="12600">
                  <a:solidFill>
                    <a:srgbClr val="87878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11120" y="878040"/>
                  <a:ext cx="1425960" cy="1424520"/>
                </a:xfrm>
                <a:custGeom>
                  <a:avLst/>
                  <a:gdLst/>
                  <a:ahLst/>
                  <a:rect l="0" t="0" r="r" b="b"/>
                  <a:pathLst>
                    <a:path fill="none" w="3961" h="3957">
                      <a:moveTo>
                        <a:pt x="0" y="2712"/>
                      </a:moveTo>
                      <a:lnTo>
                        <a:pt x="2717" y="3957"/>
                      </a:lnTo>
                      <a:lnTo>
                        <a:pt x="3961" y="1244"/>
                      </a:lnTo>
                      <a:lnTo>
                        <a:pt x="1240" y="0"/>
                      </a:lnTo>
                      <a:lnTo>
                        <a:pt x="0" y="2712"/>
                      </a:lnTo>
                    </a:path>
                  </a:pathLst>
                </a:custGeom>
                <a:ln w="12600">
                  <a:solidFill>
                    <a:srgbClr val="a8a8a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311120" y="878040"/>
                  <a:ext cx="1425960" cy="976680"/>
                </a:xfrm>
                <a:custGeom>
                  <a:avLst/>
                  <a:gdLst/>
                  <a:ahLst/>
                  <a:rect l="0" t="0" r="r" b="b"/>
                  <a:pathLst>
                    <a:path fill="none" w="3961" h="2713">
                      <a:moveTo>
                        <a:pt x="3961" y="1244"/>
                      </a:moveTo>
                      <a:lnTo>
                        <a:pt x="1240" y="0"/>
                      </a:lnTo>
                      <a:lnTo>
                        <a:pt x="0" y="2713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539720" y="1511280"/>
                  <a:ext cx="964080" cy="493920"/>
                </a:xfrm>
                <a:custGeom>
                  <a:avLst/>
                  <a:gdLst/>
                  <a:ahLst/>
                  <a:rect l="0" t="0" r="r" b="b"/>
                  <a:pathLst>
                    <a:path fill="none" w="2678" h="1372">
                      <a:moveTo>
                        <a:pt x="2678" y="0"/>
                      </a:moveTo>
                      <a:lnTo>
                        <a:pt x="2052" y="1372"/>
                      </a:lnTo>
                      <a:lnTo>
                        <a:pt x="0" y="432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403280" y="1689120"/>
                  <a:ext cx="910080" cy="519480"/>
                </a:xfrm>
                <a:custGeom>
                  <a:avLst/>
                  <a:gdLst/>
                  <a:ahLst/>
                  <a:rect l="0" t="0" r="r" b="b"/>
                  <a:pathLst>
                    <a:path w="2528" h="1443">
                      <a:moveTo>
                        <a:pt x="167" y="0"/>
                      </a:moveTo>
                      <a:lnTo>
                        <a:pt x="2528" y="1076"/>
                      </a:lnTo>
                      <a:lnTo>
                        <a:pt x="2361" y="1443"/>
                      </a:lnTo>
                      <a:lnTo>
                        <a:pt x="0" y="357"/>
                      </a:lnTo>
                      <a:lnTo>
                        <a:pt x="167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403280" y="1689120"/>
                  <a:ext cx="910080" cy="519480"/>
                </a:xfrm>
                <a:custGeom>
                  <a:avLst/>
                  <a:gdLst/>
                  <a:ahLst/>
                  <a:rect l="0" t="0" r="r" b="b"/>
                  <a:pathLst>
                    <a:path fill="none" w="2528" h="1443">
                      <a:moveTo>
                        <a:pt x="167" y="0"/>
                      </a:moveTo>
                      <a:lnTo>
                        <a:pt x="2528" y="1076"/>
                      </a:lnTo>
                      <a:lnTo>
                        <a:pt x="2361" y="1443"/>
                      </a:lnTo>
                      <a:lnTo>
                        <a:pt x="0" y="357"/>
                      </a:lnTo>
                      <a:lnTo>
                        <a:pt x="167" y="0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542960" y="1930320"/>
                  <a:ext cx="525960" cy="270360"/>
                </a:xfrm>
                <a:custGeom>
                  <a:avLst/>
                  <a:gdLst/>
                  <a:ahLst/>
                  <a:rect l="0" t="0" r="r" b="b"/>
                  <a:pathLst>
                    <a:path w="1461" h="751">
                      <a:moveTo>
                        <a:pt x="0" y="105"/>
                      </a:moveTo>
                      <a:lnTo>
                        <a:pt x="57" y="0"/>
                      </a:lnTo>
                      <a:lnTo>
                        <a:pt x="1461" y="641"/>
                      </a:lnTo>
                      <a:lnTo>
                        <a:pt x="1408" y="751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89898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42960" y="1930320"/>
                  <a:ext cx="525960" cy="270360"/>
                </a:xfrm>
                <a:custGeom>
                  <a:avLst/>
                  <a:gdLst/>
                  <a:ahLst/>
                  <a:rect l="0" t="0" r="r" b="b"/>
                  <a:pathLst>
                    <a:path fill="none" w="1461" h="751">
                      <a:moveTo>
                        <a:pt x="0" y="105"/>
                      </a:moveTo>
                      <a:lnTo>
                        <a:pt x="57" y="0"/>
                      </a:lnTo>
                      <a:lnTo>
                        <a:pt x="1461" y="641"/>
                      </a:lnTo>
                      <a:lnTo>
                        <a:pt x="1408" y="751"/>
                      </a:lnTo>
                      <a:lnTo>
                        <a:pt x="0" y="105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57360" y="1954080"/>
                  <a:ext cx="489240" cy="236880"/>
                </a:xfrm>
                <a:custGeom>
                  <a:avLst/>
                  <a:gdLst/>
                  <a:ahLst/>
                  <a:rect l="0" t="0" r="r" b="b"/>
                  <a:pathLst>
                    <a:path w="1359" h="658">
                      <a:moveTo>
                        <a:pt x="30" y="0"/>
                      </a:moveTo>
                      <a:lnTo>
                        <a:pt x="0" y="52"/>
                      </a:lnTo>
                      <a:lnTo>
                        <a:pt x="83" y="88"/>
                      </a:lnTo>
                      <a:lnTo>
                        <a:pt x="127" y="70"/>
                      </a:lnTo>
                      <a:lnTo>
                        <a:pt x="141" y="114"/>
                      </a:lnTo>
                      <a:lnTo>
                        <a:pt x="185" y="127"/>
                      </a:lnTo>
                      <a:lnTo>
                        <a:pt x="224" y="114"/>
                      </a:lnTo>
                      <a:lnTo>
                        <a:pt x="238" y="158"/>
                      </a:lnTo>
                      <a:lnTo>
                        <a:pt x="282" y="176"/>
                      </a:lnTo>
                      <a:lnTo>
                        <a:pt x="317" y="158"/>
                      </a:lnTo>
                      <a:lnTo>
                        <a:pt x="339" y="202"/>
                      </a:lnTo>
                      <a:lnTo>
                        <a:pt x="374" y="216"/>
                      </a:lnTo>
                      <a:lnTo>
                        <a:pt x="418" y="207"/>
                      </a:lnTo>
                      <a:lnTo>
                        <a:pt x="432" y="246"/>
                      </a:lnTo>
                      <a:lnTo>
                        <a:pt x="480" y="264"/>
                      </a:lnTo>
                      <a:lnTo>
                        <a:pt x="520" y="246"/>
                      </a:lnTo>
                      <a:lnTo>
                        <a:pt x="537" y="295"/>
                      </a:lnTo>
                      <a:lnTo>
                        <a:pt x="573" y="308"/>
                      </a:lnTo>
                      <a:lnTo>
                        <a:pt x="617" y="299"/>
                      </a:lnTo>
                      <a:lnTo>
                        <a:pt x="750" y="353"/>
                      </a:lnTo>
                      <a:lnTo>
                        <a:pt x="768" y="397"/>
                      </a:lnTo>
                      <a:lnTo>
                        <a:pt x="799" y="419"/>
                      </a:lnTo>
                      <a:lnTo>
                        <a:pt x="847" y="406"/>
                      </a:lnTo>
                      <a:lnTo>
                        <a:pt x="860" y="441"/>
                      </a:lnTo>
                      <a:lnTo>
                        <a:pt x="896" y="455"/>
                      </a:lnTo>
                      <a:lnTo>
                        <a:pt x="940" y="441"/>
                      </a:lnTo>
                      <a:lnTo>
                        <a:pt x="949" y="486"/>
                      </a:lnTo>
                      <a:lnTo>
                        <a:pt x="1002" y="503"/>
                      </a:lnTo>
                      <a:lnTo>
                        <a:pt x="1037" y="486"/>
                      </a:lnTo>
                      <a:lnTo>
                        <a:pt x="1050" y="530"/>
                      </a:lnTo>
                      <a:lnTo>
                        <a:pt x="1099" y="552"/>
                      </a:lnTo>
                      <a:lnTo>
                        <a:pt x="1099" y="552"/>
                      </a:lnTo>
                      <a:lnTo>
                        <a:pt x="1134" y="534"/>
                      </a:lnTo>
                      <a:lnTo>
                        <a:pt x="1147" y="574"/>
                      </a:lnTo>
                      <a:lnTo>
                        <a:pt x="1196" y="596"/>
                      </a:lnTo>
                      <a:lnTo>
                        <a:pt x="1235" y="578"/>
                      </a:lnTo>
                      <a:lnTo>
                        <a:pt x="1244" y="618"/>
                      </a:lnTo>
                      <a:lnTo>
                        <a:pt x="1337" y="658"/>
                      </a:lnTo>
                      <a:lnTo>
                        <a:pt x="1359" y="609"/>
                      </a:lnTo>
                      <a:lnTo>
                        <a:pt x="904" y="402"/>
                      </a:lnTo>
                      <a:lnTo>
                        <a:pt x="878" y="349"/>
                      </a:lnTo>
                      <a:lnTo>
                        <a:pt x="542" y="198"/>
                      </a:lnTo>
                      <a:lnTo>
                        <a:pt x="485" y="207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557360" y="1954080"/>
                  <a:ext cx="489240" cy="236880"/>
                </a:xfrm>
                <a:custGeom>
                  <a:avLst/>
                  <a:gdLst/>
                  <a:ahLst/>
                  <a:rect l="0" t="0" r="r" b="b"/>
                  <a:pathLst>
                    <a:path fill="none" w="1359" h="658">
                      <a:moveTo>
                        <a:pt x="30" y="0"/>
                      </a:moveTo>
                      <a:lnTo>
                        <a:pt x="0" y="52"/>
                      </a:lnTo>
                      <a:lnTo>
                        <a:pt x="83" y="88"/>
                      </a:lnTo>
                      <a:lnTo>
                        <a:pt x="127" y="70"/>
                      </a:lnTo>
                      <a:lnTo>
                        <a:pt x="141" y="114"/>
                      </a:lnTo>
                      <a:lnTo>
                        <a:pt x="185" y="127"/>
                      </a:lnTo>
                      <a:lnTo>
                        <a:pt x="224" y="114"/>
                      </a:lnTo>
                      <a:lnTo>
                        <a:pt x="238" y="158"/>
                      </a:lnTo>
                      <a:lnTo>
                        <a:pt x="282" y="176"/>
                      </a:lnTo>
                      <a:lnTo>
                        <a:pt x="317" y="158"/>
                      </a:lnTo>
                      <a:lnTo>
                        <a:pt x="339" y="202"/>
                      </a:lnTo>
                      <a:lnTo>
                        <a:pt x="374" y="216"/>
                      </a:lnTo>
                      <a:lnTo>
                        <a:pt x="418" y="207"/>
                      </a:lnTo>
                      <a:lnTo>
                        <a:pt x="432" y="246"/>
                      </a:lnTo>
                      <a:lnTo>
                        <a:pt x="480" y="264"/>
                      </a:lnTo>
                      <a:lnTo>
                        <a:pt x="520" y="246"/>
                      </a:lnTo>
                      <a:lnTo>
                        <a:pt x="537" y="295"/>
                      </a:lnTo>
                      <a:lnTo>
                        <a:pt x="573" y="308"/>
                      </a:lnTo>
                      <a:lnTo>
                        <a:pt x="617" y="299"/>
                      </a:lnTo>
                      <a:lnTo>
                        <a:pt x="750" y="353"/>
                      </a:lnTo>
                      <a:lnTo>
                        <a:pt x="768" y="397"/>
                      </a:lnTo>
                      <a:lnTo>
                        <a:pt x="799" y="419"/>
                      </a:lnTo>
                      <a:lnTo>
                        <a:pt x="847" y="406"/>
                      </a:lnTo>
                      <a:lnTo>
                        <a:pt x="860" y="441"/>
                      </a:lnTo>
                      <a:lnTo>
                        <a:pt x="896" y="455"/>
                      </a:lnTo>
                      <a:lnTo>
                        <a:pt x="940" y="441"/>
                      </a:lnTo>
                      <a:lnTo>
                        <a:pt x="949" y="486"/>
                      </a:lnTo>
                      <a:lnTo>
                        <a:pt x="1002" y="503"/>
                      </a:lnTo>
                      <a:lnTo>
                        <a:pt x="1037" y="486"/>
                      </a:lnTo>
                      <a:lnTo>
                        <a:pt x="1050" y="530"/>
                      </a:lnTo>
                      <a:lnTo>
                        <a:pt x="1099" y="552"/>
                      </a:lnTo>
                      <a:lnTo>
                        <a:pt x="1099" y="552"/>
                      </a:lnTo>
                      <a:lnTo>
                        <a:pt x="1134" y="534"/>
                      </a:lnTo>
                      <a:lnTo>
                        <a:pt x="1147" y="574"/>
                      </a:lnTo>
                      <a:lnTo>
                        <a:pt x="1196" y="596"/>
                      </a:lnTo>
                      <a:lnTo>
                        <a:pt x="1235" y="578"/>
                      </a:lnTo>
                      <a:lnTo>
                        <a:pt x="1244" y="618"/>
                      </a:lnTo>
                      <a:lnTo>
                        <a:pt x="1337" y="658"/>
                      </a:lnTo>
                      <a:lnTo>
                        <a:pt x="1359" y="609"/>
                      </a:lnTo>
                      <a:lnTo>
                        <a:pt x="904" y="402"/>
                      </a:lnTo>
                      <a:lnTo>
                        <a:pt x="878" y="349"/>
                      </a:lnTo>
                      <a:lnTo>
                        <a:pt x="542" y="198"/>
                      </a:lnTo>
                      <a:lnTo>
                        <a:pt x="485" y="207"/>
                      </a:lnTo>
                      <a:lnTo>
                        <a:pt x="30" y="0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2054160" y="2158920"/>
                  <a:ext cx="15840" cy="34920"/>
                </a:xfrm>
                <a:prstGeom prst="line">
                  <a:avLst/>
                </a:prstGeom>
                <a:ln w="12600">
                  <a:solidFill>
                    <a:srgbClr val="b7b7b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44760" y="1928880"/>
                  <a:ext cx="525960" cy="230400"/>
                </a:xfrm>
                <a:custGeom>
                  <a:avLst/>
                  <a:gdLst/>
                  <a:ahLst/>
                  <a:rect l="0" t="0" r="r" b="b"/>
                  <a:pathLst>
                    <a:path fill="none" w="1461" h="640">
                      <a:moveTo>
                        <a:pt x="0" y="97"/>
                      </a:moveTo>
                      <a:lnTo>
                        <a:pt x="52" y="0"/>
                      </a:lnTo>
                      <a:lnTo>
                        <a:pt x="1461" y="640"/>
                      </a:lnTo>
                    </a:path>
                  </a:pathLst>
                </a:custGeom>
                <a:ln w="12600">
                  <a:solidFill>
                    <a:srgbClr val="aaaaaa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405080" y="1690560"/>
                  <a:ext cx="908280" cy="386280"/>
                </a:xfrm>
                <a:custGeom>
                  <a:avLst/>
                  <a:gdLst/>
                  <a:ahLst/>
                  <a:rect l="0" t="0" r="r" b="b"/>
                  <a:pathLst>
                    <a:path fill="none" w="2523" h="1073">
                      <a:moveTo>
                        <a:pt x="0" y="358"/>
                      </a:moveTo>
                      <a:lnTo>
                        <a:pt x="163" y="0"/>
                      </a:lnTo>
                      <a:lnTo>
                        <a:pt x="2523" y="1073"/>
                      </a:lnTo>
                    </a:path>
                  </a:pathLst>
                </a:custGeom>
                <a:ln w="12600">
                  <a:solidFill>
                    <a:srgbClr val="8c8c8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405080" y="1819440"/>
                  <a:ext cx="910080" cy="389160"/>
                </a:xfrm>
                <a:custGeom>
                  <a:avLst/>
                  <a:gdLst/>
                  <a:ahLst/>
                  <a:rect l="0" t="0" r="r" b="b"/>
                  <a:pathLst>
                    <a:path fill="none" w="2528" h="1081">
                      <a:moveTo>
                        <a:pt x="2528" y="715"/>
                      </a:moveTo>
                      <a:lnTo>
                        <a:pt x="2361" y="1081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d1d1d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405080" y="1819440"/>
                  <a:ext cx="910080" cy="389160"/>
                </a:xfrm>
                <a:custGeom>
                  <a:avLst/>
                  <a:gdLst/>
                  <a:ahLst/>
                  <a:rect l="0" t="0" r="r" b="b"/>
                  <a:pathLst>
                    <a:path fill="none" w="2528" h="1081">
                      <a:moveTo>
                        <a:pt x="2528" y="715"/>
                      </a:moveTo>
                      <a:lnTo>
                        <a:pt x="2361" y="1081"/>
                      </a:lnTo>
                      <a:lnTo>
                        <a:pt x="0" y="0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554120" y="1979640"/>
                  <a:ext cx="492480" cy="219600"/>
                </a:xfrm>
                <a:custGeom>
                  <a:avLst/>
                  <a:gdLst/>
                  <a:ahLst/>
                  <a:rect l="0" t="0" r="r" b="b"/>
                  <a:pathLst>
                    <a:path fill="none" w="1368" h="610">
                      <a:moveTo>
                        <a:pt x="0" y="0"/>
                      </a:moveTo>
                      <a:lnTo>
                        <a:pt x="83" y="35"/>
                      </a:lnTo>
                      <a:lnTo>
                        <a:pt x="136" y="4"/>
                      </a:lnTo>
                      <a:lnTo>
                        <a:pt x="141" y="61"/>
                      </a:lnTo>
                      <a:lnTo>
                        <a:pt x="185" y="74"/>
                      </a:lnTo>
                      <a:lnTo>
                        <a:pt x="233" y="44"/>
                      </a:lnTo>
                      <a:lnTo>
                        <a:pt x="238" y="105"/>
                      </a:lnTo>
                      <a:lnTo>
                        <a:pt x="282" y="127"/>
                      </a:lnTo>
                      <a:lnTo>
                        <a:pt x="326" y="97"/>
                      </a:lnTo>
                      <a:lnTo>
                        <a:pt x="339" y="149"/>
                      </a:lnTo>
                      <a:lnTo>
                        <a:pt x="374" y="168"/>
                      </a:lnTo>
                      <a:lnTo>
                        <a:pt x="423" y="145"/>
                      </a:lnTo>
                      <a:lnTo>
                        <a:pt x="432" y="195"/>
                      </a:lnTo>
                      <a:lnTo>
                        <a:pt x="480" y="212"/>
                      </a:lnTo>
                      <a:lnTo>
                        <a:pt x="524" y="186"/>
                      </a:lnTo>
                      <a:lnTo>
                        <a:pt x="533" y="247"/>
                      </a:lnTo>
                      <a:lnTo>
                        <a:pt x="573" y="256"/>
                      </a:lnTo>
                      <a:lnTo>
                        <a:pt x="621" y="234"/>
                      </a:lnTo>
                      <a:lnTo>
                        <a:pt x="759" y="287"/>
                      </a:lnTo>
                      <a:lnTo>
                        <a:pt x="768" y="349"/>
                      </a:lnTo>
                      <a:lnTo>
                        <a:pt x="799" y="371"/>
                      </a:lnTo>
                      <a:lnTo>
                        <a:pt x="852" y="344"/>
                      </a:lnTo>
                      <a:lnTo>
                        <a:pt x="860" y="393"/>
                      </a:lnTo>
                      <a:lnTo>
                        <a:pt x="896" y="406"/>
                      </a:lnTo>
                      <a:lnTo>
                        <a:pt x="944" y="380"/>
                      </a:lnTo>
                      <a:lnTo>
                        <a:pt x="949" y="437"/>
                      </a:lnTo>
                      <a:lnTo>
                        <a:pt x="1002" y="455"/>
                      </a:lnTo>
                      <a:lnTo>
                        <a:pt x="1041" y="424"/>
                      </a:lnTo>
                      <a:lnTo>
                        <a:pt x="1046" y="482"/>
                      </a:lnTo>
                      <a:lnTo>
                        <a:pt x="1099" y="504"/>
                      </a:lnTo>
                      <a:lnTo>
                        <a:pt x="1099" y="504"/>
                      </a:lnTo>
                      <a:lnTo>
                        <a:pt x="1138" y="473"/>
                      </a:lnTo>
                      <a:lnTo>
                        <a:pt x="1147" y="526"/>
                      </a:lnTo>
                      <a:lnTo>
                        <a:pt x="1191" y="548"/>
                      </a:lnTo>
                      <a:lnTo>
                        <a:pt x="1240" y="517"/>
                      </a:lnTo>
                      <a:lnTo>
                        <a:pt x="1244" y="570"/>
                      </a:lnTo>
                      <a:lnTo>
                        <a:pt x="1332" y="610"/>
                      </a:lnTo>
                      <a:lnTo>
                        <a:pt x="1368" y="535"/>
                      </a:lnTo>
                    </a:path>
                  </a:pathLst>
                </a:custGeom>
                <a:ln w="12600">
                  <a:solidFill>
                    <a:srgbClr val="6d6d6d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1549080" y="1191960"/>
                <a:ext cx="939600" cy="799560"/>
              </a:xfrm>
              <a:custGeom>
                <a:avLst/>
                <a:gdLst/>
                <a:ahLst/>
                <a:rect l="0" t="0" r="r" b="b"/>
                <a:pathLst>
                  <a:path w="2610" h="2221">
                    <a:moveTo>
                      <a:pt x="598" y="0"/>
                    </a:moveTo>
                    <a:lnTo>
                      <a:pt x="0" y="1283"/>
                    </a:lnTo>
                    <a:lnTo>
                      <a:pt x="2012" y="2221"/>
                    </a:lnTo>
                    <a:lnTo>
                      <a:pt x="2610" y="937"/>
                    </a:lnTo>
                    <a:lnTo>
                      <a:pt x="598" y="0"/>
                    </a:lnTo>
                    <a:close/>
                  </a:path>
                </a:pathLst>
              </a:cu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85920" y="693720"/>
              <a:ext cx="1084680" cy="1092600"/>
              <a:chOff x="385920" y="693720"/>
              <a:chExt cx="1084680" cy="10926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385920" y="693720"/>
                <a:ext cx="1084680" cy="1092600"/>
                <a:chOff x="385920" y="693720"/>
                <a:chExt cx="1084680" cy="1092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85920" y="693720"/>
                  <a:ext cx="1084680" cy="1081440"/>
                </a:xfrm>
                <a:custGeom>
                  <a:avLst/>
                  <a:gdLst/>
                  <a:ahLst/>
                  <a:rect l="0" t="0" r="r" b="b"/>
                  <a:pathLst>
                    <a:path w="3013" h="3004">
                      <a:moveTo>
                        <a:pt x="0" y="22"/>
                      </a:moveTo>
                      <a:lnTo>
                        <a:pt x="2991" y="0"/>
                      </a:lnTo>
                      <a:lnTo>
                        <a:pt x="3013" y="2982"/>
                      </a:lnTo>
                      <a:lnTo>
                        <a:pt x="22" y="3004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d6d6d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85920" y="693720"/>
                  <a:ext cx="1084680" cy="1081440"/>
                </a:xfrm>
                <a:custGeom>
                  <a:avLst/>
                  <a:gdLst/>
                  <a:ahLst/>
                  <a:rect l="0" t="0" r="r" b="b"/>
                  <a:pathLst>
                    <a:path fill="none" w="3013" h="3004">
                      <a:moveTo>
                        <a:pt x="0" y="22"/>
                      </a:moveTo>
                      <a:lnTo>
                        <a:pt x="2991" y="0"/>
                      </a:lnTo>
                      <a:lnTo>
                        <a:pt x="3013" y="2982"/>
                      </a:lnTo>
                      <a:lnTo>
                        <a:pt x="22" y="3004"/>
                      </a:lnTo>
                      <a:lnTo>
                        <a:pt x="0" y="22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17680" y="960480"/>
                  <a:ext cx="816480" cy="547920"/>
                </a:xfrm>
                <a:custGeom>
                  <a:avLst/>
                  <a:gdLst/>
                  <a:ahLst/>
                  <a:rect l="0" t="0" r="r" b="b"/>
                  <a:pathLst>
                    <a:path w="2268" h="1522">
                      <a:moveTo>
                        <a:pt x="0" y="19"/>
                      </a:moveTo>
                      <a:lnTo>
                        <a:pt x="2257" y="0"/>
                      </a:lnTo>
                      <a:lnTo>
                        <a:pt x="2268" y="1507"/>
                      </a:lnTo>
                      <a:lnTo>
                        <a:pt x="11" y="1522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7680" y="960480"/>
                  <a:ext cx="816480" cy="547920"/>
                </a:xfrm>
                <a:custGeom>
                  <a:avLst/>
                  <a:gdLst/>
                  <a:ahLst/>
                  <a:rect l="0" t="0" r="r" b="b"/>
                  <a:pathLst>
                    <a:path fill="none" w="2268" h="1522">
                      <a:moveTo>
                        <a:pt x="0" y="19"/>
                      </a:moveTo>
                      <a:lnTo>
                        <a:pt x="2257" y="0"/>
                      </a:lnTo>
                      <a:lnTo>
                        <a:pt x="2268" y="1507"/>
                      </a:lnTo>
                      <a:lnTo>
                        <a:pt x="11" y="1522"/>
                      </a:lnTo>
                      <a:lnTo>
                        <a:pt x="0" y="19"/>
                      </a:ln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17680" y="960480"/>
                  <a:ext cx="816480" cy="547920"/>
                </a:xfrm>
                <a:custGeom>
                  <a:avLst/>
                  <a:gdLst/>
                  <a:ahLst/>
                  <a:rect l="0" t="0" r="r" b="b"/>
                  <a:pathLst>
                    <a:path fill="none" w="2268" h="1522">
                      <a:moveTo>
                        <a:pt x="11" y="1522"/>
                      </a:moveTo>
                      <a:lnTo>
                        <a:pt x="2268" y="1507"/>
                      </a:lnTo>
                      <a:lnTo>
                        <a:pt x="2257" y="0"/>
                      </a:lnTo>
                      <a:lnTo>
                        <a:pt x="0" y="19"/>
                      </a:lnTo>
                      <a:lnTo>
                        <a:pt x="11" y="1522"/>
                      </a:lnTo>
                    </a:path>
                  </a:pathLst>
                </a:custGeom>
                <a:ln w="12600">
                  <a:solidFill>
                    <a:srgbClr val="878787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5920" y="693720"/>
                  <a:ext cx="1084680" cy="1081440"/>
                </a:xfrm>
                <a:custGeom>
                  <a:avLst/>
                  <a:gdLst/>
                  <a:ahLst/>
                  <a:rect l="0" t="0" r="r" b="b"/>
                  <a:pathLst>
                    <a:path fill="none" w="3013" h="3004">
                      <a:moveTo>
                        <a:pt x="22" y="3004"/>
                      </a:moveTo>
                      <a:lnTo>
                        <a:pt x="3013" y="2982"/>
                      </a:lnTo>
                      <a:lnTo>
                        <a:pt x="2991" y="0"/>
                      </a:lnTo>
                      <a:lnTo>
                        <a:pt x="0" y="22"/>
                      </a:lnTo>
                      <a:lnTo>
                        <a:pt x="22" y="3004"/>
                      </a:lnTo>
                    </a:path>
                  </a:pathLst>
                </a:custGeom>
                <a:ln w="12600">
                  <a:solidFill>
                    <a:srgbClr val="a8a8a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85920" y="693720"/>
                  <a:ext cx="1076760" cy="1081440"/>
                </a:xfrm>
                <a:custGeom>
                  <a:avLst/>
                  <a:gdLst/>
                  <a:ahLst/>
                  <a:rect l="0" t="0" r="r" b="b"/>
                  <a:pathLst>
                    <a:path fill="none" w="2991" h="3004">
                      <a:moveTo>
                        <a:pt x="2991" y="0"/>
                      </a:moveTo>
                      <a:lnTo>
                        <a:pt x="0" y="22"/>
                      </a:lnTo>
                      <a:lnTo>
                        <a:pt x="22" y="3004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22360" y="960480"/>
                  <a:ext cx="811440" cy="547920"/>
                </a:xfrm>
                <a:custGeom>
                  <a:avLst/>
                  <a:gdLst/>
                  <a:ahLst/>
                  <a:rect l="0" t="0" r="r" b="b"/>
                  <a:pathLst>
                    <a:path fill="none" w="2254" h="1522">
                      <a:moveTo>
                        <a:pt x="2243" y="0"/>
                      </a:moveTo>
                      <a:lnTo>
                        <a:pt x="2254" y="1507"/>
                      </a:lnTo>
                      <a:lnTo>
                        <a:pt x="0" y="1522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61880" y="1552680"/>
                  <a:ext cx="935280" cy="151200"/>
                </a:xfrm>
                <a:custGeom>
                  <a:avLst/>
                  <a:gdLst/>
                  <a:ahLst/>
                  <a:rect l="0" t="0" r="r" b="b"/>
                  <a:pathLst>
                    <a:path w="2598" h="420">
                      <a:moveTo>
                        <a:pt x="0" y="25"/>
                      </a:moveTo>
                      <a:lnTo>
                        <a:pt x="2595" y="0"/>
                      </a:lnTo>
                      <a:lnTo>
                        <a:pt x="2598" y="406"/>
                      </a:lnTo>
                      <a:lnTo>
                        <a:pt x="2" y="42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61880" y="1552680"/>
                  <a:ext cx="93528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8" h="420">
                      <a:moveTo>
                        <a:pt x="0" y="25"/>
                      </a:moveTo>
                      <a:lnTo>
                        <a:pt x="2595" y="0"/>
                      </a:lnTo>
                      <a:lnTo>
                        <a:pt x="2598" y="406"/>
                      </a:lnTo>
                      <a:lnTo>
                        <a:pt x="2" y="420"/>
                      </a:lnTo>
                      <a:lnTo>
                        <a:pt x="0" y="25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50880" y="1731960"/>
                  <a:ext cx="559080" cy="47880"/>
                </a:xfrm>
                <a:custGeom>
                  <a:avLst/>
                  <a:gdLst/>
                  <a:ahLst/>
                  <a:rect l="0" t="0" r="r" b="b"/>
                  <a:pathLst>
                    <a:path w="1553" h="133">
                      <a:moveTo>
                        <a:pt x="0" y="133"/>
                      </a:moveTo>
                      <a:lnTo>
                        <a:pt x="8" y="12"/>
                      </a:lnTo>
                      <a:lnTo>
                        <a:pt x="1553" y="0"/>
                      </a:lnTo>
                      <a:lnTo>
                        <a:pt x="1549" y="121"/>
                      </a:lnTo>
                      <a:lnTo>
                        <a:pt x="0" y="133"/>
                      </a:lnTo>
                      <a:close/>
                    </a:path>
                  </a:pathLst>
                </a:custGeom>
                <a:solidFill>
                  <a:srgbClr val="898989"/>
                </a:solidFill>
                <a:ln w="0">
                  <a:noFill/>
                </a:ln>
              </p:spPr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50880" y="1731960"/>
                  <a:ext cx="559080" cy="47880"/>
                </a:xfrm>
                <a:custGeom>
                  <a:avLst/>
                  <a:gdLst/>
                  <a:ahLst/>
                  <a:rect l="0" t="0" r="r" b="b"/>
                  <a:pathLst>
                    <a:path fill="none" w="1553" h="133">
                      <a:moveTo>
                        <a:pt x="0" y="133"/>
                      </a:moveTo>
                      <a:lnTo>
                        <a:pt x="8" y="12"/>
                      </a:lnTo>
                      <a:lnTo>
                        <a:pt x="1553" y="0"/>
                      </a:lnTo>
                      <a:lnTo>
                        <a:pt x="1549" y="121"/>
                      </a:lnTo>
                      <a:lnTo>
                        <a:pt x="0" y="133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66720" y="1741320"/>
                  <a:ext cx="527400" cy="36720"/>
                </a:xfrm>
                <a:custGeom>
                  <a:avLst/>
                  <a:gdLst/>
                  <a:ahLst/>
                  <a:rect l="0" t="0" r="r" b="b"/>
                  <a:pathLst>
                    <a:path w="1465" h="102">
                      <a:moveTo>
                        <a:pt x="3" y="41"/>
                      </a:moveTo>
                      <a:lnTo>
                        <a:pt x="0" y="102"/>
                      </a:lnTo>
                      <a:lnTo>
                        <a:pt x="89" y="101"/>
                      </a:lnTo>
                      <a:lnTo>
                        <a:pt x="123" y="65"/>
                      </a:lnTo>
                      <a:lnTo>
                        <a:pt x="154" y="99"/>
                      </a:lnTo>
                      <a:lnTo>
                        <a:pt x="199" y="93"/>
                      </a:lnTo>
                      <a:lnTo>
                        <a:pt x="228" y="63"/>
                      </a:lnTo>
                      <a:lnTo>
                        <a:pt x="259" y="98"/>
                      </a:lnTo>
                      <a:lnTo>
                        <a:pt x="308" y="97"/>
                      </a:lnTo>
                      <a:lnTo>
                        <a:pt x="332" y="66"/>
                      </a:lnTo>
                      <a:lnTo>
                        <a:pt x="368" y="96"/>
                      </a:lnTo>
                      <a:lnTo>
                        <a:pt x="408" y="95"/>
                      </a:lnTo>
                      <a:lnTo>
                        <a:pt x="442" y="69"/>
                      </a:lnTo>
                      <a:lnTo>
                        <a:pt x="473" y="95"/>
                      </a:lnTo>
                      <a:lnTo>
                        <a:pt x="522" y="93"/>
                      </a:lnTo>
                      <a:lnTo>
                        <a:pt x="551" y="63"/>
                      </a:lnTo>
                      <a:lnTo>
                        <a:pt x="587" y="97"/>
                      </a:lnTo>
                      <a:lnTo>
                        <a:pt x="627" y="91"/>
                      </a:lnTo>
                      <a:lnTo>
                        <a:pt x="661" y="65"/>
                      </a:lnTo>
                      <a:lnTo>
                        <a:pt x="807" y="58"/>
                      </a:lnTo>
                      <a:lnTo>
                        <a:pt x="842" y="92"/>
                      </a:lnTo>
                      <a:lnTo>
                        <a:pt x="876" y="97"/>
                      </a:lnTo>
                      <a:lnTo>
                        <a:pt x="917" y="66"/>
                      </a:lnTo>
                      <a:lnTo>
                        <a:pt x="941" y="91"/>
                      </a:lnTo>
                      <a:lnTo>
                        <a:pt x="981" y="90"/>
                      </a:lnTo>
                      <a:lnTo>
                        <a:pt x="1016" y="59"/>
                      </a:lnTo>
                      <a:lnTo>
                        <a:pt x="1041" y="95"/>
                      </a:lnTo>
                      <a:lnTo>
                        <a:pt x="1095" y="88"/>
                      </a:lnTo>
                      <a:lnTo>
                        <a:pt x="1120" y="58"/>
                      </a:lnTo>
                      <a:lnTo>
                        <a:pt x="1150" y="92"/>
                      </a:lnTo>
                      <a:lnTo>
                        <a:pt x="1205" y="91"/>
                      </a:lnTo>
                      <a:lnTo>
                        <a:pt x="1205" y="91"/>
                      </a:lnTo>
                      <a:lnTo>
                        <a:pt x="1230" y="60"/>
                      </a:lnTo>
                      <a:lnTo>
                        <a:pt x="1260" y="91"/>
                      </a:lnTo>
                      <a:lnTo>
                        <a:pt x="1310" y="90"/>
                      </a:lnTo>
                      <a:lnTo>
                        <a:pt x="1340" y="59"/>
                      </a:lnTo>
                      <a:lnTo>
                        <a:pt x="1364" y="88"/>
                      </a:lnTo>
                      <a:lnTo>
                        <a:pt x="1465" y="87"/>
                      </a:lnTo>
                      <a:lnTo>
                        <a:pt x="1463" y="31"/>
                      </a:lnTo>
                      <a:lnTo>
                        <a:pt x="966" y="35"/>
                      </a:lnTo>
                      <a:lnTo>
                        <a:pt x="920" y="0"/>
                      </a:lnTo>
                      <a:lnTo>
                        <a:pt x="550" y="7"/>
                      </a:lnTo>
                      <a:lnTo>
                        <a:pt x="501" y="37"/>
                      </a:lnTo>
                      <a:lnTo>
                        <a:pt x="3" y="41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6720" y="1741320"/>
                  <a:ext cx="527400" cy="36720"/>
                </a:xfrm>
                <a:custGeom>
                  <a:avLst/>
                  <a:gdLst/>
                  <a:ahLst/>
                  <a:rect l="0" t="0" r="r" b="b"/>
                  <a:pathLst>
                    <a:path fill="none" w="1465" h="102">
                      <a:moveTo>
                        <a:pt x="3" y="41"/>
                      </a:moveTo>
                      <a:lnTo>
                        <a:pt x="0" y="102"/>
                      </a:lnTo>
                      <a:lnTo>
                        <a:pt x="89" y="101"/>
                      </a:lnTo>
                      <a:lnTo>
                        <a:pt x="123" y="65"/>
                      </a:lnTo>
                      <a:lnTo>
                        <a:pt x="154" y="99"/>
                      </a:lnTo>
                      <a:lnTo>
                        <a:pt x="199" y="93"/>
                      </a:lnTo>
                      <a:lnTo>
                        <a:pt x="228" y="63"/>
                      </a:lnTo>
                      <a:lnTo>
                        <a:pt x="259" y="98"/>
                      </a:lnTo>
                      <a:lnTo>
                        <a:pt x="308" y="97"/>
                      </a:lnTo>
                      <a:lnTo>
                        <a:pt x="332" y="66"/>
                      </a:lnTo>
                      <a:lnTo>
                        <a:pt x="368" y="96"/>
                      </a:lnTo>
                      <a:lnTo>
                        <a:pt x="408" y="95"/>
                      </a:lnTo>
                      <a:lnTo>
                        <a:pt x="442" y="69"/>
                      </a:lnTo>
                      <a:lnTo>
                        <a:pt x="473" y="95"/>
                      </a:lnTo>
                      <a:lnTo>
                        <a:pt x="522" y="93"/>
                      </a:lnTo>
                      <a:lnTo>
                        <a:pt x="551" y="63"/>
                      </a:lnTo>
                      <a:lnTo>
                        <a:pt x="587" y="97"/>
                      </a:lnTo>
                      <a:lnTo>
                        <a:pt x="627" y="91"/>
                      </a:lnTo>
                      <a:lnTo>
                        <a:pt x="661" y="65"/>
                      </a:lnTo>
                      <a:lnTo>
                        <a:pt x="807" y="58"/>
                      </a:lnTo>
                      <a:lnTo>
                        <a:pt x="842" y="92"/>
                      </a:lnTo>
                      <a:lnTo>
                        <a:pt x="876" y="97"/>
                      </a:lnTo>
                      <a:lnTo>
                        <a:pt x="917" y="66"/>
                      </a:lnTo>
                      <a:lnTo>
                        <a:pt x="941" y="91"/>
                      </a:lnTo>
                      <a:lnTo>
                        <a:pt x="981" y="90"/>
                      </a:lnTo>
                      <a:lnTo>
                        <a:pt x="1016" y="59"/>
                      </a:lnTo>
                      <a:lnTo>
                        <a:pt x="1041" y="95"/>
                      </a:lnTo>
                      <a:lnTo>
                        <a:pt x="1095" y="88"/>
                      </a:lnTo>
                      <a:lnTo>
                        <a:pt x="1120" y="58"/>
                      </a:lnTo>
                      <a:lnTo>
                        <a:pt x="1150" y="92"/>
                      </a:lnTo>
                      <a:lnTo>
                        <a:pt x="1205" y="91"/>
                      </a:lnTo>
                      <a:lnTo>
                        <a:pt x="1205" y="91"/>
                      </a:lnTo>
                      <a:lnTo>
                        <a:pt x="1230" y="60"/>
                      </a:lnTo>
                      <a:lnTo>
                        <a:pt x="1260" y="91"/>
                      </a:lnTo>
                      <a:lnTo>
                        <a:pt x="1310" y="90"/>
                      </a:lnTo>
                      <a:lnTo>
                        <a:pt x="1340" y="59"/>
                      </a:lnTo>
                      <a:lnTo>
                        <a:pt x="1364" y="88"/>
                      </a:lnTo>
                      <a:lnTo>
                        <a:pt x="1465" y="87"/>
                      </a:lnTo>
                      <a:lnTo>
                        <a:pt x="1463" y="31"/>
                      </a:lnTo>
                      <a:lnTo>
                        <a:pt x="966" y="35"/>
                      </a:lnTo>
                      <a:lnTo>
                        <a:pt x="920" y="0"/>
                      </a:lnTo>
                      <a:lnTo>
                        <a:pt x="550" y="7"/>
                      </a:lnTo>
                      <a:lnTo>
                        <a:pt x="501" y="37"/>
                      </a:lnTo>
                      <a:lnTo>
                        <a:pt x="3" y="41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09600" y="1730520"/>
                  <a:ext cx="0" cy="37800"/>
                </a:xfrm>
                <a:prstGeom prst="line">
                  <a:avLst/>
                </a:prstGeom>
                <a:ln w="12600">
                  <a:solidFill>
                    <a:srgbClr val="b7b7b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50880" y="1730520"/>
                  <a:ext cx="559080" cy="44640"/>
                </a:xfrm>
                <a:custGeom>
                  <a:avLst/>
                  <a:gdLst/>
                  <a:ahLst/>
                  <a:rect l="0" t="0" r="r" b="b"/>
                  <a:pathLst>
                    <a:path fill="none" w="1553" h="124">
                      <a:moveTo>
                        <a:pt x="0" y="124"/>
                      </a:moveTo>
                      <a:lnTo>
                        <a:pt x="8" y="11"/>
                      </a:lnTo>
                      <a:lnTo>
                        <a:pt x="1553" y="0"/>
                      </a:lnTo>
                    </a:path>
                  </a:pathLst>
                </a:custGeom>
                <a:ln w="12600">
                  <a:solidFill>
                    <a:srgbClr val="aaaaaa"/>
                  </a:solidFill>
                  <a:round/>
                </a:ln>
              </p:spPr>
              <p:txBody>
                <a:bodyPr lIns="96120" rIns="9612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61880" y="1552680"/>
                  <a:ext cx="93384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4" h="420">
                      <a:moveTo>
                        <a:pt x="2" y="420"/>
                      </a:moveTo>
                      <a:lnTo>
                        <a:pt x="0" y="25"/>
                      </a:lnTo>
                      <a:lnTo>
                        <a:pt x="2594" y="0"/>
                      </a:lnTo>
                    </a:path>
                  </a:pathLst>
                </a:custGeom>
                <a:ln w="12600">
                  <a:solidFill>
                    <a:srgbClr val="8c8c8c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63680" y="1552680"/>
                  <a:ext cx="93384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4" h="420">
                      <a:moveTo>
                        <a:pt x="2592" y="0"/>
                      </a:moveTo>
                      <a:lnTo>
                        <a:pt x="2594" y="406"/>
                      </a:lnTo>
                      <a:lnTo>
                        <a:pt x="0" y="420"/>
                      </a:lnTo>
                    </a:path>
                  </a:pathLst>
                </a:custGeom>
                <a:ln w="12600">
                  <a:solidFill>
                    <a:srgbClr val="d1d1d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63680" y="1552680"/>
                  <a:ext cx="933840" cy="151200"/>
                </a:xfrm>
                <a:custGeom>
                  <a:avLst/>
                  <a:gdLst/>
                  <a:ahLst/>
                  <a:rect l="0" t="0" r="r" b="b"/>
                  <a:pathLst>
                    <a:path fill="none" w="2594" h="420">
                      <a:moveTo>
                        <a:pt x="2592" y="0"/>
                      </a:moveTo>
                      <a:lnTo>
                        <a:pt x="2594" y="406"/>
                      </a:lnTo>
                      <a:lnTo>
                        <a:pt x="0" y="420"/>
                      </a:lnTo>
                    </a:path>
                  </a:pathLst>
                </a:custGeom>
                <a:ln w="12600">
                  <a:solidFill>
                    <a:srgbClr val="e8e8e8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66720" y="1752480"/>
                  <a:ext cx="527400" cy="33840"/>
                </a:xfrm>
                <a:custGeom>
                  <a:avLst/>
                  <a:gdLst/>
                  <a:ahLst/>
                  <a:rect l="0" t="0" r="r" b="b"/>
                  <a:pathLst>
                    <a:path fill="none" w="1465" h="94">
                      <a:moveTo>
                        <a:pt x="0" y="94"/>
                      </a:moveTo>
                      <a:lnTo>
                        <a:pt x="89" y="93"/>
                      </a:lnTo>
                      <a:lnTo>
                        <a:pt x="123" y="39"/>
                      </a:lnTo>
                      <a:lnTo>
                        <a:pt x="154" y="92"/>
                      </a:lnTo>
                      <a:lnTo>
                        <a:pt x="199" y="83"/>
                      </a:lnTo>
                      <a:lnTo>
                        <a:pt x="228" y="37"/>
                      </a:lnTo>
                      <a:lnTo>
                        <a:pt x="259" y="89"/>
                      </a:lnTo>
                      <a:lnTo>
                        <a:pt x="309" y="89"/>
                      </a:lnTo>
                      <a:lnTo>
                        <a:pt x="332" y="43"/>
                      </a:lnTo>
                      <a:lnTo>
                        <a:pt x="368" y="88"/>
                      </a:lnTo>
                      <a:lnTo>
                        <a:pt x="408" y="87"/>
                      </a:lnTo>
                      <a:lnTo>
                        <a:pt x="442" y="48"/>
                      </a:lnTo>
                      <a:lnTo>
                        <a:pt x="473" y="85"/>
                      </a:lnTo>
                      <a:lnTo>
                        <a:pt x="523" y="85"/>
                      </a:lnTo>
                      <a:lnTo>
                        <a:pt x="551" y="39"/>
                      </a:lnTo>
                      <a:lnTo>
                        <a:pt x="588" y="92"/>
                      </a:lnTo>
                      <a:lnTo>
                        <a:pt x="627" y="83"/>
                      </a:lnTo>
                      <a:lnTo>
                        <a:pt x="661" y="44"/>
                      </a:lnTo>
                      <a:lnTo>
                        <a:pt x="807" y="34"/>
                      </a:lnTo>
                      <a:lnTo>
                        <a:pt x="842" y="87"/>
                      </a:lnTo>
                      <a:lnTo>
                        <a:pt x="877" y="93"/>
                      </a:lnTo>
                      <a:lnTo>
                        <a:pt x="917" y="47"/>
                      </a:lnTo>
                      <a:lnTo>
                        <a:pt x="942" y="85"/>
                      </a:lnTo>
                      <a:lnTo>
                        <a:pt x="981" y="84"/>
                      </a:lnTo>
                      <a:lnTo>
                        <a:pt x="1016" y="38"/>
                      </a:lnTo>
                      <a:lnTo>
                        <a:pt x="1041" y="90"/>
                      </a:lnTo>
                      <a:lnTo>
                        <a:pt x="1096" y="82"/>
                      </a:lnTo>
                      <a:lnTo>
                        <a:pt x="1121" y="37"/>
                      </a:lnTo>
                      <a:lnTo>
                        <a:pt x="1151" y="89"/>
                      </a:lnTo>
                      <a:lnTo>
                        <a:pt x="1205" y="88"/>
                      </a:lnTo>
                      <a:lnTo>
                        <a:pt x="1205" y="88"/>
                      </a:lnTo>
                      <a:lnTo>
                        <a:pt x="1230" y="42"/>
                      </a:lnTo>
                      <a:lnTo>
                        <a:pt x="1260" y="87"/>
                      </a:lnTo>
                      <a:lnTo>
                        <a:pt x="1310" y="85"/>
                      </a:lnTo>
                      <a:lnTo>
                        <a:pt x="1340" y="39"/>
                      </a:lnTo>
                      <a:lnTo>
                        <a:pt x="1365" y="84"/>
                      </a:lnTo>
                      <a:lnTo>
                        <a:pt x="1465" y="83"/>
                      </a:lnTo>
                      <a:lnTo>
                        <a:pt x="1463" y="0"/>
                      </a:lnTo>
                    </a:path>
                  </a:pathLst>
                </a:custGeom>
                <a:ln w="12600">
                  <a:solidFill>
                    <a:srgbClr val="6d6d6d"/>
                  </a:solidFill>
                  <a:round/>
                </a:ln>
              </p:spPr>
              <p:txBody>
                <a:bodyPr lIns="96120" rIns="9612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515880" y="969840"/>
                <a:ext cx="800280" cy="527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325520" y="973080"/>
                <a:ext cx="0" cy="3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47680" y="152280"/>
            <a:ext cx="3306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Just 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dd impact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754440" y="2013120"/>
            <a:ext cx="4713120" cy="31449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4282920" y="398520"/>
            <a:ext cx="150192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16400" y="1746360"/>
            <a:ext cx="5726160" cy="51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11040" y="2732040"/>
            <a:ext cx="1332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710320" y="414360"/>
            <a:ext cx="177156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21360" y="0"/>
            <a:ext cx="1558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795840" y="2211480"/>
            <a:ext cx="5173560" cy="345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3454560" y="1784520"/>
            <a:ext cx="5726160" cy="497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82600" y="3124080"/>
            <a:ext cx="29131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3591000" y="2276640"/>
            <a:ext cx="454356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9360" y="1440"/>
            <a:ext cx="3124080" cy="1743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47680" y="152280"/>
            <a:ext cx="343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Just As Easy</a:t>
            </a: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41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dd impact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ies an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1665360"/>
            <a:ext cx="19044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4320" y="1665360"/>
            <a:ext cx="19044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79440" y="1665360"/>
            <a:ext cx="19224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746360" y="1665360"/>
            <a:ext cx="19044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211480" y="1646280"/>
            <a:ext cx="19044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676600" y="1665360"/>
            <a:ext cx="19224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143160" y="1665360"/>
            <a:ext cx="190440" cy="16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346640" y="2236680"/>
            <a:ext cx="33703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47680" y="152280"/>
            <a:ext cx="343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Just 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dd impact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ies an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12840" y="2711520"/>
            <a:ext cx="2898720" cy="6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 text effec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Word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226120" y="336600"/>
            <a:ext cx="19350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346640" y="5105520"/>
            <a:ext cx="3710160" cy="15667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4346640" y="2236680"/>
            <a:ext cx="336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247680" y="152280"/>
            <a:ext cx="343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It’s Just 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dd impact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ies and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 text effect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ing Word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4920" y="3373560"/>
            <a:ext cx="14018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ip 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343400" y="5289480"/>
            <a:ext cx="3710160" cy="15667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5226120" y="336600"/>
            <a:ext cx="19350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4346640" y="2236680"/>
            <a:ext cx="3362400" cy="25192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3900600" y="2166840"/>
            <a:ext cx="884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You’re Looking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 your present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new look..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ly a differ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4010040" y="2260440"/>
            <a:ext cx="4416480" cy="3483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3413160" y="1779480"/>
            <a:ext cx="5664240" cy="47304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6467400" y="868320"/>
            <a:ext cx="1454040" cy="919080"/>
            <a:chOff x="6467400" y="868320"/>
            <a:chExt cx="1454040" cy="919080"/>
          </a:xfrm>
        </p:grpSpPr>
        <p:sp>
          <p:nvSpPr>
            <p:cNvPr id="483" name=""/>
            <p:cNvSpPr txBox="1"/>
            <p:nvPr/>
          </p:nvSpPr>
          <p:spPr>
            <a:xfrm>
              <a:off x="6467400" y="868320"/>
              <a:ext cx="145404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pply a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 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186680" y="1387440"/>
              <a:ext cx="0" cy="266760"/>
            </a:xfrm>
            <a:prstGeom prst="line">
              <a:avLst/>
            </a:prstGeom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20080" y="1663560"/>
              <a:ext cx="123840" cy="1238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 txBox="1"/>
          <p:nvPr/>
        </p:nvSpPr>
        <p:spPr>
          <a:xfrm>
            <a:off x="6953400" y="2200320"/>
            <a:ext cx="1522440" cy="2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ply Design Tem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You’re Looking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Templates guarantee a professionally-designed look for your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087800" y="2340000"/>
            <a:ext cx="4416480" cy="34830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247680" y="152280"/>
            <a:ext cx="3284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You’re Looking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Design Template comes with a choice of color sche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429000" y="1746360"/>
            <a:ext cx="5695920" cy="46735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674640" y="3371760"/>
            <a:ext cx="2639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us you can create y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247680" y="152280"/>
            <a:ext cx="31766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You’re Looking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e what color slides look like in black and whit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PowerPoint’s black-and-white 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075200" y="2365200"/>
            <a:ext cx="4497480" cy="3564000"/>
            <a:chOff x="4075200" y="2365200"/>
            <a:chExt cx="4497480" cy="3564000"/>
          </a:xfrm>
        </p:grpSpPr>
        <p:pic>
          <p:nvPicPr>
            <p:cNvPr id="506" name="" descr=""/>
            <p:cNvPicPr/>
            <p:nvPr/>
          </p:nvPicPr>
          <p:blipFill>
            <a:blip r:embed="rId1"/>
            <a:stretch/>
          </p:blipFill>
          <p:spPr>
            <a:xfrm>
              <a:off x="4075200" y="2365200"/>
              <a:ext cx="4416480" cy="34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4075200" y="2365200"/>
              <a:ext cx="4497480" cy="356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3413160" y="1779480"/>
            <a:ext cx="5664240" cy="47304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6305400" y="1278000"/>
            <a:ext cx="2062440" cy="557280"/>
            <a:chOff x="6305400" y="1278000"/>
            <a:chExt cx="2062440" cy="557280"/>
          </a:xfrm>
        </p:grpSpPr>
        <p:sp>
          <p:nvSpPr>
            <p:cNvPr id="513" name=""/>
            <p:cNvSpPr/>
            <p:nvPr/>
          </p:nvSpPr>
          <p:spPr>
            <a:xfrm flipV="1">
              <a:off x="8300880" y="1434960"/>
              <a:ext cx="0" cy="266760"/>
            </a:xfrm>
            <a:prstGeom prst="line">
              <a:avLst/>
            </a:prstGeom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244000" y="1711440"/>
              <a:ext cx="123840" cy="1238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6305400" y="1278000"/>
              <a:ext cx="1995480" cy="325440"/>
              <a:chOff x="6305400" y="1278000"/>
              <a:chExt cx="1995480" cy="325440"/>
            </a:xfrm>
          </p:grpSpPr>
          <p:sp>
            <p:nvSpPr>
              <p:cNvPr id="516" name=""/>
              <p:cNvSpPr txBox="1"/>
              <p:nvPr/>
            </p:nvSpPr>
            <p:spPr>
              <a:xfrm>
                <a:off x="6305400" y="1278000"/>
                <a:ext cx="1411200" cy="3254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cecece"/>
                </a:solidFill>
                <a:round/>
              </a:ln>
              <a:effectLst>
                <a:outerShdw dist="0" dir="0" blurRad="0" rotWithShape="0">
                  <a:srgbClr val="868686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lack and Wh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7696080" y="1434960"/>
                <a:ext cx="604800" cy="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"/>
          <p:cNvSpPr txBox="1"/>
          <p:nvPr/>
        </p:nvSpPr>
        <p:spPr>
          <a:xfrm>
            <a:off x="7886880" y="2249640"/>
            <a:ext cx="1190520" cy="270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&amp;W 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590400" y="754200"/>
            <a:ext cx="7904160" cy="521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at’s how easy it is 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o create             your           present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141800" y="2222640"/>
            <a:ext cx="16794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Here’s how PowerPoint 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an help you be 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even more effecti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owerPoint has everything             you need                             to easily create an effective       present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61840" y="831960"/>
            <a:ext cx="1486080" cy="12398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29120" y="2141640"/>
            <a:ext cx="1405080" cy="949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635880" y="4987800"/>
            <a:ext cx="1241280" cy="1095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 your not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script on PowerPoint’s notes pages to refer to as you sp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400640" y="2000160"/>
            <a:ext cx="3009960" cy="4400640"/>
            <a:chOff x="4400640" y="2000160"/>
            <a:chExt cx="3009960" cy="4400640"/>
          </a:xfrm>
        </p:grpSpPr>
        <p:grpSp>
          <p:nvGrpSpPr>
            <p:cNvPr id="531" name=""/>
            <p:cNvGrpSpPr/>
            <p:nvPr/>
          </p:nvGrpSpPr>
          <p:grpSpPr>
            <a:xfrm>
              <a:off x="4400640" y="2000160"/>
              <a:ext cx="3009960" cy="4400640"/>
              <a:chOff x="4400640" y="2000160"/>
              <a:chExt cx="3009960" cy="4400640"/>
            </a:xfrm>
          </p:grpSpPr>
          <p:sp>
            <p:nvSpPr>
              <p:cNvPr id="532" name=""/>
              <p:cNvSpPr/>
              <p:nvPr/>
            </p:nvSpPr>
            <p:spPr>
              <a:xfrm>
                <a:off x="4400640" y="2000160"/>
                <a:ext cx="3009960" cy="4400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9999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67280" y="2282760"/>
                <a:ext cx="1754280" cy="121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4" name=""/>
            <p:cNvSpPr txBox="1"/>
            <p:nvPr/>
          </p:nvSpPr>
          <p:spPr>
            <a:xfrm>
              <a:off x="4867200" y="3697200"/>
              <a:ext cx="237168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ype your script for your presentation here. You can print your notes pages and refer to them as you speak. Or, if you give your presentation over a network, you can display your slides to your audience on one computer and display your notes on the oth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831000" y="3276720"/>
            <a:ext cx="2081520" cy="507960"/>
            <a:chOff x="6831000" y="3276720"/>
            <a:chExt cx="2081520" cy="507960"/>
          </a:xfrm>
        </p:grpSpPr>
        <p:sp>
          <p:nvSpPr>
            <p:cNvPr id="536" name=""/>
            <p:cNvSpPr txBox="1"/>
            <p:nvPr/>
          </p:nvSpPr>
          <p:spPr>
            <a:xfrm>
              <a:off x="7313760" y="3276720"/>
              <a:ext cx="15987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he View menu,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Notes Pag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964200" y="3543480"/>
              <a:ext cx="349560" cy="0"/>
            </a:xfrm>
            <a:prstGeom prst="line">
              <a:avLst/>
            </a:prstGeom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31000" y="3476520"/>
              <a:ext cx="123840" cy="1238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itch to slide sorter view to get an overview of your presentation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and to move slides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809880" y="2133720"/>
            <a:ext cx="4210200" cy="3429000"/>
            <a:chOff x="3809880" y="2133720"/>
            <a:chExt cx="4210200" cy="3429000"/>
          </a:xfrm>
        </p:grpSpPr>
        <p:sp>
          <p:nvSpPr>
            <p:cNvPr id="545" name=""/>
            <p:cNvSpPr txBox="1"/>
            <p:nvPr/>
          </p:nvSpPr>
          <p:spPr>
            <a:xfrm>
              <a:off x="5478480" y="354636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7535880" y="356544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5478480" y="524196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7535880" y="5241960"/>
              <a:ext cx="282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9880" y="2133720"/>
              <a:ext cx="421020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" descr=""/>
            <p:cNvPicPr/>
            <p:nvPr/>
          </p:nvPicPr>
          <p:blipFill>
            <a:blip r:embed="rId1"/>
            <a:stretch/>
          </p:blipFill>
          <p:spPr>
            <a:xfrm>
              <a:off x="3960720" y="2306520"/>
              <a:ext cx="175572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" descr=""/>
            <p:cNvPicPr/>
            <p:nvPr/>
          </p:nvPicPr>
          <p:blipFill>
            <a:blip r:embed="rId2"/>
            <a:stretch/>
          </p:blipFill>
          <p:spPr>
            <a:xfrm>
              <a:off x="6072120" y="3940200"/>
              <a:ext cx="17542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3987720" y="3946680"/>
              <a:ext cx="17542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" descr=""/>
            <p:cNvPicPr/>
            <p:nvPr/>
          </p:nvPicPr>
          <p:blipFill>
            <a:blip r:embed="rId4"/>
            <a:stretch/>
          </p:blipFill>
          <p:spPr>
            <a:xfrm>
              <a:off x="6103800" y="2320920"/>
              <a:ext cx="1754280" cy="12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7045200" y="3419640"/>
            <a:ext cx="2081520" cy="507960"/>
            <a:chOff x="7045200" y="3419640"/>
            <a:chExt cx="2081520" cy="507960"/>
          </a:xfrm>
        </p:grpSpPr>
        <p:sp>
          <p:nvSpPr>
            <p:cNvPr id="558" name=""/>
            <p:cNvSpPr txBox="1"/>
            <p:nvPr/>
          </p:nvSpPr>
          <p:spPr>
            <a:xfrm>
              <a:off x="7527960" y="3419640"/>
              <a:ext cx="1598760" cy="507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he View menu,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Slide Sor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178760" y="3686040"/>
              <a:ext cx="349200" cy="0"/>
            </a:xfrm>
            <a:prstGeom prst="line">
              <a:avLst/>
            </a:prstGeom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45200" y="3619440"/>
              <a:ext cx="123840" cy="12384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PowerPoint’s rehearsal feature to practice and time your presentation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you can make your points without getting cut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4087800" y="2397240"/>
            <a:ext cx="4416480" cy="3483000"/>
          </a:xfrm>
          <a:prstGeom prst="rect">
            <a:avLst/>
          </a:prstGeom>
          <a:ln w="0">
            <a:noFill/>
          </a:ln>
        </p:spPr>
      </p:pic>
      <p:grpSp>
        <p:nvGrpSpPr>
          <p:cNvPr id="564" name=""/>
          <p:cNvGrpSpPr/>
          <p:nvPr/>
        </p:nvGrpSpPr>
        <p:grpSpPr>
          <a:xfrm>
            <a:off x="2854440" y="4479840"/>
            <a:ext cx="2971800" cy="690480"/>
            <a:chOff x="2854440" y="4479840"/>
            <a:chExt cx="2971800" cy="690480"/>
          </a:xfrm>
        </p:grpSpPr>
        <p:sp>
          <p:nvSpPr>
            <p:cNvPr id="565" name=""/>
            <p:cNvSpPr txBox="1"/>
            <p:nvPr/>
          </p:nvSpPr>
          <p:spPr>
            <a:xfrm>
              <a:off x="2854440" y="4479840"/>
              <a:ext cx="2284560" cy="69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he View menu,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Slide Show and then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Rehearse New Tim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5133960" y="4765680"/>
              <a:ext cx="692280" cy="123840"/>
              <a:chOff x="5133960" y="4765680"/>
              <a:chExt cx="692280" cy="123840"/>
            </a:xfrm>
          </p:grpSpPr>
          <p:sp>
            <p:nvSpPr>
              <p:cNvPr id="567" name=""/>
              <p:cNvSpPr/>
              <p:nvPr/>
            </p:nvSpPr>
            <p:spPr>
              <a:xfrm flipH="1">
                <a:off x="5133960" y="4832280"/>
                <a:ext cx="558720" cy="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702400" y="4765680"/>
                <a:ext cx="123840" cy="1238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900760" y="4660920"/>
            <a:ext cx="30002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 your audience focused during your slide show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animated effects on your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4087800" y="2397240"/>
            <a:ext cx="4416480" cy="34830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 txBox="1"/>
          <p:nvPr/>
        </p:nvSpPr>
        <p:spPr>
          <a:xfrm>
            <a:off x="4363920" y="2560680"/>
            <a:ext cx="37688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200" spc="-1" strike="noStrike">
                <a:solidFill>
                  <a:srgbClr val="00ae00"/>
                </a:solidFill>
                <a:latin typeface="Arial"/>
                <a:ea typeface="Arial"/>
              </a:rPr>
              <a:t>Quarterly Up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881600" y="3370320"/>
            <a:ext cx="2016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666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ic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881600" y="3808440"/>
            <a:ext cx="1384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666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881600" y="4170240"/>
            <a:ext cx="290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6680" indent="-166680">
              <a:lnSpc>
                <a:spcPct val="100000"/>
              </a:lnSpc>
              <a:spcBef>
                <a:spcPts val="479"/>
              </a:spcBef>
              <a:buClr>
                <a:srgbClr val="00ffcc"/>
              </a:buClr>
              <a:buSzPct val="75000"/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ed  Instrument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 backup information hand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hidden slides that don’t appear unless you need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616720" y="5348160"/>
            <a:ext cx="2349360" cy="1243080"/>
            <a:chOff x="5616720" y="5348160"/>
            <a:chExt cx="2349360" cy="1243080"/>
          </a:xfrm>
        </p:grpSpPr>
        <p:sp>
          <p:nvSpPr>
            <p:cNvPr id="586" name=""/>
            <p:cNvSpPr txBox="1"/>
            <p:nvPr/>
          </p:nvSpPr>
          <p:spPr>
            <a:xfrm>
              <a:off x="5616720" y="5718240"/>
              <a:ext cx="1660680" cy="873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the Tools menu, 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Hide Slide. This icon indicates a slide is hidd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7324560" y="5985000"/>
              <a:ext cx="559080" cy="0"/>
            </a:xfrm>
            <a:prstGeom prst="line">
              <a:avLst/>
            </a:prstGeom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7829640" y="5348160"/>
              <a:ext cx="136440" cy="652680"/>
              <a:chOff x="7829640" y="5348160"/>
              <a:chExt cx="136440" cy="652680"/>
            </a:xfrm>
          </p:grpSpPr>
          <p:sp>
            <p:nvSpPr>
              <p:cNvPr id="589" name=""/>
              <p:cNvSpPr/>
              <p:nvPr/>
            </p:nvSpPr>
            <p:spPr>
              <a:xfrm>
                <a:off x="7893000" y="5473800"/>
                <a:ext cx="0" cy="52704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829640" y="5348160"/>
                <a:ext cx="136440" cy="117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631280" y="5305320"/>
            <a:ext cx="144360" cy="17136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076800" y="3924360"/>
            <a:ext cx="1781280" cy="12384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809880" y="2133720"/>
            <a:ext cx="4210200" cy="3429000"/>
            <a:chOff x="3809880" y="2133720"/>
            <a:chExt cx="4210200" cy="3429000"/>
          </a:xfrm>
        </p:grpSpPr>
        <p:grpSp>
          <p:nvGrpSpPr>
            <p:cNvPr id="594" name=""/>
            <p:cNvGrpSpPr/>
            <p:nvPr/>
          </p:nvGrpSpPr>
          <p:grpSpPr>
            <a:xfrm>
              <a:off x="3809880" y="2133720"/>
              <a:ext cx="4210200" cy="3429000"/>
              <a:chOff x="3809880" y="2133720"/>
              <a:chExt cx="4210200" cy="34290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3960720" y="2306520"/>
                <a:ext cx="3857760" cy="3240360"/>
                <a:chOff x="3960720" y="2306520"/>
                <a:chExt cx="3857760" cy="3240360"/>
              </a:xfrm>
            </p:grpSpPr>
            <p:pic>
              <p:nvPicPr>
                <p:cNvPr id="59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60720" y="2306520"/>
                  <a:ext cx="1755720" cy="1216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7" name=""/>
                <p:cNvSpPr txBox="1"/>
                <p:nvPr/>
              </p:nvSpPr>
              <p:spPr>
                <a:xfrm>
                  <a:off x="5478480" y="3546360"/>
                  <a:ext cx="282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>
                  <a:off x="7535880" y="3565440"/>
                  <a:ext cx="282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 txBox="1"/>
                <p:nvPr/>
              </p:nvSpPr>
              <p:spPr>
                <a:xfrm>
                  <a:off x="5478480" y="5241960"/>
                  <a:ext cx="282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 txBox="1"/>
                <p:nvPr/>
              </p:nvSpPr>
              <p:spPr>
                <a:xfrm>
                  <a:off x="7535880" y="5241960"/>
                  <a:ext cx="2826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"/>
              <p:cNvSpPr/>
              <p:nvPr/>
            </p:nvSpPr>
            <p:spPr>
              <a:xfrm>
                <a:off x="3809880" y="2133720"/>
                <a:ext cx="4210200" cy="342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6072120" y="3940200"/>
              <a:ext cx="17542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" descr=""/>
            <p:cNvPicPr/>
            <p:nvPr/>
          </p:nvPicPr>
          <p:blipFill>
            <a:blip r:embed="rId4"/>
            <a:stretch/>
          </p:blipFill>
          <p:spPr>
            <a:xfrm>
              <a:off x="3987720" y="3946680"/>
              <a:ext cx="1754280" cy="12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" descr=""/>
            <p:cNvPicPr/>
            <p:nvPr/>
          </p:nvPicPr>
          <p:blipFill>
            <a:blip r:embed="rId5"/>
            <a:stretch/>
          </p:blipFill>
          <p:spPr>
            <a:xfrm>
              <a:off x="6103800" y="2320920"/>
              <a:ext cx="1754280" cy="121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5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a really polished presentation, use the Style Checker to identify common presentation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xt too sma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ides too wor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3724200" y="2008080"/>
            <a:ext cx="5114880" cy="2070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Now you’ve turned your ideas into a convincing presentation, you’re ready to take your show 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n the ro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283520" y="4727520"/>
            <a:ext cx="522360" cy="12542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757080" y="584280"/>
            <a:ext cx="7648560" cy="57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Use PowerPoint for all </a:t>
            </a:r>
            <a:br>
              <a:rPr sz="4800"/>
            </a:b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face-to-face business communication and not just formal stand up presentations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Let’s say you’re making an informal presentation to your department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...and you want to keep track of what people agree to do during your meeting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237360" y="4249800"/>
            <a:ext cx="1655640" cy="12762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Can 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r or black and whit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506760" y="1916280"/>
            <a:ext cx="514332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Effectiv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Meeting Minder to type a list of action items during the sh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4087800" y="2149560"/>
            <a:ext cx="4416480" cy="3483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2"/>
          <a:stretch/>
        </p:blipFill>
        <p:spPr>
          <a:xfrm>
            <a:off x="3419640" y="3070080"/>
            <a:ext cx="536400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36" name=""/>
          <p:cNvGrpSpPr/>
          <p:nvPr/>
        </p:nvGrpSpPr>
        <p:grpSpPr>
          <a:xfrm>
            <a:off x="503280" y="4216320"/>
            <a:ext cx="3106800" cy="690480"/>
            <a:chOff x="503280" y="4216320"/>
            <a:chExt cx="3106800" cy="690480"/>
          </a:xfrm>
        </p:grpSpPr>
        <p:sp>
          <p:nvSpPr>
            <p:cNvPr id="637" name=""/>
            <p:cNvSpPr txBox="1"/>
            <p:nvPr/>
          </p:nvSpPr>
          <p:spPr>
            <a:xfrm>
              <a:off x="503280" y="4216320"/>
              <a:ext cx="2300400" cy="690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cecece"/>
              </a:solidFill>
              <a:round/>
            </a:ln>
            <a:effectLst>
              <a:outerShdw dist="0" dir="0" blurRad="0" rotWithShape="0">
                <a:srgbClr val="868686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he right mouse butt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ile in Slide Show to se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eting Min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2806560" y="4513320"/>
              <a:ext cx="803520" cy="123840"/>
              <a:chOff x="2806560" y="4513320"/>
              <a:chExt cx="803520" cy="123840"/>
            </a:xfrm>
          </p:grpSpPr>
          <p:sp>
            <p:nvSpPr>
              <p:cNvPr id="639" name=""/>
              <p:cNvSpPr/>
              <p:nvPr/>
            </p:nvSpPr>
            <p:spPr>
              <a:xfrm flipH="1">
                <a:off x="2806560" y="4579920"/>
                <a:ext cx="669960" cy="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486240" y="4513320"/>
                <a:ext cx="123840" cy="1238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cecece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"/>
          <p:cNvSpPr txBox="1"/>
          <p:nvPr/>
        </p:nvSpPr>
        <p:spPr>
          <a:xfrm>
            <a:off x="3691080" y="4079880"/>
            <a:ext cx="1577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ket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de show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Effectiv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action items automatically appear as the last slide in your pres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087800" y="2397240"/>
            <a:ext cx="4416480" cy="348300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247680" y="15228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Effectiv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also use Meeting Minder to take notes during an electronic slide show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93960" y="1854360"/>
            <a:ext cx="5423040" cy="4834080"/>
            <a:chOff x="3693960" y="1854360"/>
            <a:chExt cx="5423040" cy="483408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93960" y="1854360"/>
              <a:ext cx="5423040" cy="483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" descr=""/>
            <p:cNvPicPr/>
            <p:nvPr/>
          </p:nvPicPr>
          <p:blipFill>
            <a:blip r:embed="rId2"/>
            <a:stretch/>
          </p:blipFill>
          <p:spPr>
            <a:xfrm>
              <a:off x="4087800" y="2473200"/>
              <a:ext cx="4416480" cy="348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6" name="" descr=""/>
          <p:cNvPicPr/>
          <p:nvPr/>
        </p:nvPicPr>
        <p:blipFill>
          <a:blip r:embed="rId3"/>
          <a:stretch/>
        </p:blipFill>
        <p:spPr>
          <a:xfrm>
            <a:off x="3373560" y="3040200"/>
            <a:ext cx="5369040" cy="380844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247680" y="152280"/>
            <a:ext cx="373392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Effective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, when you’re back at your desk, you can export your meeting minutes and action items to Microsof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3436920" y="1847880"/>
            <a:ext cx="5691240" cy="39909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Get ready for your next present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3895560" y="3705120"/>
            <a:ext cx="1655640" cy="12762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757080" y="719280"/>
            <a:ext cx="7648560" cy="54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se PowerPoint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d find out how easy </a:t>
            </a:r>
            <a:br>
              <a:rPr sz="4800"/>
            </a:br>
            <a:r>
              <a:rPr b="1" lang="en-US" sz="4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ffective communication can b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6076800" y="4287960"/>
            <a:ext cx="1803240" cy="16700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 txBox="1"/>
          <p:nvPr/>
        </p:nvSpPr>
        <p:spPr>
          <a:xfrm>
            <a:off x="841860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ffff"/>
                </a:solidFill>
                <a:latin typeface="Arial"/>
                <a:ea typeface="Arial"/>
              </a:rPr>
              <a:t>AGA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00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09600" y="1739880"/>
            <a:ext cx="3086280" cy="51166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r or black and whit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47680" y="13320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Can 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85840" y="2622600"/>
            <a:ext cx="2052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5mm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2135160"/>
            <a:ext cx="4826160" cy="3670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47680" y="13320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Can Cre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r or black and whit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5mm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ctronic presentations with multimedia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37080" y="1955880"/>
            <a:ext cx="3860640" cy="4000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332320" y="2349360"/>
            <a:ext cx="2286000" cy="135252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6365880" y="3262320"/>
            <a:ext cx="1012680" cy="71640"/>
            <a:chOff x="6365880" y="3262320"/>
            <a:chExt cx="1012680" cy="71640"/>
          </a:xfrm>
        </p:grpSpPr>
        <p:sp>
          <p:nvSpPr>
            <p:cNvPr id="298" name=""/>
            <p:cNvSpPr/>
            <p:nvPr/>
          </p:nvSpPr>
          <p:spPr>
            <a:xfrm>
              <a:off x="6365880" y="328284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7120" y="327672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72160" y="328464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69000" y="329580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64400" y="328140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61240" y="327024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58080" y="3262320"/>
              <a:ext cx="4608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53120" y="328464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49960" y="3300480"/>
              <a:ext cx="4608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6000" y="328788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31040" y="3276720"/>
              <a:ext cx="47520" cy="33480"/>
            </a:xfrm>
            <a:prstGeom prst="ellipse">
              <a:avLst/>
            </a:prstGeom>
            <a:solidFill>
              <a:srgbClr val="00cc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52280" y="152280"/>
            <a:ext cx="3448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nd, to support your presentation, you ca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 your script on notes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449600" y="1979640"/>
            <a:ext cx="3746520" cy="4876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66680" y="130320"/>
            <a:ext cx="343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nd, to support your presentation, you ca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 your script on notes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cecece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 handouts for you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346640" y="1979640"/>
            <a:ext cx="3746520" cy="4876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62000" y="122400"/>
            <a:ext cx="352260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, to support your presentation, you ca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739880"/>
            <a:ext cx="3086280" cy="5116680"/>
          </a:xfrm>
          <a:prstGeom prst="rect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ype your script on notes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 handouts for you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20"/>
              </a:spcBef>
              <a:buClr>
                <a:srgbClr val="00cc00"/>
              </a:buClr>
              <a:buSzPct val="10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 your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073400" y="1979640"/>
            <a:ext cx="3746520" cy="4876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8440560" y="1279440"/>
            <a:ext cx="544680" cy="268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NEX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427960" y="72540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BACK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427960" y="177840"/>
            <a:ext cx="569880" cy="29376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68686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  <a:ea typeface="Arial"/>
              </a:rPr>
              <a:t>EXIT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>Designed and Produced byPublishing Power, Inc.Los Altos, CA and Seattle, WAVideo clip provided by:  Four Palms, Inc.Music provided by:Cambium Development, Inc.Sounds provided by:  Network Music, Inc.</dc:description>
  <dc:language>en-US</dc:language>
  <cp:lastModifiedBy>Microsoft Corporation</cp:lastModifiedBy>
  <cp:revision>0</cp:revision>
  <dc:subject>Introduction to PowerPoint</dc:subject>
  <dc:title>PowerPoint Quick Preview</dc:title>
</cp:coreProperties>
</file>