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98600" y="6300720"/>
            <a:ext cx="667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oose Ungroup from the Draw menu to edit the flow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157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31800" y="517680"/>
              <a:ext cx="76262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9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Flow Char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74760" y="1600200"/>
            <a:ext cx="8369280" cy="4667400"/>
            <a:chOff x="374760" y="1600200"/>
            <a:chExt cx="8369280" cy="4667400"/>
          </a:xfrm>
        </p:grpSpPr>
        <p:sp>
          <p:nvSpPr>
            <p:cNvPr id="160" name=""/>
            <p:cNvSpPr/>
            <p:nvPr/>
          </p:nvSpPr>
          <p:spPr>
            <a:xfrm>
              <a:off x="374760" y="1600200"/>
              <a:ext cx="8369280" cy="466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105520" y="2344680"/>
              <a:ext cx="2895480" cy="1503360"/>
              <a:chOff x="5105520" y="2344680"/>
              <a:chExt cx="2895480" cy="1503360"/>
            </a:xfrm>
          </p:grpSpPr>
          <p:sp>
            <p:nvSpPr>
              <p:cNvPr id="162" name=""/>
              <p:cNvSpPr/>
              <p:nvPr/>
            </p:nvSpPr>
            <p:spPr>
              <a:xfrm>
                <a:off x="6141960" y="3490920"/>
                <a:ext cx="822240" cy="3571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6927840" y="3490920"/>
                <a:ext cx="1073160" cy="357120"/>
                <a:chOff x="6927840" y="3490920"/>
                <a:chExt cx="1073160" cy="357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6927840" y="356220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78760" y="3490920"/>
                  <a:ext cx="822240" cy="357120"/>
                </a:xfrm>
                <a:prstGeom prst="rect">
                  <a:avLst/>
                </a:prstGeom>
                <a:solidFill>
                  <a:srgbClr val="c00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178760" y="2917800"/>
                <a:ext cx="822240" cy="608400"/>
                <a:chOff x="7178760" y="2917800"/>
                <a:chExt cx="822240" cy="6084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7178760" y="2917800"/>
                  <a:ext cx="822240" cy="357120"/>
                </a:xfrm>
                <a:prstGeom prst="rect">
                  <a:avLst/>
                </a:pr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481880" y="327492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0" y="233"/>
                      </a:moveTo>
                      <a:lnTo>
                        <a:pt x="0" y="465"/>
                      </a:lnTo>
                      <a:lnTo>
                        <a:pt x="420" y="465"/>
                      </a:lnTo>
                      <a:lnTo>
                        <a:pt x="420" y="698"/>
                      </a:lnTo>
                      <a:lnTo>
                        <a:pt x="601" y="349"/>
                      </a:lnTo>
                      <a:lnTo>
                        <a:pt x="420" y="0"/>
                      </a:lnTo>
                      <a:lnTo>
                        <a:pt x="420" y="233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7178760" y="2344680"/>
                <a:ext cx="822240" cy="608400"/>
                <a:chOff x="7178760" y="2344680"/>
                <a:chExt cx="822240" cy="6084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7178760" y="2344680"/>
                  <a:ext cx="822240" cy="357120"/>
                </a:xfrm>
                <a:prstGeom prst="rect">
                  <a:avLst/>
                </a:prstGeom>
                <a:solidFill>
                  <a:srgbClr val="ff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81880" y="270180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0" y="233"/>
                      </a:moveTo>
                      <a:lnTo>
                        <a:pt x="0" y="465"/>
                      </a:lnTo>
                      <a:lnTo>
                        <a:pt x="420" y="465"/>
                      </a:lnTo>
                      <a:lnTo>
                        <a:pt x="420" y="698"/>
                      </a:lnTo>
                      <a:lnTo>
                        <a:pt x="601" y="349"/>
                      </a:lnTo>
                      <a:lnTo>
                        <a:pt x="420" y="0"/>
                      </a:lnTo>
                      <a:lnTo>
                        <a:pt x="420" y="233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ff8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5105520" y="3490920"/>
                <a:ext cx="1073520" cy="357120"/>
                <a:chOff x="5105520" y="3490920"/>
                <a:chExt cx="1073520" cy="357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105520" y="3490920"/>
                  <a:ext cx="822240" cy="357120"/>
                </a:xfrm>
                <a:prstGeom prst="rect">
                  <a:avLst/>
                </a:pr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927760" y="356220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00c0c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5105520" y="2917800"/>
                <a:ext cx="822240" cy="608400"/>
                <a:chOff x="5105520" y="2917800"/>
                <a:chExt cx="822240" cy="608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105520" y="2917800"/>
                  <a:ext cx="822240" cy="35712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08640" y="327492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0" y="233"/>
                      </a:moveTo>
                      <a:lnTo>
                        <a:pt x="0" y="465"/>
                      </a:lnTo>
                      <a:lnTo>
                        <a:pt x="420" y="465"/>
                      </a:lnTo>
                      <a:lnTo>
                        <a:pt x="420" y="698"/>
                      </a:lnTo>
                      <a:lnTo>
                        <a:pt x="601" y="349"/>
                      </a:lnTo>
                      <a:lnTo>
                        <a:pt x="420" y="0"/>
                      </a:lnTo>
                      <a:lnTo>
                        <a:pt x="420" y="233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5105520" y="2344680"/>
                <a:ext cx="822240" cy="608400"/>
                <a:chOff x="5105520" y="2344680"/>
                <a:chExt cx="822240" cy="6084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5105520" y="2344680"/>
                  <a:ext cx="822240" cy="357120"/>
                </a:xfrm>
                <a:prstGeom prst="rect">
                  <a:avLst/>
                </a:prstGeom>
                <a:solidFill>
                  <a:srgbClr val="8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408640" y="2701800"/>
                  <a:ext cx="216360" cy="251280"/>
                </a:xfrm>
                <a:custGeom>
                  <a:avLst/>
                  <a:gdLst/>
                  <a:ahLst/>
                  <a:rect l="0" t="0" r="r" b="b"/>
                  <a:pathLst>
                    <a:path w="601" h="698">
                      <a:moveTo>
                        <a:pt x="0" y="233"/>
                      </a:moveTo>
                      <a:lnTo>
                        <a:pt x="0" y="465"/>
                      </a:lnTo>
                      <a:lnTo>
                        <a:pt x="420" y="465"/>
                      </a:lnTo>
                      <a:lnTo>
                        <a:pt x="420" y="698"/>
                      </a:lnTo>
                      <a:lnTo>
                        <a:pt x="601" y="349"/>
                      </a:lnTo>
                      <a:lnTo>
                        <a:pt x="420" y="0"/>
                      </a:lnTo>
                      <a:lnTo>
                        <a:pt x="420" y="233"/>
                      </a:lnTo>
                      <a:lnTo>
                        <a:pt x="0" y="233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891040" y="2344680"/>
                <a:ext cx="1324440" cy="357120"/>
                <a:chOff x="5891040" y="2344680"/>
                <a:chExt cx="1324440" cy="357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5891040" y="241632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141960" y="2344680"/>
                  <a:ext cx="822240" cy="357120"/>
                </a:xfrm>
                <a:prstGeom prst="rect">
                  <a:avLst/>
                </a:pr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964200" y="2416320"/>
                  <a:ext cx="251280" cy="214560"/>
                </a:xfrm>
                <a:custGeom>
                  <a:avLst/>
                  <a:gdLst/>
                  <a:ahLst/>
                  <a:rect l="0" t="0" r="r" b="b"/>
                  <a:pathLst>
                    <a:path w="698" h="596">
                      <a:moveTo>
                        <a:pt x="0" y="198"/>
                      </a:moveTo>
                      <a:lnTo>
                        <a:pt x="0" y="397"/>
                      </a:lnTo>
                      <a:lnTo>
                        <a:pt x="488" y="397"/>
                      </a:lnTo>
                      <a:lnTo>
                        <a:pt x="488" y="596"/>
                      </a:lnTo>
                      <a:lnTo>
                        <a:pt x="698" y="297"/>
                      </a:lnTo>
                      <a:lnTo>
                        <a:pt x="488" y="0"/>
                      </a:lnTo>
                      <a:lnTo>
                        <a:pt x="488" y="198"/>
                      </a:lnTo>
                      <a:lnTo>
                        <a:pt x="0" y="198"/>
                      </a:lnTo>
                      <a:close/>
                    </a:path>
                  </a:pathLst>
                </a:custGeom>
                <a:solidFill>
                  <a:srgbClr val="80ff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"/>
            <p:cNvSpPr txBox="1"/>
            <p:nvPr/>
          </p:nvSpPr>
          <p:spPr>
            <a:xfrm>
              <a:off x="746280" y="2344680"/>
              <a:ext cx="4282920" cy="137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ck the components you want then  rearrange them to fit your nee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Scale command to resize your char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way, the text will resize too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49320" y="4680000"/>
              <a:ext cx="7170840" cy="925560"/>
              <a:chOff x="949320" y="4680000"/>
              <a:chExt cx="7170840" cy="925560"/>
            </a:xfrm>
          </p:grpSpPr>
          <p:sp>
            <p:nvSpPr>
              <p:cNvPr id="187" name=""/>
              <p:cNvSpPr txBox="1"/>
              <p:nvPr/>
            </p:nvSpPr>
            <p:spPr>
              <a:xfrm>
                <a:off x="6037200" y="4680000"/>
                <a:ext cx="2082960" cy="9255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n add yo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wn text!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3494160" y="4680000"/>
                <a:ext cx="2621160" cy="925560"/>
                <a:chOff x="3494160" y="4680000"/>
                <a:chExt cx="2621160" cy="925560"/>
              </a:xfrm>
            </p:grpSpPr>
            <p:sp>
              <p:nvSpPr>
                <p:cNvPr id="189" name=""/>
                <p:cNvSpPr txBox="1"/>
                <p:nvPr/>
              </p:nvSpPr>
              <p:spPr>
                <a:xfrm>
                  <a:off x="3494160" y="4680000"/>
                  <a:ext cx="2081160" cy="925560"/>
                </a:xfrm>
                <a:prstGeom prst="rect">
                  <a:avLst/>
                </a:prstGeom>
                <a:solidFill>
                  <a:srgbClr val="00b7a5"/>
                </a:solidFill>
                <a:ln w="0">
                  <a:noFill/>
                </a:ln>
                <a:effectLst>
                  <a:outerShdw dist="0" dir="0" blurRad="0" rotWithShape="0">
                    <a:srgbClr val="919191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arrange them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o create you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low cha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575320" y="4930920"/>
                  <a:ext cx="540000" cy="460800"/>
                </a:xfrm>
                <a:custGeom>
                  <a:avLst/>
                  <a:gdLst/>
                  <a:ahLst/>
                  <a:rect l="0" t="0" r="r" b="b"/>
                  <a:pathLst>
                    <a:path w="1500" h="1280">
                      <a:moveTo>
                        <a:pt x="0" y="426"/>
                      </a:moveTo>
                      <a:lnTo>
                        <a:pt x="0" y="852"/>
                      </a:lnTo>
                      <a:lnTo>
                        <a:pt x="1050" y="852"/>
                      </a:lnTo>
                      <a:lnTo>
                        <a:pt x="1050" y="1280"/>
                      </a:lnTo>
                      <a:lnTo>
                        <a:pt x="1500" y="640"/>
                      </a:lnTo>
                      <a:lnTo>
                        <a:pt x="1050" y="0"/>
                      </a:lnTo>
                      <a:lnTo>
                        <a:pt x="1050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949320" y="4680000"/>
                <a:ext cx="2622960" cy="925560"/>
                <a:chOff x="949320" y="4680000"/>
                <a:chExt cx="2622960" cy="925560"/>
              </a:xfrm>
            </p:grpSpPr>
            <p:sp>
              <p:nvSpPr>
                <p:cNvPr id="192" name=""/>
                <p:cNvSpPr txBox="1"/>
                <p:nvPr/>
              </p:nvSpPr>
              <p:spPr>
                <a:xfrm>
                  <a:off x="949320" y="4680000"/>
                  <a:ext cx="2082960" cy="925560"/>
                </a:xfrm>
                <a:prstGeom prst="rect">
                  <a:avLst/>
                </a:prstGeom>
                <a:solidFill>
                  <a:srgbClr val="fcfeb9"/>
                </a:solidFill>
                <a:ln w="0">
                  <a:noFill/>
                </a:ln>
                <a:effectLst>
                  <a:outerShdw dist="0" dir="0" blurRad="0" rotWithShape="0">
                    <a:srgbClr val="919191"/>
                  </a:outerShdw>
                </a:effectLst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hoose th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odu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you wan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032280" y="4930920"/>
                  <a:ext cx="540000" cy="460800"/>
                </a:xfrm>
                <a:custGeom>
                  <a:avLst/>
                  <a:gdLst/>
                  <a:ahLst/>
                  <a:rect l="0" t="0" r="r" b="b"/>
                  <a:pathLst>
                    <a:path w="1500" h="1280">
                      <a:moveTo>
                        <a:pt x="0" y="426"/>
                      </a:moveTo>
                      <a:lnTo>
                        <a:pt x="0" y="852"/>
                      </a:lnTo>
                      <a:lnTo>
                        <a:pt x="1050" y="852"/>
                      </a:lnTo>
                      <a:lnTo>
                        <a:pt x="1050" y="1280"/>
                      </a:lnTo>
                      <a:lnTo>
                        <a:pt x="1500" y="640"/>
                      </a:lnTo>
                      <a:lnTo>
                        <a:pt x="1050" y="0"/>
                      </a:lnTo>
                      <a:lnTo>
                        <a:pt x="1050" y="426"/>
                      </a:lnTo>
                      <a:lnTo>
                        <a:pt x="0" y="426"/>
                      </a:lnTo>
                      <a:close/>
                    </a:path>
                  </a:pathLst>
                </a:custGeom>
                <a:solidFill>
                  <a:srgbClr val="fcfe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74760" y="324000"/>
            <a:ext cx="3949560" cy="109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1040" y="4190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4560" y="795240"/>
            <a:ext cx="3468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flow charts are easy to create using modular compon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" y="1936800"/>
            <a:ext cx="1828800" cy="1568160"/>
            <a:chOff x="685800" y="1936800"/>
            <a:chExt cx="1828800" cy="1568160"/>
          </a:xfrm>
        </p:grpSpPr>
        <p:sp>
          <p:nvSpPr>
            <p:cNvPr id="199" name=""/>
            <p:cNvSpPr/>
            <p:nvPr/>
          </p:nvSpPr>
          <p:spPr>
            <a:xfrm>
              <a:off x="685800" y="3132000"/>
              <a:ext cx="8589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55640" y="3132000"/>
              <a:ext cx="858960" cy="37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685800" y="2533680"/>
              <a:ext cx="858960" cy="635400"/>
              <a:chOff x="685800" y="2533680"/>
              <a:chExt cx="858960" cy="635400"/>
            </a:xfrm>
          </p:grpSpPr>
          <p:sp>
            <p:nvSpPr>
              <p:cNvPr id="202" name=""/>
              <p:cNvSpPr/>
              <p:nvPr/>
            </p:nvSpPr>
            <p:spPr>
              <a:xfrm>
                <a:off x="685800" y="2533680"/>
                <a:ext cx="858960" cy="37476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03320" y="2908440"/>
                <a:ext cx="224280" cy="260640"/>
              </a:xfrm>
              <a:custGeom>
                <a:avLst/>
                <a:gdLst/>
                <a:ahLst/>
                <a:rect l="0" t="0" r="r" b="b"/>
                <a:pathLst>
                  <a:path w="623" h="724">
                    <a:moveTo>
                      <a:pt x="0" y="240"/>
                    </a:moveTo>
                    <a:lnTo>
                      <a:pt x="0" y="482"/>
                    </a:lnTo>
                    <a:lnTo>
                      <a:pt x="436" y="482"/>
                    </a:lnTo>
                    <a:lnTo>
                      <a:pt x="436" y="724"/>
                    </a:lnTo>
                    <a:lnTo>
                      <a:pt x="623" y="361"/>
                    </a:lnTo>
                    <a:lnTo>
                      <a:pt x="436" y="0"/>
                    </a:lnTo>
                    <a:lnTo>
                      <a:pt x="436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655640" y="2533680"/>
              <a:ext cx="858960" cy="635400"/>
              <a:chOff x="1655640" y="2533680"/>
              <a:chExt cx="858960" cy="635400"/>
            </a:xfrm>
          </p:grpSpPr>
          <p:sp>
            <p:nvSpPr>
              <p:cNvPr id="205" name=""/>
              <p:cNvSpPr/>
              <p:nvPr/>
            </p:nvSpPr>
            <p:spPr>
              <a:xfrm>
                <a:off x="1655640" y="2533680"/>
                <a:ext cx="858960" cy="37476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973160" y="2908440"/>
                <a:ext cx="224280" cy="260640"/>
              </a:xfrm>
              <a:custGeom>
                <a:avLst/>
                <a:gdLst/>
                <a:ahLst/>
                <a:rect l="0" t="0" r="r" b="b"/>
                <a:pathLst>
                  <a:path w="623" h="724">
                    <a:moveTo>
                      <a:pt x="0" y="240"/>
                    </a:moveTo>
                    <a:lnTo>
                      <a:pt x="0" y="482"/>
                    </a:lnTo>
                    <a:lnTo>
                      <a:pt x="436" y="482"/>
                    </a:lnTo>
                    <a:lnTo>
                      <a:pt x="436" y="724"/>
                    </a:lnTo>
                    <a:lnTo>
                      <a:pt x="623" y="361"/>
                    </a:lnTo>
                    <a:lnTo>
                      <a:pt x="436" y="0"/>
                    </a:lnTo>
                    <a:lnTo>
                      <a:pt x="436" y="2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5800" y="1936800"/>
              <a:ext cx="1828800" cy="635400"/>
              <a:chOff x="685800" y="1936800"/>
              <a:chExt cx="1828800" cy="635400"/>
            </a:xfrm>
          </p:grpSpPr>
          <p:sp>
            <p:nvSpPr>
              <p:cNvPr id="208" name=""/>
              <p:cNvSpPr/>
              <p:nvPr/>
            </p:nvSpPr>
            <p:spPr>
              <a:xfrm>
                <a:off x="685800" y="1936800"/>
                <a:ext cx="1828800" cy="37296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03320" y="2309760"/>
                <a:ext cx="224280" cy="262440"/>
              </a:xfrm>
              <a:custGeom>
                <a:avLst/>
                <a:gdLst/>
                <a:ahLst/>
                <a:rect l="0" t="0" r="r" b="b"/>
                <a:pathLst>
                  <a:path w="623" h="729">
                    <a:moveTo>
                      <a:pt x="0" y="243"/>
                    </a:moveTo>
                    <a:lnTo>
                      <a:pt x="0" y="485"/>
                    </a:lnTo>
                    <a:lnTo>
                      <a:pt x="436" y="485"/>
                    </a:lnTo>
                    <a:lnTo>
                      <a:pt x="436" y="729"/>
                    </a:lnTo>
                    <a:lnTo>
                      <a:pt x="623" y="364"/>
                    </a:lnTo>
                    <a:lnTo>
                      <a:pt x="436" y="0"/>
                    </a:lnTo>
                    <a:lnTo>
                      <a:pt x="436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73160" y="2309760"/>
                <a:ext cx="224280" cy="262440"/>
              </a:xfrm>
              <a:custGeom>
                <a:avLst/>
                <a:gdLst/>
                <a:ahLst/>
                <a:rect l="0" t="0" r="r" b="b"/>
                <a:pathLst>
                  <a:path w="623" h="729">
                    <a:moveTo>
                      <a:pt x="0" y="243"/>
                    </a:moveTo>
                    <a:lnTo>
                      <a:pt x="0" y="485"/>
                    </a:lnTo>
                    <a:lnTo>
                      <a:pt x="436" y="485"/>
                    </a:lnTo>
                    <a:lnTo>
                      <a:pt x="436" y="729"/>
                    </a:lnTo>
                    <a:lnTo>
                      <a:pt x="623" y="364"/>
                    </a:lnTo>
                    <a:lnTo>
                      <a:pt x="436" y="0"/>
                    </a:lnTo>
                    <a:lnTo>
                      <a:pt x="436" y="243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3213000" y="2209680"/>
            <a:ext cx="3098880" cy="1581480"/>
            <a:chOff x="3213000" y="2209680"/>
            <a:chExt cx="3098880" cy="1581480"/>
          </a:xfrm>
        </p:grpSpPr>
        <p:sp>
          <p:nvSpPr>
            <p:cNvPr id="212" name=""/>
            <p:cNvSpPr/>
            <p:nvPr/>
          </p:nvSpPr>
          <p:spPr>
            <a:xfrm>
              <a:off x="4322880" y="2209680"/>
              <a:ext cx="879480" cy="382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22880" y="3408480"/>
              <a:ext cx="879480" cy="38268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32400" y="2793960"/>
              <a:ext cx="879480" cy="384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213000" y="2793960"/>
              <a:ext cx="879480" cy="384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054320" y="2525760"/>
              <a:ext cx="1416600" cy="920880"/>
              <a:chOff x="4054320" y="2525760"/>
              <a:chExt cx="1416600" cy="920880"/>
            </a:xfrm>
          </p:grpSpPr>
          <p:sp>
            <p:nvSpPr>
              <p:cNvPr id="217" name=""/>
              <p:cNvSpPr/>
              <p:nvPr/>
            </p:nvSpPr>
            <p:spPr>
              <a:xfrm>
                <a:off x="4054320" y="2871720"/>
                <a:ext cx="268560" cy="228960"/>
              </a:xfrm>
              <a:custGeom>
                <a:avLst/>
                <a:gdLst/>
                <a:ahLst/>
                <a:rect l="0" t="0" r="r" b="b"/>
                <a:pathLst>
                  <a:path w="746" h="636">
                    <a:moveTo>
                      <a:pt x="0" y="211"/>
                    </a:moveTo>
                    <a:lnTo>
                      <a:pt x="0" y="423"/>
                    </a:lnTo>
                    <a:lnTo>
                      <a:pt x="522" y="423"/>
                    </a:lnTo>
                    <a:lnTo>
                      <a:pt x="522" y="636"/>
                    </a:lnTo>
                    <a:lnTo>
                      <a:pt x="746" y="317"/>
                    </a:lnTo>
                    <a:lnTo>
                      <a:pt x="522" y="0"/>
                    </a:lnTo>
                    <a:lnTo>
                      <a:pt x="522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648320" y="25257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0" y="248"/>
                    </a:moveTo>
                    <a:lnTo>
                      <a:pt x="0" y="497"/>
                    </a:lnTo>
                    <a:lnTo>
                      <a:pt x="445" y="497"/>
                    </a:lnTo>
                    <a:lnTo>
                      <a:pt x="445" y="746"/>
                    </a:lnTo>
                    <a:lnTo>
                      <a:pt x="636" y="372"/>
                    </a:lnTo>
                    <a:lnTo>
                      <a:pt x="445" y="0"/>
                    </a:lnTo>
                    <a:lnTo>
                      <a:pt x="445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22880" y="2793960"/>
                <a:ext cx="879480" cy="38412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02360" y="2871720"/>
                <a:ext cx="268560" cy="228960"/>
              </a:xfrm>
              <a:custGeom>
                <a:avLst/>
                <a:gdLst/>
                <a:ahLst/>
                <a:rect l="0" t="0" r="r" b="b"/>
                <a:pathLst>
                  <a:path w="746" h="636">
                    <a:moveTo>
                      <a:pt x="0" y="211"/>
                    </a:moveTo>
                    <a:lnTo>
                      <a:pt x="0" y="423"/>
                    </a:lnTo>
                    <a:lnTo>
                      <a:pt x="522" y="423"/>
                    </a:lnTo>
                    <a:lnTo>
                      <a:pt x="522" y="636"/>
                    </a:lnTo>
                    <a:lnTo>
                      <a:pt x="746" y="317"/>
                    </a:lnTo>
                    <a:lnTo>
                      <a:pt x="522" y="0"/>
                    </a:lnTo>
                    <a:lnTo>
                      <a:pt x="522" y="21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48320" y="317808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0" y="248"/>
                    </a:moveTo>
                    <a:lnTo>
                      <a:pt x="0" y="497"/>
                    </a:lnTo>
                    <a:lnTo>
                      <a:pt x="445" y="497"/>
                    </a:lnTo>
                    <a:lnTo>
                      <a:pt x="445" y="746"/>
                    </a:lnTo>
                    <a:lnTo>
                      <a:pt x="636" y="372"/>
                    </a:lnTo>
                    <a:lnTo>
                      <a:pt x="445" y="0"/>
                    </a:lnTo>
                    <a:lnTo>
                      <a:pt x="445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5562720" y="609480"/>
            <a:ext cx="2895480" cy="2249640"/>
            <a:chOff x="5562720" y="609480"/>
            <a:chExt cx="2895480" cy="2249640"/>
          </a:xfrm>
        </p:grpSpPr>
        <p:sp>
          <p:nvSpPr>
            <p:cNvPr id="223" name=""/>
            <p:cNvSpPr/>
            <p:nvPr/>
          </p:nvSpPr>
          <p:spPr>
            <a:xfrm>
              <a:off x="5562720" y="125748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53080" y="186840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81960" y="2478240"/>
              <a:ext cx="8762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581960" y="1868400"/>
              <a:ext cx="876240" cy="648360"/>
              <a:chOff x="7581960" y="1868400"/>
              <a:chExt cx="876240" cy="648360"/>
            </a:xfrm>
          </p:grpSpPr>
          <p:sp>
            <p:nvSpPr>
              <p:cNvPr id="227" name=""/>
              <p:cNvSpPr/>
              <p:nvPr/>
            </p:nvSpPr>
            <p:spPr>
              <a:xfrm>
                <a:off x="7581960" y="1868400"/>
                <a:ext cx="876240" cy="3808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05600" y="2249640"/>
                <a:ext cx="230400" cy="267120"/>
              </a:xfrm>
              <a:custGeom>
                <a:avLst/>
                <a:gdLst/>
                <a:ahLst/>
                <a:rect l="0" t="0" r="r" b="b"/>
                <a:pathLst>
                  <a:path w="640" h="742">
                    <a:moveTo>
                      <a:pt x="0" y="247"/>
                    </a:moveTo>
                    <a:lnTo>
                      <a:pt x="0" y="494"/>
                    </a:lnTo>
                    <a:lnTo>
                      <a:pt x="448" y="494"/>
                    </a:lnTo>
                    <a:lnTo>
                      <a:pt x="448" y="742"/>
                    </a:lnTo>
                    <a:lnTo>
                      <a:pt x="640" y="371"/>
                    </a:lnTo>
                    <a:lnTo>
                      <a:pt x="448" y="0"/>
                    </a:lnTo>
                    <a:lnTo>
                      <a:pt x="448" y="247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553080" y="1257480"/>
              <a:ext cx="1866960" cy="649440"/>
              <a:chOff x="6553080" y="1257480"/>
              <a:chExt cx="1866960" cy="649440"/>
            </a:xfrm>
          </p:grpSpPr>
          <p:sp>
            <p:nvSpPr>
              <p:cNvPr id="230" name=""/>
              <p:cNvSpPr/>
              <p:nvPr/>
            </p:nvSpPr>
            <p:spPr>
              <a:xfrm>
                <a:off x="6553080" y="1257480"/>
                <a:ext cx="1866960" cy="3808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77080" y="16383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0" y="248"/>
                    </a:moveTo>
                    <a:lnTo>
                      <a:pt x="0" y="497"/>
                    </a:lnTo>
                    <a:lnTo>
                      <a:pt x="445" y="497"/>
                    </a:lnTo>
                    <a:lnTo>
                      <a:pt x="445" y="746"/>
                    </a:lnTo>
                    <a:lnTo>
                      <a:pt x="636" y="372"/>
                    </a:lnTo>
                    <a:lnTo>
                      <a:pt x="445" y="0"/>
                    </a:lnTo>
                    <a:lnTo>
                      <a:pt x="445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67800" y="1638360"/>
                <a:ext cx="228960" cy="268560"/>
              </a:xfrm>
              <a:custGeom>
                <a:avLst/>
                <a:gdLst/>
                <a:ahLst/>
                <a:rect l="0" t="0" r="r" b="b"/>
                <a:pathLst>
                  <a:path w="636" h="746">
                    <a:moveTo>
                      <a:pt x="0" y="248"/>
                    </a:moveTo>
                    <a:lnTo>
                      <a:pt x="0" y="497"/>
                    </a:lnTo>
                    <a:lnTo>
                      <a:pt x="445" y="497"/>
                    </a:lnTo>
                    <a:lnTo>
                      <a:pt x="445" y="746"/>
                    </a:lnTo>
                    <a:lnTo>
                      <a:pt x="636" y="372"/>
                    </a:lnTo>
                    <a:lnTo>
                      <a:pt x="445" y="0"/>
                    </a:lnTo>
                    <a:lnTo>
                      <a:pt x="445" y="248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562720" y="609480"/>
              <a:ext cx="2857680" cy="648360"/>
              <a:chOff x="5562720" y="609480"/>
              <a:chExt cx="2857680" cy="648360"/>
            </a:xfrm>
          </p:grpSpPr>
          <p:sp>
            <p:nvSpPr>
              <p:cNvPr id="234" name=""/>
              <p:cNvSpPr/>
              <p:nvPr/>
            </p:nvSpPr>
            <p:spPr>
              <a:xfrm>
                <a:off x="5562720" y="609480"/>
                <a:ext cx="2857680" cy="3808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84920" y="990720"/>
                <a:ext cx="230400" cy="267120"/>
              </a:xfrm>
              <a:custGeom>
                <a:avLst/>
                <a:gdLst/>
                <a:ahLst/>
                <a:rect l="0" t="0" r="r" b="b"/>
                <a:pathLst>
                  <a:path w="640" h="742">
                    <a:moveTo>
                      <a:pt x="0" y="247"/>
                    </a:moveTo>
                    <a:lnTo>
                      <a:pt x="0" y="494"/>
                    </a:lnTo>
                    <a:lnTo>
                      <a:pt x="448" y="494"/>
                    </a:lnTo>
                    <a:lnTo>
                      <a:pt x="448" y="742"/>
                    </a:lnTo>
                    <a:lnTo>
                      <a:pt x="640" y="371"/>
                    </a:lnTo>
                    <a:lnTo>
                      <a:pt x="448" y="0"/>
                    </a:lnTo>
                    <a:lnTo>
                      <a:pt x="448" y="247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77080" y="990720"/>
                <a:ext cx="228960" cy="267120"/>
              </a:xfrm>
              <a:custGeom>
                <a:avLst/>
                <a:gdLst/>
                <a:ahLst/>
                <a:rect l="0" t="0" r="r" b="b"/>
                <a:pathLst>
                  <a:path w="636" h="742">
                    <a:moveTo>
                      <a:pt x="0" y="247"/>
                    </a:moveTo>
                    <a:lnTo>
                      <a:pt x="0" y="494"/>
                    </a:lnTo>
                    <a:lnTo>
                      <a:pt x="445" y="494"/>
                    </a:lnTo>
                    <a:lnTo>
                      <a:pt x="445" y="742"/>
                    </a:lnTo>
                    <a:lnTo>
                      <a:pt x="636" y="371"/>
                    </a:lnTo>
                    <a:lnTo>
                      <a:pt x="445" y="0"/>
                    </a:lnTo>
                    <a:lnTo>
                      <a:pt x="445" y="247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67800" y="990720"/>
                <a:ext cx="228960" cy="267120"/>
              </a:xfrm>
              <a:custGeom>
                <a:avLst/>
                <a:gdLst/>
                <a:ahLst/>
                <a:rect l="0" t="0" r="r" b="b"/>
                <a:pathLst>
                  <a:path w="636" h="742">
                    <a:moveTo>
                      <a:pt x="0" y="247"/>
                    </a:moveTo>
                    <a:lnTo>
                      <a:pt x="0" y="494"/>
                    </a:lnTo>
                    <a:lnTo>
                      <a:pt x="445" y="494"/>
                    </a:lnTo>
                    <a:lnTo>
                      <a:pt x="445" y="742"/>
                    </a:lnTo>
                    <a:lnTo>
                      <a:pt x="636" y="371"/>
                    </a:lnTo>
                    <a:lnTo>
                      <a:pt x="445" y="0"/>
                    </a:lnTo>
                    <a:lnTo>
                      <a:pt x="445" y="247"/>
                    </a:lnTo>
                    <a:lnTo>
                      <a:pt x="0" y="247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1143000" y="4038480"/>
            <a:ext cx="3300480" cy="2362320"/>
            <a:chOff x="1143000" y="4038480"/>
            <a:chExt cx="3300480" cy="2362320"/>
          </a:xfrm>
        </p:grpSpPr>
        <p:sp>
          <p:nvSpPr>
            <p:cNvPr id="239" name=""/>
            <p:cNvSpPr/>
            <p:nvPr/>
          </p:nvSpPr>
          <p:spPr>
            <a:xfrm>
              <a:off x="2325600" y="5992920"/>
              <a:ext cx="934920" cy="407880"/>
            </a:xfrm>
            <a:prstGeom prst="rect">
              <a:avLst/>
            </a:pr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1143000" y="5992920"/>
              <a:ext cx="1222560" cy="407880"/>
              <a:chOff x="1143000" y="5992920"/>
              <a:chExt cx="1222560" cy="407880"/>
            </a:xfrm>
          </p:grpSpPr>
          <p:sp>
            <p:nvSpPr>
              <p:cNvPr id="241" name=""/>
              <p:cNvSpPr/>
              <p:nvPr/>
            </p:nvSpPr>
            <p:spPr>
              <a:xfrm>
                <a:off x="1143000" y="5992920"/>
                <a:ext cx="9381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081160" y="6075360"/>
                <a:ext cx="284400" cy="244800"/>
              </a:xfrm>
              <a:custGeom>
                <a:avLst/>
                <a:gdLst/>
                <a:ahLst/>
                <a:rect l="0" t="0" r="r" b="b"/>
                <a:pathLst>
                  <a:path w="790" h="680">
                    <a:moveTo>
                      <a:pt x="0" y="226"/>
                    </a:moveTo>
                    <a:lnTo>
                      <a:pt x="0" y="453"/>
                    </a:lnTo>
                    <a:lnTo>
                      <a:pt x="553" y="453"/>
                    </a:lnTo>
                    <a:lnTo>
                      <a:pt x="553" y="680"/>
                    </a:lnTo>
                    <a:lnTo>
                      <a:pt x="790" y="339"/>
                    </a:lnTo>
                    <a:lnTo>
                      <a:pt x="553" y="0"/>
                    </a:lnTo>
                    <a:lnTo>
                      <a:pt x="553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220920" y="5992920"/>
              <a:ext cx="1222560" cy="407880"/>
              <a:chOff x="3220920" y="5992920"/>
              <a:chExt cx="1222560" cy="407880"/>
            </a:xfrm>
          </p:grpSpPr>
          <p:sp>
            <p:nvSpPr>
              <p:cNvPr id="244" name=""/>
              <p:cNvSpPr/>
              <p:nvPr/>
            </p:nvSpPr>
            <p:spPr>
              <a:xfrm>
                <a:off x="3220920" y="6075360"/>
                <a:ext cx="284400" cy="244800"/>
              </a:xfrm>
              <a:custGeom>
                <a:avLst/>
                <a:gdLst/>
                <a:ahLst/>
                <a:rect l="0" t="0" r="r" b="b"/>
                <a:pathLst>
                  <a:path w="790" h="680">
                    <a:moveTo>
                      <a:pt x="0" y="226"/>
                    </a:moveTo>
                    <a:lnTo>
                      <a:pt x="0" y="453"/>
                    </a:lnTo>
                    <a:lnTo>
                      <a:pt x="553" y="453"/>
                    </a:lnTo>
                    <a:lnTo>
                      <a:pt x="553" y="680"/>
                    </a:lnTo>
                    <a:lnTo>
                      <a:pt x="790" y="339"/>
                    </a:lnTo>
                    <a:lnTo>
                      <a:pt x="553" y="0"/>
                    </a:lnTo>
                    <a:lnTo>
                      <a:pt x="553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05320" y="5992920"/>
                <a:ext cx="938160" cy="40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346040" y="5342040"/>
              <a:ext cx="938160" cy="692640"/>
              <a:chOff x="1346040" y="5342040"/>
              <a:chExt cx="938160" cy="692640"/>
            </a:xfrm>
          </p:grpSpPr>
          <p:sp>
            <p:nvSpPr>
              <p:cNvPr id="247" name=""/>
              <p:cNvSpPr/>
              <p:nvPr/>
            </p:nvSpPr>
            <p:spPr>
              <a:xfrm>
                <a:off x="1346040" y="5342040"/>
                <a:ext cx="938160" cy="40644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692360" y="5748480"/>
                <a:ext cx="244800" cy="286200"/>
              </a:xfrm>
              <a:custGeom>
                <a:avLst/>
                <a:gdLst/>
                <a:ahLst/>
                <a:rect l="0" t="0" r="r" b="b"/>
                <a:pathLst>
                  <a:path w="680" h="795">
                    <a:moveTo>
                      <a:pt x="0" y="265"/>
                    </a:moveTo>
                    <a:lnTo>
                      <a:pt x="0" y="529"/>
                    </a:lnTo>
                    <a:lnTo>
                      <a:pt x="476" y="529"/>
                    </a:lnTo>
                    <a:lnTo>
                      <a:pt x="476" y="795"/>
                    </a:lnTo>
                    <a:lnTo>
                      <a:pt x="680" y="397"/>
                    </a:lnTo>
                    <a:lnTo>
                      <a:pt x="476" y="0"/>
                    </a:lnTo>
                    <a:lnTo>
                      <a:pt x="476" y="265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301920" y="5342040"/>
              <a:ext cx="938160" cy="692640"/>
              <a:chOff x="3301920" y="5342040"/>
              <a:chExt cx="938160" cy="692640"/>
            </a:xfrm>
          </p:grpSpPr>
          <p:sp>
            <p:nvSpPr>
              <p:cNvPr id="250" name=""/>
              <p:cNvSpPr/>
              <p:nvPr/>
            </p:nvSpPr>
            <p:spPr>
              <a:xfrm>
                <a:off x="3301920" y="5342040"/>
                <a:ext cx="938160" cy="40644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49680" y="5748480"/>
                <a:ext cx="244800" cy="286200"/>
              </a:xfrm>
              <a:custGeom>
                <a:avLst/>
                <a:gdLst/>
                <a:ahLst/>
                <a:rect l="0" t="0" r="r" b="b"/>
                <a:pathLst>
                  <a:path w="680" h="795">
                    <a:moveTo>
                      <a:pt x="0" y="265"/>
                    </a:moveTo>
                    <a:lnTo>
                      <a:pt x="0" y="529"/>
                    </a:lnTo>
                    <a:lnTo>
                      <a:pt x="476" y="529"/>
                    </a:lnTo>
                    <a:lnTo>
                      <a:pt x="476" y="795"/>
                    </a:lnTo>
                    <a:lnTo>
                      <a:pt x="680" y="397"/>
                    </a:lnTo>
                    <a:lnTo>
                      <a:pt x="476" y="0"/>
                    </a:lnTo>
                    <a:lnTo>
                      <a:pt x="476" y="265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590840" y="4691160"/>
              <a:ext cx="938160" cy="692640"/>
              <a:chOff x="1590840" y="4691160"/>
              <a:chExt cx="938160" cy="692640"/>
            </a:xfrm>
          </p:grpSpPr>
          <p:sp>
            <p:nvSpPr>
              <p:cNvPr id="253" name=""/>
              <p:cNvSpPr/>
              <p:nvPr/>
            </p:nvSpPr>
            <p:spPr>
              <a:xfrm>
                <a:off x="1590840" y="4691160"/>
                <a:ext cx="938160" cy="40644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36800" y="5097600"/>
                <a:ext cx="246600" cy="286200"/>
              </a:xfrm>
              <a:custGeom>
                <a:avLst/>
                <a:gdLst/>
                <a:ahLst/>
                <a:rect l="0" t="0" r="r" b="b"/>
                <a:pathLst>
                  <a:path w="685" h="795">
                    <a:moveTo>
                      <a:pt x="0" y="265"/>
                    </a:moveTo>
                    <a:lnTo>
                      <a:pt x="0" y="529"/>
                    </a:lnTo>
                    <a:lnTo>
                      <a:pt x="479" y="529"/>
                    </a:lnTo>
                    <a:lnTo>
                      <a:pt x="479" y="795"/>
                    </a:lnTo>
                    <a:lnTo>
                      <a:pt x="685" y="397"/>
                    </a:lnTo>
                    <a:lnTo>
                      <a:pt x="479" y="0"/>
                    </a:lnTo>
                    <a:lnTo>
                      <a:pt x="479" y="265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57480" y="4691160"/>
              <a:ext cx="938160" cy="692640"/>
              <a:chOff x="3057480" y="4691160"/>
              <a:chExt cx="938160" cy="692640"/>
            </a:xfrm>
          </p:grpSpPr>
          <p:sp>
            <p:nvSpPr>
              <p:cNvPr id="256" name=""/>
              <p:cNvSpPr/>
              <p:nvPr/>
            </p:nvSpPr>
            <p:spPr>
              <a:xfrm>
                <a:off x="3057480" y="4691160"/>
                <a:ext cx="938160" cy="40644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03440" y="5097600"/>
                <a:ext cx="246600" cy="286200"/>
              </a:xfrm>
              <a:custGeom>
                <a:avLst/>
                <a:gdLst/>
                <a:ahLst/>
                <a:rect l="0" t="0" r="r" b="b"/>
                <a:pathLst>
                  <a:path w="685" h="795">
                    <a:moveTo>
                      <a:pt x="0" y="265"/>
                    </a:moveTo>
                    <a:lnTo>
                      <a:pt x="0" y="529"/>
                    </a:lnTo>
                    <a:lnTo>
                      <a:pt x="479" y="529"/>
                    </a:lnTo>
                    <a:lnTo>
                      <a:pt x="479" y="795"/>
                    </a:lnTo>
                    <a:lnTo>
                      <a:pt x="685" y="397"/>
                    </a:lnTo>
                    <a:lnTo>
                      <a:pt x="479" y="0"/>
                    </a:lnTo>
                    <a:lnTo>
                      <a:pt x="479" y="265"/>
                    </a:lnTo>
                    <a:lnTo>
                      <a:pt x="0" y="265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795320" y="4038480"/>
              <a:ext cx="1995480" cy="692640"/>
              <a:chOff x="1795320" y="4038480"/>
              <a:chExt cx="1995480" cy="692640"/>
            </a:xfrm>
          </p:grpSpPr>
          <p:sp>
            <p:nvSpPr>
              <p:cNvPr id="259" name=""/>
              <p:cNvSpPr/>
              <p:nvPr/>
            </p:nvSpPr>
            <p:spPr>
              <a:xfrm>
                <a:off x="1795320" y="4038480"/>
                <a:ext cx="1995480" cy="40788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39840" y="4446720"/>
                <a:ext cx="246600" cy="284400"/>
              </a:xfrm>
              <a:custGeom>
                <a:avLst/>
                <a:gdLst/>
                <a:ahLst/>
                <a:rect l="0" t="0" r="r" b="b"/>
                <a:pathLst>
                  <a:path w="685" h="790">
                    <a:moveTo>
                      <a:pt x="0" y="262"/>
                    </a:moveTo>
                    <a:lnTo>
                      <a:pt x="0" y="526"/>
                    </a:lnTo>
                    <a:lnTo>
                      <a:pt x="479" y="526"/>
                    </a:lnTo>
                    <a:lnTo>
                      <a:pt x="479" y="790"/>
                    </a:lnTo>
                    <a:lnTo>
                      <a:pt x="685" y="394"/>
                    </a:lnTo>
                    <a:lnTo>
                      <a:pt x="479" y="0"/>
                    </a:lnTo>
                    <a:lnTo>
                      <a:pt x="479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00400" y="4446720"/>
                <a:ext cx="246600" cy="284400"/>
              </a:xfrm>
              <a:custGeom>
                <a:avLst/>
                <a:gdLst/>
                <a:ahLst/>
                <a:rect l="0" t="0" r="r" b="b"/>
                <a:pathLst>
                  <a:path w="685" h="790">
                    <a:moveTo>
                      <a:pt x="0" y="262"/>
                    </a:moveTo>
                    <a:lnTo>
                      <a:pt x="0" y="526"/>
                    </a:lnTo>
                    <a:lnTo>
                      <a:pt x="479" y="526"/>
                    </a:lnTo>
                    <a:lnTo>
                      <a:pt x="479" y="790"/>
                    </a:lnTo>
                    <a:lnTo>
                      <a:pt x="685" y="394"/>
                    </a:lnTo>
                    <a:lnTo>
                      <a:pt x="479" y="0"/>
                    </a:lnTo>
                    <a:lnTo>
                      <a:pt x="479" y="262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5580000" y="4114800"/>
            <a:ext cx="2954520" cy="2286000"/>
            <a:chOff x="5580000" y="4114800"/>
            <a:chExt cx="2954520" cy="2286000"/>
          </a:xfrm>
        </p:grpSpPr>
        <p:sp>
          <p:nvSpPr>
            <p:cNvPr id="263" name=""/>
            <p:cNvSpPr/>
            <p:nvPr/>
          </p:nvSpPr>
          <p:spPr>
            <a:xfrm>
              <a:off x="5580000" y="6006960"/>
              <a:ext cx="295416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5580000" y="5375160"/>
              <a:ext cx="1930320" cy="671760"/>
              <a:chOff x="5580000" y="5375160"/>
              <a:chExt cx="19303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5580000" y="5375160"/>
                <a:ext cx="1930320" cy="3952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1516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3900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5580000" y="4745160"/>
              <a:ext cx="906480" cy="670320"/>
              <a:chOff x="5580000" y="4745160"/>
              <a:chExt cx="906480" cy="670320"/>
            </a:xfrm>
          </p:grpSpPr>
          <p:sp>
            <p:nvSpPr>
              <p:cNvPr id="269" name=""/>
              <p:cNvSpPr/>
              <p:nvPr/>
            </p:nvSpPr>
            <p:spPr>
              <a:xfrm>
                <a:off x="558000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91516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0" y="255"/>
                    </a:moveTo>
                    <a:lnTo>
                      <a:pt x="0" y="509"/>
                    </a:lnTo>
                    <a:lnTo>
                      <a:pt x="460" y="509"/>
                    </a:lnTo>
                    <a:lnTo>
                      <a:pt x="460" y="764"/>
                    </a:lnTo>
                    <a:lnTo>
                      <a:pt x="658" y="382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603840" y="4745160"/>
              <a:ext cx="906480" cy="670320"/>
              <a:chOff x="6603840" y="4745160"/>
              <a:chExt cx="906480" cy="670320"/>
            </a:xfrm>
          </p:grpSpPr>
          <p:sp>
            <p:nvSpPr>
              <p:cNvPr id="272" name=""/>
              <p:cNvSpPr/>
              <p:nvPr/>
            </p:nvSpPr>
            <p:spPr>
              <a:xfrm>
                <a:off x="660384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93900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0" y="255"/>
                    </a:moveTo>
                    <a:lnTo>
                      <a:pt x="0" y="509"/>
                    </a:lnTo>
                    <a:lnTo>
                      <a:pt x="460" y="509"/>
                    </a:lnTo>
                    <a:lnTo>
                      <a:pt x="460" y="764"/>
                    </a:lnTo>
                    <a:lnTo>
                      <a:pt x="658" y="382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628040" y="5375160"/>
              <a:ext cx="906480" cy="671760"/>
              <a:chOff x="7628040" y="5375160"/>
              <a:chExt cx="906480" cy="671760"/>
            </a:xfrm>
          </p:grpSpPr>
          <p:sp>
            <p:nvSpPr>
              <p:cNvPr id="275" name=""/>
              <p:cNvSpPr/>
              <p:nvPr/>
            </p:nvSpPr>
            <p:spPr>
              <a:xfrm>
                <a:off x="7628040" y="5375160"/>
                <a:ext cx="906480" cy="395280"/>
              </a:xfrm>
              <a:prstGeom prst="rect">
                <a:avLst/>
              </a:pr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962840" y="57704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fcfe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628040" y="4745160"/>
              <a:ext cx="906480" cy="670320"/>
              <a:chOff x="7628040" y="4745160"/>
              <a:chExt cx="906480" cy="670320"/>
            </a:xfrm>
          </p:grpSpPr>
          <p:sp>
            <p:nvSpPr>
              <p:cNvPr id="278" name=""/>
              <p:cNvSpPr/>
              <p:nvPr/>
            </p:nvSpPr>
            <p:spPr>
              <a:xfrm>
                <a:off x="7628040" y="4745160"/>
                <a:ext cx="906480" cy="395280"/>
              </a:xfrm>
              <a:prstGeom prst="rect">
                <a:avLst/>
              </a:pr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962840" y="5140440"/>
                <a:ext cx="236880" cy="275040"/>
              </a:xfrm>
              <a:custGeom>
                <a:avLst/>
                <a:gdLst/>
                <a:ahLst/>
                <a:rect l="0" t="0" r="r" b="b"/>
                <a:pathLst>
                  <a:path w="658" h="764">
                    <a:moveTo>
                      <a:pt x="0" y="255"/>
                    </a:moveTo>
                    <a:lnTo>
                      <a:pt x="0" y="509"/>
                    </a:lnTo>
                    <a:lnTo>
                      <a:pt x="460" y="509"/>
                    </a:lnTo>
                    <a:lnTo>
                      <a:pt x="460" y="764"/>
                    </a:lnTo>
                    <a:lnTo>
                      <a:pt x="658" y="382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580000" y="4114800"/>
              <a:ext cx="2954160" cy="670320"/>
              <a:chOff x="5580000" y="4114800"/>
              <a:chExt cx="2954160" cy="670320"/>
            </a:xfrm>
          </p:grpSpPr>
          <p:sp>
            <p:nvSpPr>
              <p:cNvPr id="281" name=""/>
              <p:cNvSpPr/>
              <p:nvPr/>
            </p:nvSpPr>
            <p:spPr>
              <a:xfrm>
                <a:off x="5580000" y="4114800"/>
                <a:ext cx="2954160" cy="3938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91516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3900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962840" y="4508640"/>
                <a:ext cx="236880" cy="276480"/>
              </a:xfrm>
              <a:custGeom>
                <a:avLst/>
                <a:gdLst/>
                <a:ahLst/>
                <a:rect l="0" t="0" r="r" b="b"/>
                <a:pathLst>
                  <a:path w="658" h="768">
                    <a:moveTo>
                      <a:pt x="0" y="255"/>
                    </a:moveTo>
                    <a:lnTo>
                      <a:pt x="0" y="512"/>
                    </a:lnTo>
                    <a:lnTo>
                      <a:pt x="460" y="512"/>
                    </a:lnTo>
                    <a:lnTo>
                      <a:pt x="460" y="768"/>
                    </a:lnTo>
                    <a:lnTo>
                      <a:pt x="658" y="383"/>
                    </a:lnTo>
                    <a:lnTo>
                      <a:pt x="460" y="0"/>
                    </a:lnTo>
                    <a:lnTo>
                      <a:pt x="460" y="255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618ff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42840" y="533520"/>
            <a:ext cx="7257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1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52480" y="1752480"/>
            <a:ext cx="175248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752480" y="2819520"/>
            <a:ext cx="2286720" cy="762120"/>
            <a:chOff x="1752480" y="2819520"/>
            <a:chExt cx="2286720" cy="762120"/>
          </a:xfrm>
        </p:grpSpPr>
        <p:sp>
          <p:nvSpPr>
            <p:cNvPr id="289" name=""/>
            <p:cNvSpPr txBox="1"/>
            <p:nvPr/>
          </p:nvSpPr>
          <p:spPr>
            <a:xfrm>
              <a:off x="1752480" y="281952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05320" y="297180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219320" y="3886200"/>
            <a:ext cx="2285640" cy="762120"/>
            <a:chOff x="1219320" y="3886200"/>
            <a:chExt cx="2285640" cy="762120"/>
          </a:xfrm>
        </p:grpSpPr>
        <p:sp>
          <p:nvSpPr>
            <p:cNvPr id="292" name=""/>
            <p:cNvSpPr/>
            <p:nvPr/>
          </p:nvSpPr>
          <p:spPr>
            <a:xfrm>
              <a:off x="1219320" y="4038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1752480" y="3886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219320" y="4952880"/>
            <a:ext cx="2819880" cy="762120"/>
            <a:chOff x="1219320" y="4952880"/>
            <a:chExt cx="2819880" cy="762120"/>
          </a:xfrm>
        </p:grpSpPr>
        <p:sp>
          <p:nvSpPr>
            <p:cNvPr id="295" name=""/>
            <p:cNvSpPr/>
            <p:nvPr/>
          </p:nvSpPr>
          <p:spPr>
            <a:xfrm>
              <a:off x="1219320" y="51055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1752480" y="49528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51055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34120" y="1066680"/>
            <a:ext cx="1752480" cy="1829520"/>
            <a:chOff x="5334120" y="1066680"/>
            <a:chExt cx="1752480" cy="1829520"/>
          </a:xfrm>
        </p:grpSpPr>
        <p:sp>
          <p:nvSpPr>
            <p:cNvPr id="299" name=""/>
            <p:cNvSpPr/>
            <p:nvPr/>
          </p:nvSpPr>
          <p:spPr>
            <a:xfrm>
              <a:off x="598176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533412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176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334120" y="3048120"/>
            <a:ext cx="1752480" cy="1295280"/>
            <a:chOff x="5334120" y="3048120"/>
            <a:chExt cx="1752480" cy="1295280"/>
          </a:xfrm>
        </p:grpSpPr>
        <p:sp>
          <p:nvSpPr>
            <p:cNvPr id="303" name=""/>
            <p:cNvSpPr/>
            <p:nvPr/>
          </p:nvSpPr>
          <p:spPr>
            <a:xfrm>
              <a:off x="598176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533412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34120" y="4648320"/>
            <a:ext cx="1752480" cy="1295640"/>
            <a:chOff x="5334120" y="4648320"/>
            <a:chExt cx="1752480" cy="1295640"/>
          </a:xfrm>
        </p:grpSpPr>
        <p:sp>
          <p:nvSpPr>
            <p:cNvPr id="306" name=""/>
            <p:cNvSpPr txBox="1"/>
            <p:nvPr/>
          </p:nvSpPr>
          <p:spPr>
            <a:xfrm>
              <a:off x="5334120" y="464832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1760" y="5410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00080" y="533520"/>
            <a:ext cx="714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2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57200" y="1066680"/>
            <a:ext cx="2819880" cy="1829520"/>
            <a:chOff x="457200" y="1066680"/>
            <a:chExt cx="2819880" cy="1829520"/>
          </a:xfrm>
        </p:grpSpPr>
        <p:sp>
          <p:nvSpPr>
            <p:cNvPr id="310" name=""/>
            <p:cNvSpPr/>
            <p:nvPr/>
          </p:nvSpPr>
          <p:spPr>
            <a:xfrm>
              <a:off x="45720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63836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89" y="987"/>
                  </a:lnTo>
                  <a:lnTo>
                    <a:pt x="889" y="1483"/>
                  </a:lnTo>
                  <a:lnTo>
                    <a:pt x="1271" y="741"/>
                  </a:lnTo>
                  <a:lnTo>
                    <a:pt x="889" y="0"/>
                  </a:lnTo>
                  <a:lnTo>
                    <a:pt x="889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99072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836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89" y="987"/>
                  </a:lnTo>
                  <a:lnTo>
                    <a:pt x="889" y="1483"/>
                  </a:lnTo>
                  <a:lnTo>
                    <a:pt x="1271" y="741"/>
                  </a:lnTo>
                  <a:lnTo>
                    <a:pt x="889" y="0"/>
                  </a:lnTo>
                  <a:lnTo>
                    <a:pt x="889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57200" y="3048120"/>
            <a:ext cx="2819880" cy="1295280"/>
            <a:chOff x="457200" y="3048120"/>
            <a:chExt cx="2819880" cy="1295280"/>
          </a:xfrm>
        </p:grpSpPr>
        <p:sp>
          <p:nvSpPr>
            <p:cNvPr id="316" name=""/>
            <p:cNvSpPr/>
            <p:nvPr/>
          </p:nvSpPr>
          <p:spPr>
            <a:xfrm>
              <a:off x="45720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3836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89" y="987"/>
                  </a:lnTo>
                  <a:lnTo>
                    <a:pt x="889" y="1483"/>
                  </a:lnTo>
                  <a:lnTo>
                    <a:pt x="1271" y="741"/>
                  </a:lnTo>
                  <a:lnTo>
                    <a:pt x="889" y="0"/>
                  </a:lnTo>
                  <a:lnTo>
                    <a:pt x="889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99072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320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57200" y="4572000"/>
            <a:ext cx="2819880" cy="1296000"/>
            <a:chOff x="457200" y="4572000"/>
            <a:chExt cx="2819880" cy="1296000"/>
          </a:xfrm>
        </p:grpSpPr>
        <p:sp>
          <p:nvSpPr>
            <p:cNvPr id="321" name=""/>
            <p:cNvSpPr/>
            <p:nvPr/>
          </p:nvSpPr>
          <p:spPr>
            <a:xfrm>
              <a:off x="45720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99072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3836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89" y="987"/>
                  </a:lnTo>
                  <a:lnTo>
                    <a:pt x="889" y="1483"/>
                  </a:lnTo>
                  <a:lnTo>
                    <a:pt x="1271" y="741"/>
                  </a:lnTo>
                  <a:lnTo>
                    <a:pt x="889" y="0"/>
                  </a:lnTo>
                  <a:lnTo>
                    <a:pt x="889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320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809880" y="1066680"/>
            <a:ext cx="2286000" cy="1829520"/>
            <a:chOff x="3809880" y="1066680"/>
            <a:chExt cx="2286000" cy="1829520"/>
          </a:xfrm>
        </p:grpSpPr>
        <p:sp>
          <p:nvSpPr>
            <p:cNvPr id="326" name=""/>
            <p:cNvSpPr/>
            <p:nvPr/>
          </p:nvSpPr>
          <p:spPr>
            <a:xfrm>
              <a:off x="380988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9104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434340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9104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9880" y="3048120"/>
            <a:ext cx="2286000" cy="1295280"/>
            <a:chOff x="3809880" y="3048120"/>
            <a:chExt cx="2286000" cy="1295280"/>
          </a:xfrm>
        </p:grpSpPr>
        <p:sp>
          <p:nvSpPr>
            <p:cNvPr id="331" name=""/>
            <p:cNvSpPr/>
            <p:nvPr/>
          </p:nvSpPr>
          <p:spPr>
            <a:xfrm>
              <a:off x="380988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9104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34340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09880" y="4572000"/>
            <a:ext cx="2286000" cy="1296000"/>
            <a:chOff x="3809880" y="4572000"/>
            <a:chExt cx="2286000" cy="1296000"/>
          </a:xfrm>
        </p:grpSpPr>
        <p:sp>
          <p:nvSpPr>
            <p:cNvPr id="335" name=""/>
            <p:cNvSpPr/>
            <p:nvPr/>
          </p:nvSpPr>
          <p:spPr>
            <a:xfrm>
              <a:off x="380988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34340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104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324480" y="1066680"/>
            <a:ext cx="2286720" cy="1829520"/>
            <a:chOff x="6324480" y="1066680"/>
            <a:chExt cx="2286720" cy="1829520"/>
          </a:xfrm>
        </p:grpSpPr>
        <p:sp>
          <p:nvSpPr>
            <p:cNvPr id="339" name=""/>
            <p:cNvSpPr/>
            <p:nvPr/>
          </p:nvSpPr>
          <p:spPr>
            <a:xfrm>
              <a:off x="6972120" y="10666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 txBox="1"/>
            <p:nvPr/>
          </p:nvSpPr>
          <p:spPr>
            <a:xfrm>
              <a:off x="6324480" y="16002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77320" y="17524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3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2120" y="23623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24480" y="3048120"/>
            <a:ext cx="2286720" cy="1295280"/>
            <a:chOff x="6324480" y="3048120"/>
            <a:chExt cx="2286720" cy="1295280"/>
          </a:xfrm>
        </p:grpSpPr>
        <p:sp>
          <p:nvSpPr>
            <p:cNvPr id="344" name=""/>
            <p:cNvSpPr/>
            <p:nvPr/>
          </p:nvSpPr>
          <p:spPr>
            <a:xfrm>
              <a:off x="6972120" y="3048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6324480" y="358128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77320" y="373392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324480" y="4572000"/>
            <a:ext cx="2286720" cy="1296000"/>
            <a:chOff x="6324480" y="4572000"/>
            <a:chExt cx="2286720" cy="1296000"/>
          </a:xfrm>
        </p:grpSpPr>
        <p:sp>
          <p:nvSpPr>
            <p:cNvPr id="348" name=""/>
            <p:cNvSpPr txBox="1"/>
            <p:nvPr/>
          </p:nvSpPr>
          <p:spPr>
            <a:xfrm>
              <a:off x="6324480" y="4572000"/>
              <a:ext cx="175248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77320" y="4724280"/>
              <a:ext cx="533880" cy="457560"/>
            </a:xfrm>
            <a:custGeom>
              <a:avLst/>
              <a:gdLst/>
              <a:ahLst/>
              <a:rect l="0" t="0" r="r" b="b"/>
              <a:pathLst>
                <a:path w="1483" h="1271">
                  <a:moveTo>
                    <a:pt x="0" y="422"/>
                  </a:moveTo>
                  <a:lnTo>
                    <a:pt x="0" y="846"/>
                  </a:lnTo>
                  <a:lnTo>
                    <a:pt x="1038" y="846"/>
                  </a:lnTo>
                  <a:lnTo>
                    <a:pt x="1038" y="1271"/>
                  </a:lnTo>
                  <a:lnTo>
                    <a:pt x="1483" y="635"/>
                  </a:lnTo>
                  <a:lnTo>
                    <a:pt x="1038" y="0"/>
                  </a:lnTo>
                  <a:lnTo>
                    <a:pt x="1038" y="422"/>
                  </a:lnTo>
                  <a:lnTo>
                    <a:pt x="0" y="422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72120" y="533412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000080" y="533520"/>
            <a:ext cx="714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r Flow Chart Components (slide 3 of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666880" y="1066680"/>
            <a:ext cx="3733920" cy="1296000"/>
            <a:chOff x="2666880" y="1066680"/>
            <a:chExt cx="3733920" cy="1296000"/>
          </a:xfrm>
        </p:grpSpPr>
        <p:sp>
          <p:nvSpPr>
            <p:cNvPr id="353" name=""/>
            <p:cNvSpPr txBox="1"/>
            <p:nvPr/>
          </p:nvSpPr>
          <p:spPr>
            <a:xfrm>
              <a:off x="2666880" y="1066680"/>
              <a:ext cx="373392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14880" y="182880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95960" y="182880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2666880" y="2514600"/>
            <a:ext cx="373392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676520" y="3505320"/>
            <a:ext cx="5715000" cy="1295640"/>
            <a:chOff x="1676520" y="3505320"/>
            <a:chExt cx="5715000" cy="1295640"/>
          </a:xfrm>
        </p:grpSpPr>
        <p:sp>
          <p:nvSpPr>
            <p:cNvPr id="358" name=""/>
            <p:cNvSpPr txBox="1"/>
            <p:nvPr/>
          </p:nvSpPr>
          <p:spPr>
            <a:xfrm>
              <a:off x="1676520" y="3505320"/>
              <a:ext cx="5715000" cy="762120"/>
            </a:xfrm>
            <a:prstGeom prst="rect">
              <a:avLst/>
            </a:prstGeom>
            <a:solidFill>
              <a:srgbClr val="fcfeb9"/>
            </a:solidFill>
            <a:ln w="0">
              <a:noFill/>
            </a:ln>
            <a:effectLst>
              <a:outerShdw dist="0" dir="0" blurRad="0" rotWithShape="0">
                <a:srgbClr val="00404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2416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89" y="987"/>
                  </a:lnTo>
                  <a:lnTo>
                    <a:pt x="889" y="1483"/>
                  </a:lnTo>
                  <a:lnTo>
                    <a:pt x="1271" y="741"/>
                  </a:lnTo>
                  <a:lnTo>
                    <a:pt x="889" y="0"/>
                  </a:lnTo>
                  <a:lnTo>
                    <a:pt x="889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0524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86680" y="4267080"/>
              <a:ext cx="457560" cy="533880"/>
            </a:xfrm>
            <a:custGeom>
              <a:avLst/>
              <a:gdLst/>
              <a:ahLst/>
              <a:rect l="0" t="0" r="r" b="b"/>
              <a:pathLst>
                <a:path w="1271" h="1483">
                  <a:moveTo>
                    <a:pt x="0" y="494"/>
                  </a:moveTo>
                  <a:lnTo>
                    <a:pt x="0" y="987"/>
                  </a:lnTo>
                  <a:lnTo>
                    <a:pt x="890" y="987"/>
                  </a:lnTo>
                  <a:lnTo>
                    <a:pt x="890" y="1483"/>
                  </a:lnTo>
                  <a:lnTo>
                    <a:pt x="1271" y="741"/>
                  </a:lnTo>
                  <a:lnTo>
                    <a:pt x="890" y="0"/>
                  </a:lnTo>
                  <a:lnTo>
                    <a:pt x="890" y="494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fcfeb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 txBox="1"/>
          <p:nvPr/>
        </p:nvSpPr>
        <p:spPr>
          <a:xfrm>
            <a:off x="1676520" y="5029200"/>
            <a:ext cx="5715000" cy="762120"/>
          </a:xfrm>
          <a:prstGeom prst="rect">
            <a:avLst/>
          </a:prstGeom>
          <a:solidFill>
            <a:srgbClr val="fcfeb9"/>
          </a:solidFill>
          <a:ln w="0">
            <a:noFill/>
          </a:ln>
          <a:effectLst>
            <a:outerShdw dist="0" dir="0" blurRad="0" rotWithShape="0">
              <a:srgbClr val="00404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and 4-Leve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43000" y="1946160"/>
            <a:ext cx="3048120" cy="3044880"/>
            <a:chOff x="1143000" y="1946160"/>
            <a:chExt cx="3048120" cy="3044880"/>
          </a:xfrm>
        </p:grpSpPr>
        <p:sp>
          <p:nvSpPr>
            <p:cNvPr id="365" name=""/>
            <p:cNvSpPr txBox="1"/>
            <p:nvPr/>
          </p:nvSpPr>
          <p:spPr>
            <a:xfrm>
              <a:off x="2050920" y="1946160"/>
              <a:ext cx="1231920" cy="121284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1600200" y="3162240"/>
              <a:ext cx="2133720" cy="914400"/>
            </a:xfrm>
            <a:prstGeom prst="rect">
              <a:avLst/>
            </a:prstGeom>
            <a:solidFill>
              <a:srgbClr val="00b7a5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1143000" y="4076640"/>
              <a:ext cx="3048120" cy="91440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952880" y="1866960"/>
            <a:ext cx="2743200" cy="3124080"/>
            <a:chOff x="4952880" y="1866960"/>
            <a:chExt cx="2743200" cy="3124080"/>
          </a:xfrm>
        </p:grpSpPr>
        <p:sp>
          <p:nvSpPr>
            <p:cNvPr id="369" name=""/>
            <p:cNvSpPr txBox="1"/>
            <p:nvPr/>
          </p:nvSpPr>
          <p:spPr>
            <a:xfrm>
              <a:off x="5867280" y="1866960"/>
              <a:ext cx="914400" cy="1066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562720" y="2933640"/>
              <a:ext cx="1523880" cy="68580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5257800" y="3619440"/>
              <a:ext cx="2133720" cy="685800"/>
            </a:xfrm>
            <a:prstGeom prst="rect">
              <a:avLst/>
            </a:prstGeom>
            <a:solidFill>
              <a:srgbClr val="00b7a5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4952880" y="4305240"/>
              <a:ext cx="2743200" cy="685800"/>
            </a:xfrm>
            <a:prstGeom prst="rect">
              <a:avLst/>
            </a:prstGeom>
            <a:solidFill>
              <a:srgbClr val="618ffd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Level Circula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048120" y="1905120"/>
            <a:ext cx="3048120" cy="3048120"/>
            <a:chOff x="3048120" y="1905120"/>
            <a:chExt cx="3048120" cy="3048120"/>
          </a:xfrm>
        </p:grpSpPr>
        <p:grpSp>
          <p:nvGrpSpPr>
            <p:cNvPr id="375" name=""/>
            <p:cNvGrpSpPr/>
            <p:nvPr/>
          </p:nvGrpSpPr>
          <p:grpSpPr>
            <a:xfrm>
              <a:off x="3048120" y="1905120"/>
              <a:ext cx="3048120" cy="3048120"/>
              <a:chOff x="3048120" y="1905120"/>
              <a:chExt cx="3048120" cy="3048120"/>
            </a:xfrm>
          </p:grpSpPr>
          <p:sp>
            <p:nvSpPr>
              <p:cNvPr id="376" name=""/>
              <p:cNvSpPr/>
              <p:nvPr/>
            </p:nvSpPr>
            <p:spPr>
              <a:xfrm>
                <a:off x="3048120" y="1905120"/>
                <a:ext cx="3048120" cy="3048120"/>
              </a:xfrm>
              <a:prstGeom prst="ellipse">
                <a:avLst/>
              </a:prstGeom>
              <a:solidFill>
                <a:srgbClr val="fcfeb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4073400" y="2082960"/>
                <a:ext cx="99684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505320" y="2666880"/>
              <a:ext cx="2133720" cy="2133720"/>
              <a:chOff x="3505320" y="2666880"/>
              <a:chExt cx="2133720" cy="2133720"/>
            </a:xfrm>
          </p:grpSpPr>
          <p:sp>
            <p:nvSpPr>
              <p:cNvPr id="379" name=""/>
              <p:cNvSpPr/>
              <p:nvPr/>
            </p:nvSpPr>
            <p:spPr>
              <a:xfrm>
                <a:off x="3505320" y="2666880"/>
                <a:ext cx="2133720" cy="2133720"/>
              </a:xfrm>
              <a:prstGeom prst="ellipse">
                <a:avLst/>
              </a:prstGeom>
              <a:solidFill>
                <a:srgbClr val="00b7a5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4073400" y="2854440"/>
                <a:ext cx="99684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962520" y="3429000"/>
              <a:ext cx="1219320" cy="1219320"/>
              <a:chOff x="3962520" y="3429000"/>
              <a:chExt cx="1219320" cy="1219320"/>
            </a:xfrm>
          </p:grpSpPr>
          <p:sp>
            <p:nvSpPr>
              <p:cNvPr id="382" name=""/>
              <p:cNvSpPr/>
              <p:nvPr/>
            </p:nvSpPr>
            <p:spPr>
              <a:xfrm>
                <a:off x="3962520" y="3429000"/>
                <a:ext cx="1219320" cy="1219320"/>
              </a:xfrm>
              <a:prstGeom prst="ellipse">
                <a:avLst/>
              </a:prstGeom>
              <a:solidFill>
                <a:srgbClr val="618ffd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073400" y="3745080"/>
                <a:ext cx="99684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9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171440" y="533520"/>
            <a:ext cx="6800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9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Flow Char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57520" y="1555920"/>
            <a:ext cx="520560" cy="501480"/>
          </a:xfrm>
          <a:prstGeom prst="ellipse">
            <a:avLst/>
          </a:pr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5560" y="1558800"/>
            <a:ext cx="921240" cy="486000"/>
          </a:xfrm>
          <a:custGeom>
            <a:avLst/>
            <a:gdLst/>
            <a:ahLst/>
            <a:rect l="0" t="0" r="r" b="b"/>
            <a:pathLst>
              <a:path w="2559" h="1350">
                <a:moveTo>
                  <a:pt x="348" y="0"/>
                </a:moveTo>
                <a:lnTo>
                  <a:pt x="2228" y="0"/>
                </a:lnTo>
                <a:lnTo>
                  <a:pt x="2286" y="22"/>
                </a:lnTo>
                <a:lnTo>
                  <a:pt x="2339" y="52"/>
                </a:lnTo>
                <a:lnTo>
                  <a:pt x="2387" y="101"/>
                </a:lnTo>
                <a:lnTo>
                  <a:pt x="2436" y="163"/>
                </a:lnTo>
                <a:lnTo>
                  <a:pt x="2480" y="251"/>
                </a:lnTo>
                <a:lnTo>
                  <a:pt x="2511" y="339"/>
                </a:lnTo>
                <a:lnTo>
                  <a:pt x="2533" y="436"/>
                </a:lnTo>
                <a:lnTo>
                  <a:pt x="2550" y="529"/>
                </a:lnTo>
                <a:lnTo>
                  <a:pt x="2559" y="612"/>
                </a:lnTo>
                <a:lnTo>
                  <a:pt x="2559" y="706"/>
                </a:lnTo>
                <a:lnTo>
                  <a:pt x="2550" y="812"/>
                </a:lnTo>
                <a:lnTo>
                  <a:pt x="2537" y="900"/>
                </a:lnTo>
                <a:lnTo>
                  <a:pt x="2515" y="997"/>
                </a:lnTo>
                <a:lnTo>
                  <a:pt x="2484" y="1090"/>
                </a:lnTo>
                <a:lnTo>
                  <a:pt x="2453" y="1156"/>
                </a:lnTo>
                <a:lnTo>
                  <a:pt x="2409" y="1226"/>
                </a:lnTo>
                <a:lnTo>
                  <a:pt x="2361" y="1279"/>
                </a:lnTo>
                <a:lnTo>
                  <a:pt x="2330" y="1306"/>
                </a:lnTo>
                <a:lnTo>
                  <a:pt x="2281" y="1332"/>
                </a:lnTo>
                <a:lnTo>
                  <a:pt x="2224" y="1350"/>
                </a:lnTo>
                <a:lnTo>
                  <a:pt x="321" y="1350"/>
                </a:lnTo>
                <a:lnTo>
                  <a:pt x="273" y="1337"/>
                </a:lnTo>
                <a:lnTo>
                  <a:pt x="220" y="1306"/>
                </a:lnTo>
                <a:lnTo>
                  <a:pt x="149" y="1231"/>
                </a:lnTo>
                <a:lnTo>
                  <a:pt x="189" y="1275"/>
                </a:lnTo>
                <a:lnTo>
                  <a:pt x="123" y="1196"/>
                </a:lnTo>
                <a:lnTo>
                  <a:pt x="92" y="1134"/>
                </a:lnTo>
                <a:lnTo>
                  <a:pt x="61" y="1054"/>
                </a:lnTo>
                <a:lnTo>
                  <a:pt x="35" y="966"/>
                </a:lnTo>
                <a:lnTo>
                  <a:pt x="8" y="874"/>
                </a:lnTo>
                <a:lnTo>
                  <a:pt x="0" y="763"/>
                </a:lnTo>
                <a:lnTo>
                  <a:pt x="0" y="670"/>
                </a:lnTo>
                <a:lnTo>
                  <a:pt x="0" y="546"/>
                </a:lnTo>
                <a:lnTo>
                  <a:pt x="13" y="458"/>
                </a:lnTo>
                <a:lnTo>
                  <a:pt x="35" y="379"/>
                </a:lnTo>
                <a:lnTo>
                  <a:pt x="61" y="286"/>
                </a:lnTo>
                <a:lnTo>
                  <a:pt x="97" y="211"/>
                </a:lnTo>
                <a:lnTo>
                  <a:pt x="145" y="141"/>
                </a:lnTo>
                <a:lnTo>
                  <a:pt x="185" y="88"/>
                </a:lnTo>
                <a:lnTo>
                  <a:pt x="224" y="52"/>
                </a:lnTo>
                <a:lnTo>
                  <a:pt x="277" y="22"/>
                </a:lnTo>
                <a:lnTo>
                  <a:pt x="348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83120" y="1563840"/>
            <a:ext cx="956160" cy="486360"/>
          </a:xfrm>
          <a:custGeom>
            <a:avLst/>
            <a:gdLst/>
            <a:ahLst/>
            <a:rect l="0" t="0" r="r" b="b"/>
            <a:pathLst>
              <a:path w="2656" h="1351">
                <a:moveTo>
                  <a:pt x="781" y="0"/>
                </a:moveTo>
                <a:lnTo>
                  <a:pt x="2325" y="0"/>
                </a:lnTo>
                <a:lnTo>
                  <a:pt x="2383" y="22"/>
                </a:lnTo>
                <a:lnTo>
                  <a:pt x="2436" y="52"/>
                </a:lnTo>
                <a:lnTo>
                  <a:pt x="2484" y="101"/>
                </a:lnTo>
                <a:lnTo>
                  <a:pt x="2533" y="163"/>
                </a:lnTo>
                <a:lnTo>
                  <a:pt x="2577" y="251"/>
                </a:lnTo>
                <a:lnTo>
                  <a:pt x="2608" y="340"/>
                </a:lnTo>
                <a:lnTo>
                  <a:pt x="2630" y="437"/>
                </a:lnTo>
                <a:lnTo>
                  <a:pt x="2647" y="530"/>
                </a:lnTo>
                <a:lnTo>
                  <a:pt x="2656" y="613"/>
                </a:lnTo>
                <a:lnTo>
                  <a:pt x="2656" y="706"/>
                </a:lnTo>
                <a:lnTo>
                  <a:pt x="2647" y="812"/>
                </a:lnTo>
                <a:lnTo>
                  <a:pt x="2634" y="900"/>
                </a:lnTo>
                <a:lnTo>
                  <a:pt x="2612" y="997"/>
                </a:lnTo>
                <a:lnTo>
                  <a:pt x="2581" y="1091"/>
                </a:lnTo>
                <a:lnTo>
                  <a:pt x="2550" y="1157"/>
                </a:lnTo>
                <a:lnTo>
                  <a:pt x="2506" y="1227"/>
                </a:lnTo>
                <a:lnTo>
                  <a:pt x="2458" y="1280"/>
                </a:lnTo>
                <a:lnTo>
                  <a:pt x="2427" y="1307"/>
                </a:lnTo>
                <a:lnTo>
                  <a:pt x="2378" y="1333"/>
                </a:lnTo>
                <a:lnTo>
                  <a:pt x="2321" y="1351"/>
                </a:lnTo>
                <a:lnTo>
                  <a:pt x="755" y="1346"/>
                </a:lnTo>
                <a:lnTo>
                  <a:pt x="626" y="1298"/>
                </a:lnTo>
                <a:lnTo>
                  <a:pt x="471" y="1223"/>
                </a:lnTo>
                <a:lnTo>
                  <a:pt x="343" y="1148"/>
                </a:lnTo>
                <a:lnTo>
                  <a:pt x="224" y="1055"/>
                </a:lnTo>
                <a:lnTo>
                  <a:pt x="132" y="949"/>
                </a:lnTo>
                <a:lnTo>
                  <a:pt x="57" y="816"/>
                </a:lnTo>
                <a:lnTo>
                  <a:pt x="0" y="662"/>
                </a:lnTo>
                <a:lnTo>
                  <a:pt x="52" y="543"/>
                </a:lnTo>
                <a:lnTo>
                  <a:pt x="110" y="433"/>
                </a:lnTo>
                <a:lnTo>
                  <a:pt x="207" y="313"/>
                </a:lnTo>
                <a:lnTo>
                  <a:pt x="308" y="211"/>
                </a:lnTo>
                <a:lnTo>
                  <a:pt x="449" y="119"/>
                </a:lnTo>
                <a:lnTo>
                  <a:pt x="599" y="48"/>
                </a:lnTo>
                <a:lnTo>
                  <a:pt x="781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56560" y="1568520"/>
            <a:ext cx="665640" cy="478080"/>
          </a:xfrm>
          <a:custGeom>
            <a:avLst/>
            <a:gdLst/>
            <a:ahLst/>
            <a:rect l="0" t="0" r="r" b="b"/>
            <a:pathLst>
              <a:path w="1849" h="1328">
                <a:moveTo>
                  <a:pt x="198" y="0"/>
                </a:moveTo>
                <a:lnTo>
                  <a:pt x="1805" y="0"/>
                </a:lnTo>
                <a:lnTo>
                  <a:pt x="1752" y="44"/>
                </a:lnTo>
                <a:lnTo>
                  <a:pt x="1704" y="101"/>
                </a:lnTo>
                <a:lnTo>
                  <a:pt x="1677" y="163"/>
                </a:lnTo>
                <a:lnTo>
                  <a:pt x="1651" y="246"/>
                </a:lnTo>
                <a:lnTo>
                  <a:pt x="1638" y="330"/>
                </a:lnTo>
                <a:lnTo>
                  <a:pt x="1620" y="414"/>
                </a:lnTo>
                <a:lnTo>
                  <a:pt x="1611" y="515"/>
                </a:lnTo>
                <a:lnTo>
                  <a:pt x="1602" y="595"/>
                </a:lnTo>
                <a:lnTo>
                  <a:pt x="1602" y="719"/>
                </a:lnTo>
                <a:lnTo>
                  <a:pt x="1602" y="785"/>
                </a:lnTo>
                <a:lnTo>
                  <a:pt x="1615" y="887"/>
                </a:lnTo>
                <a:lnTo>
                  <a:pt x="1624" y="971"/>
                </a:lnTo>
                <a:lnTo>
                  <a:pt x="1642" y="1046"/>
                </a:lnTo>
                <a:lnTo>
                  <a:pt x="1655" y="1107"/>
                </a:lnTo>
                <a:lnTo>
                  <a:pt x="1673" y="1156"/>
                </a:lnTo>
                <a:lnTo>
                  <a:pt x="1704" y="1222"/>
                </a:lnTo>
                <a:lnTo>
                  <a:pt x="1743" y="1275"/>
                </a:lnTo>
                <a:lnTo>
                  <a:pt x="1792" y="1306"/>
                </a:lnTo>
                <a:lnTo>
                  <a:pt x="1849" y="1328"/>
                </a:lnTo>
                <a:lnTo>
                  <a:pt x="198" y="1328"/>
                </a:lnTo>
                <a:lnTo>
                  <a:pt x="154" y="1284"/>
                </a:lnTo>
                <a:lnTo>
                  <a:pt x="119" y="1231"/>
                </a:lnTo>
                <a:lnTo>
                  <a:pt x="83" y="1178"/>
                </a:lnTo>
                <a:lnTo>
                  <a:pt x="66" y="1121"/>
                </a:lnTo>
                <a:lnTo>
                  <a:pt x="44" y="1037"/>
                </a:lnTo>
                <a:lnTo>
                  <a:pt x="26" y="962"/>
                </a:lnTo>
                <a:lnTo>
                  <a:pt x="17" y="887"/>
                </a:lnTo>
                <a:lnTo>
                  <a:pt x="4" y="807"/>
                </a:lnTo>
                <a:lnTo>
                  <a:pt x="0" y="697"/>
                </a:lnTo>
                <a:lnTo>
                  <a:pt x="0" y="586"/>
                </a:lnTo>
                <a:lnTo>
                  <a:pt x="8" y="480"/>
                </a:lnTo>
                <a:lnTo>
                  <a:pt x="22" y="388"/>
                </a:lnTo>
                <a:lnTo>
                  <a:pt x="30" y="321"/>
                </a:lnTo>
                <a:lnTo>
                  <a:pt x="52" y="246"/>
                </a:lnTo>
                <a:lnTo>
                  <a:pt x="79" y="163"/>
                </a:lnTo>
                <a:lnTo>
                  <a:pt x="110" y="97"/>
                </a:lnTo>
                <a:lnTo>
                  <a:pt x="149" y="44"/>
                </a:lnTo>
                <a:lnTo>
                  <a:pt x="198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2590920"/>
            <a:ext cx="822240" cy="53352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343320" y="2647800"/>
            <a:ext cx="711720" cy="443160"/>
          </a:xfrm>
          <a:custGeom>
            <a:avLst/>
            <a:gdLst/>
            <a:ahLst/>
            <a:rect l="0" t="0" r="r" b="b"/>
            <a:pathLst>
              <a:path w="1977" h="1231">
                <a:moveTo>
                  <a:pt x="0" y="1134"/>
                </a:moveTo>
                <a:lnTo>
                  <a:pt x="0" y="0"/>
                </a:lnTo>
                <a:lnTo>
                  <a:pt x="1977" y="0"/>
                </a:lnTo>
                <a:lnTo>
                  <a:pt x="1977" y="671"/>
                </a:lnTo>
                <a:lnTo>
                  <a:pt x="1739" y="671"/>
                </a:lnTo>
                <a:lnTo>
                  <a:pt x="1624" y="684"/>
                </a:lnTo>
                <a:lnTo>
                  <a:pt x="1527" y="702"/>
                </a:lnTo>
                <a:lnTo>
                  <a:pt x="1416" y="737"/>
                </a:lnTo>
                <a:lnTo>
                  <a:pt x="1310" y="777"/>
                </a:lnTo>
                <a:lnTo>
                  <a:pt x="1213" y="825"/>
                </a:lnTo>
                <a:lnTo>
                  <a:pt x="1116" y="896"/>
                </a:lnTo>
                <a:lnTo>
                  <a:pt x="1019" y="975"/>
                </a:lnTo>
                <a:lnTo>
                  <a:pt x="935" y="1046"/>
                </a:lnTo>
                <a:lnTo>
                  <a:pt x="878" y="1085"/>
                </a:lnTo>
                <a:lnTo>
                  <a:pt x="812" y="1125"/>
                </a:lnTo>
                <a:lnTo>
                  <a:pt x="719" y="1173"/>
                </a:lnTo>
                <a:lnTo>
                  <a:pt x="627" y="1204"/>
                </a:lnTo>
                <a:lnTo>
                  <a:pt x="530" y="1226"/>
                </a:lnTo>
                <a:lnTo>
                  <a:pt x="432" y="1231"/>
                </a:lnTo>
                <a:lnTo>
                  <a:pt x="335" y="1226"/>
                </a:lnTo>
                <a:lnTo>
                  <a:pt x="238" y="1209"/>
                </a:lnTo>
                <a:lnTo>
                  <a:pt x="167" y="1196"/>
                </a:lnTo>
                <a:lnTo>
                  <a:pt x="79" y="1169"/>
                </a:lnTo>
                <a:lnTo>
                  <a:pt x="0" y="1134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029200" y="2666880"/>
            <a:ext cx="914760" cy="457560"/>
          </a:xfrm>
          <a:custGeom>
            <a:avLst/>
            <a:gdLst/>
            <a:ahLst/>
            <a:rect l="0" t="0" r="r" b="b"/>
            <a:pathLst>
              <a:path w="2541" h="1271">
                <a:moveTo>
                  <a:pt x="0" y="1271"/>
                </a:moveTo>
                <a:lnTo>
                  <a:pt x="1778" y="1271"/>
                </a:lnTo>
                <a:lnTo>
                  <a:pt x="2541" y="0"/>
                </a:lnTo>
                <a:lnTo>
                  <a:pt x="762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81680" y="2590920"/>
            <a:ext cx="838440" cy="533880"/>
          </a:xfrm>
          <a:custGeom>
            <a:avLst/>
            <a:gdLst/>
            <a:ahLst/>
            <a:rect l="0" t="0" r="r" b="b"/>
            <a:pathLst>
              <a:path w="2329" h="1483">
                <a:moveTo>
                  <a:pt x="0" y="741"/>
                </a:moveTo>
                <a:lnTo>
                  <a:pt x="465" y="1483"/>
                </a:lnTo>
                <a:lnTo>
                  <a:pt x="1863" y="1483"/>
                </a:lnTo>
                <a:lnTo>
                  <a:pt x="2329" y="741"/>
                </a:lnTo>
                <a:lnTo>
                  <a:pt x="1863" y="0"/>
                </a:lnTo>
                <a:lnTo>
                  <a:pt x="465" y="0"/>
                </a:lnTo>
                <a:lnTo>
                  <a:pt x="0" y="74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79480" y="3429000"/>
            <a:ext cx="486000" cy="921240"/>
          </a:xfrm>
          <a:custGeom>
            <a:avLst/>
            <a:gdLst/>
            <a:ahLst/>
            <a:rect l="0" t="0" r="r" b="b"/>
            <a:pathLst>
              <a:path w="1350" h="2559">
                <a:moveTo>
                  <a:pt x="1350" y="348"/>
                </a:moveTo>
                <a:lnTo>
                  <a:pt x="1350" y="2228"/>
                </a:lnTo>
                <a:lnTo>
                  <a:pt x="1328" y="2286"/>
                </a:lnTo>
                <a:lnTo>
                  <a:pt x="1297" y="2339"/>
                </a:lnTo>
                <a:lnTo>
                  <a:pt x="1248" y="2387"/>
                </a:lnTo>
                <a:lnTo>
                  <a:pt x="1187" y="2436"/>
                </a:lnTo>
                <a:lnTo>
                  <a:pt x="1099" y="2480"/>
                </a:lnTo>
                <a:lnTo>
                  <a:pt x="1010" y="2511"/>
                </a:lnTo>
                <a:lnTo>
                  <a:pt x="913" y="2533"/>
                </a:lnTo>
                <a:lnTo>
                  <a:pt x="821" y="2550"/>
                </a:lnTo>
                <a:lnTo>
                  <a:pt x="737" y="2559"/>
                </a:lnTo>
                <a:lnTo>
                  <a:pt x="643" y="2559"/>
                </a:lnTo>
                <a:lnTo>
                  <a:pt x="537" y="2550"/>
                </a:lnTo>
                <a:lnTo>
                  <a:pt x="449" y="2537"/>
                </a:lnTo>
                <a:lnTo>
                  <a:pt x="352" y="2515"/>
                </a:lnTo>
                <a:lnTo>
                  <a:pt x="260" y="2484"/>
                </a:lnTo>
                <a:lnTo>
                  <a:pt x="194" y="2453"/>
                </a:lnTo>
                <a:lnTo>
                  <a:pt x="123" y="2409"/>
                </a:lnTo>
                <a:lnTo>
                  <a:pt x="70" y="2361"/>
                </a:lnTo>
                <a:lnTo>
                  <a:pt x="44" y="2330"/>
                </a:lnTo>
                <a:lnTo>
                  <a:pt x="17" y="2281"/>
                </a:lnTo>
                <a:lnTo>
                  <a:pt x="0" y="2224"/>
                </a:lnTo>
                <a:lnTo>
                  <a:pt x="0" y="321"/>
                </a:lnTo>
                <a:lnTo>
                  <a:pt x="13" y="273"/>
                </a:lnTo>
                <a:lnTo>
                  <a:pt x="44" y="220"/>
                </a:lnTo>
                <a:lnTo>
                  <a:pt x="119" y="149"/>
                </a:lnTo>
                <a:lnTo>
                  <a:pt x="74" y="189"/>
                </a:lnTo>
                <a:lnTo>
                  <a:pt x="154" y="123"/>
                </a:lnTo>
                <a:lnTo>
                  <a:pt x="216" y="92"/>
                </a:lnTo>
                <a:lnTo>
                  <a:pt x="295" y="61"/>
                </a:lnTo>
                <a:lnTo>
                  <a:pt x="383" y="35"/>
                </a:lnTo>
                <a:lnTo>
                  <a:pt x="476" y="8"/>
                </a:lnTo>
                <a:lnTo>
                  <a:pt x="586" y="0"/>
                </a:lnTo>
                <a:lnTo>
                  <a:pt x="680" y="0"/>
                </a:lnTo>
                <a:lnTo>
                  <a:pt x="803" y="0"/>
                </a:lnTo>
                <a:lnTo>
                  <a:pt x="891" y="13"/>
                </a:lnTo>
                <a:lnTo>
                  <a:pt x="971" y="35"/>
                </a:lnTo>
                <a:lnTo>
                  <a:pt x="1063" y="61"/>
                </a:lnTo>
                <a:lnTo>
                  <a:pt x="1138" y="97"/>
                </a:lnTo>
                <a:lnTo>
                  <a:pt x="1209" y="145"/>
                </a:lnTo>
                <a:lnTo>
                  <a:pt x="1262" y="185"/>
                </a:lnTo>
                <a:lnTo>
                  <a:pt x="1297" y="224"/>
                </a:lnTo>
                <a:lnTo>
                  <a:pt x="1328" y="277"/>
                </a:lnTo>
                <a:lnTo>
                  <a:pt x="1350" y="348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67000" y="3781440"/>
            <a:ext cx="865440" cy="386280"/>
          </a:xfrm>
          <a:custGeom>
            <a:avLst/>
            <a:gdLst/>
            <a:ahLst/>
            <a:rect l="0" t="0" r="r" b="b"/>
            <a:pathLst>
              <a:path w="2404" h="1073">
                <a:moveTo>
                  <a:pt x="348" y="4"/>
                </a:moveTo>
                <a:lnTo>
                  <a:pt x="2404" y="0"/>
                </a:lnTo>
                <a:lnTo>
                  <a:pt x="2404" y="1073"/>
                </a:lnTo>
                <a:lnTo>
                  <a:pt x="0" y="1073"/>
                </a:lnTo>
                <a:lnTo>
                  <a:pt x="0" y="340"/>
                </a:lnTo>
                <a:lnTo>
                  <a:pt x="348" y="4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3733920"/>
            <a:ext cx="838440" cy="457560"/>
          </a:xfrm>
          <a:custGeom>
            <a:avLst/>
            <a:gdLst/>
            <a:ahLst/>
            <a:rect l="0" t="0" r="r" b="b"/>
            <a:pathLst>
              <a:path w="2329" h="1271">
                <a:moveTo>
                  <a:pt x="1165" y="1271"/>
                </a:moveTo>
                <a:lnTo>
                  <a:pt x="2329" y="635"/>
                </a:lnTo>
                <a:lnTo>
                  <a:pt x="1165" y="0"/>
                </a:lnTo>
                <a:lnTo>
                  <a:pt x="0" y="635"/>
                </a:lnTo>
                <a:lnTo>
                  <a:pt x="1165" y="1271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3809880"/>
            <a:ext cx="914760" cy="305280"/>
          </a:xfrm>
          <a:custGeom>
            <a:avLst/>
            <a:gdLst/>
            <a:ahLst/>
            <a:rect l="0" t="0" r="r" b="b"/>
            <a:pathLst>
              <a:path w="2541" h="848">
                <a:moveTo>
                  <a:pt x="0" y="255"/>
                </a:moveTo>
                <a:lnTo>
                  <a:pt x="0" y="593"/>
                </a:lnTo>
                <a:lnTo>
                  <a:pt x="761" y="848"/>
                </a:lnTo>
                <a:lnTo>
                  <a:pt x="1779" y="848"/>
                </a:lnTo>
                <a:lnTo>
                  <a:pt x="2541" y="593"/>
                </a:lnTo>
                <a:lnTo>
                  <a:pt x="2541" y="255"/>
                </a:lnTo>
                <a:lnTo>
                  <a:pt x="1779" y="0"/>
                </a:lnTo>
                <a:lnTo>
                  <a:pt x="761" y="0"/>
                </a:lnTo>
                <a:lnTo>
                  <a:pt x="0" y="255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17840" y="4835520"/>
            <a:ext cx="802080" cy="500400"/>
          </a:xfrm>
          <a:custGeom>
            <a:avLst/>
            <a:gdLst/>
            <a:ahLst/>
            <a:rect l="0" t="0" r="r" b="b"/>
            <a:pathLst>
              <a:path w="2228" h="1390">
                <a:moveTo>
                  <a:pt x="2228" y="0"/>
                </a:moveTo>
                <a:lnTo>
                  <a:pt x="2228" y="1390"/>
                </a:lnTo>
                <a:lnTo>
                  <a:pt x="0" y="1390"/>
                </a:lnTo>
                <a:lnTo>
                  <a:pt x="0" y="423"/>
                </a:lnTo>
                <a:lnTo>
                  <a:pt x="2228" y="0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29000" y="4876920"/>
            <a:ext cx="533880" cy="533880"/>
          </a:xfrm>
          <a:custGeom>
            <a:avLst/>
            <a:gdLst/>
            <a:ahLst/>
            <a:rect l="0" t="0" r="r" b="b"/>
            <a:pathLst>
              <a:path w="1483" h="1483">
                <a:moveTo>
                  <a:pt x="1483" y="1483"/>
                </a:moveTo>
                <a:lnTo>
                  <a:pt x="0" y="1483"/>
                </a:lnTo>
                <a:lnTo>
                  <a:pt x="741" y="0"/>
                </a:lnTo>
                <a:lnTo>
                  <a:pt x="1483" y="1483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4800600"/>
            <a:ext cx="762480" cy="533880"/>
          </a:xfrm>
          <a:custGeom>
            <a:avLst/>
            <a:gdLst/>
            <a:ahLst/>
            <a:rect l="0" t="0" r="r" b="b"/>
            <a:pathLst>
              <a:path w="2118" h="1483">
                <a:moveTo>
                  <a:pt x="2118" y="1483"/>
                </a:moveTo>
                <a:lnTo>
                  <a:pt x="1482" y="0"/>
                </a:lnTo>
                <a:lnTo>
                  <a:pt x="636" y="0"/>
                </a:lnTo>
                <a:lnTo>
                  <a:pt x="0" y="1483"/>
                </a:lnTo>
                <a:lnTo>
                  <a:pt x="2118" y="1483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29480" y="4870440"/>
            <a:ext cx="918000" cy="429120"/>
          </a:xfrm>
          <a:custGeom>
            <a:avLst/>
            <a:gdLst/>
            <a:ahLst/>
            <a:rect l="0" t="0" r="r" b="b"/>
            <a:pathLst>
              <a:path w="2550" h="1192">
                <a:moveTo>
                  <a:pt x="0" y="273"/>
                </a:moveTo>
                <a:lnTo>
                  <a:pt x="0" y="1148"/>
                </a:lnTo>
                <a:lnTo>
                  <a:pt x="141" y="1170"/>
                </a:lnTo>
                <a:lnTo>
                  <a:pt x="246" y="1183"/>
                </a:lnTo>
                <a:lnTo>
                  <a:pt x="352" y="1188"/>
                </a:lnTo>
                <a:lnTo>
                  <a:pt x="471" y="1192"/>
                </a:lnTo>
                <a:lnTo>
                  <a:pt x="586" y="1192"/>
                </a:lnTo>
                <a:lnTo>
                  <a:pt x="706" y="1192"/>
                </a:lnTo>
                <a:lnTo>
                  <a:pt x="816" y="1174"/>
                </a:lnTo>
                <a:lnTo>
                  <a:pt x="913" y="1166"/>
                </a:lnTo>
                <a:lnTo>
                  <a:pt x="1019" y="1148"/>
                </a:lnTo>
                <a:lnTo>
                  <a:pt x="1090" y="1135"/>
                </a:lnTo>
                <a:lnTo>
                  <a:pt x="1319" y="1064"/>
                </a:lnTo>
                <a:lnTo>
                  <a:pt x="1588" y="985"/>
                </a:lnTo>
                <a:lnTo>
                  <a:pt x="1738" y="945"/>
                </a:lnTo>
                <a:lnTo>
                  <a:pt x="1835" y="923"/>
                </a:lnTo>
                <a:lnTo>
                  <a:pt x="1951" y="910"/>
                </a:lnTo>
                <a:lnTo>
                  <a:pt x="2043" y="905"/>
                </a:lnTo>
                <a:lnTo>
                  <a:pt x="2550" y="905"/>
                </a:lnTo>
                <a:lnTo>
                  <a:pt x="2550" y="0"/>
                </a:lnTo>
                <a:lnTo>
                  <a:pt x="2118" y="0"/>
                </a:lnTo>
                <a:lnTo>
                  <a:pt x="1977" y="4"/>
                </a:lnTo>
                <a:lnTo>
                  <a:pt x="1861" y="22"/>
                </a:lnTo>
                <a:lnTo>
                  <a:pt x="1734" y="44"/>
                </a:lnTo>
                <a:lnTo>
                  <a:pt x="1606" y="74"/>
                </a:lnTo>
                <a:lnTo>
                  <a:pt x="1460" y="119"/>
                </a:lnTo>
                <a:lnTo>
                  <a:pt x="1359" y="154"/>
                </a:lnTo>
                <a:lnTo>
                  <a:pt x="1244" y="198"/>
                </a:lnTo>
                <a:lnTo>
                  <a:pt x="1121" y="229"/>
                </a:lnTo>
                <a:lnTo>
                  <a:pt x="1010" y="255"/>
                </a:lnTo>
                <a:lnTo>
                  <a:pt x="900" y="277"/>
                </a:lnTo>
                <a:lnTo>
                  <a:pt x="785" y="295"/>
                </a:lnTo>
                <a:lnTo>
                  <a:pt x="697" y="305"/>
                </a:lnTo>
                <a:lnTo>
                  <a:pt x="308" y="300"/>
                </a:lnTo>
                <a:lnTo>
                  <a:pt x="207" y="286"/>
                </a:lnTo>
                <a:lnTo>
                  <a:pt x="123" y="277"/>
                </a:lnTo>
                <a:lnTo>
                  <a:pt x="0" y="273"/>
                </a:lnTo>
                <a:close/>
              </a:path>
            </a:pathLst>
          </a:custGeom>
          <a:solidFill>
            <a:srgbClr val="fcfeb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Instructions for using Flow Charts</dc:title>
</cp:coreProperties>
</file>