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38160" y="38160"/>
            <a:ext cx="9048600" cy="6762600"/>
          </a:xfrm>
          <a:prstGeom prst="rect">
            <a:avLst/>
          </a:prstGeom>
          <a:noFill/>
          <a:ln w="50760">
            <a:solidFill>
              <a:srgbClr val="000000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1563840" y="6224760"/>
            <a:ext cx="6127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oose Ungroup from the Draw menu to edit the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374760" y="324000"/>
            <a:ext cx="8369280" cy="958680"/>
            <a:chOff x="374760" y="324000"/>
            <a:chExt cx="8369280" cy="958680"/>
          </a:xfrm>
        </p:grpSpPr>
        <p:sp>
          <p:nvSpPr>
            <p:cNvPr id="80" name=""/>
            <p:cNvSpPr/>
            <p:nvPr/>
          </p:nvSpPr>
          <p:spPr>
            <a:xfrm>
              <a:off x="374760" y="324000"/>
              <a:ext cx="8369280" cy="958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 txBox="1"/>
            <p:nvPr/>
          </p:nvSpPr>
          <p:spPr>
            <a:xfrm>
              <a:off x="631800" y="517680"/>
              <a:ext cx="6458040" cy="581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9000"/>
                </a:lnSpc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structions for using Table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38160" y="38160"/>
            <a:ext cx="9048600" cy="6762600"/>
          </a:xfrm>
          <a:prstGeom prst="rect">
            <a:avLst/>
          </a:prstGeom>
          <a:noFill/>
          <a:ln w="50760">
            <a:solidFill>
              <a:srgbClr val="000000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74760" y="1523880"/>
            <a:ext cx="8350200" cy="4800600"/>
            <a:chOff x="374760" y="1523880"/>
            <a:chExt cx="8350200" cy="4800600"/>
          </a:xfrm>
        </p:grpSpPr>
        <p:sp>
          <p:nvSpPr>
            <p:cNvPr id="84" name=""/>
            <p:cNvSpPr/>
            <p:nvPr/>
          </p:nvSpPr>
          <p:spPr>
            <a:xfrm>
              <a:off x="374760" y="1523880"/>
              <a:ext cx="8350200" cy="4800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 txBox="1"/>
            <p:nvPr/>
          </p:nvSpPr>
          <p:spPr>
            <a:xfrm>
              <a:off x="666720" y="2152800"/>
              <a:ext cx="2895480" cy="825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you need more columns, you can put two tables next to each other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819000" y="3314880"/>
              <a:ext cx="2362320" cy="837720"/>
              <a:chOff x="819000" y="3314880"/>
              <a:chExt cx="2362320" cy="837720"/>
            </a:xfrm>
          </p:grpSpPr>
          <p:grpSp>
            <p:nvGrpSpPr>
              <p:cNvPr id="87" name=""/>
              <p:cNvGrpSpPr/>
              <p:nvPr/>
            </p:nvGrpSpPr>
            <p:grpSpPr>
              <a:xfrm>
                <a:off x="819000" y="3314880"/>
                <a:ext cx="380880" cy="837720"/>
                <a:chOff x="819000" y="3314880"/>
                <a:chExt cx="380880" cy="837720"/>
              </a:xfrm>
            </p:grpSpPr>
            <p:sp>
              <p:nvSpPr>
                <p:cNvPr id="88" name=""/>
                <p:cNvSpPr txBox="1"/>
                <p:nvPr/>
              </p:nvSpPr>
              <p:spPr>
                <a:xfrm>
                  <a:off x="819000" y="3314880"/>
                  <a:ext cx="380880" cy="228600"/>
                </a:xfrm>
                <a:prstGeom prst="rect">
                  <a:avLst/>
                </a:prstGeom>
                <a:solidFill>
                  <a:srgbClr val="fcfeb9"/>
                </a:solidFill>
                <a:ln w="12600">
                  <a:solidFill>
                    <a:srgbClr val="000000"/>
                  </a:solidFill>
                  <a:round/>
                </a:ln>
                <a:effectLst>
                  <a:outerShdw dist="0" dir="0" blurRad="0" rotWithShape="0">
                    <a:srgbClr val="cecece"/>
                  </a:outerShdw>
                </a:effectLst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itl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 txBox="1"/>
                <p:nvPr/>
              </p:nvSpPr>
              <p:spPr>
                <a:xfrm>
                  <a:off x="819000" y="3543120"/>
                  <a:ext cx="380880" cy="6094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  <a:effectLst>
                  <a:outerShdw dist="0" dir="0" blurRad="0" rotWithShape="0">
                    <a:srgbClr val="cecece"/>
                  </a:outerShdw>
                </a:effectLst>
              </p:spPr>
              <p:txBody>
                <a:bodyPr lIns="0" rIns="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" name=""/>
              <p:cNvSpPr txBox="1"/>
              <p:nvPr/>
            </p:nvSpPr>
            <p:spPr>
              <a:xfrm>
                <a:off x="1184400" y="3557520"/>
                <a:ext cx="392040" cy="519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800" spc="-1" strike="noStrike">
                    <a:solidFill>
                      <a:srgbClr val="0200f8"/>
                    </a:solidFill>
                    <a:latin typeface="Arial"/>
                    <a:ea typeface="Arial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" name=""/>
              <p:cNvGrpSpPr/>
              <p:nvPr/>
            </p:nvGrpSpPr>
            <p:grpSpPr>
              <a:xfrm>
                <a:off x="1581120" y="3314880"/>
                <a:ext cx="380880" cy="837720"/>
                <a:chOff x="1581120" y="3314880"/>
                <a:chExt cx="380880" cy="837720"/>
              </a:xfrm>
            </p:grpSpPr>
            <p:sp>
              <p:nvSpPr>
                <p:cNvPr id="92" name=""/>
                <p:cNvSpPr txBox="1"/>
                <p:nvPr/>
              </p:nvSpPr>
              <p:spPr>
                <a:xfrm>
                  <a:off x="1581120" y="3314880"/>
                  <a:ext cx="380880" cy="228600"/>
                </a:xfrm>
                <a:prstGeom prst="rect">
                  <a:avLst/>
                </a:prstGeom>
                <a:solidFill>
                  <a:srgbClr val="fcfeb9"/>
                </a:solidFill>
                <a:ln w="12600">
                  <a:solidFill>
                    <a:srgbClr val="000000"/>
                  </a:solidFill>
                  <a:round/>
                </a:ln>
                <a:effectLst>
                  <a:outerShdw dist="0" dir="0" blurRad="0" rotWithShape="0">
                    <a:srgbClr val="cecece"/>
                  </a:outerShdw>
                </a:effectLst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itl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 txBox="1"/>
                <p:nvPr/>
              </p:nvSpPr>
              <p:spPr>
                <a:xfrm>
                  <a:off x="1581120" y="3543120"/>
                  <a:ext cx="380880" cy="6094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  <a:effectLst>
                  <a:outerShdw dist="0" dir="0" blurRad="0" rotWithShape="0">
                    <a:srgbClr val="cecece"/>
                  </a:outerShdw>
                </a:effectLst>
              </p:spPr>
              <p:txBody>
                <a:bodyPr lIns="0" rIns="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" name=""/>
              <p:cNvSpPr txBox="1"/>
              <p:nvPr/>
            </p:nvSpPr>
            <p:spPr>
              <a:xfrm>
                <a:off x="2022480" y="3557520"/>
                <a:ext cx="392040" cy="519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800" spc="-1" strike="noStrike">
                    <a:solidFill>
                      <a:srgbClr val="0200f8"/>
                    </a:solidFill>
                    <a:latin typeface="Arial"/>
                    <a:ea typeface="Arial"/>
                  </a:rPr>
                  <a:t>=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" name=""/>
              <p:cNvGrpSpPr/>
              <p:nvPr/>
            </p:nvGrpSpPr>
            <p:grpSpPr>
              <a:xfrm>
                <a:off x="2419200" y="3314880"/>
                <a:ext cx="762120" cy="837720"/>
                <a:chOff x="2419200" y="3314880"/>
                <a:chExt cx="762120" cy="837720"/>
              </a:xfrm>
            </p:grpSpPr>
            <p:grpSp>
              <p:nvGrpSpPr>
                <p:cNvPr id="96" name=""/>
                <p:cNvGrpSpPr/>
                <p:nvPr/>
              </p:nvGrpSpPr>
              <p:grpSpPr>
                <a:xfrm>
                  <a:off x="2419200" y="3314880"/>
                  <a:ext cx="380880" cy="837720"/>
                  <a:chOff x="2419200" y="3314880"/>
                  <a:chExt cx="380880" cy="837720"/>
                </a:xfrm>
              </p:grpSpPr>
              <p:sp>
                <p:nvSpPr>
                  <p:cNvPr id="97" name=""/>
                  <p:cNvSpPr txBox="1"/>
                  <p:nvPr/>
                </p:nvSpPr>
                <p:spPr>
                  <a:xfrm>
                    <a:off x="2419200" y="3314880"/>
                    <a:ext cx="380880" cy="228600"/>
                  </a:xfrm>
                  <a:prstGeom prst="rect">
                    <a:avLst/>
                  </a:prstGeom>
                  <a:solidFill>
                    <a:srgbClr val="fcfeb9"/>
                  </a:solidFill>
                  <a:ln w="12600">
                    <a:solidFill>
                      <a:srgbClr val="000000"/>
                    </a:solidFill>
                    <a:round/>
                  </a:ln>
                  <a:effectLst>
                    <a:outerShdw dist="0" dir="0" blurRad="0" rotWithShape="0">
                      <a:srgbClr val="cecece"/>
                    </a:outerShdw>
                  </a:effectLst>
                </p:spPr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Titl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"/>
                  <p:cNvSpPr txBox="1"/>
                  <p:nvPr/>
                </p:nvSpPr>
                <p:spPr>
                  <a:xfrm>
                    <a:off x="2419200" y="3543120"/>
                    <a:ext cx="380880" cy="60948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  <a:effectLst>
                    <a:outerShdw dist="0" dir="0" blurRad="0" rotWithShape="0">
                      <a:srgbClr val="cecece"/>
                    </a:outerShdw>
                  </a:effectLst>
                </p:spPr>
                <p:txBody>
                  <a:bodyPr lIns="0" rIns="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" name=""/>
                <p:cNvGrpSpPr/>
                <p:nvPr/>
              </p:nvGrpSpPr>
              <p:grpSpPr>
                <a:xfrm>
                  <a:off x="2800440" y="3314880"/>
                  <a:ext cx="380880" cy="837720"/>
                  <a:chOff x="2800440" y="3314880"/>
                  <a:chExt cx="380880" cy="837720"/>
                </a:xfrm>
              </p:grpSpPr>
              <p:sp>
                <p:nvSpPr>
                  <p:cNvPr id="100" name=""/>
                  <p:cNvSpPr txBox="1"/>
                  <p:nvPr/>
                </p:nvSpPr>
                <p:spPr>
                  <a:xfrm>
                    <a:off x="2800440" y="3314880"/>
                    <a:ext cx="380880" cy="228600"/>
                  </a:xfrm>
                  <a:prstGeom prst="rect">
                    <a:avLst/>
                  </a:prstGeom>
                  <a:solidFill>
                    <a:srgbClr val="fcfeb9"/>
                  </a:solidFill>
                  <a:ln w="12600">
                    <a:solidFill>
                      <a:srgbClr val="000000"/>
                    </a:solidFill>
                    <a:round/>
                  </a:ln>
                  <a:effectLst>
                    <a:outerShdw dist="0" dir="0" blurRad="0" rotWithShape="0">
                      <a:srgbClr val="cecece"/>
                    </a:outerShdw>
                  </a:effectLst>
                </p:spPr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Titl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"/>
                  <p:cNvSpPr txBox="1"/>
                  <p:nvPr/>
                </p:nvSpPr>
                <p:spPr>
                  <a:xfrm>
                    <a:off x="2800440" y="3543120"/>
                    <a:ext cx="380880" cy="60948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  <a:effectLst>
                    <a:outerShdw dist="0" dir="0" blurRad="0" rotWithShape="0">
                      <a:srgbClr val="cecece"/>
                    </a:outerShdw>
                  </a:effectLst>
                </p:spPr>
                <p:txBody>
                  <a:bodyPr lIns="0" rIns="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02" name=""/>
            <p:cNvSpPr txBox="1"/>
            <p:nvPr/>
          </p:nvSpPr>
          <p:spPr>
            <a:xfrm>
              <a:off x="666720" y="4457880"/>
              <a:ext cx="2971800" cy="825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With text selected, you can change things like tabs, alignment, and line spacing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 txBox="1"/>
            <p:nvPr/>
          </p:nvSpPr>
          <p:spPr>
            <a:xfrm>
              <a:off x="4381560" y="2152800"/>
              <a:ext cx="2438280" cy="2170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adjust the height or width of your table, use its resize handles to drag the table to the desired size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 may need to adjust the size and line spacing of your text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4343400" y="3489480"/>
              <a:ext cx="4114800" cy="2263680"/>
              <a:chOff x="4343400" y="3489480"/>
              <a:chExt cx="4114800" cy="2263680"/>
            </a:xfrm>
          </p:grpSpPr>
          <p:sp>
            <p:nvSpPr>
              <p:cNvPr id="105" name=""/>
              <p:cNvSpPr txBox="1"/>
              <p:nvPr/>
            </p:nvSpPr>
            <p:spPr>
              <a:xfrm>
                <a:off x="4343400" y="4556160"/>
                <a:ext cx="1600200" cy="282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1" lang="en-US" sz="1800" spc="-1" strike="noStrike">
                    <a:solidFill>
                      <a:srgbClr val="0200f8"/>
                    </a:solidFill>
                    <a:latin typeface="Arial"/>
                    <a:ea typeface="Arial"/>
                  </a:rPr>
                  <a:t>Original..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" name=""/>
              <p:cNvGrpSpPr/>
              <p:nvPr/>
            </p:nvGrpSpPr>
            <p:grpSpPr>
              <a:xfrm>
                <a:off x="4572000" y="4915080"/>
                <a:ext cx="761760" cy="837720"/>
                <a:chOff x="4572000" y="4915080"/>
                <a:chExt cx="761760" cy="837720"/>
              </a:xfrm>
            </p:grpSpPr>
            <p:sp>
              <p:nvSpPr>
                <p:cNvPr id="107" name=""/>
                <p:cNvSpPr txBox="1"/>
                <p:nvPr/>
              </p:nvSpPr>
              <p:spPr>
                <a:xfrm>
                  <a:off x="4572000" y="4915080"/>
                  <a:ext cx="380880" cy="228600"/>
                </a:xfrm>
                <a:prstGeom prst="rect">
                  <a:avLst/>
                </a:prstGeom>
                <a:solidFill>
                  <a:srgbClr val="fcfeb9"/>
                </a:solidFill>
                <a:ln w="12600">
                  <a:solidFill>
                    <a:srgbClr val="000000"/>
                  </a:solidFill>
                  <a:round/>
                </a:ln>
                <a:effectLst>
                  <a:outerShdw dist="0" dir="0" blurRad="0" rotWithShape="0">
                    <a:srgbClr val="cecece"/>
                  </a:outerShdw>
                </a:effectLst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itl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 txBox="1"/>
                <p:nvPr/>
              </p:nvSpPr>
              <p:spPr>
                <a:xfrm>
                  <a:off x="4572000" y="5143320"/>
                  <a:ext cx="380880" cy="6094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  <a:effectLst>
                  <a:outerShdw dist="0" dir="0" blurRad="0" rotWithShape="0">
                    <a:srgbClr val="cecece"/>
                  </a:outerShdw>
                </a:effectLst>
              </p:spPr>
              <p:txBody>
                <a:bodyPr lIns="0" rIns="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 txBox="1"/>
                <p:nvPr/>
              </p:nvSpPr>
              <p:spPr>
                <a:xfrm>
                  <a:off x="4952880" y="4915080"/>
                  <a:ext cx="380880" cy="228600"/>
                </a:xfrm>
                <a:prstGeom prst="rect">
                  <a:avLst/>
                </a:prstGeom>
                <a:solidFill>
                  <a:srgbClr val="fcfeb9"/>
                </a:solidFill>
                <a:ln w="12600">
                  <a:solidFill>
                    <a:srgbClr val="000000"/>
                  </a:solidFill>
                  <a:round/>
                </a:ln>
                <a:effectLst>
                  <a:outerShdw dist="0" dir="0" blurRad="0" rotWithShape="0">
                    <a:srgbClr val="cecece"/>
                  </a:outerShdw>
                </a:effectLst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itl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 txBox="1"/>
                <p:nvPr/>
              </p:nvSpPr>
              <p:spPr>
                <a:xfrm>
                  <a:off x="4952880" y="5143320"/>
                  <a:ext cx="380880" cy="6094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  <a:effectLst>
                  <a:outerShdw dist="0" dir="0" blurRad="0" rotWithShape="0">
                    <a:srgbClr val="cecece"/>
                  </a:outerShdw>
                </a:effectLst>
              </p:spPr>
              <p:txBody>
                <a:bodyPr lIns="0" rIns="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" name=""/>
              <p:cNvSpPr txBox="1"/>
              <p:nvPr/>
            </p:nvSpPr>
            <p:spPr>
              <a:xfrm>
                <a:off x="5867280" y="4556160"/>
                <a:ext cx="1295280" cy="358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1" lang="en-US" sz="1800" spc="-1" strike="noStrike">
                    <a:solidFill>
                      <a:srgbClr val="0200f8"/>
                    </a:solidFill>
                    <a:latin typeface="Arial"/>
                    <a:ea typeface="Arial"/>
                  </a:rPr>
                  <a:t>...wider..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" name=""/>
              <p:cNvGrpSpPr/>
              <p:nvPr/>
            </p:nvGrpSpPr>
            <p:grpSpPr>
              <a:xfrm>
                <a:off x="5715000" y="4915080"/>
                <a:ext cx="1447920" cy="837720"/>
                <a:chOff x="5715000" y="4915080"/>
                <a:chExt cx="1447920" cy="837720"/>
              </a:xfrm>
            </p:grpSpPr>
            <p:sp>
              <p:nvSpPr>
                <p:cNvPr id="113" name=""/>
                <p:cNvSpPr txBox="1"/>
                <p:nvPr/>
              </p:nvSpPr>
              <p:spPr>
                <a:xfrm>
                  <a:off x="5715000" y="4915080"/>
                  <a:ext cx="723960" cy="228600"/>
                </a:xfrm>
                <a:prstGeom prst="rect">
                  <a:avLst/>
                </a:prstGeom>
                <a:solidFill>
                  <a:srgbClr val="fcfeb9"/>
                </a:solidFill>
                <a:ln w="12600">
                  <a:solidFill>
                    <a:srgbClr val="000000"/>
                  </a:solidFill>
                  <a:round/>
                </a:ln>
                <a:effectLst>
                  <a:outerShdw dist="0" dir="0" blurRad="0" rotWithShape="0">
                    <a:srgbClr val="cecece"/>
                  </a:outerShdw>
                </a:effectLst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itl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 txBox="1"/>
                <p:nvPr/>
              </p:nvSpPr>
              <p:spPr>
                <a:xfrm>
                  <a:off x="5715000" y="5143320"/>
                  <a:ext cx="723960" cy="6094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  <a:effectLst>
                  <a:outerShdw dist="0" dir="0" blurRad="0" rotWithShape="0">
                    <a:srgbClr val="cecece"/>
                  </a:outerShdw>
                </a:effectLst>
              </p:spPr>
              <p:txBody>
                <a:bodyPr lIns="0" rIns="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 txBox="1"/>
                <p:nvPr/>
              </p:nvSpPr>
              <p:spPr>
                <a:xfrm>
                  <a:off x="6438960" y="4915080"/>
                  <a:ext cx="723960" cy="228600"/>
                </a:xfrm>
                <a:prstGeom prst="rect">
                  <a:avLst/>
                </a:prstGeom>
                <a:solidFill>
                  <a:srgbClr val="fcfeb9"/>
                </a:solidFill>
                <a:ln w="12600">
                  <a:solidFill>
                    <a:srgbClr val="000000"/>
                  </a:solidFill>
                  <a:round/>
                </a:ln>
                <a:effectLst>
                  <a:outerShdw dist="0" dir="0" blurRad="0" rotWithShape="0">
                    <a:srgbClr val="cecece"/>
                  </a:outerShdw>
                </a:effectLst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itl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 txBox="1"/>
                <p:nvPr/>
              </p:nvSpPr>
              <p:spPr>
                <a:xfrm>
                  <a:off x="6438960" y="5143320"/>
                  <a:ext cx="723960" cy="6094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  <a:effectLst>
                  <a:outerShdw dist="0" dir="0" blurRad="0" rotWithShape="0">
                    <a:srgbClr val="cecece"/>
                  </a:outerShdw>
                </a:effectLst>
              </p:spPr>
              <p:txBody>
                <a:bodyPr lIns="0" rIns="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" name=""/>
              <p:cNvSpPr txBox="1"/>
              <p:nvPr/>
            </p:nvSpPr>
            <p:spPr>
              <a:xfrm>
                <a:off x="7315200" y="3489480"/>
                <a:ext cx="1143000" cy="358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1" lang="en-US" sz="1800" spc="-1" strike="noStrike">
                    <a:solidFill>
                      <a:srgbClr val="0200f8"/>
                    </a:solidFill>
                    <a:latin typeface="Arial"/>
                    <a:ea typeface="Arial"/>
                  </a:rPr>
                  <a:t>...taller!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7467480" y="3848040"/>
                <a:ext cx="762120" cy="1905120"/>
                <a:chOff x="7467480" y="3848040"/>
                <a:chExt cx="762120" cy="1905120"/>
              </a:xfrm>
            </p:grpSpPr>
            <p:sp>
              <p:nvSpPr>
                <p:cNvPr id="119" name=""/>
                <p:cNvSpPr txBox="1"/>
                <p:nvPr/>
              </p:nvSpPr>
              <p:spPr>
                <a:xfrm>
                  <a:off x="7467480" y="3848040"/>
                  <a:ext cx="380880" cy="519120"/>
                </a:xfrm>
                <a:prstGeom prst="rect">
                  <a:avLst/>
                </a:prstGeom>
                <a:solidFill>
                  <a:srgbClr val="fcfeb9"/>
                </a:solidFill>
                <a:ln w="12600">
                  <a:solidFill>
                    <a:srgbClr val="000000"/>
                  </a:solidFill>
                  <a:round/>
                </a:ln>
                <a:effectLst>
                  <a:outerShdw dist="0" dir="0" blurRad="0" rotWithShape="0">
                    <a:srgbClr val="cecece"/>
                  </a:outerShdw>
                </a:effectLst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itl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 txBox="1"/>
                <p:nvPr/>
              </p:nvSpPr>
              <p:spPr>
                <a:xfrm>
                  <a:off x="7467480" y="4367160"/>
                  <a:ext cx="380880" cy="13860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  <a:effectLst>
                  <a:outerShdw dist="0" dir="0" blurRad="0" rotWithShape="0">
                    <a:srgbClr val="cecece"/>
                  </a:outerShdw>
                </a:effectLst>
              </p:spPr>
              <p:txBody>
                <a:bodyPr lIns="0" rIns="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 txBox="1"/>
                <p:nvPr/>
              </p:nvSpPr>
              <p:spPr>
                <a:xfrm>
                  <a:off x="7848720" y="3848040"/>
                  <a:ext cx="380880" cy="519120"/>
                </a:xfrm>
                <a:prstGeom prst="rect">
                  <a:avLst/>
                </a:prstGeom>
                <a:solidFill>
                  <a:srgbClr val="fcfeb9"/>
                </a:solidFill>
                <a:ln w="12600">
                  <a:solidFill>
                    <a:srgbClr val="000000"/>
                  </a:solidFill>
                  <a:round/>
                </a:ln>
                <a:effectLst>
                  <a:outerShdw dist="0" dir="0" blurRad="0" rotWithShape="0">
                    <a:srgbClr val="cecece"/>
                  </a:outerShdw>
                </a:effectLst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itl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 txBox="1"/>
                <p:nvPr/>
              </p:nvSpPr>
              <p:spPr>
                <a:xfrm>
                  <a:off x="7848720" y="4367160"/>
                  <a:ext cx="380880" cy="13860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  <a:effectLst>
                  <a:outerShdw dist="0" dir="0" blurRad="0" rotWithShape="0">
                    <a:srgbClr val="cecece"/>
                  </a:outerShdw>
                </a:effectLst>
              </p:spPr>
              <p:txBody>
                <a:bodyPr lIns="0" rIns="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277920" y="822240"/>
            <a:ext cx="8561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9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-Column x 10-Row Ch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914400" y="1523880"/>
            <a:ext cx="7239240" cy="4343400"/>
            <a:chOff x="914400" y="1523880"/>
            <a:chExt cx="7239240" cy="4343400"/>
          </a:xfrm>
        </p:grpSpPr>
        <p:sp>
          <p:nvSpPr>
            <p:cNvPr id="267" name=""/>
            <p:cNvSpPr txBox="1"/>
            <p:nvPr/>
          </p:nvSpPr>
          <p:spPr>
            <a:xfrm>
              <a:off x="914400" y="1523880"/>
              <a:ext cx="1447920" cy="5335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 txBox="1"/>
            <p:nvPr/>
          </p:nvSpPr>
          <p:spPr>
            <a:xfrm>
              <a:off x="2362320" y="1523880"/>
              <a:ext cx="1447920" cy="5335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 txBox="1"/>
            <p:nvPr/>
          </p:nvSpPr>
          <p:spPr>
            <a:xfrm>
              <a:off x="3809880" y="1523880"/>
              <a:ext cx="1447920" cy="5335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 txBox="1"/>
            <p:nvPr/>
          </p:nvSpPr>
          <p:spPr>
            <a:xfrm>
              <a:off x="5257800" y="1523880"/>
              <a:ext cx="1447920" cy="5335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 txBox="1"/>
            <p:nvPr/>
          </p:nvSpPr>
          <p:spPr>
            <a:xfrm>
              <a:off x="6705720" y="1523880"/>
              <a:ext cx="1447920" cy="5335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 txBox="1"/>
            <p:nvPr/>
          </p:nvSpPr>
          <p:spPr>
            <a:xfrm>
              <a:off x="914400" y="2057400"/>
              <a:ext cx="1447920" cy="3808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 txBox="1"/>
            <p:nvPr/>
          </p:nvSpPr>
          <p:spPr>
            <a:xfrm>
              <a:off x="2362320" y="2057400"/>
              <a:ext cx="14479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 txBox="1"/>
            <p:nvPr/>
          </p:nvSpPr>
          <p:spPr>
            <a:xfrm>
              <a:off x="3809880" y="2057400"/>
              <a:ext cx="14479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 txBox="1"/>
            <p:nvPr/>
          </p:nvSpPr>
          <p:spPr>
            <a:xfrm>
              <a:off x="5257800" y="2057400"/>
              <a:ext cx="14479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 txBox="1"/>
            <p:nvPr/>
          </p:nvSpPr>
          <p:spPr>
            <a:xfrm>
              <a:off x="6705720" y="2057400"/>
              <a:ext cx="14479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 txBox="1"/>
            <p:nvPr/>
          </p:nvSpPr>
          <p:spPr>
            <a:xfrm>
              <a:off x="914400" y="2438280"/>
              <a:ext cx="1447920" cy="3808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 txBox="1"/>
            <p:nvPr/>
          </p:nvSpPr>
          <p:spPr>
            <a:xfrm>
              <a:off x="2362320" y="2438280"/>
              <a:ext cx="14479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 txBox="1"/>
            <p:nvPr/>
          </p:nvSpPr>
          <p:spPr>
            <a:xfrm>
              <a:off x="3809880" y="2438280"/>
              <a:ext cx="14479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 txBox="1"/>
            <p:nvPr/>
          </p:nvSpPr>
          <p:spPr>
            <a:xfrm>
              <a:off x="5257800" y="2438280"/>
              <a:ext cx="14479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 txBox="1"/>
            <p:nvPr/>
          </p:nvSpPr>
          <p:spPr>
            <a:xfrm>
              <a:off x="6705720" y="2438280"/>
              <a:ext cx="14479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 txBox="1"/>
            <p:nvPr/>
          </p:nvSpPr>
          <p:spPr>
            <a:xfrm>
              <a:off x="914400" y="2819520"/>
              <a:ext cx="1447920" cy="3808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 txBox="1"/>
            <p:nvPr/>
          </p:nvSpPr>
          <p:spPr>
            <a:xfrm>
              <a:off x="2362320" y="2819520"/>
              <a:ext cx="14479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 txBox="1"/>
            <p:nvPr/>
          </p:nvSpPr>
          <p:spPr>
            <a:xfrm>
              <a:off x="3809880" y="2819520"/>
              <a:ext cx="14479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 txBox="1"/>
            <p:nvPr/>
          </p:nvSpPr>
          <p:spPr>
            <a:xfrm>
              <a:off x="5257800" y="2819520"/>
              <a:ext cx="14479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 txBox="1"/>
            <p:nvPr/>
          </p:nvSpPr>
          <p:spPr>
            <a:xfrm>
              <a:off x="6705720" y="2819520"/>
              <a:ext cx="14479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 txBox="1"/>
            <p:nvPr/>
          </p:nvSpPr>
          <p:spPr>
            <a:xfrm>
              <a:off x="914400" y="3200400"/>
              <a:ext cx="1447920" cy="3808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 txBox="1"/>
            <p:nvPr/>
          </p:nvSpPr>
          <p:spPr>
            <a:xfrm>
              <a:off x="2362320" y="3200400"/>
              <a:ext cx="14479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 txBox="1"/>
            <p:nvPr/>
          </p:nvSpPr>
          <p:spPr>
            <a:xfrm>
              <a:off x="3809880" y="3200400"/>
              <a:ext cx="14479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 txBox="1"/>
            <p:nvPr/>
          </p:nvSpPr>
          <p:spPr>
            <a:xfrm>
              <a:off x="5257800" y="3200400"/>
              <a:ext cx="14479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 txBox="1"/>
            <p:nvPr/>
          </p:nvSpPr>
          <p:spPr>
            <a:xfrm>
              <a:off x="6705720" y="3200400"/>
              <a:ext cx="14479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 txBox="1"/>
            <p:nvPr/>
          </p:nvSpPr>
          <p:spPr>
            <a:xfrm>
              <a:off x="914400" y="3581280"/>
              <a:ext cx="1447920" cy="3808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 txBox="1"/>
            <p:nvPr/>
          </p:nvSpPr>
          <p:spPr>
            <a:xfrm>
              <a:off x="2362320" y="3581280"/>
              <a:ext cx="14479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 txBox="1"/>
            <p:nvPr/>
          </p:nvSpPr>
          <p:spPr>
            <a:xfrm>
              <a:off x="3809880" y="3581280"/>
              <a:ext cx="14479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 txBox="1"/>
            <p:nvPr/>
          </p:nvSpPr>
          <p:spPr>
            <a:xfrm>
              <a:off x="5257800" y="3581280"/>
              <a:ext cx="14479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 txBox="1"/>
            <p:nvPr/>
          </p:nvSpPr>
          <p:spPr>
            <a:xfrm>
              <a:off x="6705720" y="3581280"/>
              <a:ext cx="14479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 txBox="1"/>
            <p:nvPr/>
          </p:nvSpPr>
          <p:spPr>
            <a:xfrm>
              <a:off x="914400" y="3962520"/>
              <a:ext cx="1447920" cy="3808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 txBox="1"/>
            <p:nvPr/>
          </p:nvSpPr>
          <p:spPr>
            <a:xfrm>
              <a:off x="2362320" y="3962520"/>
              <a:ext cx="14479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 txBox="1"/>
            <p:nvPr/>
          </p:nvSpPr>
          <p:spPr>
            <a:xfrm>
              <a:off x="3809880" y="3962520"/>
              <a:ext cx="14479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 txBox="1"/>
            <p:nvPr/>
          </p:nvSpPr>
          <p:spPr>
            <a:xfrm>
              <a:off x="5257800" y="3962520"/>
              <a:ext cx="14479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 txBox="1"/>
            <p:nvPr/>
          </p:nvSpPr>
          <p:spPr>
            <a:xfrm>
              <a:off x="6705720" y="3962520"/>
              <a:ext cx="14479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 txBox="1"/>
            <p:nvPr/>
          </p:nvSpPr>
          <p:spPr>
            <a:xfrm>
              <a:off x="914400" y="4343400"/>
              <a:ext cx="1447920" cy="3808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 txBox="1"/>
            <p:nvPr/>
          </p:nvSpPr>
          <p:spPr>
            <a:xfrm>
              <a:off x="2362320" y="4343400"/>
              <a:ext cx="14479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 txBox="1"/>
            <p:nvPr/>
          </p:nvSpPr>
          <p:spPr>
            <a:xfrm>
              <a:off x="3809880" y="4343400"/>
              <a:ext cx="14479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 txBox="1"/>
            <p:nvPr/>
          </p:nvSpPr>
          <p:spPr>
            <a:xfrm>
              <a:off x="5257800" y="4343400"/>
              <a:ext cx="14479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 txBox="1"/>
            <p:nvPr/>
          </p:nvSpPr>
          <p:spPr>
            <a:xfrm>
              <a:off x="6705720" y="4343400"/>
              <a:ext cx="14479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 txBox="1"/>
            <p:nvPr/>
          </p:nvSpPr>
          <p:spPr>
            <a:xfrm>
              <a:off x="914400" y="4724280"/>
              <a:ext cx="1447920" cy="3808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 txBox="1"/>
            <p:nvPr/>
          </p:nvSpPr>
          <p:spPr>
            <a:xfrm>
              <a:off x="2362320" y="4724280"/>
              <a:ext cx="14479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 txBox="1"/>
            <p:nvPr/>
          </p:nvSpPr>
          <p:spPr>
            <a:xfrm>
              <a:off x="3809880" y="4724280"/>
              <a:ext cx="14479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 txBox="1"/>
            <p:nvPr/>
          </p:nvSpPr>
          <p:spPr>
            <a:xfrm>
              <a:off x="5257800" y="4724280"/>
              <a:ext cx="14479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 txBox="1"/>
            <p:nvPr/>
          </p:nvSpPr>
          <p:spPr>
            <a:xfrm>
              <a:off x="6705720" y="4724280"/>
              <a:ext cx="14479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 txBox="1"/>
            <p:nvPr/>
          </p:nvSpPr>
          <p:spPr>
            <a:xfrm>
              <a:off x="914400" y="5105520"/>
              <a:ext cx="1447920" cy="3808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 txBox="1"/>
            <p:nvPr/>
          </p:nvSpPr>
          <p:spPr>
            <a:xfrm>
              <a:off x="2362320" y="5105520"/>
              <a:ext cx="14479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 txBox="1"/>
            <p:nvPr/>
          </p:nvSpPr>
          <p:spPr>
            <a:xfrm>
              <a:off x="3809880" y="5105520"/>
              <a:ext cx="14479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 txBox="1"/>
            <p:nvPr/>
          </p:nvSpPr>
          <p:spPr>
            <a:xfrm>
              <a:off x="5257800" y="5105520"/>
              <a:ext cx="14479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 txBox="1"/>
            <p:nvPr/>
          </p:nvSpPr>
          <p:spPr>
            <a:xfrm>
              <a:off x="6705720" y="5105520"/>
              <a:ext cx="14479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 txBox="1"/>
            <p:nvPr/>
          </p:nvSpPr>
          <p:spPr>
            <a:xfrm>
              <a:off x="914400" y="5486400"/>
              <a:ext cx="1447920" cy="3808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 txBox="1"/>
            <p:nvPr/>
          </p:nvSpPr>
          <p:spPr>
            <a:xfrm>
              <a:off x="2362320" y="5486400"/>
              <a:ext cx="14479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 txBox="1"/>
            <p:nvPr/>
          </p:nvSpPr>
          <p:spPr>
            <a:xfrm>
              <a:off x="3809880" y="5486400"/>
              <a:ext cx="14479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 txBox="1"/>
            <p:nvPr/>
          </p:nvSpPr>
          <p:spPr>
            <a:xfrm>
              <a:off x="5257800" y="5486400"/>
              <a:ext cx="14479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 txBox="1"/>
            <p:nvPr/>
          </p:nvSpPr>
          <p:spPr>
            <a:xfrm>
              <a:off x="6705720" y="5486400"/>
              <a:ext cx="14479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277920" y="822240"/>
            <a:ext cx="8561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9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 and 3-Column Left-Aligned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685800" y="1828800"/>
            <a:ext cx="2895840" cy="3257280"/>
            <a:chOff x="685800" y="1828800"/>
            <a:chExt cx="2895840" cy="3257280"/>
          </a:xfrm>
        </p:grpSpPr>
        <p:sp>
          <p:nvSpPr>
            <p:cNvPr id="125" name=""/>
            <p:cNvSpPr txBox="1"/>
            <p:nvPr/>
          </p:nvSpPr>
          <p:spPr>
            <a:xfrm>
              <a:off x="685800" y="1828800"/>
              <a:ext cx="1447920" cy="5335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umn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 txBox="1"/>
            <p:nvPr/>
          </p:nvSpPr>
          <p:spPr>
            <a:xfrm>
              <a:off x="685800" y="2362320"/>
              <a:ext cx="1447920" cy="2723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ft-Align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ft-Align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ft-Align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 txBox="1"/>
            <p:nvPr/>
          </p:nvSpPr>
          <p:spPr>
            <a:xfrm>
              <a:off x="2133720" y="1828800"/>
              <a:ext cx="1447920" cy="5335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umn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 txBox="1"/>
            <p:nvPr/>
          </p:nvSpPr>
          <p:spPr>
            <a:xfrm>
              <a:off x="2133720" y="2362320"/>
              <a:ext cx="1447920" cy="2723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ft-Align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ft-Align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ft-Align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038480" y="1828800"/>
            <a:ext cx="4343760" cy="3257280"/>
            <a:chOff x="4038480" y="1828800"/>
            <a:chExt cx="4343760" cy="3257280"/>
          </a:xfrm>
        </p:grpSpPr>
        <p:sp>
          <p:nvSpPr>
            <p:cNvPr id="130" name=""/>
            <p:cNvSpPr txBox="1"/>
            <p:nvPr/>
          </p:nvSpPr>
          <p:spPr>
            <a:xfrm>
              <a:off x="4038480" y="1828800"/>
              <a:ext cx="1447920" cy="5335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umn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 txBox="1"/>
            <p:nvPr/>
          </p:nvSpPr>
          <p:spPr>
            <a:xfrm>
              <a:off x="4038480" y="2362320"/>
              <a:ext cx="1447920" cy="2723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ft-Align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ft-Align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ft-Align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 txBox="1"/>
            <p:nvPr/>
          </p:nvSpPr>
          <p:spPr>
            <a:xfrm>
              <a:off x="5486400" y="1828800"/>
              <a:ext cx="1447920" cy="5335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umn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 txBox="1"/>
            <p:nvPr/>
          </p:nvSpPr>
          <p:spPr>
            <a:xfrm>
              <a:off x="5486400" y="2362320"/>
              <a:ext cx="1447920" cy="2723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ft-Align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ft-Align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ft-Align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 txBox="1"/>
            <p:nvPr/>
          </p:nvSpPr>
          <p:spPr>
            <a:xfrm>
              <a:off x="6934320" y="1828800"/>
              <a:ext cx="1447920" cy="5335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umn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 txBox="1"/>
            <p:nvPr/>
          </p:nvSpPr>
          <p:spPr>
            <a:xfrm>
              <a:off x="6934320" y="2362320"/>
              <a:ext cx="1447920" cy="2723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ft-Align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ft-Align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ft-Align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277920" y="822240"/>
            <a:ext cx="8561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9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-Column Left-Aligned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676520" y="1828800"/>
            <a:ext cx="5791320" cy="3257280"/>
            <a:chOff x="1676520" y="1828800"/>
            <a:chExt cx="5791320" cy="3257280"/>
          </a:xfrm>
        </p:grpSpPr>
        <p:sp>
          <p:nvSpPr>
            <p:cNvPr id="138" name=""/>
            <p:cNvSpPr txBox="1"/>
            <p:nvPr/>
          </p:nvSpPr>
          <p:spPr>
            <a:xfrm>
              <a:off x="1676520" y="1828800"/>
              <a:ext cx="1447920" cy="5335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umn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 txBox="1"/>
            <p:nvPr/>
          </p:nvSpPr>
          <p:spPr>
            <a:xfrm>
              <a:off x="1676520" y="2362320"/>
              <a:ext cx="1447920" cy="2723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ft-Align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ft-Align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ft-Align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 txBox="1"/>
            <p:nvPr/>
          </p:nvSpPr>
          <p:spPr>
            <a:xfrm>
              <a:off x="3124080" y="1828800"/>
              <a:ext cx="1447920" cy="5335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umn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 txBox="1"/>
            <p:nvPr/>
          </p:nvSpPr>
          <p:spPr>
            <a:xfrm>
              <a:off x="3124080" y="2362320"/>
              <a:ext cx="1447920" cy="2723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ft-Align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ft-Align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ft-Align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 txBox="1"/>
            <p:nvPr/>
          </p:nvSpPr>
          <p:spPr>
            <a:xfrm>
              <a:off x="4572000" y="1828800"/>
              <a:ext cx="1447920" cy="5335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umn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 txBox="1"/>
            <p:nvPr/>
          </p:nvSpPr>
          <p:spPr>
            <a:xfrm>
              <a:off x="4572000" y="2362320"/>
              <a:ext cx="1447920" cy="2723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ft-Align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ft-Align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ft-Align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 txBox="1"/>
            <p:nvPr/>
          </p:nvSpPr>
          <p:spPr>
            <a:xfrm>
              <a:off x="6019920" y="1828800"/>
              <a:ext cx="1447920" cy="5335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umn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 txBox="1"/>
            <p:nvPr/>
          </p:nvSpPr>
          <p:spPr>
            <a:xfrm>
              <a:off x="6019920" y="2362320"/>
              <a:ext cx="1447920" cy="2723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ft-Align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ft-Align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ft-Align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77920" y="822240"/>
            <a:ext cx="8561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9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 and 3-Column Center-Aligned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609480" y="1828800"/>
            <a:ext cx="2895840" cy="3257280"/>
            <a:chOff x="609480" y="1828800"/>
            <a:chExt cx="2895840" cy="3257280"/>
          </a:xfrm>
        </p:grpSpPr>
        <p:sp>
          <p:nvSpPr>
            <p:cNvPr id="148" name=""/>
            <p:cNvSpPr txBox="1"/>
            <p:nvPr/>
          </p:nvSpPr>
          <p:spPr>
            <a:xfrm>
              <a:off x="609480" y="1828800"/>
              <a:ext cx="1447920" cy="5335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umn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 txBox="1"/>
            <p:nvPr/>
          </p:nvSpPr>
          <p:spPr>
            <a:xfrm>
              <a:off x="609480" y="2362320"/>
              <a:ext cx="1447920" cy="2723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enter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enter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enter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 txBox="1"/>
            <p:nvPr/>
          </p:nvSpPr>
          <p:spPr>
            <a:xfrm>
              <a:off x="2057400" y="1828800"/>
              <a:ext cx="1447920" cy="5335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umn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 txBox="1"/>
            <p:nvPr/>
          </p:nvSpPr>
          <p:spPr>
            <a:xfrm>
              <a:off x="2057400" y="2362320"/>
              <a:ext cx="1447920" cy="2723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enter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enter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enter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4038480" y="1828800"/>
            <a:ext cx="4343760" cy="3257280"/>
            <a:chOff x="4038480" y="1828800"/>
            <a:chExt cx="4343760" cy="3257280"/>
          </a:xfrm>
        </p:grpSpPr>
        <p:sp>
          <p:nvSpPr>
            <p:cNvPr id="153" name=""/>
            <p:cNvSpPr txBox="1"/>
            <p:nvPr/>
          </p:nvSpPr>
          <p:spPr>
            <a:xfrm>
              <a:off x="4038480" y="1828800"/>
              <a:ext cx="1447920" cy="5335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umn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 txBox="1"/>
            <p:nvPr/>
          </p:nvSpPr>
          <p:spPr>
            <a:xfrm>
              <a:off x="4038480" y="2362320"/>
              <a:ext cx="1447920" cy="2723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enter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enter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enter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 txBox="1"/>
            <p:nvPr/>
          </p:nvSpPr>
          <p:spPr>
            <a:xfrm>
              <a:off x="5486400" y="1828800"/>
              <a:ext cx="1447920" cy="5335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umn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 txBox="1"/>
            <p:nvPr/>
          </p:nvSpPr>
          <p:spPr>
            <a:xfrm>
              <a:off x="5486400" y="2362320"/>
              <a:ext cx="1447920" cy="2723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enter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enter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enter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 txBox="1"/>
            <p:nvPr/>
          </p:nvSpPr>
          <p:spPr>
            <a:xfrm>
              <a:off x="6934320" y="1828800"/>
              <a:ext cx="1447920" cy="5335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umn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 txBox="1"/>
            <p:nvPr/>
          </p:nvSpPr>
          <p:spPr>
            <a:xfrm>
              <a:off x="6934320" y="2362320"/>
              <a:ext cx="1447920" cy="2723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enter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enter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enter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277920" y="822240"/>
            <a:ext cx="8561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9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-Column Center-Aligned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676520" y="1828800"/>
            <a:ext cx="5791320" cy="3257280"/>
            <a:chOff x="1676520" y="1828800"/>
            <a:chExt cx="5791320" cy="3257280"/>
          </a:xfrm>
        </p:grpSpPr>
        <p:sp>
          <p:nvSpPr>
            <p:cNvPr id="161" name=""/>
            <p:cNvSpPr txBox="1"/>
            <p:nvPr/>
          </p:nvSpPr>
          <p:spPr>
            <a:xfrm>
              <a:off x="1676520" y="1828800"/>
              <a:ext cx="1447920" cy="5335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umn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 txBox="1"/>
            <p:nvPr/>
          </p:nvSpPr>
          <p:spPr>
            <a:xfrm>
              <a:off x="1676520" y="2362320"/>
              <a:ext cx="1447920" cy="2723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enter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enter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enter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 txBox="1"/>
            <p:nvPr/>
          </p:nvSpPr>
          <p:spPr>
            <a:xfrm>
              <a:off x="3124080" y="1828800"/>
              <a:ext cx="1447920" cy="5335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umn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 txBox="1"/>
            <p:nvPr/>
          </p:nvSpPr>
          <p:spPr>
            <a:xfrm>
              <a:off x="3124080" y="2362320"/>
              <a:ext cx="1447920" cy="2723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enter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enter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enter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 txBox="1"/>
            <p:nvPr/>
          </p:nvSpPr>
          <p:spPr>
            <a:xfrm>
              <a:off x="4572000" y="1828800"/>
              <a:ext cx="1447920" cy="5335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umn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 txBox="1"/>
            <p:nvPr/>
          </p:nvSpPr>
          <p:spPr>
            <a:xfrm>
              <a:off x="4572000" y="2362320"/>
              <a:ext cx="1447920" cy="2723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enter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enter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enter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 txBox="1"/>
            <p:nvPr/>
          </p:nvSpPr>
          <p:spPr>
            <a:xfrm>
              <a:off x="6019920" y="1828800"/>
              <a:ext cx="1447920" cy="5335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umn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 txBox="1"/>
            <p:nvPr/>
          </p:nvSpPr>
          <p:spPr>
            <a:xfrm>
              <a:off x="6019920" y="2362320"/>
              <a:ext cx="1447920" cy="2723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enter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enter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401"/>
                </a:spcBef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enter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277920" y="822240"/>
            <a:ext cx="8561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9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-Column x 3-Row Grid Ch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914400" y="1523880"/>
            <a:ext cx="7238880" cy="3733920"/>
            <a:chOff x="914400" y="1523880"/>
            <a:chExt cx="7238880" cy="3733920"/>
          </a:xfrm>
        </p:grpSpPr>
        <p:sp>
          <p:nvSpPr>
            <p:cNvPr id="171" name=""/>
            <p:cNvSpPr txBox="1"/>
            <p:nvPr/>
          </p:nvSpPr>
          <p:spPr>
            <a:xfrm>
              <a:off x="914400" y="1523880"/>
              <a:ext cx="1447920" cy="5335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 txBox="1"/>
            <p:nvPr/>
          </p:nvSpPr>
          <p:spPr>
            <a:xfrm>
              <a:off x="2362320" y="1523880"/>
              <a:ext cx="2895480" cy="5335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 txBox="1"/>
            <p:nvPr/>
          </p:nvSpPr>
          <p:spPr>
            <a:xfrm>
              <a:off x="5257800" y="1523880"/>
              <a:ext cx="2895480" cy="5335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 txBox="1"/>
            <p:nvPr/>
          </p:nvSpPr>
          <p:spPr>
            <a:xfrm>
              <a:off x="914400" y="2057400"/>
              <a:ext cx="144792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 txBox="1"/>
            <p:nvPr/>
          </p:nvSpPr>
          <p:spPr>
            <a:xfrm>
              <a:off x="2362320" y="2057400"/>
              <a:ext cx="2895480" cy="1066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 txBox="1"/>
            <p:nvPr/>
          </p:nvSpPr>
          <p:spPr>
            <a:xfrm>
              <a:off x="5257800" y="2057400"/>
              <a:ext cx="2895480" cy="1066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 txBox="1"/>
            <p:nvPr/>
          </p:nvSpPr>
          <p:spPr>
            <a:xfrm>
              <a:off x="914400" y="3124080"/>
              <a:ext cx="144792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 txBox="1"/>
            <p:nvPr/>
          </p:nvSpPr>
          <p:spPr>
            <a:xfrm>
              <a:off x="2362320" y="3124080"/>
              <a:ext cx="2895480" cy="1066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 txBox="1"/>
            <p:nvPr/>
          </p:nvSpPr>
          <p:spPr>
            <a:xfrm>
              <a:off x="5257800" y="3124080"/>
              <a:ext cx="2895480" cy="1066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 txBox="1"/>
            <p:nvPr/>
          </p:nvSpPr>
          <p:spPr>
            <a:xfrm>
              <a:off x="914400" y="4191120"/>
              <a:ext cx="144792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 txBox="1"/>
            <p:nvPr/>
          </p:nvSpPr>
          <p:spPr>
            <a:xfrm>
              <a:off x="2362320" y="4191120"/>
              <a:ext cx="2895480" cy="1066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 txBox="1"/>
            <p:nvPr/>
          </p:nvSpPr>
          <p:spPr>
            <a:xfrm>
              <a:off x="5257800" y="4191120"/>
              <a:ext cx="2895480" cy="1066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277920" y="822240"/>
            <a:ext cx="8561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9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-Column x 6-Row Grid Ch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914400" y="1523880"/>
            <a:ext cx="7238880" cy="3733920"/>
            <a:chOff x="914400" y="1523880"/>
            <a:chExt cx="7238880" cy="3733920"/>
          </a:xfrm>
        </p:grpSpPr>
        <p:sp>
          <p:nvSpPr>
            <p:cNvPr id="185" name=""/>
            <p:cNvSpPr txBox="1"/>
            <p:nvPr/>
          </p:nvSpPr>
          <p:spPr>
            <a:xfrm>
              <a:off x="914400" y="1523880"/>
              <a:ext cx="1447920" cy="5335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 txBox="1"/>
            <p:nvPr/>
          </p:nvSpPr>
          <p:spPr>
            <a:xfrm>
              <a:off x="2362320" y="1523880"/>
              <a:ext cx="2895480" cy="5335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 txBox="1"/>
            <p:nvPr/>
          </p:nvSpPr>
          <p:spPr>
            <a:xfrm>
              <a:off x="5257800" y="1523880"/>
              <a:ext cx="2895480" cy="5335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 txBox="1"/>
            <p:nvPr/>
          </p:nvSpPr>
          <p:spPr>
            <a:xfrm>
              <a:off x="914400" y="2057400"/>
              <a:ext cx="1447920" cy="5335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 txBox="1"/>
            <p:nvPr/>
          </p:nvSpPr>
          <p:spPr>
            <a:xfrm>
              <a:off x="2362320" y="2057400"/>
              <a:ext cx="289548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 txBox="1"/>
            <p:nvPr/>
          </p:nvSpPr>
          <p:spPr>
            <a:xfrm>
              <a:off x="5257800" y="2057400"/>
              <a:ext cx="289548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 txBox="1"/>
            <p:nvPr/>
          </p:nvSpPr>
          <p:spPr>
            <a:xfrm>
              <a:off x="914400" y="2590920"/>
              <a:ext cx="1447920" cy="5335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 txBox="1"/>
            <p:nvPr/>
          </p:nvSpPr>
          <p:spPr>
            <a:xfrm>
              <a:off x="2362320" y="2590920"/>
              <a:ext cx="289548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 txBox="1"/>
            <p:nvPr/>
          </p:nvSpPr>
          <p:spPr>
            <a:xfrm>
              <a:off x="5257800" y="2590920"/>
              <a:ext cx="289548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 txBox="1"/>
            <p:nvPr/>
          </p:nvSpPr>
          <p:spPr>
            <a:xfrm>
              <a:off x="914400" y="3124080"/>
              <a:ext cx="1447920" cy="5335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 txBox="1"/>
            <p:nvPr/>
          </p:nvSpPr>
          <p:spPr>
            <a:xfrm>
              <a:off x="2362320" y="3124080"/>
              <a:ext cx="289548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 txBox="1"/>
            <p:nvPr/>
          </p:nvSpPr>
          <p:spPr>
            <a:xfrm>
              <a:off x="5257800" y="3124080"/>
              <a:ext cx="289548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 txBox="1"/>
            <p:nvPr/>
          </p:nvSpPr>
          <p:spPr>
            <a:xfrm>
              <a:off x="914400" y="3657600"/>
              <a:ext cx="1447920" cy="5335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 txBox="1"/>
            <p:nvPr/>
          </p:nvSpPr>
          <p:spPr>
            <a:xfrm>
              <a:off x="2362320" y="3657600"/>
              <a:ext cx="289548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 txBox="1"/>
            <p:nvPr/>
          </p:nvSpPr>
          <p:spPr>
            <a:xfrm>
              <a:off x="5257800" y="3657600"/>
              <a:ext cx="289548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 txBox="1"/>
            <p:nvPr/>
          </p:nvSpPr>
          <p:spPr>
            <a:xfrm>
              <a:off x="914400" y="4191120"/>
              <a:ext cx="1447920" cy="5335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 txBox="1"/>
            <p:nvPr/>
          </p:nvSpPr>
          <p:spPr>
            <a:xfrm>
              <a:off x="2362320" y="4191120"/>
              <a:ext cx="289548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 txBox="1"/>
            <p:nvPr/>
          </p:nvSpPr>
          <p:spPr>
            <a:xfrm>
              <a:off x="5257800" y="4191120"/>
              <a:ext cx="289548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 txBox="1"/>
            <p:nvPr/>
          </p:nvSpPr>
          <p:spPr>
            <a:xfrm>
              <a:off x="914400" y="4724280"/>
              <a:ext cx="1447920" cy="5335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 txBox="1"/>
            <p:nvPr/>
          </p:nvSpPr>
          <p:spPr>
            <a:xfrm>
              <a:off x="2362320" y="4724280"/>
              <a:ext cx="289548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 txBox="1"/>
            <p:nvPr/>
          </p:nvSpPr>
          <p:spPr>
            <a:xfrm>
              <a:off x="5257800" y="4724280"/>
              <a:ext cx="289548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77920" y="822240"/>
            <a:ext cx="8561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9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-Column x 3-Row Grid Ch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914400" y="1523880"/>
            <a:ext cx="7239240" cy="3733920"/>
            <a:chOff x="914400" y="1523880"/>
            <a:chExt cx="7239240" cy="3733920"/>
          </a:xfrm>
        </p:grpSpPr>
        <p:sp>
          <p:nvSpPr>
            <p:cNvPr id="208" name=""/>
            <p:cNvSpPr txBox="1"/>
            <p:nvPr/>
          </p:nvSpPr>
          <p:spPr>
            <a:xfrm>
              <a:off x="914400" y="1523880"/>
              <a:ext cx="1447920" cy="5335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 txBox="1"/>
            <p:nvPr/>
          </p:nvSpPr>
          <p:spPr>
            <a:xfrm>
              <a:off x="2362320" y="1523880"/>
              <a:ext cx="1447920" cy="5335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 txBox="1"/>
            <p:nvPr/>
          </p:nvSpPr>
          <p:spPr>
            <a:xfrm>
              <a:off x="3809880" y="1523880"/>
              <a:ext cx="1447920" cy="5335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 txBox="1"/>
            <p:nvPr/>
          </p:nvSpPr>
          <p:spPr>
            <a:xfrm>
              <a:off x="5257800" y="1523880"/>
              <a:ext cx="1447920" cy="5335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 txBox="1"/>
            <p:nvPr/>
          </p:nvSpPr>
          <p:spPr>
            <a:xfrm>
              <a:off x="6705720" y="1523880"/>
              <a:ext cx="1447920" cy="5335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 txBox="1"/>
            <p:nvPr/>
          </p:nvSpPr>
          <p:spPr>
            <a:xfrm>
              <a:off x="914400" y="2057400"/>
              <a:ext cx="144792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 txBox="1"/>
            <p:nvPr/>
          </p:nvSpPr>
          <p:spPr>
            <a:xfrm>
              <a:off x="2362320" y="2057400"/>
              <a:ext cx="1447920" cy="1066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 txBox="1"/>
            <p:nvPr/>
          </p:nvSpPr>
          <p:spPr>
            <a:xfrm>
              <a:off x="3809880" y="2057400"/>
              <a:ext cx="1447920" cy="1066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 txBox="1"/>
            <p:nvPr/>
          </p:nvSpPr>
          <p:spPr>
            <a:xfrm>
              <a:off x="5257800" y="2057400"/>
              <a:ext cx="1447920" cy="1066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 txBox="1"/>
            <p:nvPr/>
          </p:nvSpPr>
          <p:spPr>
            <a:xfrm>
              <a:off x="6705720" y="2057400"/>
              <a:ext cx="1447920" cy="1066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 txBox="1"/>
            <p:nvPr/>
          </p:nvSpPr>
          <p:spPr>
            <a:xfrm>
              <a:off x="914400" y="3124080"/>
              <a:ext cx="144792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 txBox="1"/>
            <p:nvPr/>
          </p:nvSpPr>
          <p:spPr>
            <a:xfrm>
              <a:off x="2362320" y="3124080"/>
              <a:ext cx="1447920" cy="1066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 txBox="1"/>
            <p:nvPr/>
          </p:nvSpPr>
          <p:spPr>
            <a:xfrm>
              <a:off x="3809880" y="3124080"/>
              <a:ext cx="1447920" cy="1066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 txBox="1"/>
            <p:nvPr/>
          </p:nvSpPr>
          <p:spPr>
            <a:xfrm>
              <a:off x="5257800" y="3124080"/>
              <a:ext cx="1447920" cy="1066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 txBox="1"/>
            <p:nvPr/>
          </p:nvSpPr>
          <p:spPr>
            <a:xfrm>
              <a:off x="6705720" y="3124080"/>
              <a:ext cx="1447920" cy="1066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 txBox="1"/>
            <p:nvPr/>
          </p:nvSpPr>
          <p:spPr>
            <a:xfrm>
              <a:off x="914400" y="4191120"/>
              <a:ext cx="144792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 txBox="1"/>
            <p:nvPr/>
          </p:nvSpPr>
          <p:spPr>
            <a:xfrm>
              <a:off x="2362320" y="4191120"/>
              <a:ext cx="1447920" cy="1066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 txBox="1"/>
            <p:nvPr/>
          </p:nvSpPr>
          <p:spPr>
            <a:xfrm>
              <a:off x="3809880" y="4191120"/>
              <a:ext cx="1447920" cy="1066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 txBox="1"/>
            <p:nvPr/>
          </p:nvSpPr>
          <p:spPr>
            <a:xfrm>
              <a:off x="5257800" y="4191120"/>
              <a:ext cx="1447920" cy="1066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 txBox="1"/>
            <p:nvPr/>
          </p:nvSpPr>
          <p:spPr>
            <a:xfrm>
              <a:off x="6705720" y="4191120"/>
              <a:ext cx="1447920" cy="1066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277920" y="822240"/>
            <a:ext cx="8561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9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-Column x 6-Row Grid Ch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914400" y="1523880"/>
            <a:ext cx="7239240" cy="3733920"/>
            <a:chOff x="914400" y="1523880"/>
            <a:chExt cx="7239240" cy="3733920"/>
          </a:xfrm>
        </p:grpSpPr>
        <p:sp>
          <p:nvSpPr>
            <p:cNvPr id="230" name=""/>
            <p:cNvSpPr txBox="1"/>
            <p:nvPr/>
          </p:nvSpPr>
          <p:spPr>
            <a:xfrm>
              <a:off x="914400" y="1523880"/>
              <a:ext cx="1447920" cy="5335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 txBox="1"/>
            <p:nvPr/>
          </p:nvSpPr>
          <p:spPr>
            <a:xfrm>
              <a:off x="2362320" y="1523880"/>
              <a:ext cx="1447920" cy="5335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 txBox="1"/>
            <p:nvPr/>
          </p:nvSpPr>
          <p:spPr>
            <a:xfrm>
              <a:off x="3809880" y="1523880"/>
              <a:ext cx="1447920" cy="5335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 txBox="1"/>
            <p:nvPr/>
          </p:nvSpPr>
          <p:spPr>
            <a:xfrm>
              <a:off x="5257800" y="1523880"/>
              <a:ext cx="1447920" cy="5335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 txBox="1"/>
            <p:nvPr/>
          </p:nvSpPr>
          <p:spPr>
            <a:xfrm>
              <a:off x="6705720" y="1523880"/>
              <a:ext cx="1447920" cy="5335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 txBox="1"/>
            <p:nvPr/>
          </p:nvSpPr>
          <p:spPr>
            <a:xfrm>
              <a:off x="914400" y="2057400"/>
              <a:ext cx="1447920" cy="5335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 txBox="1"/>
            <p:nvPr/>
          </p:nvSpPr>
          <p:spPr>
            <a:xfrm>
              <a:off x="2362320" y="2057400"/>
              <a:ext cx="144792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 txBox="1"/>
            <p:nvPr/>
          </p:nvSpPr>
          <p:spPr>
            <a:xfrm>
              <a:off x="3809880" y="2057400"/>
              <a:ext cx="144792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 txBox="1"/>
            <p:nvPr/>
          </p:nvSpPr>
          <p:spPr>
            <a:xfrm>
              <a:off x="5257800" y="2057400"/>
              <a:ext cx="144792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 txBox="1"/>
            <p:nvPr/>
          </p:nvSpPr>
          <p:spPr>
            <a:xfrm>
              <a:off x="6705720" y="2057400"/>
              <a:ext cx="144792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 txBox="1"/>
            <p:nvPr/>
          </p:nvSpPr>
          <p:spPr>
            <a:xfrm>
              <a:off x="914400" y="2590920"/>
              <a:ext cx="1447920" cy="5335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 txBox="1"/>
            <p:nvPr/>
          </p:nvSpPr>
          <p:spPr>
            <a:xfrm>
              <a:off x="2362320" y="2590920"/>
              <a:ext cx="144792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 txBox="1"/>
            <p:nvPr/>
          </p:nvSpPr>
          <p:spPr>
            <a:xfrm>
              <a:off x="3809880" y="2590920"/>
              <a:ext cx="144792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 txBox="1"/>
            <p:nvPr/>
          </p:nvSpPr>
          <p:spPr>
            <a:xfrm>
              <a:off x="5257800" y="2590920"/>
              <a:ext cx="144792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 txBox="1"/>
            <p:nvPr/>
          </p:nvSpPr>
          <p:spPr>
            <a:xfrm>
              <a:off x="6705720" y="2590920"/>
              <a:ext cx="144792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 txBox="1"/>
            <p:nvPr/>
          </p:nvSpPr>
          <p:spPr>
            <a:xfrm>
              <a:off x="914400" y="3124080"/>
              <a:ext cx="1447920" cy="5335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 txBox="1"/>
            <p:nvPr/>
          </p:nvSpPr>
          <p:spPr>
            <a:xfrm>
              <a:off x="2362320" y="3124080"/>
              <a:ext cx="144792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 txBox="1"/>
            <p:nvPr/>
          </p:nvSpPr>
          <p:spPr>
            <a:xfrm>
              <a:off x="3809880" y="3124080"/>
              <a:ext cx="144792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 txBox="1"/>
            <p:nvPr/>
          </p:nvSpPr>
          <p:spPr>
            <a:xfrm>
              <a:off x="5257800" y="3124080"/>
              <a:ext cx="144792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 txBox="1"/>
            <p:nvPr/>
          </p:nvSpPr>
          <p:spPr>
            <a:xfrm>
              <a:off x="6705720" y="3124080"/>
              <a:ext cx="144792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 txBox="1"/>
            <p:nvPr/>
          </p:nvSpPr>
          <p:spPr>
            <a:xfrm>
              <a:off x="914400" y="3657600"/>
              <a:ext cx="1447920" cy="5335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 txBox="1"/>
            <p:nvPr/>
          </p:nvSpPr>
          <p:spPr>
            <a:xfrm>
              <a:off x="2362320" y="3657600"/>
              <a:ext cx="144792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 txBox="1"/>
            <p:nvPr/>
          </p:nvSpPr>
          <p:spPr>
            <a:xfrm>
              <a:off x="3809880" y="3657600"/>
              <a:ext cx="144792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 txBox="1"/>
            <p:nvPr/>
          </p:nvSpPr>
          <p:spPr>
            <a:xfrm>
              <a:off x="5257800" y="3657600"/>
              <a:ext cx="144792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 txBox="1"/>
            <p:nvPr/>
          </p:nvSpPr>
          <p:spPr>
            <a:xfrm>
              <a:off x="6705720" y="3657600"/>
              <a:ext cx="144792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 txBox="1"/>
            <p:nvPr/>
          </p:nvSpPr>
          <p:spPr>
            <a:xfrm>
              <a:off x="914400" y="4191120"/>
              <a:ext cx="1447920" cy="5335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 txBox="1"/>
            <p:nvPr/>
          </p:nvSpPr>
          <p:spPr>
            <a:xfrm>
              <a:off x="2362320" y="4191120"/>
              <a:ext cx="144792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 txBox="1"/>
            <p:nvPr/>
          </p:nvSpPr>
          <p:spPr>
            <a:xfrm>
              <a:off x="3809880" y="4191120"/>
              <a:ext cx="144792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 txBox="1"/>
            <p:nvPr/>
          </p:nvSpPr>
          <p:spPr>
            <a:xfrm>
              <a:off x="5257800" y="4191120"/>
              <a:ext cx="144792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 txBox="1"/>
            <p:nvPr/>
          </p:nvSpPr>
          <p:spPr>
            <a:xfrm>
              <a:off x="6705720" y="4191120"/>
              <a:ext cx="144792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 txBox="1"/>
            <p:nvPr/>
          </p:nvSpPr>
          <p:spPr>
            <a:xfrm>
              <a:off x="914400" y="4724280"/>
              <a:ext cx="1447920" cy="5335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 txBox="1"/>
            <p:nvPr/>
          </p:nvSpPr>
          <p:spPr>
            <a:xfrm>
              <a:off x="2362320" y="4724280"/>
              <a:ext cx="144792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 txBox="1"/>
            <p:nvPr/>
          </p:nvSpPr>
          <p:spPr>
            <a:xfrm>
              <a:off x="3809880" y="4724280"/>
              <a:ext cx="144792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 txBox="1"/>
            <p:nvPr/>
          </p:nvSpPr>
          <p:spPr>
            <a:xfrm>
              <a:off x="5257800" y="4724280"/>
              <a:ext cx="144792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 txBox="1"/>
            <p:nvPr/>
          </p:nvSpPr>
          <p:spPr>
            <a:xfrm>
              <a:off x="6705720" y="4724280"/>
              <a:ext cx="144792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9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cp:revision>0</cp:revision>
  <dc:subject/>
  <dc:title>Instructions for using Tables</dc:title>
</cp:coreProperties>
</file>