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417680" y="6300720"/>
            <a:ext cx="6458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Ungroup from the Draw menu to edit the time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4760" y="324000"/>
            <a:ext cx="8369280" cy="958680"/>
            <a:chOff x="374760" y="324000"/>
            <a:chExt cx="8369280" cy="958680"/>
          </a:xfrm>
        </p:grpSpPr>
        <p:sp>
          <p:nvSpPr>
            <p:cNvPr id="81" name=""/>
            <p:cNvSpPr/>
            <p:nvPr/>
          </p:nvSpPr>
          <p:spPr>
            <a:xfrm>
              <a:off x="374760" y="324000"/>
              <a:ext cx="836928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631800" y="517680"/>
              <a:ext cx="71200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9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ctions for using Timelin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74760" y="1600200"/>
            <a:ext cx="8350200" cy="4800600"/>
            <a:chOff x="374760" y="1600200"/>
            <a:chExt cx="8350200" cy="4800600"/>
          </a:xfrm>
        </p:grpSpPr>
        <p:sp>
          <p:nvSpPr>
            <p:cNvPr id="84" name=""/>
            <p:cNvSpPr/>
            <p:nvPr/>
          </p:nvSpPr>
          <p:spPr>
            <a:xfrm>
              <a:off x="374760" y="1600200"/>
              <a:ext cx="8350200" cy="480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1127160" y="2003400"/>
              <a:ext cx="7026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ose the format you like, then place a copy into your presentatio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189080" y="2879640"/>
              <a:ext cx="3108240" cy="2933280"/>
              <a:chOff x="1189080" y="2879640"/>
              <a:chExt cx="3108240" cy="2933280"/>
            </a:xfrm>
          </p:grpSpPr>
          <p:sp>
            <p:nvSpPr>
              <p:cNvPr id="87" name=""/>
              <p:cNvSpPr txBox="1"/>
              <p:nvPr/>
            </p:nvSpPr>
            <p:spPr>
              <a:xfrm>
                <a:off x="1189080" y="2879640"/>
                <a:ext cx="487440" cy="29332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0" dir="0" blurRad="0" rotWithShape="0">
                  <a:srgbClr val="cecece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799"/>
                  </a:spcBef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e 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799"/>
                  </a:spcBef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e 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799"/>
                  </a:spcBef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e 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799"/>
                  </a:spcBef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e 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799"/>
                  </a:spcBef>
                </a:pPr>
                <a:r>
                  <a:rPr b="1" i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ne 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676520" y="2879640"/>
                <a:ext cx="2560680" cy="1859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1676520" y="2879640"/>
                <a:ext cx="42696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2103480" y="2879640"/>
                <a:ext cx="42696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2530440" y="2879640"/>
                <a:ext cx="42552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2955960" y="2879640"/>
                <a:ext cx="42696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3382920" y="2879640"/>
                <a:ext cx="42696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3809880" y="2879640"/>
                <a:ext cx="426960" cy="182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03480" y="306216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30440" y="306216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955960" y="306216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82920" y="306216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09880" y="3062160"/>
                <a:ext cx="0" cy="16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544840" y="345924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211" y="424"/>
                    </a:moveTo>
                    <a:lnTo>
                      <a:pt x="424" y="211"/>
                    </a:lnTo>
                    <a:lnTo>
                      <a:pt x="211" y="0"/>
                    </a:lnTo>
                    <a:lnTo>
                      <a:pt x="0" y="211"/>
                    </a:lnTo>
                    <a:lnTo>
                      <a:pt x="211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 txBox="1"/>
              <p:nvPr/>
            </p:nvSpPr>
            <p:spPr>
              <a:xfrm>
                <a:off x="3840120" y="4251240"/>
                <a:ext cx="457200" cy="212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n time!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18080" y="446400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211" y="0"/>
                    </a:moveTo>
                    <a:lnTo>
                      <a:pt x="162" y="162"/>
                    </a:lnTo>
                    <a:lnTo>
                      <a:pt x="0" y="162"/>
                    </a:lnTo>
                    <a:lnTo>
                      <a:pt x="131" y="263"/>
                    </a:lnTo>
                    <a:lnTo>
                      <a:pt x="82" y="424"/>
                    </a:lnTo>
                    <a:lnTo>
                      <a:pt x="211" y="331"/>
                    </a:lnTo>
                    <a:lnTo>
                      <a:pt x="342" y="424"/>
                    </a:lnTo>
                    <a:lnTo>
                      <a:pt x="292" y="263"/>
                    </a:lnTo>
                    <a:lnTo>
                      <a:pt x="424" y="161"/>
                    </a:lnTo>
                    <a:lnTo>
                      <a:pt x="262" y="161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637000" y="3846600"/>
                <a:ext cx="57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75080" y="375588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24080" y="375588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84560" y="4159080"/>
                <a:ext cx="579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124080" y="406872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672000" y="406872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0" y="424"/>
                    </a:moveTo>
                    <a:lnTo>
                      <a:pt x="424" y="424"/>
                    </a:lnTo>
                    <a:lnTo>
                      <a:pt x="211" y="0"/>
                    </a:lnTo>
                    <a:lnTo>
                      <a:pt x="0" y="42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1859040" y="3184560"/>
                <a:ext cx="762120" cy="9216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782720" y="315432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211" y="424"/>
                    </a:moveTo>
                    <a:lnTo>
                      <a:pt x="424" y="211"/>
                    </a:lnTo>
                    <a:lnTo>
                      <a:pt x="211" y="0"/>
                    </a:lnTo>
                    <a:lnTo>
                      <a:pt x="0" y="211"/>
                    </a:lnTo>
                    <a:lnTo>
                      <a:pt x="211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4840" y="3154320"/>
                <a:ext cx="152640" cy="152640"/>
              </a:xfrm>
              <a:custGeom>
                <a:avLst/>
                <a:gdLst/>
                <a:ahLst/>
                <a:rect l="0" t="0" r="r" b="b"/>
                <a:pathLst>
                  <a:path w="424" h="424">
                    <a:moveTo>
                      <a:pt x="211" y="424"/>
                    </a:moveTo>
                    <a:lnTo>
                      <a:pt x="424" y="211"/>
                    </a:lnTo>
                    <a:lnTo>
                      <a:pt x="211" y="0"/>
                    </a:lnTo>
                    <a:lnTo>
                      <a:pt x="0" y="211"/>
                    </a:lnTo>
                    <a:lnTo>
                      <a:pt x="211" y="424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 txBox="1"/>
            <p:nvPr/>
          </p:nvSpPr>
          <p:spPr>
            <a:xfrm>
              <a:off x="5029200" y="2895480"/>
              <a:ext cx="2971800" cy="10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resize your timeline, use the Scale command on the Draw menu. This way, the text will resize too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733920" y="5227560"/>
              <a:ext cx="365760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the suggested styles or use PowerPoint’s AutoShape Tool to create your timelines and graphic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4038480"/>
              <a:ext cx="1143360" cy="1143360"/>
            </a:xfrm>
            <a:custGeom>
              <a:avLst/>
              <a:gdLst/>
              <a:ahLst/>
              <a:rect l="0" t="0" r="r" b="b"/>
              <a:pathLst>
                <a:path fill="none" w="3176" h="3176">
                  <a:moveTo>
                    <a:pt x="0" y="0"/>
                  </a:moveTo>
                  <a:lnTo>
                    <a:pt x="3176" y="3176"/>
                  </a:lnTo>
                  <a:lnTo>
                    <a:pt x="2990" y="1681"/>
                  </a:lnTo>
                </a:path>
              </a:pathLst>
            </a:custGeom>
            <a:ln w="25560">
              <a:solidFill>
                <a:srgbClr val="0000e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-Month, 5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00000" y="1523880"/>
            <a:ext cx="7315200" cy="4496040"/>
            <a:chOff x="900000" y="1523880"/>
            <a:chExt cx="7315200" cy="4496040"/>
          </a:xfrm>
        </p:grpSpPr>
        <p:grpSp>
          <p:nvGrpSpPr>
            <p:cNvPr id="441" name=""/>
            <p:cNvGrpSpPr/>
            <p:nvPr/>
          </p:nvGrpSpPr>
          <p:grpSpPr>
            <a:xfrm>
              <a:off x="900000" y="1523880"/>
              <a:ext cx="7315200" cy="4496040"/>
              <a:chOff x="900000" y="1523880"/>
              <a:chExt cx="7315200" cy="4496040"/>
            </a:xfrm>
          </p:grpSpPr>
          <p:sp>
            <p:nvSpPr>
              <p:cNvPr id="442" name=""/>
              <p:cNvSpPr/>
              <p:nvPr/>
            </p:nvSpPr>
            <p:spPr>
              <a:xfrm>
                <a:off x="900000" y="1523880"/>
                <a:ext cx="7315200" cy="449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9000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15098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 txBox="1"/>
              <p:nvPr/>
            </p:nvSpPr>
            <p:spPr>
              <a:xfrm>
                <a:off x="21193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27288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33386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 txBox="1"/>
              <p:nvPr/>
            </p:nvSpPr>
            <p:spPr>
              <a:xfrm>
                <a:off x="39481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>
                <a:off x="45576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51674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57769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63864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69962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 txBox="1"/>
              <p:nvPr/>
            </p:nvSpPr>
            <p:spPr>
              <a:xfrm>
                <a:off x="76057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00000" y="1981080"/>
                <a:ext cx="7315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098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1193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7288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3386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481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5576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674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769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3864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9962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6057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 txBox="1"/>
            <p:nvPr/>
          </p:nvSpPr>
          <p:spPr>
            <a:xfrm>
              <a:off x="1212840" y="2262240"/>
              <a:ext cx="1706400" cy="3794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2652840" y="3124080"/>
              <a:ext cx="380880" cy="2815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2652840" y="3886200"/>
              <a:ext cx="2057400" cy="457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4519440" y="4648320"/>
              <a:ext cx="2286360" cy="381240"/>
              <a:chOff x="4519440" y="4648320"/>
              <a:chExt cx="2286360" cy="381240"/>
            </a:xfrm>
          </p:grpSpPr>
          <p:sp>
            <p:nvSpPr>
              <p:cNvPr id="471" name=""/>
              <p:cNvSpPr txBox="1"/>
              <p:nvPr/>
            </p:nvSpPr>
            <p:spPr>
              <a:xfrm>
                <a:off x="4710240" y="472428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19440" y="46483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424560" y="46483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737712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691992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-Month, 5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47720" y="1600200"/>
            <a:ext cx="7620120" cy="4495680"/>
            <a:chOff x="747720" y="1600200"/>
            <a:chExt cx="7620120" cy="4495680"/>
          </a:xfrm>
        </p:grpSpPr>
        <p:sp>
          <p:nvSpPr>
            <p:cNvPr id="478" name=""/>
            <p:cNvSpPr txBox="1"/>
            <p:nvPr/>
          </p:nvSpPr>
          <p:spPr>
            <a:xfrm>
              <a:off x="747720" y="1600200"/>
              <a:ext cx="1219320" cy="4495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68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68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68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68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68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967040" y="1600200"/>
              <a:ext cx="6400800" cy="4495680"/>
              <a:chOff x="1967040" y="1600200"/>
              <a:chExt cx="6400800" cy="4495680"/>
            </a:xfrm>
          </p:grpSpPr>
          <p:sp>
            <p:nvSpPr>
              <p:cNvPr id="480" name=""/>
              <p:cNvSpPr/>
              <p:nvPr/>
            </p:nvSpPr>
            <p:spPr>
              <a:xfrm>
                <a:off x="1967040" y="1600200"/>
                <a:ext cx="6400800" cy="449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196704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 txBox="1"/>
              <p:nvPr/>
            </p:nvSpPr>
            <p:spPr>
              <a:xfrm>
                <a:off x="250020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 txBox="1"/>
              <p:nvPr/>
            </p:nvSpPr>
            <p:spPr>
              <a:xfrm>
                <a:off x="303372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>
                <a:off x="356724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410040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 txBox="1"/>
              <p:nvPr/>
            </p:nvSpPr>
            <p:spPr>
              <a:xfrm>
                <a:off x="463392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 txBox="1"/>
              <p:nvPr/>
            </p:nvSpPr>
            <p:spPr>
              <a:xfrm>
                <a:off x="516744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570060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623412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 txBox="1"/>
              <p:nvPr/>
            </p:nvSpPr>
            <p:spPr>
              <a:xfrm>
                <a:off x="676764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730080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>
                <a:off x="7834320" y="160020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967040" y="1981080"/>
                <a:ext cx="6400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50020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3372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6724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10040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3392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16744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70060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3412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6764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30080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834320" y="198108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157480" y="2209680"/>
              <a:ext cx="2286000" cy="381240"/>
              <a:chOff x="2157480" y="2209680"/>
              <a:chExt cx="2286000" cy="381240"/>
            </a:xfrm>
          </p:grpSpPr>
          <p:sp>
            <p:nvSpPr>
              <p:cNvPr id="506" name=""/>
              <p:cNvSpPr txBox="1"/>
              <p:nvPr/>
            </p:nvSpPr>
            <p:spPr>
              <a:xfrm>
                <a:off x="2347920" y="228600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157480" y="22096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62240" y="22096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4062240" y="304812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1059"/>
                  </a:moveTo>
                  <a:lnTo>
                    <a:pt x="1059" y="530"/>
                  </a:lnTo>
                  <a:lnTo>
                    <a:pt x="530" y="0"/>
                  </a:lnTo>
                  <a:lnTo>
                    <a:pt x="0" y="530"/>
                  </a:lnTo>
                  <a:lnTo>
                    <a:pt x="530" y="1059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4062240" y="3790800"/>
              <a:ext cx="1752840" cy="381240"/>
              <a:chOff x="4062240" y="3790800"/>
              <a:chExt cx="1752840" cy="381240"/>
            </a:xfrm>
          </p:grpSpPr>
          <p:sp>
            <p:nvSpPr>
              <p:cNvPr id="511" name=""/>
              <p:cNvSpPr/>
              <p:nvPr/>
            </p:nvSpPr>
            <p:spPr>
              <a:xfrm>
                <a:off x="4214880" y="401940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062240" y="37908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433840" y="37908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5433840" y="4572000"/>
              <a:ext cx="1752840" cy="381240"/>
              <a:chOff x="5433840" y="4572000"/>
              <a:chExt cx="1752840" cy="381240"/>
            </a:xfrm>
          </p:grpSpPr>
          <p:sp>
            <p:nvSpPr>
              <p:cNvPr id="515" name=""/>
              <p:cNvSpPr/>
              <p:nvPr/>
            </p:nvSpPr>
            <p:spPr>
              <a:xfrm>
                <a:off x="5586480" y="480060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433840" y="45720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05440" y="45720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8" name=""/>
            <p:cNvSpPr/>
            <p:nvPr/>
          </p:nvSpPr>
          <p:spPr>
            <a:xfrm>
              <a:off x="768204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722484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-Month, 8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900000" y="1523880"/>
            <a:ext cx="7315200" cy="5227200"/>
            <a:chOff x="900000" y="1523880"/>
            <a:chExt cx="7315200" cy="5227200"/>
          </a:xfrm>
        </p:grpSpPr>
        <p:grpSp>
          <p:nvGrpSpPr>
            <p:cNvPr id="522" name=""/>
            <p:cNvGrpSpPr/>
            <p:nvPr/>
          </p:nvGrpSpPr>
          <p:grpSpPr>
            <a:xfrm>
              <a:off x="900000" y="1523880"/>
              <a:ext cx="7315200" cy="4496040"/>
              <a:chOff x="900000" y="1523880"/>
              <a:chExt cx="7315200" cy="4496040"/>
            </a:xfrm>
          </p:grpSpPr>
          <p:sp>
            <p:nvSpPr>
              <p:cNvPr id="523" name=""/>
              <p:cNvSpPr/>
              <p:nvPr/>
            </p:nvSpPr>
            <p:spPr>
              <a:xfrm>
                <a:off x="900000" y="1523880"/>
                <a:ext cx="7315200" cy="449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9000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15098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 txBox="1"/>
              <p:nvPr/>
            </p:nvSpPr>
            <p:spPr>
              <a:xfrm>
                <a:off x="21193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>
                <a:off x="27288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33386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>
                <a:off x="39481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45576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>
                <a:off x="51674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57769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 txBox="1"/>
              <p:nvPr/>
            </p:nvSpPr>
            <p:spPr>
              <a:xfrm>
                <a:off x="638640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>
                <a:off x="699624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 txBox="1"/>
              <p:nvPr/>
            </p:nvSpPr>
            <p:spPr>
              <a:xfrm>
                <a:off x="7605720" y="1523880"/>
                <a:ext cx="6094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900000" y="1981080"/>
                <a:ext cx="7315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5098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1193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7288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3386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9481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576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674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769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38640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99624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05720" y="1981080"/>
                <a:ext cx="0" cy="403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 txBox="1"/>
            <p:nvPr/>
          </p:nvSpPr>
          <p:spPr>
            <a:xfrm>
              <a:off x="1138320" y="2233440"/>
              <a:ext cx="1209600" cy="281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2195640" y="2590920"/>
              <a:ext cx="30492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2195640" y="3048120"/>
              <a:ext cx="1752480" cy="304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2860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3186000" y="3505320"/>
              <a:ext cx="129528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3300480" y="4038480"/>
              <a:ext cx="2286000" cy="381240"/>
              <a:chOff x="3300480" y="4038480"/>
              <a:chExt cx="2286000" cy="381240"/>
            </a:xfrm>
          </p:grpSpPr>
          <p:sp>
            <p:nvSpPr>
              <p:cNvPr id="553" name=""/>
              <p:cNvSpPr txBox="1"/>
              <p:nvPr/>
            </p:nvSpPr>
            <p:spPr>
              <a:xfrm>
                <a:off x="3490920" y="411480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300480" y="40384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205240" y="40384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 txBox="1"/>
            <p:nvPr/>
          </p:nvSpPr>
          <p:spPr>
            <a:xfrm>
              <a:off x="5205240" y="4552920"/>
              <a:ext cx="38088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4672080" y="5029200"/>
              <a:ext cx="2286000" cy="381240"/>
              <a:chOff x="4672080" y="5029200"/>
              <a:chExt cx="2286000" cy="381240"/>
            </a:xfrm>
          </p:grpSpPr>
          <p:sp>
            <p:nvSpPr>
              <p:cNvPr id="558" name=""/>
              <p:cNvSpPr txBox="1"/>
              <p:nvPr/>
            </p:nvSpPr>
            <p:spPr>
              <a:xfrm>
                <a:off x="4862520" y="510552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672080" y="50292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76840" y="50292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7529400" y="548640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7072200" y="495288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-Month, 8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747720" y="1523880"/>
            <a:ext cx="7620120" cy="4496040"/>
            <a:chOff x="747720" y="1523880"/>
            <a:chExt cx="7620120" cy="4496040"/>
          </a:xfrm>
        </p:grpSpPr>
        <p:sp>
          <p:nvSpPr>
            <p:cNvPr id="565" name=""/>
            <p:cNvSpPr txBox="1"/>
            <p:nvPr/>
          </p:nvSpPr>
          <p:spPr>
            <a:xfrm>
              <a:off x="747720" y="1523880"/>
              <a:ext cx="1219320" cy="4495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967040" y="1523880"/>
              <a:ext cx="6400800" cy="4496040"/>
              <a:chOff x="1967040" y="1523880"/>
              <a:chExt cx="6400800" cy="4496040"/>
            </a:xfrm>
          </p:grpSpPr>
          <p:sp>
            <p:nvSpPr>
              <p:cNvPr id="567" name=""/>
              <p:cNvSpPr/>
              <p:nvPr/>
            </p:nvSpPr>
            <p:spPr>
              <a:xfrm>
                <a:off x="1967040" y="1523880"/>
                <a:ext cx="6400800" cy="4495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 txBox="1"/>
              <p:nvPr/>
            </p:nvSpPr>
            <p:spPr>
              <a:xfrm>
                <a:off x="196704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250020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303372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356724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410040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 txBox="1"/>
              <p:nvPr/>
            </p:nvSpPr>
            <p:spPr>
              <a:xfrm>
                <a:off x="463392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 txBox="1"/>
              <p:nvPr/>
            </p:nvSpPr>
            <p:spPr>
              <a:xfrm>
                <a:off x="516744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570060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>
                <a:off x="623412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 txBox="1"/>
              <p:nvPr/>
            </p:nvSpPr>
            <p:spPr>
              <a:xfrm>
                <a:off x="676764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>
                <a:off x="730080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 txBox="1"/>
              <p:nvPr/>
            </p:nvSpPr>
            <p:spPr>
              <a:xfrm>
                <a:off x="7834320" y="1523880"/>
                <a:ext cx="533520" cy="38088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967040" y="1905120"/>
                <a:ext cx="6400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50020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03372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6724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10040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63392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6744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70060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23412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76764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30080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834320" y="1905120"/>
                <a:ext cx="0" cy="411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119320" y="2133720"/>
              <a:ext cx="1371960" cy="228960"/>
              <a:chOff x="2119320" y="2133720"/>
              <a:chExt cx="1371960" cy="228960"/>
            </a:xfrm>
          </p:grpSpPr>
          <p:sp>
            <p:nvSpPr>
              <p:cNvPr id="593" name=""/>
              <p:cNvSpPr/>
              <p:nvPr/>
            </p:nvSpPr>
            <p:spPr>
              <a:xfrm>
                <a:off x="2271600" y="226692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119320" y="2133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636" y="636"/>
                    </a:lnTo>
                    <a:lnTo>
                      <a:pt x="317" y="0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262320" y="2133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636" y="636"/>
                    </a:moveTo>
                    <a:lnTo>
                      <a:pt x="0" y="636"/>
                    </a:lnTo>
                    <a:lnTo>
                      <a:pt x="317" y="0"/>
                    </a:lnTo>
                    <a:lnTo>
                      <a:pt x="636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3262320" y="2666880"/>
              <a:ext cx="228600" cy="2286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3262320" y="3124080"/>
              <a:ext cx="1371960" cy="228960"/>
              <a:chOff x="3262320" y="3124080"/>
              <a:chExt cx="1371960" cy="228960"/>
            </a:xfrm>
          </p:grpSpPr>
          <p:sp>
            <p:nvSpPr>
              <p:cNvPr id="598" name=""/>
              <p:cNvSpPr/>
              <p:nvPr/>
            </p:nvSpPr>
            <p:spPr>
              <a:xfrm>
                <a:off x="3414600" y="323856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62320" y="3124080"/>
                <a:ext cx="228600" cy="228600"/>
              </a:xfrm>
              <a:prstGeom prst="ellipse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05320" y="312408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4405320" y="363852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317" y="636"/>
                  </a:moveTo>
                  <a:lnTo>
                    <a:pt x="636" y="317"/>
                  </a:lnTo>
                  <a:lnTo>
                    <a:pt x="317" y="0"/>
                  </a:lnTo>
                  <a:lnTo>
                    <a:pt x="0" y="317"/>
                  </a:lnTo>
                  <a:lnTo>
                    <a:pt x="317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4405320" y="4114800"/>
              <a:ext cx="1371960" cy="228960"/>
              <a:chOff x="4405320" y="4114800"/>
              <a:chExt cx="1371960" cy="228960"/>
            </a:xfrm>
          </p:grpSpPr>
          <p:sp>
            <p:nvSpPr>
              <p:cNvPr id="603" name=""/>
              <p:cNvSpPr/>
              <p:nvPr/>
            </p:nvSpPr>
            <p:spPr>
              <a:xfrm>
                <a:off x="4557600" y="422928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405320" y="41148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548320" y="41148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5776920" y="457200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508" y="636"/>
                  </a:lnTo>
                  <a:lnTo>
                    <a:pt x="636" y="508"/>
                  </a:lnTo>
                  <a:lnTo>
                    <a:pt x="636" y="0"/>
                  </a:lnTo>
                  <a:lnTo>
                    <a:pt x="508" y="127"/>
                  </a:lnTo>
                  <a:lnTo>
                    <a:pt x="508" y="636"/>
                  </a:lnTo>
                  <a:lnTo>
                    <a:pt x="508" y="127"/>
                  </a:lnTo>
                  <a:lnTo>
                    <a:pt x="0" y="127"/>
                  </a:lnTo>
                  <a:lnTo>
                    <a:pt x="127" y="0"/>
                  </a:lnTo>
                  <a:lnTo>
                    <a:pt x="636" y="0"/>
                  </a:lnTo>
                  <a:lnTo>
                    <a:pt x="127" y="0"/>
                  </a:lnTo>
                  <a:lnTo>
                    <a:pt x="0" y="127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"/>
            <p:cNvGrpSpPr/>
            <p:nvPr/>
          </p:nvGrpSpPr>
          <p:grpSpPr>
            <a:xfrm>
              <a:off x="5776920" y="5029200"/>
              <a:ext cx="1371960" cy="228960"/>
              <a:chOff x="5776920" y="5029200"/>
              <a:chExt cx="1371960" cy="228960"/>
            </a:xfrm>
          </p:grpSpPr>
          <p:sp>
            <p:nvSpPr>
              <p:cNvPr id="608" name=""/>
              <p:cNvSpPr/>
              <p:nvPr/>
            </p:nvSpPr>
            <p:spPr>
              <a:xfrm>
                <a:off x="5929200" y="516240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776920" y="5029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8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8" y="127"/>
                    </a:lnTo>
                    <a:lnTo>
                      <a:pt x="508" y="636"/>
                    </a:lnTo>
                    <a:lnTo>
                      <a:pt x="508" y="127"/>
                    </a:lnTo>
                    <a:lnTo>
                      <a:pt x="0" y="127"/>
                    </a:lnTo>
                    <a:lnTo>
                      <a:pt x="127" y="0"/>
                    </a:lnTo>
                    <a:lnTo>
                      <a:pt x="636" y="0"/>
                    </a:lnTo>
                    <a:lnTo>
                      <a:pt x="127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919920" y="5029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9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9" y="127"/>
                    </a:lnTo>
                    <a:lnTo>
                      <a:pt x="509" y="636"/>
                    </a:lnTo>
                    <a:lnTo>
                      <a:pt x="509" y="127"/>
                    </a:lnTo>
                    <a:lnTo>
                      <a:pt x="0" y="127"/>
                    </a:lnTo>
                    <a:lnTo>
                      <a:pt x="126" y="0"/>
                    </a:lnTo>
                    <a:lnTo>
                      <a:pt x="636" y="0"/>
                    </a:lnTo>
                    <a:lnTo>
                      <a:pt x="126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768204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722484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Month, 5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028880" y="1447920"/>
            <a:ext cx="7086240" cy="4873320"/>
            <a:chOff x="1028880" y="1447920"/>
            <a:chExt cx="7086240" cy="4873320"/>
          </a:xfrm>
        </p:grpSpPr>
        <p:grpSp>
          <p:nvGrpSpPr>
            <p:cNvPr id="117" name=""/>
            <p:cNvGrpSpPr/>
            <p:nvPr/>
          </p:nvGrpSpPr>
          <p:grpSpPr>
            <a:xfrm>
              <a:off x="1028880" y="1447920"/>
              <a:ext cx="6934320" cy="4648320"/>
              <a:chOff x="1028880" y="1447920"/>
              <a:chExt cx="6934320" cy="4648320"/>
            </a:xfrm>
          </p:grpSpPr>
          <p:sp>
            <p:nvSpPr>
              <p:cNvPr id="118" name=""/>
              <p:cNvSpPr/>
              <p:nvPr/>
            </p:nvSpPr>
            <p:spPr>
              <a:xfrm>
                <a:off x="1028880" y="1447920"/>
                <a:ext cx="693432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28880" y="1447920"/>
                <a:ext cx="69343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 txBox="1"/>
              <p:nvPr/>
            </p:nvSpPr>
            <p:spPr>
              <a:xfrm>
                <a:off x="1085760" y="1619280"/>
                <a:ext cx="704880" cy="34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375300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588636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0288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15620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20955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>
                <a:off x="262872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31622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36957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22892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47624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>
                <a:off x="52959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58294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63626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68961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74296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28880" y="2514600"/>
                <a:ext cx="693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620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955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290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622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957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2292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624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2959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294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3626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961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296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 txBox="1"/>
            <p:nvPr/>
          </p:nvSpPr>
          <p:spPr>
            <a:xfrm>
              <a:off x="1265400" y="2795760"/>
              <a:ext cx="1706400" cy="3794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705040" y="3505320"/>
              <a:ext cx="380880" cy="2815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705040" y="4191120"/>
              <a:ext cx="2057400" cy="457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572000" y="4876920"/>
              <a:ext cx="2286360" cy="381240"/>
              <a:chOff x="4572000" y="4876920"/>
              <a:chExt cx="2286360" cy="381240"/>
            </a:xfrm>
          </p:grpSpPr>
          <p:sp>
            <p:nvSpPr>
              <p:cNvPr id="153" name=""/>
              <p:cNvSpPr txBox="1"/>
              <p:nvPr/>
            </p:nvSpPr>
            <p:spPr>
              <a:xfrm>
                <a:off x="4762440" y="495288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72000" y="48769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477120" y="48769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742968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697212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Month, 5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80960" y="1447920"/>
            <a:ext cx="8153640" cy="4648320"/>
            <a:chOff x="480960" y="1447920"/>
            <a:chExt cx="8153640" cy="4648320"/>
          </a:xfrm>
        </p:grpSpPr>
        <p:sp>
          <p:nvSpPr>
            <p:cNvPr id="160" name=""/>
            <p:cNvSpPr txBox="1"/>
            <p:nvPr/>
          </p:nvSpPr>
          <p:spPr>
            <a:xfrm>
              <a:off x="480960" y="1447920"/>
              <a:ext cx="1219320" cy="4648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324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24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24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24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240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1700280" y="1447920"/>
              <a:ext cx="6934320" cy="4648320"/>
              <a:chOff x="1700280" y="1447920"/>
              <a:chExt cx="6934320" cy="4648320"/>
            </a:xfrm>
          </p:grpSpPr>
          <p:sp>
            <p:nvSpPr>
              <p:cNvPr id="162" name=""/>
              <p:cNvSpPr/>
              <p:nvPr/>
            </p:nvSpPr>
            <p:spPr>
              <a:xfrm>
                <a:off x="1700280" y="1447920"/>
                <a:ext cx="693432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700280" y="1447920"/>
                <a:ext cx="69343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1757520" y="1619280"/>
                <a:ext cx="704880" cy="34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442440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655812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17002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2334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27669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33004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38336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43671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49006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54338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59673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65008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70340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75675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81010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700280" y="2514600"/>
                <a:ext cx="693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334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669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004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8336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671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9006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338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9673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5008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340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5675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1010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890720" y="2857680"/>
              <a:ext cx="2286360" cy="381240"/>
              <a:chOff x="1890720" y="2857680"/>
              <a:chExt cx="2286360" cy="381240"/>
            </a:xfrm>
          </p:grpSpPr>
          <p:sp>
            <p:nvSpPr>
              <p:cNvPr id="194" name=""/>
              <p:cNvSpPr txBox="1"/>
              <p:nvPr/>
            </p:nvSpPr>
            <p:spPr>
              <a:xfrm>
                <a:off x="2081160" y="293364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90720" y="28576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95840" y="28576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795840" y="350532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1059"/>
                  </a:moveTo>
                  <a:lnTo>
                    <a:pt x="1059" y="530"/>
                  </a:lnTo>
                  <a:lnTo>
                    <a:pt x="530" y="0"/>
                  </a:lnTo>
                  <a:lnTo>
                    <a:pt x="0" y="530"/>
                  </a:lnTo>
                  <a:lnTo>
                    <a:pt x="530" y="1059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100400" y="4152960"/>
              <a:ext cx="1752840" cy="381240"/>
              <a:chOff x="4100400" y="4152960"/>
              <a:chExt cx="1752840" cy="381240"/>
            </a:xfrm>
          </p:grpSpPr>
          <p:sp>
            <p:nvSpPr>
              <p:cNvPr id="199" name=""/>
              <p:cNvSpPr/>
              <p:nvPr/>
            </p:nvSpPr>
            <p:spPr>
              <a:xfrm>
                <a:off x="4253040" y="438156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100400" y="415296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472000" y="415296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5548320" y="4781520"/>
              <a:ext cx="1752840" cy="381240"/>
              <a:chOff x="5548320" y="4781520"/>
              <a:chExt cx="1752840" cy="381240"/>
            </a:xfrm>
          </p:grpSpPr>
          <p:sp>
            <p:nvSpPr>
              <p:cNvPr id="203" name=""/>
              <p:cNvSpPr/>
              <p:nvPr/>
            </p:nvSpPr>
            <p:spPr>
              <a:xfrm>
                <a:off x="5700600" y="5010120"/>
                <a:ext cx="144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548320" y="47815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919920" y="47815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787248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741528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Month, 8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14480" y="1447920"/>
            <a:ext cx="7086600" cy="5646240"/>
            <a:chOff x="1014480" y="1447920"/>
            <a:chExt cx="7086600" cy="5646240"/>
          </a:xfrm>
        </p:grpSpPr>
        <p:grpSp>
          <p:nvGrpSpPr>
            <p:cNvPr id="210" name=""/>
            <p:cNvGrpSpPr/>
            <p:nvPr/>
          </p:nvGrpSpPr>
          <p:grpSpPr>
            <a:xfrm>
              <a:off x="1014480" y="1447920"/>
              <a:ext cx="6934320" cy="4648320"/>
              <a:chOff x="1014480" y="1447920"/>
              <a:chExt cx="6934320" cy="4648320"/>
            </a:xfrm>
          </p:grpSpPr>
          <p:sp>
            <p:nvSpPr>
              <p:cNvPr id="211" name=""/>
              <p:cNvSpPr/>
              <p:nvPr/>
            </p:nvSpPr>
            <p:spPr>
              <a:xfrm>
                <a:off x="1014480" y="1447920"/>
                <a:ext cx="693432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14480" y="1447920"/>
                <a:ext cx="69343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071720" y="1619280"/>
                <a:ext cx="704880" cy="34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373860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587232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10144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15476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20811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26146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31478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36813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2148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47480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52815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58150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63482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68817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74152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14480" y="2514600"/>
                <a:ext cx="693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476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811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146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478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813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148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7480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815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150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482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817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4152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 txBox="1"/>
            <p:nvPr/>
          </p:nvSpPr>
          <p:spPr>
            <a:xfrm>
              <a:off x="1176480" y="2766960"/>
              <a:ext cx="1209600" cy="281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2233440" y="3124080"/>
              <a:ext cx="30492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2233440" y="3505320"/>
              <a:ext cx="1752480" cy="304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2860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3224160" y="3962520"/>
              <a:ext cx="129528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338640" y="4419720"/>
              <a:ext cx="2286000" cy="381240"/>
              <a:chOff x="3338640" y="4419720"/>
              <a:chExt cx="2286000" cy="381240"/>
            </a:xfrm>
          </p:grpSpPr>
          <p:sp>
            <p:nvSpPr>
              <p:cNvPr id="247" name=""/>
              <p:cNvSpPr txBox="1"/>
              <p:nvPr/>
            </p:nvSpPr>
            <p:spPr>
              <a:xfrm>
                <a:off x="3529080" y="449568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38640" y="44197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243400" y="44197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 txBox="1"/>
            <p:nvPr/>
          </p:nvSpPr>
          <p:spPr>
            <a:xfrm>
              <a:off x="5243400" y="4896000"/>
              <a:ext cx="38088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4710240" y="5334120"/>
              <a:ext cx="2286000" cy="381240"/>
              <a:chOff x="4710240" y="5334120"/>
              <a:chExt cx="2286000" cy="381240"/>
            </a:xfrm>
          </p:grpSpPr>
          <p:sp>
            <p:nvSpPr>
              <p:cNvPr id="252" name=""/>
              <p:cNvSpPr txBox="1"/>
              <p:nvPr/>
            </p:nvSpPr>
            <p:spPr>
              <a:xfrm>
                <a:off x="4900680" y="541008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710240" y="53341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15000" y="53341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7415280" y="571500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6958080" y="518148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Month, 8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80960" y="1447920"/>
            <a:ext cx="8153640" cy="4648320"/>
            <a:chOff x="480960" y="1447920"/>
            <a:chExt cx="8153640" cy="4648320"/>
          </a:xfrm>
        </p:grpSpPr>
        <p:sp>
          <p:nvSpPr>
            <p:cNvPr id="259" name=""/>
            <p:cNvSpPr txBox="1"/>
            <p:nvPr/>
          </p:nvSpPr>
          <p:spPr>
            <a:xfrm>
              <a:off x="480960" y="1447920"/>
              <a:ext cx="1219320" cy="4648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1700280" y="1447920"/>
              <a:ext cx="6934320" cy="4648320"/>
              <a:chOff x="1700280" y="1447920"/>
              <a:chExt cx="6934320" cy="4648320"/>
            </a:xfrm>
          </p:grpSpPr>
          <p:sp>
            <p:nvSpPr>
              <p:cNvPr id="261" name=""/>
              <p:cNvSpPr/>
              <p:nvPr/>
            </p:nvSpPr>
            <p:spPr>
              <a:xfrm>
                <a:off x="1700280" y="1447920"/>
                <a:ext cx="693432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00280" y="1447920"/>
                <a:ext cx="69343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1757520" y="1619280"/>
                <a:ext cx="704880" cy="34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442440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6558120" y="1619280"/>
                <a:ext cx="533520" cy="680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17002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22334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 txBox="1"/>
              <p:nvPr/>
            </p:nvSpPr>
            <p:spPr>
              <a:xfrm>
                <a:off x="27669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33004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38336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43671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49006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54338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59673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65008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703404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756756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8101080" y="1981080"/>
                <a:ext cx="53352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700280" y="2514600"/>
                <a:ext cx="693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2334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7669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004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336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3671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9006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338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9673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5008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3404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6756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101080" y="2514600"/>
                <a:ext cx="0" cy="358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852560" y="2724120"/>
              <a:ext cx="1371960" cy="228960"/>
              <a:chOff x="1852560" y="2724120"/>
              <a:chExt cx="1371960" cy="228960"/>
            </a:xfrm>
          </p:grpSpPr>
          <p:sp>
            <p:nvSpPr>
              <p:cNvPr id="293" name=""/>
              <p:cNvSpPr/>
              <p:nvPr/>
            </p:nvSpPr>
            <p:spPr>
              <a:xfrm>
                <a:off x="2004840" y="285768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852560" y="27241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636" y="636"/>
                    </a:lnTo>
                    <a:lnTo>
                      <a:pt x="317" y="0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995560" y="27241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636" y="636"/>
                    </a:moveTo>
                    <a:lnTo>
                      <a:pt x="0" y="636"/>
                    </a:lnTo>
                    <a:lnTo>
                      <a:pt x="317" y="0"/>
                    </a:lnTo>
                    <a:lnTo>
                      <a:pt x="636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147840" y="3162240"/>
              <a:ext cx="228600" cy="2286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3147840" y="3581280"/>
              <a:ext cx="1371960" cy="228960"/>
              <a:chOff x="3147840" y="3581280"/>
              <a:chExt cx="1371960" cy="228960"/>
            </a:xfrm>
          </p:grpSpPr>
          <p:sp>
            <p:nvSpPr>
              <p:cNvPr id="298" name=""/>
              <p:cNvSpPr/>
              <p:nvPr/>
            </p:nvSpPr>
            <p:spPr>
              <a:xfrm>
                <a:off x="3300480" y="369576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47840" y="3581280"/>
                <a:ext cx="228600" cy="228600"/>
              </a:xfrm>
              <a:prstGeom prst="ellipse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290840" y="358128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290840" y="400068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317" y="636"/>
                  </a:moveTo>
                  <a:lnTo>
                    <a:pt x="636" y="317"/>
                  </a:lnTo>
                  <a:lnTo>
                    <a:pt x="317" y="0"/>
                  </a:lnTo>
                  <a:lnTo>
                    <a:pt x="0" y="317"/>
                  </a:lnTo>
                  <a:lnTo>
                    <a:pt x="317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672080" y="4419720"/>
              <a:ext cx="1371960" cy="228960"/>
              <a:chOff x="4672080" y="4419720"/>
              <a:chExt cx="1371960" cy="228960"/>
            </a:xfrm>
          </p:grpSpPr>
          <p:sp>
            <p:nvSpPr>
              <p:cNvPr id="303" name=""/>
              <p:cNvSpPr/>
              <p:nvPr/>
            </p:nvSpPr>
            <p:spPr>
              <a:xfrm>
                <a:off x="4824360" y="453384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72080" y="4419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15080" y="4419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043680" y="480060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508" y="636"/>
                  </a:lnTo>
                  <a:lnTo>
                    <a:pt x="636" y="508"/>
                  </a:lnTo>
                  <a:lnTo>
                    <a:pt x="636" y="0"/>
                  </a:lnTo>
                  <a:lnTo>
                    <a:pt x="508" y="127"/>
                  </a:lnTo>
                  <a:lnTo>
                    <a:pt x="508" y="636"/>
                  </a:lnTo>
                  <a:lnTo>
                    <a:pt x="508" y="127"/>
                  </a:lnTo>
                  <a:lnTo>
                    <a:pt x="0" y="127"/>
                  </a:lnTo>
                  <a:lnTo>
                    <a:pt x="127" y="0"/>
                  </a:lnTo>
                  <a:lnTo>
                    <a:pt x="636" y="0"/>
                  </a:lnTo>
                  <a:lnTo>
                    <a:pt x="127" y="0"/>
                  </a:lnTo>
                  <a:lnTo>
                    <a:pt x="0" y="127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6043680" y="5200560"/>
              <a:ext cx="1371960" cy="228960"/>
              <a:chOff x="6043680" y="5200560"/>
              <a:chExt cx="1371960" cy="228960"/>
            </a:xfrm>
          </p:grpSpPr>
          <p:sp>
            <p:nvSpPr>
              <p:cNvPr id="308" name=""/>
              <p:cNvSpPr/>
              <p:nvPr/>
            </p:nvSpPr>
            <p:spPr>
              <a:xfrm>
                <a:off x="6195960" y="5334120"/>
                <a:ext cx="106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43680" y="520056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8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8" y="127"/>
                    </a:lnTo>
                    <a:lnTo>
                      <a:pt x="508" y="636"/>
                    </a:lnTo>
                    <a:lnTo>
                      <a:pt x="508" y="127"/>
                    </a:lnTo>
                    <a:lnTo>
                      <a:pt x="0" y="127"/>
                    </a:lnTo>
                    <a:lnTo>
                      <a:pt x="127" y="0"/>
                    </a:lnTo>
                    <a:lnTo>
                      <a:pt x="636" y="0"/>
                    </a:lnTo>
                    <a:lnTo>
                      <a:pt x="127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86680" y="520056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9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9" y="127"/>
                    </a:lnTo>
                    <a:lnTo>
                      <a:pt x="509" y="636"/>
                    </a:lnTo>
                    <a:lnTo>
                      <a:pt x="509" y="127"/>
                    </a:lnTo>
                    <a:lnTo>
                      <a:pt x="0" y="127"/>
                    </a:lnTo>
                    <a:lnTo>
                      <a:pt x="126" y="0"/>
                    </a:lnTo>
                    <a:lnTo>
                      <a:pt x="636" y="0"/>
                    </a:lnTo>
                    <a:lnTo>
                      <a:pt x="126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7948440" y="556272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7491240" y="502920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-Month, 5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71400" y="1752480"/>
            <a:ext cx="7772400" cy="4416120"/>
            <a:chOff x="671400" y="1752480"/>
            <a:chExt cx="7772400" cy="4416120"/>
          </a:xfrm>
        </p:grpSpPr>
        <p:grpSp>
          <p:nvGrpSpPr>
            <p:cNvPr id="315" name=""/>
            <p:cNvGrpSpPr/>
            <p:nvPr/>
          </p:nvGrpSpPr>
          <p:grpSpPr>
            <a:xfrm>
              <a:off x="671400" y="1752480"/>
              <a:ext cx="7772400" cy="4191120"/>
              <a:chOff x="671400" y="1752480"/>
              <a:chExt cx="7772400" cy="4191120"/>
            </a:xfrm>
          </p:grpSpPr>
          <p:sp>
            <p:nvSpPr>
              <p:cNvPr id="316" name=""/>
              <p:cNvSpPr/>
              <p:nvPr/>
            </p:nvSpPr>
            <p:spPr>
              <a:xfrm>
                <a:off x="671400" y="1752480"/>
                <a:ext cx="7772400" cy="419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67140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196704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>
                <a:off x="326232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455760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585324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7148520" y="175248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71400" y="2286000"/>
                <a:ext cx="777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967040" y="228600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62320" y="228600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57600" y="228600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53240" y="228600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48520" y="228600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 txBox="1"/>
            <p:nvPr/>
          </p:nvSpPr>
          <p:spPr>
            <a:xfrm>
              <a:off x="998640" y="2643120"/>
              <a:ext cx="1706400" cy="37944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4367160" y="3352680"/>
              <a:ext cx="380880" cy="2815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2819520" y="4114800"/>
              <a:ext cx="2057400" cy="4572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4686120" y="4800600"/>
              <a:ext cx="2286360" cy="381240"/>
              <a:chOff x="4686120" y="4800600"/>
              <a:chExt cx="2286360" cy="381240"/>
            </a:xfrm>
          </p:grpSpPr>
          <p:sp>
            <p:nvSpPr>
              <p:cNvPr id="333" name=""/>
              <p:cNvSpPr txBox="1"/>
              <p:nvPr/>
            </p:nvSpPr>
            <p:spPr>
              <a:xfrm>
                <a:off x="4876920" y="487692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86120" y="48006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591240" y="48006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7696080" y="533412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7238880" y="480060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-Month, 5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47720" y="1447920"/>
            <a:ext cx="7620120" cy="4648320"/>
            <a:chOff x="747720" y="1447920"/>
            <a:chExt cx="7620120" cy="4648320"/>
          </a:xfrm>
        </p:grpSpPr>
        <p:sp>
          <p:nvSpPr>
            <p:cNvPr id="340" name=""/>
            <p:cNvSpPr txBox="1"/>
            <p:nvPr/>
          </p:nvSpPr>
          <p:spPr>
            <a:xfrm>
              <a:off x="747720" y="1447920"/>
              <a:ext cx="1219320" cy="4648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79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67040" y="1447920"/>
              <a:ext cx="6400800" cy="4648320"/>
              <a:chOff x="1967040" y="1447920"/>
              <a:chExt cx="6400800" cy="4648320"/>
            </a:xfrm>
          </p:grpSpPr>
          <p:sp>
            <p:nvSpPr>
              <p:cNvPr id="342" name=""/>
              <p:cNvSpPr/>
              <p:nvPr/>
            </p:nvSpPr>
            <p:spPr>
              <a:xfrm>
                <a:off x="1967040" y="1447920"/>
                <a:ext cx="640080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 txBox="1"/>
              <p:nvPr/>
            </p:nvSpPr>
            <p:spPr>
              <a:xfrm>
                <a:off x="196704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303372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410040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 txBox="1"/>
              <p:nvPr/>
            </p:nvSpPr>
            <p:spPr>
              <a:xfrm>
                <a:off x="516744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623412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730080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967040" y="1905120"/>
                <a:ext cx="6400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3372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10040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16744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23412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30080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2233440" y="2133720"/>
              <a:ext cx="2286360" cy="381240"/>
              <a:chOff x="2233440" y="2133720"/>
              <a:chExt cx="2286360" cy="381240"/>
            </a:xfrm>
          </p:grpSpPr>
          <p:sp>
            <p:nvSpPr>
              <p:cNvPr id="356" name=""/>
              <p:cNvSpPr txBox="1"/>
              <p:nvPr/>
            </p:nvSpPr>
            <p:spPr>
              <a:xfrm>
                <a:off x="2424240" y="220968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33440" y="21337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38560" y="213372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4138560" y="293364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1059"/>
                  </a:moveTo>
                  <a:lnTo>
                    <a:pt x="1059" y="530"/>
                  </a:lnTo>
                  <a:lnTo>
                    <a:pt x="530" y="0"/>
                  </a:lnTo>
                  <a:lnTo>
                    <a:pt x="0" y="530"/>
                  </a:lnTo>
                  <a:lnTo>
                    <a:pt x="530" y="1059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4138560" y="3753000"/>
              <a:ext cx="1752840" cy="381240"/>
              <a:chOff x="4138560" y="3753000"/>
              <a:chExt cx="1752840" cy="381240"/>
            </a:xfrm>
          </p:grpSpPr>
          <p:sp>
            <p:nvSpPr>
              <p:cNvPr id="361" name=""/>
              <p:cNvSpPr/>
              <p:nvPr/>
            </p:nvSpPr>
            <p:spPr>
              <a:xfrm>
                <a:off x="4290840" y="3981600"/>
                <a:ext cx="144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138560" y="37530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10160" y="375300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5510160" y="4591080"/>
              <a:ext cx="1752840" cy="381240"/>
              <a:chOff x="5510160" y="4591080"/>
              <a:chExt cx="1752840" cy="381240"/>
            </a:xfrm>
          </p:grpSpPr>
          <p:sp>
            <p:nvSpPr>
              <p:cNvPr id="365" name=""/>
              <p:cNvSpPr/>
              <p:nvPr/>
            </p:nvSpPr>
            <p:spPr>
              <a:xfrm>
                <a:off x="5662440" y="4819680"/>
                <a:ext cx="144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510160" y="45910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81760" y="45910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768204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722484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-Month, 8-Line Timeline with Tasks Listed on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71400" y="1600200"/>
            <a:ext cx="7772400" cy="5112720"/>
            <a:chOff x="671400" y="1600200"/>
            <a:chExt cx="7772400" cy="5112720"/>
          </a:xfrm>
        </p:grpSpPr>
        <p:grpSp>
          <p:nvGrpSpPr>
            <p:cNvPr id="372" name=""/>
            <p:cNvGrpSpPr/>
            <p:nvPr/>
          </p:nvGrpSpPr>
          <p:grpSpPr>
            <a:xfrm>
              <a:off x="671400" y="1600200"/>
              <a:ext cx="7772400" cy="4191120"/>
              <a:chOff x="671400" y="1600200"/>
              <a:chExt cx="7772400" cy="4191120"/>
            </a:xfrm>
          </p:grpSpPr>
          <p:sp>
            <p:nvSpPr>
              <p:cNvPr id="373" name=""/>
              <p:cNvSpPr/>
              <p:nvPr/>
            </p:nvSpPr>
            <p:spPr>
              <a:xfrm>
                <a:off x="671400" y="1600200"/>
                <a:ext cx="7772400" cy="4191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67140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196704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326232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455760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585324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7148520" y="1600200"/>
                <a:ext cx="1295280" cy="53352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71400" y="2133720"/>
                <a:ext cx="7772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67040" y="213372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62320" y="213372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57600" y="213372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53240" y="213372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148520" y="2133720"/>
                <a:ext cx="0" cy="36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 txBox="1"/>
            <p:nvPr/>
          </p:nvSpPr>
          <p:spPr>
            <a:xfrm>
              <a:off x="1062000" y="2386080"/>
              <a:ext cx="1209600" cy="281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2119320" y="2743200"/>
              <a:ext cx="30492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2119320" y="3124080"/>
              <a:ext cx="1752480" cy="304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2860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3033720" y="3581280"/>
              <a:ext cx="129528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3300480" y="4038480"/>
              <a:ext cx="2286000" cy="381240"/>
              <a:chOff x="3300480" y="4038480"/>
              <a:chExt cx="2286000" cy="381240"/>
            </a:xfrm>
          </p:grpSpPr>
          <p:sp>
            <p:nvSpPr>
              <p:cNvPr id="391" name=""/>
              <p:cNvSpPr txBox="1"/>
              <p:nvPr/>
            </p:nvSpPr>
            <p:spPr>
              <a:xfrm>
                <a:off x="3490920" y="411480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300480" y="40384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205240" y="40384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530" y="1059"/>
                    </a:moveTo>
                    <a:lnTo>
                      <a:pt x="1059" y="530"/>
                    </a:lnTo>
                    <a:lnTo>
                      <a:pt x="530" y="0"/>
                    </a:lnTo>
                    <a:lnTo>
                      <a:pt x="0" y="530"/>
                    </a:lnTo>
                    <a:lnTo>
                      <a:pt x="53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 txBox="1"/>
            <p:nvPr/>
          </p:nvSpPr>
          <p:spPr>
            <a:xfrm>
              <a:off x="5205240" y="4514760"/>
              <a:ext cx="380880" cy="21981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28584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4672080" y="4952880"/>
              <a:ext cx="2286000" cy="381240"/>
              <a:chOff x="4672080" y="4952880"/>
              <a:chExt cx="2286000" cy="381240"/>
            </a:xfrm>
          </p:grpSpPr>
          <p:sp>
            <p:nvSpPr>
              <p:cNvPr id="396" name=""/>
              <p:cNvSpPr txBox="1"/>
              <p:nvPr/>
            </p:nvSpPr>
            <p:spPr>
              <a:xfrm>
                <a:off x="4862520" y="5029200"/>
                <a:ext cx="1905120" cy="22860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72080" y="49528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576840" y="4952880"/>
                <a:ext cx="381240" cy="381240"/>
              </a:xfrm>
              <a:custGeom>
                <a:avLst/>
                <a:gdLst/>
                <a:ahLst/>
                <a:rect l="0" t="0" r="r" b="b"/>
                <a:pathLst>
                  <a:path w="1059" h="1059">
                    <a:moveTo>
                      <a:pt x="0" y="1059"/>
                    </a:moveTo>
                    <a:lnTo>
                      <a:pt x="1059" y="1059"/>
                    </a:lnTo>
                    <a:lnTo>
                      <a:pt x="530" y="0"/>
                    </a:lnTo>
                    <a:lnTo>
                      <a:pt x="0" y="1059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7682040" y="541008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7224840" y="487692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7920" y="66996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-Month, 8-Line Timeline with Tasks Listed at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747720" y="1447920"/>
            <a:ext cx="7620120" cy="4648320"/>
            <a:chOff x="747720" y="1447920"/>
            <a:chExt cx="7620120" cy="4648320"/>
          </a:xfrm>
        </p:grpSpPr>
        <p:sp>
          <p:nvSpPr>
            <p:cNvPr id="403" name=""/>
            <p:cNvSpPr txBox="1"/>
            <p:nvPr/>
          </p:nvSpPr>
          <p:spPr>
            <a:xfrm>
              <a:off x="747720" y="1447920"/>
              <a:ext cx="1219320" cy="46483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919"/>
                </a:spcBef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e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1967040" y="1447920"/>
              <a:ext cx="6400800" cy="4648320"/>
              <a:chOff x="1967040" y="1447920"/>
              <a:chExt cx="6400800" cy="4648320"/>
            </a:xfrm>
          </p:grpSpPr>
          <p:sp>
            <p:nvSpPr>
              <p:cNvPr id="405" name=""/>
              <p:cNvSpPr/>
              <p:nvPr/>
            </p:nvSpPr>
            <p:spPr>
              <a:xfrm>
                <a:off x="1967040" y="1447920"/>
                <a:ext cx="6400800" cy="4648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>
                <a:off x="196704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A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303372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E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410040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516744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P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623412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7300800" y="1447920"/>
                <a:ext cx="106668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67040" y="1905120"/>
                <a:ext cx="6400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3372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0040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16744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3412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300800" y="1905120"/>
                <a:ext cx="0" cy="419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119320" y="2133720"/>
              <a:ext cx="1371960" cy="228960"/>
              <a:chOff x="2119320" y="2133720"/>
              <a:chExt cx="1371960" cy="228960"/>
            </a:xfrm>
          </p:grpSpPr>
          <p:sp>
            <p:nvSpPr>
              <p:cNvPr id="419" name=""/>
              <p:cNvSpPr/>
              <p:nvPr/>
            </p:nvSpPr>
            <p:spPr>
              <a:xfrm>
                <a:off x="2271600" y="226692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119320" y="2133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636" y="636"/>
                    </a:lnTo>
                    <a:lnTo>
                      <a:pt x="317" y="0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262320" y="21337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636" y="636"/>
                    </a:moveTo>
                    <a:lnTo>
                      <a:pt x="0" y="636"/>
                    </a:lnTo>
                    <a:lnTo>
                      <a:pt x="317" y="0"/>
                    </a:lnTo>
                    <a:lnTo>
                      <a:pt x="636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3262320" y="2628720"/>
              <a:ext cx="228600" cy="228600"/>
            </a:xfrm>
            <a:prstGeom prst="ellipse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3262320" y="3162240"/>
              <a:ext cx="1371960" cy="228960"/>
              <a:chOff x="3262320" y="3162240"/>
              <a:chExt cx="1371960" cy="228960"/>
            </a:xfrm>
          </p:grpSpPr>
          <p:sp>
            <p:nvSpPr>
              <p:cNvPr id="424" name=""/>
              <p:cNvSpPr/>
              <p:nvPr/>
            </p:nvSpPr>
            <p:spPr>
              <a:xfrm>
                <a:off x="3414600" y="327672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62320" y="3162240"/>
                <a:ext cx="228600" cy="228600"/>
              </a:xfrm>
              <a:prstGeom prst="ellipse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405320" y="316224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4405320" y="363852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317" y="636"/>
                  </a:moveTo>
                  <a:lnTo>
                    <a:pt x="636" y="317"/>
                  </a:lnTo>
                  <a:lnTo>
                    <a:pt x="317" y="0"/>
                  </a:lnTo>
                  <a:lnTo>
                    <a:pt x="0" y="317"/>
                  </a:lnTo>
                  <a:lnTo>
                    <a:pt x="317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4405320" y="4114800"/>
              <a:ext cx="1371960" cy="228960"/>
              <a:chOff x="4405320" y="4114800"/>
              <a:chExt cx="1371960" cy="228960"/>
            </a:xfrm>
          </p:grpSpPr>
          <p:sp>
            <p:nvSpPr>
              <p:cNvPr id="429" name=""/>
              <p:cNvSpPr/>
              <p:nvPr/>
            </p:nvSpPr>
            <p:spPr>
              <a:xfrm>
                <a:off x="4557600" y="422928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405320" y="41148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548320" y="41148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636"/>
                    </a:moveTo>
                    <a:lnTo>
                      <a:pt x="636" y="317"/>
                    </a:lnTo>
                    <a:lnTo>
                      <a:pt x="317" y="0"/>
                    </a:lnTo>
                    <a:lnTo>
                      <a:pt x="0" y="317"/>
                    </a:lnTo>
                    <a:lnTo>
                      <a:pt x="317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548320" y="4610160"/>
              <a:ext cx="228960" cy="228960"/>
            </a:xfrm>
            <a:custGeom>
              <a:avLst/>
              <a:gdLst/>
              <a:ahLst/>
              <a:rect l="0" t="0" r="r" b="b"/>
              <a:pathLst>
                <a:path w="636" h="636">
                  <a:moveTo>
                    <a:pt x="0" y="636"/>
                  </a:moveTo>
                  <a:lnTo>
                    <a:pt x="508" y="636"/>
                  </a:lnTo>
                  <a:lnTo>
                    <a:pt x="636" y="508"/>
                  </a:lnTo>
                  <a:lnTo>
                    <a:pt x="636" y="0"/>
                  </a:lnTo>
                  <a:lnTo>
                    <a:pt x="508" y="127"/>
                  </a:lnTo>
                  <a:lnTo>
                    <a:pt x="508" y="636"/>
                  </a:lnTo>
                  <a:lnTo>
                    <a:pt x="508" y="127"/>
                  </a:lnTo>
                  <a:lnTo>
                    <a:pt x="0" y="127"/>
                  </a:lnTo>
                  <a:lnTo>
                    <a:pt x="127" y="0"/>
                  </a:lnTo>
                  <a:lnTo>
                    <a:pt x="636" y="0"/>
                  </a:lnTo>
                  <a:lnTo>
                    <a:pt x="127" y="0"/>
                  </a:lnTo>
                  <a:lnTo>
                    <a:pt x="0" y="127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548320" y="5143320"/>
              <a:ext cx="1371960" cy="228960"/>
              <a:chOff x="5548320" y="5143320"/>
              <a:chExt cx="1371960" cy="228960"/>
            </a:xfrm>
          </p:grpSpPr>
          <p:sp>
            <p:nvSpPr>
              <p:cNvPr id="434" name=""/>
              <p:cNvSpPr/>
              <p:nvPr/>
            </p:nvSpPr>
            <p:spPr>
              <a:xfrm>
                <a:off x="5700600" y="5276880"/>
                <a:ext cx="1067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548320" y="5143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8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8" y="127"/>
                    </a:lnTo>
                    <a:lnTo>
                      <a:pt x="508" y="636"/>
                    </a:lnTo>
                    <a:lnTo>
                      <a:pt x="508" y="127"/>
                    </a:lnTo>
                    <a:lnTo>
                      <a:pt x="0" y="127"/>
                    </a:lnTo>
                    <a:lnTo>
                      <a:pt x="127" y="0"/>
                    </a:lnTo>
                    <a:lnTo>
                      <a:pt x="636" y="0"/>
                    </a:lnTo>
                    <a:lnTo>
                      <a:pt x="127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691320" y="5143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0" y="636"/>
                    </a:moveTo>
                    <a:lnTo>
                      <a:pt x="509" y="636"/>
                    </a:lnTo>
                    <a:lnTo>
                      <a:pt x="636" y="508"/>
                    </a:lnTo>
                    <a:lnTo>
                      <a:pt x="636" y="0"/>
                    </a:lnTo>
                    <a:lnTo>
                      <a:pt x="509" y="127"/>
                    </a:lnTo>
                    <a:lnTo>
                      <a:pt x="509" y="636"/>
                    </a:lnTo>
                    <a:lnTo>
                      <a:pt x="509" y="127"/>
                    </a:lnTo>
                    <a:lnTo>
                      <a:pt x="0" y="127"/>
                    </a:lnTo>
                    <a:lnTo>
                      <a:pt x="126" y="0"/>
                    </a:lnTo>
                    <a:lnTo>
                      <a:pt x="636" y="0"/>
                    </a:lnTo>
                    <a:lnTo>
                      <a:pt x="126" y="0"/>
                    </a:lnTo>
                    <a:lnTo>
                      <a:pt x="0" y="127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7529400" y="5486400"/>
              <a:ext cx="381240" cy="381240"/>
            </a:xfrm>
            <a:custGeom>
              <a:avLst/>
              <a:gdLst/>
              <a:ahLst/>
              <a:rect l="0" t="0" r="r" b="b"/>
              <a:pathLst>
                <a:path w="1059" h="1059">
                  <a:moveTo>
                    <a:pt x="530" y="0"/>
                  </a:moveTo>
                  <a:lnTo>
                    <a:pt x="405" y="405"/>
                  </a:lnTo>
                  <a:lnTo>
                    <a:pt x="0" y="405"/>
                  </a:lnTo>
                  <a:lnTo>
                    <a:pt x="329" y="657"/>
                  </a:lnTo>
                  <a:lnTo>
                    <a:pt x="205" y="1059"/>
                  </a:lnTo>
                  <a:lnTo>
                    <a:pt x="530" y="826"/>
                  </a:lnTo>
                  <a:lnTo>
                    <a:pt x="853" y="1059"/>
                  </a:lnTo>
                  <a:lnTo>
                    <a:pt x="729" y="657"/>
                  </a:lnTo>
                  <a:lnTo>
                    <a:pt x="1059" y="404"/>
                  </a:lnTo>
                  <a:lnTo>
                    <a:pt x="653" y="404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7072200" y="4952880"/>
              <a:ext cx="11430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ime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>Instructions for using Timelines</dc:title>
</cp:coreProperties>
</file>