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360" cy="6845400"/>
            <a:chOff x="0" y="0"/>
            <a:chExt cx="9144360" cy="68454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9144360" cy="6845400"/>
              <a:chOff x="0" y="0"/>
              <a:chExt cx="9144360" cy="6845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4952880"/>
                <a:ext cx="9144360" cy="1892520"/>
              </a:xfrm>
              <a:custGeom>
                <a:avLst/>
                <a:gdLst/>
                <a:ahLst/>
                <a:rect l="0" t="0" r="r" b="b"/>
                <a:pathLst>
                  <a:path w="25401" h="5257">
                    <a:moveTo>
                      <a:pt x="25401" y="0"/>
                    </a:moveTo>
                    <a:lnTo>
                      <a:pt x="0" y="5257"/>
                    </a:lnTo>
                    <a:lnTo>
                      <a:pt x="25365" y="5257"/>
                    </a:lnTo>
                    <a:lnTo>
                      <a:pt x="254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819840"/>
                <a:ext cx="9131400" cy="25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5334480" cy="4800960"/>
              </a:xfrm>
              <a:custGeom>
                <a:avLst/>
                <a:gdLst/>
                <a:ahLst/>
                <a:rect l="0" t="0" r="r" b="b"/>
                <a:pathLst>
                  <a:path w="14818" h="13336">
                    <a:moveTo>
                      <a:pt x="0" y="13336"/>
                    </a:moveTo>
                    <a:lnTo>
                      <a:pt x="14818" y="0"/>
                    </a:lnTo>
                    <a:lnTo>
                      <a:pt x="0" y="0"/>
                    </a:lnTo>
                    <a:lnTo>
                      <a:pt x="0" y="133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63de8"/>
                  </a:gs>
                </a:gsLst>
                <a:lin ang="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262080" y="117360"/>
              <a:ext cx="8669160" cy="123336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12760" y="65160"/>
              <a:ext cx="8760240" cy="63720"/>
            </a:xfrm>
            <a:custGeom>
              <a:avLst/>
              <a:gdLst/>
              <a:ahLst/>
              <a:rect l="0" t="0" r="r" b="b"/>
              <a:pathLst>
                <a:path w="24334" h="177">
                  <a:moveTo>
                    <a:pt x="97" y="146"/>
                  </a:moveTo>
                  <a:lnTo>
                    <a:pt x="0" y="4"/>
                  </a:lnTo>
                  <a:lnTo>
                    <a:pt x="24334" y="0"/>
                  </a:lnTo>
                  <a:lnTo>
                    <a:pt x="24242" y="177"/>
                  </a:lnTo>
                  <a:lnTo>
                    <a:pt x="97" y="146"/>
                  </a:lnTo>
                  <a:close/>
                </a:path>
              </a:pathLst>
            </a:custGeom>
            <a:solidFill>
              <a:srgbClr val="618ffd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20680" y="1366920"/>
              <a:ext cx="8741160" cy="70200"/>
            </a:xfrm>
            <a:custGeom>
              <a:avLst/>
              <a:gdLst/>
              <a:ahLst/>
              <a:rect l="0" t="0" r="r" b="b"/>
              <a:pathLst>
                <a:path w="24281" h="195">
                  <a:moveTo>
                    <a:pt x="97" y="8"/>
                  </a:moveTo>
                  <a:lnTo>
                    <a:pt x="0" y="186"/>
                  </a:lnTo>
                  <a:lnTo>
                    <a:pt x="24281" y="195"/>
                  </a:lnTo>
                  <a:lnTo>
                    <a:pt x="24220" y="0"/>
                  </a:lnTo>
                  <a:lnTo>
                    <a:pt x="97" y="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12760" y="65160"/>
              <a:ext cx="52920" cy="1381320"/>
            </a:xfrm>
            <a:custGeom>
              <a:avLst/>
              <a:gdLst/>
              <a:ahLst/>
              <a:rect l="0" t="0" r="r" b="b"/>
              <a:pathLst>
                <a:path w="147" h="3837">
                  <a:moveTo>
                    <a:pt x="0" y="0"/>
                  </a:moveTo>
                  <a:lnTo>
                    <a:pt x="143" y="198"/>
                  </a:lnTo>
                  <a:lnTo>
                    <a:pt x="147" y="3564"/>
                  </a:lnTo>
                  <a:lnTo>
                    <a:pt x="0" y="38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34480" y="74520"/>
              <a:ext cx="38520" cy="1373400"/>
            </a:xfrm>
            <a:custGeom>
              <a:avLst/>
              <a:gdLst/>
              <a:ahLst/>
              <a:rect l="0" t="0" r="r" b="b"/>
              <a:pathLst>
                <a:path w="107" h="3815">
                  <a:moveTo>
                    <a:pt x="107" y="0"/>
                  </a:moveTo>
                  <a:lnTo>
                    <a:pt x="0" y="167"/>
                  </a:lnTo>
                  <a:lnTo>
                    <a:pt x="0" y="3581"/>
                  </a:lnTo>
                  <a:lnTo>
                    <a:pt x="107" y="381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igraphics... your single source quality speaker suppor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010040" y="2043000"/>
            <a:ext cx="4927320" cy="3284640"/>
            <a:chOff x="4010040" y="2043000"/>
            <a:chExt cx="4927320" cy="3284640"/>
          </a:xfrm>
        </p:grpSpPr>
        <p:sp>
          <p:nvSpPr>
            <p:cNvPr id="51" name=""/>
            <p:cNvSpPr txBox="1"/>
            <p:nvPr/>
          </p:nvSpPr>
          <p:spPr>
            <a:xfrm>
              <a:off x="4010040" y="2116080"/>
              <a:ext cx="2419200" cy="124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rge Col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st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99080" y="2043000"/>
              <a:ext cx="2438280" cy="3124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6897600" y="2230560"/>
              <a:ext cx="15559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MARK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SH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507000" y="3438360"/>
              <a:ext cx="2403360" cy="1889280"/>
              <a:chOff x="6507000" y="3438360"/>
              <a:chExt cx="2403360" cy="1889280"/>
            </a:xfrm>
          </p:grpSpPr>
          <p:sp>
            <p:nvSpPr>
              <p:cNvPr id="55" name=""/>
              <p:cNvSpPr/>
              <p:nvPr/>
            </p:nvSpPr>
            <p:spPr>
              <a:xfrm>
                <a:off x="6507000" y="3438360"/>
                <a:ext cx="2403360" cy="18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6647040" y="3586320"/>
                <a:ext cx="2127600" cy="1625400"/>
                <a:chOff x="6647040" y="3586320"/>
                <a:chExt cx="2127600" cy="16254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6708600" y="3905280"/>
                  <a:ext cx="2030400" cy="1306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6647040" y="3586320"/>
                  <a:ext cx="2127600" cy="1586160"/>
                  <a:chOff x="6647040" y="3586320"/>
                  <a:chExt cx="2127600" cy="15861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6647040" y="3602160"/>
                    <a:ext cx="25920" cy="15703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362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362"/>
                        </a:lnTo>
                        <a:lnTo>
                          <a:pt x="0" y="43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5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647040" y="3586320"/>
                    <a:ext cx="2127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910" h="72">
                        <a:moveTo>
                          <a:pt x="0" y="0"/>
                        </a:moveTo>
                        <a:lnTo>
                          <a:pt x="5910" y="0"/>
                        </a:lnTo>
                        <a:lnTo>
                          <a:pt x="591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5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6670800" y="3619440"/>
                    <a:ext cx="25920" cy="15530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31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314"/>
                        </a:lnTo>
                        <a:lnTo>
                          <a:pt x="0" y="43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6670800" y="3602160"/>
                    <a:ext cx="2103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844" h="72">
                        <a:moveTo>
                          <a:pt x="0" y="0"/>
                        </a:moveTo>
                        <a:lnTo>
                          <a:pt x="5844" y="0"/>
                        </a:lnTo>
                        <a:lnTo>
                          <a:pt x="584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6692760" y="3637080"/>
                    <a:ext cx="25920" cy="15354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26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265"/>
                        </a:lnTo>
                        <a:lnTo>
                          <a:pt x="0" y="426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6692760" y="3619440"/>
                    <a:ext cx="2081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782" h="72">
                        <a:moveTo>
                          <a:pt x="0" y="0"/>
                        </a:moveTo>
                        <a:lnTo>
                          <a:pt x="5782" y="0"/>
                        </a:lnTo>
                        <a:lnTo>
                          <a:pt x="578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6715080" y="3654360"/>
                    <a:ext cx="25920" cy="15181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21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217"/>
                        </a:lnTo>
                        <a:lnTo>
                          <a:pt x="0" y="4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6715080" y="3637080"/>
                    <a:ext cx="2059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720" h="72">
                        <a:moveTo>
                          <a:pt x="0" y="0"/>
                        </a:moveTo>
                        <a:lnTo>
                          <a:pt x="5720" y="0"/>
                        </a:lnTo>
                        <a:lnTo>
                          <a:pt x="572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6738840" y="3670200"/>
                    <a:ext cx="25920" cy="15022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173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173"/>
                        </a:lnTo>
                        <a:lnTo>
                          <a:pt x="0" y="41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738840" y="3654360"/>
                    <a:ext cx="2035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654" h="72">
                        <a:moveTo>
                          <a:pt x="0" y="0"/>
                        </a:moveTo>
                        <a:lnTo>
                          <a:pt x="5654" y="0"/>
                        </a:lnTo>
                        <a:lnTo>
                          <a:pt x="565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761160" y="3689280"/>
                    <a:ext cx="25920" cy="1483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120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120"/>
                        </a:lnTo>
                        <a:lnTo>
                          <a:pt x="0" y="4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6761160" y="3670200"/>
                    <a:ext cx="2013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93" h="72">
                        <a:moveTo>
                          <a:pt x="0" y="0"/>
                        </a:moveTo>
                        <a:lnTo>
                          <a:pt x="5593" y="0"/>
                        </a:lnTo>
                        <a:lnTo>
                          <a:pt x="559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8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6784920" y="3705120"/>
                    <a:ext cx="25920" cy="14673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07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076"/>
                        </a:lnTo>
                        <a:lnTo>
                          <a:pt x="0" y="40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6784920" y="3689280"/>
                    <a:ext cx="1989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26" h="72">
                        <a:moveTo>
                          <a:pt x="0" y="0"/>
                        </a:moveTo>
                        <a:lnTo>
                          <a:pt x="5526" y="0"/>
                        </a:lnTo>
                        <a:lnTo>
                          <a:pt x="552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a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6807240" y="3722760"/>
                    <a:ext cx="25920" cy="1449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402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4027"/>
                        </a:lnTo>
                        <a:lnTo>
                          <a:pt x="0" y="40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6807240" y="3705120"/>
                    <a:ext cx="1967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65" h="72">
                        <a:moveTo>
                          <a:pt x="0" y="0"/>
                        </a:moveTo>
                        <a:lnTo>
                          <a:pt x="5465" y="0"/>
                        </a:lnTo>
                        <a:lnTo>
                          <a:pt x="546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c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6829560" y="3738600"/>
                    <a:ext cx="25920" cy="14338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983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983"/>
                        </a:lnTo>
                        <a:lnTo>
                          <a:pt x="0" y="39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6829560" y="3722760"/>
                    <a:ext cx="1945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03" h="72">
                        <a:moveTo>
                          <a:pt x="0" y="0"/>
                        </a:moveTo>
                        <a:lnTo>
                          <a:pt x="5403" y="0"/>
                        </a:lnTo>
                        <a:lnTo>
                          <a:pt x="540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6853320" y="3755880"/>
                    <a:ext cx="25920" cy="14162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93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934"/>
                        </a:lnTo>
                        <a:lnTo>
                          <a:pt x="0" y="393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853320" y="3738600"/>
                    <a:ext cx="1921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337" h="72">
                        <a:moveTo>
                          <a:pt x="0" y="0"/>
                        </a:moveTo>
                        <a:lnTo>
                          <a:pt x="5337" y="0"/>
                        </a:lnTo>
                        <a:lnTo>
                          <a:pt x="533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6875640" y="3773520"/>
                    <a:ext cx="25920" cy="1398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88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886"/>
                        </a:lnTo>
                        <a:lnTo>
                          <a:pt x="0" y="38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6875640" y="3755880"/>
                    <a:ext cx="18990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275" h="72">
                        <a:moveTo>
                          <a:pt x="0" y="0"/>
                        </a:moveTo>
                        <a:lnTo>
                          <a:pt x="5275" y="0"/>
                        </a:lnTo>
                        <a:lnTo>
                          <a:pt x="527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6899400" y="3790800"/>
                    <a:ext cx="25920" cy="13813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83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837"/>
                        </a:lnTo>
                        <a:lnTo>
                          <a:pt x="0" y="38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899400" y="3773520"/>
                    <a:ext cx="1875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209" h="72">
                        <a:moveTo>
                          <a:pt x="0" y="0"/>
                        </a:moveTo>
                        <a:lnTo>
                          <a:pt x="5209" y="0"/>
                        </a:lnTo>
                        <a:lnTo>
                          <a:pt x="520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921360" y="3807000"/>
                    <a:ext cx="25920" cy="13654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793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793"/>
                        </a:lnTo>
                        <a:lnTo>
                          <a:pt x="0" y="37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6921360" y="3790800"/>
                    <a:ext cx="1852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147" h="72">
                        <a:moveTo>
                          <a:pt x="0" y="0"/>
                        </a:moveTo>
                        <a:lnTo>
                          <a:pt x="5147" y="0"/>
                        </a:lnTo>
                        <a:lnTo>
                          <a:pt x="514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6945480" y="3824280"/>
                    <a:ext cx="25920" cy="1348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74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745"/>
                        </a:lnTo>
                        <a:lnTo>
                          <a:pt x="0" y="37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6945480" y="3807000"/>
                    <a:ext cx="1829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081" h="72">
                        <a:moveTo>
                          <a:pt x="0" y="0"/>
                        </a:moveTo>
                        <a:lnTo>
                          <a:pt x="5081" y="0"/>
                        </a:lnTo>
                        <a:lnTo>
                          <a:pt x="508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8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6967440" y="3841920"/>
                    <a:ext cx="25920" cy="13305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69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696"/>
                        </a:lnTo>
                        <a:lnTo>
                          <a:pt x="0" y="36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6967440" y="3824280"/>
                    <a:ext cx="1806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019" h="72">
                        <a:moveTo>
                          <a:pt x="0" y="0"/>
                        </a:moveTo>
                        <a:lnTo>
                          <a:pt x="5019" y="0"/>
                        </a:lnTo>
                        <a:lnTo>
                          <a:pt x="501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a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6989760" y="3857760"/>
                    <a:ext cx="25920" cy="1314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652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652"/>
                        </a:lnTo>
                        <a:lnTo>
                          <a:pt x="0" y="36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6989760" y="3841920"/>
                    <a:ext cx="1784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958" h="72">
                        <a:moveTo>
                          <a:pt x="0" y="0"/>
                        </a:moveTo>
                        <a:lnTo>
                          <a:pt x="4958" y="0"/>
                        </a:lnTo>
                        <a:lnTo>
                          <a:pt x="495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c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012080" y="3876840"/>
                    <a:ext cx="25920" cy="12956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59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599"/>
                        </a:lnTo>
                        <a:lnTo>
                          <a:pt x="0" y="35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12080" y="3857760"/>
                    <a:ext cx="1762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896" h="72">
                        <a:moveTo>
                          <a:pt x="0" y="0"/>
                        </a:moveTo>
                        <a:lnTo>
                          <a:pt x="4896" y="0"/>
                        </a:lnTo>
                        <a:lnTo>
                          <a:pt x="489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35840" y="3892680"/>
                    <a:ext cx="25920" cy="12798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55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555"/>
                        </a:lnTo>
                        <a:lnTo>
                          <a:pt x="0" y="35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035840" y="3876840"/>
                    <a:ext cx="1738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830" h="72">
                        <a:moveTo>
                          <a:pt x="0" y="0"/>
                        </a:moveTo>
                        <a:lnTo>
                          <a:pt x="4830" y="0"/>
                        </a:lnTo>
                        <a:lnTo>
                          <a:pt x="483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059600" y="3909960"/>
                    <a:ext cx="25920" cy="1262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50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507"/>
                        </a:lnTo>
                        <a:lnTo>
                          <a:pt x="0" y="35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059600" y="3892680"/>
                    <a:ext cx="1715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64" h="72">
                        <a:moveTo>
                          <a:pt x="0" y="0"/>
                        </a:moveTo>
                        <a:lnTo>
                          <a:pt x="4764" y="0"/>
                        </a:lnTo>
                        <a:lnTo>
                          <a:pt x="476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081920" y="3927600"/>
                    <a:ext cx="25920" cy="124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45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458"/>
                        </a:lnTo>
                        <a:lnTo>
                          <a:pt x="0" y="34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7081920" y="3909960"/>
                    <a:ext cx="1692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02" h="72">
                        <a:moveTo>
                          <a:pt x="0" y="0"/>
                        </a:moveTo>
                        <a:lnTo>
                          <a:pt x="4702" y="0"/>
                        </a:lnTo>
                        <a:lnTo>
                          <a:pt x="470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104240" y="3944880"/>
                    <a:ext cx="25920" cy="122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410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410"/>
                        </a:lnTo>
                        <a:lnTo>
                          <a:pt x="0" y="34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7104240" y="3927600"/>
                    <a:ext cx="1670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640" h="72">
                        <a:moveTo>
                          <a:pt x="0" y="0"/>
                        </a:moveTo>
                        <a:lnTo>
                          <a:pt x="4640" y="0"/>
                        </a:lnTo>
                        <a:lnTo>
                          <a:pt x="464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7126200" y="3960720"/>
                    <a:ext cx="25920" cy="12117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6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366"/>
                        </a:lnTo>
                        <a:lnTo>
                          <a:pt x="0" y="33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126200" y="3944880"/>
                    <a:ext cx="1648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578" h="72">
                        <a:moveTo>
                          <a:pt x="0" y="0"/>
                        </a:moveTo>
                        <a:lnTo>
                          <a:pt x="4578" y="0"/>
                        </a:lnTo>
                        <a:lnTo>
                          <a:pt x="457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8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149960" y="3978360"/>
                    <a:ext cx="25920" cy="11941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31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317"/>
                        </a:lnTo>
                        <a:lnTo>
                          <a:pt x="0" y="33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149960" y="3960720"/>
                    <a:ext cx="1624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512" h="72">
                        <a:moveTo>
                          <a:pt x="0" y="0"/>
                        </a:moveTo>
                        <a:lnTo>
                          <a:pt x="4512" y="0"/>
                        </a:lnTo>
                        <a:lnTo>
                          <a:pt x="451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a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174080" y="3994200"/>
                    <a:ext cx="25920" cy="11782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73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273"/>
                        </a:lnTo>
                        <a:lnTo>
                          <a:pt x="0" y="32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174080" y="3978360"/>
                    <a:ext cx="1600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446" h="72">
                        <a:moveTo>
                          <a:pt x="0" y="0"/>
                        </a:moveTo>
                        <a:lnTo>
                          <a:pt x="4446" y="0"/>
                        </a:lnTo>
                        <a:lnTo>
                          <a:pt x="444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c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196040" y="4011480"/>
                    <a:ext cx="25920" cy="11610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22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225"/>
                        </a:lnTo>
                        <a:lnTo>
                          <a:pt x="0" y="3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196040" y="3994200"/>
                    <a:ext cx="1578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384" h="72">
                        <a:moveTo>
                          <a:pt x="0" y="0"/>
                        </a:moveTo>
                        <a:lnTo>
                          <a:pt x="4384" y="0"/>
                        </a:lnTo>
                        <a:lnTo>
                          <a:pt x="438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218360" y="4029120"/>
                    <a:ext cx="25920" cy="11433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17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176"/>
                        </a:lnTo>
                        <a:lnTo>
                          <a:pt x="0" y="31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218360" y="4011480"/>
                    <a:ext cx="1556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323" h="72">
                        <a:moveTo>
                          <a:pt x="0" y="0"/>
                        </a:moveTo>
                        <a:lnTo>
                          <a:pt x="4323" y="0"/>
                        </a:lnTo>
                        <a:lnTo>
                          <a:pt x="432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7242120" y="4044960"/>
                    <a:ext cx="25920" cy="1127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132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132"/>
                        </a:lnTo>
                        <a:lnTo>
                          <a:pt x="0" y="313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7242120" y="4029120"/>
                    <a:ext cx="1532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56" h="72">
                        <a:moveTo>
                          <a:pt x="0" y="0"/>
                        </a:moveTo>
                        <a:lnTo>
                          <a:pt x="4256" y="0"/>
                        </a:lnTo>
                        <a:lnTo>
                          <a:pt x="425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7264440" y="4064040"/>
                    <a:ext cx="25920" cy="11084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07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079"/>
                        </a:lnTo>
                        <a:lnTo>
                          <a:pt x="0" y="307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264440" y="4044960"/>
                    <a:ext cx="1510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95" h="72">
                        <a:moveTo>
                          <a:pt x="0" y="0"/>
                        </a:moveTo>
                        <a:lnTo>
                          <a:pt x="4195" y="0"/>
                        </a:lnTo>
                        <a:lnTo>
                          <a:pt x="419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286760" y="4079880"/>
                    <a:ext cx="25920" cy="10926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303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3035"/>
                        </a:lnTo>
                        <a:lnTo>
                          <a:pt x="0" y="30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7286760" y="4064040"/>
                    <a:ext cx="1487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33" h="72">
                        <a:moveTo>
                          <a:pt x="0" y="0"/>
                        </a:moveTo>
                        <a:lnTo>
                          <a:pt x="4133" y="0"/>
                        </a:lnTo>
                        <a:lnTo>
                          <a:pt x="413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7310520" y="4097160"/>
                    <a:ext cx="25920" cy="1074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98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986"/>
                        </a:lnTo>
                        <a:lnTo>
                          <a:pt x="0" y="29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7310520" y="4079880"/>
                    <a:ext cx="1464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067" h="72">
                        <a:moveTo>
                          <a:pt x="0" y="0"/>
                        </a:moveTo>
                        <a:lnTo>
                          <a:pt x="4067" y="0"/>
                        </a:lnTo>
                        <a:lnTo>
                          <a:pt x="406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7332840" y="4114800"/>
                    <a:ext cx="25920" cy="10576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93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938"/>
                        </a:lnTo>
                        <a:lnTo>
                          <a:pt x="0" y="29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332840" y="4097160"/>
                    <a:ext cx="1441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005" h="72">
                        <a:moveTo>
                          <a:pt x="0" y="0"/>
                        </a:moveTo>
                        <a:lnTo>
                          <a:pt x="4005" y="0"/>
                        </a:lnTo>
                        <a:lnTo>
                          <a:pt x="400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7356600" y="4132440"/>
                    <a:ext cx="25920" cy="10400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88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889"/>
                        </a:lnTo>
                        <a:lnTo>
                          <a:pt x="0" y="288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7356600" y="4114800"/>
                    <a:ext cx="1418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939" h="72">
                        <a:moveTo>
                          <a:pt x="0" y="0"/>
                        </a:moveTo>
                        <a:lnTo>
                          <a:pt x="3939" y="0"/>
                        </a:lnTo>
                        <a:lnTo>
                          <a:pt x="393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7378560" y="4148280"/>
                    <a:ext cx="25920" cy="10242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84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845"/>
                        </a:lnTo>
                        <a:lnTo>
                          <a:pt x="0" y="284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7378560" y="4132440"/>
                    <a:ext cx="1395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877" h="72">
                        <a:moveTo>
                          <a:pt x="0" y="0"/>
                        </a:moveTo>
                        <a:lnTo>
                          <a:pt x="3877" y="0"/>
                        </a:lnTo>
                        <a:lnTo>
                          <a:pt x="387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7400880" y="4165560"/>
                    <a:ext cx="25920" cy="1006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79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797"/>
                        </a:lnTo>
                        <a:lnTo>
                          <a:pt x="0" y="279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7400880" y="4148280"/>
                    <a:ext cx="1373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815" h="72">
                        <a:moveTo>
                          <a:pt x="0" y="0"/>
                        </a:moveTo>
                        <a:lnTo>
                          <a:pt x="3815" y="0"/>
                        </a:lnTo>
                        <a:lnTo>
                          <a:pt x="381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7424640" y="4183200"/>
                    <a:ext cx="25920" cy="9892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74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748"/>
                        </a:lnTo>
                        <a:lnTo>
                          <a:pt x="0" y="27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7424640" y="4165560"/>
                    <a:ext cx="1349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749" h="72">
                        <a:moveTo>
                          <a:pt x="0" y="0"/>
                        </a:moveTo>
                        <a:lnTo>
                          <a:pt x="3749" y="0"/>
                        </a:lnTo>
                        <a:lnTo>
                          <a:pt x="374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448400" y="4199040"/>
                    <a:ext cx="25920" cy="9734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70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704"/>
                        </a:lnTo>
                        <a:lnTo>
                          <a:pt x="0" y="27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7448400" y="4183200"/>
                    <a:ext cx="1325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683" h="72">
                        <a:moveTo>
                          <a:pt x="0" y="0"/>
                        </a:moveTo>
                        <a:lnTo>
                          <a:pt x="3683" y="0"/>
                        </a:lnTo>
                        <a:lnTo>
                          <a:pt x="368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470720" y="4216320"/>
                    <a:ext cx="25920" cy="9561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65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656"/>
                        </a:lnTo>
                        <a:lnTo>
                          <a:pt x="0" y="26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470720" y="4199040"/>
                    <a:ext cx="1303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621" h="72">
                        <a:moveTo>
                          <a:pt x="0" y="0"/>
                        </a:moveTo>
                        <a:lnTo>
                          <a:pt x="3621" y="0"/>
                        </a:lnTo>
                        <a:lnTo>
                          <a:pt x="362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7493040" y="4233960"/>
                    <a:ext cx="25920" cy="9385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60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607"/>
                        </a:lnTo>
                        <a:lnTo>
                          <a:pt x="0" y="260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493040" y="4216320"/>
                    <a:ext cx="1281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560" h="72">
                        <a:moveTo>
                          <a:pt x="0" y="0"/>
                        </a:moveTo>
                        <a:lnTo>
                          <a:pt x="3560" y="0"/>
                        </a:lnTo>
                        <a:lnTo>
                          <a:pt x="356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515360" y="4251240"/>
                    <a:ext cx="25920" cy="9212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55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559"/>
                        </a:lnTo>
                        <a:lnTo>
                          <a:pt x="0" y="25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515360" y="4233960"/>
                    <a:ext cx="1259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498" h="72">
                        <a:moveTo>
                          <a:pt x="0" y="0"/>
                        </a:moveTo>
                        <a:lnTo>
                          <a:pt x="3498" y="0"/>
                        </a:lnTo>
                        <a:lnTo>
                          <a:pt x="349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539120" y="4267080"/>
                    <a:ext cx="25920" cy="9054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51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515"/>
                        </a:lnTo>
                        <a:lnTo>
                          <a:pt x="0" y="25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539120" y="4251240"/>
                    <a:ext cx="1235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432" h="72">
                        <a:moveTo>
                          <a:pt x="0" y="0"/>
                        </a:moveTo>
                        <a:lnTo>
                          <a:pt x="3432" y="0"/>
                        </a:lnTo>
                        <a:lnTo>
                          <a:pt x="343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7561440" y="4284720"/>
                    <a:ext cx="25920" cy="8877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46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466"/>
                        </a:lnTo>
                        <a:lnTo>
                          <a:pt x="0" y="24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561440" y="4267080"/>
                    <a:ext cx="1213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70" h="72">
                        <a:moveTo>
                          <a:pt x="0" y="0"/>
                        </a:moveTo>
                        <a:lnTo>
                          <a:pt x="3370" y="0"/>
                        </a:lnTo>
                        <a:lnTo>
                          <a:pt x="337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7585200" y="4300560"/>
                    <a:ext cx="25920" cy="871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422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422"/>
                        </a:lnTo>
                        <a:lnTo>
                          <a:pt x="0" y="24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585200" y="4284720"/>
                    <a:ext cx="1189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04" h="72">
                        <a:moveTo>
                          <a:pt x="0" y="0"/>
                        </a:moveTo>
                        <a:lnTo>
                          <a:pt x="3304" y="0"/>
                        </a:lnTo>
                        <a:lnTo>
                          <a:pt x="330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7607160" y="4319640"/>
                    <a:ext cx="25920" cy="8528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36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369"/>
                        </a:lnTo>
                        <a:lnTo>
                          <a:pt x="0" y="236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607160" y="4300560"/>
                    <a:ext cx="1167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242" h="72">
                        <a:moveTo>
                          <a:pt x="0" y="0"/>
                        </a:moveTo>
                        <a:lnTo>
                          <a:pt x="3242" y="0"/>
                        </a:lnTo>
                        <a:lnTo>
                          <a:pt x="324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631280" y="4335480"/>
                    <a:ext cx="25920" cy="8370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32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325"/>
                        </a:lnTo>
                        <a:lnTo>
                          <a:pt x="0" y="23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7631280" y="4319640"/>
                    <a:ext cx="1143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176" h="72">
                        <a:moveTo>
                          <a:pt x="0" y="0"/>
                        </a:moveTo>
                        <a:lnTo>
                          <a:pt x="3176" y="0"/>
                        </a:lnTo>
                        <a:lnTo>
                          <a:pt x="317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7653240" y="4352760"/>
                    <a:ext cx="25920" cy="8193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27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276"/>
                        </a:lnTo>
                        <a:lnTo>
                          <a:pt x="0" y="22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7653240" y="4335480"/>
                    <a:ext cx="1121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114" h="72">
                        <a:moveTo>
                          <a:pt x="0" y="0"/>
                        </a:moveTo>
                        <a:lnTo>
                          <a:pt x="3114" y="0"/>
                        </a:lnTo>
                        <a:lnTo>
                          <a:pt x="311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7675560" y="4370400"/>
                    <a:ext cx="25920" cy="8020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22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228"/>
                        </a:lnTo>
                        <a:lnTo>
                          <a:pt x="0" y="22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7675560" y="4352760"/>
                    <a:ext cx="1099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053" h="72">
                        <a:moveTo>
                          <a:pt x="0" y="0"/>
                        </a:moveTo>
                        <a:lnTo>
                          <a:pt x="3053" y="0"/>
                        </a:lnTo>
                        <a:lnTo>
                          <a:pt x="305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699320" y="4386240"/>
                    <a:ext cx="25920" cy="7862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18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184"/>
                        </a:lnTo>
                        <a:lnTo>
                          <a:pt x="0" y="21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699320" y="4370400"/>
                    <a:ext cx="1074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986" h="72">
                        <a:moveTo>
                          <a:pt x="0" y="0"/>
                        </a:moveTo>
                        <a:lnTo>
                          <a:pt x="2986" y="0"/>
                        </a:lnTo>
                        <a:lnTo>
                          <a:pt x="298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721640" y="4403880"/>
                    <a:ext cx="25920" cy="7686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13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135"/>
                        </a:lnTo>
                        <a:lnTo>
                          <a:pt x="0" y="21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7721640" y="4386240"/>
                    <a:ext cx="10530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925" h="72">
                        <a:moveTo>
                          <a:pt x="0" y="0"/>
                        </a:moveTo>
                        <a:lnTo>
                          <a:pt x="2925" y="0"/>
                        </a:lnTo>
                        <a:lnTo>
                          <a:pt x="292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7745400" y="4421160"/>
                    <a:ext cx="25920" cy="7513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08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087"/>
                        </a:lnTo>
                        <a:lnTo>
                          <a:pt x="0" y="20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745400" y="4403880"/>
                    <a:ext cx="1029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859" h="72">
                        <a:moveTo>
                          <a:pt x="0" y="0"/>
                        </a:moveTo>
                        <a:lnTo>
                          <a:pt x="2859" y="0"/>
                        </a:lnTo>
                        <a:lnTo>
                          <a:pt x="285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767720" y="4438800"/>
                    <a:ext cx="25920" cy="7336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203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2038"/>
                        </a:lnTo>
                        <a:lnTo>
                          <a:pt x="0" y="20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767720" y="4421160"/>
                    <a:ext cx="1006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97" h="72">
                        <a:moveTo>
                          <a:pt x="0" y="0"/>
                        </a:moveTo>
                        <a:lnTo>
                          <a:pt x="2797" y="0"/>
                        </a:lnTo>
                        <a:lnTo>
                          <a:pt x="279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790040" y="4454640"/>
                    <a:ext cx="25920" cy="7178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99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994"/>
                        </a:lnTo>
                        <a:lnTo>
                          <a:pt x="0" y="19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790040" y="4438800"/>
                    <a:ext cx="984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35" h="72">
                        <a:moveTo>
                          <a:pt x="0" y="0"/>
                        </a:moveTo>
                        <a:lnTo>
                          <a:pt x="2735" y="0"/>
                        </a:lnTo>
                        <a:lnTo>
                          <a:pt x="273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813800" y="4473720"/>
                    <a:ext cx="25920" cy="6987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941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941"/>
                        </a:lnTo>
                        <a:lnTo>
                          <a:pt x="0" y="19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813800" y="4454640"/>
                    <a:ext cx="960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69" h="72">
                        <a:moveTo>
                          <a:pt x="0" y="0"/>
                        </a:moveTo>
                        <a:lnTo>
                          <a:pt x="2669" y="0"/>
                        </a:lnTo>
                        <a:lnTo>
                          <a:pt x="266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835760" y="4489560"/>
                    <a:ext cx="25920" cy="682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89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897"/>
                        </a:lnTo>
                        <a:lnTo>
                          <a:pt x="0" y="189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835760" y="4473720"/>
                    <a:ext cx="938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07" h="72">
                        <a:moveTo>
                          <a:pt x="0" y="0"/>
                        </a:moveTo>
                        <a:lnTo>
                          <a:pt x="2607" y="0"/>
                        </a:lnTo>
                        <a:lnTo>
                          <a:pt x="260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7859880" y="4506840"/>
                    <a:ext cx="25920" cy="6656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84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849"/>
                        </a:lnTo>
                        <a:lnTo>
                          <a:pt x="0" y="184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859880" y="4489560"/>
                    <a:ext cx="914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541" h="72">
                        <a:moveTo>
                          <a:pt x="0" y="0"/>
                        </a:moveTo>
                        <a:lnTo>
                          <a:pt x="2541" y="0"/>
                        </a:lnTo>
                        <a:lnTo>
                          <a:pt x="254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881840" y="4524480"/>
                    <a:ext cx="25920" cy="6480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800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800"/>
                        </a:lnTo>
                        <a:lnTo>
                          <a:pt x="0" y="18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881840" y="4506840"/>
                    <a:ext cx="89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479" h="72">
                        <a:moveTo>
                          <a:pt x="0" y="0"/>
                        </a:moveTo>
                        <a:lnTo>
                          <a:pt x="2479" y="0"/>
                        </a:lnTo>
                        <a:lnTo>
                          <a:pt x="247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904160" y="4540320"/>
                    <a:ext cx="25920" cy="6321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75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756"/>
                        </a:lnTo>
                        <a:lnTo>
                          <a:pt x="0" y="17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7904160" y="4524480"/>
                    <a:ext cx="870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418" h="72">
                        <a:moveTo>
                          <a:pt x="0" y="0"/>
                        </a:moveTo>
                        <a:lnTo>
                          <a:pt x="2418" y="0"/>
                        </a:lnTo>
                        <a:lnTo>
                          <a:pt x="241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927920" y="4557600"/>
                    <a:ext cx="25920" cy="6148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70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708"/>
                        </a:lnTo>
                        <a:lnTo>
                          <a:pt x="0" y="17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927920" y="4540320"/>
                    <a:ext cx="846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351" h="72">
                        <a:moveTo>
                          <a:pt x="0" y="0"/>
                        </a:moveTo>
                        <a:lnTo>
                          <a:pt x="2351" y="0"/>
                        </a:lnTo>
                        <a:lnTo>
                          <a:pt x="235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7950240" y="4573440"/>
                    <a:ext cx="25920" cy="5986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663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663"/>
                        </a:lnTo>
                        <a:lnTo>
                          <a:pt x="0" y="166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950240" y="4557600"/>
                    <a:ext cx="824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290" h="72">
                        <a:moveTo>
                          <a:pt x="0" y="0"/>
                        </a:moveTo>
                        <a:lnTo>
                          <a:pt x="2290" y="0"/>
                        </a:lnTo>
                        <a:lnTo>
                          <a:pt x="229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974000" y="4591080"/>
                    <a:ext cx="25920" cy="5814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61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615"/>
                        </a:lnTo>
                        <a:lnTo>
                          <a:pt x="0" y="16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974000" y="4573440"/>
                    <a:ext cx="800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224" h="72">
                        <a:moveTo>
                          <a:pt x="0" y="0"/>
                        </a:moveTo>
                        <a:lnTo>
                          <a:pt x="2224" y="0"/>
                        </a:lnTo>
                        <a:lnTo>
                          <a:pt x="222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996320" y="4608360"/>
                    <a:ext cx="25920" cy="5637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56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566"/>
                        </a:lnTo>
                        <a:lnTo>
                          <a:pt x="0" y="15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996320" y="4591080"/>
                    <a:ext cx="778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162" h="72">
                        <a:moveTo>
                          <a:pt x="0" y="0"/>
                        </a:moveTo>
                        <a:lnTo>
                          <a:pt x="2162" y="0"/>
                        </a:lnTo>
                        <a:lnTo>
                          <a:pt x="216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8018640" y="4626000"/>
                    <a:ext cx="25920" cy="5464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51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518"/>
                        </a:lnTo>
                        <a:lnTo>
                          <a:pt x="0" y="15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8018640" y="4608360"/>
                    <a:ext cx="7560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100" h="72">
                        <a:moveTo>
                          <a:pt x="0" y="0"/>
                        </a:moveTo>
                        <a:lnTo>
                          <a:pt x="2100" y="0"/>
                        </a:lnTo>
                        <a:lnTo>
                          <a:pt x="210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8042400" y="4641840"/>
                    <a:ext cx="25920" cy="5306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47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474"/>
                        </a:lnTo>
                        <a:lnTo>
                          <a:pt x="0" y="14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8042400" y="4626000"/>
                    <a:ext cx="732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34" h="72">
                        <a:moveTo>
                          <a:pt x="0" y="0"/>
                        </a:moveTo>
                        <a:lnTo>
                          <a:pt x="2034" y="0"/>
                        </a:lnTo>
                        <a:lnTo>
                          <a:pt x="203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8064360" y="4660920"/>
                    <a:ext cx="25920" cy="5115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421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421"/>
                        </a:lnTo>
                        <a:lnTo>
                          <a:pt x="0" y="14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8064360" y="4641840"/>
                    <a:ext cx="709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72" h="72">
                        <a:moveTo>
                          <a:pt x="0" y="0"/>
                        </a:moveTo>
                        <a:lnTo>
                          <a:pt x="1972" y="0"/>
                        </a:lnTo>
                        <a:lnTo>
                          <a:pt x="197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088480" y="4676760"/>
                    <a:ext cx="25920" cy="4957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37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377"/>
                        </a:lnTo>
                        <a:lnTo>
                          <a:pt x="0" y="13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088480" y="4660920"/>
                    <a:ext cx="686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06" h="72">
                        <a:moveTo>
                          <a:pt x="0" y="0"/>
                        </a:moveTo>
                        <a:lnTo>
                          <a:pt x="1906" y="0"/>
                        </a:lnTo>
                        <a:lnTo>
                          <a:pt x="190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8110440" y="4694400"/>
                    <a:ext cx="25920" cy="4780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32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328"/>
                        </a:lnTo>
                        <a:lnTo>
                          <a:pt x="0" y="13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8110440" y="4676760"/>
                    <a:ext cx="663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844" h="72">
                        <a:moveTo>
                          <a:pt x="0" y="0"/>
                        </a:moveTo>
                        <a:lnTo>
                          <a:pt x="1844" y="0"/>
                        </a:lnTo>
                        <a:lnTo>
                          <a:pt x="184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134200" y="4711680"/>
                    <a:ext cx="25920" cy="4608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280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280"/>
                        </a:lnTo>
                        <a:lnTo>
                          <a:pt x="0" y="12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134200" y="4694400"/>
                    <a:ext cx="640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78" h="72">
                        <a:moveTo>
                          <a:pt x="0" y="0"/>
                        </a:moveTo>
                        <a:lnTo>
                          <a:pt x="1778" y="0"/>
                        </a:lnTo>
                        <a:lnTo>
                          <a:pt x="177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156520" y="4727520"/>
                    <a:ext cx="25920" cy="4449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23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236"/>
                        </a:lnTo>
                        <a:lnTo>
                          <a:pt x="0" y="12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156520" y="4711680"/>
                    <a:ext cx="617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16" h="72">
                        <a:moveTo>
                          <a:pt x="0" y="0"/>
                        </a:moveTo>
                        <a:lnTo>
                          <a:pt x="1716" y="0"/>
                        </a:lnTo>
                        <a:lnTo>
                          <a:pt x="171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178840" y="4745160"/>
                    <a:ext cx="25920" cy="4273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18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187"/>
                        </a:lnTo>
                        <a:lnTo>
                          <a:pt x="0" y="11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8178840" y="4727520"/>
                    <a:ext cx="59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655" h="72">
                        <a:moveTo>
                          <a:pt x="0" y="0"/>
                        </a:moveTo>
                        <a:lnTo>
                          <a:pt x="1655" y="0"/>
                        </a:lnTo>
                        <a:lnTo>
                          <a:pt x="165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8202600" y="4762440"/>
                    <a:ext cx="25920" cy="4100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13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139"/>
                        </a:lnTo>
                        <a:lnTo>
                          <a:pt x="0" y="11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202600" y="4745160"/>
                    <a:ext cx="572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589" h="72">
                        <a:moveTo>
                          <a:pt x="0" y="0"/>
                        </a:moveTo>
                        <a:lnTo>
                          <a:pt x="1589" y="0"/>
                        </a:lnTo>
                        <a:lnTo>
                          <a:pt x="158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8224920" y="4780080"/>
                    <a:ext cx="25920" cy="3924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090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090"/>
                        </a:lnTo>
                        <a:lnTo>
                          <a:pt x="0" y="10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8224920" y="4762440"/>
                    <a:ext cx="549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527" h="72">
                        <a:moveTo>
                          <a:pt x="0" y="0"/>
                        </a:moveTo>
                        <a:lnTo>
                          <a:pt x="1527" y="0"/>
                        </a:lnTo>
                        <a:lnTo>
                          <a:pt x="152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8248680" y="4795920"/>
                    <a:ext cx="25920" cy="3765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04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1046"/>
                        </a:lnTo>
                        <a:lnTo>
                          <a:pt x="0" y="104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8248680" y="4780080"/>
                    <a:ext cx="525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461" h="72">
                        <a:moveTo>
                          <a:pt x="0" y="0"/>
                        </a:moveTo>
                        <a:lnTo>
                          <a:pt x="1461" y="0"/>
                        </a:lnTo>
                        <a:lnTo>
                          <a:pt x="146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8271000" y="4815000"/>
                    <a:ext cx="25920" cy="3574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993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993"/>
                        </a:lnTo>
                        <a:lnTo>
                          <a:pt x="0" y="9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8271000" y="4795920"/>
                    <a:ext cx="503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399" h="72">
                        <a:moveTo>
                          <a:pt x="0" y="0"/>
                        </a:moveTo>
                        <a:lnTo>
                          <a:pt x="1399" y="0"/>
                        </a:lnTo>
                        <a:lnTo>
                          <a:pt x="139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292960" y="4829040"/>
                    <a:ext cx="25920" cy="3434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954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954"/>
                        </a:lnTo>
                        <a:lnTo>
                          <a:pt x="0" y="9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292960" y="4815000"/>
                    <a:ext cx="481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337" h="72">
                        <a:moveTo>
                          <a:pt x="0" y="0"/>
                        </a:moveTo>
                        <a:lnTo>
                          <a:pt x="1337" y="0"/>
                        </a:lnTo>
                        <a:lnTo>
                          <a:pt x="133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317080" y="4848120"/>
                    <a:ext cx="25920" cy="3243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901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901"/>
                        </a:lnTo>
                        <a:lnTo>
                          <a:pt x="0" y="9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317080" y="4829040"/>
                    <a:ext cx="457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271" h="72">
                        <a:moveTo>
                          <a:pt x="0" y="0"/>
                        </a:moveTo>
                        <a:lnTo>
                          <a:pt x="1271" y="0"/>
                        </a:lnTo>
                        <a:lnTo>
                          <a:pt x="127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339040" y="4863960"/>
                    <a:ext cx="25920" cy="30816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856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856"/>
                        </a:lnTo>
                        <a:lnTo>
                          <a:pt x="0" y="8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339040" y="4848120"/>
                    <a:ext cx="435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209" h="72">
                        <a:moveTo>
                          <a:pt x="0" y="0"/>
                        </a:moveTo>
                        <a:lnTo>
                          <a:pt x="1209" y="0"/>
                        </a:lnTo>
                        <a:lnTo>
                          <a:pt x="120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362800" y="4881600"/>
                    <a:ext cx="25920" cy="2908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80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808"/>
                        </a:lnTo>
                        <a:lnTo>
                          <a:pt x="0" y="8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362800" y="4863960"/>
                    <a:ext cx="411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43" h="72">
                        <a:moveTo>
                          <a:pt x="0" y="0"/>
                        </a:moveTo>
                        <a:lnTo>
                          <a:pt x="1143" y="0"/>
                        </a:lnTo>
                        <a:lnTo>
                          <a:pt x="114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385120" y="4898880"/>
                    <a:ext cx="25920" cy="27324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59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759"/>
                        </a:lnTo>
                        <a:lnTo>
                          <a:pt x="0" y="7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8385120" y="4881600"/>
                    <a:ext cx="389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81" h="72">
                        <a:moveTo>
                          <a:pt x="0" y="0"/>
                        </a:moveTo>
                        <a:lnTo>
                          <a:pt x="1081" y="0"/>
                        </a:lnTo>
                        <a:lnTo>
                          <a:pt x="108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8407440" y="4915080"/>
                    <a:ext cx="2592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715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715"/>
                        </a:lnTo>
                        <a:lnTo>
                          <a:pt x="0" y="7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8407440" y="4898880"/>
                    <a:ext cx="367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20" h="72">
                        <a:moveTo>
                          <a:pt x="0" y="0"/>
                        </a:moveTo>
                        <a:lnTo>
                          <a:pt x="1020" y="0"/>
                        </a:lnTo>
                        <a:lnTo>
                          <a:pt x="102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8431200" y="4932360"/>
                    <a:ext cx="25920" cy="24012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667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667"/>
                        </a:lnTo>
                        <a:lnTo>
                          <a:pt x="0" y="6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8431200" y="4915080"/>
                    <a:ext cx="343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954" h="72">
                        <a:moveTo>
                          <a:pt x="0" y="0"/>
                        </a:moveTo>
                        <a:lnTo>
                          <a:pt x="954" y="0"/>
                        </a:lnTo>
                        <a:lnTo>
                          <a:pt x="95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8453520" y="4950000"/>
                    <a:ext cx="2592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618">
                        <a:moveTo>
                          <a:pt x="0" y="0"/>
                        </a:moveTo>
                        <a:lnTo>
                          <a:pt x="72" y="0"/>
                        </a:lnTo>
                        <a:lnTo>
                          <a:pt x="72" y="618"/>
                        </a:lnTo>
                        <a:lnTo>
                          <a:pt x="0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8453520" y="4932360"/>
                    <a:ext cx="321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892" h="72">
                        <a:moveTo>
                          <a:pt x="0" y="0"/>
                        </a:moveTo>
                        <a:lnTo>
                          <a:pt x="892" y="0"/>
                        </a:lnTo>
                        <a:lnTo>
                          <a:pt x="89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8477280" y="4950000"/>
                    <a:ext cx="297360" cy="222480"/>
                  </a:xfrm>
                  <a:custGeom>
                    <a:avLst/>
                    <a:gdLst/>
                    <a:ahLst/>
                    <a:rect l="0" t="0" r="r" b="b"/>
                    <a:pathLst>
                      <a:path w="826" h="618">
                        <a:moveTo>
                          <a:pt x="0" y="0"/>
                        </a:moveTo>
                        <a:lnTo>
                          <a:pt x="826" y="0"/>
                        </a:lnTo>
                        <a:lnTo>
                          <a:pt x="826" y="618"/>
                        </a:lnTo>
                        <a:lnTo>
                          <a:pt x="0" y="6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647040" y="3586320"/>
                    <a:ext cx="2127240" cy="1585800"/>
                  </a:xfrm>
                  <a:prstGeom prst="rect">
                    <a:avLst/>
                  </a:prstGeom>
                  <a:noFill/>
                  <a:ln w="12600">
                    <a:solidFill>
                      <a:srgbClr val="00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6657840" y="3925800"/>
                  <a:ext cx="2029320" cy="70560"/>
                  <a:chOff x="6657840" y="3925800"/>
                  <a:chExt cx="2029320" cy="7056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6667560" y="3935520"/>
                    <a:ext cx="2019600" cy="60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610" h="169">
                        <a:moveTo>
                          <a:pt x="0" y="72"/>
                        </a:moveTo>
                        <a:lnTo>
                          <a:pt x="181" y="72"/>
                        </a:lnTo>
                        <a:lnTo>
                          <a:pt x="388" y="24"/>
                        </a:lnTo>
                        <a:lnTo>
                          <a:pt x="427" y="14"/>
                        </a:lnTo>
                        <a:lnTo>
                          <a:pt x="452" y="17"/>
                        </a:lnTo>
                        <a:lnTo>
                          <a:pt x="441" y="54"/>
                        </a:lnTo>
                        <a:lnTo>
                          <a:pt x="388" y="93"/>
                        </a:lnTo>
                        <a:lnTo>
                          <a:pt x="388" y="104"/>
                        </a:lnTo>
                        <a:lnTo>
                          <a:pt x="413" y="100"/>
                        </a:lnTo>
                        <a:lnTo>
                          <a:pt x="477" y="75"/>
                        </a:lnTo>
                        <a:lnTo>
                          <a:pt x="588" y="32"/>
                        </a:lnTo>
                        <a:lnTo>
                          <a:pt x="630" y="14"/>
                        </a:lnTo>
                        <a:lnTo>
                          <a:pt x="648" y="17"/>
                        </a:lnTo>
                        <a:lnTo>
                          <a:pt x="630" y="43"/>
                        </a:lnTo>
                        <a:lnTo>
                          <a:pt x="580" y="86"/>
                        </a:lnTo>
                        <a:lnTo>
                          <a:pt x="520" y="148"/>
                        </a:lnTo>
                        <a:lnTo>
                          <a:pt x="538" y="169"/>
                        </a:lnTo>
                        <a:lnTo>
                          <a:pt x="637" y="111"/>
                        </a:lnTo>
                        <a:lnTo>
                          <a:pt x="762" y="32"/>
                        </a:lnTo>
                        <a:lnTo>
                          <a:pt x="787" y="24"/>
                        </a:lnTo>
                        <a:lnTo>
                          <a:pt x="808" y="24"/>
                        </a:lnTo>
                        <a:lnTo>
                          <a:pt x="794" y="54"/>
                        </a:lnTo>
                        <a:lnTo>
                          <a:pt x="744" y="104"/>
                        </a:lnTo>
                        <a:lnTo>
                          <a:pt x="751" y="115"/>
                        </a:lnTo>
                        <a:lnTo>
                          <a:pt x="769" y="122"/>
                        </a:lnTo>
                        <a:lnTo>
                          <a:pt x="794" y="118"/>
                        </a:lnTo>
                        <a:lnTo>
                          <a:pt x="855" y="100"/>
                        </a:lnTo>
                        <a:lnTo>
                          <a:pt x="919" y="75"/>
                        </a:lnTo>
                        <a:lnTo>
                          <a:pt x="1026" y="28"/>
                        </a:lnTo>
                        <a:lnTo>
                          <a:pt x="1058" y="14"/>
                        </a:lnTo>
                        <a:lnTo>
                          <a:pt x="1086" y="3"/>
                        </a:lnTo>
                        <a:lnTo>
                          <a:pt x="1115" y="0"/>
                        </a:lnTo>
                        <a:lnTo>
                          <a:pt x="1133" y="7"/>
                        </a:lnTo>
                        <a:lnTo>
                          <a:pt x="1136" y="24"/>
                        </a:lnTo>
                        <a:lnTo>
                          <a:pt x="1118" y="47"/>
                        </a:lnTo>
                        <a:lnTo>
                          <a:pt x="1076" y="83"/>
                        </a:lnTo>
                        <a:lnTo>
                          <a:pt x="1058" y="104"/>
                        </a:lnTo>
                        <a:lnTo>
                          <a:pt x="1069" y="111"/>
                        </a:lnTo>
                        <a:lnTo>
                          <a:pt x="1083" y="115"/>
                        </a:lnTo>
                        <a:lnTo>
                          <a:pt x="1122" y="100"/>
                        </a:lnTo>
                        <a:lnTo>
                          <a:pt x="1158" y="75"/>
                        </a:lnTo>
                        <a:lnTo>
                          <a:pt x="1197" y="54"/>
                        </a:lnTo>
                        <a:lnTo>
                          <a:pt x="1222" y="43"/>
                        </a:lnTo>
                        <a:lnTo>
                          <a:pt x="1247" y="35"/>
                        </a:lnTo>
                        <a:lnTo>
                          <a:pt x="1275" y="43"/>
                        </a:lnTo>
                        <a:lnTo>
                          <a:pt x="1311" y="54"/>
                        </a:lnTo>
                        <a:lnTo>
                          <a:pt x="1339" y="65"/>
                        </a:lnTo>
                        <a:lnTo>
                          <a:pt x="1372" y="68"/>
                        </a:lnTo>
                        <a:lnTo>
                          <a:pt x="5610" y="65"/>
                        </a:lnTo>
                      </a:path>
                    </a:pathLst>
                  </a:custGeom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6657840" y="3925800"/>
                    <a:ext cx="2021400" cy="608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615" h="169">
                        <a:moveTo>
                          <a:pt x="0" y="68"/>
                        </a:moveTo>
                        <a:lnTo>
                          <a:pt x="178" y="68"/>
                        </a:lnTo>
                        <a:lnTo>
                          <a:pt x="388" y="24"/>
                        </a:lnTo>
                        <a:lnTo>
                          <a:pt x="427" y="14"/>
                        </a:lnTo>
                        <a:lnTo>
                          <a:pt x="452" y="17"/>
                        </a:lnTo>
                        <a:lnTo>
                          <a:pt x="442" y="54"/>
                        </a:lnTo>
                        <a:lnTo>
                          <a:pt x="388" y="93"/>
                        </a:lnTo>
                        <a:lnTo>
                          <a:pt x="388" y="104"/>
                        </a:lnTo>
                        <a:lnTo>
                          <a:pt x="410" y="100"/>
                        </a:lnTo>
                        <a:lnTo>
                          <a:pt x="477" y="75"/>
                        </a:lnTo>
                        <a:lnTo>
                          <a:pt x="584" y="32"/>
                        </a:lnTo>
                        <a:lnTo>
                          <a:pt x="627" y="14"/>
                        </a:lnTo>
                        <a:lnTo>
                          <a:pt x="649" y="17"/>
                        </a:lnTo>
                        <a:lnTo>
                          <a:pt x="631" y="39"/>
                        </a:lnTo>
                        <a:lnTo>
                          <a:pt x="581" y="86"/>
                        </a:lnTo>
                        <a:lnTo>
                          <a:pt x="520" y="148"/>
                        </a:lnTo>
                        <a:lnTo>
                          <a:pt x="538" y="169"/>
                        </a:lnTo>
                        <a:lnTo>
                          <a:pt x="634" y="107"/>
                        </a:lnTo>
                        <a:lnTo>
                          <a:pt x="759" y="32"/>
                        </a:lnTo>
                        <a:lnTo>
                          <a:pt x="788" y="24"/>
                        </a:lnTo>
                        <a:lnTo>
                          <a:pt x="809" y="24"/>
                        </a:lnTo>
                        <a:lnTo>
                          <a:pt x="795" y="54"/>
                        </a:lnTo>
                        <a:lnTo>
                          <a:pt x="745" y="100"/>
                        </a:lnTo>
                        <a:lnTo>
                          <a:pt x="748" y="115"/>
                        </a:lnTo>
                        <a:lnTo>
                          <a:pt x="766" y="118"/>
                        </a:lnTo>
                        <a:lnTo>
                          <a:pt x="795" y="118"/>
                        </a:lnTo>
                        <a:lnTo>
                          <a:pt x="852" y="100"/>
                        </a:lnTo>
                        <a:lnTo>
                          <a:pt x="920" y="75"/>
                        </a:lnTo>
                        <a:lnTo>
                          <a:pt x="1027" y="24"/>
                        </a:lnTo>
                        <a:lnTo>
                          <a:pt x="1055" y="14"/>
                        </a:lnTo>
                        <a:lnTo>
                          <a:pt x="1087" y="3"/>
                        </a:lnTo>
                        <a:lnTo>
                          <a:pt x="1116" y="0"/>
                        </a:lnTo>
                        <a:lnTo>
                          <a:pt x="1134" y="7"/>
                        </a:lnTo>
                        <a:lnTo>
                          <a:pt x="1137" y="24"/>
                        </a:lnTo>
                        <a:lnTo>
                          <a:pt x="1116" y="47"/>
                        </a:lnTo>
                        <a:lnTo>
                          <a:pt x="1073" y="83"/>
                        </a:lnTo>
                        <a:lnTo>
                          <a:pt x="1055" y="100"/>
                        </a:lnTo>
                        <a:lnTo>
                          <a:pt x="1069" y="111"/>
                        </a:lnTo>
                        <a:lnTo>
                          <a:pt x="1084" y="115"/>
                        </a:lnTo>
                        <a:lnTo>
                          <a:pt x="1123" y="100"/>
                        </a:lnTo>
                        <a:lnTo>
                          <a:pt x="1159" y="75"/>
                        </a:lnTo>
                        <a:lnTo>
                          <a:pt x="1198" y="54"/>
                        </a:lnTo>
                        <a:lnTo>
                          <a:pt x="1223" y="43"/>
                        </a:lnTo>
                        <a:lnTo>
                          <a:pt x="1248" y="35"/>
                        </a:lnTo>
                        <a:lnTo>
                          <a:pt x="1276" y="39"/>
                        </a:lnTo>
                        <a:lnTo>
                          <a:pt x="1312" y="54"/>
                        </a:lnTo>
                        <a:lnTo>
                          <a:pt x="1340" y="65"/>
                        </a:lnTo>
                        <a:lnTo>
                          <a:pt x="1373" y="68"/>
                        </a:lnTo>
                        <a:lnTo>
                          <a:pt x="5615" y="65"/>
                        </a:lnTo>
                      </a:path>
                    </a:pathLst>
                  </a:custGeom>
                  <a:ln w="12600">
                    <a:solidFill>
                      <a:srgbClr val="00ffff"/>
                    </a:solidFill>
                    <a:round/>
                  </a:ln>
                </p:spPr>
                <p:txBody>
                  <a:bodyPr lIns="96120" rIns="9612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7083360" y="4299120"/>
                  <a:ext cx="1330560" cy="700200"/>
                  <a:chOff x="7083360" y="4299120"/>
                  <a:chExt cx="1330560" cy="7002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7686720" y="4379760"/>
                    <a:ext cx="449640" cy="336960"/>
                  </a:xfrm>
                  <a:custGeom>
                    <a:avLst/>
                    <a:gdLst/>
                    <a:ahLst/>
                    <a:rect l="0" t="0" r="r" b="b"/>
                    <a:pathLst>
                      <a:path w="1249" h="936">
                        <a:moveTo>
                          <a:pt x="0" y="493"/>
                        </a:moveTo>
                        <a:lnTo>
                          <a:pt x="1249" y="0"/>
                        </a:lnTo>
                        <a:lnTo>
                          <a:pt x="1249" y="443"/>
                        </a:lnTo>
                        <a:lnTo>
                          <a:pt x="0" y="936"/>
                        </a:lnTo>
                        <a:lnTo>
                          <a:pt x="0" y="493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083360" y="4554360"/>
                    <a:ext cx="493920" cy="413280"/>
                  </a:xfrm>
                  <a:custGeom>
                    <a:avLst/>
                    <a:gdLst/>
                    <a:ahLst/>
                    <a:rect l="0" t="0" r="r" b="b"/>
                    <a:pathLst>
                      <a:path w="1372" h="1148">
                        <a:moveTo>
                          <a:pt x="1372" y="706"/>
                        </a:moveTo>
                        <a:lnTo>
                          <a:pt x="1372" y="706"/>
                        </a:lnTo>
                        <a:lnTo>
                          <a:pt x="1343" y="706"/>
                        </a:lnTo>
                        <a:lnTo>
                          <a:pt x="1315" y="702"/>
                        </a:lnTo>
                        <a:lnTo>
                          <a:pt x="1290" y="698"/>
                        </a:lnTo>
                        <a:lnTo>
                          <a:pt x="1258" y="695"/>
                        </a:lnTo>
                        <a:lnTo>
                          <a:pt x="1229" y="695"/>
                        </a:lnTo>
                        <a:lnTo>
                          <a:pt x="1201" y="688"/>
                        </a:lnTo>
                        <a:lnTo>
                          <a:pt x="1172" y="684"/>
                        </a:lnTo>
                        <a:lnTo>
                          <a:pt x="1144" y="681"/>
                        </a:lnTo>
                        <a:lnTo>
                          <a:pt x="1119" y="677"/>
                        </a:lnTo>
                        <a:lnTo>
                          <a:pt x="1091" y="673"/>
                        </a:lnTo>
                        <a:lnTo>
                          <a:pt x="1058" y="670"/>
                        </a:lnTo>
                        <a:lnTo>
                          <a:pt x="1034" y="666"/>
                        </a:lnTo>
                        <a:lnTo>
                          <a:pt x="1005" y="659"/>
                        </a:lnTo>
                        <a:lnTo>
                          <a:pt x="980" y="656"/>
                        </a:lnTo>
                        <a:lnTo>
                          <a:pt x="955" y="649"/>
                        </a:lnTo>
                        <a:lnTo>
                          <a:pt x="927" y="645"/>
                        </a:lnTo>
                        <a:lnTo>
                          <a:pt x="902" y="638"/>
                        </a:lnTo>
                        <a:lnTo>
                          <a:pt x="873" y="631"/>
                        </a:lnTo>
                        <a:lnTo>
                          <a:pt x="848" y="624"/>
                        </a:lnTo>
                        <a:lnTo>
                          <a:pt x="823" y="616"/>
                        </a:lnTo>
                        <a:lnTo>
                          <a:pt x="798" y="613"/>
                        </a:lnTo>
                        <a:lnTo>
                          <a:pt x="773" y="606"/>
                        </a:lnTo>
                        <a:lnTo>
                          <a:pt x="749" y="595"/>
                        </a:lnTo>
                        <a:lnTo>
                          <a:pt x="727" y="592"/>
                        </a:lnTo>
                        <a:lnTo>
                          <a:pt x="699" y="584"/>
                        </a:lnTo>
                        <a:lnTo>
                          <a:pt x="676" y="577"/>
                        </a:lnTo>
                        <a:lnTo>
                          <a:pt x="651" y="567"/>
                        </a:lnTo>
                        <a:lnTo>
                          <a:pt x="626" y="563"/>
                        </a:lnTo>
                        <a:lnTo>
                          <a:pt x="605" y="552"/>
                        </a:lnTo>
                        <a:lnTo>
                          <a:pt x="584" y="545"/>
                        </a:lnTo>
                        <a:lnTo>
                          <a:pt x="559" y="535"/>
                        </a:lnTo>
                        <a:lnTo>
                          <a:pt x="537" y="527"/>
                        </a:lnTo>
                        <a:lnTo>
                          <a:pt x="516" y="520"/>
                        </a:lnTo>
                        <a:lnTo>
                          <a:pt x="498" y="510"/>
                        </a:lnTo>
                        <a:lnTo>
                          <a:pt x="477" y="499"/>
                        </a:lnTo>
                        <a:lnTo>
                          <a:pt x="455" y="492"/>
                        </a:lnTo>
                        <a:lnTo>
                          <a:pt x="434" y="481"/>
                        </a:lnTo>
                        <a:lnTo>
                          <a:pt x="416" y="474"/>
                        </a:lnTo>
                        <a:lnTo>
                          <a:pt x="395" y="463"/>
                        </a:lnTo>
                        <a:lnTo>
                          <a:pt x="377" y="453"/>
                        </a:lnTo>
                        <a:lnTo>
                          <a:pt x="359" y="442"/>
                        </a:lnTo>
                        <a:lnTo>
                          <a:pt x="341" y="435"/>
                        </a:lnTo>
                        <a:lnTo>
                          <a:pt x="324" y="424"/>
                        </a:lnTo>
                        <a:lnTo>
                          <a:pt x="306" y="414"/>
                        </a:lnTo>
                        <a:lnTo>
                          <a:pt x="292" y="403"/>
                        </a:lnTo>
                        <a:lnTo>
                          <a:pt x="270" y="392"/>
                        </a:lnTo>
                        <a:lnTo>
                          <a:pt x="260" y="381"/>
                        </a:lnTo>
                        <a:lnTo>
                          <a:pt x="242" y="371"/>
                        </a:lnTo>
                        <a:lnTo>
                          <a:pt x="227" y="360"/>
                        </a:lnTo>
                        <a:lnTo>
                          <a:pt x="213" y="349"/>
                        </a:lnTo>
                        <a:lnTo>
                          <a:pt x="199" y="339"/>
                        </a:lnTo>
                        <a:lnTo>
                          <a:pt x="185" y="328"/>
                        </a:lnTo>
                        <a:lnTo>
                          <a:pt x="170" y="317"/>
                        </a:lnTo>
                        <a:lnTo>
                          <a:pt x="156" y="307"/>
                        </a:lnTo>
                        <a:lnTo>
                          <a:pt x="146" y="296"/>
                        </a:lnTo>
                        <a:lnTo>
                          <a:pt x="135" y="284"/>
                        </a:lnTo>
                        <a:lnTo>
                          <a:pt x="124" y="270"/>
                        </a:lnTo>
                        <a:lnTo>
                          <a:pt x="110" y="259"/>
                        </a:lnTo>
                        <a:lnTo>
                          <a:pt x="103" y="245"/>
                        </a:lnTo>
                        <a:lnTo>
                          <a:pt x="92" y="235"/>
                        </a:lnTo>
                        <a:lnTo>
                          <a:pt x="81" y="224"/>
                        </a:lnTo>
                        <a:lnTo>
                          <a:pt x="74" y="210"/>
                        </a:lnTo>
                        <a:lnTo>
                          <a:pt x="64" y="199"/>
                        </a:lnTo>
                        <a:lnTo>
                          <a:pt x="56" y="188"/>
                        </a:lnTo>
                        <a:lnTo>
                          <a:pt x="53" y="174"/>
                        </a:lnTo>
                        <a:lnTo>
                          <a:pt x="42" y="163"/>
                        </a:lnTo>
                        <a:lnTo>
                          <a:pt x="35" y="149"/>
                        </a:lnTo>
                        <a:lnTo>
                          <a:pt x="32" y="135"/>
                        </a:lnTo>
                        <a:lnTo>
                          <a:pt x="24" y="124"/>
                        </a:lnTo>
                        <a:lnTo>
                          <a:pt x="21" y="113"/>
                        </a:lnTo>
                        <a:lnTo>
                          <a:pt x="17" y="103"/>
                        </a:lnTo>
                        <a:lnTo>
                          <a:pt x="14" y="89"/>
                        </a:lnTo>
                        <a:lnTo>
                          <a:pt x="7" y="74"/>
                        </a:lnTo>
                        <a:lnTo>
                          <a:pt x="7" y="64"/>
                        </a:lnTo>
                        <a:lnTo>
                          <a:pt x="3" y="49"/>
                        </a:lnTo>
                        <a:lnTo>
                          <a:pt x="3" y="39"/>
                        </a:lnTo>
                        <a:lnTo>
                          <a:pt x="0" y="28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0" y="442"/>
                        </a:lnTo>
                        <a:lnTo>
                          <a:pt x="0" y="453"/>
                        </a:lnTo>
                        <a:lnTo>
                          <a:pt x="0" y="467"/>
                        </a:lnTo>
                        <a:lnTo>
                          <a:pt x="3" y="481"/>
                        </a:lnTo>
                        <a:lnTo>
                          <a:pt x="3" y="492"/>
                        </a:lnTo>
                        <a:lnTo>
                          <a:pt x="7" y="506"/>
                        </a:lnTo>
                        <a:lnTo>
                          <a:pt x="7" y="517"/>
                        </a:lnTo>
                        <a:lnTo>
                          <a:pt x="14" y="531"/>
                        </a:lnTo>
                        <a:lnTo>
                          <a:pt x="17" y="542"/>
                        </a:lnTo>
                        <a:lnTo>
                          <a:pt x="21" y="556"/>
                        </a:lnTo>
                        <a:lnTo>
                          <a:pt x="24" y="567"/>
                        </a:lnTo>
                        <a:lnTo>
                          <a:pt x="32" y="581"/>
                        </a:lnTo>
                        <a:lnTo>
                          <a:pt x="35" y="592"/>
                        </a:lnTo>
                        <a:lnTo>
                          <a:pt x="42" y="602"/>
                        </a:lnTo>
                        <a:lnTo>
                          <a:pt x="53" y="616"/>
                        </a:lnTo>
                        <a:lnTo>
                          <a:pt x="56" y="627"/>
                        </a:lnTo>
                        <a:lnTo>
                          <a:pt x="64" y="641"/>
                        </a:lnTo>
                        <a:lnTo>
                          <a:pt x="74" y="652"/>
                        </a:lnTo>
                        <a:lnTo>
                          <a:pt x="81" y="666"/>
                        </a:lnTo>
                        <a:lnTo>
                          <a:pt x="92" y="677"/>
                        </a:lnTo>
                        <a:lnTo>
                          <a:pt x="103" y="688"/>
                        </a:lnTo>
                        <a:lnTo>
                          <a:pt x="110" y="698"/>
                        </a:lnTo>
                        <a:lnTo>
                          <a:pt x="124" y="713"/>
                        </a:lnTo>
                        <a:lnTo>
                          <a:pt x="135" y="723"/>
                        </a:lnTo>
                        <a:lnTo>
                          <a:pt x="146" y="734"/>
                        </a:lnTo>
                        <a:lnTo>
                          <a:pt x="156" y="748"/>
                        </a:lnTo>
                        <a:lnTo>
                          <a:pt x="170" y="759"/>
                        </a:lnTo>
                        <a:lnTo>
                          <a:pt x="185" y="766"/>
                        </a:lnTo>
                        <a:lnTo>
                          <a:pt x="199" y="780"/>
                        </a:lnTo>
                        <a:lnTo>
                          <a:pt x="213" y="791"/>
                        </a:lnTo>
                        <a:lnTo>
                          <a:pt x="227" y="802"/>
                        </a:lnTo>
                        <a:lnTo>
                          <a:pt x="242" y="812"/>
                        </a:lnTo>
                        <a:lnTo>
                          <a:pt x="260" y="823"/>
                        </a:lnTo>
                        <a:lnTo>
                          <a:pt x="270" y="834"/>
                        </a:lnTo>
                        <a:lnTo>
                          <a:pt x="292" y="841"/>
                        </a:lnTo>
                        <a:lnTo>
                          <a:pt x="306" y="851"/>
                        </a:lnTo>
                        <a:lnTo>
                          <a:pt x="324" y="867"/>
                        </a:lnTo>
                        <a:lnTo>
                          <a:pt x="341" y="877"/>
                        </a:lnTo>
                        <a:lnTo>
                          <a:pt x="359" y="885"/>
                        </a:lnTo>
                        <a:lnTo>
                          <a:pt x="377" y="895"/>
                        </a:lnTo>
                        <a:lnTo>
                          <a:pt x="395" y="906"/>
                        </a:lnTo>
                        <a:lnTo>
                          <a:pt x="416" y="913"/>
                        </a:lnTo>
                        <a:lnTo>
                          <a:pt x="434" y="924"/>
                        </a:lnTo>
                        <a:lnTo>
                          <a:pt x="455" y="934"/>
                        </a:lnTo>
                        <a:lnTo>
                          <a:pt x="477" y="942"/>
                        </a:lnTo>
                        <a:lnTo>
                          <a:pt x="498" y="952"/>
                        </a:lnTo>
                        <a:lnTo>
                          <a:pt x="516" y="959"/>
                        </a:lnTo>
                        <a:lnTo>
                          <a:pt x="537" y="970"/>
                        </a:lnTo>
                        <a:lnTo>
                          <a:pt x="559" y="977"/>
                        </a:lnTo>
                        <a:lnTo>
                          <a:pt x="584" y="984"/>
                        </a:lnTo>
                        <a:lnTo>
                          <a:pt x="605" y="995"/>
                        </a:lnTo>
                        <a:lnTo>
                          <a:pt x="626" y="1002"/>
                        </a:lnTo>
                        <a:lnTo>
                          <a:pt x="651" y="1009"/>
                        </a:lnTo>
                        <a:lnTo>
                          <a:pt x="676" y="1016"/>
                        </a:lnTo>
                        <a:lnTo>
                          <a:pt x="699" y="1027"/>
                        </a:lnTo>
                        <a:lnTo>
                          <a:pt x="727" y="1034"/>
                        </a:lnTo>
                        <a:lnTo>
                          <a:pt x="749" y="1038"/>
                        </a:lnTo>
                        <a:lnTo>
                          <a:pt x="773" y="1045"/>
                        </a:lnTo>
                        <a:lnTo>
                          <a:pt x="798" y="1052"/>
                        </a:lnTo>
                        <a:lnTo>
                          <a:pt x="823" y="1059"/>
                        </a:lnTo>
                        <a:lnTo>
                          <a:pt x="848" y="1066"/>
                        </a:lnTo>
                        <a:lnTo>
                          <a:pt x="873" y="1073"/>
                        </a:lnTo>
                        <a:lnTo>
                          <a:pt x="902" y="1077"/>
                        </a:lnTo>
                        <a:lnTo>
                          <a:pt x="927" y="1084"/>
                        </a:lnTo>
                        <a:lnTo>
                          <a:pt x="955" y="1087"/>
                        </a:lnTo>
                        <a:lnTo>
                          <a:pt x="980" y="1095"/>
                        </a:lnTo>
                        <a:lnTo>
                          <a:pt x="1005" y="1102"/>
                        </a:lnTo>
                        <a:lnTo>
                          <a:pt x="1034" y="1105"/>
                        </a:lnTo>
                        <a:lnTo>
                          <a:pt x="1058" y="1112"/>
                        </a:lnTo>
                        <a:lnTo>
                          <a:pt x="1091" y="1116"/>
                        </a:lnTo>
                        <a:lnTo>
                          <a:pt x="1119" y="1120"/>
                        </a:lnTo>
                        <a:lnTo>
                          <a:pt x="1144" y="1123"/>
                        </a:lnTo>
                        <a:lnTo>
                          <a:pt x="1172" y="1127"/>
                        </a:lnTo>
                        <a:lnTo>
                          <a:pt x="1201" y="1130"/>
                        </a:lnTo>
                        <a:lnTo>
                          <a:pt x="1229" y="1134"/>
                        </a:lnTo>
                        <a:lnTo>
                          <a:pt x="1258" y="1137"/>
                        </a:lnTo>
                        <a:lnTo>
                          <a:pt x="1290" y="1141"/>
                        </a:lnTo>
                        <a:lnTo>
                          <a:pt x="1315" y="1144"/>
                        </a:lnTo>
                        <a:lnTo>
                          <a:pt x="1343" y="1144"/>
                        </a:lnTo>
                        <a:lnTo>
                          <a:pt x="1372" y="1148"/>
                        </a:lnTo>
                        <a:lnTo>
                          <a:pt x="1372" y="706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570800" y="4554360"/>
                    <a:ext cx="122760" cy="413280"/>
                  </a:xfrm>
                  <a:custGeom>
                    <a:avLst/>
                    <a:gdLst/>
                    <a:ahLst/>
                    <a:rect l="0" t="0" r="r" b="b"/>
                    <a:pathLst>
                      <a:path w="341" h="1148">
                        <a:moveTo>
                          <a:pt x="341" y="0"/>
                        </a:moveTo>
                        <a:lnTo>
                          <a:pt x="0" y="706"/>
                        </a:lnTo>
                        <a:lnTo>
                          <a:pt x="0" y="1148"/>
                        </a:lnTo>
                        <a:lnTo>
                          <a:pt x="341" y="442"/>
                        </a:lnTo>
                        <a:lnTo>
                          <a:pt x="341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688160" y="4579920"/>
                    <a:ext cx="725760" cy="419400"/>
                  </a:xfrm>
                  <a:custGeom>
                    <a:avLst/>
                    <a:gdLst/>
                    <a:ahLst/>
                    <a:rect l="0" t="0" r="r" b="b"/>
                    <a:pathLst>
                      <a:path w="2016" h="1165">
                        <a:moveTo>
                          <a:pt x="2016" y="0"/>
                        </a:moveTo>
                        <a:lnTo>
                          <a:pt x="2016" y="0"/>
                        </a:lnTo>
                        <a:lnTo>
                          <a:pt x="2016" y="14"/>
                        </a:lnTo>
                        <a:lnTo>
                          <a:pt x="2016" y="28"/>
                        </a:lnTo>
                        <a:lnTo>
                          <a:pt x="2016" y="39"/>
                        </a:lnTo>
                        <a:lnTo>
                          <a:pt x="2012" y="49"/>
                        </a:lnTo>
                        <a:lnTo>
                          <a:pt x="2009" y="64"/>
                        </a:lnTo>
                        <a:lnTo>
                          <a:pt x="2005" y="78"/>
                        </a:lnTo>
                        <a:lnTo>
                          <a:pt x="2005" y="89"/>
                        </a:lnTo>
                        <a:lnTo>
                          <a:pt x="1998" y="103"/>
                        </a:lnTo>
                        <a:lnTo>
                          <a:pt x="1994" y="117"/>
                        </a:lnTo>
                        <a:lnTo>
                          <a:pt x="1987" y="128"/>
                        </a:lnTo>
                        <a:lnTo>
                          <a:pt x="1984" y="139"/>
                        </a:lnTo>
                        <a:lnTo>
                          <a:pt x="1980" y="153"/>
                        </a:lnTo>
                        <a:lnTo>
                          <a:pt x="1973" y="164"/>
                        </a:lnTo>
                        <a:lnTo>
                          <a:pt x="1966" y="178"/>
                        </a:lnTo>
                        <a:lnTo>
                          <a:pt x="1959" y="189"/>
                        </a:lnTo>
                        <a:lnTo>
                          <a:pt x="1948" y="199"/>
                        </a:lnTo>
                        <a:lnTo>
                          <a:pt x="1941" y="214"/>
                        </a:lnTo>
                        <a:lnTo>
                          <a:pt x="1934" y="224"/>
                        </a:lnTo>
                        <a:lnTo>
                          <a:pt x="1927" y="235"/>
                        </a:lnTo>
                        <a:lnTo>
                          <a:pt x="1916" y="249"/>
                        </a:lnTo>
                        <a:lnTo>
                          <a:pt x="1905" y="260"/>
                        </a:lnTo>
                        <a:lnTo>
                          <a:pt x="1895" y="271"/>
                        </a:lnTo>
                        <a:lnTo>
                          <a:pt x="1880" y="285"/>
                        </a:lnTo>
                        <a:lnTo>
                          <a:pt x="1870" y="296"/>
                        </a:lnTo>
                        <a:lnTo>
                          <a:pt x="1856" y="307"/>
                        </a:lnTo>
                        <a:lnTo>
                          <a:pt x="1845" y="317"/>
                        </a:lnTo>
                        <a:lnTo>
                          <a:pt x="1834" y="328"/>
                        </a:lnTo>
                        <a:lnTo>
                          <a:pt x="1820" y="342"/>
                        </a:lnTo>
                        <a:lnTo>
                          <a:pt x="1802" y="353"/>
                        </a:lnTo>
                        <a:lnTo>
                          <a:pt x="1791" y="364"/>
                        </a:lnTo>
                        <a:lnTo>
                          <a:pt x="1774" y="374"/>
                        </a:lnTo>
                        <a:lnTo>
                          <a:pt x="1759" y="385"/>
                        </a:lnTo>
                        <a:lnTo>
                          <a:pt x="1742" y="396"/>
                        </a:lnTo>
                        <a:lnTo>
                          <a:pt x="1727" y="407"/>
                        </a:lnTo>
                        <a:lnTo>
                          <a:pt x="1713" y="414"/>
                        </a:lnTo>
                        <a:lnTo>
                          <a:pt x="1692" y="424"/>
                        </a:lnTo>
                        <a:lnTo>
                          <a:pt x="1677" y="435"/>
                        </a:lnTo>
                        <a:lnTo>
                          <a:pt x="1656" y="446"/>
                        </a:lnTo>
                        <a:lnTo>
                          <a:pt x="1638" y="457"/>
                        </a:lnTo>
                        <a:lnTo>
                          <a:pt x="1621" y="467"/>
                        </a:lnTo>
                        <a:lnTo>
                          <a:pt x="1599" y="474"/>
                        </a:lnTo>
                        <a:lnTo>
                          <a:pt x="1581" y="485"/>
                        </a:lnTo>
                        <a:lnTo>
                          <a:pt x="1564" y="492"/>
                        </a:lnTo>
                        <a:lnTo>
                          <a:pt x="1542" y="499"/>
                        </a:lnTo>
                        <a:lnTo>
                          <a:pt x="1521" y="514"/>
                        </a:lnTo>
                        <a:lnTo>
                          <a:pt x="1499" y="521"/>
                        </a:lnTo>
                        <a:lnTo>
                          <a:pt x="1478" y="528"/>
                        </a:lnTo>
                        <a:lnTo>
                          <a:pt x="1457" y="539"/>
                        </a:lnTo>
                        <a:lnTo>
                          <a:pt x="1435" y="546"/>
                        </a:lnTo>
                        <a:lnTo>
                          <a:pt x="1414" y="553"/>
                        </a:lnTo>
                        <a:lnTo>
                          <a:pt x="1389" y="564"/>
                        </a:lnTo>
                        <a:lnTo>
                          <a:pt x="1364" y="571"/>
                        </a:lnTo>
                        <a:lnTo>
                          <a:pt x="1343" y="578"/>
                        </a:lnTo>
                        <a:lnTo>
                          <a:pt x="1318" y="590"/>
                        </a:lnTo>
                        <a:lnTo>
                          <a:pt x="1293" y="593"/>
                        </a:lnTo>
                        <a:lnTo>
                          <a:pt x="1272" y="600"/>
                        </a:lnTo>
                        <a:lnTo>
                          <a:pt x="1247" y="608"/>
                        </a:lnTo>
                        <a:lnTo>
                          <a:pt x="1222" y="615"/>
                        </a:lnTo>
                        <a:lnTo>
                          <a:pt x="1197" y="622"/>
                        </a:lnTo>
                        <a:lnTo>
                          <a:pt x="1172" y="625"/>
                        </a:lnTo>
                        <a:lnTo>
                          <a:pt x="1143" y="633"/>
                        </a:lnTo>
                        <a:lnTo>
                          <a:pt x="1118" y="640"/>
                        </a:lnTo>
                        <a:lnTo>
                          <a:pt x="1094" y="647"/>
                        </a:lnTo>
                        <a:lnTo>
                          <a:pt x="1069" y="650"/>
                        </a:lnTo>
                        <a:lnTo>
                          <a:pt x="1040" y="658"/>
                        </a:lnTo>
                        <a:lnTo>
                          <a:pt x="1015" y="661"/>
                        </a:lnTo>
                        <a:lnTo>
                          <a:pt x="986" y="668"/>
                        </a:lnTo>
                        <a:lnTo>
                          <a:pt x="957" y="672"/>
                        </a:lnTo>
                        <a:lnTo>
                          <a:pt x="929" y="675"/>
                        </a:lnTo>
                        <a:lnTo>
                          <a:pt x="904" y="683"/>
                        </a:lnTo>
                        <a:lnTo>
                          <a:pt x="875" y="686"/>
                        </a:lnTo>
                        <a:lnTo>
                          <a:pt x="847" y="686"/>
                        </a:lnTo>
                        <a:lnTo>
                          <a:pt x="818" y="693"/>
                        </a:lnTo>
                        <a:lnTo>
                          <a:pt x="790" y="697"/>
                        </a:lnTo>
                        <a:lnTo>
                          <a:pt x="761" y="697"/>
                        </a:lnTo>
                        <a:lnTo>
                          <a:pt x="733" y="704"/>
                        </a:lnTo>
                        <a:lnTo>
                          <a:pt x="704" y="704"/>
                        </a:lnTo>
                        <a:lnTo>
                          <a:pt x="672" y="708"/>
                        </a:lnTo>
                        <a:lnTo>
                          <a:pt x="648" y="708"/>
                        </a:lnTo>
                        <a:lnTo>
                          <a:pt x="619" y="715"/>
                        </a:lnTo>
                        <a:lnTo>
                          <a:pt x="587" y="715"/>
                        </a:lnTo>
                        <a:lnTo>
                          <a:pt x="558" y="715"/>
                        </a:lnTo>
                        <a:lnTo>
                          <a:pt x="530" y="718"/>
                        </a:lnTo>
                        <a:lnTo>
                          <a:pt x="502" y="722"/>
                        </a:lnTo>
                        <a:lnTo>
                          <a:pt x="469" y="722"/>
                        </a:lnTo>
                        <a:lnTo>
                          <a:pt x="445" y="722"/>
                        </a:lnTo>
                        <a:lnTo>
                          <a:pt x="413" y="722"/>
                        </a:lnTo>
                        <a:lnTo>
                          <a:pt x="384" y="725"/>
                        </a:lnTo>
                        <a:lnTo>
                          <a:pt x="352" y="725"/>
                        </a:lnTo>
                        <a:lnTo>
                          <a:pt x="324" y="725"/>
                        </a:lnTo>
                        <a:lnTo>
                          <a:pt x="295" y="725"/>
                        </a:lnTo>
                        <a:lnTo>
                          <a:pt x="263" y="725"/>
                        </a:lnTo>
                        <a:lnTo>
                          <a:pt x="234" y="722"/>
                        </a:lnTo>
                        <a:lnTo>
                          <a:pt x="206" y="722"/>
                        </a:lnTo>
                        <a:lnTo>
                          <a:pt x="178" y="722"/>
                        </a:lnTo>
                        <a:lnTo>
                          <a:pt x="149" y="722"/>
                        </a:lnTo>
                        <a:lnTo>
                          <a:pt x="117" y="718"/>
                        </a:lnTo>
                        <a:lnTo>
                          <a:pt x="89" y="715"/>
                        </a:lnTo>
                        <a:lnTo>
                          <a:pt x="60" y="715"/>
                        </a:lnTo>
                        <a:lnTo>
                          <a:pt x="32" y="715"/>
                        </a:lnTo>
                        <a:lnTo>
                          <a:pt x="0" y="708"/>
                        </a:lnTo>
                        <a:lnTo>
                          <a:pt x="0" y="1150"/>
                        </a:lnTo>
                        <a:lnTo>
                          <a:pt x="32" y="1154"/>
                        </a:lnTo>
                        <a:lnTo>
                          <a:pt x="60" y="1158"/>
                        </a:lnTo>
                        <a:lnTo>
                          <a:pt x="89" y="1158"/>
                        </a:lnTo>
                        <a:lnTo>
                          <a:pt x="117" y="1158"/>
                        </a:lnTo>
                        <a:lnTo>
                          <a:pt x="149" y="1161"/>
                        </a:lnTo>
                        <a:lnTo>
                          <a:pt x="178" y="1161"/>
                        </a:lnTo>
                        <a:lnTo>
                          <a:pt x="206" y="1165"/>
                        </a:lnTo>
                        <a:lnTo>
                          <a:pt x="234" y="1165"/>
                        </a:lnTo>
                        <a:lnTo>
                          <a:pt x="263" y="1165"/>
                        </a:lnTo>
                        <a:lnTo>
                          <a:pt x="295" y="1165"/>
                        </a:lnTo>
                        <a:lnTo>
                          <a:pt x="324" y="1165"/>
                        </a:lnTo>
                        <a:lnTo>
                          <a:pt x="352" y="1165"/>
                        </a:lnTo>
                        <a:lnTo>
                          <a:pt x="384" y="1165"/>
                        </a:lnTo>
                        <a:lnTo>
                          <a:pt x="413" y="1165"/>
                        </a:lnTo>
                        <a:lnTo>
                          <a:pt x="445" y="1165"/>
                        </a:lnTo>
                        <a:lnTo>
                          <a:pt x="469" y="1161"/>
                        </a:lnTo>
                        <a:lnTo>
                          <a:pt x="502" y="1161"/>
                        </a:lnTo>
                        <a:lnTo>
                          <a:pt x="530" y="1158"/>
                        </a:lnTo>
                        <a:lnTo>
                          <a:pt x="558" y="1158"/>
                        </a:lnTo>
                        <a:lnTo>
                          <a:pt x="587" y="1158"/>
                        </a:lnTo>
                        <a:lnTo>
                          <a:pt x="619" y="1154"/>
                        </a:lnTo>
                        <a:lnTo>
                          <a:pt x="648" y="1150"/>
                        </a:lnTo>
                        <a:lnTo>
                          <a:pt x="672" y="1147"/>
                        </a:lnTo>
                        <a:lnTo>
                          <a:pt x="704" y="1147"/>
                        </a:lnTo>
                        <a:lnTo>
                          <a:pt x="733" y="1143"/>
                        </a:lnTo>
                        <a:lnTo>
                          <a:pt x="761" y="1140"/>
                        </a:lnTo>
                        <a:lnTo>
                          <a:pt x="790" y="1136"/>
                        </a:lnTo>
                        <a:lnTo>
                          <a:pt x="818" y="1133"/>
                        </a:lnTo>
                        <a:lnTo>
                          <a:pt x="847" y="1129"/>
                        </a:lnTo>
                        <a:lnTo>
                          <a:pt x="875" y="1125"/>
                        </a:lnTo>
                        <a:lnTo>
                          <a:pt x="904" y="1122"/>
                        </a:lnTo>
                        <a:lnTo>
                          <a:pt x="929" y="1118"/>
                        </a:lnTo>
                        <a:lnTo>
                          <a:pt x="957" y="1115"/>
                        </a:lnTo>
                        <a:lnTo>
                          <a:pt x="986" y="1111"/>
                        </a:lnTo>
                        <a:lnTo>
                          <a:pt x="1015" y="1104"/>
                        </a:lnTo>
                        <a:lnTo>
                          <a:pt x="1040" y="1097"/>
                        </a:lnTo>
                        <a:lnTo>
                          <a:pt x="1069" y="1093"/>
                        </a:lnTo>
                        <a:lnTo>
                          <a:pt x="1094" y="1086"/>
                        </a:lnTo>
                        <a:lnTo>
                          <a:pt x="1118" y="1083"/>
                        </a:lnTo>
                        <a:lnTo>
                          <a:pt x="1143" y="1075"/>
                        </a:lnTo>
                        <a:lnTo>
                          <a:pt x="1172" y="1068"/>
                        </a:lnTo>
                        <a:lnTo>
                          <a:pt x="1197" y="1061"/>
                        </a:lnTo>
                        <a:lnTo>
                          <a:pt x="1222" y="1054"/>
                        </a:lnTo>
                        <a:lnTo>
                          <a:pt x="1247" y="1050"/>
                        </a:lnTo>
                        <a:lnTo>
                          <a:pt x="1272" y="1043"/>
                        </a:lnTo>
                        <a:lnTo>
                          <a:pt x="1293" y="1036"/>
                        </a:lnTo>
                        <a:lnTo>
                          <a:pt x="1318" y="1029"/>
                        </a:lnTo>
                        <a:lnTo>
                          <a:pt x="1343" y="1018"/>
                        </a:lnTo>
                        <a:lnTo>
                          <a:pt x="1364" y="1011"/>
                        </a:lnTo>
                        <a:lnTo>
                          <a:pt x="1389" y="1004"/>
                        </a:lnTo>
                        <a:lnTo>
                          <a:pt x="1414" y="997"/>
                        </a:lnTo>
                        <a:lnTo>
                          <a:pt x="1435" y="990"/>
                        </a:lnTo>
                        <a:lnTo>
                          <a:pt x="1457" y="979"/>
                        </a:lnTo>
                        <a:lnTo>
                          <a:pt x="1478" y="972"/>
                        </a:lnTo>
                        <a:lnTo>
                          <a:pt x="1499" y="961"/>
                        </a:lnTo>
                        <a:lnTo>
                          <a:pt x="1521" y="958"/>
                        </a:lnTo>
                        <a:lnTo>
                          <a:pt x="1542" y="943"/>
                        </a:lnTo>
                        <a:lnTo>
                          <a:pt x="1564" y="933"/>
                        </a:lnTo>
                        <a:lnTo>
                          <a:pt x="1581" y="929"/>
                        </a:lnTo>
                        <a:lnTo>
                          <a:pt x="1599" y="918"/>
                        </a:lnTo>
                        <a:lnTo>
                          <a:pt x="1621" y="908"/>
                        </a:lnTo>
                        <a:lnTo>
                          <a:pt x="1638" y="897"/>
                        </a:lnTo>
                        <a:lnTo>
                          <a:pt x="1656" y="886"/>
                        </a:lnTo>
                        <a:lnTo>
                          <a:pt x="1677" y="879"/>
                        </a:lnTo>
                        <a:lnTo>
                          <a:pt x="1692" y="868"/>
                        </a:lnTo>
                        <a:lnTo>
                          <a:pt x="1713" y="858"/>
                        </a:lnTo>
                        <a:lnTo>
                          <a:pt x="1727" y="847"/>
                        </a:lnTo>
                        <a:lnTo>
                          <a:pt x="1742" y="836"/>
                        </a:lnTo>
                        <a:lnTo>
                          <a:pt x="1759" y="825"/>
                        </a:lnTo>
                        <a:lnTo>
                          <a:pt x="1774" y="815"/>
                        </a:lnTo>
                        <a:lnTo>
                          <a:pt x="1791" y="804"/>
                        </a:lnTo>
                        <a:lnTo>
                          <a:pt x="1802" y="793"/>
                        </a:lnTo>
                        <a:lnTo>
                          <a:pt x="1820" y="783"/>
                        </a:lnTo>
                        <a:lnTo>
                          <a:pt x="1834" y="768"/>
                        </a:lnTo>
                        <a:lnTo>
                          <a:pt x="1845" y="761"/>
                        </a:lnTo>
                        <a:lnTo>
                          <a:pt x="1856" y="750"/>
                        </a:lnTo>
                        <a:lnTo>
                          <a:pt x="1870" y="736"/>
                        </a:lnTo>
                        <a:lnTo>
                          <a:pt x="1880" y="725"/>
                        </a:lnTo>
                        <a:lnTo>
                          <a:pt x="1895" y="715"/>
                        </a:lnTo>
                        <a:lnTo>
                          <a:pt x="1905" y="704"/>
                        </a:lnTo>
                        <a:lnTo>
                          <a:pt x="1916" y="690"/>
                        </a:lnTo>
                        <a:lnTo>
                          <a:pt x="1927" y="679"/>
                        </a:lnTo>
                        <a:lnTo>
                          <a:pt x="1934" y="668"/>
                        </a:lnTo>
                        <a:lnTo>
                          <a:pt x="1941" y="654"/>
                        </a:lnTo>
                        <a:lnTo>
                          <a:pt x="1948" y="643"/>
                        </a:lnTo>
                        <a:lnTo>
                          <a:pt x="1959" y="633"/>
                        </a:lnTo>
                        <a:lnTo>
                          <a:pt x="1966" y="618"/>
                        </a:lnTo>
                        <a:lnTo>
                          <a:pt x="1973" y="604"/>
                        </a:lnTo>
                        <a:lnTo>
                          <a:pt x="1980" y="593"/>
                        </a:lnTo>
                        <a:lnTo>
                          <a:pt x="1984" y="578"/>
                        </a:lnTo>
                        <a:lnTo>
                          <a:pt x="1987" y="571"/>
                        </a:lnTo>
                        <a:lnTo>
                          <a:pt x="1994" y="557"/>
                        </a:lnTo>
                        <a:lnTo>
                          <a:pt x="1998" y="542"/>
                        </a:lnTo>
                        <a:lnTo>
                          <a:pt x="2005" y="532"/>
                        </a:lnTo>
                        <a:lnTo>
                          <a:pt x="2005" y="517"/>
                        </a:lnTo>
                        <a:lnTo>
                          <a:pt x="2009" y="507"/>
                        </a:lnTo>
                        <a:lnTo>
                          <a:pt x="2012" y="492"/>
                        </a:lnTo>
                        <a:lnTo>
                          <a:pt x="2016" y="482"/>
                        </a:lnTo>
                        <a:lnTo>
                          <a:pt x="2016" y="467"/>
                        </a:lnTo>
                        <a:lnTo>
                          <a:pt x="2016" y="457"/>
                        </a:lnTo>
                        <a:lnTo>
                          <a:pt x="2016" y="442"/>
                        </a:lnTo>
                        <a:lnTo>
                          <a:pt x="2016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104240" y="4299120"/>
                    <a:ext cx="632160" cy="262440"/>
                  </a:xfrm>
                  <a:custGeom>
                    <a:avLst/>
                    <a:gdLst/>
                    <a:ahLst/>
                    <a:rect l="0" t="0" r="r" b="b"/>
                    <a:pathLst>
                      <a:path w="1756" h="729">
                        <a:moveTo>
                          <a:pt x="0" y="538"/>
                        </a:moveTo>
                        <a:lnTo>
                          <a:pt x="0" y="538"/>
                        </a:lnTo>
                        <a:lnTo>
                          <a:pt x="7" y="527"/>
                        </a:lnTo>
                        <a:lnTo>
                          <a:pt x="17" y="517"/>
                        </a:lnTo>
                        <a:lnTo>
                          <a:pt x="24" y="506"/>
                        </a:lnTo>
                        <a:lnTo>
                          <a:pt x="35" y="492"/>
                        </a:lnTo>
                        <a:lnTo>
                          <a:pt x="46" y="477"/>
                        </a:lnTo>
                        <a:lnTo>
                          <a:pt x="53" y="466"/>
                        </a:lnTo>
                        <a:lnTo>
                          <a:pt x="64" y="456"/>
                        </a:lnTo>
                        <a:lnTo>
                          <a:pt x="78" y="445"/>
                        </a:lnTo>
                        <a:lnTo>
                          <a:pt x="88" y="431"/>
                        </a:lnTo>
                        <a:lnTo>
                          <a:pt x="99" y="420"/>
                        </a:lnTo>
                        <a:lnTo>
                          <a:pt x="113" y="409"/>
                        </a:lnTo>
                        <a:lnTo>
                          <a:pt x="128" y="395"/>
                        </a:lnTo>
                        <a:lnTo>
                          <a:pt x="138" y="384"/>
                        </a:lnTo>
                        <a:lnTo>
                          <a:pt x="153" y="373"/>
                        </a:lnTo>
                        <a:lnTo>
                          <a:pt x="170" y="363"/>
                        </a:lnTo>
                        <a:lnTo>
                          <a:pt x="181" y="352"/>
                        </a:lnTo>
                        <a:lnTo>
                          <a:pt x="199" y="341"/>
                        </a:lnTo>
                        <a:lnTo>
                          <a:pt x="213" y="330"/>
                        </a:lnTo>
                        <a:lnTo>
                          <a:pt x="231" y="319"/>
                        </a:lnTo>
                        <a:lnTo>
                          <a:pt x="249" y="309"/>
                        </a:lnTo>
                        <a:lnTo>
                          <a:pt x="263" y="302"/>
                        </a:lnTo>
                        <a:lnTo>
                          <a:pt x="284" y="291"/>
                        </a:lnTo>
                        <a:lnTo>
                          <a:pt x="302" y="280"/>
                        </a:lnTo>
                        <a:lnTo>
                          <a:pt x="320" y="269"/>
                        </a:lnTo>
                        <a:lnTo>
                          <a:pt x="338" y="259"/>
                        </a:lnTo>
                        <a:lnTo>
                          <a:pt x="355" y="248"/>
                        </a:lnTo>
                        <a:lnTo>
                          <a:pt x="377" y="241"/>
                        </a:lnTo>
                        <a:lnTo>
                          <a:pt x="398" y="230"/>
                        </a:lnTo>
                        <a:lnTo>
                          <a:pt x="420" y="219"/>
                        </a:lnTo>
                        <a:lnTo>
                          <a:pt x="437" y="212"/>
                        </a:lnTo>
                        <a:lnTo>
                          <a:pt x="459" y="205"/>
                        </a:lnTo>
                        <a:lnTo>
                          <a:pt x="480" y="194"/>
                        </a:lnTo>
                        <a:lnTo>
                          <a:pt x="501" y="187"/>
                        </a:lnTo>
                        <a:lnTo>
                          <a:pt x="526" y="175"/>
                        </a:lnTo>
                        <a:lnTo>
                          <a:pt x="548" y="168"/>
                        </a:lnTo>
                        <a:lnTo>
                          <a:pt x="569" y="161"/>
                        </a:lnTo>
                        <a:lnTo>
                          <a:pt x="590" y="154"/>
                        </a:lnTo>
                        <a:lnTo>
                          <a:pt x="615" y="146"/>
                        </a:lnTo>
                        <a:lnTo>
                          <a:pt x="640" y="136"/>
                        </a:lnTo>
                        <a:lnTo>
                          <a:pt x="665" y="132"/>
                        </a:lnTo>
                        <a:lnTo>
                          <a:pt x="690" y="121"/>
                        </a:lnTo>
                        <a:lnTo>
                          <a:pt x="711" y="114"/>
                        </a:lnTo>
                        <a:lnTo>
                          <a:pt x="740" y="111"/>
                        </a:lnTo>
                        <a:lnTo>
                          <a:pt x="765" y="103"/>
                        </a:lnTo>
                        <a:lnTo>
                          <a:pt x="786" y="96"/>
                        </a:lnTo>
                        <a:lnTo>
                          <a:pt x="815" y="93"/>
                        </a:lnTo>
                        <a:lnTo>
                          <a:pt x="843" y="82"/>
                        </a:lnTo>
                        <a:lnTo>
                          <a:pt x="865" y="75"/>
                        </a:lnTo>
                        <a:lnTo>
                          <a:pt x="894" y="71"/>
                        </a:lnTo>
                        <a:lnTo>
                          <a:pt x="919" y="64"/>
                        </a:lnTo>
                        <a:lnTo>
                          <a:pt x="947" y="60"/>
                        </a:lnTo>
                        <a:lnTo>
                          <a:pt x="976" y="57"/>
                        </a:lnTo>
                        <a:lnTo>
                          <a:pt x="1001" y="53"/>
                        </a:lnTo>
                        <a:lnTo>
                          <a:pt x="1029" y="46"/>
                        </a:lnTo>
                        <a:lnTo>
                          <a:pt x="1058" y="39"/>
                        </a:lnTo>
                        <a:lnTo>
                          <a:pt x="1083" y="35"/>
                        </a:lnTo>
                        <a:lnTo>
                          <a:pt x="1111" y="32"/>
                        </a:lnTo>
                        <a:lnTo>
                          <a:pt x="1143" y="32"/>
                        </a:lnTo>
                        <a:lnTo>
                          <a:pt x="1168" y="28"/>
                        </a:lnTo>
                        <a:lnTo>
                          <a:pt x="1200" y="21"/>
                        </a:lnTo>
                        <a:lnTo>
                          <a:pt x="1225" y="21"/>
                        </a:lnTo>
                        <a:lnTo>
                          <a:pt x="1254" y="17"/>
                        </a:lnTo>
                        <a:lnTo>
                          <a:pt x="1286" y="14"/>
                        </a:lnTo>
                        <a:lnTo>
                          <a:pt x="1314" y="10"/>
                        </a:lnTo>
                        <a:lnTo>
                          <a:pt x="1343" y="10"/>
                        </a:lnTo>
                        <a:lnTo>
                          <a:pt x="1371" y="7"/>
                        </a:lnTo>
                        <a:lnTo>
                          <a:pt x="1403" y="3"/>
                        </a:lnTo>
                        <a:lnTo>
                          <a:pt x="1428" y="3"/>
                        </a:lnTo>
                        <a:lnTo>
                          <a:pt x="1460" y="3"/>
                        </a:lnTo>
                        <a:lnTo>
                          <a:pt x="1489" y="0"/>
                        </a:lnTo>
                        <a:lnTo>
                          <a:pt x="1517" y="0"/>
                        </a:lnTo>
                        <a:lnTo>
                          <a:pt x="1549" y="0"/>
                        </a:lnTo>
                        <a:lnTo>
                          <a:pt x="1578" y="0"/>
                        </a:lnTo>
                        <a:lnTo>
                          <a:pt x="1606" y="0"/>
                        </a:lnTo>
                        <a:lnTo>
                          <a:pt x="1635" y="0"/>
                        </a:lnTo>
                        <a:lnTo>
                          <a:pt x="1663" y="0"/>
                        </a:lnTo>
                        <a:lnTo>
                          <a:pt x="1695" y="0"/>
                        </a:lnTo>
                        <a:lnTo>
                          <a:pt x="1724" y="0"/>
                        </a:lnTo>
                        <a:lnTo>
                          <a:pt x="1756" y="0"/>
                        </a:lnTo>
                        <a:lnTo>
                          <a:pt x="1635" y="729"/>
                        </a:lnTo>
                        <a:lnTo>
                          <a:pt x="0" y="538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686720" y="4299120"/>
                    <a:ext cx="449640" cy="2624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9" h="729">
                        <a:moveTo>
                          <a:pt x="121" y="0"/>
                        </a:moveTo>
                        <a:lnTo>
                          <a:pt x="121" y="0"/>
                        </a:lnTo>
                        <a:lnTo>
                          <a:pt x="153" y="0"/>
                        </a:lnTo>
                        <a:lnTo>
                          <a:pt x="178" y="3"/>
                        </a:lnTo>
                        <a:lnTo>
                          <a:pt x="210" y="3"/>
                        </a:lnTo>
                        <a:lnTo>
                          <a:pt x="238" y="3"/>
                        </a:lnTo>
                        <a:lnTo>
                          <a:pt x="267" y="7"/>
                        </a:lnTo>
                        <a:lnTo>
                          <a:pt x="299" y="10"/>
                        </a:lnTo>
                        <a:lnTo>
                          <a:pt x="329" y="10"/>
                        </a:lnTo>
                        <a:lnTo>
                          <a:pt x="357" y="14"/>
                        </a:lnTo>
                        <a:lnTo>
                          <a:pt x="386" y="17"/>
                        </a:lnTo>
                        <a:lnTo>
                          <a:pt x="414" y="21"/>
                        </a:lnTo>
                        <a:lnTo>
                          <a:pt x="443" y="21"/>
                        </a:lnTo>
                        <a:lnTo>
                          <a:pt x="471" y="28"/>
                        </a:lnTo>
                        <a:lnTo>
                          <a:pt x="503" y="32"/>
                        </a:lnTo>
                        <a:lnTo>
                          <a:pt x="528" y="32"/>
                        </a:lnTo>
                        <a:lnTo>
                          <a:pt x="557" y="35"/>
                        </a:lnTo>
                        <a:lnTo>
                          <a:pt x="585" y="39"/>
                        </a:lnTo>
                        <a:lnTo>
                          <a:pt x="614" y="43"/>
                        </a:lnTo>
                        <a:lnTo>
                          <a:pt x="639" y="53"/>
                        </a:lnTo>
                        <a:lnTo>
                          <a:pt x="667" y="57"/>
                        </a:lnTo>
                        <a:lnTo>
                          <a:pt x="696" y="60"/>
                        </a:lnTo>
                        <a:lnTo>
                          <a:pt x="724" y="64"/>
                        </a:lnTo>
                        <a:lnTo>
                          <a:pt x="749" y="71"/>
                        </a:lnTo>
                        <a:lnTo>
                          <a:pt x="778" y="75"/>
                        </a:lnTo>
                        <a:lnTo>
                          <a:pt x="803" y="82"/>
                        </a:lnTo>
                        <a:lnTo>
                          <a:pt x="828" y="89"/>
                        </a:lnTo>
                        <a:lnTo>
                          <a:pt x="856" y="96"/>
                        </a:lnTo>
                        <a:lnTo>
                          <a:pt x="881" y="103"/>
                        </a:lnTo>
                        <a:lnTo>
                          <a:pt x="906" y="111"/>
                        </a:lnTo>
                        <a:lnTo>
                          <a:pt x="931" y="114"/>
                        </a:lnTo>
                        <a:lnTo>
                          <a:pt x="954" y="121"/>
                        </a:lnTo>
                        <a:lnTo>
                          <a:pt x="982" y="132"/>
                        </a:lnTo>
                        <a:lnTo>
                          <a:pt x="1003" y="136"/>
                        </a:lnTo>
                        <a:lnTo>
                          <a:pt x="1028" y="146"/>
                        </a:lnTo>
                        <a:lnTo>
                          <a:pt x="1053" y="154"/>
                        </a:lnTo>
                        <a:lnTo>
                          <a:pt x="1075" y="161"/>
                        </a:lnTo>
                        <a:lnTo>
                          <a:pt x="1100" y="168"/>
                        </a:lnTo>
                        <a:lnTo>
                          <a:pt x="1125" y="175"/>
                        </a:lnTo>
                        <a:lnTo>
                          <a:pt x="1142" y="187"/>
                        </a:lnTo>
                        <a:lnTo>
                          <a:pt x="1167" y="194"/>
                        </a:lnTo>
                        <a:lnTo>
                          <a:pt x="1189" y="205"/>
                        </a:lnTo>
                        <a:lnTo>
                          <a:pt x="1210" y="212"/>
                        </a:lnTo>
                        <a:lnTo>
                          <a:pt x="1228" y="219"/>
                        </a:lnTo>
                        <a:lnTo>
                          <a:pt x="1249" y="230"/>
                        </a:lnTo>
                        <a:lnTo>
                          <a:pt x="0" y="729"/>
                        </a:lnTo>
                        <a:lnTo>
                          <a:pt x="121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688160" y="4406760"/>
                    <a:ext cx="725760" cy="437040"/>
                  </a:xfrm>
                  <a:custGeom>
                    <a:avLst/>
                    <a:gdLst/>
                    <a:ahLst/>
                    <a:rect l="0" t="0" r="r" b="b"/>
                    <a:pathLst>
                      <a:path w="2016" h="1214">
                        <a:moveTo>
                          <a:pt x="1564" y="0"/>
                        </a:moveTo>
                        <a:lnTo>
                          <a:pt x="1564" y="0"/>
                        </a:lnTo>
                        <a:lnTo>
                          <a:pt x="1581" y="10"/>
                        </a:lnTo>
                        <a:lnTo>
                          <a:pt x="1599" y="17"/>
                        </a:lnTo>
                        <a:lnTo>
                          <a:pt x="1621" y="28"/>
                        </a:lnTo>
                        <a:lnTo>
                          <a:pt x="1638" y="39"/>
                        </a:lnTo>
                        <a:lnTo>
                          <a:pt x="1656" y="46"/>
                        </a:lnTo>
                        <a:lnTo>
                          <a:pt x="1677" y="57"/>
                        </a:lnTo>
                        <a:lnTo>
                          <a:pt x="1692" y="67"/>
                        </a:lnTo>
                        <a:lnTo>
                          <a:pt x="1713" y="78"/>
                        </a:lnTo>
                        <a:lnTo>
                          <a:pt x="1727" y="89"/>
                        </a:lnTo>
                        <a:lnTo>
                          <a:pt x="1742" y="99"/>
                        </a:lnTo>
                        <a:lnTo>
                          <a:pt x="1759" y="110"/>
                        </a:lnTo>
                        <a:lnTo>
                          <a:pt x="1774" y="121"/>
                        </a:lnTo>
                        <a:lnTo>
                          <a:pt x="1791" y="128"/>
                        </a:lnTo>
                        <a:lnTo>
                          <a:pt x="1802" y="142"/>
                        </a:lnTo>
                        <a:lnTo>
                          <a:pt x="1820" y="153"/>
                        </a:lnTo>
                        <a:lnTo>
                          <a:pt x="1834" y="164"/>
                        </a:lnTo>
                        <a:lnTo>
                          <a:pt x="1845" y="174"/>
                        </a:lnTo>
                        <a:lnTo>
                          <a:pt x="1856" y="189"/>
                        </a:lnTo>
                        <a:lnTo>
                          <a:pt x="1870" y="199"/>
                        </a:lnTo>
                        <a:lnTo>
                          <a:pt x="1880" y="210"/>
                        </a:lnTo>
                        <a:lnTo>
                          <a:pt x="1895" y="221"/>
                        </a:lnTo>
                        <a:lnTo>
                          <a:pt x="1905" y="231"/>
                        </a:lnTo>
                        <a:lnTo>
                          <a:pt x="1916" y="242"/>
                        </a:lnTo>
                        <a:lnTo>
                          <a:pt x="1927" y="256"/>
                        </a:lnTo>
                        <a:lnTo>
                          <a:pt x="1934" y="271"/>
                        </a:lnTo>
                        <a:lnTo>
                          <a:pt x="1941" y="281"/>
                        </a:lnTo>
                        <a:lnTo>
                          <a:pt x="1948" y="292"/>
                        </a:lnTo>
                        <a:lnTo>
                          <a:pt x="1959" y="307"/>
                        </a:lnTo>
                        <a:lnTo>
                          <a:pt x="1966" y="318"/>
                        </a:lnTo>
                        <a:lnTo>
                          <a:pt x="1973" y="329"/>
                        </a:lnTo>
                        <a:lnTo>
                          <a:pt x="1980" y="343"/>
                        </a:lnTo>
                        <a:lnTo>
                          <a:pt x="1984" y="354"/>
                        </a:lnTo>
                        <a:lnTo>
                          <a:pt x="1987" y="368"/>
                        </a:lnTo>
                        <a:lnTo>
                          <a:pt x="1994" y="379"/>
                        </a:lnTo>
                        <a:lnTo>
                          <a:pt x="1998" y="393"/>
                        </a:lnTo>
                        <a:lnTo>
                          <a:pt x="2005" y="404"/>
                        </a:lnTo>
                        <a:lnTo>
                          <a:pt x="2005" y="418"/>
                        </a:lnTo>
                        <a:lnTo>
                          <a:pt x="2009" y="429"/>
                        </a:lnTo>
                        <a:lnTo>
                          <a:pt x="2012" y="439"/>
                        </a:lnTo>
                        <a:lnTo>
                          <a:pt x="2016" y="453"/>
                        </a:lnTo>
                        <a:lnTo>
                          <a:pt x="2016" y="468"/>
                        </a:lnTo>
                        <a:lnTo>
                          <a:pt x="2016" y="478"/>
                        </a:lnTo>
                        <a:lnTo>
                          <a:pt x="2016" y="489"/>
                        </a:lnTo>
                        <a:lnTo>
                          <a:pt x="2016" y="503"/>
                        </a:lnTo>
                        <a:lnTo>
                          <a:pt x="2016" y="518"/>
                        </a:lnTo>
                        <a:lnTo>
                          <a:pt x="2016" y="528"/>
                        </a:lnTo>
                        <a:lnTo>
                          <a:pt x="2012" y="543"/>
                        </a:lnTo>
                        <a:lnTo>
                          <a:pt x="2009" y="553"/>
                        </a:lnTo>
                        <a:lnTo>
                          <a:pt x="2005" y="564"/>
                        </a:lnTo>
                        <a:lnTo>
                          <a:pt x="2005" y="578"/>
                        </a:lnTo>
                        <a:lnTo>
                          <a:pt x="1998" y="593"/>
                        </a:lnTo>
                        <a:lnTo>
                          <a:pt x="1994" y="603"/>
                        </a:lnTo>
                        <a:lnTo>
                          <a:pt x="1987" y="618"/>
                        </a:lnTo>
                        <a:lnTo>
                          <a:pt x="1984" y="628"/>
                        </a:lnTo>
                        <a:lnTo>
                          <a:pt x="1980" y="643"/>
                        </a:lnTo>
                        <a:lnTo>
                          <a:pt x="1973" y="653"/>
                        </a:lnTo>
                        <a:lnTo>
                          <a:pt x="1966" y="664"/>
                        </a:lnTo>
                        <a:lnTo>
                          <a:pt x="1959" y="678"/>
                        </a:lnTo>
                        <a:lnTo>
                          <a:pt x="1948" y="689"/>
                        </a:lnTo>
                        <a:lnTo>
                          <a:pt x="1941" y="703"/>
                        </a:lnTo>
                        <a:lnTo>
                          <a:pt x="1934" y="714"/>
                        </a:lnTo>
                        <a:lnTo>
                          <a:pt x="1927" y="725"/>
                        </a:lnTo>
                        <a:lnTo>
                          <a:pt x="1916" y="735"/>
                        </a:lnTo>
                        <a:lnTo>
                          <a:pt x="1905" y="750"/>
                        </a:lnTo>
                        <a:lnTo>
                          <a:pt x="1895" y="760"/>
                        </a:lnTo>
                        <a:lnTo>
                          <a:pt x="1880" y="774"/>
                        </a:lnTo>
                        <a:lnTo>
                          <a:pt x="1870" y="785"/>
                        </a:lnTo>
                        <a:lnTo>
                          <a:pt x="1856" y="796"/>
                        </a:lnTo>
                        <a:lnTo>
                          <a:pt x="1845" y="807"/>
                        </a:lnTo>
                        <a:lnTo>
                          <a:pt x="1834" y="817"/>
                        </a:lnTo>
                        <a:lnTo>
                          <a:pt x="1820" y="828"/>
                        </a:lnTo>
                        <a:lnTo>
                          <a:pt x="1802" y="839"/>
                        </a:lnTo>
                        <a:lnTo>
                          <a:pt x="1791" y="849"/>
                        </a:lnTo>
                        <a:lnTo>
                          <a:pt x="1774" y="860"/>
                        </a:lnTo>
                        <a:lnTo>
                          <a:pt x="1759" y="871"/>
                        </a:lnTo>
                        <a:lnTo>
                          <a:pt x="1742" y="885"/>
                        </a:lnTo>
                        <a:lnTo>
                          <a:pt x="1727" y="896"/>
                        </a:lnTo>
                        <a:lnTo>
                          <a:pt x="1713" y="903"/>
                        </a:lnTo>
                        <a:lnTo>
                          <a:pt x="1692" y="918"/>
                        </a:lnTo>
                        <a:lnTo>
                          <a:pt x="1677" y="925"/>
                        </a:lnTo>
                        <a:lnTo>
                          <a:pt x="1656" y="932"/>
                        </a:lnTo>
                        <a:lnTo>
                          <a:pt x="1638" y="943"/>
                        </a:lnTo>
                        <a:lnTo>
                          <a:pt x="1621" y="954"/>
                        </a:lnTo>
                        <a:lnTo>
                          <a:pt x="1599" y="965"/>
                        </a:lnTo>
                        <a:lnTo>
                          <a:pt x="1581" y="975"/>
                        </a:lnTo>
                        <a:lnTo>
                          <a:pt x="1564" y="982"/>
                        </a:lnTo>
                        <a:lnTo>
                          <a:pt x="1542" y="993"/>
                        </a:lnTo>
                        <a:lnTo>
                          <a:pt x="1521" y="1004"/>
                        </a:lnTo>
                        <a:lnTo>
                          <a:pt x="1499" y="1011"/>
                        </a:lnTo>
                        <a:lnTo>
                          <a:pt x="1478" y="1018"/>
                        </a:lnTo>
                        <a:lnTo>
                          <a:pt x="1457" y="1025"/>
                        </a:lnTo>
                        <a:lnTo>
                          <a:pt x="1435" y="1036"/>
                        </a:lnTo>
                        <a:lnTo>
                          <a:pt x="1414" y="1043"/>
                        </a:lnTo>
                        <a:lnTo>
                          <a:pt x="1389" y="1054"/>
                        </a:lnTo>
                        <a:lnTo>
                          <a:pt x="1364" y="1061"/>
                        </a:lnTo>
                        <a:lnTo>
                          <a:pt x="1343" y="1068"/>
                        </a:lnTo>
                        <a:lnTo>
                          <a:pt x="1318" y="1075"/>
                        </a:lnTo>
                        <a:lnTo>
                          <a:pt x="1293" y="1082"/>
                        </a:lnTo>
                        <a:lnTo>
                          <a:pt x="1272" y="1089"/>
                        </a:lnTo>
                        <a:lnTo>
                          <a:pt x="1247" y="1096"/>
                        </a:lnTo>
                        <a:lnTo>
                          <a:pt x="1222" y="1104"/>
                        </a:lnTo>
                        <a:lnTo>
                          <a:pt x="1197" y="1107"/>
                        </a:lnTo>
                        <a:lnTo>
                          <a:pt x="1172" y="1114"/>
                        </a:lnTo>
                        <a:lnTo>
                          <a:pt x="1143" y="1121"/>
                        </a:lnTo>
                        <a:lnTo>
                          <a:pt x="1118" y="1129"/>
                        </a:lnTo>
                        <a:lnTo>
                          <a:pt x="1094" y="1136"/>
                        </a:lnTo>
                        <a:lnTo>
                          <a:pt x="1069" y="1139"/>
                        </a:lnTo>
                        <a:lnTo>
                          <a:pt x="1040" y="1146"/>
                        </a:lnTo>
                        <a:lnTo>
                          <a:pt x="1015" y="1150"/>
                        </a:lnTo>
                        <a:lnTo>
                          <a:pt x="986" y="1157"/>
                        </a:lnTo>
                        <a:lnTo>
                          <a:pt x="957" y="1161"/>
                        </a:lnTo>
                        <a:lnTo>
                          <a:pt x="929" y="1164"/>
                        </a:lnTo>
                        <a:lnTo>
                          <a:pt x="904" y="1168"/>
                        </a:lnTo>
                        <a:lnTo>
                          <a:pt x="875" y="1175"/>
                        </a:lnTo>
                        <a:lnTo>
                          <a:pt x="847" y="1175"/>
                        </a:lnTo>
                        <a:lnTo>
                          <a:pt x="818" y="1179"/>
                        </a:lnTo>
                        <a:lnTo>
                          <a:pt x="790" y="1186"/>
                        </a:lnTo>
                        <a:lnTo>
                          <a:pt x="761" y="1186"/>
                        </a:lnTo>
                        <a:lnTo>
                          <a:pt x="733" y="1189"/>
                        </a:lnTo>
                        <a:lnTo>
                          <a:pt x="704" y="1193"/>
                        </a:lnTo>
                        <a:lnTo>
                          <a:pt x="672" y="1196"/>
                        </a:lnTo>
                        <a:lnTo>
                          <a:pt x="648" y="1196"/>
                        </a:lnTo>
                        <a:lnTo>
                          <a:pt x="619" y="1203"/>
                        </a:lnTo>
                        <a:lnTo>
                          <a:pt x="587" y="1203"/>
                        </a:lnTo>
                        <a:lnTo>
                          <a:pt x="558" y="1203"/>
                        </a:lnTo>
                        <a:lnTo>
                          <a:pt x="530" y="1207"/>
                        </a:lnTo>
                        <a:lnTo>
                          <a:pt x="502" y="1207"/>
                        </a:lnTo>
                        <a:lnTo>
                          <a:pt x="469" y="1207"/>
                        </a:lnTo>
                        <a:lnTo>
                          <a:pt x="445" y="1211"/>
                        </a:lnTo>
                        <a:lnTo>
                          <a:pt x="413" y="1211"/>
                        </a:lnTo>
                        <a:lnTo>
                          <a:pt x="384" y="1214"/>
                        </a:lnTo>
                        <a:lnTo>
                          <a:pt x="352" y="1214"/>
                        </a:lnTo>
                        <a:lnTo>
                          <a:pt x="324" y="1214"/>
                        </a:lnTo>
                        <a:lnTo>
                          <a:pt x="295" y="1214"/>
                        </a:lnTo>
                        <a:lnTo>
                          <a:pt x="263" y="1214"/>
                        </a:lnTo>
                        <a:lnTo>
                          <a:pt x="234" y="1211"/>
                        </a:lnTo>
                        <a:lnTo>
                          <a:pt x="206" y="1211"/>
                        </a:lnTo>
                        <a:lnTo>
                          <a:pt x="178" y="1207"/>
                        </a:lnTo>
                        <a:lnTo>
                          <a:pt x="149" y="1207"/>
                        </a:lnTo>
                        <a:lnTo>
                          <a:pt x="117" y="1207"/>
                        </a:lnTo>
                        <a:lnTo>
                          <a:pt x="89" y="1203"/>
                        </a:lnTo>
                        <a:lnTo>
                          <a:pt x="60" y="1203"/>
                        </a:lnTo>
                        <a:lnTo>
                          <a:pt x="32" y="1203"/>
                        </a:lnTo>
                        <a:lnTo>
                          <a:pt x="0" y="1196"/>
                        </a:lnTo>
                        <a:lnTo>
                          <a:pt x="324" y="489"/>
                        </a:lnTo>
                        <a:lnTo>
                          <a:pt x="1564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083360" y="4487760"/>
                    <a:ext cx="609840" cy="322560"/>
                  </a:xfrm>
                  <a:custGeom>
                    <a:avLst/>
                    <a:gdLst/>
                    <a:ahLst/>
                    <a:rect l="0" t="0" r="r" b="b"/>
                    <a:pathLst>
                      <a:path w="1694" h="896">
                        <a:moveTo>
                          <a:pt x="1373" y="896"/>
                        </a:moveTo>
                        <a:lnTo>
                          <a:pt x="1373" y="896"/>
                        </a:lnTo>
                        <a:lnTo>
                          <a:pt x="1341" y="896"/>
                        </a:lnTo>
                        <a:lnTo>
                          <a:pt x="1312" y="892"/>
                        </a:lnTo>
                        <a:lnTo>
                          <a:pt x="1284" y="889"/>
                        </a:lnTo>
                        <a:lnTo>
                          <a:pt x="1259" y="885"/>
                        </a:lnTo>
                        <a:lnTo>
                          <a:pt x="1227" y="881"/>
                        </a:lnTo>
                        <a:lnTo>
                          <a:pt x="1198" y="878"/>
                        </a:lnTo>
                        <a:lnTo>
                          <a:pt x="1170" y="874"/>
                        </a:lnTo>
                        <a:lnTo>
                          <a:pt x="1141" y="871"/>
                        </a:lnTo>
                        <a:lnTo>
                          <a:pt x="1116" y="867"/>
                        </a:lnTo>
                        <a:lnTo>
                          <a:pt x="1088" y="864"/>
                        </a:lnTo>
                        <a:lnTo>
                          <a:pt x="1059" y="860"/>
                        </a:lnTo>
                        <a:lnTo>
                          <a:pt x="1034" y="856"/>
                        </a:lnTo>
                        <a:lnTo>
                          <a:pt x="1006" y="849"/>
                        </a:lnTo>
                        <a:lnTo>
                          <a:pt x="977" y="846"/>
                        </a:lnTo>
                        <a:lnTo>
                          <a:pt x="952" y="839"/>
                        </a:lnTo>
                        <a:lnTo>
                          <a:pt x="924" y="835"/>
                        </a:lnTo>
                        <a:lnTo>
                          <a:pt x="899" y="828"/>
                        </a:lnTo>
                        <a:lnTo>
                          <a:pt x="874" y="821"/>
                        </a:lnTo>
                        <a:lnTo>
                          <a:pt x="844" y="814"/>
                        </a:lnTo>
                        <a:lnTo>
                          <a:pt x="823" y="807"/>
                        </a:lnTo>
                        <a:lnTo>
                          <a:pt x="798" y="799"/>
                        </a:lnTo>
                        <a:lnTo>
                          <a:pt x="770" y="796"/>
                        </a:lnTo>
                        <a:lnTo>
                          <a:pt x="748" y="785"/>
                        </a:lnTo>
                        <a:lnTo>
                          <a:pt x="723" y="782"/>
                        </a:lnTo>
                        <a:lnTo>
                          <a:pt x="698" y="774"/>
                        </a:lnTo>
                        <a:lnTo>
                          <a:pt x="673" y="764"/>
                        </a:lnTo>
                        <a:lnTo>
                          <a:pt x="648" y="757"/>
                        </a:lnTo>
                        <a:lnTo>
                          <a:pt x="627" y="753"/>
                        </a:lnTo>
                        <a:lnTo>
                          <a:pt x="606" y="742"/>
                        </a:lnTo>
                        <a:lnTo>
                          <a:pt x="584" y="735"/>
                        </a:lnTo>
                        <a:lnTo>
                          <a:pt x="559" y="724"/>
                        </a:lnTo>
                        <a:lnTo>
                          <a:pt x="538" y="717"/>
                        </a:lnTo>
                        <a:lnTo>
                          <a:pt x="516" y="707"/>
                        </a:lnTo>
                        <a:lnTo>
                          <a:pt x="495" y="700"/>
                        </a:lnTo>
                        <a:lnTo>
                          <a:pt x="477" y="689"/>
                        </a:lnTo>
                        <a:lnTo>
                          <a:pt x="456" y="682"/>
                        </a:lnTo>
                        <a:lnTo>
                          <a:pt x="434" y="671"/>
                        </a:lnTo>
                        <a:lnTo>
                          <a:pt x="413" y="664"/>
                        </a:lnTo>
                        <a:lnTo>
                          <a:pt x="395" y="653"/>
                        </a:lnTo>
                        <a:lnTo>
                          <a:pt x="377" y="642"/>
                        </a:lnTo>
                        <a:lnTo>
                          <a:pt x="360" y="632"/>
                        </a:lnTo>
                        <a:lnTo>
                          <a:pt x="342" y="625"/>
                        </a:lnTo>
                        <a:lnTo>
                          <a:pt x="320" y="614"/>
                        </a:lnTo>
                        <a:lnTo>
                          <a:pt x="306" y="603"/>
                        </a:lnTo>
                        <a:lnTo>
                          <a:pt x="288" y="593"/>
                        </a:lnTo>
                        <a:lnTo>
                          <a:pt x="270" y="582"/>
                        </a:lnTo>
                        <a:lnTo>
                          <a:pt x="260" y="571"/>
                        </a:lnTo>
                        <a:lnTo>
                          <a:pt x="242" y="560"/>
                        </a:lnTo>
                        <a:lnTo>
                          <a:pt x="228" y="550"/>
                        </a:lnTo>
                        <a:lnTo>
                          <a:pt x="210" y="539"/>
                        </a:lnTo>
                        <a:lnTo>
                          <a:pt x="196" y="528"/>
                        </a:lnTo>
                        <a:lnTo>
                          <a:pt x="185" y="518"/>
                        </a:lnTo>
                        <a:lnTo>
                          <a:pt x="171" y="507"/>
                        </a:lnTo>
                        <a:lnTo>
                          <a:pt x="156" y="493"/>
                        </a:lnTo>
                        <a:lnTo>
                          <a:pt x="146" y="482"/>
                        </a:lnTo>
                        <a:lnTo>
                          <a:pt x="135" y="471"/>
                        </a:lnTo>
                        <a:lnTo>
                          <a:pt x="124" y="457"/>
                        </a:lnTo>
                        <a:lnTo>
                          <a:pt x="110" y="450"/>
                        </a:lnTo>
                        <a:lnTo>
                          <a:pt x="103" y="435"/>
                        </a:lnTo>
                        <a:lnTo>
                          <a:pt x="92" y="420"/>
                        </a:lnTo>
                        <a:lnTo>
                          <a:pt x="81" y="410"/>
                        </a:lnTo>
                        <a:lnTo>
                          <a:pt x="74" y="399"/>
                        </a:lnTo>
                        <a:lnTo>
                          <a:pt x="64" y="385"/>
                        </a:lnTo>
                        <a:lnTo>
                          <a:pt x="57" y="374"/>
                        </a:lnTo>
                        <a:lnTo>
                          <a:pt x="53" y="363"/>
                        </a:lnTo>
                        <a:lnTo>
                          <a:pt x="42" y="349"/>
                        </a:lnTo>
                        <a:lnTo>
                          <a:pt x="35" y="335"/>
                        </a:lnTo>
                        <a:lnTo>
                          <a:pt x="32" y="324"/>
                        </a:lnTo>
                        <a:lnTo>
                          <a:pt x="24" y="313"/>
                        </a:lnTo>
                        <a:lnTo>
                          <a:pt x="21" y="303"/>
                        </a:lnTo>
                        <a:lnTo>
                          <a:pt x="17" y="288"/>
                        </a:lnTo>
                        <a:lnTo>
                          <a:pt x="14" y="274"/>
                        </a:lnTo>
                        <a:lnTo>
                          <a:pt x="7" y="263"/>
                        </a:lnTo>
                        <a:lnTo>
                          <a:pt x="7" y="253"/>
                        </a:lnTo>
                        <a:lnTo>
                          <a:pt x="3" y="235"/>
                        </a:lnTo>
                        <a:lnTo>
                          <a:pt x="3" y="224"/>
                        </a:lnTo>
                        <a:lnTo>
                          <a:pt x="0" y="213"/>
                        </a:lnTo>
                        <a:lnTo>
                          <a:pt x="0" y="199"/>
                        </a:lnTo>
                        <a:lnTo>
                          <a:pt x="0" y="185"/>
                        </a:lnTo>
                        <a:lnTo>
                          <a:pt x="0" y="174"/>
                        </a:lnTo>
                        <a:lnTo>
                          <a:pt x="0" y="160"/>
                        </a:lnTo>
                        <a:lnTo>
                          <a:pt x="3" y="149"/>
                        </a:lnTo>
                        <a:lnTo>
                          <a:pt x="3" y="139"/>
                        </a:lnTo>
                        <a:lnTo>
                          <a:pt x="7" y="124"/>
                        </a:lnTo>
                        <a:lnTo>
                          <a:pt x="7" y="114"/>
                        </a:lnTo>
                        <a:lnTo>
                          <a:pt x="14" y="99"/>
                        </a:lnTo>
                        <a:lnTo>
                          <a:pt x="17" y="89"/>
                        </a:lnTo>
                        <a:lnTo>
                          <a:pt x="21" y="74"/>
                        </a:lnTo>
                        <a:lnTo>
                          <a:pt x="24" y="60"/>
                        </a:lnTo>
                        <a:lnTo>
                          <a:pt x="32" y="49"/>
                        </a:lnTo>
                        <a:lnTo>
                          <a:pt x="35" y="35"/>
                        </a:lnTo>
                        <a:lnTo>
                          <a:pt x="42" y="24"/>
                        </a:lnTo>
                        <a:lnTo>
                          <a:pt x="53" y="14"/>
                        </a:lnTo>
                        <a:lnTo>
                          <a:pt x="57" y="0"/>
                        </a:lnTo>
                        <a:lnTo>
                          <a:pt x="1694" y="185"/>
                        </a:lnTo>
                        <a:lnTo>
                          <a:pt x="1373" y="896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7045200" y="4243320"/>
                  <a:ext cx="1329120" cy="699120"/>
                  <a:chOff x="7045200" y="4243320"/>
                  <a:chExt cx="1329120" cy="69912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7651800" y="4325760"/>
                    <a:ext cx="443160" cy="330480"/>
                  </a:xfrm>
                  <a:custGeom>
                    <a:avLst/>
                    <a:gdLst/>
                    <a:ahLst/>
                    <a:rect l="0" t="0" r="r" b="b"/>
                    <a:pathLst>
                      <a:path w="1231" h="918">
                        <a:moveTo>
                          <a:pt x="0" y="484"/>
                        </a:moveTo>
                        <a:lnTo>
                          <a:pt x="1231" y="0"/>
                        </a:lnTo>
                        <a:lnTo>
                          <a:pt x="1231" y="433"/>
                        </a:lnTo>
                        <a:lnTo>
                          <a:pt x="0" y="918"/>
                        </a:lnTo>
                        <a:lnTo>
                          <a:pt x="0" y="484"/>
                        </a:lnTo>
                        <a:close/>
                      </a:path>
                    </a:pathLst>
                  </a:custGeom>
                  <a:solidFill>
                    <a:srgbClr val="7f7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45200" y="4500720"/>
                    <a:ext cx="491040" cy="408240"/>
                  </a:xfrm>
                  <a:custGeom>
                    <a:avLst/>
                    <a:gdLst/>
                    <a:ahLst/>
                    <a:rect l="0" t="0" r="r" b="b"/>
                    <a:pathLst>
                      <a:path w="1364" h="1134">
                        <a:moveTo>
                          <a:pt x="1364" y="699"/>
                        </a:moveTo>
                        <a:lnTo>
                          <a:pt x="1364" y="699"/>
                        </a:lnTo>
                        <a:lnTo>
                          <a:pt x="1336" y="695"/>
                        </a:lnTo>
                        <a:lnTo>
                          <a:pt x="1336" y="695"/>
                        </a:lnTo>
                        <a:lnTo>
                          <a:pt x="1336" y="695"/>
                        </a:lnTo>
                        <a:lnTo>
                          <a:pt x="1307" y="695"/>
                        </a:lnTo>
                        <a:lnTo>
                          <a:pt x="1307" y="695"/>
                        </a:lnTo>
                        <a:lnTo>
                          <a:pt x="1307" y="695"/>
                        </a:lnTo>
                        <a:lnTo>
                          <a:pt x="1278" y="692"/>
                        </a:lnTo>
                        <a:lnTo>
                          <a:pt x="1278" y="692"/>
                        </a:lnTo>
                        <a:lnTo>
                          <a:pt x="1278" y="692"/>
                        </a:lnTo>
                        <a:lnTo>
                          <a:pt x="1246" y="688"/>
                        </a:lnTo>
                        <a:lnTo>
                          <a:pt x="1246" y="688"/>
                        </a:lnTo>
                        <a:lnTo>
                          <a:pt x="1246" y="688"/>
                        </a:lnTo>
                        <a:lnTo>
                          <a:pt x="1221" y="685"/>
                        </a:lnTo>
                        <a:lnTo>
                          <a:pt x="1221" y="685"/>
                        </a:lnTo>
                        <a:lnTo>
                          <a:pt x="1221" y="685"/>
                        </a:lnTo>
                        <a:lnTo>
                          <a:pt x="1193" y="681"/>
                        </a:lnTo>
                        <a:lnTo>
                          <a:pt x="1193" y="681"/>
                        </a:lnTo>
                        <a:lnTo>
                          <a:pt x="1193" y="681"/>
                        </a:lnTo>
                        <a:lnTo>
                          <a:pt x="1164" y="678"/>
                        </a:lnTo>
                        <a:lnTo>
                          <a:pt x="1164" y="678"/>
                        </a:lnTo>
                        <a:lnTo>
                          <a:pt x="1164" y="678"/>
                        </a:lnTo>
                        <a:lnTo>
                          <a:pt x="1136" y="674"/>
                        </a:lnTo>
                        <a:lnTo>
                          <a:pt x="1136" y="674"/>
                        </a:lnTo>
                        <a:lnTo>
                          <a:pt x="1136" y="674"/>
                        </a:lnTo>
                        <a:lnTo>
                          <a:pt x="1111" y="671"/>
                        </a:lnTo>
                        <a:lnTo>
                          <a:pt x="1111" y="671"/>
                        </a:lnTo>
                        <a:lnTo>
                          <a:pt x="1111" y="671"/>
                        </a:lnTo>
                        <a:lnTo>
                          <a:pt x="1082" y="663"/>
                        </a:lnTo>
                        <a:lnTo>
                          <a:pt x="1082" y="663"/>
                        </a:lnTo>
                        <a:lnTo>
                          <a:pt x="1082" y="663"/>
                        </a:lnTo>
                        <a:lnTo>
                          <a:pt x="1054" y="663"/>
                        </a:lnTo>
                        <a:lnTo>
                          <a:pt x="1054" y="663"/>
                        </a:lnTo>
                        <a:lnTo>
                          <a:pt x="1054" y="663"/>
                        </a:lnTo>
                        <a:lnTo>
                          <a:pt x="1025" y="660"/>
                        </a:lnTo>
                        <a:lnTo>
                          <a:pt x="1025" y="660"/>
                        </a:lnTo>
                        <a:lnTo>
                          <a:pt x="1025" y="660"/>
                        </a:lnTo>
                        <a:lnTo>
                          <a:pt x="999" y="653"/>
                        </a:lnTo>
                        <a:lnTo>
                          <a:pt x="999" y="653"/>
                        </a:lnTo>
                        <a:lnTo>
                          <a:pt x="999" y="653"/>
                        </a:lnTo>
                        <a:lnTo>
                          <a:pt x="974" y="649"/>
                        </a:lnTo>
                        <a:lnTo>
                          <a:pt x="974" y="649"/>
                        </a:lnTo>
                        <a:lnTo>
                          <a:pt x="974" y="649"/>
                        </a:lnTo>
                        <a:lnTo>
                          <a:pt x="946" y="642"/>
                        </a:lnTo>
                        <a:lnTo>
                          <a:pt x="946" y="642"/>
                        </a:lnTo>
                        <a:lnTo>
                          <a:pt x="946" y="642"/>
                        </a:lnTo>
                        <a:lnTo>
                          <a:pt x="917" y="638"/>
                        </a:lnTo>
                        <a:lnTo>
                          <a:pt x="917" y="638"/>
                        </a:lnTo>
                        <a:lnTo>
                          <a:pt x="917" y="638"/>
                        </a:lnTo>
                        <a:lnTo>
                          <a:pt x="896" y="631"/>
                        </a:lnTo>
                        <a:lnTo>
                          <a:pt x="896" y="631"/>
                        </a:lnTo>
                        <a:lnTo>
                          <a:pt x="896" y="631"/>
                        </a:lnTo>
                        <a:lnTo>
                          <a:pt x="867" y="624"/>
                        </a:lnTo>
                        <a:lnTo>
                          <a:pt x="867" y="624"/>
                        </a:lnTo>
                        <a:lnTo>
                          <a:pt x="867" y="624"/>
                        </a:lnTo>
                        <a:lnTo>
                          <a:pt x="842" y="617"/>
                        </a:lnTo>
                        <a:lnTo>
                          <a:pt x="842" y="617"/>
                        </a:lnTo>
                        <a:lnTo>
                          <a:pt x="842" y="617"/>
                        </a:lnTo>
                        <a:lnTo>
                          <a:pt x="817" y="610"/>
                        </a:lnTo>
                        <a:lnTo>
                          <a:pt x="817" y="610"/>
                        </a:lnTo>
                        <a:lnTo>
                          <a:pt x="817" y="610"/>
                        </a:lnTo>
                        <a:lnTo>
                          <a:pt x="792" y="603"/>
                        </a:lnTo>
                        <a:lnTo>
                          <a:pt x="792" y="603"/>
                        </a:lnTo>
                        <a:lnTo>
                          <a:pt x="792" y="603"/>
                        </a:lnTo>
                        <a:lnTo>
                          <a:pt x="767" y="599"/>
                        </a:lnTo>
                        <a:lnTo>
                          <a:pt x="767" y="599"/>
                        </a:lnTo>
                        <a:lnTo>
                          <a:pt x="767" y="599"/>
                        </a:lnTo>
                        <a:lnTo>
                          <a:pt x="742" y="592"/>
                        </a:lnTo>
                        <a:lnTo>
                          <a:pt x="742" y="592"/>
                        </a:lnTo>
                        <a:lnTo>
                          <a:pt x="742" y="592"/>
                        </a:lnTo>
                        <a:lnTo>
                          <a:pt x="721" y="585"/>
                        </a:lnTo>
                        <a:lnTo>
                          <a:pt x="721" y="585"/>
                        </a:lnTo>
                        <a:lnTo>
                          <a:pt x="721" y="585"/>
                        </a:lnTo>
                        <a:lnTo>
                          <a:pt x="693" y="578"/>
                        </a:lnTo>
                        <a:lnTo>
                          <a:pt x="693" y="578"/>
                        </a:lnTo>
                        <a:lnTo>
                          <a:pt x="693" y="578"/>
                        </a:lnTo>
                        <a:lnTo>
                          <a:pt x="671" y="571"/>
                        </a:lnTo>
                        <a:lnTo>
                          <a:pt x="671" y="571"/>
                        </a:lnTo>
                        <a:lnTo>
                          <a:pt x="671" y="571"/>
                        </a:lnTo>
                        <a:lnTo>
                          <a:pt x="646" y="559"/>
                        </a:lnTo>
                        <a:lnTo>
                          <a:pt x="646" y="559"/>
                        </a:lnTo>
                        <a:lnTo>
                          <a:pt x="646" y="559"/>
                        </a:lnTo>
                        <a:lnTo>
                          <a:pt x="621" y="555"/>
                        </a:lnTo>
                        <a:lnTo>
                          <a:pt x="621" y="555"/>
                        </a:lnTo>
                        <a:lnTo>
                          <a:pt x="621" y="555"/>
                        </a:lnTo>
                        <a:lnTo>
                          <a:pt x="603" y="545"/>
                        </a:lnTo>
                        <a:lnTo>
                          <a:pt x="603" y="545"/>
                        </a:lnTo>
                        <a:lnTo>
                          <a:pt x="603" y="545"/>
                        </a:lnTo>
                        <a:lnTo>
                          <a:pt x="578" y="538"/>
                        </a:lnTo>
                        <a:lnTo>
                          <a:pt x="578" y="538"/>
                        </a:lnTo>
                        <a:lnTo>
                          <a:pt x="578" y="538"/>
                        </a:lnTo>
                        <a:lnTo>
                          <a:pt x="557" y="531"/>
                        </a:lnTo>
                        <a:lnTo>
                          <a:pt x="557" y="531"/>
                        </a:lnTo>
                        <a:lnTo>
                          <a:pt x="557" y="531"/>
                        </a:lnTo>
                        <a:lnTo>
                          <a:pt x="536" y="520"/>
                        </a:lnTo>
                        <a:lnTo>
                          <a:pt x="536" y="520"/>
                        </a:lnTo>
                        <a:lnTo>
                          <a:pt x="536" y="520"/>
                        </a:lnTo>
                        <a:lnTo>
                          <a:pt x="514" y="513"/>
                        </a:lnTo>
                        <a:lnTo>
                          <a:pt x="514" y="513"/>
                        </a:lnTo>
                        <a:lnTo>
                          <a:pt x="514" y="513"/>
                        </a:lnTo>
                        <a:lnTo>
                          <a:pt x="496" y="506"/>
                        </a:lnTo>
                        <a:lnTo>
                          <a:pt x="496" y="506"/>
                        </a:lnTo>
                        <a:lnTo>
                          <a:pt x="496" y="506"/>
                        </a:lnTo>
                        <a:lnTo>
                          <a:pt x="475" y="495"/>
                        </a:lnTo>
                        <a:lnTo>
                          <a:pt x="475" y="495"/>
                        </a:lnTo>
                        <a:lnTo>
                          <a:pt x="475" y="495"/>
                        </a:lnTo>
                        <a:lnTo>
                          <a:pt x="454" y="484"/>
                        </a:lnTo>
                        <a:lnTo>
                          <a:pt x="454" y="484"/>
                        </a:lnTo>
                        <a:lnTo>
                          <a:pt x="454" y="484"/>
                        </a:lnTo>
                        <a:lnTo>
                          <a:pt x="432" y="477"/>
                        </a:lnTo>
                        <a:lnTo>
                          <a:pt x="432" y="477"/>
                        </a:lnTo>
                        <a:lnTo>
                          <a:pt x="432" y="477"/>
                        </a:lnTo>
                        <a:lnTo>
                          <a:pt x="414" y="466"/>
                        </a:lnTo>
                        <a:lnTo>
                          <a:pt x="414" y="466"/>
                        </a:lnTo>
                        <a:lnTo>
                          <a:pt x="414" y="466"/>
                        </a:lnTo>
                        <a:lnTo>
                          <a:pt x="393" y="459"/>
                        </a:lnTo>
                        <a:lnTo>
                          <a:pt x="393" y="459"/>
                        </a:lnTo>
                        <a:lnTo>
                          <a:pt x="393" y="459"/>
                        </a:lnTo>
                        <a:lnTo>
                          <a:pt x="375" y="449"/>
                        </a:lnTo>
                        <a:lnTo>
                          <a:pt x="375" y="449"/>
                        </a:lnTo>
                        <a:lnTo>
                          <a:pt x="375" y="449"/>
                        </a:lnTo>
                        <a:lnTo>
                          <a:pt x="357" y="438"/>
                        </a:lnTo>
                        <a:lnTo>
                          <a:pt x="357" y="438"/>
                        </a:lnTo>
                        <a:lnTo>
                          <a:pt x="357" y="438"/>
                        </a:lnTo>
                        <a:lnTo>
                          <a:pt x="338" y="427"/>
                        </a:lnTo>
                        <a:lnTo>
                          <a:pt x="338" y="427"/>
                        </a:lnTo>
                        <a:lnTo>
                          <a:pt x="338" y="427"/>
                        </a:lnTo>
                        <a:lnTo>
                          <a:pt x="321" y="416"/>
                        </a:lnTo>
                        <a:lnTo>
                          <a:pt x="321" y="416"/>
                        </a:lnTo>
                        <a:lnTo>
                          <a:pt x="321" y="416"/>
                        </a:lnTo>
                        <a:lnTo>
                          <a:pt x="303" y="406"/>
                        </a:lnTo>
                        <a:lnTo>
                          <a:pt x="303" y="406"/>
                        </a:lnTo>
                        <a:lnTo>
                          <a:pt x="303" y="406"/>
                        </a:lnTo>
                        <a:lnTo>
                          <a:pt x="285" y="399"/>
                        </a:lnTo>
                        <a:lnTo>
                          <a:pt x="285" y="399"/>
                        </a:lnTo>
                        <a:lnTo>
                          <a:pt x="285" y="399"/>
                        </a:lnTo>
                        <a:lnTo>
                          <a:pt x="271" y="388"/>
                        </a:lnTo>
                        <a:lnTo>
                          <a:pt x="271" y="388"/>
                        </a:lnTo>
                        <a:lnTo>
                          <a:pt x="271" y="388"/>
                        </a:lnTo>
                        <a:lnTo>
                          <a:pt x="256" y="377"/>
                        </a:lnTo>
                        <a:lnTo>
                          <a:pt x="256" y="377"/>
                        </a:lnTo>
                        <a:lnTo>
                          <a:pt x="256" y="377"/>
                        </a:lnTo>
                        <a:lnTo>
                          <a:pt x="238" y="367"/>
                        </a:lnTo>
                        <a:lnTo>
                          <a:pt x="238" y="367"/>
                        </a:lnTo>
                        <a:lnTo>
                          <a:pt x="238" y="367"/>
                        </a:lnTo>
                        <a:lnTo>
                          <a:pt x="224" y="356"/>
                        </a:lnTo>
                        <a:lnTo>
                          <a:pt x="224" y="356"/>
                        </a:lnTo>
                        <a:lnTo>
                          <a:pt x="224" y="356"/>
                        </a:lnTo>
                        <a:lnTo>
                          <a:pt x="210" y="345"/>
                        </a:lnTo>
                        <a:lnTo>
                          <a:pt x="210" y="345"/>
                        </a:lnTo>
                        <a:lnTo>
                          <a:pt x="210" y="345"/>
                        </a:lnTo>
                        <a:lnTo>
                          <a:pt x="196" y="335"/>
                        </a:lnTo>
                        <a:lnTo>
                          <a:pt x="196" y="335"/>
                        </a:lnTo>
                        <a:lnTo>
                          <a:pt x="196" y="335"/>
                        </a:lnTo>
                        <a:lnTo>
                          <a:pt x="181" y="324"/>
                        </a:lnTo>
                        <a:lnTo>
                          <a:pt x="181" y="324"/>
                        </a:lnTo>
                        <a:lnTo>
                          <a:pt x="181" y="324"/>
                        </a:lnTo>
                        <a:lnTo>
                          <a:pt x="171" y="313"/>
                        </a:lnTo>
                        <a:lnTo>
                          <a:pt x="171" y="313"/>
                        </a:lnTo>
                        <a:lnTo>
                          <a:pt x="171" y="313"/>
                        </a:lnTo>
                        <a:lnTo>
                          <a:pt x="156" y="302"/>
                        </a:lnTo>
                        <a:lnTo>
                          <a:pt x="156" y="302"/>
                        </a:lnTo>
                        <a:lnTo>
                          <a:pt x="156" y="302"/>
                        </a:lnTo>
                        <a:lnTo>
                          <a:pt x="146" y="288"/>
                        </a:lnTo>
                        <a:lnTo>
                          <a:pt x="146" y="288"/>
                        </a:lnTo>
                        <a:lnTo>
                          <a:pt x="146" y="288"/>
                        </a:lnTo>
                        <a:lnTo>
                          <a:pt x="131" y="281"/>
                        </a:lnTo>
                        <a:lnTo>
                          <a:pt x="131" y="281"/>
                        </a:lnTo>
                        <a:lnTo>
                          <a:pt x="131" y="281"/>
                        </a:lnTo>
                        <a:lnTo>
                          <a:pt x="121" y="267"/>
                        </a:lnTo>
                        <a:lnTo>
                          <a:pt x="121" y="267"/>
                        </a:lnTo>
                        <a:lnTo>
                          <a:pt x="121" y="267"/>
                        </a:lnTo>
                        <a:lnTo>
                          <a:pt x="110" y="256"/>
                        </a:lnTo>
                        <a:lnTo>
                          <a:pt x="110" y="256"/>
                        </a:lnTo>
                        <a:lnTo>
                          <a:pt x="110" y="256"/>
                        </a:lnTo>
                        <a:lnTo>
                          <a:pt x="103" y="242"/>
                        </a:lnTo>
                        <a:lnTo>
                          <a:pt x="103" y="242"/>
                        </a:lnTo>
                        <a:lnTo>
                          <a:pt x="103" y="242"/>
                        </a:lnTo>
                        <a:lnTo>
                          <a:pt x="92" y="231"/>
                        </a:lnTo>
                        <a:lnTo>
                          <a:pt x="92" y="231"/>
                        </a:lnTo>
                        <a:lnTo>
                          <a:pt x="92" y="231"/>
                        </a:lnTo>
                        <a:lnTo>
                          <a:pt x="82" y="220"/>
                        </a:lnTo>
                        <a:lnTo>
                          <a:pt x="82" y="220"/>
                        </a:lnTo>
                        <a:lnTo>
                          <a:pt x="82" y="220"/>
                        </a:lnTo>
                        <a:lnTo>
                          <a:pt x="71" y="210"/>
                        </a:lnTo>
                        <a:lnTo>
                          <a:pt x="71" y="210"/>
                        </a:lnTo>
                        <a:lnTo>
                          <a:pt x="71" y="210"/>
                        </a:lnTo>
                        <a:lnTo>
                          <a:pt x="64" y="196"/>
                        </a:lnTo>
                        <a:lnTo>
                          <a:pt x="64" y="196"/>
                        </a:lnTo>
                        <a:lnTo>
                          <a:pt x="64" y="196"/>
                        </a:lnTo>
                        <a:lnTo>
                          <a:pt x="57" y="185"/>
                        </a:lnTo>
                        <a:lnTo>
                          <a:pt x="57" y="185"/>
                        </a:lnTo>
                        <a:lnTo>
                          <a:pt x="57" y="185"/>
                        </a:lnTo>
                        <a:lnTo>
                          <a:pt x="49" y="171"/>
                        </a:lnTo>
                        <a:lnTo>
                          <a:pt x="49" y="171"/>
                        </a:lnTo>
                        <a:lnTo>
                          <a:pt x="49" y="171"/>
                        </a:lnTo>
                        <a:lnTo>
                          <a:pt x="42" y="160"/>
                        </a:lnTo>
                        <a:lnTo>
                          <a:pt x="42" y="160"/>
                        </a:lnTo>
                        <a:lnTo>
                          <a:pt x="42" y="160"/>
                        </a:lnTo>
                        <a:lnTo>
                          <a:pt x="35" y="149"/>
                        </a:lnTo>
                        <a:lnTo>
                          <a:pt x="35" y="149"/>
                        </a:lnTo>
                        <a:lnTo>
                          <a:pt x="35" y="149"/>
                        </a:lnTo>
                        <a:lnTo>
                          <a:pt x="32" y="135"/>
                        </a:lnTo>
                        <a:lnTo>
                          <a:pt x="32" y="135"/>
                        </a:lnTo>
                        <a:lnTo>
                          <a:pt x="32" y="135"/>
                        </a:lnTo>
                        <a:lnTo>
                          <a:pt x="24" y="124"/>
                        </a:lnTo>
                        <a:lnTo>
                          <a:pt x="24" y="124"/>
                        </a:lnTo>
                        <a:lnTo>
                          <a:pt x="24" y="124"/>
                        </a:lnTo>
                        <a:lnTo>
                          <a:pt x="21" y="110"/>
                        </a:lnTo>
                        <a:lnTo>
                          <a:pt x="21" y="110"/>
                        </a:lnTo>
                        <a:lnTo>
                          <a:pt x="21" y="110"/>
                        </a:lnTo>
                        <a:lnTo>
                          <a:pt x="17" y="99"/>
                        </a:lnTo>
                        <a:lnTo>
                          <a:pt x="17" y="99"/>
                        </a:lnTo>
                        <a:lnTo>
                          <a:pt x="17" y="99"/>
                        </a:lnTo>
                        <a:lnTo>
                          <a:pt x="14" y="89"/>
                        </a:lnTo>
                        <a:lnTo>
                          <a:pt x="14" y="89"/>
                        </a:lnTo>
                        <a:lnTo>
                          <a:pt x="14" y="89"/>
                        </a:lnTo>
                        <a:lnTo>
                          <a:pt x="7" y="74"/>
                        </a:lnTo>
                        <a:lnTo>
                          <a:pt x="7" y="74"/>
                        </a:lnTo>
                        <a:lnTo>
                          <a:pt x="7" y="74"/>
                        </a:lnTo>
                        <a:lnTo>
                          <a:pt x="7" y="60"/>
                        </a:lnTo>
                        <a:lnTo>
                          <a:pt x="7" y="60"/>
                        </a:lnTo>
                        <a:lnTo>
                          <a:pt x="7" y="60"/>
                        </a:lnTo>
                        <a:lnTo>
                          <a:pt x="3" y="49"/>
                        </a:lnTo>
                        <a:lnTo>
                          <a:pt x="3" y="49"/>
                        </a:lnTo>
                        <a:lnTo>
                          <a:pt x="3" y="49"/>
                        </a:lnTo>
                        <a:lnTo>
                          <a:pt x="0" y="35"/>
                        </a:lnTo>
                        <a:lnTo>
                          <a:pt x="0" y="35"/>
                        </a:lnTo>
                        <a:lnTo>
                          <a:pt x="0" y="35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34"/>
                        </a:lnTo>
                        <a:lnTo>
                          <a:pt x="0" y="434"/>
                        </a:lnTo>
                        <a:lnTo>
                          <a:pt x="0" y="449"/>
                        </a:lnTo>
                        <a:lnTo>
                          <a:pt x="0" y="449"/>
                        </a:lnTo>
                        <a:lnTo>
                          <a:pt x="0" y="449"/>
                        </a:lnTo>
                        <a:lnTo>
                          <a:pt x="0" y="459"/>
                        </a:lnTo>
                        <a:lnTo>
                          <a:pt x="0" y="459"/>
                        </a:lnTo>
                        <a:lnTo>
                          <a:pt x="0" y="459"/>
                        </a:lnTo>
                        <a:lnTo>
                          <a:pt x="0" y="473"/>
                        </a:lnTo>
                        <a:lnTo>
                          <a:pt x="0" y="473"/>
                        </a:lnTo>
                        <a:lnTo>
                          <a:pt x="0" y="473"/>
                        </a:lnTo>
                        <a:lnTo>
                          <a:pt x="3" y="484"/>
                        </a:lnTo>
                        <a:lnTo>
                          <a:pt x="3" y="484"/>
                        </a:lnTo>
                        <a:lnTo>
                          <a:pt x="3" y="484"/>
                        </a:lnTo>
                        <a:lnTo>
                          <a:pt x="7" y="498"/>
                        </a:lnTo>
                        <a:lnTo>
                          <a:pt x="7" y="498"/>
                        </a:lnTo>
                        <a:lnTo>
                          <a:pt x="7" y="498"/>
                        </a:lnTo>
                        <a:lnTo>
                          <a:pt x="7" y="509"/>
                        </a:lnTo>
                        <a:lnTo>
                          <a:pt x="7" y="509"/>
                        </a:lnTo>
                        <a:lnTo>
                          <a:pt x="7" y="509"/>
                        </a:lnTo>
                        <a:lnTo>
                          <a:pt x="14" y="523"/>
                        </a:lnTo>
                        <a:lnTo>
                          <a:pt x="14" y="523"/>
                        </a:lnTo>
                        <a:lnTo>
                          <a:pt x="14" y="523"/>
                        </a:lnTo>
                        <a:lnTo>
                          <a:pt x="17" y="534"/>
                        </a:lnTo>
                        <a:lnTo>
                          <a:pt x="17" y="534"/>
                        </a:lnTo>
                        <a:lnTo>
                          <a:pt x="17" y="534"/>
                        </a:lnTo>
                        <a:lnTo>
                          <a:pt x="21" y="548"/>
                        </a:lnTo>
                        <a:lnTo>
                          <a:pt x="21" y="548"/>
                        </a:lnTo>
                        <a:lnTo>
                          <a:pt x="21" y="548"/>
                        </a:lnTo>
                        <a:lnTo>
                          <a:pt x="24" y="559"/>
                        </a:lnTo>
                        <a:lnTo>
                          <a:pt x="24" y="559"/>
                        </a:lnTo>
                        <a:lnTo>
                          <a:pt x="24" y="559"/>
                        </a:lnTo>
                        <a:lnTo>
                          <a:pt x="32" y="571"/>
                        </a:lnTo>
                        <a:lnTo>
                          <a:pt x="32" y="571"/>
                        </a:lnTo>
                        <a:lnTo>
                          <a:pt x="32" y="571"/>
                        </a:lnTo>
                        <a:lnTo>
                          <a:pt x="35" y="585"/>
                        </a:lnTo>
                        <a:lnTo>
                          <a:pt x="35" y="585"/>
                        </a:lnTo>
                        <a:lnTo>
                          <a:pt x="35" y="585"/>
                        </a:lnTo>
                        <a:lnTo>
                          <a:pt x="42" y="599"/>
                        </a:lnTo>
                        <a:lnTo>
                          <a:pt x="42" y="599"/>
                        </a:lnTo>
                        <a:lnTo>
                          <a:pt x="42" y="599"/>
                        </a:lnTo>
                        <a:lnTo>
                          <a:pt x="49" y="610"/>
                        </a:lnTo>
                        <a:lnTo>
                          <a:pt x="49" y="610"/>
                        </a:lnTo>
                        <a:lnTo>
                          <a:pt x="49" y="610"/>
                        </a:lnTo>
                        <a:lnTo>
                          <a:pt x="57" y="621"/>
                        </a:lnTo>
                        <a:lnTo>
                          <a:pt x="57" y="621"/>
                        </a:lnTo>
                        <a:lnTo>
                          <a:pt x="57" y="621"/>
                        </a:lnTo>
                        <a:lnTo>
                          <a:pt x="64" y="631"/>
                        </a:lnTo>
                        <a:lnTo>
                          <a:pt x="64" y="631"/>
                        </a:lnTo>
                        <a:lnTo>
                          <a:pt x="64" y="631"/>
                        </a:lnTo>
                        <a:lnTo>
                          <a:pt x="71" y="646"/>
                        </a:lnTo>
                        <a:lnTo>
                          <a:pt x="71" y="646"/>
                        </a:lnTo>
                        <a:lnTo>
                          <a:pt x="71" y="646"/>
                        </a:lnTo>
                        <a:lnTo>
                          <a:pt x="82" y="660"/>
                        </a:lnTo>
                        <a:lnTo>
                          <a:pt x="82" y="660"/>
                        </a:lnTo>
                        <a:lnTo>
                          <a:pt x="82" y="660"/>
                        </a:lnTo>
                        <a:lnTo>
                          <a:pt x="92" y="667"/>
                        </a:lnTo>
                        <a:lnTo>
                          <a:pt x="92" y="667"/>
                        </a:lnTo>
                        <a:lnTo>
                          <a:pt x="92" y="667"/>
                        </a:lnTo>
                        <a:lnTo>
                          <a:pt x="103" y="681"/>
                        </a:lnTo>
                        <a:lnTo>
                          <a:pt x="103" y="681"/>
                        </a:lnTo>
                        <a:lnTo>
                          <a:pt x="103" y="681"/>
                        </a:lnTo>
                        <a:lnTo>
                          <a:pt x="110" y="692"/>
                        </a:lnTo>
                        <a:lnTo>
                          <a:pt x="110" y="692"/>
                        </a:lnTo>
                        <a:lnTo>
                          <a:pt x="110" y="692"/>
                        </a:lnTo>
                        <a:lnTo>
                          <a:pt x="121" y="703"/>
                        </a:lnTo>
                        <a:lnTo>
                          <a:pt x="121" y="703"/>
                        </a:lnTo>
                        <a:lnTo>
                          <a:pt x="121" y="703"/>
                        </a:lnTo>
                        <a:lnTo>
                          <a:pt x="131" y="717"/>
                        </a:lnTo>
                        <a:lnTo>
                          <a:pt x="131" y="717"/>
                        </a:lnTo>
                        <a:lnTo>
                          <a:pt x="131" y="717"/>
                        </a:lnTo>
                        <a:lnTo>
                          <a:pt x="146" y="724"/>
                        </a:lnTo>
                        <a:lnTo>
                          <a:pt x="146" y="724"/>
                        </a:lnTo>
                        <a:lnTo>
                          <a:pt x="146" y="724"/>
                        </a:lnTo>
                        <a:lnTo>
                          <a:pt x="156" y="738"/>
                        </a:lnTo>
                        <a:lnTo>
                          <a:pt x="156" y="738"/>
                        </a:lnTo>
                        <a:lnTo>
                          <a:pt x="156" y="738"/>
                        </a:lnTo>
                        <a:lnTo>
                          <a:pt x="171" y="749"/>
                        </a:lnTo>
                        <a:lnTo>
                          <a:pt x="171" y="749"/>
                        </a:lnTo>
                        <a:lnTo>
                          <a:pt x="171" y="749"/>
                        </a:lnTo>
                        <a:lnTo>
                          <a:pt x="181" y="760"/>
                        </a:lnTo>
                        <a:lnTo>
                          <a:pt x="181" y="760"/>
                        </a:lnTo>
                        <a:lnTo>
                          <a:pt x="181" y="760"/>
                        </a:lnTo>
                        <a:lnTo>
                          <a:pt x="196" y="774"/>
                        </a:lnTo>
                        <a:lnTo>
                          <a:pt x="196" y="774"/>
                        </a:lnTo>
                        <a:lnTo>
                          <a:pt x="196" y="774"/>
                        </a:lnTo>
                        <a:lnTo>
                          <a:pt x="210" y="785"/>
                        </a:lnTo>
                        <a:lnTo>
                          <a:pt x="210" y="785"/>
                        </a:lnTo>
                        <a:lnTo>
                          <a:pt x="210" y="785"/>
                        </a:lnTo>
                        <a:lnTo>
                          <a:pt x="224" y="792"/>
                        </a:lnTo>
                        <a:lnTo>
                          <a:pt x="224" y="792"/>
                        </a:lnTo>
                        <a:lnTo>
                          <a:pt x="224" y="792"/>
                        </a:lnTo>
                        <a:lnTo>
                          <a:pt x="238" y="802"/>
                        </a:lnTo>
                        <a:lnTo>
                          <a:pt x="238" y="802"/>
                        </a:lnTo>
                        <a:lnTo>
                          <a:pt x="238" y="802"/>
                        </a:lnTo>
                        <a:lnTo>
                          <a:pt x="256" y="813"/>
                        </a:lnTo>
                        <a:lnTo>
                          <a:pt x="256" y="813"/>
                        </a:lnTo>
                        <a:lnTo>
                          <a:pt x="256" y="813"/>
                        </a:lnTo>
                        <a:lnTo>
                          <a:pt x="271" y="824"/>
                        </a:lnTo>
                        <a:lnTo>
                          <a:pt x="271" y="824"/>
                        </a:lnTo>
                        <a:lnTo>
                          <a:pt x="271" y="824"/>
                        </a:lnTo>
                        <a:lnTo>
                          <a:pt x="285" y="834"/>
                        </a:lnTo>
                        <a:lnTo>
                          <a:pt x="285" y="834"/>
                        </a:lnTo>
                        <a:lnTo>
                          <a:pt x="285" y="834"/>
                        </a:lnTo>
                        <a:lnTo>
                          <a:pt x="303" y="845"/>
                        </a:lnTo>
                        <a:lnTo>
                          <a:pt x="303" y="845"/>
                        </a:lnTo>
                        <a:lnTo>
                          <a:pt x="303" y="845"/>
                        </a:lnTo>
                        <a:lnTo>
                          <a:pt x="321" y="856"/>
                        </a:lnTo>
                        <a:lnTo>
                          <a:pt x="321" y="856"/>
                        </a:lnTo>
                        <a:lnTo>
                          <a:pt x="321" y="856"/>
                        </a:lnTo>
                        <a:lnTo>
                          <a:pt x="338" y="867"/>
                        </a:lnTo>
                        <a:lnTo>
                          <a:pt x="338" y="867"/>
                        </a:lnTo>
                        <a:lnTo>
                          <a:pt x="338" y="867"/>
                        </a:lnTo>
                        <a:lnTo>
                          <a:pt x="357" y="874"/>
                        </a:lnTo>
                        <a:lnTo>
                          <a:pt x="357" y="874"/>
                        </a:lnTo>
                        <a:lnTo>
                          <a:pt x="357" y="874"/>
                        </a:lnTo>
                        <a:lnTo>
                          <a:pt x="375" y="884"/>
                        </a:lnTo>
                        <a:lnTo>
                          <a:pt x="375" y="884"/>
                        </a:lnTo>
                        <a:lnTo>
                          <a:pt x="375" y="884"/>
                        </a:lnTo>
                        <a:lnTo>
                          <a:pt x="393" y="895"/>
                        </a:lnTo>
                        <a:lnTo>
                          <a:pt x="393" y="895"/>
                        </a:lnTo>
                        <a:lnTo>
                          <a:pt x="393" y="895"/>
                        </a:lnTo>
                        <a:lnTo>
                          <a:pt x="414" y="906"/>
                        </a:lnTo>
                        <a:lnTo>
                          <a:pt x="414" y="906"/>
                        </a:lnTo>
                        <a:lnTo>
                          <a:pt x="414" y="906"/>
                        </a:lnTo>
                        <a:lnTo>
                          <a:pt x="432" y="916"/>
                        </a:lnTo>
                        <a:lnTo>
                          <a:pt x="432" y="916"/>
                        </a:lnTo>
                        <a:lnTo>
                          <a:pt x="432" y="916"/>
                        </a:lnTo>
                        <a:lnTo>
                          <a:pt x="454" y="920"/>
                        </a:lnTo>
                        <a:lnTo>
                          <a:pt x="454" y="920"/>
                        </a:lnTo>
                        <a:lnTo>
                          <a:pt x="454" y="920"/>
                        </a:lnTo>
                        <a:lnTo>
                          <a:pt x="475" y="931"/>
                        </a:lnTo>
                        <a:lnTo>
                          <a:pt x="475" y="931"/>
                        </a:lnTo>
                        <a:lnTo>
                          <a:pt x="475" y="931"/>
                        </a:lnTo>
                        <a:lnTo>
                          <a:pt x="496" y="941"/>
                        </a:lnTo>
                        <a:lnTo>
                          <a:pt x="496" y="941"/>
                        </a:lnTo>
                        <a:lnTo>
                          <a:pt x="496" y="941"/>
                        </a:lnTo>
                        <a:lnTo>
                          <a:pt x="514" y="948"/>
                        </a:lnTo>
                        <a:lnTo>
                          <a:pt x="514" y="948"/>
                        </a:lnTo>
                        <a:lnTo>
                          <a:pt x="514" y="948"/>
                        </a:lnTo>
                        <a:lnTo>
                          <a:pt x="536" y="959"/>
                        </a:lnTo>
                        <a:lnTo>
                          <a:pt x="536" y="959"/>
                        </a:lnTo>
                        <a:lnTo>
                          <a:pt x="536" y="959"/>
                        </a:lnTo>
                        <a:lnTo>
                          <a:pt x="557" y="966"/>
                        </a:lnTo>
                        <a:lnTo>
                          <a:pt x="557" y="966"/>
                        </a:lnTo>
                        <a:lnTo>
                          <a:pt x="557" y="966"/>
                        </a:lnTo>
                        <a:lnTo>
                          <a:pt x="578" y="977"/>
                        </a:lnTo>
                        <a:lnTo>
                          <a:pt x="578" y="977"/>
                        </a:lnTo>
                        <a:lnTo>
                          <a:pt x="578" y="977"/>
                        </a:lnTo>
                        <a:lnTo>
                          <a:pt x="603" y="981"/>
                        </a:lnTo>
                        <a:lnTo>
                          <a:pt x="603" y="981"/>
                        </a:lnTo>
                        <a:lnTo>
                          <a:pt x="603" y="981"/>
                        </a:lnTo>
                        <a:lnTo>
                          <a:pt x="621" y="991"/>
                        </a:lnTo>
                        <a:lnTo>
                          <a:pt x="621" y="991"/>
                        </a:lnTo>
                        <a:lnTo>
                          <a:pt x="621" y="991"/>
                        </a:lnTo>
                        <a:lnTo>
                          <a:pt x="646" y="998"/>
                        </a:lnTo>
                        <a:lnTo>
                          <a:pt x="646" y="998"/>
                        </a:lnTo>
                        <a:lnTo>
                          <a:pt x="646" y="998"/>
                        </a:lnTo>
                        <a:lnTo>
                          <a:pt x="671" y="1006"/>
                        </a:lnTo>
                        <a:lnTo>
                          <a:pt x="671" y="1006"/>
                        </a:lnTo>
                        <a:lnTo>
                          <a:pt x="671" y="1006"/>
                        </a:lnTo>
                        <a:lnTo>
                          <a:pt x="693" y="1016"/>
                        </a:lnTo>
                        <a:lnTo>
                          <a:pt x="693" y="1016"/>
                        </a:lnTo>
                        <a:lnTo>
                          <a:pt x="693" y="1016"/>
                        </a:lnTo>
                        <a:lnTo>
                          <a:pt x="721" y="1020"/>
                        </a:lnTo>
                        <a:lnTo>
                          <a:pt x="721" y="1020"/>
                        </a:lnTo>
                        <a:lnTo>
                          <a:pt x="721" y="1020"/>
                        </a:lnTo>
                        <a:lnTo>
                          <a:pt x="742" y="1027"/>
                        </a:lnTo>
                        <a:lnTo>
                          <a:pt x="742" y="1027"/>
                        </a:lnTo>
                        <a:lnTo>
                          <a:pt x="742" y="1027"/>
                        </a:lnTo>
                        <a:lnTo>
                          <a:pt x="767" y="1038"/>
                        </a:lnTo>
                        <a:lnTo>
                          <a:pt x="767" y="1038"/>
                        </a:lnTo>
                        <a:lnTo>
                          <a:pt x="767" y="1038"/>
                        </a:lnTo>
                        <a:lnTo>
                          <a:pt x="792" y="1041"/>
                        </a:lnTo>
                        <a:lnTo>
                          <a:pt x="792" y="1041"/>
                        </a:lnTo>
                        <a:lnTo>
                          <a:pt x="792" y="1041"/>
                        </a:lnTo>
                        <a:lnTo>
                          <a:pt x="817" y="1048"/>
                        </a:lnTo>
                        <a:lnTo>
                          <a:pt x="817" y="1048"/>
                        </a:lnTo>
                        <a:lnTo>
                          <a:pt x="817" y="1048"/>
                        </a:lnTo>
                        <a:lnTo>
                          <a:pt x="842" y="1052"/>
                        </a:lnTo>
                        <a:lnTo>
                          <a:pt x="842" y="1052"/>
                        </a:lnTo>
                        <a:lnTo>
                          <a:pt x="842" y="1052"/>
                        </a:lnTo>
                        <a:lnTo>
                          <a:pt x="867" y="1059"/>
                        </a:lnTo>
                        <a:lnTo>
                          <a:pt x="867" y="1059"/>
                        </a:lnTo>
                        <a:lnTo>
                          <a:pt x="867" y="1059"/>
                        </a:lnTo>
                        <a:lnTo>
                          <a:pt x="896" y="1066"/>
                        </a:lnTo>
                        <a:lnTo>
                          <a:pt x="896" y="1066"/>
                        </a:lnTo>
                        <a:lnTo>
                          <a:pt x="896" y="1066"/>
                        </a:lnTo>
                        <a:lnTo>
                          <a:pt x="917" y="1073"/>
                        </a:lnTo>
                        <a:lnTo>
                          <a:pt x="917" y="1073"/>
                        </a:lnTo>
                        <a:lnTo>
                          <a:pt x="917" y="1073"/>
                        </a:lnTo>
                        <a:lnTo>
                          <a:pt x="946" y="1077"/>
                        </a:lnTo>
                        <a:lnTo>
                          <a:pt x="946" y="1077"/>
                        </a:lnTo>
                        <a:lnTo>
                          <a:pt x="946" y="1077"/>
                        </a:lnTo>
                        <a:lnTo>
                          <a:pt x="974" y="1084"/>
                        </a:lnTo>
                        <a:lnTo>
                          <a:pt x="974" y="1084"/>
                        </a:lnTo>
                        <a:lnTo>
                          <a:pt x="974" y="1084"/>
                        </a:lnTo>
                        <a:lnTo>
                          <a:pt x="999" y="1087"/>
                        </a:lnTo>
                        <a:lnTo>
                          <a:pt x="999" y="1087"/>
                        </a:lnTo>
                        <a:lnTo>
                          <a:pt x="999" y="1087"/>
                        </a:lnTo>
                        <a:lnTo>
                          <a:pt x="1025" y="1095"/>
                        </a:lnTo>
                        <a:lnTo>
                          <a:pt x="1025" y="1095"/>
                        </a:lnTo>
                        <a:lnTo>
                          <a:pt x="1025" y="1095"/>
                        </a:lnTo>
                        <a:lnTo>
                          <a:pt x="1054" y="1098"/>
                        </a:lnTo>
                        <a:lnTo>
                          <a:pt x="1054" y="1098"/>
                        </a:lnTo>
                        <a:lnTo>
                          <a:pt x="1054" y="1098"/>
                        </a:lnTo>
                        <a:lnTo>
                          <a:pt x="1082" y="1102"/>
                        </a:lnTo>
                        <a:lnTo>
                          <a:pt x="1082" y="1102"/>
                        </a:lnTo>
                        <a:lnTo>
                          <a:pt x="1082" y="1102"/>
                        </a:lnTo>
                        <a:lnTo>
                          <a:pt x="1111" y="1109"/>
                        </a:lnTo>
                        <a:lnTo>
                          <a:pt x="1111" y="1109"/>
                        </a:lnTo>
                        <a:lnTo>
                          <a:pt x="1111" y="1109"/>
                        </a:lnTo>
                        <a:lnTo>
                          <a:pt x="1136" y="1109"/>
                        </a:lnTo>
                        <a:lnTo>
                          <a:pt x="1136" y="1109"/>
                        </a:lnTo>
                        <a:lnTo>
                          <a:pt x="1136" y="1109"/>
                        </a:lnTo>
                        <a:lnTo>
                          <a:pt x="1164" y="1112"/>
                        </a:lnTo>
                        <a:lnTo>
                          <a:pt x="1164" y="1112"/>
                        </a:lnTo>
                        <a:lnTo>
                          <a:pt x="1164" y="1112"/>
                        </a:lnTo>
                        <a:lnTo>
                          <a:pt x="1193" y="1120"/>
                        </a:lnTo>
                        <a:lnTo>
                          <a:pt x="1193" y="1120"/>
                        </a:lnTo>
                        <a:lnTo>
                          <a:pt x="1193" y="1120"/>
                        </a:lnTo>
                        <a:lnTo>
                          <a:pt x="1221" y="1123"/>
                        </a:lnTo>
                        <a:lnTo>
                          <a:pt x="1221" y="1123"/>
                        </a:lnTo>
                        <a:lnTo>
                          <a:pt x="1221" y="1123"/>
                        </a:lnTo>
                        <a:lnTo>
                          <a:pt x="1246" y="1123"/>
                        </a:lnTo>
                        <a:lnTo>
                          <a:pt x="1246" y="1123"/>
                        </a:lnTo>
                        <a:lnTo>
                          <a:pt x="1246" y="1123"/>
                        </a:lnTo>
                        <a:lnTo>
                          <a:pt x="1278" y="1130"/>
                        </a:lnTo>
                        <a:lnTo>
                          <a:pt x="1278" y="1130"/>
                        </a:lnTo>
                        <a:lnTo>
                          <a:pt x="1278" y="1130"/>
                        </a:lnTo>
                        <a:lnTo>
                          <a:pt x="1307" y="1130"/>
                        </a:lnTo>
                        <a:lnTo>
                          <a:pt x="1307" y="1130"/>
                        </a:lnTo>
                        <a:lnTo>
                          <a:pt x="1307" y="1130"/>
                        </a:lnTo>
                        <a:lnTo>
                          <a:pt x="1336" y="1134"/>
                        </a:lnTo>
                        <a:lnTo>
                          <a:pt x="1336" y="1134"/>
                        </a:lnTo>
                        <a:lnTo>
                          <a:pt x="1336" y="1134"/>
                        </a:lnTo>
                        <a:lnTo>
                          <a:pt x="1364" y="1134"/>
                        </a:lnTo>
                        <a:lnTo>
                          <a:pt x="1364" y="1134"/>
                        </a:lnTo>
                        <a:lnTo>
                          <a:pt x="1364" y="699"/>
                        </a:lnTo>
                        <a:close/>
                      </a:path>
                    </a:pathLst>
                  </a:custGeom>
                  <a:solidFill>
                    <a:srgbClr val="44007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535880" y="4500720"/>
                    <a:ext cx="116280" cy="408240"/>
                  </a:xfrm>
                  <a:custGeom>
                    <a:avLst/>
                    <a:gdLst/>
                    <a:ahLst/>
                    <a:rect l="0" t="0" r="r" b="b"/>
                    <a:pathLst>
                      <a:path w="323" h="1134">
                        <a:moveTo>
                          <a:pt x="323" y="0"/>
                        </a:moveTo>
                        <a:lnTo>
                          <a:pt x="0" y="699"/>
                        </a:lnTo>
                        <a:lnTo>
                          <a:pt x="0" y="1134"/>
                        </a:lnTo>
                        <a:lnTo>
                          <a:pt x="323" y="434"/>
                        </a:lnTo>
                        <a:lnTo>
                          <a:pt x="323" y="0"/>
                        </a:lnTo>
                        <a:close/>
                      </a:path>
                    </a:pathLst>
                  </a:custGeom>
                  <a:solidFill>
                    <a:srgbClr val="44007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653240" y="4527720"/>
                    <a:ext cx="721080" cy="414720"/>
                  </a:xfrm>
                  <a:custGeom>
                    <a:avLst/>
                    <a:gdLst/>
                    <a:ahLst/>
                    <a:rect l="0" t="0" r="r" b="b"/>
                    <a:pathLst>
                      <a:path w="2003" h="1152">
                        <a:moveTo>
                          <a:pt x="2003" y="0"/>
                        </a:moveTo>
                        <a:lnTo>
                          <a:pt x="2003" y="0"/>
                        </a:lnTo>
                        <a:lnTo>
                          <a:pt x="2003" y="14"/>
                        </a:lnTo>
                        <a:lnTo>
                          <a:pt x="2003" y="14"/>
                        </a:lnTo>
                        <a:lnTo>
                          <a:pt x="2003" y="24"/>
                        </a:lnTo>
                        <a:lnTo>
                          <a:pt x="2003" y="24"/>
                        </a:lnTo>
                        <a:lnTo>
                          <a:pt x="2003" y="24"/>
                        </a:lnTo>
                        <a:lnTo>
                          <a:pt x="2003" y="35"/>
                        </a:lnTo>
                        <a:lnTo>
                          <a:pt x="2003" y="35"/>
                        </a:lnTo>
                        <a:lnTo>
                          <a:pt x="1999" y="49"/>
                        </a:lnTo>
                        <a:lnTo>
                          <a:pt x="1999" y="49"/>
                        </a:lnTo>
                        <a:lnTo>
                          <a:pt x="1999" y="49"/>
                        </a:lnTo>
                        <a:lnTo>
                          <a:pt x="1999" y="64"/>
                        </a:lnTo>
                        <a:lnTo>
                          <a:pt x="1999" y="64"/>
                        </a:lnTo>
                        <a:lnTo>
                          <a:pt x="1992" y="74"/>
                        </a:lnTo>
                        <a:lnTo>
                          <a:pt x="1992" y="74"/>
                        </a:lnTo>
                        <a:lnTo>
                          <a:pt x="1992" y="74"/>
                        </a:lnTo>
                        <a:lnTo>
                          <a:pt x="1992" y="85"/>
                        </a:lnTo>
                        <a:lnTo>
                          <a:pt x="1992" y="85"/>
                        </a:lnTo>
                        <a:lnTo>
                          <a:pt x="1988" y="99"/>
                        </a:lnTo>
                        <a:lnTo>
                          <a:pt x="1988" y="99"/>
                        </a:lnTo>
                        <a:lnTo>
                          <a:pt x="1988" y="99"/>
                        </a:lnTo>
                        <a:lnTo>
                          <a:pt x="1981" y="114"/>
                        </a:lnTo>
                        <a:lnTo>
                          <a:pt x="1981" y="114"/>
                        </a:lnTo>
                        <a:lnTo>
                          <a:pt x="1974" y="124"/>
                        </a:lnTo>
                        <a:lnTo>
                          <a:pt x="1974" y="124"/>
                        </a:lnTo>
                        <a:lnTo>
                          <a:pt x="1970" y="135"/>
                        </a:lnTo>
                        <a:lnTo>
                          <a:pt x="1970" y="135"/>
                        </a:lnTo>
                        <a:lnTo>
                          <a:pt x="1970" y="135"/>
                        </a:lnTo>
                        <a:lnTo>
                          <a:pt x="1963" y="146"/>
                        </a:lnTo>
                        <a:lnTo>
                          <a:pt x="1963" y="146"/>
                        </a:lnTo>
                        <a:lnTo>
                          <a:pt x="1960" y="160"/>
                        </a:lnTo>
                        <a:lnTo>
                          <a:pt x="1960" y="160"/>
                        </a:lnTo>
                        <a:lnTo>
                          <a:pt x="1960" y="160"/>
                        </a:lnTo>
                        <a:lnTo>
                          <a:pt x="1953" y="174"/>
                        </a:lnTo>
                        <a:lnTo>
                          <a:pt x="1953" y="174"/>
                        </a:lnTo>
                        <a:lnTo>
                          <a:pt x="1946" y="185"/>
                        </a:lnTo>
                        <a:lnTo>
                          <a:pt x="1946" y="185"/>
                        </a:lnTo>
                        <a:lnTo>
                          <a:pt x="1946" y="185"/>
                        </a:lnTo>
                        <a:lnTo>
                          <a:pt x="1938" y="195"/>
                        </a:lnTo>
                        <a:lnTo>
                          <a:pt x="1938" y="195"/>
                        </a:lnTo>
                        <a:lnTo>
                          <a:pt x="1928" y="206"/>
                        </a:lnTo>
                        <a:lnTo>
                          <a:pt x="1928" y="206"/>
                        </a:lnTo>
                        <a:lnTo>
                          <a:pt x="1928" y="206"/>
                        </a:lnTo>
                        <a:lnTo>
                          <a:pt x="1921" y="220"/>
                        </a:lnTo>
                        <a:lnTo>
                          <a:pt x="1921" y="220"/>
                        </a:lnTo>
                        <a:lnTo>
                          <a:pt x="1910" y="231"/>
                        </a:lnTo>
                        <a:lnTo>
                          <a:pt x="1910" y="231"/>
                        </a:lnTo>
                        <a:lnTo>
                          <a:pt x="1910" y="231"/>
                        </a:lnTo>
                        <a:lnTo>
                          <a:pt x="1903" y="245"/>
                        </a:lnTo>
                        <a:lnTo>
                          <a:pt x="1903" y="245"/>
                        </a:lnTo>
                        <a:lnTo>
                          <a:pt x="1892" y="256"/>
                        </a:lnTo>
                        <a:lnTo>
                          <a:pt x="1892" y="256"/>
                        </a:lnTo>
                        <a:lnTo>
                          <a:pt x="1892" y="256"/>
                        </a:lnTo>
                        <a:lnTo>
                          <a:pt x="1881" y="267"/>
                        </a:lnTo>
                        <a:lnTo>
                          <a:pt x="1881" y="267"/>
                        </a:lnTo>
                        <a:lnTo>
                          <a:pt x="1867" y="277"/>
                        </a:lnTo>
                        <a:lnTo>
                          <a:pt x="1867" y="277"/>
                        </a:lnTo>
                        <a:lnTo>
                          <a:pt x="1867" y="277"/>
                        </a:lnTo>
                        <a:lnTo>
                          <a:pt x="1856" y="289"/>
                        </a:lnTo>
                        <a:lnTo>
                          <a:pt x="1856" y="289"/>
                        </a:lnTo>
                        <a:lnTo>
                          <a:pt x="1846" y="303"/>
                        </a:lnTo>
                        <a:lnTo>
                          <a:pt x="1846" y="303"/>
                        </a:lnTo>
                        <a:lnTo>
                          <a:pt x="1846" y="303"/>
                        </a:lnTo>
                        <a:lnTo>
                          <a:pt x="1832" y="314"/>
                        </a:lnTo>
                        <a:lnTo>
                          <a:pt x="1832" y="314"/>
                        </a:lnTo>
                        <a:lnTo>
                          <a:pt x="1821" y="325"/>
                        </a:lnTo>
                        <a:lnTo>
                          <a:pt x="1821" y="325"/>
                        </a:lnTo>
                        <a:lnTo>
                          <a:pt x="1821" y="325"/>
                        </a:lnTo>
                        <a:lnTo>
                          <a:pt x="1807" y="335"/>
                        </a:lnTo>
                        <a:lnTo>
                          <a:pt x="1807" y="335"/>
                        </a:lnTo>
                        <a:lnTo>
                          <a:pt x="1789" y="346"/>
                        </a:lnTo>
                        <a:lnTo>
                          <a:pt x="1789" y="346"/>
                        </a:lnTo>
                        <a:lnTo>
                          <a:pt x="1789" y="346"/>
                        </a:lnTo>
                        <a:lnTo>
                          <a:pt x="1778" y="357"/>
                        </a:lnTo>
                        <a:lnTo>
                          <a:pt x="1778" y="357"/>
                        </a:lnTo>
                        <a:lnTo>
                          <a:pt x="1764" y="368"/>
                        </a:lnTo>
                        <a:lnTo>
                          <a:pt x="1764" y="368"/>
                        </a:lnTo>
                        <a:lnTo>
                          <a:pt x="1746" y="378"/>
                        </a:lnTo>
                        <a:lnTo>
                          <a:pt x="1746" y="378"/>
                        </a:lnTo>
                        <a:lnTo>
                          <a:pt x="1746" y="378"/>
                        </a:lnTo>
                        <a:lnTo>
                          <a:pt x="1728" y="389"/>
                        </a:lnTo>
                        <a:lnTo>
                          <a:pt x="1728" y="389"/>
                        </a:lnTo>
                        <a:lnTo>
                          <a:pt x="1718" y="400"/>
                        </a:lnTo>
                        <a:lnTo>
                          <a:pt x="1718" y="400"/>
                        </a:lnTo>
                        <a:lnTo>
                          <a:pt x="1718" y="400"/>
                        </a:lnTo>
                        <a:lnTo>
                          <a:pt x="1700" y="410"/>
                        </a:lnTo>
                        <a:lnTo>
                          <a:pt x="1700" y="410"/>
                        </a:lnTo>
                        <a:lnTo>
                          <a:pt x="1678" y="421"/>
                        </a:lnTo>
                        <a:lnTo>
                          <a:pt x="1678" y="421"/>
                        </a:lnTo>
                        <a:lnTo>
                          <a:pt x="1678" y="421"/>
                        </a:lnTo>
                        <a:lnTo>
                          <a:pt x="1664" y="432"/>
                        </a:lnTo>
                        <a:lnTo>
                          <a:pt x="1664" y="432"/>
                        </a:lnTo>
                        <a:lnTo>
                          <a:pt x="1646" y="439"/>
                        </a:lnTo>
                        <a:lnTo>
                          <a:pt x="1646" y="439"/>
                        </a:lnTo>
                        <a:lnTo>
                          <a:pt x="1646" y="439"/>
                        </a:lnTo>
                        <a:lnTo>
                          <a:pt x="1628" y="449"/>
                        </a:lnTo>
                        <a:lnTo>
                          <a:pt x="1628" y="449"/>
                        </a:lnTo>
                        <a:lnTo>
                          <a:pt x="1611" y="460"/>
                        </a:lnTo>
                        <a:lnTo>
                          <a:pt x="1611" y="460"/>
                        </a:lnTo>
                        <a:lnTo>
                          <a:pt x="1611" y="460"/>
                        </a:lnTo>
                        <a:lnTo>
                          <a:pt x="1589" y="467"/>
                        </a:lnTo>
                        <a:lnTo>
                          <a:pt x="1589" y="467"/>
                        </a:lnTo>
                        <a:lnTo>
                          <a:pt x="1571" y="478"/>
                        </a:lnTo>
                        <a:lnTo>
                          <a:pt x="1571" y="478"/>
                        </a:lnTo>
                        <a:lnTo>
                          <a:pt x="1571" y="478"/>
                        </a:lnTo>
                        <a:lnTo>
                          <a:pt x="1554" y="485"/>
                        </a:lnTo>
                        <a:lnTo>
                          <a:pt x="1554" y="485"/>
                        </a:lnTo>
                        <a:lnTo>
                          <a:pt x="1532" y="496"/>
                        </a:lnTo>
                        <a:lnTo>
                          <a:pt x="1532" y="496"/>
                        </a:lnTo>
                        <a:lnTo>
                          <a:pt x="1532" y="496"/>
                        </a:lnTo>
                        <a:lnTo>
                          <a:pt x="1511" y="506"/>
                        </a:lnTo>
                        <a:lnTo>
                          <a:pt x="1511" y="506"/>
                        </a:lnTo>
                        <a:lnTo>
                          <a:pt x="1490" y="514"/>
                        </a:lnTo>
                        <a:lnTo>
                          <a:pt x="1490" y="514"/>
                        </a:lnTo>
                        <a:lnTo>
                          <a:pt x="1490" y="514"/>
                        </a:lnTo>
                        <a:lnTo>
                          <a:pt x="1468" y="524"/>
                        </a:lnTo>
                        <a:lnTo>
                          <a:pt x="1468" y="524"/>
                        </a:lnTo>
                        <a:lnTo>
                          <a:pt x="1443" y="528"/>
                        </a:lnTo>
                        <a:lnTo>
                          <a:pt x="1443" y="528"/>
                        </a:lnTo>
                        <a:lnTo>
                          <a:pt x="1443" y="528"/>
                        </a:lnTo>
                        <a:lnTo>
                          <a:pt x="1425" y="539"/>
                        </a:lnTo>
                        <a:lnTo>
                          <a:pt x="1425" y="539"/>
                        </a:lnTo>
                        <a:lnTo>
                          <a:pt x="1400" y="546"/>
                        </a:lnTo>
                        <a:lnTo>
                          <a:pt x="1400" y="546"/>
                        </a:lnTo>
                        <a:lnTo>
                          <a:pt x="1379" y="556"/>
                        </a:lnTo>
                        <a:lnTo>
                          <a:pt x="1379" y="556"/>
                        </a:lnTo>
                        <a:lnTo>
                          <a:pt x="1379" y="556"/>
                        </a:lnTo>
                        <a:lnTo>
                          <a:pt x="1358" y="563"/>
                        </a:lnTo>
                        <a:lnTo>
                          <a:pt x="1358" y="563"/>
                        </a:lnTo>
                        <a:lnTo>
                          <a:pt x="1333" y="571"/>
                        </a:lnTo>
                        <a:lnTo>
                          <a:pt x="1333" y="571"/>
                        </a:lnTo>
                        <a:lnTo>
                          <a:pt x="1333" y="571"/>
                        </a:lnTo>
                        <a:lnTo>
                          <a:pt x="1308" y="578"/>
                        </a:lnTo>
                        <a:lnTo>
                          <a:pt x="1308" y="578"/>
                        </a:lnTo>
                        <a:lnTo>
                          <a:pt x="1286" y="585"/>
                        </a:lnTo>
                        <a:lnTo>
                          <a:pt x="1286" y="585"/>
                        </a:lnTo>
                        <a:lnTo>
                          <a:pt x="1286" y="585"/>
                        </a:lnTo>
                        <a:lnTo>
                          <a:pt x="1262" y="588"/>
                        </a:lnTo>
                        <a:lnTo>
                          <a:pt x="1262" y="588"/>
                        </a:lnTo>
                        <a:lnTo>
                          <a:pt x="1237" y="599"/>
                        </a:lnTo>
                        <a:lnTo>
                          <a:pt x="1237" y="599"/>
                        </a:lnTo>
                        <a:lnTo>
                          <a:pt x="1237" y="599"/>
                        </a:lnTo>
                        <a:lnTo>
                          <a:pt x="1215" y="606"/>
                        </a:lnTo>
                        <a:lnTo>
                          <a:pt x="1215" y="606"/>
                        </a:lnTo>
                        <a:lnTo>
                          <a:pt x="1187" y="610"/>
                        </a:lnTo>
                        <a:lnTo>
                          <a:pt x="1187" y="610"/>
                        </a:lnTo>
                        <a:lnTo>
                          <a:pt x="1187" y="610"/>
                        </a:lnTo>
                        <a:lnTo>
                          <a:pt x="1162" y="617"/>
                        </a:lnTo>
                        <a:lnTo>
                          <a:pt x="1162" y="617"/>
                        </a:lnTo>
                        <a:lnTo>
                          <a:pt x="1137" y="624"/>
                        </a:lnTo>
                        <a:lnTo>
                          <a:pt x="1137" y="624"/>
                        </a:lnTo>
                        <a:lnTo>
                          <a:pt x="1137" y="624"/>
                        </a:lnTo>
                        <a:lnTo>
                          <a:pt x="1112" y="631"/>
                        </a:lnTo>
                        <a:lnTo>
                          <a:pt x="1112" y="631"/>
                        </a:lnTo>
                        <a:lnTo>
                          <a:pt x="1083" y="638"/>
                        </a:lnTo>
                        <a:lnTo>
                          <a:pt x="1083" y="638"/>
                        </a:lnTo>
                        <a:lnTo>
                          <a:pt x="1083" y="638"/>
                        </a:lnTo>
                        <a:lnTo>
                          <a:pt x="1059" y="642"/>
                        </a:lnTo>
                        <a:lnTo>
                          <a:pt x="1059" y="642"/>
                        </a:lnTo>
                        <a:lnTo>
                          <a:pt x="1034" y="649"/>
                        </a:lnTo>
                        <a:lnTo>
                          <a:pt x="1034" y="649"/>
                        </a:lnTo>
                        <a:lnTo>
                          <a:pt x="1034" y="649"/>
                        </a:lnTo>
                        <a:lnTo>
                          <a:pt x="1005" y="649"/>
                        </a:lnTo>
                        <a:lnTo>
                          <a:pt x="1005" y="649"/>
                        </a:lnTo>
                        <a:lnTo>
                          <a:pt x="979" y="656"/>
                        </a:lnTo>
                        <a:lnTo>
                          <a:pt x="979" y="656"/>
                        </a:lnTo>
                        <a:lnTo>
                          <a:pt x="979" y="656"/>
                        </a:lnTo>
                        <a:lnTo>
                          <a:pt x="951" y="660"/>
                        </a:lnTo>
                        <a:lnTo>
                          <a:pt x="951" y="660"/>
                        </a:lnTo>
                        <a:lnTo>
                          <a:pt x="922" y="667"/>
                        </a:lnTo>
                        <a:lnTo>
                          <a:pt x="922" y="667"/>
                        </a:lnTo>
                        <a:lnTo>
                          <a:pt x="922" y="667"/>
                        </a:lnTo>
                        <a:lnTo>
                          <a:pt x="897" y="670"/>
                        </a:lnTo>
                        <a:lnTo>
                          <a:pt x="897" y="670"/>
                        </a:lnTo>
                        <a:lnTo>
                          <a:pt x="869" y="674"/>
                        </a:lnTo>
                        <a:lnTo>
                          <a:pt x="869" y="674"/>
                        </a:lnTo>
                        <a:lnTo>
                          <a:pt x="840" y="678"/>
                        </a:lnTo>
                        <a:lnTo>
                          <a:pt x="840" y="678"/>
                        </a:lnTo>
                        <a:lnTo>
                          <a:pt x="840" y="678"/>
                        </a:lnTo>
                        <a:lnTo>
                          <a:pt x="815" y="681"/>
                        </a:lnTo>
                        <a:lnTo>
                          <a:pt x="815" y="681"/>
                        </a:lnTo>
                        <a:lnTo>
                          <a:pt x="783" y="688"/>
                        </a:lnTo>
                        <a:lnTo>
                          <a:pt x="783" y="688"/>
                        </a:lnTo>
                        <a:lnTo>
                          <a:pt x="783" y="688"/>
                        </a:lnTo>
                        <a:lnTo>
                          <a:pt x="758" y="688"/>
                        </a:lnTo>
                        <a:lnTo>
                          <a:pt x="758" y="688"/>
                        </a:lnTo>
                        <a:lnTo>
                          <a:pt x="726" y="692"/>
                        </a:lnTo>
                        <a:lnTo>
                          <a:pt x="726" y="692"/>
                        </a:lnTo>
                        <a:lnTo>
                          <a:pt x="726" y="692"/>
                        </a:lnTo>
                        <a:lnTo>
                          <a:pt x="698" y="695"/>
                        </a:lnTo>
                        <a:lnTo>
                          <a:pt x="698" y="695"/>
                        </a:lnTo>
                        <a:lnTo>
                          <a:pt x="669" y="699"/>
                        </a:lnTo>
                        <a:lnTo>
                          <a:pt x="669" y="699"/>
                        </a:lnTo>
                        <a:lnTo>
                          <a:pt x="669" y="699"/>
                        </a:lnTo>
                        <a:lnTo>
                          <a:pt x="644" y="699"/>
                        </a:lnTo>
                        <a:lnTo>
                          <a:pt x="644" y="699"/>
                        </a:lnTo>
                        <a:lnTo>
                          <a:pt x="612" y="702"/>
                        </a:lnTo>
                        <a:lnTo>
                          <a:pt x="612" y="702"/>
                        </a:lnTo>
                        <a:lnTo>
                          <a:pt x="612" y="702"/>
                        </a:lnTo>
                        <a:lnTo>
                          <a:pt x="584" y="706"/>
                        </a:lnTo>
                        <a:lnTo>
                          <a:pt x="584" y="706"/>
                        </a:lnTo>
                        <a:lnTo>
                          <a:pt x="555" y="706"/>
                        </a:lnTo>
                        <a:lnTo>
                          <a:pt x="555" y="706"/>
                        </a:lnTo>
                        <a:lnTo>
                          <a:pt x="555" y="706"/>
                        </a:lnTo>
                        <a:lnTo>
                          <a:pt x="527" y="710"/>
                        </a:lnTo>
                        <a:lnTo>
                          <a:pt x="527" y="710"/>
                        </a:lnTo>
                        <a:lnTo>
                          <a:pt x="495" y="710"/>
                        </a:lnTo>
                        <a:lnTo>
                          <a:pt x="495" y="710"/>
                        </a:lnTo>
                        <a:lnTo>
                          <a:pt x="495" y="710"/>
                        </a:lnTo>
                        <a:lnTo>
                          <a:pt x="470" y="710"/>
                        </a:lnTo>
                        <a:lnTo>
                          <a:pt x="470" y="710"/>
                        </a:lnTo>
                        <a:lnTo>
                          <a:pt x="438" y="713"/>
                        </a:lnTo>
                        <a:lnTo>
                          <a:pt x="438" y="713"/>
                        </a:lnTo>
                        <a:lnTo>
                          <a:pt x="438" y="713"/>
                        </a:lnTo>
                        <a:lnTo>
                          <a:pt x="409" y="713"/>
                        </a:lnTo>
                        <a:lnTo>
                          <a:pt x="409" y="713"/>
                        </a:lnTo>
                        <a:lnTo>
                          <a:pt x="377" y="717"/>
                        </a:lnTo>
                        <a:lnTo>
                          <a:pt x="377" y="717"/>
                        </a:lnTo>
                        <a:lnTo>
                          <a:pt x="377" y="717"/>
                        </a:lnTo>
                        <a:lnTo>
                          <a:pt x="349" y="717"/>
                        </a:lnTo>
                        <a:lnTo>
                          <a:pt x="349" y="717"/>
                        </a:lnTo>
                        <a:lnTo>
                          <a:pt x="320" y="717"/>
                        </a:lnTo>
                        <a:lnTo>
                          <a:pt x="320" y="717"/>
                        </a:lnTo>
                        <a:lnTo>
                          <a:pt x="320" y="717"/>
                        </a:lnTo>
                        <a:lnTo>
                          <a:pt x="292" y="717"/>
                        </a:lnTo>
                        <a:lnTo>
                          <a:pt x="292" y="717"/>
                        </a:lnTo>
                        <a:lnTo>
                          <a:pt x="260" y="717"/>
                        </a:lnTo>
                        <a:lnTo>
                          <a:pt x="260" y="717"/>
                        </a:lnTo>
                        <a:lnTo>
                          <a:pt x="235" y="713"/>
                        </a:lnTo>
                        <a:lnTo>
                          <a:pt x="235" y="713"/>
                        </a:lnTo>
                        <a:lnTo>
                          <a:pt x="235" y="713"/>
                        </a:lnTo>
                        <a:lnTo>
                          <a:pt x="203" y="713"/>
                        </a:lnTo>
                        <a:lnTo>
                          <a:pt x="203" y="713"/>
                        </a:lnTo>
                        <a:lnTo>
                          <a:pt x="174" y="710"/>
                        </a:lnTo>
                        <a:lnTo>
                          <a:pt x="174" y="710"/>
                        </a:lnTo>
                        <a:lnTo>
                          <a:pt x="174" y="710"/>
                        </a:lnTo>
                        <a:lnTo>
                          <a:pt x="146" y="710"/>
                        </a:lnTo>
                        <a:lnTo>
                          <a:pt x="146" y="710"/>
                        </a:lnTo>
                        <a:lnTo>
                          <a:pt x="117" y="710"/>
                        </a:lnTo>
                        <a:lnTo>
                          <a:pt x="117" y="710"/>
                        </a:lnTo>
                        <a:lnTo>
                          <a:pt x="117" y="710"/>
                        </a:lnTo>
                        <a:lnTo>
                          <a:pt x="85" y="706"/>
                        </a:lnTo>
                        <a:lnTo>
                          <a:pt x="85" y="706"/>
                        </a:lnTo>
                        <a:lnTo>
                          <a:pt x="56" y="706"/>
                        </a:lnTo>
                        <a:lnTo>
                          <a:pt x="56" y="706"/>
                        </a:lnTo>
                        <a:lnTo>
                          <a:pt x="56" y="706"/>
                        </a:lnTo>
                        <a:lnTo>
                          <a:pt x="28" y="702"/>
                        </a:lnTo>
                        <a:lnTo>
                          <a:pt x="28" y="702"/>
                        </a:lnTo>
                        <a:lnTo>
                          <a:pt x="0" y="699"/>
                        </a:lnTo>
                        <a:lnTo>
                          <a:pt x="0" y="699"/>
                        </a:lnTo>
                        <a:lnTo>
                          <a:pt x="0" y="1138"/>
                        </a:lnTo>
                        <a:lnTo>
                          <a:pt x="0" y="1138"/>
                        </a:lnTo>
                        <a:lnTo>
                          <a:pt x="28" y="1142"/>
                        </a:lnTo>
                        <a:lnTo>
                          <a:pt x="28" y="1142"/>
                        </a:lnTo>
                        <a:lnTo>
                          <a:pt x="56" y="1142"/>
                        </a:lnTo>
                        <a:lnTo>
                          <a:pt x="56" y="1142"/>
                        </a:lnTo>
                        <a:lnTo>
                          <a:pt x="56" y="1142"/>
                        </a:lnTo>
                        <a:lnTo>
                          <a:pt x="85" y="1142"/>
                        </a:lnTo>
                        <a:lnTo>
                          <a:pt x="85" y="1142"/>
                        </a:lnTo>
                        <a:lnTo>
                          <a:pt x="117" y="1145"/>
                        </a:lnTo>
                        <a:lnTo>
                          <a:pt x="117" y="1145"/>
                        </a:lnTo>
                        <a:lnTo>
                          <a:pt x="117" y="1145"/>
                        </a:lnTo>
                        <a:lnTo>
                          <a:pt x="146" y="1149"/>
                        </a:lnTo>
                        <a:lnTo>
                          <a:pt x="146" y="1149"/>
                        </a:lnTo>
                        <a:lnTo>
                          <a:pt x="174" y="1149"/>
                        </a:lnTo>
                        <a:lnTo>
                          <a:pt x="174" y="1149"/>
                        </a:lnTo>
                        <a:lnTo>
                          <a:pt x="174" y="1149"/>
                        </a:lnTo>
                        <a:lnTo>
                          <a:pt x="203" y="1149"/>
                        </a:lnTo>
                        <a:lnTo>
                          <a:pt x="203" y="1149"/>
                        </a:lnTo>
                        <a:lnTo>
                          <a:pt x="235" y="1149"/>
                        </a:lnTo>
                        <a:lnTo>
                          <a:pt x="235" y="1149"/>
                        </a:lnTo>
                        <a:lnTo>
                          <a:pt x="235" y="1149"/>
                        </a:lnTo>
                        <a:lnTo>
                          <a:pt x="260" y="1152"/>
                        </a:lnTo>
                        <a:lnTo>
                          <a:pt x="260" y="1152"/>
                        </a:lnTo>
                        <a:lnTo>
                          <a:pt x="292" y="1152"/>
                        </a:lnTo>
                        <a:lnTo>
                          <a:pt x="292" y="1152"/>
                        </a:lnTo>
                        <a:lnTo>
                          <a:pt x="320" y="1152"/>
                        </a:lnTo>
                        <a:lnTo>
                          <a:pt x="320" y="1152"/>
                        </a:lnTo>
                        <a:lnTo>
                          <a:pt x="320" y="1152"/>
                        </a:lnTo>
                        <a:lnTo>
                          <a:pt x="349" y="1152"/>
                        </a:lnTo>
                        <a:lnTo>
                          <a:pt x="349" y="1152"/>
                        </a:lnTo>
                        <a:lnTo>
                          <a:pt x="377" y="1152"/>
                        </a:lnTo>
                        <a:lnTo>
                          <a:pt x="377" y="1152"/>
                        </a:lnTo>
                        <a:lnTo>
                          <a:pt x="377" y="1152"/>
                        </a:lnTo>
                        <a:lnTo>
                          <a:pt x="409" y="1149"/>
                        </a:lnTo>
                        <a:lnTo>
                          <a:pt x="409" y="1149"/>
                        </a:lnTo>
                        <a:lnTo>
                          <a:pt x="438" y="1149"/>
                        </a:lnTo>
                        <a:lnTo>
                          <a:pt x="438" y="1149"/>
                        </a:lnTo>
                        <a:lnTo>
                          <a:pt x="438" y="1149"/>
                        </a:lnTo>
                        <a:lnTo>
                          <a:pt x="470" y="1149"/>
                        </a:lnTo>
                        <a:lnTo>
                          <a:pt x="470" y="1149"/>
                        </a:lnTo>
                        <a:lnTo>
                          <a:pt x="495" y="1149"/>
                        </a:lnTo>
                        <a:lnTo>
                          <a:pt x="495" y="1149"/>
                        </a:lnTo>
                        <a:lnTo>
                          <a:pt x="495" y="1149"/>
                        </a:lnTo>
                        <a:lnTo>
                          <a:pt x="527" y="1145"/>
                        </a:lnTo>
                        <a:lnTo>
                          <a:pt x="527" y="1145"/>
                        </a:lnTo>
                        <a:lnTo>
                          <a:pt x="555" y="1142"/>
                        </a:lnTo>
                        <a:lnTo>
                          <a:pt x="555" y="1142"/>
                        </a:lnTo>
                        <a:lnTo>
                          <a:pt x="555" y="1142"/>
                        </a:lnTo>
                        <a:lnTo>
                          <a:pt x="584" y="1142"/>
                        </a:lnTo>
                        <a:lnTo>
                          <a:pt x="584" y="1142"/>
                        </a:lnTo>
                        <a:lnTo>
                          <a:pt x="612" y="1142"/>
                        </a:lnTo>
                        <a:lnTo>
                          <a:pt x="612" y="1142"/>
                        </a:lnTo>
                        <a:lnTo>
                          <a:pt x="612" y="1142"/>
                        </a:lnTo>
                        <a:lnTo>
                          <a:pt x="644" y="1138"/>
                        </a:lnTo>
                        <a:lnTo>
                          <a:pt x="644" y="1138"/>
                        </a:lnTo>
                        <a:lnTo>
                          <a:pt x="669" y="1135"/>
                        </a:lnTo>
                        <a:lnTo>
                          <a:pt x="669" y="1135"/>
                        </a:lnTo>
                        <a:lnTo>
                          <a:pt x="669" y="1135"/>
                        </a:lnTo>
                        <a:lnTo>
                          <a:pt x="698" y="1131"/>
                        </a:lnTo>
                        <a:lnTo>
                          <a:pt x="698" y="1131"/>
                        </a:lnTo>
                        <a:lnTo>
                          <a:pt x="726" y="1131"/>
                        </a:lnTo>
                        <a:lnTo>
                          <a:pt x="726" y="1131"/>
                        </a:lnTo>
                        <a:lnTo>
                          <a:pt x="726" y="1131"/>
                        </a:lnTo>
                        <a:lnTo>
                          <a:pt x="758" y="1127"/>
                        </a:lnTo>
                        <a:lnTo>
                          <a:pt x="758" y="1127"/>
                        </a:lnTo>
                        <a:lnTo>
                          <a:pt x="783" y="1124"/>
                        </a:lnTo>
                        <a:lnTo>
                          <a:pt x="783" y="1124"/>
                        </a:lnTo>
                        <a:lnTo>
                          <a:pt x="783" y="1124"/>
                        </a:lnTo>
                        <a:lnTo>
                          <a:pt x="815" y="1120"/>
                        </a:lnTo>
                        <a:lnTo>
                          <a:pt x="815" y="1120"/>
                        </a:lnTo>
                        <a:lnTo>
                          <a:pt x="840" y="1117"/>
                        </a:lnTo>
                        <a:lnTo>
                          <a:pt x="840" y="1117"/>
                        </a:lnTo>
                        <a:lnTo>
                          <a:pt x="840" y="1117"/>
                        </a:lnTo>
                        <a:lnTo>
                          <a:pt x="869" y="1110"/>
                        </a:lnTo>
                        <a:lnTo>
                          <a:pt x="869" y="1110"/>
                        </a:lnTo>
                        <a:lnTo>
                          <a:pt x="897" y="1106"/>
                        </a:lnTo>
                        <a:lnTo>
                          <a:pt x="897" y="1106"/>
                        </a:lnTo>
                        <a:lnTo>
                          <a:pt x="922" y="1103"/>
                        </a:lnTo>
                        <a:lnTo>
                          <a:pt x="922" y="1103"/>
                        </a:lnTo>
                        <a:lnTo>
                          <a:pt x="922" y="1103"/>
                        </a:lnTo>
                        <a:lnTo>
                          <a:pt x="951" y="1099"/>
                        </a:lnTo>
                        <a:lnTo>
                          <a:pt x="951" y="1099"/>
                        </a:lnTo>
                        <a:lnTo>
                          <a:pt x="979" y="1095"/>
                        </a:lnTo>
                        <a:lnTo>
                          <a:pt x="979" y="1095"/>
                        </a:lnTo>
                        <a:lnTo>
                          <a:pt x="979" y="1095"/>
                        </a:lnTo>
                        <a:lnTo>
                          <a:pt x="1005" y="1088"/>
                        </a:lnTo>
                        <a:lnTo>
                          <a:pt x="1005" y="1088"/>
                        </a:lnTo>
                        <a:lnTo>
                          <a:pt x="1034" y="1085"/>
                        </a:lnTo>
                        <a:lnTo>
                          <a:pt x="1034" y="1085"/>
                        </a:lnTo>
                        <a:lnTo>
                          <a:pt x="1034" y="1085"/>
                        </a:lnTo>
                        <a:lnTo>
                          <a:pt x="1059" y="1078"/>
                        </a:lnTo>
                        <a:lnTo>
                          <a:pt x="1059" y="1078"/>
                        </a:lnTo>
                        <a:lnTo>
                          <a:pt x="1083" y="1074"/>
                        </a:lnTo>
                        <a:lnTo>
                          <a:pt x="1083" y="1074"/>
                        </a:lnTo>
                        <a:lnTo>
                          <a:pt x="1083" y="1074"/>
                        </a:lnTo>
                        <a:lnTo>
                          <a:pt x="1112" y="1067"/>
                        </a:lnTo>
                        <a:lnTo>
                          <a:pt x="1112" y="1067"/>
                        </a:lnTo>
                        <a:lnTo>
                          <a:pt x="1137" y="1060"/>
                        </a:lnTo>
                        <a:lnTo>
                          <a:pt x="1137" y="1060"/>
                        </a:lnTo>
                        <a:lnTo>
                          <a:pt x="1137" y="1060"/>
                        </a:lnTo>
                        <a:lnTo>
                          <a:pt x="1162" y="1056"/>
                        </a:lnTo>
                        <a:lnTo>
                          <a:pt x="1162" y="1056"/>
                        </a:lnTo>
                        <a:lnTo>
                          <a:pt x="1187" y="1049"/>
                        </a:lnTo>
                        <a:lnTo>
                          <a:pt x="1187" y="1049"/>
                        </a:lnTo>
                        <a:lnTo>
                          <a:pt x="1187" y="1049"/>
                        </a:lnTo>
                        <a:lnTo>
                          <a:pt x="1215" y="1042"/>
                        </a:lnTo>
                        <a:lnTo>
                          <a:pt x="1215" y="1042"/>
                        </a:lnTo>
                        <a:lnTo>
                          <a:pt x="1237" y="1035"/>
                        </a:lnTo>
                        <a:lnTo>
                          <a:pt x="1237" y="1035"/>
                        </a:lnTo>
                        <a:lnTo>
                          <a:pt x="1237" y="1035"/>
                        </a:lnTo>
                        <a:lnTo>
                          <a:pt x="1262" y="1028"/>
                        </a:lnTo>
                        <a:lnTo>
                          <a:pt x="1262" y="1028"/>
                        </a:lnTo>
                        <a:lnTo>
                          <a:pt x="1286" y="1024"/>
                        </a:lnTo>
                        <a:lnTo>
                          <a:pt x="1286" y="1024"/>
                        </a:lnTo>
                        <a:lnTo>
                          <a:pt x="1286" y="1024"/>
                        </a:lnTo>
                        <a:lnTo>
                          <a:pt x="1308" y="1017"/>
                        </a:lnTo>
                        <a:lnTo>
                          <a:pt x="1308" y="1017"/>
                        </a:lnTo>
                        <a:lnTo>
                          <a:pt x="1333" y="1006"/>
                        </a:lnTo>
                        <a:lnTo>
                          <a:pt x="1333" y="1006"/>
                        </a:lnTo>
                        <a:lnTo>
                          <a:pt x="1333" y="1006"/>
                        </a:lnTo>
                        <a:lnTo>
                          <a:pt x="1358" y="999"/>
                        </a:lnTo>
                        <a:lnTo>
                          <a:pt x="1358" y="999"/>
                        </a:lnTo>
                        <a:lnTo>
                          <a:pt x="1379" y="992"/>
                        </a:lnTo>
                        <a:lnTo>
                          <a:pt x="1379" y="992"/>
                        </a:lnTo>
                        <a:lnTo>
                          <a:pt x="1379" y="992"/>
                        </a:lnTo>
                        <a:lnTo>
                          <a:pt x="1400" y="985"/>
                        </a:lnTo>
                        <a:lnTo>
                          <a:pt x="1400" y="985"/>
                        </a:lnTo>
                        <a:lnTo>
                          <a:pt x="1425" y="974"/>
                        </a:lnTo>
                        <a:lnTo>
                          <a:pt x="1425" y="974"/>
                        </a:lnTo>
                        <a:lnTo>
                          <a:pt x="1443" y="967"/>
                        </a:lnTo>
                        <a:lnTo>
                          <a:pt x="1443" y="967"/>
                        </a:lnTo>
                        <a:lnTo>
                          <a:pt x="1443" y="967"/>
                        </a:lnTo>
                        <a:lnTo>
                          <a:pt x="1468" y="960"/>
                        </a:lnTo>
                        <a:lnTo>
                          <a:pt x="1468" y="960"/>
                        </a:lnTo>
                        <a:lnTo>
                          <a:pt x="1490" y="953"/>
                        </a:lnTo>
                        <a:lnTo>
                          <a:pt x="1490" y="953"/>
                        </a:lnTo>
                        <a:lnTo>
                          <a:pt x="1490" y="953"/>
                        </a:lnTo>
                        <a:lnTo>
                          <a:pt x="1511" y="942"/>
                        </a:lnTo>
                        <a:lnTo>
                          <a:pt x="1511" y="942"/>
                        </a:lnTo>
                        <a:lnTo>
                          <a:pt x="1532" y="932"/>
                        </a:lnTo>
                        <a:lnTo>
                          <a:pt x="1532" y="932"/>
                        </a:lnTo>
                        <a:lnTo>
                          <a:pt x="1532" y="932"/>
                        </a:lnTo>
                        <a:lnTo>
                          <a:pt x="1554" y="924"/>
                        </a:lnTo>
                        <a:lnTo>
                          <a:pt x="1554" y="924"/>
                        </a:lnTo>
                        <a:lnTo>
                          <a:pt x="1571" y="914"/>
                        </a:lnTo>
                        <a:lnTo>
                          <a:pt x="1571" y="914"/>
                        </a:lnTo>
                        <a:lnTo>
                          <a:pt x="1571" y="914"/>
                        </a:lnTo>
                        <a:lnTo>
                          <a:pt x="1589" y="907"/>
                        </a:lnTo>
                        <a:lnTo>
                          <a:pt x="1589" y="907"/>
                        </a:lnTo>
                        <a:lnTo>
                          <a:pt x="1611" y="896"/>
                        </a:lnTo>
                        <a:lnTo>
                          <a:pt x="1611" y="896"/>
                        </a:lnTo>
                        <a:lnTo>
                          <a:pt x="1611" y="896"/>
                        </a:lnTo>
                        <a:lnTo>
                          <a:pt x="1628" y="885"/>
                        </a:lnTo>
                        <a:lnTo>
                          <a:pt x="1628" y="885"/>
                        </a:lnTo>
                        <a:lnTo>
                          <a:pt x="1646" y="875"/>
                        </a:lnTo>
                        <a:lnTo>
                          <a:pt x="1646" y="875"/>
                        </a:lnTo>
                        <a:lnTo>
                          <a:pt x="1646" y="875"/>
                        </a:lnTo>
                        <a:lnTo>
                          <a:pt x="1664" y="867"/>
                        </a:lnTo>
                        <a:lnTo>
                          <a:pt x="1664" y="867"/>
                        </a:lnTo>
                        <a:lnTo>
                          <a:pt x="1678" y="856"/>
                        </a:lnTo>
                        <a:lnTo>
                          <a:pt x="1678" y="856"/>
                        </a:lnTo>
                        <a:lnTo>
                          <a:pt x="1678" y="856"/>
                        </a:lnTo>
                        <a:lnTo>
                          <a:pt x="1700" y="845"/>
                        </a:lnTo>
                        <a:lnTo>
                          <a:pt x="1700" y="845"/>
                        </a:lnTo>
                        <a:lnTo>
                          <a:pt x="1718" y="834"/>
                        </a:lnTo>
                        <a:lnTo>
                          <a:pt x="1718" y="834"/>
                        </a:lnTo>
                        <a:lnTo>
                          <a:pt x="1718" y="834"/>
                        </a:lnTo>
                        <a:lnTo>
                          <a:pt x="1728" y="824"/>
                        </a:lnTo>
                        <a:lnTo>
                          <a:pt x="1728" y="824"/>
                        </a:lnTo>
                        <a:lnTo>
                          <a:pt x="1746" y="813"/>
                        </a:lnTo>
                        <a:lnTo>
                          <a:pt x="1746" y="813"/>
                        </a:lnTo>
                        <a:lnTo>
                          <a:pt x="1746" y="813"/>
                        </a:lnTo>
                        <a:lnTo>
                          <a:pt x="1764" y="802"/>
                        </a:lnTo>
                        <a:lnTo>
                          <a:pt x="1764" y="802"/>
                        </a:lnTo>
                        <a:lnTo>
                          <a:pt x="1778" y="792"/>
                        </a:lnTo>
                        <a:lnTo>
                          <a:pt x="1778" y="792"/>
                        </a:lnTo>
                        <a:lnTo>
                          <a:pt x="1789" y="781"/>
                        </a:lnTo>
                        <a:lnTo>
                          <a:pt x="1789" y="781"/>
                        </a:lnTo>
                        <a:lnTo>
                          <a:pt x="1789" y="781"/>
                        </a:lnTo>
                        <a:lnTo>
                          <a:pt x="1807" y="774"/>
                        </a:lnTo>
                        <a:lnTo>
                          <a:pt x="1807" y="774"/>
                        </a:lnTo>
                        <a:lnTo>
                          <a:pt x="1821" y="759"/>
                        </a:lnTo>
                        <a:lnTo>
                          <a:pt x="1821" y="759"/>
                        </a:lnTo>
                        <a:lnTo>
                          <a:pt x="1821" y="759"/>
                        </a:lnTo>
                        <a:lnTo>
                          <a:pt x="1832" y="749"/>
                        </a:lnTo>
                        <a:lnTo>
                          <a:pt x="1832" y="749"/>
                        </a:lnTo>
                        <a:lnTo>
                          <a:pt x="1846" y="738"/>
                        </a:lnTo>
                        <a:lnTo>
                          <a:pt x="1846" y="738"/>
                        </a:lnTo>
                        <a:lnTo>
                          <a:pt x="1846" y="738"/>
                        </a:lnTo>
                        <a:lnTo>
                          <a:pt x="1856" y="727"/>
                        </a:lnTo>
                        <a:lnTo>
                          <a:pt x="1856" y="727"/>
                        </a:lnTo>
                        <a:lnTo>
                          <a:pt x="1867" y="717"/>
                        </a:lnTo>
                        <a:lnTo>
                          <a:pt x="1867" y="717"/>
                        </a:lnTo>
                        <a:lnTo>
                          <a:pt x="1867" y="717"/>
                        </a:lnTo>
                        <a:lnTo>
                          <a:pt x="1881" y="702"/>
                        </a:lnTo>
                        <a:lnTo>
                          <a:pt x="1881" y="702"/>
                        </a:lnTo>
                        <a:lnTo>
                          <a:pt x="1892" y="692"/>
                        </a:lnTo>
                        <a:lnTo>
                          <a:pt x="1892" y="692"/>
                        </a:lnTo>
                        <a:lnTo>
                          <a:pt x="1892" y="692"/>
                        </a:lnTo>
                        <a:lnTo>
                          <a:pt x="1903" y="681"/>
                        </a:lnTo>
                        <a:lnTo>
                          <a:pt x="1903" y="681"/>
                        </a:lnTo>
                        <a:lnTo>
                          <a:pt x="1910" y="667"/>
                        </a:lnTo>
                        <a:lnTo>
                          <a:pt x="1910" y="667"/>
                        </a:lnTo>
                        <a:lnTo>
                          <a:pt x="1910" y="667"/>
                        </a:lnTo>
                        <a:lnTo>
                          <a:pt x="1921" y="656"/>
                        </a:lnTo>
                        <a:lnTo>
                          <a:pt x="1921" y="656"/>
                        </a:lnTo>
                        <a:lnTo>
                          <a:pt x="1928" y="645"/>
                        </a:lnTo>
                        <a:lnTo>
                          <a:pt x="1928" y="645"/>
                        </a:lnTo>
                        <a:lnTo>
                          <a:pt x="1928" y="645"/>
                        </a:lnTo>
                        <a:lnTo>
                          <a:pt x="1938" y="635"/>
                        </a:lnTo>
                        <a:lnTo>
                          <a:pt x="1938" y="635"/>
                        </a:lnTo>
                        <a:lnTo>
                          <a:pt x="1946" y="621"/>
                        </a:lnTo>
                        <a:lnTo>
                          <a:pt x="1946" y="621"/>
                        </a:lnTo>
                        <a:lnTo>
                          <a:pt x="1946" y="621"/>
                        </a:lnTo>
                        <a:lnTo>
                          <a:pt x="1953" y="610"/>
                        </a:lnTo>
                        <a:lnTo>
                          <a:pt x="1953" y="610"/>
                        </a:lnTo>
                        <a:lnTo>
                          <a:pt x="1960" y="596"/>
                        </a:lnTo>
                        <a:lnTo>
                          <a:pt x="1960" y="596"/>
                        </a:lnTo>
                        <a:lnTo>
                          <a:pt x="1960" y="596"/>
                        </a:lnTo>
                        <a:lnTo>
                          <a:pt x="1963" y="585"/>
                        </a:lnTo>
                        <a:lnTo>
                          <a:pt x="1963" y="585"/>
                        </a:lnTo>
                        <a:lnTo>
                          <a:pt x="1970" y="574"/>
                        </a:lnTo>
                        <a:lnTo>
                          <a:pt x="1970" y="574"/>
                        </a:lnTo>
                        <a:lnTo>
                          <a:pt x="1970" y="574"/>
                        </a:lnTo>
                        <a:lnTo>
                          <a:pt x="1974" y="563"/>
                        </a:lnTo>
                        <a:lnTo>
                          <a:pt x="1974" y="563"/>
                        </a:lnTo>
                        <a:lnTo>
                          <a:pt x="1981" y="549"/>
                        </a:lnTo>
                        <a:lnTo>
                          <a:pt x="1981" y="549"/>
                        </a:lnTo>
                        <a:lnTo>
                          <a:pt x="1988" y="535"/>
                        </a:lnTo>
                        <a:lnTo>
                          <a:pt x="1988" y="535"/>
                        </a:lnTo>
                        <a:lnTo>
                          <a:pt x="1988" y="535"/>
                        </a:lnTo>
                        <a:lnTo>
                          <a:pt x="1992" y="524"/>
                        </a:lnTo>
                        <a:lnTo>
                          <a:pt x="1992" y="524"/>
                        </a:lnTo>
                        <a:lnTo>
                          <a:pt x="1992" y="514"/>
                        </a:lnTo>
                        <a:lnTo>
                          <a:pt x="1992" y="514"/>
                        </a:lnTo>
                        <a:lnTo>
                          <a:pt x="1992" y="514"/>
                        </a:lnTo>
                        <a:lnTo>
                          <a:pt x="1999" y="499"/>
                        </a:lnTo>
                        <a:lnTo>
                          <a:pt x="1999" y="499"/>
                        </a:lnTo>
                        <a:lnTo>
                          <a:pt x="1999" y="485"/>
                        </a:lnTo>
                        <a:lnTo>
                          <a:pt x="1999" y="485"/>
                        </a:lnTo>
                        <a:lnTo>
                          <a:pt x="1999" y="485"/>
                        </a:lnTo>
                        <a:lnTo>
                          <a:pt x="2003" y="474"/>
                        </a:lnTo>
                        <a:lnTo>
                          <a:pt x="2003" y="474"/>
                        </a:lnTo>
                        <a:lnTo>
                          <a:pt x="2003" y="460"/>
                        </a:lnTo>
                        <a:lnTo>
                          <a:pt x="2003" y="460"/>
                        </a:lnTo>
                        <a:lnTo>
                          <a:pt x="2003" y="460"/>
                        </a:lnTo>
                        <a:lnTo>
                          <a:pt x="2003" y="449"/>
                        </a:lnTo>
                        <a:lnTo>
                          <a:pt x="2003" y="449"/>
                        </a:lnTo>
                        <a:lnTo>
                          <a:pt x="2003" y="435"/>
                        </a:lnTo>
                        <a:lnTo>
                          <a:pt x="2003" y="435"/>
                        </a:lnTo>
                        <a:lnTo>
                          <a:pt x="2003" y="0"/>
                        </a:lnTo>
                        <a:close/>
                      </a:path>
                    </a:pathLst>
                  </a:custGeom>
                  <a:solidFill>
                    <a:srgbClr val="007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066080" y="4243320"/>
                    <a:ext cx="628920" cy="257400"/>
                  </a:xfrm>
                  <a:custGeom>
                    <a:avLst/>
                    <a:gdLst/>
                    <a:ahLst/>
                    <a:rect l="0" t="0" r="r" b="b"/>
                    <a:pathLst>
                      <a:path w="1747" h="715">
                        <a:moveTo>
                          <a:pt x="0" y="529"/>
                        </a:moveTo>
                        <a:lnTo>
                          <a:pt x="0" y="529"/>
                        </a:lnTo>
                        <a:lnTo>
                          <a:pt x="7" y="518"/>
                        </a:lnTo>
                        <a:lnTo>
                          <a:pt x="7" y="518"/>
                        </a:lnTo>
                        <a:lnTo>
                          <a:pt x="7" y="518"/>
                        </a:lnTo>
                        <a:lnTo>
                          <a:pt x="14" y="504"/>
                        </a:lnTo>
                        <a:lnTo>
                          <a:pt x="14" y="504"/>
                        </a:lnTo>
                        <a:lnTo>
                          <a:pt x="14" y="504"/>
                        </a:lnTo>
                        <a:lnTo>
                          <a:pt x="24" y="493"/>
                        </a:lnTo>
                        <a:lnTo>
                          <a:pt x="24" y="493"/>
                        </a:lnTo>
                        <a:lnTo>
                          <a:pt x="24" y="493"/>
                        </a:lnTo>
                        <a:lnTo>
                          <a:pt x="35" y="483"/>
                        </a:lnTo>
                        <a:lnTo>
                          <a:pt x="35" y="483"/>
                        </a:lnTo>
                        <a:lnTo>
                          <a:pt x="35" y="483"/>
                        </a:lnTo>
                        <a:lnTo>
                          <a:pt x="46" y="468"/>
                        </a:lnTo>
                        <a:lnTo>
                          <a:pt x="46" y="468"/>
                        </a:lnTo>
                        <a:lnTo>
                          <a:pt x="46" y="468"/>
                        </a:lnTo>
                        <a:lnTo>
                          <a:pt x="53" y="458"/>
                        </a:lnTo>
                        <a:lnTo>
                          <a:pt x="53" y="458"/>
                        </a:lnTo>
                        <a:lnTo>
                          <a:pt x="53" y="458"/>
                        </a:lnTo>
                        <a:lnTo>
                          <a:pt x="64" y="447"/>
                        </a:lnTo>
                        <a:lnTo>
                          <a:pt x="64" y="447"/>
                        </a:lnTo>
                        <a:lnTo>
                          <a:pt x="64" y="447"/>
                        </a:lnTo>
                        <a:lnTo>
                          <a:pt x="74" y="436"/>
                        </a:lnTo>
                        <a:lnTo>
                          <a:pt x="74" y="436"/>
                        </a:lnTo>
                        <a:lnTo>
                          <a:pt x="74" y="436"/>
                        </a:lnTo>
                        <a:lnTo>
                          <a:pt x="89" y="422"/>
                        </a:lnTo>
                        <a:lnTo>
                          <a:pt x="89" y="422"/>
                        </a:lnTo>
                        <a:lnTo>
                          <a:pt x="89" y="422"/>
                        </a:lnTo>
                        <a:lnTo>
                          <a:pt x="99" y="415"/>
                        </a:lnTo>
                        <a:lnTo>
                          <a:pt x="99" y="415"/>
                        </a:lnTo>
                        <a:lnTo>
                          <a:pt x="99" y="415"/>
                        </a:lnTo>
                        <a:lnTo>
                          <a:pt x="114" y="404"/>
                        </a:lnTo>
                        <a:lnTo>
                          <a:pt x="114" y="404"/>
                        </a:lnTo>
                        <a:lnTo>
                          <a:pt x="114" y="404"/>
                        </a:lnTo>
                        <a:lnTo>
                          <a:pt x="124" y="390"/>
                        </a:lnTo>
                        <a:lnTo>
                          <a:pt x="124" y="390"/>
                        </a:lnTo>
                        <a:lnTo>
                          <a:pt x="124" y="390"/>
                        </a:lnTo>
                        <a:lnTo>
                          <a:pt x="139" y="379"/>
                        </a:lnTo>
                        <a:lnTo>
                          <a:pt x="139" y="379"/>
                        </a:lnTo>
                        <a:lnTo>
                          <a:pt x="139" y="379"/>
                        </a:lnTo>
                        <a:lnTo>
                          <a:pt x="153" y="368"/>
                        </a:lnTo>
                        <a:lnTo>
                          <a:pt x="153" y="368"/>
                        </a:lnTo>
                        <a:lnTo>
                          <a:pt x="153" y="368"/>
                        </a:lnTo>
                        <a:lnTo>
                          <a:pt x="167" y="353"/>
                        </a:lnTo>
                        <a:lnTo>
                          <a:pt x="167" y="353"/>
                        </a:lnTo>
                        <a:lnTo>
                          <a:pt x="167" y="353"/>
                        </a:lnTo>
                        <a:lnTo>
                          <a:pt x="182" y="346"/>
                        </a:lnTo>
                        <a:lnTo>
                          <a:pt x="182" y="346"/>
                        </a:lnTo>
                        <a:lnTo>
                          <a:pt x="182" y="346"/>
                        </a:lnTo>
                        <a:lnTo>
                          <a:pt x="199" y="335"/>
                        </a:lnTo>
                        <a:lnTo>
                          <a:pt x="199" y="335"/>
                        </a:lnTo>
                        <a:lnTo>
                          <a:pt x="199" y="335"/>
                        </a:lnTo>
                        <a:lnTo>
                          <a:pt x="214" y="325"/>
                        </a:lnTo>
                        <a:lnTo>
                          <a:pt x="214" y="325"/>
                        </a:lnTo>
                        <a:lnTo>
                          <a:pt x="214" y="325"/>
                        </a:lnTo>
                        <a:lnTo>
                          <a:pt x="228" y="314"/>
                        </a:lnTo>
                        <a:lnTo>
                          <a:pt x="228" y="314"/>
                        </a:lnTo>
                        <a:lnTo>
                          <a:pt x="228" y="314"/>
                        </a:lnTo>
                        <a:lnTo>
                          <a:pt x="246" y="303"/>
                        </a:lnTo>
                        <a:lnTo>
                          <a:pt x="246" y="303"/>
                        </a:lnTo>
                        <a:lnTo>
                          <a:pt x="246" y="303"/>
                        </a:lnTo>
                        <a:lnTo>
                          <a:pt x="264" y="292"/>
                        </a:lnTo>
                        <a:lnTo>
                          <a:pt x="264" y="292"/>
                        </a:lnTo>
                        <a:lnTo>
                          <a:pt x="264" y="292"/>
                        </a:lnTo>
                        <a:lnTo>
                          <a:pt x="282" y="285"/>
                        </a:lnTo>
                        <a:lnTo>
                          <a:pt x="282" y="285"/>
                        </a:lnTo>
                        <a:lnTo>
                          <a:pt x="282" y="285"/>
                        </a:lnTo>
                        <a:lnTo>
                          <a:pt x="299" y="275"/>
                        </a:lnTo>
                        <a:lnTo>
                          <a:pt x="299" y="275"/>
                        </a:lnTo>
                        <a:lnTo>
                          <a:pt x="299" y="275"/>
                        </a:lnTo>
                        <a:lnTo>
                          <a:pt x="317" y="264"/>
                        </a:lnTo>
                        <a:lnTo>
                          <a:pt x="317" y="264"/>
                        </a:lnTo>
                        <a:lnTo>
                          <a:pt x="317" y="264"/>
                        </a:lnTo>
                        <a:lnTo>
                          <a:pt x="335" y="257"/>
                        </a:lnTo>
                        <a:lnTo>
                          <a:pt x="335" y="257"/>
                        </a:lnTo>
                        <a:lnTo>
                          <a:pt x="335" y="257"/>
                        </a:lnTo>
                        <a:lnTo>
                          <a:pt x="357" y="242"/>
                        </a:lnTo>
                        <a:lnTo>
                          <a:pt x="357" y="242"/>
                        </a:lnTo>
                        <a:lnTo>
                          <a:pt x="357" y="242"/>
                        </a:lnTo>
                        <a:lnTo>
                          <a:pt x="374" y="235"/>
                        </a:lnTo>
                        <a:lnTo>
                          <a:pt x="374" y="235"/>
                        </a:lnTo>
                        <a:lnTo>
                          <a:pt x="374" y="235"/>
                        </a:lnTo>
                        <a:lnTo>
                          <a:pt x="396" y="228"/>
                        </a:lnTo>
                        <a:lnTo>
                          <a:pt x="396" y="228"/>
                        </a:lnTo>
                        <a:lnTo>
                          <a:pt x="396" y="228"/>
                        </a:lnTo>
                        <a:lnTo>
                          <a:pt x="417" y="217"/>
                        </a:lnTo>
                        <a:lnTo>
                          <a:pt x="417" y="217"/>
                        </a:lnTo>
                        <a:lnTo>
                          <a:pt x="417" y="217"/>
                        </a:lnTo>
                        <a:lnTo>
                          <a:pt x="439" y="210"/>
                        </a:lnTo>
                        <a:lnTo>
                          <a:pt x="439" y="210"/>
                        </a:lnTo>
                        <a:lnTo>
                          <a:pt x="439" y="210"/>
                        </a:lnTo>
                        <a:lnTo>
                          <a:pt x="457" y="200"/>
                        </a:lnTo>
                        <a:lnTo>
                          <a:pt x="457" y="200"/>
                        </a:lnTo>
                        <a:lnTo>
                          <a:pt x="457" y="200"/>
                        </a:lnTo>
                        <a:lnTo>
                          <a:pt x="478" y="189"/>
                        </a:lnTo>
                        <a:lnTo>
                          <a:pt x="478" y="189"/>
                        </a:lnTo>
                        <a:lnTo>
                          <a:pt x="478" y="189"/>
                        </a:lnTo>
                        <a:lnTo>
                          <a:pt x="499" y="182"/>
                        </a:lnTo>
                        <a:lnTo>
                          <a:pt x="499" y="182"/>
                        </a:lnTo>
                        <a:lnTo>
                          <a:pt x="499" y="182"/>
                        </a:lnTo>
                        <a:lnTo>
                          <a:pt x="521" y="175"/>
                        </a:lnTo>
                        <a:lnTo>
                          <a:pt x="521" y="175"/>
                        </a:lnTo>
                        <a:lnTo>
                          <a:pt x="521" y="175"/>
                        </a:lnTo>
                        <a:lnTo>
                          <a:pt x="546" y="167"/>
                        </a:lnTo>
                        <a:lnTo>
                          <a:pt x="546" y="167"/>
                        </a:lnTo>
                        <a:lnTo>
                          <a:pt x="546" y="167"/>
                        </a:lnTo>
                        <a:lnTo>
                          <a:pt x="564" y="160"/>
                        </a:lnTo>
                        <a:lnTo>
                          <a:pt x="564" y="160"/>
                        </a:lnTo>
                        <a:lnTo>
                          <a:pt x="564" y="160"/>
                        </a:lnTo>
                        <a:lnTo>
                          <a:pt x="589" y="150"/>
                        </a:lnTo>
                        <a:lnTo>
                          <a:pt x="589" y="150"/>
                        </a:lnTo>
                        <a:lnTo>
                          <a:pt x="589" y="150"/>
                        </a:lnTo>
                        <a:lnTo>
                          <a:pt x="614" y="146"/>
                        </a:lnTo>
                        <a:lnTo>
                          <a:pt x="614" y="146"/>
                        </a:lnTo>
                        <a:lnTo>
                          <a:pt x="614" y="146"/>
                        </a:lnTo>
                        <a:lnTo>
                          <a:pt x="635" y="135"/>
                        </a:lnTo>
                        <a:lnTo>
                          <a:pt x="635" y="135"/>
                        </a:lnTo>
                        <a:lnTo>
                          <a:pt x="635" y="135"/>
                        </a:lnTo>
                        <a:lnTo>
                          <a:pt x="664" y="128"/>
                        </a:lnTo>
                        <a:lnTo>
                          <a:pt x="664" y="128"/>
                        </a:lnTo>
                        <a:lnTo>
                          <a:pt x="664" y="128"/>
                        </a:lnTo>
                        <a:lnTo>
                          <a:pt x="685" y="121"/>
                        </a:lnTo>
                        <a:lnTo>
                          <a:pt x="685" y="121"/>
                        </a:lnTo>
                        <a:lnTo>
                          <a:pt x="685" y="121"/>
                        </a:lnTo>
                        <a:lnTo>
                          <a:pt x="710" y="114"/>
                        </a:lnTo>
                        <a:lnTo>
                          <a:pt x="710" y="114"/>
                        </a:lnTo>
                        <a:lnTo>
                          <a:pt x="710" y="114"/>
                        </a:lnTo>
                        <a:lnTo>
                          <a:pt x="735" y="107"/>
                        </a:lnTo>
                        <a:lnTo>
                          <a:pt x="735" y="107"/>
                        </a:lnTo>
                        <a:lnTo>
                          <a:pt x="735" y="107"/>
                        </a:lnTo>
                        <a:lnTo>
                          <a:pt x="760" y="103"/>
                        </a:lnTo>
                        <a:lnTo>
                          <a:pt x="760" y="103"/>
                        </a:lnTo>
                        <a:lnTo>
                          <a:pt x="760" y="103"/>
                        </a:lnTo>
                        <a:lnTo>
                          <a:pt x="785" y="96"/>
                        </a:lnTo>
                        <a:lnTo>
                          <a:pt x="785" y="96"/>
                        </a:lnTo>
                        <a:lnTo>
                          <a:pt x="785" y="96"/>
                        </a:lnTo>
                        <a:lnTo>
                          <a:pt x="810" y="89"/>
                        </a:lnTo>
                        <a:lnTo>
                          <a:pt x="810" y="89"/>
                        </a:lnTo>
                        <a:lnTo>
                          <a:pt x="810" y="89"/>
                        </a:lnTo>
                        <a:lnTo>
                          <a:pt x="839" y="85"/>
                        </a:lnTo>
                        <a:lnTo>
                          <a:pt x="839" y="85"/>
                        </a:lnTo>
                        <a:lnTo>
                          <a:pt x="839" y="85"/>
                        </a:lnTo>
                        <a:lnTo>
                          <a:pt x="860" y="78"/>
                        </a:lnTo>
                        <a:lnTo>
                          <a:pt x="860" y="78"/>
                        </a:lnTo>
                        <a:lnTo>
                          <a:pt x="860" y="78"/>
                        </a:lnTo>
                        <a:lnTo>
                          <a:pt x="890" y="71"/>
                        </a:lnTo>
                        <a:lnTo>
                          <a:pt x="890" y="71"/>
                        </a:lnTo>
                        <a:lnTo>
                          <a:pt x="890" y="71"/>
                        </a:lnTo>
                        <a:lnTo>
                          <a:pt x="918" y="67"/>
                        </a:lnTo>
                        <a:lnTo>
                          <a:pt x="918" y="67"/>
                        </a:lnTo>
                        <a:lnTo>
                          <a:pt x="918" y="67"/>
                        </a:lnTo>
                        <a:lnTo>
                          <a:pt x="943" y="60"/>
                        </a:lnTo>
                        <a:lnTo>
                          <a:pt x="943" y="60"/>
                        </a:lnTo>
                        <a:lnTo>
                          <a:pt x="943" y="60"/>
                        </a:lnTo>
                        <a:lnTo>
                          <a:pt x="968" y="57"/>
                        </a:lnTo>
                        <a:lnTo>
                          <a:pt x="968" y="57"/>
                        </a:lnTo>
                        <a:lnTo>
                          <a:pt x="968" y="57"/>
                        </a:lnTo>
                        <a:lnTo>
                          <a:pt x="997" y="53"/>
                        </a:lnTo>
                        <a:lnTo>
                          <a:pt x="997" y="53"/>
                        </a:lnTo>
                        <a:lnTo>
                          <a:pt x="997" y="53"/>
                        </a:lnTo>
                        <a:lnTo>
                          <a:pt x="1025" y="46"/>
                        </a:lnTo>
                        <a:lnTo>
                          <a:pt x="1025" y="46"/>
                        </a:lnTo>
                        <a:lnTo>
                          <a:pt x="1025" y="46"/>
                        </a:lnTo>
                        <a:lnTo>
                          <a:pt x="1054" y="42"/>
                        </a:lnTo>
                        <a:lnTo>
                          <a:pt x="1054" y="42"/>
                        </a:lnTo>
                        <a:lnTo>
                          <a:pt x="1054" y="42"/>
                        </a:lnTo>
                        <a:lnTo>
                          <a:pt x="1079" y="35"/>
                        </a:lnTo>
                        <a:lnTo>
                          <a:pt x="1079" y="35"/>
                        </a:lnTo>
                        <a:lnTo>
                          <a:pt x="1079" y="35"/>
                        </a:lnTo>
                        <a:lnTo>
                          <a:pt x="1108" y="35"/>
                        </a:lnTo>
                        <a:lnTo>
                          <a:pt x="1108" y="35"/>
                        </a:lnTo>
                        <a:lnTo>
                          <a:pt x="1108" y="35"/>
                        </a:lnTo>
                        <a:lnTo>
                          <a:pt x="1136" y="32"/>
                        </a:lnTo>
                        <a:lnTo>
                          <a:pt x="1136" y="32"/>
                        </a:lnTo>
                        <a:lnTo>
                          <a:pt x="1136" y="32"/>
                        </a:lnTo>
                        <a:lnTo>
                          <a:pt x="1165" y="28"/>
                        </a:lnTo>
                        <a:lnTo>
                          <a:pt x="1165" y="28"/>
                        </a:lnTo>
                        <a:lnTo>
                          <a:pt x="1165" y="28"/>
                        </a:lnTo>
                        <a:lnTo>
                          <a:pt x="1190" y="25"/>
                        </a:lnTo>
                        <a:lnTo>
                          <a:pt x="1190" y="25"/>
                        </a:lnTo>
                        <a:lnTo>
                          <a:pt x="1190" y="25"/>
                        </a:lnTo>
                        <a:lnTo>
                          <a:pt x="1222" y="21"/>
                        </a:lnTo>
                        <a:lnTo>
                          <a:pt x="1222" y="21"/>
                        </a:lnTo>
                        <a:lnTo>
                          <a:pt x="1222" y="21"/>
                        </a:lnTo>
                        <a:lnTo>
                          <a:pt x="1250" y="21"/>
                        </a:lnTo>
                        <a:lnTo>
                          <a:pt x="1250" y="21"/>
                        </a:lnTo>
                        <a:lnTo>
                          <a:pt x="1250" y="21"/>
                        </a:lnTo>
                        <a:lnTo>
                          <a:pt x="1279" y="14"/>
                        </a:lnTo>
                        <a:lnTo>
                          <a:pt x="1279" y="14"/>
                        </a:lnTo>
                        <a:lnTo>
                          <a:pt x="1279" y="14"/>
                        </a:lnTo>
                        <a:lnTo>
                          <a:pt x="1308" y="14"/>
                        </a:lnTo>
                        <a:lnTo>
                          <a:pt x="1308" y="14"/>
                        </a:lnTo>
                        <a:lnTo>
                          <a:pt x="1308" y="14"/>
                        </a:lnTo>
                        <a:lnTo>
                          <a:pt x="1336" y="10"/>
                        </a:lnTo>
                        <a:lnTo>
                          <a:pt x="1336" y="10"/>
                        </a:lnTo>
                        <a:lnTo>
                          <a:pt x="1336" y="10"/>
                        </a:lnTo>
                        <a:lnTo>
                          <a:pt x="1365" y="7"/>
                        </a:lnTo>
                        <a:lnTo>
                          <a:pt x="1365" y="7"/>
                        </a:lnTo>
                        <a:lnTo>
                          <a:pt x="1365" y="7"/>
                        </a:lnTo>
                        <a:lnTo>
                          <a:pt x="1393" y="7"/>
                        </a:lnTo>
                        <a:lnTo>
                          <a:pt x="1393" y="7"/>
                        </a:lnTo>
                        <a:lnTo>
                          <a:pt x="1393" y="7"/>
                        </a:lnTo>
                        <a:lnTo>
                          <a:pt x="1422" y="3"/>
                        </a:lnTo>
                        <a:lnTo>
                          <a:pt x="1422" y="3"/>
                        </a:lnTo>
                        <a:lnTo>
                          <a:pt x="1422" y="3"/>
                        </a:lnTo>
                        <a:lnTo>
                          <a:pt x="1454" y="3"/>
                        </a:lnTo>
                        <a:lnTo>
                          <a:pt x="1454" y="3"/>
                        </a:lnTo>
                        <a:lnTo>
                          <a:pt x="1454" y="3"/>
                        </a:lnTo>
                        <a:lnTo>
                          <a:pt x="1482" y="3"/>
                        </a:lnTo>
                        <a:lnTo>
                          <a:pt x="1482" y="3"/>
                        </a:lnTo>
                        <a:lnTo>
                          <a:pt x="1482" y="3"/>
                        </a:lnTo>
                        <a:lnTo>
                          <a:pt x="1511" y="3"/>
                        </a:lnTo>
                        <a:lnTo>
                          <a:pt x="1511" y="3"/>
                        </a:lnTo>
                        <a:lnTo>
                          <a:pt x="1511" y="3"/>
                        </a:lnTo>
                        <a:lnTo>
                          <a:pt x="1540" y="0"/>
                        </a:lnTo>
                        <a:lnTo>
                          <a:pt x="1540" y="0"/>
                        </a:lnTo>
                        <a:lnTo>
                          <a:pt x="1540" y="0"/>
                        </a:lnTo>
                        <a:lnTo>
                          <a:pt x="1572" y="0"/>
                        </a:lnTo>
                        <a:lnTo>
                          <a:pt x="1572" y="0"/>
                        </a:lnTo>
                        <a:lnTo>
                          <a:pt x="1572" y="0"/>
                        </a:lnTo>
                        <a:lnTo>
                          <a:pt x="1597" y="0"/>
                        </a:lnTo>
                        <a:lnTo>
                          <a:pt x="1597" y="0"/>
                        </a:lnTo>
                        <a:lnTo>
                          <a:pt x="1597" y="0"/>
                        </a:lnTo>
                        <a:lnTo>
                          <a:pt x="1629" y="0"/>
                        </a:lnTo>
                        <a:lnTo>
                          <a:pt x="1629" y="0"/>
                        </a:lnTo>
                        <a:lnTo>
                          <a:pt x="1629" y="0"/>
                        </a:lnTo>
                        <a:lnTo>
                          <a:pt x="1657" y="0"/>
                        </a:lnTo>
                        <a:lnTo>
                          <a:pt x="1657" y="0"/>
                        </a:lnTo>
                        <a:lnTo>
                          <a:pt x="1657" y="0"/>
                        </a:lnTo>
                        <a:lnTo>
                          <a:pt x="1686" y="0"/>
                        </a:lnTo>
                        <a:lnTo>
                          <a:pt x="1686" y="0"/>
                        </a:lnTo>
                        <a:lnTo>
                          <a:pt x="1686" y="0"/>
                        </a:lnTo>
                        <a:lnTo>
                          <a:pt x="1718" y="0"/>
                        </a:lnTo>
                        <a:lnTo>
                          <a:pt x="1718" y="0"/>
                        </a:lnTo>
                        <a:lnTo>
                          <a:pt x="1718" y="0"/>
                        </a:lnTo>
                        <a:lnTo>
                          <a:pt x="1747" y="3"/>
                        </a:lnTo>
                        <a:lnTo>
                          <a:pt x="1747" y="3"/>
                        </a:lnTo>
                        <a:lnTo>
                          <a:pt x="1629" y="715"/>
                        </a:lnTo>
                        <a:lnTo>
                          <a:pt x="0" y="52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651800" y="4245120"/>
                    <a:ext cx="443160" cy="255960"/>
                  </a:xfrm>
                  <a:custGeom>
                    <a:avLst/>
                    <a:gdLst/>
                    <a:ahLst/>
                    <a:rect l="0" t="0" r="r" b="b"/>
                    <a:pathLst>
                      <a:path w="1231" h="711">
                        <a:moveTo>
                          <a:pt x="117" y="0"/>
                        </a:moveTo>
                        <a:lnTo>
                          <a:pt x="117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46" y="0"/>
                        </a:lnTo>
                        <a:lnTo>
                          <a:pt x="178" y="0"/>
                        </a:lnTo>
                        <a:lnTo>
                          <a:pt x="178" y="0"/>
                        </a:lnTo>
                        <a:lnTo>
                          <a:pt x="178" y="0"/>
                        </a:lnTo>
                        <a:lnTo>
                          <a:pt x="203" y="0"/>
                        </a:lnTo>
                        <a:lnTo>
                          <a:pt x="203" y="0"/>
                        </a:lnTo>
                        <a:lnTo>
                          <a:pt x="203" y="0"/>
                        </a:lnTo>
                        <a:lnTo>
                          <a:pt x="235" y="3"/>
                        </a:lnTo>
                        <a:lnTo>
                          <a:pt x="235" y="3"/>
                        </a:lnTo>
                        <a:lnTo>
                          <a:pt x="235" y="3"/>
                        </a:lnTo>
                        <a:lnTo>
                          <a:pt x="263" y="3"/>
                        </a:lnTo>
                        <a:lnTo>
                          <a:pt x="263" y="3"/>
                        </a:lnTo>
                        <a:lnTo>
                          <a:pt x="263" y="3"/>
                        </a:lnTo>
                        <a:lnTo>
                          <a:pt x="292" y="7"/>
                        </a:lnTo>
                        <a:lnTo>
                          <a:pt x="292" y="7"/>
                        </a:lnTo>
                        <a:lnTo>
                          <a:pt x="292" y="7"/>
                        </a:lnTo>
                        <a:lnTo>
                          <a:pt x="320" y="10"/>
                        </a:lnTo>
                        <a:lnTo>
                          <a:pt x="320" y="10"/>
                        </a:lnTo>
                        <a:lnTo>
                          <a:pt x="320" y="10"/>
                        </a:lnTo>
                        <a:lnTo>
                          <a:pt x="349" y="10"/>
                        </a:lnTo>
                        <a:lnTo>
                          <a:pt x="349" y="10"/>
                        </a:lnTo>
                        <a:lnTo>
                          <a:pt x="349" y="10"/>
                        </a:lnTo>
                        <a:lnTo>
                          <a:pt x="378" y="17"/>
                        </a:lnTo>
                        <a:lnTo>
                          <a:pt x="378" y="17"/>
                        </a:lnTo>
                        <a:lnTo>
                          <a:pt x="378" y="17"/>
                        </a:lnTo>
                        <a:lnTo>
                          <a:pt x="406" y="17"/>
                        </a:lnTo>
                        <a:lnTo>
                          <a:pt x="406" y="17"/>
                        </a:lnTo>
                        <a:lnTo>
                          <a:pt x="406" y="17"/>
                        </a:lnTo>
                        <a:lnTo>
                          <a:pt x="435" y="21"/>
                        </a:lnTo>
                        <a:lnTo>
                          <a:pt x="435" y="21"/>
                        </a:lnTo>
                        <a:lnTo>
                          <a:pt x="435" y="21"/>
                        </a:lnTo>
                        <a:lnTo>
                          <a:pt x="463" y="24"/>
                        </a:lnTo>
                        <a:lnTo>
                          <a:pt x="463" y="24"/>
                        </a:lnTo>
                        <a:lnTo>
                          <a:pt x="463" y="24"/>
                        </a:lnTo>
                        <a:lnTo>
                          <a:pt x="492" y="28"/>
                        </a:lnTo>
                        <a:lnTo>
                          <a:pt x="492" y="28"/>
                        </a:lnTo>
                        <a:lnTo>
                          <a:pt x="492" y="28"/>
                        </a:lnTo>
                        <a:lnTo>
                          <a:pt x="520" y="32"/>
                        </a:lnTo>
                        <a:lnTo>
                          <a:pt x="520" y="32"/>
                        </a:lnTo>
                        <a:lnTo>
                          <a:pt x="520" y="32"/>
                        </a:lnTo>
                        <a:lnTo>
                          <a:pt x="545" y="32"/>
                        </a:lnTo>
                        <a:lnTo>
                          <a:pt x="545" y="32"/>
                        </a:lnTo>
                        <a:lnTo>
                          <a:pt x="545" y="32"/>
                        </a:lnTo>
                        <a:lnTo>
                          <a:pt x="577" y="39"/>
                        </a:lnTo>
                        <a:lnTo>
                          <a:pt x="577" y="39"/>
                        </a:lnTo>
                        <a:lnTo>
                          <a:pt x="577" y="39"/>
                        </a:lnTo>
                        <a:lnTo>
                          <a:pt x="602" y="42"/>
                        </a:lnTo>
                        <a:lnTo>
                          <a:pt x="602" y="42"/>
                        </a:lnTo>
                        <a:lnTo>
                          <a:pt x="602" y="42"/>
                        </a:lnTo>
                        <a:lnTo>
                          <a:pt x="632" y="49"/>
                        </a:lnTo>
                        <a:lnTo>
                          <a:pt x="632" y="49"/>
                        </a:lnTo>
                        <a:lnTo>
                          <a:pt x="632" y="49"/>
                        </a:lnTo>
                        <a:lnTo>
                          <a:pt x="657" y="53"/>
                        </a:lnTo>
                        <a:lnTo>
                          <a:pt x="657" y="53"/>
                        </a:lnTo>
                        <a:lnTo>
                          <a:pt x="657" y="53"/>
                        </a:lnTo>
                        <a:lnTo>
                          <a:pt x="685" y="57"/>
                        </a:lnTo>
                        <a:lnTo>
                          <a:pt x="685" y="57"/>
                        </a:lnTo>
                        <a:lnTo>
                          <a:pt x="685" y="57"/>
                        </a:lnTo>
                        <a:lnTo>
                          <a:pt x="710" y="64"/>
                        </a:lnTo>
                        <a:lnTo>
                          <a:pt x="710" y="64"/>
                        </a:lnTo>
                        <a:lnTo>
                          <a:pt x="710" y="64"/>
                        </a:lnTo>
                        <a:lnTo>
                          <a:pt x="739" y="67"/>
                        </a:lnTo>
                        <a:lnTo>
                          <a:pt x="739" y="67"/>
                        </a:lnTo>
                        <a:lnTo>
                          <a:pt x="739" y="67"/>
                        </a:lnTo>
                        <a:lnTo>
                          <a:pt x="764" y="74"/>
                        </a:lnTo>
                        <a:lnTo>
                          <a:pt x="764" y="74"/>
                        </a:lnTo>
                        <a:lnTo>
                          <a:pt x="764" y="74"/>
                        </a:lnTo>
                        <a:lnTo>
                          <a:pt x="792" y="82"/>
                        </a:lnTo>
                        <a:lnTo>
                          <a:pt x="792" y="82"/>
                        </a:lnTo>
                        <a:lnTo>
                          <a:pt x="792" y="82"/>
                        </a:lnTo>
                        <a:lnTo>
                          <a:pt x="817" y="85"/>
                        </a:lnTo>
                        <a:lnTo>
                          <a:pt x="817" y="85"/>
                        </a:lnTo>
                        <a:lnTo>
                          <a:pt x="817" y="85"/>
                        </a:lnTo>
                        <a:lnTo>
                          <a:pt x="842" y="92"/>
                        </a:lnTo>
                        <a:lnTo>
                          <a:pt x="842" y="92"/>
                        </a:lnTo>
                        <a:lnTo>
                          <a:pt x="842" y="92"/>
                        </a:lnTo>
                        <a:lnTo>
                          <a:pt x="867" y="99"/>
                        </a:lnTo>
                        <a:lnTo>
                          <a:pt x="867" y="99"/>
                        </a:lnTo>
                        <a:lnTo>
                          <a:pt x="867" y="99"/>
                        </a:lnTo>
                        <a:lnTo>
                          <a:pt x="892" y="103"/>
                        </a:lnTo>
                        <a:lnTo>
                          <a:pt x="892" y="103"/>
                        </a:lnTo>
                        <a:lnTo>
                          <a:pt x="892" y="103"/>
                        </a:lnTo>
                        <a:lnTo>
                          <a:pt x="917" y="110"/>
                        </a:lnTo>
                        <a:lnTo>
                          <a:pt x="917" y="110"/>
                        </a:lnTo>
                        <a:lnTo>
                          <a:pt x="917" y="110"/>
                        </a:lnTo>
                        <a:lnTo>
                          <a:pt x="938" y="117"/>
                        </a:lnTo>
                        <a:lnTo>
                          <a:pt x="938" y="117"/>
                        </a:lnTo>
                        <a:lnTo>
                          <a:pt x="938" y="117"/>
                        </a:lnTo>
                        <a:lnTo>
                          <a:pt x="967" y="124"/>
                        </a:lnTo>
                        <a:lnTo>
                          <a:pt x="967" y="124"/>
                        </a:lnTo>
                        <a:lnTo>
                          <a:pt x="967" y="124"/>
                        </a:lnTo>
                        <a:lnTo>
                          <a:pt x="988" y="132"/>
                        </a:lnTo>
                        <a:lnTo>
                          <a:pt x="988" y="132"/>
                        </a:lnTo>
                        <a:lnTo>
                          <a:pt x="988" y="132"/>
                        </a:lnTo>
                        <a:lnTo>
                          <a:pt x="1013" y="142"/>
                        </a:lnTo>
                        <a:lnTo>
                          <a:pt x="1013" y="142"/>
                        </a:lnTo>
                        <a:lnTo>
                          <a:pt x="1013" y="142"/>
                        </a:lnTo>
                        <a:lnTo>
                          <a:pt x="1038" y="146"/>
                        </a:lnTo>
                        <a:lnTo>
                          <a:pt x="1038" y="146"/>
                        </a:lnTo>
                        <a:lnTo>
                          <a:pt x="1038" y="146"/>
                        </a:lnTo>
                        <a:lnTo>
                          <a:pt x="1060" y="156"/>
                        </a:lnTo>
                        <a:lnTo>
                          <a:pt x="1060" y="156"/>
                        </a:lnTo>
                        <a:lnTo>
                          <a:pt x="1060" y="156"/>
                        </a:lnTo>
                        <a:lnTo>
                          <a:pt x="1081" y="164"/>
                        </a:lnTo>
                        <a:lnTo>
                          <a:pt x="1081" y="164"/>
                        </a:lnTo>
                        <a:lnTo>
                          <a:pt x="1081" y="164"/>
                        </a:lnTo>
                        <a:lnTo>
                          <a:pt x="1106" y="171"/>
                        </a:lnTo>
                        <a:lnTo>
                          <a:pt x="1106" y="171"/>
                        </a:lnTo>
                        <a:lnTo>
                          <a:pt x="1106" y="171"/>
                        </a:lnTo>
                        <a:lnTo>
                          <a:pt x="1127" y="179"/>
                        </a:lnTo>
                        <a:lnTo>
                          <a:pt x="1127" y="179"/>
                        </a:lnTo>
                        <a:lnTo>
                          <a:pt x="1127" y="179"/>
                        </a:lnTo>
                        <a:lnTo>
                          <a:pt x="1149" y="186"/>
                        </a:lnTo>
                        <a:lnTo>
                          <a:pt x="1149" y="186"/>
                        </a:lnTo>
                        <a:lnTo>
                          <a:pt x="1149" y="186"/>
                        </a:lnTo>
                        <a:lnTo>
                          <a:pt x="1170" y="197"/>
                        </a:lnTo>
                        <a:lnTo>
                          <a:pt x="1170" y="197"/>
                        </a:lnTo>
                        <a:lnTo>
                          <a:pt x="1170" y="197"/>
                        </a:lnTo>
                        <a:lnTo>
                          <a:pt x="1192" y="207"/>
                        </a:lnTo>
                        <a:lnTo>
                          <a:pt x="1192" y="207"/>
                        </a:lnTo>
                        <a:lnTo>
                          <a:pt x="1192" y="207"/>
                        </a:lnTo>
                        <a:lnTo>
                          <a:pt x="1213" y="215"/>
                        </a:lnTo>
                        <a:lnTo>
                          <a:pt x="1213" y="215"/>
                        </a:lnTo>
                        <a:lnTo>
                          <a:pt x="1213" y="215"/>
                        </a:lnTo>
                        <a:lnTo>
                          <a:pt x="1231" y="225"/>
                        </a:lnTo>
                        <a:lnTo>
                          <a:pt x="1231" y="225"/>
                        </a:lnTo>
                        <a:lnTo>
                          <a:pt x="0" y="711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53240" y="4351320"/>
                    <a:ext cx="721080" cy="433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03" h="1205">
                        <a:moveTo>
                          <a:pt x="1554" y="0"/>
                        </a:moveTo>
                        <a:lnTo>
                          <a:pt x="1554" y="0"/>
                        </a:lnTo>
                        <a:lnTo>
                          <a:pt x="1571" y="10"/>
                        </a:lnTo>
                        <a:lnTo>
                          <a:pt x="1571" y="10"/>
                        </a:lnTo>
                        <a:lnTo>
                          <a:pt x="1571" y="10"/>
                        </a:lnTo>
                        <a:lnTo>
                          <a:pt x="1589" y="21"/>
                        </a:lnTo>
                        <a:lnTo>
                          <a:pt x="1589" y="21"/>
                        </a:lnTo>
                        <a:lnTo>
                          <a:pt x="1589" y="21"/>
                        </a:lnTo>
                        <a:lnTo>
                          <a:pt x="1611" y="32"/>
                        </a:lnTo>
                        <a:lnTo>
                          <a:pt x="1611" y="32"/>
                        </a:lnTo>
                        <a:lnTo>
                          <a:pt x="1611" y="32"/>
                        </a:lnTo>
                        <a:lnTo>
                          <a:pt x="1628" y="39"/>
                        </a:lnTo>
                        <a:lnTo>
                          <a:pt x="1628" y="39"/>
                        </a:lnTo>
                        <a:lnTo>
                          <a:pt x="1628" y="39"/>
                        </a:lnTo>
                        <a:lnTo>
                          <a:pt x="1646" y="49"/>
                        </a:lnTo>
                        <a:lnTo>
                          <a:pt x="1646" y="49"/>
                        </a:lnTo>
                        <a:lnTo>
                          <a:pt x="1646" y="49"/>
                        </a:lnTo>
                        <a:lnTo>
                          <a:pt x="1664" y="60"/>
                        </a:lnTo>
                        <a:lnTo>
                          <a:pt x="1664" y="60"/>
                        </a:lnTo>
                        <a:lnTo>
                          <a:pt x="1664" y="60"/>
                        </a:lnTo>
                        <a:lnTo>
                          <a:pt x="1678" y="71"/>
                        </a:lnTo>
                        <a:lnTo>
                          <a:pt x="1678" y="71"/>
                        </a:lnTo>
                        <a:lnTo>
                          <a:pt x="1678" y="71"/>
                        </a:lnTo>
                        <a:lnTo>
                          <a:pt x="1700" y="78"/>
                        </a:lnTo>
                        <a:lnTo>
                          <a:pt x="1700" y="78"/>
                        </a:lnTo>
                        <a:lnTo>
                          <a:pt x="1700" y="78"/>
                        </a:lnTo>
                        <a:lnTo>
                          <a:pt x="1718" y="89"/>
                        </a:lnTo>
                        <a:lnTo>
                          <a:pt x="1718" y="89"/>
                        </a:lnTo>
                        <a:lnTo>
                          <a:pt x="1718" y="89"/>
                        </a:lnTo>
                        <a:lnTo>
                          <a:pt x="1728" y="99"/>
                        </a:lnTo>
                        <a:lnTo>
                          <a:pt x="1728" y="99"/>
                        </a:lnTo>
                        <a:lnTo>
                          <a:pt x="1728" y="99"/>
                        </a:lnTo>
                        <a:lnTo>
                          <a:pt x="1746" y="110"/>
                        </a:lnTo>
                        <a:lnTo>
                          <a:pt x="1746" y="110"/>
                        </a:lnTo>
                        <a:lnTo>
                          <a:pt x="1746" y="110"/>
                        </a:lnTo>
                        <a:lnTo>
                          <a:pt x="1764" y="121"/>
                        </a:lnTo>
                        <a:lnTo>
                          <a:pt x="1764" y="121"/>
                        </a:lnTo>
                        <a:lnTo>
                          <a:pt x="1764" y="121"/>
                        </a:lnTo>
                        <a:lnTo>
                          <a:pt x="1778" y="131"/>
                        </a:lnTo>
                        <a:lnTo>
                          <a:pt x="1778" y="131"/>
                        </a:lnTo>
                        <a:lnTo>
                          <a:pt x="1778" y="131"/>
                        </a:lnTo>
                        <a:lnTo>
                          <a:pt x="1789" y="142"/>
                        </a:lnTo>
                        <a:lnTo>
                          <a:pt x="1789" y="142"/>
                        </a:lnTo>
                        <a:lnTo>
                          <a:pt x="1789" y="142"/>
                        </a:lnTo>
                        <a:lnTo>
                          <a:pt x="1807" y="153"/>
                        </a:lnTo>
                        <a:lnTo>
                          <a:pt x="1807" y="153"/>
                        </a:lnTo>
                        <a:lnTo>
                          <a:pt x="1807" y="153"/>
                        </a:lnTo>
                        <a:lnTo>
                          <a:pt x="1821" y="163"/>
                        </a:lnTo>
                        <a:lnTo>
                          <a:pt x="1821" y="163"/>
                        </a:lnTo>
                        <a:lnTo>
                          <a:pt x="1821" y="163"/>
                        </a:lnTo>
                        <a:lnTo>
                          <a:pt x="1832" y="178"/>
                        </a:lnTo>
                        <a:lnTo>
                          <a:pt x="1832" y="178"/>
                        </a:lnTo>
                        <a:lnTo>
                          <a:pt x="1832" y="178"/>
                        </a:lnTo>
                        <a:lnTo>
                          <a:pt x="1846" y="185"/>
                        </a:lnTo>
                        <a:lnTo>
                          <a:pt x="1846" y="185"/>
                        </a:lnTo>
                        <a:lnTo>
                          <a:pt x="1846" y="185"/>
                        </a:lnTo>
                        <a:lnTo>
                          <a:pt x="1856" y="195"/>
                        </a:lnTo>
                        <a:lnTo>
                          <a:pt x="1856" y="195"/>
                        </a:lnTo>
                        <a:lnTo>
                          <a:pt x="1856" y="195"/>
                        </a:lnTo>
                        <a:lnTo>
                          <a:pt x="1867" y="210"/>
                        </a:lnTo>
                        <a:lnTo>
                          <a:pt x="1867" y="210"/>
                        </a:lnTo>
                        <a:lnTo>
                          <a:pt x="1867" y="210"/>
                        </a:lnTo>
                        <a:lnTo>
                          <a:pt x="1881" y="220"/>
                        </a:lnTo>
                        <a:lnTo>
                          <a:pt x="1881" y="220"/>
                        </a:lnTo>
                        <a:lnTo>
                          <a:pt x="1881" y="220"/>
                        </a:lnTo>
                        <a:lnTo>
                          <a:pt x="1892" y="235"/>
                        </a:lnTo>
                        <a:lnTo>
                          <a:pt x="1892" y="235"/>
                        </a:lnTo>
                        <a:lnTo>
                          <a:pt x="1892" y="235"/>
                        </a:lnTo>
                        <a:lnTo>
                          <a:pt x="1903" y="245"/>
                        </a:lnTo>
                        <a:lnTo>
                          <a:pt x="1903" y="245"/>
                        </a:lnTo>
                        <a:lnTo>
                          <a:pt x="1903" y="245"/>
                        </a:lnTo>
                        <a:lnTo>
                          <a:pt x="1910" y="256"/>
                        </a:lnTo>
                        <a:lnTo>
                          <a:pt x="1910" y="256"/>
                        </a:lnTo>
                        <a:lnTo>
                          <a:pt x="1910" y="256"/>
                        </a:lnTo>
                        <a:lnTo>
                          <a:pt x="1921" y="267"/>
                        </a:lnTo>
                        <a:lnTo>
                          <a:pt x="1921" y="267"/>
                        </a:lnTo>
                        <a:lnTo>
                          <a:pt x="1921" y="267"/>
                        </a:lnTo>
                        <a:lnTo>
                          <a:pt x="1928" y="277"/>
                        </a:lnTo>
                        <a:lnTo>
                          <a:pt x="1928" y="277"/>
                        </a:lnTo>
                        <a:lnTo>
                          <a:pt x="1928" y="277"/>
                        </a:lnTo>
                        <a:lnTo>
                          <a:pt x="1938" y="292"/>
                        </a:lnTo>
                        <a:lnTo>
                          <a:pt x="1938" y="292"/>
                        </a:lnTo>
                        <a:lnTo>
                          <a:pt x="1938" y="292"/>
                        </a:lnTo>
                        <a:lnTo>
                          <a:pt x="1946" y="307"/>
                        </a:lnTo>
                        <a:lnTo>
                          <a:pt x="1946" y="307"/>
                        </a:lnTo>
                        <a:lnTo>
                          <a:pt x="1946" y="307"/>
                        </a:lnTo>
                        <a:lnTo>
                          <a:pt x="1953" y="317"/>
                        </a:lnTo>
                        <a:lnTo>
                          <a:pt x="1953" y="317"/>
                        </a:lnTo>
                        <a:lnTo>
                          <a:pt x="1953" y="317"/>
                        </a:lnTo>
                        <a:lnTo>
                          <a:pt x="1960" y="328"/>
                        </a:lnTo>
                        <a:lnTo>
                          <a:pt x="1960" y="328"/>
                        </a:lnTo>
                        <a:lnTo>
                          <a:pt x="1960" y="328"/>
                        </a:lnTo>
                        <a:lnTo>
                          <a:pt x="1963" y="339"/>
                        </a:lnTo>
                        <a:lnTo>
                          <a:pt x="1963" y="339"/>
                        </a:lnTo>
                        <a:lnTo>
                          <a:pt x="1963" y="339"/>
                        </a:lnTo>
                        <a:lnTo>
                          <a:pt x="1970" y="353"/>
                        </a:lnTo>
                        <a:lnTo>
                          <a:pt x="1970" y="353"/>
                        </a:lnTo>
                        <a:lnTo>
                          <a:pt x="1970" y="353"/>
                        </a:lnTo>
                        <a:lnTo>
                          <a:pt x="1974" y="367"/>
                        </a:lnTo>
                        <a:lnTo>
                          <a:pt x="1974" y="367"/>
                        </a:lnTo>
                        <a:lnTo>
                          <a:pt x="1974" y="367"/>
                        </a:lnTo>
                        <a:lnTo>
                          <a:pt x="1981" y="378"/>
                        </a:lnTo>
                        <a:lnTo>
                          <a:pt x="1981" y="378"/>
                        </a:lnTo>
                        <a:lnTo>
                          <a:pt x="1981" y="378"/>
                        </a:lnTo>
                        <a:lnTo>
                          <a:pt x="1988" y="389"/>
                        </a:lnTo>
                        <a:lnTo>
                          <a:pt x="1988" y="389"/>
                        </a:lnTo>
                        <a:lnTo>
                          <a:pt x="1988" y="389"/>
                        </a:lnTo>
                        <a:lnTo>
                          <a:pt x="1992" y="403"/>
                        </a:lnTo>
                        <a:lnTo>
                          <a:pt x="1992" y="403"/>
                        </a:lnTo>
                        <a:lnTo>
                          <a:pt x="1992" y="403"/>
                        </a:lnTo>
                        <a:lnTo>
                          <a:pt x="1992" y="414"/>
                        </a:lnTo>
                        <a:lnTo>
                          <a:pt x="1992" y="414"/>
                        </a:lnTo>
                        <a:lnTo>
                          <a:pt x="1992" y="414"/>
                        </a:lnTo>
                        <a:lnTo>
                          <a:pt x="1999" y="428"/>
                        </a:lnTo>
                        <a:lnTo>
                          <a:pt x="1999" y="428"/>
                        </a:lnTo>
                        <a:lnTo>
                          <a:pt x="1999" y="428"/>
                        </a:lnTo>
                        <a:lnTo>
                          <a:pt x="1999" y="439"/>
                        </a:lnTo>
                        <a:lnTo>
                          <a:pt x="1999" y="439"/>
                        </a:lnTo>
                        <a:lnTo>
                          <a:pt x="1999" y="439"/>
                        </a:lnTo>
                        <a:lnTo>
                          <a:pt x="2003" y="449"/>
                        </a:lnTo>
                        <a:lnTo>
                          <a:pt x="2003" y="449"/>
                        </a:lnTo>
                        <a:lnTo>
                          <a:pt x="2003" y="449"/>
                        </a:lnTo>
                        <a:lnTo>
                          <a:pt x="2003" y="464"/>
                        </a:lnTo>
                        <a:lnTo>
                          <a:pt x="2003" y="464"/>
                        </a:lnTo>
                        <a:lnTo>
                          <a:pt x="2003" y="464"/>
                        </a:lnTo>
                        <a:lnTo>
                          <a:pt x="2003" y="474"/>
                        </a:lnTo>
                        <a:lnTo>
                          <a:pt x="2003" y="474"/>
                        </a:lnTo>
                        <a:lnTo>
                          <a:pt x="2003" y="474"/>
                        </a:lnTo>
                        <a:lnTo>
                          <a:pt x="2003" y="488"/>
                        </a:lnTo>
                        <a:lnTo>
                          <a:pt x="2003" y="488"/>
                        </a:lnTo>
                        <a:lnTo>
                          <a:pt x="2003" y="488"/>
                        </a:lnTo>
                        <a:lnTo>
                          <a:pt x="2003" y="503"/>
                        </a:lnTo>
                        <a:lnTo>
                          <a:pt x="2003" y="503"/>
                        </a:lnTo>
                        <a:lnTo>
                          <a:pt x="2003" y="503"/>
                        </a:lnTo>
                        <a:lnTo>
                          <a:pt x="2003" y="513"/>
                        </a:lnTo>
                        <a:lnTo>
                          <a:pt x="2003" y="513"/>
                        </a:lnTo>
                        <a:lnTo>
                          <a:pt x="2003" y="513"/>
                        </a:lnTo>
                        <a:lnTo>
                          <a:pt x="2003" y="524"/>
                        </a:lnTo>
                        <a:lnTo>
                          <a:pt x="2003" y="524"/>
                        </a:lnTo>
                        <a:lnTo>
                          <a:pt x="2003" y="524"/>
                        </a:lnTo>
                        <a:lnTo>
                          <a:pt x="1999" y="538"/>
                        </a:lnTo>
                        <a:lnTo>
                          <a:pt x="1999" y="538"/>
                        </a:lnTo>
                        <a:lnTo>
                          <a:pt x="1999" y="538"/>
                        </a:lnTo>
                        <a:lnTo>
                          <a:pt x="1999" y="553"/>
                        </a:lnTo>
                        <a:lnTo>
                          <a:pt x="1999" y="553"/>
                        </a:lnTo>
                        <a:lnTo>
                          <a:pt x="1999" y="553"/>
                        </a:lnTo>
                        <a:lnTo>
                          <a:pt x="1992" y="563"/>
                        </a:lnTo>
                        <a:lnTo>
                          <a:pt x="1992" y="563"/>
                        </a:lnTo>
                        <a:lnTo>
                          <a:pt x="1992" y="563"/>
                        </a:lnTo>
                        <a:lnTo>
                          <a:pt x="1992" y="574"/>
                        </a:lnTo>
                        <a:lnTo>
                          <a:pt x="1992" y="574"/>
                        </a:lnTo>
                        <a:lnTo>
                          <a:pt x="1992" y="574"/>
                        </a:lnTo>
                        <a:lnTo>
                          <a:pt x="1988" y="588"/>
                        </a:lnTo>
                        <a:lnTo>
                          <a:pt x="1988" y="588"/>
                        </a:lnTo>
                        <a:lnTo>
                          <a:pt x="1988" y="588"/>
                        </a:lnTo>
                        <a:lnTo>
                          <a:pt x="1981" y="602"/>
                        </a:lnTo>
                        <a:lnTo>
                          <a:pt x="1981" y="602"/>
                        </a:lnTo>
                        <a:lnTo>
                          <a:pt x="1981" y="602"/>
                        </a:lnTo>
                        <a:lnTo>
                          <a:pt x="1974" y="613"/>
                        </a:lnTo>
                        <a:lnTo>
                          <a:pt x="1974" y="613"/>
                        </a:lnTo>
                        <a:lnTo>
                          <a:pt x="1974" y="613"/>
                        </a:lnTo>
                        <a:lnTo>
                          <a:pt x="1970" y="624"/>
                        </a:lnTo>
                        <a:lnTo>
                          <a:pt x="1970" y="624"/>
                        </a:lnTo>
                        <a:lnTo>
                          <a:pt x="1970" y="624"/>
                        </a:lnTo>
                        <a:lnTo>
                          <a:pt x="1963" y="634"/>
                        </a:lnTo>
                        <a:lnTo>
                          <a:pt x="1963" y="634"/>
                        </a:lnTo>
                        <a:lnTo>
                          <a:pt x="1963" y="634"/>
                        </a:lnTo>
                        <a:lnTo>
                          <a:pt x="1960" y="649"/>
                        </a:lnTo>
                        <a:lnTo>
                          <a:pt x="1960" y="649"/>
                        </a:lnTo>
                        <a:lnTo>
                          <a:pt x="1960" y="649"/>
                        </a:lnTo>
                        <a:lnTo>
                          <a:pt x="1953" y="663"/>
                        </a:lnTo>
                        <a:lnTo>
                          <a:pt x="1953" y="663"/>
                        </a:lnTo>
                        <a:lnTo>
                          <a:pt x="1953" y="663"/>
                        </a:lnTo>
                        <a:lnTo>
                          <a:pt x="1946" y="674"/>
                        </a:lnTo>
                        <a:lnTo>
                          <a:pt x="1946" y="674"/>
                        </a:lnTo>
                        <a:lnTo>
                          <a:pt x="1946" y="674"/>
                        </a:lnTo>
                        <a:lnTo>
                          <a:pt x="1938" y="684"/>
                        </a:lnTo>
                        <a:lnTo>
                          <a:pt x="1938" y="684"/>
                        </a:lnTo>
                        <a:lnTo>
                          <a:pt x="1938" y="684"/>
                        </a:lnTo>
                        <a:lnTo>
                          <a:pt x="1928" y="695"/>
                        </a:lnTo>
                        <a:lnTo>
                          <a:pt x="1928" y="695"/>
                        </a:lnTo>
                        <a:lnTo>
                          <a:pt x="1928" y="695"/>
                        </a:lnTo>
                        <a:lnTo>
                          <a:pt x="1921" y="709"/>
                        </a:lnTo>
                        <a:lnTo>
                          <a:pt x="1921" y="709"/>
                        </a:lnTo>
                        <a:lnTo>
                          <a:pt x="1921" y="709"/>
                        </a:lnTo>
                        <a:lnTo>
                          <a:pt x="1910" y="720"/>
                        </a:lnTo>
                        <a:lnTo>
                          <a:pt x="1910" y="720"/>
                        </a:lnTo>
                        <a:lnTo>
                          <a:pt x="1910" y="720"/>
                        </a:lnTo>
                        <a:lnTo>
                          <a:pt x="1903" y="734"/>
                        </a:lnTo>
                        <a:lnTo>
                          <a:pt x="1903" y="734"/>
                        </a:lnTo>
                        <a:lnTo>
                          <a:pt x="1903" y="734"/>
                        </a:lnTo>
                        <a:lnTo>
                          <a:pt x="1892" y="745"/>
                        </a:lnTo>
                        <a:lnTo>
                          <a:pt x="1892" y="745"/>
                        </a:lnTo>
                        <a:lnTo>
                          <a:pt x="1892" y="745"/>
                        </a:lnTo>
                        <a:lnTo>
                          <a:pt x="1881" y="756"/>
                        </a:lnTo>
                        <a:lnTo>
                          <a:pt x="1881" y="756"/>
                        </a:lnTo>
                        <a:lnTo>
                          <a:pt x="1881" y="756"/>
                        </a:lnTo>
                        <a:lnTo>
                          <a:pt x="1867" y="766"/>
                        </a:lnTo>
                        <a:lnTo>
                          <a:pt x="1867" y="766"/>
                        </a:lnTo>
                        <a:lnTo>
                          <a:pt x="1867" y="766"/>
                        </a:lnTo>
                        <a:lnTo>
                          <a:pt x="1856" y="777"/>
                        </a:lnTo>
                        <a:lnTo>
                          <a:pt x="1856" y="777"/>
                        </a:lnTo>
                        <a:lnTo>
                          <a:pt x="1856" y="777"/>
                        </a:lnTo>
                        <a:lnTo>
                          <a:pt x="1846" y="791"/>
                        </a:lnTo>
                        <a:lnTo>
                          <a:pt x="1846" y="791"/>
                        </a:lnTo>
                        <a:lnTo>
                          <a:pt x="1846" y="791"/>
                        </a:lnTo>
                        <a:lnTo>
                          <a:pt x="1832" y="802"/>
                        </a:lnTo>
                        <a:lnTo>
                          <a:pt x="1832" y="802"/>
                        </a:lnTo>
                        <a:lnTo>
                          <a:pt x="1832" y="802"/>
                        </a:lnTo>
                        <a:lnTo>
                          <a:pt x="1821" y="813"/>
                        </a:lnTo>
                        <a:lnTo>
                          <a:pt x="1821" y="813"/>
                        </a:lnTo>
                        <a:lnTo>
                          <a:pt x="1821" y="813"/>
                        </a:lnTo>
                        <a:lnTo>
                          <a:pt x="1807" y="823"/>
                        </a:lnTo>
                        <a:lnTo>
                          <a:pt x="1807" y="823"/>
                        </a:lnTo>
                        <a:lnTo>
                          <a:pt x="1807" y="823"/>
                        </a:lnTo>
                        <a:lnTo>
                          <a:pt x="1789" y="834"/>
                        </a:lnTo>
                        <a:lnTo>
                          <a:pt x="1789" y="834"/>
                        </a:lnTo>
                        <a:lnTo>
                          <a:pt x="1789" y="834"/>
                        </a:lnTo>
                        <a:lnTo>
                          <a:pt x="1778" y="845"/>
                        </a:lnTo>
                        <a:lnTo>
                          <a:pt x="1778" y="845"/>
                        </a:lnTo>
                        <a:lnTo>
                          <a:pt x="1778" y="845"/>
                        </a:lnTo>
                        <a:lnTo>
                          <a:pt x="1764" y="855"/>
                        </a:lnTo>
                        <a:lnTo>
                          <a:pt x="1764" y="855"/>
                        </a:lnTo>
                        <a:lnTo>
                          <a:pt x="1764" y="855"/>
                        </a:lnTo>
                        <a:lnTo>
                          <a:pt x="1746" y="866"/>
                        </a:lnTo>
                        <a:lnTo>
                          <a:pt x="1746" y="866"/>
                        </a:lnTo>
                        <a:lnTo>
                          <a:pt x="1746" y="866"/>
                        </a:lnTo>
                        <a:lnTo>
                          <a:pt x="1728" y="877"/>
                        </a:lnTo>
                        <a:lnTo>
                          <a:pt x="1728" y="877"/>
                        </a:lnTo>
                        <a:lnTo>
                          <a:pt x="1728" y="877"/>
                        </a:lnTo>
                        <a:lnTo>
                          <a:pt x="1718" y="887"/>
                        </a:lnTo>
                        <a:lnTo>
                          <a:pt x="1718" y="887"/>
                        </a:lnTo>
                        <a:lnTo>
                          <a:pt x="1718" y="887"/>
                        </a:lnTo>
                        <a:lnTo>
                          <a:pt x="1700" y="898"/>
                        </a:lnTo>
                        <a:lnTo>
                          <a:pt x="1700" y="898"/>
                        </a:lnTo>
                        <a:lnTo>
                          <a:pt x="1700" y="898"/>
                        </a:lnTo>
                        <a:lnTo>
                          <a:pt x="1678" y="910"/>
                        </a:lnTo>
                        <a:lnTo>
                          <a:pt x="1678" y="910"/>
                        </a:lnTo>
                        <a:lnTo>
                          <a:pt x="1678" y="910"/>
                        </a:lnTo>
                        <a:lnTo>
                          <a:pt x="1664" y="920"/>
                        </a:lnTo>
                        <a:lnTo>
                          <a:pt x="1664" y="920"/>
                        </a:lnTo>
                        <a:lnTo>
                          <a:pt x="1664" y="920"/>
                        </a:lnTo>
                        <a:lnTo>
                          <a:pt x="1646" y="928"/>
                        </a:lnTo>
                        <a:lnTo>
                          <a:pt x="1646" y="928"/>
                        </a:lnTo>
                        <a:lnTo>
                          <a:pt x="1646" y="928"/>
                        </a:lnTo>
                        <a:lnTo>
                          <a:pt x="1628" y="938"/>
                        </a:lnTo>
                        <a:lnTo>
                          <a:pt x="1628" y="938"/>
                        </a:lnTo>
                        <a:lnTo>
                          <a:pt x="1628" y="938"/>
                        </a:lnTo>
                        <a:lnTo>
                          <a:pt x="1611" y="949"/>
                        </a:lnTo>
                        <a:lnTo>
                          <a:pt x="1611" y="949"/>
                        </a:lnTo>
                        <a:lnTo>
                          <a:pt x="1611" y="949"/>
                        </a:lnTo>
                        <a:lnTo>
                          <a:pt x="1589" y="956"/>
                        </a:lnTo>
                        <a:lnTo>
                          <a:pt x="1589" y="956"/>
                        </a:lnTo>
                        <a:lnTo>
                          <a:pt x="1589" y="956"/>
                        </a:lnTo>
                        <a:lnTo>
                          <a:pt x="1571" y="967"/>
                        </a:lnTo>
                        <a:lnTo>
                          <a:pt x="1571" y="967"/>
                        </a:lnTo>
                        <a:lnTo>
                          <a:pt x="1571" y="967"/>
                        </a:lnTo>
                        <a:lnTo>
                          <a:pt x="1554" y="974"/>
                        </a:lnTo>
                        <a:lnTo>
                          <a:pt x="1554" y="974"/>
                        </a:lnTo>
                        <a:lnTo>
                          <a:pt x="1554" y="974"/>
                        </a:lnTo>
                        <a:lnTo>
                          <a:pt x="1532" y="985"/>
                        </a:lnTo>
                        <a:lnTo>
                          <a:pt x="1532" y="985"/>
                        </a:lnTo>
                        <a:lnTo>
                          <a:pt x="1532" y="985"/>
                        </a:lnTo>
                        <a:lnTo>
                          <a:pt x="1511" y="995"/>
                        </a:lnTo>
                        <a:lnTo>
                          <a:pt x="1511" y="995"/>
                        </a:lnTo>
                        <a:lnTo>
                          <a:pt x="1511" y="995"/>
                        </a:lnTo>
                        <a:lnTo>
                          <a:pt x="1490" y="1002"/>
                        </a:lnTo>
                        <a:lnTo>
                          <a:pt x="1490" y="1002"/>
                        </a:lnTo>
                        <a:lnTo>
                          <a:pt x="1490" y="1002"/>
                        </a:lnTo>
                        <a:lnTo>
                          <a:pt x="1468" y="1013"/>
                        </a:lnTo>
                        <a:lnTo>
                          <a:pt x="1468" y="1013"/>
                        </a:lnTo>
                        <a:lnTo>
                          <a:pt x="1468" y="1013"/>
                        </a:lnTo>
                        <a:lnTo>
                          <a:pt x="1443" y="1017"/>
                        </a:lnTo>
                        <a:lnTo>
                          <a:pt x="1443" y="1017"/>
                        </a:lnTo>
                        <a:lnTo>
                          <a:pt x="1443" y="1017"/>
                        </a:lnTo>
                        <a:lnTo>
                          <a:pt x="1425" y="1027"/>
                        </a:lnTo>
                        <a:lnTo>
                          <a:pt x="1425" y="1027"/>
                        </a:lnTo>
                        <a:lnTo>
                          <a:pt x="1425" y="1027"/>
                        </a:lnTo>
                        <a:lnTo>
                          <a:pt x="1400" y="1034"/>
                        </a:lnTo>
                        <a:lnTo>
                          <a:pt x="1400" y="1034"/>
                        </a:lnTo>
                        <a:lnTo>
                          <a:pt x="1400" y="1034"/>
                        </a:lnTo>
                        <a:lnTo>
                          <a:pt x="1379" y="1045"/>
                        </a:lnTo>
                        <a:lnTo>
                          <a:pt x="1379" y="1045"/>
                        </a:lnTo>
                        <a:lnTo>
                          <a:pt x="1379" y="1045"/>
                        </a:lnTo>
                        <a:lnTo>
                          <a:pt x="1358" y="1052"/>
                        </a:lnTo>
                        <a:lnTo>
                          <a:pt x="1358" y="1052"/>
                        </a:lnTo>
                        <a:lnTo>
                          <a:pt x="1358" y="1052"/>
                        </a:lnTo>
                        <a:lnTo>
                          <a:pt x="1333" y="1059"/>
                        </a:lnTo>
                        <a:lnTo>
                          <a:pt x="1333" y="1059"/>
                        </a:lnTo>
                        <a:lnTo>
                          <a:pt x="1333" y="1059"/>
                        </a:lnTo>
                        <a:lnTo>
                          <a:pt x="1308" y="1066"/>
                        </a:lnTo>
                        <a:lnTo>
                          <a:pt x="1308" y="1066"/>
                        </a:lnTo>
                        <a:lnTo>
                          <a:pt x="1308" y="1066"/>
                        </a:lnTo>
                        <a:lnTo>
                          <a:pt x="1286" y="1074"/>
                        </a:lnTo>
                        <a:lnTo>
                          <a:pt x="1286" y="1074"/>
                        </a:lnTo>
                        <a:lnTo>
                          <a:pt x="1286" y="1074"/>
                        </a:lnTo>
                        <a:lnTo>
                          <a:pt x="1262" y="1077"/>
                        </a:lnTo>
                        <a:lnTo>
                          <a:pt x="1262" y="1077"/>
                        </a:lnTo>
                        <a:lnTo>
                          <a:pt x="1262" y="1077"/>
                        </a:lnTo>
                        <a:lnTo>
                          <a:pt x="1237" y="1088"/>
                        </a:lnTo>
                        <a:lnTo>
                          <a:pt x="1237" y="1088"/>
                        </a:lnTo>
                        <a:lnTo>
                          <a:pt x="1237" y="1088"/>
                        </a:lnTo>
                        <a:lnTo>
                          <a:pt x="1215" y="1095"/>
                        </a:lnTo>
                        <a:lnTo>
                          <a:pt x="1215" y="1095"/>
                        </a:lnTo>
                        <a:lnTo>
                          <a:pt x="1215" y="1095"/>
                        </a:lnTo>
                        <a:lnTo>
                          <a:pt x="1187" y="1099"/>
                        </a:lnTo>
                        <a:lnTo>
                          <a:pt x="1187" y="1099"/>
                        </a:lnTo>
                        <a:lnTo>
                          <a:pt x="1187" y="1099"/>
                        </a:lnTo>
                        <a:lnTo>
                          <a:pt x="1162" y="1106"/>
                        </a:lnTo>
                        <a:lnTo>
                          <a:pt x="1162" y="1106"/>
                        </a:lnTo>
                        <a:lnTo>
                          <a:pt x="1162" y="1106"/>
                        </a:lnTo>
                        <a:lnTo>
                          <a:pt x="1137" y="1113"/>
                        </a:lnTo>
                        <a:lnTo>
                          <a:pt x="1137" y="1113"/>
                        </a:lnTo>
                        <a:lnTo>
                          <a:pt x="1137" y="1113"/>
                        </a:lnTo>
                        <a:lnTo>
                          <a:pt x="1112" y="1120"/>
                        </a:lnTo>
                        <a:lnTo>
                          <a:pt x="1112" y="1120"/>
                        </a:lnTo>
                        <a:lnTo>
                          <a:pt x="1112" y="1120"/>
                        </a:lnTo>
                        <a:lnTo>
                          <a:pt x="1083" y="1127"/>
                        </a:lnTo>
                        <a:lnTo>
                          <a:pt x="1083" y="1127"/>
                        </a:lnTo>
                        <a:lnTo>
                          <a:pt x="1083" y="1127"/>
                        </a:lnTo>
                        <a:lnTo>
                          <a:pt x="1059" y="1131"/>
                        </a:lnTo>
                        <a:lnTo>
                          <a:pt x="1059" y="1131"/>
                        </a:lnTo>
                        <a:lnTo>
                          <a:pt x="1059" y="1131"/>
                        </a:lnTo>
                        <a:lnTo>
                          <a:pt x="1034" y="1138"/>
                        </a:lnTo>
                        <a:lnTo>
                          <a:pt x="1034" y="1138"/>
                        </a:lnTo>
                        <a:lnTo>
                          <a:pt x="1034" y="1138"/>
                        </a:lnTo>
                        <a:lnTo>
                          <a:pt x="1005" y="1138"/>
                        </a:lnTo>
                        <a:lnTo>
                          <a:pt x="1005" y="1138"/>
                        </a:lnTo>
                        <a:lnTo>
                          <a:pt x="1005" y="1138"/>
                        </a:lnTo>
                        <a:lnTo>
                          <a:pt x="979" y="1145"/>
                        </a:lnTo>
                        <a:lnTo>
                          <a:pt x="979" y="1145"/>
                        </a:lnTo>
                        <a:lnTo>
                          <a:pt x="979" y="1145"/>
                        </a:lnTo>
                        <a:lnTo>
                          <a:pt x="951" y="1148"/>
                        </a:lnTo>
                        <a:lnTo>
                          <a:pt x="951" y="1148"/>
                        </a:lnTo>
                        <a:lnTo>
                          <a:pt x="951" y="1148"/>
                        </a:lnTo>
                        <a:lnTo>
                          <a:pt x="922" y="1155"/>
                        </a:lnTo>
                        <a:lnTo>
                          <a:pt x="922" y="1155"/>
                        </a:lnTo>
                        <a:lnTo>
                          <a:pt x="922" y="1155"/>
                        </a:lnTo>
                        <a:lnTo>
                          <a:pt x="897" y="1159"/>
                        </a:lnTo>
                        <a:lnTo>
                          <a:pt x="897" y="1159"/>
                        </a:lnTo>
                        <a:lnTo>
                          <a:pt x="897" y="1159"/>
                        </a:lnTo>
                        <a:lnTo>
                          <a:pt x="869" y="1163"/>
                        </a:lnTo>
                        <a:lnTo>
                          <a:pt x="869" y="1163"/>
                        </a:lnTo>
                        <a:lnTo>
                          <a:pt x="869" y="1163"/>
                        </a:lnTo>
                        <a:lnTo>
                          <a:pt x="840" y="1166"/>
                        </a:lnTo>
                        <a:lnTo>
                          <a:pt x="840" y="1166"/>
                        </a:lnTo>
                        <a:lnTo>
                          <a:pt x="840" y="1166"/>
                        </a:lnTo>
                        <a:lnTo>
                          <a:pt x="815" y="1170"/>
                        </a:lnTo>
                        <a:lnTo>
                          <a:pt x="815" y="1170"/>
                        </a:lnTo>
                        <a:lnTo>
                          <a:pt x="815" y="1170"/>
                        </a:lnTo>
                        <a:lnTo>
                          <a:pt x="783" y="1177"/>
                        </a:lnTo>
                        <a:lnTo>
                          <a:pt x="783" y="1177"/>
                        </a:lnTo>
                        <a:lnTo>
                          <a:pt x="783" y="1177"/>
                        </a:lnTo>
                        <a:lnTo>
                          <a:pt x="758" y="1177"/>
                        </a:lnTo>
                        <a:lnTo>
                          <a:pt x="758" y="1177"/>
                        </a:lnTo>
                        <a:lnTo>
                          <a:pt x="758" y="1177"/>
                        </a:lnTo>
                        <a:lnTo>
                          <a:pt x="726" y="1180"/>
                        </a:lnTo>
                        <a:lnTo>
                          <a:pt x="726" y="1180"/>
                        </a:lnTo>
                        <a:lnTo>
                          <a:pt x="726" y="1180"/>
                        </a:lnTo>
                        <a:lnTo>
                          <a:pt x="698" y="1184"/>
                        </a:lnTo>
                        <a:lnTo>
                          <a:pt x="698" y="1184"/>
                        </a:lnTo>
                        <a:lnTo>
                          <a:pt x="698" y="1184"/>
                        </a:lnTo>
                        <a:lnTo>
                          <a:pt x="669" y="1188"/>
                        </a:lnTo>
                        <a:lnTo>
                          <a:pt x="669" y="1188"/>
                        </a:lnTo>
                        <a:lnTo>
                          <a:pt x="669" y="1188"/>
                        </a:lnTo>
                        <a:lnTo>
                          <a:pt x="644" y="1188"/>
                        </a:lnTo>
                        <a:lnTo>
                          <a:pt x="644" y="1188"/>
                        </a:lnTo>
                        <a:lnTo>
                          <a:pt x="644" y="1188"/>
                        </a:lnTo>
                        <a:lnTo>
                          <a:pt x="612" y="1191"/>
                        </a:lnTo>
                        <a:lnTo>
                          <a:pt x="612" y="1191"/>
                        </a:lnTo>
                        <a:lnTo>
                          <a:pt x="612" y="1191"/>
                        </a:lnTo>
                        <a:lnTo>
                          <a:pt x="584" y="1195"/>
                        </a:lnTo>
                        <a:lnTo>
                          <a:pt x="584" y="1195"/>
                        </a:lnTo>
                        <a:lnTo>
                          <a:pt x="584" y="1195"/>
                        </a:lnTo>
                        <a:lnTo>
                          <a:pt x="555" y="1195"/>
                        </a:lnTo>
                        <a:lnTo>
                          <a:pt x="555" y="1195"/>
                        </a:lnTo>
                        <a:lnTo>
                          <a:pt x="555" y="1195"/>
                        </a:lnTo>
                        <a:lnTo>
                          <a:pt x="527" y="1198"/>
                        </a:lnTo>
                        <a:lnTo>
                          <a:pt x="527" y="1198"/>
                        </a:lnTo>
                        <a:lnTo>
                          <a:pt x="527" y="1198"/>
                        </a:lnTo>
                        <a:lnTo>
                          <a:pt x="495" y="1198"/>
                        </a:lnTo>
                        <a:lnTo>
                          <a:pt x="495" y="1198"/>
                        </a:lnTo>
                        <a:lnTo>
                          <a:pt x="495" y="1198"/>
                        </a:lnTo>
                        <a:lnTo>
                          <a:pt x="470" y="1198"/>
                        </a:lnTo>
                        <a:lnTo>
                          <a:pt x="470" y="1198"/>
                        </a:lnTo>
                        <a:lnTo>
                          <a:pt x="470" y="1198"/>
                        </a:lnTo>
                        <a:lnTo>
                          <a:pt x="438" y="1202"/>
                        </a:lnTo>
                        <a:lnTo>
                          <a:pt x="438" y="1202"/>
                        </a:lnTo>
                        <a:lnTo>
                          <a:pt x="438" y="1202"/>
                        </a:lnTo>
                        <a:lnTo>
                          <a:pt x="409" y="1202"/>
                        </a:lnTo>
                        <a:lnTo>
                          <a:pt x="409" y="1202"/>
                        </a:lnTo>
                        <a:lnTo>
                          <a:pt x="409" y="1202"/>
                        </a:lnTo>
                        <a:lnTo>
                          <a:pt x="377" y="1205"/>
                        </a:lnTo>
                        <a:lnTo>
                          <a:pt x="377" y="1205"/>
                        </a:lnTo>
                        <a:lnTo>
                          <a:pt x="377" y="1205"/>
                        </a:lnTo>
                        <a:lnTo>
                          <a:pt x="349" y="1205"/>
                        </a:lnTo>
                        <a:lnTo>
                          <a:pt x="349" y="1205"/>
                        </a:lnTo>
                        <a:lnTo>
                          <a:pt x="349" y="1205"/>
                        </a:lnTo>
                        <a:lnTo>
                          <a:pt x="320" y="1205"/>
                        </a:lnTo>
                        <a:lnTo>
                          <a:pt x="320" y="1205"/>
                        </a:lnTo>
                        <a:lnTo>
                          <a:pt x="320" y="1205"/>
                        </a:lnTo>
                        <a:lnTo>
                          <a:pt x="292" y="1205"/>
                        </a:lnTo>
                        <a:lnTo>
                          <a:pt x="292" y="1205"/>
                        </a:lnTo>
                        <a:lnTo>
                          <a:pt x="292" y="1205"/>
                        </a:lnTo>
                        <a:lnTo>
                          <a:pt x="260" y="1205"/>
                        </a:lnTo>
                        <a:lnTo>
                          <a:pt x="260" y="1205"/>
                        </a:lnTo>
                        <a:lnTo>
                          <a:pt x="260" y="1205"/>
                        </a:lnTo>
                        <a:lnTo>
                          <a:pt x="235" y="1202"/>
                        </a:lnTo>
                        <a:lnTo>
                          <a:pt x="235" y="1202"/>
                        </a:lnTo>
                        <a:lnTo>
                          <a:pt x="235" y="1202"/>
                        </a:lnTo>
                        <a:lnTo>
                          <a:pt x="203" y="1202"/>
                        </a:lnTo>
                        <a:lnTo>
                          <a:pt x="203" y="1202"/>
                        </a:lnTo>
                        <a:lnTo>
                          <a:pt x="203" y="1202"/>
                        </a:lnTo>
                        <a:lnTo>
                          <a:pt x="174" y="1198"/>
                        </a:lnTo>
                        <a:lnTo>
                          <a:pt x="174" y="1198"/>
                        </a:lnTo>
                        <a:lnTo>
                          <a:pt x="174" y="1198"/>
                        </a:lnTo>
                        <a:lnTo>
                          <a:pt x="146" y="1198"/>
                        </a:lnTo>
                        <a:lnTo>
                          <a:pt x="146" y="1198"/>
                        </a:lnTo>
                        <a:lnTo>
                          <a:pt x="146" y="1198"/>
                        </a:lnTo>
                        <a:lnTo>
                          <a:pt x="117" y="1198"/>
                        </a:lnTo>
                        <a:lnTo>
                          <a:pt x="117" y="1198"/>
                        </a:lnTo>
                        <a:lnTo>
                          <a:pt x="117" y="1198"/>
                        </a:lnTo>
                        <a:lnTo>
                          <a:pt x="85" y="1195"/>
                        </a:lnTo>
                        <a:lnTo>
                          <a:pt x="85" y="1195"/>
                        </a:lnTo>
                        <a:lnTo>
                          <a:pt x="85" y="1195"/>
                        </a:lnTo>
                        <a:lnTo>
                          <a:pt x="56" y="1195"/>
                        </a:lnTo>
                        <a:lnTo>
                          <a:pt x="56" y="1195"/>
                        </a:lnTo>
                        <a:lnTo>
                          <a:pt x="56" y="1195"/>
                        </a:lnTo>
                        <a:lnTo>
                          <a:pt x="28" y="1191"/>
                        </a:lnTo>
                        <a:lnTo>
                          <a:pt x="28" y="1191"/>
                        </a:lnTo>
                        <a:lnTo>
                          <a:pt x="28" y="1191"/>
                        </a:lnTo>
                        <a:lnTo>
                          <a:pt x="0" y="1188"/>
                        </a:lnTo>
                        <a:lnTo>
                          <a:pt x="0" y="1188"/>
                        </a:lnTo>
                        <a:lnTo>
                          <a:pt x="320" y="488"/>
                        </a:lnTo>
                        <a:lnTo>
                          <a:pt x="1554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045200" y="4433760"/>
                    <a:ext cx="606960" cy="317880"/>
                  </a:xfrm>
                  <a:custGeom>
                    <a:avLst/>
                    <a:gdLst/>
                    <a:ahLst/>
                    <a:rect l="0" t="0" r="r" b="b"/>
                    <a:pathLst>
                      <a:path w="1686" h="883">
                        <a:moveTo>
                          <a:pt x="1365" y="883"/>
                        </a:moveTo>
                        <a:lnTo>
                          <a:pt x="1365" y="883"/>
                        </a:lnTo>
                        <a:lnTo>
                          <a:pt x="1336" y="880"/>
                        </a:lnTo>
                        <a:lnTo>
                          <a:pt x="1336" y="880"/>
                        </a:lnTo>
                        <a:lnTo>
                          <a:pt x="1336" y="880"/>
                        </a:lnTo>
                        <a:lnTo>
                          <a:pt x="1308" y="880"/>
                        </a:lnTo>
                        <a:lnTo>
                          <a:pt x="1308" y="880"/>
                        </a:lnTo>
                        <a:lnTo>
                          <a:pt x="1308" y="880"/>
                        </a:lnTo>
                        <a:lnTo>
                          <a:pt x="1279" y="876"/>
                        </a:lnTo>
                        <a:lnTo>
                          <a:pt x="1279" y="876"/>
                        </a:lnTo>
                        <a:lnTo>
                          <a:pt x="1279" y="876"/>
                        </a:lnTo>
                        <a:lnTo>
                          <a:pt x="1246" y="873"/>
                        </a:lnTo>
                        <a:lnTo>
                          <a:pt x="1246" y="873"/>
                        </a:lnTo>
                        <a:lnTo>
                          <a:pt x="1246" y="873"/>
                        </a:lnTo>
                        <a:lnTo>
                          <a:pt x="1221" y="869"/>
                        </a:lnTo>
                        <a:lnTo>
                          <a:pt x="1221" y="869"/>
                        </a:lnTo>
                        <a:lnTo>
                          <a:pt x="1221" y="869"/>
                        </a:lnTo>
                        <a:lnTo>
                          <a:pt x="1193" y="866"/>
                        </a:lnTo>
                        <a:lnTo>
                          <a:pt x="1193" y="866"/>
                        </a:lnTo>
                        <a:lnTo>
                          <a:pt x="1193" y="866"/>
                        </a:lnTo>
                        <a:lnTo>
                          <a:pt x="1164" y="862"/>
                        </a:lnTo>
                        <a:lnTo>
                          <a:pt x="1164" y="862"/>
                        </a:lnTo>
                        <a:lnTo>
                          <a:pt x="1164" y="862"/>
                        </a:lnTo>
                        <a:lnTo>
                          <a:pt x="1135" y="859"/>
                        </a:lnTo>
                        <a:lnTo>
                          <a:pt x="1135" y="859"/>
                        </a:lnTo>
                        <a:lnTo>
                          <a:pt x="1135" y="859"/>
                        </a:lnTo>
                        <a:lnTo>
                          <a:pt x="1110" y="855"/>
                        </a:lnTo>
                        <a:lnTo>
                          <a:pt x="1110" y="855"/>
                        </a:lnTo>
                        <a:lnTo>
                          <a:pt x="1110" y="855"/>
                        </a:lnTo>
                        <a:lnTo>
                          <a:pt x="1082" y="848"/>
                        </a:lnTo>
                        <a:lnTo>
                          <a:pt x="1082" y="848"/>
                        </a:lnTo>
                        <a:lnTo>
                          <a:pt x="1082" y="848"/>
                        </a:lnTo>
                        <a:lnTo>
                          <a:pt x="1053" y="848"/>
                        </a:lnTo>
                        <a:lnTo>
                          <a:pt x="1053" y="848"/>
                        </a:lnTo>
                        <a:lnTo>
                          <a:pt x="1053" y="848"/>
                        </a:lnTo>
                        <a:lnTo>
                          <a:pt x="1025" y="844"/>
                        </a:lnTo>
                        <a:lnTo>
                          <a:pt x="1025" y="844"/>
                        </a:lnTo>
                        <a:lnTo>
                          <a:pt x="1025" y="844"/>
                        </a:lnTo>
                        <a:lnTo>
                          <a:pt x="1000" y="837"/>
                        </a:lnTo>
                        <a:lnTo>
                          <a:pt x="1000" y="837"/>
                        </a:lnTo>
                        <a:lnTo>
                          <a:pt x="1000" y="837"/>
                        </a:lnTo>
                        <a:lnTo>
                          <a:pt x="975" y="834"/>
                        </a:lnTo>
                        <a:lnTo>
                          <a:pt x="975" y="834"/>
                        </a:lnTo>
                        <a:lnTo>
                          <a:pt x="975" y="834"/>
                        </a:lnTo>
                        <a:lnTo>
                          <a:pt x="946" y="827"/>
                        </a:lnTo>
                        <a:lnTo>
                          <a:pt x="946" y="827"/>
                        </a:lnTo>
                        <a:lnTo>
                          <a:pt x="946" y="827"/>
                        </a:lnTo>
                        <a:lnTo>
                          <a:pt x="918" y="823"/>
                        </a:lnTo>
                        <a:lnTo>
                          <a:pt x="918" y="823"/>
                        </a:lnTo>
                        <a:lnTo>
                          <a:pt x="918" y="823"/>
                        </a:lnTo>
                        <a:lnTo>
                          <a:pt x="896" y="816"/>
                        </a:lnTo>
                        <a:lnTo>
                          <a:pt x="896" y="816"/>
                        </a:lnTo>
                        <a:lnTo>
                          <a:pt x="896" y="816"/>
                        </a:lnTo>
                        <a:lnTo>
                          <a:pt x="868" y="809"/>
                        </a:lnTo>
                        <a:lnTo>
                          <a:pt x="868" y="809"/>
                        </a:lnTo>
                        <a:lnTo>
                          <a:pt x="868" y="809"/>
                        </a:lnTo>
                        <a:lnTo>
                          <a:pt x="843" y="802"/>
                        </a:lnTo>
                        <a:lnTo>
                          <a:pt x="843" y="802"/>
                        </a:lnTo>
                        <a:lnTo>
                          <a:pt x="843" y="802"/>
                        </a:lnTo>
                        <a:lnTo>
                          <a:pt x="818" y="795"/>
                        </a:lnTo>
                        <a:lnTo>
                          <a:pt x="818" y="795"/>
                        </a:lnTo>
                        <a:lnTo>
                          <a:pt x="818" y="795"/>
                        </a:lnTo>
                        <a:lnTo>
                          <a:pt x="793" y="787"/>
                        </a:lnTo>
                        <a:lnTo>
                          <a:pt x="793" y="787"/>
                        </a:lnTo>
                        <a:lnTo>
                          <a:pt x="793" y="787"/>
                        </a:lnTo>
                        <a:lnTo>
                          <a:pt x="768" y="784"/>
                        </a:lnTo>
                        <a:lnTo>
                          <a:pt x="768" y="784"/>
                        </a:lnTo>
                        <a:lnTo>
                          <a:pt x="768" y="784"/>
                        </a:lnTo>
                        <a:lnTo>
                          <a:pt x="743" y="777"/>
                        </a:lnTo>
                        <a:lnTo>
                          <a:pt x="743" y="777"/>
                        </a:lnTo>
                        <a:lnTo>
                          <a:pt x="743" y="777"/>
                        </a:lnTo>
                        <a:lnTo>
                          <a:pt x="721" y="770"/>
                        </a:lnTo>
                        <a:lnTo>
                          <a:pt x="721" y="770"/>
                        </a:lnTo>
                        <a:lnTo>
                          <a:pt x="721" y="770"/>
                        </a:lnTo>
                        <a:lnTo>
                          <a:pt x="693" y="763"/>
                        </a:lnTo>
                        <a:lnTo>
                          <a:pt x="693" y="763"/>
                        </a:lnTo>
                        <a:lnTo>
                          <a:pt x="693" y="763"/>
                        </a:lnTo>
                        <a:lnTo>
                          <a:pt x="671" y="755"/>
                        </a:lnTo>
                        <a:lnTo>
                          <a:pt x="671" y="755"/>
                        </a:lnTo>
                        <a:lnTo>
                          <a:pt x="671" y="755"/>
                        </a:lnTo>
                        <a:lnTo>
                          <a:pt x="646" y="745"/>
                        </a:lnTo>
                        <a:lnTo>
                          <a:pt x="646" y="745"/>
                        </a:lnTo>
                        <a:lnTo>
                          <a:pt x="646" y="745"/>
                        </a:lnTo>
                        <a:lnTo>
                          <a:pt x="621" y="741"/>
                        </a:lnTo>
                        <a:lnTo>
                          <a:pt x="621" y="741"/>
                        </a:lnTo>
                        <a:lnTo>
                          <a:pt x="621" y="741"/>
                        </a:lnTo>
                        <a:lnTo>
                          <a:pt x="604" y="731"/>
                        </a:lnTo>
                        <a:lnTo>
                          <a:pt x="604" y="731"/>
                        </a:lnTo>
                        <a:lnTo>
                          <a:pt x="604" y="731"/>
                        </a:lnTo>
                        <a:lnTo>
                          <a:pt x="579" y="723"/>
                        </a:lnTo>
                        <a:lnTo>
                          <a:pt x="579" y="723"/>
                        </a:lnTo>
                        <a:lnTo>
                          <a:pt x="579" y="723"/>
                        </a:lnTo>
                        <a:lnTo>
                          <a:pt x="557" y="716"/>
                        </a:lnTo>
                        <a:lnTo>
                          <a:pt x="557" y="716"/>
                        </a:lnTo>
                        <a:lnTo>
                          <a:pt x="557" y="716"/>
                        </a:lnTo>
                        <a:lnTo>
                          <a:pt x="536" y="706"/>
                        </a:lnTo>
                        <a:lnTo>
                          <a:pt x="536" y="706"/>
                        </a:lnTo>
                        <a:lnTo>
                          <a:pt x="536" y="706"/>
                        </a:lnTo>
                        <a:lnTo>
                          <a:pt x="514" y="699"/>
                        </a:lnTo>
                        <a:lnTo>
                          <a:pt x="514" y="699"/>
                        </a:lnTo>
                        <a:lnTo>
                          <a:pt x="514" y="699"/>
                        </a:lnTo>
                        <a:lnTo>
                          <a:pt x="497" y="691"/>
                        </a:lnTo>
                        <a:lnTo>
                          <a:pt x="497" y="691"/>
                        </a:lnTo>
                        <a:lnTo>
                          <a:pt x="497" y="691"/>
                        </a:lnTo>
                        <a:lnTo>
                          <a:pt x="475" y="681"/>
                        </a:lnTo>
                        <a:lnTo>
                          <a:pt x="475" y="681"/>
                        </a:lnTo>
                        <a:lnTo>
                          <a:pt x="475" y="681"/>
                        </a:lnTo>
                        <a:lnTo>
                          <a:pt x="454" y="670"/>
                        </a:lnTo>
                        <a:lnTo>
                          <a:pt x="454" y="670"/>
                        </a:lnTo>
                        <a:lnTo>
                          <a:pt x="454" y="670"/>
                        </a:lnTo>
                        <a:lnTo>
                          <a:pt x="432" y="663"/>
                        </a:lnTo>
                        <a:lnTo>
                          <a:pt x="432" y="663"/>
                        </a:lnTo>
                        <a:lnTo>
                          <a:pt x="432" y="663"/>
                        </a:lnTo>
                        <a:lnTo>
                          <a:pt x="413" y="651"/>
                        </a:lnTo>
                        <a:lnTo>
                          <a:pt x="413" y="651"/>
                        </a:lnTo>
                        <a:lnTo>
                          <a:pt x="413" y="651"/>
                        </a:lnTo>
                        <a:lnTo>
                          <a:pt x="392" y="644"/>
                        </a:lnTo>
                        <a:lnTo>
                          <a:pt x="392" y="644"/>
                        </a:lnTo>
                        <a:lnTo>
                          <a:pt x="392" y="644"/>
                        </a:lnTo>
                        <a:lnTo>
                          <a:pt x="374" y="634"/>
                        </a:lnTo>
                        <a:lnTo>
                          <a:pt x="374" y="634"/>
                        </a:lnTo>
                        <a:lnTo>
                          <a:pt x="374" y="634"/>
                        </a:lnTo>
                        <a:lnTo>
                          <a:pt x="356" y="623"/>
                        </a:lnTo>
                        <a:lnTo>
                          <a:pt x="356" y="623"/>
                        </a:lnTo>
                        <a:lnTo>
                          <a:pt x="356" y="623"/>
                        </a:lnTo>
                        <a:lnTo>
                          <a:pt x="339" y="612"/>
                        </a:lnTo>
                        <a:lnTo>
                          <a:pt x="339" y="612"/>
                        </a:lnTo>
                        <a:lnTo>
                          <a:pt x="339" y="612"/>
                        </a:lnTo>
                        <a:lnTo>
                          <a:pt x="321" y="602"/>
                        </a:lnTo>
                        <a:lnTo>
                          <a:pt x="321" y="602"/>
                        </a:lnTo>
                        <a:lnTo>
                          <a:pt x="321" y="602"/>
                        </a:lnTo>
                        <a:lnTo>
                          <a:pt x="303" y="591"/>
                        </a:lnTo>
                        <a:lnTo>
                          <a:pt x="303" y="591"/>
                        </a:lnTo>
                        <a:lnTo>
                          <a:pt x="303" y="591"/>
                        </a:lnTo>
                        <a:lnTo>
                          <a:pt x="285" y="584"/>
                        </a:lnTo>
                        <a:lnTo>
                          <a:pt x="285" y="584"/>
                        </a:lnTo>
                        <a:lnTo>
                          <a:pt x="285" y="584"/>
                        </a:lnTo>
                        <a:lnTo>
                          <a:pt x="271" y="573"/>
                        </a:lnTo>
                        <a:lnTo>
                          <a:pt x="271" y="573"/>
                        </a:lnTo>
                        <a:lnTo>
                          <a:pt x="271" y="573"/>
                        </a:lnTo>
                        <a:lnTo>
                          <a:pt x="256" y="562"/>
                        </a:lnTo>
                        <a:lnTo>
                          <a:pt x="256" y="562"/>
                        </a:lnTo>
                        <a:lnTo>
                          <a:pt x="256" y="562"/>
                        </a:lnTo>
                        <a:lnTo>
                          <a:pt x="239" y="552"/>
                        </a:lnTo>
                        <a:lnTo>
                          <a:pt x="239" y="552"/>
                        </a:lnTo>
                        <a:lnTo>
                          <a:pt x="239" y="552"/>
                        </a:lnTo>
                        <a:lnTo>
                          <a:pt x="224" y="541"/>
                        </a:lnTo>
                        <a:lnTo>
                          <a:pt x="224" y="541"/>
                        </a:lnTo>
                        <a:lnTo>
                          <a:pt x="224" y="541"/>
                        </a:lnTo>
                        <a:lnTo>
                          <a:pt x="210" y="530"/>
                        </a:lnTo>
                        <a:lnTo>
                          <a:pt x="210" y="530"/>
                        </a:lnTo>
                        <a:lnTo>
                          <a:pt x="210" y="530"/>
                        </a:lnTo>
                        <a:lnTo>
                          <a:pt x="196" y="520"/>
                        </a:lnTo>
                        <a:lnTo>
                          <a:pt x="196" y="520"/>
                        </a:lnTo>
                        <a:lnTo>
                          <a:pt x="196" y="520"/>
                        </a:lnTo>
                        <a:lnTo>
                          <a:pt x="182" y="509"/>
                        </a:lnTo>
                        <a:lnTo>
                          <a:pt x="182" y="509"/>
                        </a:lnTo>
                        <a:lnTo>
                          <a:pt x="182" y="509"/>
                        </a:lnTo>
                        <a:lnTo>
                          <a:pt x="171" y="498"/>
                        </a:lnTo>
                        <a:lnTo>
                          <a:pt x="171" y="498"/>
                        </a:lnTo>
                        <a:lnTo>
                          <a:pt x="171" y="498"/>
                        </a:lnTo>
                        <a:lnTo>
                          <a:pt x="157" y="488"/>
                        </a:lnTo>
                        <a:lnTo>
                          <a:pt x="157" y="488"/>
                        </a:lnTo>
                        <a:lnTo>
                          <a:pt x="157" y="488"/>
                        </a:lnTo>
                        <a:lnTo>
                          <a:pt x="146" y="473"/>
                        </a:lnTo>
                        <a:lnTo>
                          <a:pt x="146" y="473"/>
                        </a:lnTo>
                        <a:lnTo>
                          <a:pt x="146" y="473"/>
                        </a:lnTo>
                        <a:lnTo>
                          <a:pt x="132" y="466"/>
                        </a:lnTo>
                        <a:lnTo>
                          <a:pt x="132" y="466"/>
                        </a:lnTo>
                        <a:lnTo>
                          <a:pt x="132" y="466"/>
                        </a:lnTo>
                        <a:lnTo>
                          <a:pt x="121" y="452"/>
                        </a:lnTo>
                        <a:lnTo>
                          <a:pt x="121" y="452"/>
                        </a:lnTo>
                        <a:lnTo>
                          <a:pt x="121" y="452"/>
                        </a:lnTo>
                        <a:lnTo>
                          <a:pt x="110" y="441"/>
                        </a:lnTo>
                        <a:lnTo>
                          <a:pt x="110" y="441"/>
                        </a:lnTo>
                        <a:lnTo>
                          <a:pt x="110" y="441"/>
                        </a:lnTo>
                        <a:lnTo>
                          <a:pt x="103" y="427"/>
                        </a:lnTo>
                        <a:lnTo>
                          <a:pt x="103" y="427"/>
                        </a:lnTo>
                        <a:lnTo>
                          <a:pt x="103" y="427"/>
                        </a:lnTo>
                        <a:lnTo>
                          <a:pt x="92" y="417"/>
                        </a:lnTo>
                        <a:lnTo>
                          <a:pt x="92" y="417"/>
                        </a:lnTo>
                        <a:lnTo>
                          <a:pt x="92" y="417"/>
                        </a:lnTo>
                        <a:lnTo>
                          <a:pt x="82" y="406"/>
                        </a:lnTo>
                        <a:lnTo>
                          <a:pt x="82" y="406"/>
                        </a:lnTo>
                        <a:lnTo>
                          <a:pt x="82" y="406"/>
                        </a:lnTo>
                        <a:lnTo>
                          <a:pt x="71" y="395"/>
                        </a:lnTo>
                        <a:lnTo>
                          <a:pt x="71" y="395"/>
                        </a:lnTo>
                        <a:lnTo>
                          <a:pt x="71" y="395"/>
                        </a:lnTo>
                        <a:lnTo>
                          <a:pt x="64" y="381"/>
                        </a:lnTo>
                        <a:lnTo>
                          <a:pt x="64" y="381"/>
                        </a:lnTo>
                        <a:lnTo>
                          <a:pt x="64" y="381"/>
                        </a:lnTo>
                        <a:lnTo>
                          <a:pt x="57" y="370"/>
                        </a:lnTo>
                        <a:lnTo>
                          <a:pt x="57" y="370"/>
                        </a:lnTo>
                        <a:lnTo>
                          <a:pt x="57" y="370"/>
                        </a:lnTo>
                        <a:lnTo>
                          <a:pt x="49" y="356"/>
                        </a:lnTo>
                        <a:lnTo>
                          <a:pt x="49" y="356"/>
                        </a:lnTo>
                        <a:lnTo>
                          <a:pt x="49" y="356"/>
                        </a:lnTo>
                        <a:lnTo>
                          <a:pt x="42" y="345"/>
                        </a:lnTo>
                        <a:lnTo>
                          <a:pt x="42" y="345"/>
                        </a:lnTo>
                        <a:lnTo>
                          <a:pt x="42" y="345"/>
                        </a:lnTo>
                        <a:lnTo>
                          <a:pt x="35" y="335"/>
                        </a:lnTo>
                        <a:lnTo>
                          <a:pt x="35" y="335"/>
                        </a:lnTo>
                        <a:lnTo>
                          <a:pt x="35" y="335"/>
                        </a:lnTo>
                        <a:lnTo>
                          <a:pt x="32" y="321"/>
                        </a:lnTo>
                        <a:lnTo>
                          <a:pt x="32" y="321"/>
                        </a:lnTo>
                        <a:lnTo>
                          <a:pt x="32" y="321"/>
                        </a:lnTo>
                        <a:lnTo>
                          <a:pt x="24" y="310"/>
                        </a:lnTo>
                        <a:lnTo>
                          <a:pt x="24" y="310"/>
                        </a:lnTo>
                        <a:lnTo>
                          <a:pt x="24" y="310"/>
                        </a:lnTo>
                        <a:lnTo>
                          <a:pt x="21" y="296"/>
                        </a:lnTo>
                        <a:lnTo>
                          <a:pt x="21" y="296"/>
                        </a:lnTo>
                        <a:lnTo>
                          <a:pt x="21" y="296"/>
                        </a:lnTo>
                        <a:lnTo>
                          <a:pt x="17" y="285"/>
                        </a:lnTo>
                        <a:lnTo>
                          <a:pt x="17" y="285"/>
                        </a:lnTo>
                        <a:lnTo>
                          <a:pt x="17" y="285"/>
                        </a:lnTo>
                        <a:lnTo>
                          <a:pt x="14" y="274"/>
                        </a:lnTo>
                        <a:lnTo>
                          <a:pt x="14" y="274"/>
                        </a:lnTo>
                        <a:lnTo>
                          <a:pt x="14" y="274"/>
                        </a:lnTo>
                        <a:lnTo>
                          <a:pt x="7" y="260"/>
                        </a:lnTo>
                        <a:lnTo>
                          <a:pt x="7" y="260"/>
                        </a:lnTo>
                        <a:lnTo>
                          <a:pt x="7" y="260"/>
                        </a:lnTo>
                        <a:lnTo>
                          <a:pt x="7" y="246"/>
                        </a:lnTo>
                        <a:lnTo>
                          <a:pt x="7" y="246"/>
                        </a:lnTo>
                        <a:lnTo>
                          <a:pt x="7" y="246"/>
                        </a:lnTo>
                        <a:lnTo>
                          <a:pt x="3" y="235"/>
                        </a:lnTo>
                        <a:lnTo>
                          <a:pt x="3" y="235"/>
                        </a:lnTo>
                        <a:lnTo>
                          <a:pt x="3" y="235"/>
                        </a:lnTo>
                        <a:lnTo>
                          <a:pt x="0" y="220"/>
                        </a:lnTo>
                        <a:lnTo>
                          <a:pt x="0" y="220"/>
                        </a:lnTo>
                        <a:lnTo>
                          <a:pt x="0" y="220"/>
                        </a:lnTo>
                        <a:lnTo>
                          <a:pt x="0" y="209"/>
                        </a:lnTo>
                        <a:lnTo>
                          <a:pt x="0" y="209"/>
                        </a:lnTo>
                        <a:lnTo>
                          <a:pt x="0" y="209"/>
                        </a:lnTo>
                        <a:lnTo>
                          <a:pt x="0" y="199"/>
                        </a:lnTo>
                        <a:lnTo>
                          <a:pt x="0" y="199"/>
                        </a:lnTo>
                        <a:lnTo>
                          <a:pt x="0" y="199"/>
                        </a:lnTo>
                        <a:lnTo>
                          <a:pt x="0" y="184"/>
                        </a:lnTo>
                        <a:lnTo>
                          <a:pt x="0" y="184"/>
                        </a:lnTo>
                        <a:lnTo>
                          <a:pt x="0" y="184"/>
                        </a:lnTo>
                        <a:lnTo>
                          <a:pt x="0" y="170"/>
                        </a:lnTo>
                        <a:lnTo>
                          <a:pt x="0" y="170"/>
                        </a:lnTo>
                        <a:lnTo>
                          <a:pt x="0" y="170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lnTo>
                          <a:pt x="0" y="160"/>
                        </a:lnTo>
                        <a:lnTo>
                          <a:pt x="0" y="145"/>
                        </a:lnTo>
                        <a:lnTo>
                          <a:pt x="0" y="145"/>
                        </a:lnTo>
                        <a:lnTo>
                          <a:pt x="0" y="145"/>
                        </a:lnTo>
                        <a:lnTo>
                          <a:pt x="3" y="135"/>
                        </a:lnTo>
                        <a:lnTo>
                          <a:pt x="3" y="135"/>
                        </a:lnTo>
                        <a:lnTo>
                          <a:pt x="3" y="135"/>
                        </a:lnTo>
                        <a:lnTo>
                          <a:pt x="7" y="120"/>
                        </a:lnTo>
                        <a:lnTo>
                          <a:pt x="7" y="120"/>
                        </a:lnTo>
                        <a:lnTo>
                          <a:pt x="7" y="120"/>
                        </a:lnTo>
                        <a:lnTo>
                          <a:pt x="7" y="110"/>
                        </a:lnTo>
                        <a:lnTo>
                          <a:pt x="7" y="110"/>
                        </a:lnTo>
                        <a:lnTo>
                          <a:pt x="7" y="110"/>
                        </a:lnTo>
                        <a:lnTo>
                          <a:pt x="14" y="99"/>
                        </a:lnTo>
                        <a:lnTo>
                          <a:pt x="14" y="99"/>
                        </a:lnTo>
                        <a:lnTo>
                          <a:pt x="14" y="99"/>
                        </a:lnTo>
                        <a:lnTo>
                          <a:pt x="17" y="85"/>
                        </a:lnTo>
                        <a:lnTo>
                          <a:pt x="17" y="85"/>
                        </a:lnTo>
                        <a:lnTo>
                          <a:pt x="17" y="85"/>
                        </a:lnTo>
                        <a:lnTo>
                          <a:pt x="21" y="74"/>
                        </a:lnTo>
                        <a:lnTo>
                          <a:pt x="21" y="74"/>
                        </a:lnTo>
                        <a:lnTo>
                          <a:pt x="21" y="74"/>
                        </a:lnTo>
                        <a:lnTo>
                          <a:pt x="24" y="60"/>
                        </a:lnTo>
                        <a:lnTo>
                          <a:pt x="24" y="60"/>
                        </a:lnTo>
                        <a:lnTo>
                          <a:pt x="24" y="60"/>
                        </a:lnTo>
                        <a:lnTo>
                          <a:pt x="32" y="49"/>
                        </a:lnTo>
                        <a:lnTo>
                          <a:pt x="32" y="49"/>
                        </a:lnTo>
                        <a:lnTo>
                          <a:pt x="32" y="49"/>
                        </a:lnTo>
                        <a:lnTo>
                          <a:pt x="35" y="35"/>
                        </a:lnTo>
                        <a:lnTo>
                          <a:pt x="35" y="35"/>
                        </a:lnTo>
                        <a:lnTo>
                          <a:pt x="35" y="35"/>
                        </a:lnTo>
                        <a:lnTo>
                          <a:pt x="42" y="21"/>
                        </a:lnTo>
                        <a:lnTo>
                          <a:pt x="42" y="21"/>
                        </a:lnTo>
                        <a:lnTo>
                          <a:pt x="42" y="21"/>
                        </a:lnTo>
                        <a:lnTo>
                          <a:pt x="49" y="14"/>
                        </a:lnTo>
                        <a:lnTo>
                          <a:pt x="49" y="14"/>
                        </a:lnTo>
                        <a:lnTo>
                          <a:pt x="49" y="14"/>
                        </a:lnTo>
                        <a:lnTo>
                          <a:pt x="57" y="0"/>
                        </a:lnTo>
                        <a:lnTo>
                          <a:pt x="57" y="0"/>
                        </a:lnTo>
                        <a:lnTo>
                          <a:pt x="1686" y="184"/>
                        </a:lnTo>
                        <a:lnTo>
                          <a:pt x="1365" y="883"/>
                        </a:lnTo>
                        <a:close/>
                      </a:path>
                    </a:pathLst>
                  </a:custGeom>
                  <a:solidFill>
                    <a:srgbClr val="8901f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7081920" y="4078440"/>
                  <a:ext cx="573120" cy="290160"/>
                  <a:chOff x="7081920" y="4078440"/>
                  <a:chExt cx="573120" cy="290160"/>
                </a:xfrm>
              </p:grpSpPr>
              <p:sp>
                <p:nvSpPr>
                  <p:cNvPr id="243" name=""/>
                  <p:cNvSpPr txBox="1"/>
                  <p:nvPr/>
                </p:nvSpPr>
                <p:spPr>
                  <a:xfrm>
                    <a:off x="7085160" y="4079880"/>
                    <a:ext cx="5698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 txBox="1"/>
                  <p:nvPr/>
                </p:nvSpPr>
                <p:spPr>
                  <a:xfrm>
                    <a:off x="7081920" y="4078440"/>
                    <a:ext cx="5698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Product 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>
                    <a:off x="7085160" y="417024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 txBox="1"/>
                  <p:nvPr/>
                </p:nvSpPr>
                <p:spPr>
                  <a:xfrm>
                    <a:off x="7081920" y="416556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26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6894360" y="4579920"/>
                  <a:ext cx="530280" cy="291960"/>
                  <a:chOff x="6894360" y="4579920"/>
                  <a:chExt cx="530280" cy="291960"/>
                </a:xfrm>
              </p:grpSpPr>
              <p:sp>
                <p:nvSpPr>
                  <p:cNvPr id="248" name=""/>
                  <p:cNvSpPr txBox="1"/>
                  <p:nvPr/>
                </p:nvSpPr>
                <p:spPr>
                  <a:xfrm>
                    <a:off x="6899400" y="458316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 txBox="1"/>
                  <p:nvPr/>
                </p:nvSpPr>
                <p:spPr>
                  <a:xfrm>
                    <a:off x="6894360" y="457992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 txBox="1"/>
                  <p:nvPr/>
                </p:nvSpPr>
                <p:spPr>
                  <a:xfrm>
                    <a:off x="7176960" y="458316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>
                    <a:off x="7174080" y="457992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 txBox="1"/>
                  <p:nvPr/>
                </p:nvSpPr>
                <p:spPr>
                  <a:xfrm>
                    <a:off x="6899400" y="467352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 txBox="1"/>
                  <p:nvPr/>
                </p:nvSpPr>
                <p:spPr>
                  <a:xfrm>
                    <a:off x="6894360" y="467028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2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7678800" y="4021200"/>
                  <a:ext cx="528480" cy="290520"/>
                  <a:chOff x="7678800" y="4021200"/>
                  <a:chExt cx="528480" cy="290520"/>
                </a:xfrm>
              </p:grpSpPr>
              <p:sp>
                <p:nvSpPr>
                  <p:cNvPr id="255" name=""/>
                  <p:cNvSpPr txBox="1"/>
                  <p:nvPr/>
                </p:nvSpPr>
                <p:spPr>
                  <a:xfrm>
                    <a:off x="7682040" y="402444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 txBox="1"/>
                  <p:nvPr/>
                </p:nvSpPr>
                <p:spPr>
                  <a:xfrm>
                    <a:off x="7678800" y="402120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7959600" y="402444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 txBox="1"/>
                  <p:nvPr/>
                </p:nvSpPr>
                <p:spPr>
                  <a:xfrm>
                    <a:off x="7956720" y="402120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7682040" y="411336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7678800" y="411156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1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7772400" y="4430880"/>
                  <a:ext cx="612720" cy="338040"/>
                  <a:chOff x="7772400" y="4430880"/>
                  <a:chExt cx="612720" cy="338040"/>
                </a:xfrm>
              </p:grpSpPr>
              <p:sp>
                <p:nvSpPr>
                  <p:cNvPr id="262" name=""/>
                  <p:cNvSpPr txBox="1"/>
                  <p:nvPr/>
                </p:nvSpPr>
                <p:spPr>
                  <a:xfrm>
                    <a:off x="7775640" y="4433760"/>
                    <a:ext cx="6094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7772400" y="4430880"/>
                    <a:ext cx="6094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6b61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 txBox="1"/>
                  <p:nvPr/>
                </p:nvSpPr>
                <p:spPr>
                  <a:xfrm>
                    <a:off x="8101080" y="4433760"/>
                    <a:ext cx="2667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 txBox="1"/>
                  <p:nvPr/>
                </p:nvSpPr>
                <p:spPr>
                  <a:xfrm>
                    <a:off x="8096400" y="4430880"/>
                    <a:ext cx="2667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900" spc="-1" strike="noStrike">
                        <a:solidFill>
                          <a:srgbClr val="006b61"/>
                        </a:solidFill>
                        <a:latin typeface="Arial"/>
                        <a:ea typeface="Arial"/>
                      </a:rPr>
                      <a:t>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7775640" y="4540320"/>
                    <a:ext cx="412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 txBox="1"/>
                  <p:nvPr/>
                </p:nvSpPr>
                <p:spPr>
                  <a:xfrm>
                    <a:off x="7772400" y="4535640"/>
                    <a:ext cx="412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6b61"/>
                        </a:solidFill>
                        <a:latin typeface="Arial"/>
                        <a:ea typeface="Arial"/>
                      </a:rPr>
                      <a:t>40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8" name=""/>
          <p:cNvGrpSpPr/>
          <p:nvPr/>
        </p:nvGrpSpPr>
        <p:grpSpPr>
          <a:xfrm>
            <a:off x="839880" y="1547640"/>
            <a:ext cx="3105000" cy="2453760"/>
            <a:chOff x="839880" y="1547640"/>
            <a:chExt cx="3105000" cy="2453760"/>
          </a:xfrm>
        </p:grpSpPr>
        <p:sp>
          <p:nvSpPr>
            <p:cNvPr id="269" name=""/>
            <p:cNvSpPr txBox="1"/>
            <p:nvPr/>
          </p:nvSpPr>
          <p:spPr>
            <a:xfrm>
              <a:off x="839880" y="2760840"/>
              <a:ext cx="3105000" cy="124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igh Resolu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35mm Sli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714680" y="1547640"/>
              <a:ext cx="1095840" cy="1092600"/>
              <a:chOff x="1714680" y="1547640"/>
              <a:chExt cx="1095840" cy="1092600"/>
            </a:xfrm>
          </p:grpSpPr>
          <p:sp>
            <p:nvSpPr>
              <p:cNvPr id="271" name=""/>
              <p:cNvSpPr/>
              <p:nvPr/>
            </p:nvSpPr>
            <p:spPr>
              <a:xfrm>
                <a:off x="1787400" y="2147760"/>
                <a:ext cx="949680" cy="143280"/>
              </a:xfrm>
              <a:custGeom>
                <a:avLst/>
                <a:gdLst/>
                <a:ahLst/>
                <a:rect l="0" t="0" r="r" b="b"/>
                <a:pathLst>
                  <a:path w="2638" h="398">
                    <a:moveTo>
                      <a:pt x="0" y="0"/>
                    </a:moveTo>
                    <a:lnTo>
                      <a:pt x="2638" y="0"/>
                    </a:lnTo>
                    <a:lnTo>
                      <a:pt x="2638" y="398"/>
                    </a:lnTo>
                    <a:lnTo>
                      <a:pt x="0" y="3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787400" y="2147760"/>
                <a:ext cx="949680" cy="143280"/>
              </a:xfrm>
              <a:custGeom>
                <a:avLst/>
                <a:gdLst/>
                <a:ahLst/>
                <a:rect l="0" t="0" r="r" b="b"/>
                <a:pathLst>
                  <a:path fill="none" w="2638" h="398">
                    <a:moveTo>
                      <a:pt x="0" y="0"/>
                    </a:moveTo>
                    <a:lnTo>
                      <a:pt x="2638" y="0"/>
                    </a:lnTo>
                    <a:lnTo>
                      <a:pt x="2638" y="398"/>
                    </a:lnTo>
                    <a:lnTo>
                      <a:pt x="0" y="3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87400" y="2147760"/>
                <a:ext cx="949680" cy="143280"/>
              </a:xfrm>
              <a:custGeom>
                <a:avLst/>
                <a:gdLst/>
                <a:ahLst/>
                <a:rect l="0" t="0" r="r" b="b"/>
                <a:pathLst>
                  <a:path fill="none" w="2638" h="398">
                    <a:moveTo>
                      <a:pt x="2638" y="0"/>
                    </a:moveTo>
                    <a:lnTo>
                      <a:pt x="2638" y="398"/>
                    </a:lnTo>
                    <a:lnTo>
                      <a:pt x="0" y="398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787400" y="2147760"/>
                <a:ext cx="949680" cy="143280"/>
              </a:xfrm>
              <a:custGeom>
                <a:avLst/>
                <a:gdLst/>
                <a:ahLst/>
                <a:rect l="0" t="0" r="r" b="b"/>
                <a:pathLst>
                  <a:path fill="none" w="2638" h="398">
                    <a:moveTo>
                      <a:pt x="0" y="398"/>
                    </a:moveTo>
                    <a:lnTo>
                      <a:pt x="0" y="0"/>
                    </a:lnTo>
                    <a:lnTo>
                      <a:pt x="2638" y="0"/>
                    </a:lnTo>
                  </a:path>
                </a:pathLst>
              </a:custGeom>
              <a:ln w="12600">
                <a:solidFill>
                  <a:srgbClr val="8c8c8c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797120" y="2174760"/>
                <a:ext cx="52920" cy="52920"/>
              </a:xfrm>
              <a:custGeom>
                <a:avLst/>
                <a:gdLst/>
                <a:ahLst/>
                <a:rect l="0" t="0" r="r" b="b"/>
                <a:pathLst>
                  <a:path w="147" h="147">
                    <a:moveTo>
                      <a:pt x="147" y="73"/>
                    </a:moveTo>
                    <a:lnTo>
                      <a:pt x="147" y="44"/>
                    </a:lnTo>
                    <a:lnTo>
                      <a:pt x="132" y="29"/>
                    </a:lnTo>
                    <a:lnTo>
                      <a:pt x="102" y="0"/>
                    </a:lnTo>
                    <a:lnTo>
                      <a:pt x="88" y="0"/>
                    </a:lnTo>
                    <a:lnTo>
                      <a:pt x="44" y="0"/>
                    </a:lnTo>
                    <a:lnTo>
                      <a:pt x="29" y="29"/>
                    </a:lnTo>
                    <a:lnTo>
                      <a:pt x="0" y="44"/>
                    </a:lnTo>
                    <a:lnTo>
                      <a:pt x="0" y="73"/>
                    </a:lnTo>
                    <a:lnTo>
                      <a:pt x="0" y="102"/>
                    </a:lnTo>
                    <a:lnTo>
                      <a:pt x="29" y="118"/>
                    </a:lnTo>
                    <a:lnTo>
                      <a:pt x="44" y="132"/>
                    </a:lnTo>
                    <a:lnTo>
                      <a:pt x="88" y="147"/>
                    </a:lnTo>
                    <a:lnTo>
                      <a:pt x="102" y="132"/>
                    </a:lnTo>
                    <a:lnTo>
                      <a:pt x="132" y="118"/>
                    </a:lnTo>
                    <a:lnTo>
                      <a:pt x="147" y="102"/>
                    </a:lnTo>
                    <a:lnTo>
                      <a:pt x="147" y="73"/>
                    </a:lnTo>
                    <a:close/>
                  </a:path>
                </a:pathLst>
              </a:custGeom>
              <a:solidFill>
                <a:srgbClr val="071e56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97120" y="2174760"/>
                <a:ext cx="52920" cy="52920"/>
              </a:xfrm>
              <a:custGeom>
                <a:avLst/>
                <a:gdLst/>
                <a:ahLst/>
                <a:rect l="0" t="0" r="r" b="b"/>
                <a:pathLst>
                  <a:path fill="none" w="147" h="147">
                    <a:moveTo>
                      <a:pt x="147" y="73"/>
                    </a:moveTo>
                    <a:lnTo>
                      <a:pt x="147" y="73"/>
                    </a:lnTo>
                    <a:lnTo>
                      <a:pt x="147" y="44"/>
                    </a:lnTo>
                    <a:lnTo>
                      <a:pt x="132" y="29"/>
                    </a:lnTo>
                    <a:lnTo>
                      <a:pt x="102" y="0"/>
                    </a:lnTo>
                    <a:lnTo>
                      <a:pt x="88" y="0"/>
                    </a:lnTo>
                    <a:lnTo>
                      <a:pt x="88" y="0"/>
                    </a:lnTo>
                    <a:lnTo>
                      <a:pt x="44" y="0"/>
                    </a:lnTo>
                    <a:lnTo>
                      <a:pt x="29" y="29"/>
                    </a:lnTo>
                    <a:lnTo>
                      <a:pt x="0" y="44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0" y="102"/>
                    </a:lnTo>
                    <a:lnTo>
                      <a:pt x="29" y="118"/>
                    </a:lnTo>
                    <a:lnTo>
                      <a:pt x="44" y="132"/>
                    </a:lnTo>
                    <a:lnTo>
                      <a:pt x="88" y="147"/>
                    </a:lnTo>
                    <a:lnTo>
                      <a:pt x="88" y="147"/>
                    </a:lnTo>
                    <a:lnTo>
                      <a:pt x="102" y="132"/>
                    </a:lnTo>
                    <a:lnTo>
                      <a:pt x="132" y="118"/>
                    </a:lnTo>
                    <a:lnTo>
                      <a:pt x="147" y="102"/>
                    </a:lnTo>
                    <a:lnTo>
                      <a:pt x="147" y="73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797120" y="2174760"/>
                <a:ext cx="52920" cy="52920"/>
              </a:xfrm>
              <a:custGeom>
                <a:avLst/>
                <a:gdLst/>
                <a:ahLst/>
                <a:rect l="0" t="0" r="r" b="b"/>
                <a:pathLst>
                  <a:path w="147" h="147">
                    <a:moveTo>
                      <a:pt x="147" y="59"/>
                    </a:moveTo>
                    <a:lnTo>
                      <a:pt x="147" y="44"/>
                    </a:lnTo>
                    <a:lnTo>
                      <a:pt x="132" y="14"/>
                    </a:lnTo>
                    <a:lnTo>
                      <a:pt x="102" y="0"/>
                    </a:lnTo>
                    <a:lnTo>
                      <a:pt x="73" y="0"/>
                    </a:lnTo>
                    <a:lnTo>
                      <a:pt x="44" y="0"/>
                    </a:lnTo>
                    <a:lnTo>
                      <a:pt x="29" y="14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102"/>
                    </a:lnTo>
                    <a:lnTo>
                      <a:pt x="29" y="118"/>
                    </a:lnTo>
                    <a:lnTo>
                      <a:pt x="44" y="132"/>
                    </a:lnTo>
                    <a:lnTo>
                      <a:pt x="73" y="147"/>
                    </a:lnTo>
                    <a:lnTo>
                      <a:pt x="102" y="132"/>
                    </a:lnTo>
                    <a:lnTo>
                      <a:pt x="132" y="118"/>
                    </a:lnTo>
                    <a:lnTo>
                      <a:pt x="147" y="102"/>
                    </a:lnTo>
                    <a:lnTo>
                      <a:pt x="147" y="59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797120" y="2174760"/>
                <a:ext cx="52920" cy="52920"/>
              </a:xfrm>
              <a:custGeom>
                <a:avLst/>
                <a:gdLst/>
                <a:ahLst/>
                <a:rect l="0" t="0" r="r" b="b"/>
                <a:pathLst>
                  <a:path fill="none" w="147" h="147">
                    <a:moveTo>
                      <a:pt x="147" y="59"/>
                    </a:moveTo>
                    <a:lnTo>
                      <a:pt x="147" y="59"/>
                    </a:lnTo>
                    <a:lnTo>
                      <a:pt x="147" y="44"/>
                    </a:lnTo>
                    <a:lnTo>
                      <a:pt x="132" y="14"/>
                    </a:lnTo>
                    <a:lnTo>
                      <a:pt x="102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44" y="0"/>
                    </a:lnTo>
                    <a:lnTo>
                      <a:pt x="29" y="14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102"/>
                    </a:lnTo>
                    <a:lnTo>
                      <a:pt x="29" y="118"/>
                    </a:lnTo>
                    <a:lnTo>
                      <a:pt x="44" y="132"/>
                    </a:lnTo>
                    <a:lnTo>
                      <a:pt x="73" y="147"/>
                    </a:lnTo>
                    <a:lnTo>
                      <a:pt x="73" y="147"/>
                    </a:lnTo>
                    <a:lnTo>
                      <a:pt x="102" y="132"/>
                    </a:lnTo>
                    <a:lnTo>
                      <a:pt x="132" y="118"/>
                    </a:lnTo>
                    <a:lnTo>
                      <a:pt x="147" y="102"/>
                    </a:lnTo>
                    <a:lnTo>
                      <a:pt x="147" y="59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97120" y="2174760"/>
                <a:ext cx="52920" cy="52920"/>
              </a:xfrm>
              <a:custGeom>
                <a:avLst/>
                <a:gdLst/>
                <a:ahLst/>
                <a:rect l="0" t="0" r="r" b="b"/>
                <a:pathLst>
                  <a:path w="147" h="147">
                    <a:moveTo>
                      <a:pt x="147" y="59"/>
                    </a:moveTo>
                    <a:lnTo>
                      <a:pt x="147" y="44"/>
                    </a:lnTo>
                    <a:lnTo>
                      <a:pt x="132" y="14"/>
                    </a:lnTo>
                    <a:lnTo>
                      <a:pt x="102" y="0"/>
                    </a:lnTo>
                    <a:lnTo>
                      <a:pt x="73" y="0"/>
                    </a:lnTo>
                    <a:lnTo>
                      <a:pt x="44" y="0"/>
                    </a:lnTo>
                    <a:lnTo>
                      <a:pt x="29" y="14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102"/>
                    </a:lnTo>
                    <a:lnTo>
                      <a:pt x="29" y="118"/>
                    </a:lnTo>
                    <a:lnTo>
                      <a:pt x="44" y="132"/>
                    </a:lnTo>
                    <a:lnTo>
                      <a:pt x="73" y="147"/>
                    </a:lnTo>
                    <a:lnTo>
                      <a:pt x="102" y="132"/>
                    </a:lnTo>
                    <a:lnTo>
                      <a:pt x="132" y="118"/>
                    </a:lnTo>
                    <a:lnTo>
                      <a:pt x="147" y="102"/>
                    </a:lnTo>
                    <a:lnTo>
                      <a:pt x="147" y="59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797120" y="2174760"/>
                <a:ext cx="52920" cy="52920"/>
              </a:xfrm>
              <a:custGeom>
                <a:avLst/>
                <a:gdLst/>
                <a:ahLst/>
                <a:rect l="0" t="0" r="r" b="b"/>
                <a:pathLst>
                  <a:path fill="none" w="147" h="147">
                    <a:moveTo>
                      <a:pt x="147" y="59"/>
                    </a:moveTo>
                    <a:lnTo>
                      <a:pt x="147" y="59"/>
                    </a:lnTo>
                    <a:lnTo>
                      <a:pt x="147" y="44"/>
                    </a:lnTo>
                    <a:lnTo>
                      <a:pt x="132" y="14"/>
                    </a:lnTo>
                    <a:lnTo>
                      <a:pt x="102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44" y="0"/>
                    </a:lnTo>
                    <a:lnTo>
                      <a:pt x="29" y="14"/>
                    </a:lnTo>
                    <a:lnTo>
                      <a:pt x="0" y="44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102"/>
                    </a:lnTo>
                    <a:lnTo>
                      <a:pt x="29" y="118"/>
                    </a:lnTo>
                    <a:lnTo>
                      <a:pt x="44" y="132"/>
                    </a:lnTo>
                    <a:lnTo>
                      <a:pt x="73" y="147"/>
                    </a:lnTo>
                    <a:lnTo>
                      <a:pt x="73" y="147"/>
                    </a:lnTo>
                    <a:lnTo>
                      <a:pt x="102" y="132"/>
                    </a:lnTo>
                    <a:lnTo>
                      <a:pt x="132" y="118"/>
                    </a:lnTo>
                    <a:lnTo>
                      <a:pt x="147" y="102"/>
                    </a:lnTo>
                    <a:lnTo>
                      <a:pt x="147" y="59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14680" y="1547640"/>
                <a:ext cx="1095840" cy="1092600"/>
              </a:xfrm>
              <a:custGeom>
                <a:avLst/>
                <a:gdLst/>
                <a:ahLst/>
                <a:rect l="0" t="0" r="r" b="b"/>
                <a:pathLst>
                  <a:path w="3044" h="3035">
                    <a:moveTo>
                      <a:pt x="0" y="0"/>
                    </a:moveTo>
                    <a:lnTo>
                      <a:pt x="3044" y="0"/>
                    </a:lnTo>
                    <a:lnTo>
                      <a:pt x="3044" y="3035"/>
                    </a:lnTo>
                    <a:lnTo>
                      <a:pt x="0" y="30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714680" y="1547640"/>
                <a:ext cx="1095840" cy="1092600"/>
              </a:xfrm>
              <a:custGeom>
                <a:avLst/>
                <a:gdLst/>
                <a:ahLst/>
                <a:rect l="0" t="0" r="r" b="b"/>
                <a:pathLst>
                  <a:path fill="none" w="3044" h="3035">
                    <a:moveTo>
                      <a:pt x="0" y="0"/>
                    </a:moveTo>
                    <a:lnTo>
                      <a:pt x="3044" y="0"/>
                    </a:lnTo>
                    <a:lnTo>
                      <a:pt x="3044" y="3035"/>
                    </a:lnTo>
                    <a:lnTo>
                      <a:pt x="0" y="30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847880" y="1820880"/>
                <a:ext cx="827280" cy="546480"/>
              </a:xfrm>
              <a:custGeom>
                <a:avLst/>
                <a:gdLst/>
                <a:ahLst/>
                <a:rect l="0" t="0" r="r" b="b"/>
                <a:pathLst>
                  <a:path w="2298" h="1518">
                    <a:moveTo>
                      <a:pt x="0" y="0"/>
                    </a:moveTo>
                    <a:lnTo>
                      <a:pt x="2298" y="0"/>
                    </a:lnTo>
                    <a:lnTo>
                      <a:pt x="2298" y="1518"/>
                    </a:lnTo>
                    <a:lnTo>
                      <a:pt x="0" y="15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618ffd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847880" y="1820880"/>
                <a:ext cx="827280" cy="546480"/>
              </a:xfrm>
              <a:custGeom>
                <a:avLst/>
                <a:gdLst/>
                <a:ahLst/>
                <a:rect l="0" t="0" r="r" b="b"/>
                <a:pathLst>
                  <a:path fill="none" w="2298" h="1518">
                    <a:moveTo>
                      <a:pt x="0" y="0"/>
                    </a:moveTo>
                    <a:lnTo>
                      <a:pt x="2298" y="0"/>
                    </a:lnTo>
                    <a:lnTo>
                      <a:pt x="2298" y="1518"/>
                    </a:lnTo>
                    <a:lnTo>
                      <a:pt x="0" y="151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47880" y="1820880"/>
                <a:ext cx="827280" cy="546480"/>
              </a:xfrm>
              <a:custGeom>
                <a:avLst/>
                <a:gdLst/>
                <a:ahLst/>
                <a:rect l="0" t="0" r="r" b="b"/>
                <a:pathLst>
                  <a:path fill="none" w="2298" h="1518">
                    <a:moveTo>
                      <a:pt x="0" y="1518"/>
                    </a:moveTo>
                    <a:lnTo>
                      <a:pt x="2298" y="1518"/>
                    </a:lnTo>
                    <a:lnTo>
                      <a:pt x="2298" y="0"/>
                    </a:lnTo>
                    <a:lnTo>
                      <a:pt x="0" y="0"/>
                    </a:lnTo>
                    <a:lnTo>
                      <a:pt x="0" y="1518"/>
                    </a:lnTo>
                  </a:path>
                </a:pathLst>
              </a:custGeom>
              <a:ln w="12600">
                <a:solidFill>
                  <a:srgbClr val="87878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14680" y="1547640"/>
                <a:ext cx="1095840" cy="1092600"/>
              </a:xfrm>
              <a:custGeom>
                <a:avLst/>
                <a:gdLst/>
                <a:ahLst/>
                <a:rect l="0" t="0" r="r" b="b"/>
                <a:pathLst>
                  <a:path fill="none" w="3044" h="3035">
                    <a:moveTo>
                      <a:pt x="0" y="3035"/>
                    </a:moveTo>
                    <a:lnTo>
                      <a:pt x="3044" y="3035"/>
                    </a:lnTo>
                    <a:lnTo>
                      <a:pt x="3044" y="0"/>
                    </a:lnTo>
                    <a:lnTo>
                      <a:pt x="0" y="0"/>
                    </a:lnTo>
                    <a:lnTo>
                      <a:pt x="0" y="3035"/>
                    </a:lnTo>
                  </a:path>
                </a:pathLst>
              </a:custGeom>
              <a:ln w="12600">
                <a:solidFill>
                  <a:srgbClr val="a8a8a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14680" y="1547640"/>
                <a:ext cx="1095840" cy="1092600"/>
              </a:xfrm>
              <a:custGeom>
                <a:avLst/>
                <a:gdLst/>
                <a:ahLst/>
                <a:rect l="0" t="0" r="r" b="b"/>
                <a:pathLst>
                  <a:path fill="none" w="3044" h="3035">
                    <a:moveTo>
                      <a:pt x="3044" y="0"/>
                    </a:moveTo>
                    <a:lnTo>
                      <a:pt x="0" y="0"/>
                    </a:lnTo>
                    <a:lnTo>
                      <a:pt x="0" y="3035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87400" y="1620720"/>
                <a:ext cx="949680" cy="146520"/>
              </a:xfrm>
              <a:custGeom>
                <a:avLst/>
                <a:gdLst/>
                <a:ahLst/>
                <a:rect l="0" t="0" r="r" b="b"/>
                <a:pathLst>
                  <a:path w="2638" h="407">
                    <a:moveTo>
                      <a:pt x="0" y="0"/>
                    </a:moveTo>
                    <a:lnTo>
                      <a:pt x="2638" y="0"/>
                    </a:lnTo>
                    <a:lnTo>
                      <a:pt x="2638" y="407"/>
                    </a:lnTo>
                    <a:lnTo>
                      <a:pt x="0" y="4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787400" y="1620720"/>
                <a:ext cx="949680" cy="146520"/>
              </a:xfrm>
              <a:custGeom>
                <a:avLst/>
                <a:gdLst/>
                <a:ahLst/>
                <a:rect l="0" t="0" r="r" b="b"/>
                <a:pathLst>
                  <a:path fill="none" w="2638" h="407">
                    <a:moveTo>
                      <a:pt x="0" y="0"/>
                    </a:moveTo>
                    <a:lnTo>
                      <a:pt x="2638" y="0"/>
                    </a:lnTo>
                    <a:lnTo>
                      <a:pt x="2638" y="407"/>
                    </a:lnTo>
                    <a:lnTo>
                      <a:pt x="0" y="407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787400" y="1620720"/>
                <a:ext cx="949680" cy="146520"/>
              </a:xfrm>
              <a:custGeom>
                <a:avLst/>
                <a:gdLst/>
                <a:ahLst/>
                <a:rect l="0" t="0" r="r" b="b"/>
                <a:pathLst>
                  <a:path fill="none" w="2638" h="407">
                    <a:moveTo>
                      <a:pt x="2638" y="0"/>
                    </a:moveTo>
                    <a:lnTo>
                      <a:pt x="2638" y="407"/>
                    </a:lnTo>
                    <a:lnTo>
                      <a:pt x="0" y="407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787400" y="1620720"/>
                <a:ext cx="949680" cy="146520"/>
              </a:xfrm>
              <a:custGeom>
                <a:avLst/>
                <a:gdLst/>
                <a:ahLst/>
                <a:rect l="0" t="0" r="r" b="b"/>
                <a:pathLst>
                  <a:path fill="none" w="2638" h="407">
                    <a:moveTo>
                      <a:pt x="0" y="407"/>
                    </a:moveTo>
                    <a:lnTo>
                      <a:pt x="0" y="0"/>
                    </a:lnTo>
                    <a:lnTo>
                      <a:pt x="2638" y="0"/>
                    </a:lnTo>
                  </a:path>
                </a:pathLst>
              </a:custGeom>
              <a:ln w="12600">
                <a:solidFill>
                  <a:srgbClr val="8c8c8c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47880" y="1820880"/>
                <a:ext cx="827280" cy="546480"/>
              </a:xfrm>
              <a:custGeom>
                <a:avLst/>
                <a:gdLst/>
                <a:ahLst/>
                <a:rect l="0" t="0" r="r" b="b"/>
                <a:pathLst>
                  <a:path fill="none" w="2298" h="1518">
                    <a:moveTo>
                      <a:pt x="2298" y="0"/>
                    </a:moveTo>
                    <a:lnTo>
                      <a:pt x="2298" y="1518"/>
                    </a:lnTo>
                    <a:lnTo>
                      <a:pt x="0" y="1518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7400" y="2425680"/>
                <a:ext cx="949680" cy="141480"/>
              </a:xfrm>
              <a:custGeom>
                <a:avLst/>
                <a:gdLst/>
                <a:ahLst/>
                <a:rect l="0" t="0" r="r" b="b"/>
                <a:pathLst>
                  <a:path w="2638" h="393">
                    <a:moveTo>
                      <a:pt x="0" y="0"/>
                    </a:moveTo>
                    <a:lnTo>
                      <a:pt x="2638" y="0"/>
                    </a:lnTo>
                    <a:lnTo>
                      <a:pt x="2638" y="393"/>
                    </a:lnTo>
                    <a:lnTo>
                      <a:pt x="0" y="3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87400" y="2425680"/>
                <a:ext cx="949680" cy="141480"/>
              </a:xfrm>
              <a:custGeom>
                <a:avLst/>
                <a:gdLst/>
                <a:ahLst/>
                <a:rect l="0" t="0" r="r" b="b"/>
                <a:pathLst>
                  <a:path fill="none" w="2638" h="393">
                    <a:moveTo>
                      <a:pt x="0" y="0"/>
                    </a:moveTo>
                    <a:lnTo>
                      <a:pt x="2638" y="0"/>
                    </a:lnTo>
                    <a:lnTo>
                      <a:pt x="2638" y="393"/>
                    </a:lnTo>
                    <a:lnTo>
                      <a:pt x="0" y="393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787400" y="2425680"/>
                <a:ext cx="949680" cy="141480"/>
              </a:xfrm>
              <a:custGeom>
                <a:avLst/>
                <a:gdLst/>
                <a:ahLst/>
                <a:rect l="0" t="0" r="r" b="b"/>
                <a:pathLst>
                  <a:path fill="none" w="2638" h="393">
                    <a:moveTo>
                      <a:pt x="0" y="393"/>
                    </a:moveTo>
                    <a:lnTo>
                      <a:pt x="0" y="0"/>
                    </a:lnTo>
                    <a:lnTo>
                      <a:pt x="2638" y="0"/>
                    </a:lnTo>
                  </a:path>
                </a:pathLst>
              </a:custGeom>
              <a:ln w="12600">
                <a:solidFill>
                  <a:srgbClr val="8c8c8c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787400" y="2425680"/>
                <a:ext cx="949680" cy="141480"/>
              </a:xfrm>
              <a:custGeom>
                <a:avLst/>
                <a:gdLst/>
                <a:ahLst/>
                <a:rect l="0" t="0" r="r" b="b"/>
                <a:pathLst>
                  <a:path fill="none" w="2638" h="393">
                    <a:moveTo>
                      <a:pt x="2638" y="0"/>
                    </a:moveTo>
                    <a:lnTo>
                      <a:pt x="2638" y="393"/>
                    </a:lnTo>
                    <a:lnTo>
                      <a:pt x="0" y="393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38440" y="1565280"/>
                <a:ext cx="54360" cy="52920"/>
              </a:xfrm>
              <a:custGeom>
                <a:avLst/>
                <a:gdLst/>
                <a:ahLst/>
                <a:rect l="0" t="0" r="r" b="b"/>
                <a:pathLst>
                  <a:path w="151" h="147">
                    <a:moveTo>
                      <a:pt x="151" y="81"/>
                    </a:moveTo>
                    <a:lnTo>
                      <a:pt x="151" y="32"/>
                    </a:lnTo>
                    <a:lnTo>
                      <a:pt x="136" y="16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45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81"/>
                    </a:lnTo>
                    <a:lnTo>
                      <a:pt x="0" y="115"/>
                    </a:lnTo>
                    <a:lnTo>
                      <a:pt x="29" y="131"/>
                    </a:lnTo>
                    <a:lnTo>
                      <a:pt x="45" y="147"/>
                    </a:lnTo>
                    <a:lnTo>
                      <a:pt x="90" y="147"/>
                    </a:lnTo>
                    <a:lnTo>
                      <a:pt x="105" y="147"/>
                    </a:lnTo>
                    <a:lnTo>
                      <a:pt x="136" y="131"/>
                    </a:lnTo>
                    <a:lnTo>
                      <a:pt x="151" y="115"/>
                    </a:lnTo>
                    <a:lnTo>
                      <a:pt x="151" y="81"/>
                    </a:lnTo>
                    <a:close/>
                  </a:path>
                </a:pathLst>
              </a:custGeom>
              <a:solidFill>
                <a:srgbClr val="071e56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738440" y="1565280"/>
                <a:ext cx="54360" cy="52920"/>
              </a:xfrm>
              <a:custGeom>
                <a:avLst/>
                <a:gdLst/>
                <a:ahLst/>
                <a:rect l="0" t="0" r="r" b="b"/>
                <a:pathLst>
                  <a:path fill="none" w="151" h="147">
                    <a:moveTo>
                      <a:pt x="151" y="81"/>
                    </a:moveTo>
                    <a:lnTo>
                      <a:pt x="151" y="81"/>
                    </a:lnTo>
                    <a:lnTo>
                      <a:pt x="151" y="32"/>
                    </a:lnTo>
                    <a:lnTo>
                      <a:pt x="136" y="16"/>
                    </a:lnTo>
                    <a:lnTo>
                      <a:pt x="105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45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115"/>
                    </a:lnTo>
                    <a:lnTo>
                      <a:pt x="29" y="131"/>
                    </a:lnTo>
                    <a:lnTo>
                      <a:pt x="45" y="147"/>
                    </a:lnTo>
                    <a:lnTo>
                      <a:pt x="90" y="147"/>
                    </a:lnTo>
                    <a:lnTo>
                      <a:pt x="90" y="147"/>
                    </a:lnTo>
                    <a:lnTo>
                      <a:pt x="105" y="147"/>
                    </a:lnTo>
                    <a:lnTo>
                      <a:pt x="136" y="131"/>
                    </a:lnTo>
                    <a:lnTo>
                      <a:pt x="151" y="115"/>
                    </a:lnTo>
                    <a:lnTo>
                      <a:pt x="151" y="81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38440" y="1565280"/>
                <a:ext cx="54360" cy="52920"/>
              </a:xfrm>
              <a:custGeom>
                <a:avLst/>
                <a:gdLst/>
                <a:ahLst/>
                <a:rect l="0" t="0" r="r" b="b"/>
                <a:pathLst>
                  <a:path w="151" h="147">
                    <a:moveTo>
                      <a:pt x="151" y="65"/>
                    </a:moveTo>
                    <a:lnTo>
                      <a:pt x="151" y="32"/>
                    </a:lnTo>
                    <a:lnTo>
                      <a:pt x="136" y="16"/>
                    </a:lnTo>
                    <a:lnTo>
                      <a:pt x="105" y="0"/>
                    </a:lnTo>
                    <a:lnTo>
                      <a:pt x="75" y="0"/>
                    </a:lnTo>
                    <a:lnTo>
                      <a:pt x="45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65"/>
                    </a:lnTo>
                    <a:lnTo>
                      <a:pt x="0" y="115"/>
                    </a:lnTo>
                    <a:lnTo>
                      <a:pt x="29" y="131"/>
                    </a:lnTo>
                    <a:lnTo>
                      <a:pt x="45" y="147"/>
                    </a:lnTo>
                    <a:lnTo>
                      <a:pt x="75" y="147"/>
                    </a:lnTo>
                    <a:lnTo>
                      <a:pt x="105" y="147"/>
                    </a:lnTo>
                    <a:lnTo>
                      <a:pt x="136" y="131"/>
                    </a:lnTo>
                    <a:lnTo>
                      <a:pt x="151" y="115"/>
                    </a:lnTo>
                    <a:lnTo>
                      <a:pt x="151" y="65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38440" y="1565280"/>
                <a:ext cx="54360" cy="52920"/>
              </a:xfrm>
              <a:custGeom>
                <a:avLst/>
                <a:gdLst/>
                <a:ahLst/>
                <a:rect l="0" t="0" r="r" b="b"/>
                <a:pathLst>
                  <a:path fill="none" w="151" h="147">
                    <a:moveTo>
                      <a:pt x="151" y="65"/>
                    </a:moveTo>
                    <a:lnTo>
                      <a:pt x="151" y="65"/>
                    </a:lnTo>
                    <a:lnTo>
                      <a:pt x="151" y="32"/>
                    </a:lnTo>
                    <a:lnTo>
                      <a:pt x="136" y="16"/>
                    </a:lnTo>
                    <a:lnTo>
                      <a:pt x="105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45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115"/>
                    </a:lnTo>
                    <a:lnTo>
                      <a:pt x="29" y="131"/>
                    </a:lnTo>
                    <a:lnTo>
                      <a:pt x="45" y="147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105" y="147"/>
                    </a:lnTo>
                    <a:lnTo>
                      <a:pt x="136" y="131"/>
                    </a:lnTo>
                    <a:lnTo>
                      <a:pt x="151" y="115"/>
                    </a:lnTo>
                    <a:lnTo>
                      <a:pt x="151" y="65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38440" y="1565280"/>
                <a:ext cx="54360" cy="52920"/>
              </a:xfrm>
              <a:custGeom>
                <a:avLst/>
                <a:gdLst/>
                <a:ahLst/>
                <a:rect l="0" t="0" r="r" b="b"/>
                <a:pathLst>
                  <a:path w="151" h="147">
                    <a:moveTo>
                      <a:pt x="151" y="65"/>
                    </a:moveTo>
                    <a:lnTo>
                      <a:pt x="151" y="32"/>
                    </a:lnTo>
                    <a:lnTo>
                      <a:pt x="136" y="16"/>
                    </a:lnTo>
                    <a:lnTo>
                      <a:pt x="105" y="0"/>
                    </a:lnTo>
                    <a:lnTo>
                      <a:pt x="75" y="0"/>
                    </a:lnTo>
                    <a:lnTo>
                      <a:pt x="45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65"/>
                    </a:lnTo>
                    <a:lnTo>
                      <a:pt x="0" y="115"/>
                    </a:lnTo>
                    <a:lnTo>
                      <a:pt x="29" y="131"/>
                    </a:lnTo>
                    <a:lnTo>
                      <a:pt x="45" y="147"/>
                    </a:lnTo>
                    <a:lnTo>
                      <a:pt x="75" y="147"/>
                    </a:lnTo>
                    <a:lnTo>
                      <a:pt x="105" y="147"/>
                    </a:lnTo>
                    <a:lnTo>
                      <a:pt x="136" y="131"/>
                    </a:lnTo>
                    <a:lnTo>
                      <a:pt x="151" y="115"/>
                    </a:lnTo>
                    <a:lnTo>
                      <a:pt x="151" y="65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738440" y="1565280"/>
                <a:ext cx="54360" cy="52920"/>
              </a:xfrm>
              <a:custGeom>
                <a:avLst/>
                <a:gdLst/>
                <a:ahLst/>
                <a:rect l="0" t="0" r="r" b="b"/>
                <a:pathLst>
                  <a:path fill="none" w="151" h="147">
                    <a:moveTo>
                      <a:pt x="151" y="65"/>
                    </a:moveTo>
                    <a:lnTo>
                      <a:pt x="151" y="65"/>
                    </a:lnTo>
                    <a:lnTo>
                      <a:pt x="151" y="32"/>
                    </a:lnTo>
                    <a:lnTo>
                      <a:pt x="136" y="16"/>
                    </a:lnTo>
                    <a:lnTo>
                      <a:pt x="105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45" y="0"/>
                    </a:lnTo>
                    <a:lnTo>
                      <a:pt x="29" y="16"/>
                    </a:lnTo>
                    <a:lnTo>
                      <a:pt x="0" y="32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115"/>
                    </a:lnTo>
                    <a:lnTo>
                      <a:pt x="29" y="131"/>
                    </a:lnTo>
                    <a:lnTo>
                      <a:pt x="45" y="147"/>
                    </a:lnTo>
                    <a:lnTo>
                      <a:pt x="75" y="147"/>
                    </a:lnTo>
                    <a:lnTo>
                      <a:pt x="75" y="147"/>
                    </a:lnTo>
                    <a:lnTo>
                      <a:pt x="105" y="147"/>
                    </a:lnTo>
                    <a:lnTo>
                      <a:pt x="136" y="131"/>
                    </a:lnTo>
                    <a:lnTo>
                      <a:pt x="151" y="115"/>
                    </a:lnTo>
                    <a:lnTo>
                      <a:pt x="151" y="65"/>
                    </a:lnTo>
                  </a:path>
                </a:pathLst>
              </a:custGeom>
              <a:ln w="12600">
                <a:solidFill>
                  <a:srgbClr val="d1d1d1"/>
                </a:solidFill>
                <a:round/>
              </a:ln>
            </p:spPr>
            <p:txBody>
              <a:bodyPr lIns="96120" rIns="9612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787400" y="2425680"/>
                <a:ext cx="949680" cy="141480"/>
              </a:xfrm>
              <a:custGeom>
                <a:avLst/>
                <a:gdLst/>
                <a:ahLst/>
                <a:rect l="0" t="0" r="r" b="b"/>
                <a:pathLst>
                  <a:path fill="none" w="2638" h="393">
                    <a:moveTo>
                      <a:pt x="2638" y="0"/>
                    </a:moveTo>
                    <a:lnTo>
                      <a:pt x="2638" y="393"/>
                    </a:lnTo>
                    <a:lnTo>
                      <a:pt x="0" y="393"/>
                    </a:lnTo>
                  </a:path>
                </a:pathLst>
              </a:custGeom>
              <a:ln w="12600">
                <a:solidFill>
                  <a:srgbClr val="e8e8e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38320" y="2095560"/>
                <a:ext cx="49212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17800" y="2046240"/>
                <a:ext cx="493560" cy="160200"/>
              </a:xfrm>
              <a:prstGeom prst="ellipse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81160" y="2119320"/>
                <a:ext cx="163800" cy="97200"/>
              </a:xfrm>
              <a:custGeom>
                <a:avLst/>
                <a:gdLst/>
                <a:ahLst/>
                <a:rect l="0" t="0" r="r" b="b"/>
                <a:pathLst>
                  <a:path w="455" h="270">
                    <a:moveTo>
                      <a:pt x="455" y="0"/>
                    </a:moveTo>
                    <a:lnTo>
                      <a:pt x="0" y="189"/>
                    </a:lnTo>
                    <a:lnTo>
                      <a:pt x="187" y="270"/>
                    </a:lnTo>
                    <a:lnTo>
                      <a:pt x="455" y="0"/>
                    </a:lnTo>
                    <a:close/>
                  </a:path>
                </a:pathLst>
              </a:custGeom>
              <a:solidFill>
                <a:srgbClr val="00ae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35240" y="2119320"/>
                <a:ext cx="213120" cy="97200"/>
              </a:xfrm>
              <a:custGeom>
                <a:avLst/>
                <a:gdLst/>
                <a:ahLst/>
                <a:rect l="0" t="0" r="r" b="b"/>
                <a:pathLst>
                  <a:path w="592" h="270">
                    <a:moveTo>
                      <a:pt x="0" y="0"/>
                    </a:moveTo>
                    <a:lnTo>
                      <a:pt x="134" y="270"/>
                    </a:lnTo>
                    <a:lnTo>
                      <a:pt x="592" y="1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27080" y="1897200"/>
                <a:ext cx="559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328680" y="3919680"/>
            <a:ext cx="5983200" cy="2696040"/>
            <a:chOff x="328680" y="3919680"/>
            <a:chExt cx="5983200" cy="2696040"/>
          </a:xfrm>
        </p:grpSpPr>
        <p:sp>
          <p:nvSpPr>
            <p:cNvPr id="310" name=""/>
            <p:cNvSpPr txBox="1"/>
            <p:nvPr/>
          </p:nvSpPr>
          <p:spPr>
            <a:xfrm>
              <a:off x="3511440" y="5022720"/>
              <a:ext cx="2800440" cy="159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eautiful Colo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andouts and Overhea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9000"/>
                </a:lnSpc>
                <a:spcBef>
                  <a:spcPts val="720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28680" y="3919680"/>
              <a:ext cx="2973240" cy="2336760"/>
              <a:chOff x="328680" y="3919680"/>
              <a:chExt cx="2973240" cy="2336760"/>
            </a:xfrm>
          </p:grpSpPr>
          <p:sp>
            <p:nvSpPr>
              <p:cNvPr id="312" name=""/>
              <p:cNvSpPr/>
              <p:nvPr/>
            </p:nvSpPr>
            <p:spPr>
              <a:xfrm>
                <a:off x="328680" y="3919680"/>
                <a:ext cx="2973240" cy="2336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01480" y="4102200"/>
                <a:ext cx="2632680" cy="2011320"/>
                <a:chOff x="501480" y="4102200"/>
                <a:chExt cx="2632680" cy="20113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77800" y="4497480"/>
                  <a:ext cx="2511360" cy="1616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501480" y="4102200"/>
                  <a:ext cx="2632680" cy="1962720"/>
                  <a:chOff x="501480" y="4102200"/>
                  <a:chExt cx="2632680" cy="196272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01480" y="4122720"/>
                    <a:ext cx="28800" cy="19418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5394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5394"/>
                        </a:lnTo>
                        <a:lnTo>
                          <a:pt x="0" y="539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5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01480" y="4102200"/>
                    <a:ext cx="2632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312" h="72">
                        <a:moveTo>
                          <a:pt x="0" y="0"/>
                        </a:moveTo>
                        <a:lnTo>
                          <a:pt x="7312" y="0"/>
                        </a:lnTo>
                        <a:lnTo>
                          <a:pt x="731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5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30280" y="4143240"/>
                    <a:ext cx="28800" cy="19213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533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5337"/>
                        </a:lnTo>
                        <a:lnTo>
                          <a:pt x="0" y="53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30280" y="4122720"/>
                    <a:ext cx="2603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233" h="72">
                        <a:moveTo>
                          <a:pt x="0" y="0"/>
                        </a:moveTo>
                        <a:lnTo>
                          <a:pt x="7233" y="0"/>
                        </a:lnTo>
                        <a:lnTo>
                          <a:pt x="723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58720" y="4165560"/>
                    <a:ext cx="27360" cy="18990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5275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5275"/>
                        </a:lnTo>
                        <a:lnTo>
                          <a:pt x="0" y="52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58720" y="4143240"/>
                    <a:ext cx="2575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154" h="72">
                        <a:moveTo>
                          <a:pt x="0" y="0"/>
                        </a:moveTo>
                        <a:lnTo>
                          <a:pt x="7154" y="0"/>
                        </a:lnTo>
                        <a:lnTo>
                          <a:pt x="715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85720" y="4186080"/>
                    <a:ext cx="30600" cy="187848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5218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5218"/>
                        </a:lnTo>
                        <a:lnTo>
                          <a:pt x="0" y="52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585720" y="4165560"/>
                    <a:ext cx="2548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7079" h="72">
                        <a:moveTo>
                          <a:pt x="0" y="0"/>
                        </a:moveTo>
                        <a:lnTo>
                          <a:pt x="7079" y="0"/>
                        </a:lnTo>
                        <a:lnTo>
                          <a:pt x="707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615960" y="4206960"/>
                    <a:ext cx="27360" cy="18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5160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5160"/>
                        </a:lnTo>
                        <a:lnTo>
                          <a:pt x="0" y="51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15960" y="4186080"/>
                    <a:ext cx="2518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995" h="72">
                        <a:moveTo>
                          <a:pt x="0" y="0"/>
                        </a:moveTo>
                        <a:lnTo>
                          <a:pt x="6995" y="0"/>
                        </a:lnTo>
                        <a:lnTo>
                          <a:pt x="699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42960" y="4228920"/>
                    <a:ext cx="28800" cy="18356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5099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5099"/>
                        </a:lnTo>
                        <a:lnTo>
                          <a:pt x="0" y="50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42960" y="4206960"/>
                    <a:ext cx="2491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920" h="72">
                        <a:moveTo>
                          <a:pt x="0" y="0"/>
                        </a:moveTo>
                        <a:lnTo>
                          <a:pt x="6920" y="0"/>
                        </a:lnTo>
                        <a:lnTo>
                          <a:pt x="692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8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71400" y="4249800"/>
                    <a:ext cx="28800" cy="18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504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5041"/>
                        </a:lnTo>
                        <a:lnTo>
                          <a:pt x="0" y="50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71400" y="4228920"/>
                    <a:ext cx="2462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840" h="72">
                        <a:moveTo>
                          <a:pt x="0" y="0"/>
                        </a:moveTo>
                        <a:lnTo>
                          <a:pt x="6840" y="0"/>
                        </a:lnTo>
                        <a:lnTo>
                          <a:pt x="684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a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0200" y="4270320"/>
                    <a:ext cx="27360" cy="179424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4984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4984"/>
                        </a:lnTo>
                        <a:lnTo>
                          <a:pt x="0" y="49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00200" y="4249800"/>
                    <a:ext cx="2433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761" h="72">
                        <a:moveTo>
                          <a:pt x="0" y="0"/>
                        </a:moveTo>
                        <a:lnTo>
                          <a:pt x="6761" y="0"/>
                        </a:lnTo>
                        <a:lnTo>
                          <a:pt x="676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c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727200" y="4290840"/>
                    <a:ext cx="30600" cy="177372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4927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4927"/>
                        </a:lnTo>
                        <a:lnTo>
                          <a:pt x="0" y="49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27200" y="4270320"/>
                    <a:ext cx="2406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686" h="72">
                        <a:moveTo>
                          <a:pt x="0" y="0"/>
                        </a:moveTo>
                        <a:lnTo>
                          <a:pt x="6686" y="0"/>
                        </a:lnTo>
                        <a:lnTo>
                          <a:pt x="668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6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757080" y="4311720"/>
                    <a:ext cx="27360" cy="175284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4869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4869"/>
                        </a:lnTo>
                        <a:lnTo>
                          <a:pt x="0" y="486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57080" y="4290840"/>
                    <a:ext cx="2376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602" h="72">
                        <a:moveTo>
                          <a:pt x="0" y="0"/>
                        </a:moveTo>
                        <a:lnTo>
                          <a:pt x="6602" y="0"/>
                        </a:lnTo>
                        <a:lnTo>
                          <a:pt x="660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84080" y="4334040"/>
                    <a:ext cx="28800" cy="17308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808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808"/>
                        </a:lnTo>
                        <a:lnTo>
                          <a:pt x="0" y="48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84080" y="4311720"/>
                    <a:ext cx="2349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527" h="72">
                        <a:moveTo>
                          <a:pt x="0" y="0"/>
                        </a:moveTo>
                        <a:lnTo>
                          <a:pt x="6527" y="0"/>
                        </a:lnTo>
                        <a:lnTo>
                          <a:pt x="652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812880" y="4354560"/>
                    <a:ext cx="28800" cy="17100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75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750"/>
                        </a:lnTo>
                        <a:lnTo>
                          <a:pt x="0" y="475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12880" y="4334040"/>
                    <a:ext cx="2321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448" h="72">
                        <a:moveTo>
                          <a:pt x="0" y="0"/>
                        </a:moveTo>
                        <a:lnTo>
                          <a:pt x="6448" y="0"/>
                        </a:lnTo>
                        <a:lnTo>
                          <a:pt x="644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41320" y="4375080"/>
                    <a:ext cx="28800" cy="16894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693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693"/>
                        </a:lnTo>
                        <a:lnTo>
                          <a:pt x="0" y="46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41320" y="4354560"/>
                    <a:ext cx="2292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369" h="72">
                        <a:moveTo>
                          <a:pt x="0" y="0"/>
                        </a:moveTo>
                        <a:lnTo>
                          <a:pt x="6369" y="0"/>
                        </a:lnTo>
                        <a:lnTo>
                          <a:pt x="636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870120" y="4397400"/>
                    <a:ext cx="28800" cy="16671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63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631"/>
                        </a:lnTo>
                        <a:lnTo>
                          <a:pt x="0" y="46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70120" y="4375080"/>
                    <a:ext cx="2264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289" h="72">
                        <a:moveTo>
                          <a:pt x="0" y="0"/>
                        </a:moveTo>
                        <a:lnTo>
                          <a:pt x="6289" y="0"/>
                        </a:lnTo>
                        <a:lnTo>
                          <a:pt x="628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8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98560" y="4417920"/>
                    <a:ext cx="27360" cy="164664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4574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4574"/>
                        </a:lnTo>
                        <a:lnTo>
                          <a:pt x="0" y="457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898560" y="4397400"/>
                    <a:ext cx="2235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210" h="72">
                        <a:moveTo>
                          <a:pt x="0" y="0"/>
                        </a:moveTo>
                        <a:lnTo>
                          <a:pt x="6210" y="0"/>
                        </a:lnTo>
                        <a:lnTo>
                          <a:pt x="621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a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925560" y="4438800"/>
                    <a:ext cx="28800" cy="16261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51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517"/>
                        </a:lnTo>
                        <a:lnTo>
                          <a:pt x="0" y="45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925560" y="4417920"/>
                    <a:ext cx="2208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135" h="72">
                        <a:moveTo>
                          <a:pt x="0" y="0"/>
                        </a:moveTo>
                        <a:lnTo>
                          <a:pt x="6135" y="0"/>
                        </a:lnTo>
                        <a:lnTo>
                          <a:pt x="613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c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954000" y="4460760"/>
                    <a:ext cx="28800" cy="16038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455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455"/>
                        </a:lnTo>
                        <a:lnTo>
                          <a:pt x="0" y="44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954000" y="4438800"/>
                    <a:ext cx="2180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6056" h="72">
                        <a:moveTo>
                          <a:pt x="0" y="0"/>
                        </a:moveTo>
                        <a:lnTo>
                          <a:pt x="6056" y="0"/>
                        </a:lnTo>
                        <a:lnTo>
                          <a:pt x="605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7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982800" y="4481640"/>
                    <a:ext cx="28800" cy="15829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39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397"/>
                        </a:lnTo>
                        <a:lnTo>
                          <a:pt x="0" y="439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982800" y="4460760"/>
                    <a:ext cx="2151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976" h="72">
                        <a:moveTo>
                          <a:pt x="0" y="0"/>
                        </a:moveTo>
                        <a:lnTo>
                          <a:pt x="5976" y="0"/>
                        </a:lnTo>
                        <a:lnTo>
                          <a:pt x="597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1011240" y="4502160"/>
                    <a:ext cx="28800" cy="15624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34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340"/>
                        </a:lnTo>
                        <a:lnTo>
                          <a:pt x="0" y="43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1011240" y="4481640"/>
                    <a:ext cx="2122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897" h="72">
                        <a:moveTo>
                          <a:pt x="0" y="0"/>
                        </a:moveTo>
                        <a:lnTo>
                          <a:pt x="5897" y="0"/>
                        </a:lnTo>
                        <a:lnTo>
                          <a:pt x="589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1039680" y="4524480"/>
                    <a:ext cx="27360" cy="154008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4278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4278"/>
                        </a:lnTo>
                        <a:lnTo>
                          <a:pt x="0" y="42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039680" y="4502160"/>
                    <a:ext cx="2094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817" h="72">
                        <a:moveTo>
                          <a:pt x="0" y="0"/>
                        </a:moveTo>
                        <a:lnTo>
                          <a:pt x="5817" y="0"/>
                        </a:lnTo>
                        <a:lnTo>
                          <a:pt x="581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1066680" y="4545000"/>
                    <a:ext cx="28800" cy="15195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22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221"/>
                        </a:lnTo>
                        <a:lnTo>
                          <a:pt x="0" y="42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1066680" y="4524480"/>
                    <a:ext cx="2067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742" h="72">
                        <a:moveTo>
                          <a:pt x="0" y="0"/>
                        </a:moveTo>
                        <a:lnTo>
                          <a:pt x="5742" y="0"/>
                        </a:lnTo>
                        <a:lnTo>
                          <a:pt x="574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1095480" y="4565520"/>
                    <a:ext cx="28800" cy="14990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164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164"/>
                        </a:lnTo>
                        <a:lnTo>
                          <a:pt x="0" y="41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1095480" y="4545000"/>
                    <a:ext cx="2038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663" h="72">
                        <a:moveTo>
                          <a:pt x="0" y="0"/>
                        </a:moveTo>
                        <a:lnTo>
                          <a:pt x="5663" y="0"/>
                        </a:lnTo>
                        <a:lnTo>
                          <a:pt x="566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8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1123920" y="4587840"/>
                    <a:ext cx="28800" cy="14767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102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102"/>
                        </a:lnTo>
                        <a:lnTo>
                          <a:pt x="0" y="41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a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1123920" y="4565520"/>
                    <a:ext cx="2010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84" h="72">
                        <a:moveTo>
                          <a:pt x="0" y="0"/>
                        </a:moveTo>
                        <a:lnTo>
                          <a:pt x="5584" y="0"/>
                        </a:lnTo>
                        <a:lnTo>
                          <a:pt x="558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a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1152360" y="4606920"/>
                    <a:ext cx="28800" cy="14576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4049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4049"/>
                        </a:lnTo>
                        <a:lnTo>
                          <a:pt x="0" y="404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c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152360" y="4587840"/>
                    <a:ext cx="1981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504" h="72">
                        <a:moveTo>
                          <a:pt x="0" y="0"/>
                        </a:moveTo>
                        <a:lnTo>
                          <a:pt x="5504" y="0"/>
                        </a:lnTo>
                        <a:lnTo>
                          <a:pt x="550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c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181160" y="4629240"/>
                    <a:ext cx="27360" cy="143532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3987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3987"/>
                        </a:lnTo>
                        <a:lnTo>
                          <a:pt x="0" y="39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e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181160" y="4606920"/>
                    <a:ext cx="19530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425" h="72">
                        <a:moveTo>
                          <a:pt x="0" y="0"/>
                        </a:moveTo>
                        <a:lnTo>
                          <a:pt x="5425" y="0"/>
                        </a:lnTo>
                        <a:lnTo>
                          <a:pt x="542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8e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1208160" y="4649760"/>
                    <a:ext cx="30600" cy="141480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3930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3930"/>
                        </a:lnTo>
                        <a:lnTo>
                          <a:pt x="0" y="39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1208160" y="4629240"/>
                    <a:ext cx="19260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350" h="72">
                        <a:moveTo>
                          <a:pt x="0" y="0"/>
                        </a:moveTo>
                        <a:lnTo>
                          <a:pt x="5350" y="0"/>
                        </a:lnTo>
                        <a:lnTo>
                          <a:pt x="535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238400" y="4670280"/>
                    <a:ext cx="27360" cy="139428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3873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3873"/>
                        </a:lnTo>
                        <a:lnTo>
                          <a:pt x="0" y="387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2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238400" y="4649760"/>
                    <a:ext cx="1895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266" h="72">
                        <a:moveTo>
                          <a:pt x="0" y="0"/>
                        </a:moveTo>
                        <a:lnTo>
                          <a:pt x="5266" y="0"/>
                        </a:lnTo>
                        <a:lnTo>
                          <a:pt x="526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2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265400" y="4692600"/>
                    <a:ext cx="28800" cy="13719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81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811"/>
                        </a:lnTo>
                        <a:lnTo>
                          <a:pt x="0" y="38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4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265400" y="4670280"/>
                    <a:ext cx="1868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191" h="72">
                        <a:moveTo>
                          <a:pt x="0" y="0"/>
                        </a:moveTo>
                        <a:lnTo>
                          <a:pt x="5191" y="0"/>
                        </a:lnTo>
                        <a:lnTo>
                          <a:pt x="519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4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1293840" y="4713120"/>
                    <a:ext cx="28800" cy="13514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754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754"/>
                        </a:lnTo>
                        <a:lnTo>
                          <a:pt x="0" y="375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6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293840" y="4692600"/>
                    <a:ext cx="1840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112" h="72">
                        <a:moveTo>
                          <a:pt x="0" y="0"/>
                        </a:moveTo>
                        <a:lnTo>
                          <a:pt x="5112" y="0"/>
                        </a:lnTo>
                        <a:lnTo>
                          <a:pt x="511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6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1322280" y="4734000"/>
                    <a:ext cx="27360" cy="13305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3696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3696"/>
                        </a:lnTo>
                        <a:lnTo>
                          <a:pt x="0" y="369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1322280" y="4713120"/>
                    <a:ext cx="1811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5032" h="72">
                        <a:moveTo>
                          <a:pt x="0" y="0"/>
                        </a:moveTo>
                        <a:lnTo>
                          <a:pt x="5032" y="0"/>
                        </a:lnTo>
                        <a:lnTo>
                          <a:pt x="503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1349280" y="4756320"/>
                    <a:ext cx="30600" cy="130860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3635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3635"/>
                        </a:lnTo>
                        <a:lnTo>
                          <a:pt x="0" y="36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1349280" y="4734000"/>
                    <a:ext cx="1784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958" h="72">
                        <a:moveTo>
                          <a:pt x="0" y="0"/>
                        </a:moveTo>
                        <a:lnTo>
                          <a:pt x="4958" y="0"/>
                        </a:lnTo>
                        <a:lnTo>
                          <a:pt x="495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1379520" y="4776840"/>
                    <a:ext cx="27360" cy="128772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3577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3577"/>
                        </a:lnTo>
                        <a:lnTo>
                          <a:pt x="0" y="35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1379520" y="4756320"/>
                    <a:ext cx="1754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874" h="72">
                        <a:moveTo>
                          <a:pt x="0" y="0"/>
                        </a:moveTo>
                        <a:lnTo>
                          <a:pt x="4874" y="0"/>
                        </a:lnTo>
                        <a:lnTo>
                          <a:pt x="487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406520" y="4797360"/>
                    <a:ext cx="28800" cy="12672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52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520"/>
                        </a:lnTo>
                        <a:lnTo>
                          <a:pt x="0" y="35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406520" y="4776840"/>
                    <a:ext cx="17276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99" h="72">
                        <a:moveTo>
                          <a:pt x="0" y="0"/>
                        </a:moveTo>
                        <a:lnTo>
                          <a:pt x="4799" y="0"/>
                        </a:lnTo>
                        <a:lnTo>
                          <a:pt x="479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9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1434960" y="4819680"/>
                    <a:ext cx="28800" cy="12448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458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458"/>
                        </a:lnTo>
                        <a:lnTo>
                          <a:pt x="0" y="345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1434960" y="4797360"/>
                    <a:ext cx="1698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719" h="72">
                        <a:moveTo>
                          <a:pt x="0" y="0"/>
                        </a:moveTo>
                        <a:lnTo>
                          <a:pt x="4719" y="0"/>
                        </a:lnTo>
                        <a:lnTo>
                          <a:pt x="471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1463760" y="4840200"/>
                    <a:ext cx="28800" cy="12243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40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401"/>
                        </a:lnTo>
                        <a:lnTo>
                          <a:pt x="0" y="340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1463760" y="4819680"/>
                    <a:ext cx="1670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640" h="72">
                        <a:moveTo>
                          <a:pt x="0" y="0"/>
                        </a:moveTo>
                        <a:lnTo>
                          <a:pt x="4640" y="0"/>
                        </a:lnTo>
                        <a:lnTo>
                          <a:pt x="464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1492200" y="4861080"/>
                    <a:ext cx="28800" cy="12038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344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344"/>
                        </a:lnTo>
                        <a:lnTo>
                          <a:pt x="0" y="33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492200" y="4840200"/>
                    <a:ext cx="1641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561" h="72">
                        <a:moveTo>
                          <a:pt x="0" y="0"/>
                        </a:moveTo>
                        <a:lnTo>
                          <a:pt x="4561" y="0"/>
                        </a:lnTo>
                        <a:lnTo>
                          <a:pt x="456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1521000" y="4881600"/>
                    <a:ext cx="27360" cy="11829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3286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3286"/>
                        </a:lnTo>
                        <a:lnTo>
                          <a:pt x="0" y="32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1521000" y="4861080"/>
                    <a:ext cx="1613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481" h="72">
                        <a:moveTo>
                          <a:pt x="0" y="0"/>
                        </a:moveTo>
                        <a:lnTo>
                          <a:pt x="4481" y="0"/>
                        </a:lnTo>
                        <a:lnTo>
                          <a:pt x="448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547640" y="4903920"/>
                    <a:ext cx="28800" cy="11610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225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225"/>
                        </a:lnTo>
                        <a:lnTo>
                          <a:pt x="0" y="32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547640" y="4881600"/>
                    <a:ext cx="15861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406" h="72">
                        <a:moveTo>
                          <a:pt x="0" y="0"/>
                        </a:moveTo>
                        <a:lnTo>
                          <a:pt x="4406" y="0"/>
                        </a:lnTo>
                        <a:lnTo>
                          <a:pt x="440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576440" y="4924440"/>
                    <a:ext cx="28800" cy="11401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16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167"/>
                        </a:lnTo>
                        <a:lnTo>
                          <a:pt x="0" y="316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576440" y="4903920"/>
                    <a:ext cx="15577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327" h="72">
                        <a:moveTo>
                          <a:pt x="0" y="0"/>
                        </a:moveTo>
                        <a:lnTo>
                          <a:pt x="4327" y="0"/>
                        </a:lnTo>
                        <a:lnTo>
                          <a:pt x="432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604880" y="4944960"/>
                    <a:ext cx="28800" cy="11196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11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110"/>
                        </a:lnTo>
                        <a:lnTo>
                          <a:pt x="0" y="3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604880" y="4924440"/>
                    <a:ext cx="1529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248" h="72">
                        <a:moveTo>
                          <a:pt x="0" y="0"/>
                        </a:moveTo>
                        <a:lnTo>
                          <a:pt x="4248" y="0"/>
                        </a:lnTo>
                        <a:lnTo>
                          <a:pt x="424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1633680" y="4965840"/>
                    <a:ext cx="28800" cy="10990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3053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3053"/>
                        </a:lnTo>
                        <a:lnTo>
                          <a:pt x="0" y="305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633680" y="4944960"/>
                    <a:ext cx="1500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168" h="72">
                        <a:moveTo>
                          <a:pt x="0" y="0"/>
                        </a:moveTo>
                        <a:lnTo>
                          <a:pt x="4168" y="0"/>
                        </a:lnTo>
                        <a:lnTo>
                          <a:pt x="416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a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1662120" y="4986360"/>
                    <a:ext cx="27360" cy="10782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2995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2995"/>
                        </a:lnTo>
                        <a:lnTo>
                          <a:pt x="0" y="299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1662120" y="4965840"/>
                    <a:ext cx="1472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089" h="72">
                        <a:moveTo>
                          <a:pt x="0" y="0"/>
                        </a:moveTo>
                        <a:lnTo>
                          <a:pt x="4089" y="0"/>
                        </a:lnTo>
                        <a:lnTo>
                          <a:pt x="408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1689120" y="5008680"/>
                    <a:ext cx="30600" cy="105588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2933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2933"/>
                        </a:lnTo>
                        <a:lnTo>
                          <a:pt x="0" y="29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1689120" y="4986360"/>
                    <a:ext cx="14450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4014" h="72">
                        <a:moveTo>
                          <a:pt x="0" y="0"/>
                        </a:moveTo>
                        <a:lnTo>
                          <a:pt x="4014" y="0"/>
                        </a:lnTo>
                        <a:lnTo>
                          <a:pt x="401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1719360" y="5029200"/>
                    <a:ext cx="27360" cy="10353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2876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2876"/>
                        </a:lnTo>
                        <a:lnTo>
                          <a:pt x="0" y="28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1719360" y="5008680"/>
                    <a:ext cx="1414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930" h="72">
                        <a:moveTo>
                          <a:pt x="0" y="0"/>
                        </a:moveTo>
                        <a:lnTo>
                          <a:pt x="3930" y="0"/>
                        </a:lnTo>
                        <a:lnTo>
                          <a:pt x="393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1746360" y="5049720"/>
                    <a:ext cx="28800" cy="10148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819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819"/>
                        </a:lnTo>
                        <a:lnTo>
                          <a:pt x="0" y="28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1746360" y="5029200"/>
                    <a:ext cx="1387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855" h="72">
                        <a:moveTo>
                          <a:pt x="0" y="0"/>
                        </a:moveTo>
                        <a:lnTo>
                          <a:pt x="3855" y="0"/>
                        </a:lnTo>
                        <a:lnTo>
                          <a:pt x="385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1774800" y="5072040"/>
                    <a:ext cx="28800" cy="9925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75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757"/>
                        </a:lnTo>
                        <a:lnTo>
                          <a:pt x="0" y="27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1774800" y="5049720"/>
                    <a:ext cx="1359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776" h="72">
                        <a:moveTo>
                          <a:pt x="0" y="0"/>
                        </a:moveTo>
                        <a:lnTo>
                          <a:pt x="3776" y="0"/>
                        </a:lnTo>
                        <a:lnTo>
                          <a:pt x="377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1803240" y="5092560"/>
                    <a:ext cx="27360" cy="9720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2700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2700"/>
                        </a:lnTo>
                        <a:lnTo>
                          <a:pt x="0" y="27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1803240" y="5072040"/>
                    <a:ext cx="1330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696" h="72">
                        <a:moveTo>
                          <a:pt x="0" y="0"/>
                        </a:moveTo>
                        <a:lnTo>
                          <a:pt x="3696" y="0"/>
                        </a:lnTo>
                        <a:lnTo>
                          <a:pt x="369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30240" y="5113440"/>
                    <a:ext cx="30600" cy="9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2642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2642"/>
                        </a:lnTo>
                        <a:lnTo>
                          <a:pt x="0" y="26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830240" y="5092560"/>
                    <a:ext cx="1303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621" h="72">
                        <a:moveTo>
                          <a:pt x="0" y="0"/>
                        </a:moveTo>
                        <a:lnTo>
                          <a:pt x="3621" y="0"/>
                        </a:lnTo>
                        <a:lnTo>
                          <a:pt x="362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1860480" y="5135400"/>
                    <a:ext cx="27360" cy="92916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2581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2581"/>
                        </a:lnTo>
                        <a:lnTo>
                          <a:pt x="0" y="25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860480" y="5113440"/>
                    <a:ext cx="1273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538" h="72">
                        <a:moveTo>
                          <a:pt x="0" y="0"/>
                        </a:moveTo>
                        <a:lnTo>
                          <a:pt x="3538" y="0"/>
                        </a:lnTo>
                        <a:lnTo>
                          <a:pt x="353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b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87480" y="5156280"/>
                    <a:ext cx="28800" cy="9082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523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523"/>
                        </a:lnTo>
                        <a:lnTo>
                          <a:pt x="0" y="252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887480" y="5135400"/>
                    <a:ext cx="12466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463" h="72">
                        <a:moveTo>
                          <a:pt x="0" y="0"/>
                        </a:moveTo>
                        <a:lnTo>
                          <a:pt x="3463" y="0"/>
                        </a:lnTo>
                        <a:lnTo>
                          <a:pt x="346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916280" y="5176800"/>
                    <a:ext cx="28800" cy="8877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466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466"/>
                        </a:lnTo>
                        <a:lnTo>
                          <a:pt x="0" y="246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916280" y="5156280"/>
                    <a:ext cx="1217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83" h="72">
                        <a:moveTo>
                          <a:pt x="0" y="0"/>
                        </a:moveTo>
                        <a:lnTo>
                          <a:pt x="3383" y="0"/>
                        </a:lnTo>
                        <a:lnTo>
                          <a:pt x="338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944720" y="5199120"/>
                    <a:ext cx="27360" cy="86544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2404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2404"/>
                        </a:lnTo>
                        <a:lnTo>
                          <a:pt x="0" y="240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944720" y="5176800"/>
                    <a:ext cx="1189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304" h="72">
                        <a:moveTo>
                          <a:pt x="0" y="0"/>
                        </a:moveTo>
                        <a:lnTo>
                          <a:pt x="3304" y="0"/>
                        </a:lnTo>
                        <a:lnTo>
                          <a:pt x="330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1720" y="5219640"/>
                    <a:ext cx="30600" cy="84492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2347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2347"/>
                        </a:lnTo>
                        <a:lnTo>
                          <a:pt x="0" y="23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971720" y="5199120"/>
                    <a:ext cx="11624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229" h="72">
                        <a:moveTo>
                          <a:pt x="0" y="0"/>
                        </a:moveTo>
                        <a:lnTo>
                          <a:pt x="3229" y="0"/>
                        </a:lnTo>
                        <a:lnTo>
                          <a:pt x="322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2001960" y="5240160"/>
                    <a:ext cx="27360" cy="8244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2290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2290"/>
                        </a:lnTo>
                        <a:lnTo>
                          <a:pt x="0" y="22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2001960" y="5219640"/>
                    <a:ext cx="1132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145" h="72">
                        <a:moveTo>
                          <a:pt x="0" y="0"/>
                        </a:moveTo>
                        <a:lnTo>
                          <a:pt x="3145" y="0"/>
                        </a:lnTo>
                        <a:lnTo>
                          <a:pt x="314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2028960" y="5262480"/>
                    <a:ext cx="28800" cy="8020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228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228"/>
                        </a:lnTo>
                        <a:lnTo>
                          <a:pt x="0" y="22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028960" y="5240160"/>
                    <a:ext cx="11052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3070" h="72">
                        <a:moveTo>
                          <a:pt x="0" y="0"/>
                        </a:moveTo>
                        <a:lnTo>
                          <a:pt x="3070" y="0"/>
                        </a:lnTo>
                        <a:lnTo>
                          <a:pt x="307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057400" y="5283360"/>
                    <a:ext cx="28800" cy="7815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17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171"/>
                        </a:lnTo>
                        <a:lnTo>
                          <a:pt x="0" y="217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057400" y="5262480"/>
                    <a:ext cx="10767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991" h="72">
                        <a:moveTo>
                          <a:pt x="0" y="0"/>
                        </a:moveTo>
                        <a:lnTo>
                          <a:pt x="2991" y="0"/>
                        </a:lnTo>
                        <a:lnTo>
                          <a:pt x="299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085840" y="5303880"/>
                    <a:ext cx="28800" cy="7606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113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113"/>
                        </a:lnTo>
                        <a:lnTo>
                          <a:pt x="0" y="211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085840" y="5283360"/>
                    <a:ext cx="10479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911" h="72">
                        <a:moveTo>
                          <a:pt x="0" y="0"/>
                        </a:moveTo>
                        <a:lnTo>
                          <a:pt x="2911" y="0"/>
                        </a:lnTo>
                        <a:lnTo>
                          <a:pt x="291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c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14640" y="5324400"/>
                    <a:ext cx="28800" cy="7401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2056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2056"/>
                        </a:lnTo>
                        <a:lnTo>
                          <a:pt x="0" y="20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14640" y="5303880"/>
                    <a:ext cx="10195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832" h="72">
                        <a:moveTo>
                          <a:pt x="0" y="0"/>
                        </a:moveTo>
                        <a:lnTo>
                          <a:pt x="2832" y="0"/>
                        </a:lnTo>
                        <a:lnTo>
                          <a:pt x="283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43080" y="5345280"/>
                    <a:ext cx="27360" cy="71964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999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1999"/>
                        </a:lnTo>
                        <a:lnTo>
                          <a:pt x="0" y="19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43080" y="5324400"/>
                    <a:ext cx="991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753" h="72">
                        <a:moveTo>
                          <a:pt x="0" y="0"/>
                        </a:moveTo>
                        <a:lnTo>
                          <a:pt x="2753" y="0"/>
                        </a:lnTo>
                        <a:lnTo>
                          <a:pt x="275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70080" y="5367240"/>
                    <a:ext cx="28800" cy="6973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93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937"/>
                        </a:lnTo>
                        <a:lnTo>
                          <a:pt x="0" y="193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70080" y="5345280"/>
                    <a:ext cx="964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678" h="72">
                        <a:moveTo>
                          <a:pt x="0" y="0"/>
                        </a:moveTo>
                        <a:lnTo>
                          <a:pt x="2678" y="0"/>
                        </a:lnTo>
                        <a:lnTo>
                          <a:pt x="267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98520" y="5388120"/>
                    <a:ext cx="28800" cy="6768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88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880"/>
                        </a:lnTo>
                        <a:lnTo>
                          <a:pt x="0" y="188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98520" y="5367240"/>
                    <a:ext cx="9352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598" h="72">
                        <a:moveTo>
                          <a:pt x="0" y="0"/>
                        </a:moveTo>
                        <a:lnTo>
                          <a:pt x="2598" y="0"/>
                        </a:lnTo>
                        <a:lnTo>
                          <a:pt x="259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227320" y="5408640"/>
                    <a:ext cx="28800" cy="6559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822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822"/>
                        </a:lnTo>
                        <a:lnTo>
                          <a:pt x="0" y="18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227320" y="5388120"/>
                    <a:ext cx="9068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519" h="72">
                        <a:moveTo>
                          <a:pt x="0" y="0"/>
                        </a:moveTo>
                        <a:lnTo>
                          <a:pt x="2519" y="0"/>
                        </a:lnTo>
                        <a:lnTo>
                          <a:pt x="251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255760" y="5430960"/>
                    <a:ext cx="28800" cy="6336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76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760"/>
                        </a:lnTo>
                        <a:lnTo>
                          <a:pt x="0" y="17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255760" y="5408640"/>
                    <a:ext cx="8784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440" h="72">
                        <a:moveTo>
                          <a:pt x="0" y="0"/>
                        </a:moveTo>
                        <a:lnTo>
                          <a:pt x="2440" y="0"/>
                        </a:lnTo>
                        <a:lnTo>
                          <a:pt x="244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284560" y="5451480"/>
                    <a:ext cx="27360" cy="61308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703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1703"/>
                        </a:lnTo>
                        <a:lnTo>
                          <a:pt x="0" y="17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284560" y="5430960"/>
                    <a:ext cx="849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360" h="72">
                        <a:moveTo>
                          <a:pt x="0" y="0"/>
                        </a:moveTo>
                        <a:lnTo>
                          <a:pt x="2360" y="0"/>
                        </a:lnTo>
                        <a:lnTo>
                          <a:pt x="2360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311560" y="5472000"/>
                    <a:ext cx="30600" cy="59256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1646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1646"/>
                        </a:lnTo>
                        <a:lnTo>
                          <a:pt x="0" y="164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311560" y="5451480"/>
                    <a:ext cx="8226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285" h="72">
                        <a:moveTo>
                          <a:pt x="0" y="0"/>
                        </a:moveTo>
                        <a:lnTo>
                          <a:pt x="2285" y="0"/>
                        </a:lnTo>
                        <a:lnTo>
                          <a:pt x="228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d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341440" y="5494320"/>
                    <a:ext cx="27360" cy="57024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584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1584"/>
                        </a:lnTo>
                        <a:lnTo>
                          <a:pt x="0" y="15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341440" y="5472000"/>
                    <a:ext cx="792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201" h="72">
                        <a:moveTo>
                          <a:pt x="0" y="0"/>
                        </a:moveTo>
                        <a:lnTo>
                          <a:pt x="2201" y="0"/>
                        </a:lnTo>
                        <a:lnTo>
                          <a:pt x="2201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368440" y="5514840"/>
                    <a:ext cx="28800" cy="5497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52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527"/>
                        </a:lnTo>
                        <a:lnTo>
                          <a:pt x="0" y="152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368440" y="5494320"/>
                    <a:ext cx="7653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126" h="72">
                        <a:moveTo>
                          <a:pt x="0" y="0"/>
                        </a:moveTo>
                        <a:lnTo>
                          <a:pt x="2126" y="0"/>
                        </a:lnTo>
                        <a:lnTo>
                          <a:pt x="212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397240" y="5535720"/>
                    <a:ext cx="28800" cy="5288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469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469"/>
                        </a:lnTo>
                        <a:lnTo>
                          <a:pt x="0" y="146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397240" y="5514840"/>
                    <a:ext cx="7369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47" h="72">
                        <a:moveTo>
                          <a:pt x="0" y="0"/>
                        </a:moveTo>
                        <a:lnTo>
                          <a:pt x="2047" y="0"/>
                        </a:lnTo>
                        <a:lnTo>
                          <a:pt x="204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425680" y="5557680"/>
                    <a:ext cx="27360" cy="50688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408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1408"/>
                        </a:lnTo>
                        <a:lnTo>
                          <a:pt x="0" y="140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425680" y="5535720"/>
                    <a:ext cx="708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68" h="72">
                        <a:moveTo>
                          <a:pt x="0" y="0"/>
                        </a:moveTo>
                        <a:lnTo>
                          <a:pt x="1968" y="0"/>
                        </a:lnTo>
                        <a:lnTo>
                          <a:pt x="1968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452680" y="5578560"/>
                    <a:ext cx="30600" cy="486000"/>
                  </a:xfrm>
                  <a:custGeom>
                    <a:avLst/>
                    <a:gdLst/>
                    <a:ahLst/>
                    <a:rect l="0" t="0" r="r" b="b"/>
                    <a:pathLst>
                      <a:path w="85" h="1350">
                        <a:moveTo>
                          <a:pt x="0" y="0"/>
                        </a:moveTo>
                        <a:lnTo>
                          <a:pt x="85" y="0"/>
                        </a:lnTo>
                        <a:lnTo>
                          <a:pt x="85" y="1350"/>
                        </a:lnTo>
                        <a:lnTo>
                          <a:pt x="0" y="135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452680" y="5557680"/>
                    <a:ext cx="6814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893" h="72">
                        <a:moveTo>
                          <a:pt x="0" y="0"/>
                        </a:moveTo>
                        <a:lnTo>
                          <a:pt x="1893" y="0"/>
                        </a:lnTo>
                        <a:lnTo>
                          <a:pt x="189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482920" y="5599080"/>
                    <a:ext cx="27360" cy="46548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293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1293"/>
                        </a:lnTo>
                        <a:lnTo>
                          <a:pt x="0" y="129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482920" y="5578560"/>
                    <a:ext cx="651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809" h="72">
                        <a:moveTo>
                          <a:pt x="0" y="0"/>
                        </a:moveTo>
                        <a:lnTo>
                          <a:pt x="1809" y="0"/>
                        </a:lnTo>
                        <a:lnTo>
                          <a:pt x="1809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509920" y="5621400"/>
                    <a:ext cx="28800" cy="4431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231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231"/>
                        </a:lnTo>
                        <a:lnTo>
                          <a:pt x="0" y="123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509920" y="5599080"/>
                    <a:ext cx="62424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734" h="72">
                        <a:moveTo>
                          <a:pt x="0" y="0"/>
                        </a:moveTo>
                        <a:lnTo>
                          <a:pt x="1734" y="0"/>
                        </a:lnTo>
                        <a:lnTo>
                          <a:pt x="1734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538360" y="5640480"/>
                    <a:ext cx="28800" cy="4240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178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178"/>
                        </a:lnTo>
                        <a:lnTo>
                          <a:pt x="0" y="11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f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538360" y="5621400"/>
                    <a:ext cx="5958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655" h="72">
                        <a:moveTo>
                          <a:pt x="0" y="0"/>
                        </a:moveTo>
                        <a:lnTo>
                          <a:pt x="1655" y="0"/>
                        </a:lnTo>
                        <a:lnTo>
                          <a:pt x="165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ef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567160" y="5662440"/>
                    <a:ext cx="28800" cy="40212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117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117"/>
                        </a:lnTo>
                        <a:lnTo>
                          <a:pt x="0" y="11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1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567160" y="5640480"/>
                    <a:ext cx="56700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575" h="72">
                        <a:moveTo>
                          <a:pt x="0" y="0"/>
                        </a:moveTo>
                        <a:lnTo>
                          <a:pt x="1575" y="0"/>
                        </a:lnTo>
                        <a:lnTo>
                          <a:pt x="1575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1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595600" y="5683320"/>
                    <a:ext cx="28800" cy="3812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1059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1059"/>
                        </a:lnTo>
                        <a:lnTo>
                          <a:pt x="0" y="10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3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595600" y="5662440"/>
                    <a:ext cx="53856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496" h="72">
                        <a:moveTo>
                          <a:pt x="0" y="0"/>
                        </a:moveTo>
                        <a:lnTo>
                          <a:pt x="1496" y="0"/>
                        </a:lnTo>
                        <a:lnTo>
                          <a:pt x="1496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3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624040" y="5703840"/>
                    <a:ext cx="27360" cy="36072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002">
                        <a:moveTo>
                          <a:pt x="0" y="0"/>
                        </a:moveTo>
                        <a:lnTo>
                          <a:pt x="76" y="0"/>
                        </a:lnTo>
                        <a:lnTo>
                          <a:pt x="76" y="1002"/>
                        </a:lnTo>
                        <a:lnTo>
                          <a:pt x="0" y="100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5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624040" y="5683320"/>
                    <a:ext cx="510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417" h="72">
                        <a:moveTo>
                          <a:pt x="0" y="0"/>
                        </a:moveTo>
                        <a:lnTo>
                          <a:pt x="1417" y="0"/>
                        </a:lnTo>
                        <a:lnTo>
                          <a:pt x="1417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5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2651040" y="5726160"/>
                    <a:ext cx="28800" cy="33840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940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940"/>
                        </a:lnTo>
                        <a:lnTo>
                          <a:pt x="0" y="9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651040" y="5703840"/>
                    <a:ext cx="483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342" h="72">
                        <a:moveTo>
                          <a:pt x="0" y="0"/>
                        </a:moveTo>
                        <a:lnTo>
                          <a:pt x="1342" y="0"/>
                        </a:lnTo>
                        <a:lnTo>
                          <a:pt x="134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7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679840" y="5746680"/>
                    <a:ext cx="28800" cy="31788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883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883"/>
                        </a:lnTo>
                        <a:lnTo>
                          <a:pt x="0" y="8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9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679840" y="5726160"/>
                    <a:ext cx="4543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262" h="72">
                        <a:moveTo>
                          <a:pt x="0" y="0"/>
                        </a:moveTo>
                        <a:lnTo>
                          <a:pt x="1262" y="0"/>
                        </a:lnTo>
                        <a:lnTo>
                          <a:pt x="1262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9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708280" y="5767560"/>
                    <a:ext cx="28800" cy="29736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826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826"/>
                        </a:lnTo>
                        <a:lnTo>
                          <a:pt x="0" y="82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b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708280" y="5746680"/>
                    <a:ext cx="4258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83" h="72">
                        <a:moveTo>
                          <a:pt x="0" y="0"/>
                        </a:moveTo>
                        <a:lnTo>
                          <a:pt x="1183" y="0"/>
                        </a:lnTo>
                        <a:lnTo>
                          <a:pt x="118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b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736720" y="5789520"/>
                    <a:ext cx="28800" cy="275040"/>
                  </a:xfrm>
                  <a:custGeom>
                    <a:avLst/>
                    <a:gdLst/>
                    <a:ahLst/>
                    <a:rect l="0" t="0" r="r" b="b"/>
                    <a:pathLst>
                      <a:path w="80" h="764">
                        <a:moveTo>
                          <a:pt x="0" y="0"/>
                        </a:moveTo>
                        <a:lnTo>
                          <a:pt x="80" y="0"/>
                        </a:lnTo>
                        <a:lnTo>
                          <a:pt x="80" y="764"/>
                        </a:lnTo>
                        <a:lnTo>
                          <a:pt x="0" y="7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736720" y="5767560"/>
                    <a:ext cx="39708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1103" h="72">
                        <a:moveTo>
                          <a:pt x="0" y="0"/>
                        </a:moveTo>
                        <a:lnTo>
                          <a:pt x="1103" y="0"/>
                        </a:lnTo>
                        <a:lnTo>
                          <a:pt x="1103" y="72"/>
                        </a:lnTo>
                        <a:lnTo>
                          <a:pt x="0" y="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d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765520" y="5789520"/>
                    <a:ext cx="368640" cy="27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24" h="764">
                        <a:moveTo>
                          <a:pt x="0" y="0"/>
                        </a:moveTo>
                        <a:lnTo>
                          <a:pt x="1024" y="0"/>
                        </a:lnTo>
                        <a:lnTo>
                          <a:pt x="1024" y="764"/>
                        </a:lnTo>
                        <a:lnTo>
                          <a:pt x="0" y="7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fd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01480" y="4102200"/>
                    <a:ext cx="2631960" cy="1962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515880" y="4522680"/>
                  <a:ext cx="2510280" cy="86040"/>
                  <a:chOff x="515880" y="4522680"/>
                  <a:chExt cx="2510280" cy="860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527040" y="4533840"/>
                    <a:ext cx="2499120" cy="748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942" h="208">
                        <a:moveTo>
                          <a:pt x="0" y="88"/>
                        </a:moveTo>
                        <a:lnTo>
                          <a:pt x="224" y="88"/>
                        </a:lnTo>
                        <a:lnTo>
                          <a:pt x="480" y="30"/>
                        </a:lnTo>
                        <a:lnTo>
                          <a:pt x="529" y="17"/>
                        </a:lnTo>
                        <a:lnTo>
                          <a:pt x="560" y="22"/>
                        </a:lnTo>
                        <a:lnTo>
                          <a:pt x="546" y="66"/>
                        </a:lnTo>
                        <a:lnTo>
                          <a:pt x="480" y="115"/>
                        </a:lnTo>
                        <a:lnTo>
                          <a:pt x="480" y="128"/>
                        </a:lnTo>
                        <a:lnTo>
                          <a:pt x="511" y="124"/>
                        </a:lnTo>
                        <a:lnTo>
                          <a:pt x="590" y="92"/>
                        </a:lnTo>
                        <a:lnTo>
                          <a:pt x="727" y="39"/>
                        </a:lnTo>
                        <a:lnTo>
                          <a:pt x="780" y="17"/>
                        </a:lnTo>
                        <a:lnTo>
                          <a:pt x="802" y="22"/>
                        </a:lnTo>
                        <a:lnTo>
                          <a:pt x="780" y="52"/>
                        </a:lnTo>
                        <a:lnTo>
                          <a:pt x="718" y="106"/>
                        </a:lnTo>
                        <a:lnTo>
                          <a:pt x="643" y="181"/>
                        </a:lnTo>
                        <a:lnTo>
                          <a:pt x="665" y="208"/>
                        </a:lnTo>
                        <a:lnTo>
                          <a:pt x="789" y="137"/>
                        </a:lnTo>
                        <a:lnTo>
                          <a:pt x="943" y="39"/>
                        </a:lnTo>
                        <a:lnTo>
                          <a:pt x="974" y="30"/>
                        </a:lnTo>
                        <a:lnTo>
                          <a:pt x="1001" y="30"/>
                        </a:lnTo>
                        <a:lnTo>
                          <a:pt x="983" y="66"/>
                        </a:lnTo>
                        <a:lnTo>
                          <a:pt x="921" y="128"/>
                        </a:lnTo>
                        <a:lnTo>
                          <a:pt x="930" y="142"/>
                        </a:lnTo>
                        <a:lnTo>
                          <a:pt x="952" y="150"/>
                        </a:lnTo>
                        <a:lnTo>
                          <a:pt x="983" y="146"/>
                        </a:lnTo>
                        <a:lnTo>
                          <a:pt x="1058" y="124"/>
                        </a:lnTo>
                        <a:lnTo>
                          <a:pt x="1137" y="92"/>
                        </a:lnTo>
                        <a:lnTo>
                          <a:pt x="1270" y="35"/>
                        </a:lnTo>
                        <a:lnTo>
                          <a:pt x="1309" y="17"/>
                        </a:lnTo>
                        <a:lnTo>
                          <a:pt x="1344" y="4"/>
                        </a:lnTo>
                        <a:lnTo>
                          <a:pt x="1380" y="0"/>
                        </a:lnTo>
                        <a:lnTo>
                          <a:pt x="1402" y="8"/>
                        </a:lnTo>
                        <a:lnTo>
                          <a:pt x="1406" y="30"/>
                        </a:lnTo>
                        <a:lnTo>
                          <a:pt x="1384" y="57"/>
                        </a:lnTo>
                        <a:lnTo>
                          <a:pt x="1331" y="101"/>
                        </a:lnTo>
                        <a:lnTo>
                          <a:pt x="1309" y="128"/>
                        </a:lnTo>
                        <a:lnTo>
                          <a:pt x="1322" y="137"/>
                        </a:lnTo>
                        <a:lnTo>
                          <a:pt x="1340" y="142"/>
                        </a:lnTo>
                        <a:lnTo>
                          <a:pt x="1389" y="124"/>
                        </a:lnTo>
                        <a:lnTo>
                          <a:pt x="1433" y="92"/>
                        </a:lnTo>
                        <a:lnTo>
                          <a:pt x="1481" y="66"/>
                        </a:lnTo>
                        <a:lnTo>
                          <a:pt x="1512" y="52"/>
                        </a:lnTo>
                        <a:lnTo>
                          <a:pt x="1543" y="44"/>
                        </a:lnTo>
                        <a:lnTo>
                          <a:pt x="1578" y="52"/>
                        </a:lnTo>
                        <a:lnTo>
                          <a:pt x="1622" y="66"/>
                        </a:lnTo>
                        <a:lnTo>
                          <a:pt x="1658" y="79"/>
                        </a:lnTo>
                        <a:lnTo>
                          <a:pt x="1697" y="83"/>
                        </a:lnTo>
                        <a:lnTo>
                          <a:pt x="6942" y="79"/>
                        </a:lnTo>
                      </a:path>
                    </a:pathLst>
                  </a:custGeom>
                  <a:ln w="12600">
                    <a:solidFill>
                      <a:srgbClr val="0000ff"/>
                    </a:solidFill>
                    <a:round/>
                  </a:ln>
                </p:spPr>
                <p:txBody>
                  <a:bodyPr lIns="96120" rIns="9612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515880" y="4522680"/>
                    <a:ext cx="2499120" cy="748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6942" h="208">
                        <a:moveTo>
                          <a:pt x="0" y="83"/>
                        </a:moveTo>
                        <a:lnTo>
                          <a:pt x="220" y="83"/>
                        </a:lnTo>
                        <a:lnTo>
                          <a:pt x="480" y="30"/>
                        </a:lnTo>
                        <a:lnTo>
                          <a:pt x="529" y="17"/>
                        </a:lnTo>
                        <a:lnTo>
                          <a:pt x="560" y="22"/>
                        </a:lnTo>
                        <a:lnTo>
                          <a:pt x="546" y="66"/>
                        </a:lnTo>
                        <a:lnTo>
                          <a:pt x="480" y="115"/>
                        </a:lnTo>
                        <a:lnTo>
                          <a:pt x="480" y="128"/>
                        </a:lnTo>
                        <a:lnTo>
                          <a:pt x="507" y="124"/>
                        </a:lnTo>
                        <a:lnTo>
                          <a:pt x="590" y="92"/>
                        </a:lnTo>
                        <a:lnTo>
                          <a:pt x="723" y="39"/>
                        </a:lnTo>
                        <a:lnTo>
                          <a:pt x="776" y="17"/>
                        </a:lnTo>
                        <a:lnTo>
                          <a:pt x="802" y="22"/>
                        </a:lnTo>
                        <a:lnTo>
                          <a:pt x="780" y="48"/>
                        </a:lnTo>
                        <a:lnTo>
                          <a:pt x="718" y="106"/>
                        </a:lnTo>
                        <a:lnTo>
                          <a:pt x="643" y="181"/>
                        </a:lnTo>
                        <a:lnTo>
                          <a:pt x="665" y="208"/>
                        </a:lnTo>
                        <a:lnTo>
                          <a:pt x="784" y="133"/>
                        </a:lnTo>
                        <a:lnTo>
                          <a:pt x="939" y="39"/>
                        </a:lnTo>
                        <a:lnTo>
                          <a:pt x="974" y="30"/>
                        </a:lnTo>
                        <a:lnTo>
                          <a:pt x="1001" y="30"/>
                        </a:lnTo>
                        <a:lnTo>
                          <a:pt x="983" y="66"/>
                        </a:lnTo>
                        <a:lnTo>
                          <a:pt x="921" y="124"/>
                        </a:lnTo>
                        <a:lnTo>
                          <a:pt x="926" y="142"/>
                        </a:lnTo>
                        <a:lnTo>
                          <a:pt x="948" y="146"/>
                        </a:lnTo>
                        <a:lnTo>
                          <a:pt x="983" y="146"/>
                        </a:lnTo>
                        <a:lnTo>
                          <a:pt x="1053" y="124"/>
                        </a:lnTo>
                        <a:lnTo>
                          <a:pt x="1137" y="92"/>
                        </a:lnTo>
                        <a:lnTo>
                          <a:pt x="1270" y="30"/>
                        </a:lnTo>
                        <a:lnTo>
                          <a:pt x="1305" y="17"/>
                        </a:lnTo>
                        <a:lnTo>
                          <a:pt x="1344" y="4"/>
                        </a:lnTo>
                        <a:lnTo>
                          <a:pt x="1380" y="0"/>
                        </a:lnTo>
                        <a:lnTo>
                          <a:pt x="1402" y="8"/>
                        </a:lnTo>
                        <a:lnTo>
                          <a:pt x="1406" y="30"/>
                        </a:lnTo>
                        <a:lnTo>
                          <a:pt x="1380" y="57"/>
                        </a:lnTo>
                        <a:lnTo>
                          <a:pt x="1327" y="101"/>
                        </a:lnTo>
                        <a:lnTo>
                          <a:pt x="1305" y="124"/>
                        </a:lnTo>
                        <a:lnTo>
                          <a:pt x="1322" y="137"/>
                        </a:lnTo>
                        <a:lnTo>
                          <a:pt x="1340" y="142"/>
                        </a:lnTo>
                        <a:lnTo>
                          <a:pt x="1389" y="124"/>
                        </a:lnTo>
                        <a:lnTo>
                          <a:pt x="1433" y="92"/>
                        </a:lnTo>
                        <a:lnTo>
                          <a:pt x="1481" y="66"/>
                        </a:lnTo>
                        <a:lnTo>
                          <a:pt x="1512" y="52"/>
                        </a:lnTo>
                        <a:lnTo>
                          <a:pt x="1543" y="44"/>
                        </a:lnTo>
                        <a:lnTo>
                          <a:pt x="1578" y="48"/>
                        </a:lnTo>
                        <a:lnTo>
                          <a:pt x="1622" y="66"/>
                        </a:lnTo>
                        <a:lnTo>
                          <a:pt x="1658" y="79"/>
                        </a:lnTo>
                        <a:lnTo>
                          <a:pt x="1697" y="83"/>
                        </a:lnTo>
                        <a:lnTo>
                          <a:pt x="6942" y="79"/>
                        </a:lnTo>
                      </a:path>
                    </a:pathLst>
                  </a:custGeom>
                  <a:ln w="12600">
                    <a:solidFill>
                      <a:srgbClr val="00ffff"/>
                    </a:solidFill>
                    <a:round/>
                  </a:ln>
                </p:spPr>
                <p:txBody>
                  <a:bodyPr lIns="96120" rIns="9612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1041480" y="4984920"/>
                  <a:ext cx="1646640" cy="865440"/>
                  <a:chOff x="1041480" y="4984920"/>
                  <a:chExt cx="1646640" cy="86544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1787400" y="5084640"/>
                    <a:ext cx="555840" cy="416160"/>
                  </a:xfrm>
                  <a:custGeom>
                    <a:avLst/>
                    <a:gdLst/>
                    <a:ahLst/>
                    <a:rect l="0" t="0" r="r" b="b"/>
                    <a:pathLst>
                      <a:path w="1544" h="1156">
                        <a:moveTo>
                          <a:pt x="0" y="609"/>
                        </a:moveTo>
                        <a:lnTo>
                          <a:pt x="1544" y="0"/>
                        </a:lnTo>
                        <a:lnTo>
                          <a:pt x="1544" y="546"/>
                        </a:lnTo>
                        <a:lnTo>
                          <a:pt x="0" y="1156"/>
                        </a:lnTo>
                        <a:lnTo>
                          <a:pt x="0" y="609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1041480" y="5299200"/>
                    <a:ext cx="611640" cy="511560"/>
                  </a:xfrm>
                  <a:custGeom>
                    <a:avLst/>
                    <a:gdLst/>
                    <a:ahLst/>
                    <a:rect l="0" t="0" r="r" b="b"/>
                    <a:pathLst>
                      <a:path w="1699" h="1421">
                        <a:moveTo>
                          <a:pt x="1699" y="874"/>
                        </a:moveTo>
                        <a:lnTo>
                          <a:pt x="1699" y="874"/>
                        </a:lnTo>
                        <a:lnTo>
                          <a:pt x="1664" y="874"/>
                        </a:lnTo>
                        <a:lnTo>
                          <a:pt x="1629" y="869"/>
                        </a:lnTo>
                        <a:lnTo>
                          <a:pt x="1598" y="865"/>
                        </a:lnTo>
                        <a:lnTo>
                          <a:pt x="1558" y="860"/>
                        </a:lnTo>
                        <a:lnTo>
                          <a:pt x="1523" y="860"/>
                        </a:lnTo>
                        <a:lnTo>
                          <a:pt x="1488" y="852"/>
                        </a:lnTo>
                        <a:lnTo>
                          <a:pt x="1452" y="847"/>
                        </a:lnTo>
                        <a:lnTo>
                          <a:pt x="1417" y="843"/>
                        </a:lnTo>
                        <a:lnTo>
                          <a:pt x="1386" y="838"/>
                        </a:lnTo>
                        <a:lnTo>
                          <a:pt x="1351" y="834"/>
                        </a:lnTo>
                        <a:lnTo>
                          <a:pt x="1311" y="830"/>
                        </a:lnTo>
                        <a:lnTo>
                          <a:pt x="1280" y="825"/>
                        </a:lnTo>
                        <a:lnTo>
                          <a:pt x="1244" y="816"/>
                        </a:lnTo>
                        <a:lnTo>
                          <a:pt x="1213" y="812"/>
                        </a:lnTo>
                        <a:lnTo>
                          <a:pt x="1182" y="803"/>
                        </a:lnTo>
                        <a:lnTo>
                          <a:pt x="1147" y="799"/>
                        </a:lnTo>
                        <a:lnTo>
                          <a:pt x="1116" y="790"/>
                        </a:lnTo>
                        <a:lnTo>
                          <a:pt x="1081" y="781"/>
                        </a:lnTo>
                        <a:lnTo>
                          <a:pt x="1050" y="772"/>
                        </a:lnTo>
                        <a:lnTo>
                          <a:pt x="1019" y="763"/>
                        </a:lnTo>
                        <a:lnTo>
                          <a:pt x="988" y="759"/>
                        </a:lnTo>
                        <a:lnTo>
                          <a:pt x="957" y="750"/>
                        </a:lnTo>
                        <a:lnTo>
                          <a:pt x="927" y="737"/>
                        </a:lnTo>
                        <a:lnTo>
                          <a:pt x="900" y="733"/>
                        </a:lnTo>
                        <a:lnTo>
                          <a:pt x="865" y="724"/>
                        </a:lnTo>
                        <a:lnTo>
                          <a:pt x="838" y="715"/>
                        </a:lnTo>
                        <a:lnTo>
                          <a:pt x="807" y="702"/>
                        </a:lnTo>
                        <a:lnTo>
                          <a:pt x="777" y="697"/>
                        </a:lnTo>
                        <a:lnTo>
                          <a:pt x="750" y="684"/>
                        </a:lnTo>
                        <a:lnTo>
                          <a:pt x="724" y="675"/>
                        </a:lnTo>
                        <a:lnTo>
                          <a:pt x="693" y="662"/>
                        </a:lnTo>
                        <a:lnTo>
                          <a:pt x="666" y="653"/>
                        </a:lnTo>
                        <a:lnTo>
                          <a:pt x="640" y="644"/>
                        </a:lnTo>
                        <a:lnTo>
                          <a:pt x="618" y="631"/>
                        </a:lnTo>
                        <a:lnTo>
                          <a:pt x="591" y="618"/>
                        </a:lnTo>
                        <a:lnTo>
                          <a:pt x="565" y="609"/>
                        </a:lnTo>
                        <a:lnTo>
                          <a:pt x="538" y="596"/>
                        </a:lnTo>
                        <a:lnTo>
                          <a:pt x="516" y="587"/>
                        </a:lnTo>
                        <a:lnTo>
                          <a:pt x="490" y="574"/>
                        </a:lnTo>
                        <a:lnTo>
                          <a:pt x="468" y="561"/>
                        </a:lnTo>
                        <a:lnTo>
                          <a:pt x="446" y="547"/>
                        </a:lnTo>
                        <a:lnTo>
                          <a:pt x="423" y="538"/>
                        </a:lnTo>
                        <a:lnTo>
                          <a:pt x="401" y="525"/>
                        </a:lnTo>
                        <a:lnTo>
                          <a:pt x="379" y="512"/>
                        </a:lnTo>
                        <a:lnTo>
                          <a:pt x="361" y="499"/>
                        </a:lnTo>
                        <a:lnTo>
                          <a:pt x="335" y="486"/>
                        </a:lnTo>
                        <a:lnTo>
                          <a:pt x="321" y="472"/>
                        </a:lnTo>
                        <a:lnTo>
                          <a:pt x="299" y="459"/>
                        </a:lnTo>
                        <a:lnTo>
                          <a:pt x="282" y="446"/>
                        </a:lnTo>
                        <a:lnTo>
                          <a:pt x="264" y="433"/>
                        </a:lnTo>
                        <a:lnTo>
                          <a:pt x="246" y="419"/>
                        </a:lnTo>
                        <a:lnTo>
                          <a:pt x="229" y="406"/>
                        </a:lnTo>
                        <a:lnTo>
                          <a:pt x="211" y="393"/>
                        </a:lnTo>
                        <a:lnTo>
                          <a:pt x="194" y="380"/>
                        </a:lnTo>
                        <a:lnTo>
                          <a:pt x="180" y="367"/>
                        </a:lnTo>
                        <a:lnTo>
                          <a:pt x="167" y="352"/>
                        </a:lnTo>
                        <a:lnTo>
                          <a:pt x="154" y="335"/>
                        </a:lnTo>
                        <a:lnTo>
                          <a:pt x="136" y="321"/>
                        </a:lnTo>
                        <a:lnTo>
                          <a:pt x="127" y="304"/>
                        </a:lnTo>
                        <a:lnTo>
                          <a:pt x="114" y="291"/>
                        </a:lnTo>
                        <a:lnTo>
                          <a:pt x="101" y="277"/>
                        </a:lnTo>
                        <a:lnTo>
                          <a:pt x="92" y="260"/>
                        </a:lnTo>
                        <a:lnTo>
                          <a:pt x="79" y="246"/>
                        </a:lnTo>
                        <a:lnTo>
                          <a:pt x="70" y="233"/>
                        </a:lnTo>
                        <a:lnTo>
                          <a:pt x="66" y="216"/>
                        </a:lnTo>
                        <a:lnTo>
                          <a:pt x="52" y="202"/>
                        </a:lnTo>
                        <a:lnTo>
                          <a:pt x="44" y="185"/>
                        </a:lnTo>
                        <a:lnTo>
                          <a:pt x="39" y="167"/>
                        </a:lnTo>
                        <a:lnTo>
                          <a:pt x="30" y="154"/>
                        </a:lnTo>
                        <a:lnTo>
                          <a:pt x="26" y="141"/>
                        </a:lnTo>
                        <a:lnTo>
                          <a:pt x="22" y="127"/>
                        </a:lnTo>
                        <a:lnTo>
                          <a:pt x="17" y="110"/>
                        </a:lnTo>
                        <a:lnTo>
                          <a:pt x="8" y="92"/>
                        </a:lnTo>
                        <a:lnTo>
                          <a:pt x="8" y="79"/>
                        </a:lnTo>
                        <a:lnTo>
                          <a:pt x="4" y="61"/>
                        </a:lnTo>
                        <a:lnTo>
                          <a:pt x="4" y="48"/>
                        </a:lnTo>
                        <a:lnTo>
                          <a:pt x="0" y="35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0" y="547"/>
                        </a:lnTo>
                        <a:lnTo>
                          <a:pt x="0" y="561"/>
                        </a:lnTo>
                        <a:lnTo>
                          <a:pt x="0" y="578"/>
                        </a:lnTo>
                        <a:lnTo>
                          <a:pt x="4" y="596"/>
                        </a:lnTo>
                        <a:lnTo>
                          <a:pt x="4" y="609"/>
                        </a:lnTo>
                        <a:lnTo>
                          <a:pt x="8" y="627"/>
                        </a:lnTo>
                        <a:lnTo>
                          <a:pt x="8" y="640"/>
                        </a:lnTo>
                        <a:lnTo>
                          <a:pt x="17" y="658"/>
                        </a:lnTo>
                        <a:lnTo>
                          <a:pt x="22" y="671"/>
                        </a:lnTo>
                        <a:lnTo>
                          <a:pt x="26" y="688"/>
                        </a:lnTo>
                        <a:lnTo>
                          <a:pt x="30" y="702"/>
                        </a:lnTo>
                        <a:lnTo>
                          <a:pt x="39" y="719"/>
                        </a:lnTo>
                        <a:lnTo>
                          <a:pt x="44" y="733"/>
                        </a:lnTo>
                        <a:lnTo>
                          <a:pt x="52" y="746"/>
                        </a:lnTo>
                        <a:lnTo>
                          <a:pt x="66" y="763"/>
                        </a:lnTo>
                        <a:lnTo>
                          <a:pt x="70" y="777"/>
                        </a:lnTo>
                        <a:lnTo>
                          <a:pt x="79" y="794"/>
                        </a:lnTo>
                        <a:lnTo>
                          <a:pt x="92" y="807"/>
                        </a:lnTo>
                        <a:lnTo>
                          <a:pt x="101" y="825"/>
                        </a:lnTo>
                        <a:lnTo>
                          <a:pt x="114" y="838"/>
                        </a:lnTo>
                        <a:lnTo>
                          <a:pt x="127" y="852"/>
                        </a:lnTo>
                        <a:lnTo>
                          <a:pt x="136" y="865"/>
                        </a:lnTo>
                        <a:lnTo>
                          <a:pt x="154" y="882"/>
                        </a:lnTo>
                        <a:lnTo>
                          <a:pt x="167" y="896"/>
                        </a:lnTo>
                        <a:lnTo>
                          <a:pt x="180" y="909"/>
                        </a:lnTo>
                        <a:lnTo>
                          <a:pt x="194" y="927"/>
                        </a:lnTo>
                        <a:lnTo>
                          <a:pt x="211" y="940"/>
                        </a:lnTo>
                        <a:lnTo>
                          <a:pt x="229" y="949"/>
                        </a:lnTo>
                        <a:lnTo>
                          <a:pt x="246" y="966"/>
                        </a:lnTo>
                        <a:lnTo>
                          <a:pt x="264" y="979"/>
                        </a:lnTo>
                        <a:lnTo>
                          <a:pt x="282" y="993"/>
                        </a:lnTo>
                        <a:lnTo>
                          <a:pt x="299" y="1006"/>
                        </a:lnTo>
                        <a:lnTo>
                          <a:pt x="321" y="1019"/>
                        </a:lnTo>
                        <a:lnTo>
                          <a:pt x="335" y="1032"/>
                        </a:lnTo>
                        <a:lnTo>
                          <a:pt x="361" y="1041"/>
                        </a:lnTo>
                        <a:lnTo>
                          <a:pt x="379" y="1054"/>
                        </a:lnTo>
                        <a:lnTo>
                          <a:pt x="401" y="1073"/>
                        </a:lnTo>
                        <a:lnTo>
                          <a:pt x="423" y="1086"/>
                        </a:lnTo>
                        <a:lnTo>
                          <a:pt x="446" y="1095"/>
                        </a:lnTo>
                        <a:lnTo>
                          <a:pt x="468" y="1108"/>
                        </a:lnTo>
                        <a:lnTo>
                          <a:pt x="490" y="1122"/>
                        </a:lnTo>
                        <a:lnTo>
                          <a:pt x="516" y="1130"/>
                        </a:lnTo>
                        <a:lnTo>
                          <a:pt x="538" y="1144"/>
                        </a:lnTo>
                        <a:lnTo>
                          <a:pt x="565" y="1157"/>
                        </a:lnTo>
                        <a:lnTo>
                          <a:pt x="591" y="1166"/>
                        </a:lnTo>
                        <a:lnTo>
                          <a:pt x="618" y="1179"/>
                        </a:lnTo>
                        <a:lnTo>
                          <a:pt x="640" y="1188"/>
                        </a:lnTo>
                        <a:lnTo>
                          <a:pt x="666" y="1201"/>
                        </a:lnTo>
                        <a:lnTo>
                          <a:pt x="693" y="1210"/>
                        </a:lnTo>
                        <a:lnTo>
                          <a:pt x="724" y="1219"/>
                        </a:lnTo>
                        <a:lnTo>
                          <a:pt x="750" y="1232"/>
                        </a:lnTo>
                        <a:lnTo>
                          <a:pt x="777" y="1241"/>
                        </a:lnTo>
                        <a:lnTo>
                          <a:pt x="807" y="1249"/>
                        </a:lnTo>
                        <a:lnTo>
                          <a:pt x="838" y="1258"/>
                        </a:lnTo>
                        <a:lnTo>
                          <a:pt x="865" y="1272"/>
                        </a:lnTo>
                        <a:lnTo>
                          <a:pt x="900" y="1280"/>
                        </a:lnTo>
                        <a:lnTo>
                          <a:pt x="927" y="1285"/>
                        </a:lnTo>
                        <a:lnTo>
                          <a:pt x="957" y="1294"/>
                        </a:lnTo>
                        <a:lnTo>
                          <a:pt x="988" y="1302"/>
                        </a:lnTo>
                        <a:lnTo>
                          <a:pt x="1019" y="1311"/>
                        </a:lnTo>
                        <a:lnTo>
                          <a:pt x="1050" y="1320"/>
                        </a:lnTo>
                        <a:lnTo>
                          <a:pt x="1081" y="1329"/>
                        </a:lnTo>
                        <a:lnTo>
                          <a:pt x="1116" y="1333"/>
                        </a:lnTo>
                        <a:lnTo>
                          <a:pt x="1147" y="1342"/>
                        </a:lnTo>
                        <a:lnTo>
                          <a:pt x="1182" y="1346"/>
                        </a:lnTo>
                        <a:lnTo>
                          <a:pt x="1213" y="1355"/>
                        </a:lnTo>
                        <a:lnTo>
                          <a:pt x="1244" y="1364"/>
                        </a:lnTo>
                        <a:lnTo>
                          <a:pt x="1280" y="1369"/>
                        </a:lnTo>
                        <a:lnTo>
                          <a:pt x="1311" y="1377"/>
                        </a:lnTo>
                        <a:lnTo>
                          <a:pt x="1351" y="1382"/>
                        </a:lnTo>
                        <a:lnTo>
                          <a:pt x="1386" y="1386"/>
                        </a:lnTo>
                        <a:lnTo>
                          <a:pt x="1417" y="1391"/>
                        </a:lnTo>
                        <a:lnTo>
                          <a:pt x="1452" y="1395"/>
                        </a:lnTo>
                        <a:lnTo>
                          <a:pt x="1488" y="1399"/>
                        </a:lnTo>
                        <a:lnTo>
                          <a:pt x="1523" y="1404"/>
                        </a:lnTo>
                        <a:lnTo>
                          <a:pt x="1558" y="1408"/>
                        </a:lnTo>
                        <a:lnTo>
                          <a:pt x="1598" y="1413"/>
                        </a:lnTo>
                        <a:lnTo>
                          <a:pt x="1629" y="1417"/>
                        </a:lnTo>
                        <a:lnTo>
                          <a:pt x="1664" y="1417"/>
                        </a:lnTo>
                        <a:lnTo>
                          <a:pt x="1699" y="1421"/>
                        </a:lnTo>
                        <a:lnTo>
                          <a:pt x="1699" y="874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1644480" y="5299200"/>
                    <a:ext cx="151200" cy="511560"/>
                  </a:xfrm>
                  <a:custGeom>
                    <a:avLst/>
                    <a:gdLst/>
                    <a:ahLst/>
                    <a:rect l="0" t="0" r="r" b="b"/>
                    <a:pathLst>
                      <a:path w="420" h="1421">
                        <a:moveTo>
                          <a:pt x="420" y="0"/>
                        </a:moveTo>
                        <a:lnTo>
                          <a:pt x="0" y="874"/>
                        </a:lnTo>
                        <a:lnTo>
                          <a:pt x="0" y="1421"/>
                        </a:lnTo>
                        <a:lnTo>
                          <a:pt x="420" y="547"/>
                        </a:lnTo>
                        <a:lnTo>
                          <a:pt x="420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789200" y="5332320"/>
                    <a:ext cx="898920" cy="518040"/>
                  </a:xfrm>
                  <a:custGeom>
                    <a:avLst/>
                    <a:gdLst/>
                    <a:ahLst/>
                    <a:rect l="0" t="0" r="r" b="b"/>
                    <a:pathLst>
                      <a:path w="2497" h="1439">
                        <a:moveTo>
                          <a:pt x="2497" y="0"/>
                        </a:moveTo>
                        <a:lnTo>
                          <a:pt x="2497" y="0"/>
                        </a:lnTo>
                        <a:lnTo>
                          <a:pt x="2497" y="17"/>
                        </a:lnTo>
                        <a:lnTo>
                          <a:pt x="2497" y="35"/>
                        </a:lnTo>
                        <a:lnTo>
                          <a:pt x="2497" y="48"/>
                        </a:lnTo>
                        <a:lnTo>
                          <a:pt x="2493" y="61"/>
                        </a:lnTo>
                        <a:lnTo>
                          <a:pt x="2489" y="79"/>
                        </a:lnTo>
                        <a:lnTo>
                          <a:pt x="2484" y="97"/>
                        </a:lnTo>
                        <a:lnTo>
                          <a:pt x="2484" y="110"/>
                        </a:lnTo>
                        <a:lnTo>
                          <a:pt x="2475" y="127"/>
                        </a:lnTo>
                        <a:lnTo>
                          <a:pt x="2471" y="145"/>
                        </a:lnTo>
                        <a:lnTo>
                          <a:pt x="2462" y="158"/>
                        </a:lnTo>
                        <a:lnTo>
                          <a:pt x="2458" y="171"/>
                        </a:lnTo>
                        <a:lnTo>
                          <a:pt x="2453" y="189"/>
                        </a:lnTo>
                        <a:lnTo>
                          <a:pt x="2444" y="202"/>
                        </a:lnTo>
                        <a:lnTo>
                          <a:pt x="2436" y="220"/>
                        </a:lnTo>
                        <a:lnTo>
                          <a:pt x="2427" y="233"/>
                        </a:lnTo>
                        <a:lnTo>
                          <a:pt x="2414" y="246"/>
                        </a:lnTo>
                        <a:lnTo>
                          <a:pt x="2405" y="264"/>
                        </a:lnTo>
                        <a:lnTo>
                          <a:pt x="2396" y="277"/>
                        </a:lnTo>
                        <a:lnTo>
                          <a:pt x="2387" y="291"/>
                        </a:lnTo>
                        <a:lnTo>
                          <a:pt x="2374" y="308"/>
                        </a:lnTo>
                        <a:lnTo>
                          <a:pt x="2361" y="321"/>
                        </a:lnTo>
                        <a:lnTo>
                          <a:pt x="2347" y="335"/>
                        </a:lnTo>
                        <a:lnTo>
                          <a:pt x="2330" y="352"/>
                        </a:lnTo>
                        <a:lnTo>
                          <a:pt x="2317" y="367"/>
                        </a:lnTo>
                        <a:lnTo>
                          <a:pt x="2299" y="380"/>
                        </a:lnTo>
                        <a:lnTo>
                          <a:pt x="2286" y="393"/>
                        </a:lnTo>
                        <a:lnTo>
                          <a:pt x="2273" y="406"/>
                        </a:lnTo>
                        <a:lnTo>
                          <a:pt x="2255" y="424"/>
                        </a:lnTo>
                        <a:lnTo>
                          <a:pt x="2233" y="437"/>
                        </a:lnTo>
                        <a:lnTo>
                          <a:pt x="2220" y="450"/>
                        </a:lnTo>
                        <a:lnTo>
                          <a:pt x="2198" y="464"/>
                        </a:lnTo>
                        <a:lnTo>
                          <a:pt x="2180" y="477"/>
                        </a:lnTo>
                        <a:lnTo>
                          <a:pt x="2158" y="490"/>
                        </a:lnTo>
                        <a:lnTo>
                          <a:pt x="2140" y="503"/>
                        </a:lnTo>
                        <a:lnTo>
                          <a:pt x="2123" y="512"/>
                        </a:lnTo>
                        <a:lnTo>
                          <a:pt x="2096" y="525"/>
                        </a:lnTo>
                        <a:lnTo>
                          <a:pt x="2078" y="538"/>
                        </a:lnTo>
                        <a:lnTo>
                          <a:pt x="2052" y="552"/>
                        </a:lnTo>
                        <a:lnTo>
                          <a:pt x="2030" y="565"/>
                        </a:lnTo>
                        <a:lnTo>
                          <a:pt x="2008" y="578"/>
                        </a:lnTo>
                        <a:lnTo>
                          <a:pt x="1981" y="587"/>
                        </a:lnTo>
                        <a:lnTo>
                          <a:pt x="1959" y="600"/>
                        </a:lnTo>
                        <a:lnTo>
                          <a:pt x="1937" y="609"/>
                        </a:lnTo>
                        <a:lnTo>
                          <a:pt x="1911" y="618"/>
                        </a:lnTo>
                        <a:lnTo>
                          <a:pt x="1884" y="636"/>
                        </a:lnTo>
                        <a:lnTo>
                          <a:pt x="1857" y="644"/>
                        </a:lnTo>
                        <a:lnTo>
                          <a:pt x="1831" y="653"/>
                        </a:lnTo>
                        <a:lnTo>
                          <a:pt x="1804" y="666"/>
                        </a:lnTo>
                        <a:lnTo>
                          <a:pt x="1778" y="675"/>
                        </a:lnTo>
                        <a:lnTo>
                          <a:pt x="1751" y="684"/>
                        </a:lnTo>
                        <a:lnTo>
                          <a:pt x="1720" y="697"/>
                        </a:lnTo>
                        <a:lnTo>
                          <a:pt x="1689" y="706"/>
                        </a:lnTo>
                        <a:lnTo>
                          <a:pt x="1663" y="715"/>
                        </a:lnTo>
                        <a:lnTo>
                          <a:pt x="1632" y="728"/>
                        </a:lnTo>
                        <a:lnTo>
                          <a:pt x="1601" y="733"/>
                        </a:lnTo>
                        <a:lnTo>
                          <a:pt x="1575" y="741"/>
                        </a:lnTo>
                        <a:lnTo>
                          <a:pt x="1544" y="750"/>
                        </a:lnTo>
                        <a:lnTo>
                          <a:pt x="1513" y="759"/>
                        </a:lnTo>
                        <a:lnTo>
                          <a:pt x="1482" y="768"/>
                        </a:lnTo>
                        <a:lnTo>
                          <a:pt x="1451" y="772"/>
                        </a:lnTo>
                        <a:lnTo>
                          <a:pt x="1416" y="781"/>
                        </a:lnTo>
                        <a:lnTo>
                          <a:pt x="1385" y="790"/>
                        </a:lnTo>
                        <a:lnTo>
                          <a:pt x="1354" y="799"/>
                        </a:lnTo>
                        <a:lnTo>
                          <a:pt x="1323" y="803"/>
                        </a:lnTo>
                        <a:lnTo>
                          <a:pt x="1288" y="812"/>
                        </a:lnTo>
                        <a:lnTo>
                          <a:pt x="1257" y="816"/>
                        </a:lnTo>
                        <a:lnTo>
                          <a:pt x="1222" y="825"/>
                        </a:lnTo>
                        <a:lnTo>
                          <a:pt x="1187" y="830"/>
                        </a:lnTo>
                        <a:lnTo>
                          <a:pt x="1151" y="834"/>
                        </a:lnTo>
                        <a:lnTo>
                          <a:pt x="1121" y="843"/>
                        </a:lnTo>
                        <a:lnTo>
                          <a:pt x="1085" y="847"/>
                        </a:lnTo>
                        <a:lnTo>
                          <a:pt x="1050" y="847"/>
                        </a:lnTo>
                        <a:lnTo>
                          <a:pt x="1015" y="856"/>
                        </a:lnTo>
                        <a:lnTo>
                          <a:pt x="979" y="860"/>
                        </a:lnTo>
                        <a:lnTo>
                          <a:pt x="944" y="860"/>
                        </a:lnTo>
                        <a:lnTo>
                          <a:pt x="909" y="869"/>
                        </a:lnTo>
                        <a:lnTo>
                          <a:pt x="874" y="869"/>
                        </a:lnTo>
                        <a:lnTo>
                          <a:pt x="834" y="874"/>
                        </a:lnTo>
                        <a:lnTo>
                          <a:pt x="803" y="874"/>
                        </a:lnTo>
                        <a:lnTo>
                          <a:pt x="768" y="882"/>
                        </a:lnTo>
                        <a:lnTo>
                          <a:pt x="728" y="882"/>
                        </a:lnTo>
                        <a:lnTo>
                          <a:pt x="693" y="882"/>
                        </a:lnTo>
                        <a:lnTo>
                          <a:pt x="658" y="887"/>
                        </a:lnTo>
                        <a:lnTo>
                          <a:pt x="621" y="891"/>
                        </a:lnTo>
                        <a:lnTo>
                          <a:pt x="582" y="891"/>
                        </a:lnTo>
                        <a:lnTo>
                          <a:pt x="551" y="891"/>
                        </a:lnTo>
                        <a:lnTo>
                          <a:pt x="511" y="891"/>
                        </a:lnTo>
                        <a:lnTo>
                          <a:pt x="476" y="896"/>
                        </a:lnTo>
                        <a:lnTo>
                          <a:pt x="436" y="896"/>
                        </a:lnTo>
                        <a:lnTo>
                          <a:pt x="401" y="896"/>
                        </a:lnTo>
                        <a:lnTo>
                          <a:pt x="366" y="896"/>
                        </a:lnTo>
                        <a:lnTo>
                          <a:pt x="326" y="896"/>
                        </a:lnTo>
                        <a:lnTo>
                          <a:pt x="291" y="891"/>
                        </a:lnTo>
                        <a:lnTo>
                          <a:pt x="255" y="891"/>
                        </a:lnTo>
                        <a:lnTo>
                          <a:pt x="220" y="891"/>
                        </a:lnTo>
                        <a:lnTo>
                          <a:pt x="185" y="891"/>
                        </a:lnTo>
                        <a:lnTo>
                          <a:pt x="145" y="887"/>
                        </a:lnTo>
                        <a:lnTo>
                          <a:pt x="110" y="882"/>
                        </a:lnTo>
                        <a:lnTo>
                          <a:pt x="74" y="882"/>
                        </a:lnTo>
                        <a:lnTo>
                          <a:pt x="39" y="882"/>
                        </a:lnTo>
                        <a:lnTo>
                          <a:pt x="0" y="874"/>
                        </a:lnTo>
                        <a:lnTo>
                          <a:pt x="0" y="1421"/>
                        </a:lnTo>
                        <a:lnTo>
                          <a:pt x="39" y="1426"/>
                        </a:lnTo>
                        <a:lnTo>
                          <a:pt x="74" y="1430"/>
                        </a:lnTo>
                        <a:lnTo>
                          <a:pt x="110" y="1430"/>
                        </a:lnTo>
                        <a:lnTo>
                          <a:pt x="145" y="1430"/>
                        </a:lnTo>
                        <a:lnTo>
                          <a:pt x="185" y="1435"/>
                        </a:lnTo>
                        <a:lnTo>
                          <a:pt x="220" y="1435"/>
                        </a:lnTo>
                        <a:lnTo>
                          <a:pt x="255" y="1439"/>
                        </a:lnTo>
                        <a:lnTo>
                          <a:pt x="291" y="1439"/>
                        </a:lnTo>
                        <a:lnTo>
                          <a:pt x="326" y="1439"/>
                        </a:lnTo>
                        <a:lnTo>
                          <a:pt x="366" y="1439"/>
                        </a:lnTo>
                        <a:lnTo>
                          <a:pt x="401" y="1439"/>
                        </a:lnTo>
                        <a:lnTo>
                          <a:pt x="436" y="1439"/>
                        </a:lnTo>
                        <a:lnTo>
                          <a:pt x="476" y="1439"/>
                        </a:lnTo>
                        <a:lnTo>
                          <a:pt x="511" y="1439"/>
                        </a:lnTo>
                        <a:lnTo>
                          <a:pt x="551" y="1439"/>
                        </a:lnTo>
                        <a:lnTo>
                          <a:pt x="582" y="1435"/>
                        </a:lnTo>
                        <a:lnTo>
                          <a:pt x="621" y="1435"/>
                        </a:lnTo>
                        <a:lnTo>
                          <a:pt x="658" y="1430"/>
                        </a:lnTo>
                        <a:lnTo>
                          <a:pt x="693" y="1430"/>
                        </a:lnTo>
                        <a:lnTo>
                          <a:pt x="728" y="1430"/>
                        </a:lnTo>
                        <a:lnTo>
                          <a:pt x="768" y="1426"/>
                        </a:lnTo>
                        <a:lnTo>
                          <a:pt x="803" y="1421"/>
                        </a:lnTo>
                        <a:lnTo>
                          <a:pt x="834" y="1417"/>
                        </a:lnTo>
                        <a:lnTo>
                          <a:pt x="874" y="1417"/>
                        </a:lnTo>
                        <a:lnTo>
                          <a:pt x="909" y="1413"/>
                        </a:lnTo>
                        <a:lnTo>
                          <a:pt x="944" y="1408"/>
                        </a:lnTo>
                        <a:lnTo>
                          <a:pt x="979" y="1404"/>
                        </a:lnTo>
                        <a:lnTo>
                          <a:pt x="1015" y="1399"/>
                        </a:lnTo>
                        <a:lnTo>
                          <a:pt x="1050" y="1395"/>
                        </a:lnTo>
                        <a:lnTo>
                          <a:pt x="1085" y="1391"/>
                        </a:lnTo>
                        <a:lnTo>
                          <a:pt x="1121" y="1386"/>
                        </a:lnTo>
                        <a:lnTo>
                          <a:pt x="1151" y="1382"/>
                        </a:lnTo>
                        <a:lnTo>
                          <a:pt x="1187" y="1377"/>
                        </a:lnTo>
                        <a:lnTo>
                          <a:pt x="1222" y="1373"/>
                        </a:lnTo>
                        <a:lnTo>
                          <a:pt x="1257" y="1364"/>
                        </a:lnTo>
                        <a:lnTo>
                          <a:pt x="1288" y="1355"/>
                        </a:lnTo>
                        <a:lnTo>
                          <a:pt x="1323" y="1351"/>
                        </a:lnTo>
                        <a:lnTo>
                          <a:pt x="1354" y="1342"/>
                        </a:lnTo>
                        <a:lnTo>
                          <a:pt x="1385" y="1338"/>
                        </a:lnTo>
                        <a:lnTo>
                          <a:pt x="1416" y="1329"/>
                        </a:lnTo>
                        <a:lnTo>
                          <a:pt x="1451" y="1320"/>
                        </a:lnTo>
                        <a:lnTo>
                          <a:pt x="1482" y="1311"/>
                        </a:lnTo>
                        <a:lnTo>
                          <a:pt x="1513" y="1302"/>
                        </a:lnTo>
                        <a:lnTo>
                          <a:pt x="1544" y="1298"/>
                        </a:lnTo>
                        <a:lnTo>
                          <a:pt x="1575" y="1289"/>
                        </a:lnTo>
                        <a:lnTo>
                          <a:pt x="1601" y="1280"/>
                        </a:lnTo>
                        <a:lnTo>
                          <a:pt x="1632" y="1272"/>
                        </a:lnTo>
                        <a:lnTo>
                          <a:pt x="1663" y="1258"/>
                        </a:lnTo>
                        <a:lnTo>
                          <a:pt x="1689" y="1249"/>
                        </a:lnTo>
                        <a:lnTo>
                          <a:pt x="1720" y="1241"/>
                        </a:lnTo>
                        <a:lnTo>
                          <a:pt x="1751" y="1232"/>
                        </a:lnTo>
                        <a:lnTo>
                          <a:pt x="1778" y="1223"/>
                        </a:lnTo>
                        <a:lnTo>
                          <a:pt x="1804" y="1210"/>
                        </a:lnTo>
                        <a:lnTo>
                          <a:pt x="1831" y="1201"/>
                        </a:lnTo>
                        <a:lnTo>
                          <a:pt x="1857" y="1188"/>
                        </a:lnTo>
                        <a:lnTo>
                          <a:pt x="1884" y="1183"/>
                        </a:lnTo>
                        <a:lnTo>
                          <a:pt x="1911" y="1166"/>
                        </a:lnTo>
                        <a:lnTo>
                          <a:pt x="1937" y="1152"/>
                        </a:lnTo>
                        <a:lnTo>
                          <a:pt x="1959" y="1148"/>
                        </a:lnTo>
                        <a:lnTo>
                          <a:pt x="1981" y="1135"/>
                        </a:lnTo>
                        <a:lnTo>
                          <a:pt x="2008" y="1122"/>
                        </a:lnTo>
                        <a:lnTo>
                          <a:pt x="2030" y="1108"/>
                        </a:lnTo>
                        <a:lnTo>
                          <a:pt x="2052" y="1095"/>
                        </a:lnTo>
                        <a:lnTo>
                          <a:pt x="2078" y="1086"/>
                        </a:lnTo>
                        <a:lnTo>
                          <a:pt x="2096" y="1072"/>
                        </a:lnTo>
                        <a:lnTo>
                          <a:pt x="2123" y="1059"/>
                        </a:lnTo>
                        <a:lnTo>
                          <a:pt x="2140" y="1046"/>
                        </a:lnTo>
                        <a:lnTo>
                          <a:pt x="2158" y="1032"/>
                        </a:lnTo>
                        <a:lnTo>
                          <a:pt x="2180" y="1019"/>
                        </a:lnTo>
                        <a:lnTo>
                          <a:pt x="2198" y="1006"/>
                        </a:lnTo>
                        <a:lnTo>
                          <a:pt x="2220" y="993"/>
                        </a:lnTo>
                        <a:lnTo>
                          <a:pt x="2233" y="979"/>
                        </a:lnTo>
                        <a:lnTo>
                          <a:pt x="2255" y="966"/>
                        </a:lnTo>
                        <a:lnTo>
                          <a:pt x="2273" y="949"/>
                        </a:lnTo>
                        <a:lnTo>
                          <a:pt x="2286" y="940"/>
                        </a:lnTo>
                        <a:lnTo>
                          <a:pt x="2299" y="927"/>
                        </a:lnTo>
                        <a:lnTo>
                          <a:pt x="2317" y="909"/>
                        </a:lnTo>
                        <a:lnTo>
                          <a:pt x="2330" y="896"/>
                        </a:lnTo>
                        <a:lnTo>
                          <a:pt x="2347" y="882"/>
                        </a:lnTo>
                        <a:lnTo>
                          <a:pt x="2361" y="869"/>
                        </a:lnTo>
                        <a:lnTo>
                          <a:pt x="2374" y="852"/>
                        </a:lnTo>
                        <a:lnTo>
                          <a:pt x="2387" y="838"/>
                        </a:lnTo>
                        <a:lnTo>
                          <a:pt x="2396" y="825"/>
                        </a:lnTo>
                        <a:lnTo>
                          <a:pt x="2405" y="807"/>
                        </a:lnTo>
                        <a:lnTo>
                          <a:pt x="2414" y="794"/>
                        </a:lnTo>
                        <a:lnTo>
                          <a:pt x="2427" y="781"/>
                        </a:lnTo>
                        <a:lnTo>
                          <a:pt x="2436" y="763"/>
                        </a:lnTo>
                        <a:lnTo>
                          <a:pt x="2444" y="746"/>
                        </a:lnTo>
                        <a:lnTo>
                          <a:pt x="2453" y="733"/>
                        </a:lnTo>
                        <a:lnTo>
                          <a:pt x="2458" y="715"/>
                        </a:lnTo>
                        <a:lnTo>
                          <a:pt x="2462" y="706"/>
                        </a:lnTo>
                        <a:lnTo>
                          <a:pt x="2471" y="688"/>
                        </a:lnTo>
                        <a:lnTo>
                          <a:pt x="2475" y="671"/>
                        </a:lnTo>
                        <a:lnTo>
                          <a:pt x="2484" y="658"/>
                        </a:lnTo>
                        <a:lnTo>
                          <a:pt x="2484" y="640"/>
                        </a:lnTo>
                        <a:lnTo>
                          <a:pt x="2489" y="627"/>
                        </a:lnTo>
                        <a:lnTo>
                          <a:pt x="2493" y="609"/>
                        </a:lnTo>
                        <a:lnTo>
                          <a:pt x="2497" y="596"/>
                        </a:lnTo>
                        <a:lnTo>
                          <a:pt x="2497" y="578"/>
                        </a:lnTo>
                        <a:lnTo>
                          <a:pt x="2497" y="565"/>
                        </a:lnTo>
                        <a:lnTo>
                          <a:pt x="2497" y="547"/>
                        </a:lnTo>
                        <a:lnTo>
                          <a:pt x="2497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1066680" y="4984920"/>
                    <a:ext cx="783000" cy="322560"/>
                  </a:xfrm>
                  <a:custGeom>
                    <a:avLst/>
                    <a:gdLst/>
                    <a:ahLst/>
                    <a:rect l="0" t="0" r="r" b="b"/>
                    <a:pathLst>
                      <a:path w="2175" h="896">
                        <a:moveTo>
                          <a:pt x="0" y="662"/>
                        </a:moveTo>
                        <a:lnTo>
                          <a:pt x="0" y="662"/>
                        </a:lnTo>
                        <a:lnTo>
                          <a:pt x="8" y="649"/>
                        </a:lnTo>
                        <a:lnTo>
                          <a:pt x="22" y="636"/>
                        </a:lnTo>
                        <a:lnTo>
                          <a:pt x="30" y="622"/>
                        </a:lnTo>
                        <a:lnTo>
                          <a:pt x="44" y="605"/>
                        </a:lnTo>
                        <a:lnTo>
                          <a:pt x="57" y="587"/>
                        </a:lnTo>
                        <a:lnTo>
                          <a:pt x="66" y="574"/>
                        </a:lnTo>
                        <a:lnTo>
                          <a:pt x="79" y="561"/>
                        </a:lnTo>
                        <a:lnTo>
                          <a:pt x="97" y="547"/>
                        </a:lnTo>
                        <a:lnTo>
                          <a:pt x="110" y="530"/>
                        </a:lnTo>
                        <a:lnTo>
                          <a:pt x="123" y="516"/>
                        </a:lnTo>
                        <a:lnTo>
                          <a:pt x="141" y="503"/>
                        </a:lnTo>
                        <a:lnTo>
                          <a:pt x="158" y="486"/>
                        </a:lnTo>
                        <a:lnTo>
                          <a:pt x="171" y="472"/>
                        </a:lnTo>
                        <a:lnTo>
                          <a:pt x="189" y="459"/>
                        </a:lnTo>
                        <a:lnTo>
                          <a:pt x="211" y="445"/>
                        </a:lnTo>
                        <a:lnTo>
                          <a:pt x="224" y="432"/>
                        </a:lnTo>
                        <a:lnTo>
                          <a:pt x="246" y="418"/>
                        </a:lnTo>
                        <a:lnTo>
                          <a:pt x="264" y="405"/>
                        </a:lnTo>
                        <a:lnTo>
                          <a:pt x="286" y="392"/>
                        </a:lnTo>
                        <a:lnTo>
                          <a:pt x="308" y="379"/>
                        </a:lnTo>
                        <a:lnTo>
                          <a:pt x="326" y="370"/>
                        </a:lnTo>
                        <a:lnTo>
                          <a:pt x="352" y="357"/>
                        </a:lnTo>
                        <a:lnTo>
                          <a:pt x="374" y="343"/>
                        </a:lnTo>
                        <a:lnTo>
                          <a:pt x="396" y="330"/>
                        </a:lnTo>
                        <a:lnTo>
                          <a:pt x="418" y="317"/>
                        </a:lnTo>
                        <a:lnTo>
                          <a:pt x="440" y="304"/>
                        </a:lnTo>
                        <a:lnTo>
                          <a:pt x="467" y="295"/>
                        </a:lnTo>
                        <a:lnTo>
                          <a:pt x="493" y="282"/>
                        </a:lnTo>
                        <a:lnTo>
                          <a:pt x="520" y="268"/>
                        </a:lnTo>
                        <a:lnTo>
                          <a:pt x="542" y="260"/>
                        </a:lnTo>
                        <a:lnTo>
                          <a:pt x="569" y="251"/>
                        </a:lnTo>
                        <a:lnTo>
                          <a:pt x="596" y="238"/>
                        </a:lnTo>
                        <a:lnTo>
                          <a:pt x="622" y="229"/>
                        </a:lnTo>
                        <a:lnTo>
                          <a:pt x="653" y="216"/>
                        </a:lnTo>
                        <a:lnTo>
                          <a:pt x="680" y="207"/>
                        </a:lnTo>
                        <a:lnTo>
                          <a:pt x="706" y="198"/>
                        </a:lnTo>
                        <a:lnTo>
                          <a:pt x="733" y="189"/>
                        </a:lnTo>
                        <a:lnTo>
                          <a:pt x="763" y="180"/>
                        </a:lnTo>
                        <a:lnTo>
                          <a:pt x="794" y="167"/>
                        </a:lnTo>
                        <a:lnTo>
                          <a:pt x="825" y="163"/>
                        </a:lnTo>
                        <a:lnTo>
                          <a:pt x="856" y="149"/>
                        </a:lnTo>
                        <a:lnTo>
                          <a:pt x="882" y="141"/>
                        </a:lnTo>
                        <a:lnTo>
                          <a:pt x="918" y="136"/>
                        </a:lnTo>
                        <a:lnTo>
                          <a:pt x="949" y="127"/>
                        </a:lnTo>
                        <a:lnTo>
                          <a:pt x="975" y="119"/>
                        </a:lnTo>
                        <a:lnTo>
                          <a:pt x="1010" y="114"/>
                        </a:lnTo>
                        <a:lnTo>
                          <a:pt x="1046" y="101"/>
                        </a:lnTo>
                        <a:lnTo>
                          <a:pt x="1072" y="92"/>
                        </a:lnTo>
                        <a:lnTo>
                          <a:pt x="1107" y="88"/>
                        </a:lnTo>
                        <a:lnTo>
                          <a:pt x="1138" y="79"/>
                        </a:lnTo>
                        <a:lnTo>
                          <a:pt x="1173" y="74"/>
                        </a:lnTo>
                        <a:lnTo>
                          <a:pt x="1209" y="70"/>
                        </a:lnTo>
                        <a:lnTo>
                          <a:pt x="1240" y="66"/>
                        </a:lnTo>
                        <a:lnTo>
                          <a:pt x="1275" y="57"/>
                        </a:lnTo>
                        <a:lnTo>
                          <a:pt x="1310" y="48"/>
                        </a:lnTo>
                        <a:lnTo>
                          <a:pt x="1341" y="44"/>
                        </a:lnTo>
                        <a:lnTo>
                          <a:pt x="1376" y="39"/>
                        </a:lnTo>
                        <a:lnTo>
                          <a:pt x="1416" y="39"/>
                        </a:lnTo>
                        <a:lnTo>
                          <a:pt x="1447" y="35"/>
                        </a:lnTo>
                        <a:lnTo>
                          <a:pt x="1487" y="26"/>
                        </a:lnTo>
                        <a:lnTo>
                          <a:pt x="1517" y="26"/>
                        </a:lnTo>
                        <a:lnTo>
                          <a:pt x="1553" y="22"/>
                        </a:lnTo>
                        <a:lnTo>
                          <a:pt x="1592" y="17"/>
                        </a:lnTo>
                        <a:lnTo>
                          <a:pt x="1628" y="13"/>
                        </a:lnTo>
                        <a:lnTo>
                          <a:pt x="1664" y="13"/>
                        </a:lnTo>
                        <a:lnTo>
                          <a:pt x="1699" y="8"/>
                        </a:lnTo>
                        <a:lnTo>
                          <a:pt x="1739" y="4"/>
                        </a:lnTo>
                        <a:lnTo>
                          <a:pt x="1770" y="4"/>
                        </a:lnTo>
                        <a:lnTo>
                          <a:pt x="1809" y="4"/>
                        </a:lnTo>
                        <a:lnTo>
                          <a:pt x="1845" y="0"/>
                        </a:lnTo>
                        <a:lnTo>
                          <a:pt x="1880" y="0"/>
                        </a:lnTo>
                        <a:lnTo>
                          <a:pt x="1920" y="0"/>
                        </a:lnTo>
                        <a:lnTo>
                          <a:pt x="1955" y="0"/>
                        </a:lnTo>
                        <a:lnTo>
                          <a:pt x="1990" y="0"/>
                        </a:lnTo>
                        <a:lnTo>
                          <a:pt x="2026" y="0"/>
                        </a:lnTo>
                        <a:lnTo>
                          <a:pt x="2061" y="0"/>
                        </a:lnTo>
                        <a:lnTo>
                          <a:pt x="2101" y="0"/>
                        </a:lnTo>
                        <a:lnTo>
                          <a:pt x="2136" y="0"/>
                        </a:lnTo>
                        <a:lnTo>
                          <a:pt x="2175" y="0"/>
                        </a:lnTo>
                        <a:lnTo>
                          <a:pt x="2026" y="896"/>
                        </a:lnTo>
                        <a:lnTo>
                          <a:pt x="0" y="662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1787400" y="4984920"/>
                    <a:ext cx="555840" cy="322560"/>
                  </a:xfrm>
                  <a:custGeom>
                    <a:avLst/>
                    <a:gdLst/>
                    <a:ahLst/>
                    <a:rect l="0" t="0" r="r" b="b"/>
                    <a:pathLst>
                      <a:path w="1544" h="896">
                        <a:moveTo>
                          <a:pt x="149" y="0"/>
                        </a:moveTo>
                        <a:lnTo>
                          <a:pt x="149" y="0"/>
                        </a:lnTo>
                        <a:lnTo>
                          <a:pt x="189" y="0"/>
                        </a:lnTo>
                        <a:lnTo>
                          <a:pt x="220" y="4"/>
                        </a:lnTo>
                        <a:lnTo>
                          <a:pt x="260" y="4"/>
                        </a:lnTo>
                        <a:lnTo>
                          <a:pt x="295" y="4"/>
                        </a:lnTo>
                        <a:lnTo>
                          <a:pt x="330" y="8"/>
                        </a:lnTo>
                        <a:lnTo>
                          <a:pt x="370" y="13"/>
                        </a:lnTo>
                        <a:lnTo>
                          <a:pt x="405" y="13"/>
                        </a:lnTo>
                        <a:lnTo>
                          <a:pt x="440" y="17"/>
                        </a:lnTo>
                        <a:lnTo>
                          <a:pt x="476" y="22"/>
                        </a:lnTo>
                        <a:lnTo>
                          <a:pt x="511" y="26"/>
                        </a:lnTo>
                        <a:lnTo>
                          <a:pt x="546" y="26"/>
                        </a:lnTo>
                        <a:lnTo>
                          <a:pt x="582" y="35"/>
                        </a:lnTo>
                        <a:lnTo>
                          <a:pt x="621" y="39"/>
                        </a:lnTo>
                        <a:lnTo>
                          <a:pt x="652" y="39"/>
                        </a:lnTo>
                        <a:lnTo>
                          <a:pt x="687" y="44"/>
                        </a:lnTo>
                        <a:lnTo>
                          <a:pt x="723" y="48"/>
                        </a:lnTo>
                        <a:lnTo>
                          <a:pt x="758" y="52"/>
                        </a:lnTo>
                        <a:lnTo>
                          <a:pt x="790" y="66"/>
                        </a:lnTo>
                        <a:lnTo>
                          <a:pt x="825" y="70"/>
                        </a:lnTo>
                        <a:lnTo>
                          <a:pt x="860" y="74"/>
                        </a:lnTo>
                        <a:lnTo>
                          <a:pt x="896" y="79"/>
                        </a:lnTo>
                        <a:lnTo>
                          <a:pt x="927" y="88"/>
                        </a:lnTo>
                        <a:lnTo>
                          <a:pt x="962" y="92"/>
                        </a:lnTo>
                        <a:lnTo>
                          <a:pt x="993" y="101"/>
                        </a:lnTo>
                        <a:lnTo>
                          <a:pt x="1024" y="110"/>
                        </a:lnTo>
                        <a:lnTo>
                          <a:pt x="1059" y="119"/>
                        </a:lnTo>
                        <a:lnTo>
                          <a:pt x="1090" y="127"/>
                        </a:lnTo>
                        <a:lnTo>
                          <a:pt x="1121" y="136"/>
                        </a:lnTo>
                        <a:lnTo>
                          <a:pt x="1151" y="141"/>
                        </a:lnTo>
                        <a:lnTo>
                          <a:pt x="1178" y="149"/>
                        </a:lnTo>
                        <a:lnTo>
                          <a:pt x="1213" y="163"/>
                        </a:lnTo>
                        <a:lnTo>
                          <a:pt x="1240" y="167"/>
                        </a:lnTo>
                        <a:lnTo>
                          <a:pt x="1271" y="180"/>
                        </a:lnTo>
                        <a:lnTo>
                          <a:pt x="1301" y="189"/>
                        </a:lnTo>
                        <a:lnTo>
                          <a:pt x="1328" y="198"/>
                        </a:lnTo>
                        <a:lnTo>
                          <a:pt x="1359" y="207"/>
                        </a:lnTo>
                        <a:lnTo>
                          <a:pt x="1390" y="216"/>
                        </a:lnTo>
                        <a:lnTo>
                          <a:pt x="1412" y="229"/>
                        </a:lnTo>
                        <a:lnTo>
                          <a:pt x="1442" y="238"/>
                        </a:lnTo>
                        <a:lnTo>
                          <a:pt x="1469" y="251"/>
                        </a:lnTo>
                        <a:lnTo>
                          <a:pt x="1495" y="260"/>
                        </a:lnTo>
                        <a:lnTo>
                          <a:pt x="1517" y="268"/>
                        </a:lnTo>
                        <a:lnTo>
                          <a:pt x="1544" y="282"/>
                        </a:lnTo>
                        <a:lnTo>
                          <a:pt x="0" y="896"/>
                        </a:lnTo>
                        <a:lnTo>
                          <a:pt x="149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1789200" y="5118120"/>
                    <a:ext cx="898920" cy="540000"/>
                  </a:xfrm>
                  <a:custGeom>
                    <a:avLst/>
                    <a:gdLst/>
                    <a:ahLst/>
                    <a:rect l="0" t="0" r="r" b="b"/>
                    <a:pathLst>
                      <a:path w="2497" h="1500">
                        <a:moveTo>
                          <a:pt x="1937" y="0"/>
                        </a:moveTo>
                        <a:lnTo>
                          <a:pt x="1937" y="0"/>
                        </a:lnTo>
                        <a:lnTo>
                          <a:pt x="1959" y="13"/>
                        </a:lnTo>
                        <a:lnTo>
                          <a:pt x="1981" y="22"/>
                        </a:lnTo>
                        <a:lnTo>
                          <a:pt x="2008" y="35"/>
                        </a:lnTo>
                        <a:lnTo>
                          <a:pt x="2030" y="48"/>
                        </a:lnTo>
                        <a:lnTo>
                          <a:pt x="2052" y="57"/>
                        </a:lnTo>
                        <a:lnTo>
                          <a:pt x="2078" y="70"/>
                        </a:lnTo>
                        <a:lnTo>
                          <a:pt x="2096" y="83"/>
                        </a:lnTo>
                        <a:lnTo>
                          <a:pt x="2123" y="97"/>
                        </a:lnTo>
                        <a:lnTo>
                          <a:pt x="2140" y="110"/>
                        </a:lnTo>
                        <a:lnTo>
                          <a:pt x="2158" y="123"/>
                        </a:lnTo>
                        <a:lnTo>
                          <a:pt x="2180" y="136"/>
                        </a:lnTo>
                        <a:lnTo>
                          <a:pt x="2198" y="149"/>
                        </a:lnTo>
                        <a:lnTo>
                          <a:pt x="2220" y="158"/>
                        </a:lnTo>
                        <a:lnTo>
                          <a:pt x="2233" y="176"/>
                        </a:lnTo>
                        <a:lnTo>
                          <a:pt x="2255" y="189"/>
                        </a:lnTo>
                        <a:lnTo>
                          <a:pt x="2273" y="202"/>
                        </a:lnTo>
                        <a:lnTo>
                          <a:pt x="2286" y="216"/>
                        </a:lnTo>
                        <a:lnTo>
                          <a:pt x="2299" y="233"/>
                        </a:lnTo>
                        <a:lnTo>
                          <a:pt x="2317" y="246"/>
                        </a:lnTo>
                        <a:lnTo>
                          <a:pt x="2330" y="260"/>
                        </a:lnTo>
                        <a:lnTo>
                          <a:pt x="2347" y="273"/>
                        </a:lnTo>
                        <a:lnTo>
                          <a:pt x="2361" y="286"/>
                        </a:lnTo>
                        <a:lnTo>
                          <a:pt x="2374" y="299"/>
                        </a:lnTo>
                        <a:lnTo>
                          <a:pt x="2387" y="317"/>
                        </a:lnTo>
                        <a:lnTo>
                          <a:pt x="2396" y="335"/>
                        </a:lnTo>
                        <a:lnTo>
                          <a:pt x="2405" y="348"/>
                        </a:lnTo>
                        <a:lnTo>
                          <a:pt x="2414" y="361"/>
                        </a:lnTo>
                        <a:lnTo>
                          <a:pt x="2427" y="379"/>
                        </a:lnTo>
                        <a:lnTo>
                          <a:pt x="2436" y="392"/>
                        </a:lnTo>
                        <a:lnTo>
                          <a:pt x="2444" y="405"/>
                        </a:lnTo>
                        <a:lnTo>
                          <a:pt x="2453" y="423"/>
                        </a:lnTo>
                        <a:lnTo>
                          <a:pt x="2458" y="436"/>
                        </a:lnTo>
                        <a:lnTo>
                          <a:pt x="2462" y="454"/>
                        </a:lnTo>
                        <a:lnTo>
                          <a:pt x="2471" y="467"/>
                        </a:lnTo>
                        <a:lnTo>
                          <a:pt x="2475" y="485"/>
                        </a:lnTo>
                        <a:lnTo>
                          <a:pt x="2484" y="498"/>
                        </a:lnTo>
                        <a:lnTo>
                          <a:pt x="2484" y="515"/>
                        </a:lnTo>
                        <a:lnTo>
                          <a:pt x="2489" y="529"/>
                        </a:lnTo>
                        <a:lnTo>
                          <a:pt x="2493" y="542"/>
                        </a:lnTo>
                        <a:lnTo>
                          <a:pt x="2497" y="560"/>
                        </a:lnTo>
                        <a:lnTo>
                          <a:pt x="2497" y="577"/>
                        </a:lnTo>
                        <a:lnTo>
                          <a:pt x="2497" y="590"/>
                        </a:lnTo>
                        <a:lnTo>
                          <a:pt x="2497" y="604"/>
                        </a:lnTo>
                        <a:lnTo>
                          <a:pt x="2497" y="621"/>
                        </a:lnTo>
                        <a:lnTo>
                          <a:pt x="2497" y="639"/>
                        </a:lnTo>
                        <a:lnTo>
                          <a:pt x="2497" y="652"/>
                        </a:lnTo>
                        <a:lnTo>
                          <a:pt x="2493" y="670"/>
                        </a:lnTo>
                        <a:lnTo>
                          <a:pt x="2489" y="683"/>
                        </a:lnTo>
                        <a:lnTo>
                          <a:pt x="2484" y="696"/>
                        </a:lnTo>
                        <a:lnTo>
                          <a:pt x="2484" y="714"/>
                        </a:lnTo>
                        <a:lnTo>
                          <a:pt x="2475" y="732"/>
                        </a:lnTo>
                        <a:lnTo>
                          <a:pt x="2471" y="745"/>
                        </a:lnTo>
                        <a:lnTo>
                          <a:pt x="2462" y="763"/>
                        </a:lnTo>
                        <a:lnTo>
                          <a:pt x="2458" y="777"/>
                        </a:lnTo>
                        <a:lnTo>
                          <a:pt x="2453" y="794"/>
                        </a:lnTo>
                        <a:lnTo>
                          <a:pt x="2444" y="807"/>
                        </a:lnTo>
                        <a:lnTo>
                          <a:pt x="2436" y="821"/>
                        </a:lnTo>
                        <a:lnTo>
                          <a:pt x="2427" y="838"/>
                        </a:lnTo>
                        <a:lnTo>
                          <a:pt x="2414" y="852"/>
                        </a:lnTo>
                        <a:lnTo>
                          <a:pt x="2405" y="869"/>
                        </a:lnTo>
                        <a:lnTo>
                          <a:pt x="2396" y="882"/>
                        </a:lnTo>
                        <a:lnTo>
                          <a:pt x="2387" y="896"/>
                        </a:lnTo>
                        <a:lnTo>
                          <a:pt x="2374" y="909"/>
                        </a:lnTo>
                        <a:lnTo>
                          <a:pt x="2361" y="927"/>
                        </a:lnTo>
                        <a:lnTo>
                          <a:pt x="2347" y="940"/>
                        </a:lnTo>
                        <a:lnTo>
                          <a:pt x="2330" y="957"/>
                        </a:lnTo>
                        <a:lnTo>
                          <a:pt x="2317" y="971"/>
                        </a:lnTo>
                        <a:lnTo>
                          <a:pt x="2299" y="984"/>
                        </a:lnTo>
                        <a:lnTo>
                          <a:pt x="2286" y="997"/>
                        </a:lnTo>
                        <a:lnTo>
                          <a:pt x="2273" y="1010"/>
                        </a:lnTo>
                        <a:lnTo>
                          <a:pt x="2255" y="1024"/>
                        </a:lnTo>
                        <a:lnTo>
                          <a:pt x="2233" y="1037"/>
                        </a:lnTo>
                        <a:lnTo>
                          <a:pt x="2220" y="1050"/>
                        </a:lnTo>
                        <a:lnTo>
                          <a:pt x="2198" y="1063"/>
                        </a:lnTo>
                        <a:lnTo>
                          <a:pt x="2180" y="1076"/>
                        </a:lnTo>
                        <a:lnTo>
                          <a:pt x="2158" y="1094"/>
                        </a:lnTo>
                        <a:lnTo>
                          <a:pt x="2140" y="1107"/>
                        </a:lnTo>
                        <a:lnTo>
                          <a:pt x="2123" y="1116"/>
                        </a:lnTo>
                        <a:lnTo>
                          <a:pt x="2096" y="1134"/>
                        </a:lnTo>
                        <a:lnTo>
                          <a:pt x="2078" y="1143"/>
                        </a:lnTo>
                        <a:lnTo>
                          <a:pt x="2052" y="1151"/>
                        </a:lnTo>
                        <a:lnTo>
                          <a:pt x="2030" y="1165"/>
                        </a:lnTo>
                        <a:lnTo>
                          <a:pt x="2008" y="1178"/>
                        </a:lnTo>
                        <a:lnTo>
                          <a:pt x="1981" y="1191"/>
                        </a:lnTo>
                        <a:lnTo>
                          <a:pt x="1959" y="1204"/>
                        </a:lnTo>
                        <a:lnTo>
                          <a:pt x="1937" y="1213"/>
                        </a:lnTo>
                        <a:lnTo>
                          <a:pt x="1911" y="1226"/>
                        </a:lnTo>
                        <a:lnTo>
                          <a:pt x="1884" y="1240"/>
                        </a:lnTo>
                        <a:lnTo>
                          <a:pt x="1857" y="1248"/>
                        </a:lnTo>
                        <a:lnTo>
                          <a:pt x="1831" y="1257"/>
                        </a:lnTo>
                        <a:lnTo>
                          <a:pt x="1804" y="1266"/>
                        </a:lnTo>
                        <a:lnTo>
                          <a:pt x="1778" y="1279"/>
                        </a:lnTo>
                        <a:lnTo>
                          <a:pt x="1751" y="1288"/>
                        </a:lnTo>
                        <a:lnTo>
                          <a:pt x="1720" y="1301"/>
                        </a:lnTo>
                        <a:lnTo>
                          <a:pt x="1689" y="1310"/>
                        </a:lnTo>
                        <a:lnTo>
                          <a:pt x="1663" y="1319"/>
                        </a:lnTo>
                        <a:lnTo>
                          <a:pt x="1632" y="1328"/>
                        </a:lnTo>
                        <a:lnTo>
                          <a:pt x="1601" y="1337"/>
                        </a:lnTo>
                        <a:lnTo>
                          <a:pt x="1575" y="1345"/>
                        </a:lnTo>
                        <a:lnTo>
                          <a:pt x="1544" y="1354"/>
                        </a:lnTo>
                        <a:lnTo>
                          <a:pt x="1513" y="1363"/>
                        </a:lnTo>
                        <a:lnTo>
                          <a:pt x="1482" y="1368"/>
                        </a:lnTo>
                        <a:lnTo>
                          <a:pt x="1451" y="1376"/>
                        </a:lnTo>
                        <a:lnTo>
                          <a:pt x="1416" y="1385"/>
                        </a:lnTo>
                        <a:lnTo>
                          <a:pt x="1385" y="1394"/>
                        </a:lnTo>
                        <a:lnTo>
                          <a:pt x="1354" y="1403"/>
                        </a:lnTo>
                        <a:lnTo>
                          <a:pt x="1323" y="1407"/>
                        </a:lnTo>
                        <a:lnTo>
                          <a:pt x="1288" y="1416"/>
                        </a:lnTo>
                        <a:lnTo>
                          <a:pt x="1257" y="1420"/>
                        </a:lnTo>
                        <a:lnTo>
                          <a:pt x="1222" y="1429"/>
                        </a:lnTo>
                        <a:lnTo>
                          <a:pt x="1187" y="1434"/>
                        </a:lnTo>
                        <a:lnTo>
                          <a:pt x="1151" y="1438"/>
                        </a:lnTo>
                        <a:lnTo>
                          <a:pt x="1121" y="1442"/>
                        </a:lnTo>
                        <a:lnTo>
                          <a:pt x="1085" y="1451"/>
                        </a:lnTo>
                        <a:lnTo>
                          <a:pt x="1050" y="1451"/>
                        </a:lnTo>
                        <a:lnTo>
                          <a:pt x="1015" y="1456"/>
                        </a:lnTo>
                        <a:lnTo>
                          <a:pt x="979" y="1465"/>
                        </a:lnTo>
                        <a:lnTo>
                          <a:pt x="944" y="1465"/>
                        </a:lnTo>
                        <a:lnTo>
                          <a:pt x="909" y="1469"/>
                        </a:lnTo>
                        <a:lnTo>
                          <a:pt x="874" y="1473"/>
                        </a:lnTo>
                        <a:lnTo>
                          <a:pt x="834" y="1478"/>
                        </a:lnTo>
                        <a:lnTo>
                          <a:pt x="803" y="1478"/>
                        </a:lnTo>
                        <a:lnTo>
                          <a:pt x="768" y="1487"/>
                        </a:lnTo>
                        <a:lnTo>
                          <a:pt x="728" y="1487"/>
                        </a:lnTo>
                        <a:lnTo>
                          <a:pt x="693" y="1487"/>
                        </a:lnTo>
                        <a:lnTo>
                          <a:pt x="658" y="1491"/>
                        </a:lnTo>
                        <a:lnTo>
                          <a:pt x="621" y="1491"/>
                        </a:lnTo>
                        <a:lnTo>
                          <a:pt x="582" y="1491"/>
                        </a:lnTo>
                        <a:lnTo>
                          <a:pt x="551" y="1495"/>
                        </a:lnTo>
                        <a:lnTo>
                          <a:pt x="511" y="1495"/>
                        </a:lnTo>
                        <a:lnTo>
                          <a:pt x="476" y="1500"/>
                        </a:lnTo>
                        <a:lnTo>
                          <a:pt x="436" y="1500"/>
                        </a:lnTo>
                        <a:lnTo>
                          <a:pt x="401" y="1500"/>
                        </a:lnTo>
                        <a:lnTo>
                          <a:pt x="366" y="1500"/>
                        </a:lnTo>
                        <a:lnTo>
                          <a:pt x="326" y="1500"/>
                        </a:lnTo>
                        <a:lnTo>
                          <a:pt x="291" y="1495"/>
                        </a:lnTo>
                        <a:lnTo>
                          <a:pt x="255" y="1495"/>
                        </a:lnTo>
                        <a:lnTo>
                          <a:pt x="220" y="1491"/>
                        </a:lnTo>
                        <a:lnTo>
                          <a:pt x="185" y="1491"/>
                        </a:lnTo>
                        <a:lnTo>
                          <a:pt x="145" y="1491"/>
                        </a:lnTo>
                        <a:lnTo>
                          <a:pt x="110" y="1487"/>
                        </a:lnTo>
                        <a:lnTo>
                          <a:pt x="74" y="1487"/>
                        </a:lnTo>
                        <a:lnTo>
                          <a:pt x="39" y="1487"/>
                        </a:lnTo>
                        <a:lnTo>
                          <a:pt x="0" y="1478"/>
                        </a:lnTo>
                        <a:lnTo>
                          <a:pt x="401" y="604"/>
                        </a:lnTo>
                        <a:lnTo>
                          <a:pt x="1937" y="0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1041480" y="5218200"/>
                    <a:ext cx="754560" cy="398880"/>
                  </a:xfrm>
                  <a:custGeom>
                    <a:avLst/>
                    <a:gdLst/>
                    <a:ahLst/>
                    <a:rect l="0" t="0" r="r" b="b"/>
                    <a:pathLst>
                      <a:path w="2096" h="1108">
                        <a:moveTo>
                          <a:pt x="1699" y="1108"/>
                        </a:moveTo>
                        <a:lnTo>
                          <a:pt x="1699" y="1108"/>
                        </a:lnTo>
                        <a:lnTo>
                          <a:pt x="1660" y="1108"/>
                        </a:lnTo>
                        <a:lnTo>
                          <a:pt x="1624" y="1104"/>
                        </a:lnTo>
                        <a:lnTo>
                          <a:pt x="1589" y="1100"/>
                        </a:lnTo>
                        <a:lnTo>
                          <a:pt x="1557" y="1095"/>
                        </a:lnTo>
                        <a:lnTo>
                          <a:pt x="1517" y="1091"/>
                        </a:lnTo>
                        <a:lnTo>
                          <a:pt x="1482" y="1086"/>
                        </a:lnTo>
                        <a:lnTo>
                          <a:pt x="1447" y="1082"/>
                        </a:lnTo>
                        <a:lnTo>
                          <a:pt x="1412" y="1077"/>
                        </a:lnTo>
                        <a:lnTo>
                          <a:pt x="1381" y="1073"/>
                        </a:lnTo>
                        <a:lnTo>
                          <a:pt x="1345" y="1069"/>
                        </a:lnTo>
                        <a:lnTo>
                          <a:pt x="1310" y="1064"/>
                        </a:lnTo>
                        <a:lnTo>
                          <a:pt x="1279" y="1060"/>
                        </a:lnTo>
                        <a:lnTo>
                          <a:pt x="1244" y="1051"/>
                        </a:lnTo>
                        <a:lnTo>
                          <a:pt x="1209" y="1047"/>
                        </a:lnTo>
                        <a:lnTo>
                          <a:pt x="1178" y="1038"/>
                        </a:lnTo>
                        <a:lnTo>
                          <a:pt x="1143" y="1033"/>
                        </a:lnTo>
                        <a:lnTo>
                          <a:pt x="1112" y="1025"/>
                        </a:lnTo>
                        <a:lnTo>
                          <a:pt x="1081" y="1016"/>
                        </a:lnTo>
                        <a:lnTo>
                          <a:pt x="1046" y="1007"/>
                        </a:lnTo>
                        <a:lnTo>
                          <a:pt x="1019" y="998"/>
                        </a:lnTo>
                        <a:lnTo>
                          <a:pt x="988" y="989"/>
                        </a:lnTo>
                        <a:lnTo>
                          <a:pt x="953" y="985"/>
                        </a:lnTo>
                        <a:lnTo>
                          <a:pt x="927" y="972"/>
                        </a:lnTo>
                        <a:lnTo>
                          <a:pt x="896" y="967"/>
                        </a:lnTo>
                        <a:lnTo>
                          <a:pt x="865" y="958"/>
                        </a:lnTo>
                        <a:lnTo>
                          <a:pt x="834" y="945"/>
                        </a:lnTo>
                        <a:lnTo>
                          <a:pt x="803" y="936"/>
                        </a:lnTo>
                        <a:lnTo>
                          <a:pt x="777" y="932"/>
                        </a:lnTo>
                        <a:lnTo>
                          <a:pt x="750" y="919"/>
                        </a:lnTo>
                        <a:lnTo>
                          <a:pt x="724" y="910"/>
                        </a:lnTo>
                        <a:lnTo>
                          <a:pt x="693" y="897"/>
                        </a:lnTo>
                        <a:lnTo>
                          <a:pt x="666" y="888"/>
                        </a:lnTo>
                        <a:lnTo>
                          <a:pt x="640" y="875"/>
                        </a:lnTo>
                        <a:lnTo>
                          <a:pt x="613" y="866"/>
                        </a:lnTo>
                        <a:lnTo>
                          <a:pt x="591" y="853"/>
                        </a:lnTo>
                        <a:lnTo>
                          <a:pt x="565" y="844"/>
                        </a:lnTo>
                        <a:lnTo>
                          <a:pt x="538" y="830"/>
                        </a:lnTo>
                        <a:lnTo>
                          <a:pt x="511" y="821"/>
                        </a:lnTo>
                        <a:lnTo>
                          <a:pt x="489" y="807"/>
                        </a:lnTo>
                        <a:lnTo>
                          <a:pt x="467" y="794"/>
                        </a:lnTo>
                        <a:lnTo>
                          <a:pt x="445" y="781"/>
                        </a:lnTo>
                        <a:lnTo>
                          <a:pt x="423" y="772"/>
                        </a:lnTo>
                        <a:lnTo>
                          <a:pt x="396" y="759"/>
                        </a:lnTo>
                        <a:lnTo>
                          <a:pt x="379" y="746"/>
                        </a:lnTo>
                        <a:lnTo>
                          <a:pt x="357" y="733"/>
                        </a:lnTo>
                        <a:lnTo>
                          <a:pt x="335" y="719"/>
                        </a:lnTo>
                        <a:lnTo>
                          <a:pt x="321" y="706"/>
                        </a:lnTo>
                        <a:lnTo>
                          <a:pt x="299" y="693"/>
                        </a:lnTo>
                        <a:lnTo>
                          <a:pt x="282" y="680"/>
                        </a:lnTo>
                        <a:lnTo>
                          <a:pt x="260" y="666"/>
                        </a:lnTo>
                        <a:lnTo>
                          <a:pt x="242" y="653"/>
                        </a:lnTo>
                        <a:lnTo>
                          <a:pt x="229" y="640"/>
                        </a:lnTo>
                        <a:lnTo>
                          <a:pt x="211" y="627"/>
                        </a:lnTo>
                        <a:lnTo>
                          <a:pt x="194" y="609"/>
                        </a:lnTo>
                        <a:lnTo>
                          <a:pt x="180" y="596"/>
                        </a:lnTo>
                        <a:lnTo>
                          <a:pt x="167" y="583"/>
                        </a:lnTo>
                        <a:lnTo>
                          <a:pt x="154" y="565"/>
                        </a:lnTo>
                        <a:lnTo>
                          <a:pt x="136" y="556"/>
                        </a:lnTo>
                        <a:lnTo>
                          <a:pt x="127" y="538"/>
                        </a:lnTo>
                        <a:lnTo>
                          <a:pt x="114" y="521"/>
                        </a:lnTo>
                        <a:lnTo>
                          <a:pt x="101" y="508"/>
                        </a:lnTo>
                        <a:lnTo>
                          <a:pt x="92" y="494"/>
                        </a:lnTo>
                        <a:lnTo>
                          <a:pt x="79" y="477"/>
                        </a:lnTo>
                        <a:lnTo>
                          <a:pt x="70" y="464"/>
                        </a:lnTo>
                        <a:lnTo>
                          <a:pt x="66" y="450"/>
                        </a:lnTo>
                        <a:lnTo>
                          <a:pt x="52" y="433"/>
                        </a:lnTo>
                        <a:lnTo>
                          <a:pt x="44" y="415"/>
                        </a:lnTo>
                        <a:lnTo>
                          <a:pt x="39" y="402"/>
                        </a:lnTo>
                        <a:lnTo>
                          <a:pt x="30" y="389"/>
                        </a:lnTo>
                        <a:lnTo>
                          <a:pt x="26" y="375"/>
                        </a:lnTo>
                        <a:lnTo>
                          <a:pt x="22" y="358"/>
                        </a:lnTo>
                        <a:lnTo>
                          <a:pt x="17" y="340"/>
                        </a:lnTo>
                        <a:lnTo>
                          <a:pt x="8" y="327"/>
                        </a:lnTo>
                        <a:lnTo>
                          <a:pt x="8" y="314"/>
                        </a:lnTo>
                        <a:lnTo>
                          <a:pt x="4" y="292"/>
                        </a:lnTo>
                        <a:lnTo>
                          <a:pt x="4" y="278"/>
                        </a:lnTo>
                        <a:lnTo>
                          <a:pt x="0" y="264"/>
                        </a:lnTo>
                        <a:lnTo>
                          <a:pt x="0" y="246"/>
                        </a:lnTo>
                        <a:lnTo>
                          <a:pt x="0" y="229"/>
                        </a:lnTo>
                        <a:lnTo>
                          <a:pt x="0" y="216"/>
                        </a:lnTo>
                        <a:lnTo>
                          <a:pt x="0" y="198"/>
                        </a:lnTo>
                        <a:lnTo>
                          <a:pt x="4" y="185"/>
                        </a:lnTo>
                        <a:lnTo>
                          <a:pt x="4" y="171"/>
                        </a:lnTo>
                        <a:lnTo>
                          <a:pt x="8" y="154"/>
                        </a:lnTo>
                        <a:lnTo>
                          <a:pt x="8" y="141"/>
                        </a:lnTo>
                        <a:lnTo>
                          <a:pt x="17" y="123"/>
                        </a:lnTo>
                        <a:lnTo>
                          <a:pt x="22" y="110"/>
                        </a:lnTo>
                        <a:lnTo>
                          <a:pt x="26" y="92"/>
                        </a:lnTo>
                        <a:lnTo>
                          <a:pt x="30" y="74"/>
                        </a:lnTo>
                        <a:lnTo>
                          <a:pt x="39" y="61"/>
                        </a:lnTo>
                        <a:lnTo>
                          <a:pt x="44" y="44"/>
                        </a:lnTo>
                        <a:lnTo>
                          <a:pt x="52" y="30"/>
                        </a:lnTo>
                        <a:lnTo>
                          <a:pt x="66" y="17"/>
                        </a:lnTo>
                        <a:lnTo>
                          <a:pt x="70" y="0"/>
                        </a:lnTo>
                        <a:lnTo>
                          <a:pt x="2096" y="229"/>
                        </a:lnTo>
                        <a:lnTo>
                          <a:pt x="1699" y="1108"/>
                        </a:lnTo>
                        <a:close/>
                      </a:path>
                    </a:pathLst>
                  </a:custGeom>
                  <a:solidFill>
                    <a:srgbClr val="081d58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995400" y="4915080"/>
                  <a:ext cx="1643400" cy="863640"/>
                  <a:chOff x="995400" y="4915080"/>
                  <a:chExt cx="1643400" cy="86364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>
                    <a:off x="1744560" y="5016600"/>
                    <a:ext cx="547920" cy="410040"/>
                  </a:xfrm>
                  <a:custGeom>
                    <a:avLst/>
                    <a:gdLst/>
                    <a:ahLst/>
                    <a:rect l="0" t="0" r="r" b="b"/>
                    <a:pathLst>
                      <a:path w="1522" h="1139">
                        <a:moveTo>
                          <a:pt x="0" y="600"/>
                        </a:moveTo>
                        <a:lnTo>
                          <a:pt x="1522" y="0"/>
                        </a:lnTo>
                        <a:lnTo>
                          <a:pt x="1522" y="538"/>
                        </a:lnTo>
                        <a:lnTo>
                          <a:pt x="0" y="1139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7f7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995400" y="5232240"/>
                    <a:ext cx="606960" cy="505080"/>
                  </a:xfrm>
                  <a:custGeom>
                    <a:avLst/>
                    <a:gdLst/>
                    <a:ahLst/>
                    <a:rect l="0" t="0" r="r" b="b"/>
                    <a:pathLst>
                      <a:path w="1686" h="1403">
                        <a:moveTo>
                          <a:pt x="1686" y="865"/>
                        </a:moveTo>
                        <a:lnTo>
                          <a:pt x="1686" y="865"/>
                        </a:lnTo>
                        <a:lnTo>
                          <a:pt x="1651" y="860"/>
                        </a:lnTo>
                        <a:lnTo>
                          <a:pt x="1651" y="860"/>
                        </a:lnTo>
                        <a:lnTo>
                          <a:pt x="1651" y="860"/>
                        </a:lnTo>
                        <a:lnTo>
                          <a:pt x="1615" y="860"/>
                        </a:lnTo>
                        <a:lnTo>
                          <a:pt x="1615" y="860"/>
                        </a:lnTo>
                        <a:lnTo>
                          <a:pt x="1615" y="860"/>
                        </a:lnTo>
                        <a:lnTo>
                          <a:pt x="1580" y="856"/>
                        </a:lnTo>
                        <a:lnTo>
                          <a:pt x="1580" y="856"/>
                        </a:lnTo>
                        <a:lnTo>
                          <a:pt x="1580" y="856"/>
                        </a:lnTo>
                        <a:lnTo>
                          <a:pt x="1540" y="852"/>
                        </a:lnTo>
                        <a:lnTo>
                          <a:pt x="1540" y="852"/>
                        </a:lnTo>
                        <a:lnTo>
                          <a:pt x="1540" y="852"/>
                        </a:lnTo>
                        <a:lnTo>
                          <a:pt x="1510" y="847"/>
                        </a:lnTo>
                        <a:lnTo>
                          <a:pt x="1510" y="847"/>
                        </a:lnTo>
                        <a:lnTo>
                          <a:pt x="1510" y="847"/>
                        </a:lnTo>
                        <a:lnTo>
                          <a:pt x="1474" y="843"/>
                        </a:lnTo>
                        <a:lnTo>
                          <a:pt x="1474" y="843"/>
                        </a:lnTo>
                        <a:lnTo>
                          <a:pt x="1474" y="843"/>
                        </a:lnTo>
                        <a:lnTo>
                          <a:pt x="1439" y="838"/>
                        </a:lnTo>
                        <a:lnTo>
                          <a:pt x="1439" y="838"/>
                        </a:lnTo>
                        <a:lnTo>
                          <a:pt x="1439" y="838"/>
                        </a:lnTo>
                        <a:lnTo>
                          <a:pt x="1404" y="834"/>
                        </a:lnTo>
                        <a:lnTo>
                          <a:pt x="1404" y="834"/>
                        </a:lnTo>
                        <a:lnTo>
                          <a:pt x="1404" y="834"/>
                        </a:lnTo>
                        <a:lnTo>
                          <a:pt x="1373" y="830"/>
                        </a:lnTo>
                        <a:lnTo>
                          <a:pt x="1373" y="830"/>
                        </a:lnTo>
                        <a:lnTo>
                          <a:pt x="1373" y="830"/>
                        </a:lnTo>
                        <a:lnTo>
                          <a:pt x="1338" y="821"/>
                        </a:lnTo>
                        <a:lnTo>
                          <a:pt x="1338" y="821"/>
                        </a:lnTo>
                        <a:lnTo>
                          <a:pt x="1338" y="821"/>
                        </a:lnTo>
                        <a:lnTo>
                          <a:pt x="1302" y="821"/>
                        </a:lnTo>
                        <a:lnTo>
                          <a:pt x="1302" y="821"/>
                        </a:lnTo>
                        <a:lnTo>
                          <a:pt x="1302" y="821"/>
                        </a:lnTo>
                        <a:lnTo>
                          <a:pt x="1267" y="816"/>
                        </a:lnTo>
                        <a:lnTo>
                          <a:pt x="1267" y="816"/>
                        </a:lnTo>
                        <a:lnTo>
                          <a:pt x="1267" y="816"/>
                        </a:lnTo>
                        <a:lnTo>
                          <a:pt x="1235" y="807"/>
                        </a:lnTo>
                        <a:lnTo>
                          <a:pt x="1235" y="807"/>
                        </a:lnTo>
                        <a:lnTo>
                          <a:pt x="1235" y="807"/>
                        </a:lnTo>
                        <a:lnTo>
                          <a:pt x="1204" y="803"/>
                        </a:lnTo>
                        <a:lnTo>
                          <a:pt x="1204" y="803"/>
                        </a:lnTo>
                        <a:lnTo>
                          <a:pt x="1204" y="803"/>
                        </a:lnTo>
                        <a:lnTo>
                          <a:pt x="1169" y="794"/>
                        </a:lnTo>
                        <a:lnTo>
                          <a:pt x="1169" y="794"/>
                        </a:lnTo>
                        <a:lnTo>
                          <a:pt x="1169" y="794"/>
                        </a:lnTo>
                        <a:lnTo>
                          <a:pt x="1134" y="790"/>
                        </a:lnTo>
                        <a:lnTo>
                          <a:pt x="1134" y="790"/>
                        </a:lnTo>
                        <a:lnTo>
                          <a:pt x="1134" y="790"/>
                        </a:lnTo>
                        <a:lnTo>
                          <a:pt x="1107" y="781"/>
                        </a:lnTo>
                        <a:lnTo>
                          <a:pt x="1107" y="781"/>
                        </a:lnTo>
                        <a:lnTo>
                          <a:pt x="1107" y="781"/>
                        </a:lnTo>
                        <a:lnTo>
                          <a:pt x="1072" y="772"/>
                        </a:lnTo>
                        <a:lnTo>
                          <a:pt x="1072" y="772"/>
                        </a:lnTo>
                        <a:lnTo>
                          <a:pt x="1072" y="772"/>
                        </a:lnTo>
                        <a:lnTo>
                          <a:pt x="1041" y="763"/>
                        </a:lnTo>
                        <a:lnTo>
                          <a:pt x="1041" y="763"/>
                        </a:lnTo>
                        <a:lnTo>
                          <a:pt x="1041" y="763"/>
                        </a:lnTo>
                        <a:lnTo>
                          <a:pt x="1010" y="755"/>
                        </a:lnTo>
                        <a:lnTo>
                          <a:pt x="1010" y="755"/>
                        </a:lnTo>
                        <a:lnTo>
                          <a:pt x="1010" y="755"/>
                        </a:lnTo>
                        <a:lnTo>
                          <a:pt x="979" y="746"/>
                        </a:lnTo>
                        <a:lnTo>
                          <a:pt x="979" y="746"/>
                        </a:lnTo>
                        <a:lnTo>
                          <a:pt x="979" y="746"/>
                        </a:lnTo>
                        <a:lnTo>
                          <a:pt x="949" y="741"/>
                        </a:lnTo>
                        <a:lnTo>
                          <a:pt x="949" y="741"/>
                        </a:lnTo>
                        <a:lnTo>
                          <a:pt x="949" y="741"/>
                        </a:lnTo>
                        <a:lnTo>
                          <a:pt x="918" y="733"/>
                        </a:lnTo>
                        <a:lnTo>
                          <a:pt x="918" y="733"/>
                        </a:lnTo>
                        <a:lnTo>
                          <a:pt x="918" y="733"/>
                        </a:lnTo>
                        <a:lnTo>
                          <a:pt x="891" y="724"/>
                        </a:lnTo>
                        <a:lnTo>
                          <a:pt x="891" y="724"/>
                        </a:lnTo>
                        <a:lnTo>
                          <a:pt x="891" y="724"/>
                        </a:lnTo>
                        <a:lnTo>
                          <a:pt x="856" y="715"/>
                        </a:lnTo>
                        <a:lnTo>
                          <a:pt x="856" y="715"/>
                        </a:lnTo>
                        <a:lnTo>
                          <a:pt x="856" y="715"/>
                        </a:lnTo>
                        <a:lnTo>
                          <a:pt x="830" y="706"/>
                        </a:lnTo>
                        <a:lnTo>
                          <a:pt x="830" y="706"/>
                        </a:lnTo>
                        <a:lnTo>
                          <a:pt x="830" y="706"/>
                        </a:lnTo>
                        <a:lnTo>
                          <a:pt x="799" y="692"/>
                        </a:lnTo>
                        <a:lnTo>
                          <a:pt x="799" y="692"/>
                        </a:lnTo>
                        <a:lnTo>
                          <a:pt x="799" y="692"/>
                        </a:lnTo>
                        <a:lnTo>
                          <a:pt x="768" y="687"/>
                        </a:lnTo>
                        <a:lnTo>
                          <a:pt x="768" y="687"/>
                        </a:lnTo>
                        <a:lnTo>
                          <a:pt x="768" y="687"/>
                        </a:lnTo>
                        <a:lnTo>
                          <a:pt x="746" y="674"/>
                        </a:lnTo>
                        <a:lnTo>
                          <a:pt x="746" y="674"/>
                        </a:lnTo>
                        <a:lnTo>
                          <a:pt x="746" y="674"/>
                        </a:lnTo>
                        <a:lnTo>
                          <a:pt x="715" y="665"/>
                        </a:lnTo>
                        <a:lnTo>
                          <a:pt x="715" y="665"/>
                        </a:lnTo>
                        <a:lnTo>
                          <a:pt x="715" y="665"/>
                        </a:lnTo>
                        <a:lnTo>
                          <a:pt x="688" y="657"/>
                        </a:lnTo>
                        <a:lnTo>
                          <a:pt x="688" y="657"/>
                        </a:lnTo>
                        <a:lnTo>
                          <a:pt x="688" y="657"/>
                        </a:lnTo>
                        <a:lnTo>
                          <a:pt x="662" y="643"/>
                        </a:lnTo>
                        <a:lnTo>
                          <a:pt x="662" y="643"/>
                        </a:lnTo>
                        <a:lnTo>
                          <a:pt x="662" y="643"/>
                        </a:lnTo>
                        <a:lnTo>
                          <a:pt x="636" y="635"/>
                        </a:lnTo>
                        <a:lnTo>
                          <a:pt x="636" y="635"/>
                        </a:lnTo>
                        <a:lnTo>
                          <a:pt x="636" y="635"/>
                        </a:lnTo>
                        <a:lnTo>
                          <a:pt x="613" y="626"/>
                        </a:lnTo>
                        <a:lnTo>
                          <a:pt x="613" y="626"/>
                        </a:lnTo>
                        <a:lnTo>
                          <a:pt x="613" y="626"/>
                        </a:lnTo>
                        <a:lnTo>
                          <a:pt x="587" y="612"/>
                        </a:lnTo>
                        <a:lnTo>
                          <a:pt x="587" y="612"/>
                        </a:lnTo>
                        <a:lnTo>
                          <a:pt x="587" y="612"/>
                        </a:lnTo>
                        <a:lnTo>
                          <a:pt x="561" y="599"/>
                        </a:lnTo>
                        <a:lnTo>
                          <a:pt x="561" y="599"/>
                        </a:lnTo>
                        <a:lnTo>
                          <a:pt x="561" y="599"/>
                        </a:lnTo>
                        <a:lnTo>
                          <a:pt x="534" y="590"/>
                        </a:lnTo>
                        <a:lnTo>
                          <a:pt x="534" y="590"/>
                        </a:lnTo>
                        <a:lnTo>
                          <a:pt x="534" y="590"/>
                        </a:lnTo>
                        <a:lnTo>
                          <a:pt x="512" y="577"/>
                        </a:lnTo>
                        <a:lnTo>
                          <a:pt x="512" y="577"/>
                        </a:lnTo>
                        <a:lnTo>
                          <a:pt x="512" y="577"/>
                        </a:lnTo>
                        <a:lnTo>
                          <a:pt x="486" y="568"/>
                        </a:lnTo>
                        <a:lnTo>
                          <a:pt x="486" y="568"/>
                        </a:lnTo>
                        <a:lnTo>
                          <a:pt x="486" y="568"/>
                        </a:lnTo>
                        <a:lnTo>
                          <a:pt x="464" y="555"/>
                        </a:lnTo>
                        <a:lnTo>
                          <a:pt x="464" y="555"/>
                        </a:lnTo>
                        <a:lnTo>
                          <a:pt x="464" y="555"/>
                        </a:lnTo>
                        <a:lnTo>
                          <a:pt x="441" y="542"/>
                        </a:lnTo>
                        <a:lnTo>
                          <a:pt x="441" y="542"/>
                        </a:lnTo>
                        <a:lnTo>
                          <a:pt x="441" y="542"/>
                        </a:lnTo>
                        <a:lnTo>
                          <a:pt x="418" y="529"/>
                        </a:lnTo>
                        <a:lnTo>
                          <a:pt x="418" y="529"/>
                        </a:lnTo>
                        <a:lnTo>
                          <a:pt x="418" y="529"/>
                        </a:lnTo>
                        <a:lnTo>
                          <a:pt x="396" y="515"/>
                        </a:lnTo>
                        <a:lnTo>
                          <a:pt x="396" y="515"/>
                        </a:lnTo>
                        <a:lnTo>
                          <a:pt x="396" y="515"/>
                        </a:lnTo>
                        <a:lnTo>
                          <a:pt x="374" y="502"/>
                        </a:lnTo>
                        <a:lnTo>
                          <a:pt x="374" y="502"/>
                        </a:lnTo>
                        <a:lnTo>
                          <a:pt x="374" y="502"/>
                        </a:lnTo>
                        <a:lnTo>
                          <a:pt x="352" y="493"/>
                        </a:lnTo>
                        <a:lnTo>
                          <a:pt x="352" y="493"/>
                        </a:lnTo>
                        <a:lnTo>
                          <a:pt x="352" y="493"/>
                        </a:lnTo>
                        <a:lnTo>
                          <a:pt x="335" y="480"/>
                        </a:lnTo>
                        <a:lnTo>
                          <a:pt x="335" y="480"/>
                        </a:lnTo>
                        <a:lnTo>
                          <a:pt x="335" y="480"/>
                        </a:lnTo>
                        <a:lnTo>
                          <a:pt x="317" y="467"/>
                        </a:lnTo>
                        <a:lnTo>
                          <a:pt x="317" y="467"/>
                        </a:lnTo>
                        <a:lnTo>
                          <a:pt x="317" y="467"/>
                        </a:lnTo>
                        <a:lnTo>
                          <a:pt x="295" y="454"/>
                        </a:lnTo>
                        <a:lnTo>
                          <a:pt x="295" y="454"/>
                        </a:lnTo>
                        <a:lnTo>
                          <a:pt x="295" y="454"/>
                        </a:lnTo>
                        <a:lnTo>
                          <a:pt x="277" y="440"/>
                        </a:lnTo>
                        <a:lnTo>
                          <a:pt x="277" y="440"/>
                        </a:lnTo>
                        <a:lnTo>
                          <a:pt x="277" y="440"/>
                        </a:lnTo>
                        <a:lnTo>
                          <a:pt x="260" y="427"/>
                        </a:lnTo>
                        <a:lnTo>
                          <a:pt x="260" y="427"/>
                        </a:lnTo>
                        <a:lnTo>
                          <a:pt x="260" y="427"/>
                        </a:lnTo>
                        <a:lnTo>
                          <a:pt x="242" y="414"/>
                        </a:lnTo>
                        <a:lnTo>
                          <a:pt x="242" y="414"/>
                        </a:lnTo>
                        <a:lnTo>
                          <a:pt x="242" y="414"/>
                        </a:lnTo>
                        <a:lnTo>
                          <a:pt x="224" y="401"/>
                        </a:lnTo>
                        <a:lnTo>
                          <a:pt x="224" y="401"/>
                        </a:lnTo>
                        <a:lnTo>
                          <a:pt x="224" y="401"/>
                        </a:lnTo>
                        <a:lnTo>
                          <a:pt x="211" y="388"/>
                        </a:lnTo>
                        <a:lnTo>
                          <a:pt x="211" y="388"/>
                        </a:lnTo>
                        <a:lnTo>
                          <a:pt x="211" y="388"/>
                        </a:lnTo>
                        <a:lnTo>
                          <a:pt x="194" y="374"/>
                        </a:lnTo>
                        <a:lnTo>
                          <a:pt x="194" y="374"/>
                        </a:lnTo>
                        <a:lnTo>
                          <a:pt x="194" y="374"/>
                        </a:lnTo>
                        <a:lnTo>
                          <a:pt x="180" y="357"/>
                        </a:lnTo>
                        <a:lnTo>
                          <a:pt x="180" y="357"/>
                        </a:lnTo>
                        <a:lnTo>
                          <a:pt x="180" y="357"/>
                        </a:lnTo>
                        <a:lnTo>
                          <a:pt x="163" y="348"/>
                        </a:lnTo>
                        <a:lnTo>
                          <a:pt x="163" y="348"/>
                        </a:lnTo>
                        <a:lnTo>
                          <a:pt x="163" y="348"/>
                        </a:lnTo>
                        <a:lnTo>
                          <a:pt x="149" y="330"/>
                        </a:lnTo>
                        <a:lnTo>
                          <a:pt x="149" y="330"/>
                        </a:lnTo>
                        <a:lnTo>
                          <a:pt x="149" y="330"/>
                        </a:lnTo>
                        <a:lnTo>
                          <a:pt x="136" y="317"/>
                        </a:lnTo>
                        <a:lnTo>
                          <a:pt x="136" y="317"/>
                        </a:lnTo>
                        <a:lnTo>
                          <a:pt x="136" y="317"/>
                        </a:lnTo>
                        <a:lnTo>
                          <a:pt x="127" y="299"/>
                        </a:lnTo>
                        <a:lnTo>
                          <a:pt x="127" y="299"/>
                        </a:lnTo>
                        <a:lnTo>
                          <a:pt x="127" y="299"/>
                        </a:lnTo>
                        <a:lnTo>
                          <a:pt x="114" y="286"/>
                        </a:lnTo>
                        <a:lnTo>
                          <a:pt x="114" y="286"/>
                        </a:lnTo>
                        <a:lnTo>
                          <a:pt x="114" y="286"/>
                        </a:lnTo>
                        <a:lnTo>
                          <a:pt x="101" y="273"/>
                        </a:lnTo>
                        <a:lnTo>
                          <a:pt x="101" y="273"/>
                        </a:lnTo>
                        <a:lnTo>
                          <a:pt x="101" y="273"/>
                        </a:lnTo>
                        <a:lnTo>
                          <a:pt x="88" y="260"/>
                        </a:lnTo>
                        <a:lnTo>
                          <a:pt x="88" y="260"/>
                        </a:lnTo>
                        <a:lnTo>
                          <a:pt x="88" y="260"/>
                        </a:lnTo>
                        <a:lnTo>
                          <a:pt x="79" y="242"/>
                        </a:lnTo>
                        <a:lnTo>
                          <a:pt x="79" y="242"/>
                        </a:lnTo>
                        <a:lnTo>
                          <a:pt x="79" y="242"/>
                        </a:lnTo>
                        <a:lnTo>
                          <a:pt x="70" y="229"/>
                        </a:lnTo>
                        <a:lnTo>
                          <a:pt x="70" y="229"/>
                        </a:lnTo>
                        <a:lnTo>
                          <a:pt x="70" y="229"/>
                        </a:lnTo>
                        <a:lnTo>
                          <a:pt x="61" y="211"/>
                        </a:lnTo>
                        <a:lnTo>
                          <a:pt x="61" y="211"/>
                        </a:lnTo>
                        <a:lnTo>
                          <a:pt x="61" y="211"/>
                        </a:lnTo>
                        <a:lnTo>
                          <a:pt x="52" y="198"/>
                        </a:lnTo>
                        <a:lnTo>
                          <a:pt x="52" y="198"/>
                        </a:lnTo>
                        <a:lnTo>
                          <a:pt x="52" y="198"/>
                        </a:lnTo>
                        <a:lnTo>
                          <a:pt x="44" y="185"/>
                        </a:lnTo>
                        <a:lnTo>
                          <a:pt x="44" y="185"/>
                        </a:lnTo>
                        <a:lnTo>
                          <a:pt x="44" y="185"/>
                        </a:lnTo>
                        <a:lnTo>
                          <a:pt x="39" y="167"/>
                        </a:lnTo>
                        <a:lnTo>
                          <a:pt x="39" y="167"/>
                        </a:lnTo>
                        <a:lnTo>
                          <a:pt x="39" y="167"/>
                        </a:lnTo>
                        <a:lnTo>
                          <a:pt x="30" y="154"/>
                        </a:lnTo>
                        <a:lnTo>
                          <a:pt x="30" y="154"/>
                        </a:lnTo>
                        <a:lnTo>
                          <a:pt x="30" y="154"/>
                        </a:lnTo>
                        <a:lnTo>
                          <a:pt x="26" y="136"/>
                        </a:lnTo>
                        <a:lnTo>
                          <a:pt x="26" y="136"/>
                        </a:lnTo>
                        <a:lnTo>
                          <a:pt x="26" y="136"/>
                        </a:lnTo>
                        <a:lnTo>
                          <a:pt x="22" y="123"/>
                        </a:lnTo>
                        <a:lnTo>
                          <a:pt x="22" y="123"/>
                        </a:lnTo>
                        <a:lnTo>
                          <a:pt x="22" y="123"/>
                        </a:lnTo>
                        <a:lnTo>
                          <a:pt x="17" y="110"/>
                        </a:lnTo>
                        <a:lnTo>
                          <a:pt x="17" y="110"/>
                        </a:lnTo>
                        <a:lnTo>
                          <a:pt x="17" y="110"/>
                        </a:lnTo>
                        <a:lnTo>
                          <a:pt x="8" y="92"/>
                        </a:lnTo>
                        <a:lnTo>
                          <a:pt x="8" y="92"/>
                        </a:lnTo>
                        <a:lnTo>
                          <a:pt x="8" y="92"/>
                        </a:lnTo>
                        <a:lnTo>
                          <a:pt x="8" y="74"/>
                        </a:lnTo>
                        <a:lnTo>
                          <a:pt x="8" y="74"/>
                        </a:lnTo>
                        <a:lnTo>
                          <a:pt x="8" y="74"/>
                        </a:lnTo>
                        <a:lnTo>
                          <a:pt x="4" y="61"/>
                        </a:lnTo>
                        <a:lnTo>
                          <a:pt x="4" y="61"/>
                        </a:lnTo>
                        <a:lnTo>
                          <a:pt x="4" y="61"/>
                        </a:lnTo>
                        <a:lnTo>
                          <a:pt x="0" y="44"/>
                        </a:lnTo>
                        <a:lnTo>
                          <a:pt x="0" y="44"/>
                        </a:lnTo>
                        <a:lnTo>
                          <a:pt x="0" y="44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30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537"/>
                        </a:lnTo>
                        <a:lnTo>
                          <a:pt x="0" y="537"/>
                        </a:lnTo>
                        <a:lnTo>
                          <a:pt x="0" y="555"/>
                        </a:lnTo>
                        <a:lnTo>
                          <a:pt x="0" y="555"/>
                        </a:lnTo>
                        <a:lnTo>
                          <a:pt x="0" y="555"/>
                        </a:lnTo>
                        <a:lnTo>
                          <a:pt x="0" y="568"/>
                        </a:lnTo>
                        <a:lnTo>
                          <a:pt x="0" y="568"/>
                        </a:lnTo>
                        <a:lnTo>
                          <a:pt x="0" y="568"/>
                        </a:lnTo>
                        <a:lnTo>
                          <a:pt x="0" y="586"/>
                        </a:lnTo>
                        <a:lnTo>
                          <a:pt x="0" y="586"/>
                        </a:lnTo>
                        <a:lnTo>
                          <a:pt x="0" y="586"/>
                        </a:lnTo>
                        <a:lnTo>
                          <a:pt x="4" y="599"/>
                        </a:lnTo>
                        <a:lnTo>
                          <a:pt x="4" y="599"/>
                        </a:lnTo>
                        <a:lnTo>
                          <a:pt x="4" y="599"/>
                        </a:lnTo>
                        <a:lnTo>
                          <a:pt x="8" y="617"/>
                        </a:lnTo>
                        <a:lnTo>
                          <a:pt x="8" y="617"/>
                        </a:lnTo>
                        <a:lnTo>
                          <a:pt x="8" y="617"/>
                        </a:lnTo>
                        <a:lnTo>
                          <a:pt x="8" y="630"/>
                        </a:lnTo>
                        <a:lnTo>
                          <a:pt x="8" y="630"/>
                        </a:lnTo>
                        <a:lnTo>
                          <a:pt x="8" y="630"/>
                        </a:lnTo>
                        <a:lnTo>
                          <a:pt x="17" y="648"/>
                        </a:lnTo>
                        <a:lnTo>
                          <a:pt x="17" y="648"/>
                        </a:lnTo>
                        <a:lnTo>
                          <a:pt x="17" y="648"/>
                        </a:lnTo>
                        <a:lnTo>
                          <a:pt x="22" y="661"/>
                        </a:lnTo>
                        <a:lnTo>
                          <a:pt x="22" y="661"/>
                        </a:lnTo>
                        <a:lnTo>
                          <a:pt x="22" y="661"/>
                        </a:lnTo>
                        <a:lnTo>
                          <a:pt x="26" y="679"/>
                        </a:lnTo>
                        <a:lnTo>
                          <a:pt x="26" y="679"/>
                        </a:lnTo>
                        <a:lnTo>
                          <a:pt x="26" y="679"/>
                        </a:lnTo>
                        <a:lnTo>
                          <a:pt x="30" y="692"/>
                        </a:lnTo>
                        <a:lnTo>
                          <a:pt x="30" y="692"/>
                        </a:lnTo>
                        <a:lnTo>
                          <a:pt x="30" y="692"/>
                        </a:lnTo>
                        <a:lnTo>
                          <a:pt x="39" y="706"/>
                        </a:lnTo>
                        <a:lnTo>
                          <a:pt x="39" y="706"/>
                        </a:lnTo>
                        <a:lnTo>
                          <a:pt x="39" y="706"/>
                        </a:lnTo>
                        <a:lnTo>
                          <a:pt x="44" y="724"/>
                        </a:lnTo>
                        <a:lnTo>
                          <a:pt x="44" y="724"/>
                        </a:lnTo>
                        <a:lnTo>
                          <a:pt x="44" y="724"/>
                        </a:lnTo>
                        <a:lnTo>
                          <a:pt x="52" y="741"/>
                        </a:lnTo>
                        <a:lnTo>
                          <a:pt x="52" y="741"/>
                        </a:lnTo>
                        <a:lnTo>
                          <a:pt x="52" y="741"/>
                        </a:lnTo>
                        <a:lnTo>
                          <a:pt x="61" y="755"/>
                        </a:lnTo>
                        <a:lnTo>
                          <a:pt x="61" y="755"/>
                        </a:lnTo>
                        <a:lnTo>
                          <a:pt x="61" y="755"/>
                        </a:lnTo>
                        <a:lnTo>
                          <a:pt x="70" y="768"/>
                        </a:lnTo>
                        <a:lnTo>
                          <a:pt x="70" y="768"/>
                        </a:lnTo>
                        <a:lnTo>
                          <a:pt x="70" y="768"/>
                        </a:lnTo>
                        <a:lnTo>
                          <a:pt x="79" y="781"/>
                        </a:lnTo>
                        <a:lnTo>
                          <a:pt x="79" y="781"/>
                        </a:lnTo>
                        <a:lnTo>
                          <a:pt x="79" y="781"/>
                        </a:lnTo>
                        <a:lnTo>
                          <a:pt x="88" y="799"/>
                        </a:lnTo>
                        <a:lnTo>
                          <a:pt x="88" y="799"/>
                        </a:lnTo>
                        <a:lnTo>
                          <a:pt x="88" y="799"/>
                        </a:lnTo>
                        <a:lnTo>
                          <a:pt x="101" y="816"/>
                        </a:lnTo>
                        <a:lnTo>
                          <a:pt x="101" y="816"/>
                        </a:lnTo>
                        <a:lnTo>
                          <a:pt x="101" y="816"/>
                        </a:lnTo>
                        <a:lnTo>
                          <a:pt x="114" y="825"/>
                        </a:lnTo>
                        <a:lnTo>
                          <a:pt x="114" y="825"/>
                        </a:lnTo>
                        <a:lnTo>
                          <a:pt x="114" y="825"/>
                        </a:lnTo>
                        <a:lnTo>
                          <a:pt x="127" y="843"/>
                        </a:lnTo>
                        <a:lnTo>
                          <a:pt x="127" y="843"/>
                        </a:lnTo>
                        <a:lnTo>
                          <a:pt x="127" y="843"/>
                        </a:lnTo>
                        <a:lnTo>
                          <a:pt x="136" y="856"/>
                        </a:lnTo>
                        <a:lnTo>
                          <a:pt x="136" y="856"/>
                        </a:lnTo>
                        <a:lnTo>
                          <a:pt x="136" y="856"/>
                        </a:lnTo>
                        <a:lnTo>
                          <a:pt x="149" y="869"/>
                        </a:lnTo>
                        <a:lnTo>
                          <a:pt x="149" y="869"/>
                        </a:lnTo>
                        <a:lnTo>
                          <a:pt x="149" y="869"/>
                        </a:lnTo>
                        <a:lnTo>
                          <a:pt x="163" y="887"/>
                        </a:lnTo>
                        <a:lnTo>
                          <a:pt x="163" y="887"/>
                        </a:lnTo>
                        <a:lnTo>
                          <a:pt x="163" y="887"/>
                        </a:lnTo>
                        <a:lnTo>
                          <a:pt x="180" y="896"/>
                        </a:lnTo>
                        <a:lnTo>
                          <a:pt x="180" y="896"/>
                        </a:lnTo>
                        <a:lnTo>
                          <a:pt x="180" y="896"/>
                        </a:lnTo>
                        <a:lnTo>
                          <a:pt x="194" y="913"/>
                        </a:lnTo>
                        <a:lnTo>
                          <a:pt x="194" y="913"/>
                        </a:lnTo>
                        <a:lnTo>
                          <a:pt x="194" y="913"/>
                        </a:lnTo>
                        <a:lnTo>
                          <a:pt x="211" y="927"/>
                        </a:lnTo>
                        <a:lnTo>
                          <a:pt x="211" y="927"/>
                        </a:lnTo>
                        <a:lnTo>
                          <a:pt x="211" y="927"/>
                        </a:lnTo>
                        <a:lnTo>
                          <a:pt x="224" y="940"/>
                        </a:lnTo>
                        <a:lnTo>
                          <a:pt x="224" y="940"/>
                        </a:lnTo>
                        <a:lnTo>
                          <a:pt x="224" y="940"/>
                        </a:lnTo>
                        <a:lnTo>
                          <a:pt x="242" y="957"/>
                        </a:lnTo>
                        <a:lnTo>
                          <a:pt x="242" y="957"/>
                        </a:lnTo>
                        <a:lnTo>
                          <a:pt x="242" y="957"/>
                        </a:lnTo>
                        <a:lnTo>
                          <a:pt x="260" y="971"/>
                        </a:lnTo>
                        <a:lnTo>
                          <a:pt x="260" y="971"/>
                        </a:lnTo>
                        <a:lnTo>
                          <a:pt x="260" y="971"/>
                        </a:lnTo>
                        <a:lnTo>
                          <a:pt x="277" y="979"/>
                        </a:lnTo>
                        <a:lnTo>
                          <a:pt x="277" y="979"/>
                        </a:lnTo>
                        <a:lnTo>
                          <a:pt x="277" y="979"/>
                        </a:lnTo>
                        <a:lnTo>
                          <a:pt x="295" y="993"/>
                        </a:lnTo>
                        <a:lnTo>
                          <a:pt x="295" y="993"/>
                        </a:lnTo>
                        <a:lnTo>
                          <a:pt x="295" y="993"/>
                        </a:lnTo>
                        <a:lnTo>
                          <a:pt x="317" y="1006"/>
                        </a:lnTo>
                        <a:lnTo>
                          <a:pt x="317" y="1006"/>
                        </a:lnTo>
                        <a:lnTo>
                          <a:pt x="317" y="1006"/>
                        </a:lnTo>
                        <a:lnTo>
                          <a:pt x="335" y="1019"/>
                        </a:lnTo>
                        <a:lnTo>
                          <a:pt x="335" y="1019"/>
                        </a:lnTo>
                        <a:lnTo>
                          <a:pt x="335" y="1019"/>
                        </a:lnTo>
                        <a:lnTo>
                          <a:pt x="352" y="1032"/>
                        </a:lnTo>
                        <a:lnTo>
                          <a:pt x="352" y="1032"/>
                        </a:lnTo>
                        <a:lnTo>
                          <a:pt x="352" y="1032"/>
                        </a:lnTo>
                        <a:lnTo>
                          <a:pt x="374" y="1046"/>
                        </a:lnTo>
                        <a:lnTo>
                          <a:pt x="374" y="1046"/>
                        </a:lnTo>
                        <a:lnTo>
                          <a:pt x="374" y="1046"/>
                        </a:lnTo>
                        <a:lnTo>
                          <a:pt x="396" y="1059"/>
                        </a:lnTo>
                        <a:lnTo>
                          <a:pt x="396" y="1059"/>
                        </a:lnTo>
                        <a:lnTo>
                          <a:pt x="396" y="1059"/>
                        </a:lnTo>
                        <a:lnTo>
                          <a:pt x="418" y="1072"/>
                        </a:lnTo>
                        <a:lnTo>
                          <a:pt x="418" y="1072"/>
                        </a:lnTo>
                        <a:lnTo>
                          <a:pt x="418" y="1072"/>
                        </a:lnTo>
                        <a:lnTo>
                          <a:pt x="441" y="1081"/>
                        </a:lnTo>
                        <a:lnTo>
                          <a:pt x="441" y="1081"/>
                        </a:lnTo>
                        <a:lnTo>
                          <a:pt x="441" y="1081"/>
                        </a:lnTo>
                        <a:lnTo>
                          <a:pt x="464" y="1094"/>
                        </a:lnTo>
                        <a:lnTo>
                          <a:pt x="464" y="1094"/>
                        </a:lnTo>
                        <a:lnTo>
                          <a:pt x="464" y="1094"/>
                        </a:lnTo>
                        <a:lnTo>
                          <a:pt x="486" y="1107"/>
                        </a:lnTo>
                        <a:lnTo>
                          <a:pt x="486" y="1107"/>
                        </a:lnTo>
                        <a:lnTo>
                          <a:pt x="486" y="1107"/>
                        </a:lnTo>
                        <a:lnTo>
                          <a:pt x="512" y="1121"/>
                        </a:lnTo>
                        <a:lnTo>
                          <a:pt x="512" y="1121"/>
                        </a:lnTo>
                        <a:lnTo>
                          <a:pt x="512" y="1121"/>
                        </a:lnTo>
                        <a:lnTo>
                          <a:pt x="534" y="1134"/>
                        </a:lnTo>
                        <a:lnTo>
                          <a:pt x="534" y="1134"/>
                        </a:lnTo>
                        <a:lnTo>
                          <a:pt x="534" y="1134"/>
                        </a:lnTo>
                        <a:lnTo>
                          <a:pt x="561" y="1138"/>
                        </a:lnTo>
                        <a:lnTo>
                          <a:pt x="561" y="1138"/>
                        </a:lnTo>
                        <a:lnTo>
                          <a:pt x="561" y="1138"/>
                        </a:lnTo>
                        <a:lnTo>
                          <a:pt x="587" y="1151"/>
                        </a:lnTo>
                        <a:lnTo>
                          <a:pt x="587" y="1151"/>
                        </a:lnTo>
                        <a:lnTo>
                          <a:pt x="587" y="1151"/>
                        </a:lnTo>
                        <a:lnTo>
                          <a:pt x="613" y="1165"/>
                        </a:lnTo>
                        <a:lnTo>
                          <a:pt x="613" y="1165"/>
                        </a:lnTo>
                        <a:lnTo>
                          <a:pt x="613" y="1165"/>
                        </a:lnTo>
                        <a:lnTo>
                          <a:pt x="636" y="1173"/>
                        </a:lnTo>
                        <a:lnTo>
                          <a:pt x="636" y="1173"/>
                        </a:lnTo>
                        <a:lnTo>
                          <a:pt x="636" y="1173"/>
                        </a:lnTo>
                        <a:lnTo>
                          <a:pt x="662" y="1187"/>
                        </a:lnTo>
                        <a:lnTo>
                          <a:pt x="662" y="1187"/>
                        </a:lnTo>
                        <a:lnTo>
                          <a:pt x="662" y="1187"/>
                        </a:lnTo>
                        <a:lnTo>
                          <a:pt x="688" y="1196"/>
                        </a:lnTo>
                        <a:lnTo>
                          <a:pt x="688" y="1196"/>
                        </a:lnTo>
                        <a:lnTo>
                          <a:pt x="688" y="1196"/>
                        </a:lnTo>
                        <a:lnTo>
                          <a:pt x="715" y="1209"/>
                        </a:lnTo>
                        <a:lnTo>
                          <a:pt x="715" y="1209"/>
                        </a:lnTo>
                        <a:lnTo>
                          <a:pt x="715" y="1209"/>
                        </a:lnTo>
                        <a:lnTo>
                          <a:pt x="746" y="1213"/>
                        </a:lnTo>
                        <a:lnTo>
                          <a:pt x="746" y="1213"/>
                        </a:lnTo>
                        <a:lnTo>
                          <a:pt x="746" y="1213"/>
                        </a:lnTo>
                        <a:lnTo>
                          <a:pt x="768" y="1226"/>
                        </a:lnTo>
                        <a:lnTo>
                          <a:pt x="768" y="1226"/>
                        </a:lnTo>
                        <a:lnTo>
                          <a:pt x="768" y="1226"/>
                        </a:lnTo>
                        <a:lnTo>
                          <a:pt x="799" y="1235"/>
                        </a:lnTo>
                        <a:lnTo>
                          <a:pt x="799" y="1235"/>
                        </a:lnTo>
                        <a:lnTo>
                          <a:pt x="799" y="1235"/>
                        </a:lnTo>
                        <a:lnTo>
                          <a:pt x="830" y="1244"/>
                        </a:lnTo>
                        <a:lnTo>
                          <a:pt x="830" y="1244"/>
                        </a:lnTo>
                        <a:lnTo>
                          <a:pt x="830" y="1244"/>
                        </a:lnTo>
                        <a:lnTo>
                          <a:pt x="856" y="1257"/>
                        </a:lnTo>
                        <a:lnTo>
                          <a:pt x="856" y="1257"/>
                        </a:lnTo>
                        <a:lnTo>
                          <a:pt x="856" y="1257"/>
                        </a:lnTo>
                        <a:lnTo>
                          <a:pt x="891" y="1262"/>
                        </a:lnTo>
                        <a:lnTo>
                          <a:pt x="891" y="1262"/>
                        </a:lnTo>
                        <a:lnTo>
                          <a:pt x="891" y="1262"/>
                        </a:lnTo>
                        <a:lnTo>
                          <a:pt x="918" y="1271"/>
                        </a:lnTo>
                        <a:lnTo>
                          <a:pt x="918" y="1271"/>
                        </a:lnTo>
                        <a:lnTo>
                          <a:pt x="918" y="1271"/>
                        </a:lnTo>
                        <a:lnTo>
                          <a:pt x="949" y="1284"/>
                        </a:lnTo>
                        <a:lnTo>
                          <a:pt x="949" y="1284"/>
                        </a:lnTo>
                        <a:lnTo>
                          <a:pt x="949" y="1284"/>
                        </a:lnTo>
                        <a:lnTo>
                          <a:pt x="979" y="1288"/>
                        </a:lnTo>
                        <a:lnTo>
                          <a:pt x="979" y="1288"/>
                        </a:lnTo>
                        <a:lnTo>
                          <a:pt x="979" y="1288"/>
                        </a:lnTo>
                        <a:lnTo>
                          <a:pt x="1010" y="1297"/>
                        </a:lnTo>
                        <a:lnTo>
                          <a:pt x="1010" y="1297"/>
                        </a:lnTo>
                        <a:lnTo>
                          <a:pt x="1010" y="1297"/>
                        </a:lnTo>
                        <a:lnTo>
                          <a:pt x="1041" y="1301"/>
                        </a:lnTo>
                        <a:lnTo>
                          <a:pt x="1041" y="1301"/>
                        </a:lnTo>
                        <a:lnTo>
                          <a:pt x="1041" y="1301"/>
                        </a:lnTo>
                        <a:lnTo>
                          <a:pt x="1072" y="1310"/>
                        </a:lnTo>
                        <a:lnTo>
                          <a:pt x="1072" y="1310"/>
                        </a:lnTo>
                        <a:lnTo>
                          <a:pt x="1072" y="1310"/>
                        </a:lnTo>
                        <a:lnTo>
                          <a:pt x="1107" y="1319"/>
                        </a:lnTo>
                        <a:lnTo>
                          <a:pt x="1107" y="1319"/>
                        </a:lnTo>
                        <a:lnTo>
                          <a:pt x="1107" y="1319"/>
                        </a:lnTo>
                        <a:lnTo>
                          <a:pt x="1134" y="1328"/>
                        </a:lnTo>
                        <a:lnTo>
                          <a:pt x="1134" y="1328"/>
                        </a:lnTo>
                        <a:lnTo>
                          <a:pt x="1134" y="1328"/>
                        </a:lnTo>
                        <a:lnTo>
                          <a:pt x="1169" y="1332"/>
                        </a:lnTo>
                        <a:lnTo>
                          <a:pt x="1169" y="1332"/>
                        </a:lnTo>
                        <a:lnTo>
                          <a:pt x="1169" y="1332"/>
                        </a:lnTo>
                        <a:lnTo>
                          <a:pt x="1204" y="1341"/>
                        </a:lnTo>
                        <a:lnTo>
                          <a:pt x="1204" y="1341"/>
                        </a:lnTo>
                        <a:lnTo>
                          <a:pt x="1204" y="1341"/>
                        </a:lnTo>
                        <a:lnTo>
                          <a:pt x="1235" y="1345"/>
                        </a:lnTo>
                        <a:lnTo>
                          <a:pt x="1235" y="1345"/>
                        </a:lnTo>
                        <a:lnTo>
                          <a:pt x="1235" y="1345"/>
                        </a:lnTo>
                        <a:lnTo>
                          <a:pt x="1267" y="1354"/>
                        </a:lnTo>
                        <a:lnTo>
                          <a:pt x="1267" y="1354"/>
                        </a:lnTo>
                        <a:lnTo>
                          <a:pt x="1267" y="1354"/>
                        </a:lnTo>
                        <a:lnTo>
                          <a:pt x="1302" y="1359"/>
                        </a:lnTo>
                        <a:lnTo>
                          <a:pt x="1302" y="1359"/>
                        </a:lnTo>
                        <a:lnTo>
                          <a:pt x="1302" y="1359"/>
                        </a:lnTo>
                        <a:lnTo>
                          <a:pt x="1338" y="1363"/>
                        </a:lnTo>
                        <a:lnTo>
                          <a:pt x="1338" y="1363"/>
                        </a:lnTo>
                        <a:lnTo>
                          <a:pt x="1338" y="1363"/>
                        </a:lnTo>
                        <a:lnTo>
                          <a:pt x="1373" y="1372"/>
                        </a:lnTo>
                        <a:lnTo>
                          <a:pt x="1373" y="1372"/>
                        </a:lnTo>
                        <a:lnTo>
                          <a:pt x="1373" y="1372"/>
                        </a:lnTo>
                        <a:lnTo>
                          <a:pt x="1404" y="1372"/>
                        </a:lnTo>
                        <a:lnTo>
                          <a:pt x="1404" y="1372"/>
                        </a:lnTo>
                        <a:lnTo>
                          <a:pt x="1404" y="1372"/>
                        </a:lnTo>
                        <a:lnTo>
                          <a:pt x="1439" y="1376"/>
                        </a:lnTo>
                        <a:lnTo>
                          <a:pt x="1439" y="1376"/>
                        </a:lnTo>
                        <a:lnTo>
                          <a:pt x="1439" y="1376"/>
                        </a:lnTo>
                        <a:lnTo>
                          <a:pt x="1474" y="1385"/>
                        </a:lnTo>
                        <a:lnTo>
                          <a:pt x="1474" y="1385"/>
                        </a:lnTo>
                        <a:lnTo>
                          <a:pt x="1474" y="1385"/>
                        </a:lnTo>
                        <a:lnTo>
                          <a:pt x="1510" y="1390"/>
                        </a:lnTo>
                        <a:lnTo>
                          <a:pt x="1510" y="1390"/>
                        </a:lnTo>
                        <a:lnTo>
                          <a:pt x="1510" y="1390"/>
                        </a:lnTo>
                        <a:lnTo>
                          <a:pt x="1540" y="1390"/>
                        </a:lnTo>
                        <a:lnTo>
                          <a:pt x="1540" y="1390"/>
                        </a:lnTo>
                        <a:lnTo>
                          <a:pt x="1540" y="1390"/>
                        </a:lnTo>
                        <a:lnTo>
                          <a:pt x="1580" y="1398"/>
                        </a:lnTo>
                        <a:lnTo>
                          <a:pt x="1580" y="1398"/>
                        </a:lnTo>
                        <a:lnTo>
                          <a:pt x="1580" y="1398"/>
                        </a:lnTo>
                        <a:lnTo>
                          <a:pt x="1615" y="1398"/>
                        </a:lnTo>
                        <a:lnTo>
                          <a:pt x="1615" y="1398"/>
                        </a:lnTo>
                        <a:lnTo>
                          <a:pt x="1615" y="1398"/>
                        </a:lnTo>
                        <a:lnTo>
                          <a:pt x="1651" y="1403"/>
                        </a:lnTo>
                        <a:lnTo>
                          <a:pt x="1651" y="1403"/>
                        </a:lnTo>
                        <a:lnTo>
                          <a:pt x="1651" y="1403"/>
                        </a:lnTo>
                        <a:lnTo>
                          <a:pt x="1686" y="1403"/>
                        </a:lnTo>
                        <a:lnTo>
                          <a:pt x="1686" y="1403"/>
                        </a:lnTo>
                        <a:lnTo>
                          <a:pt x="1686" y="865"/>
                        </a:lnTo>
                        <a:close/>
                      </a:path>
                    </a:pathLst>
                  </a:custGeom>
                  <a:solidFill>
                    <a:srgbClr val="44007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1601640" y="5232240"/>
                    <a:ext cx="143280" cy="505080"/>
                  </a:xfrm>
                  <a:custGeom>
                    <a:avLst/>
                    <a:gdLst/>
                    <a:ahLst/>
                    <a:rect l="0" t="0" r="r" b="b"/>
                    <a:pathLst>
                      <a:path w="398" h="1403">
                        <a:moveTo>
                          <a:pt x="398" y="0"/>
                        </a:moveTo>
                        <a:lnTo>
                          <a:pt x="0" y="865"/>
                        </a:lnTo>
                        <a:lnTo>
                          <a:pt x="0" y="1403"/>
                        </a:lnTo>
                        <a:lnTo>
                          <a:pt x="398" y="537"/>
                        </a:lnTo>
                        <a:lnTo>
                          <a:pt x="398" y="0"/>
                        </a:lnTo>
                        <a:close/>
                      </a:path>
                    </a:pathLst>
                  </a:custGeom>
                  <a:solidFill>
                    <a:srgbClr val="44007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1746360" y="5265720"/>
                    <a:ext cx="892440" cy="513000"/>
                  </a:xfrm>
                  <a:custGeom>
                    <a:avLst/>
                    <a:gdLst/>
                    <a:ahLst/>
                    <a:rect l="0" t="0" r="r" b="b"/>
                    <a:pathLst>
                      <a:path w="2479" h="1425">
                        <a:moveTo>
                          <a:pt x="2479" y="0"/>
                        </a:moveTo>
                        <a:lnTo>
                          <a:pt x="2479" y="0"/>
                        </a:lnTo>
                        <a:lnTo>
                          <a:pt x="2479" y="17"/>
                        </a:lnTo>
                        <a:lnTo>
                          <a:pt x="2479" y="17"/>
                        </a:lnTo>
                        <a:lnTo>
                          <a:pt x="2479" y="30"/>
                        </a:lnTo>
                        <a:lnTo>
                          <a:pt x="2479" y="30"/>
                        </a:lnTo>
                        <a:lnTo>
                          <a:pt x="2479" y="30"/>
                        </a:lnTo>
                        <a:lnTo>
                          <a:pt x="2479" y="44"/>
                        </a:lnTo>
                        <a:lnTo>
                          <a:pt x="2479" y="44"/>
                        </a:lnTo>
                        <a:lnTo>
                          <a:pt x="2474" y="61"/>
                        </a:lnTo>
                        <a:lnTo>
                          <a:pt x="2474" y="61"/>
                        </a:lnTo>
                        <a:lnTo>
                          <a:pt x="2474" y="61"/>
                        </a:lnTo>
                        <a:lnTo>
                          <a:pt x="2474" y="79"/>
                        </a:lnTo>
                        <a:lnTo>
                          <a:pt x="2474" y="79"/>
                        </a:lnTo>
                        <a:lnTo>
                          <a:pt x="2466" y="92"/>
                        </a:lnTo>
                        <a:lnTo>
                          <a:pt x="2466" y="92"/>
                        </a:lnTo>
                        <a:lnTo>
                          <a:pt x="2466" y="92"/>
                        </a:lnTo>
                        <a:lnTo>
                          <a:pt x="2466" y="105"/>
                        </a:lnTo>
                        <a:lnTo>
                          <a:pt x="2466" y="105"/>
                        </a:lnTo>
                        <a:lnTo>
                          <a:pt x="2461" y="123"/>
                        </a:lnTo>
                        <a:lnTo>
                          <a:pt x="2461" y="123"/>
                        </a:lnTo>
                        <a:lnTo>
                          <a:pt x="2461" y="123"/>
                        </a:lnTo>
                        <a:lnTo>
                          <a:pt x="2452" y="141"/>
                        </a:lnTo>
                        <a:lnTo>
                          <a:pt x="2452" y="141"/>
                        </a:lnTo>
                        <a:lnTo>
                          <a:pt x="2443" y="154"/>
                        </a:lnTo>
                        <a:lnTo>
                          <a:pt x="2443" y="154"/>
                        </a:lnTo>
                        <a:lnTo>
                          <a:pt x="2439" y="167"/>
                        </a:lnTo>
                        <a:lnTo>
                          <a:pt x="2439" y="167"/>
                        </a:lnTo>
                        <a:lnTo>
                          <a:pt x="2439" y="167"/>
                        </a:lnTo>
                        <a:lnTo>
                          <a:pt x="2430" y="180"/>
                        </a:lnTo>
                        <a:lnTo>
                          <a:pt x="2430" y="180"/>
                        </a:lnTo>
                        <a:lnTo>
                          <a:pt x="2426" y="198"/>
                        </a:lnTo>
                        <a:lnTo>
                          <a:pt x="2426" y="198"/>
                        </a:lnTo>
                        <a:lnTo>
                          <a:pt x="2426" y="198"/>
                        </a:lnTo>
                        <a:lnTo>
                          <a:pt x="2417" y="216"/>
                        </a:lnTo>
                        <a:lnTo>
                          <a:pt x="2417" y="216"/>
                        </a:lnTo>
                        <a:lnTo>
                          <a:pt x="2408" y="229"/>
                        </a:lnTo>
                        <a:lnTo>
                          <a:pt x="2408" y="229"/>
                        </a:lnTo>
                        <a:lnTo>
                          <a:pt x="2408" y="229"/>
                        </a:lnTo>
                        <a:lnTo>
                          <a:pt x="2399" y="242"/>
                        </a:lnTo>
                        <a:lnTo>
                          <a:pt x="2399" y="242"/>
                        </a:lnTo>
                        <a:lnTo>
                          <a:pt x="2386" y="255"/>
                        </a:lnTo>
                        <a:lnTo>
                          <a:pt x="2386" y="255"/>
                        </a:lnTo>
                        <a:lnTo>
                          <a:pt x="2386" y="255"/>
                        </a:lnTo>
                        <a:lnTo>
                          <a:pt x="2377" y="273"/>
                        </a:lnTo>
                        <a:lnTo>
                          <a:pt x="2377" y="273"/>
                        </a:lnTo>
                        <a:lnTo>
                          <a:pt x="2364" y="286"/>
                        </a:lnTo>
                        <a:lnTo>
                          <a:pt x="2364" y="286"/>
                        </a:lnTo>
                        <a:lnTo>
                          <a:pt x="2364" y="286"/>
                        </a:lnTo>
                        <a:lnTo>
                          <a:pt x="2355" y="304"/>
                        </a:lnTo>
                        <a:lnTo>
                          <a:pt x="2355" y="304"/>
                        </a:lnTo>
                        <a:lnTo>
                          <a:pt x="2342" y="317"/>
                        </a:lnTo>
                        <a:lnTo>
                          <a:pt x="2342" y="317"/>
                        </a:lnTo>
                        <a:lnTo>
                          <a:pt x="2342" y="317"/>
                        </a:lnTo>
                        <a:lnTo>
                          <a:pt x="2329" y="330"/>
                        </a:lnTo>
                        <a:lnTo>
                          <a:pt x="2329" y="330"/>
                        </a:lnTo>
                        <a:lnTo>
                          <a:pt x="2311" y="343"/>
                        </a:lnTo>
                        <a:lnTo>
                          <a:pt x="2311" y="343"/>
                        </a:lnTo>
                        <a:lnTo>
                          <a:pt x="2311" y="343"/>
                        </a:lnTo>
                        <a:lnTo>
                          <a:pt x="2298" y="357"/>
                        </a:lnTo>
                        <a:lnTo>
                          <a:pt x="2298" y="357"/>
                        </a:lnTo>
                        <a:lnTo>
                          <a:pt x="2285" y="374"/>
                        </a:lnTo>
                        <a:lnTo>
                          <a:pt x="2285" y="374"/>
                        </a:lnTo>
                        <a:lnTo>
                          <a:pt x="2285" y="374"/>
                        </a:lnTo>
                        <a:lnTo>
                          <a:pt x="2267" y="388"/>
                        </a:lnTo>
                        <a:lnTo>
                          <a:pt x="2267" y="388"/>
                        </a:lnTo>
                        <a:lnTo>
                          <a:pt x="2254" y="401"/>
                        </a:lnTo>
                        <a:lnTo>
                          <a:pt x="2254" y="401"/>
                        </a:lnTo>
                        <a:lnTo>
                          <a:pt x="2254" y="401"/>
                        </a:lnTo>
                        <a:lnTo>
                          <a:pt x="2236" y="414"/>
                        </a:lnTo>
                        <a:lnTo>
                          <a:pt x="2236" y="414"/>
                        </a:lnTo>
                        <a:lnTo>
                          <a:pt x="2214" y="427"/>
                        </a:lnTo>
                        <a:lnTo>
                          <a:pt x="2214" y="427"/>
                        </a:lnTo>
                        <a:lnTo>
                          <a:pt x="2214" y="427"/>
                        </a:lnTo>
                        <a:lnTo>
                          <a:pt x="2201" y="440"/>
                        </a:lnTo>
                        <a:lnTo>
                          <a:pt x="2201" y="440"/>
                        </a:lnTo>
                        <a:lnTo>
                          <a:pt x="2183" y="454"/>
                        </a:lnTo>
                        <a:lnTo>
                          <a:pt x="2183" y="454"/>
                        </a:lnTo>
                        <a:lnTo>
                          <a:pt x="2161" y="467"/>
                        </a:lnTo>
                        <a:lnTo>
                          <a:pt x="2161" y="467"/>
                        </a:lnTo>
                        <a:lnTo>
                          <a:pt x="2161" y="467"/>
                        </a:lnTo>
                        <a:lnTo>
                          <a:pt x="2139" y="480"/>
                        </a:lnTo>
                        <a:lnTo>
                          <a:pt x="2139" y="480"/>
                        </a:lnTo>
                        <a:lnTo>
                          <a:pt x="2126" y="493"/>
                        </a:lnTo>
                        <a:lnTo>
                          <a:pt x="2126" y="493"/>
                        </a:lnTo>
                        <a:lnTo>
                          <a:pt x="2126" y="493"/>
                        </a:lnTo>
                        <a:lnTo>
                          <a:pt x="2104" y="507"/>
                        </a:lnTo>
                        <a:lnTo>
                          <a:pt x="2104" y="507"/>
                        </a:lnTo>
                        <a:lnTo>
                          <a:pt x="2077" y="520"/>
                        </a:lnTo>
                        <a:lnTo>
                          <a:pt x="2077" y="520"/>
                        </a:lnTo>
                        <a:lnTo>
                          <a:pt x="2077" y="520"/>
                        </a:lnTo>
                        <a:lnTo>
                          <a:pt x="2060" y="533"/>
                        </a:lnTo>
                        <a:lnTo>
                          <a:pt x="2060" y="533"/>
                        </a:lnTo>
                        <a:lnTo>
                          <a:pt x="2038" y="542"/>
                        </a:lnTo>
                        <a:lnTo>
                          <a:pt x="2038" y="542"/>
                        </a:lnTo>
                        <a:lnTo>
                          <a:pt x="2038" y="542"/>
                        </a:lnTo>
                        <a:lnTo>
                          <a:pt x="2016" y="555"/>
                        </a:lnTo>
                        <a:lnTo>
                          <a:pt x="2016" y="555"/>
                        </a:lnTo>
                        <a:lnTo>
                          <a:pt x="1994" y="568"/>
                        </a:lnTo>
                        <a:lnTo>
                          <a:pt x="1994" y="568"/>
                        </a:lnTo>
                        <a:lnTo>
                          <a:pt x="1994" y="568"/>
                        </a:lnTo>
                        <a:lnTo>
                          <a:pt x="1967" y="577"/>
                        </a:lnTo>
                        <a:lnTo>
                          <a:pt x="1967" y="577"/>
                        </a:lnTo>
                        <a:lnTo>
                          <a:pt x="1945" y="590"/>
                        </a:lnTo>
                        <a:lnTo>
                          <a:pt x="1945" y="590"/>
                        </a:lnTo>
                        <a:lnTo>
                          <a:pt x="1945" y="590"/>
                        </a:lnTo>
                        <a:lnTo>
                          <a:pt x="1923" y="599"/>
                        </a:lnTo>
                        <a:lnTo>
                          <a:pt x="1923" y="599"/>
                        </a:lnTo>
                        <a:lnTo>
                          <a:pt x="1897" y="612"/>
                        </a:lnTo>
                        <a:lnTo>
                          <a:pt x="1897" y="612"/>
                        </a:lnTo>
                        <a:lnTo>
                          <a:pt x="1897" y="612"/>
                        </a:lnTo>
                        <a:lnTo>
                          <a:pt x="1870" y="626"/>
                        </a:lnTo>
                        <a:lnTo>
                          <a:pt x="1870" y="626"/>
                        </a:lnTo>
                        <a:lnTo>
                          <a:pt x="1844" y="635"/>
                        </a:lnTo>
                        <a:lnTo>
                          <a:pt x="1844" y="635"/>
                        </a:lnTo>
                        <a:lnTo>
                          <a:pt x="1844" y="635"/>
                        </a:lnTo>
                        <a:lnTo>
                          <a:pt x="1817" y="648"/>
                        </a:lnTo>
                        <a:lnTo>
                          <a:pt x="1817" y="648"/>
                        </a:lnTo>
                        <a:lnTo>
                          <a:pt x="1786" y="652"/>
                        </a:lnTo>
                        <a:lnTo>
                          <a:pt x="1786" y="652"/>
                        </a:lnTo>
                        <a:lnTo>
                          <a:pt x="1786" y="652"/>
                        </a:lnTo>
                        <a:lnTo>
                          <a:pt x="1764" y="665"/>
                        </a:lnTo>
                        <a:lnTo>
                          <a:pt x="1764" y="665"/>
                        </a:lnTo>
                        <a:lnTo>
                          <a:pt x="1734" y="674"/>
                        </a:lnTo>
                        <a:lnTo>
                          <a:pt x="1734" y="674"/>
                        </a:lnTo>
                        <a:lnTo>
                          <a:pt x="1707" y="687"/>
                        </a:lnTo>
                        <a:lnTo>
                          <a:pt x="1707" y="687"/>
                        </a:lnTo>
                        <a:lnTo>
                          <a:pt x="1707" y="687"/>
                        </a:lnTo>
                        <a:lnTo>
                          <a:pt x="1681" y="696"/>
                        </a:lnTo>
                        <a:lnTo>
                          <a:pt x="1681" y="696"/>
                        </a:lnTo>
                        <a:lnTo>
                          <a:pt x="1650" y="705"/>
                        </a:lnTo>
                        <a:lnTo>
                          <a:pt x="1650" y="705"/>
                        </a:lnTo>
                        <a:lnTo>
                          <a:pt x="1650" y="705"/>
                        </a:lnTo>
                        <a:lnTo>
                          <a:pt x="1619" y="715"/>
                        </a:lnTo>
                        <a:lnTo>
                          <a:pt x="1619" y="715"/>
                        </a:lnTo>
                        <a:lnTo>
                          <a:pt x="1592" y="724"/>
                        </a:lnTo>
                        <a:lnTo>
                          <a:pt x="1592" y="724"/>
                        </a:lnTo>
                        <a:lnTo>
                          <a:pt x="1592" y="724"/>
                        </a:lnTo>
                        <a:lnTo>
                          <a:pt x="1562" y="728"/>
                        </a:lnTo>
                        <a:lnTo>
                          <a:pt x="1562" y="728"/>
                        </a:lnTo>
                        <a:lnTo>
                          <a:pt x="1531" y="741"/>
                        </a:lnTo>
                        <a:lnTo>
                          <a:pt x="1531" y="741"/>
                        </a:lnTo>
                        <a:lnTo>
                          <a:pt x="1531" y="741"/>
                        </a:lnTo>
                        <a:lnTo>
                          <a:pt x="1504" y="750"/>
                        </a:lnTo>
                        <a:lnTo>
                          <a:pt x="1504" y="750"/>
                        </a:lnTo>
                        <a:lnTo>
                          <a:pt x="1469" y="755"/>
                        </a:lnTo>
                        <a:lnTo>
                          <a:pt x="1469" y="755"/>
                        </a:lnTo>
                        <a:lnTo>
                          <a:pt x="1469" y="755"/>
                        </a:lnTo>
                        <a:lnTo>
                          <a:pt x="1438" y="763"/>
                        </a:lnTo>
                        <a:lnTo>
                          <a:pt x="1438" y="763"/>
                        </a:lnTo>
                        <a:lnTo>
                          <a:pt x="1407" y="772"/>
                        </a:lnTo>
                        <a:lnTo>
                          <a:pt x="1407" y="772"/>
                        </a:lnTo>
                        <a:lnTo>
                          <a:pt x="1407" y="772"/>
                        </a:lnTo>
                        <a:lnTo>
                          <a:pt x="1376" y="781"/>
                        </a:lnTo>
                        <a:lnTo>
                          <a:pt x="1376" y="781"/>
                        </a:lnTo>
                        <a:lnTo>
                          <a:pt x="1341" y="790"/>
                        </a:lnTo>
                        <a:lnTo>
                          <a:pt x="1341" y="790"/>
                        </a:lnTo>
                        <a:lnTo>
                          <a:pt x="1341" y="790"/>
                        </a:lnTo>
                        <a:lnTo>
                          <a:pt x="1310" y="794"/>
                        </a:lnTo>
                        <a:lnTo>
                          <a:pt x="1310" y="794"/>
                        </a:lnTo>
                        <a:lnTo>
                          <a:pt x="1279" y="803"/>
                        </a:lnTo>
                        <a:lnTo>
                          <a:pt x="1279" y="803"/>
                        </a:lnTo>
                        <a:lnTo>
                          <a:pt x="1279" y="803"/>
                        </a:lnTo>
                        <a:lnTo>
                          <a:pt x="1244" y="803"/>
                        </a:lnTo>
                        <a:lnTo>
                          <a:pt x="1244" y="803"/>
                        </a:lnTo>
                        <a:lnTo>
                          <a:pt x="1212" y="812"/>
                        </a:lnTo>
                        <a:lnTo>
                          <a:pt x="1212" y="812"/>
                        </a:lnTo>
                        <a:lnTo>
                          <a:pt x="1212" y="812"/>
                        </a:lnTo>
                        <a:lnTo>
                          <a:pt x="1177" y="816"/>
                        </a:lnTo>
                        <a:lnTo>
                          <a:pt x="1177" y="816"/>
                        </a:lnTo>
                        <a:lnTo>
                          <a:pt x="1142" y="825"/>
                        </a:lnTo>
                        <a:lnTo>
                          <a:pt x="1142" y="825"/>
                        </a:lnTo>
                        <a:lnTo>
                          <a:pt x="1142" y="825"/>
                        </a:lnTo>
                        <a:lnTo>
                          <a:pt x="1111" y="830"/>
                        </a:lnTo>
                        <a:lnTo>
                          <a:pt x="1111" y="830"/>
                        </a:lnTo>
                        <a:lnTo>
                          <a:pt x="1075" y="834"/>
                        </a:lnTo>
                        <a:lnTo>
                          <a:pt x="1075" y="834"/>
                        </a:lnTo>
                        <a:lnTo>
                          <a:pt x="1040" y="838"/>
                        </a:lnTo>
                        <a:lnTo>
                          <a:pt x="1040" y="838"/>
                        </a:lnTo>
                        <a:lnTo>
                          <a:pt x="1040" y="838"/>
                        </a:lnTo>
                        <a:lnTo>
                          <a:pt x="1009" y="843"/>
                        </a:lnTo>
                        <a:lnTo>
                          <a:pt x="1009" y="843"/>
                        </a:lnTo>
                        <a:lnTo>
                          <a:pt x="970" y="852"/>
                        </a:lnTo>
                        <a:lnTo>
                          <a:pt x="970" y="852"/>
                        </a:lnTo>
                        <a:lnTo>
                          <a:pt x="970" y="852"/>
                        </a:lnTo>
                        <a:lnTo>
                          <a:pt x="939" y="852"/>
                        </a:lnTo>
                        <a:lnTo>
                          <a:pt x="939" y="852"/>
                        </a:lnTo>
                        <a:lnTo>
                          <a:pt x="899" y="856"/>
                        </a:lnTo>
                        <a:lnTo>
                          <a:pt x="899" y="856"/>
                        </a:lnTo>
                        <a:lnTo>
                          <a:pt x="899" y="856"/>
                        </a:lnTo>
                        <a:lnTo>
                          <a:pt x="864" y="860"/>
                        </a:lnTo>
                        <a:lnTo>
                          <a:pt x="864" y="860"/>
                        </a:lnTo>
                        <a:lnTo>
                          <a:pt x="829" y="865"/>
                        </a:lnTo>
                        <a:lnTo>
                          <a:pt x="829" y="865"/>
                        </a:lnTo>
                        <a:lnTo>
                          <a:pt x="829" y="865"/>
                        </a:lnTo>
                        <a:lnTo>
                          <a:pt x="798" y="865"/>
                        </a:lnTo>
                        <a:lnTo>
                          <a:pt x="798" y="865"/>
                        </a:lnTo>
                        <a:lnTo>
                          <a:pt x="758" y="869"/>
                        </a:lnTo>
                        <a:lnTo>
                          <a:pt x="758" y="869"/>
                        </a:lnTo>
                        <a:lnTo>
                          <a:pt x="758" y="869"/>
                        </a:lnTo>
                        <a:lnTo>
                          <a:pt x="723" y="874"/>
                        </a:lnTo>
                        <a:lnTo>
                          <a:pt x="723" y="874"/>
                        </a:lnTo>
                        <a:lnTo>
                          <a:pt x="687" y="874"/>
                        </a:lnTo>
                        <a:lnTo>
                          <a:pt x="687" y="874"/>
                        </a:lnTo>
                        <a:lnTo>
                          <a:pt x="687" y="874"/>
                        </a:lnTo>
                        <a:lnTo>
                          <a:pt x="652" y="878"/>
                        </a:lnTo>
                        <a:lnTo>
                          <a:pt x="652" y="878"/>
                        </a:lnTo>
                        <a:lnTo>
                          <a:pt x="612" y="878"/>
                        </a:lnTo>
                        <a:lnTo>
                          <a:pt x="612" y="878"/>
                        </a:lnTo>
                        <a:lnTo>
                          <a:pt x="612" y="878"/>
                        </a:lnTo>
                        <a:lnTo>
                          <a:pt x="582" y="878"/>
                        </a:lnTo>
                        <a:lnTo>
                          <a:pt x="582" y="878"/>
                        </a:lnTo>
                        <a:lnTo>
                          <a:pt x="542" y="882"/>
                        </a:lnTo>
                        <a:lnTo>
                          <a:pt x="542" y="882"/>
                        </a:lnTo>
                        <a:lnTo>
                          <a:pt x="542" y="882"/>
                        </a:lnTo>
                        <a:lnTo>
                          <a:pt x="507" y="882"/>
                        </a:lnTo>
                        <a:lnTo>
                          <a:pt x="507" y="882"/>
                        </a:lnTo>
                        <a:lnTo>
                          <a:pt x="467" y="887"/>
                        </a:lnTo>
                        <a:lnTo>
                          <a:pt x="467" y="887"/>
                        </a:lnTo>
                        <a:lnTo>
                          <a:pt x="467" y="887"/>
                        </a:lnTo>
                        <a:lnTo>
                          <a:pt x="432" y="887"/>
                        </a:lnTo>
                        <a:lnTo>
                          <a:pt x="432" y="887"/>
                        </a:lnTo>
                        <a:lnTo>
                          <a:pt x="396" y="887"/>
                        </a:lnTo>
                        <a:lnTo>
                          <a:pt x="396" y="887"/>
                        </a:lnTo>
                        <a:lnTo>
                          <a:pt x="396" y="887"/>
                        </a:lnTo>
                        <a:lnTo>
                          <a:pt x="361" y="887"/>
                        </a:lnTo>
                        <a:lnTo>
                          <a:pt x="361" y="887"/>
                        </a:lnTo>
                        <a:lnTo>
                          <a:pt x="321" y="887"/>
                        </a:lnTo>
                        <a:lnTo>
                          <a:pt x="321" y="887"/>
                        </a:lnTo>
                        <a:lnTo>
                          <a:pt x="291" y="882"/>
                        </a:lnTo>
                        <a:lnTo>
                          <a:pt x="291" y="882"/>
                        </a:lnTo>
                        <a:lnTo>
                          <a:pt x="291" y="882"/>
                        </a:lnTo>
                        <a:lnTo>
                          <a:pt x="251" y="882"/>
                        </a:lnTo>
                        <a:lnTo>
                          <a:pt x="251" y="882"/>
                        </a:lnTo>
                        <a:lnTo>
                          <a:pt x="216" y="878"/>
                        </a:lnTo>
                        <a:lnTo>
                          <a:pt x="216" y="878"/>
                        </a:lnTo>
                        <a:lnTo>
                          <a:pt x="216" y="878"/>
                        </a:lnTo>
                        <a:lnTo>
                          <a:pt x="180" y="878"/>
                        </a:lnTo>
                        <a:lnTo>
                          <a:pt x="180" y="878"/>
                        </a:lnTo>
                        <a:lnTo>
                          <a:pt x="145" y="878"/>
                        </a:lnTo>
                        <a:lnTo>
                          <a:pt x="145" y="878"/>
                        </a:lnTo>
                        <a:lnTo>
                          <a:pt x="145" y="878"/>
                        </a:lnTo>
                        <a:lnTo>
                          <a:pt x="105" y="874"/>
                        </a:lnTo>
                        <a:lnTo>
                          <a:pt x="105" y="874"/>
                        </a:lnTo>
                        <a:lnTo>
                          <a:pt x="70" y="874"/>
                        </a:lnTo>
                        <a:lnTo>
                          <a:pt x="70" y="874"/>
                        </a:lnTo>
                        <a:lnTo>
                          <a:pt x="70" y="874"/>
                        </a:lnTo>
                        <a:lnTo>
                          <a:pt x="35" y="869"/>
                        </a:lnTo>
                        <a:lnTo>
                          <a:pt x="35" y="869"/>
                        </a:lnTo>
                        <a:lnTo>
                          <a:pt x="0" y="865"/>
                        </a:lnTo>
                        <a:lnTo>
                          <a:pt x="0" y="865"/>
                        </a:lnTo>
                        <a:lnTo>
                          <a:pt x="0" y="1407"/>
                        </a:lnTo>
                        <a:lnTo>
                          <a:pt x="0" y="1407"/>
                        </a:lnTo>
                        <a:lnTo>
                          <a:pt x="35" y="1412"/>
                        </a:lnTo>
                        <a:lnTo>
                          <a:pt x="35" y="1412"/>
                        </a:lnTo>
                        <a:lnTo>
                          <a:pt x="70" y="1412"/>
                        </a:lnTo>
                        <a:lnTo>
                          <a:pt x="70" y="1412"/>
                        </a:lnTo>
                        <a:lnTo>
                          <a:pt x="70" y="1412"/>
                        </a:lnTo>
                        <a:lnTo>
                          <a:pt x="105" y="1412"/>
                        </a:lnTo>
                        <a:lnTo>
                          <a:pt x="105" y="1412"/>
                        </a:lnTo>
                        <a:lnTo>
                          <a:pt x="145" y="1416"/>
                        </a:lnTo>
                        <a:lnTo>
                          <a:pt x="145" y="1416"/>
                        </a:lnTo>
                        <a:lnTo>
                          <a:pt x="145" y="1416"/>
                        </a:lnTo>
                        <a:lnTo>
                          <a:pt x="180" y="1420"/>
                        </a:lnTo>
                        <a:lnTo>
                          <a:pt x="180" y="1420"/>
                        </a:lnTo>
                        <a:lnTo>
                          <a:pt x="216" y="1420"/>
                        </a:lnTo>
                        <a:lnTo>
                          <a:pt x="216" y="1420"/>
                        </a:lnTo>
                        <a:lnTo>
                          <a:pt x="216" y="1420"/>
                        </a:lnTo>
                        <a:lnTo>
                          <a:pt x="251" y="1420"/>
                        </a:lnTo>
                        <a:lnTo>
                          <a:pt x="251" y="1420"/>
                        </a:lnTo>
                        <a:lnTo>
                          <a:pt x="291" y="1420"/>
                        </a:lnTo>
                        <a:lnTo>
                          <a:pt x="291" y="1420"/>
                        </a:lnTo>
                        <a:lnTo>
                          <a:pt x="291" y="1420"/>
                        </a:lnTo>
                        <a:lnTo>
                          <a:pt x="321" y="1425"/>
                        </a:lnTo>
                        <a:lnTo>
                          <a:pt x="321" y="1425"/>
                        </a:lnTo>
                        <a:lnTo>
                          <a:pt x="361" y="1425"/>
                        </a:lnTo>
                        <a:lnTo>
                          <a:pt x="361" y="1425"/>
                        </a:lnTo>
                        <a:lnTo>
                          <a:pt x="396" y="1425"/>
                        </a:lnTo>
                        <a:lnTo>
                          <a:pt x="396" y="1425"/>
                        </a:lnTo>
                        <a:lnTo>
                          <a:pt x="396" y="1425"/>
                        </a:lnTo>
                        <a:lnTo>
                          <a:pt x="432" y="1425"/>
                        </a:lnTo>
                        <a:lnTo>
                          <a:pt x="432" y="1425"/>
                        </a:lnTo>
                        <a:lnTo>
                          <a:pt x="467" y="1425"/>
                        </a:lnTo>
                        <a:lnTo>
                          <a:pt x="467" y="1425"/>
                        </a:lnTo>
                        <a:lnTo>
                          <a:pt x="467" y="1425"/>
                        </a:lnTo>
                        <a:lnTo>
                          <a:pt x="507" y="1420"/>
                        </a:lnTo>
                        <a:lnTo>
                          <a:pt x="507" y="1420"/>
                        </a:lnTo>
                        <a:lnTo>
                          <a:pt x="542" y="1420"/>
                        </a:lnTo>
                        <a:lnTo>
                          <a:pt x="542" y="1420"/>
                        </a:lnTo>
                        <a:lnTo>
                          <a:pt x="542" y="1420"/>
                        </a:lnTo>
                        <a:lnTo>
                          <a:pt x="582" y="1420"/>
                        </a:lnTo>
                        <a:lnTo>
                          <a:pt x="582" y="1420"/>
                        </a:lnTo>
                        <a:lnTo>
                          <a:pt x="612" y="1420"/>
                        </a:lnTo>
                        <a:lnTo>
                          <a:pt x="612" y="1420"/>
                        </a:lnTo>
                        <a:lnTo>
                          <a:pt x="612" y="1420"/>
                        </a:lnTo>
                        <a:lnTo>
                          <a:pt x="652" y="1416"/>
                        </a:lnTo>
                        <a:lnTo>
                          <a:pt x="652" y="1416"/>
                        </a:lnTo>
                        <a:lnTo>
                          <a:pt x="687" y="1412"/>
                        </a:lnTo>
                        <a:lnTo>
                          <a:pt x="687" y="1412"/>
                        </a:lnTo>
                        <a:lnTo>
                          <a:pt x="687" y="1412"/>
                        </a:lnTo>
                        <a:lnTo>
                          <a:pt x="723" y="1412"/>
                        </a:lnTo>
                        <a:lnTo>
                          <a:pt x="723" y="1412"/>
                        </a:lnTo>
                        <a:lnTo>
                          <a:pt x="758" y="1412"/>
                        </a:lnTo>
                        <a:lnTo>
                          <a:pt x="758" y="1412"/>
                        </a:lnTo>
                        <a:lnTo>
                          <a:pt x="758" y="1412"/>
                        </a:lnTo>
                        <a:lnTo>
                          <a:pt x="798" y="1407"/>
                        </a:lnTo>
                        <a:lnTo>
                          <a:pt x="798" y="1407"/>
                        </a:lnTo>
                        <a:lnTo>
                          <a:pt x="829" y="1403"/>
                        </a:lnTo>
                        <a:lnTo>
                          <a:pt x="829" y="1403"/>
                        </a:lnTo>
                        <a:lnTo>
                          <a:pt x="829" y="1403"/>
                        </a:lnTo>
                        <a:lnTo>
                          <a:pt x="864" y="1398"/>
                        </a:lnTo>
                        <a:lnTo>
                          <a:pt x="864" y="1398"/>
                        </a:lnTo>
                        <a:lnTo>
                          <a:pt x="899" y="1398"/>
                        </a:lnTo>
                        <a:lnTo>
                          <a:pt x="899" y="1398"/>
                        </a:lnTo>
                        <a:lnTo>
                          <a:pt x="899" y="1398"/>
                        </a:lnTo>
                        <a:lnTo>
                          <a:pt x="939" y="1394"/>
                        </a:lnTo>
                        <a:lnTo>
                          <a:pt x="939" y="1394"/>
                        </a:lnTo>
                        <a:lnTo>
                          <a:pt x="970" y="1390"/>
                        </a:lnTo>
                        <a:lnTo>
                          <a:pt x="970" y="1390"/>
                        </a:lnTo>
                        <a:lnTo>
                          <a:pt x="970" y="1390"/>
                        </a:lnTo>
                        <a:lnTo>
                          <a:pt x="1009" y="1385"/>
                        </a:lnTo>
                        <a:lnTo>
                          <a:pt x="1009" y="1385"/>
                        </a:lnTo>
                        <a:lnTo>
                          <a:pt x="1040" y="1381"/>
                        </a:lnTo>
                        <a:lnTo>
                          <a:pt x="1040" y="1381"/>
                        </a:lnTo>
                        <a:lnTo>
                          <a:pt x="1040" y="1381"/>
                        </a:lnTo>
                        <a:lnTo>
                          <a:pt x="1075" y="1372"/>
                        </a:lnTo>
                        <a:lnTo>
                          <a:pt x="1075" y="1372"/>
                        </a:lnTo>
                        <a:lnTo>
                          <a:pt x="1111" y="1368"/>
                        </a:lnTo>
                        <a:lnTo>
                          <a:pt x="1111" y="1368"/>
                        </a:lnTo>
                        <a:lnTo>
                          <a:pt x="1142" y="1363"/>
                        </a:lnTo>
                        <a:lnTo>
                          <a:pt x="1142" y="1363"/>
                        </a:lnTo>
                        <a:lnTo>
                          <a:pt x="1142" y="1363"/>
                        </a:lnTo>
                        <a:lnTo>
                          <a:pt x="1177" y="1359"/>
                        </a:lnTo>
                        <a:lnTo>
                          <a:pt x="1177" y="1359"/>
                        </a:lnTo>
                        <a:lnTo>
                          <a:pt x="1212" y="1354"/>
                        </a:lnTo>
                        <a:lnTo>
                          <a:pt x="1212" y="1354"/>
                        </a:lnTo>
                        <a:lnTo>
                          <a:pt x="1212" y="1354"/>
                        </a:lnTo>
                        <a:lnTo>
                          <a:pt x="1244" y="1345"/>
                        </a:lnTo>
                        <a:lnTo>
                          <a:pt x="1244" y="1345"/>
                        </a:lnTo>
                        <a:lnTo>
                          <a:pt x="1279" y="1341"/>
                        </a:lnTo>
                        <a:lnTo>
                          <a:pt x="1279" y="1341"/>
                        </a:lnTo>
                        <a:lnTo>
                          <a:pt x="1279" y="1341"/>
                        </a:lnTo>
                        <a:lnTo>
                          <a:pt x="1310" y="1332"/>
                        </a:lnTo>
                        <a:lnTo>
                          <a:pt x="1310" y="1332"/>
                        </a:lnTo>
                        <a:lnTo>
                          <a:pt x="1341" y="1328"/>
                        </a:lnTo>
                        <a:lnTo>
                          <a:pt x="1341" y="1328"/>
                        </a:lnTo>
                        <a:lnTo>
                          <a:pt x="1341" y="1328"/>
                        </a:lnTo>
                        <a:lnTo>
                          <a:pt x="1376" y="1319"/>
                        </a:lnTo>
                        <a:lnTo>
                          <a:pt x="1376" y="1319"/>
                        </a:lnTo>
                        <a:lnTo>
                          <a:pt x="1407" y="1310"/>
                        </a:lnTo>
                        <a:lnTo>
                          <a:pt x="1407" y="1310"/>
                        </a:lnTo>
                        <a:lnTo>
                          <a:pt x="1407" y="1310"/>
                        </a:lnTo>
                        <a:lnTo>
                          <a:pt x="1438" y="1306"/>
                        </a:lnTo>
                        <a:lnTo>
                          <a:pt x="1438" y="1306"/>
                        </a:lnTo>
                        <a:lnTo>
                          <a:pt x="1469" y="1297"/>
                        </a:lnTo>
                        <a:lnTo>
                          <a:pt x="1469" y="1297"/>
                        </a:lnTo>
                        <a:lnTo>
                          <a:pt x="1469" y="1297"/>
                        </a:lnTo>
                        <a:lnTo>
                          <a:pt x="1504" y="1288"/>
                        </a:lnTo>
                        <a:lnTo>
                          <a:pt x="1504" y="1288"/>
                        </a:lnTo>
                        <a:lnTo>
                          <a:pt x="1531" y="1279"/>
                        </a:lnTo>
                        <a:lnTo>
                          <a:pt x="1531" y="1279"/>
                        </a:lnTo>
                        <a:lnTo>
                          <a:pt x="1531" y="1279"/>
                        </a:lnTo>
                        <a:lnTo>
                          <a:pt x="1562" y="1271"/>
                        </a:lnTo>
                        <a:lnTo>
                          <a:pt x="1562" y="1271"/>
                        </a:lnTo>
                        <a:lnTo>
                          <a:pt x="1592" y="1266"/>
                        </a:lnTo>
                        <a:lnTo>
                          <a:pt x="1592" y="1266"/>
                        </a:lnTo>
                        <a:lnTo>
                          <a:pt x="1592" y="1266"/>
                        </a:lnTo>
                        <a:lnTo>
                          <a:pt x="1619" y="1257"/>
                        </a:lnTo>
                        <a:lnTo>
                          <a:pt x="1619" y="1257"/>
                        </a:lnTo>
                        <a:lnTo>
                          <a:pt x="1650" y="1244"/>
                        </a:lnTo>
                        <a:lnTo>
                          <a:pt x="1650" y="1244"/>
                        </a:lnTo>
                        <a:lnTo>
                          <a:pt x="1650" y="1244"/>
                        </a:lnTo>
                        <a:lnTo>
                          <a:pt x="1681" y="1235"/>
                        </a:lnTo>
                        <a:lnTo>
                          <a:pt x="1681" y="1235"/>
                        </a:lnTo>
                        <a:lnTo>
                          <a:pt x="1707" y="1226"/>
                        </a:lnTo>
                        <a:lnTo>
                          <a:pt x="1707" y="1226"/>
                        </a:lnTo>
                        <a:lnTo>
                          <a:pt x="1707" y="1226"/>
                        </a:lnTo>
                        <a:lnTo>
                          <a:pt x="1734" y="1218"/>
                        </a:lnTo>
                        <a:lnTo>
                          <a:pt x="1734" y="1218"/>
                        </a:lnTo>
                        <a:lnTo>
                          <a:pt x="1764" y="1204"/>
                        </a:lnTo>
                        <a:lnTo>
                          <a:pt x="1764" y="1204"/>
                        </a:lnTo>
                        <a:lnTo>
                          <a:pt x="1786" y="1196"/>
                        </a:lnTo>
                        <a:lnTo>
                          <a:pt x="1786" y="1196"/>
                        </a:lnTo>
                        <a:lnTo>
                          <a:pt x="1786" y="1196"/>
                        </a:lnTo>
                        <a:lnTo>
                          <a:pt x="1817" y="1187"/>
                        </a:lnTo>
                        <a:lnTo>
                          <a:pt x="1817" y="1187"/>
                        </a:lnTo>
                        <a:lnTo>
                          <a:pt x="1844" y="1178"/>
                        </a:lnTo>
                        <a:lnTo>
                          <a:pt x="1844" y="1178"/>
                        </a:lnTo>
                        <a:lnTo>
                          <a:pt x="1844" y="1178"/>
                        </a:lnTo>
                        <a:lnTo>
                          <a:pt x="1870" y="1165"/>
                        </a:lnTo>
                        <a:lnTo>
                          <a:pt x="1870" y="1165"/>
                        </a:lnTo>
                        <a:lnTo>
                          <a:pt x="1897" y="1151"/>
                        </a:lnTo>
                        <a:lnTo>
                          <a:pt x="1897" y="1151"/>
                        </a:lnTo>
                        <a:lnTo>
                          <a:pt x="1897" y="1151"/>
                        </a:lnTo>
                        <a:lnTo>
                          <a:pt x="1923" y="1143"/>
                        </a:lnTo>
                        <a:lnTo>
                          <a:pt x="1923" y="1143"/>
                        </a:lnTo>
                        <a:lnTo>
                          <a:pt x="1945" y="1129"/>
                        </a:lnTo>
                        <a:lnTo>
                          <a:pt x="1945" y="1129"/>
                        </a:lnTo>
                        <a:lnTo>
                          <a:pt x="1945" y="1129"/>
                        </a:lnTo>
                        <a:lnTo>
                          <a:pt x="1967" y="1121"/>
                        </a:lnTo>
                        <a:lnTo>
                          <a:pt x="1967" y="1121"/>
                        </a:lnTo>
                        <a:lnTo>
                          <a:pt x="1994" y="1107"/>
                        </a:lnTo>
                        <a:lnTo>
                          <a:pt x="1994" y="1107"/>
                        </a:lnTo>
                        <a:lnTo>
                          <a:pt x="1994" y="1107"/>
                        </a:lnTo>
                        <a:lnTo>
                          <a:pt x="2016" y="1094"/>
                        </a:lnTo>
                        <a:lnTo>
                          <a:pt x="2016" y="1094"/>
                        </a:lnTo>
                        <a:lnTo>
                          <a:pt x="2038" y="1081"/>
                        </a:lnTo>
                        <a:lnTo>
                          <a:pt x="2038" y="1081"/>
                        </a:lnTo>
                        <a:lnTo>
                          <a:pt x="2038" y="1081"/>
                        </a:lnTo>
                        <a:lnTo>
                          <a:pt x="2060" y="1072"/>
                        </a:lnTo>
                        <a:lnTo>
                          <a:pt x="2060" y="1072"/>
                        </a:lnTo>
                        <a:lnTo>
                          <a:pt x="2077" y="1059"/>
                        </a:lnTo>
                        <a:lnTo>
                          <a:pt x="2077" y="1059"/>
                        </a:lnTo>
                        <a:lnTo>
                          <a:pt x="2077" y="1059"/>
                        </a:lnTo>
                        <a:lnTo>
                          <a:pt x="2104" y="1046"/>
                        </a:lnTo>
                        <a:lnTo>
                          <a:pt x="2104" y="1046"/>
                        </a:lnTo>
                        <a:lnTo>
                          <a:pt x="2126" y="1032"/>
                        </a:lnTo>
                        <a:lnTo>
                          <a:pt x="2126" y="1032"/>
                        </a:lnTo>
                        <a:lnTo>
                          <a:pt x="2126" y="1032"/>
                        </a:lnTo>
                        <a:lnTo>
                          <a:pt x="2139" y="1019"/>
                        </a:lnTo>
                        <a:lnTo>
                          <a:pt x="2139" y="1019"/>
                        </a:lnTo>
                        <a:lnTo>
                          <a:pt x="2161" y="1006"/>
                        </a:lnTo>
                        <a:lnTo>
                          <a:pt x="2161" y="1006"/>
                        </a:lnTo>
                        <a:lnTo>
                          <a:pt x="2161" y="1006"/>
                        </a:lnTo>
                        <a:lnTo>
                          <a:pt x="2183" y="993"/>
                        </a:lnTo>
                        <a:lnTo>
                          <a:pt x="2183" y="993"/>
                        </a:lnTo>
                        <a:lnTo>
                          <a:pt x="2201" y="979"/>
                        </a:lnTo>
                        <a:lnTo>
                          <a:pt x="2201" y="979"/>
                        </a:lnTo>
                        <a:lnTo>
                          <a:pt x="2214" y="966"/>
                        </a:lnTo>
                        <a:lnTo>
                          <a:pt x="2214" y="966"/>
                        </a:lnTo>
                        <a:lnTo>
                          <a:pt x="2214" y="966"/>
                        </a:lnTo>
                        <a:lnTo>
                          <a:pt x="2236" y="957"/>
                        </a:lnTo>
                        <a:lnTo>
                          <a:pt x="2236" y="957"/>
                        </a:lnTo>
                        <a:lnTo>
                          <a:pt x="2254" y="940"/>
                        </a:lnTo>
                        <a:lnTo>
                          <a:pt x="2254" y="940"/>
                        </a:lnTo>
                        <a:lnTo>
                          <a:pt x="2254" y="940"/>
                        </a:lnTo>
                        <a:lnTo>
                          <a:pt x="2267" y="927"/>
                        </a:lnTo>
                        <a:lnTo>
                          <a:pt x="2267" y="927"/>
                        </a:lnTo>
                        <a:lnTo>
                          <a:pt x="2285" y="913"/>
                        </a:lnTo>
                        <a:lnTo>
                          <a:pt x="2285" y="913"/>
                        </a:lnTo>
                        <a:lnTo>
                          <a:pt x="2285" y="913"/>
                        </a:lnTo>
                        <a:lnTo>
                          <a:pt x="2298" y="900"/>
                        </a:lnTo>
                        <a:lnTo>
                          <a:pt x="2298" y="900"/>
                        </a:lnTo>
                        <a:lnTo>
                          <a:pt x="2311" y="887"/>
                        </a:lnTo>
                        <a:lnTo>
                          <a:pt x="2311" y="887"/>
                        </a:lnTo>
                        <a:lnTo>
                          <a:pt x="2311" y="887"/>
                        </a:lnTo>
                        <a:lnTo>
                          <a:pt x="2329" y="869"/>
                        </a:lnTo>
                        <a:lnTo>
                          <a:pt x="2329" y="869"/>
                        </a:lnTo>
                        <a:lnTo>
                          <a:pt x="2342" y="856"/>
                        </a:lnTo>
                        <a:lnTo>
                          <a:pt x="2342" y="856"/>
                        </a:lnTo>
                        <a:lnTo>
                          <a:pt x="2342" y="856"/>
                        </a:lnTo>
                        <a:lnTo>
                          <a:pt x="2355" y="843"/>
                        </a:lnTo>
                        <a:lnTo>
                          <a:pt x="2355" y="843"/>
                        </a:lnTo>
                        <a:lnTo>
                          <a:pt x="2364" y="825"/>
                        </a:lnTo>
                        <a:lnTo>
                          <a:pt x="2364" y="825"/>
                        </a:lnTo>
                        <a:lnTo>
                          <a:pt x="2364" y="825"/>
                        </a:lnTo>
                        <a:lnTo>
                          <a:pt x="2377" y="812"/>
                        </a:lnTo>
                        <a:lnTo>
                          <a:pt x="2377" y="812"/>
                        </a:lnTo>
                        <a:lnTo>
                          <a:pt x="2386" y="799"/>
                        </a:lnTo>
                        <a:lnTo>
                          <a:pt x="2386" y="799"/>
                        </a:lnTo>
                        <a:lnTo>
                          <a:pt x="2386" y="799"/>
                        </a:lnTo>
                        <a:lnTo>
                          <a:pt x="2399" y="785"/>
                        </a:lnTo>
                        <a:lnTo>
                          <a:pt x="2399" y="785"/>
                        </a:lnTo>
                        <a:lnTo>
                          <a:pt x="2408" y="768"/>
                        </a:lnTo>
                        <a:lnTo>
                          <a:pt x="2408" y="768"/>
                        </a:lnTo>
                        <a:lnTo>
                          <a:pt x="2408" y="768"/>
                        </a:lnTo>
                        <a:lnTo>
                          <a:pt x="2417" y="755"/>
                        </a:lnTo>
                        <a:lnTo>
                          <a:pt x="2417" y="755"/>
                        </a:lnTo>
                        <a:lnTo>
                          <a:pt x="2426" y="737"/>
                        </a:lnTo>
                        <a:lnTo>
                          <a:pt x="2426" y="737"/>
                        </a:lnTo>
                        <a:lnTo>
                          <a:pt x="2426" y="737"/>
                        </a:lnTo>
                        <a:lnTo>
                          <a:pt x="2430" y="724"/>
                        </a:lnTo>
                        <a:lnTo>
                          <a:pt x="2430" y="724"/>
                        </a:lnTo>
                        <a:lnTo>
                          <a:pt x="2439" y="709"/>
                        </a:lnTo>
                        <a:lnTo>
                          <a:pt x="2439" y="709"/>
                        </a:lnTo>
                        <a:lnTo>
                          <a:pt x="2439" y="709"/>
                        </a:lnTo>
                        <a:lnTo>
                          <a:pt x="2443" y="696"/>
                        </a:lnTo>
                        <a:lnTo>
                          <a:pt x="2443" y="696"/>
                        </a:lnTo>
                        <a:lnTo>
                          <a:pt x="2452" y="679"/>
                        </a:lnTo>
                        <a:lnTo>
                          <a:pt x="2452" y="679"/>
                        </a:lnTo>
                        <a:lnTo>
                          <a:pt x="2461" y="661"/>
                        </a:lnTo>
                        <a:lnTo>
                          <a:pt x="2461" y="661"/>
                        </a:lnTo>
                        <a:lnTo>
                          <a:pt x="2461" y="661"/>
                        </a:lnTo>
                        <a:lnTo>
                          <a:pt x="2466" y="648"/>
                        </a:lnTo>
                        <a:lnTo>
                          <a:pt x="2466" y="648"/>
                        </a:lnTo>
                        <a:lnTo>
                          <a:pt x="2466" y="635"/>
                        </a:lnTo>
                        <a:lnTo>
                          <a:pt x="2466" y="635"/>
                        </a:lnTo>
                        <a:lnTo>
                          <a:pt x="2466" y="635"/>
                        </a:lnTo>
                        <a:lnTo>
                          <a:pt x="2474" y="617"/>
                        </a:lnTo>
                        <a:lnTo>
                          <a:pt x="2474" y="617"/>
                        </a:lnTo>
                        <a:lnTo>
                          <a:pt x="2474" y="599"/>
                        </a:lnTo>
                        <a:lnTo>
                          <a:pt x="2474" y="599"/>
                        </a:lnTo>
                        <a:lnTo>
                          <a:pt x="2474" y="599"/>
                        </a:lnTo>
                        <a:lnTo>
                          <a:pt x="2479" y="586"/>
                        </a:lnTo>
                        <a:lnTo>
                          <a:pt x="2479" y="586"/>
                        </a:lnTo>
                        <a:lnTo>
                          <a:pt x="2479" y="568"/>
                        </a:lnTo>
                        <a:lnTo>
                          <a:pt x="2479" y="568"/>
                        </a:lnTo>
                        <a:lnTo>
                          <a:pt x="2479" y="568"/>
                        </a:lnTo>
                        <a:lnTo>
                          <a:pt x="2479" y="555"/>
                        </a:lnTo>
                        <a:lnTo>
                          <a:pt x="2479" y="555"/>
                        </a:lnTo>
                        <a:lnTo>
                          <a:pt x="2479" y="537"/>
                        </a:lnTo>
                        <a:lnTo>
                          <a:pt x="2479" y="537"/>
                        </a:lnTo>
                        <a:lnTo>
                          <a:pt x="2479" y="0"/>
                        </a:lnTo>
                        <a:close/>
                      </a:path>
                    </a:pathLst>
                  </a:custGeom>
                  <a:solidFill>
                    <a:srgbClr val="007f7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1020600" y="4915080"/>
                    <a:ext cx="776520" cy="317880"/>
                  </a:xfrm>
                  <a:custGeom>
                    <a:avLst/>
                    <a:gdLst/>
                    <a:ahLst/>
                    <a:rect l="0" t="0" r="r" b="b"/>
                    <a:pathLst>
                      <a:path w="2157" h="883">
                        <a:moveTo>
                          <a:pt x="0" y="653"/>
                        </a:moveTo>
                        <a:lnTo>
                          <a:pt x="0" y="653"/>
                        </a:lnTo>
                        <a:lnTo>
                          <a:pt x="8" y="640"/>
                        </a:lnTo>
                        <a:lnTo>
                          <a:pt x="8" y="640"/>
                        </a:lnTo>
                        <a:lnTo>
                          <a:pt x="8" y="640"/>
                        </a:lnTo>
                        <a:lnTo>
                          <a:pt x="17" y="622"/>
                        </a:lnTo>
                        <a:lnTo>
                          <a:pt x="17" y="622"/>
                        </a:lnTo>
                        <a:lnTo>
                          <a:pt x="17" y="622"/>
                        </a:lnTo>
                        <a:lnTo>
                          <a:pt x="30" y="609"/>
                        </a:lnTo>
                        <a:lnTo>
                          <a:pt x="30" y="609"/>
                        </a:lnTo>
                        <a:lnTo>
                          <a:pt x="30" y="609"/>
                        </a:lnTo>
                        <a:lnTo>
                          <a:pt x="44" y="596"/>
                        </a:lnTo>
                        <a:lnTo>
                          <a:pt x="44" y="596"/>
                        </a:lnTo>
                        <a:lnTo>
                          <a:pt x="44" y="596"/>
                        </a:lnTo>
                        <a:lnTo>
                          <a:pt x="57" y="578"/>
                        </a:lnTo>
                        <a:lnTo>
                          <a:pt x="57" y="578"/>
                        </a:lnTo>
                        <a:lnTo>
                          <a:pt x="57" y="578"/>
                        </a:lnTo>
                        <a:lnTo>
                          <a:pt x="66" y="565"/>
                        </a:lnTo>
                        <a:lnTo>
                          <a:pt x="66" y="565"/>
                        </a:lnTo>
                        <a:lnTo>
                          <a:pt x="66" y="565"/>
                        </a:lnTo>
                        <a:lnTo>
                          <a:pt x="79" y="552"/>
                        </a:lnTo>
                        <a:lnTo>
                          <a:pt x="79" y="552"/>
                        </a:lnTo>
                        <a:lnTo>
                          <a:pt x="79" y="552"/>
                        </a:lnTo>
                        <a:lnTo>
                          <a:pt x="92" y="538"/>
                        </a:lnTo>
                        <a:lnTo>
                          <a:pt x="92" y="538"/>
                        </a:lnTo>
                        <a:lnTo>
                          <a:pt x="92" y="538"/>
                        </a:lnTo>
                        <a:lnTo>
                          <a:pt x="110" y="521"/>
                        </a:lnTo>
                        <a:lnTo>
                          <a:pt x="110" y="521"/>
                        </a:lnTo>
                        <a:lnTo>
                          <a:pt x="110" y="521"/>
                        </a:lnTo>
                        <a:lnTo>
                          <a:pt x="123" y="512"/>
                        </a:lnTo>
                        <a:lnTo>
                          <a:pt x="123" y="512"/>
                        </a:lnTo>
                        <a:lnTo>
                          <a:pt x="123" y="512"/>
                        </a:lnTo>
                        <a:lnTo>
                          <a:pt x="141" y="499"/>
                        </a:lnTo>
                        <a:lnTo>
                          <a:pt x="141" y="499"/>
                        </a:lnTo>
                        <a:lnTo>
                          <a:pt x="141" y="499"/>
                        </a:lnTo>
                        <a:lnTo>
                          <a:pt x="154" y="481"/>
                        </a:lnTo>
                        <a:lnTo>
                          <a:pt x="154" y="481"/>
                        </a:lnTo>
                        <a:lnTo>
                          <a:pt x="154" y="481"/>
                        </a:lnTo>
                        <a:lnTo>
                          <a:pt x="171" y="468"/>
                        </a:lnTo>
                        <a:lnTo>
                          <a:pt x="171" y="468"/>
                        </a:lnTo>
                        <a:lnTo>
                          <a:pt x="171" y="468"/>
                        </a:lnTo>
                        <a:lnTo>
                          <a:pt x="189" y="455"/>
                        </a:lnTo>
                        <a:lnTo>
                          <a:pt x="189" y="455"/>
                        </a:lnTo>
                        <a:lnTo>
                          <a:pt x="189" y="455"/>
                        </a:lnTo>
                        <a:lnTo>
                          <a:pt x="207" y="437"/>
                        </a:lnTo>
                        <a:lnTo>
                          <a:pt x="207" y="437"/>
                        </a:lnTo>
                        <a:lnTo>
                          <a:pt x="207" y="437"/>
                        </a:lnTo>
                        <a:lnTo>
                          <a:pt x="224" y="428"/>
                        </a:lnTo>
                        <a:lnTo>
                          <a:pt x="224" y="428"/>
                        </a:lnTo>
                        <a:lnTo>
                          <a:pt x="224" y="428"/>
                        </a:lnTo>
                        <a:lnTo>
                          <a:pt x="246" y="415"/>
                        </a:lnTo>
                        <a:lnTo>
                          <a:pt x="246" y="415"/>
                        </a:lnTo>
                        <a:lnTo>
                          <a:pt x="246" y="415"/>
                        </a:lnTo>
                        <a:lnTo>
                          <a:pt x="264" y="402"/>
                        </a:lnTo>
                        <a:lnTo>
                          <a:pt x="264" y="402"/>
                        </a:lnTo>
                        <a:lnTo>
                          <a:pt x="264" y="402"/>
                        </a:lnTo>
                        <a:lnTo>
                          <a:pt x="282" y="389"/>
                        </a:lnTo>
                        <a:lnTo>
                          <a:pt x="282" y="389"/>
                        </a:lnTo>
                        <a:lnTo>
                          <a:pt x="282" y="389"/>
                        </a:lnTo>
                        <a:lnTo>
                          <a:pt x="304" y="375"/>
                        </a:lnTo>
                        <a:lnTo>
                          <a:pt x="304" y="375"/>
                        </a:lnTo>
                        <a:lnTo>
                          <a:pt x="304" y="375"/>
                        </a:lnTo>
                        <a:lnTo>
                          <a:pt x="326" y="362"/>
                        </a:lnTo>
                        <a:lnTo>
                          <a:pt x="326" y="362"/>
                        </a:lnTo>
                        <a:lnTo>
                          <a:pt x="326" y="362"/>
                        </a:lnTo>
                        <a:lnTo>
                          <a:pt x="348" y="353"/>
                        </a:lnTo>
                        <a:lnTo>
                          <a:pt x="348" y="353"/>
                        </a:lnTo>
                        <a:lnTo>
                          <a:pt x="348" y="353"/>
                        </a:lnTo>
                        <a:lnTo>
                          <a:pt x="370" y="340"/>
                        </a:lnTo>
                        <a:lnTo>
                          <a:pt x="370" y="340"/>
                        </a:lnTo>
                        <a:lnTo>
                          <a:pt x="370" y="340"/>
                        </a:lnTo>
                        <a:lnTo>
                          <a:pt x="392" y="327"/>
                        </a:lnTo>
                        <a:lnTo>
                          <a:pt x="392" y="327"/>
                        </a:lnTo>
                        <a:lnTo>
                          <a:pt x="392" y="327"/>
                        </a:lnTo>
                        <a:lnTo>
                          <a:pt x="414" y="318"/>
                        </a:lnTo>
                        <a:lnTo>
                          <a:pt x="414" y="318"/>
                        </a:lnTo>
                        <a:lnTo>
                          <a:pt x="414" y="318"/>
                        </a:lnTo>
                        <a:lnTo>
                          <a:pt x="440" y="300"/>
                        </a:lnTo>
                        <a:lnTo>
                          <a:pt x="440" y="300"/>
                        </a:lnTo>
                        <a:lnTo>
                          <a:pt x="440" y="300"/>
                        </a:lnTo>
                        <a:lnTo>
                          <a:pt x="463" y="292"/>
                        </a:lnTo>
                        <a:lnTo>
                          <a:pt x="463" y="292"/>
                        </a:lnTo>
                        <a:lnTo>
                          <a:pt x="463" y="292"/>
                        </a:lnTo>
                        <a:lnTo>
                          <a:pt x="489" y="283"/>
                        </a:lnTo>
                        <a:lnTo>
                          <a:pt x="489" y="283"/>
                        </a:lnTo>
                        <a:lnTo>
                          <a:pt x="489" y="283"/>
                        </a:lnTo>
                        <a:lnTo>
                          <a:pt x="515" y="269"/>
                        </a:lnTo>
                        <a:lnTo>
                          <a:pt x="515" y="269"/>
                        </a:lnTo>
                        <a:lnTo>
                          <a:pt x="515" y="269"/>
                        </a:lnTo>
                        <a:lnTo>
                          <a:pt x="542" y="261"/>
                        </a:lnTo>
                        <a:lnTo>
                          <a:pt x="542" y="261"/>
                        </a:lnTo>
                        <a:lnTo>
                          <a:pt x="542" y="261"/>
                        </a:lnTo>
                        <a:lnTo>
                          <a:pt x="564" y="247"/>
                        </a:lnTo>
                        <a:lnTo>
                          <a:pt x="564" y="247"/>
                        </a:lnTo>
                        <a:lnTo>
                          <a:pt x="564" y="247"/>
                        </a:lnTo>
                        <a:lnTo>
                          <a:pt x="590" y="234"/>
                        </a:lnTo>
                        <a:lnTo>
                          <a:pt x="590" y="234"/>
                        </a:lnTo>
                        <a:lnTo>
                          <a:pt x="590" y="234"/>
                        </a:lnTo>
                        <a:lnTo>
                          <a:pt x="617" y="225"/>
                        </a:lnTo>
                        <a:lnTo>
                          <a:pt x="617" y="225"/>
                        </a:lnTo>
                        <a:lnTo>
                          <a:pt x="617" y="225"/>
                        </a:lnTo>
                        <a:lnTo>
                          <a:pt x="643" y="216"/>
                        </a:lnTo>
                        <a:lnTo>
                          <a:pt x="643" y="216"/>
                        </a:lnTo>
                        <a:lnTo>
                          <a:pt x="643" y="216"/>
                        </a:lnTo>
                        <a:lnTo>
                          <a:pt x="674" y="207"/>
                        </a:lnTo>
                        <a:lnTo>
                          <a:pt x="674" y="207"/>
                        </a:lnTo>
                        <a:lnTo>
                          <a:pt x="674" y="207"/>
                        </a:lnTo>
                        <a:lnTo>
                          <a:pt x="696" y="198"/>
                        </a:lnTo>
                        <a:lnTo>
                          <a:pt x="696" y="198"/>
                        </a:lnTo>
                        <a:lnTo>
                          <a:pt x="696" y="198"/>
                        </a:lnTo>
                        <a:lnTo>
                          <a:pt x="727" y="185"/>
                        </a:lnTo>
                        <a:lnTo>
                          <a:pt x="727" y="185"/>
                        </a:lnTo>
                        <a:lnTo>
                          <a:pt x="727" y="185"/>
                        </a:lnTo>
                        <a:lnTo>
                          <a:pt x="758" y="180"/>
                        </a:lnTo>
                        <a:lnTo>
                          <a:pt x="758" y="180"/>
                        </a:lnTo>
                        <a:lnTo>
                          <a:pt x="758" y="180"/>
                        </a:lnTo>
                        <a:lnTo>
                          <a:pt x="784" y="167"/>
                        </a:lnTo>
                        <a:lnTo>
                          <a:pt x="784" y="167"/>
                        </a:lnTo>
                        <a:lnTo>
                          <a:pt x="784" y="167"/>
                        </a:lnTo>
                        <a:lnTo>
                          <a:pt x="820" y="158"/>
                        </a:lnTo>
                        <a:lnTo>
                          <a:pt x="820" y="158"/>
                        </a:lnTo>
                        <a:lnTo>
                          <a:pt x="820" y="158"/>
                        </a:lnTo>
                        <a:lnTo>
                          <a:pt x="846" y="149"/>
                        </a:lnTo>
                        <a:lnTo>
                          <a:pt x="846" y="149"/>
                        </a:lnTo>
                        <a:lnTo>
                          <a:pt x="846" y="149"/>
                        </a:lnTo>
                        <a:lnTo>
                          <a:pt x="877" y="141"/>
                        </a:lnTo>
                        <a:lnTo>
                          <a:pt x="877" y="141"/>
                        </a:lnTo>
                        <a:lnTo>
                          <a:pt x="877" y="141"/>
                        </a:lnTo>
                        <a:lnTo>
                          <a:pt x="908" y="132"/>
                        </a:lnTo>
                        <a:lnTo>
                          <a:pt x="908" y="132"/>
                        </a:lnTo>
                        <a:lnTo>
                          <a:pt x="908" y="132"/>
                        </a:lnTo>
                        <a:lnTo>
                          <a:pt x="939" y="127"/>
                        </a:lnTo>
                        <a:lnTo>
                          <a:pt x="939" y="127"/>
                        </a:lnTo>
                        <a:lnTo>
                          <a:pt x="939" y="127"/>
                        </a:lnTo>
                        <a:lnTo>
                          <a:pt x="970" y="119"/>
                        </a:lnTo>
                        <a:lnTo>
                          <a:pt x="970" y="119"/>
                        </a:lnTo>
                        <a:lnTo>
                          <a:pt x="970" y="119"/>
                        </a:lnTo>
                        <a:lnTo>
                          <a:pt x="1001" y="110"/>
                        </a:lnTo>
                        <a:lnTo>
                          <a:pt x="1001" y="110"/>
                        </a:lnTo>
                        <a:lnTo>
                          <a:pt x="1001" y="110"/>
                        </a:lnTo>
                        <a:lnTo>
                          <a:pt x="1036" y="105"/>
                        </a:lnTo>
                        <a:lnTo>
                          <a:pt x="1036" y="105"/>
                        </a:lnTo>
                        <a:lnTo>
                          <a:pt x="1036" y="105"/>
                        </a:lnTo>
                        <a:lnTo>
                          <a:pt x="1062" y="97"/>
                        </a:lnTo>
                        <a:lnTo>
                          <a:pt x="1062" y="97"/>
                        </a:lnTo>
                        <a:lnTo>
                          <a:pt x="1062" y="97"/>
                        </a:lnTo>
                        <a:lnTo>
                          <a:pt x="1099" y="88"/>
                        </a:lnTo>
                        <a:lnTo>
                          <a:pt x="1099" y="88"/>
                        </a:lnTo>
                        <a:lnTo>
                          <a:pt x="1099" y="88"/>
                        </a:lnTo>
                        <a:lnTo>
                          <a:pt x="1134" y="83"/>
                        </a:lnTo>
                        <a:lnTo>
                          <a:pt x="1134" y="83"/>
                        </a:lnTo>
                        <a:lnTo>
                          <a:pt x="1134" y="83"/>
                        </a:lnTo>
                        <a:lnTo>
                          <a:pt x="1165" y="74"/>
                        </a:lnTo>
                        <a:lnTo>
                          <a:pt x="1165" y="74"/>
                        </a:lnTo>
                        <a:lnTo>
                          <a:pt x="1165" y="74"/>
                        </a:lnTo>
                        <a:lnTo>
                          <a:pt x="1196" y="70"/>
                        </a:lnTo>
                        <a:lnTo>
                          <a:pt x="1196" y="70"/>
                        </a:lnTo>
                        <a:lnTo>
                          <a:pt x="1196" y="70"/>
                        </a:lnTo>
                        <a:lnTo>
                          <a:pt x="1231" y="66"/>
                        </a:lnTo>
                        <a:lnTo>
                          <a:pt x="1231" y="66"/>
                        </a:lnTo>
                        <a:lnTo>
                          <a:pt x="1231" y="66"/>
                        </a:lnTo>
                        <a:lnTo>
                          <a:pt x="1266" y="57"/>
                        </a:lnTo>
                        <a:lnTo>
                          <a:pt x="1266" y="57"/>
                        </a:lnTo>
                        <a:lnTo>
                          <a:pt x="1266" y="57"/>
                        </a:lnTo>
                        <a:lnTo>
                          <a:pt x="1301" y="52"/>
                        </a:lnTo>
                        <a:lnTo>
                          <a:pt x="1301" y="52"/>
                        </a:lnTo>
                        <a:lnTo>
                          <a:pt x="1301" y="52"/>
                        </a:lnTo>
                        <a:lnTo>
                          <a:pt x="1332" y="44"/>
                        </a:lnTo>
                        <a:lnTo>
                          <a:pt x="1332" y="44"/>
                        </a:lnTo>
                        <a:lnTo>
                          <a:pt x="1332" y="44"/>
                        </a:lnTo>
                        <a:lnTo>
                          <a:pt x="1368" y="44"/>
                        </a:lnTo>
                        <a:lnTo>
                          <a:pt x="1368" y="44"/>
                        </a:lnTo>
                        <a:lnTo>
                          <a:pt x="1368" y="44"/>
                        </a:lnTo>
                        <a:lnTo>
                          <a:pt x="1403" y="39"/>
                        </a:lnTo>
                        <a:lnTo>
                          <a:pt x="1403" y="39"/>
                        </a:lnTo>
                        <a:lnTo>
                          <a:pt x="1403" y="39"/>
                        </a:lnTo>
                        <a:lnTo>
                          <a:pt x="1438" y="35"/>
                        </a:lnTo>
                        <a:lnTo>
                          <a:pt x="1438" y="35"/>
                        </a:lnTo>
                        <a:lnTo>
                          <a:pt x="1438" y="35"/>
                        </a:lnTo>
                        <a:lnTo>
                          <a:pt x="1469" y="30"/>
                        </a:lnTo>
                        <a:lnTo>
                          <a:pt x="1469" y="30"/>
                        </a:lnTo>
                        <a:lnTo>
                          <a:pt x="1469" y="30"/>
                        </a:lnTo>
                        <a:lnTo>
                          <a:pt x="1509" y="26"/>
                        </a:lnTo>
                        <a:lnTo>
                          <a:pt x="1509" y="26"/>
                        </a:lnTo>
                        <a:lnTo>
                          <a:pt x="1509" y="26"/>
                        </a:lnTo>
                        <a:lnTo>
                          <a:pt x="1544" y="26"/>
                        </a:lnTo>
                        <a:lnTo>
                          <a:pt x="1544" y="26"/>
                        </a:lnTo>
                        <a:lnTo>
                          <a:pt x="1544" y="26"/>
                        </a:lnTo>
                        <a:lnTo>
                          <a:pt x="1579" y="17"/>
                        </a:lnTo>
                        <a:lnTo>
                          <a:pt x="1579" y="17"/>
                        </a:lnTo>
                        <a:lnTo>
                          <a:pt x="1579" y="17"/>
                        </a:lnTo>
                        <a:lnTo>
                          <a:pt x="1614" y="17"/>
                        </a:lnTo>
                        <a:lnTo>
                          <a:pt x="1614" y="17"/>
                        </a:lnTo>
                        <a:lnTo>
                          <a:pt x="1614" y="17"/>
                        </a:lnTo>
                        <a:lnTo>
                          <a:pt x="1650" y="13"/>
                        </a:lnTo>
                        <a:lnTo>
                          <a:pt x="1650" y="13"/>
                        </a:lnTo>
                        <a:lnTo>
                          <a:pt x="1650" y="13"/>
                        </a:lnTo>
                        <a:lnTo>
                          <a:pt x="1685" y="8"/>
                        </a:lnTo>
                        <a:lnTo>
                          <a:pt x="1685" y="8"/>
                        </a:lnTo>
                        <a:lnTo>
                          <a:pt x="1685" y="8"/>
                        </a:lnTo>
                        <a:lnTo>
                          <a:pt x="1720" y="8"/>
                        </a:lnTo>
                        <a:lnTo>
                          <a:pt x="1720" y="8"/>
                        </a:lnTo>
                        <a:lnTo>
                          <a:pt x="1720" y="8"/>
                        </a:lnTo>
                        <a:lnTo>
                          <a:pt x="1756" y="4"/>
                        </a:lnTo>
                        <a:lnTo>
                          <a:pt x="1756" y="4"/>
                        </a:lnTo>
                        <a:lnTo>
                          <a:pt x="1756" y="4"/>
                        </a:lnTo>
                        <a:lnTo>
                          <a:pt x="1795" y="4"/>
                        </a:lnTo>
                        <a:lnTo>
                          <a:pt x="1795" y="4"/>
                        </a:lnTo>
                        <a:lnTo>
                          <a:pt x="1795" y="4"/>
                        </a:lnTo>
                        <a:lnTo>
                          <a:pt x="1831" y="4"/>
                        </a:lnTo>
                        <a:lnTo>
                          <a:pt x="1831" y="4"/>
                        </a:lnTo>
                        <a:lnTo>
                          <a:pt x="1831" y="4"/>
                        </a:lnTo>
                        <a:lnTo>
                          <a:pt x="1866" y="4"/>
                        </a:lnTo>
                        <a:lnTo>
                          <a:pt x="1866" y="4"/>
                        </a:lnTo>
                        <a:lnTo>
                          <a:pt x="1866" y="4"/>
                        </a:lnTo>
                        <a:lnTo>
                          <a:pt x="1901" y="0"/>
                        </a:lnTo>
                        <a:lnTo>
                          <a:pt x="1901" y="0"/>
                        </a:lnTo>
                        <a:lnTo>
                          <a:pt x="1901" y="0"/>
                        </a:lnTo>
                        <a:lnTo>
                          <a:pt x="1941" y="0"/>
                        </a:lnTo>
                        <a:lnTo>
                          <a:pt x="1941" y="0"/>
                        </a:lnTo>
                        <a:lnTo>
                          <a:pt x="1941" y="0"/>
                        </a:lnTo>
                        <a:lnTo>
                          <a:pt x="1972" y="0"/>
                        </a:lnTo>
                        <a:lnTo>
                          <a:pt x="1972" y="0"/>
                        </a:lnTo>
                        <a:lnTo>
                          <a:pt x="1972" y="0"/>
                        </a:lnTo>
                        <a:lnTo>
                          <a:pt x="2011" y="0"/>
                        </a:lnTo>
                        <a:lnTo>
                          <a:pt x="2011" y="0"/>
                        </a:lnTo>
                        <a:lnTo>
                          <a:pt x="2011" y="0"/>
                        </a:lnTo>
                        <a:lnTo>
                          <a:pt x="2047" y="0"/>
                        </a:lnTo>
                        <a:lnTo>
                          <a:pt x="2047" y="0"/>
                        </a:lnTo>
                        <a:lnTo>
                          <a:pt x="2047" y="0"/>
                        </a:lnTo>
                        <a:lnTo>
                          <a:pt x="2082" y="0"/>
                        </a:lnTo>
                        <a:lnTo>
                          <a:pt x="2082" y="0"/>
                        </a:lnTo>
                        <a:lnTo>
                          <a:pt x="2082" y="0"/>
                        </a:lnTo>
                        <a:lnTo>
                          <a:pt x="2122" y="0"/>
                        </a:lnTo>
                        <a:lnTo>
                          <a:pt x="2122" y="0"/>
                        </a:lnTo>
                        <a:lnTo>
                          <a:pt x="2122" y="0"/>
                        </a:lnTo>
                        <a:lnTo>
                          <a:pt x="2157" y="4"/>
                        </a:lnTo>
                        <a:lnTo>
                          <a:pt x="2157" y="4"/>
                        </a:lnTo>
                        <a:lnTo>
                          <a:pt x="2011" y="883"/>
                        </a:lnTo>
                        <a:lnTo>
                          <a:pt x="0" y="653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744560" y="4916520"/>
                    <a:ext cx="54792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1522" h="879">
                        <a:moveTo>
                          <a:pt x="145" y="0"/>
                        </a:moveTo>
                        <a:lnTo>
                          <a:pt x="145" y="0"/>
                        </a:lnTo>
                        <a:lnTo>
                          <a:pt x="180" y="0"/>
                        </a:lnTo>
                        <a:lnTo>
                          <a:pt x="180" y="0"/>
                        </a:lnTo>
                        <a:lnTo>
                          <a:pt x="180" y="0"/>
                        </a:lnTo>
                        <a:lnTo>
                          <a:pt x="220" y="0"/>
                        </a:lnTo>
                        <a:lnTo>
                          <a:pt x="220" y="0"/>
                        </a:lnTo>
                        <a:lnTo>
                          <a:pt x="220" y="0"/>
                        </a:lnTo>
                        <a:lnTo>
                          <a:pt x="251" y="0"/>
                        </a:lnTo>
                        <a:lnTo>
                          <a:pt x="251" y="0"/>
                        </a:lnTo>
                        <a:lnTo>
                          <a:pt x="251" y="0"/>
                        </a:lnTo>
                        <a:lnTo>
                          <a:pt x="291" y="4"/>
                        </a:lnTo>
                        <a:lnTo>
                          <a:pt x="291" y="4"/>
                        </a:lnTo>
                        <a:lnTo>
                          <a:pt x="291" y="4"/>
                        </a:lnTo>
                        <a:lnTo>
                          <a:pt x="326" y="4"/>
                        </a:lnTo>
                        <a:lnTo>
                          <a:pt x="326" y="4"/>
                        </a:lnTo>
                        <a:lnTo>
                          <a:pt x="326" y="4"/>
                        </a:lnTo>
                        <a:lnTo>
                          <a:pt x="361" y="8"/>
                        </a:lnTo>
                        <a:lnTo>
                          <a:pt x="361" y="8"/>
                        </a:lnTo>
                        <a:lnTo>
                          <a:pt x="361" y="8"/>
                        </a:lnTo>
                        <a:lnTo>
                          <a:pt x="396" y="13"/>
                        </a:lnTo>
                        <a:lnTo>
                          <a:pt x="396" y="13"/>
                        </a:lnTo>
                        <a:lnTo>
                          <a:pt x="396" y="13"/>
                        </a:lnTo>
                        <a:lnTo>
                          <a:pt x="432" y="13"/>
                        </a:lnTo>
                        <a:lnTo>
                          <a:pt x="432" y="13"/>
                        </a:lnTo>
                        <a:lnTo>
                          <a:pt x="432" y="13"/>
                        </a:lnTo>
                        <a:lnTo>
                          <a:pt x="467" y="22"/>
                        </a:lnTo>
                        <a:lnTo>
                          <a:pt x="467" y="22"/>
                        </a:lnTo>
                        <a:lnTo>
                          <a:pt x="467" y="22"/>
                        </a:lnTo>
                        <a:lnTo>
                          <a:pt x="502" y="22"/>
                        </a:lnTo>
                        <a:lnTo>
                          <a:pt x="502" y="22"/>
                        </a:lnTo>
                        <a:lnTo>
                          <a:pt x="502" y="22"/>
                        </a:lnTo>
                        <a:lnTo>
                          <a:pt x="537" y="26"/>
                        </a:lnTo>
                        <a:lnTo>
                          <a:pt x="537" y="26"/>
                        </a:lnTo>
                        <a:lnTo>
                          <a:pt x="537" y="26"/>
                        </a:lnTo>
                        <a:lnTo>
                          <a:pt x="573" y="30"/>
                        </a:lnTo>
                        <a:lnTo>
                          <a:pt x="573" y="30"/>
                        </a:lnTo>
                        <a:lnTo>
                          <a:pt x="573" y="30"/>
                        </a:lnTo>
                        <a:lnTo>
                          <a:pt x="608" y="35"/>
                        </a:lnTo>
                        <a:lnTo>
                          <a:pt x="608" y="35"/>
                        </a:lnTo>
                        <a:lnTo>
                          <a:pt x="608" y="35"/>
                        </a:lnTo>
                        <a:lnTo>
                          <a:pt x="643" y="39"/>
                        </a:lnTo>
                        <a:lnTo>
                          <a:pt x="643" y="39"/>
                        </a:lnTo>
                        <a:lnTo>
                          <a:pt x="643" y="39"/>
                        </a:lnTo>
                        <a:lnTo>
                          <a:pt x="674" y="39"/>
                        </a:lnTo>
                        <a:lnTo>
                          <a:pt x="674" y="39"/>
                        </a:lnTo>
                        <a:lnTo>
                          <a:pt x="674" y="39"/>
                        </a:lnTo>
                        <a:lnTo>
                          <a:pt x="714" y="48"/>
                        </a:lnTo>
                        <a:lnTo>
                          <a:pt x="714" y="48"/>
                        </a:lnTo>
                        <a:lnTo>
                          <a:pt x="714" y="48"/>
                        </a:lnTo>
                        <a:lnTo>
                          <a:pt x="745" y="52"/>
                        </a:lnTo>
                        <a:lnTo>
                          <a:pt x="745" y="52"/>
                        </a:lnTo>
                        <a:lnTo>
                          <a:pt x="745" y="52"/>
                        </a:lnTo>
                        <a:lnTo>
                          <a:pt x="781" y="61"/>
                        </a:lnTo>
                        <a:lnTo>
                          <a:pt x="781" y="61"/>
                        </a:lnTo>
                        <a:lnTo>
                          <a:pt x="781" y="61"/>
                        </a:lnTo>
                        <a:lnTo>
                          <a:pt x="812" y="66"/>
                        </a:lnTo>
                        <a:lnTo>
                          <a:pt x="812" y="66"/>
                        </a:lnTo>
                        <a:lnTo>
                          <a:pt x="812" y="66"/>
                        </a:lnTo>
                        <a:lnTo>
                          <a:pt x="847" y="70"/>
                        </a:lnTo>
                        <a:lnTo>
                          <a:pt x="847" y="70"/>
                        </a:lnTo>
                        <a:lnTo>
                          <a:pt x="847" y="70"/>
                        </a:lnTo>
                        <a:lnTo>
                          <a:pt x="878" y="79"/>
                        </a:lnTo>
                        <a:lnTo>
                          <a:pt x="878" y="79"/>
                        </a:lnTo>
                        <a:lnTo>
                          <a:pt x="878" y="79"/>
                        </a:lnTo>
                        <a:lnTo>
                          <a:pt x="913" y="83"/>
                        </a:lnTo>
                        <a:lnTo>
                          <a:pt x="913" y="83"/>
                        </a:lnTo>
                        <a:lnTo>
                          <a:pt x="913" y="83"/>
                        </a:lnTo>
                        <a:lnTo>
                          <a:pt x="944" y="92"/>
                        </a:lnTo>
                        <a:lnTo>
                          <a:pt x="944" y="92"/>
                        </a:lnTo>
                        <a:lnTo>
                          <a:pt x="944" y="92"/>
                        </a:lnTo>
                        <a:lnTo>
                          <a:pt x="979" y="101"/>
                        </a:lnTo>
                        <a:lnTo>
                          <a:pt x="979" y="101"/>
                        </a:lnTo>
                        <a:lnTo>
                          <a:pt x="979" y="101"/>
                        </a:lnTo>
                        <a:lnTo>
                          <a:pt x="1010" y="105"/>
                        </a:lnTo>
                        <a:lnTo>
                          <a:pt x="1010" y="105"/>
                        </a:lnTo>
                        <a:lnTo>
                          <a:pt x="1010" y="105"/>
                        </a:lnTo>
                        <a:lnTo>
                          <a:pt x="1041" y="114"/>
                        </a:lnTo>
                        <a:lnTo>
                          <a:pt x="1041" y="114"/>
                        </a:lnTo>
                        <a:lnTo>
                          <a:pt x="1041" y="114"/>
                        </a:lnTo>
                        <a:lnTo>
                          <a:pt x="1072" y="123"/>
                        </a:lnTo>
                        <a:lnTo>
                          <a:pt x="1072" y="123"/>
                        </a:lnTo>
                        <a:lnTo>
                          <a:pt x="1072" y="123"/>
                        </a:lnTo>
                        <a:lnTo>
                          <a:pt x="1103" y="127"/>
                        </a:lnTo>
                        <a:lnTo>
                          <a:pt x="1103" y="127"/>
                        </a:lnTo>
                        <a:lnTo>
                          <a:pt x="1103" y="127"/>
                        </a:lnTo>
                        <a:lnTo>
                          <a:pt x="1134" y="136"/>
                        </a:lnTo>
                        <a:lnTo>
                          <a:pt x="1134" y="136"/>
                        </a:lnTo>
                        <a:lnTo>
                          <a:pt x="1134" y="136"/>
                        </a:lnTo>
                        <a:lnTo>
                          <a:pt x="1160" y="145"/>
                        </a:lnTo>
                        <a:lnTo>
                          <a:pt x="1160" y="145"/>
                        </a:lnTo>
                        <a:lnTo>
                          <a:pt x="1160" y="145"/>
                        </a:lnTo>
                        <a:lnTo>
                          <a:pt x="1196" y="154"/>
                        </a:lnTo>
                        <a:lnTo>
                          <a:pt x="1196" y="154"/>
                        </a:lnTo>
                        <a:lnTo>
                          <a:pt x="1196" y="154"/>
                        </a:lnTo>
                        <a:lnTo>
                          <a:pt x="1222" y="163"/>
                        </a:lnTo>
                        <a:lnTo>
                          <a:pt x="1222" y="163"/>
                        </a:lnTo>
                        <a:lnTo>
                          <a:pt x="1222" y="163"/>
                        </a:lnTo>
                        <a:lnTo>
                          <a:pt x="1253" y="176"/>
                        </a:lnTo>
                        <a:lnTo>
                          <a:pt x="1253" y="176"/>
                        </a:lnTo>
                        <a:lnTo>
                          <a:pt x="1253" y="176"/>
                        </a:lnTo>
                        <a:lnTo>
                          <a:pt x="1284" y="180"/>
                        </a:lnTo>
                        <a:lnTo>
                          <a:pt x="1284" y="180"/>
                        </a:lnTo>
                        <a:lnTo>
                          <a:pt x="1284" y="180"/>
                        </a:lnTo>
                        <a:lnTo>
                          <a:pt x="1310" y="194"/>
                        </a:lnTo>
                        <a:lnTo>
                          <a:pt x="1310" y="194"/>
                        </a:lnTo>
                        <a:lnTo>
                          <a:pt x="1310" y="194"/>
                        </a:lnTo>
                        <a:lnTo>
                          <a:pt x="1337" y="202"/>
                        </a:lnTo>
                        <a:lnTo>
                          <a:pt x="1337" y="202"/>
                        </a:lnTo>
                        <a:lnTo>
                          <a:pt x="1337" y="202"/>
                        </a:lnTo>
                        <a:lnTo>
                          <a:pt x="1368" y="211"/>
                        </a:lnTo>
                        <a:lnTo>
                          <a:pt x="1368" y="211"/>
                        </a:lnTo>
                        <a:lnTo>
                          <a:pt x="1368" y="211"/>
                        </a:lnTo>
                        <a:lnTo>
                          <a:pt x="1394" y="221"/>
                        </a:lnTo>
                        <a:lnTo>
                          <a:pt x="1394" y="221"/>
                        </a:lnTo>
                        <a:lnTo>
                          <a:pt x="1394" y="221"/>
                        </a:lnTo>
                        <a:lnTo>
                          <a:pt x="1420" y="230"/>
                        </a:lnTo>
                        <a:lnTo>
                          <a:pt x="1420" y="230"/>
                        </a:lnTo>
                        <a:lnTo>
                          <a:pt x="1420" y="230"/>
                        </a:lnTo>
                        <a:lnTo>
                          <a:pt x="1447" y="243"/>
                        </a:lnTo>
                        <a:lnTo>
                          <a:pt x="1447" y="243"/>
                        </a:lnTo>
                        <a:lnTo>
                          <a:pt x="1447" y="243"/>
                        </a:lnTo>
                        <a:lnTo>
                          <a:pt x="1473" y="256"/>
                        </a:lnTo>
                        <a:lnTo>
                          <a:pt x="1473" y="256"/>
                        </a:lnTo>
                        <a:lnTo>
                          <a:pt x="1473" y="256"/>
                        </a:lnTo>
                        <a:lnTo>
                          <a:pt x="1500" y="265"/>
                        </a:lnTo>
                        <a:lnTo>
                          <a:pt x="1500" y="265"/>
                        </a:lnTo>
                        <a:lnTo>
                          <a:pt x="1500" y="265"/>
                        </a:lnTo>
                        <a:lnTo>
                          <a:pt x="1522" y="278"/>
                        </a:lnTo>
                        <a:lnTo>
                          <a:pt x="1522" y="278"/>
                        </a:lnTo>
                        <a:lnTo>
                          <a:pt x="0" y="879"/>
                        </a:lnTo>
                        <a:lnTo>
                          <a:pt x="145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1746360" y="5048280"/>
                    <a:ext cx="892440" cy="536760"/>
                  </a:xfrm>
                  <a:custGeom>
                    <a:avLst/>
                    <a:gdLst/>
                    <a:ahLst/>
                    <a:rect l="0" t="0" r="r" b="b"/>
                    <a:pathLst>
                      <a:path w="2479" h="1491">
                        <a:moveTo>
                          <a:pt x="1923" y="0"/>
                        </a:moveTo>
                        <a:lnTo>
                          <a:pt x="1923" y="0"/>
                        </a:lnTo>
                        <a:lnTo>
                          <a:pt x="1945" y="13"/>
                        </a:lnTo>
                        <a:lnTo>
                          <a:pt x="1945" y="13"/>
                        </a:lnTo>
                        <a:lnTo>
                          <a:pt x="1945" y="13"/>
                        </a:lnTo>
                        <a:lnTo>
                          <a:pt x="1967" y="26"/>
                        </a:lnTo>
                        <a:lnTo>
                          <a:pt x="1967" y="26"/>
                        </a:lnTo>
                        <a:lnTo>
                          <a:pt x="1967" y="26"/>
                        </a:lnTo>
                        <a:lnTo>
                          <a:pt x="1994" y="39"/>
                        </a:lnTo>
                        <a:lnTo>
                          <a:pt x="1994" y="39"/>
                        </a:lnTo>
                        <a:lnTo>
                          <a:pt x="1994" y="39"/>
                        </a:lnTo>
                        <a:lnTo>
                          <a:pt x="2016" y="48"/>
                        </a:lnTo>
                        <a:lnTo>
                          <a:pt x="2016" y="48"/>
                        </a:lnTo>
                        <a:lnTo>
                          <a:pt x="2016" y="48"/>
                        </a:lnTo>
                        <a:lnTo>
                          <a:pt x="2038" y="61"/>
                        </a:lnTo>
                        <a:lnTo>
                          <a:pt x="2038" y="61"/>
                        </a:lnTo>
                        <a:lnTo>
                          <a:pt x="2038" y="61"/>
                        </a:lnTo>
                        <a:lnTo>
                          <a:pt x="2060" y="74"/>
                        </a:lnTo>
                        <a:lnTo>
                          <a:pt x="2060" y="74"/>
                        </a:lnTo>
                        <a:lnTo>
                          <a:pt x="2060" y="74"/>
                        </a:lnTo>
                        <a:lnTo>
                          <a:pt x="2077" y="88"/>
                        </a:lnTo>
                        <a:lnTo>
                          <a:pt x="2077" y="88"/>
                        </a:lnTo>
                        <a:lnTo>
                          <a:pt x="2077" y="88"/>
                        </a:lnTo>
                        <a:lnTo>
                          <a:pt x="2104" y="97"/>
                        </a:lnTo>
                        <a:lnTo>
                          <a:pt x="2104" y="97"/>
                        </a:lnTo>
                        <a:lnTo>
                          <a:pt x="2104" y="97"/>
                        </a:lnTo>
                        <a:lnTo>
                          <a:pt x="2126" y="110"/>
                        </a:lnTo>
                        <a:lnTo>
                          <a:pt x="2126" y="110"/>
                        </a:lnTo>
                        <a:lnTo>
                          <a:pt x="2126" y="110"/>
                        </a:lnTo>
                        <a:lnTo>
                          <a:pt x="2139" y="123"/>
                        </a:lnTo>
                        <a:lnTo>
                          <a:pt x="2139" y="123"/>
                        </a:lnTo>
                        <a:lnTo>
                          <a:pt x="2139" y="123"/>
                        </a:lnTo>
                        <a:lnTo>
                          <a:pt x="2161" y="136"/>
                        </a:lnTo>
                        <a:lnTo>
                          <a:pt x="2161" y="136"/>
                        </a:lnTo>
                        <a:lnTo>
                          <a:pt x="2161" y="136"/>
                        </a:lnTo>
                        <a:lnTo>
                          <a:pt x="2183" y="149"/>
                        </a:lnTo>
                        <a:lnTo>
                          <a:pt x="2183" y="149"/>
                        </a:lnTo>
                        <a:lnTo>
                          <a:pt x="2183" y="149"/>
                        </a:lnTo>
                        <a:lnTo>
                          <a:pt x="2201" y="163"/>
                        </a:lnTo>
                        <a:lnTo>
                          <a:pt x="2201" y="163"/>
                        </a:lnTo>
                        <a:lnTo>
                          <a:pt x="2201" y="163"/>
                        </a:lnTo>
                        <a:lnTo>
                          <a:pt x="2214" y="176"/>
                        </a:lnTo>
                        <a:lnTo>
                          <a:pt x="2214" y="176"/>
                        </a:lnTo>
                        <a:lnTo>
                          <a:pt x="2214" y="176"/>
                        </a:lnTo>
                        <a:lnTo>
                          <a:pt x="2236" y="189"/>
                        </a:lnTo>
                        <a:lnTo>
                          <a:pt x="2236" y="189"/>
                        </a:lnTo>
                        <a:lnTo>
                          <a:pt x="2236" y="189"/>
                        </a:lnTo>
                        <a:lnTo>
                          <a:pt x="2254" y="202"/>
                        </a:lnTo>
                        <a:lnTo>
                          <a:pt x="2254" y="202"/>
                        </a:lnTo>
                        <a:lnTo>
                          <a:pt x="2254" y="202"/>
                        </a:lnTo>
                        <a:lnTo>
                          <a:pt x="2267" y="220"/>
                        </a:lnTo>
                        <a:lnTo>
                          <a:pt x="2267" y="220"/>
                        </a:lnTo>
                        <a:lnTo>
                          <a:pt x="2267" y="220"/>
                        </a:lnTo>
                        <a:lnTo>
                          <a:pt x="2285" y="229"/>
                        </a:lnTo>
                        <a:lnTo>
                          <a:pt x="2285" y="229"/>
                        </a:lnTo>
                        <a:lnTo>
                          <a:pt x="2285" y="229"/>
                        </a:lnTo>
                        <a:lnTo>
                          <a:pt x="2298" y="242"/>
                        </a:lnTo>
                        <a:lnTo>
                          <a:pt x="2298" y="242"/>
                        </a:lnTo>
                        <a:lnTo>
                          <a:pt x="2298" y="242"/>
                        </a:lnTo>
                        <a:lnTo>
                          <a:pt x="2311" y="260"/>
                        </a:lnTo>
                        <a:lnTo>
                          <a:pt x="2311" y="260"/>
                        </a:lnTo>
                        <a:lnTo>
                          <a:pt x="2311" y="260"/>
                        </a:lnTo>
                        <a:lnTo>
                          <a:pt x="2329" y="273"/>
                        </a:lnTo>
                        <a:lnTo>
                          <a:pt x="2329" y="273"/>
                        </a:lnTo>
                        <a:lnTo>
                          <a:pt x="2329" y="273"/>
                        </a:lnTo>
                        <a:lnTo>
                          <a:pt x="2342" y="291"/>
                        </a:lnTo>
                        <a:lnTo>
                          <a:pt x="2342" y="291"/>
                        </a:lnTo>
                        <a:lnTo>
                          <a:pt x="2342" y="291"/>
                        </a:lnTo>
                        <a:lnTo>
                          <a:pt x="2355" y="304"/>
                        </a:lnTo>
                        <a:lnTo>
                          <a:pt x="2355" y="304"/>
                        </a:lnTo>
                        <a:lnTo>
                          <a:pt x="2355" y="304"/>
                        </a:lnTo>
                        <a:lnTo>
                          <a:pt x="2364" y="317"/>
                        </a:lnTo>
                        <a:lnTo>
                          <a:pt x="2364" y="317"/>
                        </a:lnTo>
                        <a:lnTo>
                          <a:pt x="2364" y="317"/>
                        </a:lnTo>
                        <a:lnTo>
                          <a:pt x="2377" y="330"/>
                        </a:lnTo>
                        <a:lnTo>
                          <a:pt x="2377" y="330"/>
                        </a:lnTo>
                        <a:lnTo>
                          <a:pt x="2377" y="330"/>
                        </a:lnTo>
                        <a:lnTo>
                          <a:pt x="2386" y="343"/>
                        </a:lnTo>
                        <a:lnTo>
                          <a:pt x="2386" y="343"/>
                        </a:lnTo>
                        <a:lnTo>
                          <a:pt x="2386" y="343"/>
                        </a:lnTo>
                        <a:lnTo>
                          <a:pt x="2399" y="361"/>
                        </a:lnTo>
                        <a:lnTo>
                          <a:pt x="2399" y="361"/>
                        </a:lnTo>
                        <a:lnTo>
                          <a:pt x="2399" y="361"/>
                        </a:lnTo>
                        <a:lnTo>
                          <a:pt x="2408" y="379"/>
                        </a:lnTo>
                        <a:lnTo>
                          <a:pt x="2408" y="379"/>
                        </a:lnTo>
                        <a:lnTo>
                          <a:pt x="2408" y="379"/>
                        </a:lnTo>
                        <a:lnTo>
                          <a:pt x="2417" y="392"/>
                        </a:lnTo>
                        <a:lnTo>
                          <a:pt x="2417" y="392"/>
                        </a:lnTo>
                        <a:lnTo>
                          <a:pt x="2417" y="392"/>
                        </a:lnTo>
                        <a:lnTo>
                          <a:pt x="2426" y="405"/>
                        </a:lnTo>
                        <a:lnTo>
                          <a:pt x="2426" y="405"/>
                        </a:lnTo>
                        <a:lnTo>
                          <a:pt x="2426" y="405"/>
                        </a:lnTo>
                        <a:lnTo>
                          <a:pt x="2430" y="418"/>
                        </a:lnTo>
                        <a:lnTo>
                          <a:pt x="2430" y="418"/>
                        </a:lnTo>
                        <a:lnTo>
                          <a:pt x="2430" y="418"/>
                        </a:lnTo>
                        <a:lnTo>
                          <a:pt x="2439" y="436"/>
                        </a:lnTo>
                        <a:lnTo>
                          <a:pt x="2439" y="436"/>
                        </a:lnTo>
                        <a:lnTo>
                          <a:pt x="2439" y="436"/>
                        </a:lnTo>
                        <a:lnTo>
                          <a:pt x="2443" y="454"/>
                        </a:lnTo>
                        <a:lnTo>
                          <a:pt x="2443" y="454"/>
                        </a:lnTo>
                        <a:lnTo>
                          <a:pt x="2443" y="454"/>
                        </a:lnTo>
                        <a:lnTo>
                          <a:pt x="2452" y="467"/>
                        </a:lnTo>
                        <a:lnTo>
                          <a:pt x="2452" y="467"/>
                        </a:lnTo>
                        <a:lnTo>
                          <a:pt x="2452" y="467"/>
                        </a:lnTo>
                        <a:lnTo>
                          <a:pt x="2461" y="480"/>
                        </a:lnTo>
                        <a:lnTo>
                          <a:pt x="2461" y="480"/>
                        </a:lnTo>
                        <a:lnTo>
                          <a:pt x="2461" y="480"/>
                        </a:lnTo>
                        <a:lnTo>
                          <a:pt x="2466" y="498"/>
                        </a:lnTo>
                        <a:lnTo>
                          <a:pt x="2466" y="498"/>
                        </a:lnTo>
                        <a:lnTo>
                          <a:pt x="2466" y="498"/>
                        </a:lnTo>
                        <a:lnTo>
                          <a:pt x="2466" y="511"/>
                        </a:lnTo>
                        <a:lnTo>
                          <a:pt x="2466" y="511"/>
                        </a:lnTo>
                        <a:lnTo>
                          <a:pt x="2466" y="511"/>
                        </a:lnTo>
                        <a:lnTo>
                          <a:pt x="2474" y="529"/>
                        </a:lnTo>
                        <a:lnTo>
                          <a:pt x="2474" y="529"/>
                        </a:lnTo>
                        <a:lnTo>
                          <a:pt x="2474" y="529"/>
                        </a:lnTo>
                        <a:lnTo>
                          <a:pt x="2474" y="542"/>
                        </a:lnTo>
                        <a:lnTo>
                          <a:pt x="2474" y="542"/>
                        </a:lnTo>
                        <a:lnTo>
                          <a:pt x="2474" y="542"/>
                        </a:lnTo>
                        <a:lnTo>
                          <a:pt x="2479" y="555"/>
                        </a:lnTo>
                        <a:lnTo>
                          <a:pt x="2479" y="555"/>
                        </a:lnTo>
                        <a:lnTo>
                          <a:pt x="2479" y="555"/>
                        </a:lnTo>
                        <a:lnTo>
                          <a:pt x="2479" y="573"/>
                        </a:lnTo>
                        <a:lnTo>
                          <a:pt x="2479" y="573"/>
                        </a:lnTo>
                        <a:lnTo>
                          <a:pt x="2479" y="573"/>
                        </a:lnTo>
                        <a:lnTo>
                          <a:pt x="2479" y="586"/>
                        </a:lnTo>
                        <a:lnTo>
                          <a:pt x="2479" y="586"/>
                        </a:lnTo>
                        <a:lnTo>
                          <a:pt x="2479" y="586"/>
                        </a:lnTo>
                        <a:lnTo>
                          <a:pt x="2479" y="604"/>
                        </a:lnTo>
                        <a:lnTo>
                          <a:pt x="2479" y="604"/>
                        </a:lnTo>
                        <a:lnTo>
                          <a:pt x="2479" y="604"/>
                        </a:lnTo>
                        <a:lnTo>
                          <a:pt x="2479" y="621"/>
                        </a:lnTo>
                        <a:lnTo>
                          <a:pt x="2479" y="621"/>
                        </a:lnTo>
                        <a:lnTo>
                          <a:pt x="2479" y="621"/>
                        </a:lnTo>
                        <a:lnTo>
                          <a:pt x="2479" y="635"/>
                        </a:lnTo>
                        <a:lnTo>
                          <a:pt x="2479" y="635"/>
                        </a:lnTo>
                        <a:lnTo>
                          <a:pt x="2479" y="635"/>
                        </a:lnTo>
                        <a:lnTo>
                          <a:pt x="2479" y="648"/>
                        </a:lnTo>
                        <a:lnTo>
                          <a:pt x="2479" y="648"/>
                        </a:lnTo>
                        <a:lnTo>
                          <a:pt x="2479" y="648"/>
                        </a:lnTo>
                        <a:lnTo>
                          <a:pt x="2474" y="665"/>
                        </a:lnTo>
                        <a:lnTo>
                          <a:pt x="2474" y="665"/>
                        </a:lnTo>
                        <a:lnTo>
                          <a:pt x="2474" y="665"/>
                        </a:lnTo>
                        <a:lnTo>
                          <a:pt x="2474" y="683"/>
                        </a:lnTo>
                        <a:lnTo>
                          <a:pt x="2474" y="683"/>
                        </a:lnTo>
                        <a:lnTo>
                          <a:pt x="2474" y="683"/>
                        </a:lnTo>
                        <a:lnTo>
                          <a:pt x="2466" y="696"/>
                        </a:lnTo>
                        <a:lnTo>
                          <a:pt x="2466" y="696"/>
                        </a:lnTo>
                        <a:lnTo>
                          <a:pt x="2466" y="696"/>
                        </a:lnTo>
                        <a:lnTo>
                          <a:pt x="2466" y="709"/>
                        </a:lnTo>
                        <a:lnTo>
                          <a:pt x="2466" y="709"/>
                        </a:lnTo>
                        <a:lnTo>
                          <a:pt x="2466" y="709"/>
                        </a:lnTo>
                        <a:lnTo>
                          <a:pt x="2461" y="727"/>
                        </a:lnTo>
                        <a:lnTo>
                          <a:pt x="2461" y="727"/>
                        </a:lnTo>
                        <a:lnTo>
                          <a:pt x="2461" y="727"/>
                        </a:lnTo>
                        <a:lnTo>
                          <a:pt x="2452" y="746"/>
                        </a:lnTo>
                        <a:lnTo>
                          <a:pt x="2452" y="746"/>
                        </a:lnTo>
                        <a:lnTo>
                          <a:pt x="2452" y="746"/>
                        </a:lnTo>
                        <a:lnTo>
                          <a:pt x="2443" y="759"/>
                        </a:lnTo>
                        <a:lnTo>
                          <a:pt x="2443" y="759"/>
                        </a:lnTo>
                        <a:lnTo>
                          <a:pt x="2443" y="759"/>
                        </a:lnTo>
                        <a:lnTo>
                          <a:pt x="2439" y="772"/>
                        </a:lnTo>
                        <a:lnTo>
                          <a:pt x="2439" y="772"/>
                        </a:lnTo>
                        <a:lnTo>
                          <a:pt x="2439" y="772"/>
                        </a:lnTo>
                        <a:lnTo>
                          <a:pt x="2430" y="785"/>
                        </a:lnTo>
                        <a:lnTo>
                          <a:pt x="2430" y="785"/>
                        </a:lnTo>
                        <a:lnTo>
                          <a:pt x="2430" y="785"/>
                        </a:lnTo>
                        <a:lnTo>
                          <a:pt x="2426" y="803"/>
                        </a:lnTo>
                        <a:lnTo>
                          <a:pt x="2426" y="803"/>
                        </a:lnTo>
                        <a:lnTo>
                          <a:pt x="2426" y="803"/>
                        </a:lnTo>
                        <a:lnTo>
                          <a:pt x="2417" y="821"/>
                        </a:lnTo>
                        <a:lnTo>
                          <a:pt x="2417" y="821"/>
                        </a:lnTo>
                        <a:lnTo>
                          <a:pt x="2417" y="821"/>
                        </a:lnTo>
                        <a:lnTo>
                          <a:pt x="2408" y="834"/>
                        </a:lnTo>
                        <a:lnTo>
                          <a:pt x="2408" y="834"/>
                        </a:lnTo>
                        <a:lnTo>
                          <a:pt x="2408" y="834"/>
                        </a:lnTo>
                        <a:lnTo>
                          <a:pt x="2399" y="847"/>
                        </a:lnTo>
                        <a:lnTo>
                          <a:pt x="2399" y="847"/>
                        </a:lnTo>
                        <a:lnTo>
                          <a:pt x="2399" y="847"/>
                        </a:lnTo>
                        <a:lnTo>
                          <a:pt x="2386" y="860"/>
                        </a:lnTo>
                        <a:lnTo>
                          <a:pt x="2386" y="860"/>
                        </a:lnTo>
                        <a:lnTo>
                          <a:pt x="2386" y="860"/>
                        </a:lnTo>
                        <a:lnTo>
                          <a:pt x="2377" y="878"/>
                        </a:lnTo>
                        <a:lnTo>
                          <a:pt x="2377" y="878"/>
                        </a:lnTo>
                        <a:lnTo>
                          <a:pt x="2377" y="878"/>
                        </a:lnTo>
                        <a:lnTo>
                          <a:pt x="2364" y="891"/>
                        </a:lnTo>
                        <a:lnTo>
                          <a:pt x="2364" y="891"/>
                        </a:lnTo>
                        <a:lnTo>
                          <a:pt x="2364" y="891"/>
                        </a:lnTo>
                        <a:lnTo>
                          <a:pt x="2355" y="909"/>
                        </a:lnTo>
                        <a:lnTo>
                          <a:pt x="2355" y="909"/>
                        </a:lnTo>
                        <a:lnTo>
                          <a:pt x="2355" y="909"/>
                        </a:lnTo>
                        <a:lnTo>
                          <a:pt x="2342" y="922"/>
                        </a:lnTo>
                        <a:lnTo>
                          <a:pt x="2342" y="922"/>
                        </a:lnTo>
                        <a:lnTo>
                          <a:pt x="2342" y="922"/>
                        </a:lnTo>
                        <a:lnTo>
                          <a:pt x="2329" y="935"/>
                        </a:lnTo>
                        <a:lnTo>
                          <a:pt x="2329" y="935"/>
                        </a:lnTo>
                        <a:lnTo>
                          <a:pt x="2329" y="935"/>
                        </a:lnTo>
                        <a:lnTo>
                          <a:pt x="2311" y="949"/>
                        </a:lnTo>
                        <a:lnTo>
                          <a:pt x="2311" y="949"/>
                        </a:lnTo>
                        <a:lnTo>
                          <a:pt x="2311" y="949"/>
                        </a:lnTo>
                        <a:lnTo>
                          <a:pt x="2298" y="962"/>
                        </a:lnTo>
                        <a:lnTo>
                          <a:pt x="2298" y="962"/>
                        </a:lnTo>
                        <a:lnTo>
                          <a:pt x="2298" y="962"/>
                        </a:lnTo>
                        <a:lnTo>
                          <a:pt x="2285" y="979"/>
                        </a:lnTo>
                        <a:lnTo>
                          <a:pt x="2285" y="979"/>
                        </a:lnTo>
                        <a:lnTo>
                          <a:pt x="2285" y="979"/>
                        </a:lnTo>
                        <a:lnTo>
                          <a:pt x="2267" y="993"/>
                        </a:lnTo>
                        <a:lnTo>
                          <a:pt x="2267" y="993"/>
                        </a:lnTo>
                        <a:lnTo>
                          <a:pt x="2267" y="993"/>
                        </a:lnTo>
                        <a:lnTo>
                          <a:pt x="2254" y="1006"/>
                        </a:lnTo>
                        <a:lnTo>
                          <a:pt x="2254" y="1006"/>
                        </a:lnTo>
                        <a:lnTo>
                          <a:pt x="2254" y="1006"/>
                        </a:lnTo>
                        <a:lnTo>
                          <a:pt x="2236" y="1019"/>
                        </a:lnTo>
                        <a:lnTo>
                          <a:pt x="2236" y="1019"/>
                        </a:lnTo>
                        <a:lnTo>
                          <a:pt x="2236" y="1019"/>
                        </a:lnTo>
                        <a:lnTo>
                          <a:pt x="2214" y="1032"/>
                        </a:lnTo>
                        <a:lnTo>
                          <a:pt x="2214" y="1032"/>
                        </a:lnTo>
                        <a:lnTo>
                          <a:pt x="2214" y="1032"/>
                        </a:lnTo>
                        <a:lnTo>
                          <a:pt x="2201" y="1046"/>
                        </a:lnTo>
                        <a:lnTo>
                          <a:pt x="2201" y="1046"/>
                        </a:lnTo>
                        <a:lnTo>
                          <a:pt x="2201" y="1046"/>
                        </a:lnTo>
                        <a:lnTo>
                          <a:pt x="2183" y="1059"/>
                        </a:lnTo>
                        <a:lnTo>
                          <a:pt x="2183" y="1059"/>
                        </a:lnTo>
                        <a:lnTo>
                          <a:pt x="2183" y="1059"/>
                        </a:lnTo>
                        <a:lnTo>
                          <a:pt x="2161" y="1072"/>
                        </a:lnTo>
                        <a:lnTo>
                          <a:pt x="2161" y="1072"/>
                        </a:lnTo>
                        <a:lnTo>
                          <a:pt x="2161" y="1072"/>
                        </a:lnTo>
                        <a:lnTo>
                          <a:pt x="2139" y="1085"/>
                        </a:lnTo>
                        <a:lnTo>
                          <a:pt x="2139" y="1085"/>
                        </a:lnTo>
                        <a:lnTo>
                          <a:pt x="2139" y="1085"/>
                        </a:lnTo>
                        <a:lnTo>
                          <a:pt x="2126" y="1099"/>
                        </a:lnTo>
                        <a:lnTo>
                          <a:pt x="2126" y="1099"/>
                        </a:lnTo>
                        <a:lnTo>
                          <a:pt x="2126" y="1099"/>
                        </a:lnTo>
                        <a:lnTo>
                          <a:pt x="2104" y="1112"/>
                        </a:lnTo>
                        <a:lnTo>
                          <a:pt x="2104" y="1112"/>
                        </a:lnTo>
                        <a:lnTo>
                          <a:pt x="2104" y="1112"/>
                        </a:lnTo>
                        <a:lnTo>
                          <a:pt x="2077" y="1125"/>
                        </a:lnTo>
                        <a:lnTo>
                          <a:pt x="2077" y="1125"/>
                        </a:lnTo>
                        <a:lnTo>
                          <a:pt x="2077" y="1125"/>
                        </a:lnTo>
                        <a:lnTo>
                          <a:pt x="2060" y="1138"/>
                        </a:lnTo>
                        <a:lnTo>
                          <a:pt x="2060" y="1138"/>
                        </a:lnTo>
                        <a:lnTo>
                          <a:pt x="2060" y="1138"/>
                        </a:lnTo>
                        <a:lnTo>
                          <a:pt x="2038" y="1147"/>
                        </a:lnTo>
                        <a:lnTo>
                          <a:pt x="2038" y="1147"/>
                        </a:lnTo>
                        <a:lnTo>
                          <a:pt x="2038" y="1147"/>
                        </a:lnTo>
                        <a:lnTo>
                          <a:pt x="2016" y="1160"/>
                        </a:lnTo>
                        <a:lnTo>
                          <a:pt x="2016" y="1160"/>
                        </a:lnTo>
                        <a:lnTo>
                          <a:pt x="2016" y="1160"/>
                        </a:lnTo>
                        <a:lnTo>
                          <a:pt x="1994" y="1173"/>
                        </a:lnTo>
                        <a:lnTo>
                          <a:pt x="1994" y="1173"/>
                        </a:lnTo>
                        <a:lnTo>
                          <a:pt x="1994" y="1173"/>
                        </a:lnTo>
                        <a:lnTo>
                          <a:pt x="1967" y="1182"/>
                        </a:lnTo>
                        <a:lnTo>
                          <a:pt x="1967" y="1182"/>
                        </a:lnTo>
                        <a:lnTo>
                          <a:pt x="1967" y="1182"/>
                        </a:lnTo>
                        <a:lnTo>
                          <a:pt x="1945" y="1196"/>
                        </a:lnTo>
                        <a:lnTo>
                          <a:pt x="1945" y="1196"/>
                        </a:lnTo>
                        <a:lnTo>
                          <a:pt x="1945" y="1196"/>
                        </a:lnTo>
                        <a:lnTo>
                          <a:pt x="1923" y="1204"/>
                        </a:lnTo>
                        <a:lnTo>
                          <a:pt x="1923" y="1204"/>
                        </a:lnTo>
                        <a:lnTo>
                          <a:pt x="1923" y="1204"/>
                        </a:lnTo>
                        <a:lnTo>
                          <a:pt x="1897" y="1218"/>
                        </a:lnTo>
                        <a:lnTo>
                          <a:pt x="1897" y="1218"/>
                        </a:lnTo>
                        <a:lnTo>
                          <a:pt x="1897" y="1218"/>
                        </a:lnTo>
                        <a:lnTo>
                          <a:pt x="1870" y="1231"/>
                        </a:lnTo>
                        <a:lnTo>
                          <a:pt x="1870" y="1231"/>
                        </a:lnTo>
                        <a:lnTo>
                          <a:pt x="1870" y="1231"/>
                        </a:lnTo>
                        <a:lnTo>
                          <a:pt x="1844" y="1240"/>
                        </a:lnTo>
                        <a:lnTo>
                          <a:pt x="1844" y="1240"/>
                        </a:lnTo>
                        <a:lnTo>
                          <a:pt x="1844" y="1240"/>
                        </a:lnTo>
                        <a:lnTo>
                          <a:pt x="1817" y="1253"/>
                        </a:lnTo>
                        <a:lnTo>
                          <a:pt x="1817" y="1253"/>
                        </a:lnTo>
                        <a:lnTo>
                          <a:pt x="1817" y="1253"/>
                        </a:lnTo>
                        <a:lnTo>
                          <a:pt x="1786" y="1257"/>
                        </a:lnTo>
                        <a:lnTo>
                          <a:pt x="1786" y="1257"/>
                        </a:lnTo>
                        <a:lnTo>
                          <a:pt x="1786" y="1257"/>
                        </a:lnTo>
                        <a:lnTo>
                          <a:pt x="1764" y="1271"/>
                        </a:lnTo>
                        <a:lnTo>
                          <a:pt x="1764" y="1271"/>
                        </a:lnTo>
                        <a:lnTo>
                          <a:pt x="1764" y="1271"/>
                        </a:lnTo>
                        <a:lnTo>
                          <a:pt x="1734" y="1279"/>
                        </a:lnTo>
                        <a:lnTo>
                          <a:pt x="1734" y="1279"/>
                        </a:lnTo>
                        <a:lnTo>
                          <a:pt x="1734" y="1279"/>
                        </a:lnTo>
                        <a:lnTo>
                          <a:pt x="1707" y="1293"/>
                        </a:lnTo>
                        <a:lnTo>
                          <a:pt x="1707" y="1293"/>
                        </a:lnTo>
                        <a:lnTo>
                          <a:pt x="1707" y="1293"/>
                        </a:lnTo>
                        <a:lnTo>
                          <a:pt x="1681" y="1301"/>
                        </a:lnTo>
                        <a:lnTo>
                          <a:pt x="1681" y="1301"/>
                        </a:lnTo>
                        <a:lnTo>
                          <a:pt x="1681" y="1301"/>
                        </a:lnTo>
                        <a:lnTo>
                          <a:pt x="1650" y="1310"/>
                        </a:lnTo>
                        <a:lnTo>
                          <a:pt x="1650" y="1310"/>
                        </a:lnTo>
                        <a:lnTo>
                          <a:pt x="1650" y="1310"/>
                        </a:lnTo>
                        <a:lnTo>
                          <a:pt x="1619" y="1319"/>
                        </a:lnTo>
                        <a:lnTo>
                          <a:pt x="1619" y="1319"/>
                        </a:lnTo>
                        <a:lnTo>
                          <a:pt x="1619" y="1319"/>
                        </a:lnTo>
                        <a:lnTo>
                          <a:pt x="1592" y="1328"/>
                        </a:lnTo>
                        <a:lnTo>
                          <a:pt x="1592" y="1328"/>
                        </a:lnTo>
                        <a:lnTo>
                          <a:pt x="1592" y="1328"/>
                        </a:lnTo>
                        <a:lnTo>
                          <a:pt x="1562" y="1332"/>
                        </a:lnTo>
                        <a:lnTo>
                          <a:pt x="1562" y="1332"/>
                        </a:lnTo>
                        <a:lnTo>
                          <a:pt x="1562" y="1332"/>
                        </a:lnTo>
                        <a:lnTo>
                          <a:pt x="1531" y="1345"/>
                        </a:lnTo>
                        <a:lnTo>
                          <a:pt x="1531" y="1345"/>
                        </a:lnTo>
                        <a:lnTo>
                          <a:pt x="1531" y="1345"/>
                        </a:lnTo>
                        <a:lnTo>
                          <a:pt x="1504" y="1354"/>
                        </a:lnTo>
                        <a:lnTo>
                          <a:pt x="1504" y="1354"/>
                        </a:lnTo>
                        <a:lnTo>
                          <a:pt x="1504" y="1354"/>
                        </a:lnTo>
                        <a:lnTo>
                          <a:pt x="1469" y="1359"/>
                        </a:lnTo>
                        <a:lnTo>
                          <a:pt x="1469" y="1359"/>
                        </a:lnTo>
                        <a:lnTo>
                          <a:pt x="1469" y="1359"/>
                        </a:lnTo>
                        <a:lnTo>
                          <a:pt x="1438" y="1368"/>
                        </a:lnTo>
                        <a:lnTo>
                          <a:pt x="1438" y="1368"/>
                        </a:lnTo>
                        <a:lnTo>
                          <a:pt x="1438" y="1368"/>
                        </a:lnTo>
                        <a:lnTo>
                          <a:pt x="1407" y="1376"/>
                        </a:lnTo>
                        <a:lnTo>
                          <a:pt x="1407" y="1376"/>
                        </a:lnTo>
                        <a:lnTo>
                          <a:pt x="1407" y="1376"/>
                        </a:lnTo>
                        <a:lnTo>
                          <a:pt x="1376" y="1385"/>
                        </a:lnTo>
                        <a:lnTo>
                          <a:pt x="1376" y="1385"/>
                        </a:lnTo>
                        <a:lnTo>
                          <a:pt x="1376" y="1385"/>
                        </a:lnTo>
                        <a:lnTo>
                          <a:pt x="1341" y="1394"/>
                        </a:lnTo>
                        <a:lnTo>
                          <a:pt x="1341" y="1394"/>
                        </a:lnTo>
                        <a:lnTo>
                          <a:pt x="1341" y="1394"/>
                        </a:lnTo>
                        <a:lnTo>
                          <a:pt x="1310" y="1398"/>
                        </a:lnTo>
                        <a:lnTo>
                          <a:pt x="1310" y="1398"/>
                        </a:lnTo>
                        <a:lnTo>
                          <a:pt x="1310" y="1398"/>
                        </a:lnTo>
                        <a:lnTo>
                          <a:pt x="1279" y="1407"/>
                        </a:lnTo>
                        <a:lnTo>
                          <a:pt x="1279" y="1407"/>
                        </a:lnTo>
                        <a:lnTo>
                          <a:pt x="1279" y="1407"/>
                        </a:lnTo>
                        <a:lnTo>
                          <a:pt x="1244" y="1407"/>
                        </a:lnTo>
                        <a:lnTo>
                          <a:pt x="1244" y="1407"/>
                        </a:lnTo>
                        <a:lnTo>
                          <a:pt x="1244" y="1407"/>
                        </a:lnTo>
                        <a:lnTo>
                          <a:pt x="1212" y="1416"/>
                        </a:lnTo>
                        <a:lnTo>
                          <a:pt x="1212" y="1416"/>
                        </a:lnTo>
                        <a:lnTo>
                          <a:pt x="1212" y="1416"/>
                        </a:lnTo>
                        <a:lnTo>
                          <a:pt x="1177" y="1420"/>
                        </a:lnTo>
                        <a:lnTo>
                          <a:pt x="1177" y="1420"/>
                        </a:lnTo>
                        <a:lnTo>
                          <a:pt x="1177" y="1420"/>
                        </a:lnTo>
                        <a:lnTo>
                          <a:pt x="1142" y="1429"/>
                        </a:lnTo>
                        <a:lnTo>
                          <a:pt x="1142" y="1429"/>
                        </a:lnTo>
                        <a:lnTo>
                          <a:pt x="1142" y="1429"/>
                        </a:lnTo>
                        <a:lnTo>
                          <a:pt x="1111" y="1434"/>
                        </a:lnTo>
                        <a:lnTo>
                          <a:pt x="1111" y="1434"/>
                        </a:lnTo>
                        <a:lnTo>
                          <a:pt x="1111" y="1434"/>
                        </a:lnTo>
                        <a:lnTo>
                          <a:pt x="1075" y="1438"/>
                        </a:lnTo>
                        <a:lnTo>
                          <a:pt x="1075" y="1438"/>
                        </a:lnTo>
                        <a:lnTo>
                          <a:pt x="1075" y="1438"/>
                        </a:lnTo>
                        <a:lnTo>
                          <a:pt x="1040" y="1442"/>
                        </a:lnTo>
                        <a:lnTo>
                          <a:pt x="1040" y="1442"/>
                        </a:lnTo>
                        <a:lnTo>
                          <a:pt x="1040" y="1442"/>
                        </a:lnTo>
                        <a:lnTo>
                          <a:pt x="1009" y="1447"/>
                        </a:lnTo>
                        <a:lnTo>
                          <a:pt x="1009" y="1447"/>
                        </a:lnTo>
                        <a:lnTo>
                          <a:pt x="1009" y="1447"/>
                        </a:lnTo>
                        <a:lnTo>
                          <a:pt x="970" y="1456"/>
                        </a:lnTo>
                        <a:lnTo>
                          <a:pt x="970" y="1456"/>
                        </a:lnTo>
                        <a:lnTo>
                          <a:pt x="970" y="1456"/>
                        </a:lnTo>
                        <a:lnTo>
                          <a:pt x="939" y="1456"/>
                        </a:lnTo>
                        <a:lnTo>
                          <a:pt x="939" y="1456"/>
                        </a:lnTo>
                        <a:lnTo>
                          <a:pt x="939" y="1456"/>
                        </a:lnTo>
                        <a:lnTo>
                          <a:pt x="899" y="1460"/>
                        </a:lnTo>
                        <a:lnTo>
                          <a:pt x="899" y="1460"/>
                        </a:lnTo>
                        <a:lnTo>
                          <a:pt x="899" y="1460"/>
                        </a:lnTo>
                        <a:lnTo>
                          <a:pt x="864" y="1465"/>
                        </a:lnTo>
                        <a:lnTo>
                          <a:pt x="864" y="1465"/>
                        </a:lnTo>
                        <a:lnTo>
                          <a:pt x="864" y="1465"/>
                        </a:lnTo>
                        <a:lnTo>
                          <a:pt x="829" y="1469"/>
                        </a:lnTo>
                        <a:lnTo>
                          <a:pt x="829" y="1469"/>
                        </a:lnTo>
                        <a:lnTo>
                          <a:pt x="829" y="1469"/>
                        </a:lnTo>
                        <a:lnTo>
                          <a:pt x="798" y="1469"/>
                        </a:lnTo>
                        <a:lnTo>
                          <a:pt x="798" y="1469"/>
                        </a:lnTo>
                        <a:lnTo>
                          <a:pt x="798" y="1469"/>
                        </a:lnTo>
                        <a:lnTo>
                          <a:pt x="758" y="1473"/>
                        </a:lnTo>
                        <a:lnTo>
                          <a:pt x="758" y="1473"/>
                        </a:lnTo>
                        <a:lnTo>
                          <a:pt x="758" y="1473"/>
                        </a:lnTo>
                        <a:lnTo>
                          <a:pt x="723" y="1478"/>
                        </a:lnTo>
                        <a:lnTo>
                          <a:pt x="723" y="1478"/>
                        </a:lnTo>
                        <a:lnTo>
                          <a:pt x="723" y="1478"/>
                        </a:lnTo>
                        <a:lnTo>
                          <a:pt x="687" y="1478"/>
                        </a:lnTo>
                        <a:lnTo>
                          <a:pt x="687" y="1478"/>
                        </a:lnTo>
                        <a:lnTo>
                          <a:pt x="687" y="1478"/>
                        </a:lnTo>
                        <a:lnTo>
                          <a:pt x="652" y="1482"/>
                        </a:lnTo>
                        <a:lnTo>
                          <a:pt x="652" y="1482"/>
                        </a:lnTo>
                        <a:lnTo>
                          <a:pt x="652" y="1482"/>
                        </a:lnTo>
                        <a:lnTo>
                          <a:pt x="612" y="1482"/>
                        </a:lnTo>
                        <a:lnTo>
                          <a:pt x="612" y="1482"/>
                        </a:lnTo>
                        <a:lnTo>
                          <a:pt x="612" y="1482"/>
                        </a:lnTo>
                        <a:lnTo>
                          <a:pt x="582" y="1482"/>
                        </a:lnTo>
                        <a:lnTo>
                          <a:pt x="582" y="1482"/>
                        </a:lnTo>
                        <a:lnTo>
                          <a:pt x="582" y="1482"/>
                        </a:lnTo>
                        <a:lnTo>
                          <a:pt x="542" y="1487"/>
                        </a:lnTo>
                        <a:lnTo>
                          <a:pt x="542" y="1487"/>
                        </a:lnTo>
                        <a:lnTo>
                          <a:pt x="542" y="1487"/>
                        </a:lnTo>
                        <a:lnTo>
                          <a:pt x="507" y="1487"/>
                        </a:lnTo>
                        <a:lnTo>
                          <a:pt x="507" y="1487"/>
                        </a:lnTo>
                        <a:lnTo>
                          <a:pt x="507" y="1487"/>
                        </a:lnTo>
                        <a:lnTo>
                          <a:pt x="467" y="1491"/>
                        </a:lnTo>
                        <a:lnTo>
                          <a:pt x="467" y="1491"/>
                        </a:lnTo>
                        <a:lnTo>
                          <a:pt x="467" y="1491"/>
                        </a:lnTo>
                        <a:lnTo>
                          <a:pt x="432" y="1491"/>
                        </a:lnTo>
                        <a:lnTo>
                          <a:pt x="432" y="1491"/>
                        </a:lnTo>
                        <a:lnTo>
                          <a:pt x="432" y="1491"/>
                        </a:lnTo>
                        <a:lnTo>
                          <a:pt x="396" y="1491"/>
                        </a:lnTo>
                        <a:lnTo>
                          <a:pt x="396" y="1491"/>
                        </a:lnTo>
                        <a:lnTo>
                          <a:pt x="396" y="1491"/>
                        </a:lnTo>
                        <a:lnTo>
                          <a:pt x="361" y="1491"/>
                        </a:lnTo>
                        <a:lnTo>
                          <a:pt x="361" y="1491"/>
                        </a:lnTo>
                        <a:lnTo>
                          <a:pt x="361" y="1491"/>
                        </a:lnTo>
                        <a:lnTo>
                          <a:pt x="321" y="1491"/>
                        </a:lnTo>
                        <a:lnTo>
                          <a:pt x="321" y="1491"/>
                        </a:lnTo>
                        <a:lnTo>
                          <a:pt x="321" y="1491"/>
                        </a:lnTo>
                        <a:lnTo>
                          <a:pt x="291" y="1487"/>
                        </a:lnTo>
                        <a:lnTo>
                          <a:pt x="291" y="1487"/>
                        </a:lnTo>
                        <a:lnTo>
                          <a:pt x="291" y="1487"/>
                        </a:lnTo>
                        <a:lnTo>
                          <a:pt x="251" y="1487"/>
                        </a:lnTo>
                        <a:lnTo>
                          <a:pt x="251" y="1487"/>
                        </a:lnTo>
                        <a:lnTo>
                          <a:pt x="251" y="1487"/>
                        </a:lnTo>
                        <a:lnTo>
                          <a:pt x="216" y="1482"/>
                        </a:lnTo>
                        <a:lnTo>
                          <a:pt x="216" y="1482"/>
                        </a:lnTo>
                        <a:lnTo>
                          <a:pt x="216" y="1482"/>
                        </a:lnTo>
                        <a:lnTo>
                          <a:pt x="180" y="1482"/>
                        </a:lnTo>
                        <a:lnTo>
                          <a:pt x="180" y="1482"/>
                        </a:lnTo>
                        <a:lnTo>
                          <a:pt x="180" y="1482"/>
                        </a:lnTo>
                        <a:lnTo>
                          <a:pt x="145" y="1482"/>
                        </a:lnTo>
                        <a:lnTo>
                          <a:pt x="145" y="1482"/>
                        </a:lnTo>
                        <a:lnTo>
                          <a:pt x="145" y="1482"/>
                        </a:lnTo>
                        <a:lnTo>
                          <a:pt x="105" y="1478"/>
                        </a:lnTo>
                        <a:lnTo>
                          <a:pt x="105" y="1478"/>
                        </a:lnTo>
                        <a:lnTo>
                          <a:pt x="105" y="1478"/>
                        </a:lnTo>
                        <a:lnTo>
                          <a:pt x="70" y="1478"/>
                        </a:lnTo>
                        <a:lnTo>
                          <a:pt x="70" y="1478"/>
                        </a:lnTo>
                        <a:lnTo>
                          <a:pt x="70" y="1478"/>
                        </a:lnTo>
                        <a:lnTo>
                          <a:pt x="35" y="1473"/>
                        </a:lnTo>
                        <a:lnTo>
                          <a:pt x="35" y="1473"/>
                        </a:lnTo>
                        <a:lnTo>
                          <a:pt x="35" y="1473"/>
                        </a:lnTo>
                        <a:lnTo>
                          <a:pt x="0" y="1469"/>
                        </a:lnTo>
                        <a:lnTo>
                          <a:pt x="0" y="1469"/>
                        </a:lnTo>
                        <a:lnTo>
                          <a:pt x="396" y="604"/>
                        </a:lnTo>
                        <a:lnTo>
                          <a:pt x="1923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995400" y="5149800"/>
                    <a:ext cx="749520" cy="394200"/>
                  </a:xfrm>
                  <a:custGeom>
                    <a:avLst/>
                    <a:gdLst/>
                    <a:ahLst/>
                    <a:rect l="0" t="0" r="r" b="b"/>
                    <a:pathLst>
                      <a:path w="2082" h="1095">
                        <a:moveTo>
                          <a:pt x="1685" y="1095"/>
                        </a:moveTo>
                        <a:lnTo>
                          <a:pt x="1685" y="1095"/>
                        </a:lnTo>
                        <a:lnTo>
                          <a:pt x="1650" y="1091"/>
                        </a:lnTo>
                        <a:lnTo>
                          <a:pt x="1650" y="1091"/>
                        </a:lnTo>
                        <a:lnTo>
                          <a:pt x="1650" y="1091"/>
                        </a:lnTo>
                        <a:lnTo>
                          <a:pt x="1614" y="1091"/>
                        </a:lnTo>
                        <a:lnTo>
                          <a:pt x="1614" y="1091"/>
                        </a:lnTo>
                        <a:lnTo>
                          <a:pt x="1614" y="1091"/>
                        </a:lnTo>
                        <a:lnTo>
                          <a:pt x="1579" y="1086"/>
                        </a:lnTo>
                        <a:lnTo>
                          <a:pt x="1579" y="1086"/>
                        </a:lnTo>
                        <a:lnTo>
                          <a:pt x="1579" y="1086"/>
                        </a:lnTo>
                        <a:lnTo>
                          <a:pt x="1539" y="1082"/>
                        </a:lnTo>
                        <a:lnTo>
                          <a:pt x="1539" y="1082"/>
                        </a:lnTo>
                        <a:lnTo>
                          <a:pt x="1539" y="1082"/>
                        </a:lnTo>
                        <a:lnTo>
                          <a:pt x="1509" y="1077"/>
                        </a:lnTo>
                        <a:lnTo>
                          <a:pt x="1509" y="1077"/>
                        </a:lnTo>
                        <a:lnTo>
                          <a:pt x="1509" y="1077"/>
                        </a:lnTo>
                        <a:lnTo>
                          <a:pt x="1473" y="1073"/>
                        </a:lnTo>
                        <a:lnTo>
                          <a:pt x="1473" y="1073"/>
                        </a:lnTo>
                        <a:lnTo>
                          <a:pt x="1473" y="1073"/>
                        </a:lnTo>
                        <a:lnTo>
                          <a:pt x="1438" y="1069"/>
                        </a:lnTo>
                        <a:lnTo>
                          <a:pt x="1438" y="1069"/>
                        </a:lnTo>
                        <a:lnTo>
                          <a:pt x="1438" y="1069"/>
                        </a:lnTo>
                        <a:lnTo>
                          <a:pt x="1403" y="1064"/>
                        </a:lnTo>
                        <a:lnTo>
                          <a:pt x="1403" y="1064"/>
                        </a:lnTo>
                        <a:lnTo>
                          <a:pt x="1403" y="1064"/>
                        </a:lnTo>
                        <a:lnTo>
                          <a:pt x="1372" y="1060"/>
                        </a:lnTo>
                        <a:lnTo>
                          <a:pt x="1372" y="1060"/>
                        </a:lnTo>
                        <a:lnTo>
                          <a:pt x="1372" y="1060"/>
                        </a:lnTo>
                        <a:lnTo>
                          <a:pt x="1337" y="1051"/>
                        </a:lnTo>
                        <a:lnTo>
                          <a:pt x="1337" y="1051"/>
                        </a:lnTo>
                        <a:lnTo>
                          <a:pt x="1337" y="1051"/>
                        </a:lnTo>
                        <a:lnTo>
                          <a:pt x="1301" y="1051"/>
                        </a:lnTo>
                        <a:lnTo>
                          <a:pt x="1301" y="1051"/>
                        </a:lnTo>
                        <a:lnTo>
                          <a:pt x="1301" y="1051"/>
                        </a:lnTo>
                        <a:lnTo>
                          <a:pt x="1266" y="1047"/>
                        </a:lnTo>
                        <a:lnTo>
                          <a:pt x="1266" y="1047"/>
                        </a:lnTo>
                        <a:lnTo>
                          <a:pt x="1266" y="1047"/>
                        </a:lnTo>
                        <a:lnTo>
                          <a:pt x="1235" y="1038"/>
                        </a:lnTo>
                        <a:lnTo>
                          <a:pt x="1235" y="1038"/>
                        </a:lnTo>
                        <a:lnTo>
                          <a:pt x="1235" y="1038"/>
                        </a:lnTo>
                        <a:lnTo>
                          <a:pt x="1204" y="1033"/>
                        </a:lnTo>
                        <a:lnTo>
                          <a:pt x="1204" y="1033"/>
                        </a:lnTo>
                        <a:lnTo>
                          <a:pt x="1204" y="1033"/>
                        </a:lnTo>
                        <a:lnTo>
                          <a:pt x="1169" y="1025"/>
                        </a:lnTo>
                        <a:lnTo>
                          <a:pt x="1169" y="1025"/>
                        </a:lnTo>
                        <a:lnTo>
                          <a:pt x="1169" y="1025"/>
                        </a:lnTo>
                        <a:lnTo>
                          <a:pt x="1134" y="1020"/>
                        </a:lnTo>
                        <a:lnTo>
                          <a:pt x="1134" y="1020"/>
                        </a:lnTo>
                        <a:lnTo>
                          <a:pt x="1134" y="1020"/>
                        </a:lnTo>
                        <a:lnTo>
                          <a:pt x="1107" y="1011"/>
                        </a:lnTo>
                        <a:lnTo>
                          <a:pt x="1107" y="1011"/>
                        </a:lnTo>
                        <a:lnTo>
                          <a:pt x="1107" y="1011"/>
                        </a:lnTo>
                        <a:lnTo>
                          <a:pt x="1072" y="1003"/>
                        </a:lnTo>
                        <a:lnTo>
                          <a:pt x="1072" y="1003"/>
                        </a:lnTo>
                        <a:lnTo>
                          <a:pt x="1072" y="1003"/>
                        </a:lnTo>
                        <a:lnTo>
                          <a:pt x="1040" y="994"/>
                        </a:lnTo>
                        <a:lnTo>
                          <a:pt x="1040" y="994"/>
                        </a:lnTo>
                        <a:lnTo>
                          <a:pt x="1040" y="994"/>
                        </a:lnTo>
                        <a:lnTo>
                          <a:pt x="1009" y="985"/>
                        </a:lnTo>
                        <a:lnTo>
                          <a:pt x="1009" y="985"/>
                        </a:lnTo>
                        <a:lnTo>
                          <a:pt x="1009" y="985"/>
                        </a:lnTo>
                        <a:lnTo>
                          <a:pt x="978" y="976"/>
                        </a:lnTo>
                        <a:lnTo>
                          <a:pt x="978" y="976"/>
                        </a:lnTo>
                        <a:lnTo>
                          <a:pt x="978" y="976"/>
                        </a:lnTo>
                        <a:lnTo>
                          <a:pt x="948" y="972"/>
                        </a:lnTo>
                        <a:lnTo>
                          <a:pt x="948" y="972"/>
                        </a:lnTo>
                        <a:lnTo>
                          <a:pt x="948" y="972"/>
                        </a:lnTo>
                        <a:lnTo>
                          <a:pt x="917" y="963"/>
                        </a:lnTo>
                        <a:lnTo>
                          <a:pt x="917" y="963"/>
                        </a:lnTo>
                        <a:lnTo>
                          <a:pt x="917" y="963"/>
                        </a:lnTo>
                        <a:lnTo>
                          <a:pt x="890" y="954"/>
                        </a:lnTo>
                        <a:lnTo>
                          <a:pt x="890" y="954"/>
                        </a:lnTo>
                        <a:lnTo>
                          <a:pt x="890" y="954"/>
                        </a:lnTo>
                        <a:lnTo>
                          <a:pt x="855" y="945"/>
                        </a:lnTo>
                        <a:lnTo>
                          <a:pt x="855" y="945"/>
                        </a:lnTo>
                        <a:lnTo>
                          <a:pt x="855" y="945"/>
                        </a:lnTo>
                        <a:lnTo>
                          <a:pt x="829" y="936"/>
                        </a:lnTo>
                        <a:lnTo>
                          <a:pt x="829" y="936"/>
                        </a:lnTo>
                        <a:lnTo>
                          <a:pt x="829" y="936"/>
                        </a:lnTo>
                        <a:lnTo>
                          <a:pt x="798" y="923"/>
                        </a:lnTo>
                        <a:lnTo>
                          <a:pt x="798" y="923"/>
                        </a:lnTo>
                        <a:lnTo>
                          <a:pt x="798" y="923"/>
                        </a:lnTo>
                        <a:lnTo>
                          <a:pt x="767" y="919"/>
                        </a:lnTo>
                        <a:lnTo>
                          <a:pt x="767" y="919"/>
                        </a:lnTo>
                        <a:lnTo>
                          <a:pt x="767" y="919"/>
                        </a:lnTo>
                        <a:lnTo>
                          <a:pt x="745" y="905"/>
                        </a:lnTo>
                        <a:lnTo>
                          <a:pt x="745" y="905"/>
                        </a:lnTo>
                        <a:lnTo>
                          <a:pt x="745" y="905"/>
                        </a:lnTo>
                        <a:lnTo>
                          <a:pt x="714" y="897"/>
                        </a:lnTo>
                        <a:lnTo>
                          <a:pt x="714" y="897"/>
                        </a:lnTo>
                        <a:lnTo>
                          <a:pt x="714" y="897"/>
                        </a:lnTo>
                        <a:lnTo>
                          <a:pt x="687" y="888"/>
                        </a:lnTo>
                        <a:lnTo>
                          <a:pt x="687" y="888"/>
                        </a:lnTo>
                        <a:lnTo>
                          <a:pt x="687" y="888"/>
                        </a:lnTo>
                        <a:lnTo>
                          <a:pt x="661" y="875"/>
                        </a:lnTo>
                        <a:lnTo>
                          <a:pt x="661" y="875"/>
                        </a:lnTo>
                        <a:lnTo>
                          <a:pt x="661" y="875"/>
                        </a:lnTo>
                        <a:lnTo>
                          <a:pt x="635" y="866"/>
                        </a:lnTo>
                        <a:lnTo>
                          <a:pt x="635" y="866"/>
                        </a:lnTo>
                        <a:lnTo>
                          <a:pt x="635" y="866"/>
                        </a:lnTo>
                        <a:lnTo>
                          <a:pt x="612" y="857"/>
                        </a:lnTo>
                        <a:lnTo>
                          <a:pt x="612" y="857"/>
                        </a:lnTo>
                        <a:lnTo>
                          <a:pt x="612" y="857"/>
                        </a:lnTo>
                        <a:lnTo>
                          <a:pt x="586" y="844"/>
                        </a:lnTo>
                        <a:lnTo>
                          <a:pt x="586" y="844"/>
                        </a:lnTo>
                        <a:lnTo>
                          <a:pt x="586" y="844"/>
                        </a:lnTo>
                        <a:lnTo>
                          <a:pt x="560" y="831"/>
                        </a:lnTo>
                        <a:lnTo>
                          <a:pt x="560" y="831"/>
                        </a:lnTo>
                        <a:lnTo>
                          <a:pt x="560" y="831"/>
                        </a:lnTo>
                        <a:lnTo>
                          <a:pt x="533" y="822"/>
                        </a:lnTo>
                        <a:lnTo>
                          <a:pt x="533" y="822"/>
                        </a:lnTo>
                        <a:lnTo>
                          <a:pt x="533" y="822"/>
                        </a:lnTo>
                        <a:lnTo>
                          <a:pt x="511" y="807"/>
                        </a:lnTo>
                        <a:lnTo>
                          <a:pt x="511" y="807"/>
                        </a:lnTo>
                        <a:lnTo>
                          <a:pt x="511" y="807"/>
                        </a:lnTo>
                        <a:lnTo>
                          <a:pt x="485" y="799"/>
                        </a:lnTo>
                        <a:lnTo>
                          <a:pt x="485" y="799"/>
                        </a:lnTo>
                        <a:lnTo>
                          <a:pt x="485" y="799"/>
                        </a:lnTo>
                        <a:lnTo>
                          <a:pt x="463" y="785"/>
                        </a:lnTo>
                        <a:lnTo>
                          <a:pt x="463" y="785"/>
                        </a:lnTo>
                        <a:lnTo>
                          <a:pt x="463" y="785"/>
                        </a:lnTo>
                        <a:lnTo>
                          <a:pt x="440" y="772"/>
                        </a:lnTo>
                        <a:lnTo>
                          <a:pt x="440" y="772"/>
                        </a:lnTo>
                        <a:lnTo>
                          <a:pt x="440" y="772"/>
                        </a:lnTo>
                        <a:lnTo>
                          <a:pt x="418" y="759"/>
                        </a:lnTo>
                        <a:lnTo>
                          <a:pt x="418" y="759"/>
                        </a:lnTo>
                        <a:lnTo>
                          <a:pt x="418" y="759"/>
                        </a:lnTo>
                        <a:lnTo>
                          <a:pt x="396" y="746"/>
                        </a:lnTo>
                        <a:lnTo>
                          <a:pt x="396" y="746"/>
                        </a:lnTo>
                        <a:lnTo>
                          <a:pt x="396" y="746"/>
                        </a:lnTo>
                        <a:lnTo>
                          <a:pt x="374" y="733"/>
                        </a:lnTo>
                        <a:lnTo>
                          <a:pt x="374" y="733"/>
                        </a:lnTo>
                        <a:lnTo>
                          <a:pt x="374" y="733"/>
                        </a:lnTo>
                        <a:lnTo>
                          <a:pt x="352" y="724"/>
                        </a:lnTo>
                        <a:lnTo>
                          <a:pt x="352" y="724"/>
                        </a:lnTo>
                        <a:lnTo>
                          <a:pt x="352" y="724"/>
                        </a:lnTo>
                        <a:lnTo>
                          <a:pt x="335" y="710"/>
                        </a:lnTo>
                        <a:lnTo>
                          <a:pt x="335" y="710"/>
                        </a:lnTo>
                        <a:lnTo>
                          <a:pt x="335" y="710"/>
                        </a:lnTo>
                        <a:lnTo>
                          <a:pt x="317" y="697"/>
                        </a:lnTo>
                        <a:lnTo>
                          <a:pt x="317" y="697"/>
                        </a:lnTo>
                        <a:lnTo>
                          <a:pt x="317" y="697"/>
                        </a:lnTo>
                        <a:lnTo>
                          <a:pt x="295" y="684"/>
                        </a:lnTo>
                        <a:lnTo>
                          <a:pt x="295" y="684"/>
                        </a:lnTo>
                        <a:lnTo>
                          <a:pt x="295" y="684"/>
                        </a:lnTo>
                        <a:lnTo>
                          <a:pt x="277" y="671"/>
                        </a:lnTo>
                        <a:lnTo>
                          <a:pt x="277" y="671"/>
                        </a:lnTo>
                        <a:lnTo>
                          <a:pt x="277" y="671"/>
                        </a:lnTo>
                        <a:lnTo>
                          <a:pt x="260" y="658"/>
                        </a:lnTo>
                        <a:lnTo>
                          <a:pt x="260" y="658"/>
                        </a:lnTo>
                        <a:lnTo>
                          <a:pt x="260" y="658"/>
                        </a:lnTo>
                        <a:lnTo>
                          <a:pt x="242" y="644"/>
                        </a:lnTo>
                        <a:lnTo>
                          <a:pt x="242" y="644"/>
                        </a:lnTo>
                        <a:lnTo>
                          <a:pt x="242" y="644"/>
                        </a:lnTo>
                        <a:lnTo>
                          <a:pt x="224" y="631"/>
                        </a:lnTo>
                        <a:lnTo>
                          <a:pt x="224" y="631"/>
                        </a:lnTo>
                        <a:lnTo>
                          <a:pt x="224" y="631"/>
                        </a:lnTo>
                        <a:lnTo>
                          <a:pt x="211" y="618"/>
                        </a:lnTo>
                        <a:lnTo>
                          <a:pt x="211" y="618"/>
                        </a:lnTo>
                        <a:lnTo>
                          <a:pt x="211" y="618"/>
                        </a:lnTo>
                        <a:lnTo>
                          <a:pt x="194" y="605"/>
                        </a:lnTo>
                        <a:lnTo>
                          <a:pt x="194" y="605"/>
                        </a:lnTo>
                        <a:lnTo>
                          <a:pt x="194" y="605"/>
                        </a:lnTo>
                        <a:lnTo>
                          <a:pt x="180" y="587"/>
                        </a:lnTo>
                        <a:lnTo>
                          <a:pt x="180" y="587"/>
                        </a:lnTo>
                        <a:lnTo>
                          <a:pt x="180" y="587"/>
                        </a:lnTo>
                        <a:lnTo>
                          <a:pt x="163" y="578"/>
                        </a:lnTo>
                        <a:lnTo>
                          <a:pt x="163" y="578"/>
                        </a:lnTo>
                        <a:lnTo>
                          <a:pt x="163" y="578"/>
                        </a:lnTo>
                        <a:lnTo>
                          <a:pt x="149" y="561"/>
                        </a:lnTo>
                        <a:lnTo>
                          <a:pt x="149" y="561"/>
                        </a:lnTo>
                        <a:lnTo>
                          <a:pt x="149" y="561"/>
                        </a:lnTo>
                        <a:lnTo>
                          <a:pt x="136" y="547"/>
                        </a:lnTo>
                        <a:lnTo>
                          <a:pt x="136" y="547"/>
                        </a:lnTo>
                        <a:lnTo>
                          <a:pt x="136" y="547"/>
                        </a:lnTo>
                        <a:lnTo>
                          <a:pt x="127" y="530"/>
                        </a:lnTo>
                        <a:lnTo>
                          <a:pt x="127" y="530"/>
                        </a:lnTo>
                        <a:lnTo>
                          <a:pt x="127" y="530"/>
                        </a:lnTo>
                        <a:lnTo>
                          <a:pt x="114" y="516"/>
                        </a:lnTo>
                        <a:lnTo>
                          <a:pt x="114" y="516"/>
                        </a:lnTo>
                        <a:lnTo>
                          <a:pt x="114" y="516"/>
                        </a:lnTo>
                        <a:lnTo>
                          <a:pt x="101" y="503"/>
                        </a:lnTo>
                        <a:lnTo>
                          <a:pt x="101" y="503"/>
                        </a:lnTo>
                        <a:lnTo>
                          <a:pt x="101" y="503"/>
                        </a:lnTo>
                        <a:lnTo>
                          <a:pt x="88" y="490"/>
                        </a:lnTo>
                        <a:lnTo>
                          <a:pt x="88" y="490"/>
                        </a:lnTo>
                        <a:lnTo>
                          <a:pt x="88" y="490"/>
                        </a:lnTo>
                        <a:lnTo>
                          <a:pt x="79" y="472"/>
                        </a:lnTo>
                        <a:lnTo>
                          <a:pt x="79" y="472"/>
                        </a:lnTo>
                        <a:lnTo>
                          <a:pt x="79" y="472"/>
                        </a:lnTo>
                        <a:lnTo>
                          <a:pt x="70" y="459"/>
                        </a:lnTo>
                        <a:lnTo>
                          <a:pt x="70" y="459"/>
                        </a:lnTo>
                        <a:lnTo>
                          <a:pt x="70" y="459"/>
                        </a:lnTo>
                        <a:lnTo>
                          <a:pt x="61" y="441"/>
                        </a:lnTo>
                        <a:lnTo>
                          <a:pt x="61" y="441"/>
                        </a:lnTo>
                        <a:lnTo>
                          <a:pt x="61" y="441"/>
                        </a:lnTo>
                        <a:lnTo>
                          <a:pt x="52" y="428"/>
                        </a:lnTo>
                        <a:lnTo>
                          <a:pt x="52" y="428"/>
                        </a:lnTo>
                        <a:lnTo>
                          <a:pt x="52" y="428"/>
                        </a:lnTo>
                        <a:lnTo>
                          <a:pt x="44" y="415"/>
                        </a:lnTo>
                        <a:lnTo>
                          <a:pt x="44" y="415"/>
                        </a:lnTo>
                        <a:lnTo>
                          <a:pt x="44" y="415"/>
                        </a:lnTo>
                        <a:lnTo>
                          <a:pt x="39" y="397"/>
                        </a:lnTo>
                        <a:lnTo>
                          <a:pt x="39" y="397"/>
                        </a:lnTo>
                        <a:lnTo>
                          <a:pt x="39" y="397"/>
                        </a:lnTo>
                        <a:lnTo>
                          <a:pt x="30" y="384"/>
                        </a:lnTo>
                        <a:lnTo>
                          <a:pt x="30" y="384"/>
                        </a:lnTo>
                        <a:lnTo>
                          <a:pt x="30" y="384"/>
                        </a:lnTo>
                        <a:lnTo>
                          <a:pt x="26" y="367"/>
                        </a:lnTo>
                        <a:lnTo>
                          <a:pt x="26" y="367"/>
                        </a:lnTo>
                        <a:lnTo>
                          <a:pt x="26" y="367"/>
                        </a:lnTo>
                        <a:lnTo>
                          <a:pt x="22" y="353"/>
                        </a:lnTo>
                        <a:lnTo>
                          <a:pt x="22" y="353"/>
                        </a:lnTo>
                        <a:lnTo>
                          <a:pt x="22" y="353"/>
                        </a:lnTo>
                        <a:lnTo>
                          <a:pt x="17" y="340"/>
                        </a:lnTo>
                        <a:lnTo>
                          <a:pt x="17" y="340"/>
                        </a:lnTo>
                        <a:lnTo>
                          <a:pt x="17" y="340"/>
                        </a:lnTo>
                        <a:lnTo>
                          <a:pt x="8" y="322"/>
                        </a:lnTo>
                        <a:lnTo>
                          <a:pt x="8" y="322"/>
                        </a:lnTo>
                        <a:lnTo>
                          <a:pt x="8" y="322"/>
                        </a:lnTo>
                        <a:lnTo>
                          <a:pt x="8" y="305"/>
                        </a:lnTo>
                        <a:lnTo>
                          <a:pt x="8" y="305"/>
                        </a:lnTo>
                        <a:lnTo>
                          <a:pt x="8" y="305"/>
                        </a:lnTo>
                        <a:lnTo>
                          <a:pt x="4" y="292"/>
                        </a:lnTo>
                        <a:lnTo>
                          <a:pt x="4" y="292"/>
                        </a:lnTo>
                        <a:lnTo>
                          <a:pt x="4" y="292"/>
                        </a:lnTo>
                        <a:lnTo>
                          <a:pt x="0" y="273"/>
                        </a:lnTo>
                        <a:lnTo>
                          <a:pt x="0" y="273"/>
                        </a:lnTo>
                        <a:lnTo>
                          <a:pt x="0" y="273"/>
                        </a:lnTo>
                        <a:lnTo>
                          <a:pt x="0" y="260"/>
                        </a:lnTo>
                        <a:lnTo>
                          <a:pt x="0" y="260"/>
                        </a:lnTo>
                        <a:lnTo>
                          <a:pt x="0" y="260"/>
                        </a:lnTo>
                        <a:lnTo>
                          <a:pt x="0" y="246"/>
                        </a:lnTo>
                        <a:lnTo>
                          <a:pt x="0" y="246"/>
                        </a:lnTo>
                        <a:lnTo>
                          <a:pt x="0" y="246"/>
                        </a:lnTo>
                        <a:lnTo>
                          <a:pt x="0" y="229"/>
                        </a:lnTo>
                        <a:lnTo>
                          <a:pt x="0" y="229"/>
                        </a:lnTo>
                        <a:lnTo>
                          <a:pt x="0" y="229"/>
                        </a:lnTo>
                        <a:lnTo>
                          <a:pt x="0" y="211"/>
                        </a:lnTo>
                        <a:lnTo>
                          <a:pt x="0" y="211"/>
                        </a:lnTo>
                        <a:lnTo>
                          <a:pt x="0" y="211"/>
                        </a:lnTo>
                        <a:lnTo>
                          <a:pt x="0" y="198"/>
                        </a:lnTo>
                        <a:lnTo>
                          <a:pt x="0" y="198"/>
                        </a:lnTo>
                        <a:lnTo>
                          <a:pt x="0" y="198"/>
                        </a:lnTo>
                        <a:lnTo>
                          <a:pt x="0" y="180"/>
                        </a:lnTo>
                        <a:lnTo>
                          <a:pt x="0" y="180"/>
                        </a:lnTo>
                        <a:lnTo>
                          <a:pt x="0" y="180"/>
                        </a:lnTo>
                        <a:lnTo>
                          <a:pt x="4" y="167"/>
                        </a:lnTo>
                        <a:lnTo>
                          <a:pt x="4" y="167"/>
                        </a:lnTo>
                        <a:lnTo>
                          <a:pt x="4" y="167"/>
                        </a:lnTo>
                        <a:lnTo>
                          <a:pt x="8" y="149"/>
                        </a:lnTo>
                        <a:lnTo>
                          <a:pt x="8" y="149"/>
                        </a:lnTo>
                        <a:lnTo>
                          <a:pt x="8" y="149"/>
                        </a:lnTo>
                        <a:lnTo>
                          <a:pt x="8" y="136"/>
                        </a:lnTo>
                        <a:lnTo>
                          <a:pt x="8" y="136"/>
                        </a:lnTo>
                        <a:lnTo>
                          <a:pt x="8" y="136"/>
                        </a:lnTo>
                        <a:lnTo>
                          <a:pt x="17" y="123"/>
                        </a:lnTo>
                        <a:lnTo>
                          <a:pt x="17" y="123"/>
                        </a:lnTo>
                        <a:lnTo>
                          <a:pt x="17" y="123"/>
                        </a:lnTo>
                        <a:lnTo>
                          <a:pt x="22" y="105"/>
                        </a:lnTo>
                        <a:lnTo>
                          <a:pt x="22" y="105"/>
                        </a:lnTo>
                        <a:lnTo>
                          <a:pt x="22" y="105"/>
                        </a:lnTo>
                        <a:lnTo>
                          <a:pt x="26" y="92"/>
                        </a:lnTo>
                        <a:lnTo>
                          <a:pt x="26" y="92"/>
                        </a:lnTo>
                        <a:lnTo>
                          <a:pt x="26" y="92"/>
                        </a:lnTo>
                        <a:lnTo>
                          <a:pt x="30" y="74"/>
                        </a:lnTo>
                        <a:lnTo>
                          <a:pt x="30" y="74"/>
                        </a:lnTo>
                        <a:lnTo>
                          <a:pt x="30" y="74"/>
                        </a:lnTo>
                        <a:lnTo>
                          <a:pt x="39" y="61"/>
                        </a:lnTo>
                        <a:lnTo>
                          <a:pt x="39" y="61"/>
                        </a:lnTo>
                        <a:lnTo>
                          <a:pt x="39" y="61"/>
                        </a:lnTo>
                        <a:lnTo>
                          <a:pt x="44" y="44"/>
                        </a:lnTo>
                        <a:lnTo>
                          <a:pt x="44" y="44"/>
                        </a:lnTo>
                        <a:lnTo>
                          <a:pt x="44" y="44"/>
                        </a:lnTo>
                        <a:lnTo>
                          <a:pt x="52" y="26"/>
                        </a:lnTo>
                        <a:lnTo>
                          <a:pt x="52" y="26"/>
                        </a:lnTo>
                        <a:lnTo>
                          <a:pt x="52" y="26"/>
                        </a:lnTo>
                        <a:lnTo>
                          <a:pt x="61" y="17"/>
                        </a:lnTo>
                        <a:lnTo>
                          <a:pt x="61" y="17"/>
                        </a:lnTo>
                        <a:lnTo>
                          <a:pt x="61" y="17"/>
                        </a:lnTo>
                        <a:lnTo>
                          <a:pt x="70" y="0"/>
                        </a:lnTo>
                        <a:lnTo>
                          <a:pt x="70" y="0"/>
                        </a:lnTo>
                        <a:lnTo>
                          <a:pt x="2082" y="229"/>
                        </a:lnTo>
                        <a:lnTo>
                          <a:pt x="1685" y="1095"/>
                        </a:lnTo>
                        <a:close/>
                      </a:path>
                    </a:pathLst>
                  </a:custGeom>
                  <a:solidFill>
                    <a:srgbClr val="8901f3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1039680" y="4710240"/>
                  <a:ext cx="573120" cy="312480"/>
                  <a:chOff x="1039680" y="4710240"/>
                  <a:chExt cx="573120" cy="312480"/>
                </a:xfrm>
              </p:grpSpPr>
              <p:sp>
                <p:nvSpPr>
                  <p:cNvPr id="500" name=""/>
                  <p:cNvSpPr txBox="1"/>
                  <p:nvPr/>
                </p:nvSpPr>
                <p:spPr>
                  <a:xfrm>
                    <a:off x="1042920" y="4713120"/>
                    <a:ext cx="5698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 txBox="1"/>
                  <p:nvPr/>
                </p:nvSpPr>
                <p:spPr>
                  <a:xfrm>
                    <a:off x="1039680" y="4710240"/>
                    <a:ext cx="5698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Product B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 txBox="1"/>
                  <p:nvPr/>
                </p:nvSpPr>
                <p:spPr>
                  <a:xfrm>
                    <a:off x="1042920" y="482436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 txBox="1"/>
                  <p:nvPr/>
                </p:nvSpPr>
                <p:spPr>
                  <a:xfrm>
                    <a:off x="1039680" y="481968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26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"/>
                <p:cNvGrpSpPr/>
                <p:nvPr/>
              </p:nvGrpSpPr>
              <p:grpSpPr>
                <a:xfrm>
                  <a:off x="808200" y="5332320"/>
                  <a:ext cx="596880" cy="312840"/>
                  <a:chOff x="808200" y="5332320"/>
                  <a:chExt cx="596880" cy="312840"/>
                </a:xfrm>
              </p:grpSpPr>
              <p:sp>
                <p:nvSpPr>
                  <p:cNvPr id="505" name=""/>
                  <p:cNvSpPr txBox="1"/>
                  <p:nvPr/>
                </p:nvSpPr>
                <p:spPr>
                  <a:xfrm>
                    <a:off x="812880" y="533556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 txBox="1"/>
                  <p:nvPr/>
                </p:nvSpPr>
                <p:spPr>
                  <a:xfrm>
                    <a:off x="808200" y="533232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 txBox="1"/>
                  <p:nvPr/>
                </p:nvSpPr>
                <p:spPr>
                  <a:xfrm>
                    <a:off x="1157400" y="533556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 txBox="1"/>
                  <p:nvPr/>
                </p:nvSpPr>
                <p:spPr>
                  <a:xfrm>
                    <a:off x="1152360" y="533232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A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 txBox="1"/>
                  <p:nvPr/>
                </p:nvSpPr>
                <p:spPr>
                  <a:xfrm>
                    <a:off x="812880" y="544680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 txBox="1"/>
                  <p:nvPr/>
                </p:nvSpPr>
                <p:spPr>
                  <a:xfrm>
                    <a:off x="808200" y="544356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2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1778040" y="4640400"/>
                  <a:ext cx="595440" cy="312480"/>
                  <a:chOff x="1778040" y="4640400"/>
                  <a:chExt cx="595440" cy="312480"/>
                </a:xfrm>
              </p:grpSpPr>
              <p:sp>
                <p:nvSpPr>
                  <p:cNvPr id="512" name=""/>
                  <p:cNvSpPr txBox="1"/>
                  <p:nvPr/>
                </p:nvSpPr>
                <p:spPr>
                  <a:xfrm>
                    <a:off x="1782720" y="464328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 txBox="1"/>
                  <p:nvPr/>
                </p:nvSpPr>
                <p:spPr>
                  <a:xfrm>
                    <a:off x="1778040" y="4640400"/>
                    <a:ext cx="5112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 txBox="1"/>
                  <p:nvPr/>
                </p:nvSpPr>
                <p:spPr>
                  <a:xfrm>
                    <a:off x="2125800" y="464328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 txBox="1"/>
                  <p:nvPr/>
                </p:nvSpPr>
                <p:spPr>
                  <a:xfrm>
                    <a:off x="2122560" y="4640400"/>
                    <a:ext cx="2476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C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 txBox="1"/>
                  <p:nvPr/>
                </p:nvSpPr>
                <p:spPr>
                  <a:xfrm>
                    <a:off x="1782720" y="475452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 txBox="1"/>
                  <p:nvPr/>
                </p:nvSpPr>
                <p:spPr>
                  <a:xfrm>
                    <a:off x="1778040" y="4751280"/>
                    <a:ext cx="36180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7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12%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1893960" y="5146560"/>
                  <a:ext cx="673200" cy="363600"/>
                  <a:chOff x="1893960" y="5146560"/>
                  <a:chExt cx="673200" cy="363600"/>
                </a:xfrm>
              </p:grpSpPr>
              <p:sp>
                <p:nvSpPr>
                  <p:cNvPr id="519" name=""/>
                  <p:cNvSpPr txBox="1"/>
                  <p:nvPr/>
                </p:nvSpPr>
                <p:spPr>
                  <a:xfrm>
                    <a:off x="1898640" y="5151600"/>
                    <a:ext cx="6094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 txBox="1"/>
                  <p:nvPr/>
                </p:nvSpPr>
                <p:spPr>
                  <a:xfrm>
                    <a:off x="1893960" y="5146560"/>
                    <a:ext cx="60948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6b61"/>
                        </a:solidFill>
                        <a:latin typeface="Arial"/>
                        <a:ea typeface="Arial"/>
                      </a:rPr>
                      <a:t>Product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 txBox="1"/>
                  <p:nvPr/>
                </p:nvSpPr>
                <p:spPr>
                  <a:xfrm>
                    <a:off x="2300400" y="5151600"/>
                    <a:ext cx="2667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 txBox="1"/>
                  <p:nvPr/>
                </p:nvSpPr>
                <p:spPr>
                  <a:xfrm>
                    <a:off x="2293920" y="5146560"/>
                    <a:ext cx="26676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900" spc="-1" strike="noStrike">
                        <a:solidFill>
                          <a:srgbClr val="006b61"/>
                        </a:solidFill>
                        <a:latin typeface="Arial"/>
                        <a:ea typeface="Arial"/>
                      </a:rPr>
                      <a:t>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 txBox="1"/>
                  <p:nvPr/>
                </p:nvSpPr>
                <p:spPr>
                  <a:xfrm>
                    <a:off x="1898640" y="5281560"/>
                    <a:ext cx="412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0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 txBox="1"/>
                  <p:nvPr/>
                </p:nvSpPr>
                <p:spPr>
                  <a:xfrm>
                    <a:off x="1893960" y="5276880"/>
                    <a:ext cx="412920" cy="228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900" spc="-1" strike="noStrike">
                        <a:solidFill>
                          <a:srgbClr val="006b61"/>
                        </a:solidFill>
                        <a:latin typeface="Arial"/>
                        <a:ea typeface="Arial"/>
                      </a:rPr>
                      <a:t>40%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igraphics... inside PowerPoint on your Desk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933480" y="1428840"/>
            <a:ext cx="7486560" cy="42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 to make those services even easier to ge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76280" y="5999040"/>
            <a:ext cx="788688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e’re just a mouse click aw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igraphics... inside PowerPoint on your Desk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828720" y="1833480"/>
            <a:ext cx="7372440" cy="4114800"/>
            <a:chOff x="828720" y="1833480"/>
            <a:chExt cx="7372440" cy="4114800"/>
          </a:xfrm>
        </p:grpSpPr>
        <p:pic>
          <p:nvPicPr>
            <p:cNvPr id="530" name="" descr=""/>
            <p:cNvPicPr/>
            <p:nvPr/>
          </p:nvPicPr>
          <p:blipFill>
            <a:blip r:embed="rId1"/>
            <a:stretch/>
          </p:blipFill>
          <p:spPr>
            <a:xfrm>
              <a:off x="828720" y="1833480"/>
              <a:ext cx="73724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 txBox="1"/>
            <p:nvPr/>
          </p:nvSpPr>
          <p:spPr>
            <a:xfrm>
              <a:off x="3433680" y="2293920"/>
              <a:ext cx="4589640" cy="952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Order color output or rent LCD display eqiupment right from yo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computer in 4 easy steps. Genigraphics runs ‘ round-the-clock 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get you your materials where you need them, when you need them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1973160" y="3152880"/>
              <a:ext cx="591336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Choose the file you want us to ouput. We’ll check it right now to make sure you get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best result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 txBox="1"/>
            <p:nvPr/>
          </p:nvSpPr>
          <p:spPr>
            <a:xfrm>
              <a:off x="1973160" y="3548160"/>
              <a:ext cx="6183360" cy="1141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Tell us what you’d like to order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2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- We make: 35mm slides, color overheads, color copies, photographic prints, poster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2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- We rent: LCD display panels and projectors for electronic show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2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- We provide: Creative services for your electronic presentation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1973160" y="4549680"/>
              <a:ext cx="5732640" cy="571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Tell us how you want your order processed: Next Day, 2nd Day, Rush, Plan Ahead 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Saturday service is availab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1973160" y="4968720"/>
              <a:ext cx="277020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Give us shipping and billing information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1411200" y="5424480"/>
              <a:ext cx="18525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Are you a new customer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 flipH="1">
            <a:off x="2446200" y="5108400"/>
            <a:ext cx="36720" cy="47880"/>
          </a:xfrm>
          <a:prstGeom prst="line">
            <a:avLst/>
          </a:prstGeom>
          <a:ln w="12600">
            <a:solidFill>
              <a:srgbClr val="f1f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443320" y="5108400"/>
            <a:ext cx="37800" cy="44640"/>
          </a:xfrm>
          <a:prstGeom prst="line">
            <a:avLst/>
          </a:prstGeom>
          <a:ln w="12600">
            <a:solidFill>
              <a:srgbClr val="b4bb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898720" y="3687840"/>
            <a:ext cx="4503600" cy="2511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0880" y="2095560"/>
            <a:ext cx="8515440" cy="9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graphics WIZARD works from inside PowerPoint 95 to give you on-line access to a full range of presentation servic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80880" y="171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igraphics... inside PowerPoint on your Deskt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765520" y="3490920"/>
            <a:ext cx="4424400" cy="2468520"/>
            <a:chOff x="2765520" y="3490920"/>
            <a:chExt cx="4424400" cy="246852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2765520" y="3490920"/>
              <a:ext cx="442440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 txBox="1"/>
            <p:nvPr/>
          </p:nvSpPr>
          <p:spPr>
            <a:xfrm>
              <a:off x="4329000" y="3776760"/>
              <a:ext cx="2540160" cy="41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Order color output or rent LCD display eqiupment right from you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computer in 4 easy steps. Genigraphics runs ‘ round-the-clock t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get you your materials where you need them, when you need them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452760" y="4292640"/>
              <a:ext cx="3268800" cy="311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Choose the file you want us to ouput. We’ll check it right now to make sure you get th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best results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3452760" y="4530600"/>
              <a:ext cx="3448080" cy="62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Tell us what you’d like to order: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>
                <a:lnSpc>
                  <a:spcPct val="12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- We make: 35mm slides, color overheads, color copies, photographic prints, posters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>
                <a:lnSpc>
                  <a:spcPct val="12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- We rent: LCD display panels and projectors for electronic shows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274680">
                <a:lnSpc>
                  <a:spcPct val="12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- We provide: Creative services for your electronic presentations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3452760" y="5129280"/>
              <a:ext cx="317808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Tell us how you want your order processed: Next Day, 2nd Day, Rush, Plan Ahead 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Saturday service is available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3452760" y="5381640"/>
              <a:ext cx="1547640" cy="20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Give us shipping and billing information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3114720" y="5654520"/>
              <a:ext cx="1030320" cy="14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Univers"/>
                  <a:ea typeface="Univers"/>
                </a:rPr>
                <a:t>Are you a new customer?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00800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95360" y="1638360"/>
            <a:ext cx="83059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’s no mystery to good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 Genigraphics &amp; In Focus Systems partner with you in your next presentation.  Congratulations on solving this mystery. You’ll receive 3 pieces of animated clipart, fre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call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800-790-4001 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register with the Genigraphic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ZARD inside PowerPoint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01640" y="5607000"/>
            <a:ext cx="80517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ll now and get 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animated clip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910120" y="3924360"/>
            <a:ext cx="833400" cy="8287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6988320" y="3981600"/>
            <a:ext cx="1036800" cy="801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6562800" y="4809960"/>
            <a:ext cx="803160" cy="8002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3216240" y="64501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4"/>
          <a:stretch/>
        </p:blipFill>
        <p:spPr>
          <a:xfrm>
            <a:off x="304920" y="230040"/>
            <a:ext cx="12952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6819840"/>
            <a:ext cx="9131400" cy="2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63de8"/>
              </a:gs>
            </a:gsLst>
            <a:lin ang="0"/>
          </a:gradFill>
          <a:ln w="0">
            <a:noFill/>
          </a:ln>
        </p:spPr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2760" y="65160"/>
            <a:ext cx="8760240" cy="63720"/>
          </a:xfrm>
          <a:custGeom>
            <a:avLst/>
            <a:gdLst/>
            <a:ahLst/>
            <a:rect l="0" t="0" r="r" b="b"/>
            <a:pathLst>
              <a:path w="24334" h="177">
                <a:moveTo>
                  <a:pt x="97" y="146"/>
                </a:moveTo>
                <a:lnTo>
                  <a:pt x="0" y="4"/>
                </a:lnTo>
                <a:lnTo>
                  <a:pt x="24334" y="0"/>
                </a:lnTo>
                <a:lnTo>
                  <a:pt x="24242" y="177"/>
                </a:lnTo>
                <a:lnTo>
                  <a:pt x="97" y="146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0680" y="1366920"/>
            <a:ext cx="8741160" cy="70200"/>
          </a:xfrm>
          <a:custGeom>
            <a:avLst/>
            <a:gdLst/>
            <a:ahLst/>
            <a:rect l="0" t="0" r="r" b="b"/>
            <a:pathLst>
              <a:path w="24281" h="195">
                <a:moveTo>
                  <a:pt x="97" y="8"/>
                </a:moveTo>
                <a:lnTo>
                  <a:pt x="0" y="186"/>
                </a:lnTo>
                <a:lnTo>
                  <a:pt x="24281" y="195"/>
                </a:lnTo>
                <a:lnTo>
                  <a:pt x="24220" y="0"/>
                </a:lnTo>
                <a:lnTo>
                  <a:pt x="97" y="8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12760" y="65160"/>
            <a:ext cx="52920" cy="1381320"/>
          </a:xfrm>
          <a:custGeom>
            <a:avLst/>
            <a:gdLst/>
            <a:ahLst/>
            <a:rect l="0" t="0" r="r" b="b"/>
            <a:pathLst>
              <a:path w="147" h="3837">
                <a:moveTo>
                  <a:pt x="0" y="0"/>
                </a:moveTo>
                <a:lnTo>
                  <a:pt x="143" y="198"/>
                </a:lnTo>
                <a:lnTo>
                  <a:pt x="147" y="3564"/>
                </a:lnTo>
                <a:lnTo>
                  <a:pt x="0" y="3837"/>
                </a:lnTo>
                <a:lnTo>
                  <a:pt x="0" y="0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934480" y="74520"/>
            <a:ext cx="38520" cy="1373400"/>
          </a:xfrm>
          <a:custGeom>
            <a:avLst/>
            <a:gdLst/>
            <a:ahLst/>
            <a:rect l="0" t="0" r="r" b="b"/>
            <a:pathLst>
              <a:path w="107" h="3815">
                <a:moveTo>
                  <a:pt x="107" y="0"/>
                </a:moveTo>
                <a:lnTo>
                  <a:pt x="0" y="167"/>
                </a:lnTo>
                <a:lnTo>
                  <a:pt x="0" y="3581"/>
                </a:lnTo>
                <a:lnTo>
                  <a:pt x="107" y="3815"/>
                </a:lnTo>
                <a:lnTo>
                  <a:pt x="107" y="0"/>
                </a:lnTo>
                <a:close/>
              </a:path>
            </a:pathLst>
          </a:cu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2720880" y="4397400"/>
            <a:ext cx="4257720" cy="6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  <a:ea typeface="Arial"/>
              </a:rPr>
              <a:t>1-800-790-4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008000" y="1904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 in Your Next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7200" y="2889360"/>
            <a:ext cx="3986280" cy="1073520"/>
            <a:chOff x="727200" y="2889360"/>
            <a:chExt cx="3986280" cy="1073520"/>
          </a:xfrm>
        </p:grpSpPr>
        <p:sp>
          <p:nvSpPr>
            <p:cNvPr id="566" name=""/>
            <p:cNvSpPr txBox="1"/>
            <p:nvPr/>
          </p:nvSpPr>
          <p:spPr>
            <a:xfrm>
              <a:off x="1792440" y="2963880"/>
              <a:ext cx="2921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NIGRAPH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1792440" y="3476520"/>
              <a:ext cx="2828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 In Focus Systems Compan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3367080" y="3481560"/>
              <a:ext cx="2588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3398760" y="3451320"/>
              <a:ext cx="241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932120" y="3406680"/>
              <a:ext cx="2598840" cy="54360"/>
              <a:chOff x="1932120" y="3406680"/>
              <a:chExt cx="2598840" cy="54360"/>
            </a:xfrm>
          </p:grpSpPr>
          <p:sp>
            <p:nvSpPr>
              <p:cNvPr id="571" name=""/>
              <p:cNvSpPr/>
              <p:nvPr/>
            </p:nvSpPr>
            <p:spPr>
              <a:xfrm>
                <a:off x="1932120" y="3406680"/>
                <a:ext cx="41760" cy="46440"/>
              </a:xfrm>
              <a:custGeom>
                <a:avLst/>
                <a:gdLst/>
                <a:ahLst/>
                <a:rect l="0" t="0" r="r" b="b"/>
                <a:pathLst>
                  <a:path w="116" h="129">
                    <a:moveTo>
                      <a:pt x="53" y="0"/>
                    </a:moveTo>
                    <a:lnTo>
                      <a:pt x="0" y="67"/>
                    </a:lnTo>
                    <a:lnTo>
                      <a:pt x="53" y="129"/>
                    </a:lnTo>
                    <a:lnTo>
                      <a:pt x="116" y="67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57400" y="340668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79800" y="3406680"/>
                <a:ext cx="60840" cy="54360"/>
              </a:xfrm>
              <a:custGeom>
                <a:avLst/>
                <a:gdLst/>
                <a:ahLst/>
                <a:rect l="0" t="0" r="r" b="b"/>
                <a:pathLst>
                  <a:path w="169" h="151">
                    <a:moveTo>
                      <a:pt x="89" y="0"/>
                    </a:moveTo>
                    <a:lnTo>
                      <a:pt x="0" y="75"/>
                    </a:lnTo>
                    <a:lnTo>
                      <a:pt x="89" y="151"/>
                    </a:lnTo>
                    <a:lnTo>
                      <a:pt x="169" y="7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311560" y="340668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35400" y="340668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65360" y="340668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689200" y="340668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820960" y="3406680"/>
                <a:ext cx="49680" cy="54360"/>
              </a:xfrm>
              <a:custGeom>
                <a:avLst/>
                <a:gdLst/>
                <a:ahLst/>
                <a:rect l="0" t="0" r="r" b="b"/>
                <a:pathLst>
                  <a:path w="138" h="151">
                    <a:moveTo>
                      <a:pt x="67" y="0"/>
                    </a:moveTo>
                    <a:lnTo>
                      <a:pt x="0" y="75"/>
                    </a:lnTo>
                    <a:lnTo>
                      <a:pt x="67" y="151"/>
                    </a:lnTo>
                    <a:lnTo>
                      <a:pt x="138" y="75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40120" y="340668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070080" y="3406680"/>
                <a:ext cx="62280" cy="54360"/>
              </a:xfrm>
              <a:custGeom>
                <a:avLst/>
                <a:gdLst/>
                <a:ahLst/>
                <a:rect l="0" t="0" r="r" b="b"/>
                <a:pathLst>
                  <a:path w="173" h="151">
                    <a:moveTo>
                      <a:pt x="89" y="0"/>
                    </a:moveTo>
                    <a:lnTo>
                      <a:pt x="0" y="75"/>
                    </a:lnTo>
                    <a:lnTo>
                      <a:pt x="89" y="151"/>
                    </a:lnTo>
                    <a:lnTo>
                      <a:pt x="173" y="7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200400" y="3406680"/>
                <a:ext cx="51120" cy="54360"/>
              </a:xfrm>
              <a:custGeom>
                <a:avLst/>
                <a:gdLst/>
                <a:ahLst/>
                <a:rect l="0" t="0" r="r" b="b"/>
                <a:pathLst>
                  <a:path w="142" h="151">
                    <a:moveTo>
                      <a:pt x="70" y="0"/>
                    </a:moveTo>
                    <a:lnTo>
                      <a:pt x="0" y="75"/>
                    </a:lnTo>
                    <a:lnTo>
                      <a:pt x="70" y="151"/>
                    </a:lnTo>
                    <a:lnTo>
                      <a:pt x="142" y="7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322800" y="3406680"/>
                <a:ext cx="60840" cy="54360"/>
              </a:xfrm>
              <a:custGeom>
                <a:avLst/>
                <a:gdLst/>
                <a:ahLst/>
                <a:rect l="0" t="0" r="r" b="b"/>
                <a:pathLst>
                  <a:path w="169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9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462480" y="340668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70" y="0"/>
                    </a:moveTo>
                    <a:lnTo>
                      <a:pt x="0" y="75"/>
                    </a:lnTo>
                    <a:lnTo>
                      <a:pt x="70" y="151"/>
                    </a:lnTo>
                    <a:lnTo>
                      <a:pt x="155" y="7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86320" y="340668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716280" y="340668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84" y="0"/>
                    </a:moveTo>
                    <a:lnTo>
                      <a:pt x="0" y="75"/>
                    </a:lnTo>
                    <a:lnTo>
                      <a:pt x="84" y="151"/>
                    </a:lnTo>
                    <a:lnTo>
                      <a:pt x="164" y="7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846600" y="3406680"/>
                <a:ext cx="52920" cy="54360"/>
              </a:xfrm>
              <a:custGeom>
                <a:avLst/>
                <a:gdLst/>
                <a:ahLst/>
                <a:rect l="0" t="0" r="r" b="b"/>
                <a:pathLst>
                  <a:path w="147" h="151">
                    <a:moveTo>
                      <a:pt x="71" y="0"/>
                    </a:moveTo>
                    <a:lnTo>
                      <a:pt x="0" y="75"/>
                    </a:lnTo>
                    <a:lnTo>
                      <a:pt x="71" y="151"/>
                    </a:lnTo>
                    <a:lnTo>
                      <a:pt x="147" y="75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67200" y="340668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74" y="0"/>
                    </a:moveTo>
                    <a:lnTo>
                      <a:pt x="0" y="75"/>
                    </a:lnTo>
                    <a:lnTo>
                      <a:pt x="74" y="151"/>
                    </a:lnTo>
                    <a:lnTo>
                      <a:pt x="164" y="75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97160" y="3406680"/>
                <a:ext cx="51120" cy="54360"/>
              </a:xfrm>
              <a:custGeom>
                <a:avLst/>
                <a:gdLst/>
                <a:ahLst/>
                <a:rect l="0" t="0" r="r" b="b"/>
                <a:pathLst>
                  <a:path w="142" h="151">
                    <a:moveTo>
                      <a:pt x="70" y="0"/>
                    </a:moveTo>
                    <a:lnTo>
                      <a:pt x="0" y="75"/>
                    </a:lnTo>
                    <a:lnTo>
                      <a:pt x="70" y="151"/>
                    </a:lnTo>
                    <a:lnTo>
                      <a:pt x="142" y="7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224240" y="3406680"/>
                <a:ext cx="55800" cy="54360"/>
              </a:xfrm>
              <a:custGeom>
                <a:avLst/>
                <a:gdLst/>
                <a:ahLst/>
                <a:rect l="0" t="0" r="r" b="b"/>
                <a:pathLst>
                  <a:path w="155" h="151">
                    <a:moveTo>
                      <a:pt x="80" y="0"/>
                    </a:moveTo>
                    <a:lnTo>
                      <a:pt x="0" y="75"/>
                    </a:lnTo>
                    <a:lnTo>
                      <a:pt x="80" y="151"/>
                    </a:lnTo>
                    <a:lnTo>
                      <a:pt x="155" y="75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51320" y="3406680"/>
                <a:ext cx="49680" cy="54360"/>
              </a:xfrm>
              <a:custGeom>
                <a:avLst/>
                <a:gdLst/>
                <a:ahLst/>
                <a:rect l="0" t="0" r="r" b="b"/>
                <a:pathLst>
                  <a:path w="138" h="151">
                    <a:moveTo>
                      <a:pt x="75" y="0"/>
                    </a:moveTo>
                    <a:lnTo>
                      <a:pt x="0" y="75"/>
                    </a:lnTo>
                    <a:lnTo>
                      <a:pt x="75" y="151"/>
                    </a:lnTo>
                    <a:lnTo>
                      <a:pt x="138" y="75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71920" y="3406680"/>
                <a:ext cx="59040" cy="54360"/>
              </a:xfrm>
              <a:custGeom>
                <a:avLst/>
                <a:gdLst/>
                <a:ahLst/>
                <a:rect l="0" t="0" r="r" b="b"/>
                <a:pathLst>
                  <a:path w="164" h="151">
                    <a:moveTo>
                      <a:pt x="79" y="0"/>
                    </a:moveTo>
                    <a:lnTo>
                      <a:pt x="0" y="75"/>
                    </a:lnTo>
                    <a:lnTo>
                      <a:pt x="79" y="151"/>
                    </a:lnTo>
                    <a:lnTo>
                      <a:pt x="164" y="75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27200" y="2889360"/>
              <a:ext cx="1073160" cy="1073520"/>
              <a:chOff x="727200" y="2889360"/>
              <a:chExt cx="1073160" cy="1073520"/>
            </a:xfrm>
          </p:grpSpPr>
          <p:sp>
            <p:nvSpPr>
              <p:cNvPr id="593" name=""/>
              <p:cNvSpPr/>
              <p:nvPr/>
            </p:nvSpPr>
            <p:spPr>
              <a:xfrm>
                <a:off x="781200" y="331308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149" y="0"/>
                    </a:moveTo>
                    <a:lnTo>
                      <a:pt x="0" y="149"/>
                    </a:lnTo>
                    <a:lnTo>
                      <a:pt x="1500" y="1655"/>
                    </a:lnTo>
                    <a:lnTo>
                      <a:pt x="1650" y="150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30160" y="3262320"/>
                <a:ext cx="594000" cy="597240"/>
              </a:xfrm>
              <a:custGeom>
                <a:avLst/>
                <a:gdLst/>
                <a:ahLst/>
                <a:rect l="0" t="0" r="r" b="b"/>
                <a:pathLst>
                  <a:path w="1650" h="1659">
                    <a:moveTo>
                      <a:pt x="0" y="154"/>
                    </a:moveTo>
                    <a:lnTo>
                      <a:pt x="149" y="0"/>
                    </a:lnTo>
                    <a:lnTo>
                      <a:pt x="1650" y="1504"/>
                    </a:lnTo>
                    <a:lnTo>
                      <a:pt x="1500" y="1659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90406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240" y="320976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0" y="149"/>
                    </a:moveTo>
                    <a:lnTo>
                      <a:pt x="149" y="0"/>
                    </a:lnTo>
                    <a:lnTo>
                      <a:pt x="1650" y="1505"/>
                    </a:lnTo>
                    <a:lnTo>
                      <a:pt x="1500" y="16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854b7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938160" y="3149640"/>
                <a:ext cx="590760" cy="597240"/>
              </a:xfrm>
              <a:custGeom>
                <a:avLst/>
                <a:gdLst/>
                <a:ahLst/>
                <a:rect l="0" t="0" r="r" b="b"/>
                <a:pathLst>
                  <a:path w="1641" h="1659">
                    <a:moveTo>
                      <a:pt x="0" y="154"/>
                    </a:moveTo>
                    <a:lnTo>
                      <a:pt x="145" y="0"/>
                    </a:lnTo>
                    <a:lnTo>
                      <a:pt x="1641" y="1509"/>
                    </a:lnTo>
                    <a:lnTo>
                      <a:pt x="1495" y="1659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7a557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927000" y="3162240"/>
                <a:ext cx="594000" cy="594000"/>
              </a:xfrm>
              <a:custGeom>
                <a:avLst/>
                <a:gdLst/>
                <a:ahLst/>
                <a:rect l="0" t="0" r="r" b="b"/>
                <a:pathLst>
                  <a:path w="1650" h="1650">
                    <a:moveTo>
                      <a:pt x="0" y="149"/>
                    </a:moveTo>
                    <a:lnTo>
                      <a:pt x="149" y="0"/>
                    </a:lnTo>
                    <a:lnTo>
                      <a:pt x="1650" y="1495"/>
                    </a:lnTo>
                    <a:lnTo>
                      <a:pt x="1500" y="165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6f60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979560" y="3106800"/>
                <a:ext cx="595800" cy="594000"/>
              </a:xfrm>
              <a:custGeom>
                <a:avLst/>
                <a:gdLst/>
                <a:ahLst/>
                <a:rect l="0" t="0" r="r" b="b"/>
                <a:pathLst>
                  <a:path w="1655" h="1650">
                    <a:moveTo>
                      <a:pt x="0" y="149"/>
                    </a:moveTo>
                    <a:lnTo>
                      <a:pt x="154" y="0"/>
                    </a:lnTo>
                    <a:lnTo>
                      <a:pt x="1655" y="1500"/>
                    </a:lnTo>
                    <a:lnTo>
                      <a:pt x="1505" y="165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636b94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035000" y="3051000"/>
                <a:ext cx="595800" cy="594000"/>
              </a:xfrm>
              <a:custGeom>
                <a:avLst/>
                <a:gdLst/>
                <a:ahLst/>
                <a:rect l="0" t="0" r="r" b="b"/>
                <a:pathLst>
                  <a:path w="1655" h="1650">
                    <a:moveTo>
                      <a:pt x="0" y="149"/>
                    </a:moveTo>
                    <a:lnTo>
                      <a:pt x="149" y="0"/>
                    </a:lnTo>
                    <a:lnTo>
                      <a:pt x="1655" y="1500"/>
                    </a:lnTo>
                    <a:lnTo>
                      <a:pt x="1501" y="1650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5876a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089000" y="2995560"/>
                <a:ext cx="595800" cy="595800"/>
              </a:xfrm>
              <a:custGeom>
                <a:avLst/>
                <a:gdLst/>
                <a:ahLst/>
                <a:rect l="0" t="0" r="r" b="b"/>
                <a:pathLst>
                  <a:path w="1655" h="1655">
                    <a:moveTo>
                      <a:pt x="0" y="154"/>
                    </a:moveTo>
                    <a:lnTo>
                      <a:pt x="149" y="0"/>
                    </a:lnTo>
                    <a:lnTo>
                      <a:pt x="1655" y="1505"/>
                    </a:lnTo>
                    <a:lnTo>
                      <a:pt x="1505" y="1655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4d80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41560" y="2944800"/>
                <a:ext cx="598680" cy="595800"/>
              </a:xfrm>
              <a:custGeom>
                <a:avLst/>
                <a:gdLst/>
                <a:ahLst/>
                <a:rect l="0" t="0" r="r" b="b"/>
                <a:pathLst>
                  <a:path w="1663" h="1655">
                    <a:moveTo>
                      <a:pt x="0" y="149"/>
                    </a:moveTo>
                    <a:lnTo>
                      <a:pt x="158" y="0"/>
                    </a:lnTo>
                    <a:lnTo>
                      <a:pt x="1663" y="1505"/>
                    </a:lnTo>
                    <a:lnTo>
                      <a:pt x="1509" y="16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428bb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95560" y="288936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0" y="149"/>
                    </a:moveTo>
                    <a:lnTo>
                      <a:pt x="149" y="0"/>
                    </a:lnTo>
                    <a:lnTo>
                      <a:pt x="1650" y="1501"/>
                    </a:lnTo>
                    <a:lnTo>
                      <a:pt x="1500" y="1655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3796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57480" y="2889360"/>
                <a:ext cx="542880" cy="54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1533600" y="3444840"/>
                <a:ext cx="219240" cy="174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®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27200" y="3367080"/>
                <a:ext cx="594000" cy="595800"/>
              </a:xfrm>
              <a:custGeom>
                <a:avLst/>
                <a:gdLst/>
                <a:ahLst/>
                <a:rect l="0" t="0" r="r" b="b"/>
                <a:pathLst>
                  <a:path w="1650" h="1655">
                    <a:moveTo>
                      <a:pt x="149" y="0"/>
                    </a:moveTo>
                    <a:lnTo>
                      <a:pt x="0" y="149"/>
                    </a:lnTo>
                    <a:lnTo>
                      <a:pt x="1500" y="1655"/>
                    </a:lnTo>
                    <a:lnTo>
                      <a:pt x="1650" y="1505"/>
                    </a:lnTo>
                    <a:lnTo>
                      <a:pt x="149" y="0"/>
                    </a:lnTo>
                    <a:close/>
                  </a:path>
                </a:pathLst>
              </a:custGeom>
              <a:solidFill>
                <a:srgbClr val="9b355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120680" y="3416400"/>
                <a:ext cx="528840" cy="205200"/>
              </a:xfrm>
              <a:custGeom>
                <a:avLst/>
                <a:gdLst/>
                <a:ahLst/>
                <a:rect l="0" t="0" r="r" b="b"/>
                <a:pathLst>
                  <a:path w="1469" h="570">
                    <a:moveTo>
                      <a:pt x="0" y="0"/>
                    </a:moveTo>
                    <a:lnTo>
                      <a:pt x="1469" y="0"/>
                    </a:lnTo>
                    <a:lnTo>
                      <a:pt x="1469" y="26"/>
                    </a:lnTo>
                    <a:lnTo>
                      <a:pt x="1306" y="66"/>
                    </a:lnTo>
                    <a:lnTo>
                      <a:pt x="1160" y="141"/>
                    </a:lnTo>
                    <a:lnTo>
                      <a:pt x="1037" y="212"/>
                    </a:lnTo>
                    <a:lnTo>
                      <a:pt x="935" y="296"/>
                    </a:lnTo>
                    <a:lnTo>
                      <a:pt x="847" y="402"/>
                    </a:lnTo>
                    <a:lnTo>
                      <a:pt x="790" y="491"/>
                    </a:lnTo>
                    <a:lnTo>
                      <a:pt x="763" y="570"/>
                    </a:lnTo>
                    <a:lnTo>
                      <a:pt x="714" y="570"/>
                    </a:lnTo>
                    <a:lnTo>
                      <a:pt x="696" y="491"/>
                    </a:lnTo>
                    <a:lnTo>
                      <a:pt x="643" y="402"/>
                    </a:lnTo>
                    <a:lnTo>
                      <a:pt x="511" y="247"/>
                    </a:lnTo>
                    <a:lnTo>
                      <a:pt x="374" y="150"/>
                    </a:lnTo>
                    <a:lnTo>
                      <a:pt x="251" y="92"/>
                    </a:lnTo>
                    <a:lnTo>
                      <a:pt x="88" y="48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919080" y="3213000"/>
                <a:ext cx="471960" cy="432000"/>
              </a:xfrm>
              <a:custGeom>
                <a:avLst/>
                <a:gdLst/>
                <a:ahLst/>
                <a:rect l="0" t="0" r="r" b="b"/>
                <a:pathLst>
                  <a:path w="1311" h="1200">
                    <a:moveTo>
                      <a:pt x="1276" y="0"/>
                    </a:moveTo>
                    <a:lnTo>
                      <a:pt x="406" y="0"/>
                    </a:lnTo>
                    <a:lnTo>
                      <a:pt x="304" y="52"/>
                    </a:lnTo>
                    <a:lnTo>
                      <a:pt x="216" y="119"/>
                    </a:lnTo>
                    <a:lnTo>
                      <a:pt x="141" y="202"/>
                    </a:lnTo>
                    <a:lnTo>
                      <a:pt x="83" y="286"/>
                    </a:lnTo>
                    <a:lnTo>
                      <a:pt x="48" y="370"/>
                    </a:lnTo>
                    <a:lnTo>
                      <a:pt x="17" y="467"/>
                    </a:lnTo>
                    <a:lnTo>
                      <a:pt x="4" y="555"/>
                    </a:lnTo>
                    <a:lnTo>
                      <a:pt x="0" y="671"/>
                    </a:lnTo>
                    <a:lnTo>
                      <a:pt x="4" y="790"/>
                    </a:lnTo>
                    <a:lnTo>
                      <a:pt x="48" y="918"/>
                    </a:lnTo>
                    <a:lnTo>
                      <a:pt x="114" y="1006"/>
                    </a:lnTo>
                    <a:lnTo>
                      <a:pt x="189" y="1090"/>
                    </a:lnTo>
                    <a:lnTo>
                      <a:pt x="273" y="1156"/>
                    </a:lnTo>
                    <a:lnTo>
                      <a:pt x="375" y="1200"/>
                    </a:lnTo>
                    <a:lnTo>
                      <a:pt x="1311" y="1200"/>
                    </a:lnTo>
                    <a:lnTo>
                      <a:pt x="1311" y="1182"/>
                    </a:lnTo>
                    <a:lnTo>
                      <a:pt x="838" y="1182"/>
                    </a:lnTo>
                    <a:lnTo>
                      <a:pt x="772" y="1156"/>
                    </a:lnTo>
                    <a:lnTo>
                      <a:pt x="693" y="1107"/>
                    </a:lnTo>
                    <a:lnTo>
                      <a:pt x="609" y="1054"/>
                    </a:lnTo>
                    <a:lnTo>
                      <a:pt x="543" y="984"/>
                    </a:lnTo>
                    <a:lnTo>
                      <a:pt x="490" y="900"/>
                    </a:lnTo>
                    <a:lnTo>
                      <a:pt x="455" y="803"/>
                    </a:lnTo>
                    <a:lnTo>
                      <a:pt x="437" y="702"/>
                    </a:lnTo>
                    <a:lnTo>
                      <a:pt x="424" y="590"/>
                    </a:lnTo>
                    <a:lnTo>
                      <a:pt x="441" y="454"/>
                    </a:lnTo>
                    <a:lnTo>
                      <a:pt x="486" y="330"/>
                    </a:lnTo>
                    <a:lnTo>
                      <a:pt x="556" y="220"/>
                    </a:lnTo>
                    <a:lnTo>
                      <a:pt x="653" y="136"/>
                    </a:lnTo>
                    <a:lnTo>
                      <a:pt x="750" y="79"/>
                    </a:lnTo>
                    <a:lnTo>
                      <a:pt x="927" y="44"/>
                    </a:lnTo>
                    <a:lnTo>
                      <a:pt x="1082" y="48"/>
                    </a:lnTo>
                    <a:lnTo>
                      <a:pt x="1192" y="79"/>
                    </a:lnTo>
                    <a:lnTo>
                      <a:pt x="1276" y="145"/>
                    </a:lnTo>
                    <a:lnTo>
                      <a:pt x="12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"/>
          <p:cNvSpPr txBox="1"/>
          <p:nvPr/>
        </p:nvSpPr>
        <p:spPr>
          <a:xfrm>
            <a:off x="4816440" y="3044880"/>
            <a:ext cx="5144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cecece"/>
                </a:solidFill>
                <a:latin typeface="Arial"/>
                <a:ea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802480" y="2975040"/>
            <a:ext cx="2635560" cy="527400"/>
            <a:chOff x="5802480" y="2975040"/>
            <a:chExt cx="2635560" cy="527400"/>
          </a:xfrm>
        </p:grpSpPr>
        <p:sp>
          <p:nvSpPr>
            <p:cNvPr id="610" name=""/>
            <p:cNvSpPr/>
            <p:nvPr/>
          </p:nvSpPr>
          <p:spPr>
            <a:xfrm>
              <a:off x="5802480" y="2975040"/>
              <a:ext cx="228960" cy="506880"/>
            </a:xfrm>
            <a:custGeom>
              <a:avLst/>
              <a:gdLst/>
              <a:ahLst/>
              <a:rect l="0" t="0" r="r" b="b"/>
              <a:pathLst>
                <a:path w="636" h="1408">
                  <a:moveTo>
                    <a:pt x="211" y="0"/>
                  </a:moveTo>
                  <a:lnTo>
                    <a:pt x="636" y="0"/>
                  </a:lnTo>
                  <a:lnTo>
                    <a:pt x="428" y="1408"/>
                  </a:lnTo>
                  <a:lnTo>
                    <a:pt x="0" y="1408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97600" y="3071880"/>
              <a:ext cx="456120" cy="410040"/>
            </a:xfrm>
            <a:custGeom>
              <a:avLst/>
              <a:gdLst/>
              <a:ahLst/>
              <a:rect l="0" t="0" r="r" b="b"/>
              <a:pathLst>
                <a:path w="1267" h="1139">
                  <a:moveTo>
                    <a:pt x="0" y="1139"/>
                  </a:moveTo>
                  <a:lnTo>
                    <a:pt x="158" y="39"/>
                  </a:lnTo>
                  <a:lnTo>
                    <a:pt x="583" y="39"/>
                  </a:lnTo>
                  <a:lnTo>
                    <a:pt x="552" y="167"/>
                  </a:lnTo>
                  <a:lnTo>
                    <a:pt x="613" y="114"/>
                  </a:lnTo>
                  <a:lnTo>
                    <a:pt x="666" y="74"/>
                  </a:lnTo>
                  <a:lnTo>
                    <a:pt x="719" y="44"/>
                  </a:lnTo>
                  <a:lnTo>
                    <a:pt x="799" y="17"/>
                  </a:lnTo>
                  <a:lnTo>
                    <a:pt x="852" y="8"/>
                  </a:lnTo>
                  <a:lnTo>
                    <a:pt x="922" y="0"/>
                  </a:lnTo>
                  <a:lnTo>
                    <a:pt x="989" y="8"/>
                  </a:lnTo>
                  <a:lnTo>
                    <a:pt x="1055" y="26"/>
                  </a:lnTo>
                  <a:lnTo>
                    <a:pt x="1104" y="52"/>
                  </a:lnTo>
                  <a:lnTo>
                    <a:pt x="1157" y="92"/>
                  </a:lnTo>
                  <a:lnTo>
                    <a:pt x="1205" y="136"/>
                  </a:lnTo>
                  <a:lnTo>
                    <a:pt x="1241" y="198"/>
                  </a:lnTo>
                  <a:lnTo>
                    <a:pt x="1267" y="282"/>
                  </a:lnTo>
                  <a:lnTo>
                    <a:pt x="1267" y="375"/>
                  </a:lnTo>
                  <a:lnTo>
                    <a:pt x="1166" y="1139"/>
                  </a:lnTo>
                  <a:lnTo>
                    <a:pt x="759" y="1139"/>
                  </a:lnTo>
                  <a:lnTo>
                    <a:pt x="838" y="516"/>
                  </a:lnTo>
                  <a:lnTo>
                    <a:pt x="843" y="441"/>
                  </a:lnTo>
                  <a:lnTo>
                    <a:pt x="830" y="375"/>
                  </a:lnTo>
                  <a:lnTo>
                    <a:pt x="790" y="344"/>
                  </a:lnTo>
                  <a:lnTo>
                    <a:pt x="728" y="331"/>
                  </a:lnTo>
                  <a:lnTo>
                    <a:pt x="658" y="331"/>
                  </a:lnTo>
                  <a:lnTo>
                    <a:pt x="591" y="344"/>
                  </a:lnTo>
                  <a:lnTo>
                    <a:pt x="547" y="393"/>
                  </a:lnTo>
                  <a:lnTo>
                    <a:pt x="525" y="450"/>
                  </a:lnTo>
                  <a:lnTo>
                    <a:pt x="411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496200" y="2975040"/>
              <a:ext cx="402120" cy="506880"/>
            </a:xfrm>
            <a:custGeom>
              <a:avLst/>
              <a:gdLst/>
              <a:ahLst/>
              <a:rect l="0" t="0" r="r" b="b"/>
              <a:pathLst>
                <a:path w="1117" h="1408">
                  <a:moveTo>
                    <a:pt x="185" y="0"/>
                  </a:moveTo>
                  <a:lnTo>
                    <a:pt x="0" y="1408"/>
                  </a:lnTo>
                  <a:lnTo>
                    <a:pt x="419" y="1408"/>
                  </a:lnTo>
                  <a:lnTo>
                    <a:pt x="494" y="904"/>
                  </a:lnTo>
                  <a:lnTo>
                    <a:pt x="830" y="904"/>
                  </a:lnTo>
                  <a:lnTo>
                    <a:pt x="875" y="547"/>
                  </a:lnTo>
                  <a:lnTo>
                    <a:pt x="552" y="547"/>
                  </a:lnTo>
                  <a:lnTo>
                    <a:pt x="569" y="367"/>
                  </a:lnTo>
                  <a:lnTo>
                    <a:pt x="1064" y="367"/>
                  </a:lnTo>
                  <a:lnTo>
                    <a:pt x="1117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18400" y="3078000"/>
              <a:ext cx="865440" cy="419400"/>
            </a:xfrm>
            <a:custGeom>
              <a:avLst/>
              <a:gdLst/>
              <a:ahLst/>
              <a:rect l="0" t="0" r="r" b="b"/>
              <a:pathLst>
                <a:path w="2404" h="1165">
                  <a:moveTo>
                    <a:pt x="2404" y="401"/>
                  </a:moveTo>
                  <a:lnTo>
                    <a:pt x="2404" y="348"/>
                  </a:lnTo>
                  <a:lnTo>
                    <a:pt x="2391" y="291"/>
                  </a:lnTo>
                  <a:lnTo>
                    <a:pt x="2369" y="246"/>
                  </a:lnTo>
                  <a:lnTo>
                    <a:pt x="2333" y="198"/>
                  </a:lnTo>
                  <a:lnTo>
                    <a:pt x="2289" y="158"/>
                  </a:lnTo>
                  <a:lnTo>
                    <a:pt x="2227" y="110"/>
                  </a:lnTo>
                  <a:lnTo>
                    <a:pt x="2157" y="74"/>
                  </a:lnTo>
                  <a:lnTo>
                    <a:pt x="2100" y="52"/>
                  </a:lnTo>
                  <a:lnTo>
                    <a:pt x="2007" y="22"/>
                  </a:lnTo>
                  <a:lnTo>
                    <a:pt x="1910" y="8"/>
                  </a:lnTo>
                  <a:lnTo>
                    <a:pt x="1813" y="0"/>
                  </a:lnTo>
                  <a:lnTo>
                    <a:pt x="1698" y="13"/>
                  </a:lnTo>
                  <a:lnTo>
                    <a:pt x="1601" y="39"/>
                  </a:lnTo>
                  <a:lnTo>
                    <a:pt x="1522" y="88"/>
                  </a:lnTo>
                  <a:lnTo>
                    <a:pt x="1456" y="123"/>
                  </a:lnTo>
                  <a:lnTo>
                    <a:pt x="1398" y="167"/>
                  </a:lnTo>
                  <a:lnTo>
                    <a:pt x="1332" y="233"/>
                  </a:lnTo>
                  <a:lnTo>
                    <a:pt x="1288" y="299"/>
                  </a:lnTo>
                  <a:lnTo>
                    <a:pt x="1240" y="388"/>
                  </a:lnTo>
                  <a:lnTo>
                    <a:pt x="1195" y="286"/>
                  </a:lnTo>
                  <a:lnTo>
                    <a:pt x="1128" y="198"/>
                  </a:lnTo>
                  <a:lnTo>
                    <a:pt x="1071" y="149"/>
                  </a:lnTo>
                  <a:lnTo>
                    <a:pt x="1001" y="97"/>
                  </a:lnTo>
                  <a:lnTo>
                    <a:pt x="903" y="57"/>
                  </a:lnTo>
                  <a:lnTo>
                    <a:pt x="802" y="30"/>
                  </a:lnTo>
                  <a:lnTo>
                    <a:pt x="696" y="22"/>
                  </a:lnTo>
                  <a:lnTo>
                    <a:pt x="573" y="22"/>
                  </a:lnTo>
                  <a:lnTo>
                    <a:pt x="449" y="39"/>
                  </a:lnTo>
                  <a:lnTo>
                    <a:pt x="348" y="83"/>
                  </a:lnTo>
                  <a:lnTo>
                    <a:pt x="260" y="132"/>
                  </a:lnTo>
                  <a:lnTo>
                    <a:pt x="176" y="198"/>
                  </a:lnTo>
                  <a:lnTo>
                    <a:pt x="105" y="268"/>
                  </a:lnTo>
                  <a:lnTo>
                    <a:pt x="57" y="348"/>
                  </a:lnTo>
                  <a:lnTo>
                    <a:pt x="22" y="432"/>
                  </a:lnTo>
                  <a:lnTo>
                    <a:pt x="0" y="542"/>
                  </a:lnTo>
                  <a:lnTo>
                    <a:pt x="0" y="644"/>
                  </a:lnTo>
                  <a:lnTo>
                    <a:pt x="8" y="724"/>
                  </a:lnTo>
                  <a:lnTo>
                    <a:pt x="35" y="812"/>
                  </a:lnTo>
                  <a:lnTo>
                    <a:pt x="66" y="882"/>
                  </a:lnTo>
                  <a:lnTo>
                    <a:pt x="119" y="944"/>
                  </a:lnTo>
                  <a:lnTo>
                    <a:pt x="185" y="1010"/>
                  </a:lnTo>
                  <a:lnTo>
                    <a:pt x="246" y="1059"/>
                  </a:lnTo>
                  <a:lnTo>
                    <a:pt x="317" y="1103"/>
                  </a:lnTo>
                  <a:lnTo>
                    <a:pt x="405" y="1134"/>
                  </a:lnTo>
                  <a:lnTo>
                    <a:pt x="498" y="1151"/>
                  </a:lnTo>
                  <a:lnTo>
                    <a:pt x="586" y="1165"/>
                  </a:lnTo>
                  <a:lnTo>
                    <a:pt x="674" y="1160"/>
                  </a:lnTo>
                  <a:lnTo>
                    <a:pt x="771" y="1151"/>
                  </a:lnTo>
                  <a:lnTo>
                    <a:pt x="846" y="1129"/>
                  </a:lnTo>
                  <a:lnTo>
                    <a:pt x="912" y="1103"/>
                  </a:lnTo>
                  <a:lnTo>
                    <a:pt x="987" y="1063"/>
                  </a:lnTo>
                  <a:lnTo>
                    <a:pt x="1049" y="1024"/>
                  </a:lnTo>
                  <a:lnTo>
                    <a:pt x="1111" y="962"/>
                  </a:lnTo>
                  <a:lnTo>
                    <a:pt x="1159" y="882"/>
                  </a:lnTo>
                  <a:lnTo>
                    <a:pt x="1218" y="803"/>
                  </a:lnTo>
                  <a:lnTo>
                    <a:pt x="1240" y="803"/>
                  </a:lnTo>
                  <a:lnTo>
                    <a:pt x="1271" y="874"/>
                  </a:lnTo>
                  <a:lnTo>
                    <a:pt x="1310" y="935"/>
                  </a:lnTo>
                  <a:lnTo>
                    <a:pt x="1354" y="984"/>
                  </a:lnTo>
                  <a:lnTo>
                    <a:pt x="1407" y="1037"/>
                  </a:lnTo>
                  <a:lnTo>
                    <a:pt x="1478" y="1081"/>
                  </a:lnTo>
                  <a:lnTo>
                    <a:pt x="1553" y="1121"/>
                  </a:lnTo>
                  <a:lnTo>
                    <a:pt x="1632" y="1138"/>
                  </a:lnTo>
                  <a:lnTo>
                    <a:pt x="1738" y="1151"/>
                  </a:lnTo>
                  <a:lnTo>
                    <a:pt x="1831" y="1156"/>
                  </a:lnTo>
                  <a:lnTo>
                    <a:pt x="1905" y="1156"/>
                  </a:lnTo>
                  <a:lnTo>
                    <a:pt x="1994" y="1151"/>
                  </a:lnTo>
                  <a:lnTo>
                    <a:pt x="2073" y="1125"/>
                  </a:lnTo>
                  <a:lnTo>
                    <a:pt x="2144" y="1094"/>
                  </a:lnTo>
                  <a:lnTo>
                    <a:pt x="2210" y="1059"/>
                  </a:lnTo>
                  <a:lnTo>
                    <a:pt x="2267" y="1015"/>
                  </a:lnTo>
                  <a:lnTo>
                    <a:pt x="2316" y="966"/>
                  </a:lnTo>
                  <a:lnTo>
                    <a:pt x="2346" y="904"/>
                  </a:lnTo>
                  <a:lnTo>
                    <a:pt x="2360" y="852"/>
                  </a:lnTo>
                  <a:lnTo>
                    <a:pt x="2351" y="812"/>
                  </a:lnTo>
                  <a:lnTo>
                    <a:pt x="2029" y="746"/>
                  </a:lnTo>
                  <a:lnTo>
                    <a:pt x="2007" y="781"/>
                  </a:lnTo>
                  <a:lnTo>
                    <a:pt x="1972" y="821"/>
                  </a:lnTo>
                  <a:lnTo>
                    <a:pt x="1928" y="847"/>
                  </a:lnTo>
                  <a:lnTo>
                    <a:pt x="1866" y="860"/>
                  </a:lnTo>
                  <a:lnTo>
                    <a:pt x="1808" y="860"/>
                  </a:lnTo>
                  <a:lnTo>
                    <a:pt x="1756" y="847"/>
                  </a:lnTo>
                  <a:lnTo>
                    <a:pt x="1698" y="821"/>
                  </a:lnTo>
                  <a:lnTo>
                    <a:pt x="1659" y="790"/>
                  </a:lnTo>
                  <a:lnTo>
                    <a:pt x="1628" y="755"/>
                  </a:lnTo>
                  <a:lnTo>
                    <a:pt x="1606" y="715"/>
                  </a:lnTo>
                  <a:lnTo>
                    <a:pt x="1597" y="666"/>
                  </a:lnTo>
                  <a:lnTo>
                    <a:pt x="873" y="568"/>
                  </a:lnTo>
                  <a:lnTo>
                    <a:pt x="868" y="666"/>
                  </a:lnTo>
                  <a:lnTo>
                    <a:pt x="846" y="719"/>
                  </a:lnTo>
                  <a:lnTo>
                    <a:pt x="820" y="772"/>
                  </a:lnTo>
                  <a:lnTo>
                    <a:pt x="784" y="807"/>
                  </a:lnTo>
                  <a:lnTo>
                    <a:pt x="714" y="843"/>
                  </a:lnTo>
                  <a:lnTo>
                    <a:pt x="648" y="847"/>
                  </a:lnTo>
                  <a:lnTo>
                    <a:pt x="564" y="843"/>
                  </a:lnTo>
                  <a:lnTo>
                    <a:pt x="502" y="830"/>
                  </a:lnTo>
                  <a:lnTo>
                    <a:pt x="458" y="803"/>
                  </a:lnTo>
                  <a:lnTo>
                    <a:pt x="418" y="763"/>
                  </a:lnTo>
                  <a:lnTo>
                    <a:pt x="392" y="715"/>
                  </a:lnTo>
                  <a:lnTo>
                    <a:pt x="374" y="618"/>
                  </a:lnTo>
                  <a:lnTo>
                    <a:pt x="383" y="546"/>
                  </a:lnTo>
                  <a:lnTo>
                    <a:pt x="410" y="471"/>
                  </a:lnTo>
                  <a:lnTo>
                    <a:pt x="445" y="427"/>
                  </a:lnTo>
                  <a:lnTo>
                    <a:pt x="489" y="388"/>
                  </a:lnTo>
                  <a:lnTo>
                    <a:pt x="542" y="366"/>
                  </a:lnTo>
                  <a:lnTo>
                    <a:pt x="612" y="357"/>
                  </a:lnTo>
                  <a:lnTo>
                    <a:pt x="692" y="357"/>
                  </a:lnTo>
                  <a:lnTo>
                    <a:pt x="771" y="379"/>
                  </a:lnTo>
                  <a:lnTo>
                    <a:pt x="815" y="414"/>
                  </a:lnTo>
                  <a:lnTo>
                    <a:pt x="842" y="445"/>
                  </a:lnTo>
                  <a:lnTo>
                    <a:pt x="868" y="515"/>
                  </a:lnTo>
                  <a:lnTo>
                    <a:pt x="877" y="577"/>
                  </a:lnTo>
                  <a:lnTo>
                    <a:pt x="1628" y="485"/>
                  </a:lnTo>
                  <a:lnTo>
                    <a:pt x="1659" y="440"/>
                  </a:lnTo>
                  <a:lnTo>
                    <a:pt x="1694" y="396"/>
                  </a:lnTo>
                  <a:lnTo>
                    <a:pt x="1747" y="361"/>
                  </a:lnTo>
                  <a:lnTo>
                    <a:pt x="1804" y="348"/>
                  </a:lnTo>
                  <a:lnTo>
                    <a:pt x="1870" y="348"/>
                  </a:lnTo>
                  <a:lnTo>
                    <a:pt x="1936" y="357"/>
                  </a:lnTo>
                  <a:lnTo>
                    <a:pt x="1985" y="388"/>
                  </a:lnTo>
                  <a:lnTo>
                    <a:pt x="2020" y="423"/>
                  </a:lnTo>
                  <a:lnTo>
                    <a:pt x="2029" y="454"/>
                  </a:lnTo>
                  <a:lnTo>
                    <a:pt x="2404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72320" y="3089160"/>
              <a:ext cx="432000" cy="413280"/>
            </a:xfrm>
            <a:custGeom>
              <a:avLst/>
              <a:gdLst/>
              <a:ahLst/>
              <a:rect l="0" t="0" r="r" b="b"/>
              <a:pathLst>
                <a:path w="1200" h="1148">
                  <a:moveTo>
                    <a:pt x="92" y="0"/>
                  </a:moveTo>
                  <a:lnTo>
                    <a:pt x="485" y="0"/>
                  </a:lnTo>
                  <a:lnTo>
                    <a:pt x="410" y="644"/>
                  </a:lnTo>
                  <a:lnTo>
                    <a:pt x="410" y="688"/>
                  </a:lnTo>
                  <a:lnTo>
                    <a:pt x="418" y="737"/>
                  </a:lnTo>
                  <a:lnTo>
                    <a:pt x="454" y="768"/>
                  </a:lnTo>
                  <a:lnTo>
                    <a:pt x="502" y="790"/>
                  </a:lnTo>
                  <a:lnTo>
                    <a:pt x="551" y="803"/>
                  </a:lnTo>
                  <a:lnTo>
                    <a:pt x="618" y="794"/>
                  </a:lnTo>
                  <a:lnTo>
                    <a:pt x="658" y="777"/>
                  </a:lnTo>
                  <a:lnTo>
                    <a:pt x="693" y="750"/>
                  </a:lnTo>
                  <a:lnTo>
                    <a:pt x="728" y="688"/>
                  </a:lnTo>
                  <a:lnTo>
                    <a:pt x="812" y="0"/>
                  </a:lnTo>
                  <a:lnTo>
                    <a:pt x="1200" y="0"/>
                  </a:lnTo>
                  <a:lnTo>
                    <a:pt x="1125" y="733"/>
                  </a:lnTo>
                  <a:lnTo>
                    <a:pt x="1094" y="847"/>
                  </a:lnTo>
                  <a:lnTo>
                    <a:pt x="1063" y="905"/>
                  </a:lnTo>
                  <a:lnTo>
                    <a:pt x="1019" y="980"/>
                  </a:lnTo>
                  <a:lnTo>
                    <a:pt x="953" y="1033"/>
                  </a:lnTo>
                  <a:lnTo>
                    <a:pt x="896" y="1069"/>
                  </a:lnTo>
                  <a:lnTo>
                    <a:pt x="825" y="1104"/>
                  </a:lnTo>
                  <a:lnTo>
                    <a:pt x="746" y="1126"/>
                  </a:lnTo>
                  <a:lnTo>
                    <a:pt x="662" y="1139"/>
                  </a:lnTo>
                  <a:lnTo>
                    <a:pt x="564" y="1148"/>
                  </a:lnTo>
                  <a:lnTo>
                    <a:pt x="458" y="1139"/>
                  </a:lnTo>
                  <a:lnTo>
                    <a:pt x="370" y="1130"/>
                  </a:lnTo>
                  <a:lnTo>
                    <a:pt x="282" y="1108"/>
                  </a:lnTo>
                  <a:lnTo>
                    <a:pt x="198" y="1069"/>
                  </a:lnTo>
                  <a:lnTo>
                    <a:pt x="114" y="1016"/>
                  </a:lnTo>
                  <a:lnTo>
                    <a:pt x="61" y="950"/>
                  </a:lnTo>
                  <a:lnTo>
                    <a:pt x="17" y="879"/>
                  </a:lnTo>
                  <a:lnTo>
                    <a:pt x="0" y="741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070840" y="3084480"/>
              <a:ext cx="367200" cy="417960"/>
            </a:xfrm>
            <a:custGeom>
              <a:avLst/>
              <a:gdLst/>
              <a:ahLst/>
              <a:rect l="0" t="0" r="r" b="b"/>
              <a:pathLst>
                <a:path w="1020" h="1161">
                  <a:moveTo>
                    <a:pt x="901" y="406"/>
                  </a:moveTo>
                  <a:lnTo>
                    <a:pt x="1020" y="176"/>
                  </a:lnTo>
                  <a:lnTo>
                    <a:pt x="963" y="123"/>
                  </a:lnTo>
                  <a:lnTo>
                    <a:pt x="888" y="74"/>
                  </a:lnTo>
                  <a:lnTo>
                    <a:pt x="791" y="39"/>
                  </a:lnTo>
                  <a:lnTo>
                    <a:pt x="697" y="22"/>
                  </a:lnTo>
                  <a:lnTo>
                    <a:pt x="618" y="4"/>
                  </a:lnTo>
                  <a:lnTo>
                    <a:pt x="521" y="0"/>
                  </a:lnTo>
                  <a:lnTo>
                    <a:pt x="441" y="26"/>
                  </a:lnTo>
                  <a:lnTo>
                    <a:pt x="353" y="57"/>
                  </a:lnTo>
                  <a:lnTo>
                    <a:pt x="287" y="105"/>
                  </a:lnTo>
                  <a:lnTo>
                    <a:pt x="242" y="154"/>
                  </a:lnTo>
                  <a:lnTo>
                    <a:pt x="198" y="220"/>
                  </a:lnTo>
                  <a:lnTo>
                    <a:pt x="167" y="296"/>
                  </a:lnTo>
                  <a:lnTo>
                    <a:pt x="158" y="371"/>
                  </a:lnTo>
                  <a:lnTo>
                    <a:pt x="158" y="441"/>
                  </a:lnTo>
                  <a:lnTo>
                    <a:pt x="171" y="499"/>
                  </a:lnTo>
                  <a:lnTo>
                    <a:pt x="202" y="556"/>
                  </a:lnTo>
                  <a:lnTo>
                    <a:pt x="242" y="591"/>
                  </a:lnTo>
                  <a:lnTo>
                    <a:pt x="283" y="627"/>
                  </a:lnTo>
                  <a:lnTo>
                    <a:pt x="327" y="653"/>
                  </a:lnTo>
                  <a:lnTo>
                    <a:pt x="389" y="680"/>
                  </a:lnTo>
                  <a:lnTo>
                    <a:pt x="450" y="693"/>
                  </a:lnTo>
                  <a:lnTo>
                    <a:pt x="600" y="733"/>
                  </a:lnTo>
                  <a:lnTo>
                    <a:pt x="618" y="772"/>
                  </a:lnTo>
                  <a:lnTo>
                    <a:pt x="609" y="838"/>
                  </a:lnTo>
                  <a:lnTo>
                    <a:pt x="583" y="856"/>
                  </a:lnTo>
                  <a:lnTo>
                    <a:pt x="547" y="879"/>
                  </a:lnTo>
                  <a:lnTo>
                    <a:pt x="503" y="883"/>
                  </a:lnTo>
                  <a:lnTo>
                    <a:pt x="433" y="875"/>
                  </a:lnTo>
                  <a:lnTo>
                    <a:pt x="362" y="847"/>
                  </a:lnTo>
                  <a:lnTo>
                    <a:pt x="292" y="816"/>
                  </a:lnTo>
                  <a:lnTo>
                    <a:pt x="220" y="763"/>
                  </a:lnTo>
                  <a:lnTo>
                    <a:pt x="154" y="710"/>
                  </a:lnTo>
                  <a:lnTo>
                    <a:pt x="0" y="945"/>
                  </a:lnTo>
                  <a:lnTo>
                    <a:pt x="39" y="998"/>
                  </a:lnTo>
                  <a:lnTo>
                    <a:pt x="92" y="1033"/>
                  </a:lnTo>
                  <a:lnTo>
                    <a:pt x="163" y="1073"/>
                  </a:lnTo>
                  <a:lnTo>
                    <a:pt x="233" y="1104"/>
                  </a:lnTo>
                  <a:lnTo>
                    <a:pt x="300" y="1130"/>
                  </a:lnTo>
                  <a:lnTo>
                    <a:pt x="402" y="1152"/>
                  </a:lnTo>
                  <a:lnTo>
                    <a:pt x="486" y="1161"/>
                  </a:lnTo>
                  <a:lnTo>
                    <a:pt x="578" y="1152"/>
                  </a:lnTo>
                  <a:lnTo>
                    <a:pt x="658" y="1139"/>
                  </a:lnTo>
                  <a:lnTo>
                    <a:pt x="728" y="1122"/>
                  </a:lnTo>
                  <a:lnTo>
                    <a:pt x="786" y="1095"/>
                  </a:lnTo>
                  <a:lnTo>
                    <a:pt x="848" y="1060"/>
                  </a:lnTo>
                  <a:lnTo>
                    <a:pt x="892" y="1025"/>
                  </a:lnTo>
                  <a:lnTo>
                    <a:pt x="936" y="967"/>
                  </a:lnTo>
                  <a:lnTo>
                    <a:pt x="967" y="910"/>
                  </a:lnTo>
                  <a:lnTo>
                    <a:pt x="994" y="838"/>
                  </a:lnTo>
                  <a:lnTo>
                    <a:pt x="998" y="772"/>
                  </a:lnTo>
                  <a:lnTo>
                    <a:pt x="994" y="697"/>
                  </a:lnTo>
                  <a:lnTo>
                    <a:pt x="967" y="631"/>
                  </a:lnTo>
                  <a:lnTo>
                    <a:pt x="932" y="591"/>
                  </a:lnTo>
                  <a:lnTo>
                    <a:pt x="883" y="543"/>
                  </a:lnTo>
                  <a:lnTo>
                    <a:pt x="795" y="503"/>
                  </a:lnTo>
                  <a:lnTo>
                    <a:pt x="693" y="472"/>
                  </a:lnTo>
                  <a:lnTo>
                    <a:pt x="613" y="450"/>
                  </a:lnTo>
                  <a:lnTo>
                    <a:pt x="569" y="433"/>
                  </a:lnTo>
                  <a:lnTo>
                    <a:pt x="547" y="402"/>
                  </a:lnTo>
                  <a:lnTo>
                    <a:pt x="547" y="353"/>
                  </a:lnTo>
                  <a:lnTo>
                    <a:pt x="561" y="322"/>
                  </a:lnTo>
                  <a:lnTo>
                    <a:pt x="587" y="296"/>
                  </a:lnTo>
                  <a:lnTo>
                    <a:pt x="631" y="296"/>
                  </a:lnTo>
                  <a:lnTo>
                    <a:pt x="688" y="292"/>
                  </a:lnTo>
                  <a:lnTo>
                    <a:pt x="746" y="309"/>
                  </a:lnTo>
                  <a:lnTo>
                    <a:pt x="804" y="336"/>
                  </a:lnTo>
                  <a:lnTo>
                    <a:pt x="861" y="367"/>
                  </a:lnTo>
                  <a:lnTo>
                    <a:pt x="901" y="4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5761080" y="2932200"/>
            <a:ext cx="2634120" cy="527400"/>
            <a:chOff x="5761080" y="2932200"/>
            <a:chExt cx="2634120" cy="527400"/>
          </a:xfrm>
        </p:grpSpPr>
        <p:sp>
          <p:nvSpPr>
            <p:cNvPr id="617" name=""/>
            <p:cNvSpPr/>
            <p:nvPr/>
          </p:nvSpPr>
          <p:spPr>
            <a:xfrm>
              <a:off x="5761080" y="2932200"/>
              <a:ext cx="227520" cy="508320"/>
            </a:xfrm>
            <a:custGeom>
              <a:avLst/>
              <a:gdLst/>
              <a:ahLst/>
              <a:rect l="0" t="0" r="r" b="b"/>
              <a:pathLst>
                <a:path w="632" h="1412">
                  <a:moveTo>
                    <a:pt x="212" y="0"/>
                  </a:moveTo>
                  <a:lnTo>
                    <a:pt x="632" y="0"/>
                  </a:lnTo>
                  <a:lnTo>
                    <a:pt x="424" y="1412"/>
                  </a:lnTo>
                  <a:lnTo>
                    <a:pt x="0" y="1412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56200" y="3030480"/>
              <a:ext cx="454320" cy="410040"/>
            </a:xfrm>
            <a:custGeom>
              <a:avLst/>
              <a:gdLst/>
              <a:ahLst/>
              <a:rect l="0" t="0" r="r" b="b"/>
              <a:pathLst>
                <a:path w="1262" h="1139">
                  <a:moveTo>
                    <a:pt x="0" y="1139"/>
                  </a:moveTo>
                  <a:lnTo>
                    <a:pt x="158" y="39"/>
                  </a:lnTo>
                  <a:lnTo>
                    <a:pt x="577" y="39"/>
                  </a:lnTo>
                  <a:lnTo>
                    <a:pt x="551" y="167"/>
                  </a:lnTo>
                  <a:lnTo>
                    <a:pt x="608" y="114"/>
                  </a:lnTo>
                  <a:lnTo>
                    <a:pt x="662" y="74"/>
                  </a:lnTo>
                  <a:lnTo>
                    <a:pt x="719" y="44"/>
                  </a:lnTo>
                  <a:lnTo>
                    <a:pt x="794" y="17"/>
                  </a:lnTo>
                  <a:lnTo>
                    <a:pt x="847" y="8"/>
                  </a:lnTo>
                  <a:lnTo>
                    <a:pt x="918" y="0"/>
                  </a:lnTo>
                  <a:lnTo>
                    <a:pt x="984" y="8"/>
                  </a:lnTo>
                  <a:lnTo>
                    <a:pt x="1050" y="26"/>
                  </a:lnTo>
                  <a:lnTo>
                    <a:pt x="1099" y="52"/>
                  </a:lnTo>
                  <a:lnTo>
                    <a:pt x="1151" y="92"/>
                  </a:lnTo>
                  <a:lnTo>
                    <a:pt x="1200" y="136"/>
                  </a:lnTo>
                  <a:lnTo>
                    <a:pt x="1235" y="198"/>
                  </a:lnTo>
                  <a:lnTo>
                    <a:pt x="1262" y="282"/>
                  </a:lnTo>
                  <a:lnTo>
                    <a:pt x="1262" y="375"/>
                  </a:lnTo>
                  <a:lnTo>
                    <a:pt x="1160" y="1139"/>
                  </a:lnTo>
                  <a:lnTo>
                    <a:pt x="759" y="1139"/>
                  </a:lnTo>
                  <a:lnTo>
                    <a:pt x="834" y="516"/>
                  </a:lnTo>
                  <a:lnTo>
                    <a:pt x="843" y="441"/>
                  </a:lnTo>
                  <a:lnTo>
                    <a:pt x="825" y="375"/>
                  </a:lnTo>
                  <a:lnTo>
                    <a:pt x="790" y="344"/>
                  </a:lnTo>
                  <a:lnTo>
                    <a:pt x="724" y="331"/>
                  </a:lnTo>
                  <a:lnTo>
                    <a:pt x="658" y="331"/>
                  </a:lnTo>
                  <a:lnTo>
                    <a:pt x="586" y="344"/>
                  </a:lnTo>
                  <a:lnTo>
                    <a:pt x="542" y="393"/>
                  </a:lnTo>
                  <a:lnTo>
                    <a:pt x="520" y="450"/>
                  </a:lnTo>
                  <a:lnTo>
                    <a:pt x="410" y="1139"/>
                  </a:lnTo>
                  <a:lnTo>
                    <a:pt x="0" y="1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453360" y="2932200"/>
              <a:ext cx="400320" cy="508320"/>
            </a:xfrm>
            <a:custGeom>
              <a:avLst/>
              <a:gdLst/>
              <a:ahLst/>
              <a:rect l="0" t="0" r="r" b="b"/>
              <a:pathLst>
                <a:path w="1112" h="1412">
                  <a:moveTo>
                    <a:pt x="185" y="0"/>
                  </a:moveTo>
                  <a:lnTo>
                    <a:pt x="0" y="1412"/>
                  </a:lnTo>
                  <a:lnTo>
                    <a:pt x="418" y="1412"/>
                  </a:lnTo>
                  <a:lnTo>
                    <a:pt x="489" y="904"/>
                  </a:lnTo>
                  <a:lnTo>
                    <a:pt x="825" y="904"/>
                  </a:lnTo>
                  <a:lnTo>
                    <a:pt x="869" y="546"/>
                  </a:lnTo>
                  <a:lnTo>
                    <a:pt x="546" y="546"/>
                  </a:lnTo>
                  <a:lnTo>
                    <a:pt x="569" y="370"/>
                  </a:lnTo>
                  <a:lnTo>
                    <a:pt x="1059" y="370"/>
                  </a:lnTo>
                  <a:lnTo>
                    <a:pt x="1112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75560" y="3035160"/>
              <a:ext cx="864000" cy="421200"/>
            </a:xfrm>
            <a:custGeom>
              <a:avLst/>
              <a:gdLst/>
              <a:ahLst/>
              <a:rect l="0" t="0" r="r" b="b"/>
              <a:pathLst>
                <a:path w="2400" h="1170">
                  <a:moveTo>
                    <a:pt x="2400" y="406"/>
                  </a:moveTo>
                  <a:lnTo>
                    <a:pt x="2400" y="349"/>
                  </a:lnTo>
                  <a:lnTo>
                    <a:pt x="2387" y="291"/>
                  </a:lnTo>
                  <a:lnTo>
                    <a:pt x="2365" y="246"/>
                  </a:lnTo>
                  <a:lnTo>
                    <a:pt x="2330" y="198"/>
                  </a:lnTo>
                  <a:lnTo>
                    <a:pt x="2286" y="158"/>
                  </a:lnTo>
                  <a:lnTo>
                    <a:pt x="2224" y="114"/>
                  </a:lnTo>
                  <a:lnTo>
                    <a:pt x="2153" y="74"/>
                  </a:lnTo>
                  <a:lnTo>
                    <a:pt x="2096" y="52"/>
                  </a:lnTo>
                  <a:lnTo>
                    <a:pt x="2004" y="22"/>
                  </a:lnTo>
                  <a:lnTo>
                    <a:pt x="1906" y="8"/>
                  </a:lnTo>
                  <a:lnTo>
                    <a:pt x="1809" y="0"/>
                  </a:lnTo>
                  <a:lnTo>
                    <a:pt x="1698" y="13"/>
                  </a:lnTo>
                  <a:lnTo>
                    <a:pt x="1601" y="39"/>
                  </a:lnTo>
                  <a:lnTo>
                    <a:pt x="1517" y="88"/>
                  </a:lnTo>
                  <a:lnTo>
                    <a:pt x="1451" y="123"/>
                  </a:lnTo>
                  <a:lnTo>
                    <a:pt x="1394" y="167"/>
                  </a:lnTo>
                  <a:lnTo>
                    <a:pt x="1328" y="233"/>
                  </a:lnTo>
                  <a:lnTo>
                    <a:pt x="1288" y="305"/>
                  </a:lnTo>
                  <a:lnTo>
                    <a:pt x="1235" y="389"/>
                  </a:lnTo>
                  <a:lnTo>
                    <a:pt x="1196" y="286"/>
                  </a:lnTo>
                  <a:lnTo>
                    <a:pt x="1129" y="198"/>
                  </a:lnTo>
                  <a:lnTo>
                    <a:pt x="1072" y="149"/>
                  </a:lnTo>
                  <a:lnTo>
                    <a:pt x="1002" y="97"/>
                  </a:lnTo>
                  <a:lnTo>
                    <a:pt x="904" y="57"/>
                  </a:lnTo>
                  <a:lnTo>
                    <a:pt x="799" y="30"/>
                  </a:lnTo>
                  <a:lnTo>
                    <a:pt x="697" y="22"/>
                  </a:lnTo>
                  <a:lnTo>
                    <a:pt x="573" y="22"/>
                  </a:lnTo>
                  <a:lnTo>
                    <a:pt x="449" y="39"/>
                  </a:lnTo>
                  <a:lnTo>
                    <a:pt x="348" y="83"/>
                  </a:lnTo>
                  <a:lnTo>
                    <a:pt x="260" y="132"/>
                  </a:lnTo>
                  <a:lnTo>
                    <a:pt x="176" y="198"/>
                  </a:lnTo>
                  <a:lnTo>
                    <a:pt x="105" y="273"/>
                  </a:lnTo>
                  <a:lnTo>
                    <a:pt x="57" y="349"/>
                  </a:lnTo>
                  <a:lnTo>
                    <a:pt x="22" y="437"/>
                  </a:lnTo>
                  <a:lnTo>
                    <a:pt x="0" y="543"/>
                  </a:lnTo>
                  <a:lnTo>
                    <a:pt x="0" y="644"/>
                  </a:lnTo>
                  <a:lnTo>
                    <a:pt x="8" y="728"/>
                  </a:lnTo>
                  <a:lnTo>
                    <a:pt x="35" y="816"/>
                  </a:lnTo>
                  <a:lnTo>
                    <a:pt x="66" y="888"/>
                  </a:lnTo>
                  <a:lnTo>
                    <a:pt x="119" y="950"/>
                  </a:lnTo>
                  <a:lnTo>
                    <a:pt x="185" y="1016"/>
                  </a:lnTo>
                  <a:lnTo>
                    <a:pt x="246" y="1064"/>
                  </a:lnTo>
                  <a:lnTo>
                    <a:pt x="317" y="1108"/>
                  </a:lnTo>
                  <a:lnTo>
                    <a:pt x="405" y="1139"/>
                  </a:lnTo>
                  <a:lnTo>
                    <a:pt x="498" y="1157"/>
                  </a:lnTo>
                  <a:lnTo>
                    <a:pt x="586" y="1170"/>
                  </a:lnTo>
                  <a:lnTo>
                    <a:pt x="671" y="1166"/>
                  </a:lnTo>
                  <a:lnTo>
                    <a:pt x="768" y="1157"/>
                  </a:lnTo>
                  <a:lnTo>
                    <a:pt x="847" y="1135"/>
                  </a:lnTo>
                  <a:lnTo>
                    <a:pt x="913" y="1108"/>
                  </a:lnTo>
                  <a:lnTo>
                    <a:pt x="984" y="1069"/>
                  </a:lnTo>
                  <a:lnTo>
                    <a:pt x="1046" y="1025"/>
                  </a:lnTo>
                  <a:lnTo>
                    <a:pt x="1107" y="967"/>
                  </a:lnTo>
                  <a:lnTo>
                    <a:pt x="1160" y="888"/>
                  </a:lnTo>
                  <a:lnTo>
                    <a:pt x="1213" y="803"/>
                  </a:lnTo>
                  <a:lnTo>
                    <a:pt x="1235" y="803"/>
                  </a:lnTo>
                  <a:lnTo>
                    <a:pt x="1266" y="879"/>
                  </a:lnTo>
                  <a:lnTo>
                    <a:pt x="1306" y="941"/>
                  </a:lnTo>
                  <a:lnTo>
                    <a:pt x="1354" y="989"/>
                  </a:lnTo>
                  <a:lnTo>
                    <a:pt x="1403" y="1042"/>
                  </a:lnTo>
                  <a:lnTo>
                    <a:pt x="1478" y="1086"/>
                  </a:lnTo>
                  <a:lnTo>
                    <a:pt x="1548" y="1126"/>
                  </a:lnTo>
                  <a:lnTo>
                    <a:pt x="1632" y="1144"/>
                  </a:lnTo>
                  <a:lnTo>
                    <a:pt x="1734" y="1157"/>
                  </a:lnTo>
                  <a:lnTo>
                    <a:pt x="1827" y="1161"/>
                  </a:lnTo>
                  <a:lnTo>
                    <a:pt x="1902" y="1161"/>
                  </a:lnTo>
                  <a:lnTo>
                    <a:pt x="1990" y="1157"/>
                  </a:lnTo>
                  <a:lnTo>
                    <a:pt x="2074" y="1130"/>
                  </a:lnTo>
                  <a:lnTo>
                    <a:pt x="2140" y="1100"/>
                  </a:lnTo>
                  <a:lnTo>
                    <a:pt x="2206" y="1064"/>
                  </a:lnTo>
                  <a:lnTo>
                    <a:pt x="2264" y="1020"/>
                  </a:lnTo>
                  <a:lnTo>
                    <a:pt x="2312" y="972"/>
                  </a:lnTo>
                  <a:lnTo>
                    <a:pt x="2343" y="910"/>
                  </a:lnTo>
                  <a:lnTo>
                    <a:pt x="2356" y="856"/>
                  </a:lnTo>
                  <a:lnTo>
                    <a:pt x="2347" y="816"/>
                  </a:lnTo>
                  <a:lnTo>
                    <a:pt x="2026" y="750"/>
                  </a:lnTo>
                  <a:lnTo>
                    <a:pt x="2004" y="785"/>
                  </a:lnTo>
                  <a:lnTo>
                    <a:pt x="1968" y="825"/>
                  </a:lnTo>
                  <a:lnTo>
                    <a:pt x="1924" y="852"/>
                  </a:lnTo>
                  <a:lnTo>
                    <a:pt x="1862" y="860"/>
                  </a:lnTo>
                  <a:lnTo>
                    <a:pt x="1805" y="860"/>
                  </a:lnTo>
                  <a:lnTo>
                    <a:pt x="1756" y="852"/>
                  </a:lnTo>
                  <a:lnTo>
                    <a:pt x="1698" y="825"/>
                  </a:lnTo>
                  <a:lnTo>
                    <a:pt x="1654" y="794"/>
                  </a:lnTo>
                  <a:lnTo>
                    <a:pt x="1623" y="759"/>
                  </a:lnTo>
                  <a:lnTo>
                    <a:pt x="1606" y="719"/>
                  </a:lnTo>
                  <a:lnTo>
                    <a:pt x="1597" y="666"/>
                  </a:lnTo>
                  <a:lnTo>
                    <a:pt x="874" y="569"/>
                  </a:lnTo>
                  <a:lnTo>
                    <a:pt x="865" y="666"/>
                  </a:lnTo>
                  <a:lnTo>
                    <a:pt x="847" y="724"/>
                  </a:lnTo>
                  <a:lnTo>
                    <a:pt x="821" y="777"/>
                  </a:lnTo>
                  <a:lnTo>
                    <a:pt x="785" y="812"/>
                  </a:lnTo>
                  <a:lnTo>
                    <a:pt x="715" y="847"/>
                  </a:lnTo>
                  <a:lnTo>
                    <a:pt x="644" y="852"/>
                  </a:lnTo>
                  <a:lnTo>
                    <a:pt x="564" y="847"/>
                  </a:lnTo>
                  <a:lnTo>
                    <a:pt x="502" y="830"/>
                  </a:lnTo>
                  <a:lnTo>
                    <a:pt x="454" y="803"/>
                  </a:lnTo>
                  <a:lnTo>
                    <a:pt x="418" y="763"/>
                  </a:lnTo>
                  <a:lnTo>
                    <a:pt x="388" y="719"/>
                  </a:lnTo>
                  <a:lnTo>
                    <a:pt x="374" y="622"/>
                  </a:lnTo>
                  <a:lnTo>
                    <a:pt x="383" y="547"/>
                  </a:lnTo>
                  <a:lnTo>
                    <a:pt x="410" y="472"/>
                  </a:lnTo>
                  <a:lnTo>
                    <a:pt x="445" y="433"/>
                  </a:lnTo>
                  <a:lnTo>
                    <a:pt x="485" y="389"/>
                  </a:lnTo>
                  <a:lnTo>
                    <a:pt x="542" y="371"/>
                  </a:lnTo>
                  <a:lnTo>
                    <a:pt x="609" y="358"/>
                  </a:lnTo>
                  <a:lnTo>
                    <a:pt x="693" y="358"/>
                  </a:lnTo>
                  <a:lnTo>
                    <a:pt x="768" y="380"/>
                  </a:lnTo>
                  <a:lnTo>
                    <a:pt x="816" y="415"/>
                  </a:lnTo>
                  <a:lnTo>
                    <a:pt x="843" y="446"/>
                  </a:lnTo>
                  <a:lnTo>
                    <a:pt x="865" y="516"/>
                  </a:lnTo>
                  <a:lnTo>
                    <a:pt x="878" y="578"/>
                  </a:lnTo>
                  <a:lnTo>
                    <a:pt x="1623" y="486"/>
                  </a:lnTo>
                  <a:lnTo>
                    <a:pt x="1654" y="441"/>
                  </a:lnTo>
                  <a:lnTo>
                    <a:pt x="1694" y="402"/>
                  </a:lnTo>
                  <a:lnTo>
                    <a:pt x="1742" y="367"/>
                  </a:lnTo>
                  <a:lnTo>
                    <a:pt x="1801" y="349"/>
                  </a:lnTo>
                  <a:lnTo>
                    <a:pt x="1867" y="349"/>
                  </a:lnTo>
                  <a:lnTo>
                    <a:pt x="1933" y="358"/>
                  </a:lnTo>
                  <a:lnTo>
                    <a:pt x="1981" y="389"/>
                  </a:lnTo>
                  <a:lnTo>
                    <a:pt x="2017" y="424"/>
                  </a:lnTo>
                  <a:lnTo>
                    <a:pt x="2026" y="455"/>
                  </a:lnTo>
                  <a:lnTo>
                    <a:pt x="2400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9480" y="3048120"/>
              <a:ext cx="430560" cy="411480"/>
            </a:xfrm>
            <a:custGeom>
              <a:avLst/>
              <a:gdLst/>
              <a:ahLst/>
              <a:rect l="0" t="0" r="r" b="b"/>
              <a:pathLst>
                <a:path w="1196" h="1143">
                  <a:moveTo>
                    <a:pt x="92" y="0"/>
                  </a:moveTo>
                  <a:lnTo>
                    <a:pt x="480" y="0"/>
                  </a:lnTo>
                  <a:lnTo>
                    <a:pt x="410" y="644"/>
                  </a:lnTo>
                  <a:lnTo>
                    <a:pt x="410" y="684"/>
                  </a:lnTo>
                  <a:lnTo>
                    <a:pt x="418" y="737"/>
                  </a:lnTo>
                  <a:lnTo>
                    <a:pt x="449" y="768"/>
                  </a:lnTo>
                  <a:lnTo>
                    <a:pt x="498" y="790"/>
                  </a:lnTo>
                  <a:lnTo>
                    <a:pt x="546" y="799"/>
                  </a:lnTo>
                  <a:lnTo>
                    <a:pt x="613" y="790"/>
                  </a:lnTo>
                  <a:lnTo>
                    <a:pt x="653" y="772"/>
                  </a:lnTo>
                  <a:lnTo>
                    <a:pt x="688" y="750"/>
                  </a:lnTo>
                  <a:lnTo>
                    <a:pt x="724" y="684"/>
                  </a:lnTo>
                  <a:lnTo>
                    <a:pt x="807" y="0"/>
                  </a:lnTo>
                  <a:lnTo>
                    <a:pt x="1196" y="0"/>
                  </a:lnTo>
                  <a:lnTo>
                    <a:pt x="1121" y="728"/>
                  </a:lnTo>
                  <a:lnTo>
                    <a:pt x="1090" y="843"/>
                  </a:lnTo>
                  <a:lnTo>
                    <a:pt x="1059" y="900"/>
                  </a:lnTo>
                  <a:lnTo>
                    <a:pt x="1015" y="975"/>
                  </a:lnTo>
                  <a:lnTo>
                    <a:pt x="953" y="1028"/>
                  </a:lnTo>
                  <a:lnTo>
                    <a:pt x="891" y="1063"/>
                  </a:lnTo>
                  <a:lnTo>
                    <a:pt x="821" y="1099"/>
                  </a:lnTo>
                  <a:lnTo>
                    <a:pt x="746" y="1121"/>
                  </a:lnTo>
                  <a:lnTo>
                    <a:pt x="662" y="1134"/>
                  </a:lnTo>
                  <a:lnTo>
                    <a:pt x="564" y="1143"/>
                  </a:lnTo>
                  <a:lnTo>
                    <a:pt x="458" y="1134"/>
                  </a:lnTo>
                  <a:lnTo>
                    <a:pt x="366" y="1125"/>
                  </a:lnTo>
                  <a:lnTo>
                    <a:pt x="282" y="1103"/>
                  </a:lnTo>
                  <a:lnTo>
                    <a:pt x="198" y="1063"/>
                  </a:lnTo>
                  <a:lnTo>
                    <a:pt x="114" y="1015"/>
                  </a:lnTo>
                  <a:lnTo>
                    <a:pt x="57" y="944"/>
                  </a:lnTo>
                  <a:lnTo>
                    <a:pt x="17" y="874"/>
                  </a:lnTo>
                  <a:lnTo>
                    <a:pt x="0" y="737"/>
                  </a:lnTo>
                  <a:lnTo>
                    <a:pt x="8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028000" y="3043080"/>
              <a:ext cx="367200" cy="416160"/>
            </a:xfrm>
            <a:custGeom>
              <a:avLst/>
              <a:gdLst/>
              <a:ahLst/>
              <a:rect l="0" t="0" r="r" b="b"/>
              <a:pathLst>
                <a:path w="1020" h="1156">
                  <a:moveTo>
                    <a:pt x="901" y="405"/>
                  </a:moveTo>
                  <a:lnTo>
                    <a:pt x="1020" y="171"/>
                  </a:lnTo>
                  <a:lnTo>
                    <a:pt x="963" y="123"/>
                  </a:lnTo>
                  <a:lnTo>
                    <a:pt x="888" y="74"/>
                  </a:lnTo>
                  <a:lnTo>
                    <a:pt x="791" y="39"/>
                  </a:lnTo>
                  <a:lnTo>
                    <a:pt x="697" y="22"/>
                  </a:lnTo>
                  <a:lnTo>
                    <a:pt x="618" y="4"/>
                  </a:lnTo>
                  <a:lnTo>
                    <a:pt x="521" y="0"/>
                  </a:lnTo>
                  <a:lnTo>
                    <a:pt x="441" y="26"/>
                  </a:lnTo>
                  <a:lnTo>
                    <a:pt x="353" y="57"/>
                  </a:lnTo>
                  <a:lnTo>
                    <a:pt x="287" y="105"/>
                  </a:lnTo>
                  <a:lnTo>
                    <a:pt x="242" y="154"/>
                  </a:lnTo>
                  <a:lnTo>
                    <a:pt x="198" y="220"/>
                  </a:lnTo>
                  <a:lnTo>
                    <a:pt x="167" y="295"/>
                  </a:lnTo>
                  <a:lnTo>
                    <a:pt x="158" y="366"/>
                  </a:lnTo>
                  <a:lnTo>
                    <a:pt x="158" y="440"/>
                  </a:lnTo>
                  <a:lnTo>
                    <a:pt x="171" y="493"/>
                  </a:lnTo>
                  <a:lnTo>
                    <a:pt x="202" y="551"/>
                  </a:lnTo>
                  <a:lnTo>
                    <a:pt x="242" y="587"/>
                  </a:lnTo>
                  <a:lnTo>
                    <a:pt x="283" y="622"/>
                  </a:lnTo>
                  <a:lnTo>
                    <a:pt x="327" y="649"/>
                  </a:lnTo>
                  <a:lnTo>
                    <a:pt x="389" y="675"/>
                  </a:lnTo>
                  <a:lnTo>
                    <a:pt x="450" y="693"/>
                  </a:lnTo>
                  <a:lnTo>
                    <a:pt x="600" y="733"/>
                  </a:lnTo>
                  <a:lnTo>
                    <a:pt x="618" y="768"/>
                  </a:lnTo>
                  <a:lnTo>
                    <a:pt x="609" y="834"/>
                  </a:lnTo>
                  <a:lnTo>
                    <a:pt x="583" y="856"/>
                  </a:lnTo>
                  <a:lnTo>
                    <a:pt x="547" y="874"/>
                  </a:lnTo>
                  <a:lnTo>
                    <a:pt x="503" y="878"/>
                  </a:lnTo>
                  <a:lnTo>
                    <a:pt x="433" y="869"/>
                  </a:lnTo>
                  <a:lnTo>
                    <a:pt x="362" y="843"/>
                  </a:lnTo>
                  <a:lnTo>
                    <a:pt x="292" y="812"/>
                  </a:lnTo>
                  <a:lnTo>
                    <a:pt x="220" y="763"/>
                  </a:lnTo>
                  <a:lnTo>
                    <a:pt x="154" y="706"/>
                  </a:lnTo>
                  <a:lnTo>
                    <a:pt x="0" y="940"/>
                  </a:lnTo>
                  <a:lnTo>
                    <a:pt x="39" y="993"/>
                  </a:lnTo>
                  <a:lnTo>
                    <a:pt x="92" y="1028"/>
                  </a:lnTo>
                  <a:lnTo>
                    <a:pt x="163" y="1068"/>
                  </a:lnTo>
                  <a:lnTo>
                    <a:pt x="233" y="1099"/>
                  </a:lnTo>
                  <a:lnTo>
                    <a:pt x="300" y="1125"/>
                  </a:lnTo>
                  <a:lnTo>
                    <a:pt x="402" y="1147"/>
                  </a:lnTo>
                  <a:lnTo>
                    <a:pt x="486" y="1156"/>
                  </a:lnTo>
                  <a:lnTo>
                    <a:pt x="578" y="1147"/>
                  </a:lnTo>
                  <a:lnTo>
                    <a:pt x="658" y="1134"/>
                  </a:lnTo>
                  <a:lnTo>
                    <a:pt x="728" y="1116"/>
                  </a:lnTo>
                  <a:lnTo>
                    <a:pt x="786" y="1090"/>
                  </a:lnTo>
                  <a:lnTo>
                    <a:pt x="848" y="1054"/>
                  </a:lnTo>
                  <a:lnTo>
                    <a:pt x="892" y="1019"/>
                  </a:lnTo>
                  <a:lnTo>
                    <a:pt x="936" y="962"/>
                  </a:lnTo>
                  <a:lnTo>
                    <a:pt x="967" y="904"/>
                  </a:lnTo>
                  <a:lnTo>
                    <a:pt x="994" y="834"/>
                  </a:lnTo>
                  <a:lnTo>
                    <a:pt x="998" y="768"/>
                  </a:lnTo>
                  <a:lnTo>
                    <a:pt x="994" y="697"/>
                  </a:lnTo>
                  <a:lnTo>
                    <a:pt x="967" y="631"/>
                  </a:lnTo>
                  <a:lnTo>
                    <a:pt x="932" y="587"/>
                  </a:lnTo>
                  <a:lnTo>
                    <a:pt x="883" y="542"/>
                  </a:lnTo>
                  <a:lnTo>
                    <a:pt x="795" y="502"/>
                  </a:lnTo>
                  <a:lnTo>
                    <a:pt x="693" y="471"/>
                  </a:lnTo>
                  <a:lnTo>
                    <a:pt x="613" y="449"/>
                  </a:lnTo>
                  <a:lnTo>
                    <a:pt x="569" y="427"/>
                  </a:lnTo>
                  <a:lnTo>
                    <a:pt x="547" y="396"/>
                  </a:lnTo>
                  <a:lnTo>
                    <a:pt x="547" y="352"/>
                  </a:lnTo>
                  <a:lnTo>
                    <a:pt x="561" y="321"/>
                  </a:lnTo>
                  <a:lnTo>
                    <a:pt x="587" y="295"/>
                  </a:lnTo>
                  <a:lnTo>
                    <a:pt x="631" y="295"/>
                  </a:lnTo>
                  <a:lnTo>
                    <a:pt x="688" y="291"/>
                  </a:lnTo>
                  <a:lnTo>
                    <a:pt x="746" y="308"/>
                  </a:lnTo>
                  <a:lnTo>
                    <a:pt x="804" y="330"/>
                  </a:lnTo>
                  <a:lnTo>
                    <a:pt x="861" y="361"/>
                  </a:lnTo>
                  <a:lnTo>
                    <a:pt x="901" y="4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 txBox="1"/>
          <p:nvPr/>
        </p:nvSpPr>
        <p:spPr>
          <a:xfrm>
            <a:off x="5729400" y="3506760"/>
            <a:ext cx="267984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S        Y        S       T        E        M        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450280" y="3041640"/>
            <a:ext cx="136440" cy="13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216240" y="6450120"/>
            <a:ext cx="230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Click here to 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484200" y="230040"/>
            <a:ext cx="1039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 Focus/Genigraphics</dc:creator>
  <dc:description/>
  <dc:language>en-US</dc:language>
  <cp:lastModifiedBy>In Focus/Genigraphics</cp:lastModifiedBy>
  <cp:revision>0</cp:revision>
  <dc:subject/>
  <dc:title>Genigraphics... inside PowerPoint on your Desktop!</dc:title>
</cp:coreProperties>
</file>