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grpSp>
          <p:nvGrpSpPr>
            <p:cNvPr id="79" name=""/>
            <p:cNvGrpSpPr/>
            <p:nvPr/>
          </p:nvGrpSpPr>
          <p:grpSpPr>
            <a:xfrm>
              <a:off x="0" y="0"/>
              <a:ext cx="9144360" cy="6845400"/>
              <a:chOff x="0" y="0"/>
              <a:chExt cx="9144360" cy="68454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4952880"/>
                <a:ext cx="9144360" cy="1892520"/>
              </a:xfrm>
              <a:custGeom>
                <a:avLst/>
                <a:gdLst/>
                <a:ahLst/>
                <a:rect l="0" t="0" r="r" b="b"/>
                <a:pathLst>
                  <a:path w="25401" h="5257">
                    <a:moveTo>
                      <a:pt x="25401" y="0"/>
                    </a:moveTo>
                    <a:lnTo>
                      <a:pt x="0" y="5257"/>
                    </a:lnTo>
                    <a:lnTo>
                      <a:pt x="25365" y="5257"/>
                    </a:lnTo>
                    <a:lnTo>
                      <a:pt x="254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6819840"/>
                <a:ext cx="9131400" cy="2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0"/>
                <a:ext cx="5334480" cy="4800960"/>
              </a:xfrm>
              <a:custGeom>
                <a:avLst/>
                <a:gdLst/>
                <a:ahLst/>
                <a:rect l="0" t="0" r="r" b="b"/>
                <a:pathLst>
                  <a:path w="14818" h="13336">
                    <a:moveTo>
                      <a:pt x="0" y="13336"/>
                    </a:moveTo>
                    <a:lnTo>
                      <a:pt x="14818" y="0"/>
                    </a:lnTo>
                    <a:lnTo>
                      <a:pt x="0" y="0"/>
                    </a:lnTo>
                    <a:lnTo>
                      <a:pt x="0" y="13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62080" y="117360"/>
              <a:ext cx="8669160" cy="1233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2760" y="65160"/>
              <a:ext cx="8760240" cy="63720"/>
            </a:xfrm>
            <a:custGeom>
              <a:avLst/>
              <a:gdLst/>
              <a:ahLst/>
              <a:rect l="0" t="0" r="r" b="b"/>
              <a:pathLst>
                <a:path w="24334" h="177">
                  <a:moveTo>
                    <a:pt x="97" y="146"/>
                  </a:moveTo>
                  <a:lnTo>
                    <a:pt x="0" y="4"/>
                  </a:lnTo>
                  <a:lnTo>
                    <a:pt x="24334" y="0"/>
                  </a:lnTo>
                  <a:lnTo>
                    <a:pt x="24242" y="177"/>
                  </a:lnTo>
                  <a:lnTo>
                    <a:pt x="97" y="14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0680" y="1366920"/>
              <a:ext cx="8741160" cy="70200"/>
            </a:xfrm>
            <a:custGeom>
              <a:avLst/>
              <a:gdLst/>
              <a:ahLst/>
              <a:rect l="0" t="0" r="r" b="b"/>
              <a:pathLst>
                <a:path w="24281" h="195">
                  <a:moveTo>
                    <a:pt x="97" y="8"/>
                  </a:moveTo>
                  <a:lnTo>
                    <a:pt x="0" y="186"/>
                  </a:lnTo>
                  <a:lnTo>
                    <a:pt x="24281" y="195"/>
                  </a:lnTo>
                  <a:lnTo>
                    <a:pt x="24220" y="0"/>
                  </a:lnTo>
                  <a:lnTo>
                    <a:pt x="97" y="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2760" y="65160"/>
              <a:ext cx="52920" cy="1381320"/>
            </a:xfrm>
            <a:custGeom>
              <a:avLst/>
              <a:gdLst/>
              <a:ahLst/>
              <a:rect l="0" t="0" r="r" b="b"/>
              <a:pathLst>
                <a:path w="147" h="3837">
                  <a:moveTo>
                    <a:pt x="0" y="0"/>
                  </a:moveTo>
                  <a:lnTo>
                    <a:pt x="143" y="198"/>
                  </a:lnTo>
                  <a:lnTo>
                    <a:pt x="147" y="3564"/>
                  </a:lnTo>
                  <a:lnTo>
                    <a:pt x="0" y="3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934480" y="74520"/>
              <a:ext cx="38520" cy="1373400"/>
            </a:xfrm>
            <a:custGeom>
              <a:avLst/>
              <a:gdLst/>
              <a:ahLst/>
              <a:rect l="0" t="0" r="r" b="b"/>
              <a:pathLst>
                <a:path w="107" h="3815">
                  <a:moveTo>
                    <a:pt x="107" y="0"/>
                  </a:moveTo>
                  <a:lnTo>
                    <a:pt x="0" y="167"/>
                  </a:lnTo>
                  <a:lnTo>
                    <a:pt x="0" y="3581"/>
                  </a:lnTo>
                  <a:lnTo>
                    <a:pt x="107" y="381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 txBox="1"/>
          <p:nvPr/>
        </p:nvSpPr>
        <p:spPr>
          <a:xfrm>
            <a:off x="622440" y="1882800"/>
            <a:ext cx="820404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fessional Present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are the fast track to communication success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 an increasingly visual world, presenters who use well-designed visuals are perceived as being more knowledgeable, higher up in their organization -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more cred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t’s Been Consistently Pro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grpSp>
          <p:nvGrpSpPr>
            <p:cNvPr id="92" name=""/>
            <p:cNvGrpSpPr/>
            <p:nvPr/>
          </p:nvGrpSpPr>
          <p:grpSpPr>
            <a:xfrm>
              <a:off x="0" y="0"/>
              <a:ext cx="9144360" cy="6845400"/>
              <a:chOff x="0" y="0"/>
              <a:chExt cx="9144360" cy="6845400"/>
            </a:xfrm>
          </p:grpSpPr>
          <p:sp>
            <p:nvSpPr>
              <p:cNvPr id="93" name=""/>
              <p:cNvSpPr/>
              <p:nvPr/>
            </p:nvSpPr>
            <p:spPr>
              <a:xfrm>
                <a:off x="0" y="4952880"/>
                <a:ext cx="9144360" cy="1892520"/>
              </a:xfrm>
              <a:custGeom>
                <a:avLst/>
                <a:gdLst/>
                <a:ahLst/>
                <a:rect l="0" t="0" r="r" b="b"/>
                <a:pathLst>
                  <a:path w="25401" h="5257">
                    <a:moveTo>
                      <a:pt x="25401" y="0"/>
                    </a:moveTo>
                    <a:lnTo>
                      <a:pt x="0" y="5257"/>
                    </a:lnTo>
                    <a:lnTo>
                      <a:pt x="25365" y="5257"/>
                    </a:lnTo>
                    <a:lnTo>
                      <a:pt x="254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6819840"/>
                <a:ext cx="9131400" cy="255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0"/>
                <a:ext cx="5334480" cy="4800960"/>
              </a:xfrm>
              <a:custGeom>
                <a:avLst/>
                <a:gdLst/>
                <a:ahLst/>
                <a:rect l="0" t="0" r="r" b="b"/>
                <a:pathLst>
                  <a:path w="14818" h="13336">
                    <a:moveTo>
                      <a:pt x="0" y="13336"/>
                    </a:moveTo>
                    <a:lnTo>
                      <a:pt x="14818" y="0"/>
                    </a:lnTo>
                    <a:lnTo>
                      <a:pt x="0" y="0"/>
                    </a:lnTo>
                    <a:lnTo>
                      <a:pt x="0" y="13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62080" y="117360"/>
              <a:ext cx="8669160" cy="1233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2760" y="65160"/>
              <a:ext cx="8760240" cy="63720"/>
            </a:xfrm>
            <a:custGeom>
              <a:avLst/>
              <a:gdLst/>
              <a:ahLst/>
              <a:rect l="0" t="0" r="r" b="b"/>
              <a:pathLst>
                <a:path w="24334" h="177">
                  <a:moveTo>
                    <a:pt x="97" y="146"/>
                  </a:moveTo>
                  <a:lnTo>
                    <a:pt x="0" y="4"/>
                  </a:lnTo>
                  <a:lnTo>
                    <a:pt x="24334" y="0"/>
                  </a:lnTo>
                  <a:lnTo>
                    <a:pt x="24242" y="177"/>
                  </a:lnTo>
                  <a:lnTo>
                    <a:pt x="97" y="14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0680" y="1366920"/>
              <a:ext cx="8741160" cy="70200"/>
            </a:xfrm>
            <a:custGeom>
              <a:avLst/>
              <a:gdLst/>
              <a:ahLst/>
              <a:rect l="0" t="0" r="r" b="b"/>
              <a:pathLst>
                <a:path w="24281" h="195">
                  <a:moveTo>
                    <a:pt x="97" y="8"/>
                  </a:moveTo>
                  <a:lnTo>
                    <a:pt x="0" y="186"/>
                  </a:lnTo>
                  <a:lnTo>
                    <a:pt x="24281" y="195"/>
                  </a:lnTo>
                  <a:lnTo>
                    <a:pt x="24220" y="0"/>
                  </a:lnTo>
                  <a:lnTo>
                    <a:pt x="97" y="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2760" y="65160"/>
              <a:ext cx="52920" cy="1381320"/>
            </a:xfrm>
            <a:custGeom>
              <a:avLst/>
              <a:gdLst/>
              <a:ahLst/>
              <a:rect l="0" t="0" r="r" b="b"/>
              <a:pathLst>
                <a:path w="147" h="3837">
                  <a:moveTo>
                    <a:pt x="0" y="0"/>
                  </a:moveTo>
                  <a:lnTo>
                    <a:pt x="143" y="198"/>
                  </a:lnTo>
                  <a:lnTo>
                    <a:pt x="147" y="3564"/>
                  </a:lnTo>
                  <a:lnTo>
                    <a:pt x="0" y="3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4480" y="74520"/>
              <a:ext cx="38520" cy="1373400"/>
            </a:xfrm>
            <a:custGeom>
              <a:avLst/>
              <a:gdLst/>
              <a:ahLst/>
              <a:rect l="0" t="0" r="r" b="b"/>
              <a:pathLst>
                <a:path w="107" h="3815">
                  <a:moveTo>
                    <a:pt x="107" y="0"/>
                  </a:moveTo>
                  <a:lnTo>
                    <a:pt x="0" y="167"/>
                  </a:lnTo>
                  <a:lnTo>
                    <a:pt x="0" y="3581"/>
                  </a:lnTo>
                  <a:lnTo>
                    <a:pt x="107" y="381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"/>
          <p:cNvSpPr txBox="1"/>
          <p:nvPr/>
        </p:nvSpPr>
        <p:spPr>
          <a:xfrm>
            <a:off x="622440" y="2187720"/>
            <a:ext cx="7899480" cy="39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0720" indent="-450720">
              <a:lnSpc>
                <a:spcPct val="100000"/>
              </a:lnSpc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powerful new way to deliver your key business messag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most flexible and dynamic way to break-through today’s competitive environme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sophisticated visual effects that take your presentation to a ne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lectronic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grpSp>
          <p:nvGrpSpPr>
            <p:cNvPr id="105" name=""/>
            <p:cNvGrpSpPr/>
            <p:nvPr/>
          </p:nvGrpSpPr>
          <p:grpSpPr>
            <a:xfrm>
              <a:off x="0" y="0"/>
              <a:ext cx="9144360" cy="6845400"/>
              <a:chOff x="0" y="0"/>
              <a:chExt cx="9144360" cy="6845400"/>
            </a:xfrm>
          </p:grpSpPr>
          <p:sp>
            <p:nvSpPr>
              <p:cNvPr id="106" name=""/>
              <p:cNvSpPr/>
              <p:nvPr/>
            </p:nvSpPr>
            <p:spPr>
              <a:xfrm>
                <a:off x="0" y="4952880"/>
                <a:ext cx="9144360" cy="1892520"/>
              </a:xfrm>
              <a:custGeom>
                <a:avLst/>
                <a:gdLst/>
                <a:ahLst/>
                <a:rect l="0" t="0" r="r" b="b"/>
                <a:pathLst>
                  <a:path w="25401" h="5257">
                    <a:moveTo>
                      <a:pt x="25401" y="0"/>
                    </a:moveTo>
                    <a:lnTo>
                      <a:pt x="0" y="5257"/>
                    </a:lnTo>
                    <a:lnTo>
                      <a:pt x="25365" y="5257"/>
                    </a:lnTo>
                    <a:lnTo>
                      <a:pt x="254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6819840"/>
                <a:ext cx="9131400" cy="25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0"/>
                <a:ext cx="5334480" cy="4800960"/>
              </a:xfrm>
              <a:custGeom>
                <a:avLst/>
                <a:gdLst/>
                <a:ahLst/>
                <a:rect l="0" t="0" r="r" b="b"/>
                <a:pathLst>
                  <a:path w="14818" h="13336">
                    <a:moveTo>
                      <a:pt x="0" y="13336"/>
                    </a:moveTo>
                    <a:lnTo>
                      <a:pt x="14818" y="0"/>
                    </a:lnTo>
                    <a:lnTo>
                      <a:pt x="0" y="0"/>
                    </a:lnTo>
                    <a:lnTo>
                      <a:pt x="0" y="13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62080" y="117360"/>
              <a:ext cx="8669160" cy="1233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2760" y="65160"/>
              <a:ext cx="8760240" cy="63720"/>
            </a:xfrm>
            <a:custGeom>
              <a:avLst/>
              <a:gdLst/>
              <a:ahLst/>
              <a:rect l="0" t="0" r="r" b="b"/>
              <a:pathLst>
                <a:path w="24334" h="177">
                  <a:moveTo>
                    <a:pt x="97" y="146"/>
                  </a:moveTo>
                  <a:lnTo>
                    <a:pt x="0" y="4"/>
                  </a:lnTo>
                  <a:lnTo>
                    <a:pt x="24334" y="0"/>
                  </a:lnTo>
                  <a:lnTo>
                    <a:pt x="24242" y="177"/>
                  </a:lnTo>
                  <a:lnTo>
                    <a:pt x="97" y="14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680" y="1366920"/>
              <a:ext cx="8741160" cy="70200"/>
            </a:xfrm>
            <a:custGeom>
              <a:avLst/>
              <a:gdLst/>
              <a:ahLst/>
              <a:rect l="0" t="0" r="r" b="b"/>
              <a:pathLst>
                <a:path w="24281" h="195">
                  <a:moveTo>
                    <a:pt x="97" y="8"/>
                  </a:moveTo>
                  <a:lnTo>
                    <a:pt x="0" y="186"/>
                  </a:lnTo>
                  <a:lnTo>
                    <a:pt x="24281" y="195"/>
                  </a:lnTo>
                  <a:lnTo>
                    <a:pt x="24220" y="0"/>
                  </a:lnTo>
                  <a:lnTo>
                    <a:pt x="97" y="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760" y="65160"/>
              <a:ext cx="52920" cy="1381320"/>
            </a:xfrm>
            <a:custGeom>
              <a:avLst/>
              <a:gdLst/>
              <a:ahLst/>
              <a:rect l="0" t="0" r="r" b="b"/>
              <a:pathLst>
                <a:path w="147" h="3837">
                  <a:moveTo>
                    <a:pt x="0" y="0"/>
                  </a:moveTo>
                  <a:lnTo>
                    <a:pt x="143" y="198"/>
                  </a:lnTo>
                  <a:lnTo>
                    <a:pt x="147" y="3564"/>
                  </a:lnTo>
                  <a:lnTo>
                    <a:pt x="0" y="3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34480" y="74520"/>
              <a:ext cx="38520" cy="1373400"/>
            </a:xfrm>
            <a:custGeom>
              <a:avLst/>
              <a:gdLst/>
              <a:ahLst/>
              <a:rect l="0" t="0" r="r" b="b"/>
              <a:pathLst>
                <a:path w="107" h="3815">
                  <a:moveTo>
                    <a:pt x="107" y="0"/>
                  </a:moveTo>
                  <a:lnTo>
                    <a:pt x="0" y="167"/>
                  </a:lnTo>
                  <a:lnTo>
                    <a:pt x="0" y="3581"/>
                  </a:lnTo>
                  <a:lnTo>
                    <a:pt x="107" y="381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"/>
          <p:cNvSpPr txBox="1"/>
          <p:nvPr/>
        </p:nvSpPr>
        <p:spPr>
          <a:xfrm>
            <a:off x="3594240" y="1730520"/>
            <a:ext cx="55119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f You can Envision i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 can Create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ake Ideas from the Drawing board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the Board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18240" y="3328920"/>
            <a:ext cx="4081320" cy="3057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12920" y="2676600"/>
            <a:ext cx="2984400" cy="2382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851920" y="5136840"/>
            <a:ext cx="2197800" cy="784800"/>
          </a:xfrm>
          <a:custGeom>
            <a:avLst/>
            <a:gdLst/>
            <a:ahLst/>
            <a:rect l="0" t="0" r="r" b="b"/>
            <a:pathLst>
              <a:path w="6105" h="2180">
                <a:moveTo>
                  <a:pt x="130" y="0"/>
                </a:moveTo>
                <a:lnTo>
                  <a:pt x="0" y="402"/>
                </a:lnTo>
                <a:lnTo>
                  <a:pt x="4228" y="1776"/>
                </a:lnTo>
                <a:lnTo>
                  <a:pt x="4097" y="2180"/>
                </a:lnTo>
                <a:lnTo>
                  <a:pt x="6105" y="2164"/>
                </a:lnTo>
                <a:lnTo>
                  <a:pt x="4489" y="971"/>
                </a:lnTo>
                <a:lnTo>
                  <a:pt x="4359" y="1374"/>
                </a:lnTo>
                <a:lnTo>
                  <a:pt x="1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5600" y="5060520"/>
            <a:ext cx="2197800" cy="784800"/>
          </a:xfrm>
          <a:custGeom>
            <a:avLst/>
            <a:gdLst/>
            <a:ahLst/>
            <a:rect l="0" t="0" r="r" b="b"/>
            <a:pathLst>
              <a:path w="6105" h="2180">
                <a:moveTo>
                  <a:pt x="130" y="0"/>
                </a:moveTo>
                <a:lnTo>
                  <a:pt x="0" y="402"/>
                </a:lnTo>
                <a:lnTo>
                  <a:pt x="4228" y="1776"/>
                </a:lnTo>
                <a:lnTo>
                  <a:pt x="4097" y="2180"/>
                </a:lnTo>
                <a:lnTo>
                  <a:pt x="6105" y="2164"/>
                </a:lnTo>
                <a:lnTo>
                  <a:pt x="4489" y="971"/>
                </a:lnTo>
                <a:lnTo>
                  <a:pt x="4359" y="1374"/>
                </a:lnTo>
                <a:lnTo>
                  <a:pt x="130" y="0"/>
                </a:lnTo>
                <a:close/>
              </a:path>
            </a:pathLst>
          </a:custGeom>
          <a:gradFill rotWithShape="0">
            <a:gsLst>
              <a:gs pos="0">
                <a:srgbClr val="063de8"/>
              </a:gs>
              <a:gs pos="100000">
                <a:srgbClr val="ffffff"/>
              </a:gs>
            </a:gsLst>
            <a:path path="rect">
              <a:fillToRect l="100000" t="100000" r="0" b="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grpSp>
          <p:nvGrpSpPr>
            <p:cNvPr id="122" name=""/>
            <p:cNvGrpSpPr/>
            <p:nvPr/>
          </p:nvGrpSpPr>
          <p:grpSpPr>
            <a:xfrm>
              <a:off x="0" y="0"/>
              <a:ext cx="9144360" cy="6845400"/>
              <a:chOff x="0" y="0"/>
              <a:chExt cx="9144360" cy="684540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4952880"/>
                <a:ext cx="9144360" cy="1892520"/>
              </a:xfrm>
              <a:custGeom>
                <a:avLst/>
                <a:gdLst/>
                <a:ahLst/>
                <a:rect l="0" t="0" r="r" b="b"/>
                <a:pathLst>
                  <a:path w="25401" h="5257">
                    <a:moveTo>
                      <a:pt x="25401" y="0"/>
                    </a:moveTo>
                    <a:lnTo>
                      <a:pt x="0" y="5257"/>
                    </a:lnTo>
                    <a:lnTo>
                      <a:pt x="25365" y="5257"/>
                    </a:lnTo>
                    <a:lnTo>
                      <a:pt x="254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819840"/>
                <a:ext cx="9131400" cy="25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0"/>
                <a:ext cx="5334480" cy="4800960"/>
              </a:xfrm>
              <a:custGeom>
                <a:avLst/>
                <a:gdLst/>
                <a:ahLst/>
                <a:rect l="0" t="0" r="r" b="b"/>
                <a:pathLst>
                  <a:path w="14818" h="13336">
                    <a:moveTo>
                      <a:pt x="0" y="13336"/>
                    </a:moveTo>
                    <a:lnTo>
                      <a:pt x="14818" y="0"/>
                    </a:lnTo>
                    <a:lnTo>
                      <a:pt x="0" y="0"/>
                    </a:lnTo>
                    <a:lnTo>
                      <a:pt x="0" y="13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262080" y="117360"/>
              <a:ext cx="8669160" cy="1233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2760" y="65160"/>
              <a:ext cx="8760240" cy="63720"/>
            </a:xfrm>
            <a:custGeom>
              <a:avLst/>
              <a:gdLst/>
              <a:ahLst/>
              <a:rect l="0" t="0" r="r" b="b"/>
              <a:pathLst>
                <a:path w="24334" h="177">
                  <a:moveTo>
                    <a:pt x="97" y="146"/>
                  </a:moveTo>
                  <a:lnTo>
                    <a:pt x="0" y="4"/>
                  </a:lnTo>
                  <a:lnTo>
                    <a:pt x="24334" y="0"/>
                  </a:lnTo>
                  <a:lnTo>
                    <a:pt x="24242" y="177"/>
                  </a:lnTo>
                  <a:lnTo>
                    <a:pt x="97" y="14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0680" y="1366920"/>
              <a:ext cx="8741160" cy="70200"/>
            </a:xfrm>
            <a:custGeom>
              <a:avLst/>
              <a:gdLst/>
              <a:ahLst/>
              <a:rect l="0" t="0" r="r" b="b"/>
              <a:pathLst>
                <a:path w="24281" h="195">
                  <a:moveTo>
                    <a:pt x="97" y="8"/>
                  </a:moveTo>
                  <a:lnTo>
                    <a:pt x="0" y="186"/>
                  </a:lnTo>
                  <a:lnTo>
                    <a:pt x="24281" y="195"/>
                  </a:lnTo>
                  <a:lnTo>
                    <a:pt x="24220" y="0"/>
                  </a:lnTo>
                  <a:lnTo>
                    <a:pt x="97" y="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2760" y="65160"/>
              <a:ext cx="52920" cy="1381320"/>
            </a:xfrm>
            <a:custGeom>
              <a:avLst/>
              <a:gdLst/>
              <a:ahLst/>
              <a:rect l="0" t="0" r="r" b="b"/>
              <a:pathLst>
                <a:path w="147" h="3837">
                  <a:moveTo>
                    <a:pt x="0" y="0"/>
                  </a:moveTo>
                  <a:lnTo>
                    <a:pt x="143" y="198"/>
                  </a:lnTo>
                  <a:lnTo>
                    <a:pt x="147" y="3564"/>
                  </a:lnTo>
                  <a:lnTo>
                    <a:pt x="0" y="3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934480" y="74520"/>
              <a:ext cx="38520" cy="1373400"/>
            </a:xfrm>
            <a:custGeom>
              <a:avLst/>
              <a:gdLst/>
              <a:ahLst/>
              <a:rect l="0" t="0" r="r" b="b"/>
              <a:pathLst>
                <a:path w="107" h="3815">
                  <a:moveTo>
                    <a:pt x="107" y="0"/>
                  </a:moveTo>
                  <a:lnTo>
                    <a:pt x="0" y="167"/>
                  </a:lnTo>
                  <a:lnTo>
                    <a:pt x="0" y="3581"/>
                  </a:lnTo>
                  <a:lnTo>
                    <a:pt x="107" y="381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685800" y="1981080"/>
            <a:ext cx="777240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01760" indent="-401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ep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ing Business Graphics, Charts, Speaker Support Vis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veloping Concise Text Vis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hancements to Existing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ory Bo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stom Clip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ur Creative Servic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grpSp>
          <p:nvGrpSpPr>
            <p:cNvPr id="135" name=""/>
            <p:cNvGrpSpPr/>
            <p:nvPr/>
          </p:nvGrpSpPr>
          <p:grpSpPr>
            <a:xfrm>
              <a:off x="0" y="0"/>
              <a:ext cx="9144360" cy="6845400"/>
              <a:chOff x="0" y="0"/>
              <a:chExt cx="9144360" cy="684540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4952880"/>
                <a:ext cx="9144360" cy="1892520"/>
              </a:xfrm>
              <a:custGeom>
                <a:avLst/>
                <a:gdLst/>
                <a:ahLst/>
                <a:rect l="0" t="0" r="r" b="b"/>
                <a:pathLst>
                  <a:path w="25401" h="5257">
                    <a:moveTo>
                      <a:pt x="25401" y="0"/>
                    </a:moveTo>
                    <a:lnTo>
                      <a:pt x="0" y="5257"/>
                    </a:lnTo>
                    <a:lnTo>
                      <a:pt x="25365" y="5257"/>
                    </a:lnTo>
                    <a:lnTo>
                      <a:pt x="254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6819840"/>
                <a:ext cx="9131400" cy="25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0"/>
                <a:ext cx="5334480" cy="4800960"/>
              </a:xfrm>
              <a:custGeom>
                <a:avLst/>
                <a:gdLst/>
                <a:ahLst/>
                <a:rect l="0" t="0" r="r" b="b"/>
                <a:pathLst>
                  <a:path w="14818" h="13336">
                    <a:moveTo>
                      <a:pt x="0" y="13336"/>
                    </a:moveTo>
                    <a:lnTo>
                      <a:pt x="14818" y="0"/>
                    </a:lnTo>
                    <a:lnTo>
                      <a:pt x="0" y="0"/>
                    </a:lnTo>
                    <a:lnTo>
                      <a:pt x="0" y="13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62080" y="117360"/>
              <a:ext cx="8669160" cy="1233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2760" y="65160"/>
              <a:ext cx="8760240" cy="63720"/>
            </a:xfrm>
            <a:custGeom>
              <a:avLst/>
              <a:gdLst/>
              <a:ahLst/>
              <a:rect l="0" t="0" r="r" b="b"/>
              <a:pathLst>
                <a:path w="24334" h="177">
                  <a:moveTo>
                    <a:pt x="97" y="146"/>
                  </a:moveTo>
                  <a:lnTo>
                    <a:pt x="0" y="4"/>
                  </a:lnTo>
                  <a:lnTo>
                    <a:pt x="24334" y="0"/>
                  </a:lnTo>
                  <a:lnTo>
                    <a:pt x="24242" y="177"/>
                  </a:lnTo>
                  <a:lnTo>
                    <a:pt x="97" y="14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680" y="1366920"/>
              <a:ext cx="8741160" cy="70200"/>
            </a:xfrm>
            <a:custGeom>
              <a:avLst/>
              <a:gdLst/>
              <a:ahLst/>
              <a:rect l="0" t="0" r="r" b="b"/>
              <a:pathLst>
                <a:path w="24281" h="195">
                  <a:moveTo>
                    <a:pt x="97" y="8"/>
                  </a:moveTo>
                  <a:lnTo>
                    <a:pt x="0" y="186"/>
                  </a:lnTo>
                  <a:lnTo>
                    <a:pt x="24281" y="195"/>
                  </a:lnTo>
                  <a:lnTo>
                    <a:pt x="24220" y="0"/>
                  </a:lnTo>
                  <a:lnTo>
                    <a:pt x="97" y="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2760" y="65160"/>
              <a:ext cx="52920" cy="1381320"/>
            </a:xfrm>
            <a:custGeom>
              <a:avLst/>
              <a:gdLst/>
              <a:ahLst/>
              <a:rect l="0" t="0" r="r" b="b"/>
              <a:pathLst>
                <a:path w="147" h="3837">
                  <a:moveTo>
                    <a:pt x="0" y="0"/>
                  </a:moveTo>
                  <a:lnTo>
                    <a:pt x="143" y="198"/>
                  </a:lnTo>
                  <a:lnTo>
                    <a:pt x="147" y="3564"/>
                  </a:lnTo>
                  <a:lnTo>
                    <a:pt x="0" y="3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4480" y="74520"/>
              <a:ext cx="38520" cy="1373400"/>
            </a:xfrm>
            <a:custGeom>
              <a:avLst/>
              <a:gdLst/>
              <a:ahLst/>
              <a:rect l="0" t="0" r="r" b="b"/>
              <a:pathLst>
                <a:path w="107" h="3815">
                  <a:moveTo>
                    <a:pt x="107" y="0"/>
                  </a:moveTo>
                  <a:lnTo>
                    <a:pt x="0" y="167"/>
                  </a:lnTo>
                  <a:lnTo>
                    <a:pt x="0" y="3581"/>
                  </a:lnTo>
                  <a:lnTo>
                    <a:pt x="107" y="381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 txBox="1"/>
          <p:nvPr/>
        </p:nvSpPr>
        <p:spPr>
          <a:xfrm>
            <a:off x="1008000" y="1904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ne in Your Next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95360" y="1638360"/>
            <a:ext cx="830592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’s no mystery to good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Genigraphics &amp; In Focus Systems partner with you in your next presentation.  Congratulations on solving this mystery. You’ll receive 3 pieces of animated clipart, fre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call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800-790-4001 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register with the Genigraphic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ZARD inside PowerPoint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01640" y="5607000"/>
            <a:ext cx="80517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ll now and get 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E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nimated cli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910120" y="3924360"/>
            <a:ext cx="833400" cy="828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988320" y="3981600"/>
            <a:ext cx="1036800" cy="801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62800" y="4809960"/>
            <a:ext cx="803160" cy="800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216240" y="6450120"/>
            <a:ext cx="2305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18ffd"/>
                </a:solidFill>
                <a:latin typeface="Arial"/>
                <a:ea typeface="Arial"/>
              </a:rPr>
              <a:t>Click here to 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31920" y="230040"/>
            <a:ext cx="119232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d Dunzer</dc:creator>
  <dc:description/>
  <dc:language>en-US</dc:language>
  <cp:lastModifiedBy>Brad Dunzer</cp:lastModifiedBy>
  <cp:revision>0</cp:revision>
  <dc:subject/>
  <dc:title>No Slide Title</dc:title>
</cp:coreProperties>
</file>