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952880"/>
            <a:ext cx="9144360" cy="1892520"/>
          </a:xfrm>
          <a:custGeom>
            <a:avLst/>
            <a:gdLst/>
            <a:ahLst/>
            <a:rect l="0" t="0" r="r" b="b"/>
            <a:pathLst>
              <a:path w="25401" h="5257">
                <a:moveTo>
                  <a:pt x="25401" y="0"/>
                </a:moveTo>
                <a:lnTo>
                  <a:pt x="0" y="5257"/>
                </a:lnTo>
                <a:lnTo>
                  <a:pt x="25365" y="5257"/>
                </a:lnTo>
                <a:lnTo>
                  <a:pt x="25401" y="0"/>
                </a:lnTo>
                <a:close/>
              </a:path>
            </a:pathLst>
          </a:custGeom>
          <a:gradFill rotWithShape="0">
            <a:gsLst>
              <a:gs pos="0">
                <a:srgbClr val="063de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819840"/>
            <a:ext cx="9131400" cy="25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63de8"/>
              </a:gs>
            </a:gsLst>
            <a:lin ang="0"/>
          </a:gra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5334480" cy="4800960"/>
          </a:xfrm>
          <a:custGeom>
            <a:avLst/>
            <a:gdLst/>
            <a:ahLst/>
            <a:rect l="0" t="0" r="r" b="b"/>
            <a:pathLst>
              <a:path w="14818" h="13336">
                <a:moveTo>
                  <a:pt x="0" y="13336"/>
                </a:moveTo>
                <a:lnTo>
                  <a:pt x="14818" y="0"/>
                </a:lnTo>
                <a:lnTo>
                  <a:pt x="0" y="0"/>
                </a:lnTo>
                <a:lnTo>
                  <a:pt x="0" y="1333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63de8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2080" y="117360"/>
            <a:ext cx="8669160" cy="12333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2760" y="65160"/>
            <a:ext cx="8760240" cy="63720"/>
          </a:xfrm>
          <a:custGeom>
            <a:avLst/>
            <a:gdLst/>
            <a:ahLst/>
            <a:rect l="0" t="0" r="r" b="b"/>
            <a:pathLst>
              <a:path w="24334" h="177">
                <a:moveTo>
                  <a:pt x="97" y="146"/>
                </a:moveTo>
                <a:lnTo>
                  <a:pt x="0" y="4"/>
                </a:lnTo>
                <a:lnTo>
                  <a:pt x="24334" y="0"/>
                </a:lnTo>
                <a:lnTo>
                  <a:pt x="24242" y="177"/>
                </a:lnTo>
                <a:lnTo>
                  <a:pt x="97" y="146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0680" y="1366920"/>
            <a:ext cx="8741160" cy="70200"/>
          </a:xfrm>
          <a:custGeom>
            <a:avLst/>
            <a:gdLst/>
            <a:ahLst/>
            <a:rect l="0" t="0" r="r" b="b"/>
            <a:pathLst>
              <a:path w="24281" h="195">
                <a:moveTo>
                  <a:pt x="97" y="8"/>
                </a:moveTo>
                <a:lnTo>
                  <a:pt x="0" y="186"/>
                </a:lnTo>
                <a:lnTo>
                  <a:pt x="24281" y="195"/>
                </a:lnTo>
                <a:lnTo>
                  <a:pt x="24220" y="0"/>
                </a:lnTo>
                <a:lnTo>
                  <a:pt x="97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12760" y="65160"/>
            <a:ext cx="52920" cy="1381320"/>
          </a:xfrm>
          <a:custGeom>
            <a:avLst/>
            <a:gdLst/>
            <a:ahLst/>
            <a:rect l="0" t="0" r="r" b="b"/>
            <a:pathLst>
              <a:path w="147" h="3837">
                <a:moveTo>
                  <a:pt x="0" y="0"/>
                </a:moveTo>
                <a:lnTo>
                  <a:pt x="143" y="198"/>
                </a:lnTo>
                <a:lnTo>
                  <a:pt x="147" y="3564"/>
                </a:lnTo>
                <a:lnTo>
                  <a:pt x="0" y="3837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934480" y="74520"/>
            <a:ext cx="38520" cy="1373400"/>
          </a:xfrm>
          <a:custGeom>
            <a:avLst/>
            <a:gdLst/>
            <a:ahLst/>
            <a:rect l="0" t="0" r="r" b="b"/>
            <a:pathLst>
              <a:path w="107" h="3815">
                <a:moveTo>
                  <a:pt x="107" y="0"/>
                </a:moveTo>
                <a:lnTo>
                  <a:pt x="0" y="167"/>
                </a:lnTo>
                <a:lnTo>
                  <a:pt x="0" y="3581"/>
                </a:lnTo>
                <a:lnTo>
                  <a:pt x="107" y="3815"/>
                </a:lnTo>
                <a:lnTo>
                  <a:pt x="107" y="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99960" y="2457360"/>
            <a:ext cx="8400960" cy="22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how did Pickford deliver that presentation anyh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1143000" y="2666880"/>
            <a:ext cx="1638360" cy="38098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  <a:ea typeface="Arial Narrow"/>
              </a:rPr>
              <a:t>MON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pm 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62080" y="130320"/>
            <a:ext cx="8669160" cy="15224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12760" y="65160"/>
            <a:ext cx="8760240" cy="78120"/>
          </a:xfrm>
          <a:custGeom>
            <a:avLst/>
            <a:gdLst/>
            <a:ahLst/>
            <a:rect l="0" t="0" r="r" b="b"/>
            <a:pathLst>
              <a:path w="24334" h="217">
                <a:moveTo>
                  <a:pt x="97" y="177"/>
                </a:moveTo>
                <a:lnTo>
                  <a:pt x="0" y="8"/>
                </a:lnTo>
                <a:lnTo>
                  <a:pt x="24334" y="0"/>
                </a:lnTo>
                <a:lnTo>
                  <a:pt x="24242" y="217"/>
                </a:lnTo>
                <a:lnTo>
                  <a:pt x="97" y="177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20680" y="1671480"/>
            <a:ext cx="8741160" cy="86040"/>
          </a:xfrm>
          <a:custGeom>
            <a:avLst/>
            <a:gdLst/>
            <a:ahLst/>
            <a:rect l="0" t="0" r="r" b="b"/>
            <a:pathLst>
              <a:path w="24281" h="239">
                <a:moveTo>
                  <a:pt x="97" y="8"/>
                </a:moveTo>
                <a:lnTo>
                  <a:pt x="0" y="230"/>
                </a:lnTo>
                <a:lnTo>
                  <a:pt x="24281" y="239"/>
                </a:lnTo>
                <a:lnTo>
                  <a:pt x="24220" y="0"/>
                </a:lnTo>
                <a:lnTo>
                  <a:pt x="97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12760" y="65160"/>
            <a:ext cx="52920" cy="1705320"/>
          </a:xfrm>
          <a:custGeom>
            <a:avLst/>
            <a:gdLst/>
            <a:ahLst/>
            <a:rect l="0" t="0" r="r" b="b"/>
            <a:pathLst>
              <a:path w="147" h="4737">
                <a:moveTo>
                  <a:pt x="0" y="0"/>
                </a:moveTo>
                <a:lnTo>
                  <a:pt x="143" y="246"/>
                </a:lnTo>
                <a:lnTo>
                  <a:pt x="147" y="4397"/>
                </a:lnTo>
                <a:lnTo>
                  <a:pt x="0" y="4737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934480" y="76320"/>
            <a:ext cx="38520" cy="1695960"/>
          </a:xfrm>
          <a:custGeom>
            <a:avLst/>
            <a:gdLst/>
            <a:ahLst/>
            <a:rect l="0" t="0" r="r" b="b"/>
            <a:pathLst>
              <a:path w="107" h="4711">
                <a:moveTo>
                  <a:pt x="107" y="0"/>
                </a:moveTo>
                <a:lnTo>
                  <a:pt x="0" y="202"/>
                </a:lnTo>
                <a:lnTo>
                  <a:pt x="0" y="4420"/>
                </a:lnTo>
                <a:lnTo>
                  <a:pt x="107" y="4711"/>
                </a:lnTo>
                <a:lnTo>
                  <a:pt x="107" y="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171360" y="196920"/>
            <a:ext cx="8724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stant Access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CD Projection Rental Pr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3124080" y="2019240"/>
            <a:ext cx="508644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Here’s how it work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make one call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800-790-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7" name=""/>
          <p:cNvGrpSpPr/>
          <p:nvPr/>
        </p:nvGrpSpPr>
        <p:grpSpPr>
          <a:xfrm>
            <a:off x="1143000" y="5720760"/>
            <a:ext cx="6719040" cy="1131840"/>
            <a:chOff x="1143000" y="5720760"/>
            <a:chExt cx="6719040" cy="1131840"/>
          </a:xfrm>
        </p:grpSpPr>
        <p:sp>
          <p:nvSpPr>
            <p:cNvPr id="1278" name=""/>
            <p:cNvSpPr txBox="1"/>
            <p:nvPr/>
          </p:nvSpPr>
          <p:spPr>
            <a:xfrm>
              <a:off x="1143000" y="6053040"/>
              <a:ext cx="6200640" cy="466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 of One Day R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96120" y="5720760"/>
              <a:ext cx="565920" cy="1131840"/>
            </a:xfrm>
            <a:custGeom>
              <a:avLst/>
              <a:gdLst/>
              <a:ahLst/>
              <a:rect l="0" t="0" r="r" b="b"/>
              <a:pathLst>
                <a:path w="1572" h="3144">
                  <a:moveTo>
                    <a:pt x="1572" y="1571"/>
                  </a:moveTo>
                  <a:lnTo>
                    <a:pt x="0" y="0"/>
                  </a:lnTo>
                  <a:lnTo>
                    <a:pt x="0" y="3144"/>
                  </a:lnTo>
                  <a:lnTo>
                    <a:pt x="1572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1143000" y="2666880"/>
            <a:ext cx="1638360" cy="3809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618ffd"/>
                </a:solidFill>
                <a:latin typeface="Arial Narrow"/>
                <a:ea typeface="Arial Narrow"/>
              </a:rPr>
              <a:t>MOND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rdered 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10pm 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2762280" y="2666880"/>
            <a:ext cx="1638360" cy="38098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UE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your h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EE PREP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2080" y="130320"/>
            <a:ext cx="8669160" cy="15224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12760" y="65160"/>
            <a:ext cx="8760240" cy="78120"/>
          </a:xfrm>
          <a:custGeom>
            <a:avLst/>
            <a:gdLst/>
            <a:ahLst/>
            <a:rect l="0" t="0" r="r" b="b"/>
            <a:pathLst>
              <a:path w="24334" h="217">
                <a:moveTo>
                  <a:pt x="97" y="177"/>
                </a:moveTo>
                <a:lnTo>
                  <a:pt x="0" y="8"/>
                </a:lnTo>
                <a:lnTo>
                  <a:pt x="24334" y="0"/>
                </a:lnTo>
                <a:lnTo>
                  <a:pt x="24242" y="217"/>
                </a:lnTo>
                <a:lnTo>
                  <a:pt x="97" y="177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20680" y="1671480"/>
            <a:ext cx="8741160" cy="86040"/>
          </a:xfrm>
          <a:custGeom>
            <a:avLst/>
            <a:gdLst/>
            <a:ahLst/>
            <a:rect l="0" t="0" r="r" b="b"/>
            <a:pathLst>
              <a:path w="24281" h="239">
                <a:moveTo>
                  <a:pt x="97" y="8"/>
                </a:moveTo>
                <a:lnTo>
                  <a:pt x="0" y="230"/>
                </a:lnTo>
                <a:lnTo>
                  <a:pt x="24281" y="239"/>
                </a:lnTo>
                <a:lnTo>
                  <a:pt x="24220" y="0"/>
                </a:lnTo>
                <a:lnTo>
                  <a:pt x="97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12760" y="65160"/>
            <a:ext cx="52920" cy="1705320"/>
          </a:xfrm>
          <a:custGeom>
            <a:avLst/>
            <a:gdLst/>
            <a:ahLst/>
            <a:rect l="0" t="0" r="r" b="b"/>
            <a:pathLst>
              <a:path w="147" h="4737">
                <a:moveTo>
                  <a:pt x="0" y="0"/>
                </a:moveTo>
                <a:lnTo>
                  <a:pt x="143" y="246"/>
                </a:lnTo>
                <a:lnTo>
                  <a:pt x="147" y="4397"/>
                </a:lnTo>
                <a:lnTo>
                  <a:pt x="0" y="4737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8934480" y="76320"/>
            <a:ext cx="38520" cy="1695960"/>
          </a:xfrm>
          <a:custGeom>
            <a:avLst/>
            <a:gdLst/>
            <a:ahLst/>
            <a:rect l="0" t="0" r="r" b="b"/>
            <a:pathLst>
              <a:path w="107" h="4711">
                <a:moveTo>
                  <a:pt x="107" y="0"/>
                </a:moveTo>
                <a:lnTo>
                  <a:pt x="0" y="202"/>
                </a:lnTo>
                <a:lnTo>
                  <a:pt x="0" y="4420"/>
                </a:lnTo>
                <a:lnTo>
                  <a:pt x="107" y="4711"/>
                </a:lnTo>
                <a:lnTo>
                  <a:pt x="107" y="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171360" y="196920"/>
            <a:ext cx="8724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stant Access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CD Projection Rental Pr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1047600" y="1790640"/>
            <a:ext cx="716292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You get the panel/projector a day before your presen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1143000" y="5720760"/>
            <a:ext cx="6719040" cy="1131840"/>
            <a:chOff x="1143000" y="5720760"/>
            <a:chExt cx="6719040" cy="1131840"/>
          </a:xfrm>
        </p:grpSpPr>
        <p:sp>
          <p:nvSpPr>
            <p:cNvPr id="1290" name=""/>
            <p:cNvSpPr txBox="1"/>
            <p:nvPr/>
          </p:nvSpPr>
          <p:spPr>
            <a:xfrm>
              <a:off x="1143000" y="6053040"/>
              <a:ext cx="6200640" cy="466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 of One Day R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296120" y="5720760"/>
              <a:ext cx="565920" cy="1131840"/>
            </a:xfrm>
            <a:custGeom>
              <a:avLst/>
              <a:gdLst/>
              <a:ahLst/>
              <a:rect l="0" t="0" r="r" b="b"/>
              <a:pathLst>
                <a:path w="1572" h="3144">
                  <a:moveTo>
                    <a:pt x="1572" y="1571"/>
                  </a:moveTo>
                  <a:lnTo>
                    <a:pt x="0" y="0"/>
                  </a:lnTo>
                  <a:lnTo>
                    <a:pt x="0" y="3144"/>
                  </a:lnTo>
                  <a:lnTo>
                    <a:pt x="1572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1143000" y="2666880"/>
            <a:ext cx="1638360" cy="3809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618ffd"/>
                </a:solidFill>
                <a:latin typeface="Arial Narrow"/>
                <a:ea typeface="Arial Narrow"/>
              </a:rPr>
              <a:t>MOND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rdered 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10pm 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2762280" y="2666880"/>
            <a:ext cx="1638360" cy="3809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618ffd"/>
                </a:solidFill>
                <a:latin typeface="Arial Narrow"/>
                <a:ea typeface="Arial Narrow"/>
              </a:rPr>
              <a:t>TUESD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In your h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10:30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Loc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REE PREP </a:t>
            </a:r>
            <a:br>
              <a:rPr sz="2000"/>
            </a:b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A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381560" y="2666880"/>
            <a:ext cx="1638360" cy="38098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  <a:ea typeface="Arial Narrow"/>
              </a:rPr>
              <a:t>WEDNE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 y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-up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:3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62080" y="130320"/>
            <a:ext cx="8669160" cy="15224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12760" y="65160"/>
            <a:ext cx="8760240" cy="78120"/>
          </a:xfrm>
          <a:custGeom>
            <a:avLst/>
            <a:gdLst/>
            <a:ahLst/>
            <a:rect l="0" t="0" r="r" b="b"/>
            <a:pathLst>
              <a:path w="24334" h="217">
                <a:moveTo>
                  <a:pt x="97" y="177"/>
                </a:moveTo>
                <a:lnTo>
                  <a:pt x="0" y="8"/>
                </a:lnTo>
                <a:lnTo>
                  <a:pt x="24334" y="0"/>
                </a:lnTo>
                <a:lnTo>
                  <a:pt x="24242" y="217"/>
                </a:lnTo>
                <a:lnTo>
                  <a:pt x="97" y="177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20680" y="1671480"/>
            <a:ext cx="8741160" cy="86040"/>
          </a:xfrm>
          <a:custGeom>
            <a:avLst/>
            <a:gdLst/>
            <a:ahLst/>
            <a:rect l="0" t="0" r="r" b="b"/>
            <a:pathLst>
              <a:path w="24281" h="239">
                <a:moveTo>
                  <a:pt x="97" y="8"/>
                </a:moveTo>
                <a:lnTo>
                  <a:pt x="0" y="230"/>
                </a:lnTo>
                <a:lnTo>
                  <a:pt x="24281" y="239"/>
                </a:lnTo>
                <a:lnTo>
                  <a:pt x="24220" y="0"/>
                </a:lnTo>
                <a:lnTo>
                  <a:pt x="97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12760" y="65160"/>
            <a:ext cx="52920" cy="1705320"/>
          </a:xfrm>
          <a:custGeom>
            <a:avLst/>
            <a:gdLst/>
            <a:ahLst/>
            <a:rect l="0" t="0" r="r" b="b"/>
            <a:pathLst>
              <a:path w="147" h="4737">
                <a:moveTo>
                  <a:pt x="0" y="0"/>
                </a:moveTo>
                <a:lnTo>
                  <a:pt x="143" y="246"/>
                </a:lnTo>
                <a:lnTo>
                  <a:pt x="147" y="4397"/>
                </a:lnTo>
                <a:lnTo>
                  <a:pt x="0" y="4737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8934480" y="76320"/>
            <a:ext cx="38520" cy="1695960"/>
          </a:xfrm>
          <a:custGeom>
            <a:avLst/>
            <a:gdLst/>
            <a:ahLst/>
            <a:rect l="0" t="0" r="r" b="b"/>
            <a:pathLst>
              <a:path w="107" h="4711">
                <a:moveTo>
                  <a:pt x="107" y="0"/>
                </a:moveTo>
                <a:lnTo>
                  <a:pt x="0" y="202"/>
                </a:lnTo>
                <a:lnTo>
                  <a:pt x="0" y="4420"/>
                </a:lnTo>
                <a:lnTo>
                  <a:pt x="107" y="4711"/>
                </a:lnTo>
                <a:lnTo>
                  <a:pt x="107" y="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71360" y="196920"/>
            <a:ext cx="8724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stant Access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CD Projection Rental Pr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1047600" y="1943280"/>
            <a:ext cx="7696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ation Day..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 it that ev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1143000" y="5720760"/>
            <a:ext cx="6719040" cy="1131840"/>
            <a:chOff x="1143000" y="5720760"/>
            <a:chExt cx="6719040" cy="1131840"/>
          </a:xfrm>
        </p:grpSpPr>
        <p:sp>
          <p:nvSpPr>
            <p:cNvPr id="1303" name=""/>
            <p:cNvSpPr txBox="1"/>
            <p:nvPr/>
          </p:nvSpPr>
          <p:spPr>
            <a:xfrm>
              <a:off x="1143000" y="6053040"/>
              <a:ext cx="6200640" cy="466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 of One Day R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296120" y="5720760"/>
              <a:ext cx="565920" cy="1131840"/>
            </a:xfrm>
            <a:custGeom>
              <a:avLst/>
              <a:gdLst/>
              <a:ahLst/>
              <a:rect l="0" t="0" r="r" b="b"/>
              <a:pathLst>
                <a:path w="1572" h="3144">
                  <a:moveTo>
                    <a:pt x="1572" y="1571"/>
                  </a:moveTo>
                  <a:lnTo>
                    <a:pt x="0" y="0"/>
                  </a:lnTo>
                  <a:lnTo>
                    <a:pt x="0" y="3144"/>
                  </a:lnTo>
                  <a:lnTo>
                    <a:pt x="1572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62080" y="130320"/>
            <a:ext cx="8669160" cy="15224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12760" y="65160"/>
            <a:ext cx="8760240" cy="78120"/>
          </a:xfrm>
          <a:custGeom>
            <a:avLst/>
            <a:gdLst/>
            <a:ahLst/>
            <a:rect l="0" t="0" r="r" b="b"/>
            <a:pathLst>
              <a:path w="24334" h="217">
                <a:moveTo>
                  <a:pt x="97" y="177"/>
                </a:moveTo>
                <a:lnTo>
                  <a:pt x="0" y="8"/>
                </a:lnTo>
                <a:lnTo>
                  <a:pt x="24334" y="0"/>
                </a:lnTo>
                <a:lnTo>
                  <a:pt x="24242" y="217"/>
                </a:lnTo>
                <a:lnTo>
                  <a:pt x="97" y="177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20680" y="1671480"/>
            <a:ext cx="8741160" cy="86040"/>
          </a:xfrm>
          <a:custGeom>
            <a:avLst/>
            <a:gdLst/>
            <a:ahLst/>
            <a:rect l="0" t="0" r="r" b="b"/>
            <a:pathLst>
              <a:path w="24281" h="239">
                <a:moveTo>
                  <a:pt x="97" y="8"/>
                </a:moveTo>
                <a:lnTo>
                  <a:pt x="0" y="230"/>
                </a:lnTo>
                <a:lnTo>
                  <a:pt x="24281" y="239"/>
                </a:lnTo>
                <a:lnTo>
                  <a:pt x="24220" y="0"/>
                </a:lnTo>
                <a:lnTo>
                  <a:pt x="97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12760" y="65160"/>
            <a:ext cx="52920" cy="1705320"/>
          </a:xfrm>
          <a:custGeom>
            <a:avLst/>
            <a:gdLst/>
            <a:ahLst/>
            <a:rect l="0" t="0" r="r" b="b"/>
            <a:pathLst>
              <a:path w="147" h="4737">
                <a:moveTo>
                  <a:pt x="0" y="0"/>
                </a:moveTo>
                <a:lnTo>
                  <a:pt x="143" y="246"/>
                </a:lnTo>
                <a:lnTo>
                  <a:pt x="147" y="4397"/>
                </a:lnTo>
                <a:lnTo>
                  <a:pt x="0" y="4737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8934480" y="76320"/>
            <a:ext cx="38520" cy="1695960"/>
          </a:xfrm>
          <a:custGeom>
            <a:avLst/>
            <a:gdLst/>
            <a:ahLst/>
            <a:rect l="0" t="0" r="r" b="b"/>
            <a:pathLst>
              <a:path w="107" h="4711">
                <a:moveTo>
                  <a:pt x="107" y="0"/>
                </a:moveTo>
                <a:lnTo>
                  <a:pt x="0" y="202"/>
                </a:lnTo>
                <a:lnTo>
                  <a:pt x="0" y="4420"/>
                </a:lnTo>
                <a:lnTo>
                  <a:pt x="107" y="4711"/>
                </a:lnTo>
                <a:lnTo>
                  <a:pt x="107" y="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171360" y="196920"/>
            <a:ext cx="8724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stant Access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CD Projection Rental Pr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1047600" y="2019240"/>
            <a:ext cx="716292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1143000" y="2666880"/>
            <a:ext cx="1638360" cy="3809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618ffd"/>
                </a:solidFill>
                <a:latin typeface="Arial Narrow"/>
                <a:ea typeface="Arial Narrow"/>
              </a:rPr>
              <a:t>MOND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rdered 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10pm 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762280" y="2666880"/>
            <a:ext cx="1638360" cy="3809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618ffd"/>
                </a:solidFill>
                <a:latin typeface="Arial Narrow"/>
                <a:ea typeface="Arial Narrow"/>
              </a:rPr>
              <a:t>TUESD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In your h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10:30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Local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REE PREP </a:t>
            </a:r>
            <a:br>
              <a:rPr sz="2000"/>
            </a:b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A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4381560" y="2666880"/>
            <a:ext cx="1638360" cy="380988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618ffd"/>
                </a:solidFill>
                <a:latin typeface="Arial Narrow"/>
                <a:ea typeface="Arial Narrow"/>
              </a:rPr>
              <a:t>WEDNESD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eliver you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Ki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resent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e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ick-up 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5:30P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19920" y="2666880"/>
            <a:ext cx="1638360" cy="3809880"/>
          </a:xfrm>
          <a:prstGeom prst="rect">
            <a:avLst/>
          </a:prstGeom>
          <a:solidFill>
            <a:srgbClr val="063de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  <a:ea typeface="Arial Narrow"/>
              </a:rPr>
              <a:t>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:30AM 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1143000" y="5720760"/>
            <a:ext cx="6719040" cy="1131840"/>
            <a:chOff x="1143000" y="5720760"/>
            <a:chExt cx="6719040" cy="1131840"/>
          </a:xfrm>
        </p:grpSpPr>
        <p:sp>
          <p:nvSpPr>
            <p:cNvPr id="1317" name=""/>
            <p:cNvSpPr txBox="1"/>
            <p:nvPr/>
          </p:nvSpPr>
          <p:spPr>
            <a:xfrm>
              <a:off x="1143000" y="6053040"/>
              <a:ext cx="6200640" cy="4665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 of One Day Ren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296120" y="5720760"/>
              <a:ext cx="565920" cy="1131840"/>
            </a:xfrm>
            <a:custGeom>
              <a:avLst/>
              <a:gdLst/>
              <a:ahLst/>
              <a:rect l="0" t="0" r="r" b="b"/>
              <a:pathLst>
                <a:path w="1572" h="3144">
                  <a:moveTo>
                    <a:pt x="1572" y="1571"/>
                  </a:moveTo>
                  <a:lnTo>
                    <a:pt x="0" y="0"/>
                  </a:lnTo>
                  <a:lnTo>
                    <a:pt x="0" y="3144"/>
                  </a:lnTo>
                  <a:lnTo>
                    <a:pt x="1572" y="157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262080" y="130320"/>
            <a:ext cx="8669160" cy="15224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12760" y="65160"/>
            <a:ext cx="8760240" cy="78120"/>
          </a:xfrm>
          <a:custGeom>
            <a:avLst/>
            <a:gdLst/>
            <a:ahLst/>
            <a:rect l="0" t="0" r="r" b="b"/>
            <a:pathLst>
              <a:path w="24334" h="217">
                <a:moveTo>
                  <a:pt x="97" y="177"/>
                </a:moveTo>
                <a:lnTo>
                  <a:pt x="0" y="8"/>
                </a:lnTo>
                <a:lnTo>
                  <a:pt x="24334" y="0"/>
                </a:lnTo>
                <a:lnTo>
                  <a:pt x="24242" y="217"/>
                </a:lnTo>
                <a:lnTo>
                  <a:pt x="97" y="177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20680" y="1671480"/>
            <a:ext cx="8741160" cy="86040"/>
          </a:xfrm>
          <a:custGeom>
            <a:avLst/>
            <a:gdLst/>
            <a:ahLst/>
            <a:rect l="0" t="0" r="r" b="b"/>
            <a:pathLst>
              <a:path w="24281" h="239">
                <a:moveTo>
                  <a:pt x="97" y="8"/>
                </a:moveTo>
                <a:lnTo>
                  <a:pt x="0" y="230"/>
                </a:lnTo>
                <a:lnTo>
                  <a:pt x="24281" y="239"/>
                </a:lnTo>
                <a:lnTo>
                  <a:pt x="24220" y="0"/>
                </a:lnTo>
                <a:lnTo>
                  <a:pt x="97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12760" y="65160"/>
            <a:ext cx="52920" cy="1705320"/>
          </a:xfrm>
          <a:custGeom>
            <a:avLst/>
            <a:gdLst/>
            <a:ahLst/>
            <a:rect l="0" t="0" r="r" b="b"/>
            <a:pathLst>
              <a:path w="147" h="4737">
                <a:moveTo>
                  <a:pt x="0" y="0"/>
                </a:moveTo>
                <a:lnTo>
                  <a:pt x="143" y="246"/>
                </a:lnTo>
                <a:lnTo>
                  <a:pt x="147" y="4397"/>
                </a:lnTo>
                <a:lnTo>
                  <a:pt x="0" y="4737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8934480" y="76320"/>
            <a:ext cx="38520" cy="1695960"/>
          </a:xfrm>
          <a:custGeom>
            <a:avLst/>
            <a:gdLst/>
            <a:ahLst/>
            <a:rect l="0" t="0" r="r" b="b"/>
            <a:pathLst>
              <a:path w="107" h="4711">
                <a:moveTo>
                  <a:pt x="107" y="0"/>
                </a:moveTo>
                <a:lnTo>
                  <a:pt x="0" y="202"/>
                </a:lnTo>
                <a:lnTo>
                  <a:pt x="0" y="4420"/>
                </a:lnTo>
                <a:lnTo>
                  <a:pt x="107" y="4711"/>
                </a:lnTo>
                <a:lnTo>
                  <a:pt x="107" y="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171360" y="196920"/>
            <a:ext cx="8724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stant Access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CD Projection Rental Pr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1371600" y="3924360"/>
            <a:ext cx="6400800" cy="15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iently delivered when &amp; where you need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800-790-4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1568520" y="2228760"/>
            <a:ext cx="6635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Award winning In Focu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Panels &amp; Projec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1328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1329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7" name=""/>
          <p:cNvSpPr txBox="1"/>
          <p:nvPr/>
        </p:nvSpPr>
        <p:spPr>
          <a:xfrm>
            <a:off x="514440" y="1904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ne in Your Nex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495360" y="1638360"/>
            <a:ext cx="830592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’s no mystery to good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Genigraphics &amp; In Focus Systems partner with you in your next presentation.  Congratulations on solving this mystery. You’ll receive 3 pieces of animated clipart, fre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call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800-790-4001 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register with the Genigraphic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ZARD inside PowerPoint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701640" y="5607000"/>
            <a:ext cx="80517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ll now and get 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E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nimated cli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0" name="" descr=""/>
          <p:cNvPicPr/>
          <p:nvPr/>
        </p:nvPicPr>
        <p:blipFill>
          <a:blip r:embed="rId1"/>
          <a:stretch/>
        </p:blipFill>
        <p:spPr>
          <a:xfrm>
            <a:off x="5910120" y="3924360"/>
            <a:ext cx="833400" cy="828720"/>
          </a:xfrm>
          <a:prstGeom prst="rect">
            <a:avLst/>
          </a:prstGeom>
          <a:ln w="0">
            <a:noFill/>
          </a:ln>
        </p:spPr>
      </p:pic>
      <p:pic>
        <p:nvPicPr>
          <p:cNvPr id="1341" name="" descr=""/>
          <p:cNvPicPr/>
          <p:nvPr/>
        </p:nvPicPr>
        <p:blipFill>
          <a:blip r:embed="rId2"/>
          <a:stretch/>
        </p:blipFill>
        <p:spPr>
          <a:xfrm>
            <a:off x="6988320" y="3981600"/>
            <a:ext cx="1036800" cy="801720"/>
          </a:xfrm>
          <a:prstGeom prst="rect">
            <a:avLst/>
          </a:prstGeom>
          <a:ln w="0">
            <a:noFill/>
          </a:ln>
        </p:spPr>
      </p:pic>
      <p:pic>
        <p:nvPicPr>
          <p:cNvPr id="1342" name="" descr=""/>
          <p:cNvPicPr/>
          <p:nvPr/>
        </p:nvPicPr>
        <p:blipFill>
          <a:blip r:embed="rId3"/>
          <a:stretch/>
        </p:blipFill>
        <p:spPr>
          <a:xfrm>
            <a:off x="6562800" y="4809960"/>
            <a:ext cx="803160" cy="80028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 txBox="1"/>
          <p:nvPr/>
        </p:nvSpPr>
        <p:spPr>
          <a:xfrm>
            <a:off x="3216240" y="6450120"/>
            <a:ext cx="230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18ffd"/>
                </a:solidFill>
                <a:latin typeface="Arial"/>
                <a:ea typeface="Arial"/>
              </a:rPr>
              <a:t>Click here to 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57200" y="4191120"/>
            <a:ext cx="3040560" cy="2041560"/>
            <a:chOff x="457200" y="4191120"/>
            <a:chExt cx="3040560" cy="2041560"/>
          </a:xfrm>
        </p:grpSpPr>
        <p:sp>
          <p:nvSpPr>
            <p:cNvPr id="49" name=""/>
            <p:cNvSpPr/>
            <p:nvPr/>
          </p:nvSpPr>
          <p:spPr>
            <a:xfrm>
              <a:off x="506520" y="4191120"/>
              <a:ext cx="2978640" cy="1924560"/>
            </a:xfrm>
            <a:custGeom>
              <a:avLst/>
              <a:gdLst/>
              <a:ahLst/>
              <a:rect l="0" t="0" r="r" b="b"/>
              <a:pathLst>
                <a:path w="8274" h="5346">
                  <a:moveTo>
                    <a:pt x="8274" y="3736"/>
                  </a:moveTo>
                  <a:lnTo>
                    <a:pt x="6488" y="2999"/>
                  </a:lnTo>
                  <a:lnTo>
                    <a:pt x="6488" y="2995"/>
                  </a:lnTo>
                  <a:lnTo>
                    <a:pt x="6484" y="2981"/>
                  </a:lnTo>
                  <a:lnTo>
                    <a:pt x="6479" y="2968"/>
                  </a:lnTo>
                  <a:lnTo>
                    <a:pt x="6475" y="2964"/>
                  </a:lnTo>
                  <a:lnTo>
                    <a:pt x="6471" y="2955"/>
                  </a:lnTo>
                  <a:lnTo>
                    <a:pt x="6466" y="2946"/>
                  </a:lnTo>
                  <a:lnTo>
                    <a:pt x="6462" y="2937"/>
                  </a:lnTo>
                  <a:lnTo>
                    <a:pt x="6453" y="2929"/>
                  </a:lnTo>
                  <a:lnTo>
                    <a:pt x="6449" y="2924"/>
                  </a:lnTo>
                  <a:lnTo>
                    <a:pt x="6440" y="2920"/>
                  </a:lnTo>
                  <a:lnTo>
                    <a:pt x="6431" y="2911"/>
                  </a:lnTo>
                  <a:lnTo>
                    <a:pt x="6422" y="2907"/>
                  </a:lnTo>
                  <a:lnTo>
                    <a:pt x="6413" y="2902"/>
                  </a:lnTo>
                  <a:lnTo>
                    <a:pt x="6404" y="2898"/>
                  </a:lnTo>
                  <a:lnTo>
                    <a:pt x="6396" y="2889"/>
                  </a:lnTo>
                  <a:lnTo>
                    <a:pt x="6382" y="2884"/>
                  </a:lnTo>
                  <a:lnTo>
                    <a:pt x="5676" y="2593"/>
                  </a:lnTo>
                  <a:lnTo>
                    <a:pt x="5676" y="2589"/>
                  </a:lnTo>
                  <a:lnTo>
                    <a:pt x="5676" y="2585"/>
                  </a:lnTo>
                  <a:lnTo>
                    <a:pt x="5676" y="2576"/>
                  </a:lnTo>
                  <a:lnTo>
                    <a:pt x="5676" y="2567"/>
                  </a:lnTo>
                  <a:lnTo>
                    <a:pt x="5676" y="2563"/>
                  </a:lnTo>
                  <a:lnTo>
                    <a:pt x="5671" y="2554"/>
                  </a:lnTo>
                  <a:lnTo>
                    <a:pt x="5671" y="2545"/>
                  </a:lnTo>
                  <a:lnTo>
                    <a:pt x="5667" y="2536"/>
                  </a:lnTo>
                  <a:lnTo>
                    <a:pt x="5663" y="2532"/>
                  </a:lnTo>
                  <a:lnTo>
                    <a:pt x="5658" y="2523"/>
                  </a:lnTo>
                  <a:lnTo>
                    <a:pt x="5649" y="2514"/>
                  </a:lnTo>
                  <a:lnTo>
                    <a:pt x="5645" y="2505"/>
                  </a:lnTo>
                  <a:lnTo>
                    <a:pt x="5636" y="2501"/>
                  </a:lnTo>
                  <a:lnTo>
                    <a:pt x="5627" y="2492"/>
                  </a:lnTo>
                  <a:lnTo>
                    <a:pt x="5618" y="2488"/>
                  </a:lnTo>
                  <a:lnTo>
                    <a:pt x="5605" y="2483"/>
                  </a:lnTo>
                  <a:lnTo>
                    <a:pt x="5561" y="2492"/>
                  </a:lnTo>
                  <a:lnTo>
                    <a:pt x="5517" y="2448"/>
                  </a:lnTo>
                  <a:lnTo>
                    <a:pt x="5257" y="1967"/>
                  </a:lnTo>
                  <a:lnTo>
                    <a:pt x="5257" y="1791"/>
                  </a:lnTo>
                  <a:lnTo>
                    <a:pt x="4287" y="0"/>
                  </a:lnTo>
                  <a:lnTo>
                    <a:pt x="44" y="736"/>
                  </a:lnTo>
                  <a:lnTo>
                    <a:pt x="0" y="1005"/>
                  </a:lnTo>
                  <a:lnTo>
                    <a:pt x="1137" y="3519"/>
                  </a:lnTo>
                  <a:lnTo>
                    <a:pt x="1247" y="3881"/>
                  </a:lnTo>
                  <a:lnTo>
                    <a:pt x="3528" y="5346"/>
                  </a:lnTo>
                  <a:lnTo>
                    <a:pt x="8274" y="3775"/>
                  </a:lnTo>
                  <a:lnTo>
                    <a:pt x="8274" y="37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4456080"/>
              <a:ext cx="3040560" cy="1776600"/>
            </a:xfrm>
            <a:custGeom>
              <a:avLst/>
              <a:gdLst/>
              <a:ahLst/>
              <a:rect l="0" t="0" r="r" b="b"/>
              <a:pathLst>
                <a:path w="8446" h="4935">
                  <a:moveTo>
                    <a:pt x="3616" y="4935"/>
                  </a:moveTo>
                  <a:lnTo>
                    <a:pt x="1318" y="3418"/>
                  </a:lnTo>
                  <a:lnTo>
                    <a:pt x="1274" y="3325"/>
                  </a:lnTo>
                  <a:lnTo>
                    <a:pt x="1274" y="2977"/>
                  </a:lnTo>
                  <a:lnTo>
                    <a:pt x="1265" y="2977"/>
                  </a:lnTo>
                  <a:lnTo>
                    <a:pt x="1247" y="2973"/>
                  </a:lnTo>
                  <a:lnTo>
                    <a:pt x="1239" y="2968"/>
                  </a:lnTo>
                  <a:lnTo>
                    <a:pt x="1225" y="2964"/>
                  </a:lnTo>
                  <a:lnTo>
                    <a:pt x="1212" y="2955"/>
                  </a:lnTo>
                  <a:lnTo>
                    <a:pt x="1203" y="2946"/>
                  </a:lnTo>
                  <a:lnTo>
                    <a:pt x="1190" y="2937"/>
                  </a:lnTo>
                  <a:lnTo>
                    <a:pt x="1181" y="2924"/>
                  </a:lnTo>
                  <a:lnTo>
                    <a:pt x="1177" y="2911"/>
                  </a:lnTo>
                  <a:lnTo>
                    <a:pt x="1168" y="2898"/>
                  </a:lnTo>
                  <a:lnTo>
                    <a:pt x="1164" y="2880"/>
                  </a:lnTo>
                  <a:lnTo>
                    <a:pt x="1159" y="2867"/>
                  </a:lnTo>
                  <a:lnTo>
                    <a:pt x="1159" y="2849"/>
                  </a:lnTo>
                  <a:lnTo>
                    <a:pt x="1159" y="2836"/>
                  </a:lnTo>
                  <a:lnTo>
                    <a:pt x="1159" y="2823"/>
                  </a:lnTo>
                  <a:lnTo>
                    <a:pt x="1164" y="2809"/>
                  </a:lnTo>
                  <a:lnTo>
                    <a:pt x="1111" y="2761"/>
                  </a:lnTo>
                  <a:lnTo>
                    <a:pt x="0" y="216"/>
                  </a:lnTo>
                  <a:lnTo>
                    <a:pt x="4" y="185"/>
                  </a:lnTo>
                  <a:lnTo>
                    <a:pt x="163" y="13"/>
                  </a:lnTo>
                  <a:lnTo>
                    <a:pt x="194" y="0"/>
                  </a:lnTo>
                  <a:lnTo>
                    <a:pt x="1093" y="1944"/>
                  </a:lnTo>
                  <a:lnTo>
                    <a:pt x="1098" y="2165"/>
                  </a:lnTo>
                  <a:lnTo>
                    <a:pt x="1344" y="2704"/>
                  </a:lnTo>
                  <a:lnTo>
                    <a:pt x="1270" y="2739"/>
                  </a:lnTo>
                  <a:lnTo>
                    <a:pt x="1150" y="2796"/>
                  </a:lnTo>
                  <a:lnTo>
                    <a:pt x="1296" y="2765"/>
                  </a:lnTo>
                  <a:lnTo>
                    <a:pt x="1300" y="2765"/>
                  </a:lnTo>
                  <a:lnTo>
                    <a:pt x="1309" y="2765"/>
                  </a:lnTo>
                  <a:lnTo>
                    <a:pt x="1322" y="2770"/>
                  </a:lnTo>
                  <a:lnTo>
                    <a:pt x="1331" y="2774"/>
                  </a:lnTo>
                  <a:lnTo>
                    <a:pt x="1344" y="2783"/>
                  </a:lnTo>
                  <a:lnTo>
                    <a:pt x="1353" y="2792"/>
                  </a:lnTo>
                  <a:lnTo>
                    <a:pt x="1362" y="2801"/>
                  </a:lnTo>
                  <a:lnTo>
                    <a:pt x="1371" y="2809"/>
                  </a:lnTo>
                  <a:lnTo>
                    <a:pt x="1375" y="2818"/>
                  </a:lnTo>
                  <a:lnTo>
                    <a:pt x="1384" y="2832"/>
                  </a:lnTo>
                  <a:lnTo>
                    <a:pt x="1389" y="2840"/>
                  </a:lnTo>
                  <a:lnTo>
                    <a:pt x="1393" y="2854"/>
                  </a:lnTo>
                  <a:lnTo>
                    <a:pt x="1393" y="2867"/>
                  </a:lnTo>
                  <a:lnTo>
                    <a:pt x="1393" y="2876"/>
                  </a:lnTo>
                  <a:lnTo>
                    <a:pt x="1393" y="2889"/>
                  </a:lnTo>
                  <a:lnTo>
                    <a:pt x="1393" y="2898"/>
                  </a:lnTo>
                  <a:lnTo>
                    <a:pt x="1389" y="2911"/>
                  </a:lnTo>
                  <a:lnTo>
                    <a:pt x="1975" y="3286"/>
                  </a:lnTo>
                  <a:lnTo>
                    <a:pt x="1984" y="3290"/>
                  </a:lnTo>
                  <a:lnTo>
                    <a:pt x="1993" y="3295"/>
                  </a:lnTo>
                  <a:lnTo>
                    <a:pt x="2006" y="3303"/>
                  </a:lnTo>
                  <a:lnTo>
                    <a:pt x="2019" y="3312"/>
                  </a:lnTo>
                  <a:lnTo>
                    <a:pt x="2032" y="3321"/>
                  </a:lnTo>
                  <a:lnTo>
                    <a:pt x="2046" y="3334"/>
                  </a:lnTo>
                  <a:lnTo>
                    <a:pt x="2054" y="3343"/>
                  </a:lnTo>
                  <a:lnTo>
                    <a:pt x="2063" y="3356"/>
                  </a:lnTo>
                  <a:lnTo>
                    <a:pt x="2072" y="3370"/>
                  </a:lnTo>
                  <a:lnTo>
                    <a:pt x="2076" y="3378"/>
                  </a:lnTo>
                  <a:lnTo>
                    <a:pt x="2085" y="3392"/>
                  </a:lnTo>
                  <a:lnTo>
                    <a:pt x="2090" y="3405"/>
                  </a:lnTo>
                  <a:lnTo>
                    <a:pt x="2090" y="3418"/>
                  </a:lnTo>
                  <a:lnTo>
                    <a:pt x="2094" y="3431"/>
                  </a:lnTo>
                  <a:lnTo>
                    <a:pt x="2094" y="3444"/>
                  </a:lnTo>
                  <a:lnTo>
                    <a:pt x="2094" y="3458"/>
                  </a:lnTo>
                  <a:lnTo>
                    <a:pt x="2094" y="3475"/>
                  </a:lnTo>
                  <a:lnTo>
                    <a:pt x="3625" y="4446"/>
                  </a:lnTo>
                  <a:lnTo>
                    <a:pt x="3718" y="4446"/>
                  </a:lnTo>
                  <a:lnTo>
                    <a:pt x="8402" y="3039"/>
                  </a:lnTo>
                  <a:lnTo>
                    <a:pt x="8402" y="2995"/>
                  </a:lnTo>
                  <a:lnTo>
                    <a:pt x="8446" y="3034"/>
                  </a:lnTo>
                  <a:lnTo>
                    <a:pt x="8446" y="3427"/>
                  </a:lnTo>
                  <a:lnTo>
                    <a:pt x="8411" y="3453"/>
                  </a:lnTo>
                  <a:lnTo>
                    <a:pt x="3718" y="4926"/>
                  </a:lnTo>
                  <a:lnTo>
                    <a:pt x="3616" y="4935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2640" y="4378320"/>
              <a:ext cx="1500480" cy="659160"/>
            </a:xfrm>
            <a:custGeom>
              <a:avLst/>
              <a:gdLst/>
              <a:ahLst/>
              <a:rect l="0" t="0" r="r" b="b"/>
              <a:pathLst>
                <a:path w="4168" h="1831">
                  <a:moveTo>
                    <a:pt x="4049" y="1804"/>
                  </a:moveTo>
                  <a:lnTo>
                    <a:pt x="4168" y="1831"/>
                  </a:lnTo>
                  <a:lnTo>
                    <a:pt x="3206" y="0"/>
                  </a:lnTo>
                  <a:lnTo>
                    <a:pt x="0" y="586"/>
                  </a:lnTo>
                  <a:lnTo>
                    <a:pt x="110" y="639"/>
                  </a:lnTo>
                  <a:lnTo>
                    <a:pt x="3176" y="66"/>
                  </a:lnTo>
                  <a:lnTo>
                    <a:pt x="4049" y="1804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2640" y="4589640"/>
              <a:ext cx="1500480" cy="711720"/>
            </a:xfrm>
            <a:custGeom>
              <a:avLst/>
              <a:gdLst/>
              <a:ahLst/>
              <a:rect l="0" t="0" r="r" b="b"/>
              <a:pathLst>
                <a:path fill="none" w="4168" h="1977">
                  <a:moveTo>
                    <a:pt x="4168" y="1244"/>
                  </a:moveTo>
                  <a:lnTo>
                    <a:pt x="886" y="19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9800" y="4356000"/>
              <a:ext cx="1584720" cy="975240"/>
            </a:xfrm>
            <a:custGeom>
              <a:avLst/>
              <a:gdLst/>
              <a:ahLst/>
              <a:rect l="0" t="0" r="r" b="b"/>
              <a:pathLst>
                <a:path fill="none" w="4402" h="2709">
                  <a:moveTo>
                    <a:pt x="3362" y="0"/>
                  </a:moveTo>
                  <a:lnTo>
                    <a:pt x="4402" y="1932"/>
                  </a:lnTo>
                  <a:lnTo>
                    <a:pt x="956" y="2709"/>
                  </a:lnTo>
                  <a:lnTo>
                    <a:pt x="0" y="5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373480" y="4835520"/>
              <a:ext cx="23760" cy="468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4560" y="4491000"/>
              <a:ext cx="309960" cy="744840"/>
            </a:xfrm>
            <a:custGeom>
              <a:avLst/>
              <a:gdLst/>
              <a:ahLst/>
              <a:rect l="0" t="0" r="r" b="b"/>
              <a:pathLst>
                <a:path fill="none" w="861" h="2069">
                  <a:moveTo>
                    <a:pt x="0" y="0"/>
                  </a:moveTo>
                  <a:lnTo>
                    <a:pt x="861" y="1831"/>
                  </a:lnTo>
                  <a:lnTo>
                    <a:pt x="853" y="2047"/>
                  </a:lnTo>
                  <a:lnTo>
                    <a:pt x="764" y="20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373480" y="4902120"/>
              <a:ext cx="25200" cy="324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73000" y="5335560"/>
              <a:ext cx="489240" cy="125640"/>
            </a:xfrm>
            <a:custGeom>
              <a:avLst/>
              <a:gdLst/>
              <a:ahLst/>
              <a:rect l="0" t="0" r="r" b="b"/>
              <a:pathLst>
                <a:path w="1359" h="349">
                  <a:moveTo>
                    <a:pt x="0" y="349"/>
                  </a:moveTo>
                  <a:lnTo>
                    <a:pt x="189" y="261"/>
                  </a:lnTo>
                  <a:lnTo>
                    <a:pt x="1323" y="0"/>
                  </a:lnTo>
                  <a:lnTo>
                    <a:pt x="1359" y="39"/>
                  </a:lnTo>
                  <a:lnTo>
                    <a:pt x="97" y="331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25520" y="5075280"/>
              <a:ext cx="279720" cy="74880"/>
            </a:xfrm>
            <a:custGeom>
              <a:avLst/>
              <a:gdLst/>
              <a:ahLst/>
              <a:rect l="0" t="0" r="r" b="b"/>
              <a:pathLst>
                <a:path w="777" h="208">
                  <a:moveTo>
                    <a:pt x="746" y="0"/>
                  </a:moveTo>
                  <a:lnTo>
                    <a:pt x="0" y="168"/>
                  </a:lnTo>
                  <a:lnTo>
                    <a:pt x="48" y="208"/>
                  </a:lnTo>
                  <a:lnTo>
                    <a:pt x="88" y="199"/>
                  </a:lnTo>
                  <a:lnTo>
                    <a:pt x="777" y="35"/>
                  </a:lnTo>
                  <a:lnTo>
                    <a:pt x="74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9320" y="5238720"/>
              <a:ext cx="1621080" cy="452880"/>
            </a:xfrm>
            <a:custGeom>
              <a:avLst/>
              <a:gdLst/>
              <a:ahLst/>
              <a:rect l="0" t="0" r="r" b="b"/>
              <a:pathLst>
                <a:path w="4503" h="1258">
                  <a:moveTo>
                    <a:pt x="4419" y="17"/>
                  </a:moveTo>
                  <a:lnTo>
                    <a:pt x="4428" y="17"/>
                  </a:lnTo>
                  <a:lnTo>
                    <a:pt x="4441" y="17"/>
                  </a:lnTo>
                  <a:lnTo>
                    <a:pt x="4454" y="26"/>
                  </a:lnTo>
                  <a:lnTo>
                    <a:pt x="4463" y="35"/>
                  </a:lnTo>
                  <a:lnTo>
                    <a:pt x="4476" y="44"/>
                  </a:lnTo>
                  <a:lnTo>
                    <a:pt x="4481" y="52"/>
                  </a:lnTo>
                  <a:lnTo>
                    <a:pt x="4485" y="57"/>
                  </a:lnTo>
                  <a:lnTo>
                    <a:pt x="4490" y="61"/>
                  </a:lnTo>
                  <a:lnTo>
                    <a:pt x="4494" y="70"/>
                  </a:lnTo>
                  <a:lnTo>
                    <a:pt x="4498" y="74"/>
                  </a:lnTo>
                  <a:lnTo>
                    <a:pt x="4498" y="83"/>
                  </a:lnTo>
                  <a:lnTo>
                    <a:pt x="4503" y="88"/>
                  </a:lnTo>
                  <a:lnTo>
                    <a:pt x="17" y="1258"/>
                  </a:lnTo>
                  <a:lnTo>
                    <a:pt x="17" y="1227"/>
                  </a:lnTo>
                  <a:lnTo>
                    <a:pt x="13" y="1223"/>
                  </a:lnTo>
                  <a:lnTo>
                    <a:pt x="8" y="1210"/>
                  </a:lnTo>
                  <a:lnTo>
                    <a:pt x="4" y="1201"/>
                  </a:lnTo>
                  <a:lnTo>
                    <a:pt x="0" y="1192"/>
                  </a:lnTo>
                  <a:lnTo>
                    <a:pt x="0" y="1183"/>
                  </a:lnTo>
                  <a:lnTo>
                    <a:pt x="0" y="1174"/>
                  </a:lnTo>
                  <a:lnTo>
                    <a:pt x="0" y="1166"/>
                  </a:lnTo>
                  <a:lnTo>
                    <a:pt x="0" y="1161"/>
                  </a:lnTo>
                  <a:lnTo>
                    <a:pt x="0" y="1152"/>
                  </a:lnTo>
                  <a:lnTo>
                    <a:pt x="0" y="1144"/>
                  </a:lnTo>
                  <a:lnTo>
                    <a:pt x="8" y="1139"/>
                  </a:lnTo>
                  <a:lnTo>
                    <a:pt x="13" y="1135"/>
                  </a:lnTo>
                  <a:lnTo>
                    <a:pt x="22" y="1126"/>
                  </a:lnTo>
                  <a:lnTo>
                    <a:pt x="30" y="1122"/>
                  </a:lnTo>
                  <a:lnTo>
                    <a:pt x="4371" y="0"/>
                  </a:lnTo>
                  <a:lnTo>
                    <a:pt x="4419" y="17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106640" y="5276880"/>
              <a:ext cx="23760" cy="205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1930320" y="4381560"/>
              <a:ext cx="3240" cy="223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957240" y="5124600"/>
              <a:ext cx="1590840" cy="379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68320" y="5448240"/>
              <a:ext cx="152640" cy="84600"/>
            </a:xfrm>
            <a:custGeom>
              <a:avLst/>
              <a:gdLst/>
              <a:ahLst/>
              <a:rect l="0" t="0" r="r" b="b"/>
              <a:pathLst>
                <a:path fill="none" w="424" h="235">
                  <a:moveTo>
                    <a:pt x="0" y="35"/>
                  </a:moveTo>
                  <a:lnTo>
                    <a:pt x="92" y="8"/>
                  </a:lnTo>
                  <a:lnTo>
                    <a:pt x="145" y="0"/>
                  </a:lnTo>
                  <a:lnTo>
                    <a:pt x="154" y="0"/>
                  </a:lnTo>
                  <a:lnTo>
                    <a:pt x="171" y="4"/>
                  </a:lnTo>
                  <a:lnTo>
                    <a:pt x="180" y="8"/>
                  </a:lnTo>
                  <a:lnTo>
                    <a:pt x="189" y="17"/>
                  </a:lnTo>
                  <a:lnTo>
                    <a:pt x="202" y="26"/>
                  </a:lnTo>
                  <a:lnTo>
                    <a:pt x="207" y="35"/>
                  </a:lnTo>
                  <a:lnTo>
                    <a:pt x="217" y="44"/>
                  </a:lnTo>
                  <a:lnTo>
                    <a:pt x="225" y="57"/>
                  </a:lnTo>
                  <a:lnTo>
                    <a:pt x="230" y="67"/>
                  </a:lnTo>
                  <a:lnTo>
                    <a:pt x="234" y="80"/>
                  </a:lnTo>
                  <a:lnTo>
                    <a:pt x="239" y="93"/>
                  </a:lnTo>
                  <a:lnTo>
                    <a:pt x="243" y="106"/>
                  </a:lnTo>
                  <a:lnTo>
                    <a:pt x="243" y="115"/>
                  </a:lnTo>
                  <a:lnTo>
                    <a:pt x="243" y="128"/>
                  </a:lnTo>
                  <a:lnTo>
                    <a:pt x="243" y="137"/>
                  </a:lnTo>
                  <a:lnTo>
                    <a:pt x="239" y="150"/>
                  </a:lnTo>
                  <a:lnTo>
                    <a:pt x="424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5840" y="55040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116" y="0"/>
                  </a:moveTo>
                  <a:lnTo>
                    <a:pt x="112" y="4"/>
                  </a:lnTo>
                  <a:lnTo>
                    <a:pt x="112" y="9"/>
                  </a:lnTo>
                  <a:lnTo>
                    <a:pt x="112" y="14"/>
                  </a:lnTo>
                  <a:lnTo>
                    <a:pt x="107" y="14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3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0" y="48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7" y="52"/>
                  </a:lnTo>
                  <a:lnTo>
                    <a:pt x="62" y="58"/>
                  </a:lnTo>
                  <a:lnTo>
                    <a:pt x="58" y="58"/>
                  </a:lnTo>
                  <a:lnTo>
                    <a:pt x="58" y="63"/>
                  </a:lnTo>
                  <a:lnTo>
                    <a:pt x="49" y="63"/>
                  </a:lnTo>
                  <a:lnTo>
                    <a:pt x="45" y="63"/>
                  </a:lnTo>
                  <a:lnTo>
                    <a:pt x="40" y="67"/>
                  </a:lnTo>
                  <a:lnTo>
                    <a:pt x="31" y="67"/>
                  </a:lnTo>
                  <a:lnTo>
                    <a:pt x="26" y="67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3" y="72"/>
                  </a:lnTo>
                  <a:lnTo>
                    <a:pt x="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17440" y="5510160"/>
              <a:ext cx="157680" cy="66960"/>
            </a:xfrm>
            <a:custGeom>
              <a:avLst/>
              <a:gdLst/>
              <a:ahLst/>
              <a:rect l="0" t="0" r="r" b="b"/>
              <a:pathLst>
                <a:path w="438" h="186">
                  <a:moveTo>
                    <a:pt x="195" y="0"/>
                  </a:moveTo>
                  <a:lnTo>
                    <a:pt x="438" y="133"/>
                  </a:lnTo>
                  <a:lnTo>
                    <a:pt x="225" y="186"/>
                  </a:lnTo>
                  <a:lnTo>
                    <a:pt x="0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3000" y="5530680"/>
              <a:ext cx="109800" cy="46440"/>
            </a:xfrm>
            <a:custGeom>
              <a:avLst/>
              <a:gdLst/>
              <a:ahLst/>
              <a:rect l="0" t="0" r="r" b="b"/>
              <a:pathLst>
                <a:path w="305" h="129">
                  <a:moveTo>
                    <a:pt x="305" y="93"/>
                  </a:moveTo>
                  <a:lnTo>
                    <a:pt x="136" y="0"/>
                  </a:lnTo>
                  <a:lnTo>
                    <a:pt x="0" y="30"/>
                  </a:lnTo>
                  <a:lnTo>
                    <a:pt x="155" y="129"/>
                  </a:lnTo>
                  <a:lnTo>
                    <a:pt x="305" y="93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927000" y="5099040"/>
              <a:ext cx="1530360" cy="351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506680" y="5964120"/>
              <a:ext cx="31680" cy="9720"/>
            </a:xfrm>
            <a:prstGeom prst="line">
              <a:avLst/>
            </a:prstGeom>
            <a:ln w="12600">
              <a:solidFill>
                <a:srgbClr val="ff00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49280" y="5295960"/>
              <a:ext cx="2003760" cy="692640"/>
            </a:xfrm>
            <a:custGeom>
              <a:avLst/>
              <a:gdLst/>
              <a:ahLst/>
              <a:rect l="0" t="0" r="r" b="b"/>
              <a:pathLst>
                <a:path w="5566" h="1924">
                  <a:moveTo>
                    <a:pt x="4057" y="0"/>
                  </a:moveTo>
                  <a:lnTo>
                    <a:pt x="4132" y="0"/>
                  </a:lnTo>
                  <a:lnTo>
                    <a:pt x="5561" y="613"/>
                  </a:lnTo>
                  <a:lnTo>
                    <a:pt x="5566" y="658"/>
                  </a:lnTo>
                  <a:lnTo>
                    <a:pt x="1397" y="1924"/>
                  </a:lnTo>
                  <a:lnTo>
                    <a:pt x="1318" y="1924"/>
                  </a:lnTo>
                  <a:lnTo>
                    <a:pt x="0" y="1099"/>
                  </a:lnTo>
                  <a:lnTo>
                    <a:pt x="22" y="1063"/>
                  </a:lnTo>
                  <a:lnTo>
                    <a:pt x="4057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43160" y="5199120"/>
              <a:ext cx="322200" cy="77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295360" y="5229360"/>
              <a:ext cx="320760" cy="77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65360" y="5157720"/>
              <a:ext cx="221040" cy="127440"/>
            </a:xfrm>
            <a:custGeom>
              <a:avLst/>
              <a:gdLst/>
              <a:ahLst/>
              <a:rect l="0" t="0" r="r" b="b"/>
              <a:pathLst>
                <a:path fill="none" w="614" h="354">
                  <a:moveTo>
                    <a:pt x="0" y="0"/>
                  </a:moveTo>
                  <a:lnTo>
                    <a:pt x="522" y="225"/>
                  </a:lnTo>
                  <a:lnTo>
                    <a:pt x="526" y="230"/>
                  </a:lnTo>
                  <a:lnTo>
                    <a:pt x="544" y="239"/>
                  </a:lnTo>
                  <a:lnTo>
                    <a:pt x="553" y="247"/>
                  </a:lnTo>
                  <a:lnTo>
                    <a:pt x="562" y="252"/>
                  </a:lnTo>
                  <a:lnTo>
                    <a:pt x="570" y="261"/>
                  </a:lnTo>
                  <a:lnTo>
                    <a:pt x="575" y="270"/>
                  </a:lnTo>
                  <a:lnTo>
                    <a:pt x="579" y="279"/>
                  </a:lnTo>
                  <a:lnTo>
                    <a:pt x="588" y="284"/>
                  </a:lnTo>
                  <a:lnTo>
                    <a:pt x="588" y="293"/>
                  </a:lnTo>
                  <a:lnTo>
                    <a:pt x="592" y="301"/>
                  </a:lnTo>
                  <a:lnTo>
                    <a:pt x="597" y="310"/>
                  </a:lnTo>
                  <a:lnTo>
                    <a:pt x="601" y="319"/>
                  </a:lnTo>
                  <a:lnTo>
                    <a:pt x="606" y="328"/>
                  </a:lnTo>
                  <a:lnTo>
                    <a:pt x="606" y="337"/>
                  </a:lnTo>
                  <a:lnTo>
                    <a:pt x="610" y="345"/>
                  </a:lnTo>
                  <a:lnTo>
                    <a:pt x="614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41480" y="5505480"/>
              <a:ext cx="241560" cy="171720"/>
            </a:xfrm>
            <a:custGeom>
              <a:avLst/>
              <a:gdLst/>
              <a:ahLst/>
              <a:rect l="0" t="0" r="r" b="b"/>
              <a:pathLst>
                <a:path fill="none" w="671" h="477">
                  <a:moveTo>
                    <a:pt x="0" y="0"/>
                  </a:moveTo>
                  <a:lnTo>
                    <a:pt x="569" y="331"/>
                  </a:lnTo>
                  <a:lnTo>
                    <a:pt x="574" y="336"/>
                  </a:lnTo>
                  <a:lnTo>
                    <a:pt x="591" y="344"/>
                  </a:lnTo>
                  <a:lnTo>
                    <a:pt x="600" y="353"/>
                  </a:lnTo>
                  <a:lnTo>
                    <a:pt x="609" y="362"/>
                  </a:lnTo>
                  <a:lnTo>
                    <a:pt x="618" y="371"/>
                  </a:lnTo>
                  <a:lnTo>
                    <a:pt x="627" y="375"/>
                  </a:lnTo>
                  <a:lnTo>
                    <a:pt x="631" y="384"/>
                  </a:lnTo>
                  <a:lnTo>
                    <a:pt x="640" y="393"/>
                  </a:lnTo>
                  <a:lnTo>
                    <a:pt x="644" y="402"/>
                  </a:lnTo>
                  <a:lnTo>
                    <a:pt x="649" y="411"/>
                  </a:lnTo>
                  <a:lnTo>
                    <a:pt x="653" y="424"/>
                  </a:lnTo>
                  <a:lnTo>
                    <a:pt x="658" y="433"/>
                  </a:lnTo>
                  <a:lnTo>
                    <a:pt x="662" y="446"/>
                  </a:lnTo>
                  <a:lnTo>
                    <a:pt x="666" y="455"/>
                  </a:lnTo>
                  <a:lnTo>
                    <a:pt x="671" y="464"/>
                  </a:lnTo>
                  <a:lnTo>
                    <a:pt x="671" y="4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284120" y="5281560"/>
              <a:ext cx="1501920" cy="3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9960" y="5861160"/>
              <a:ext cx="841680" cy="298800"/>
            </a:xfrm>
            <a:custGeom>
              <a:avLst/>
              <a:gdLst/>
              <a:ahLst/>
              <a:rect l="0" t="0" r="r" b="b"/>
              <a:pathLst>
                <a:path w="2338" h="830">
                  <a:moveTo>
                    <a:pt x="0" y="733"/>
                  </a:moveTo>
                  <a:lnTo>
                    <a:pt x="0" y="830"/>
                  </a:lnTo>
                  <a:lnTo>
                    <a:pt x="617" y="640"/>
                  </a:lnTo>
                  <a:lnTo>
                    <a:pt x="617" y="605"/>
                  </a:lnTo>
                  <a:lnTo>
                    <a:pt x="1601" y="299"/>
                  </a:lnTo>
                  <a:lnTo>
                    <a:pt x="1711" y="295"/>
                  </a:lnTo>
                  <a:lnTo>
                    <a:pt x="2333" y="101"/>
                  </a:lnTo>
                  <a:lnTo>
                    <a:pt x="2338" y="0"/>
                  </a:lnTo>
                  <a:lnTo>
                    <a:pt x="1716" y="189"/>
                  </a:lnTo>
                  <a:lnTo>
                    <a:pt x="1601" y="198"/>
                  </a:lnTo>
                  <a:lnTo>
                    <a:pt x="617" y="512"/>
                  </a:lnTo>
                  <a:lnTo>
                    <a:pt x="617" y="538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43200" y="6116760"/>
              <a:ext cx="184680" cy="84600"/>
            </a:xfrm>
            <a:custGeom>
              <a:avLst/>
              <a:gdLst/>
              <a:ahLst/>
              <a:rect l="0" t="0" r="r" b="b"/>
              <a:pathLst>
                <a:path w="513" h="235">
                  <a:moveTo>
                    <a:pt x="513" y="0"/>
                  </a:moveTo>
                  <a:lnTo>
                    <a:pt x="513" y="71"/>
                  </a:lnTo>
                  <a:lnTo>
                    <a:pt x="0" y="235"/>
                  </a:lnTo>
                  <a:lnTo>
                    <a:pt x="0" y="164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52560" y="5899320"/>
              <a:ext cx="832320" cy="259200"/>
            </a:xfrm>
            <a:custGeom>
              <a:avLst/>
              <a:gdLst/>
              <a:ahLst/>
              <a:rect l="0" t="0" r="r" b="b"/>
              <a:pathLst>
                <a:path fill="none" w="2312" h="720">
                  <a:moveTo>
                    <a:pt x="2312" y="0"/>
                  </a:moveTo>
                  <a:lnTo>
                    <a:pt x="1672" y="190"/>
                  </a:lnTo>
                  <a:lnTo>
                    <a:pt x="1544" y="195"/>
                  </a:lnTo>
                  <a:lnTo>
                    <a:pt x="587" y="499"/>
                  </a:lnTo>
                  <a:lnTo>
                    <a:pt x="583" y="534"/>
                  </a:lnTo>
                  <a:lnTo>
                    <a:pt x="0" y="72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65440" y="6056280"/>
              <a:ext cx="25920" cy="170280"/>
            </a:xfrm>
            <a:custGeom>
              <a:avLst/>
              <a:gdLst/>
              <a:ahLst/>
              <a:rect l="0" t="0" r="r" b="b"/>
              <a:pathLst>
                <a:path w="72" h="473">
                  <a:moveTo>
                    <a:pt x="72" y="0"/>
                  </a:moveTo>
                  <a:lnTo>
                    <a:pt x="72" y="473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76600" y="5608800"/>
              <a:ext cx="821160" cy="275040"/>
            </a:xfrm>
            <a:custGeom>
              <a:avLst/>
              <a:gdLst/>
              <a:ahLst/>
              <a:rect l="0" t="0" r="r" b="b"/>
              <a:pathLst>
                <a:path fill="none" w="2281" h="764">
                  <a:moveTo>
                    <a:pt x="0" y="764"/>
                  </a:moveTo>
                  <a:lnTo>
                    <a:pt x="2237" y="48"/>
                  </a:lnTo>
                  <a:lnTo>
                    <a:pt x="228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4400" y="5599080"/>
              <a:ext cx="925920" cy="555840"/>
            </a:xfrm>
            <a:custGeom>
              <a:avLst/>
              <a:gdLst/>
              <a:ahLst/>
              <a:rect l="0" t="0" r="r" b="b"/>
              <a:pathLst>
                <a:path fill="none" w="2572" h="1544">
                  <a:moveTo>
                    <a:pt x="2572" y="1504"/>
                  </a:moveTo>
                  <a:lnTo>
                    <a:pt x="2431" y="1544"/>
                  </a:lnTo>
                  <a:lnTo>
                    <a:pt x="2370" y="1544"/>
                  </a:lnTo>
                  <a:lnTo>
                    <a:pt x="2334" y="1539"/>
                  </a:lnTo>
                  <a:lnTo>
                    <a:pt x="30" y="3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87600" y="5184720"/>
              <a:ext cx="479880" cy="111600"/>
            </a:xfrm>
            <a:custGeom>
              <a:avLst/>
              <a:gdLst/>
              <a:ahLst/>
              <a:rect l="0" t="0" r="r" b="b"/>
              <a:pathLst>
                <a:path w="1333" h="310">
                  <a:moveTo>
                    <a:pt x="0" y="270"/>
                  </a:moveTo>
                  <a:lnTo>
                    <a:pt x="1170" y="0"/>
                  </a:lnTo>
                  <a:lnTo>
                    <a:pt x="1205" y="39"/>
                  </a:lnTo>
                  <a:lnTo>
                    <a:pt x="1258" y="35"/>
                  </a:lnTo>
                  <a:lnTo>
                    <a:pt x="1267" y="35"/>
                  </a:lnTo>
                  <a:lnTo>
                    <a:pt x="1272" y="39"/>
                  </a:lnTo>
                  <a:lnTo>
                    <a:pt x="1280" y="44"/>
                  </a:lnTo>
                  <a:lnTo>
                    <a:pt x="1289" y="48"/>
                  </a:lnTo>
                  <a:lnTo>
                    <a:pt x="1294" y="52"/>
                  </a:lnTo>
                  <a:lnTo>
                    <a:pt x="1302" y="61"/>
                  </a:lnTo>
                  <a:lnTo>
                    <a:pt x="1307" y="66"/>
                  </a:lnTo>
                  <a:lnTo>
                    <a:pt x="1316" y="74"/>
                  </a:lnTo>
                  <a:lnTo>
                    <a:pt x="1316" y="84"/>
                  </a:lnTo>
                  <a:lnTo>
                    <a:pt x="1320" y="89"/>
                  </a:lnTo>
                  <a:lnTo>
                    <a:pt x="1320" y="98"/>
                  </a:lnTo>
                  <a:lnTo>
                    <a:pt x="1324" y="102"/>
                  </a:lnTo>
                  <a:lnTo>
                    <a:pt x="1329" y="111"/>
                  </a:lnTo>
                  <a:lnTo>
                    <a:pt x="1329" y="115"/>
                  </a:lnTo>
                  <a:lnTo>
                    <a:pt x="1329" y="124"/>
                  </a:lnTo>
                  <a:lnTo>
                    <a:pt x="1333" y="128"/>
                  </a:lnTo>
                  <a:lnTo>
                    <a:pt x="1333" y="137"/>
                  </a:lnTo>
                  <a:lnTo>
                    <a:pt x="1329" y="142"/>
                  </a:lnTo>
                  <a:lnTo>
                    <a:pt x="1329" y="146"/>
                  </a:lnTo>
                  <a:lnTo>
                    <a:pt x="1329" y="150"/>
                  </a:lnTo>
                  <a:lnTo>
                    <a:pt x="1329" y="146"/>
                  </a:lnTo>
                  <a:lnTo>
                    <a:pt x="1329" y="133"/>
                  </a:lnTo>
                  <a:lnTo>
                    <a:pt x="1329" y="124"/>
                  </a:lnTo>
                  <a:lnTo>
                    <a:pt x="1329" y="115"/>
                  </a:lnTo>
                  <a:lnTo>
                    <a:pt x="1324" y="106"/>
                  </a:lnTo>
                  <a:lnTo>
                    <a:pt x="1324" y="98"/>
                  </a:lnTo>
                  <a:lnTo>
                    <a:pt x="1320" y="89"/>
                  </a:lnTo>
                  <a:lnTo>
                    <a:pt x="1316" y="80"/>
                  </a:lnTo>
                  <a:lnTo>
                    <a:pt x="1311" y="74"/>
                  </a:lnTo>
                  <a:lnTo>
                    <a:pt x="1307" y="66"/>
                  </a:lnTo>
                  <a:lnTo>
                    <a:pt x="1298" y="61"/>
                  </a:lnTo>
                  <a:lnTo>
                    <a:pt x="1294" y="52"/>
                  </a:lnTo>
                  <a:lnTo>
                    <a:pt x="1285" y="48"/>
                  </a:lnTo>
                  <a:lnTo>
                    <a:pt x="1276" y="44"/>
                  </a:lnTo>
                  <a:lnTo>
                    <a:pt x="1267" y="35"/>
                  </a:lnTo>
                  <a:lnTo>
                    <a:pt x="1258" y="30"/>
                  </a:lnTo>
                  <a:lnTo>
                    <a:pt x="74" y="301"/>
                  </a:lnTo>
                  <a:lnTo>
                    <a:pt x="35" y="31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9760" y="5327640"/>
              <a:ext cx="240120" cy="68760"/>
            </a:xfrm>
            <a:custGeom>
              <a:avLst/>
              <a:gdLst/>
              <a:ahLst/>
              <a:rect l="0" t="0" r="r" b="b"/>
              <a:pathLst>
                <a:path w="667" h="191">
                  <a:moveTo>
                    <a:pt x="0" y="191"/>
                  </a:moveTo>
                  <a:lnTo>
                    <a:pt x="663" y="30"/>
                  </a:lnTo>
                  <a:lnTo>
                    <a:pt x="663" y="26"/>
                  </a:lnTo>
                  <a:lnTo>
                    <a:pt x="667" y="17"/>
                  </a:lnTo>
                  <a:lnTo>
                    <a:pt x="667" y="13"/>
                  </a:lnTo>
                  <a:lnTo>
                    <a:pt x="667" y="4"/>
                  </a:lnTo>
                  <a:lnTo>
                    <a:pt x="667" y="0"/>
                  </a:lnTo>
                  <a:lnTo>
                    <a:pt x="4" y="156"/>
                  </a:lnTo>
                  <a:lnTo>
                    <a:pt x="4" y="160"/>
                  </a:lnTo>
                  <a:lnTo>
                    <a:pt x="4" y="169"/>
                  </a:lnTo>
                  <a:lnTo>
                    <a:pt x="4" y="173"/>
                  </a:lnTo>
                  <a:lnTo>
                    <a:pt x="4" y="182"/>
                  </a:lnTo>
                  <a:lnTo>
                    <a:pt x="0" y="187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65320" y="5175360"/>
              <a:ext cx="219600" cy="65520"/>
            </a:xfrm>
            <a:custGeom>
              <a:avLst/>
              <a:gdLst/>
              <a:ahLst/>
              <a:rect l="0" t="0" r="r" b="b"/>
              <a:pathLst>
                <a:path w="610" h="182">
                  <a:moveTo>
                    <a:pt x="0" y="182"/>
                  </a:moveTo>
                  <a:lnTo>
                    <a:pt x="601" y="39"/>
                  </a:lnTo>
                  <a:lnTo>
                    <a:pt x="606" y="30"/>
                  </a:lnTo>
                  <a:lnTo>
                    <a:pt x="606" y="26"/>
                  </a:lnTo>
                  <a:lnTo>
                    <a:pt x="606" y="17"/>
                  </a:lnTo>
                  <a:lnTo>
                    <a:pt x="610" y="13"/>
                  </a:lnTo>
                  <a:lnTo>
                    <a:pt x="610" y="8"/>
                  </a:lnTo>
                  <a:lnTo>
                    <a:pt x="610" y="0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87600" y="5281560"/>
              <a:ext cx="62280" cy="57600"/>
            </a:xfrm>
            <a:custGeom>
              <a:avLst/>
              <a:gdLst/>
              <a:ahLst/>
              <a:rect l="0" t="0" r="r" b="b"/>
              <a:pathLst>
                <a:path fill="none" w="173" h="160">
                  <a:moveTo>
                    <a:pt x="0" y="0"/>
                  </a:moveTo>
                  <a:lnTo>
                    <a:pt x="35" y="39"/>
                  </a:lnTo>
                  <a:lnTo>
                    <a:pt x="84" y="30"/>
                  </a:lnTo>
                  <a:lnTo>
                    <a:pt x="89" y="30"/>
                  </a:lnTo>
                  <a:lnTo>
                    <a:pt x="106" y="39"/>
                  </a:lnTo>
                  <a:lnTo>
                    <a:pt x="115" y="45"/>
                  </a:lnTo>
                  <a:lnTo>
                    <a:pt x="128" y="49"/>
                  </a:lnTo>
                  <a:lnTo>
                    <a:pt x="134" y="58"/>
                  </a:lnTo>
                  <a:lnTo>
                    <a:pt x="143" y="67"/>
                  </a:lnTo>
                  <a:lnTo>
                    <a:pt x="151" y="71"/>
                  </a:lnTo>
                  <a:lnTo>
                    <a:pt x="156" y="80"/>
                  </a:lnTo>
                  <a:lnTo>
                    <a:pt x="160" y="89"/>
                  </a:lnTo>
                  <a:lnTo>
                    <a:pt x="165" y="102"/>
                  </a:lnTo>
                  <a:lnTo>
                    <a:pt x="169" y="111"/>
                  </a:lnTo>
                  <a:lnTo>
                    <a:pt x="169" y="121"/>
                  </a:lnTo>
                  <a:lnTo>
                    <a:pt x="173" y="129"/>
                  </a:lnTo>
                  <a:lnTo>
                    <a:pt x="173" y="143"/>
                  </a:lnTo>
                  <a:lnTo>
                    <a:pt x="169" y="151"/>
                  </a:lnTo>
                  <a:lnTo>
                    <a:pt x="169" y="1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27320" y="5135400"/>
              <a:ext cx="55800" cy="41760"/>
            </a:xfrm>
            <a:custGeom>
              <a:avLst/>
              <a:gdLst/>
              <a:ahLst/>
              <a:rect l="0" t="0" r="r" b="b"/>
              <a:pathLst>
                <a:path fill="none" w="155" h="116">
                  <a:moveTo>
                    <a:pt x="0" y="0"/>
                  </a:moveTo>
                  <a:lnTo>
                    <a:pt x="39" y="40"/>
                  </a:lnTo>
                  <a:lnTo>
                    <a:pt x="89" y="31"/>
                  </a:lnTo>
                  <a:lnTo>
                    <a:pt x="98" y="36"/>
                  </a:lnTo>
                  <a:lnTo>
                    <a:pt x="102" y="40"/>
                  </a:lnTo>
                  <a:lnTo>
                    <a:pt x="111" y="49"/>
                  </a:lnTo>
                  <a:lnTo>
                    <a:pt x="115" y="53"/>
                  </a:lnTo>
                  <a:lnTo>
                    <a:pt x="124" y="58"/>
                  </a:lnTo>
                  <a:lnTo>
                    <a:pt x="128" y="67"/>
                  </a:lnTo>
                  <a:lnTo>
                    <a:pt x="133" y="71"/>
                  </a:lnTo>
                  <a:lnTo>
                    <a:pt x="137" y="75"/>
                  </a:lnTo>
                  <a:lnTo>
                    <a:pt x="142" y="80"/>
                  </a:lnTo>
                  <a:lnTo>
                    <a:pt x="146" y="90"/>
                  </a:lnTo>
                  <a:lnTo>
                    <a:pt x="150" y="94"/>
                  </a:lnTo>
                  <a:lnTo>
                    <a:pt x="150" y="99"/>
                  </a:lnTo>
                  <a:lnTo>
                    <a:pt x="155" y="107"/>
                  </a:lnTo>
                  <a:lnTo>
                    <a:pt x="155" y="11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2240" y="5346720"/>
              <a:ext cx="49680" cy="36720"/>
            </a:xfrm>
            <a:custGeom>
              <a:avLst/>
              <a:gdLst/>
              <a:ahLst/>
              <a:rect l="0" t="0" r="r" b="b"/>
              <a:pathLst>
                <a:path fill="none" w="138" h="102">
                  <a:moveTo>
                    <a:pt x="0" y="8"/>
                  </a:moveTo>
                  <a:lnTo>
                    <a:pt x="45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13"/>
                  </a:lnTo>
                  <a:lnTo>
                    <a:pt x="89" y="17"/>
                  </a:lnTo>
                  <a:lnTo>
                    <a:pt x="98" y="22"/>
                  </a:lnTo>
                  <a:lnTo>
                    <a:pt x="102" y="30"/>
                  </a:lnTo>
                  <a:lnTo>
                    <a:pt x="112" y="35"/>
                  </a:lnTo>
                  <a:lnTo>
                    <a:pt x="116" y="44"/>
                  </a:lnTo>
                  <a:lnTo>
                    <a:pt x="125" y="53"/>
                  </a:lnTo>
                  <a:lnTo>
                    <a:pt x="129" y="62"/>
                  </a:lnTo>
                  <a:lnTo>
                    <a:pt x="134" y="71"/>
                  </a:lnTo>
                  <a:lnTo>
                    <a:pt x="134" y="80"/>
                  </a:lnTo>
                  <a:lnTo>
                    <a:pt x="138" y="89"/>
                  </a:lnTo>
                  <a:lnTo>
                    <a:pt x="138" y="1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240" y="4405320"/>
              <a:ext cx="1418040" cy="871920"/>
            </a:xfrm>
            <a:custGeom>
              <a:avLst/>
              <a:gdLst/>
              <a:ahLst/>
              <a:rect l="0" t="0" r="r" b="b"/>
              <a:pathLst>
                <a:path w="3939" h="2422">
                  <a:moveTo>
                    <a:pt x="3939" y="1729"/>
                  </a:moveTo>
                  <a:lnTo>
                    <a:pt x="846" y="2422"/>
                  </a:lnTo>
                  <a:lnTo>
                    <a:pt x="0" y="564"/>
                  </a:lnTo>
                  <a:lnTo>
                    <a:pt x="3066" y="0"/>
                  </a:lnTo>
                  <a:lnTo>
                    <a:pt x="3939" y="1729"/>
                  </a:lnTo>
                  <a:close/>
                </a:path>
              </a:pathLst>
            </a:custGeom>
            <a:solidFill>
              <a:srgbClr val="063de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849240" y="5148360"/>
              <a:ext cx="34920" cy="79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9880" y="4214880"/>
              <a:ext cx="1803600" cy="692640"/>
            </a:xfrm>
            <a:custGeom>
              <a:avLst/>
              <a:gdLst/>
              <a:ahLst/>
              <a:rect l="0" t="0" r="r" b="b"/>
              <a:pathLst>
                <a:path w="5010" h="1924">
                  <a:moveTo>
                    <a:pt x="5010" y="1924"/>
                  </a:moveTo>
                  <a:lnTo>
                    <a:pt x="5010" y="1739"/>
                  </a:lnTo>
                  <a:lnTo>
                    <a:pt x="4075" y="0"/>
                  </a:lnTo>
                  <a:lnTo>
                    <a:pt x="0" y="737"/>
                  </a:lnTo>
                  <a:lnTo>
                    <a:pt x="39" y="834"/>
                  </a:lnTo>
                  <a:lnTo>
                    <a:pt x="4005" y="110"/>
                  </a:lnTo>
                  <a:lnTo>
                    <a:pt x="5010" y="19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79800" y="5602320"/>
              <a:ext cx="821160" cy="255960"/>
            </a:xfrm>
            <a:custGeom>
              <a:avLst/>
              <a:gdLst/>
              <a:ahLst/>
              <a:rect l="0" t="0" r="r" b="b"/>
              <a:pathLst>
                <a:path w="2281" h="711">
                  <a:moveTo>
                    <a:pt x="2250" y="0"/>
                  </a:moveTo>
                  <a:lnTo>
                    <a:pt x="2281" y="79"/>
                  </a:lnTo>
                  <a:lnTo>
                    <a:pt x="207" y="711"/>
                  </a:lnTo>
                  <a:lnTo>
                    <a:pt x="0" y="610"/>
                  </a:lnTo>
                  <a:lnTo>
                    <a:pt x="22" y="516"/>
                  </a:lnTo>
                  <a:lnTo>
                    <a:pt x="2250" y="0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7720" y="5572080"/>
              <a:ext cx="802080" cy="262440"/>
            </a:xfrm>
            <a:custGeom>
              <a:avLst/>
              <a:gdLst/>
              <a:ahLst/>
              <a:rect l="0" t="0" r="r" b="b"/>
              <a:pathLst>
                <a:path w="2228" h="729">
                  <a:moveTo>
                    <a:pt x="2048" y="0"/>
                  </a:moveTo>
                  <a:lnTo>
                    <a:pt x="2228" y="83"/>
                  </a:lnTo>
                  <a:lnTo>
                    <a:pt x="198" y="685"/>
                  </a:lnTo>
                  <a:lnTo>
                    <a:pt x="194" y="729"/>
                  </a:lnTo>
                  <a:lnTo>
                    <a:pt x="180" y="681"/>
                  </a:lnTo>
                  <a:lnTo>
                    <a:pt x="0" y="601"/>
                  </a:lnTo>
                  <a:lnTo>
                    <a:pt x="20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415880" y="5329080"/>
              <a:ext cx="1441800" cy="384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495440" y="5367240"/>
              <a:ext cx="1432080" cy="4003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584360" y="5411880"/>
              <a:ext cx="1431720" cy="399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1666800" y="5446800"/>
              <a:ext cx="1444680" cy="4158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749600" y="5481720"/>
              <a:ext cx="1454040" cy="4255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812960" y="5522760"/>
              <a:ext cx="1460520" cy="4352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33600" y="5681520"/>
              <a:ext cx="412560" cy="235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73280" y="5637240"/>
              <a:ext cx="412560" cy="235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51120" y="5592600"/>
              <a:ext cx="396720" cy="228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03400" y="5560920"/>
              <a:ext cx="31428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46320" y="5519880"/>
              <a:ext cx="31428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95360" y="5472000"/>
              <a:ext cx="31464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48000" y="5433840"/>
              <a:ext cx="314280" cy="174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97040" y="5398920"/>
              <a:ext cx="320760" cy="168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36720" y="5364000"/>
              <a:ext cx="403200" cy="200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200" y="5322960"/>
              <a:ext cx="425520" cy="193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19120" y="5716440"/>
              <a:ext cx="406440" cy="2415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351080" y="5029200"/>
              <a:ext cx="73188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09640" y="4548240"/>
              <a:ext cx="330480" cy="500400"/>
            </a:xfrm>
            <a:custGeom>
              <a:avLst/>
              <a:gdLst/>
              <a:ahLst/>
              <a:rect l="0" t="0" r="r" b="b"/>
              <a:pathLst>
                <a:path w="918" h="1390">
                  <a:moveTo>
                    <a:pt x="268" y="0"/>
                  </a:moveTo>
                  <a:lnTo>
                    <a:pt x="918" y="1328"/>
                  </a:lnTo>
                  <a:lnTo>
                    <a:pt x="658" y="1390"/>
                  </a:lnTo>
                  <a:lnTo>
                    <a:pt x="0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79001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73200" y="4645080"/>
              <a:ext cx="302040" cy="444960"/>
            </a:xfrm>
            <a:custGeom>
              <a:avLst/>
              <a:gdLst/>
              <a:ahLst/>
              <a:rect l="0" t="0" r="r" b="b"/>
              <a:pathLst>
                <a:path w="839" h="1236">
                  <a:moveTo>
                    <a:pt x="269" y="0"/>
                  </a:moveTo>
                  <a:lnTo>
                    <a:pt x="839" y="1174"/>
                  </a:lnTo>
                  <a:lnTo>
                    <a:pt x="578" y="1236"/>
                  </a:lnTo>
                  <a:lnTo>
                    <a:pt x="0" y="5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37c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19120" y="4764240"/>
              <a:ext cx="273240" cy="365400"/>
            </a:xfrm>
            <a:custGeom>
              <a:avLst/>
              <a:gdLst/>
              <a:ahLst/>
              <a:rect l="0" t="0" r="r" b="b"/>
              <a:pathLst>
                <a:path w="759" h="1015">
                  <a:moveTo>
                    <a:pt x="286" y="0"/>
                  </a:moveTo>
                  <a:lnTo>
                    <a:pt x="759" y="944"/>
                  </a:lnTo>
                  <a:lnTo>
                    <a:pt x="490" y="1015"/>
                  </a:lnTo>
                  <a:lnTo>
                    <a:pt x="0" y="52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898b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9160" y="4923000"/>
              <a:ext cx="209880" cy="254520"/>
            </a:xfrm>
            <a:custGeom>
              <a:avLst/>
              <a:gdLst/>
              <a:ahLst/>
              <a:rect l="0" t="0" r="r" b="b"/>
              <a:pathLst>
                <a:path w="583" h="707">
                  <a:moveTo>
                    <a:pt x="300" y="0"/>
                  </a:moveTo>
                  <a:lnTo>
                    <a:pt x="583" y="637"/>
                  </a:lnTo>
                  <a:lnTo>
                    <a:pt x="318" y="707"/>
                  </a:lnTo>
                  <a:lnTo>
                    <a:pt x="0" y="7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95600" y="4567320"/>
              <a:ext cx="329040" cy="501840"/>
            </a:xfrm>
            <a:custGeom>
              <a:avLst/>
              <a:gdLst/>
              <a:ahLst/>
              <a:rect l="0" t="0" r="r" b="b"/>
              <a:pathLst>
                <a:path w="914" h="1394">
                  <a:moveTo>
                    <a:pt x="269" y="0"/>
                  </a:moveTo>
                  <a:lnTo>
                    <a:pt x="914" y="1332"/>
                  </a:lnTo>
                  <a:lnTo>
                    <a:pt x="653" y="1394"/>
                  </a:lnTo>
                  <a:lnTo>
                    <a:pt x="0" y="5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8800" y="4665600"/>
              <a:ext cx="300240" cy="441720"/>
            </a:xfrm>
            <a:custGeom>
              <a:avLst/>
              <a:gdLst/>
              <a:ahLst/>
              <a:rect l="0" t="0" r="r" b="b"/>
              <a:pathLst>
                <a:path w="834" h="1227">
                  <a:moveTo>
                    <a:pt x="264" y="0"/>
                  </a:moveTo>
                  <a:lnTo>
                    <a:pt x="834" y="1166"/>
                  </a:lnTo>
                  <a:lnTo>
                    <a:pt x="578" y="1227"/>
                  </a:lnTo>
                  <a:lnTo>
                    <a:pt x="0" y="5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3280" y="4781520"/>
              <a:ext cx="273240" cy="368640"/>
            </a:xfrm>
            <a:custGeom>
              <a:avLst/>
              <a:gdLst/>
              <a:ahLst/>
              <a:rect l="0" t="0" r="r" b="b"/>
              <a:pathLst>
                <a:path w="759" h="1024">
                  <a:moveTo>
                    <a:pt x="286" y="0"/>
                  </a:moveTo>
                  <a:lnTo>
                    <a:pt x="759" y="953"/>
                  </a:lnTo>
                  <a:lnTo>
                    <a:pt x="490" y="1024"/>
                  </a:lnTo>
                  <a:lnTo>
                    <a:pt x="0" y="52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79440" y="4937040"/>
              <a:ext cx="205200" cy="259200"/>
            </a:xfrm>
            <a:custGeom>
              <a:avLst/>
              <a:gdLst/>
              <a:ahLst/>
              <a:rect l="0" t="0" r="r" b="b"/>
              <a:pathLst>
                <a:path w="570" h="720">
                  <a:moveTo>
                    <a:pt x="269" y="0"/>
                  </a:moveTo>
                  <a:lnTo>
                    <a:pt x="570" y="645"/>
                  </a:lnTo>
                  <a:lnTo>
                    <a:pt x="300" y="720"/>
                  </a:lnTo>
                  <a:lnTo>
                    <a:pt x="0" y="66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890640" y="4481640"/>
              <a:ext cx="10350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fafd00"/>
                  </a:solidFill>
                  <a:latin typeface="Arial"/>
                  <a:ea typeface="Arial"/>
                </a:rPr>
                <a:t>Record Sa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981000" y="4729320"/>
              <a:ext cx="327240" cy="234720"/>
              <a:chOff x="981000" y="4729320"/>
              <a:chExt cx="327240" cy="234720"/>
            </a:xfrm>
          </p:grpSpPr>
          <p:sp>
            <p:nvSpPr>
              <p:cNvPr id="120" name=""/>
              <p:cNvSpPr/>
              <p:nvPr/>
            </p:nvSpPr>
            <p:spPr>
              <a:xfrm>
                <a:off x="981000" y="4761000"/>
                <a:ext cx="28440" cy="316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06560" y="4821120"/>
                <a:ext cx="28440" cy="3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31760" y="4878360"/>
                <a:ext cx="28440" cy="31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54080" y="4932360"/>
                <a:ext cx="28440" cy="3168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1035000" y="4729320"/>
                <a:ext cx="206280" cy="41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060560" y="4782960"/>
                <a:ext cx="20628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1082520" y="4836960"/>
                <a:ext cx="20664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1101600" y="4890960"/>
                <a:ext cx="20664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 txBox="1"/>
          <p:nvPr/>
        </p:nvSpPr>
        <p:spPr>
          <a:xfrm>
            <a:off x="1143000" y="190440"/>
            <a:ext cx="74674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e took her notebook with her PowerPoint presenta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604800" y="1293840"/>
            <a:ext cx="3183120" cy="1981800"/>
            <a:chOff x="604800" y="1293840"/>
            <a:chExt cx="3183120" cy="1981800"/>
          </a:xfrm>
        </p:grpSpPr>
        <p:grpSp>
          <p:nvGrpSpPr>
            <p:cNvPr id="130" name=""/>
            <p:cNvGrpSpPr/>
            <p:nvPr/>
          </p:nvGrpSpPr>
          <p:grpSpPr>
            <a:xfrm>
              <a:off x="604800" y="1293840"/>
              <a:ext cx="3183120" cy="1969920"/>
              <a:chOff x="604800" y="1293840"/>
              <a:chExt cx="3183120" cy="196992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604800" y="1293840"/>
                <a:ext cx="3183120" cy="1969920"/>
                <a:chOff x="604800" y="1293840"/>
                <a:chExt cx="3183120" cy="19699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22160" y="1674720"/>
                  <a:ext cx="2700720" cy="681480"/>
                </a:xfrm>
                <a:custGeom>
                  <a:avLst/>
                  <a:gdLst/>
                  <a:ahLst/>
                  <a:rect l="0" t="0" r="r" b="b"/>
                  <a:pathLst>
                    <a:path w="7502" h="1893">
                      <a:moveTo>
                        <a:pt x="13" y="388"/>
                      </a:moveTo>
                      <a:lnTo>
                        <a:pt x="0" y="569"/>
                      </a:lnTo>
                      <a:lnTo>
                        <a:pt x="1261" y="887"/>
                      </a:lnTo>
                      <a:lnTo>
                        <a:pt x="1261" y="957"/>
                      </a:lnTo>
                      <a:lnTo>
                        <a:pt x="3599" y="1554"/>
                      </a:lnTo>
                      <a:lnTo>
                        <a:pt x="3687" y="1479"/>
                      </a:lnTo>
                      <a:lnTo>
                        <a:pt x="5341" y="1893"/>
                      </a:lnTo>
                      <a:lnTo>
                        <a:pt x="5438" y="1832"/>
                      </a:lnTo>
                      <a:lnTo>
                        <a:pt x="5743" y="1690"/>
                      </a:lnTo>
                      <a:lnTo>
                        <a:pt x="5933" y="1488"/>
                      </a:lnTo>
                      <a:lnTo>
                        <a:pt x="6197" y="1341"/>
                      </a:lnTo>
                      <a:lnTo>
                        <a:pt x="6422" y="1191"/>
                      </a:lnTo>
                      <a:lnTo>
                        <a:pt x="6673" y="1076"/>
                      </a:lnTo>
                      <a:lnTo>
                        <a:pt x="6854" y="918"/>
                      </a:lnTo>
                      <a:lnTo>
                        <a:pt x="7026" y="737"/>
                      </a:lnTo>
                      <a:lnTo>
                        <a:pt x="7088" y="609"/>
                      </a:lnTo>
                      <a:lnTo>
                        <a:pt x="7176" y="449"/>
                      </a:lnTo>
                      <a:lnTo>
                        <a:pt x="7291" y="313"/>
                      </a:lnTo>
                      <a:lnTo>
                        <a:pt x="7427" y="185"/>
                      </a:lnTo>
                      <a:lnTo>
                        <a:pt x="7502" y="110"/>
                      </a:lnTo>
                      <a:lnTo>
                        <a:pt x="7472" y="0"/>
                      </a:lnTo>
                      <a:lnTo>
                        <a:pt x="5341" y="1752"/>
                      </a:lnTo>
                      <a:lnTo>
                        <a:pt x="13" y="388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444760" y="3070080"/>
                  <a:ext cx="314280" cy="19368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51240" y="3033720"/>
                  <a:ext cx="285840" cy="181080"/>
                </a:xfrm>
                <a:prstGeom prst="ellipse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92280" y="1725480"/>
                  <a:ext cx="1000440" cy="1484640"/>
                </a:xfrm>
                <a:custGeom>
                  <a:avLst/>
                  <a:gdLst/>
                  <a:ahLst/>
                  <a:rect l="0" t="0" r="r" b="b"/>
                  <a:pathLst>
                    <a:path w="2779" h="4124">
                      <a:moveTo>
                        <a:pt x="66" y="1874"/>
                      </a:moveTo>
                      <a:lnTo>
                        <a:pt x="13" y="2977"/>
                      </a:lnTo>
                      <a:lnTo>
                        <a:pt x="0" y="4057"/>
                      </a:lnTo>
                      <a:lnTo>
                        <a:pt x="233" y="4124"/>
                      </a:lnTo>
                      <a:lnTo>
                        <a:pt x="383" y="4057"/>
                      </a:lnTo>
                      <a:lnTo>
                        <a:pt x="573" y="3868"/>
                      </a:lnTo>
                      <a:lnTo>
                        <a:pt x="890" y="3612"/>
                      </a:lnTo>
                      <a:lnTo>
                        <a:pt x="1093" y="3436"/>
                      </a:lnTo>
                      <a:lnTo>
                        <a:pt x="1336" y="3255"/>
                      </a:lnTo>
                      <a:lnTo>
                        <a:pt x="1606" y="3096"/>
                      </a:lnTo>
                      <a:lnTo>
                        <a:pt x="1795" y="2959"/>
                      </a:lnTo>
                      <a:lnTo>
                        <a:pt x="1932" y="2840"/>
                      </a:lnTo>
                      <a:lnTo>
                        <a:pt x="2642" y="2249"/>
                      </a:lnTo>
                      <a:lnTo>
                        <a:pt x="2757" y="970"/>
                      </a:lnTo>
                      <a:lnTo>
                        <a:pt x="2770" y="590"/>
                      </a:lnTo>
                      <a:lnTo>
                        <a:pt x="2779" y="273"/>
                      </a:lnTo>
                      <a:lnTo>
                        <a:pt x="2748" y="30"/>
                      </a:lnTo>
                      <a:lnTo>
                        <a:pt x="2717" y="0"/>
                      </a:lnTo>
                      <a:lnTo>
                        <a:pt x="2633" y="105"/>
                      </a:lnTo>
                      <a:lnTo>
                        <a:pt x="2452" y="251"/>
                      </a:lnTo>
                      <a:lnTo>
                        <a:pt x="2360" y="335"/>
                      </a:lnTo>
                      <a:lnTo>
                        <a:pt x="2135" y="590"/>
                      </a:lnTo>
                      <a:lnTo>
                        <a:pt x="1932" y="877"/>
                      </a:lnTo>
                      <a:lnTo>
                        <a:pt x="1628" y="1098"/>
                      </a:lnTo>
                      <a:lnTo>
                        <a:pt x="1394" y="1247"/>
                      </a:lnTo>
                      <a:lnTo>
                        <a:pt x="1164" y="1358"/>
                      </a:lnTo>
                      <a:lnTo>
                        <a:pt x="952" y="1512"/>
                      </a:lnTo>
                      <a:lnTo>
                        <a:pt x="745" y="1662"/>
                      </a:lnTo>
                      <a:lnTo>
                        <a:pt x="529" y="1874"/>
                      </a:lnTo>
                      <a:lnTo>
                        <a:pt x="396" y="1949"/>
                      </a:lnTo>
                      <a:lnTo>
                        <a:pt x="233" y="1913"/>
                      </a:lnTo>
                      <a:lnTo>
                        <a:pt x="66" y="187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474747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33840" y="2739960"/>
                  <a:ext cx="483120" cy="375120"/>
                </a:xfrm>
                <a:custGeom>
                  <a:avLst/>
                  <a:gdLst/>
                  <a:ahLst/>
                  <a:rect l="0" t="0" r="r" b="b"/>
                  <a:pathLst>
                    <a:path w="1342" h="1042">
                      <a:moveTo>
                        <a:pt x="0" y="945"/>
                      </a:moveTo>
                      <a:lnTo>
                        <a:pt x="229" y="763"/>
                      </a:lnTo>
                      <a:lnTo>
                        <a:pt x="530" y="512"/>
                      </a:lnTo>
                      <a:lnTo>
                        <a:pt x="728" y="393"/>
                      </a:lnTo>
                      <a:lnTo>
                        <a:pt x="971" y="211"/>
                      </a:lnTo>
                      <a:lnTo>
                        <a:pt x="1236" y="0"/>
                      </a:lnTo>
                      <a:lnTo>
                        <a:pt x="1342" y="0"/>
                      </a:lnTo>
                      <a:lnTo>
                        <a:pt x="1205" y="127"/>
                      </a:lnTo>
                      <a:lnTo>
                        <a:pt x="1060" y="265"/>
                      </a:lnTo>
                      <a:lnTo>
                        <a:pt x="918" y="393"/>
                      </a:lnTo>
                      <a:lnTo>
                        <a:pt x="781" y="499"/>
                      </a:lnTo>
                      <a:lnTo>
                        <a:pt x="591" y="618"/>
                      </a:lnTo>
                      <a:lnTo>
                        <a:pt x="389" y="741"/>
                      </a:lnTo>
                      <a:lnTo>
                        <a:pt x="264" y="839"/>
                      </a:lnTo>
                      <a:lnTo>
                        <a:pt x="17" y="1042"/>
                      </a:lnTo>
                      <a:lnTo>
                        <a:pt x="0" y="9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04800" y="1898640"/>
                  <a:ext cx="1945080" cy="1295640"/>
                </a:xfrm>
                <a:custGeom>
                  <a:avLst/>
                  <a:gdLst/>
                  <a:ahLst/>
                  <a:rect l="0" t="0" r="r" b="b"/>
                  <a:pathLst>
                    <a:path w="5403" h="3599">
                      <a:moveTo>
                        <a:pt x="30" y="0"/>
                      </a:moveTo>
                      <a:lnTo>
                        <a:pt x="1420" y="401"/>
                      </a:lnTo>
                      <a:lnTo>
                        <a:pt x="1566" y="295"/>
                      </a:lnTo>
                      <a:lnTo>
                        <a:pt x="3921" y="917"/>
                      </a:lnTo>
                      <a:lnTo>
                        <a:pt x="3784" y="1023"/>
                      </a:lnTo>
                      <a:lnTo>
                        <a:pt x="5403" y="1446"/>
                      </a:lnTo>
                      <a:lnTo>
                        <a:pt x="5289" y="1976"/>
                      </a:lnTo>
                      <a:lnTo>
                        <a:pt x="5245" y="2532"/>
                      </a:lnTo>
                      <a:lnTo>
                        <a:pt x="5245" y="3484"/>
                      </a:lnTo>
                      <a:lnTo>
                        <a:pt x="5245" y="3599"/>
                      </a:lnTo>
                      <a:lnTo>
                        <a:pt x="136" y="2108"/>
                      </a:lnTo>
                      <a:lnTo>
                        <a:pt x="0" y="1102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5b5b5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595600" y="2374920"/>
                  <a:ext cx="859320" cy="830520"/>
                </a:xfrm>
                <a:custGeom>
                  <a:avLst/>
                  <a:gdLst/>
                  <a:ahLst/>
                  <a:rect l="0" t="0" r="r" b="b"/>
                  <a:pathLst>
                    <a:path w="2387" h="2307">
                      <a:moveTo>
                        <a:pt x="22" y="2285"/>
                      </a:moveTo>
                      <a:lnTo>
                        <a:pt x="0" y="2086"/>
                      </a:lnTo>
                      <a:lnTo>
                        <a:pt x="30" y="1936"/>
                      </a:lnTo>
                      <a:lnTo>
                        <a:pt x="105" y="1791"/>
                      </a:lnTo>
                      <a:lnTo>
                        <a:pt x="383" y="1526"/>
                      </a:lnTo>
                      <a:lnTo>
                        <a:pt x="595" y="1315"/>
                      </a:lnTo>
                      <a:lnTo>
                        <a:pt x="807" y="1142"/>
                      </a:lnTo>
                      <a:lnTo>
                        <a:pt x="1019" y="1005"/>
                      </a:lnTo>
                      <a:lnTo>
                        <a:pt x="1266" y="855"/>
                      </a:lnTo>
                      <a:lnTo>
                        <a:pt x="1637" y="529"/>
                      </a:lnTo>
                      <a:lnTo>
                        <a:pt x="2387" y="0"/>
                      </a:lnTo>
                      <a:lnTo>
                        <a:pt x="2365" y="348"/>
                      </a:lnTo>
                      <a:lnTo>
                        <a:pt x="1623" y="1058"/>
                      </a:lnTo>
                      <a:lnTo>
                        <a:pt x="1306" y="1301"/>
                      </a:lnTo>
                      <a:lnTo>
                        <a:pt x="1072" y="1438"/>
                      </a:lnTo>
                      <a:lnTo>
                        <a:pt x="816" y="1610"/>
                      </a:lnTo>
                      <a:lnTo>
                        <a:pt x="542" y="1844"/>
                      </a:lnTo>
                      <a:lnTo>
                        <a:pt x="330" y="2033"/>
                      </a:lnTo>
                      <a:lnTo>
                        <a:pt x="92" y="2307"/>
                      </a:lnTo>
                      <a:lnTo>
                        <a:pt x="22" y="2285"/>
                      </a:lnTo>
                      <a:close/>
                    </a:path>
                  </a:pathLst>
                </a:cu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15960" y="2293920"/>
                  <a:ext cx="1881720" cy="903600"/>
                </a:xfrm>
                <a:custGeom>
                  <a:avLst/>
                  <a:gdLst/>
                  <a:ahLst/>
                  <a:rect l="0" t="0" r="r" b="b"/>
                  <a:pathLst>
                    <a:path w="5227" h="2510">
                      <a:moveTo>
                        <a:pt x="0" y="0"/>
                      </a:moveTo>
                      <a:lnTo>
                        <a:pt x="5227" y="1412"/>
                      </a:lnTo>
                      <a:lnTo>
                        <a:pt x="5227" y="2510"/>
                      </a:lnTo>
                      <a:lnTo>
                        <a:pt x="127" y="10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25400" y="1293840"/>
                  <a:ext cx="2688120" cy="1016280"/>
                </a:xfrm>
                <a:custGeom>
                  <a:avLst/>
                  <a:gdLst/>
                  <a:ahLst/>
                  <a:rect l="0" t="0" r="r" b="b"/>
                  <a:pathLst>
                    <a:path w="7467" h="2823">
                      <a:moveTo>
                        <a:pt x="471" y="1155"/>
                      </a:moveTo>
                      <a:lnTo>
                        <a:pt x="780" y="987"/>
                      </a:lnTo>
                      <a:lnTo>
                        <a:pt x="1045" y="859"/>
                      </a:lnTo>
                      <a:lnTo>
                        <a:pt x="1371" y="648"/>
                      </a:lnTo>
                      <a:lnTo>
                        <a:pt x="1605" y="511"/>
                      </a:lnTo>
                      <a:lnTo>
                        <a:pt x="1892" y="383"/>
                      </a:lnTo>
                      <a:lnTo>
                        <a:pt x="2179" y="224"/>
                      </a:lnTo>
                      <a:lnTo>
                        <a:pt x="2466" y="74"/>
                      </a:lnTo>
                      <a:lnTo>
                        <a:pt x="2655" y="0"/>
                      </a:lnTo>
                      <a:lnTo>
                        <a:pt x="7454" y="1027"/>
                      </a:lnTo>
                      <a:lnTo>
                        <a:pt x="7467" y="1071"/>
                      </a:lnTo>
                      <a:lnTo>
                        <a:pt x="7370" y="1146"/>
                      </a:lnTo>
                      <a:lnTo>
                        <a:pt x="7233" y="1270"/>
                      </a:lnTo>
                      <a:lnTo>
                        <a:pt x="7106" y="1456"/>
                      </a:lnTo>
                      <a:lnTo>
                        <a:pt x="6903" y="1729"/>
                      </a:lnTo>
                      <a:lnTo>
                        <a:pt x="6713" y="1923"/>
                      </a:lnTo>
                      <a:lnTo>
                        <a:pt x="6422" y="2104"/>
                      </a:lnTo>
                      <a:lnTo>
                        <a:pt x="6091" y="2294"/>
                      </a:lnTo>
                      <a:lnTo>
                        <a:pt x="5831" y="2457"/>
                      </a:lnTo>
                      <a:lnTo>
                        <a:pt x="5602" y="2620"/>
                      </a:lnTo>
                      <a:lnTo>
                        <a:pt x="5319" y="2823"/>
                      </a:lnTo>
                      <a:lnTo>
                        <a:pt x="0" y="1460"/>
                      </a:lnTo>
                      <a:lnTo>
                        <a:pt x="471" y="11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767"/>
                    </a:gs>
                    <a:gs pos="50000">
                      <a:srgbClr val="ffffff"/>
                    </a:gs>
                    <a:gs pos="100000">
                      <a:srgbClr val="676767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08080" y="1600200"/>
                  <a:ext cx="1922400" cy="45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07960" y="1434960"/>
                  <a:ext cx="1852920" cy="41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319040" y="1893960"/>
                  <a:ext cx="1087920" cy="329040"/>
                </a:xfrm>
                <a:custGeom>
                  <a:avLst/>
                  <a:gdLst/>
                  <a:ahLst/>
                  <a:rect l="0" t="0" r="r" b="b"/>
                  <a:pathLst>
                    <a:path w="3022" h="914">
                      <a:moveTo>
                        <a:pt x="0" y="234"/>
                      </a:moveTo>
                      <a:lnTo>
                        <a:pt x="423" y="0"/>
                      </a:lnTo>
                      <a:lnTo>
                        <a:pt x="3022" y="636"/>
                      </a:lnTo>
                      <a:lnTo>
                        <a:pt x="2696" y="914"/>
                      </a:lnTo>
                      <a:lnTo>
                        <a:pt x="0" y="234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319040" y="1978200"/>
                  <a:ext cx="970200" cy="287640"/>
                </a:xfrm>
                <a:custGeom>
                  <a:avLst/>
                  <a:gdLst/>
                  <a:ahLst/>
                  <a:rect l="0" t="0" r="r" b="b"/>
                  <a:pathLst>
                    <a:path w="2695" h="799">
                      <a:moveTo>
                        <a:pt x="0" y="0"/>
                      </a:moveTo>
                      <a:lnTo>
                        <a:pt x="8" y="127"/>
                      </a:lnTo>
                      <a:lnTo>
                        <a:pt x="2695" y="799"/>
                      </a:lnTo>
                      <a:lnTo>
                        <a:pt x="2682" y="6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2317680" y="1703520"/>
                  <a:ext cx="26352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2386080" y="1720800"/>
                  <a:ext cx="264960" cy="1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2465280" y="1741320"/>
                  <a:ext cx="265320" cy="17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49520" y="1757520"/>
                  <a:ext cx="26352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629080" y="1782720"/>
                  <a:ext cx="26352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2727360" y="1789200"/>
                  <a:ext cx="25092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>
                  <a:off x="2813040" y="1820880"/>
                  <a:ext cx="233280" cy="17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15960" y="1844640"/>
                  <a:ext cx="557640" cy="194040"/>
                </a:xfrm>
                <a:custGeom>
                  <a:avLst/>
                  <a:gdLst/>
                  <a:ahLst/>
                  <a:rect l="0" t="0" r="r" b="b"/>
                  <a:pathLst>
                    <a:path w="1549" h="539">
                      <a:moveTo>
                        <a:pt x="264" y="0"/>
                      </a:moveTo>
                      <a:lnTo>
                        <a:pt x="0" y="150"/>
                      </a:lnTo>
                      <a:lnTo>
                        <a:pt x="1355" y="539"/>
                      </a:lnTo>
                      <a:lnTo>
                        <a:pt x="1549" y="425"/>
                      </a:lnTo>
                      <a:lnTo>
                        <a:pt x="295" y="83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568600" y="2679840"/>
                  <a:ext cx="483120" cy="343440"/>
                </a:xfrm>
                <a:custGeom>
                  <a:avLst/>
                  <a:gdLst/>
                  <a:ahLst/>
                  <a:rect l="0" t="0" r="r" b="b"/>
                  <a:pathLst>
                    <a:path fill="none" w="1342" h="954">
                      <a:moveTo>
                        <a:pt x="1342" y="0"/>
                      </a:moveTo>
                      <a:lnTo>
                        <a:pt x="940" y="243"/>
                      </a:lnTo>
                      <a:lnTo>
                        <a:pt x="627" y="486"/>
                      </a:lnTo>
                      <a:lnTo>
                        <a:pt x="384" y="697"/>
                      </a:lnTo>
                      <a:lnTo>
                        <a:pt x="202" y="879"/>
                      </a:lnTo>
                      <a:lnTo>
                        <a:pt x="88" y="945"/>
                      </a:lnTo>
                      <a:lnTo>
                        <a:pt x="0" y="954"/>
                      </a:lnTo>
                    </a:path>
                  </a:pathLst>
                </a:custGeom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68480" y="2214720"/>
                  <a:ext cx="613080" cy="187560"/>
                </a:xfrm>
                <a:custGeom>
                  <a:avLst/>
                  <a:gdLst/>
                  <a:ahLst/>
                  <a:rect l="0" t="0" r="r" b="b"/>
                  <a:pathLst>
                    <a:path w="1703" h="521">
                      <a:moveTo>
                        <a:pt x="0" y="145"/>
                      </a:moveTo>
                      <a:lnTo>
                        <a:pt x="229" y="0"/>
                      </a:lnTo>
                      <a:lnTo>
                        <a:pt x="1703" y="362"/>
                      </a:lnTo>
                      <a:lnTo>
                        <a:pt x="1491" y="521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500200" y="1717560"/>
                  <a:ext cx="981360" cy="706680"/>
                </a:xfrm>
                <a:custGeom>
                  <a:avLst/>
                  <a:gdLst/>
                  <a:ahLst/>
                  <a:rect l="0" t="0" r="r" b="b"/>
                  <a:pathLst>
                    <a:path w="2726" h="1963">
                      <a:moveTo>
                        <a:pt x="0" y="1897"/>
                      </a:moveTo>
                      <a:lnTo>
                        <a:pt x="224" y="1751"/>
                      </a:lnTo>
                      <a:lnTo>
                        <a:pt x="317" y="1773"/>
                      </a:lnTo>
                      <a:lnTo>
                        <a:pt x="401" y="1764"/>
                      </a:lnTo>
                      <a:lnTo>
                        <a:pt x="582" y="1676"/>
                      </a:lnTo>
                      <a:lnTo>
                        <a:pt x="868" y="1473"/>
                      </a:lnTo>
                      <a:lnTo>
                        <a:pt x="1058" y="1350"/>
                      </a:lnTo>
                      <a:lnTo>
                        <a:pt x="1309" y="1200"/>
                      </a:lnTo>
                      <a:lnTo>
                        <a:pt x="1592" y="1032"/>
                      </a:lnTo>
                      <a:lnTo>
                        <a:pt x="1813" y="877"/>
                      </a:lnTo>
                      <a:lnTo>
                        <a:pt x="2016" y="687"/>
                      </a:lnTo>
                      <a:lnTo>
                        <a:pt x="2183" y="463"/>
                      </a:lnTo>
                      <a:lnTo>
                        <a:pt x="2249" y="348"/>
                      </a:lnTo>
                      <a:lnTo>
                        <a:pt x="2377" y="180"/>
                      </a:lnTo>
                      <a:lnTo>
                        <a:pt x="2576" y="0"/>
                      </a:lnTo>
                      <a:lnTo>
                        <a:pt x="2651" y="0"/>
                      </a:lnTo>
                      <a:lnTo>
                        <a:pt x="2726" y="22"/>
                      </a:lnTo>
                      <a:lnTo>
                        <a:pt x="2629" y="114"/>
                      </a:lnTo>
                      <a:lnTo>
                        <a:pt x="2430" y="273"/>
                      </a:lnTo>
                      <a:lnTo>
                        <a:pt x="2302" y="410"/>
                      </a:lnTo>
                      <a:lnTo>
                        <a:pt x="2205" y="568"/>
                      </a:lnTo>
                      <a:lnTo>
                        <a:pt x="2082" y="727"/>
                      </a:lnTo>
                      <a:lnTo>
                        <a:pt x="1932" y="877"/>
                      </a:lnTo>
                      <a:lnTo>
                        <a:pt x="1742" y="1032"/>
                      </a:lnTo>
                      <a:lnTo>
                        <a:pt x="1570" y="1147"/>
                      </a:lnTo>
                      <a:lnTo>
                        <a:pt x="1381" y="1262"/>
                      </a:lnTo>
                      <a:lnTo>
                        <a:pt x="1195" y="1350"/>
                      </a:lnTo>
                      <a:lnTo>
                        <a:pt x="996" y="1487"/>
                      </a:lnTo>
                      <a:lnTo>
                        <a:pt x="784" y="1667"/>
                      </a:lnTo>
                      <a:lnTo>
                        <a:pt x="626" y="1804"/>
                      </a:lnTo>
                      <a:lnTo>
                        <a:pt x="445" y="1932"/>
                      </a:lnTo>
                      <a:lnTo>
                        <a:pt x="361" y="1963"/>
                      </a:lnTo>
                      <a:lnTo>
                        <a:pt x="211" y="1941"/>
                      </a:lnTo>
                      <a:lnTo>
                        <a:pt x="0" y="1897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28600" y="2581200"/>
                  <a:ext cx="1181520" cy="568800"/>
                </a:xfrm>
                <a:custGeom>
                  <a:avLst/>
                  <a:gdLst/>
                  <a:ahLst/>
                  <a:rect l="0" t="0" r="r" b="b"/>
                  <a:pathLst>
                    <a:path w="3282" h="1580">
                      <a:moveTo>
                        <a:pt x="39" y="613"/>
                      </a:moveTo>
                      <a:lnTo>
                        <a:pt x="0" y="0"/>
                      </a:lnTo>
                      <a:lnTo>
                        <a:pt x="3282" y="922"/>
                      </a:lnTo>
                      <a:lnTo>
                        <a:pt x="3282" y="1580"/>
                      </a:lnTo>
                      <a:lnTo>
                        <a:pt x="39" y="613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74640" y="2664000"/>
                  <a:ext cx="510120" cy="190800"/>
                </a:xfrm>
                <a:custGeom>
                  <a:avLst/>
                  <a:gdLst/>
                  <a:ahLst/>
                  <a:rect l="0" t="0" r="r" b="b"/>
                  <a:pathLst>
                    <a:path w="1417" h="530">
                      <a:moveTo>
                        <a:pt x="1289" y="384"/>
                      </a:moveTo>
                      <a:lnTo>
                        <a:pt x="0" y="0"/>
                      </a:lnTo>
                      <a:lnTo>
                        <a:pt x="44" y="171"/>
                      </a:lnTo>
                      <a:lnTo>
                        <a:pt x="393" y="278"/>
                      </a:lnTo>
                      <a:lnTo>
                        <a:pt x="437" y="255"/>
                      </a:lnTo>
                      <a:lnTo>
                        <a:pt x="1333" y="530"/>
                      </a:lnTo>
                      <a:lnTo>
                        <a:pt x="1417" y="468"/>
                      </a:lnTo>
                      <a:lnTo>
                        <a:pt x="128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90640" y="2395440"/>
                  <a:ext cx="73080" cy="921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282760" y="2779560"/>
                  <a:ext cx="69840" cy="810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030400" y="2252520"/>
                  <a:ext cx="62280" cy="92520"/>
                </a:xfrm>
                <a:custGeom>
                  <a:avLst/>
                  <a:gdLst/>
                  <a:ahLst/>
                  <a:rect l="0" t="0" r="r" b="b"/>
                  <a:pathLst>
                    <a:path w="173" h="257">
                      <a:moveTo>
                        <a:pt x="0" y="231"/>
                      </a:moveTo>
                      <a:lnTo>
                        <a:pt x="0" y="61"/>
                      </a:lnTo>
                      <a:lnTo>
                        <a:pt x="111" y="0"/>
                      </a:lnTo>
                      <a:lnTo>
                        <a:pt x="173" y="22"/>
                      </a:lnTo>
                      <a:lnTo>
                        <a:pt x="89" y="93"/>
                      </a:lnTo>
                      <a:lnTo>
                        <a:pt x="98" y="257"/>
                      </a:lnTo>
                      <a:lnTo>
                        <a:pt x="0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092320" y="2265480"/>
                  <a:ext cx="60840" cy="92520"/>
                </a:xfrm>
                <a:custGeom>
                  <a:avLst/>
                  <a:gdLst/>
                  <a:ahLst/>
                  <a:rect l="0" t="0" r="r" b="b"/>
                  <a:pathLst>
                    <a:path w="169" h="257">
                      <a:moveTo>
                        <a:pt x="0" y="231"/>
                      </a:moveTo>
                      <a:lnTo>
                        <a:pt x="0" y="61"/>
                      </a:lnTo>
                      <a:lnTo>
                        <a:pt x="106" y="0"/>
                      </a:lnTo>
                      <a:lnTo>
                        <a:pt x="169" y="22"/>
                      </a:lnTo>
                      <a:lnTo>
                        <a:pt x="84" y="93"/>
                      </a:lnTo>
                      <a:lnTo>
                        <a:pt x="93" y="257"/>
                      </a:lnTo>
                      <a:lnTo>
                        <a:pt x="0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163600" y="2282760"/>
                  <a:ext cx="60840" cy="93960"/>
                </a:xfrm>
                <a:custGeom>
                  <a:avLst/>
                  <a:gdLst/>
                  <a:ahLst/>
                  <a:rect l="0" t="0" r="r" b="b"/>
                  <a:pathLst>
                    <a:path w="169" h="261">
                      <a:moveTo>
                        <a:pt x="0" y="234"/>
                      </a:moveTo>
                      <a:lnTo>
                        <a:pt x="0" y="61"/>
                      </a:lnTo>
                      <a:lnTo>
                        <a:pt x="106" y="0"/>
                      </a:lnTo>
                      <a:lnTo>
                        <a:pt x="169" y="22"/>
                      </a:lnTo>
                      <a:lnTo>
                        <a:pt x="84" y="92"/>
                      </a:lnTo>
                      <a:lnTo>
                        <a:pt x="93" y="261"/>
                      </a:lnTo>
                      <a:lnTo>
                        <a:pt x="0" y="2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386080" y="2004840"/>
                  <a:ext cx="497160" cy="270360"/>
                </a:xfrm>
                <a:custGeom>
                  <a:avLst/>
                  <a:gdLst/>
                  <a:ahLst/>
                  <a:rect l="0" t="0" r="r" b="b"/>
                  <a:pathLst>
                    <a:path w="1381" h="751">
                      <a:moveTo>
                        <a:pt x="763" y="0"/>
                      </a:moveTo>
                      <a:lnTo>
                        <a:pt x="1381" y="123"/>
                      </a:lnTo>
                      <a:lnTo>
                        <a:pt x="648" y="751"/>
                      </a:lnTo>
                      <a:lnTo>
                        <a:pt x="0" y="592"/>
                      </a:lnTo>
                      <a:lnTo>
                        <a:pt x="763" y="0"/>
                      </a:lnTo>
                      <a:close/>
                    </a:path>
                  </a:pathLst>
                </a:custGeom>
                <a:blipFill rotWithShape="0">
                  <a:blip r:embed="rId1"/>
                  <a:tile tx="0" ty="0" sx="133018" sy="133018" algn="ctr"/>
                </a:blip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68560" y="1638360"/>
                  <a:ext cx="362160" cy="168480"/>
                </a:xfrm>
                <a:custGeom>
                  <a:avLst/>
                  <a:gdLst/>
                  <a:ahLst/>
                  <a:rect l="0" t="0" r="r" b="b"/>
                  <a:pathLst>
                    <a:path w="1006" h="468">
                      <a:moveTo>
                        <a:pt x="405" y="0"/>
                      </a:moveTo>
                      <a:lnTo>
                        <a:pt x="1006" y="141"/>
                      </a:lnTo>
                      <a:lnTo>
                        <a:pt x="596" y="468"/>
                      </a:lnTo>
                      <a:lnTo>
                        <a:pt x="0" y="331"/>
                      </a:lnTo>
                      <a:lnTo>
                        <a:pt x="405" y="0"/>
                      </a:lnTo>
                      <a:close/>
                    </a:path>
                  </a:pathLst>
                </a:custGeom>
                <a:blipFill rotWithShape="0">
                  <a:blip r:embed="rId2"/>
                  <a:tile tx="0" ty="0" sx="133018" sy="133018" algn="ctr"/>
                </a:blip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1040" y="2935440"/>
                  <a:ext cx="120960" cy="141480"/>
                </a:xfrm>
                <a:custGeom>
                  <a:avLst/>
                  <a:gdLst/>
                  <a:ahLst/>
                  <a:rect l="0" t="0" r="r" b="b"/>
                  <a:pathLst>
                    <a:path w="336" h="393">
                      <a:moveTo>
                        <a:pt x="261" y="0"/>
                      </a:moveTo>
                      <a:lnTo>
                        <a:pt x="336" y="39"/>
                      </a:lnTo>
                      <a:lnTo>
                        <a:pt x="92" y="274"/>
                      </a:lnTo>
                      <a:lnTo>
                        <a:pt x="83" y="393"/>
                      </a:lnTo>
                      <a:lnTo>
                        <a:pt x="0" y="371"/>
                      </a:lnTo>
                      <a:lnTo>
                        <a:pt x="0" y="234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7b00e4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679840" y="2946240"/>
                  <a:ext cx="98640" cy="133560"/>
                </a:xfrm>
                <a:custGeom>
                  <a:avLst/>
                  <a:gdLst/>
                  <a:ahLst/>
                  <a:rect l="0" t="0" r="r" b="b"/>
                  <a:pathLst>
                    <a:path w="274" h="371">
                      <a:moveTo>
                        <a:pt x="0" y="221"/>
                      </a:moveTo>
                      <a:lnTo>
                        <a:pt x="0" y="371"/>
                      </a:lnTo>
                      <a:lnTo>
                        <a:pt x="159" y="287"/>
                      </a:lnTo>
                      <a:lnTo>
                        <a:pt x="274" y="158"/>
                      </a:lnTo>
                      <a:lnTo>
                        <a:pt x="274" y="0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b760f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119240" y="2013120"/>
                  <a:ext cx="889200" cy="251280"/>
                </a:xfrm>
                <a:custGeom>
                  <a:avLst/>
                  <a:gdLst/>
                  <a:ahLst/>
                  <a:rect l="0" t="0" r="r" b="b"/>
                  <a:pathLst>
                    <a:path w="2470" h="698">
                      <a:moveTo>
                        <a:pt x="114" y="0"/>
                      </a:moveTo>
                      <a:lnTo>
                        <a:pt x="0" y="92"/>
                      </a:lnTo>
                      <a:lnTo>
                        <a:pt x="2377" y="698"/>
                      </a:lnTo>
                      <a:lnTo>
                        <a:pt x="2470" y="614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8c8c8c"/>
                </a:solidFill>
                <a:ln w="12600">
                  <a:solidFill>
                    <a:srgbClr val="8c8c8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422520" y="1852560"/>
                  <a:ext cx="36720" cy="86040"/>
                </a:xfrm>
                <a:custGeom>
                  <a:avLst/>
                  <a:gdLst/>
                  <a:ahLst/>
                  <a:rect l="0" t="0" r="r" b="b"/>
                  <a:pathLst>
                    <a:path w="102" h="239">
                      <a:moveTo>
                        <a:pt x="0" y="39"/>
                      </a:moveTo>
                      <a:lnTo>
                        <a:pt x="0" y="239"/>
                      </a:lnTo>
                      <a:lnTo>
                        <a:pt x="102" y="186"/>
                      </a:lnTo>
                      <a:lnTo>
                        <a:pt x="102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080" y="2043000"/>
                  <a:ext cx="744840" cy="747000"/>
                  <a:chOff x="3043080" y="2043000"/>
                  <a:chExt cx="744840" cy="7470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080" y="2043000"/>
                    <a:ext cx="362160" cy="71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006" h="1990">
                        <a:moveTo>
                          <a:pt x="688" y="0"/>
                        </a:moveTo>
                        <a:lnTo>
                          <a:pt x="561" y="52"/>
                        </a:lnTo>
                        <a:lnTo>
                          <a:pt x="432" y="158"/>
                        </a:lnTo>
                        <a:lnTo>
                          <a:pt x="295" y="304"/>
                        </a:lnTo>
                        <a:lnTo>
                          <a:pt x="189" y="499"/>
                        </a:lnTo>
                        <a:lnTo>
                          <a:pt x="83" y="772"/>
                        </a:lnTo>
                        <a:lnTo>
                          <a:pt x="8" y="1103"/>
                        </a:lnTo>
                        <a:lnTo>
                          <a:pt x="0" y="1398"/>
                        </a:lnTo>
                        <a:lnTo>
                          <a:pt x="22" y="1655"/>
                        </a:lnTo>
                        <a:lnTo>
                          <a:pt x="83" y="1832"/>
                        </a:lnTo>
                        <a:lnTo>
                          <a:pt x="167" y="1920"/>
                        </a:lnTo>
                        <a:lnTo>
                          <a:pt x="370" y="1981"/>
                        </a:lnTo>
                        <a:lnTo>
                          <a:pt x="591" y="1990"/>
                        </a:lnTo>
                        <a:lnTo>
                          <a:pt x="485" y="1920"/>
                        </a:lnTo>
                        <a:lnTo>
                          <a:pt x="379" y="1708"/>
                        </a:lnTo>
                        <a:lnTo>
                          <a:pt x="348" y="1549"/>
                        </a:lnTo>
                        <a:lnTo>
                          <a:pt x="348" y="1332"/>
                        </a:lnTo>
                        <a:lnTo>
                          <a:pt x="361" y="1059"/>
                        </a:lnTo>
                        <a:lnTo>
                          <a:pt x="445" y="825"/>
                        </a:lnTo>
                        <a:lnTo>
                          <a:pt x="512" y="644"/>
                        </a:lnTo>
                        <a:lnTo>
                          <a:pt x="653" y="379"/>
                        </a:lnTo>
                        <a:lnTo>
                          <a:pt x="772" y="220"/>
                        </a:lnTo>
                        <a:lnTo>
                          <a:pt x="891" y="114"/>
                        </a:lnTo>
                        <a:lnTo>
                          <a:pt x="1006" y="61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162240" y="2066760"/>
                    <a:ext cx="292320" cy="692640"/>
                  </a:xfrm>
                  <a:custGeom>
                    <a:avLst/>
                    <a:gdLst/>
                    <a:ahLst/>
                    <a:rect l="0" t="0" r="r" b="b"/>
                    <a:pathLst>
                      <a:path w="812" h="1924">
                        <a:moveTo>
                          <a:pt x="812" y="101"/>
                        </a:moveTo>
                        <a:lnTo>
                          <a:pt x="759" y="48"/>
                        </a:lnTo>
                        <a:lnTo>
                          <a:pt x="675" y="0"/>
                        </a:lnTo>
                        <a:lnTo>
                          <a:pt x="543" y="57"/>
                        </a:lnTo>
                        <a:lnTo>
                          <a:pt x="424" y="176"/>
                        </a:lnTo>
                        <a:lnTo>
                          <a:pt x="317" y="308"/>
                        </a:lnTo>
                        <a:lnTo>
                          <a:pt x="211" y="490"/>
                        </a:lnTo>
                        <a:lnTo>
                          <a:pt x="110" y="719"/>
                        </a:lnTo>
                        <a:lnTo>
                          <a:pt x="52" y="900"/>
                        </a:lnTo>
                        <a:lnTo>
                          <a:pt x="8" y="1178"/>
                        </a:lnTo>
                        <a:lnTo>
                          <a:pt x="0" y="1390"/>
                        </a:lnTo>
                        <a:lnTo>
                          <a:pt x="44" y="1620"/>
                        </a:lnTo>
                        <a:lnTo>
                          <a:pt x="97" y="1809"/>
                        </a:lnTo>
                        <a:lnTo>
                          <a:pt x="194" y="1893"/>
                        </a:lnTo>
                        <a:lnTo>
                          <a:pt x="251" y="1924"/>
                        </a:lnTo>
                        <a:lnTo>
                          <a:pt x="374" y="1893"/>
                        </a:lnTo>
                        <a:lnTo>
                          <a:pt x="238" y="1757"/>
                        </a:lnTo>
                        <a:lnTo>
                          <a:pt x="163" y="1629"/>
                        </a:lnTo>
                        <a:lnTo>
                          <a:pt x="141" y="1438"/>
                        </a:lnTo>
                        <a:lnTo>
                          <a:pt x="127" y="1169"/>
                        </a:lnTo>
                        <a:lnTo>
                          <a:pt x="171" y="953"/>
                        </a:lnTo>
                        <a:lnTo>
                          <a:pt x="238" y="741"/>
                        </a:lnTo>
                        <a:lnTo>
                          <a:pt x="326" y="552"/>
                        </a:lnTo>
                        <a:lnTo>
                          <a:pt x="428" y="379"/>
                        </a:lnTo>
                        <a:lnTo>
                          <a:pt x="547" y="224"/>
                        </a:lnTo>
                        <a:lnTo>
                          <a:pt x="684" y="127"/>
                        </a:lnTo>
                        <a:lnTo>
                          <a:pt x="812" y="101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206880" y="2100240"/>
                    <a:ext cx="375120" cy="667080"/>
                  </a:xfrm>
                  <a:custGeom>
                    <a:avLst/>
                    <a:gdLst/>
                    <a:ahLst/>
                    <a:rect l="0" t="0" r="r" b="b"/>
                    <a:pathLst>
                      <a:path w="1042" h="1853">
                        <a:moveTo>
                          <a:pt x="684" y="0"/>
                        </a:moveTo>
                        <a:lnTo>
                          <a:pt x="1042" y="114"/>
                        </a:lnTo>
                        <a:lnTo>
                          <a:pt x="923" y="154"/>
                        </a:lnTo>
                        <a:lnTo>
                          <a:pt x="804" y="242"/>
                        </a:lnTo>
                        <a:lnTo>
                          <a:pt x="662" y="476"/>
                        </a:lnTo>
                        <a:lnTo>
                          <a:pt x="569" y="701"/>
                        </a:lnTo>
                        <a:lnTo>
                          <a:pt x="472" y="953"/>
                        </a:lnTo>
                        <a:lnTo>
                          <a:pt x="441" y="1204"/>
                        </a:lnTo>
                        <a:lnTo>
                          <a:pt x="433" y="1442"/>
                        </a:lnTo>
                        <a:lnTo>
                          <a:pt x="450" y="1641"/>
                        </a:lnTo>
                        <a:lnTo>
                          <a:pt x="512" y="1804"/>
                        </a:lnTo>
                        <a:lnTo>
                          <a:pt x="556" y="1853"/>
                        </a:lnTo>
                        <a:lnTo>
                          <a:pt x="176" y="1778"/>
                        </a:lnTo>
                        <a:lnTo>
                          <a:pt x="79" y="1632"/>
                        </a:lnTo>
                        <a:lnTo>
                          <a:pt x="26" y="1460"/>
                        </a:lnTo>
                        <a:lnTo>
                          <a:pt x="0" y="1275"/>
                        </a:lnTo>
                        <a:lnTo>
                          <a:pt x="4" y="1076"/>
                        </a:lnTo>
                        <a:lnTo>
                          <a:pt x="44" y="873"/>
                        </a:lnTo>
                        <a:lnTo>
                          <a:pt x="105" y="657"/>
                        </a:lnTo>
                        <a:lnTo>
                          <a:pt x="198" y="445"/>
                        </a:lnTo>
                        <a:lnTo>
                          <a:pt x="331" y="233"/>
                        </a:lnTo>
                        <a:lnTo>
                          <a:pt x="459" y="92"/>
                        </a:lnTo>
                        <a:lnTo>
                          <a:pt x="569" y="30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363840" y="2135160"/>
                    <a:ext cx="240120" cy="632160"/>
                  </a:xfrm>
                  <a:custGeom>
                    <a:avLst/>
                    <a:gdLst/>
                    <a:ahLst/>
                    <a:rect l="0" t="0" r="r" b="b"/>
                    <a:pathLst>
                      <a:path w="667" h="1756">
                        <a:moveTo>
                          <a:pt x="663" y="61"/>
                        </a:moveTo>
                        <a:lnTo>
                          <a:pt x="570" y="0"/>
                        </a:lnTo>
                        <a:lnTo>
                          <a:pt x="566" y="26"/>
                        </a:lnTo>
                        <a:lnTo>
                          <a:pt x="526" y="13"/>
                        </a:lnTo>
                        <a:lnTo>
                          <a:pt x="450" y="66"/>
                        </a:lnTo>
                        <a:lnTo>
                          <a:pt x="349" y="149"/>
                        </a:lnTo>
                        <a:lnTo>
                          <a:pt x="252" y="321"/>
                        </a:lnTo>
                        <a:lnTo>
                          <a:pt x="172" y="476"/>
                        </a:lnTo>
                        <a:lnTo>
                          <a:pt x="92" y="727"/>
                        </a:lnTo>
                        <a:lnTo>
                          <a:pt x="30" y="975"/>
                        </a:lnTo>
                        <a:lnTo>
                          <a:pt x="0" y="1226"/>
                        </a:lnTo>
                        <a:lnTo>
                          <a:pt x="0" y="1416"/>
                        </a:lnTo>
                        <a:lnTo>
                          <a:pt x="8" y="1566"/>
                        </a:lnTo>
                        <a:lnTo>
                          <a:pt x="52" y="1681"/>
                        </a:lnTo>
                        <a:lnTo>
                          <a:pt x="114" y="1756"/>
                        </a:lnTo>
                        <a:lnTo>
                          <a:pt x="212" y="1734"/>
                        </a:lnTo>
                        <a:lnTo>
                          <a:pt x="243" y="1672"/>
                        </a:lnTo>
                        <a:lnTo>
                          <a:pt x="145" y="1619"/>
                        </a:lnTo>
                        <a:lnTo>
                          <a:pt x="101" y="1469"/>
                        </a:lnTo>
                        <a:lnTo>
                          <a:pt x="83" y="1187"/>
                        </a:lnTo>
                        <a:lnTo>
                          <a:pt x="123" y="931"/>
                        </a:lnTo>
                        <a:lnTo>
                          <a:pt x="177" y="714"/>
                        </a:lnTo>
                        <a:lnTo>
                          <a:pt x="243" y="546"/>
                        </a:lnTo>
                        <a:lnTo>
                          <a:pt x="327" y="352"/>
                        </a:lnTo>
                        <a:lnTo>
                          <a:pt x="419" y="189"/>
                        </a:lnTo>
                        <a:lnTo>
                          <a:pt x="557" y="92"/>
                        </a:lnTo>
                        <a:lnTo>
                          <a:pt x="667" y="105"/>
                        </a:lnTo>
                        <a:lnTo>
                          <a:pt x="663" y="61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394080" y="2168640"/>
                    <a:ext cx="34344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954" h="1716">
                        <a:moveTo>
                          <a:pt x="512" y="0"/>
                        </a:moveTo>
                        <a:lnTo>
                          <a:pt x="954" y="127"/>
                        </a:lnTo>
                        <a:lnTo>
                          <a:pt x="756" y="268"/>
                        </a:lnTo>
                        <a:lnTo>
                          <a:pt x="644" y="515"/>
                        </a:lnTo>
                        <a:lnTo>
                          <a:pt x="556" y="784"/>
                        </a:lnTo>
                        <a:lnTo>
                          <a:pt x="503" y="1068"/>
                        </a:lnTo>
                        <a:lnTo>
                          <a:pt x="455" y="1345"/>
                        </a:lnTo>
                        <a:lnTo>
                          <a:pt x="481" y="1575"/>
                        </a:lnTo>
                        <a:lnTo>
                          <a:pt x="556" y="1716"/>
                        </a:lnTo>
                        <a:lnTo>
                          <a:pt x="83" y="1570"/>
                        </a:lnTo>
                        <a:lnTo>
                          <a:pt x="30" y="1473"/>
                        </a:lnTo>
                        <a:lnTo>
                          <a:pt x="4" y="1319"/>
                        </a:lnTo>
                        <a:lnTo>
                          <a:pt x="0" y="1147"/>
                        </a:lnTo>
                        <a:lnTo>
                          <a:pt x="13" y="975"/>
                        </a:lnTo>
                        <a:lnTo>
                          <a:pt x="61" y="780"/>
                        </a:lnTo>
                        <a:lnTo>
                          <a:pt x="114" y="595"/>
                        </a:lnTo>
                        <a:lnTo>
                          <a:pt x="211" y="339"/>
                        </a:lnTo>
                        <a:lnTo>
                          <a:pt x="318" y="167"/>
                        </a:lnTo>
                        <a:lnTo>
                          <a:pt x="406" y="48"/>
                        </a:lnTo>
                        <a:lnTo>
                          <a:pt x="512" y="0"/>
                        </a:lnTo>
                        <a:close/>
                      </a:path>
                    </a:pathLst>
                  </a:custGeom>
                  <a:solidFill>
                    <a:srgbClr val="797979"/>
                  </a:solidFill>
                  <a:ln w="12600">
                    <a:solidFill>
                      <a:srgbClr val="797979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3552840" y="2209320"/>
                    <a:ext cx="235080" cy="580680"/>
                  </a:xfrm>
                  <a:custGeom>
                    <a:avLst/>
                    <a:gdLst/>
                    <a:ahLst/>
                    <a:rect l="0" t="0" r="r" b="b"/>
                    <a:pathLst>
                      <a:path w="653" h="1613">
                        <a:moveTo>
                          <a:pt x="69" y="742"/>
                        </a:moveTo>
                        <a:lnTo>
                          <a:pt x="69" y="742"/>
                        </a:lnTo>
                        <a:lnTo>
                          <a:pt x="69" y="742"/>
                        </a:lnTo>
                        <a:cubicBezTo>
                          <a:pt x="34" y="883"/>
                          <a:pt x="11" y="1025"/>
                          <a:pt x="3" y="1152"/>
                        </a:cubicBezTo>
                        <a:cubicBezTo>
                          <a:pt x="-5" y="1280"/>
                          <a:pt x="3" y="1390"/>
                          <a:pt x="24" y="1470"/>
                        </a:cubicBezTo>
                        <a:cubicBezTo>
                          <a:pt x="46" y="1550"/>
                          <a:pt x="81" y="1598"/>
                          <a:pt x="126" y="1610"/>
                        </a:cubicBezTo>
                        <a:cubicBezTo>
                          <a:pt x="171" y="1621"/>
                          <a:pt x="225" y="1595"/>
                          <a:pt x="281" y="1534"/>
                        </a:cubicBezTo>
                        <a:cubicBezTo>
                          <a:pt x="338" y="1473"/>
                          <a:pt x="396" y="1380"/>
                          <a:pt x="449" y="1263"/>
                        </a:cubicBezTo>
                        <a:cubicBezTo>
                          <a:pt x="502" y="1147"/>
                          <a:pt x="549" y="1011"/>
                          <a:pt x="584" y="870"/>
                        </a:cubicBezTo>
                        <a:lnTo>
                          <a:pt x="584" y="870"/>
                        </a:lnTo>
                        <a:lnTo>
                          <a:pt x="584" y="870"/>
                        </a:lnTo>
                        <a:cubicBezTo>
                          <a:pt x="619" y="729"/>
                          <a:pt x="642" y="587"/>
                          <a:pt x="650" y="460"/>
                        </a:cubicBezTo>
                        <a:cubicBezTo>
                          <a:pt x="658" y="332"/>
                          <a:pt x="650" y="222"/>
                          <a:pt x="629" y="142"/>
                        </a:cubicBezTo>
                        <a:cubicBezTo>
                          <a:pt x="607" y="62"/>
                          <a:pt x="572" y="14"/>
                          <a:pt x="527" y="2"/>
                        </a:cubicBezTo>
                        <a:cubicBezTo>
                          <a:pt x="482" y="-9"/>
                          <a:pt x="428" y="17"/>
                          <a:pt x="372" y="78"/>
                        </a:cubicBezTo>
                        <a:cubicBezTo>
                          <a:pt x="315" y="139"/>
                          <a:pt x="257" y="232"/>
                          <a:pt x="204" y="349"/>
                        </a:cubicBezTo>
                        <a:cubicBezTo>
                          <a:pt x="151" y="465"/>
                          <a:pt x="104" y="601"/>
                          <a:pt x="69" y="742"/>
                        </a:cubicBez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581280" y="2286720"/>
                    <a:ext cx="163800" cy="4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455" h="1183">
                        <a:moveTo>
                          <a:pt x="54" y="548"/>
                        </a:moveTo>
                        <a:lnTo>
                          <a:pt x="54" y="548"/>
                        </a:lnTo>
                        <a:cubicBezTo>
                          <a:pt x="28" y="651"/>
                          <a:pt x="11" y="755"/>
                          <a:pt x="4" y="849"/>
                        </a:cubicBezTo>
                        <a:cubicBezTo>
                          <a:pt x="-3" y="942"/>
                          <a:pt x="0" y="1022"/>
                          <a:pt x="13" y="1080"/>
                        </a:cubicBezTo>
                        <a:cubicBezTo>
                          <a:pt x="27" y="1139"/>
                          <a:pt x="50" y="1173"/>
                          <a:pt x="81" y="1181"/>
                        </a:cubicBezTo>
                        <a:cubicBezTo>
                          <a:pt x="111" y="1188"/>
                          <a:pt x="148" y="1169"/>
                          <a:pt x="187" y="1123"/>
                        </a:cubicBezTo>
                        <a:cubicBezTo>
                          <a:pt x="227" y="1078"/>
                          <a:pt x="267" y="1009"/>
                          <a:pt x="305" y="923"/>
                        </a:cubicBezTo>
                        <a:cubicBezTo>
                          <a:pt x="342" y="837"/>
                          <a:pt x="376" y="738"/>
                          <a:pt x="402" y="634"/>
                        </a:cubicBezTo>
                        <a:lnTo>
                          <a:pt x="402" y="634"/>
                        </a:lnTo>
                        <a:lnTo>
                          <a:pt x="402" y="634"/>
                        </a:lnTo>
                        <a:cubicBezTo>
                          <a:pt x="428" y="531"/>
                          <a:pt x="445" y="427"/>
                          <a:pt x="452" y="333"/>
                        </a:cubicBezTo>
                        <a:cubicBezTo>
                          <a:pt x="459" y="240"/>
                          <a:pt x="456" y="160"/>
                          <a:pt x="443" y="102"/>
                        </a:cubicBezTo>
                        <a:cubicBezTo>
                          <a:pt x="429" y="43"/>
                          <a:pt x="406" y="9"/>
                          <a:pt x="375" y="1"/>
                        </a:cubicBezTo>
                        <a:cubicBezTo>
                          <a:pt x="345" y="-6"/>
                          <a:pt x="308" y="13"/>
                          <a:pt x="269" y="59"/>
                        </a:cubicBezTo>
                        <a:cubicBezTo>
                          <a:pt x="229" y="104"/>
                          <a:pt x="189" y="173"/>
                          <a:pt x="151" y="259"/>
                        </a:cubicBezTo>
                        <a:cubicBezTo>
                          <a:pt x="114" y="345"/>
                          <a:pt x="80" y="444"/>
                          <a:pt x="54" y="54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607200" y="2351520"/>
                    <a:ext cx="85680" cy="271080"/>
                  </a:xfrm>
                  <a:custGeom>
                    <a:avLst/>
                    <a:gdLst/>
                    <a:ahLst/>
                    <a:rect l="0" t="0" r="r" b="b"/>
                    <a:pathLst>
                      <a:path w="238" h="753">
                        <a:moveTo>
                          <a:pt x="46" y="358"/>
                        </a:moveTo>
                        <a:lnTo>
                          <a:pt x="46" y="358"/>
                        </a:lnTo>
                        <a:cubicBezTo>
                          <a:pt x="30" y="424"/>
                          <a:pt x="17" y="490"/>
                          <a:pt x="9" y="548"/>
                        </a:cubicBezTo>
                        <a:cubicBezTo>
                          <a:pt x="1" y="607"/>
                          <a:pt x="-2" y="657"/>
                          <a:pt x="1" y="693"/>
                        </a:cubicBezTo>
                        <a:cubicBezTo>
                          <a:pt x="4" y="728"/>
                          <a:pt x="12" y="749"/>
                          <a:pt x="25" y="752"/>
                        </a:cubicBezTo>
                        <a:cubicBezTo>
                          <a:pt x="38" y="755"/>
                          <a:pt x="55" y="741"/>
                          <a:pt x="74" y="711"/>
                        </a:cubicBezTo>
                        <a:cubicBezTo>
                          <a:pt x="93" y="681"/>
                          <a:pt x="114" y="635"/>
                          <a:pt x="135" y="580"/>
                        </a:cubicBezTo>
                        <a:cubicBezTo>
                          <a:pt x="156" y="524"/>
                          <a:pt x="175" y="460"/>
                          <a:pt x="192" y="394"/>
                        </a:cubicBezTo>
                        <a:lnTo>
                          <a:pt x="192" y="394"/>
                        </a:lnTo>
                        <a:lnTo>
                          <a:pt x="192" y="394"/>
                        </a:lnTo>
                        <a:cubicBezTo>
                          <a:pt x="208" y="328"/>
                          <a:pt x="221" y="262"/>
                          <a:pt x="229" y="204"/>
                        </a:cubicBezTo>
                        <a:cubicBezTo>
                          <a:pt x="237" y="145"/>
                          <a:pt x="240" y="95"/>
                          <a:pt x="237" y="59"/>
                        </a:cubicBezTo>
                        <a:cubicBezTo>
                          <a:pt x="234" y="24"/>
                          <a:pt x="226" y="3"/>
                          <a:pt x="213" y="0"/>
                        </a:cubicBezTo>
                        <a:cubicBezTo>
                          <a:pt x="200" y="-3"/>
                          <a:pt x="183" y="11"/>
                          <a:pt x="164" y="41"/>
                        </a:cubicBezTo>
                        <a:cubicBezTo>
                          <a:pt x="145" y="71"/>
                          <a:pt x="124" y="117"/>
                          <a:pt x="103" y="172"/>
                        </a:cubicBezTo>
                        <a:cubicBezTo>
                          <a:pt x="82" y="228"/>
                          <a:pt x="63" y="292"/>
                          <a:pt x="46" y="358"/>
                        </a:cubicBez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" name=""/>
                <p:cNvSpPr/>
                <p:nvPr/>
              </p:nvSpPr>
              <p:spPr>
                <a:xfrm>
                  <a:off x="2314440" y="3129120"/>
                  <a:ext cx="163800" cy="86040"/>
                </a:xfrm>
                <a:custGeom>
                  <a:avLst/>
                  <a:gdLst/>
                  <a:ahLst/>
                  <a:rect l="0" t="0" r="r" b="b"/>
                  <a:pathLst>
                    <a:path w="455" h="239">
                      <a:moveTo>
                        <a:pt x="8" y="0"/>
                      </a:moveTo>
                      <a:lnTo>
                        <a:pt x="455" y="133"/>
                      </a:lnTo>
                      <a:lnTo>
                        <a:pt x="433" y="239"/>
                      </a:lnTo>
                      <a:lnTo>
                        <a:pt x="0" y="10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128600" y="2055960"/>
                  <a:ext cx="838440" cy="711720"/>
                </a:xfrm>
                <a:custGeom>
                  <a:avLst/>
                  <a:gdLst/>
                  <a:ahLst/>
                  <a:rect l="0" t="0" r="r" b="b"/>
                  <a:pathLst>
                    <a:path w="2329" h="1977">
                      <a:moveTo>
                        <a:pt x="0" y="0"/>
                      </a:moveTo>
                      <a:lnTo>
                        <a:pt x="0" y="1297"/>
                      </a:lnTo>
                      <a:lnTo>
                        <a:pt x="348" y="1372"/>
                      </a:lnTo>
                      <a:lnTo>
                        <a:pt x="348" y="574"/>
                      </a:lnTo>
                      <a:lnTo>
                        <a:pt x="1967" y="1002"/>
                      </a:lnTo>
                      <a:lnTo>
                        <a:pt x="1967" y="1893"/>
                      </a:lnTo>
                      <a:lnTo>
                        <a:pt x="2329" y="1977"/>
                      </a:lnTo>
                      <a:lnTo>
                        <a:pt x="2329" y="5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120680" y="2003400"/>
                  <a:ext cx="892440" cy="760680"/>
                </a:xfrm>
                <a:custGeom>
                  <a:avLst/>
                  <a:gdLst/>
                  <a:ahLst/>
                  <a:rect l="0" t="0" r="r" b="b"/>
                  <a:pathLst>
                    <a:path fill="none" w="2479" h="2113">
                      <a:moveTo>
                        <a:pt x="154" y="0"/>
                      </a:moveTo>
                      <a:lnTo>
                        <a:pt x="0" y="119"/>
                      </a:lnTo>
                      <a:lnTo>
                        <a:pt x="4" y="1447"/>
                      </a:lnTo>
                      <a:lnTo>
                        <a:pt x="357" y="1531"/>
                      </a:lnTo>
                      <a:lnTo>
                        <a:pt x="357" y="723"/>
                      </a:lnTo>
                      <a:lnTo>
                        <a:pt x="1989" y="1160"/>
                      </a:lnTo>
                      <a:lnTo>
                        <a:pt x="1989" y="2016"/>
                      </a:lnTo>
                      <a:lnTo>
                        <a:pt x="2338" y="2113"/>
                      </a:lnTo>
                      <a:lnTo>
                        <a:pt x="2338" y="732"/>
                      </a:lnTo>
                      <a:lnTo>
                        <a:pt x="2479" y="61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87680" y="2168640"/>
                <a:ext cx="581040" cy="55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2" name=""/>
            <p:cNvGrpSpPr/>
            <p:nvPr/>
          </p:nvGrpSpPr>
          <p:grpSpPr>
            <a:xfrm>
              <a:off x="1011240" y="2589120"/>
              <a:ext cx="1283040" cy="686520"/>
              <a:chOff x="1011240" y="2589120"/>
              <a:chExt cx="1283040" cy="686520"/>
            </a:xfrm>
          </p:grpSpPr>
          <p:sp>
            <p:nvSpPr>
              <p:cNvPr id="183" name=""/>
              <p:cNvSpPr/>
              <p:nvPr/>
            </p:nvSpPr>
            <p:spPr>
              <a:xfrm>
                <a:off x="1125360" y="2589120"/>
                <a:ext cx="1161000" cy="567000"/>
              </a:xfrm>
              <a:custGeom>
                <a:avLst/>
                <a:gdLst/>
                <a:ahLst/>
                <a:rect l="0" t="0" r="r" b="b"/>
                <a:pathLst>
                  <a:path w="3225" h="1575">
                    <a:moveTo>
                      <a:pt x="39" y="612"/>
                    </a:moveTo>
                    <a:lnTo>
                      <a:pt x="0" y="0"/>
                    </a:lnTo>
                    <a:lnTo>
                      <a:pt x="3225" y="918"/>
                    </a:lnTo>
                    <a:lnTo>
                      <a:pt x="3225" y="1575"/>
                    </a:lnTo>
                    <a:lnTo>
                      <a:pt x="39" y="612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60640" y="2600280"/>
                <a:ext cx="1095840" cy="459000"/>
              </a:xfrm>
              <a:custGeom>
                <a:avLst/>
                <a:gdLst/>
                <a:ahLst/>
                <a:rect l="0" t="0" r="r" b="b"/>
                <a:pathLst>
                  <a:path w="3044" h="1275">
                    <a:moveTo>
                      <a:pt x="0" y="0"/>
                    </a:moveTo>
                    <a:lnTo>
                      <a:pt x="0" y="357"/>
                    </a:lnTo>
                    <a:lnTo>
                      <a:pt x="3040" y="1275"/>
                    </a:lnTo>
                    <a:lnTo>
                      <a:pt x="3044" y="8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3520" y="2724120"/>
                <a:ext cx="1130760" cy="383040"/>
              </a:xfrm>
              <a:custGeom>
                <a:avLst/>
                <a:gdLst/>
                <a:ahLst/>
                <a:rect l="0" t="0" r="r" b="b"/>
                <a:pathLst>
                  <a:path w="3141" h="1064">
                    <a:moveTo>
                      <a:pt x="0" y="0"/>
                    </a:moveTo>
                    <a:lnTo>
                      <a:pt x="0" y="119"/>
                    </a:lnTo>
                    <a:lnTo>
                      <a:pt x="3071" y="1064"/>
                    </a:lnTo>
                    <a:lnTo>
                      <a:pt x="3141" y="9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11240" y="2724120"/>
                <a:ext cx="152640" cy="140040"/>
              </a:xfrm>
              <a:custGeom>
                <a:avLst/>
                <a:gdLst/>
                <a:ahLst/>
                <a:rect l="0" t="0" r="r" b="b"/>
                <a:pathLst>
                  <a:path w="424" h="389">
                    <a:moveTo>
                      <a:pt x="424" y="0"/>
                    </a:moveTo>
                    <a:lnTo>
                      <a:pt x="424" y="127"/>
                    </a:lnTo>
                    <a:lnTo>
                      <a:pt x="4" y="389"/>
                    </a:lnTo>
                    <a:lnTo>
                      <a:pt x="0" y="331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15920" y="2770200"/>
                <a:ext cx="1260720" cy="473400"/>
              </a:xfrm>
              <a:custGeom>
                <a:avLst/>
                <a:gdLst/>
                <a:ahLst/>
                <a:rect l="0" t="0" r="r" b="b"/>
                <a:pathLst>
                  <a:path w="3502" h="1315">
                    <a:moveTo>
                      <a:pt x="0" y="268"/>
                    </a:moveTo>
                    <a:lnTo>
                      <a:pt x="423" y="0"/>
                    </a:lnTo>
                    <a:lnTo>
                      <a:pt x="3502" y="931"/>
                    </a:lnTo>
                    <a:lnTo>
                      <a:pt x="3198" y="1315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11240" y="2862360"/>
                <a:ext cx="1155960" cy="413280"/>
              </a:xfrm>
              <a:custGeom>
                <a:avLst/>
                <a:gdLst/>
                <a:ahLst/>
                <a:rect l="0" t="0" r="r" b="b"/>
                <a:pathLst>
                  <a:path w="3211" h="1148">
                    <a:moveTo>
                      <a:pt x="0" y="0"/>
                    </a:moveTo>
                    <a:lnTo>
                      <a:pt x="0" y="101"/>
                    </a:lnTo>
                    <a:lnTo>
                      <a:pt x="3211" y="1148"/>
                    </a:lnTo>
                    <a:lnTo>
                      <a:pt x="3202" y="10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165400" y="3071880"/>
                <a:ext cx="119520" cy="203400"/>
              </a:xfrm>
              <a:custGeom>
                <a:avLst/>
                <a:gdLst/>
                <a:ahLst/>
                <a:rect l="0" t="0" r="r" b="b"/>
                <a:pathLst>
                  <a:path w="332" h="565">
                    <a:moveTo>
                      <a:pt x="332" y="0"/>
                    </a:moveTo>
                    <a:lnTo>
                      <a:pt x="332" y="202"/>
                    </a:lnTo>
                    <a:lnTo>
                      <a:pt x="4" y="565"/>
                    </a:lnTo>
                    <a:lnTo>
                      <a:pt x="0" y="4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25360" y="2590920"/>
                <a:ext cx="38520" cy="159120"/>
              </a:xfrm>
              <a:custGeom>
                <a:avLst/>
                <a:gdLst/>
                <a:ahLst/>
                <a:rect l="0" t="0" r="r" b="b"/>
                <a:pathLst>
                  <a:path w="107" h="442">
                    <a:moveTo>
                      <a:pt x="0" y="0"/>
                    </a:moveTo>
                    <a:lnTo>
                      <a:pt x="107" y="26"/>
                    </a:lnTo>
                    <a:lnTo>
                      <a:pt x="107" y="363"/>
                    </a:lnTo>
                    <a:lnTo>
                      <a:pt x="13" y="4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136600" y="2935440"/>
                <a:ext cx="44280" cy="50760"/>
              </a:xfrm>
              <a:prstGeom prst="ellipse">
                <a:avLst/>
              </a:pr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63800" y="2887560"/>
                <a:ext cx="47520" cy="52560"/>
              </a:xfrm>
              <a:prstGeom prst="ellipse">
                <a:avLst/>
              </a:pr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1444680" y="2739960"/>
                <a:ext cx="68400" cy="60480"/>
                <a:chOff x="1444680" y="2739960"/>
                <a:chExt cx="68400" cy="604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459080" y="2739960"/>
                  <a:ext cx="54000" cy="475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444680" y="2749680"/>
                  <a:ext cx="47520" cy="5076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1519200" y="2762280"/>
                <a:ext cx="66600" cy="60480"/>
                <a:chOff x="1519200" y="2762280"/>
                <a:chExt cx="66600" cy="60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531800" y="2762280"/>
                  <a:ext cx="54000" cy="475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519200" y="2773440"/>
                  <a:ext cx="44280" cy="4932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693800" y="2817720"/>
                <a:ext cx="70200" cy="60480"/>
                <a:chOff x="1693800" y="2817720"/>
                <a:chExt cx="70200" cy="60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711440" y="2817720"/>
                  <a:ext cx="52560" cy="493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693800" y="2828880"/>
                  <a:ext cx="49320" cy="4932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781280" y="2847960"/>
                <a:ext cx="65160" cy="60480"/>
                <a:chOff x="1781280" y="2847960"/>
                <a:chExt cx="65160" cy="60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93880" y="2847960"/>
                  <a:ext cx="52560" cy="493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781280" y="2857680"/>
                  <a:ext cx="46080" cy="5076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1862280" y="2868480"/>
                <a:ext cx="68040" cy="62280"/>
                <a:chOff x="1862280" y="2868480"/>
                <a:chExt cx="68040" cy="62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879560" y="2868480"/>
                  <a:ext cx="50760" cy="493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862280" y="2878200"/>
                  <a:ext cx="47520" cy="5256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033640" y="2887560"/>
                <a:ext cx="87480" cy="8424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611360" y="2768760"/>
                <a:ext cx="85680" cy="8100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98520" y="2955960"/>
                <a:ext cx="49320" cy="52560"/>
              </a:xfrm>
              <a:prstGeom prst="ellipse">
                <a:avLst/>
              </a:pr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197000" y="2666880"/>
                <a:ext cx="41400" cy="47520"/>
                <a:chOff x="1197000" y="2666880"/>
                <a:chExt cx="41400" cy="4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208160" y="2666880"/>
                  <a:ext cx="30240" cy="3960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197000" y="2674800"/>
                  <a:ext cx="28440" cy="3960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1273320" y="2670120"/>
                <a:ext cx="125640" cy="86040"/>
              </a:xfrm>
              <a:custGeom>
                <a:avLst/>
                <a:gdLst/>
                <a:ahLst/>
                <a:rect l="0" t="0" r="r" b="b"/>
                <a:pathLst>
                  <a:path w="349" h="239">
                    <a:moveTo>
                      <a:pt x="0" y="0"/>
                    </a:moveTo>
                    <a:lnTo>
                      <a:pt x="0" y="133"/>
                    </a:lnTo>
                    <a:lnTo>
                      <a:pt x="344" y="239"/>
                    </a:lnTo>
                    <a:lnTo>
                      <a:pt x="349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46320" y="2679840"/>
                <a:ext cx="127440" cy="86040"/>
              </a:xfrm>
              <a:custGeom>
                <a:avLst/>
                <a:gdLst/>
                <a:ahLst/>
                <a:rect l="0" t="0" r="r" b="b"/>
                <a:pathLst>
                  <a:path w="354" h="239">
                    <a:moveTo>
                      <a:pt x="0" y="0"/>
                    </a:moveTo>
                    <a:lnTo>
                      <a:pt x="0" y="133"/>
                    </a:lnTo>
                    <a:lnTo>
                      <a:pt x="350" y="239"/>
                    </a:lnTo>
                    <a:lnTo>
                      <a:pt x="354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1395360" y="2727360"/>
                <a:ext cx="41400" cy="47880"/>
                <a:chOff x="1395360" y="2727360"/>
                <a:chExt cx="41400" cy="47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405080" y="2727360"/>
                  <a:ext cx="31680" cy="3960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395360" y="2733840"/>
                  <a:ext cx="28440" cy="4140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9" name=""/>
          <p:cNvSpPr/>
          <p:nvPr/>
        </p:nvSpPr>
        <p:spPr>
          <a:xfrm>
            <a:off x="635040" y="2730600"/>
            <a:ext cx="661320" cy="1946520"/>
          </a:xfrm>
          <a:custGeom>
            <a:avLst/>
            <a:gdLst/>
            <a:ahLst/>
            <a:rect l="0" t="0" r="r" b="b"/>
            <a:pathLst>
              <a:path fill="none" w="1837" h="5407">
                <a:moveTo>
                  <a:pt x="1837" y="0"/>
                </a:moveTo>
                <a:lnTo>
                  <a:pt x="1837" y="0"/>
                </a:lnTo>
                <a:cubicBezTo>
                  <a:pt x="1836" y="0"/>
                  <a:pt x="1836" y="0"/>
                  <a:pt x="1835" y="0"/>
                </a:cubicBezTo>
                <a:cubicBezTo>
                  <a:pt x="1513" y="0"/>
                  <a:pt x="1197" y="129"/>
                  <a:pt x="918" y="373"/>
                </a:cubicBezTo>
                <a:cubicBezTo>
                  <a:pt x="639" y="618"/>
                  <a:pt x="407" y="970"/>
                  <a:pt x="246" y="1394"/>
                </a:cubicBezTo>
                <a:cubicBezTo>
                  <a:pt x="85" y="1817"/>
                  <a:pt x="0" y="2298"/>
                  <a:pt x="0" y="2787"/>
                </a:cubicBezTo>
                <a:cubicBezTo>
                  <a:pt x="0" y="3276"/>
                  <a:pt x="85" y="3757"/>
                  <a:pt x="246" y="4181"/>
                </a:cubicBezTo>
                <a:cubicBezTo>
                  <a:pt x="407" y="4604"/>
                  <a:pt x="639" y="4956"/>
                  <a:pt x="918" y="5201"/>
                </a:cubicBezTo>
                <a:cubicBezTo>
                  <a:pt x="1011" y="5282"/>
                  <a:pt x="1109" y="5351"/>
                  <a:pt x="1210" y="5407"/>
                </a:cubicBezTo>
              </a:path>
            </a:pathLst>
          </a:custGeom>
          <a:ln w="25560">
            <a:solidFill>
              <a:srgbClr val="dadada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4191120"/>
            <a:ext cx="3040560" cy="2041560"/>
            <a:chOff x="457200" y="4191120"/>
            <a:chExt cx="3040560" cy="2041560"/>
          </a:xfrm>
        </p:grpSpPr>
        <p:sp>
          <p:nvSpPr>
            <p:cNvPr id="221" name=""/>
            <p:cNvSpPr/>
            <p:nvPr/>
          </p:nvSpPr>
          <p:spPr>
            <a:xfrm>
              <a:off x="506520" y="4191120"/>
              <a:ext cx="2978640" cy="1924560"/>
            </a:xfrm>
            <a:custGeom>
              <a:avLst/>
              <a:gdLst/>
              <a:ahLst/>
              <a:rect l="0" t="0" r="r" b="b"/>
              <a:pathLst>
                <a:path w="8274" h="5346">
                  <a:moveTo>
                    <a:pt x="8274" y="3736"/>
                  </a:moveTo>
                  <a:lnTo>
                    <a:pt x="6488" y="2999"/>
                  </a:lnTo>
                  <a:lnTo>
                    <a:pt x="6488" y="2995"/>
                  </a:lnTo>
                  <a:lnTo>
                    <a:pt x="6484" y="2981"/>
                  </a:lnTo>
                  <a:lnTo>
                    <a:pt x="6479" y="2968"/>
                  </a:lnTo>
                  <a:lnTo>
                    <a:pt x="6475" y="2964"/>
                  </a:lnTo>
                  <a:lnTo>
                    <a:pt x="6471" y="2955"/>
                  </a:lnTo>
                  <a:lnTo>
                    <a:pt x="6466" y="2946"/>
                  </a:lnTo>
                  <a:lnTo>
                    <a:pt x="6462" y="2937"/>
                  </a:lnTo>
                  <a:lnTo>
                    <a:pt x="6453" y="2929"/>
                  </a:lnTo>
                  <a:lnTo>
                    <a:pt x="6449" y="2924"/>
                  </a:lnTo>
                  <a:lnTo>
                    <a:pt x="6440" y="2920"/>
                  </a:lnTo>
                  <a:lnTo>
                    <a:pt x="6431" y="2911"/>
                  </a:lnTo>
                  <a:lnTo>
                    <a:pt x="6422" y="2907"/>
                  </a:lnTo>
                  <a:lnTo>
                    <a:pt x="6413" y="2902"/>
                  </a:lnTo>
                  <a:lnTo>
                    <a:pt x="6404" y="2898"/>
                  </a:lnTo>
                  <a:lnTo>
                    <a:pt x="6396" y="2889"/>
                  </a:lnTo>
                  <a:lnTo>
                    <a:pt x="6382" y="2884"/>
                  </a:lnTo>
                  <a:lnTo>
                    <a:pt x="5676" y="2593"/>
                  </a:lnTo>
                  <a:lnTo>
                    <a:pt x="5676" y="2589"/>
                  </a:lnTo>
                  <a:lnTo>
                    <a:pt x="5676" y="2585"/>
                  </a:lnTo>
                  <a:lnTo>
                    <a:pt x="5676" y="2576"/>
                  </a:lnTo>
                  <a:lnTo>
                    <a:pt x="5676" y="2567"/>
                  </a:lnTo>
                  <a:lnTo>
                    <a:pt x="5676" y="2563"/>
                  </a:lnTo>
                  <a:lnTo>
                    <a:pt x="5671" y="2554"/>
                  </a:lnTo>
                  <a:lnTo>
                    <a:pt x="5671" y="2545"/>
                  </a:lnTo>
                  <a:lnTo>
                    <a:pt x="5667" y="2536"/>
                  </a:lnTo>
                  <a:lnTo>
                    <a:pt x="5663" y="2532"/>
                  </a:lnTo>
                  <a:lnTo>
                    <a:pt x="5658" y="2523"/>
                  </a:lnTo>
                  <a:lnTo>
                    <a:pt x="5649" y="2514"/>
                  </a:lnTo>
                  <a:lnTo>
                    <a:pt x="5645" y="2505"/>
                  </a:lnTo>
                  <a:lnTo>
                    <a:pt x="5636" y="2501"/>
                  </a:lnTo>
                  <a:lnTo>
                    <a:pt x="5627" y="2492"/>
                  </a:lnTo>
                  <a:lnTo>
                    <a:pt x="5618" y="2488"/>
                  </a:lnTo>
                  <a:lnTo>
                    <a:pt x="5605" y="2483"/>
                  </a:lnTo>
                  <a:lnTo>
                    <a:pt x="5561" y="2492"/>
                  </a:lnTo>
                  <a:lnTo>
                    <a:pt x="5517" y="2448"/>
                  </a:lnTo>
                  <a:lnTo>
                    <a:pt x="5257" y="1967"/>
                  </a:lnTo>
                  <a:lnTo>
                    <a:pt x="5257" y="1791"/>
                  </a:lnTo>
                  <a:lnTo>
                    <a:pt x="4287" y="0"/>
                  </a:lnTo>
                  <a:lnTo>
                    <a:pt x="44" y="736"/>
                  </a:lnTo>
                  <a:lnTo>
                    <a:pt x="0" y="1005"/>
                  </a:lnTo>
                  <a:lnTo>
                    <a:pt x="1137" y="3519"/>
                  </a:lnTo>
                  <a:lnTo>
                    <a:pt x="1247" y="3881"/>
                  </a:lnTo>
                  <a:lnTo>
                    <a:pt x="3528" y="5346"/>
                  </a:lnTo>
                  <a:lnTo>
                    <a:pt x="8274" y="3775"/>
                  </a:lnTo>
                  <a:lnTo>
                    <a:pt x="8274" y="37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4456080"/>
              <a:ext cx="3040560" cy="1776600"/>
            </a:xfrm>
            <a:custGeom>
              <a:avLst/>
              <a:gdLst/>
              <a:ahLst/>
              <a:rect l="0" t="0" r="r" b="b"/>
              <a:pathLst>
                <a:path w="8446" h="4935">
                  <a:moveTo>
                    <a:pt x="3616" y="4935"/>
                  </a:moveTo>
                  <a:lnTo>
                    <a:pt x="1318" y="3418"/>
                  </a:lnTo>
                  <a:lnTo>
                    <a:pt x="1274" y="3325"/>
                  </a:lnTo>
                  <a:lnTo>
                    <a:pt x="1274" y="2977"/>
                  </a:lnTo>
                  <a:lnTo>
                    <a:pt x="1265" y="2977"/>
                  </a:lnTo>
                  <a:lnTo>
                    <a:pt x="1247" y="2973"/>
                  </a:lnTo>
                  <a:lnTo>
                    <a:pt x="1239" y="2968"/>
                  </a:lnTo>
                  <a:lnTo>
                    <a:pt x="1225" y="2964"/>
                  </a:lnTo>
                  <a:lnTo>
                    <a:pt x="1212" y="2955"/>
                  </a:lnTo>
                  <a:lnTo>
                    <a:pt x="1203" y="2946"/>
                  </a:lnTo>
                  <a:lnTo>
                    <a:pt x="1190" y="2937"/>
                  </a:lnTo>
                  <a:lnTo>
                    <a:pt x="1181" y="2924"/>
                  </a:lnTo>
                  <a:lnTo>
                    <a:pt x="1177" y="2911"/>
                  </a:lnTo>
                  <a:lnTo>
                    <a:pt x="1168" y="2898"/>
                  </a:lnTo>
                  <a:lnTo>
                    <a:pt x="1164" y="2880"/>
                  </a:lnTo>
                  <a:lnTo>
                    <a:pt x="1159" y="2867"/>
                  </a:lnTo>
                  <a:lnTo>
                    <a:pt x="1159" y="2849"/>
                  </a:lnTo>
                  <a:lnTo>
                    <a:pt x="1159" y="2836"/>
                  </a:lnTo>
                  <a:lnTo>
                    <a:pt x="1159" y="2823"/>
                  </a:lnTo>
                  <a:lnTo>
                    <a:pt x="1164" y="2809"/>
                  </a:lnTo>
                  <a:lnTo>
                    <a:pt x="1111" y="2761"/>
                  </a:lnTo>
                  <a:lnTo>
                    <a:pt x="0" y="216"/>
                  </a:lnTo>
                  <a:lnTo>
                    <a:pt x="4" y="185"/>
                  </a:lnTo>
                  <a:lnTo>
                    <a:pt x="163" y="13"/>
                  </a:lnTo>
                  <a:lnTo>
                    <a:pt x="194" y="0"/>
                  </a:lnTo>
                  <a:lnTo>
                    <a:pt x="1093" y="1944"/>
                  </a:lnTo>
                  <a:lnTo>
                    <a:pt x="1098" y="2165"/>
                  </a:lnTo>
                  <a:lnTo>
                    <a:pt x="1344" y="2704"/>
                  </a:lnTo>
                  <a:lnTo>
                    <a:pt x="1270" y="2739"/>
                  </a:lnTo>
                  <a:lnTo>
                    <a:pt x="1150" y="2796"/>
                  </a:lnTo>
                  <a:lnTo>
                    <a:pt x="1296" y="2765"/>
                  </a:lnTo>
                  <a:lnTo>
                    <a:pt x="1300" y="2765"/>
                  </a:lnTo>
                  <a:lnTo>
                    <a:pt x="1309" y="2765"/>
                  </a:lnTo>
                  <a:lnTo>
                    <a:pt x="1322" y="2770"/>
                  </a:lnTo>
                  <a:lnTo>
                    <a:pt x="1331" y="2774"/>
                  </a:lnTo>
                  <a:lnTo>
                    <a:pt x="1344" y="2783"/>
                  </a:lnTo>
                  <a:lnTo>
                    <a:pt x="1353" y="2792"/>
                  </a:lnTo>
                  <a:lnTo>
                    <a:pt x="1362" y="2801"/>
                  </a:lnTo>
                  <a:lnTo>
                    <a:pt x="1371" y="2809"/>
                  </a:lnTo>
                  <a:lnTo>
                    <a:pt x="1375" y="2818"/>
                  </a:lnTo>
                  <a:lnTo>
                    <a:pt x="1384" y="2832"/>
                  </a:lnTo>
                  <a:lnTo>
                    <a:pt x="1389" y="2840"/>
                  </a:lnTo>
                  <a:lnTo>
                    <a:pt x="1393" y="2854"/>
                  </a:lnTo>
                  <a:lnTo>
                    <a:pt x="1393" y="2867"/>
                  </a:lnTo>
                  <a:lnTo>
                    <a:pt x="1393" y="2876"/>
                  </a:lnTo>
                  <a:lnTo>
                    <a:pt x="1393" y="2889"/>
                  </a:lnTo>
                  <a:lnTo>
                    <a:pt x="1393" y="2898"/>
                  </a:lnTo>
                  <a:lnTo>
                    <a:pt x="1389" y="2911"/>
                  </a:lnTo>
                  <a:lnTo>
                    <a:pt x="1975" y="3286"/>
                  </a:lnTo>
                  <a:lnTo>
                    <a:pt x="1984" y="3290"/>
                  </a:lnTo>
                  <a:lnTo>
                    <a:pt x="1993" y="3295"/>
                  </a:lnTo>
                  <a:lnTo>
                    <a:pt x="2006" y="3303"/>
                  </a:lnTo>
                  <a:lnTo>
                    <a:pt x="2019" y="3312"/>
                  </a:lnTo>
                  <a:lnTo>
                    <a:pt x="2032" y="3321"/>
                  </a:lnTo>
                  <a:lnTo>
                    <a:pt x="2046" y="3334"/>
                  </a:lnTo>
                  <a:lnTo>
                    <a:pt x="2054" y="3343"/>
                  </a:lnTo>
                  <a:lnTo>
                    <a:pt x="2063" y="3356"/>
                  </a:lnTo>
                  <a:lnTo>
                    <a:pt x="2072" y="3370"/>
                  </a:lnTo>
                  <a:lnTo>
                    <a:pt x="2076" y="3378"/>
                  </a:lnTo>
                  <a:lnTo>
                    <a:pt x="2085" y="3392"/>
                  </a:lnTo>
                  <a:lnTo>
                    <a:pt x="2090" y="3405"/>
                  </a:lnTo>
                  <a:lnTo>
                    <a:pt x="2090" y="3418"/>
                  </a:lnTo>
                  <a:lnTo>
                    <a:pt x="2094" y="3431"/>
                  </a:lnTo>
                  <a:lnTo>
                    <a:pt x="2094" y="3444"/>
                  </a:lnTo>
                  <a:lnTo>
                    <a:pt x="2094" y="3458"/>
                  </a:lnTo>
                  <a:lnTo>
                    <a:pt x="2094" y="3475"/>
                  </a:lnTo>
                  <a:lnTo>
                    <a:pt x="3625" y="4446"/>
                  </a:lnTo>
                  <a:lnTo>
                    <a:pt x="3718" y="4446"/>
                  </a:lnTo>
                  <a:lnTo>
                    <a:pt x="8402" y="3039"/>
                  </a:lnTo>
                  <a:lnTo>
                    <a:pt x="8402" y="2995"/>
                  </a:lnTo>
                  <a:lnTo>
                    <a:pt x="8446" y="3034"/>
                  </a:lnTo>
                  <a:lnTo>
                    <a:pt x="8446" y="3427"/>
                  </a:lnTo>
                  <a:lnTo>
                    <a:pt x="8411" y="3453"/>
                  </a:lnTo>
                  <a:lnTo>
                    <a:pt x="3718" y="4926"/>
                  </a:lnTo>
                  <a:lnTo>
                    <a:pt x="3616" y="4935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2640" y="4378320"/>
              <a:ext cx="1500480" cy="659160"/>
            </a:xfrm>
            <a:custGeom>
              <a:avLst/>
              <a:gdLst/>
              <a:ahLst/>
              <a:rect l="0" t="0" r="r" b="b"/>
              <a:pathLst>
                <a:path w="4168" h="1831">
                  <a:moveTo>
                    <a:pt x="4049" y="1804"/>
                  </a:moveTo>
                  <a:lnTo>
                    <a:pt x="4168" y="1831"/>
                  </a:lnTo>
                  <a:lnTo>
                    <a:pt x="3206" y="0"/>
                  </a:lnTo>
                  <a:lnTo>
                    <a:pt x="0" y="586"/>
                  </a:lnTo>
                  <a:lnTo>
                    <a:pt x="110" y="639"/>
                  </a:lnTo>
                  <a:lnTo>
                    <a:pt x="3176" y="66"/>
                  </a:lnTo>
                  <a:lnTo>
                    <a:pt x="4049" y="1804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2640" y="4589640"/>
              <a:ext cx="1500480" cy="711720"/>
            </a:xfrm>
            <a:custGeom>
              <a:avLst/>
              <a:gdLst/>
              <a:ahLst/>
              <a:rect l="0" t="0" r="r" b="b"/>
              <a:pathLst>
                <a:path fill="none" w="4168" h="1977">
                  <a:moveTo>
                    <a:pt x="4168" y="1244"/>
                  </a:moveTo>
                  <a:lnTo>
                    <a:pt x="886" y="19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800" y="4356000"/>
              <a:ext cx="1584720" cy="975240"/>
            </a:xfrm>
            <a:custGeom>
              <a:avLst/>
              <a:gdLst/>
              <a:ahLst/>
              <a:rect l="0" t="0" r="r" b="b"/>
              <a:pathLst>
                <a:path fill="none" w="4402" h="2709">
                  <a:moveTo>
                    <a:pt x="3362" y="0"/>
                  </a:moveTo>
                  <a:lnTo>
                    <a:pt x="4402" y="1932"/>
                  </a:lnTo>
                  <a:lnTo>
                    <a:pt x="956" y="2709"/>
                  </a:lnTo>
                  <a:lnTo>
                    <a:pt x="0" y="5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373480" y="4835520"/>
              <a:ext cx="23760" cy="468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4560" y="4491000"/>
              <a:ext cx="309960" cy="744840"/>
            </a:xfrm>
            <a:custGeom>
              <a:avLst/>
              <a:gdLst/>
              <a:ahLst/>
              <a:rect l="0" t="0" r="r" b="b"/>
              <a:pathLst>
                <a:path fill="none" w="861" h="2069">
                  <a:moveTo>
                    <a:pt x="0" y="0"/>
                  </a:moveTo>
                  <a:lnTo>
                    <a:pt x="861" y="1831"/>
                  </a:lnTo>
                  <a:lnTo>
                    <a:pt x="853" y="2047"/>
                  </a:lnTo>
                  <a:lnTo>
                    <a:pt x="764" y="20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373480" y="4902120"/>
              <a:ext cx="25200" cy="324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3000" y="5335560"/>
              <a:ext cx="489240" cy="125640"/>
            </a:xfrm>
            <a:custGeom>
              <a:avLst/>
              <a:gdLst/>
              <a:ahLst/>
              <a:rect l="0" t="0" r="r" b="b"/>
              <a:pathLst>
                <a:path w="1359" h="349">
                  <a:moveTo>
                    <a:pt x="0" y="349"/>
                  </a:moveTo>
                  <a:lnTo>
                    <a:pt x="189" y="261"/>
                  </a:lnTo>
                  <a:lnTo>
                    <a:pt x="1323" y="0"/>
                  </a:lnTo>
                  <a:lnTo>
                    <a:pt x="1359" y="39"/>
                  </a:lnTo>
                  <a:lnTo>
                    <a:pt x="97" y="331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25520" y="5075280"/>
              <a:ext cx="279720" cy="74880"/>
            </a:xfrm>
            <a:custGeom>
              <a:avLst/>
              <a:gdLst/>
              <a:ahLst/>
              <a:rect l="0" t="0" r="r" b="b"/>
              <a:pathLst>
                <a:path w="777" h="208">
                  <a:moveTo>
                    <a:pt x="746" y="0"/>
                  </a:moveTo>
                  <a:lnTo>
                    <a:pt x="0" y="168"/>
                  </a:lnTo>
                  <a:lnTo>
                    <a:pt x="48" y="208"/>
                  </a:lnTo>
                  <a:lnTo>
                    <a:pt x="88" y="199"/>
                  </a:lnTo>
                  <a:lnTo>
                    <a:pt x="777" y="35"/>
                  </a:lnTo>
                  <a:lnTo>
                    <a:pt x="74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19320" y="5238720"/>
              <a:ext cx="1621080" cy="452880"/>
            </a:xfrm>
            <a:custGeom>
              <a:avLst/>
              <a:gdLst/>
              <a:ahLst/>
              <a:rect l="0" t="0" r="r" b="b"/>
              <a:pathLst>
                <a:path w="4503" h="1258">
                  <a:moveTo>
                    <a:pt x="4419" y="17"/>
                  </a:moveTo>
                  <a:lnTo>
                    <a:pt x="4428" y="17"/>
                  </a:lnTo>
                  <a:lnTo>
                    <a:pt x="4441" y="17"/>
                  </a:lnTo>
                  <a:lnTo>
                    <a:pt x="4454" y="26"/>
                  </a:lnTo>
                  <a:lnTo>
                    <a:pt x="4463" y="35"/>
                  </a:lnTo>
                  <a:lnTo>
                    <a:pt x="4476" y="44"/>
                  </a:lnTo>
                  <a:lnTo>
                    <a:pt x="4481" y="52"/>
                  </a:lnTo>
                  <a:lnTo>
                    <a:pt x="4485" y="57"/>
                  </a:lnTo>
                  <a:lnTo>
                    <a:pt x="4490" y="61"/>
                  </a:lnTo>
                  <a:lnTo>
                    <a:pt x="4494" y="70"/>
                  </a:lnTo>
                  <a:lnTo>
                    <a:pt x="4498" y="74"/>
                  </a:lnTo>
                  <a:lnTo>
                    <a:pt x="4498" y="83"/>
                  </a:lnTo>
                  <a:lnTo>
                    <a:pt x="4503" y="88"/>
                  </a:lnTo>
                  <a:lnTo>
                    <a:pt x="17" y="1258"/>
                  </a:lnTo>
                  <a:lnTo>
                    <a:pt x="17" y="1227"/>
                  </a:lnTo>
                  <a:lnTo>
                    <a:pt x="13" y="1223"/>
                  </a:lnTo>
                  <a:lnTo>
                    <a:pt x="8" y="1210"/>
                  </a:lnTo>
                  <a:lnTo>
                    <a:pt x="4" y="1201"/>
                  </a:lnTo>
                  <a:lnTo>
                    <a:pt x="0" y="1192"/>
                  </a:lnTo>
                  <a:lnTo>
                    <a:pt x="0" y="1183"/>
                  </a:lnTo>
                  <a:lnTo>
                    <a:pt x="0" y="1174"/>
                  </a:lnTo>
                  <a:lnTo>
                    <a:pt x="0" y="1166"/>
                  </a:lnTo>
                  <a:lnTo>
                    <a:pt x="0" y="1161"/>
                  </a:lnTo>
                  <a:lnTo>
                    <a:pt x="0" y="1152"/>
                  </a:lnTo>
                  <a:lnTo>
                    <a:pt x="0" y="1144"/>
                  </a:lnTo>
                  <a:lnTo>
                    <a:pt x="8" y="1139"/>
                  </a:lnTo>
                  <a:lnTo>
                    <a:pt x="13" y="1135"/>
                  </a:lnTo>
                  <a:lnTo>
                    <a:pt x="22" y="1126"/>
                  </a:lnTo>
                  <a:lnTo>
                    <a:pt x="30" y="1122"/>
                  </a:lnTo>
                  <a:lnTo>
                    <a:pt x="4371" y="0"/>
                  </a:lnTo>
                  <a:lnTo>
                    <a:pt x="4419" y="17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106640" y="5276880"/>
              <a:ext cx="23760" cy="205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930320" y="4381560"/>
              <a:ext cx="3240" cy="223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957240" y="5124600"/>
              <a:ext cx="1590840" cy="379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8320" y="5448240"/>
              <a:ext cx="152640" cy="84600"/>
            </a:xfrm>
            <a:custGeom>
              <a:avLst/>
              <a:gdLst/>
              <a:ahLst/>
              <a:rect l="0" t="0" r="r" b="b"/>
              <a:pathLst>
                <a:path fill="none" w="424" h="235">
                  <a:moveTo>
                    <a:pt x="0" y="35"/>
                  </a:moveTo>
                  <a:lnTo>
                    <a:pt x="92" y="8"/>
                  </a:lnTo>
                  <a:lnTo>
                    <a:pt x="145" y="0"/>
                  </a:lnTo>
                  <a:lnTo>
                    <a:pt x="154" y="0"/>
                  </a:lnTo>
                  <a:lnTo>
                    <a:pt x="171" y="4"/>
                  </a:lnTo>
                  <a:lnTo>
                    <a:pt x="180" y="8"/>
                  </a:lnTo>
                  <a:lnTo>
                    <a:pt x="189" y="17"/>
                  </a:lnTo>
                  <a:lnTo>
                    <a:pt x="202" y="26"/>
                  </a:lnTo>
                  <a:lnTo>
                    <a:pt x="207" y="35"/>
                  </a:lnTo>
                  <a:lnTo>
                    <a:pt x="217" y="44"/>
                  </a:lnTo>
                  <a:lnTo>
                    <a:pt x="225" y="57"/>
                  </a:lnTo>
                  <a:lnTo>
                    <a:pt x="230" y="67"/>
                  </a:lnTo>
                  <a:lnTo>
                    <a:pt x="234" y="80"/>
                  </a:lnTo>
                  <a:lnTo>
                    <a:pt x="239" y="93"/>
                  </a:lnTo>
                  <a:lnTo>
                    <a:pt x="243" y="106"/>
                  </a:lnTo>
                  <a:lnTo>
                    <a:pt x="243" y="115"/>
                  </a:lnTo>
                  <a:lnTo>
                    <a:pt x="243" y="128"/>
                  </a:lnTo>
                  <a:lnTo>
                    <a:pt x="243" y="137"/>
                  </a:lnTo>
                  <a:lnTo>
                    <a:pt x="239" y="150"/>
                  </a:lnTo>
                  <a:lnTo>
                    <a:pt x="424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15840" y="55040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116" y="0"/>
                  </a:moveTo>
                  <a:lnTo>
                    <a:pt x="112" y="4"/>
                  </a:lnTo>
                  <a:lnTo>
                    <a:pt x="112" y="9"/>
                  </a:lnTo>
                  <a:lnTo>
                    <a:pt x="112" y="14"/>
                  </a:lnTo>
                  <a:lnTo>
                    <a:pt x="107" y="14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3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0" y="48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7" y="52"/>
                  </a:lnTo>
                  <a:lnTo>
                    <a:pt x="62" y="58"/>
                  </a:lnTo>
                  <a:lnTo>
                    <a:pt x="58" y="58"/>
                  </a:lnTo>
                  <a:lnTo>
                    <a:pt x="58" y="63"/>
                  </a:lnTo>
                  <a:lnTo>
                    <a:pt x="49" y="63"/>
                  </a:lnTo>
                  <a:lnTo>
                    <a:pt x="45" y="63"/>
                  </a:lnTo>
                  <a:lnTo>
                    <a:pt x="40" y="67"/>
                  </a:lnTo>
                  <a:lnTo>
                    <a:pt x="31" y="67"/>
                  </a:lnTo>
                  <a:lnTo>
                    <a:pt x="26" y="67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3" y="72"/>
                  </a:lnTo>
                  <a:lnTo>
                    <a:pt x="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17440" y="5510160"/>
              <a:ext cx="157680" cy="66960"/>
            </a:xfrm>
            <a:custGeom>
              <a:avLst/>
              <a:gdLst/>
              <a:ahLst/>
              <a:rect l="0" t="0" r="r" b="b"/>
              <a:pathLst>
                <a:path w="438" h="186">
                  <a:moveTo>
                    <a:pt x="195" y="0"/>
                  </a:moveTo>
                  <a:lnTo>
                    <a:pt x="438" y="133"/>
                  </a:lnTo>
                  <a:lnTo>
                    <a:pt x="225" y="186"/>
                  </a:lnTo>
                  <a:lnTo>
                    <a:pt x="0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43000" y="5530680"/>
              <a:ext cx="109800" cy="46440"/>
            </a:xfrm>
            <a:custGeom>
              <a:avLst/>
              <a:gdLst/>
              <a:ahLst/>
              <a:rect l="0" t="0" r="r" b="b"/>
              <a:pathLst>
                <a:path w="305" h="129">
                  <a:moveTo>
                    <a:pt x="305" y="93"/>
                  </a:moveTo>
                  <a:lnTo>
                    <a:pt x="136" y="0"/>
                  </a:lnTo>
                  <a:lnTo>
                    <a:pt x="0" y="30"/>
                  </a:lnTo>
                  <a:lnTo>
                    <a:pt x="155" y="129"/>
                  </a:lnTo>
                  <a:lnTo>
                    <a:pt x="305" y="93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927000" y="5099040"/>
              <a:ext cx="1530360" cy="351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06680" y="5964120"/>
              <a:ext cx="31680" cy="9720"/>
            </a:xfrm>
            <a:prstGeom prst="line">
              <a:avLst/>
            </a:prstGeom>
            <a:ln w="12600">
              <a:solidFill>
                <a:srgbClr val="ff00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49280" y="5295960"/>
              <a:ext cx="2003760" cy="692640"/>
            </a:xfrm>
            <a:custGeom>
              <a:avLst/>
              <a:gdLst/>
              <a:ahLst/>
              <a:rect l="0" t="0" r="r" b="b"/>
              <a:pathLst>
                <a:path w="5566" h="1924">
                  <a:moveTo>
                    <a:pt x="4057" y="0"/>
                  </a:moveTo>
                  <a:lnTo>
                    <a:pt x="4132" y="0"/>
                  </a:lnTo>
                  <a:lnTo>
                    <a:pt x="5561" y="613"/>
                  </a:lnTo>
                  <a:lnTo>
                    <a:pt x="5566" y="658"/>
                  </a:lnTo>
                  <a:lnTo>
                    <a:pt x="1397" y="1924"/>
                  </a:lnTo>
                  <a:lnTo>
                    <a:pt x="1318" y="1924"/>
                  </a:lnTo>
                  <a:lnTo>
                    <a:pt x="0" y="1099"/>
                  </a:lnTo>
                  <a:lnTo>
                    <a:pt x="22" y="1063"/>
                  </a:lnTo>
                  <a:lnTo>
                    <a:pt x="4057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243160" y="5199120"/>
              <a:ext cx="322200" cy="77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295360" y="5229360"/>
              <a:ext cx="320760" cy="77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65360" y="5157720"/>
              <a:ext cx="221040" cy="127440"/>
            </a:xfrm>
            <a:custGeom>
              <a:avLst/>
              <a:gdLst/>
              <a:ahLst/>
              <a:rect l="0" t="0" r="r" b="b"/>
              <a:pathLst>
                <a:path fill="none" w="614" h="354">
                  <a:moveTo>
                    <a:pt x="0" y="0"/>
                  </a:moveTo>
                  <a:lnTo>
                    <a:pt x="522" y="225"/>
                  </a:lnTo>
                  <a:lnTo>
                    <a:pt x="526" y="230"/>
                  </a:lnTo>
                  <a:lnTo>
                    <a:pt x="544" y="239"/>
                  </a:lnTo>
                  <a:lnTo>
                    <a:pt x="553" y="247"/>
                  </a:lnTo>
                  <a:lnTo>
                    <a:pt x="562" y="252"/>
                  </a:lnTo>
                  <a:lnTo>
                    <a:pt x="570" y="261"/>
                  </a:lnTo>
                  <a:lnTo>
                    <a:pt x="575" y="270"/>
                  </a:lnTo>
                  <a:lnTo>
                    <a:pt x="579" y="279"/>
                  </a:lnTo>
                  <a:lnTo>
                    <a:pt x="588" y="284"/>
                  </a:lnTo>
                  <a:lnTo>
                    <a:pt x="588" y="293"/>
                  </a:lnTo>
                  <a:lnTo>
                    <a:pt x="592" y="301"/>
                  </a:lnTo>
                  <a:lnTo>
                    <a:pt x="597" y="310"/>
                  </a:lnTo>
                  <a:lnTo>
                    <a:pt x="601" y="319"/>
                  </a:lnTo>
                  <a:lnTo>
                    <a:pt x="606" y="328"/>
                  </a:lnTo>
                  <a:lnTo>
                    <a:pt x="606" y="337"/>
                  </a:lnTo>
                  <a:lnTo>
                    <a:pt x="610" y="345"/>
                  </a:lnTo>
                  <a:lnTo>
                    <a:pt x="614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41480" y="5505480"/>
              <a:ext cx="241560" cy="171720"/>
            </a:xfrm>
            <a:custGeom>
              <a:avLst/>
              <a:gdLst/>
              <a:ahLst/>
              <a:rect l="0" t="0" r="r" b="b"/>
              <a:pathLst>
                <a:path fill="none" w="671" h="477">
                  <a:moveTo>
                    <a:pt x="0" y="0"/>
                  </a:moveTo>
                  <a:lnTo>
                    <a:pt x="569" y="331"/>
                  </a:lnTo>
                  <a:lnTo>
                    <a:pt x="574" y="336"/>
                  </a:lnTo>
                  <a:lnTo>
                    <a:pt x="591" y="344"/>
                  </a:lnTo>
                  <a:lnTo>
                    <a:pt x="600" y="353"/>
                  </a:lnTo>
                  <a:lnTo>
                    <a:pt x="609" y="362"/>
                  </a:lnTo>
                  <a:lnTo>
                    <a:pt x="618" y="371"/>
                  </a:lnTo>
                  <a:lnTo>
                    <a:pt x="627" y="375"/>
                  </a:lnTo>
                  <a:lnTo>
                    <a:pt x="631" y="384"/>
                  </a:lnTo>
                  <a:lnTo>
                    <a:pt x="640" y="393"/>
                  </a:lnTo>
                  <a:lnTo>
                    <a:pt x="644" y="402"/>
                  </a:lnTo>
                  <a:lnTo>
                    <a:pt x="649" y="411"/>
                  </a:lnTo>
                  <a:lnTo>
                    <a:pt x="653" y="424"/>
                  </a:lnTo>
                  <a:lnTo>
                    <a:pt x="658" y="433"/>
                  </a:lnTo>
                  <a:lnTo>
                    <a:pt x="662" y="446"/>
                  </a:lnTo>
                  <a:lnTo>
                    <a:pt x="666" y="455"/>
                  </a:lnTo>
                  <a:lnTo>
                    <a:pt x="671" y="464"/>
                  </a:lnTo>
                  <a:lnTo>
                    <a:pt x="671" y="4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284120" y="5281560"/>
              <a:ext cx="1501920" cy="3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39960" y="5861160"/>
              <a:ext cx="841680" cy="298800"/>
            </a:xfrm>
            <a:custGeom>
              <a:avLst/>
              <a:gdLst/>
              <a:ahLst/>
              <a:rect l="0" t="0" r="r" b="b"/>
              <a:pathLst>
                <a:path w="2338" h="830">
                  <a:moveTo>
                    <a:pt x="0" y="733"/>
                  </a:moveTo>
                  <a:lnTo>
                    <a:pt x="0" y="830"/>
                  </a:lnTo>
                  <a:lnTo>
                    <a:pt x="617" y="640"/>
                  </a:lnTo>
                  <a:lnTo>
                    <a:pt x="617" y="605"/>
                  </a:lnTo>
                  <a:lnTo>
                    <a:pt x="1601" y="299"/>
                  </a:lnTo>
                  <a:lnTo>
                    <a:pt x="1711" y="295"/>
                  </a:lnTo>
                  <a:lnTo>
                    <a:pt x="2333" y="101"/>
                  </a:lnTo>
                  <a:lnTo>
                    <a:pt x="2338" y="0"/>
                  </a:lnTo>
                  <a:lnTo>
                    <a:pt x="1716" y="189"/>
                  </a:lnTo>
                  <a:lnTo>
                    <a:pt x="1601" y="198"/>
                  </a:lnTo>
                  <a:lnTo>
                    <a:pt x="617" y="512"/>
                  </a:lnTo>
                  <a:lnTo>
                    <a:pt x="617" y="538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43200" y="6116760"/>
              <a:ext cx="184680" cy="84600"/>
            </a:xfrm>
            <a:custGeom>
              <a:avLst/>
              <a:gdLst/>
              <a:ahLst/>
              <a:rect l="0" t="0" r="r" b="b"/>
              <a:pathLst>
                <a:path w="513" h="235">
                  <a:moveTo>
                    <a:pt x="513" y="0"/>
                  </a:moveTo>
                  <a:lnTo>
                    <a:pt x="513" y="71"/>
                  </a:lnTo>
                  <a:lnTo>
                    <a:pt x="0" y="235"/>
                  </a:lnTo>
                  <a:lnTo>
                    <a:pt x="0" y="164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52560" y="5899320"/>
              <a:ext cx="832320" cy="259200"/>
            </a:xfrm>
            <a:custGeom>
              <a:avLst/>
              <a:gdLst/>
              <a:ahLst/>
              <a:rect l="0" t="0" r="r" b="b"/>
              <a:pathLst>
                <a:path fill="none" w="2312" h="720">
                  <a:moveTo>
                    <a:pt x="2312" y="0"/>
                  </a:moveTo>
                  <a:lnTo>
                    <a:pt x="1672" y="190"/>
                  </a:lnTo>
                  <a:lnTo>
                    <a:pt x="1544" y="195"/>
                  </a:lnTo>
                  <a:lnTo>
                    <a:pt x="587" y="499"/>
                  </a:lnTo>
                  <a:lnTo>
                    <a:pt x="583" y="534"/>
                  </a:lnTo>
                  <a:lnTo>
                    <a:pt x="0" y="72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65440" y="6056280"/>
              <a:ext cx="25920" cy="170280"/>
            </a:xfrm>
            <a:custGeom>
              <a:avLst/>
              <a:gdLst/>
              <a:ahLst/>
              <a:rect l="0" t="0" r="r" b="b"/>
              <a:pathLst>
                <a:path w="72" h="473">
                  <a:moveTo>
                    <a:pt x="72" y="0"/>
                  </a:moveTo>
                  <a:lnTo>
                    <a:pt x="72" y="473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76600" y="5608800"/>
              <a:ext cx="821160" cy="275040"/>
            </a:xfrm>
            <a:custGeom>
              <a:avLst/>
              <a:gdLst/>
              <a:ahLst/>
              <a:rect l="0" t="0" r="r" b="b"/>
              <a:pathLst>
                <a:path fill="none" w="2281" h="764">
                  <a:moveTo>
                    <a:pt x="0" y="764"/>
                  </a:moveTo>
                  <a:lnTo>
                    <a:pt x="2237" y="48"/>
                  </a:lnTo>
                  <a:lnTo>
                    <a:pt x="228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14400" y="5599080"/>
              <a:ext cx="925920" cy="555840"/>
            </a:xfrm>
            <a:custGeom>
              <a:avLst/>
              <a:gdLst/>
              <a:ahLst/>
              <a:rect l="0" t="0" r="r" b="b"/>
              <a:pathLst>
                <a:path fill="none" w="2572" h="1544">
                  <a:moveTo>
                    <a:pt x="2572" y="1504"/>
                  </a:moveTo>
                  <a:lnTo>
                    <a:pt x="2431" y="1544"/>
                  </a:lnTo>
                  <a:lnTo>
                    <a:pt x="2370" y="1544"/>
                  </a:lnTo>
                  <a:lnTo>
                    <a:pt x="2334" y="1539"/>
                  </a:lnTo>
                  <a:lnTo>
                    <a:pt x="30" y="3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7600" y="5184720"/>
              <a:ext cx="479880" cy="111600"/>
            </a:xfrm>
            <a:custGeom>
              <a:avLst/>
              <a:gdLst/>
              <a:ahLst/>
              <a:rect l="0" t="0" r="r" b="b"/>
              <a:pathLst>
                <a:path w="1333" h="310">
                  <a:moveTo>
                    <a:pt x="0" y="270"/>
                  </a:moveTo>
                  <a:lnTo>
                    <a:pt x="1170" y="0"/>
                  </a:lnTo>
                  <a:lnTo>
                    <a:pt x="1205" y="39"/>
                  </a:lnTo>
                  <a:lnTo>
                    <a:pt x="1258" y="35"/>
                  </a:lnTo>
                  <a:lnTo>
                    <a:pt x="1267" y="35"/>
                  </a:lnTo>
                  <a:lnTo>
                    <a:pt x="1272" y="39"/>
                  </a:lnTo>
                  <a:lnTo>
                    <a:pt x="1280" y="44"/>
                  </a:lnTo>
                  <a:lnTo>
                    <a:pt x="1289" y="48"/>
                  </a:lnTo>
                  <a:lnTo>
                    <a:pt x="1294" y="52"/>
                  </a:lnTo>
                  <a:lnTo>
                    <a:pt x="1302" y="61"/>
                  </a:lnTo>
                  <a:lnTo>
                    <a:pt x="1307" y="66"/>
                  </a:lnTo>
                  <a:lnTo>
                    <a:pt x="1316" y="74"/>
                  </a:lnTo>
                  <a:lnTo>
                    <a:pt x="1316" y="84"/>
                  </a:lnTo>
                  <a:lnTo>
                    <a:pt x="1320" y="89"/>
                  </a:lnTo>
                  <a:lnTo>
                    <a:pt x="1320" y="98"/>
                  </a:lnTo>
                  <a:lnTo>
                    <a:pt x="1324" y="102"/>
                  </a:lnTo>
                  <a:lnTo>
                    <a:pt x="1329" y="111"/>
                  </a:lnTo>
                  <a:lnTo>
                    <a:pt x="1329" y="115"/>
                  </a:lnTo>
                  <a:lnTo>
                    <a:pt x="1329" y="124"/>
                  </a:lnTo>
                  <a:lnTo>
                    <a:pt x="1333" y="128"/>
                  </a:lnTo>
                  <a:lnTo>
                    <a:pt x="1333" y="137"/>
                  </a:lnTo>
                  <a:lnTo>
                    <a:pt x="1329" y="142"/>
                  </a:lnTo>
                  <a:lnTo>
                    <a:pt x="1329" y="146"/>
                  </a:lnTo>
                  <a:lnTo>
                    <a:pt x="1329" y="150"/>
                  </a:lnTo>
                  <a:lnTo>
                    <a:pt x="1329" y="146"/>
                  </a:lnTo>
                  <a:lnTo>
                    <a:pt x="1329" y="133"/>
                  </a:lnTo>
                  <a:lnTo>
                    <a:pt x="1329" y="124"/>
                  </a:lnTo>
                  <a:lnTo>
                    <a:pt x="1329" y="115"/>
                  </a:lnTo>
                  <a:lnTo>
                    <a:pt x="1324" y="106"/>
                  </a:lnTo>
                  <a:lnTo>
                    <a:pt x="1324" y="98"/>
                  </a:lnTo>
                  <a:lnTo>
                    <a:pt x="1320" y="89"/>
                  </a:lnTo>
                  <a:lnTo>
                    <a:pt x="1316" y="80"/>
                  </a:lnTo>
                  <a:lnTo>
                    <a:pt x="1311" y="74"/>
                  </a:lnTo>
                  <a:lnTo>
                    <a:pt x="1307" y="66"/>
                  </a:lnTo>
                  <a:lnTo>
                    <a:pt x="1298" y="61"/>
                  </a:lnTo>
                  <a:lnTo>
                    <a:pt x="1294" y="52"/>
                  </a:lnTo>
                  <a:lnTo>
                    <a:pt x="1285" y="48"/>
                  </a:lnTo>
                  <a:lnTo>
                    <a:pt x="1276" y="44"/>
                  </a:lnTo>
                  <a:lnTo>
                    <a:pt x="1267" y="35"/>
                  </a:lnTo>
                  <a:lnTo>
                    <a:pt x="1258" y="30"/>
                  </a:lnTo>
                  <a:lnTo>
                    <a:pt x="74" y="301"/>
                  </a:lnTo>
                  <a:lnTo>
                    <a:pt x="35" y="31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9760" y="5327640"/>
              <a:ext cx="240120" cy="68760"/>
            </a:xfrm>
            <a:custGeom>
              <a:avLst/>
              <a:gdLst/>
              <a:ahLst/>
              <a:rect l="0" t="0" r="r" b="b"/>
              <a:pathLst>
                <a:path w="667" h="191">
                  <a:moveTo>
                    <a:pt x="0" y="191"/>
                  </a:moveTo>
                  <a:lnTo>
                    <a:pt x="663" y="30"/>
                  </a:lnTo>
                  <a:lnTo>
                    <a:pt x="663" y="26"/>
                  </a:lnTo>
                  <a:lnTo>
                    <a:pt x="667" y="17"/>
                  </a:lnTo>
                  <a:lnTo>
                    <a:pt x="667" y="13"/>
                  </a:lnTo>
                  <a:lnTo>
                    <a:pt x="667" y="4"/>
                  </a:lnTo>
                  <a:lnTo>
                    <a:pt x="667" y="0"/>
                  </a:lnTo>
                  <a:lnTo>
                    <a:pt x="4" y="156"/>
                  </a:lnTo>
                  <a:lnTo>
                    <a:pt x="4" y="160"/>
                  </a:lnTo>
                  <a:lnTo>
                    <a:pt x="4" y="169"/>
                  </a:lnTo>
                  <a:lnTo>
                    <a:pt x="4" y="173"/>
                  </a:lnTo>
                  <a:lnTo>
                    <a:pt x="4" y="182"/>
                  </a:lnTo>
                  <a:lnTo>
                    <a:pt x="0" y="187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65320" y="5175360"/>
              <a:ext cx="219600" cy="65520"/>
            </a:xfrm>
            <a:custGeom>
              <a:avLst/>
              <a:gdLst/>
              <a:ahLst/>
              <a:rect l="0" t="0" r="r" b="b"/>
              <a:pathLst>
                <a:path w="610" h="182">
                  <a:moveTo>
                    <a:pt x="0" y="182"/>
                  </a:moveTo>
                  <a:lnTo>
                    <a:pt x="601" y="39"/>
                  </a:lnTo>
                  <a:lnTo>
                    <a:pt x="606" y="30"/>
                  </a:lnTo>
                  <a:lnTo>
                    <a:pt x="606" y="26"/>
                  </a:lnTo>
                  <a:lnTo>
                    <a:pt x="606" y="17"/>
                  </a:lnTo>
                  <a:lnTo>
                    <a:pt x="610" y="13"/>
                  </a:lnTo>
                  <a:lnTo>
                    <a:pt x="610" y="8"/>
                  </a:lnTo>
                  <a:lnTo>
                    <a:pt x="610" y="0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87600" y="5281560"/>
              <a:ext cx="62280" cy="57600"/>
            </a:xfrm>
            <a:custGeom>
              <a:avLst/>
              <a:gdLst/>
              <a:ahLst/>
              <a:rect l="0" t="0" r="r" b="b"/>
              <a:pathLst>
                <a:path fill="none" w="173" h="160">
                  <a:moveTo>
                    <a:pt x="0" y="0"/>
                  </a:moveTo>
                  <a:lnTo>
                    <a:pt x="35" y="39"/>
                  </a:lnTo>
                  <a:lnTo>
                    <a:pt x="84" y="30"/>
                  </a:lnTo>
                  <a:lnTo>
                    <a:pt x="89" y="30"/>
                  </a:lnTo>
                  <a:lnTo>
                    <a:pt x="106" y="39"/>
                  </a:lnTo>
                  <a:lnTo>
                    <a:pt x="115" y="45"/>
                  </a:lnTo>
                  <a:lnTo>
                    <a:pt x="128" y="49"/>
                  </a:lnTo>
                  <a:lnTo>
                    <a:pt x="134" y="58"/>
                  </a:lnTo>
                  <a:lnTo>
                    <a:pt x="143" y="67"/>
                  </a:lnTo>
                  <a:lnTo>
                    <a:pt x="151" y="71"/>
                  </a:lnTo>
                  <a:lnTo>
                    <a:pt x="156" y="80"/>
                  </a:lnTo>
                  <a:lnTo>
                    <a:pt x="160" y="89"/>
                  </a:lnTo>
                  <a:lnTo>
                    <a:pt x="165" y="102"/>
                  </a:lnTo>
                  <a:lnTo>
                    <a:pt x="169" y="111"/>
                  </a:lnTo>
                  <a:lnTo>
                    <a:pt x="169" y="121"/>
                  </a:lnTo>
                  <a:lnTo>
                    <a:pt x="173" y="129"/>
                  </a:lnTo>
                  <a:lnTo>
                    <a:pt x="173" y="143"/>
                  </a:lnTo>
                  <a:lnTo>
                    <a:pt x="169" y="151"/>
                  </a:lnTo>
                  <a:lnTo>
                    <a:pt x="169" y="1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27320" y="5135400"/>
              <a:ext cx="55800" cy="41760"/>
            </a:xfrm>
            <a:custGeom>
              <a:avLst/>
              <a:gdLst/>
              <a:ahLst/>
              <a:rect l="0" t="0" r="r" b="b"/>
              <a:pathLst>
                <a:path fill="none" w="155" h="116">
                  <a:moveTo>
                    <a:pt x="0" y="0"/>
                  </a:moveTo>
                  <a:lnTo>
                    <a:pt x="39" y="40"/>
                  </a:lnTo>
                  <a:lnTo>
                    <a:pt x="89" y="31"/>
                  </a:lnTo>
                  <a:lnTo>
                    <a:pt x="98" y="36"/>
                  </a:lnTo>
                  <a:lnTo>
                    <a:pt x="102" y="40"/>
                  </a:lnTo>
                  <a:lnTo>
                    <a:pt x="111" y="49"/>
                  </a:lnTo>
                  <a:lnTo>
                    <a:pt x="115" y="53"/>
                  </a:lnTo>
                  <a:lnTo>
                    <a:pt x="124" y="58"/>
                  </a:lnTo>
                  <a:lnTo>
                    <a:pt x="128" y="67"/>
                  </a:lnTo>
                  <a:lnTo>
                    <a:pt x="133" y="71"/>
                  </a:lnTo>
                  <a:lnTo>
                    <a:pt x="137" y="75"/>
                  </a:lnTo>
                  <a:lnTo>
                    <a:pt x="142" y="80"/>
                  </a:lnTo>
                  <a:lnTo>
                    <a:pt x="146" y="90"/>
                  </a:lnTo>
                  <a:lnTo>
                    <a:pt x="150" y="94"/>
                  </a:lnTo>
                  <a:lnTo>
                    <a:pt x="150" y="99"/>
                  </a:lnTo>
                  <a:lnTo>
                    <a:pt x="155" y="107"/>
                  </a:lnTo>
                  <a:lnTo>
                    <a:pt x="155" y="11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62240" y="5346720"/>
              <a:ext cx="49680" cy="36720"/>
            </a:xfrm>
            <a:custGeom>
              <a:avLst/>
              <a:gdLst/>
              <a:ahLst/>
              <a:rect l="0" t="0" r="r" b="b"/>
              <a:pathLst>
                <a:path fill="none" w="138" h="102">
                  <a:moveTo>
                    <a:pt x="0" y="8"/>
                  </a:moveTo>
                  <a:lnTo>
                    <a:pt x="45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13"/>
                  </a:lnTo>
                  <a:lnTo>
                    <a:pt x="89" y="17"/>
                  </a:lnTo>
                  <a:lnTo>
                    <a:pt x="98" y="22"/>
                  </a:lnTo>
                  <a:lnTo>
                    <a:pt x="102" y="30"/>
                  </a:lnTo>
                  <a:lnTo>
                    <a:pt x="112" y="35"/>
                  </a:lnTo>
                  <a:lnTo>
                    <a:pt x="116" y="44"/>
                  </a:lnTo>
                  <a:lnTo>
                    <a:pt x="125" y="53"/>
                  </a:lnTo>
                  <a:lnTo>
                    <a:pt x="129" y="62"/>
                  </a:lnTo>
                  <a:lnTo>
                    <a:pt x="134" y="71"/>
                  </a:lnTo>
                  <a:lnTo>
                    <a:pt x="134" y="80"/>
                  </a:lnTo>
                  <a:lnTo>
                    <a:pt x="138" y="89"/>
                  </a:lnTo>
                  <a:lnTo>
                    <a:pt x="138" y="1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2240" y="4405320"/>
              <a:ext cx="1418040" cy="871920"/>
            </a:xfrm>
            <a:custGeom>
              <a:avLst/>
              <a:gdLst/>
              <a:ahLst/>
              <a:rect l="0" t="0" r="r" b="b"/>
              <a:pathLst>
                <a:path w="3939" h="2422">
                  <a:moveTo>
                    <a:pt x="3939" y="1729"/>
                  </a:moveTo>
                  <a:lnTo>
                    <a:pt x="846" y="2422"/>
                  </a:lnTo>
                  <a:lnTo>
                    <a:pt x="0" y="564"/>
                  </a:lnTo>
                  <a:lnTo>
                    <a:pt x="3066" y="0"/>
                  </a:lnTo>
                  <a:lnTo>
                    <a:pt x="3939" y="1729"/>
                  </a:lnTo>
                  <a:close/>
                </a:path>
              </a:pathLst>
            </a:custGeom>
            <a:solidFill>
              <a:srgbClr val="063de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849240" y="5148360"/>
              <a:ext cx="34920" cy="79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9880" y="4214880"/>
              <a:ext cx="1803600" cy="692640"/>
            </a:xfrm>
            <a:custGeom>
              <a:avLst/>
              <a:gdLst/>
              <a:ahLst/>
              <a:rect l="0" t="0" r="r" b="b"/>
              <a:pathLst>
                <a:path w="5010" h="1924">
                  <a:moveTo>
                    <a:pt x="5010" y="1924"/>
                  </a:moveTo>
                  <a:lnTo>
                    <a:pt x="5010" y="1739"/>
                  </a:lnTo>
                  <a:lnTo>
                    <a:pt x="4075" y="0"/>
                  </a:lnTo>
                  <a:lnTo>
                    <a:pt x="0" y="737"/>
                  </a:lnTo>
                  <a:lnTo>
                    <a:pt x="39" y="834"/>
                  </a:lnTo>
                  <a:lnTo>
                    <a:pt x="4005" y="110"/>
                  </a:lnTo>
                  <a:lnTo>
                    <a:pt x="5010" y="19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79800" y="5602320"/>
              <a:ext cx="821160" cy="255960"/>
            </a:xfrm>
            <a:custGeom>
              <a:avLst/>
              <a:gdLst/>
              <a:ahLst/>
              <a:rect l="0" t="0" r="r" b="b"/>
              <a:pathLst>
                <a:path w="2281" h="711">
                  <a:moveTo>
                    <a:pt x="2250" y="0"/>
                  </a:moveTo>
                  <a:lnTo>
                    <a:pt x="2281" y="79"/>
                  </a:lnTo>
                  <a:lnTo>
                    <a:pt x="207" y="711"/>
                  </a:lnTo>
                  <a:lnTo>
                    <a:pt x="0" y="610"/>
                  </a:lnTo>
                  <a:lnTo>
                    <a:pt x="22" y="516"/>
                  </a:lnTo>
                  <a:lnTo>
                    <a:pt x="2250" y="0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87720" y="5572080"/>
              <a:ext cx="802080" cy="262440"/>
            </a:xfrm>
            <a:custGeom>
              <a:avLst/>
              <a:gdLst/>
              <a:ahLst/>
              <a:rect l="0" t="0" r="r" b="b"/>
              <a:pathLst>
                <a:path w="2228" h="729">
                  <a:moveTo>
                    <a:pt x="2048" y="0"/>
                  </a:moveTo>
                  <a:lnTo>
                    <a:pt x="2228" y="83"/>
                  </a:lnTo>
                  <a:lnTo>
                    <a:pt x="198" y="685"/>
                  </a:lnTo>
                  <a:lnTo>
                    <a:pt x="194" y="729"/>
                  </a:lnTo>
                  <a:lnTo>
                    <a:pt x="180" y="681"/>
                  </a:lnTo>
                  <a:lnTo>
                    <a:pt x="0" y="601"/>
                  </a:lnTo>
                  <a:lnTo>
                    <a:pt x="20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415880" y="5329080"/>
              <a:ext cx="1441800" cy="384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495440" y="5367240"/>
              <a:ext cx="1432080" cy="4003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584360" y="5411880"/>
              <a:ext cx="1431720" cy="399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1666800" y="5446800"/>
              <a:ext cx="1444680" cy="4158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749600" y="5481720"/>
              <a:ext cx="1454040" cy="4255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812960" y="5522760"/>
              <a:ext cx="1460520" cy="4352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33600" y="5681520"/>
              <a:ext cx="412560" cy="235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73280" y="5637240"/>
              <a:ext cx="412560" cy="235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51120" y="5592600"/>
              <a:ext cx="396720" cy="228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03400" y="5560920"/>
              <a:ext cx="31428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6320" y="5519880"/>
              <a:ext cx="31428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95360" y="5472000"/>
              <a:ext cx="31464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48000" y="5433840"/>
              <a:ext cx="314280" cy="174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7040" y="5398920"/>
              <a:ext cx="320760" cy="168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6720" y="5364000"/>
              <a:ext cx="403200" cy="200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1200" y="5322960"/>
              <a:ext cx="425520" cy="193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5716440"/>
              <a:ext cx="406440" cy="2415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351080" y="5029200"/>
              <a:ext cx="73188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09640" y="4548240"/>
              <a:ext cx="330480" cy="500400"/>
            </a:xfrm>
            <a:custGeom>
              <a:avLst/>
              <a:gdLst/>
              <a:ahLst/>
              <a:rect l="0" t="0" r="r" b="b"/>
              <a:pathLst>
                <a:path w="918" h="1390">
                  <a:moveTo>
                    <a:pt x="268" y="0"/>
                  </a:moveTo>
                  <a:lnTo>
                    <a:pt x="918" y="1328"/>
                  </a:lnTo>
                  <a:lnTo>
                    <a:pt x="658" y="1390"/>
                  </a:lnTo>
                  <a:lnTo>
                    <a:pt x="0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79001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573200" y="4645080"/>
              <a:ext cx="302040" cy="444960"/>
            </a:xfrm>
            <a:custGeom>
              <a:avLst/>
              <a:gdLst/>
              <a:ahLst/>
              <a:rect l="0" t="0" r="r" b="b"/>
              <a:pathLst>
                <a:path w="839" h="1236">
                  <a:moveTo>
                    <a:pt x="269" y="0"/>
                  </a:moveTo>
                  <a:lnTo>
                    <a:pt x="839" y="1174"/>
                  </a:lnTo>
                  <a:lnTo>
                    <a:pt x="578" y="1236"/>
                  </a:lnTo>
                  <a:lnTo>
                    <a:pt x="0" y="5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37c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19120" y="4764240"/>
              <a:ext cx="273240" cy="365400"/>
            </a:xfrm>
            <a:custGeom>
              <a:avLst/>
              <a:gdLst/>
              <a:ahLst/>
              <a:rect l="0" t="0" r="r" b="b"/>
              <a:pathLst>
                <a:path w="759" h="1015">
                  <a:moveTo>
                    <a:pt x="286" y="0"/>
                  </a:moveTo>
                  <a:lnTo>
                    <a:pt x="759" y="944"/>
                  </a:lnTo>
                  <a:lnTo>
                    <a:pt x="490" y="1015"/>
                  </a:lnTo>
                  <a:lnTo>
                    <a:pt x="0" y="52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898b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89160" y="4923000"/>
              <a:ext cx="209880" cy="254520"/>
            </a:xfrm>
            <a:custGeom>
              <a:avLst/>
              <a:gdLst/>
              <a:ahLst/>
              <a:rect l="0" t="0" r="r" b="b"/>
              <a:pathLst>
                <a:path w="583" h="707">
                  <a:moveTo>
                    <a:pt x="300" y="0"/>
                  </a:moveTo>
                  <a:lnTo>
                    <a:pt x="583" y="637"/>
                  </a:lnTo>
                  <a:lnTo>
                    <a:pt x="318" y="707"/>
                  </a:lnTo>
                  <a:lnTo>
                    <a:pt x="0" y="7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95600" y="4567320"/>
              <a:ext cx="329040" cy="501840"/>
            </a:xfrm>
            <a:custGeom>
              <a:avLst/>
              <a:gdLst/>
              <a:ahLst/>
              <a:rect l="0" t="0" r="r" b="b"/>
              <a:pathLst>
                <a:path w="914" h="1394">
                  <a:moveTo>
                    <a:pt x="269" y="0"/>
                  </a:moveTo>
                  <a:lnTo>
                    <a:pt x="914" y="1332"/>
                  </a:lnTo>
                  <a:lnTo>
                    <a:pt x="653" y="1394"/>
                  </a:lnTo>
                  <a:lnTo>
                    <a:pt x="0" y="5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558800" y="4665600"/>
              <a:ext cx="300240" cy="441720"/>
            </a:xfrm>
            <a:custGeom>
              <a:avLst/>
              <a:gdLst/>
              <a:ahLst/>
              <a:rect l="0" t="0" r="r" b="b"/>
              <a:pathLst>
                <a:path w="834" h="1227">
                  <a:moveTo>
                    <a:pt x="264" y="0"/>
                  </a:moveTo>
                  <a:lnTo>
                    <a:pt x="834" y="1166"/>
                  </a:lnTo>
                  <a:lnTo>
                    <a:pt x="578" y="1227"/>
                  </a:lnTo>
                  <a:lnTo>
                    <a:pt x="0" y="5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03280" y="4781520"/>
              <a:ext cx="273240" cy="368640"/>
            </a:xfrm>
            <a:custGeom>
              <a:avLst/>
              <a:gdLst/>
              <a:ahLst/>
              <a:rect l="0" t="0" r="r" b="b"/>
              <a:pathLst>
                <a:path w="759" h="1024">
                  <a:moveTo>
                    <a:pt x="286" y="0"/>
                  </a:moveTo>
                  <a:lnTo>
                    <a:pt x="759" y="953"/>
                  </a:lnTo>
                  <a:lnTo>
                    <a:pt x="490" y="1024"/>
                  </a:lnTo>
                  <a:lnTo>
                    <a:pt x="0" y="52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79440" y="4937040"/>
              <a:ext cx="205200" cy="259200"/>
            </a:xfrm>
            <a:custGeom>
              <a:avLst/>
              <a:gdLst/>
              <a:ahLst/>
              <a:rect l="0" t="0" r="r" b="b"/>
              <a:pathLst>
                <a:path w="570" h="720">
                  <a:moveTo>
                    <a:pt x="269" y="0"/>
                  </a:moveTo>
                  <a:lnTo>
                    <a:pt x="570" y="645"/>
                  </a:lnTo>
                  <a:lnTo>
                    <a:pt x="300" y="720"/>
                  </a:lnTo>
                  <a:lnTo>
                    <a:pt x="0" y="66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890640" y="4481640"/>
              <a:ext cx="10350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fafd00"/>
                  </a:solidFill>
                  <a:latin typeface="Arial"/>
                  <a:ea typeface="Arial"/>
                </a:rPr>
                <a:t>Record Sa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981000" y="4729320"/>
              <a:ext cx="327240" cy="234720"/>
              <a:chOff x="981000" y="4729320"/>
              <a:chExt cx="327240" cy="234720"/>
            </a:xfrm>
          </p:grpSpPr>
          <p:sp>
            <p:nvSpPr>
              <p:cNvPr id="292" name=""/>
              <p:cNvSpPr/>
              <p:nvPr/>
            </p:nvSpPr>
            <p:spPr>
              <a:xfrm>
                <a:off x="981000" y="4761000"/>
                <a:ext cx="28440" cy="316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06560" y="4821120"/>
                <a:ext cx="28440" cy="3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31760" y="4878360"/>
                <a:ext cx="28440" cy="31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054080" y="4932360"/>
                <a:ext cx="28440" cy="3168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035000" y="4729320"/>
                <a:ext cx="206280" cy="41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1060560" y="4782960"/>
                <a:ext cx="20628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082520" y="4836960"/>
                <a:ext cx="20664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1101600" y="4890960"/>
                <a:ext cx="20664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"/>
          <p:cNvSpPr txBox="1"/>
          <p:nvPr/>
        </p:nvSpPr>
        <p:spPr>
          <a:xfrm>
            <a:off x="3809880" y="1752480"/>
            <a:ext cx="50673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e rented a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Focus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media projector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604800" y="1293840"/>
            <a:ext cx="3183120" cy="1981800"/>
            <a:chOff x="604800" y="1293840"/>
            <a:chExt cx="3183120" cy="1981800"/>
          </a:xfrm>
        </p:grpSpPr>
        <p:grpSp>
          <p:nvGrpSpPr>
            <p:cNvPr id="302" name=""/>
            <p:cNvGrpSpPr/>
            <p:nvPr/>
          </p:nvGrpSpPr>
          <p:grpSpPr>
            <a:xfrm>
              <a:off x="604800" y="1293840"/>
              <a:ext cx="3183120" cy="1969920"/>
              <a:chOff x="604800" y="1293840"/>
              <a:chExt cx="3183120" cy="196992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604800" y="1293840"/>
                <a:ext cx="3183120" cy="1969920"/>
                <a:chOff x="604800" y="1293840"/>
                <a:chExt cx="3183120" cy="19699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22160" y="1674720"/>
                  <a:ext cx="2700720" cy="681480"/>
                </a:xfrm>
                <a:custGeom>
                  <a:avLst/>
                  <a:gdLst/>
                  <a:ahLst/>
                  <a:rect l="0" t="0" r="r" b="b"/>
                  <a:pathLst>
                    <a:path w="7502" h="1893">
                      <a:moveTo>
                        <a:pt x="13" y="388"/>
                      </a:moveTo>
                      <a:lnTo>
                        <a:pt x="0" y="569"/>
                      </a:lnTo>
                      <a:lnTo>
                        <a:pt x="1261" y="887"/>
                      </a:lnTo>
                      <a:lnTo>
                        <a:pt x="1261" y="957"/>
                      </a:lnTo>
                      <a:lnTo>
                        <a:pt x="3599" y="1554"/>
                      </a:lnTo>
                      <a:lnTo>
                        <a:pt x="3687" y="1479"/>
                      </a:lnTo>
                      <a:lnTo>
                        <a:pt x="5341" y="1893"/>
                      </a:lnTo>
                      <a:lnTo>
                        <a:pt x="5438" y="1832"/>
                      </a:lnTo>
                      <a:lnTo>
                        <a:pt x="5743" y="1690"/>
                      </a:lnTo>
                      <a:lnTo>
                        <a:pt x="5933" y="1488"/>
                      </a:lnTo>
                      <a:lnTo>
                        <a:pt x="6197" y="1341"/>
                      </a:lnTo>
                      <a:lnTo>
                        <a:pt x="6422" y="1191"/>
                      </a:lnTo>
                      <a:lnTo>
                        <a:pt x="6673" y="1076"/>
                      </a:lnTo>
                      <a:lnTo>
                        <a:pt x="6854" y="918"/>
                      </a:lnTo>
                      <a:lnTo>
                        <a:pt x="7026" y="737"/>
                      </a:lnTo>
                      <a:lnTo>
                        <a:pt x="7088" y="609"/>
                      </a:lnTo>
                      <a:lnTo>
                        <a:pt x="7176" y="449"/>
                      </a:lnTo>
                      <a:lnTo>
                        <a:pt x="7291" y="313"/>
                      </a:lnTo>
                      <a:lnTo>
                        <a:pt x="7427" y="185"/>
                      </a:lnTo>
                      <a:lnTo>
                        <a:pt x="7502" y="110"/>
                      </a:lnTo>
                      <a:lnTo>
                        <a:pt x="7472" y="0"/>
                      </a:lnTo>
                      <a:lnTo>
                        <a:pt x="5341" y="1752"/>
                      </a:lnTo>
                      <a:lnTo>
                        <a:pt x="13" y="388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444760" y="3070080"/>
                  <a:ext cx="314280" cy="19368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451240" y="3033720"/>
                  <a:ext cx="285840" cy="181080"/>
                </a:xfrm>
                <a:prstGeom prst="ellipse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492280" y="1725480"/>
                  <a:ext cx="1000440" cy="1484640"/>
                </a:xfrm>
                <a:custGeom>
                  <a:avLst/>
                  <a:gdLst/>
                  <a:ahLst/>
                  <a:rect l="0" t="0" r="r" b="b"/>
                  <a:pathLst>
                    <a:path w="2779" h="4124">
                      <a:moveTo>
                        <a:pt x="66" y="1874"/>
                      </a:moveTo>
                      <a:lnTo>
                        <a:pt x="13" y="2977"/>
                      </a:lnTo>
                      <a:lnTo>
                        <a:pt x="0" y="4057"/>
                      </a:lnTo>
                      <a:lnTo>
                        <a:pt x="233" y="4124"/>
                      </a:lnTo>
                      <a:lnTo>
                        <a:pt x="383" y="4057"/>
                      </a:lnTo>
                      <a:lnTo>
                        <a:pt x="573" y="3868"/>
                      </a:lnTo>
                      <a:lnTo>
                        <a:pt x="890" y="3612"/>
                      </a:lnTo>
                      <a:lnTo>
                        <a:pt x="1093" y="3436"/>
                      </a:lnTo>
                      <a:lnTo>
                        <a:pt x="1336" y="3255"/>
                      </a:lnTo>
                      <a:lnTo>
                        <a:pt x="1606" y="3096"/>
                      </a:lnTo>
                      <a:lnTo>
                        <a:pt x="1795" y="2959"/>
                      </a:lnTo>
                      <a:lnTo>
                        <a:pt x="1932" y="2840"/>
                      </a:lnTo>
                      <a:lnTo>
                        <a:pt x="2642" y="2249"/>
                      </a:lnTo>
                      <a:lnTo>
                        <a:pt x="2757" y="970"/>
                      </a:lnTo>
                      <a:lnTo>
                        <a:pt x="2770" y="590"/>
                      </a:lnTo>
                      <a:lnTo>
                        <a:pt x="2779" y="273"/>
                      </a:lnTo>
                      <a:lnTo>
                        <a:pt x="2748" y="30"/>
                      </a:lnTo>
                      <a:lnTo>
                        <a:pt x="2717" y="0"/>
                      </a:lnTo>
                      <a:lnTo>
                        <a:pt x="2633" y="105"/>
                      </a:lnTo>
                      <a:lnTo>
                        <a:pt x="2452" y="251"/>
                      </a:lnTo>
                      <a:lnTo>
                        <a:pt x="2360" y="335"/>
                      </a:lnTo>
                      <a:lnTo>
                        <a:pt x="2135" y="590"/>
                      </a:lnTo>
                      <a:lnTo>
                        <a:pt x="1932" y="877"/>
                      </a:lnTo>
                      <a:lnTo>
                        <a:pt x="1628" y="1098"/>
                      </a:lnTo>
                      <a:lnTo>
                        <a:pt x="1394" y="1247"/>
                      </a:lnTo>
                      <a:lnTo>
                        <a:pt x="1164" y="1358"/>
                      </a:lnTo>
                      <a:lnTo>
                        <a:pt x="952" y="1512"/>
                      </a:lnTo>
                      <a:lnTo>
                        <a:pt x="745" y="1662"/>
                      </a:lnTo>
                      <a:lnTo>
                        <a:pt x="529" y="1874"/>
                      </a:lnTo>
                      <a:lnTo>
                        <a:pt x="396" y="1949"/>
                      </a:lnTo>
                      <a:lnTo>
                        <a:pt x="233" y="1913"/>
                      </a:lnTo>
                      <a:lnTo>
                        <a:pt x="66" y="187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474747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733840" y="2739960"/>
                  <a:ext cx="483120" cy="375120"/>
                </a:xfrm>
                <a:custGeom>
                  <a:avLst/>
                  <a:gdLst/>
                  <a:ahLst/>
                  <a:rect l="0" t="0" r="r" b="b"/>
                  <a:pathLst>
                    <a:path w="1342" h="1042">
                      <a:moveTo>
                        <a:pt x="0" y="945"/>
                      </a:moveTo>
                      <a:lnTo>
                        <a:pt x="229" y="763"/>
                      </a:lnTo>
                      <a:lnTo>
                        <a:pt x="530" y="512"/>
                      </a:lnTo>
                      <a:lnTo>
                        <a:pt x="728" y="393"/>
                      </a:lnTo>
                      <a:lnTo>
                        <a:pt x="971" y="211"/>
                      </a:lnTo>
                      <a:lnTo>
                        <a:pt x="1236" y="0"/>
                      </a:lnTo>
                      <a:lnTo>
                        <a:pt x="1342" y="0"/>
                      </a:lnTo>
                      <a:lnTo>
                        <a:pt x="1205" y="127"/>
                      </a:lnTo>
                      <a:lnTo>
                        <a:pt x="1060" y="265"/>
                      </a:lnTo>
                      <a:lnTo>
                        <a:pt x="918" y="393"/>
                      </a:lnTo>
                      <a:lnTo>
                        <a:pt x="781" y="499"/>
                      </a:lnTo>
                      <a:lnTo>
                        <a:pt x="591" y="618"/>
                      </a:lnTo>
                      <a:lnTo>
                        <a:pt x="389" y="741"/>
                      </a:lnTo>
                      <a:lnTo>
                        <a:pt x="264" y="839"/>
                      </a:lnTo>
                      <a:lnTo>
                        <a:pt x="17" y="1042"/>
                      </a:lnTo>
                      <a:lnTo>
                        <a:pt x="0" y="9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04800" y="1898640"/>
                  <a:ext cx="1945080" cy="1295640"/>
                </a:xfrm>
                <a:custGeom>
                  <a:avLst/>
                  <a:gdLst/>
                  <a:ahLst/>
                  <a:rect l="0" t="0" r="r" b="b"/>
                  <a:pathLst>
                    <a:path w="5403" h="3599">
                      <a:moveTo>
                        <a:pt x="30" y="0"/>
                      </a:moveTo>
                      <a:lnTo>
                        <a:pt x="1420" y="401"/>
                      </a:lnTo>
                      <a:lnTo>
                        <a:pt x="1566" y="295"/>
                      </a:lnTo>
                      <a:lnTo>
                        <a:pt x="3921" y="917"/>
                      </a:lnTo>
                      <a:lnTo>
                        <a:pt x="3784" y="1023"/>
                      </a:lnTo>
                      <a:lnTo>
                        <a:pt x="5403" y="1446"/>
                      </a:lnTo>
                      <a:lnTo>
                        <a:pt x="5289" y="1976"/>
                      </a:lnTo>
                      <a:lnTo>
                        <a:pt x="5245" y="2532"/>
                      </a:lnTo>
                      <a:lnTo>
                        <a:pt x="5245" y="3484"/>
                      </a:lnTo>
                      <a:lnTo>
                        <a:pt x="5245" y="3599"/>
                      </a:lnTo>
                      <a:lnTo>
                        <a:pt x="136" y="2108"/>
                      </a:lnTo>
                      <a:lnTo>
                        <a:pt x="0" y="1102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5b5b5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595600" y="2374920"/>
                  <a:ext cx="859320" cy="830520"/>
                </a:xfrm>
                <a:custGeom>
                  <a:avLst/>
                  <a:gdLst/>
                  <a:ahLst/>
                  <a:rect l="0" t="0" r="r" b="b"/>
                  <a:pathLst>
                    <a:path w="2387" h="2307">
                      <a:moveTo>
                        <a:pt x="22" y="2285"/>
                      </a:moveTo>
                      <a:lnTo>
                        <a:pt x="0" y="2086"/>
                      </a:lnTo>
                      <a:lnTo>
                        <a:pt x="30" y="1936"/>
                      </a:lnTo>
                      <a:lnTo>
                        <a:pt x="105" y="1791"/>
                      </a:lnTo>
                      <a:lnTo>
                        <a:pt x="383" y="1526"/>
                      </a:lnTo>
                      <a:lnTo>
                        <a:pt x="595" y="1315"/>
                      </a:lnTo>
                      <a:lnTo>
                        <a:pt x="807" y="1142"/>
                      </a:lnTo>
                      <a:lnTo>
                        <a:pt x="1019" y="1005"/>
                      </a:lnTo>
                      <a:lnTo>
                        <a:pt x="1266" y="855"/>
                      </a:lnTo>
                      <a:lnTo>
                        <a:pt x="1637" y="529"/>
                      </a:lnTo>
                      <a:lnTo>
                        <a:pt x="2387" y="0"/>
                      </a:lnTo>
                      <a:lnTo>
                        <a:pt x="2365" y="348"/>
                      </a:lnTo>
                      <a:lnTo>
                        <a:pt x="1623" y="1058"/>
                      </a:lnTo>
                      <a:lnTo>
                        <a:pt x="1306" y="1301"/>
                      </a:lnTo>
                      <a:lnTo>
                        <a:pt x="1072" y="1438"/>
                      </a:lnTo>
                      <a:lnTo>
                        <a:pt x="816" y="1610"/>
                      </a:lnTo>
                      <a:lnTo>
                        <a:pt x="542" y="1844"/>
                      </a:lnTo>
                      <a:lnTo>
                        <a:pt x="330" y="2033"/>
                      </a:lnTo>
                      <a:lnTo>
                        <a:pt x="92" y="2307"/>
                      </a:lnTo>
                      <a:lnTo>
                        <a:pt x="22" y="2285"/>
                      </a:lnTo>
                      <a:close/>
                    </a:path>
                  </a:pathLst>
                </a:cu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15960" y="2293920"/>
                  <a:ext cx="1881720" cy="903600"/>
                </a:xfrm>
                <a:custGeom>
                  <a:avLst/>
                  <a:gdLst/>
                  <a:ahLst/>
                  <a:rect l="0" t="0" r="r" b="b"/>
                  <a:pathLst>
                    <a:path w="5227" h="2510">
                      <a:moveTo>
                        <a:pt x="0" y="0"/>
                      </a:moveTo>
                      <a:lnTo>
                        <a:pt x="5227" y="1412"/>
                      </a:lnTo>
                      <a:lnTo>
                        <a:pt x="5227" y="2510"/>
                      </a:lnTo>
                      <a:lnTo>
                        <a:pt x="127" y="10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25400" y="1293840"/>
                  <a:ext cx="2688120" cy="1016280"/>
                </a:xfrm>
                <a:custGeom>
                  <a:avLst/>
                  <a:gdLst/>
                  <a:ahLst/>
                  <a:rect l="0" t="0" r="r" b="b"/>
                  <a:pathLst>
                    <a:path w="7467" h="2823">
                      <a:moveTo>
                        <a:pt x="471" y="1155"/>
                      </a:moveTo>
                      <a:lnTo>
                        <a:pt x="780" y="987"/>
                      </a:lnTo>
                      <a:lnTo>
                        <a:pt x="1045" y="859"/>
                      </a:lnTo>
                      <a:lnTo>
                        <a:pt x="1371" y="648"/>
                      </a:lnTo>
                      <a:lnTo>
                        <a:pt x="1605" y="511"/>
                      </a:lnTo>
                      <a:lnTo>
                        <a:pt x="1892" y="383"/>
                      </a:lnTo>
                      <a:lnTo>
                        <a:pt x="2179" y="224"/>
                      </a:lnTo>
                      <a:lnTo>
                        <a:pt x="2466" y="74"/>
                      </a:lnTo>
                      <a:lnTo>
                        <a:pt x="2655" y="0"/>
                      </a:lnTo>
                      <a:lnTo>
                        <a:pt x="7454" y="1027"/>
                      </a:lnTo>
                      <a:lnTo>
                        <a:pt x="7467" y="1071"/>
                      </a:lnTo>
                      <a:lnTo>
                        <a:pt x="7370" y="1146"/>
                      </a:lnTo>
                      <a:lnTo>
                        <a:pt x="7233" y="1270"/>
                      </a:lnTo>
                      <a:lnTo>
                        <a:pt x="7106" y="1456"/>
                      </a:lnTo>
                      <a:lnTo>
                        <a:pt x="6903" y="1729"/>
                      </a:lnTo>
                      <a:lnTo>
                        <a:pt x="6713" y="1923"/>
                      </a:lnTo>
                      <a:lnTo>
                        <a:pt x="6422" y="2104"/>
                      </a:lnTo>
                      <a:lnTo>
                        <a:pt x="6091" y="2294"/>
                      </a:lnTo>
                      <a:lnTo>
                        <a:pt x="5831" y="2457"/>
                      </a:lnTo>
                      <a:lnTo>
                        <a:pt x="5602" y="2620"/>
                      </a:lnTo>
                      <a:lnTo>
                        <a:pt x="5319" y="2823"/>
                      </a:lnTo>
                      <a:lnTo>
                        <a:pt x="0" y="1460"/>
                      </a:lnTo>
                      <a:lnTo>
                        <a:pt x="471" y="11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767"/>
                    </a:gs>
                    <a:gs pos="50000">
                      <a:srgbClr val="ffffff"/>
                    </a:gs>
                    <a:gs pos="100000">
                      <a:srgbClr val="676767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108080" y="1600200"/>
                  <a:ext cx="1922400" cy="45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407960" y="1434960"/>
                  <a:ext cx="1852920" cy="41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319040" y="1893960"/>
                  <a:ext cx="1087920" cy="329040"/>
                </a:xfrm>
                <a:custGeom>
                  <a:avLst/>
                  <a:gdLst/>
                  <a:ahLst/>
                  <a:rect l="0" t="0" r="r" b="b"/>
                  <a:pathLst>
                    <a:path w="3022" h="914">
                      <a:moveTo>
                        <a:pt x="0" y="234"/>
                      </a:moveTo>
                      <a:lnTo>
                        <a:pt x="423" y="0"/>
                      </a:lnTo>
                      <a:lnTo>
                        <a:pt x="3022" y="636"/>
                      </a:lnTo>
                      <a:lnTo>
                        <a:pt x="2696" y="914"/>
                      </a:lnTo>
                      <a:lnTo>
                        <a:pt x="0" y="234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319040" y="1978200"/>
                  <a:ext cx="970200" cy="287640"/>
                </a:xfrm>
                <a:custGeom>
                  <a:avLst/>
                  <a:gdLst/>
                  <a:ahLst/>
                  <a:rect l="0" t="0" r="r" b="b"/>
                  <a:pathLst>
                    <a:path w="2695" h="799">
                      <a:moveTo>
                        <a:pt x="0" y="0"/>
                      </a:moveTo>
                      <a:lnTo>
                        <a:pt x="8" y="127"/>
                      </a:lnTo>
                      <a:lnTo>
                        <a:pt x="2695" y="799"/>
                      </a:lnTo>
                      <a:lnTo>
                        <a:pt x="2682" y="6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317680" y="1703520"/>
                  <a:ext cx="26352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2386080" y="1720800"/>
                  <a:ext cx="264960" cy="1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65280" y="1741320"/>
                  <a:ext cx="265320" cy="17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2549520" y="1757520"/>
                  <a:ext cx="26352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2629080" y="1782720"/>
                  <a:ext cx="26352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2727360" y="1789200"/>
                  <a:ext cx="25092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H="1">
                  <a:off x="2813040" y="1820880"/>
                  <a:ext cx="233280" cy="17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15960" y="1844640"/>
                  <a:ext cx="557640" cy="194040"/>
                </a:xfrm>
                <a:custGeom>
                  <a:avLst/>
                  <a:gdLst/>
                  <a:ahLst/>
                  <a:rect l="0" t="0" r="r" b="b"/>
                  <a:pathLst>
                    <a:path w="1549" h="539">
                      <a:moveTo>
                        <a:pt x="264" y="0"/>
                      </a:moveTo>
                      <a:lnTo>
                        <a:pt x="0" y="150"/>
                      </a:lnTo>
                      <a:lnTo>
                        <a:pt x="1355" y="539"/>
                      </a:lnTo>
                      <a:lnTo>
                        <a:pt x="1549" y="425"/>
                      </a:lnTo>
                      <a:lnTo>
                        <a:pt x="295" y="83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568600" y="2679840"/>
                  <a:ext cx="483120" cy="343440"/>
                </a:xfrm>
                <a:custGeom>
                  <a:avLst/>
                  <a:gdLst/>
                  <a:ahLst/>
                  <a:rect l="0" t="0" r="r" b="b"/>
                  <a:pathLst>
                    <a:path fill="none" w="1342" h="954">
                      <a:moveTo>
                        <a:pt x="1342" y="0"/>
                      </a:moveTo>
                      <a:lnTo>
                        <a:pt x="940" y="243"/>
                      </a:lnTo>
                      <a:lnTo>
                        <a:pt x="627" y="486"/>
                      </a:lnTo>
                      <a:lnTo>
                        <a:pt x="384" y="697"/>
                      </a:lnTo>
                      <a:lnTo>
                        <a:pt x="202" y="879"/>
                      </a:lnTo>
                      <a:lnTo>
                        <a:pt x="88" y="945"/>
                      </a:lnTo>
                      <a:lnTo>
                        <a:pt x="0" y="954"/>
                      </a:lnTo>
                    </a:path>
                  </a:pathLst>
                </a:custGeom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968480" y="2214720"/>
                  <a:ext cx="613080" cy="187560"/>
                </a:xfrm>
                <a:custGeom>
                  <a:avLst/>
                  <a:gdLst/>
                  <a:ahLst/>
                  <a:rect l="0" t="0" r="r" b="b"/>
                  <a:pathLst>
                    <a:path w="1703" h="521">
                      <a:moveTo>
                        <a:pt x="0" y="145"/>
                      </a:moveTo>
                      <a:lnTo>
                        <a:pt x="229" y="0"/>
                      </a:lnTo>
                      <a:lnTo>
                        <a:pt x="1703" y="362"/>
                      </a:lnTo>
                      <a:lnTo>
                        <a:pt x="1491" y="521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500200" y="1717560"/>
                  <a:ext cx="981360" cy="706680"/>
                </a:xfrm>
                <a:custGeom>
                  <a:avLst/>
                  <a:gdLst/>
                  <a:ahLst/>
                  <a:rect l="0" t="0" r="r" b="b"/>
                  <a:pathLst>
                    <a:path w="2726" h="1963">
                      <a:moveTo>
                        <a:pt x="0" y="1897"/>
                      </a:moveTo>
                      <a:lnTo>
                        <a:pt x="224" y="1751"/>
                      </a:lnTo>
                      <a:lnTo>
                        <a:pt x="317" y="1773"/>
                      </a:lnTo>
                      <a:lnTo>
                        <a:pt x="401" y="1764"/>
                      </a:lnTo>
                      <a:lnTo>
                        <a:pt x="582" y="1676"/>
                      </a:lnTo>
                      <a:lnTo>
                        <a:pt x="868" y="1473"/>
                      </a:lnTo>
                      <a:lnTo>
                        <a:pt x="1058" y="1350"/>
                      </a:lnTo>
                      <a:lnTo>
                        <a:pt x="1309" y="1200"/>
                      </a:lnTo>
                      <a:lnTo>
                        <a:pt x="1592" y="1032"/>
                      </a:lnTo>
                      <a:lnTo>
                        <a:pt x="1813" y="877"/>
                      </a:lnTo>
                      <a:lnTo>
                        <a:pt x="2016" y="687"/>
                      </a:lnTo>
                      <a:lnTo>
                        <a:pt x="2183" y="463"/>
                      </a:lnTo>
                      <a:lnTo>
                        <a:pt x="2249" y="348"/>
                      </a:lnTo>
                      <a:lnTo>
                        <a:pt x="2377" y="180"/>
                      </a:lnTo>
                      <a:lnTo>
                        <a:pt x="2576" y="0"/>
                      </a:lnTo>
                      <a:lnTo>
                        <a:pt x="2651" y="0"/>
                      </a:lnTo>
                      <a:lnTo>
                        <a:pt x="2726" y="22"/>
                      </a:lnTo>
                      <a:lnTo>
                        <a:pt x="2629" y="114"/>
                      </a:lnTo>
                      <a:lnTo>
                        <a:pt x="2430" y="273"/>
                      </a:lnTo>
                      <a:lnTo>
                        <a:pt x="2302" y="410"/>
                      </a:lnTo>
                      <a:lnTo>
                        <a:pt x="2205" y="568"/>
                      </a:lnTo>
                      <a:lnTo>
                        <a:pt x="2082" y="727"/>
                      </a:lnTo>
                      <a:lnTo>
                        <a:pt x="1932" y="877"/>
                      </a:lnTo>
                      <a:lnTo>
                        <a:pt x="1742" y="1032"/>
                      </a:lnTo>
                      <a:lnTo>
                        <a:pt x="1570" y="1147"/>
                      </a:lnTo>
                      <a:lnTo>
                        <a:pt x="1381" y="1262"/>
                      </a:lnTo>
                      <a:lnTo>
                        <a:pt x="1195" y="1350"/>
                      </a:lnTo>
                      <a:lnTo>
                        <a:pt x="996" y="1487"/>
                      </a:lnTo>
                      <a:lnTo>
                        <a:pt x="784" y="1667"/>
                      </a:lnTo>
                      <a:lnTo>
                        <a:pt x="626" y="1804"/>
                      </a:lnTo>
                      <a:lnTo>
                        <a:pt x="445" y="1932"/>
                      </a:lnTo>
                      <a:lnTo>
                        <a:pt x="361" y="1963"/>
                      </a:lnTo>
                      <a:lnTo>
                        <a:pt x="211" y="1941"/>
                      </a:lnTo>
                      <a:lnTo>
                        <a:pt x="0" y="1897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128600" y="2581200"/>
                  <a:ext cx="1181520" cy="568800"/>
                </a:xfrm>
                <a:custGeom>
                  <a:avLst/>
                  <a:gdLst/>
                  <a:ahLst/>
                  <a:rect l="0" t="0" r="r" b="b"/>
                  <a:pathLst>
                    <a:path w="3282" h="1580">
                      <a:moveTo>
                        <a:pt x="39" y="613"/>
                      </a:moveTo>
                      <a:lnTo>
                        <a:pt x="0" y="0"/>
                      </a:lnTo>
                      <a:lnTo>
                        <a:pt x="3282" y="922"/>
                      </a:lnTo>
                      <a:lnTo>
                        <a:pt x="3282" y="1580"/>
                      </a:lnTo>
                      <a:lnTo>
                        <a:pt x="39" y="613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74640" y="2664000"/>
                  <a:ext cx="510120" cy="190800"/>
                </a:xfrm>
                <a:custGeom>
                  <a:avLst/>
                  <a:gdLst/>
                  <a:ahLst/>
                  <a:rect l="0" t="0" r="r" b="b"/>
                  <a:pathLst>
                    <a:path w="1417" h="530">
                      <a:moveTo>
                        <a:pt x="1289" y="384"/>
                      </a:moveTo>
                      <a:lnTo>
                        <a:pt x="0" y="0"/>
                      </a:lnTo>
                      <a:lnTo>
                        <a:pt x="44" y="171"/>
                      </a:lnTo>
                      <a:lnTo>
                        <a:pt x="393" y="278"/>
                      </a:lnTo>
                      <a:lnTo>
                        <a:pt x="437" y="255"/>
                      </a:lnTo>
                      <a:lnTo>
                        <a:pt x="1333" y="530"/>
                      </a:lnTo>
                      <a:lnTo>
                        <a:pt x="1417" y="468"/>
                      </a:lnTo>
                      <a:lnTo>
                        <a:pt x="128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90640" y="2395440"/>
                  <a:ext cx="73080" cy="921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282760" y="2779560"/>
                  <a:ext cx="69840" cy="810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030400" y="2252520"/>
                  <a:ext cx="62280" cy="92520"/>
                </a:xfrm>
                <a:custGeom>
                  <a:avLst/>
                  <a:gdLst/>
                  <a:ahLst/>
                  <a:rect l="0" t="0" r="r" b="b"/>
                  <a:pathLst>
                    <a:path w="173" h="257">
                      <a:moveTo>
                        <a:pt x="0" y="231"/>
                      </a:moveTo>
                      <a:lnTo>
                        <a:pt x="0" y="61"/>
                      </a:lnTo>
                      <a:lnTo>
                        <a:pt x="111" y="0"/>
                      </a:lnTo>
                      <a:lnTo>
                        <a:pt x="173" y="22"/>
                      </a:lnTo>
                      <a:lnTo>
                        <a:pt x="89" y="93"/>
                      </a:lnTo>
                      <a:lnTo>
                        <a:pt x="98" y="257"/>
                      </a:lnTo>
                      <a:lnTo>
                        <a:pt x="0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092320" y="2265480"/>
                  <a:ext cx="60840" cy="92520"/>
                </a:xfrm>
                <a:custGeom>
                  <a:avLst/>
                  <a:gdLst/>
                  <a:ahLst/>
                  <a:rect l="0" t="0" r="r" b="b"/>
                  <a:pathLst>
                    <a:path w="169" h="257">
                      <a:moveTo>
                        <a:pt x="0" y="231"/>
                      </a:moveTo>
                      <a:lnTo>
                        <a:pt x="0" y="61"/>
                      </a:lnTo>
                      <a:lnTo>
                        <a:pt x="106" y="0"/>
                      </a:lnTo>
                      <a:lnTo>
                        <a:pt x="169" y="22"/>
                      </a:lnTo>
                      <a:lnTo>
                        <a:pt x="84" y="93"/>
                      </a:lnTo>
                      <a:lnTo>
                        <a:pt x="93" y="257"/>
                      </a:lnTo>
                      <a:lnTo>
                        <a:pt x="0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163600" y="2282760"/>
                  <a:ext cx="60840" cy="93960"/>
                </a:xfrm>
                <a:custGeom>
                  <a:avLst/>
                  <a:gdLst/>
                  <a:ahLst/>
                  <a:rect l="0" t="0" r="r" b="b"/>
                  <a:pathLst>
                    <a:path w="169" h="261">
                      <a:moveTo>
                        <a:pt x="0" y="234"/>
                      </a:moveTo>
                      <a:lnTo>
                        <a:pt x="0" y="61"/>
                      </a:lnTo>
                      <a:lnTo>
                        <a:pt x="106" y="0"/>
                      </a:lnTo>
                      <a:lnTo>
                        <a:pt x="169" y="22"/>
                      </a:lnTo>
                      <a:lnTo>
                        <a:pt x="84" y="92"/>
                      </a:lnTo>
                      <a:lnTo>
                        <a:pt x="93" y="261"/>
                      </a:lnTo>
                      <a:lnTo>
                        <a:pt x="0" y="2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386080" y="2004840"/>
                  <a:ext cx="497160" cy="270360"/>
                </a:xfrm>
                <a:custGeom>
                  <a:avLst/>
                  <a:gdLst/>
                  <a:ahLst/>
                  <a:rect l="0" t="0" r="r" b="b"/>
                  <a:pathLst>
                    <a:path w="1381" h="751">
                      <a:moveTo>
                        <a:pt x="763" y="0"/>
                      </a:moveTo>
                      <a:lnTo>
                        <a:pt x="1381" y="123"/>
                      </a:lnTo>
                      <a:lnTo>
                        <a:pt x="648" y="751"/>
                      </a:lnTo>
                      <a:lnTo>
                        <a:pt x="0" y="592"/>
                      </a:lnTo>
                      <a:lnTo>
                        <a:pt x="763" y="0"/>
                      </a:lnTo>
                      <a:close/>
                    </a:path>
                  </a:pathLst>
                </a:custGeom>
                <a:blipFill rotWithShape="0">
                  <a:blip r:embed="rId1"/>
                  <a:tile tx="0" ty="0" sx="133018" sy="133018" algn="ctr"/>
                </a:blip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2968560" y="1638360"/>
                  <a:ext cx="362160" cy="168480"/>
                </a:xfrm>
                <a:custGeom>
                  <a:avLst/>
                  <a:gdLst/>
                  <a:ahLst/>
                  <a:rect l="0" t="0" r="r" b="b"/>
                  <a:pathLst>
                    <a:path w="1006" h="468">
                      <a:moveTo>
                        <a:pt x="405" y="0"/>
                      </a:moveTo>
                      <a:lnTo>
                        <a:pt x="1006" y="141"/>
                      </a:lnTo>
                      <a:lnTo>
                        <a:pt x="596" y="468"/>
                      </a:lnTo>
                      <a:lnTo>
                        <a:pt x="0" y="331"/>
                      </a:lnTo>
                      <a:lnTo>
                        <a:pt x="405" y="0"/>
                      </a:lnTo>
                      <a:close/>
                    </a:path>
                  </a:pathLst>
                </a:custGeom>
                <a:blipFill rotWithShape="0">
                  <a:blip r:embed="rId2"/>
                  <a:tile tx="0" ty="0" sx="133018" sy="133018" algn="ctr"/>
                </a:blip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651040" y="2935440"/>
                  <a:ext cx="120960" cy="141480"/>
                </a:xfrm>
                <a:custGeom>
                  <a:avLst/>
                  <a:gdLst/>
                  <a:ahLst/>
                  <a:rect l="0" t="0" r="r" b="b"/>
                  <a:pathLst>
                    <a:path w="336" h="393">
                      <a:moveTo>
                        <a:pt x="261" y="0"/>
                      </a:moveTo>
                      <a:lnTo>
                        <a:pt x="336" y="39"/>
                      </a:lnTo>
                      <a:lnTo>
                        <a:pt x="92" y="274"/>
                      </a:lnTo>
                      <a:lnTo>
                        <a:pt x="83" y="393"/>
                      </a:lnTo>
                      <a:lnTo>
                        <a:pt x="0" y="371"/>
                      </a:lnTo>
                      <a:lnTo>
                        <a:pt x="0" y="234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7b00e4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679840" y="2946240"/>
                  <a:ext cx="98640" cy="133560"/>
                </a:xfrm>
                <a:custGeom>
                  <a:avLst/>
                  <a:gdLst/>
                  <a:ahLst/>
                  <a:rect l="0" t="0" r="r" b="b"/>
                  <a:pathLst>
                    <a:path w="274" h="371">
                      <a:moveTo>
                        <a:pt x="0" y="221"/>
                      </a:moveTo>
                      <a:lnTo>
                        <a:pt x="0" y="371"/>
                      </a:lnTo>
                      <a:lnTo>
                        <a:pt x="159" y="287"/>
                      </a:lnTo>
                      <a:lnTo>
                        <a:pt x="274" y="158"/>
                      </a:lnTo>
                      <a:lnTo>
                        <a:pt x="274" y="0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b760f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119240" y="2013120"/>
                  <a:ext cx="889200" cy="251280"/>
                </a:xfrm>
                <a:custGeom>
                  <a:avLst/>
                  <a:gdLst/>
                  <a:ahLst/>
                  <a:rect l="0" t="0" r="r" b="b"/>
                  <a:pathLst>
                    <a:path w="2470" h="698">
                      <a:moveTo>
                        <a:pt x="114" y="0"/>
                      </a:moveTo>
                      <a:lnTo>
                        <a:pt x="0" y="92"/>
                      </a:lnTo>
                      <a:lnTo>
                        <a:pt x="2377" y="698"/>
                      </a:lnTo>
                      <a:lnTo>
                        <a:pt x="2470" y="614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8c8c8c"/>
                </a:solidFill>
                <a:ln w="12600">
                  <a:solidFill>
                    <a:srgbClr val="8c8c8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422520" y="1852560"/>
                  <a:ext cx="36720" cy="86040"/>
                </a:xfrm>
                <a:custGeom>
                  <a:avLst/>
                  <a:gdLst/>
                  <a:ahLst/>
                  <a:rect l="0" t="0" r="r" b="b"/>
                  <a:pathLst>
                    <a:path w="102" h="239">
                      <a:moveTo>
                        <a:pt x="0" y="39"/>
                      </a:moveTo>
                      <a:lnTo>
                        <a:pt x="0" y="239"/>
                      </a:lnTo>
                      <a:lnTo>
                        <a:pt x="102" y="186"/>
                      </a:lnTo>
                      <a:lnTo>
                        <a:pt x="102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"/>
                <p:cNvGrpSpPr/>
                <p:nvPr/>
              </p:nvGrpSpPr>
              <p:grpSpPr>
                <a:xfrm>
                  <a:off x="3043080" y="2043000"/>
                  <a:ext cx="744840" cy="747000"/>
                  <a:chOff x="3043080" y="2043000"/>
                  <a:chExt cx="744840" cy="7470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3043080" y="2043000"/>
                    <a:ext cx="362160" cy="71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006" h="1990">
                        <a:moveTo>
                          <a:pt x="688" y="0"/>
                        </a:moveTo>
                        <a:lnTo>
                          <a:pt x="561" y="52"/>
                        </a:lnTo>
                        <a:lnTo>
                          <a:pt x="432" y="158"/>
                        </a:lnTo>
                        <a:lnTo>
                          <a:pt x="295" y="304"/>
                        </a:lnTo>
                        <a:lnTo>
                          <a:pt x="189" y="499"/>
                        </a:lnTo>
                        <a:lnTo>
                          <a:pt x="83" y="772"/>
                        </a:lnTo>
                        <a:lnTo>
                          <a:pt x="8" y="1103"/>
                        </a:lnTo>
                        <a:lnTo>
                          <a:pt x="0" y="1398"/>
                        </a:lnTo>
                        <a:lnTo>
                          <a:pt x="22" y="1655"/>
                        </a:lnTo>
                        <a:lnTo>
                          <a:pt x="83" y="1832"/>
                        </a:lnTo>
                        <a:lnTo>
                          <a:pt x="167" y="1920"/>
                        </a:lnTo>
                        <a:lnTo>
                          <a:pt x="370" y="1981"/>
                        </a:lnTo>
                        <a:lnTo>
                          <a:pt x="591" y="1990"/>
                        </a:lnTo>
                        <a:lnTo>
                          <a:pt x="485" y="1920"/>
                        </a:lnTo>
                        <a:lnTo>
                          <a:pt x="379" y="1708"/>
                        </a:lnTo>
                        <a:lnTo>
                          <a:pt x="348" y="1549"/>
                        </a:lnTo>
                        <a:lnTo>
                          <a:pt x="348" y="1332"/>
                        </a:lnTo>
                        <a:lnTo>
                          <a:pt x="361" y="1059"/>
                        </a:lnTo>
                        <a:lnTo>
                          <a:pt x="445" y="825"/>
                        </a:lnTo>
                        <a:lnTo>
                          <a:pt x="512" y="644"/>
                        </a:lnTo>
                        <a:lnTo>
                          <a:pt x="653" y="379"/>
                        </a:lnTo>
                        <a:lnTo>
                          <a:pt x="772" y="220"/>
                        </a:lnTo>
                        <a:lnTo>
                          <a:pt x="891" y="114"/>
                        </a:lnTo>
                        <a:lnTo>
                          <a:pt x="1006" y="61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3162240" y="2066760"/>
                    <a:ext cx="292320" cy="692640"/>
                  </a:xfrm>
                  <a:custGeom>
                    <a:avLst/>
                    <a:gdLst/>
                    <a:ahLst/>
                    <a:rect l="0" t="0" r="r" b="b"/>
                    <a:pathLst>
                      <a:path w="812" h="1924">
                        <a:moveTo>
                          <a:pt x="812" y="101"/>
                        </a:moveTo>
                        <a:lnTo>
                          <a:pt x="759" y="48"/>
                        </a:lnTo>
                        <a:lnTo>
                          <a:pt x="675" y="0"/>
                        </a:lnTo>
                        <a:lnTo>
                          <a:pt x="543" y="57"/>
                        </a:lnTo>
                        <a:lnTo>
                          <a:pt x="424" y="176"/>
                        </a:lnTo>
                        <a:lnTo>
                          <a:pt x="317" y="308"/>
                        </a:lnTo>
                        <a:lnTo>
                          <a:pt x="211" y="490"/>
                        </a:lnTo>
                        <a:lnTo>
                          <a:pt x="110" y="719"/>
                        </a:lnTo>
                        <a:lnTo>
                          <a:pt x="52" y="900"/>
                        </a:lnTo>
                        <a:lnTo>
                          <a:pt x="8" y="1178"/>
                        </a:lnTo>
                        <a:lnTo>
                          <a:pt x="0" y="1390"/>
                        </a:lnTo>
                        <a:lnTo>
                          <a:pt x="44" y="1620"/>
                        </a:lnTo>
                        <a:lnTo>
                          <a:pt x="97" y="1809"/>
                        </a:lnTo>
                        <a:lnTo>
                          <a:pt x="194" y="1893"/>
                        </a:lnTo>
                        <a:lnTo>
                          <a:pt x="251" y="1924"/>
                        </a:lnTo>
                        <a:lnTo>
                          <a:pt x="374" y="1893"/>
                        </a:lnTo>
                        <a:lnTo>
                          <a:pt x="238" y="1757"/>
                        </a:lnTo>
                        <a:lnTo>
                          <a:pt x="163" y="1629"/>
                        </a:lnTo>
                        <a:lnTo>
                          <a:pt x="141" y="1438"/>
                        </a:lnTo>
                        <a:lnTo>
                          <a:pt x="127" y="1169"/>
                        </a:lnTo>
                        <a:lnTo>
                          <a:pt x="171" y="953"/>
                        </a:lnTo>
                        <a:lnTo>
                          <a:pt x="238" y="741"/>
                        </a:lnTo>
                        <a:lnTo>
                          <a:pt x="326" y="552"/>
                        </a:lnTo>
                        <a:lnTo>
                          <a:pt x="428" y="379"/>
                        </a:lnTo>
                        <a:lnTo>
                          <a:pt x="547" y="224"/>
                        </a:lnTo>
                        <a:lnTo>
                          <a:pt x="684" y="127"/>
                        </a:lnTo>
                        <a:lnTo>
                          <a:pt x="812" y="101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3206880" y="2100240"/>
                    <a:ext cx="375120" cy="667080"/>
                  </a:xfrm>
                  <a:custGeom>
                    <a:avLst/>
                    <a:gdLst/>
                    <a:ahLst/>
                    <a:rect l="0" t="0" r="r" b="b"/>
                    <a:pathLst>
                      <a:path w="1042" h="1853">
                        <a:moveTo>
                          <a:pt x="684" y="0"/>
                        </a:moveTo>
                        <a:lnTo>
                          <a:pt x="1042" y="114"/>
                        </a:lnTo>
                        <a:lnTo>
                          <a:pt x="923" y="154"/>
                        </a:lnTo>
                        <a:lnTo>
                          <a:pt x="804" y="242"/>
                        </a:lnTo>
                        <a:lnTo>
                          <a:pt x="662" y="476"/>
                        </a:lnTo>
                        <a:lnTo>
                          <a:pt x="569" y="701"/>
                        </a:lnTo>
                        <a:lnTo>
                          <a:pt x="472" y="953"/>
                        </a:lnTo>
                        <a:lnTo>
                          <a:pt x="441" y="1204"/>
                        </a:lnTo>
                        <a:lnTo>
                          <a:pt x="433" y="1442"/>
                        </a:lnTo>
                        <a:lnTo>
                          <a:pt x="450" y="1641"/>
                        </a:lnTo>
                        <a:lnTo>
                          <a:pt x="512" y="1804"/>
                        </a:lnTo>
                        <a:lnTo>
                          <a:pt x="556" y="1853"/>
                        </a:lnTo>
                        <a:lnTo>
                          <a:pt x="176" y="1778"/>
                        </a:lnTo>
                        <a:lnTo>
                          <a:pt x="79" y="1632"/>
                        </a:lnTo>
                        <a:lnTo>
                          <a:pt x="26" y="1460"/>
                        </a:lnTo>
                        <a:lnTo>
                          <a:pt x="0" y="1275"/>
                        </a:lnTo>
                        <a:lnTo>
                          <a:pt x="4" y="1076"/>
                        </a:lnTo>
                        <a:lnTo>
                          <a:pt x="44" y="873"/>
                        </a:lnTo>
                        <a:lnTo>
                          <a:pt x="105" y="657"/>
                        </a:lnTo>
                        <a:lnTo>
                          <a:pt x="198" y="445"/>
                        </a:lnTo>
                        <a:lnTo>
                          <a:pt x="331" y="233"/>
                        </a:lnTo>
                        <a:lnTo>
                          <a:pt x="459" y="92"/>
                        </a:lnTo>
                        <a:lnTo>
                          <a:pt x="569" y="30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363840" y="2135160"/>
                    <a:ext cx="240120" cy="632160"/>
                  </a:xfrm>
                  <a:custGeom>
                    <a:avLst/>
                    <a:gdLst/>
                    <a:ahLst/>
                    <a:rect l="0" t="0" r="r" b="b"/>
                    <a:pathLst>
                      <a:path w="667" h="1756">
                        <a:moveTo>
                          <a:pt x="663" y="61"/>
                        </a:moveTo>
                        <a:lnTo>
                          <a:pt x="570" y="0"/>
                        </a:lnTo>
                        <a:lnTo>
                          <a:pt x="566" y="26"/>
                        </a:lnTo>
                        <a:lnTo>
                          <a:pt x="526" y="13"/>
                        </a:lnTo>
                        <a:lnTo>
                          <a:pt x="450" y="66"/>
                        </a:lnTo>
                        <a:lnTo>
                          <a:pt x="349" y="149"/>
                        </a:lnTo>
                        <a:lnTo>
                          <a:pt x="252" y="321"/>
                        </a:lnTo>
                        <a:lnTo>
                          <a:pt x="172" y="476"/>
                        </a:lnTo>
                        <a:lnTo>
                          <a:pt x="92" y="727"/>
                        </a:lnTo>
                        <a:lnTo>
                          <a:pt x="30" y="975"/>
                        </a:lnTo>
                        <a:lnTo>
                          <a:pt x="0" y="1226"/>
                        </a:lnTo>
                        <a:lnTo>
                          <a:pt x="0" y="1416"/>
                        </a:lnTo>
                        <a:lnTo>
                          <a:pt x="8" y="1566"/>
                        </a:lnTo>
                        <a:lnTo>
                          <a:pt x="52" y="1681"/>
                        </a:lnTo>
                        <a:lnTo>
                          <a:pt x="114" y="1756"/>
                        </a:lnTo>
                        <a:lnTo>
                          <a:pt x="212" y="1734"/>
                        </a:lnTo>
                        <a:lnTo>
                          <a:pt x="243" y="1672"/>
                        </a:lnTo>
                        <a:lnTo>
                          <a:pt x="145" y="1619"/>
                        </a:lnTo>
                        <a:lnTo>
                          <a:pt x="101" y="1469"/>
                        </a:lnTo>
                        <a:lnTo>
                          <a:pt x="83" y="1187"/>
                        </a:lnTo>
                        <a:lnTo>
                          <a:pt x="123" y="931"/>
                        </a:lnTo>
                        <a:lnTo>
                          <a:pt x="177" y="714"/>
                        </a:lnTo>
                        <a:lnTo>
                          <a:pt x="243" y="546"/>
                        </a:lnTo>
                        <a:lnTo>
                          <a:pt x="327" y="352"/>
                        </a:lnTo>
                        <a:lnTo>
                          <a:pt x="419" y="189"/>
                        </a:lnTo>
                        <a:lnTo>
                          <a:pt x="557" y="92"/>
                        </a:lnTo>
                        <a:lnTo>
                          <a:pt x="667" y="105"/>
                        </a:lnTo>
                        <a:lnTo>
                          <a:pt x="663" y="61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3394080" y="2168640"/>
                    <a:ext cx="34344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954" h="1716">
                        <a:moveTo>
                          <a:pt x="512" y="0"/>
                        </a:moveTo>
                        <a:lnTo>
                          <a:pt x="954" y="127"/>
                        </a:lnTo>
                        <a:lnTo>
                          <a:pt x="756" y="268"/>
                        </a:lnTo>
                        <a:lnTo>
                          <a:pt x="644" y="515"/>
                        </a:lnTo>
                        <a:lnTo>
                          <a:pt x="556" y="784"/>
                        </a:lnTo>
                        <a:lnTo>
                          <a:pt x="503" y="1068"/>
                        </a:lnTo>
                        <a:lnTo>
                          <a:pt x="455" y="1345"/>
                        </a:lnTo>
                        <a:lnTo>
                          <a:pt x="481" y="1575"/>
                        </a:lnTo>
                        <a:lnTo>
                          <a:pt x="556" y="1716"/>
                        </a:lnTo>
                        <a:lnTo>
                          <a:pt x="83" y="1570"/>
                        </a:lnTo>
                        <a:lnTo>
                          <a:pt x="30" y="1473"/>
                        </a:lnTo>
                        <a:lnTo>
                          <a:pt x="4" y="1319"/>
                        </a:lnTo>
                        <a:lnTo>
                          <a:pt x="0" y="1147"/>
                        </a:lnTo>
                        <a:lnTo>
                          <a:pt x="13" y="975"/>
                        </a:lnTo>
                        <a:lnTo>
                          <a:pt x="61" y="780"/>
                        </a:lnTo>
                        <a:lnTo>
                          <a:pt x="114" y="595"/>
                        </a:lnTo>
                        <a:lnTo>
                          <a:pt x="211" y="339"/>
                        </a:lnTo>
                        <a:lnTo>
                          <a:pt x="318" y="167"/>
                        </a:lnTo>
                        <a:lnTo>
                          <a:pt x="406" y="48"/>
                        </a:lnTo>
                        <a:lnTo>
                          <a:pt x="512" y="0"/>
                        </a:lnTo>
                        <a:close/>
                      </a:path>
                    </a:pathLst>
                  </a:custGeom>
                  <a:solidFill>
                    <a:srgbClr val="797979"/>
                  </a:solidFill>
                  <a:ln w="12600">
                    <a:solidFill>
                      <a:srgbClr val="797979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3552840" y="2209320"/>
                    <a:ext cx="235080" cy="580680"/>
                  </a:xfrm>
                  <a:custGeom>
                    <a:avLst/>
                    <a:gdLst/>
                    <a:ahLst/>
                    <a:rect l="0" t="0" r="r" b="b"/>
                    <a:pathLst>
                      <a:path w="653" h="1613">
                        <a:moveTo>
                          <a:pt x="69" y="742"/>
                        </a:moveTo>
                        <a:lnTo>
                          <a:pt x="69" y="742"/>
                        </a:lnTo>
                        <a:lnTo>
                          <a:pt x="69" y="742"/>
                        </a:lnTo>
                        <a:cubicBezTo>
                          <a:pt x="34" y="883"/>
                          <a:pt x="11" y="1025"/>
                          <a:pt x="3" y="1152"/>
                        </a:cubicBezTo>
                        <a:cubicBezTo>
                          <a:pt x="-5" y="1280"/>
                          <a:pt x="3" y="1390"/>
                          <a:pt x="24" y="1470"/>
                        </a:cubicBezTo>
                        <a:cubicBezTo>
                          <a:pt x="46" y="1550"/>
                          <a:pt x="81" y="1598"/>
                          <a:pt x="126" y="1610"/>
                        </a:cubicBezTo>
                        <a:cubicBezTo>
                          <a:pt x="171" y="1621"/>
                          <a:pt x="225" y="1595"/>
                          <a:pt x="281" y="1534"/>
                        </a:cubicBezTo>
                        <a:cubicBezTo>
                          <a:pt x="338" y="1473"/>
                          <a:pt x="396" y="1380"/>
                          <a:pt x="449" y="1263"/>
                        </a:cubicBezTo>
                        <a:cubicBezTo>
                          <a:pt x="502" y="1147"/>
                          <a:pt x="549" y="1011"/>
                          <a:pt x="584" y="870"/>
                        </a:cubicBezTo>
                        <a:lnTo>
                          <a:pt x="584" y="870"/>
                        </a:lnTo>
                        <a:lnTo>
                          <a:pt x="584" y="870"/>
                        </a:lnTo>
                        <a:cubicBezTo>
                          <a:pt x="619" y="729"/>
                          <a:pt x="642" y="587"/>
                          <a:pt x="650" y="460"/>
                        </a:cubicBezTo>
                        <a:cubicBezTo>
                          <a:pt x="658" y="332"/>
                          <a:pt x="650" y="222"/>
                          <a:pt x="629" y="142"/>
                        </a:cubicBezTo>
                        <a:cubicBezTo>
                          <a:pt x="607" y="62"/>
                          <a:pt x="572" y="14"/>
                          <a:pt x="527" y="2"/>
                        </a:cubicBezTo>
                        <a:cubicBezTo>
                          <a:pt x="482" y="-9"/>
                          <a:pt x="428" y="17"/>
                          <a:pt x="372" y="78"/>
                        </a:cubicBezTo>
                        <a:cubicBezTo>
                          <a:pt x="315" y="139"/>
                          <a:pt x="257" y="232"/>
                          <a:pt x="204" y="349"/>
                        </a:cubicBezTo>
                        <a:cubicBezTo>
                          <a:pt x="151" y="465"/>
                          <a:pt x="104" y="601"/>
                          <a:pt x="69" y="742"/>
                        </a:cubicBez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3581280" y="2286720"/>
                    <a:ext cx="163800" cy="4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455" h="1183">
                        <a:moveTo>
                          <a:pt x="54" y="548"/>
                        </a:moveTo>
                        <a:lnTo>
                          <a:pt x="54" y="548"/>
                        </a:lnTo>
                        <a:cubicBezTo>
                          <a:pt x="28" y="651"/>
                          <a:pt x="11" y="755"/>
                          <a:pt x="4" y="849"/>
                        </a:cubicBezTo>
                        <a:cubicBezTo>
                          <a:pt x="-3" y="942"/>
                          <a:pt x="0" y="1022"/>
                          <a:pt x="13" y="1080"/>
                        </a:cubicBezTo>
                        <a:cubicBezTo>
                          <a:pt x="27" y="1139"/>
                          <a:pt x="50" y="1173"/>
                          <a:pt x="81" y="1181"/>
                        </a:cubicBezTo>
                        <a:cubicBezTo>
                          <a:pt x="111" y="1188"/>
                          <a:pt x="148" y="1169"/>
                          <a:pt x="187" y="1123"/>
                        </a:cubicBezTo>
                        <a:cubicBezTo>
                          <a:pt x="227" y="1078"/>
                          <a:pt x="267" y="1009"/>
                          <a:pt x="305" y="923"/>
                        </a:cubicBezTo>
                        <a:cubicBezTo>
                          <a:pt x="342" y="837"/>
                          <a:pt x="376" y="738"/>
                          <a:pt x="402" y="634"/>
                        </a:cubicBezTo>
                        <a:lnTo>
                          <a:pt x="402" y="634"/>
                        </a:lnTo>
                        <a:lnTo>
                          <a:pt x="402" y="634"/>
                        </a:lnTo>
                        <a:cubicBezTo>
                          <a:pt x="428" y="531"/>
                          <a:pt x="445" y="427"/>
                          <a:pt x="452" y="333"/>
                        </a:cubicBezTo>
                        <a:cubicBezTo>
                          <a:pt x="459" y="240"/>
                          <a:pt x="456" y="160"/>
                          <a:pt x="443" y="102"/>
                        </a:cubicBezTo>
                        <a:cubicBezTo>
                          <a:pt x="429" y="43"/>
                          <a:pt x="406" y="9"/>
                          <a:pt x="375" y="1"/>
                        </a:cubicBezTo>
                        <a:cubicBezTo>
                          <a:pt x="345" y="-6"/>
                          <a:pt x="308" y="13"/>
                          <a:pt x="269" y="59"/>
                        </a:cubicBezTo>
                        <a:cubicBezTo>
                          <a:pt x="229" y="104"/>
                          <a:pt x="189" y="173"/>
                          <a:pt x="151" y="259"/>
                        </a:cubicBezTo>
                        <a:cubicBezTo>
                          <a:pt x="114" y="345"/>
                          <a:pt x="80" y="444"/>
                          <a:pt x="54" y="54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3607200" y="2351520"/>
                    <a:ext cx="85680" cy="271080"/>
                  </a:xfrm>
                  <a:custGeom>
                    <a:avLst/>
                    <a:gdLst/>
                    <a:ahLst/>
                    <a:rect l="0" t="0" r="r" b="b"/>
                    <a:pathLst>
                      <a:path w="238" h="753">
                        <a:moveTo>
                          <a:pt x="46" y="358"/>
                        </a:moveTo>
                        <a:lnTo>
                          <a:pt x="46" y="358"/>
                        </a:lnTo>
                        <a:cubicBezTo>
                          <a:pt x="30" y="424"/>
                          <a:pt x="17" y="490"/>
                          <a:pt x="9" y="548"/>
                        </a:cubicBezTo>
                        <a:cubicBezTo>
                          <a:pt x="1" y="607"/>
                          <a:pt x="-2" y="657"/>
                          <a:pt x="1" y="693"/>
                        </a:cubicBezTo>
                        <a:cubicBezTo>
                          <a:pt x="4" y="728"/>
                          <a:pt x="12" y="749"/>
                          <a:pt x="25" y="752"/>
                        </a:cubicBezTo>
                        <a:cubicBezTo>
                          <a:pt x="38" y="755"/>
                          <a:pt x="55" y="741"/>
                          <a:pt x="74" y="711"/>
                        </a:cubicBezTo>
                        <a:cubicBezTo>
                          <a:pt x="93" y="681"/>
                          <a:pt x="114" y="635"/>
                          <a:pt x="135" y="580"/>
                        </a:cubicBezTo>
                        <a:cubicBezTo>
                          <a:pt x="156" y="524"/>
                          <a:pt x="175" y="460"/>
                          <a:pt x="192" y="394"/>
                        </a:cubicBezTo>
                        <a:lnTo>
                          <a:pt x="192" y="394"/>
                        </a:lnTo>
                        <a:lnTo>
                          <a:pt x="192" y="394"/>
                        </a:lnTo>
                        <a:cubicBezTo>
                          <a:pt x="208" y="328"/>
                          <a:pt x="221" y="262"/>
                          <a:pt x="229" y="204"/>
                        </a:cubicBezTo>
                        <a:cubicBezTo>
                          <a:pt x="237" y="145"/>
                          <a:pt x="240" y="95"/>
                          <a:pt x="237" y="59"/>
                        </a:cubicBezTo>
                        <a:cubicBezTo>
                          <a:pt x="234" y="24"/>
                          <a:pt x="226" y="3"/>
                          <a:pt x="213" y="0"/>
                        </a:cubicBezTo>
                        <a:cubicBezTo>
                          <a:pt x="200" y="-3"/>
                          <a:pt x="183" y="11"/>
                          <a:pt x="164" y="41"/>
                        </a:cubicBezTo>
                        <a:cubicBezTo>
                          <a:pt x="145" y="71"/>
                          <a:pt x="124" y="117"/>
                          <a:pt x="103" y="172"/>
                        </a:cubicBezTo>
                        <a:cubicBezTo>
                          <a:pt x="82" y="228"/>
                          <a:pt x="63" y="292"/>
                          <a:pt x="46" y="358"/>
                        </a:cubicBez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2314440" y="3129120"/>
                  <a:ext cx="163800" cy="86040"/>
                </a:xfrm>
                <a:custGeom>
                  <a:avLst/>
                  <a:gdLst/>
                  <a:ahLst/>
                  <a:rect l="0" t="0" r="r" b="b"/>
                  <a:pathLst>
                    <a:path w="455" h="239">
                      <a:moveTo>
                        <a:pt x="8" y="0"/>
                      </a:moveTo>
                      <a:lnTo>
                        <a:pt x="455" y="133"/>
                      </a:lnTo>
                      <a:lnTo>
                        <a:pt x="433" y="239"/>
                      </a:lnTo>
                      <a:lnTo>
                        <a:pt x="0" y="10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128600" y="2055960"/>
                  <a:ext cx="838440" cy="711720"/>
                </a:xfrm>
                <a:custGeom>
                  <a:avLst/>
                  <a:gdLst/>
                  <a:ahLst/>
                  <a:rect l="0" t="0" r="r" b="b"/>
                  <a:pathLst>
                    <a:path w="2329" h="1977">
                      <a:moveTo>
                        <a:pt x="0" y="0"/>
                      </a:moveTo>
                      <a:lnTo>
                        <a:pt x="0" y="1297"/>
                      </a:lnTo>
                      <a:lnTo>
                        <a:pt x="348" y="1372"/>
                      </a:lnTo>
                      <a:lnTo>
                        <a:pt x="348" y="574"/>
                      </a:lnTo>
                      <a:lnTo>
                        <a:pt x="1967" y="1002"/>
                      </a:lnTo>
                      <a:lnTo>
                        <a:pt x="1967" y="1893"/>
                      </a:lnTo>
                      <a:lnTo>
                        <a:pt x="2329" y="1977"/>
                      </a:lnTo>
                      <a:lnTo>
                        <a:pt x="2329" y="5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120680" y="2003400"/>
                  <a:ext cx="892440" cy="760680"/>
                </a:xfrm>
                <a:custGeom>
                  <a:avLst/>
                  <a:gdLst/>
                  <a:ahLst/>
                  <a:rect l="0" t="0" r="r" b="b"/>
                  <a:pathLst>
                    <a:path fill="none" w="2479" h="2113">
                      <a:moveTo>
                        <a:pt x="154" y="0"/>
                      </a:moveTo>
                      <a:lnTo>
                        <a:pt x="0" y="119"/>
                      </a:lnTo>
                      <a:lnTo>
                        <a:pt x="4" y="1447"/>
                      </a:lnTo>
                      <a:lnTo>
                        <a:pt x="357" y="1531"/>
                      </a:lnTo>
                      <a:lnTo>
                        <a:pt x="357" y="723"/>
                      </a:lnTo>
                      <a:lnTo>
                        <a:pt x="1989" y="1160"/>
                      </a:lnTo>
                      <a:lnTo>
                        <a:pt x="1989" y="2016"/>
                      </a:lnTo>
                      <a:lnTo>
                        <a:pt x="2338" y="2113"/>
                      </a:lnTo>
                      <a:lnTo>
                        <a:pt x="2338" y="732"/>
                      </a:lnTo>
                      <a:lnTo>
                        <a:pt x="2479" y="61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87680" y="2168640"/>
                <a:ext cx="581040" cy="55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4" name=""/>
            <p:cNvGrpSpPr/>
            <p:nvPr/>
          </p:nvGrpSpPr>
          <p:grpSpPr>
            <a:xfrm>
              <a:off x="1011240" y="2589120"/>
              <a:ext cx="1283040" cy="686520"/>
              <a:chOff x="1011240" y="2589120"/>
              <a:chExt cx="1283040" cy="686520"/>
            </a:xfrm>
          </p:grpSpPr>
          <p:sp>
            <p:nvSpPr>
              <p:cNvPr id="355" name=""/>
              <p:cNvSpPr/>
              <p:nvPr/>
            </p:nvSpPr>
            <p:spPr>
              <a:xfrm>
                <a:off x="1125360" y="2589120"/>
                <a:ext cx="1161000" cy="567000"/>
              </a:xfrm>
              <a:custGeom>
                <a:avLst/>
                <a:gdLst/>
                <a:ahLst/>
                <a:rect l="0" t="0" r="r" b="b"/>
                <a:pathLst>
                  <a:path w="3225" h="1575">
                    <a:moveTo>
                      <a:pt x="39" y="612"/>
                    </a:moveTo>
                    <a:lnTo>
                      <a:pt x="0" y="0"/>
                    </a:lnTo>
                    <a:lnTo>
                      <a:pt x="3225" y="918"/>
                    </a:lnTo>
                    <a:lnTo>
                      <a:pt x="3225" y="1575"/>
                    </a:lnTo>
                    <a:lnTo>
                      <a:pt x="39" y="612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160640" y="2600280"/>
                <a:ext cx="1095840" cy="459000"/>
              </a:xfrm>
              <a:custGeom>
                <a:avLst/>
                <a:gdLst/>
                <a:ahLst/>
                <a:rect l="0" t="0" r="r" b="b"/>
                <a:pathLst>
                  <a:path w="3044" h="1275">
                    <a:moveTo>
                      <a:pt x="0" y="0"/>
                    </a:moveTo>
                    <a:lnTo>
                      <a:pt x="0" y="357"/>
                    </a:lnTo>
                    <a:lnTo>
                      <a:pt x="3040" y="1275"/>
                    </a:lnTo>
                    <a:lnTo>
                      <a:pt x="3044" y="8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63520" y="2724120"/>
                <a:ext cx="1130760" cy="383040"/>
              </a:xfrm>
              <a:custGeom>
                <a:avLst/>
                <a:gdLst/>
                <a:ahLst/>
                <a:rect l="0" t="0" r="r" b="b"/>
                <a:pathLst>
                  <a:path w="3141" h="1064">
                    <a:moveTo>
                      <a:pt x="0" y="0"/>
                    </a:moveTo>
                    <a:lnTo>
                      <a:pt x="0" y="119"/>
                    </a:lnTo>
                    <a:lnTo>
                      <a:pt x="3071" y="1064"/>
                    </a:lnTo>
                    <a:lnTo>
                      <a:pt x="3141" y="9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011240" y="2724120"/>
                <a:ext cx="152640" cy="140040"/>
              </a:xfrm>
              <a:custGeom>
                <a:avLst/>
                <a:gdLst/>
                <a:ahLst/>
                <a:rect l="0" t="0" r="r" b="b"/>
                <a:pathLst>
                  <a:path w="424" h="389">
                    <a:moveTo>
                      <a:pt x="424" y="0"/>
                    </a:moveTo>
                    <a:lnTo>
                      <a:pt x="424" y="127"/>
                    </a:lnTo>
                    <a:lnTo>
                      <a:pt x="4" y="389"/>
                    </a:lnTo>
                    <a:lnTo>
                      <a:pt x="0" y="331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5920" y="2770200"/>
                <a:ext cx="1260720" cy="473400"/>
              </a:xfrm>
              <a:custGeom>
                <a:avLst/>
                <a:gdLst/>
                <a:ahLst/>
                <a:rect l="0" t="0" r="r" b="b"/>
                <a:pathLst>
                  <a:path w="3502" h="1315">
                    <a:moveTo>
                      <a:pt x="0" y="268"/>
                    </a:moveTo>
                    <a:lnTo>
                      <a:pt x="423" y="0"/>
                    </a:lnTo>
                    <a:lnTo>
                      <a:pt x="3502" y="931"/>
                    </a:lnTo>
                    <a:lnTo>
                      <a:pt x="3198" y="1315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11240" y="2862360"/>
                <a:ext cx="1155960" cy="413280"/>
              </a:xfrm>
              <a:custGeom>
                <a:avLst/>
                <a:gdLst/>
                <a:ahLst/>
                <a:rect l="0" t="0" r="r" b="b"/>
                <a:pathLst>
                  <a:path w="3211" h="1148">
                    <a:moveTo>
                      <a:pt x="0" y="0"/>
                    </a:moveTo>
                    <a:lnTo>
                      <a:pt x="0" y="101"/>
                    </a:lnTo>
                    <a:lnTo>
                      <a:pt x="3211" y="1148"/>
                    </a:lnTo>
                    <a:lnTo>
                      <a:pt x="3202" y="10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65400" y="3071880"/>
                <a:ext cx="119520" cy="203400"/>
              </a:xfrm>
              <a:custGeom>
                <a:avLst/>
                <a:gdLst/>
                <a:ahLst/>
                <a:rect l="0" t="0" r="r" b="b"/>
                <a:pathLst>
                  <a:path w="332" h="565">
                    <a:moveTo>
                      <a:pt x="332" y="0"/>
                    </a:moveTo>
                    <a:lnTo>
                      <a:pt x="332" y="202"/>
                    </a:lnTo>
                    <a:lnTo>
                      <a:pt x="4" y="565"/>
                    </a:lnTo>
                    <a:lnTo>
                      <a:pt x="0" y="4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25360" y="2590920"/>
                <a:ext cx="38520" cy="159120"/>
              </a:xfrm>
              <a:custGeom>
                <a:avLst/>
                <a:gdLst/>
                <a:ahLst/>
                <a:rect l="0" t="0" r="r" b="b"/>
                <a:pathLst>
                  <a:path w="107" h="442">
                    <a:moveTo>
                      <a:pt x="0" y="0"/>
                    </a:moveTo>
                    <a:lnTo>
                      <a:pt x="107" y="26"/>
                    </a:lnTo>
                    <a:lnTo>
                      <a:pt x="107" y="363"/>
                    </a:lnTo>
                    <a:lnTo>
                      <a:pt x="13" y="4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36600" y="2935440"/>
                <a:ext cx="44280" cy="50760"/>
              </a:xfrm>
              <a:prstGeom prst="ellipse">
                <a:avLst/>
              </a:pr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963800" y="2887560"/>
                <a:ext cx="47520" cy="52560"/>
              </a:xfrm>
              <a:prstGeom prst="ellipse">
                <a:avLst/>
              </a:pr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1444680" y="2739960"/>
                <a:ext cx="68400" cy="60480"/>
                <a:chOff x="1444680" y="2739960"/>
                <a:chExt cx="68400" cy="6048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459080" y="2739960"/>
                  <a:ext cx="54000" cy="475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444680" y="2749680"/>
                  <a:ext cx="47520" cy="5076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1519200" y="2762280"/>
                <a:ext cx="66600" cy="60480"/>
                <a:chOff x="1519200" y="2762280"/>
                <a:chExt cx="66600" cy="604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1531800" y="2762280"/>
                  <a:ext cx="54000" cy="475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519200" y="2773440"/>
                  <a:ext cx="44280" cy="4932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1693800" y="2817720"/>
                <a:ext cx="70200" cy="60480"/>
                <a:chOff x="1693800" y="2817720"/>
                <a:chExt cx="70200" cy="60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1711440" y="2817720"/>
                  <a:ext cx="52560" cy="493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693800" y="2828880"/>
                  <a:ext cx="49320" cy="4932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1781280" y="2847960"/>
                <a:ext cx="65160" cy="60480"/>
                <a:chOff x="1781280" y="2847960"/>
                <a:chExt cx="65160" cy="604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793880" y="2847960"/>
                  <a:ext cx="52560" cy="493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781280" y="2857680"/>
                  <a:ext cx="46080" cy="5076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62280" y="2868480"/>
                <a:ext cx="68040" cy="62280"/>
                <a:chOff x="1862280" y="2868480"/>
                <a:chExt cx="68040" cy="622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79560" y="2868480"/>
                  <a:ext cx="50760" cy="493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62280" y="2878200"/>
                  <a:ext cx="47520" cy="5256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2033640" y="2887560"/>
                <a:ext cx="87480" cy="8424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611360" y="2768760"/>
                <a:ext cx="85680" cy="8100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98520" y="2955960"/>
                <a:ext cx="49320" cy="52560"/>
              </a:xfrm>
              <a:prstGeom prst="ellipse">
                <a:avLst/>
              </a:pr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1197000" y="2666880"/>
                <a:ext cx="41400" cy="47520"/>
                <a:chOff x="1197000" y="2666880"/>
                <a:chExt cx="41400" cy="475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208160" y="2666880"/>
                  <a:ext cx="30240" cy="3960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197000" y="2674800"/>
                  <a:ext cx="28440" cy="3960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"/>
              <p:cNvSpPr/>
              <p:nvPr/>
            </p:nvSpPr>
            <p:spPr>
              <a:xfrm>
                <a:off x="1273320" y="2670120"/>
                <a:ext cx="125640" cy="86040"/>
              </a:xfrm>
              <a:custGeom>
                <a:avLst/>
                <a:gdLst/>
                <a:ahLst/>
                <a:rect l="0" t="0" r="r" b="b"/>
                <a:pathLst>
                  <a:path w="349" h="239">
                    <a:moveTo>
                      <a:pt x="0" y="0"/>
                    </a:moveTo>
                    <a:lnTo>
                      <a:pt x="0" y="133"/>
                    </a:lnTo>
                    <a:lnTo>
                      <a:pt x="344" y="239"/>
                    </a:lnTo>
                    <a:lnTo>
                      <a:pt x="349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246320" y="2679840"/>
                <a:ext cx="127440" cy="86040"/>
              </a:xfrm>
              <a:custGeom>
                <a:avLst/>
                <a:gdLst/>
                <a:ahLst/>
                <a:rect l="0" t="0" r="r" b="b"/>
                <a:pathLst>
                  <a:path w="354" h="239">
                    <a:moveTo>
                      <a:pt x="0" y="0"/>
                    </a:moveTo>
                    <a:lnTo>
                      <a:pt x="0" y="133"/>
                    </a:lnTo>
                    <a:lnTo>
                      <a:pt x="350" y="239"/>
                    </a:lnTo>
                    <a:lnTo>
                      <a:pt x="354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1395360" y="2727360"/>
                <a:ext cx="41400" cy="47880"/>
                <a:chOff x="1395360" y="2727360"/>
                <a:chExt cx="41400" cy="478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405080" y="2727360"/>
                  <a:ext cx="31680" cy="3960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395360" y="2733840"/>
                  <a:ext cx="28440" cy="4140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91" name=""/>
          <p:cNvSpPr/>
          <p:nvPr/>
        </p:nvSpPr>
        <p:spPr>
          <a:xfrm>
            <a:off x="635040" y="2730600"/>
            <a:ext cx="661320" cy="1946520"/>
          </a:xfrm>
          <a:custGeom>
            <a:avLst/>
            <a:gdLst/>
            <a:ahLst/>
            <a:rect l="0" t="0" r="r" b="b"/>
            <a:pathLst>
              <a:path fill="none" w="1837" h="5407">
                <a:moveTo>
                  <a:pt x="1837" y="0"/>
                </a:moveTo>
                <a:lnTo>
                  <a:pt x="1837" y="0"/>
                </a:lnTo>
                <a:cubicBezTo>
                  <a:pt x="1836" y="0"/>
                  <a:pt x="1836" y="0"/>
                  <a:pt x="1835" y="0"/>
                </a:cubicBezTo>
                <a:cubicBezTo>
                  <a:pt x="1513" y="0"/>
                  <a:pt x="1197" y="129"/>
                  <a:pt x="918" y="373"/>
                </a:cubicBezTo>
                <a:cubicBezTo>
                  <a:pt x="639" y="618"/>
                  <a:pt x="407" y="970"/>
                  <a:pt x="246" y="1394"/>
                </a:cubicBezTo>
                <a:cubicBezTo>
                  <a:pt x="85" y="1817"/>
                  <a:pt x="0" y="2298"/>
                  <a:pt x="0" y="2787"/>
                </a:cubicBezTo>
                <a:cubicBezTo>
                  <a:pt x="0" y="3276"/>
                  <a:pt x="85" y="3757"/>
                  <a:pt x="246" y="4181"/>
                </a:cubicBezTo>
                <a:cubicBezTo>
                  <a:pt x="407" y="4604"/>
                  <a:pt x="639" y="4956"/>
                  <a:pt x="918" y="5201"/>
                </a:cubicBezTo>
                <a:cubicBezTo>
                  <a:pt x="1011" y="5282"/>
                  <a:pt x="1109" y="5351"/>
                  <a:pt x="1210" y="5407"/>
                </a:cubicBezTo>
              </a:path>
            </a:pathLst>
          </a:custGeom>
          <a:ln w="25560">
            <a:solidFill>
              <a:srgbClr val="dadada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57200" y="4191120"/>
            <a:ext cx="3040560" cy="2041560"/>
            <a:chOff x="457200" y="4191120"/>
            <a:chExt cx="3040560" cy="2041560"/>
          </a:xfrm>
        </p:grpSpPr>
        <p:sp>
          <p:nvSpPr>
            <p:cNvPr id="393" name=""/>
            <p:cNvSpPr/>
            <p:nvPr/>
          </p:nvSpPr>
          <p:spPr>
            <a:xfrm>
              <a:off x="506520" y="4191120"/>
              <a:ext cx="2978640" cy="1924560"/>
            </a:xfrm>
            <a:custGeom>
              <a:avLst/>
              <a:gdLst/>
              <a:ahLst/>
              <a:rect l="0" t="0" r="r" b="b"/>
              <a:pathLst>
                <a:path w="8274" h="5346">
                  <a:moveTo>
                    <a:pt x="8274" y="3736"/>
                  </a:moveTo>
                  <a:lnTo>
                    <a:pt x="6488" y="2999"/>
                  </a:lnTo>
                  <a:lnTo>
                    <a:pt x="6488" y="2995"/>
                  </a:lnTo>
                  <a:lnTo>
                    <a:pt x="6484" y="2981"/>
                  </a:lnTo>
                  <a:lnTo>
                    <a:pt x="6479" y="2968"/>
                  </a:lnTo>
                  <a:lnTo>
                    <a:pt x="6475" y="2964"/>
                  </a:lnTo>
                  <a:lnTo>
                    <a:pt x="6471" y="2955"/>
                  </a:lnTo>
                  <a:lnTo>
                    <a:pt x="6466" y="2946"/>
                  </a:lnTo>
                  <a:lnTo>
                    <a:pt x="6462" y="2937"/>
                  </a:lnTo>
                  <a:lnTo>
                    <a:pt x="6453" y="2929"/>
                  </a:lnTo>
                  <a:lnTo>
                    <a:pt x="6449" y="2924"/>
                  </a:lnTo>
                  <a:lnTo>
                    <a:pt x="6440" y="2920"/>
                  </a:lnTo>
                  <a:lnTo>
                    <a:pt x="6431" y="2911"/>
                  </a:lnTo>
                  <a:lnTo>
                    <a:pt x="6422" y="2907"/>
                  </a:lnTo>
                  <a:lnTo>
                    <a:pt x="6413" y="2902"/>
                  </a:lnTo>
                  <a:lnTo>
                    <a:pt x="6404" y="2898"/>
                  </a:lnTo>
                  <a:lnTo>
                    <a:pt x="6396" y="2889"/>
                  </a:lnTo>
                  <a:lnTo>
                    <a:pt x="6382" y="2884"/>
                  </a:lnTo>
                  <a:lnTo>
                    <a:pt x="5676" y="2593"/>
                  </a:lnTo>
                  <a:lnTo>
                    <a:pt x="5676" y="2589"/>
                  </a:lnTo>
                  <a:lnTo>
                    <a:pt x="5676" y="2585"/>
                  </a:lnTo>
                  <a:lnTo>
                    <a:pt x="5676" y="2576"/>
                  </a:lnTo>
                  <a:lnTo>
                    <a:pt x="5676" y="2567"/>
                  </a:lnTo>
                  <a:lnTo>
                    <a:pt x="5676" y="2563"/>
                  </a:lnTo>
                  <a:lnTo>
                    <a:pt x="5671" y="2554"/>
                  </a:lnTo>
                  <a:lnTo>
                    <a:pt x="5671" y="2545"/>
                  </a:lnTo>
                  <a:lnTo>
                    <a:pt x="5667" y="2536"/>
                  </a:lnTo>
                  <a:lnTo>
                    <a:pt x="5663" y="2532"/>
                  </a:lnTo>
                  <a:lnTo>
                    <a:pt x="5658" y="2523"/>
                  </a:lnTo>
                  <a:lnTo>
                    <a:pt x="5649" y="2514"/>
                  </a:lnTo>
                  <a:lnTo>
                    <a:pt x="5645" y="2505"/>
                  </a:lnTo>
                  <a:lnTo>
                    <a:pt x="5636" y="2501"/>
                  </a:lnTo>
                  <a:lnTo>
                    <a:pt x="5627" y="2492"/>
                  </a:lnTo>
                  <a:lnTo>
                    <a:pt x="5618" y="2488"/>
                  </a:lnTo>
                  <a:lnTo>
                    <a:pt x="5605" y="2483"/>
                  </a:lnTo>
                  <a:lnTo>
                    <a:pt x="5561" y="2492"/>
                  </a:lnTo>
                  <a:lnTo>
                    <a:pt x="5517" y="2448"/>
                  </a:lnTo>
                  <a:lnTo>
                    <a:pt x="5257" y="1967"/>
                  </a:lnTo>
                  <a:lnTo>
                    <a:pt x="5257" y="1791"/>
                  </a:lnTo>
                  <a:lnTo>
                    <a:pt x="4287" y="0"/>
                  </a:lnTo>
                  <a:lnTo>
                    <a:pt x="44" y="736"/>
                  </a:lnTo>
                  <a:lnTo>
                    <a:pt x="0" y="1005"/>
                  </a:lnTo>
                  <a:lnTo>
                    <a:pt x="1137" y="3519"/>
                  </a:lnTo>
                  <a:lnTo>
                    <a:pt x="1247" y="3881"/>
                  </a:lnTo>
                  <a:lnTo>
                    <a:pt x="3528" y="5346"/>
                  </a:lnTo>
                  <a:lnTo>
                    <a:pt x="8274" y="3775"/>
                  </a:lnTo>
                  <a:lnTo>
                    <a:pt x="8274" y="37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7200" y="4456080"/>
              <a:ext cx="3040560" cy="1776600"/>
            </a:xfrm>
            <a:custGeom>
              <a:avLst/>
              <a:gdLst/>
              <a:ahLst/>
              <a:rect l="0" t="0" r="r" b="b"/>
              <a:pathLst>
                <a:path w="8446" h="4935">
                  <a:moveTo>
                    <a:pt x="3616" y="4935"/>
                  </a:moveTo>
                  <a:lnTo>
                    <a:pt x="1318" y="3418"/>
                  </a:lnTo>
                  <a:lnTo>
                    <a:pt x="1274" y="3325"/>
                  </a:lnTo>
                  <a:lnTo>
                    <a:pt x="1274" y="2977"/>
                  </a:lnTo>
                  <a:lnTo>
                    <a:pt x="1265" y="2977"/>
                  </a:lnTo>
                  <a:lnTo>
                    <a:pt x="1247" y="2973"/>
                  </a:lnTo>
                  <a:lnTo>
                    <a:pt x="1239" y="2968"/>
                  </a:lnTo>
                  <a:lnTo>
                    <a:pt x="1225" y="2964"/>
                  </a:lnTo>
                  <a:lnTo>
                    <a:pt x="1212" y="2955"/>
                  </a:lnTo>
                  <a:lnTo>
                    <a:pt x="1203" y="2946"/>
                  </a:lnTo>
                  <a:lnTo>
                    <a:pt x="1190" y="2937"/>
                  </a:lnTo>
                  <a:lnTo>
                    <a:pt x="1181" y="2924"/>
                  </a:lnTo>
                  <a:lnTo>
                    <a:pt x="1177" y="2911"/>
                  </a:lnTo>
                  <a:lnTo>
                    <a:pt x="1168" y="2898"/>
                  </a:lnTo>
                  <a:lnTo>
                    <a:pt x="1164" y="2880"/>
                  </a:lnTo>
                  <a:lnTo>
                    <a:pt x="1159" y="2867"/>
                  </a:lnTo>
                  <a:lnTo>
                    <a:pt x="1159" y="2849"/>
                  </a:lnTo>
                  <a:lnTo>
                    <a:pt x="1159" y="2836"/>
                  </a:lnTo>
                  <a:lnTo>
                    <a:pt x="1159" y="2823"/>
                  </a:lnTo>
                  <a:lnTo>
                    <a:pt x="1164" y="2809"/>
                  </a:lnTo>
                  <a:lnTo>
                    <a:pt x="1111" y="2761"/>
                  </a:lnTo>
                  <a:lnTo>
                    <a:pt x="0" y="216"/>
                  </a:lnTo>
                  <a:lnTo>
                    <a:pt x="4" y="185"/>
                  </a:lnTo>
                  <a:lnTo>
                    <a:pt x="163" y="13"/>
                  </a:lnTo>
                  <a:lnTo>
                    <a:pt x="194" y="0"/>
                  </a:lnTo>
                  <a:lnTo>
                    <a:pt x="1093" y="1944"/>
                  </a:lnTo>
                  <a:lnTo>
                    <a:pt x="1098" y="2165"/>
                  </a:lnTo>
                  <a:lnTo>
                    <a:pt x="1344" y="2704"/>
                  </a:lnTo>
                  <a:lnTo>
                    <a:pt x="1270" y="2739"/>
                  </a:lnTo>
                  <a:lnTo>
                    <a:pt x="1150" y="2796"/>
                  </a:lnTo>
                  <a:lnTo>
                    <a:pt x="1296" y="2765"/>
                  </a:lnTo>
                  <a:lnTo>
                    <a:pt x="1300" y="2765"/>
                  </a:lnTo>
                  <a:lnTo>
                    <a:pt x="1309" y="2765"/>
                  </a:lnTo>
                  <a:lnTo>
                    <a:pt x="1322" y="2770"/>
                  </a:lnTo>
                  <a:lnTo>
                    <a:pt x="1331" y="2774"/>
                  </a:lnTo>
                  <a:lnTo>
                    <a:pt x="1344" y="2783"/>
                  </a:lnTo>
                  <a:lnTo>
                    <a:pt x="1353" y="2792"/>
                  </a:lnTo>
                  <a:lnTo>
                    <a:pt x="1362" y="2801"/>
                  </a:lnTo>
                  <a:lnTo>
                    <a:pt x="1371" y="2809"/>
                  </a:lnTo>
                  <a:lnTo>
                    <a:pt x="1375" y="2818"/>
                  </a:lnTo>
                  <a:lnTo>
                    <a:pt x="1384" y="2832"/>
                  </a:lnTo>
                  <a:lnTo>
                    <a:pt x="1389" y="2840"/>
                  </a:lnTo>
                  <a:lnTo>
                    <a:pt x="1393" y="2854"/>
                  </a:lnTo>
                  <a:lnTo>
                    <a:pt x="1393" y="2867"/>
                  </a:lnTo>
                  <a:lnTo>
                    <a:pt x="1393" y="2876"/>
                  </a:lnTo>
                  <a:lnTo>
                    <a:pt x="1393" y="2889"/>
                  </a:lnTo>
                  <a:lnTo>
                    <a:pt x="1393" y="2898"/>
                  </a:lnTo>
                  <a:lnTo>
                    <a:pt x="1389" y="2911"/>
                  </a:lnTo>
                  <a:lnTo>
                    <a:pt x="1975" y="3286"/>
                  </a:lnTo>
                  <a:lnTo>
                    <a:pt x="1984" y="3290"/>
                  </a:lnTo>
                  <a:lnTo>
                    <a:pt x="1993" y="3295"/>
                  </a:lnTo>
                  <a:lnTo>
                    <a:pt x="2006" y="3303"/>
                  </a:lnTo>
                  <a:lnTo>
                    <a:pt x="2019" y="3312"/>
                  </a:lnTo>
                  <a:lnTo>
                    <a:pt x="2032" y="3321"/>
                  </a:lnTo>
                  <a:lnTo>
                    <a:pt x="2046" y="3334"/>
                  </a:lnTo>
                  <a:lnTo>
                    <a:pt x="2054" y="3343"/>
                  </a:lnTo>
                  <a:lnTo>
                    <a:pt x="2063" y="3356"/>
                  </a:lnTo>
                  <a:lnTo>
                    <a:pt x="2072" y="3370"/>
                  </a:lnTo>
                  <a:lnTo>
                    <a:pt x="2076" y="3378"/>
                  </a:lnTo>
                  <a:lnTo>
                    <a:pt x="2085" y="3392"/>
                  </a:lnTo>
                  <a:lnTo>
                    <a:pt x="2090" y="3405"/>
                  </a:lnTo>
                  <a:lnTo>
                    <a:pt x="2090" y="3418"/>
                  </a:lnTo>
                  <a:lnTo>
                    <a:pt x="2094" y="3431"/>
                  </a:lnTo>
                  <a:lnTo>
                    <a:pt x="2094" y="3444"/>
                  </a:lnTo>
                  <a:lnTo>
                    <a:pt x="2094" y="3458"/>
                  </a:lnTo>
                  <a:lnTo>
                    <a:pt x="2094" y="3475"/>
                  </a:lnTo>
                  <a:lnTo>
                    <a:pt x="3625" y="4446"/>
                  </a:lnTo>
                  <a:lnTo>
                    <a:pt x="3718" y="4446"/>
                  </a:lnTo>
                  <a:lnTo>
                    <a:pt x="8402" y="3039"/>
                  </a:lnTo>
                  <a:lnTo>
                    <a:pt x="8402" y="2995"/>
                  </a:lnTo>
                  <a:lnTo>
                    <a:pt x="8446" y="3034"/>
                  </a:lnTo>
                  <a:lnTo>
                    <a:pt x="8446" y="3427"/>
                  </a:lnTo>
                  <a:lnTo>
                    <a:pt x="8411" y="3453"/>
                  </a:lnTo>
                  <a:lnTo>
                    <a:pt x="3718" y="4926"/>
                  </a:lnTo>
                  <a:lnTo>
                    <a:pt x="3616" y="4935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2640" y="4378320"/>
              <a:ext cx="1500480" cy="659160"/>
            </a:xfrm>
            <a:custGeom>
              <a:avLst/>
              <a:gdLst/>
              <a:ahLst/>
              <a:rect l="0" t="0" r="r" b="b"/>
              <a:pathLst>
                <a:path w="4168" h="1831">
                  <a:moveTo>
                    <a:pt x="4049" y="1804"/>
                  </a:moveTo>
                  <a:lnTo>
                    <a:pt x="4168" y="1831"/>
                  </a:lnTo>
                  <a:lnTo>
                    <a:pt x="3206" y="0"/>
                  </a:lnTo>
                  <a:lnTo>
                    <a:pt x="0" y="586"/>
                  </a:lnTo>
                  <a:lnTo>
                    <a:pt x="110" y="639"/>
                  </a:lnTo>
                  <a:lnTo>
                    <a:pt x="3176" y="66"/>
                  </a:lnTo>
                  <a:lnTo>
                    <a:pt x="4049" y="1804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2640" y="4589640"/>
              <a:ext cx="1500480" cy="711720"/>
            </a:xfrm>
            <a:custGeom>
              <a:avLst/>
              <a:gdLst/>
              <a:ahLst/>
              <a:rect l="0" t="0" r="r" b="b"/>
              <a:pathLst>
                <a:path fill="none" w="4168" h="1977">
                  <a:moveTo>
                    <a:pt x="4168" y="1244"/>
                  </a:moveTo>
                  <a:lnTo>
                    <a:pt x="886" y="19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9800" y="4356000"/>
              <a:ext cx="1584720" cy="975240"/>
            </a:xfrm>
            <a:custGeom>
              <a:avLst/>
              <a:gdLst/>
              <a:ahLst/>
              <a:rect l="0" t="0" r="r" b="b"/>
              <a:pathLst>
                <a:path fill="none" w="4402" h="2709">
                  <a:moveTo>
                    <a:pt x="3362" y="0"/>
                  </a:moveTo>
                  <a:lnTo>
                    <a:pt x="4402" y="1932"/>
                  </a:lnTo>
                  <a:lnTo>
                    <a:pt x="956" y="2709"/>
                  </a:lnTo>
                  <a:lnTo>
                    <a:pt x="0" y="5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373480" y="4835520"/>
              <a:ext cx="23760" cy="468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4560" y="4491000"/>
              <a:ext cx="309960" cy="744840"/>
            </a:xfrm>
            <a:custGeom>
              <a:avLst/>
              <a:gdLst/>
              <a:ahLst/>
              <a:rect l="0" t="0" r="r" b="b"/>
              <a:pathLst>
                <a:path fill="none" w="861" h="2069">
                  <a:moveTo>
                    <a:pt x="0" y="0"/>
                  </a:moveTo>
                  <a:lnTo>
                    <a:pt x="861" y="1831"/>
                  </a:lnTo>
                  <a:lnTo>
                    <a:pt x="853" y="2047"/>
                  </a:lnTo>
                  <a:lnTo>
                    <a:pt x="764" y="20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373480" y="4902120"/>
              <a:ext cx="25200" cy="324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3000" y="5335560"/>
              <a:ext cx="489240" cy="125640"/>
            </a:xfrm>
            <a:custGeom>
              <a:avLst/>
              <a:gdLst/>
              <a:ahLst/>
              <a:rect l="0" t="0" r="r" b="b"/>
              <a:pathLst>
                <a:path w="1359" h="349">
                  <a:moveTo>
                    <a:pt x="0" y="349"/>
                  </a:moveTo>
                  <a:lnTo>
                    <a:pt x="189" y="261"/>
                  </a:lnTo>
                  <a:lnTo>
                    <a:pt x="1323" y="0"/>
                  </a:lnTo>
                  <a:lnTo>
                    <a:pt x="1359" y="39"/>
                  </a:lnTo>
                  <a:lnTo>
                    <a:pt x="97" y="331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25520" y="5075280"/>
              <a:ext cx="279720" cy="74880"/>
            </a:xfrm>
            <a:custGeom>
              <a:avLst/>
              <a:gdLst/>
              <a:ahLst/>
              <a:rect l="0" t="0" r="r" b="b"/>
              <a:pathLst>
                <a:path w="777" h="208">
                  <a:moveTo>
                    <a:pt x="746" y="0"/>
                  </a:moveTo>
                  <a:lnTo>
                    <a:pt x="0" y="168"/>
                  </a:lnTo>
                  <a:lnTo>
                    <a:pt x="48" y="208"/>
                  </a:lnTo>
                  <a:lnTo>
                    <a:pt x="88" y="199"/>
                  </a:lnTo>
                  <a:lnTo>
                    <a:pt x="777" y="35"/>
                  </a:lnTo>
                  <a:lnTo>
                    <a:pt x="74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19320" y="5238720"/>
              <a:ext cx="1621080" cy="452880"/>
            </a:xfrm>
            <a:custGeom>
              <a:avLst/>
              <a:gdLst/>
              <a:ahLst/>
              <a:rect l="0" t="0" r="r" b="b"/>
              <a:pathLst>
                <a:path w="4503" h="1258">
                  <a:moveTo>
                    <a:pt x="4419" y="17"/>
                  </a:moveTo>
                  <a:lnTo>
                    <a:pt x="4428" y="17"/>
                  </a:lnTo>
                  <a:lnTo>
                    <a:pt x="4441" y="17"/>
                  </a:lnTo>
                  <a:lnTo>
                    <a:pt x="4454" y="26"/>
                  </a:lnTo>
                  <a:lnTo>
                    <a:pt x="4463" y="35"/>
                  </a:lnTo>
                  <a:lnTo>
                    <a:pt x="4476" y="44"/>
                  </a:lnTo>
                  <a:lnTo>
                    <a:pt x="4481" y="52"/>
                  </a:lnTo>
                  <a:lnTo>
                    <a:pt x="4485" y="57"/>
                  </a:lnTo>
                  <a:lnTo>
                    <a:pt x="4490" y="61"/>
                  </a:lnTo>
                  <a:lnTo>
                    <a:pt x="4494" y="70"/>
                  </a:lnTo>
                  <a:lnTo>
                    <a:pt x="4498" y="74"/>
                  </a:lnTo>
                  <a:lnTo>
                    <a:pt x="4498" y="83"/>
                  </a:lnTo>
                  <a:lnTo>
                    <a:pt x="4503" y="88"/>
                  </a:lnTo>
                  <a:lnTo>
                    <a:pt x="17" y="1258"/>
                  </a:lnTo>
                  <a:lnTo>
                    <a:pt x="17" y="1227"/>
                  </a:lnTo>
                  <a:lnTo>
                    <a:pt x="13" y="1223"/>
                  </a:lnTo>
                  <a:lnTo>
                    <a:pt x="8" y="1210"/>
                  </a:lnTo>
                  <a:lnTo>
                    <a:pt x="4" y="1201"/>
                  </a:lnTo>
                  <a:lnTo>
                    <a:pt x="0" y="1192"/>
                  </a:lnTo>
                  <a:lnTo>
                    <a:pt x="0" y="1183"/>
                  </a:lnTo>
                  <a:lnTo>
                    <a:pt x="0" y="1174"/>
                  </a:lnTo>
                  <a:lnTo>
                    <a:pt x="0" y="1166"/>
                  </a:lnTo>
                  <a:lnTo>
                    <a:pt x="0" y="1161"/>
                  </a:lnTo>
                  <a:lnTo>
                    <a:pt x="0" y="1152"/>
                  </a:lnTo>
                  <a:lnTo>
                    <a:pt x="0" y="1144"/>
                  </a:lnTo>
                  <a:lnTo>
                    <a:pt x="8" y="1139"/>
                  </a:lnTo>
                  <a:lnTo>
                    <a:pt x="13" y="1135"/>
                  </a:lnTo>
                  <a:lnTo>
                    <a:pt x="22" y="1126"/>
                  </a:lnTo>
                  <a:lnTo>
                    <a:pt x="30" y="1122"/>
                  </a:lnTo>
                  <a:lnTo>
                    <a:pt x="4371" y="0"/>
                  </a:lnTo>
                  <a:lnTo>
                    <a:pt x="4419" y="17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106640" y="5276880"/>
              <a:ext cx="23760" cy="205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30320" y="4381560"/>
              <a:ext cx="3240" cy="223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957240" y="5124600"/>
              <a:ext cx="1590840" cy="379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68320" y="5448240"/>
              <a:ext cx="152640" cy="84600"/>
            </a:xfrm>
            <a:custGeom>
              <a:avLst/>
              <a:gdLst/>
              <a:ahLst/>
              <a:rect l="0" t="0" r="r" b="b"/>
              <a:pathLst>
                <a:path fill="none" w="424" h="235">
                  <a:moveTo>
                    <a:pt x="0" y="35"/>
                  </a:moveTo>
                  <a:lnTo>
                    <a:pt x="92" y="8"/>
                  </a:lnTo>
                  <a:lnTo>
                    <a:pt x="145" y="0"/>
                  </a:lnTo>
                  <a:lnTo>
                    <a:pt x="154" y="0"/>
                  </a:lnTo>
                  <a:lnTo>
                    <a:pt x="171" y="4"/>
                  </a:lnTo>
                  <a:lnTo>
                    <a:pt x="180" y="8"/>
                  </a:lnTo>
                  <a:lnTo>
                    <a:pt x="189" y="17"/>
                  </a:lnTo>
                  <a:lnTo>
                    <a:pt x="202" y="26"/>
                  </a:lnTo>
                  <a:lnTo>
                    <a:pt x="207" y="35"/>
                  </a:lnTo>
                  <a:lnTo>
                    <a:pt x="217" y="44"/>
                  </a:lnTo>
                  <a:lnTo>
                    <a:pt x="225" y="57"/>
                  </a:lnTo>
                  <a:lnTo>
                    <a:pt x="230" y="67"/>
                  </a:lnTo>
                  <a:lnTo>
                    <a:pt x="234" y="80"/>
                  </a:lnTo>
                  <a:lnTo>
                    <a:pt x="239" y="93"/>
                  </a:lnTo>
                  <a:lnTo>
                    <a:pt x="243" y="106"/>
                  </a:lnTo>
                  <a:lnTo>
                    <a:pt x="243" y="115"/>
                  </a:lnTo>
                  <a:lnTo>
                    <a:pt x="243" y="128"/>
                  </a:lnTo>
                  <a:lnTo>
                    <a:pt x="243" y="137"/>
                  </a:lnTo>
                  <a:lnTo>
                    <a:pt x="239" y="150"/>
                  </a:lnTo>
                  <a:lnTo>
                    <a:pt x="424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15840" y="55040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116" y="0"/>
                  </a:moveTo>
                  <a:lnTo>
                    <a:pt x="112" y="4"/>
                  </a:lnTo>
                  <a:lnTo>
                    <a:pt x="112" y="9"/>
                  </a:lnTo>
                  <a:lnTo>
                    <a:pt x="112" y="14"/>
                  </a:lnTo>
                  <a:lnTo>
                    <a:pt x="107" y="14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3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0" y="48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7" y="52"/>
                  </a:lnTo>
                  <a:lnTo>
                    <a:pt x="62" y="58"/>
                  </a:lnTo>
                  <a:lnTo>
                    <a:pt x="58" y="58"/>
                  </a:lnTo>
                  <a:lnTo>
                    <a:pt x="58" y="63"/>
                  </a:lnTo>
                  <a:lnTo>
                    <a:pt x="49" y="63"/>
                  </a:lnTo>
                  <a:lnTo>
                    <a:pt x="45" y="63"/>
                  </a:lnTo>
                  <a:lnTo>
                    <a:pt x="40" y="67"/>
                  </a:lnTo>
                  <a:lnTo>
                    <a:pt x="31" y="67"/>
                  </a:lnTo>
                  <a:lnTo>
                    <a:pt x="26" y="67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3" y="72"/>
                  </a:lnTo>
                  <a:lnTo>
                    <a:pt x="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17440" y="5510160"/>
              <a:ext cx="157680" cy="66960"/>
            </a:xfrm>
            <a:custGeom>
              <a:avLst/>
              <a:gdLst/>
              <a:ahLst/>
              <a:rect l="0" t="0" r="r" b="b"/>
              <a:pathLst>
                <a:path w="438" h="186">
                  <a:moveTo>
                    <a:pt x="195" y="0"/>
                  </a:moveTo>
                  <a:lnTo>
                    <a:pt x="438" y="133"/>
                  </a:lnTo>
                  <a:lnTo>
                    <a:pt x="225" y="186"/>
                  </a:lnTo>
                  <a:lnTo>
                    <a:pt x="0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143000" y="5530680"/>
              <a:ext cx="109800" cy="46440"/>
            </a:xfrm>
            <a:custGeom>
              <a:avLst/>
              <a:gdLst/>
              <a:ahLst/>
              <a:rect l="0" t="0" r="r" b="b"/>
              <a:pathLst>
                <a:path w="305" h="129">
                  <a:moveTo>
                    <a:pt x="305" y="93"/>
                  </a:moveTo>
                  <a:lnTo>
                    <a:pt x="136" y="0"/>
                  </a:lnTo>
                  <a:lnTo>
                    <a:pt x="0" y="30"/>
                  </a:lnTo>
                  <a:lnTo>
                    <a:pt x="155" y="129"/>
                  </a:lnTo>
                  <a:lnTo>
                    <a:pt x="305" y="93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927000" y="5099040"/>
              <a:ext cx="1530360" cy="351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506680" y="5964120"/>
              <a:ext cx="31680" cy="9720"/>
            </a:xfrm>
            <a:prstGeom prst="line">
              <a:avLst/>
            </a:prstGeom>
            <a:ln w="12600">
              <a:solidFill>
                <a:srgbClr val="ff00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49280" y="5295960"/>
              <a:ext cx="2003760" cy="692640"/>
            </a:xfrm>
            <a:custGeom>
              <a:avLst/>
              <a:gdLst/>
              <a:ahLst/>
              <a:rect l="0" t="0" r="r" b="b"/>
              <a:pathLst>
                <a:path w="5566" h="1924">
                  <a:moveTo>
                    <a:pt x="4057" y="0"/>
                  </a:moveTo>
                  <a:lnTo>
                    <a:pt x="4132" y="0"/>
                  </a:lnTo>
                  <a:lnTo>
                    <a:pt x="5561" y="613"/>
                  </a:lnTo>
                  <a:lnTo>
                    <a:pt x="5566" y="658"/>
                  </a:lnTo>
                  <a:lnTo>
                    <a:pt x="1397" y="1924"/>
                  </a:lnTo>
                  <a:lnTo>
                    <a:pt x="1318" y="1924"/>
                  </a:lnTo>
                  <a:lnTo>
                    <a:pt x="0" y="1099"/>
                  </a:lnTo>
                  <a:lnTo>
                    <a:pt x="22" y="1063"/>
                  </a:lnTo>
                  <a:lnTo>
                    <a:pt x="4057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2243160" y="5199120"/>
              <a:ext cx="322200" cy="77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2295360" y="5229360"/>
              <a:ext cx="320760" cy="77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65360" y="5157720"/>
              <a:ext cx="221040" cy="127440"/>
            </a:xfrm>
            <a:custGeom>
              <a:avLst/>
              <a:gdLst/>
              <a:ahLst/>
              <a:rect l="0" t="0" r="r" b="b"/>
              <a:pathLst>
                <a:path fill="none" w="614" h="354">
                  <a:moveTo>
                    <a:pt x="0" y="0"/>
                  </a:moveTo>
                  <a:lnTo>
                    <a:pt x="522" y="225"/>
                  </a:lnTo>
                  <a:lnTo>
                    <a:pt x="526" y="230"/>
                  </a:lnTo>
                  <a:lnTo>
                    <a:pt x="544" y="239"/>
                  </a:lnTo>
                  <a:lnTo>
                    <a:pt x="553" y="247"/>
                  </a:lnTo>
                  <a:lnTo>
                    <a:pt x="562" y="252"/>
                  </a:lnTo>
                  <a:lnTo>
                    <a:pt x="570" y="261"/>
                  </a:lnTo>
                  <a:lnTo>
                    <a:pt x="575" y="270"/>
                  </a:lnTo>
                  <a:lnTo>
                    <a:pt x="579" y="279"/>
                  </a:lnTo>
                  <a:lnTo>
                    <a:pt x="588" y="284"/>
                  </a:lnTo>
                  <a:lnTo>
                    <a:pt x="588" y="293"/>
                  </a:lnTo>
                  <a:lnTo>
                    <a:pt x="592" y="301"/>
                  </a:lnTo>
                  <a:lnTo>
                    <a:pt x="597" y="310"/>
                  </a:lnTo>
                  <a:lnTo>
                    <a:pt x="601" y="319"/>
                  </a:lnTo>
                  <a:lnTo>
                    <a:pt x="606" y="328"/>
                  </a:lnTo>
                  <a:lnTo>
                    <a:pt x="606" y="337"/>
                  </a:lnTo>
                  <a:lnTo>
                    <a:pt x="610" y="345"/>
                  </a:lnTo>
                  <a:lnTo>
                    <a:pt x="614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41480" y="5505480"/>
              <a:ext cx="241560" cy="171720"/>
            </a:xfrm>
            <a:custGeom>
              <a:avLst/>
              <a:gdLst/>
              <a:ahLst/>
              <a:rect l="0" t="0" r="r" b="b"/>
              <a:pathLst>
                <a:path fill="none" w="671" h="477">
                  <a:moveTo>
                    <a:pt x="0" y="0"/>
                  </a:moveTo>
                  <a:lnTo>
                    <a:pt x="569" y="331"/>
                  </a:lnTo>
                  <a:lnTo>
                    <a:pt x="574" y="336"/>
                  </a:lnTo>
                  <a:lnTo>
                    <a:pt x="591" y="344"/>
                  </a:lnTo>
                  <a:lnTo>
                    <a:pt x="600" y="353"/>
                  </a:lnTo>
                  <a:lnTo>
                    <a:pt x="609" y="362"/>
                  </a:lnTo>
                  <a:lnTo>
                    <a:pt x="618" y="371"/>
                  </a:lnTo>
                  <a:lnTo>
                    <a:pt x="627" y="375"/>
                  </a:lnTo>
                  <a:lnTo>
                    <a:pt x="631" y="384"/>
                  </a:lnTo>
                  <a:lnTo>
                    <a:pt x="640" y="393"/>
                  </a:lnTo>
                  <a:lnTo>
                    <a:pt x="644" y="402"/>
                  </a:lnTo>
                  <a:lnTo>
                    <a:pt x="649" y="411"/>
                  </a:lnTo>
                  <a:lnTo>
                    <a:pt x="653" y="424"/>
                  </a:lnTo>
                  <a:lnTo>
                    <a:pt x="658" y="433"/>
                  </a:lnTo>
                  <a:lnTo>
                    <a:pt x="662" y="446"/>
                  </a:lnTo>
                  <a:lnTo>
                    <a:pt x="666" y="455"/>
                  </a:lnTo>
                  <a:lnTo>
                    <a:pt x="671" y="464"/>
                  </a:lnTo>
                  <a:lnTo>
                    <a:pt x="671" y="4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1284120" y="5281560"/>
              <a:ext cx="1501920" cy="3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9960" y="5861160"/>
              <a:ext cx="841680" cy="298800"/>
            </a:xfrm>
            <a:custGeom>
              <a:avLst/>
              <a:gdLst/>
              <a:ahLst/>
              <a:rect l="0" t="0" r="r" b="b"/>
              <a:pathLst>
                <a:path w="2338" h="830">
                  <a:moveTo>
                    <a:pt x="0" y="733"/>
                  </a:moveTo>
                  <a:lnTo>
                    <a:pt x="0" y="830"/>
                  </a:lnTo>
                  <a:lnTo>
                    <a:pt x="617" y="640"/>
                  </a:lnTo>
                  <a:lnTo>
                    <a:pt x="617" y="605"/>
                  </a:lnTo>
                  <a:lnTo>
                    <a:pt x="1601" y="299"/>
                  </a:lnTo>
                  <a:lnTo>
                    <a:pt x="1711" y="295"/>
                  </a:lnTo>
                  <a:lnTo>
                    <a:pt x="2333" y="101"/>
                  </a:lnTo>
                  <a:lnTo>
                    <a:pt x="2338" y="0"/>
                  </a:lnTo>
                  <a:lnTo>
                    <a:pt x="1716" y="189"/>
                  </a:lnTo>
                  <a:lnTo>
                    <a:pt x="1601" y="198"/>
                  </a:lnTo>
                  <a:lnTo>
                    <a:pt x="617" y="512"/>
                  </a:lnTo>
                  <a:lnTo>
                    <a:pt x="617" y="538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843200" y="6116760"/>
              <a:ext cx="184680" cy="84600"/>
            </a:xfrm>
            <a:custGeom>
              <a:avLst/>
              <a:gdLst/>
              <a:ahLst/>
              <a:rect l="0" t="0" r="r" b="b"/>
              <a:pathLst>
                <a:path w="513" h="235">
                  <a:moveTo>
                    <a:pt x="513" y="0"/>
                  </a:moveTo>
                  <a:lnTo>
                    <a:pt x="513" y="71"/>
                  </a:lnTo>
                  <a:lnTo>
                    <a:pt x="0" y="235"/>
                  </a:lnTo>
                  <a:lnTo>
                    <a:pt x="0" y="164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852560" y="5899320"/>
              <a:ext cx="832320" cy="259200"/>
            </a:xfrm>
            <a:custGeom>
              <a:avLst/>
              <a:gdLst/>
              <a:ahLst/>
              <a:rect l="0" t="0" r="r" b="b"/>
              <a:pathLst>
                <a:path fill="none" w="2312" h="720">
                  <a:moveTo>
                    <a:pt x="2312" y="0"/>
                  </a:moveTo>
                  <a:lnTo>
                    <a:pt x="1672" y="190"/>
                  </a:lnTo>
                  <a:lnTo>
                    <a:pt x="1544" y="195"/>
                  </a:lnTo>
                  <a:lnTo>
                    <a:pt x="587" y="499"/>
                  </a:lnTo>
                  <a:lnTo>
                    <a:pt x="583" y="534"/>
                  </a:lnTo>
                  <a:lnTo>
                    <a:pt x="0" y="72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65440" y="6056280"/>
              <a:ext cx="25920" cy="170280"/>
            </a:xfrm>
            <a:custGeom>
              <a:avLst/>
              <a:gdLst/>
              <a:ahLst/>
              <a:rect l="0" t="0" r="r" b="b"/>
              <a:pathLst>
                <a:path w="72" h="473">
                  <a:moveTo>
                    <a:pt x="72" y="0"/>
                  </a:moveTo>
                  <a:lnTo>
                    <a:pt x="72" y="473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76600" y="5608800"/>
              <a:ext cx="821160" cy="275040"/>
            </a:xfrm>
            <a:custGeom>
              <a:avLst/>
              <a:gdLst/>
              <a:ahLst/>
              <a:rect l="0" t="0" r="r" b="b"/>
              <a:pathLst>
                <a:path fill="none" w="2281" h="764">
                  <a:moveTo>
                    <a:pt x="0" y="764"/>
                  </a:moveTo>
                  <a:lnTo>
                    <a:pt x="2237" y="48"/>
                  </a:lnTo>
                  <a:lnTo>
                    <a:pt x="228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914400" y="5599080"/>
              <a:ext cx="925920" cy="555840"/>
            </a:xfrm>
            <a:custGeom>
              <a:avLst/>
              <a:gdLst/>
              <a:ahLst/>
              <a:rect l="0" t="0" r="r" b="b"/>
              <a:pathLst>
                <a:path fill="none" w="2572" h="1544">
                  <a:moveTo>
                    <a:pt x="2572" y="1504"/>
                  </a:moveTo>
                  <a:lnTo>
                    <a:pt x="2431" y="1544"/>
                  </a:lnTo>
                  <a:lnTo>
                    <a:pt x="2370" y="1544"/>
                  </a:lnTo>
                  <a:lnTo>
                    <a:pt x="2334" y="1539"/>
                  </a:lnTo>
                  <a:lnTo>
                    <a:pt x="30" y="3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87600" y="5184720"/>
              <a:ext cx="479880" cy="111600"/>
            </a:xfrm>
            <a:custGeom>
              <a:avLst/>
              <a:gdLst/>
              <a:ahLst/>
              <a:rect l="0" t="0" r="r" b="b"/>
              <a:pathLst>
                <a:path w="1333" h="310">
                  <a:moveTo>
                    <a:pt x="0" y="270"/>
                  </a:moveTo>
                  <a:lnTo>
                    <a:pt x="1170" y="0"/>
                  </a:lnTo>
                  <a:lnTo>
                    <a:pt x="1205" y="39"/>
                  </a:lnTo>
                  <a:lnTo>
                    <a:pt x="1258" y="35"/>
                  </a:lnTo>
                  <a:lnTo>
                    <a:pt x="1267" y="35"/>
                  </a:lnTo>
                  <a:lnTo>
                    <a:pt x="1272" y="39"/>
                  </a:lnTo>
                  <a:lnTo>
                    <a:pt x="1280" y="44"/>
                  </a:lnTo>
                  <a:lnTo>
                    <a:pt x="1289" y="48"/>
                  </a:lnTo>
                  <a:lnTo>
                    <a:pt x="1294" y="52"/>
                  </a:lnTo>
                  <a:lnTo>
                    <a:pt x="1302" y="61"/>
                  </a:lnTo>
                  <a:lnTo>
                    <a:pt x="1307" y="66"/>
                  </a:lnTo>
                  <a:lnTo>
                    <a:pt x="1316" y="74"/>
                  </a:lnTo>
                  <a:lnTo>
                    <a:pt x="1316" y="84"/>
                  </a:lnTo>
                  <a:lnTo>
                    <a:pt x="1320" y="89"/>
                  </a:lnTo>
                  <a:lnTo>
                    <a:pt x="1320" y="98"/>
                  </a:lnTo>
                  <a:lnTo>
                    <a:pt x="1324" y="102"/>
                  </a:lnTo>
                  <a:lnTo>
                    <a:pt x="1329" y="111"/>
                  </a:lnTo>
                  <a:lnTo>
                    <a:pt x="1329" y="115"/>
                  </a:lnTo>
                  <a:lnTo>
                    <a:pt x="1329" y="124"/>
                  </a:lnTo>
                  <a:lnTo>
                    <a:pt x="1333" y="128"/>
                  </a:lnTo>
                  <a:lnTo>
                    <a:pt x="1333" y="137"/>
                  </a:lnTo>
                  <a:lnTo>
                    <a:pt x="1329" y="142"/>
                  </a:lnTo>
                  <a:lnTo>
                    <a:pt x="1329" y="146"/>
                  </a:lnTo>
                  <a:lnTo>
                    <a:pt x="1329" y="150"/>
                  </a:lnTo>
                  <a:lnTo>
                    <a:pt x="1329" y="146"/>
                  </a:lnTo>
                  <a:lnTo>
                    <a:pt x="1329" y="133"/>
                  </a:lnTo>
                  <a:lnTo>
                    <a:pt x="1329" y="124"/>
                  </a:lnTo>
                  <a:lnTo>
                    <a:pt x="1329" y="115"/>
                  </a:lnTo>
                  <a:lnTo>
                    <a:pt x="1324" y="106"/>
                  </a:lnTo>
                  <a:lnTo>
                    <a:pt x="1324" y="98"/>
                  </a:lnTo>
                  <a:lnTo>
                    <a:pt x="1320" y="89"/>
                  </a:lnTo>
                  <a:lnTo>
                    <a:pt x="1316" y="80"/>
                  </a:lnTo>
                  <a:lnTo>
                    <a:pt x="1311" y="74"/>
                  </a:lnTo>
                  <a:lnTo>
                    <a:pt x="1307" y="66"/>
                  </a:lnTo>
                  <a:lnTo>
                    <a:pt x="1298" y="61"/>
                  </a:lnTo>
                  <a:lnTo>
                    <a:pt x="1294" y="52"/>
                  </a:lnTo>
                  <a:lnTo>
                    <a:pt x="1285" y="48"/>
                  </a:lnTo>
                  <a:lnTo>
                    <a:pt x="1276" y="44"/>
                  </a:lnTo>
                  <a:lnTo>
                    <a:pt x="1267" y="35"/>
                  </a:lnTo>
                  <a:lnTo>
                    <a:pt x="1258" y="30"/>
                  </a:lnTo>
                  <a:lnTo>
                    <a:pt x="74" y="301"/>
                  </a:lnTo>
                  <a:lnTo>
                    <a:pt x="35" y="31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5327640"/>
              <a:ext cx="240120" cy="68760"/>
            </a:xfrm>
            <a:custGeom>
              <a:avLst/>
              <a:gdLst/>
              <a:ahLst/>
              <a:rect l="0" t="0" r="r" b="b"/>
              <a:pathLst>
                <a:path w="667" h="191">
                  <a:moveTo>
                    <a:pt x="0" y="191"/>
                  </a:moveTo>
                  <a:lnTo>
                    <a:pt x="663" y="30"/>
                  </a:lnTo>
                  <a:lnTo>
                    <a:pt x="663" y="26"/>
                  </a:lnTo>
                  <a:lnTo>
                    <a:pt x="667" y="17"/>
                  </a:lnTo>
                  <a:lnTo>
                    <a:pt x="667" y="13"/>
                  </a:lnTo>
                  <a:lnTo>
                    <a:pt x="667" y="4"/>
                  </a:lnTo>
                  <a:lnTo>
                    <a:pt x="667" y="0"/>
                  </a:lnTo>
                  <a:lnTo>
                    <a:pt x="4" y="156"/>
                  </a:lnTo>
                  <a:lnTo>
                    <a:pt x="4" y="160"/>
                  </a:lnTo>
                  <a:lnTo>
                    <a:pt x="4" y="169"/>
                  </a:lnTo>
                  <a:lnTo>
                    <a:pt x="4" y="173"/>
                  </a:lnTo>
                  <a:lnTo>
                    <a:pt x="4" y="182"/>
                  </a:lnTo>
                  <a:lnTo>
                    <a:pt x="0" y="187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65320" y="5175360"/>
              <a:ext cx="219600" cy="65520"/>
            </a:xfrm>
            <a:custGeom>
              <a:avLst/>
              <a:gdLst/>
              <a:ahLst/>
              <a:rect l="0" t="0" r="r" b="b"/>
              <a:pathLst>
                <a:path w="610" h="182">
                  <a:moveTo>
                    <a:pt x="0" y="182"/>
                  </a:moveTo>
                  <a:lnTo>
                    <a:pt x="601" y="39"/>
                  </a:lnTo>
                  <a:lnTo>
                    <a:pt x="606" y="30"/>
                  </a:lnTo>
                  <a:lnTo>
                    <a:pt x="606" y="26"/>
                  </a:lnTo>
                  <a:lnTo>
                    <a:pt x="606" y="17"/>
                  </a:lnTo>
                  <a:lnTo>
                    <a:pt x="610" y="13"/>
                  </a:lnTo>
                  <a:lnTo>
                    <a:pt x="610" y="8"/>
                  </a:lnTo>
                  <a:lnTo>
                    <a:pt x="610" y="0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87600" y="5281560"/>
              <a:ext cx="62280" cy="57600"/>
            </a:xfrm>
            <a:custGeom>
              <a:avLst/>
              <a:gdLst/>
              <a:ahLst/>
              <a:rect l="0" t="0" r="r" b="b"/>
              <a:pathLst>
                <a:path fill="none" w="173" h="160">
                  <a:moveTo>
                    <a:pt x="0" y="0"/>
                  </a:moveTo>
                  <a:lnTo>
                    <a:pt x="35" y="39"/>
                  </a:lnTo>
                  <a:lnTo>
                    <a:pt x="84" y="30"/>
                  </a:lnTo>
                  <a:lnTo>
                    <a:pt x="89" y="30"/>
                  </a:lnTo>
                  <a:lnTo>
                    <a:pt x="106" y="39"/>
                  </a:lnTo>
                  <a:lnTo>
                    <a:pt x="115" y="45"/>
                  </a:lnTo>
                  <a:lnTo>
                    <a:pt x="128" y="49"/>
                  </a:lnTo>
                  <a:lnTo>
                    <a:pt x="134" y="58"/>
                  </a:lnTo>
                  <a:lnTo>
                    <a:pt x="143" y="67"/>
                  </a:lnTo>
                  <a:lnTo>
                    <a:pt x="151" y="71"/>
                  </a:lnTo>
                  <a:lnTo>
                    <a:pt x="156" y="80"/>
                  </a:lnTo>
                  <a:lnTo>
                    <a:pt x="160" y="89"/>
                  </a:lnTo>
                  <a:lnTo>
                    <a:pt x="165" y="102"/>
                  </a:lnTo>
                  <a:lnTo>
                    <a:pt x="169" y="111"/>
                  </a:lnTo>
                  <a:lnTo>
                    <a:pt x="169" y="121"/>
                  </a:lnTo>
                  <a:lnTo>
                    <a:pt x="173" y="129"/>
                  </a:lnTo>
                  <a:lnTo>
                    <a:pt x="173" y="143"/>
                  </a:lnTo>
                  <a:lnTo>
                    <a:pt x="169" y="151"/>
                  </a:lnTo>
                  <a:lnTo>
                    <a:pt x="169" y="1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27320" y="5135400"/>
              <a:ext cx="55800" cy="41760"/>
            </a:xfrm>
            <a:custGeom>
              <a:avLst/>
              <a:gdLst/>
              <a:ahLst/>
              <a:rect l="0" t="0" r="r" b="b"/>
              <a:pathLst>
                <a:path fill="none" w="155" h="116">
                  <a:moveTo>
                    <a:pt x="0" y="0"/>
                  </a:moveTo>
                  <a:lnTo>
                    <a:pt x="39" y="40"/>
                  </a:lnTo>
                  <a:lnTo>
                    <a:pt x="89" y="31"/>
                  </a:lnTo>
                  <a:lnTo>
                    <a:pt x="98" y="36"/>
                  </a:lnTo>
                  <a:lnTo>
                    <a:pt x="102" y="40"/>
                  </a:lnTo>
                  <a:lnTo>
                    <a:pt x="111" y="49"/>
                  </a:lnTo>
                  <a:lnTo>
                    <a:pt x="115" y="53"/>
                  </a:lnTo>
                  <a:lnTo>
                    <a:pt x="124" y="58"/>
                  </a:lnTo>
                  <a:lnTo>
                    <a:pt x="128" y="67"/>
                  </a:lnTo>
                  <a:lnTo>
                    <a:pt x="133" y="71"/>
                  </a:lnTo>
                  <a:lnTo>
                    <a:pt x="137" y="75"/>
                  </a:lnTo>
                  <a:lnTo>
                    <a:pt x="142" y="80"/>
                  </a:lnTo>
                  <a:lnTo>
                    <a:pt x="146" y="90"/>
                  </a:lnTo>
                  <a:lnTo>
                    <a:pt x="150" y="94"/>
                  </a:lnTo>
                  <a:lnTo>
                    <a:pt x="150" y="99"/>
                  </a:lnTo>
                  <a:lnTo>
                    <a:pt x="155" y="107"/>
                  </a:lnTo>
                  <a:lnTo>
                    <a:pt x="155" y="11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62240" y="5346720"/>
              <a:ext cx="49680" cy="36720"/>
            </a:xfrm>
            <a:custGeom>
              <a:avLst/>
              <a:gdLst/>
              <a:ahLst/>
              <a:rect l="0" t="0" r="r" b="b"/>
              <a:pathLst>
                <a:path fill="none" w="138" h="102">
                  <a:moveTo>
                    <a:pt x="0" y="8"/>
                  </a:moveTo>
                  <a:lnTo>
                    <a:pt x="45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13"/>
                  </a:lnTo>
                  <a:lnTo>
                    <a:pt x="89" y="17"/>
                  </a:lnTo>
                  <a:lnTo>
                    <a:pt x="98" y="22"/>
                  </a:lnTo>
                  <a:lnTo>
                    <a:pt x="102" y="30"/>
                  </a:lnTo>
                  <a:lnTo>
                    <a:pt x="112" y="35"/>
                  </a:lnTo>
                  <a:lnTo>
                    <a:pt x="116" y="44"/>
                  </a:lnTo>
                  <a:lnTo>
                    <a:pt x="125" y="53"/>
                  </a:lnTo>
                  <a:lnTo>
                    <a:pt x="129" y="62"/>
                  </a:lnTo>
                  <a:lnTo>
                    <a:pt x="134" y="71"/>
                  </a:lnTo>
                  <a:lnTo>
                    <a:pt x="134" y="80"/>
                  </a:lnTo>
                  <a:lnTo>
                    <a:pt x="138" y="89"/>
                  </a:lnTo>
                  <a:lnTo>
                    <a:pt x="138" y="1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22240" y="4405320"/>
              <a:ext cx="1418040" cy="871920"/>
            </a:xfrm>
            <a:custGeom>
              <a:avLst/>
              <a:gdLst/>
              <a:ahLst/>
              <a:rect l="0" t="0" r="r" b="b"/>
              <a:pathLst>
                <a:path w="3939" h="2422">
                  <a:moveTo>
                    <a:pt x="3939" y="1729"/>
                  </a:moveTo>
                  <a:lnTo>
                    <a:pt x="846" y="2422"/>
                  </a:lnTo>
                  <a:lnTo>
                    <a:pt x="0" y="564"/>
                  </a:lnTo>
                  <a:lnTo>
                    <a:pt x="3066" y="0"/>
                  </a:lnTo>
                  <a:lnTo>
                    <a:pt x="3939" y="1729"/>
                  </a:lnTo>
                  <a:close/>
                </a:path>
              </a:pathLst>
            </a:custGeom>
            <a:solidFill>
              <a:srgbClr val="063de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849240" y="5148360"/>
              <a:ext cx="34920" cy="79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9880" y="4214880"/>
              <a:ext cx="1803600" cy="692640"/>
            </a:xfrm>
            <a:custGeom>
              <a:avLst/>
              <a:gdLst/>
              <a:ahLst/>
              <a:rect l="0" t="0" r="r" b="b"/>
              <a:pathLst>
                <a:path w="5010" h="1924">
                  <a:moveTo>
                    <a:pt x="5010" y="1924"/>
                  </a:moveTo>
                  <a:lnTo>
                    <a:pt x="5010" y="1739"/>
                  </a:lnTo>
                  <a:lnTo>
                    <a:pt x="4075" y="0"/>
                  </a:lnTo>
                  <a:lnTo>
                    <a:pt x="0" y="737"/>
                  </a:lnTo>
                  <a:lnTo>
                    <a:pt x="39" y="834"/>
                  </a:lnTo>
                  <a:lnTo>
                    <a:pt x="4005" y="110"/>
                  </a:lnTo>
                  <a:lnTo>
                    <a:pt x="5010" y="19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9800" y="5602320"/>
              <a:ext cx="821160" cy="255960"/>
            </a:xfrm>
            <a:custGeom>
              <a:avLst/>
              <a:gdLst/>
              <a:ahLst/>
              <a:rect l="0" t="0" r="r" b="b"/>
              <a:pathLst>
                <a:path w="2281" h="711">
                  <a:moveTo>
                    <a:pt x="2250" y="0"/>
                  </a:moveTo>
                  <a:lnTo>
                    <a:pt x="2281" y="79"/>
                  </a:lnTo>
                  <a:lnTo>
                    <a:pt x="207" y="711"/>
                  </a:lnTo>
                  <a:lnTo>
                    <a:pt x="0" y="610"/>
                  </a:lnTo>
                  <a:lnTo>
                    <a:pt x="22" y="516"/>
                  </a:lnTo>
                  <a:lnTo>
                    <a:pt x="2250" y="0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87720" y="5572080"/>
              <a:ext cx="802080" cy="262440"/>
            </a:xfrm>
            <a:custGeom>
              <a:avLst/>
              <a:gdLst/>
              <a:ahLst/>
              <a:rect l="0" t="0" r="r" b="b"/>
              <a:pathLst>
                <a:path w="2228" h="729">
                  <a:moveTo>
                    <a:pt x="2048" y="0"/>
                  </a:moveTo>
                  <a:lnTo>
                    <a:pt x="2228" y="83"/>
                  </a:lnTo>
                  <a:lnTo>
                    <a:pt x="198" y="685"/>
                  </a:lnTo>
                  <a:lnTo>
                    <a:pt x="194" y="729"/>
                  </a:lnTo>
                  <a:lnTo>
                    <a:pt x="180" y="681"/>
                  </a:lnTo>
                  <a:lnTo>
                    <a:pt x="0" y="601"/>
                  </a:lnTo>
                  <a:lnTo>
                    <a:pt x="20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1415880" y="5329080"/>
              <a:ext cx="1441800" cy="384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495440" y="5367240"/>
              <a:ext cx="1432080" cy="4003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1584360" y="5411880"/>
              <a:ext cx="1431720" cy="399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1666800" y="5446800"/>
              <a:ext cx="1444680" cy="4158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1749600" y="5481720"/>
              <a:ext cx="1454040" cy="4255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1812960" y="5522760"/>
              <a:ext cx="1460520" cy="4352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33600" y="5681520"/>
              <a:ext cx="412560" cy="235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3280" y="5637240"/>
              <a:ext cx="412560" cy="235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51120" y="5592600"/>
              <a:ext cx="396720" cy="228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03400" y="5560920"/>
              <a:ext cx="31428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46320" y="5519880"/>
              <a:ext cx="31428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95360" y="5472000"/>
              <a:ext cx="31464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48000" y="5433840"/>
              <a:ext cx="314280" cy="174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97040" y="5398920"/>
              <a:ext cx="320760" cy="168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36720" y="5364000"/>
              <a:ext cx="403200" cy="200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1200" y="5322960"/>
              <a:ext cx="425520" cy="193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419120" y="5716440"/>
              <a:ext cx="406440" cy="2415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1351080" y="5029200"/>
              <a:ext cx="73188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09640" y="4548240"/>
              <a:ext cx="330480" cy="500400"/>
            </a:xfrm>
            <a:custGeom>
              <a:avLst/>
              <a:gdLst/>
              <a:ahLst/>
              <a:rect l="0" t="0" r="r" b="b"/>
              <a:pathLst>
                <a:path w="918" h="1390">
                  <a:moveTo>
                    <a:pt x="268" y="0"/>
                  </a:moveTo>
                  <a:lnTo>
                    <a:pt x="918" y="1328"/>
                  </a:lnTo>
                  <a:lnTo>
                    <a:pt x="658" y="1390"/>
                  </a:lnTo>
                  <a:lnTo>
                    <a:pt x="0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79001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73200" y="4645080"/>
              <a:ext cx="302040" cy="444960"/>
            </a:xfrm>
            <a:custGeom>
              <a:avLst/>
              <a:gdLst/>
              <a:ahLst/>
              <a:rect l="0" t="0" r="r" b="b"/>
              <a:pathLst>
                <a:path w="839" h="1236">
                  <a:moveTo>
                    <a:pt x="269" y="0"/>
                  </a:moveTo>
                  <a:lnTo>
                    <a:pt x="839" y="1174"/>
                  </a:lnTo>
                  <a:lnTo>
                    <a:pt x="578" y="1236"/>
                  </a:lnTo>
                  <a:lnTo>
                    <a:pt x="0" y="5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37c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19120" y="4764240"/>
              <a:ext cx="273240" cy="365400"/>
            </a:xfrm>
            <a:custGeom>
              <a:avLst/>
              <a:gdLst/>
              <a:ahLst/>
              <a:rect l="0" t="0" r="r" b="b"/>
              <a:pathLst>
                <a:path w="759" h="1015">
                  <a:moveTo>
                    <a:pt x="286" y="0"/>
                  </a:moveTo>
                  <a:lnTo>
                    <a:pt x="759" y="944"/>
                  </a:lnTo>
                  <a:lnTo>
                    <a:pt x="490" y="1015"/>
                  </a:lnTo>
                  <a:lnTo>
                    <a:pt x="0" y="52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898b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89160" y="4923000"/>
              <a:ext cx="209880" cy="254520"/>
            </a:xfrm>
            <a:custGeom>
              <a:avLst/>
              <a:gdLst/>
              <a:ahLst/>
              <a:rect l="0" t="0" r="r" b="b"/>
              <a:pathLst>
                <a:path w="583" h="707">
                  <a:moveTo>
                    <a:pt x="300" y="0"/>
                  </a:moveTo>
                  <a:lnTo>
                    <a:pt x="583" y="637"/>
                  </a:lnTo>
                  <a:lnTo>
                    <a:pt x="318" y="707"/>
                  </a:lnTo>
                  <a:lnTo>
                    <a:pt x="0" y="7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695600" y="4567320"/>
              <a:ext cx="329040" cy="501840"/>
            </a:xfrm>
            <a:custGeom>
              <a:avLst/>
              <a:gdLst/>
              <a:ahLst/>
              <a:rect l="0" t="0" r="r" b="b"/>
              <a:pathLst>
                <a:path w="914" h="1394">
                  <a:moveTo>
                    <a:pt x="269" y="0"/>
                  </a:moveTo>
                  <a:lnTo>
                    <a:pt x="914" y="1332"/>
                  </a:lnTo>
                  <a:lnTo>
                    <a:pt x="653" y="1394"/>
                  </a:lnTo>
                  <a:lnTo>
                    <a:pt x="0" y="5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58800" y="4665600"/>
              <a:ext cx="300240" cy="441720"/>
            </a:xfrm>
            <a:custGeom>
              <a:avLst/>
              <a:gdLst/>
              <a:ahLst/>
              <a:rect l="0" t="0" r="r" b="b"/>
              <a:pathLst>
                <a:path w="834" h="1227">
                  <a:moveTo>
                    <a:pt x="264" y="0"/>
                  </a:moveTo>
                  <a:lnTo>
                    <a:pt x="834" y="1166"/>
                  </a:lnTo>
                  <a:lnTo>
                    <a:pt x="578" y="1227"/>
                  </a:lnTo>
                  <a:lnTo>
                    <a:pt x="0" y="5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03280" y="4781520"/>
              <a:ext cx="273240" cy="368640"/>
            </a:xfrm>
            <a:custGeom>
              <a:avLst/>
              <a:gdLst/>
              <a:ahLst/>
              <a:rect l="0" t="0" r="r" b="b"/>
              <a:pathLst>
                <a:path w="759" h="1024">
                  <a:moveTo>
                    <a:pt x="286" y="0"/>
                  </a:moveTo>
                  <a:lnTo>
                    <a:pt x="759" y="953"/>
                  </a:lnTo>
                  <a:lnTo>
                    <a:pt x="490" y="1024"/>
                  </a:lnTo>
                  <a:lnTo>
                    <a:pt x="0" y="52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79440" y="4937040"/>
              <a:ext cx="205200" cy="259200"/>
            </a:xfrm>
            <a:custGeom>
              <a:avLst/>
              <a:gdLst/>
              <a:ahLst/>
              <a:rect l="0" t="0" r="r" b="b"/>
              <a:pathLst>
                <a:path w="570" h="720">
                  <a:moveTo>
                    <a:pt x="269" y="0"/>
                  </a:moveTo>
                  <a:lnTo>
                    <a:pt x="570" y="645"/>
                  </a:lnTo>
                  <a:lnTo>
                    <a:pt x="300" y="720"/>
                  </a:lnTo>
                  <a:lnTo>
                    <a:pt x="0" y="66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890640" y="4481640"/>
              <a:ext cx="10350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fafd00"/>
                  </a:solidFill>
                  <a:latin typeface="Arial"/>
                  <a:ea typeface="Arial"/>
                </a:rPr>
                <a:t>Record Sa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981000" y="4729320"/>
              <a:ext cx="327240" cy="234720"/>
              <a:chOff x="981000" y="4729320"/>
              <a:chExt cx="327240" cy="234720"/>
            </a:xfrm>
          </p:grpSpPr>
          <p:sp>
            <p:nvSpPr>
              <p:cNvPr id="464" name=""/>
              <p:cNvSpPr/>
              <p:nvPr/>
            </p:nvSpPr>
            <p:spPr>
              <a:xfrm>
                <a:off x="981000" y="4761000"/>
                <a:ext cx="28440" cy="316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006560" y="4821120"/>
                <a:ext cx="28440" cy="3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31760" y="4878360"/>
                <a:ext cx="28440" cy="31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054080" y="4932360"/>
                <a:ext cx="28440" cy="3168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1035000" y="4729320"/>
                <a:ext cx="206280" cy="41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1060560" y="4782960"/>
                <a:ext cx="20628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1082520" y="4836960"/>
                <a:ext cx="20664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1101600" y="4890960"/>
                <a:ext cx="20664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3619440" y="2019240"/>
            <a:ext cx="1371960" cy="2876760"/>
          </a:xfrm>
          <a:custGeom>
            <a:avLst/>
            <a:gdLst/>
            <a:ahLst/>
            <a:rect l="0" t="0" r="r" b="b"/>
            <a:pathLst>
              <a:path w="3811" h="7991">
                <a:moveTo>
                  <a:pt x="145" y="1023"/>
                </a:moveTo>
                <a:lnTo>
                  <a:pt x="3811" y="0"/>
                </a:lnTo>
                <a:lnTo>
                  <a:pt x="3811" y="7991"/>
                </a:lnTo>
                <a:lnTo>
                  <a:pt x="0" y="1587"/>
                </a:lnTo>
                <a:lnTo>
                  <a:pt x="88" y="1270"/>
                </a:lnTo>
                <a:lnTo>
                  <a:pt x="145" y="102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952880" y="2017800"/>
            <a:ext cx="3969000" cy="2898720"/>
            <a:chOff x="4952880" y="2017800"/>
            <a:chExt cx="3969000" cy="2898720"/>
          </a:xfrm>
        </p:grpSpPr>
        <p:sp>
          <p:nvSpPr>
            <p:cNvPr id="474" name=""/>
            <p:cNvSpPr/>
            <p:nvPr/>
          </p:nvSpPr>
          <p:spPr>
            <a:xfrm>
              <a:off x="4952880" y="2057400"/>
              <a:ext cx="3962520" cy="281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997520" y="2017800"/>
              <a:ext cx="3924360" cy="222120"/>
              <a:chOff x="4997520" y="2017800"/>
              <a:chExt cx="3924360" cy="222120"/>
            </a:xfrm>
          </p:grpSpPr>
          <p:sp>
            <p:nvSpPr>
              <p:cNvPr id="476" name=""/>
              <p:cNvSpPr/>
              <p:nvPr/>
            </p:nvSpPr>
            <p:spPr>
              <a:xfrm>
                <a:off x="4997520" y="2017800"/>
                <a:ext cx="3905280" cy="222120"/>
              </a:xfrm>
              <a:prstGeom prst="rect">
                <a:avLst/>
              </a:prstGeom>
              <a:gradFill rotWithShape="0">
                <a:gsLst>
                  <a:gs pos="0">
                    <a:srgbClr val="0000cd"/>
                  </a:gs>
                  <a:gs pos="50000">
                    <a:srgbClr val="ffffff"/>
                  </a:gs>
                  <a:gs pos="100000">
                    <a:srgbClr val="0000cd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" name=""/>
              <p:cNvGrpSpPr/>
              <p:nvPr/>
            </p:nvGrpSpPr>
            <p:grpSpPr>
              <a:xfrm>
                <a:off x="4998960" y="2063880"/>
                <a:ext cx="3922920" cy="123840"/>
                <a:chOff x="4998960" y="2063880"/>
                <a:chExt cx="3922920" cy="123840"/>
              </a:xfrm>
            </p:grpSpPr>
            <p:sp>
              <p:nvSpPr>
                <p:cNvPr id="478" name=""/>
                <p:cNvSpPr/>
                <p:nvPr/>
              </p:nvSpPr>
              <p:spPr>
                <a:xfrm flipH="1">
                  <a:off x="4998960" y="2187720"/>
                  <a:ext cx="39211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4998960" y="2104920"/>
                  <a:ext cx="39229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4998960" y="2063880"/>
                  <a:ext cx="39229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4998960" y="2146320"/>
                  <a:ext cx="39229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"/>
            <p:cNvGrpSpPr/>
            <p:nvPr/>
          </p:nvGrpSpPr>
          <p:grpSpPr>
            <a:xfrm>
              <a:off x="7927920" y="3933720"/>
              <a:ext cx="981000" cy="982800"/>
              <a:chOff x="7927920" y="3933720"/>
              <a:chExt cx="981000" cy="98280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7947000" y="3952800"/>
                <a:ext cx="940320" cy="941760"/>
                <a:chOff x="7947000" y="3952800"/>
                <a:chExt cx="940320" cy="941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432640" y="4440240"/>
                  <a:ext cx="454320" cy="454320"/>
                </a:xfrm>
                <a:custGeom>
                  <a:avLst/>
                  <a:gdLst/>
                  <a:ahLst/>
                  <a:rect l="0" t="0" r="r" b="b"/>
                  <a:pathLst>
                    <a:path w="1262" h="1262">
                      <a:moveTo>
                        <a:pt x="1262" y="1262"/>
                      </a:moveTo>
                      <a:lnTo>
                        <a:pt x="1262" y="0"/>
                      </a:lnTo>
                      <a:lnTo>
                        <a:pt x="0" y="1262"/>
                      </a:lnTo>
                      <a:lnTo>
                        <a:pt x="1262" y="1262"/>
                      </a:lnTo>
                      <a:close/>
                    </a:path>
                  </a:pathLst>
                </a:custGeom>
                <a:solidFill>
                  <a:srgbClr val="0000c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8177040" y="4184640"/>
                  <a:ext cx="709920" cy="709920"/>
                </a:xfrm>
                <a:custGeom>
                  <a:avLst/>
                  <a:gdLst/>
                  <a:ahLst/>
                  <a:rect l="0" t="0" r="r" b="b"/>
                  <a:pathLst>
                    <a:path w="1972" h="1972">
                      <a:moveTo>
                        <a:pt x="1972" y="383"/>
                      </a:moveTo>
                      <a:lnTo>
                        <a:pt x="383" y="1972"/>
                      </a:lnTo>
                      <a:lnTo>
                        <a:pt x="0" y="1972"/>
                      </a:lnTo>
                      <a:lnTo>
                        <a:pt x="1972" y="0"/>
                      </a:lnTo>
                      <a:lnTo>
                        <a:pt x="1972" y="383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7947000" y="3952800"/>
                  <a:ext cx="940320" cy="941760"/>
                </a:xfrm>
                <a:custGeom>
                  <a:avLst/>
                  <a:gdLst/>
                  <a:ahLst/>
                  <a:rect l="0" t="0" r="r" b="b"/>
                  <a:pathLst>
                    <a:path w="2612" h="2616">
                      <a:moveTo>
                        <a:pt x="2612" y="317"/>
                      </a:moveTo>
                      <a:lnTo>
                        <a:pt x="317" y="2616"/>
                      </a:lnTo>
                      <a:lnTo>
                        <a:pt x="0" y="2616"/>
                      </a:lnTo>
                      <a:lnTo>
                        <a:pt x="2612" y="0"/>
                      </a:lnTo>
                      <a:lnTo>
                        <a:pt x="2612" y="317"/>
                      </a:lnTo>
                      <a:close/>
                    </a:path>
                  </a:pathLst>
                </a:custGeom>
                <a:solidFill>
                  <a:srgbClr val="081d58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" name=""/>
              <p:cNvSpPr/>
              <p:nvPr/>
            </p:nvSpPr>
            <p:spPr>
              <a:xfrm flipH="1">
                <a:off x="7927920" y="3933720"/>
                <a:ext cx="966960" cy="966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8151840" y="4159080"/>
                <a:ext cx="757080" cy="757440"/>
              </a:xfrm>
              <a:prstGeom prst="line">
                <a:avLst/>
              </a:prstGeom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8421840" y="4429080"/>
                <a:ext cx="473040" cy="473040"/>
              </a:xfrm>
              <a:prstGeom prst="line">
                <a:avLst/>
              </a:prstGeom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257800" y="2227320"/>
              <a:ext cx="2122560" cy="641160"/>
              <a:chOff x="5257800" y="2227320"/>
              <a:chExt cx="2122560" cy="641160"/>
            </a:xfrm>
          </p:grpSpPr>
          <p:sp>
            <p:nvSpPr>
              <p:cNvPr id="491" name=""/>
              <p:cNvSpPr txBox="1"/>
              <p:nvPr/>
            </p:nvSpPr>
            <p:spPr>
              <a:xfrm>
                <a:off x="5257800" y="2227320"/>
                <a:ext cx="21225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9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Sales Performanc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5257800" y="2487600"/>
                <a:ext cx="24444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 txBox="1"/>
              <p:nvPr/>
            </p:nvSpPr>
            <p:spPr>
              <a:xfrm>
                <a:off x="5318280" y="260208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9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$ in Thousand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5676840" y="3794040"/>
              <a:ext cx="2365560" cy="559080"/>
            </a:xfrm>
            <a:custGeom>
              <a:avLst/>
              <a:gdLst/>
              <a:ahLst/>
              <a:rect l="0" t="0" r="r" b="b"/>
              <a:pathLst>
                <a:path w="6571" h="1553">
                  <a:moveTo>
                    <a:pt x="6571" y="568"/>
                  </a:moveTo>
                  <a:lnTo>
                    <a:pt x="5901" y="1553"/>
                  </a:lnTo>
                  <a:lnTo>
                    <a:pt x="0" y="816"/>
                  </a:lnTo>
                  <a:lnTo>
                    <a:pt x="1292" y="0"/>
                  </a:lnTo>
                  <a:lnTo>
                    <a:pt x="6571" y="5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76840" y="3794040"/>
              <a:ext cx="2376720" cy="300240"/>
            </a:xfrm>
            <a:custGeom>
              <a:avLst/>
              <a:gdLst/>
              <a:ahLst/>
              <a:rect l="0" t="0" r="r" b="b"/>
              <a:pathLst>
                <a:path fill="none" w="6602" h="834">
                  <a:moveTo>
                    <a:pt x="0" y="834"/>
                  </a:moveTo>
                  <a:lnTo>
                    <a:pt x="1300" y="0"/>
                  </a:lnTo>
                  <a:lnTo>
                    <a:pt x="6602" y="58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67480" y="3610080"/>
              <a:ext cx="2394360" cy="276480"/>
            </a:xfrm>
            <a:custGeom>
              <a:avLst/>
              <a:gdLst/>
              <a:ahLst/>
              <a:rect l="0" t="0" r="r" b="b"/>
              <a:pathLst>
                <a:path fill="none" w="6651" h="768">
                  <a:moveTo>
                    <a:pt x="0" y="768"/>
                  </a:moveTo>
                  <a:lnTo>
                    <a:pt x="1314" y="0"/>
                  </a:lnTo>
                  <a:lnTo>
                    <a:pt x="6651" y="53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59560" y="3421080"/>
              <a:ext cx="2411640" cy="254520"/>
            </a:xfrm>
            <a:custGeom>
              <a:avLst/>
              <a:gdLst/>
              <a:ahLst/>
              <a:rect l="0" t="0" r="r" b="b"/>
              <a:pathLst>
                <a:path fill="none" w="6699" h="707">
                  <a:moveTo>
                    <a:pt x="0" y="707"/>
                  </a:moveTo>
                  <a:lnTo>
                    <a:pt x="1322" y="0"/>
                  </a:lnTo>
                  <a:lnTo>
                    <a:pt x="6699" y="4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49840" y="3230640"/>
              <a:ext cx="2429280" cy="230400"/>
            </a:xfrm>
            <a:custGeom>
              <a:avLst/>
              <a:gdLst/>
              <a:ahLst/>
              <a:rect l="0" t="0" r="r" b="b"/>
              <a:pathLst>
                <a:path fill="none" w="6748" h="640">
                  <a:moveTo>
                    <a:pt x="0" y="640"/>
                  </a:moveTo>
                  <a:lnTo>
                    <a:pt x="1336" y="0"/>
                  </a:lnTo>
                  <a:lnTo>
                    <a:pt x="6748" y="44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40480" y="3036960"/>
              <a:ext cx="2448360" cy="206640"/>
            </a:xfrm>
            <a:custGeom>
              <a:avLst/>
              <a:gdLst/>
              <a:ahLst/>
              <a:rect l="0" t="0" r="r" b="b"/>
              <a:pathLst>
                <a:path fill="none" w="6801" h="574">
                  <a:moveTo>
                    <a:pt x="0" y="574"/>
                  </a:moveTo>
                  <a:lnTo>
                    <a:pt x="1349" y="0"/>
                  </a:lnTo>
                  <a:lnTo>
                    <a:pt x="6801" y="39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630760" y="2840040"/>
              <a:ext cx="2465640" cy="182880"/>
            </a:xfrm>
            <a:custGeom>
              <a:avLst/>
              <a:gdLst/>
              <a:ahLst/>
              <a:rect l="0" t="0" r="r" b="b"/>
              <a:pathLst>
                <a:path fill="none" w="6849" h="508">
                  <a:moveTo>
                    <a:pt x="0" y="508"/>
                  </a:moveTo>
                  <a:lnTo>
                    <a:pt x="1362" y="0"/>
                  </a:lnTo>
                  <a:lnTo>
                    <a:pt x="6849" y="35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76840" y="3794040"/>
              <a:ext cx="2376720" cy="570240"/>
            </a:xfrm>
            <a:custGeom>
              <a:avLst/>
              <a:gdLst/>
              <a:ahLst/>
              <a:rect l="0" t="0" r="r" b="b"/>
              <a:pathLst>
                <a:path fill="none" w="6602" h="1584">
                  <a:moveTo>
                    <a:pt x="6602" y="582"/>
                  </a:moveTo>
                  <a:lnTo>
                    <a:pt x="5927" y="1584"/>
                  </a:lnTo>
                  <a:lnTo>
                    <a:pt x="0" y="834"/>
                  </a:lnTo>
                  <a:lnTo>
                    <a:pt x="1300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30760" y="2840040"/>
              <a:ext cx="514800" cy="1254600"/>
            </a:xfrm>
            <a:custGeom>
              <a:avLst/>
              <a:gdLst/>
              <a:ahLst/>
              <a:rect l="0" t="0" r="r" b="b"/>
              <a:pathLst>
                <a:path fill="none" w="1430" h="3485">
                  <a:moveTo>
                    <a:pt x="127" y="3485"/>
                  </a:moveTo>
                  <a:lnTo>
                    <a:pt x="0" y="507"/>
                  </a:lnTo>
                  <a:lnTo>
                    <a:pt x="1364" y="0"/>
                  </a:lnTo>
                  <a:lnTo>
                    <a:pt x="1430" y="26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21440" y="2840040"/>
              <a:ext cx="1975320" cy="1163880"/>
            </a:xfrm>
            <a:custGeom>
              <a:avLst/>
              <a:gdLst/>
              <a:ahLst/>
              <a:rect l="0" t="0" r="r" b="b"/>
              <a:pathLst>
                <a:path fill="none" w="5487" h="3233">
                  <a:moveTo>
                    <a:pt x="66" y="2651"/>
                  </a:moveTo>
                  <a:lnTo>
                    <a:pt x="0" y="0"/>
                  </a:lnTo>
                  <a:lnTo>
                    <a:pt x="5487" y="352"/>
                  </a:lnTo>
                  <a:lnTo>
                    <a:pt x="5368" y="323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76840" y="4094280"/>
              <a:ext cx="2139840" cy="269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70760" y="4157640"/>
              <a:ext cx="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689880" y="4222800"/>
              <a:ext cx="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236000" y="4292640"/>
              <a:ext cx="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10560" y="4363920"/>
              <a:ext cx="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5683320" y="4159080"/>
              <a:ext cx="5126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st Qt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6172200" y="4222800"/>
              <a:ext cx="5461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nd Qt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6715080" y="4290840"/>
              <a:ext cx="5238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rd Qt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7278840" y="4361040"/>
              <a:ext cx="517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th Qt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7810560" y="4003560"/>
              <a:ext cx="243000" cy="36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10560" y="43639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053560" y="4003560"/>
              <a:ext cx="29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5353200" y="2960640"/>
              <a:ext cx="331920" cy="1255680"/>
              <a:chOff x="5353200" y="2960640"/>
              <a:chExt cx="331920" cy="1255680"/>
            </a:xfrm>
          </p:grpSpPr>
          <p:sp>
            <p:nvSpPr>
              <p:cNvPr id="517" name=""/>
              <p:cNvSpPr txBox="1"/>
              <p:nvPr/>
            </p:nvSpPr>
            <p:spPr>
              <a:xfrm>
                <a:off x="5353200" y="2960640"/>
                <a:ext cx="3319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>
                <a:off x="5402160" y="3171960"/>
                <a:ext cx="282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402160" y="3382920"/>
                <a:ext cx="282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>
                <a:off x="5402160" y="3594240"/>
                <a:ext cx="282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>
                <a:off x="5402160" y="3807000"/>
                <a:ext cx="282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>
                <a:off x="5450040" y="4017960"/>
                <a:ext cx="2332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"/>
          <p:cNvSpPr txBox="1"/>
          <p:nvPr/>
        </p:nvSpPr>
        <p:spPr>
          <a:xfrm>
            <a:off x="1352520" y="171360"/>
            <a:ext cx="64580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she gave the killer presentation of her li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604800" y="1293840"/>
            <a:ext cx="3183120" cy="1981800"/>
            <a:chOff x="604800" y="1293840"/>
            <a:chExt cx="3183120" cy="1981800"/>
          </a:xfrm>
        </p:grpSpPr>
        <p:grpSp>
          <p:nvGrpSpPr>
            <p:cNvPr id="525" name=""/>
            <p:cNvGrpSpPr/>
            <p:nvPr/>
          </p:nvGrpSpPr>
          <p:grpSpPr>
            <a:xfrm>
              <a:off x="604800" y="1293840"/>
              <a:ext cx="3183120" cy="1969920"/>
              <a:chOff x="604800" y="1293840"/>
              <a:chExt cx="3183120" cy="196992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604800" y="1293840"/>
                <a:ext cx="3183120" cy="1969920"/>
                <a:chOff x="604800" y="1293840"/>
                <a:chExt cx="3183120" cy="19699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722160" y="1674720"/>
                  <a:ext cx="2700720" cy="681480"/>
                </a:xfrm>
                <a:custGeom>
                  <a:avLst/>
                  <a:gdLst/>
                  <a:ahLst/>
                  <a:rect l="0" t="0" r="r" b="b"/>
                  <a:pathLst>
                    <a:path w="7502" h="1893">
                      <a:moveTo>
                        <a:pt x="13" y="388"/>
                      </a:moveTo>
                      <a:lnTo>
                        <a:pt x="0" y="569"/>
                      </a:lnTo>
                      <a:lnTo>
                        <a:pt x="1261" y="887"/>
                      </a:lnTo>
                      <a:lnTo>
                        <a:pt x="1261" y="957"/>
                      </a:lnTo>
                      <a:lnTo>
                        <a:pt x="3599" y="1554"/>
                      </a:lnTo>
                      <a:lnTo>
                        <a:pt x="3687" y="1479"/>
                      </a:lnTo>
                      <a:lnTo>
                        <a:pt x="5341" y="1893"/>
                      </a:lnTo>
                      <a:lnTo>
                        <a:pt x="5438" y="1832"/>
                      </a:lnTo>
                      <a:lnTo>
                        <a:pt x="5743" y="1690"/>
                      </a:lnTo>
                      <a:lnTo>
                        <a:pt x="5933" y="1488"/>
                      </a:lnTo>
                      <a:lnTo>
                        <a:pt x="6197" y="1341"/>
                      </a:lnTo>
                      <a:lnTo>
                        <a:pt x="6422" y="1191"/>
                      </a:lnTo>
                      <a:lnTo>
                        <a:pt x="6673" y="1076"/>
                      </a:lnTo>
                      <a:lnTo>
                        <a:pt x="6854" y="918"/>
                      </a:lnTo>
                      <a:lnTo>
                        <a:pt x="7026" y="737"/>
                      </a:lnTo>
                      <a:lnTo>
                        <a:pt x="7088" y="609"/>
                      </a:lnTo>
                      <a:lnTo>
                        <a:pt x="7176" y="449"/>
                      </a:lnTo>
                      <a:lnTo>
                        <a:pt x="7291" y="313"/>
                      </a:lnTo>
                      <a:lnTo>
                        <a:pt x="7427" y="185"/>
                      </a:lnTo>
                      <a:lnTo>
                        <a:pt x="7502" y="110"/>
                      </a:lnTo>
                      <a:lnTo>
                        <a:pt x="7472" y="0"/>
                      </a:lnTo>
                      <a:lnTo>
                        <a:pt x="5341" y="1752"/>
                      </a:lnTo>
                      <a:lnTo>
                        <a:pt x="13" y="388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444760" y="3070080"/>
                  <a:ext cx="314280" cy="19368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451240" y="3033720"/>
                  <a:ext cx="285840" cy="181080"/>
                </a:xfrm>
                <a:prstGeom prst="ellipse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492280" y="1725480"/>
                  <a:ext cx="1000440" cy="1484640"/>
                </a:xfrm>
                <a:custGeom>
                  <a:avLst/>
                  <a:gdLst/>
                  <a:ahLst/>
                  <a:rect l="0" t="0" r="r" b="b"/>
                  <a:pathLst>
                    <a:path w="2779" h="4124">
                      <a:moveTo>
                        <a:pt x="66" y="1874"/>
                      </a:moveTo>
                      <a:lnTo>
                        <a:pt x="13" y="2977"/>
                      </a:lnTo>
                      <a:lnTo>
                        <a:pt x="0" y="4057"/>
                      </a:lnTo>
                      <a:lnTo>
                        <a:pt x="233" y="4124"/>
                      </a:lnTo>
                      <a:lnTo>
                        <a:pt x="383" y="4057"/>
                      </a:lnTo>
                      <a:lnTo>
                        <a:pt x="573" y="3868"/>
                      </a:lnTo>
                      <a:lnTo>
                        <a:pt x="890" y="3612"/>
                      </a:lnTo>
                      <a:lnTo>
                        <a:pt x="1093" y="3436"/>
                      </a:lnTo>
                      <a:lnTo>
                        <a:pt x="1336" y="3255"/>
                      </a:lnTo>
                      <a:lnTo>
                        <a:pt x="1606" y="3096"/>
                      </a:lnTo>
                      <a:lnTo>
                        <a:pt x="1795" y="2959"/>
                      </a:lnTo>
                      <a:lnTo>
                        <a:pt x="1932" y="2840"/>
                      </a:lnTo>
                      <a:lnTo>
                        <a:pt x="2642" y="2249"/>
                      </a:lnTo>
                      <a:lnTo>
                        <a:pt x="2757" y="970"/>
                      </a:lnTo>
                      <a:lnTo>
                        <a:pt x="2770" y="590"/>
                      </a:lnTo>
                      <a:lnTo>
                        <a:pt x="2779" y="273"/>
                      </a:lnTo>
                      <a:lnTo>
                        <a:pt x="2748" y="30"/>
                      </a:lnTo>
                      <a:lnTo>
                        <a:pt x="2717" y="0"/>
                      </a:lnTo>
                      <a:lnTo>
                        <a:pt x="2633" y="105"/>
                      </a:lnTo>
                      <a:lnTo>
                        <a:pt x="2452" y="251"/>
                      </a:lnTo>
                      <a:lnTo>
                        <a:pt x="2360" y="335"/>
                      </a:lnTo>
                      <a:lnTo>
                        <a:pt x="2135" y="590"/>
                      </a:lnTo>
                      <a:lnTo>
                        <a:pt x="1932" y="877"/>
                      </a:lnTo>
                      <a:lnTo>
                        <a:pt x="1628" y="1098"/>
                      </a:lnTo>
                      <a:lnTo>
                        <a:pt x="1394" y="1247"/>
                      </a:lnTo>
                      <a:lnTo>
                        <a:pt x="1164" y="1358"/>
                      </a:lnTo>
                      <a:lnTo>
                        <a:pt x="952" y="1512"/>
                      </a:lnTo>
                      <a:lnTo>
                        <a:pt x="745" y="1662"/>
                      </a:lnTo>
                      <a:lnTo>
                        <a:pt x="529" y="1874"/>
                      </a:lnTo>
                      <a:lnTo>
                        <a:pt x="396" y="1949"/>
                      </a:lnTo>
                      <a:lnTo>
                        <a:pt x="233" y="1913"/>
                      </a:lnTo>
                      <a:lnTo>
                        <a:pt x="66" y="187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474747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733840" y="2739960"/>
                  <a:ext cx="483120" cy="375120"/>
                </a:xfrm>
                <a:custGeom>
                  <a:avLst/>
                  <a:gdLst/>
                  <a:ahLst/>
                  <a:rect l="0" t="0" r="r" b="b"/>
                  <a:pathLst>
                    <a:path w="1342" h="1042">
                      <a:moveTo>
                        <a:pt x="0" y="945"/>
                      </a:moveTo>
                      <a:lnTo>
                        <a:pt x="229" y="763"/>
                      </a:lnTo>
                      <a:lnTo>
                        <a:pt x="530" y="512"/>
                      </a:lnTo>
                      <a:lnTo>
                        <a:pt x="728" y="393"/>
                      </a:lnTo>
                      <a:lnTo>
                        <a:pt x="971" y="211"/>
                      </a:lnTo>
                      <a:lnTo>
                        <a:pt x="1236" y="0"/>
                      </a:lnTo>
                      <a:lnTo>
                        <a:pt x="1342" y="0"/>
                      </a:lnTo>
                      <a:lnTo>
                        <a:pt x="1205" y="127"/>
                      </a:lnTo>
                      <a:lnTo>
                        <a:pt x="1060" y="265"/>
                      </a:lnTo>
                      <a:lnTo>
                        <a:pt x="918" y="393"/>
                      </a:lnTo>
                      <a:lnTo>
                        <a:pt x="781" y="499"/>
                      </a:lnTo>
                      <a:lnTo>
                        <a:pt x="591" y="618"/>
                      </a:lnTo>
                      <a:lnTo>
                        <a:pt x="389" y="741"/>
                      </a:lnTo>
                      <a:lnTo>
                        <a:pt x="264" y="839"/>
                      </a:lnTo>
                      <a:lnTo>
                        <a:pt x="17" y="1042"/>
                      </a:lnTo>
                      <a:lnTo>
                        <a:pt x="0" y="9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04800" y="1898640"/>
                  <a:ext cx="1945080" cy="1295640"/>
                </a:xfrm>
                <a:custGeom>
                  <a:avLst/>
                  <a:gdLst/>
                  <a:ahLst/>
                  <a:rect l="0" t="0" r="r" b="b"/>
                  <a:pathLst>
                    <a:path w="5403" h="3599">
                      <a:moveTo>
                        <a:pt x="30" y="0"/>
                      </a:moveTo>
                      <a:lnTo>
                        <a:pt x="1420" y="401"/>
                      </a:lnTo>
                      <a:lnTo>
                        <a:pt x="1566" y="295"/>
                      </a:lnTo>
                      <a:lnTo>
                        <a:pt x="3921" y="917"/>
                      </a:lnTo>
                      <a:lnTo>
                        <a:pt x="3784" y="1023"/>
                      </a:lnTo>
                      <a:lnTo>
                        <a:pt x="5403" y="1446"/>
                      </a:lnTo>
                      <a:lnTo>
                        <a:pt x="5289" y="1976"/>
                      </a:lnTo>
                      <a:lnTo>
                        <a:pt x="5245" y="2532"/>
                      </a:lnTo>
                      <a:lnTo>
                        <a:pt x="5245" y="3484"/>
                      </a:lnTo>
                      <a:lnTo>
                        <a:pt x="5245" y="3599"/>
                      </a:lnTo>
                      <a:lnTo>
                        <a:pt x="136" y="2108"/>
                      </a:lnTo>
                      <a:lnTo>
                        <a:pt x="0" y="1102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5b5b5b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595600" y="2374920"/>
                  <a:ext cx="859320" cy="830520"/>
                </a:xfrm>
                <a:custGeom>
                  <a:avLst/>
                  <a:gdLst/>
                  <a:ahLst/>
                  <a:rect l="0" t="0" r="r" b="b"/>
                  <a:pathLst>
                    <a:path w="2387" h="2307">
                      <a:moveTo>
                        <a:pt x="22" y="2285"/>
                      </a:moveTo>
                      <a:lnTo>
                        <a:pt x="0" y="2086"/>
                      </a:lnTo>
                      <a:lnTo>
                        <a:pt x="30" y="1936"/>
                      </a:lnTo>
                      <a:lnTo>
                        <a:pt x="105" y="1791"/>
                      </a:lnTo>
                      <a:lnTo>
                        <a:pt x="383" y="1526"/>
                      </a:lnTo>
                      <a:lnTo>
                        <a:pt x="595" y="1315"/>
                      </a:lnTo>
                      <a:lnTo>
                        <a:pt x="807" y="1142"/>
                      </a:lnTo>
                      <a:lnTo>
                        <a:pt x="1019" y="1005"/>
                      </a:lnTo>
                      <a:lnTo>
                        <a:pt x="1266" y="855"/>
                      </a:lnTo>
                      <a:lnTo>
                        <a:pt x="1637" y="529"/>
                      </a:lnTo>
                      <a:lnTo>
                        <a:pt x="2387" y="0"/>
                      </a:lnTo>
                      <a:lnTo>
                        <a:pt x="2365" y="348"/>
                      </a:lnTo>
                      <a:lnTo>
                        <a:pt x="1623" y="1058"/>
                      </a:lnTo>
                      <a:lnTo>
                        <a:pt x="1306" y="1301"/>
                      </a:lnTo>
                      <a:lnTo>
                        <a:pt x="1072" y="1438"/>
                      </a:lnTo>
                      <a:lnTo>
                        <a:pt x="816" y="1610"/>
                      </a:lnTo>
                      <a:lnTo>
                        <a:pt x="542" y="1844"/>
                      </a:lnTo>
                      <a:lnTo>
                        <a:pt x="330" y="2033"/>
                      </a:lnTo>
                      <a:lnTo>
                        <a:pt x="92" y="2307"/>
                      </a:lnTo>
                      <a:lnTo>
                        <a:pt x="22" y="2285"/>
                      </a:lnTo>
                      <a:close/>
                    </a:path>
                  </a:pathLst>
                </a:cu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15960" y="2293920"/>
                  <a:ext cx="1881720" cy="903600"/>
                </a:xfrm>
                <a:custGeom>
                  <a:avLst/>
                  <a:gdLst/>
                  <a:ahLst/>
                  <a:rect l="0" t="0" r="r" b="b"/>
                  <a:pathLst>
                    <a:path w="5227" h="2510">
                      <a:moveTo>
                        <a:pt x="0" y="0"/>
                      </a:moveTo>
                      <a:lnTo>
                        <a:pt x="5227" y="1412"/>
                      </a:lnTo>
                      <a:lnTo>
                        <a:pt x="5227" y="2510"/>
                      </a:lnTo>
                      <a:lnTo>
                        <a:pt x="127" y="100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9494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25400" y="1293840"/>
                  <a:ext cx="2688120" cy="1016280"/>
                </a:xfrm>
                <a:custGeom>
                  <a:avLst/>
                  <a:gdLst/>
                  <a:ahLst/>
                  <a:rect l="0" t="0" r="r" b="b"/>
                  <a:pathLst>
                    <a:path w="7467" h="2823">
                      <a:moveTo>
                        <a:pt x="471" y="1155"/>
                      </a:moveTo>
                      <a:lnTo>
                        <a:pt x="780" y="987"/>
                      </a:lnTo>
                      <a:lnTo>
                        <a:pt x="1045" y="859"/>
                      </a:lnTo>
                      <a:lnTo>
                        <a:pt x="1371" y="648"/>
                      </a:lnTo>
                      <a:lnTo>
                        <a:pt x="1605" y="511"/>
                      </a:lnTo>
                      <a:lnTo>
                        <a:pt x="1892" y="383"/>
                      </a:lnTo>
                      <a:lnTo>
                        <a:pt x="2179" y="224"/>
                      </a:lnTo>
                      <a:lnTo>
                        <a:pt x="2466" y="74"/>
                      </a:lnTo>
                      <a:lnTo>
                        <a:pt x="2655" y="0"/>
                      </a:lnTo>
                      <a:lnTo>
                        <a:pt x="7454" y="1027"/>
                      </a:lnTo>
                      <a:lnTo>
                        <a:pt x="7467" y="1071"/>
                      </a:lnTo>
                      <a:lnTo>
                        <a:pt x="7370" y="1146"/>
                      </a:lnTo>
                      <a:lnTo>
                        <a:pt x="7233" y="1270"/>
                      </a:lnTo>
                      <a:lnTo>
                        <a:pt x="7106" y="1456"/>
                      </a:lnTo>
                      <a:lnTo>
                        <a:pt x="6903" y="1729"/>
                      </a:lnTo>
                      <a:lnTo>
                        <a:pt x="6713" y="1923"/>
                      </a:lnTo>
                      <a:lnTo>
                        <a:pt x="6422" y="2104"/>
                      </a:lnTo>
                      <a:lnTo>
                        <a:pt x="6091" y="2294"/>
                      </a:lnTo>
                      <a:lnTo>
                        <a:pt x="5831" y="2457"/>
                      </a:lnTo>
                      <a:lnTo>
                        <a:pt x="5602" y="2620"/>
                      </a:lnTo>
                      <a:lnTo>
                        <a:pt x="5319" y="2823"/>
                      </a:lnTo>
                      <a:lnTo>
                        <a:pt x="0" y="1460"/>
                      </a:lnTo>
                      <a:lnTo>
                        <a:pt x="471" y="11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76767"/>
                    </a:gs>
                    <a:gs pos="50000">
                      <a:srgbClr val="ffffff"/>
                    </a:gs>
                    <a:gs pos="100000">
                      <a:srgbClr val="676767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108080" y="1600200"/>
                  <a:ext cx="1922400" cy="45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407960" y="1434960"/>
                  <a:ext cx="1852920" cy="41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319040" y="1893960"/>
                  <a:ext cx="1087920" cy="329040"/>
                </a:xfrm>
                <a:custGeom>
                  <a:avLst/>
                  <a:gdLst/>
                  <a:ahLst/>
                  <a:rect l="0" t="0" r="r" b="b"/>
                  <a:pathLst>
                    <a:path w="3022" h="914">
                      <a:moveTo>
                        <a:pt x="0" y="234"/>
                      </a:moveTo>
                      <a:lnTo>
                        <a:pt x="423" y="0"/>
                      </a:lnTo>
                      <a:lnTo>
                        <a:pt x="3022" y="636"/>
                      </a:lnTo>
                      <a:lnTo>
                        <a:pt x="2696" y="914"/>
                      </a:lnTo>
                      <a:lnTo>
                        <a:pt x="0" y="234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319040" y="1978200"/>
                  <a:ext cx="970200" cy="287640"/>
                </a:xfrm>
                <a:custGeom>
                  <a:avLst/>
                  <a:gdLst/>
                  <a:ahLst/>
                  <a:rect l="0" t="0" r="r" b="b"/>
                  <a:pathLst>
                    <a:path w="2695" h="799">
                      <a:moveTo>
                        <a:pt x="0" y="0"/>
                      </a:moveTo>
                      <a:lnTo>
                        <a:pt x="8" y="127"/>
                      </a:lnTo>
                      <a:lnTo>
                        <a:pt x="2695" y="799"/>
                      </a:lnTo>
                      <a:lnTo>
                        <a:pt x="2682" y="67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 flipH="1">
                  <a:off x="2317680" y="1703520"/>
                  <a:ext cx="26352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2386080" y="1720800"/>
                  <a:ext cx="264960" cy="17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2465280" y="1741320"/>
                  <a:ext cx="265320" cy="17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2549520" y="1757520"/>
                  <a:ext cx="263520" cy="17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2629080" y="1782720"/>
                  <a:ext cx="263520" cy="17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2727360" y="1789200"/>
                  <a:ext cx="250920" cy="18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2813040" y="1820880"/>
                  <a:ext cx="233280" cy="17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15960" y="1844640"/>
                  <a:ext cx="557640" cy="194040"/>
                </a:xfrm>
                <a:custGeom>
                  <a:avLst/>
                  <a:gdLst/>
                  <a:ahLst/>
                  <a:rect l="0" t="0" r="r" b="b"/>
                  <a:pathLst>
                    <a:path w="1549" h="539">
                      <a:moveTo>
                        <a:pt x="264" y="0"/>
                      </a:moveTo>
                      <a:lnTo>
                        <a:pt x="0" y="150"/>
                      </a:lnTo>
                      <a:lnTo>
                        <a:pt x="1355" y="539"/>
                      </a:lnTo>
                      <a:lnTo>
                        <a:pt x="1549" y="425"/>
                      </a:lnTo>
                      <a:lnTo>
                        <a:pt x="295" y="83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568600" y="2679840"/>
                  <a:ext cx="483120" cy="343440"/>
                </a:xfrm>
                <a:custGeom>
                  <a:avLst/>
                  <a:gdLst/>
                  <a:ahLst/>
                  <a:rect l="0" t="0" r="r" b="b"/>
                  <a:pathLst>
                    <a:path fill="none" w="1342" h="954">
                      <a:moveTo>
                        <a:pt x="1342" y="0"/>
                      </a:moveTo>
                      <a:lnTo>
                        <a:pt x="940" y="243"/>
                      </a:lnTo>
                      <a:lnTo>
                        <a:pt x="627" y="486"/>
                      </a:lnTo>
                      <a:lnTo>
                        <a:pt x="384" y="697"/>
                      </a:lnTo>
                      <a:lnTo>
                        <a:pt x="202" y="879"/>
                      </a:lnTo>
                      <a:lnTo>
                        <a:pt x="88" y="945"/>
                      </a:lnTo>
                      <a:lnTo>
                        <a:pt x="0" y="954"/>
                      </a:lnTo>
                    </a:path>
                  </a:pathLst>
                </a:custGeom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68480" y="2214720"/>
                  <a:ext cx="613080" cy="187560"/>
                </a:xfrm>
                <a:custGeom>
                  <a:avLst/>
                  <a:gdLst/>
                  <a:ahLst/>
                  <a:rect l="0" t="0" r="r" b="b"/>
                  <a:pathLst>
                    <a:path w="1703" h="521">
                      <a:moveTo>
                        <a:pt x="0" y="145"/>
                      </a:moveTo>
                      <a:lnTo>
                        <a:pt x="229" y="0"/>
                      </a:lnTo>
                      <a:lnTo>
                        <a:pt x="1703" y="362"/>
                      </a:lnTo>
                      <a:lnTo>
                        <a:pt x="1491" y="521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500200" y="1717560"/>
                  <a:ext cx="981360" cy="706680"/>
                </a:xfrm>
                <a:custGeom>
                  <a:avLst/>
                  <a:gdLst/>
                  <a:ahLst/>
                  <a:rect l="0" t="0" r="r" b="b"/>
                  <a:pathLst>
                    <a:path w="2726" h="1963">
                      <a:moveTo>
                        <a:pt x="0" y="1897"/>
                      </a:moveTo>
                      <a:lnTo>
                        <a:pt x="224" y="1751"/>
                      </a:lnTo>
                      <a:lnTo>
                        <a:pt x="317" y="1773"/>
                      </a:lnTo>
                      <a:lnTo>
                        <a:pt x="401" y="1764"/>
                      </a:lnTo>
                      <a:lnTo>
                        <a:pt x="582" y="1676"/>
                      </a:lnTo>
                      <a:lnTo>
                        <a:pt x="868" y="1473"/>
                      </a:lnTo>
                      <a:lnTo>
                        <a:pt x="1058" y="1350"/>
                      </a:lnTo>
                      <a:lnTo>
                        <a:pt x="1309" y="1200"/>
                      </a:lnTo>
                      <a:lnTo>
                        <a:pt x="1592" y="1032"/>
                      </a:lnTo>
                      <a:lnTo>
                        <a:pt x="1813" y="877"/>
                      </a:lnTo>
                      <a:lnTo>
                        <a:pt x="2016" y="687"/>
                      </a:lnTo>
                      <a:lnTo>
                        <a:pt x="2183" y="463"/>
                      </a:lnTo>
                      <a:lnTo>
                        <a:pt x="2249" y="348"/>
                      </a:lnTo>
                      <a:lnTo>
                        <a:pt x="2377" y="180"/>
                      </a:lnTo>
                      <a:lnTo>
                        <a:pt x="2576" y="0"/>
                      </a:lnTo>
                      <a:lnTo>
                        <a:pt x="2651" y="0"/>
                      </a:lnTo>
                      <a:lnTo>
                        <a:pt x="2726" y="22"/>
                      </a:lnTo>
                      <a:lnTo>
                        <a:pt x="2629" y="114"/>
                      </a:lnTo>
                      <a:lnTo>
                        <a:pt x="2430" y="273"/>
                      </a:lnTo>
                      <a:lnTo>
                        <a:pt x="2302" y="410"/>
                      </a:lnTo>
                      <a:lnTo>
                        <a:pt x="2205" y="568"/>
                      </a:lnTo>
                      <a:lnTo>
                        <a:pt x="2082" y="727"/>
                      </a:lnTo>
                      <a:lnTo>
                        <a:pt x="1932" y="877"/>
                      </a:lnTo>
                      <a:lnTo>
                        <a:pt x="1742" y="1032"/>
                      </a:lnTo>
                      <a:lnTo>
                        <a:pt x="1570" y="1147"/>
                      </a:lnTo>
                      <a:lnTo>
                        <a:pt x="1381" y="1262"/>
                      </a:lnTo>
                      <a:lnTo>
                        <a:pt x="1195" y="1350"/>
                      </a:lnTo>
                      <a:lnTo>
                        <a:pt x="996" y="1487"/>
                      </a:lnTo>
                      <a:lnTo>
                        <a:pt x="784" y="1667"/>
                      </a:lnTo>
                      <a:lnTo>
                        <a:pt x="626" y="1804"/>
                      </a:lnTo>
                      <a:lnTo>
                        <a:pt x="445" y="1932"/>
                      </a:lnTo>
                      <a:lnTo>
                        <a:pt x="361" y="1963"/>
                      </a:lnTo>
                      <a:lnTo>
                        <a:pt x="211" y="1941"/>
                      </a:lnTo>
                      <a:lnTo>
                        <a:pt x="0" y="1897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128600" y="2581200"/>
                  <a:ext cx="1181520" cy="568800"/>
                </a:xfrm>
                <a:custGeom>
                  <a:avLst/>
                  <a:gdLst/>
                  <a:ahLst/>
                  <a:rect l="0" t="0" r="r" b="b"/>
                  <a:pathLst>
                    <a:path w="3282" h="1580">
                      <a:moveTo>
                        <a:pt x="39" y="613"/>
                      </a:moveTo>
                      <a:lnTo>
                        <a:pt x="0" y="0"/>
                      </a:lnTo>
                      <a:lnTo>
                        <a:pt x="3282" y="922"/>
                      </a:lnTo>
                      <a:lnTo>
                        <a:pt x="3282" y="1580"/>
                      </a:lnTo>
                      <a:lnTo>
                        <a:pt x="39" y="613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4640" y="2664000"/>
                  <a:ext cx="510120" cy="190800"/>
                </a:xfrm>
                <a:custGeom>
                  <a:avLst/>
                  <a:gdLst/>
                  <a:ahLst/>
                  <a:rect l="0" t="0" r="r" b="b"/>
                  <a:pathLst>
                    <a:path w="1417" h="530">
                      <a:moveTo>
                        <a:pt x="1289" y="384"/>
                      </a:moveTo>
                      <a:lnTo>
                        <a:pt x="0" y="0"/>
                      </a:lnTo>
                      <a:lnTo>
                        <a:pt x="44" y="171"/>
                      </a:lnTo>
                      <a:lnTo>
                        <a:pt x="393" y="278"/>
                      </a:lnTo>
                      <a:lnTo>
                        <a:pt x="437" y="255"/>
                      </a:lnTo>
                      <a:lnTo>
                        <a:pt x="1333" y="530"/>
                      </a:lnTo>
                      <a:lnTo>
                        <a:pt x="1417" y="468"/>
                      </a:lnTo>
                      <a:lnTo>
                        <a:pt x="1289" y="3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90640" y="2395440"/>
                  <a:ext cx="73080" cy="9216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282760" y="2779560"/>
                  <a:ext cx="69840" cy="81000"/>
                </a:xfrm>
                <a:prstGeom prst="ellipse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030400" y="2252520"/>
                  <a:ext cx="62280" cy="92520"/>
                </a:xfrm>
                <a:custGeom>
                  <a:avLst/>
                  <a:gdLst/>
                  <a:ahLst/>
                  <a:rect l="0" t="0" r="r" b="b"/>
                  <a:pathLst>
                    <a:path w="173" h="257">
                      <a:moveTo>
                        <a:pt x="0" y="231"/>
                      </a:moveTo>
                      <a:lnTo>
                        <a:pt x="0" y="61"/>
                      </a:lnTo>
                      <a:lnTo>
                        <a:pt x="111" y="0"/>
                      </a:lnTo>
                      <a:lnTo>
                        <a:pt x="173" y="22"/>
                      </a:lnTo>
                      <a:lnTo>
                        <a:pt x="89" y="93"/>
                      </a:lnTo>
                      <a:lnTo>
                        <a:pt x="98" y="257"/>
                      </a:lnTo>
                      <a:lnTo>
                        <a:pt x="0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92320" y="2265480"/>
                  <a:ext cx="60840" cy="92520"/>
                </a:xfrm>
                <a:custGeom>
                  <a:avLst/>
                  <a:gdLst/>
                  <a:ahLst/>
                  <a:rect l="0" t="0" r="r" b="b"/>
                  <a:pathLst>
                    <a:path w="169" h="257">
                      <a:moveTo>
                        <a:pt x="0" y="231"/>
                      </a:moveTo>
                      <a:lnTo>
                        <a:pt x="0" y="61"/>
                      </a:lnTo>
                      <a:lnTo>
                        <a:pt x="106" y="0"/>
                      </a:lnTo>
                      <a:lnTo>
                        <a:pt x="169" y="22"/>
                      </a:lnTo>
                      <a:lnTo>
                        <a:pt x="84" y="93"/>
                      </a:lnTo>
                      <a:lnTo>
                        <a:pt x="93" y="257"/>
                      </a:lnTo>
                      <a:lnTo>
                        <a:pt x="0" y="2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63600" y="2282760"/>
                  <a:ext cx="60840" cy="93960"/>
                </a:xfrm>
                <a:custGeom>
                  <a:avLst/>
                  <a:gdLst/>
                  <a:ahLst/>
                  <a:rect l="0" t="0" r="r" b="b"/>
                  <a:pathLst>
                    <a:path w="169" h="261">
                      <a:moveTo>
                        <a:pt x="0" y="234"/>
                      </a:moveTo>
                      <a:lnTo>
                        <a:pt x="0" y="61"/>
                      </a:lnTo>
                      <a:lnTo>
                        <a:pt x="106" y="0"/>
                      </a:lnTo>
                      <a:lnTo>
                        <a:pt x="169" y="22"/>
                      </a:lnTo>
                      <a:lnTo>
                        <a:pt x="84" y="92"/>
                      </a:lnTo>
                      <a:lnTo>
                        <a:pt x="93" y="261"/>
                      </a:lnTo>
                      <a:lnTo>
                        <a:pt x="0" y="2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386080" y="2004840"/>
                  <a:ext cx="497160" cy="270360"/>
                </a:xfrm>
                <a:custGeom>
                  <a:avLst/>
                  <a:gdLst/>
                  <a:ahLst/>
                  <a:rect l="0" t="0" r="r" b="b"/>
                  <a:pathLst>
                    <a:path w="1381" h="751">
                      <a:moveTo>
                        <a:pt x="763" y="0"/>
                      </a:moveTo>
                      <a:lnTo>
                        <a:pt x="1381" y="123"/>
                      </a:lnTo>
                      <a:lnTo>
                        <a:pt x="648" y="751"/>
                      </a:lnTo>
                      <a:lnTo>
                        <a:pt x="0" y="592"/>
                      </a:lnTo>
                      <a:lnTo>
                        <a:pt x="763" y="0"/>
                      </a:lnTo>
                      <a:close/>
                    </a:path>
                  </a:pathLst>
                </a:custGeom>
                <a:blipFill rotWithShape="0">
                  <a:blip r:embed="rId1"/>
                  <a:tile tx="0" ty="0" sx="133018" sy="133018" algn="ctr"/>
                </a:blip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968560" y="1638360"/>
                  <a:ext cx="362160" cy="168480"/>
                </a:xfrm>
                <a:custGeom>
                  <a:avLst/>
                  <a:gdLst/>
                  <a:ahLst/>
                  <a:rect l="0" t="0" r="r" b="b"/>
                  <a:pathLst>
                    <a:path w="1006" h="468">
                      <a:moveTo>
                        <a:pt x="405" y="0"/>
                      </a:moveTo>
                      <a:lnTo>
                        <a:pt x="1006" y="141"/>
                      </a:lnTo>
                      <a:lnTo>
                        <a:pt x="596" y="468"/>
                      </a:lnTo>
                      <a:lnTo>
                        <a:pt x="0" y="331"/>
                      </a:lnTo>
                      <a:lnTo>
                        <a:pt x="405" y="0"/>
                      </a:lnTo>
                      <a:close/>
                    </a:path>
                  </a:pathLst>
                </a:custGeom>
                <a:blipFill rotWithShape="0">
                  <a:blip r:embed="rId2"/>
                  <a:tile tx="0" ty="0" sx="133018" sy="133018" algn="ctr"/>
                </a:blip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651040" y="2935440"/>
                  <a:ext cx="120960" cy="141480"/>
                </a:xfrm>
                <a:custGeom>
                  <a:avLst/>
                  <a:gdLst/>
                  <a:ahLst/>
                  <a:rect l="0" t="0" r="r" b="b"/>
                  <a:pathLst>
                    <a:path w="336" h="393">
                      <a:moveTo>
                        <a:pt x="261" y="0"/>
                      </a:moveTo>
                      <a:lnTo>
                        <a:pt x="336" y="39"/>
                      </a:lnTo>
                      <a:lnTo>
                        <a:pt x="92" y="274"/>
                      </a:lnTo>
                      <a:lnTo>
                        <a:pt x="83" y="393"/>
                      </a:lnTo>
                      <a:lnTo>
                        <a:pt x="0" y="371"/>
                      </a:lnTo>
                      <a:lnTo>
                        <a:pt x="0" y="234"/>
                      </a:lnTo>
                      <a:lnTo>
                        <a:pt x="261" y="0"/>
                      </a:lnTo>
                      <a:close/>
                    </a:path>
                  </a:pathLst>
                </a:custGeom>
                <a:solidFill>
                  <a:srgbClr val="7b00e4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679840" y="2946240"/>
                  <a:ext cx="98640" cy="133560"/>
                </a:xfrm>
                <a:custGeom>
                  <a:avLst/>
                  <a:gdLst/>
                  <a:ahLst/>
                  <a:rect l="0" t="0" r="r" b="b"/>
                  <a:pathLst>
                    <a:path w="274" h="371">
                      <a:moveTo>
                        <a:pt x="0" y="221"/>
                      </a:moveTo>
                      <a:lnTo>
                        <a:pt x="0" y="371"/>
                      </a:lnTo>
                      <a:lnTo>
                        <a:pt x="159" y="287"/>
                      </a:lnTo>
                      <a:lnTo>
                        <a:pt x="274" y="158"/>
                      </a:lnTo>
                      <a:lnTo>
                        <a:pt x="274" y="0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b760f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1119240" y="2013120"/>
                  <a:ext cx="889200" cy="251280"/>
                </a:xfrm>
                <a:custGeom>
                  <a:avLst/>
                  <a:gdLst/>
                  <a:ahLst/>
                  <a:rect l="0" t="0" r="r" b="b"/>
                  <a:pathLst>
                    <a:path w="2470" h="698">
                      <a:moveTo>
                        <a:pt x="114" y="0"/>
                      </a:moveTo>
                      <a:lnTo>
                        <a:pt x="0" y="92"/>
                      </a:lnTo>
                      <a:lnTo>
                        <a:pt x="2377" y="698"/>
                      </a:lnTo>
                      <a:lnTo>
                        <a:pt x="2470" y="614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8c8c8c"/>
                </a:solidFill>
                <a:ln w="12600">
                  <a:solidFill>
                    <a:srgbClr val="8c8c8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422520" y="1852560"/>
                  <a:ext cx="36720" cy="86040"/>
                </a:xfrm>
                <a:custGeom>
                  <a:avLst/>
                  <a:gdLst/>
                  <a:ahLst/>
                  <a:rect l="0" t="0" r="r" b="b"/>
                  <a:pathLst>
                    <a:path w="102" h="239">
                      <a:moveTo>
                        <a:pt x="0" y="39"/>
                      </a:moveTo>
                      <a:lnTo>
                        <a:pt x="0" y="239"/>
                      </a:lnTo>
                      <a:lnTo>
                        <a:pt x="102" y="186"/>
                      </a:lnTo>
                      <a:lnTo>
                        <a:pt x="102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"/>
                <p:cNvGrpSpPr/>
                <p:nvPr/>
              </p:nvGrpSpPr>
              <p:grpSpPr>
                <a:xfrm>
                  <a:off x="3043080" y="2043000"/>
                  <a:ext cx="744840" cy="747000"/>
                  <a:chOff x="3043080" y="2043000"/>
                  <a:chExt cx="744840" cy="74700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>
                    <a:off x="3043080" y="2043000"/>
                    <a:ext cx="362160" cy="716400"/>
                  </a:xfrm>
                  <a:custGeom>
                    <a:avLst/>
                    <a:gdLst/>
                    <a:ahLst/>
                    <a:rect l="0" t="0" r="r" b="b"/>
                    <a:pathLst>
                      <a:path w="1006" h="1990">
                        <a:moveTo>
                          <a:pt x="688" y="0"/>
                        </a:moveTo>
                        <a:lnTo>
                          <a:pt x="561" y="52"/>
                        </a:lnTo>
                        <a:lnTo>
                          <a:pt x="432" y="158"/>
                        </a:lnTo>
                        <a:lnTo>
                          <a:pt x="295" y="304"/>
                        </a:lnTo>
                        <a:lnTo>
                          <a:pt x="189" y="499"/>
                        </a:lnTo>
                        <a:lnTo>
                          <a:pt x="83" y="772"/>
                        </a:lnTo>
                        <a:lnTo>
                          <a:pt x="8" y="1103"/>
                        </a:lnTo>
                        <a:lnTo>
                          <a:pt x="0" y="1398"/>
                        </a:lnTo>
                        <a:lnTo>
                          <a:pt x="22" y="1655"/>
                        </a:lnTo>
                        <a:lnTo>
                          <a:pt x="83" y="1832"/>
                        </a:lnTo>
                        <a:lnTo>
                          <a:pt x="167" y="1920"/>
                        </a:lnTo>
                        <a:lnTo>
                          <a:pt x="370" y="1981"/>
                        </a:lnTo>
                        <a:lnTo>
                          <a:pt x="591" y="1990"/>
                        </a:lnTo>
                        <a:lnTo>
                          <a:pt x="485" y="1920"/>
                        </a:lnTo>
                        <a:lnTo>
                          <a:pt x="379" y="1708"/>
                        </a:lnTo>
                        <a:lnTo>
                          <a:pt x="348" y="1549"/>
                        </a:lnTo>
                        <a:lnTo>
                          <a:pt x="348" y="1332"/>
                        </a:lnTo>
                        <a:lnTo>
                          <a:pt x="361" y="1059"/>
                        </a:lnTo>
                        <a:lnTo>
                          <a:pt x="445" y="825"/>
                        </a:lnTo>
                        <a:lnTo>
                          <a:pt x="512" y="644"/>
                        </a:lnTo>
                        <a:lnTo>
                          <a:pt x="653" y="379"/>
                        </a:lnTo>
                        <a:lnTo>
                          <a:pt x="772" y="220"/>
                        </a:lnTo>
                        <a:lnTo>
                          <a:pt x="891" y="114"/>
                        </a:lnTo>
                        <a:lnTo>
                          <a:pt x="1006" y="61"/>
                        </a:lnTo>
                        <a:lnTo>
                          <a:pt x="6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3162240" y="2066760"/>
                    <a:ext cx="292320" cy="692640"/>
                  </a:xfrm>
                  <a:custGeom>
                    <a:avLst/>
                    <a:gdLst/>
                    <a:ahLst/>
                    <a:rect l="0" t="0" r="r" b="b"/>
                    <a:pathLst>
                      <a:path w="812" h="1924">
                        <a:moveTo>
                          <a:pt x="812" y="101"/>
                        </a:moveTo>
                        <a:lnTo>
                          <a:pt x="759" y="48"/>
                        </a:lnTo>
                        <a:lnTo>
                          <a:pt x="675" y="0"/>
                        </a:lnTo>
                        <a:lnTo>
                          <a:pt x="543" y="57"/>
                        </a:lnTo>
                        <a:lnTo>
                          <a:pt x="424" y="176"/>
                        </a:lnTo>
                        <a:lnTo>
                          <a:pt x="317" y="308"/>
                        </a:lnTo>
                        <a:lnTo>
                          <a:pt x="211" y="490"/>
                        </a:lnTo>
                        <a:lnTo>
                          <a:pt x="110" y="719"/>
                        </a:lnTo>
                        <a:lnTo>
                          <a:pt x="52" y="900"/>
                        </a:lnTo>
                        <a:lnTo>
                          <a:pt x="8" y="1178"/>
                        </a:lnTo>
                        <a:lnTo>
                          <a:pt x="0" y="1390"/>
                        </a:lnTo>
                        <a:lnTo>
                          <a:pt x="44" y="1620"/>
                        </a:lnTo>
                        <a:lnTo>
                          <a:pt x="97" y="1809"/>
                        </a:lnTo>
                        <a:lnTo>
                          <a:pt x="194" y="1893"/>
                        </a:lnTo>
                        <a:lnTo>
                          <a:pt x="251" y="1924"/>
                        </a:lnTo>
                        <a:lnTo>
                          <a:pt x="374" y="1893"/>
                        </a:lnTo>
                        <a:lnTo>
                          <a:pt x="238" y="1757"/>
                        </a:lnTo>
                        <a:lnTo>
                          <a:pt x="163" y="1629"/>
                        </a:lnTo>
                        <a:lnTo>
                          <a:pt x="141" y="1438"/>
                        </a:lnTo>
                        <a:lnTo>
                          <a:pt x="127" y="1169"/>
                        </a:lnTo>
                        <a:lnTo>
                          <a:pt x="171" y="953"/>
                        </a:lnTo>
                        <a:lnTo>
                          <a:pt x="238" y="741"/>
                        </a:lnTo>
                        <a:lnTo>
                          <a:pt x="326" y="552"/>
                        </a:lnTo>
                        <a:lnTo>
                          <a:pt x="428" y="379"/>
                        </a:lnTo>
                        <a:lnTo>
                          <a:pt x="547" y="224"/>
                        </a:lnTo>
                        <a:lnTo>
                          <a:pt x="684" y="127"/>
                        </a:lnTo>
                        <a:lnTo>
                          <a:pt x="812" y="101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206880" y="2100240"/>
                    <a:ext cx="375120" cy="667080"/>
                  </a:xfrm>
                  <a:custGeom>
                    <a:avLst/>
                    <a:gdLst/>
                    <a:ahLst/>
                    <a:rect l="0" t="0" r="r" b="b"/>
                    <a:pathLst>
                      <a:path w="1042" h="1853">
                        <a:moveTo>
                          <a:pt x="684" y="0"/>
                        </a:moveTo>
                        <a:lnTo>
                          <a:pt x="1042" y="114"/>
                        </a:lnTo>
                        <a:lnTo>
                          <a:pt x="923" y="154"/>
                        </a:lnTo>
                        <a:lnTo>
                          <a:pt x="804" y="242"/>
                        </a:lnTo>
                        <a:lnTo>
                          <a:pt x="662" y="476"/>
                        </a:lnTo>
                        <a:lnTo>
                          <a:pt x="569" y="701"/>
                        </a:lnTo>
                        <a:lnTo>
                          <a:pt x="472" y="953"/>
                        </a:lnTo>
                        <a:lnTo>
                          <a:pt x="441" y="1204"/>
                        </a:lnTo>
                        <a:lnTo>
                          <a:pt x="433" y="1442"/>
                        </a:lnTo>
                        <a:lnTo>
                          <a:pt x="450" y="1641"/>
                        </a:lnTo>
                        <a:lnTo>
                          <a:pt x="512" y="1804"/>
                        </a:lnTo>
                        <a:lnTo>
                          <a:pt x="556" y="1853"/>
                        </a:lnTo>
                        <a:lnTo>
                          <a:pt x="176" y="1778"/>
                        </a:lnTo>
                        <a:lnTo>
                          <a:pt x="79" y="1632"/>
                        </a:lnTo>
                        <a:lnTo>
                          <a:pt x="26" y="1460"/>
                        </a:lnTo>
                        <a:lnTo>
                          <a:pt x="0" y="1275"/>
                        </a:lnTo>
                        <a:lnTo>
                          <a:pt x="4" y="1076"/>
                        </a:lnTo>
                        <a:lnTo>
                          <a:pt x="44" y="873"/>
                        </a:lnTo>
                        <a:lnTo>
                          <a:pt x="105" y="657"/>
                        </a:lnTo>
                        <a:lnTo>
                          <a:pt x="198" y="445"/>
                        </a:lnTo>
                        <a:lnTo>
                          <a:pt x="331" y="233"/>
                        </a:lnTo>
                        <a:lnTo>
                          <a:pt x="459" y="92"/>
                        </a:lnTo>
                        <a:lnTo>
                          <a:pt x="569" y="30"/>
                        </a:lnTo>
                        <a:lnTo>
                          <a:pt x="684" y="0"/>
                        </a:lnTo>
                        <a:close/>
                      </a:path>
                    </a:pathLst>
                  </a:custGeom>
                  <a:solidFill>
                    <a:srgbClr val="67676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363840" y="2135160"/>
                    <a:ext cx="240120" cy="632160"/>
                  </a:xfrm>
                  <a:custGeom>
                    <a:avLst/>
                    <a:gdLst/>
                    <a:ahLst/>
                    <a:rect l="0" t="0" r="r" b="b"/>
                    <a:pathLst>
                      <a:path w="667" h="1756">
                        <a:moveTo>
                          <a:pt x="663" y="61"/>
                        </a:moveTo>
                        <a:lnTo>
                          <a:pt x="570" y="0"/>
                        </a:lnTo>
                        <a:lnTo>
                          <a:pt x="566" y="26"/>
                        </a:lnTo>
                        <a:lnTo>
                          <a:pt x="526" y="13"/>
                        </a:lnTo>
                        <a:lnTo>
                          <a:pt x="450" y="66"/>
                        </a:lnTo>
                        <a:lnTo>
                          <a:pt x="349" y="149"/>
                        </a:lnTo>
                        <a:lnTo>
                          <a:pt x="252" y="321"/>
                        </a:lnTo>
                        <a:lnTo>
                          <a:pt x="172" y="476"/>
                        </a:lnTo>
                        <a:lnTo>
                          <a:pt x="92" y="727"/>
                        </a:lnTo>
                        <a:lnTo>
                          <a:pt x="30" y="975"/>
                        </a:lnTo>
                        <a:lnTo>
                          <a:pt x="0" y="1226"/>
                        </a:lnTo>
                        <a:lnTo>
                          <a:pt x="0" y="1416"/>
                        </a:lnTo>
                        <a:lnTo>
                          <a:pt x="8" y="1566"/>
                        </a:lnTo>
                        <a:lnTo>
                          <a:pt x="52" y="1681"/>
                        </a:lnTo>
                        <a:lnTo>
                          <a:pt x="114" y="1756"/>
                        </a:lnTo>
                        <a:lnTo>
                          <a:pt x="212" y="1734"/>
                        </a:lnTo>
                        <a:lnTo>
                          <a:pt x="243" y="1672"/>
                        </a:lnTo>
                        <a:lnTo>
                          <a:pt x="145" y="1619"/>
                        </a:lnTo>
                        <a:lnTo>
                          <a:pt x="101" y="1469"/>
                        </a:lnTo>
                        <a:lnTo>
                          <a:pt x="83" y="1187"/>
                        </a:lnTo>
                        <a:lnTo>
                          <a:pt x="123" y="931"/>
                        </a:lnTo>
                        <a:lnTo>
                          <a:pt x="177" y="714"/>
                        </a:lnTo>
                        <a:lnTo>
                          <a:pt x="243" y="546"/>
                        </a:lnTo>
                        <a:lnTo>
                          <a:pt x="327" y="352"/>
                        </a:lnTo>
                        <a:lnTo>
                          <a:pt x="419" y="189"/>
                        </a:lnTo>
                        <a:lnTo>
                          <a:pt x="557" y="92"/>
                        </a:lnTo>
                        <a:lnTo>
                          <a:pt x="667" y="105"/>
                        </a:lnTo>
                        <a:lnTo>
                          <a:pt x="663" y="61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3394080" y="2168640"/>
                    <a:ext cx="34344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954" h="1716">
                        <a:moveTo>
                          <a:pt x="512" y="0"/>
                        </a:moveTo>
                        <a:lnTo>
                          <a:pt x="954" y="127"/>
                        </a:lnTo>
                        <a:lnTo>
                          <a:pt x="756" y="268"/>
                        </a:lnTo>
                        <a:lnTo>
                          <a:pt x="644" y="515"/>
                        </a:lnTo>
                        <a:lnTo>
                          <a:pt x="556" y="784"/>
                        </a:lnTo>
                        <a:lnTo>
                          <a:pt x="503" y="1068"/>
                        </a:lnTo>
                        <a:lnTo>
                          <a:pt x="455" y="1345"/>
                        </a:lnTo>
                        <a:lnTo>
                          <a:pt x="481" y="1575"/>
                        </a:lnTo>
                        <a:lnTo>
                          <a:pt x="556" y="1716"/>
                        </a:lnTo>
                        <a:lnTo>
                          <a:pt x="83" y="1570"/>
                        </a:lnTo>
                        <a:lnTo>
                          <a:pt x="30" y="1473"/>
                        </a:lnTo>
                        <a:lnTo>
                          <a:pt x="4" y="1319"/>
                        </a:lnTo>
                        <a:lnTo>
                          <a:pt x="0" y="1147"/>
                        </a:lnTo>
                        <a:lnTo>
                          <a:pt x="13" y="975"/>
                        </a:lnTo>
                        <a:lnTo>
                          <a:pt x="61" y="780"/>
                        </a:lnTo>
                        <a:lnTo>
                          <a:pt x="114" y="595"/>
                        </a:lnTo>
                        <a:lnTo>
                          <a:pt x="211" y="339"/>
                        </a:lnTo>
                        <a:lnTo>
                          <a:pt x="318" y="167"/>
                        </a:lnTo>
                        <a:lnTo>
                          <a:pt x="406" y="48"/>
                        </a:lnTo>
                        <a:lnTo>
                          <a:pt x="512" y="0"/>
                        </a:lnTo>
                        <a:close/>
                      </a:path>
                    </a:pathLst>
                  </a:custGeom>
                  <a:solidFill>
                    <a:srgbClr val="797979"/>
                  </a:solidFill>
                  <a:ln w="12600">
                    <a:solidFill>
                      <a:srgbClr val="797979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3552840" y="2209320"/>
                    <a:ext cx="235080" cy="580680"/>
                  </a:xfrm>
                  <a:custGeom>
                    <a:avLst/>
                    <a:gdLst/>
                    <a:ahLst/>
                    <a:rect l="0" t="0" r="r" b="b"/>
                    <a:pathLst>
                      <a:path w="653" h="1613">
                        <a:moveTo>
                          <a:pt x="69" y="742"/>
                        </a:moveTo>
                        <a:lnTo>
                          <a:pt x="69" y="742"/>
                        </a:lnTo>
                        <a:lnTo>
                          <a:pt x="69" y="742"/>
                        </a:lnTo>
                        <a:cubicBezTo>
                          <a:pt x="34" y="883"/>
                          <a:pt x="11" y="1025"/>
                          <a:pt x="3" y="1152"/>
                        </a:cubicBezTo>
                        <a:cubicBezTo>
                          <a:pt x="-5" y="1280"/>
                          <a:pt x="3" y="1390"/>
                          <a:pt x="24" y="1470"/>
                        </a:cubicBezTo>
                        <a:cubicBezTo>
                          <a:pt x="46" y="1550"/>
                          <a:pt x="81" y="1598"/>
                          <a:pt x="126" y="1610"/>
                        </a:cubicBezTo>
                        <a:cubicBezTo>
                          <a:pt x="171" y="1621"/>
                          <a:pt x="225" y="1595"/>
                          <a:pt x="281" y="1534"/>
                        </a:cubicBezTo>
                        <a:cubicBezTo>
                          <a:pt x="338" y="1473"/>
                          <a:pt x="396" y="1380"/>
                          <a:pt x="449" y="1263"/>
                        </a:cubicBezTo>
                        <a:cubicBezTo>
                          <a:pt x="502" y="1147"/>
                          <a:pt x="549" y="1011"/>
                          <a:pt x="584" y="870"/>
                        </a:cubicBezTo>
                        <a:lnTo>
                          <a:pt x="584" y="870"/>
                        </a:lnTo>
                        <a:lnTo>
                          <a:pt x="584" y="870"/>
                        </a:lnTo>
                        <a:cubicBezTo>
                          <a:pt x="619" y="729"/>
                          <a:pt x="642" y="587"/>
                          <a:pt x="650" y="460"/>
                        </a:cubicBezTo>
                        <a:cubicBezTo>
                          <a:pt x="658" y="332"/>
                          <a:pt x="650" y="222"/>
                          <a:pt x="629" y="142"/>
                        </a:cubicBezTo>
                        <a:cubicBezTo>
                          <a:pt x="607" y="62"/>
                          <a:pt x="572" y="14"/>
                          <a:pt x="527" y="2"/>
                        </a:cubicBezTo>
                        <a:cubicBezTo>
                          <a:pt x="482" y="-9"/>
                          <a:pt x="428" y="17"/>
                          <a:pt x="372" y="78"/>
                        </a:cubicBezTo>
                        <a:cubicBezTo>
                          <a:pt x="315" y="139"/>
                          <a:pt x="257" y="232"/>
                          <a:pt x="204" y="349"/>
                        </a:cubicBezTo>
                        <a:cubicBezTo>
                          <a:pt x="151" y="465"/>
                          <a:pt x="104" y="601"/>
                          <a:pt x="69" y="742"/>
                        </a:cubicBez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3581280" y="2286720"/>
                    <a:ext cx="163800" cy="425880"/>
                  </a:xfrm>
                  <a:custGeom>
                    <a:avLst/>
                    <a:gdLst/>
                    <a:ahLst/>
                    <a:rect l="0" t="0" r="r" b="b"/>
                    <a:pathLst>
                      <a:path w="455" h="1183">
                        <a:moveTo>
                          <a:pt x="54" y="548"/>
                        </a:moveTo>
                        <a:lnTo>
                          <a:pt x="54" y="548"/>
                        </a:lnTo>
                        <a:cubicBezTo>
                          <a:pt x="28" y="651"/>
                          <a:pt x="11" y="755"/>
                          <a:pt x="4" y="849"/>
                        </a:cubicBezTo>
                        <a:cubicBezTo>
                          <a:pt x="-3" y="942"/>
                          <a:pt x="0" y="1022"/>
                          <a:pt x="13" y="1080"/>
                        </a:cubicBezTo>
                        <a:cubicBezTo>
                          <a:pt x="27" y="1139"/>
                          <a:pt x="50" y="1173"/>
                          <a:pt x="81" y="1181"/>
                        </a:cubicBezTo>
                        <a:cubicBezTo>
                          <a:pt x="111" y="1188"/>
                          <a:pt x="148" y="1169"/>
                          <a:pt x="187" y="1123"/>
                        </a:cubicBezTo>
                        <a:cubicBezTo>
                          <a:pt x="227" y="1078"/>
                          <a:pt x="267" y="1009"/>
                          <a:pt x="305" y="923"/>
                        </a:cubicBezTo>
                        <a:cubicBezTo>
                          <a:pt x="342" y="837"/>
                          <a:pt x="376" y="738"/>
                          <a:pt x="402" y="634"/>
                        </a:cubicBezTo>
                        <a:lnTo>
                          <a:pt x="402" y="634"/>
                        </a:lnTo>
                        <a:lnTo>
                          <a:pt x="402" y="634"/>
                        </a:lnTo>
                        <a:cubicBezTo>
                          <a:pt x="428" y="531"/>
                          <a:pt x="445" y="427"/>
                          <a:pt x="452" y="333"/>
                        </a:cubicBezTo>
                        <a:cubicBezTo>
                          <a:pt x="459" y="240"/>
                          <a:pt x="456" y="160"/>
                          <a:pt x="443" y="102"/>
                        </a:cubicBezTo>
                        <a:cubicBezTo>
                          <a:pt x="429" y="43"/>
                          <a:pt x="406" y="9"/>
                          <a:pt x="375" y="1"/>
                        </a:cubicBezTo>
                        <a:cubicBezTo>
                          <a:pt x="345" y="-6"/>
                          <a:pt x="308" y="13"/>
                          <a:pt x="269" y="59"/>
                        </a:cubicBezTo>
                        <a:cubicBezTo>
                          <a:pt x="229" y="104"/>
                          <a:pt x="189" y="173"/>
                          <a:pt x="151" y="259"/>
                        </a:cubicBezTo>
                        <a:cubicBezTo>
                          <a:pt x="114" y="345"/>
                          <a:pt x="80" y="444"/>
                          <a:pt x="54" y="54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3607200" y="2351520"/>
                    <a:ext cx="85680" cy="271080"/>
                  </a:xfrm>
                  <a:custGeom>
                    <a:avLst/>
                    <a:gdLst/>
                    <a:ahLst/>
                    <a:rect l="0" t="0" r="r" b="b"/>
                    <a:pathLst>
                      <a:path w="238" h="753">
                        <a:moveTo>
                          <a:pt x="46" y="358"/>
                        </a:moveTo>
                        <a:lnTo>
                          <a:pt x="46" y="358"/>
                        </a:lnTo>
                        <a:cubicBezTo>
                          <a:pt x="30" y="424"/>
                          <a:pt x="17" y="490"/>
                          <a:pt x="9" y="548"/>
                        </a:cubicBezTo>
                        <a:cubicBezTo>
                          <a:pt x="1" y="607"/>
                          <a:pt x="-2" y="657"/>
                          <a:pt x="1" y="693"/>
                        </a:cubicBezTo>
                        <a:cubicBezTo>
                          <a:pt x="4" y="728"/>
                          <a:pt x="12" y="749"/>
                          <a:pt x="25" y="752"/>
                        </a:cubicBezTo>
                        <a:cubicBezTo>
                          <a:pt x="38" y="755"/>
                          <a:pt x="55" y="741"/>
                          <a:pt x="74" y="711"/>
                        </a:cubicBezTo>
                        <a:cubicBezTo>
                          <a:pt x="93" y="681"/>
                          <a:pt x="114" y="635"/>
                          <a:pt x="135" y="580"/>
                        </a:cubicBezTo>
                        <a:cubicBezTo>
                          <a:pt x="156" y="524"/>
                          <a:pt x="175" y="460"/>
                          <a:pt x="192" y="394"/>
                        </a:cubicBezTo>
                        <a:lnTo>
                          <a:pt x="192" y="394"/>
                        </a:lnTo>
                        <a:lnTo>
                          <a:pt x="192" y="394"/>
                        </a:lnTo>
                        <a:cubicBezTo>
                          <a:pt x="208" y="328"/>
                          <a:pt x="221" y="262"/>
                          <a:pt x="229" y="204"/>
                        </a:cubicBezTo>
                        <a:cubicBezTo>
                          <a:pt x="237" y="145"/>
                          <a:pt x="240" y="95"/>
                          <a:pt x="237" y="59"/>
                        </a:cubicBezTo>
                        <a:cubicBezTo>
                          <a:pt x="234" y="24"/>
                          <a:pt x="226" y="3"/>
                          <a:pt x="213" y="0"/>
                        </a:cubicBezTo>
                        <a:cubicBezTo>
                          <a:pt x="200" y="-3"/>
                          <a:pt x="183" y="11"/>
                          <a:pt x="164" y="41"/>
                        </a:cubicBezTo>
                        <a:cubicBezTo>
                          <a:pt x="145" y="71"/>
                          <a:pt x="124" y="117"/>
                          <a:pt x="103" y="172"/>
                        </a:cubicBezTo>
                        <a:cubicBezTo>
                          <a:pt x="82" y="228"/>
                          <a:pt x="63" y="292"/>
                          <a:pt x="46" y="358"/>
                        </a:cubicBez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3" name=""/>
                <p:cNvSpPr/>
                <p:nvPr/>
              </p:nvSpPr>
              <p:spPr>
                <a:xfrm>
                  <a:off x="2314440" y="3129120"/>
                  <a:ext cx="163800" cy="86040"/>
                </a:xfrm>
                <a:custGeom>
                  <a:avLst/>
                  <a:gdLst/>
                  <a:ahLst/>
                  <a:rect l="0" t="0" r="r" b="b"/>
                  <a:pathLst>
                    <a:path w="455" h="239">
                      <a:moveTo>
                        <a:pt x="8" y="0"/>
                      </a:moveTo>
                      <a:lnTo>
                        <a:pt x="455" y="133"/>
                      </a:lnTo>
                      <a:lnTo>
                        <a:pt x="433" y="239"/>
                      </a:lnTo>
                      <a:lnTo>
                        <a:pt x="0" y="105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28600" y="2055960"/>
                  <a:ext cx="838440" cy="711720"/>
                </a:xfrm>
                <a:custGeom>
                  <a:avLst/>
                  <a:gdLst/>
                  <a:ahLst/>
                  <a:rect l="0" t="0" r="r" b="b"/>
                  <a:pathLst>
                    <a:path w="2329" h="1977">
                      <a:moveTo>
                        <a:pt x="0" y="0"/>
                      </a:moveTo>
                      <a:lnTo>
                        <a:pt x="0" y="1297"/>
                      </a:lnTo>
                      <a:lnTo>
                        <a:pt x="348" y="1372"/>
                      </a:lnTo>
                      <a:lnTo>
                        <a:pt x="348" y="574"/>
                      </a:lnTo>
                      <a:lnTo>
                        <a:pt x="1967" y="1002"/>
                      </a:lnTo>
                      <a:lnTo>
                        <a:pt x="1967" y="1893"/>
                      </a:lnTo>
                      <a:lnTo>
                        <a:pt x="2329" y="1977"/>
                      </a:lnTo>
                      <a:lnTo>
                        <a:pt x="2329" y="5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20680" y="2003400"/>
                  <a:ext cx="892440" cy="760680"/>
                </a:xfrm>
                <a:custGeom>
                  <a:avLst/>
                  <a:gdLst/>
                  <a:ahLst/>
                  <a:rect l="0" t="0" r="r" b="b"/>
                  <a:pathLst>
                    <a:path fill="none" w="2479" h="2113">
                      <a:moveTo>
                        <a:pt x="154" y="0"/>
                      </a:moveTo>
                      <a:lnTo>
                        <a:pt x="0" y="119"/>
                      </a:lnTo>
                      <a:lnTo>
                        <a:pt x="4" y="1447"/>
                      </a:lnTo>
                      <a:lnTo>
                        <a:pt x="357" y="1531"/>
                      </a:lnTo>
                      <a:lnTo>
                        <a:pt x="357" y="723"/>
                      </a:lnTo>
                      <a:lnTo>
                        <a:pt x="1989" y="1160"/>
                      </a:lnTo>
                      <a:lnTo>
                        <a:pt x="1989" y="2016"/>
                      </a:lnTo>
                      <a:lnTo>
                        <a:pt x="2338" y="2113"/>
                      </a:lnTo>
                      <a:lnTo>
                        <a:pt x="2338" y="732"/>
                      </a:lnTo>
                      <a:lnTo>
                        <a:pt x="2479" y="61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87680" y="2168640"/>
                <a:ext cx="581040" cy="55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7" name=""/>
            <p:cNvGrpSpPr/>
            <p:nvPr/>
          </p:nvGrpSpPr>
          <p:grpSpPr>
            <a:xfrm>
              <a:off x="1011240" y="2589120"/>
              <a:ext cx="1283040" cy="686520"/>
              <a:chOff x="1011240" y="2589120"/>
              <a:chExt cx="1283040" cy="686520"/>
            </a:xfrm>
          </p:grpSpPr>
          <p:sp>
            <p:nvSpPr>
              <p:cNvPr id="578" name=""/>
              <p:cNvSpPr/>
              <p:nvPr/>
            </p:nvSpPr>
            <p:spPr>
              <a:xfrm>
                <a:off x="1125360" y="2589120"/>
                <a:ext cx="1161000" cy="567000"/>
              </a:xfrm>
              <a:custGeom>
                <a:avLst/>
                <a:gdLst/>
                <a:ahLst/>
                <a:rect l="0" t="0" r="r" b="b"/>
                <a:pathLst>
                  <a:path w="3225" h="1575">
                    <a:moveTo>
                      <a:pt x="39" y="612"/>
                    </a:moveTo>
                    <a:lnTo>
                      <a:pt x="0" y="0"/>
                    </a:lnTo>
                    <a:lnTo>
                      <a:pt x="3225" y="918"/>
                    </a:lnTo>
                    <a:lnTo>
                      <a:pt x="3225" y="1575"/>
                    </a:lnTo>
                    <a:lnTo>
                      <a:pt x="39" y="612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60640" y="2600280"/>
                <a:ext cx="1095840" cy="459000"/>
              </a:xfrm>
              <a:custGeom>
                <a:avLst/>
                <a:gdLst/>
                <a:ahLst/>
                <a:rect l="0" t="0" r="r" b="b"/>
                <a:pathLst>
                  <a:path w="3044" h="1275">
                    <a:moveTo>
                      <a:pt x="0" y="0"/>
                    </a:moveTo>
                    <a:lnTo>
                      <a:pt x="0" y="357"/>
                    </a:lnTo>
                    <a:lnTo>
                      <a:pt x="3040" y="1275"/>
                    </a:lnTo>
                    <a:lnTo>
                      <a:pt x="3044" y="8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63520" y="2724120"/>
                <a:ext cx="1130760" cy="383040"/>
              </a:xfrm>
              <a:custGeom>
                <a:avLst/>
                <a:gdLst/>
                <a:ahLst/>
                <a:rect l="0" t="0" r="r" b="b"/>
                <a:pathLst>
                  <a:path w="3141" h="1064">
                    <a:moveTo>
                      <a:pt x="0" y="0"/>
                    </a:moveTo>
                    <a:lnTo>
                      <a:pt x="0" y="119"/>
                    </a:lnTo>
                    <a:lnTo>
                      <a:pt x="3071" y="1064"/>
                    </a:lnTo>
                    <a:lnTo>
                      <a:pt x="3141" y="9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011240" y="2724120"/>
                <a:ext cx="152640" cy="140040"/>
              </a:xfrm>
              <a:custGeom>
                <a:avLst/>
                <a:gdLst/>
                <a:ahLst/>
                <a:rect l="0" t="0" r="r" b="b"/>
                <a:pathLst>
                  <a:path w="424" h="389">
                    <a:moveTo>
                      <a:pt x="424" y="0"/>
                    </a:moveTo>
                    <a:lnTo>
                      <a:pt x="424" y="127"/>
                    </a:lnTo>
                    <a:lnTo>
                      <a:pt x="4" y="389"/>
                    </a:lnTo>
                    <a:lnTo>
                      <a:pt x="0" y="331"/>
                    </a:lnTo>
                    <a:lnTo>
                      <a:pt x="424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15920" y="2770200"/>
                <a:ext cx="1260720" cy="473400"/>
              </a:xfrm>
              <a:custGeom>
                <a:avLst/>
                <a:gdLst/>
                <a:ahLst/>
                <a:rect l="0" t="0" r="r" b="b"/>
                <a:pathLst>
                  <a:path w="3502" h="1315">
                    <a:moveTo>
                      <a:pt x="0" y="268"/>
                    </a:moveTo>
                    <a:lnTo>
                      <a:pt x="423" y="0"/>
                    </a:lnTo>
                    <a:lnTo>
                      <a:pt x="3502" y="931"/>
                    </a:lnTo>
                    <a:lnTo>
                      <a:pt x="3198" y="1315"/>
                    </a:lnTo>
                    <a:lnTo>
                      <a:pt x="0" y="268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011240" y="2862360"/>
                <a:ext cx="1155960" cy="413280"/>
              </a:xfrm>
              <a:custGeom>
                <a:avLst/>
                <a:gdLst/>
                <a:ahLst/>
                <a:rect l="0" t="0" r="r" b="b"/>
                <a:pathLst>
                  <a:path w="3211" h="1148">
                    <a:moveTo>
                      <a:pt x="0" y="0"/>
                    </a:moveTo>
                    <a:lnTo>
                      <a:pt x="0" y="101"/>
                    </a:lnTo>
                    <a:lnTo>
                      <a:pt x="3211" y="1148"/>
                    </a:lnTo>
                    <a:lnTo>
                      <a:pt x="3202" y="10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65400" y="3071880"/>
                <a:ext cx="119520" cy="203400"/>
              </a:xfrm>
              <a:custGeom>
                <a:avLst/>
                <a:gdLst/>
                <a:ahLst/>
                <a:rect l="0" t="0" r="r" b="b"/>
                <a:pathLst>
                  <a:path w="332" h="565">
                    <a:moveTo>
                      <a:pt x="332" y="0"/>
                    </a:moveTo>
                    <a:lnTo>
                      <a:pt x="332" y="202"/>
                    </a:lnTo>
                    <a:lnTo>
                      <a:pt x="4" y="565"/>
                    </a:lnTo>
                    <a:lnTo>
                      <a:pt x="0" y="441"/>
                    </a:lnTo>
                    <a:lnTo>
                      <a:pt x="332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25360" y="2590920"/>
                <a:ext cx="38520" cy="159120"/>
              </a:xfrm>
              <a:custGeom>
                <a:avLst/>
                <a:gdLst/>
                <a:ahLst/>
                <a:rect l="0" t="0" r="r" b="b"/>
                <a:pathLst>
                  <a:path w="107" h="442">
                    <a:moveTo>
                      <a:pt x="0" y="0"/>
                    </a:moveTo>
                    <a:lnTo>
                      <a:pt x="107" y="26"/>
                    </a:lnTo>
                    <a:lnTo>
                      <a:pt x="107" y="363"/>
                    </a:lnTo>
                    <a:lnTo>
                      <a:pt x="13" y="4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36600" y="2935440"/>
                <a:ext cx="44280" cy="50760"/>
              </a:xfrm>
              <a:prstGeom prst="ellipse">
                <a:avLst/>
              </a:pr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3800" y="2887560"/>
                <a:ext cx="47520" cy="52560"/>
              </a:xfrm>
              <a:prstGeom prst="ellipse">
                <a:avLst/>
              </a:pr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1444680" y="2739960"/>
                <a:ext cx="68400" cy="60480"/>
                <a:chOff x="1444680" y="2739960"/>
                <a:chExt cx="68400" cy="6048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459080" y="2739960"/>
                  <a:ext cx="54000" cy="475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444680" y="2749680"/>
                  <a:ext cx="47520" cy="5076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1519200" y="2762280"/>
                <a:ext cx="66600" cy="60480"/>
                <a:chOff x="1519200" y="2762280"/>
                <a:chExt cx="66600" cy="604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531800" y="2762280"/>
                  <a:ext cx="54000" cy="475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519200" y="2773440"/>
                  <a:ext cx="44280" cy="4932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1693800" y="2817720"/>
                <a:ext cx="70200" cy="60480"/>
                <a:chOff x="1693800" y="2817720"/>
                <a:chExt cx="70200" cy="604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1711440" y="2817720"/>
                  <a:ext cx="52560" cy="493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693800" y="2828880"/>
                  <a:ext cx="49320" cy="4932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1781280" y="2847960"/>
                <a:ext cx="65160" cy="60480"/>
                <a:chOff x="1781280" y="2847960"/>
                <a:chExt cx="65160" cy="604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793880" y="2847960"/>
                  <a:ext cx="52560" cy="493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781280" y="2857680"/>
                  <a:ext cx="46080" cy="5076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1862280" y="2868480"/>
                <a:ext cx="68040" cy="62280"/>
                <a:chOff x="1862280" y="2868480"/>
                <a:chExt cx="68040" cy="6228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879560" y="2868480"/>
                  <a:ext cx="50760" cy="4932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862280" y="2878200"/>
                  <a:ext cx="47520" cy="5256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2033640" y="2887560"/>
                <a:ext cx="87480" cy="8424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611360" y="2768760"/>
                <a:ext cx="85680" cy="8100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198520" y="2955960"/>
                <a:ext cx="49320" cy="52560"/>
              </a:xfrm>
              <a:prstGeom prst="ellipse">
                <a:avLst/>
              </a:pr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1197000" y="2666880"/>
                <a:ext cx="41400" cy="47520"/>
                <a:chOff x="1197000" y="2666880"/>
                <a:chExt cx="41400" cy="475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208160" y="2666880"/>
                  <a:ext cx="30240" cy="3960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197000" y="2674800"/>
                  <a:ext cx="28440" cy="3960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" name=""/>
              <p:cNvSpPr/>
              <p:nvPr/>
            </p:nvSpPr>
            <p:spPr>
              <a:xfrm>
                <a:off x="1273320" y="2670120"/>
                <a:ext cx="125640" cy="86040"/>
              </a:xfrm>
              <a:custGeom>
                <a:avLst/>
                <a:gdLst/>
                <a:ahLst/>
                <a:rect l="0" t="0" r="r" b="b"/>
                <a:pathLst>
                  <a:path w="349" h="239">
                    <a:moveTo>
                      <a:pt x="0" y="0"/>
                    </a:moveTo>
                    <a:lnTo>
                      <a:pt x="0" y="133"/>
                    </a:lnTo>
                    <a:lnTo>
                      <a:pt x="344" y="239"/>
                    </a:lnTo>
                    <a:lnTo>
                      <a:pt x="349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246320" y="2679840"/>
                <a:ext cx="127440" cy="86040"/>
              </a:xfrm>
              <a:custGeom>
                <a:avLst/>
                <a:gdLst/>
                <a:ahLst/>
                <a:rect l="0" t="0" r="r" b="b"/>
                <a:pathLst>
                  <a:path w="354" h="239">
                    <a:moveTo>
                      <a:pt x="0" y="0"/>
                    </a:moveTo>
                    <a:lnTo>
                      <a:pt x="0" y="133"/>
                    </a:lnTo>
                    <a:lnTo>
                      <a:pt x="350" y="239"/>
                    </a:lnTo>
                    <a:lnTo>
                      <a:pt x="354" y="1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9898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1395360" y="2727360"/>
                <a:ext cx="41400" cy="47880"/>
                <a:chOff x="1395360" y="2727360"/>
                <a:chExt cx="41400" cy="478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05080" y="2727360"/>
                  <a:ext cx="31680" cy="39600"/>
                </a:xfrm>
                <a:prstGeom prst="ellipse">
                  <a:avLst/>
                </a:prstGeom>
                <a:solidFill>
                  <a:srgbClr val="5d5d5d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395360" y="2733840"/>
                  <a:ext cx="28440" cy="41400"/>
                </a:xfrm>
                <a:prstGeom prst="ellipse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4" name=""/>
          <p:cNvSpPr/>
          <p:nvPr/>
        </p:nvSpPr>
        <p:spPr>
          <a:xfrm>
            <a:off x="635040" y="2730600"/>
            <a:ext cx="661320" cy="1946520"/>
          </a:xfrm>
          <a:custGeom>
            <a:avLst/>
            <a:gdLst/>
            <a:ahLst/>
            <a:rect l="0" t="0" r="r" b="b"/>
            <a:pathLst>
              <a:path fill="none" w="1837" h="5407">
                <a:moveTo>
                  <a:pt x="1837" y="0"/>
                </a:moveTo>
                <a:lnTo>
                  <a:pt x="1837" y="0"/>
                </a:lnTo>
                <a:cubicBezTo>
                  <a:pt x="1836" y="0"/>
                  <a:pt x="1836" y="0"/>
                  <a:pt x="1835" y="0"/>
                </a:cubicBezTo>
                <a:cubicBezTo>
                  <a:pt x="1513" y="0"/>
                  <a:pt x="1197" y="129"/>
                  <a:pt x="918" y="373"/>
                </a:cubicBezTo>
                <a:cubicBezTo>
                  <a:pt x="639" y="618"/>
                  <a:pt x="407" y="970"/>
                  <a:pt x="246" y="1394"/>
                </a:cubicBezTo>
                <a:cubicBezTo>
                  <a:pt x="85" y="1817"/>
                  <a:pt x="0" y="2298"/>
                  <a:pt x="0" y="2787"/>
                </a:cubicBezTo>
                <a:cubicBezTo>
                  <a:pt x="0" y="3276"/>
                  <a:pt x="85" y="3757"/>
                  <a:pt x="246" y="4181"/>
                </a:cubicBezTo>
                <a:cubicBezTo>
                  <a:pt x="407" y="4604"/>
                  <a:pt x="639" y="4956"/>
                  <a:pt x="918" y="5201"/>
                </a:cubicBezTo>
                <a:cubicBezTo>
                  <a:pt x="1011" y="5282"/>
                  <a:pt x="1109" y="5351"/>
                  <a:pt x="1210" y="5407"/>
                </a:cubicBezTo>
              </a:path>
            </a:pathLst>
          </a:custGeom>
          <a:ln w="25560">
            <a:solidFill>
              <a:srgbClr val="dadada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57200" y="4191120"/>
            <a:ext cx="3040560" cy="2041560"/>
            <a:chOff x="457200" y="4191120"/>
            <a:chExt cx="3040560" cy="2041560"/>
          </a:xfrm>
        </p:grpSpPr>
        <p:sp>
          <p:nvSpPr>
            <p:cNvPr id="616" name=""/>
            <p:cNvSpPr/>
            <p:nvPr/>
          </p:nvSpPr>
          <p:spPr>
            <a:xfrm>
              <a:off x="506520" y="4191120"/>
              <a:ext cx="2978640" cy="1924560"/>
            </a:xfrm>
            <a:custGeom>
              <a:avLst/>
              <a:gdLst/>
              <a:ahLst/>
              <a:rect l="0" t="0" r="r" b="b"/>
              <a:pathLst>
                <a:path w="8274" h="5346">
                  <a:moveTo>
                    <a:pt x="8274" y="3736"/>
                  </a:moveTo>
                  <a:lnTo>
                    <a:pt x="6488" y="2999"/>
                  </a:lnTo>
                  <a:lnTo>
                    <a:pt x="6488" y="2995"/>
                  </a:lnTo>
                  <a:lnTo>
                    <a:pt x="6484" y="2981"/>
                  </a:lnTo>
                  <a:lnTo>
                    <a:pt x="6479" y="2968"/>
                  </a:lnTo>
                  <a:lnTo>
                    <a:pt x="6475" y="2964"/>
                  </a:lnTo>
                  <a:lnTo>
                    <a:pt x="6471" y="2955"/>
                  </a:lnTo>
                  <a:lnTo>
                    <a:pt x="6466" y="2946"/>
                  </a:lnTo>
                  <a:lnTo>
                    <a:pt x="6462" y="2937"/>
                  </a:lnTo>
                  <a:lnTo>
                    <a:pt x="6453" y="2929"/>
                  </a:lnTo>
                  <a:lnTo>
                    <a:pt x="6449" y="2924"/>
                  </a:lnTo>
                  <a:lnTo>
                    <a:pt x="6440" y="2920"/>
                  </a:lnTo>
                  <a:lnTo>
                    <a:pt x="6431" y="2911"/>
                  </a:lnTo>
                  <a:lnTo>
                    <a:pt x="6422" y="2907"/>
                  </a:lnTo>
                  <a:lnTo>
                    <a:pt x="6413" y="2902"/>
                  </a:lnTo>
                  <a:lnTo>
                    <a:pt x="6404" y="2898"/>
                  </a:lnTo>
                  <a:lnTo>
                    <a:pt x="6396" y="2889"/>
                  </a:lnTo>
                  <a:lnTo>
                    <a:pt x="6382" y="2884"/>
                  </a:lnTo>
                  <a:lnTo>
                    <a:pt x="5676" y="2593"/>
                  </a:lnTo>
                  <a:lnTo>
                    <a:pt x="5676" y="2589"/>
                  </a:lnTo>
                  <a:lnTo>
                    <a:pt x="5676" y="2585"/>
                  </a:lnTo>
                  <a:lnTo>
                    <a:pt x="5676" y="2576"/>
                  </a:lnTo>
                  <a:lnTo>
                    <a:pt x="5676" y="2567"/>
                  </a:lnTo>
                  <a:lnTo>
                    <a:pt x="5676" y="2563"/>
                  </a:lnTo>
                  <a:lnTo>
                    <a:pt x="5671" y="2554"/>
                  </a:lnTo>
                  <a:lnTo>
                    <a:pt x="5671" y="2545"/>
                  </a:lnTo>
                  <a:lnTo>
                    <a:pt x="5667" y="2536"/>
                  </a:lnTo>
                  <a:lnTo>
                    <a:pt x="5663" y="2532"/>
                  </a:lnTo>
                  <a:lnTo>
                    <a:pt x="5658" y="2523"/>
                  </a:lnTo>
                  <a:lnTo>
                    <a:pt x="5649" y="2514"/>
                  </a:lnTo>
                  <a:lnTo>
                    <a:pt x="5645" y="2505"/>
                  </a:lnTo>
                  <a:lnTo>
                    <a:pt x="5636" y="2501"/>
                  </a:lnTo>
                  <a:lnTo>
                    <a:pt x="5627" y="2492"/>
                  </a:lnTo>
                  <a:lnTo>
                    <a:pt x="5618" y="2488"/>
                  </a:lnTo>
                  <a:lnTo>
                    <a:pt x="5605" y="2483"/>
                  </a:lnTo>
                  <a:lnTo>
                    <a:pt x="5561" y="2492"/>
                  </a:lnTo>
                  <a:lnTo>
                    <a:pt x="5517" y="2448"/>
                  </a:lnTo>
                  <a:lnTo>
                    <a:pt x="5257" y="1967"/>
                  </a:lnTo>
                  <a:lnTo>
                    <a:pt x="5257" y="1791"/>
                  </a:lnTo>
                  <a:lnTo>
                    <a:pt x="4287" y="0"/>
                  </a:lnTo>
                  <a:lnTo>
                    <a:pt x="44" y="736"/>
                  </a:lnTo>
                  <a:lnTo>
                    <a:pt x="0" y="1005"/>
                  </a:lnTo>
                  <a:lnTo>
                    <a:pt x="1137" y="3519"/>
                  </a:lnTo>
                  <a:lnTo>
                    <a:pt x="1247" y="3881"/>
                  </a:lnTo>
                  <a:lnTo>
                    <a:pt x="3528" y="5346"/>
                  </a:lnTo>
                  <a:lnTo>
                    <a:pt x="8274" y="3775"/>
                  </a:lnTo>
                  <a:lnTo>
                    <a:pt x="8274" y="37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7200" y="4456080"/>
              <a:ext cx="3040560" cy="1776600"/>
            </a:xfrm>
            <a:custGeom>
              <a:avLst/>
              <a:gdLst/>
              <a:ahLst/>
              <a:rect l="0" t="0" r="r" b="b"/>
              <a:pathLst>
                <a:path w="8446" h="4935">
                  <a:moveTo>
                    <a:pt x="3616" y="4935"/>
                  </a:moveTo>
                  <a:lnTo>
                    <a:pt x="1318" y="3418"/>
                  </a:lnTo>
                  <a:lnTo>
                    <a:pt x="1274" y="3325"/>
                  </a:lnTo>
                  <a:lnTo>
                    <a:pt x="1274" y="2977"/>
                  </a:lnTo>
                  <a:lnTo>
                    <a:pt x="1265" y="2977"/>
                  </a:lnTo>
                  <a:lnTo>
                    <a:pt x="1247" y="2973"/>
                  </a:lnTo>
                  <a:lnTo>
                    <a:pt x="1239" y="2968"/>
                  </a:lnTo>
                  <a:lnTo>
                    <a:pt x="1225" y="2964"/>
                  </a:lnTo>
                  <a:lnTo>
                    <a:pt x="1212" y="2955"/>
                  </a:lnTo>
                  <a:lnTo>
                    <a:pt x="1203" y="2946"/>
                  </a:lnTo>
                  <a:lnTo>
                    <a:pt x="1190" y="2937"/>
                  </a:lnTo>
                  <a:lnTo>
                    <a:pt x="1181" y="2924"/>
                  </a:lnTo>
                  <a:lnTo>
                    <a:pt x="1177" y="2911"/>
                  </a:lnTo>
                  <a:lnTo>
                    <a:pt x="1168" y="2898"/>
                  </a:lnTo>
                  <a:lnTo>
                    <a:pt x="1164" y="2880"/>
                  </a:lnTo>
                  <a:lnTo>
                    <a:pt x="1159" y="2867"/>
                  </a:lnTo>
                  <a:lnTo>
                    <a:pt x="1159" y="2849"/>
                  </a:lnTo>
                  <a:lnTo>
                    <a:pt x="1159" y="2836"/>
                  </a:lnTo>
                  <a:lnTo>
                    <a:pt x="1159" y="2823"/>
                  </a:lnTo>
                  <a:lnTo>
                    <a:pt x="1164" y="2809"/>
                  </a:lnTo>
                  <a:lnTo>
                    <a:pt x="1111" y="2761"/>
                  </a:lnTo>
                  <a:lnTo>
                    <a:pt x="0" y="216"/>
                  </a:lnTo>
                  <a:lnTo>
                    <a:pt x="4" y="185"/>
                  </a:lnTo>
                  <a:lnTo>
                    <a:pt x="163" y="13"/>
                  </a:lnTo>
                  <a:lnTo>
                    <a:pt x="194" y="0"/>
                  </a:lnTo>
                  <a:lnTo>
                    <a:pt x="1093" y="1944"/>
                  </a:lnTo>
                  <a:lnTo>
                    <a:pt x="1098" y="2165"/>
                  </a:lnTo>
                  <a:lnTo>
                    <a:pt x="1344" y="2704"/>
                  </a:lnTo>
                  <a:lnTo>
                    <a:pt x="1270" y="2739"/>
                  </a:lnTo>
                  <a:lnTo>
                    <a:pt x="1150" y="2796"/>
                  </a:lnTo>
                  <a:lnTo>
                    <a:pt x="1296" y="2765"/>
                  </a:lnTo>
                  <a:lnTo>
                    <a:pt x="1300" y="2765"/>
                  </a:lnTo>
                  <a:lnTo>
                    <a:pt x="1309" y="2765"/>
                  </a:lnTo>
                  <a:lnTo>
                    <a:pt x="1322" y="2770"/>
                  </a:lnTo>
                  <a:lnTo>
                    <a:pt x="1331" y="2774"/>
                  </a:lnTo>
                  <a:lnTo>
                    <a:pt x="1344" y="2783"/>
                  </a:lnTo>
                  <a:lnTo>
                    <a:pt x="1353" y="2792"/>
                  </a:lnTo>
                  <a:lnTo>
                    <a:pt x="1362" y="2801"/>
                  </a:lnTo>
                  <a:lnTo>
                    <a:pt x="1371" y="2809"/>
                  </a:lnTo>
                  <a:lnTo>
                    <a:pt x="1375" y="2818"/>
                  </a:lnTo>
                  <a:lnTo>
                    <a:pt x="1384" y="2832"/>
                  </a:lnTo>
                  <a:lnTo>
                    <a:pt x="1389" y="2840"/>
                  </a:lnTo>
                  <a:lnTo>
                    <a:pt x="1393" y="2854"/>
                  </a:lnTo>
                  <a:lnTo>
                    <a:pt x="1393" y="2867"/>
                  </a:lnTo>
                  <a:lnTo>
                    <a:pt x="1393" y="2876"/>
                  </a:lnTo>
                  <a:lnTo>
                    <a:pt x="1393" y="2889"/>
                  </a:lnTo>
                  <a:lnTo>
                    <a:pt x="1393" y="2898"/>
                  </a:lnTo>
                  <a:lnTo>
                    <a:pt x="1389" y="2911"/>
                  </a:lnTo>
                  <a:lnTo>
                    <a:pt x="1975" y="3286"/>
                  </a:lnTo>
                  <a:lnTo>
                    <a:pt x="1984" y="3290"/>
                  </a:lnTo>
                  <a:lnTo>
                    <a:pt x="1993" y="3295"/>
                  </a:lnTo>
                  <a:lnTo>
                    <a:pt x="2006" y="3303"/>
                  </a:lnTo>
                  <a:lnTo>
                    <a:pt x="2019" y="3312"/>
                  </a:lnTo>
                  <a:lnTo>
                    <a:pt x="2032" y="3321"/>
                  </a:lnTo>
                  <a:lnTo>
                    <a:pt x="2046" y="3334"/>
                  </a:lnTo>
                  <a:lnTo>
                    <a:pt x="2054" y="3343"/>
                  </a:lnTo>
                  <a:lnTo>
                    <a:pt x="2063" y="3356"/>
                  </a:lnTo>
                  <a:lnTo>
                    <a:pt x="2072" y="3370"/>
                  </a:lnTo>
                  <a:lnTo>
                    <a:pt x="2076" y="3378"/>
                  </a:lnTo>
                  <a:lnTo>
                    <a:pt x="2085" y="3392"/>
                  </a:lnTo>
                  <a:lnTo>
                    <a:pt x="2090" y="3405"/>
                  </a:lnTo>
                  <a:lnTo>
                    <a:pt x="2090" y="3418"/>
                  </a:lnTo>
                  <a:lnTo>
                    <a:pt x="2094" y="3431"/>
                  </a:lnTo>
                  <a:lnTo>
                    <a:pt x="2094" y="3444"/>
                  </a:lnTo>
                  <a:lnTo>
                    <a:pt x="2094" y="3458"/>
                  </a:lnTo>
                  <a:lnTo>
                    <a:pt x="2094" y="3475"/>
                  </a:lnTo>
                  <a:lnTo>
                    <a:pt x="3625" y="4446"/>
                  </a:lnTo>
                  <a:lnTo>
                    <a:pt x="3718" y="4446"/>
                  </a:lnTo>
                  <a:lnTo>
                    <a:pt x="8402" y="3039"/>
                  </a:lnTo>
                  <a:lnTo>
                    <a:pt x="8402" y="2995"/>
                  </a:lnTo>
                  <a:lnTo>
                    <a:pt x="8446" y="3034"/>
                  </a:lnTo>
                  <a:lnTo>
                    <a:pt x="8446" y="3427"/>
                  </a:lnTo>
                  <a:lnTo>
                    <a:pt x="8411" y="3453"/>
                  </a:lnTo>
                  <a:lnTo>
                    <a:pt x="3718" y="4926"/>
                  </a:lnTo>
                  <a:lnTo>
                    <a:pt x="3616" y="4935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2640" y="4378320"/>
              <a:ext cx="1500480" cy="659160"/>
            </a:xfrm>
            <a:custGeom>
              <a:avLst/>
              <a:gdLst/>
              <a:ahLst/>
              <a:rect l="0" t="0" r="r" b="b"/>
              <a:pathLst>
                <a:path w="4168" h="1831">
                  <a:moveTo>
                    <a:pt x="4049" y="1804"/>
                  </a:moveTo>
                  <a:lnTo>
                    <a:pt x="4168" y="1831"/>
                  </a:lnTo>
                  <a:lnTo>
                    <a:pt x="3206" y="0"/>
                  </a:lnTo>
                  <a:lnTo>
                    <a:pt x="0" y="586"/>
                  </a:lnTo>
                  <a:lnTo>
                    <a:pt x="110" y="639"/>
                  </a:lnTo>
                  <a:lnTo>
                    <a:pt x="3176" y="66"/>
                  </a:lnTo>
                  <a:lnTo>
                    <a:pt x="4049" y="1804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2640" y="4589640"/>
              <a:ext cx="1500480" cy="711720"/>
            </a:xfrm>
            <a:custGeom>
              <a:avLst/>
              <a:gdLst/>
              <a:ahLst/>
              <a:rect l="0" t="0" r="r" b="b"/>
              <a:pathLst>
                <a:path fill="none" w="4168" h="1977">
                  <a:moveTo>
                    <a:pt x="4168" y="1244"/>
                  </a:moveTo>
                  <a:lnTo>
                    <a:pt x="886" y="19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9800" y="4356000"/>
              <a:ext cx="1584720" cy="975240"/>
            </a:xfrm>
            <a:custGeom>
              <a:avLst/>
              <a:gdLst/>
              <a:ahLst/>
              <a:rect l="0" t="0" r="r" b="b"/>
              <a:pathLst>
                <a:path fill="none" w="4402" h="2709">
                  <a:moveTo>
                    <a:pt x="3362" y="0"/>
                  </a:moveTo>
                  <a:lnTo>
                    <a:pt x="4402" y="1932"/>
                  </a:lnTo>
                  <a:lnTo>
                    <a:pt x="956" y="2709"/>
                  </a:lnTo>
                  <a:lnTo>
                    <a:pt x="0" y="59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2373480" y="4835520"/>
              <a:ext cx="23760" cy="468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4560" y="4491000"/>
              <a:ext cx="309960" cy="744840"/>
            </a:xfrm>
            <a:custGeom>
              <a:avLst/>
              <a:gdLst/>
              <a:ahLst/>
              <a:rect l="0" t="0" r="r" b="b"/>
              <a:pathLst>
                <a:path fill="none" w="861" h="2069">
                  <a:moveTo>
                    <a:pt x="0" y="0"/>
                  </a:moveTo>
                  <a:lnTo>
                    <a:pt x="861" y="1831"/>
                  </a:lnTo>
                  <a:lnTo>
                    <a:pt x="853" y="2047"/>
                  </a:lnTo>
                  <a:lnTo>
                    <a:pt x="764" y="206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2373480" y="4902120"/>
              <a:ext cx="25200" cy="324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3000" y="5335560"/>
              <a:ext cx="489240" cy="125640"/>
            </a:xfrm>
            <a:custGeom>
              <a:avLst/>
              <a:gdLst/>
              <a:ahLst/>
              <a:rect l="0" t="0" r="r" b="b"/>
              <a:pathLst>
                <a:path w="1359" h="349">
                  <a:moveTo>
                    <a:pt x="0" y="349"/>
                  </a:moveTo>
                  <a:lnTo>
                    <a:pt x="189" y="261"/>
                  </a:lnTo>
                  <a:lnTo>
                    <a:pt x="1323" y="0"/>
                  </a:lnTo>
                  <a:lnTo>
                    <a:pt x="1359" y="39"/>
                  </a:lnTo>
                  <a:lnTo>
                    <a:pt x="97" y="331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25520" y="5075280"/>
              <a:ext cx="279720" cy="74880"/>
            </a:xfrm>
            <a:custGeom>
              <a:avLst/>
              <a:gdLst/>
              <a:ahLst/>
              <a:rect l="0" t="0" r="r" b="b"/>
              <a:pathLst>
                <a:path w="777" h="208">
                  <a:moveTo>
                    <a:pt x="746" y="0"/>
                  </a:moveTo>
                  <a:lnTo>
                    <a:pt x="0" y="168"/>
                  </a:lnTo>
                  <a:lnTo>
                    <a:pt x="48" y="208"/>
                  </a:lnTo>
                  <a:lnTo>
                    <a:pt x="88" y="199"/>
                  </a:lnTo>
                  <a:lnTo>
                    <a:pt x="777" y="35"/>
                  </a:lnTo>
                  <a:lnTo>
                    <a:pt x="74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19320" y="5238720"/>
              <a:ext cx="1621080" cy="452880"/>
            </a:xfrm>
            <a:custGeom>
              <a:avLst/>
              <a:gdLst/>
              <a:ahLst/>
              <a:rect l="0" t="0" r="r" b="b"/>
              <a:pathLst>
                <a:path w="4503" h="1258">
                  <a:moveTo>
                    <a:pt x="4419" y="17"/>
                  </a:moveTo>
                  <a:lnTo>
                    <a:pt x="4428" y="17"/>
                  </a:lnTo>
                  <a:lnTo>
                    <a:pt x="4441" y="17"/>
                  </a:lnTo>
                  <a:lnTo>
                    <a:pt x="4454" y="26"/>
                  </a:lnTo>
                  <a:lnTo>
                    <a:pt x="4463" y="35"/>
                  </a:lnTo>
                  <a:lnTo>
                    <a:pt x="4476" y="44"/>
                  </a:lnTo>
                  <a:lnTo>
                    <a:pt x="4481" y="52"/>
                  </a:lnTo>
                  <a:lnTo>
                    <a:pt x="4485" y="57"/>
                  </a:lnTo>
                  <a:lnTo>
                    <a:pt x="4490" y="61"/>
                  </a:lnTo>
                  <a:lnTo>
                    <a:pt x="4494" y="70"/>
                  </a:lnTo>
                  <a:lnTo>
                    <a:pt x="4498" y="74"/>
                  </a:lnTo>
                  <a:lnTo>
                    <a:pt x="4498" y="83"/>
                  </a:lnTo>
                  <a:lnTo>
                    <a:pt x="4503" y="88"/>
                  </a:lnTo>
                  <a:lnTo>
                    <a:pt x="17" y="1258"/>
                  </a:lnTo>
                  <a:lnTo>
                    <a:pt x="17" y="1227"/>
                  </a:lnTo>
                  <a:lnTo>
                    <a:pt x="13" y="1223"/>
                  </a:lnTo>
                  <a:lnTo>
                    <a:pt x="8" y="1210"/>
                  </a:lnTo>
                  <a:lnTo>
                    <a:pt x="4" y="1201"/>
                  </a:lnTo>
                  <a:lnTo>
                    <a:pt x="0" y="1192"/>
                  </a:lnTo>
                  <a:lnTo>
                    <a:pt x="0" y="1183"/>
                  </a:lnTo>
                  <a:lnTo>
                    <a:pt x="0" y="1174"/>
                  </a:lnTo>
                  <a:lnTo>
                    <a:pt x="0" y="1166"/>
                  </a:lnTo>
                  <a:lnTo>
                    <a:pt x="0" y="1161"/>
                  </a:lnTo>
                  <a:lnTo>
                    <a:pt x="0" y="1152"/>
                  </a:lnTo>
                  <a:lnTo>
                    <a:pt x="0" y="1144"/>
                  </a:lnTo>
                  <a:lnTo>
                    <a:pt x="8" y="1139"/>
                  </a:lnTo>
                  <a:lnTo>
                    <a:pt x="13" y="1135"/>
                  </a:lnTo>
                  <a:lnTo>
                    <a:pt x="22" y="1126"/>
                  </a:lnTo>
                  <a:lnTo>
                    <a:pt x="30" y="1122"/>
                  </a:lnTo>
                  <a:lnTo>
                    <a:pt x="4371" y="0"/>
                  </a:lnTo>
                  <a:lnTo>
                    <a:pt x="4419" y="17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1106640" y="5276880"/>
              <a:ext cx="23760" cy="205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1930320" y="4381560"/>
              <a:ext cx="3240" cy="223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957240" y="5124600"/>
              <a:ext cx="1590840" cy="379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68320" y="5448240"/>
              <a:ext cx="152640" cy="84600"/>
            </a:xfrm>
            <a:custGeom>
              <a:avLst/>
              <a:gdLst/>
              <a:ahLst/>
              <a:rect l="0" t="0" r="r" b="b"/>
              <a:pathLst>
                <a:path fill="none" w="424" h="235">
                  <a:moveTo>
                    <a:pt x="0" y="35"/>
                  </a:moveTo>
                  <a:lnTo>
                    <a:pt x="92" y="8"/>
                  </a:lnTo>
                  <a:lnTo>
                    <a:pt x="145" y="0"/>
                  </a:lnTo>
                  <a:lnTo>
                    <a:pt x="154" y="0"/>
                  </a:lnTo>
                  <a:lnTo>
                    <a:pt x="171" y="4"/>
                  </a:lnTo>
                  <a:lnTo>
                    <a:pt x="180" y="8"/>
                  </a:lnTo>
                  <a:lnTo>
                    <a:pt x="189" y="17"/>
                  </a:lnTo>
                  <a:lnTo>
                    <a:pt x="202" y="26"/>
                  </a:lnTo>
                  <a:lnTo>
                    <a:pt x="207" y="35"/>
                  </a:lnTo>
                  <a:lnTo>
                    <a:pt x="217" y="44"/>
                  </a:lnTo>
                  <a:lnTo>
                    <a:pt x="225" y="57"/>
                  </a:lnTo>
                  <a:lnTo>
                    <a:pt x="230" y="67"/>
                  </a:lnTo>
                  <a:lnTo>
                    <a:pt x="234" y="80"/>
                  </a:lnTo>
                  <a:lnTo>
                    <a:pt x="239" y="93"/>
                  </a:lnTo>
                  <a:lnTo>
                    <a:pt x="243" y="106"/>
                  </a:lnTo>
                  <a:lnTo>
                    <a:pt x="243" y="115"/>
                  </a:lnTo>
                  <a:lnTo>
                    <a:pt x="243" y="128"/>
                  </a:lnTo>
                  <a:lnTo>
                    <a:pt x="243" y="137"/>
                  </a:lnTo>
                  <a:lnTo>
                    <a:pt x="239" y="150"/>
                  </a:lnTo>
                  <a:lnTo>
                    <a:pt x="424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15840" y="55040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116" y="0"/>
                  </a:moveTo>
                  <a:lnTo>
                    <a:pt x="112" y="4"/>
                  </a:lnTo>
                  <a:lnTo>
                    <a:pt x="112" y="9"/>
                  </a:lnTo>
                  <a:lnTo>
                    <a:pt x="112" y="14"/>
                  </a:lnTo>
                  <a:lnTo>
                    <a:pt x="107" y="14"/>
                  </a:lnTo>
                  <a:lnTo>
                    <a:pt x="103" y="19"/>
                  </a:lnTo>
                  <a:lnTo>
                    <a:pt x="99" y="24"/>
                  </a:lnTo>
                  <a:lnTo>
                    <a:pt x="99" y="29"/>
                  </a:lnTo>
                  <a:lnTo>
                    <a:pt x="94" y="33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84" y="43"/>
                  </a:lnTo>
                  <a:lnTo>
                    <a:pt x="80" y="48"/>
                  </a:lnTo>
                  <a:lnTo>
                    <a:pt x="75" y="48"/>
                  </a:lnTo>
                  <a:lnTo>
                    <a:pt x="71" y="48"/>
                  </a:lnTo>
                  <a:lnTo>
                    <a:pt x="67" y="52"/>
                  </a:lnTo>
                  <a:lnTo>
                    <a:pt x="62" y="58"/>
                  </a:lnTo>
                  <a:lnTo>
                    <a:pt x="58" y="58"/>
                  </a:lnTo>
                  <a:lnTo>
                    <a:pt x="58" y="63"/>
                  </a:lnTo>
                  <a:lnTo>
                    <a:pt x="49" y="63"/>
                  </a:lnTo>
                  <a:lnTo>
                    <a:pt x="45" y="63"/>
                  </a:lnTo>
                  <a:lnTo>
                    <a:pt x="40" y="67"/>
                  </a:lnTo>
                  <a:lnTo>
                    <a:pt x="31" y="67"/>
                  </a:lnTo>
                  <a:lnTo>
                    <a:pt x="26" y="67"/>
                  </a:lnTo>
                  <a:lnTo>
                    <a:pt x="22" y="67"/>
                  </a:lnTo>
                  <a:lnTo>
                    <a:pt x="17" y="67"/>
                  </a:lnTo>
                  <a:lnTo>
                    <a:pt x="13" y="72"/>
                  </a:lnTo>
                  <a:lnTo>
                    <a:pt x="8" y="72"/>
                  </a:lnTo>
                  <a:lnTo>
                    <a:pt x="0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17440" y="5510160"/>
              <a:ext cx="157680" cy="66960"/>
            </a:xfrm>
            <a:custGeom>
              <a:avLst/>
              <a:gdLst/>
              <a:ahLst/>
              <a:rect l="0" t="0" r="r" b="b"/>
              <a:pathLst>
                <a:path w="438" h="186">
                  <a:moveTo>
                    <a:pt x="195" y="0"/>
                  </a:moveTo>
                  <a:lnTo>
                    <a:pt x="438" y="133"/>
                  </a:lnTo>
                  <a:lnTo>
                    <a:pt x="225" y="186"/>
                  </a:lnTo>
                  <a:lnTo>
                    <a:pt x="0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ababab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143000" y="5530680"/>
              <a:ext cx="109800" cy="46440"/>
            </a:xfrm>
            <a:custGeom>
              <a:avLst/>
              <a:gdLst/>
              <a:ahLst/>
              <a:rect l="0" t="0" r="r" b="b"/>
              <a:pathLst>
                <a:path w="305" h="129">
                  <a:moveTo>
                    <a:pt x="305" y="93"/>
                  </a:moveTo>
                  <a:lnTo>
                    <a:pt x="136" y="0"/>
                  </a:lnTo>
                  <a:lnTo>
                    <a:pt x="0" y="30"/>
                  </a:lnTo>
                  <a:lnTo>
                    <a:pt x="155" y="129"/>
                  </a:lnTo>
                  <a:lnTo>
                    <a:pt x="305" y="93"/>
                  </a:lnTo>
                  <a:close/>
                </a:path>
              </a:pathLst>
            </a:custGeom>
            <a:solidFill>
              <a:srgbClr val="ff0017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927000" y="5099040"/>
              <a:ext cx="1530360" cy="351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506680" y="5964120"/>
              <a:ext cx="31680" cy="9720"/>
            </a:xfrm>
            <a:prstGeom prst="line">
              <a:avLst/>
            </a:prstGeom>
            <a:ln w="12600">
              <a:solidFill>
                <a:srgbClr val="ff00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349280" y="5295960"/>
              <a:ext cx="2003760" cy="692640"/>
            </a:xfrm>
            <a:custGeom>
              <a:avLst/>
              <a:gdLst/>
              <a:ahLst/>
              <a:rect l="0" t="0" r="r" b="b"/>
              <a:pathLst>
                <a:path w="5566" h="1924">
                  <a:moveTo>
                    <a:pt x="4057" y="0"/>
                  </a:moveTo>
                  <a:lnTo>
                    <a:pt x="4132" y="0"/>
                  </a:lnTo>
                  <a:lnTo>
                    <a:pt x="5561" y="613"/>
                  </a:lnTo>
                  <a:lnTo>
                    <a:pt x="5566" y="658"/>
                  </a:lnTo>
                  <a:lnTo>
                    <a:pt x="1397" y="1924"/>
                  </a:lnTo>
                  <a:lnTo>
                    <a:pt x="1318" y="1924"/>
                  </a:lnTo>
                  <a:lnTo>
                    <a:pt x="0" y="1099"/>
                  </a:lnTo>
                  <a:lnTo>
                    <a:pt x="22" y="1063"/>
                  </a:lnTo>
                  <a:lnTo>
                    <a:pt x="4057" y="0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243160" y="5199120"/>
              <a:ext cx="322200" cy="77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2295360" y="5229360"/>
              <a:ext cx="320760" cy="77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65360" y="5157720"/>
              <a:ext cx="221040" cy="127440"/>
            </a:xfrm>
            <a:custGeom>
              <a:avLst/>
              <a:gdLst/>
              <a:ahLst/>
              <a:rect l="0" t="0" r="r" b="b"/>
              <a:pathLst>
                <a:path fill="none" w="614" h="354">
                  <a:moveTo>
                    <a:pt x="0" y="0"/>
                  </a:moveTo>
                  <a:lnTo>
                    <a:pt x="522" y="225"/>
                  </a:lnTo>
                  <a:lnTo>
                    <a:pt x="526" y="230"/>
                  </a:lnTo>
                  <a:lnTo>
                    <a:pt x="544" y="239"/>
                  </a:lnTo>
                  <a:lnTo>
                    <a:pt x="553" y="247"/>
                  </a:lnTo>
                  <a:lnTo>
                    <a:pt x="562" y="252"/>
                  </a:lnTo>
                  <a:lnTo>
                    <a:pt x="570" y="261"/>
                  </a:lnTo>
                  <a:lnTo>
                    <a:pt x="575" y="270"/>
                  </a:lnTo>
                  <a:lnTo>
                    <a:pt x="579" y="279"/>
                  </a:lnTo>
                  <a:lnTo>
                    <a:pt x="588" y="284"/>
                  </a:lnTo>
                  <a:lnTo>
                    <a:pt x="588" y="293"/>
                  </a:lnTo>
                  <a:lnTo>
                    <a:pt x="592" y="301"/>
                  </a:lnTo>
                  <a:lnTo>
                    <a:pt x="597" y="310"/>
                  </a:lnTo>
                  <a:lnTo>
                    <a:pt x="601" y="319"/>
                  </a:lnTo>
                  <a:lnTo>
                    <a:pt x="606" y="328"/>
                  </a:lnTo>
                  <a:lnTo>
                    <a:pt x="606" y="337"/>
                  </a:lnTo>
                  <a:lnTo>
                    <a:pt x="610" y="345"/>
                  </a:lnTo>
                  <a:lnTo>
                    <a:pt x="614" y="3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41480" y="5505480"/>
              <a:ext cx="241560" cy="171720"/>
            </a:xfrm>
            <a:custGeom>
              <a:avLst/>
              <a:gdLst/>
              <a:ahLst/>
              <a:rect l="0" t="0" r="r" b="b"/>
              <a:pathLst>
                <a:path fill="none" w="671" h="477">
                  <a:moveTo>
                    <a:pt x="0" y="0"/>
                  </a:moveTo>
                  <a:lnTo>
                    <a:pt x="569" y="331"/>
                  </a:lnTo>
                  <a:lnTo>
                    <a:pt x="574" y="336"/>
                  </a:lnTo>
                  <a:lnTo>
                    <a:pt x="591" y="344"/>
                  </a:lnTo>
                  <a:lnTo>
                    <a:pt x="600" y="353"/>
                  </a:lnTo>
                  <a:lnTo>
                    <a:pt x="609" y="362"/>
                  </a:lnTo>
                  <a:lnTo>
                    <a:pt x="618" y="371"/>
                  </a:lnTo>
                  <a:lnTo>
                    <a:pt x="627" y="375"/>
                  </a:lnTo>
                  <a:lnTo>
                    <a:pt x="631" y="384"/>
                  </a:lnTo>
                  <a:lnTo>
                    <a:pt x="640" y="393"/>
                  </a:lnTo>
                  <a:lnTo>
                    <a:pt x="644" y="402"/>
                  </a:lnTo>
                  <a:lnTo>
                    <a:pt x="649" y="411"/>
                  </a:lnTo>
                  <a:lnTo>
                    <a:pt x="653" y="424"/>
                  </a:lnTo>
                  <a:lnTo>
                    <a:pt x="658" y="433"/>
                  </a:lnTo>
                  <a:lnTo>
                    <a:pt x="662" y="446"/>
                  </a:lnTo>
                  <a:lnTo>
                    <a:pt x="666" y="455"/>
                  </a:lnTo>
                  <a:lnTo>
                    <a:pt x="671" y="464"/>
                  </a:lnTo>
                  <a:lnTo>
                    <a:pt x="671" y="4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1284120" y="5281560"/>
              <a:ext cx="1501920" cy="3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39960" y="5861160"/>
              <a:ext cx="841680" cy="298800"/>
            </a:xfrm>
            <a:custGeom>
              <a:avLst/>
              <a:gdLst/>
              <a:ahLst/>
              <a:rect l="0" t="0" r="r" b="b"/>
              <a:pathLst>
                <a:path w="2338" h="830">
                  <a:moveTo>
                    <a:pt x="0" y="733"/>
                  </a:moveTo>
                  <a:lnTo>
                    <a:pt x="0" y="830"/>
                  </a:lnTo>
                  <a:lnTo>
                    <a:pt x="617" y="640"/>
                  </a:lnTo>
                  <a:lnTo>
                    <a:pt x="617" y="605"/>
                  </a:lnTo>
                  <a:lnTo>
                    <a:pt x="1601" y="299"/>
                  </a:lnTo>
                  <a:lnTo>
                    <a:pt x="1711" y="295"/>
                  </a:lnTo>
                  <a:lnTo>
                    <a:pt x="2333" y="101"/>
                  </a:lnTo>
                  <a:lnTo>
                    <a:pt x="2338" y="0"/>
                  </a:lnTo>
                  <a:lnTo>
                    <a:pt x="1716" y="189"/>
                  </a:lnTo>
                  <a:lnTo>
                    <a:pt x="1601" y="198"/>
                  </a:lnTo>
                  <a:lnTo>
                    <a:pt x="617" y="512"/>
                  </a:lnTo>
                  <a:lnTo>
                    <a:pt x="617" y="538"/>
                  </a:lnTo>
                  <a:lnTo>
                    <a:pt x="0" y="73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43200" y="6116760"/>
              <a:ext cx="184680" cy="84600"/>
            </a:xfrm>
            <a:custGeom>
              <a:avLst/>
              <a:gdLst/>
              <a:ahLst/>
              <a:rect l="0" t="0" r="r" b="b"/>
              <a:pathLst>
                <a:path w="513" h="235">
                  <a:moveTo>
                    <a:pt x="513" y="0"/>
                  </a:moveTo>
                  <a:lnTo>
                    <a:pt x="513" y="71"/>
                  </a:lnTo>
                  <a:lnTo>
                    <a:pt x="0" y="235"/>
                  </a:lnTo>
                  <a:lnTo>
                    <a:pt x="0" y="164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52560" y="5899320"/>
              <a:ext cx="832320" cy="259200"/>
            </a:xfrm>
            <a:custGeom>
              <a:avLst/>
              <a:gdLst/>
              <a:ahLst/>
              <a:rect l="0" t="0" r="r" b="b"/>
              <a:pathLst>
                <a:path fill="none" w="2312" h="720">
                  <a:moveTo>
                    <a:pt x="2312" y="0"/>
                  </a:moveTo>
                  <a:lnTo>
                    <a:pt x="1672" y="190"/>
                  </a:lnTo>
                  <a:lnTo>
                    <a:pt x="1544" y="195"/>
                  </a:lnTo>
                  <a:lnTo>
                    <a:pt x="587" y="499"/>
                  </a:lnTo>
                  <a:lnTo>
                    <a:pt x="583" y="534"/>
                  </a:lnTo>
                  <a:lnTo>
                    <a:pt x="0" y="72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65440" y="6056280"/>
              <a:ext cx="25920" cy="170280"/>
            </a:xfrm>
            <a:custGeom>
              <a:avLst/>
              <a:gdLst/>
              <a:ahLst/>
              <a:rect l="0" t="0" r="r" b="b"/>
              <a:pathLst>
                <a:path w="72" h="473">
                  <a:moveTo>
                    <a:pt x="72" y="0"/>
                  </a:moveTo>
                  <a:lnTo>
                    <a:pt x="72" y="473"/>
                  </a:lnTo>
                  <a:lnTo>
                    <a:pt x="0" y="473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76600" y="5608800"/>
              <a:ext cx="821160" cy="275040"/>
            </a:xfrm>
            <a:custGeom>
              <a:avLst/>
              <a:gdLst/>
              <a:ahLst/>
              <a:rect l="0" t="0" r="r" b="b"/>
              <a:pathLst>
                <a:path fill="none" w="2281" h="764">
                  <a:moveTo>
                    <a:pt x="0" y="764"/>
                  </a:moveTo>
                  <a:lnTo>
                    <a:pt x="2237" y="48"/>
                  </a:lnTo>
                  <a:lnTo>
                    <a:pt x="228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4400" y="5599080"/>
              <a:ext cx="925920" cy="555840"/>
            </a:xfrm>
            <a:custGeom>
              <a:avLst/>
              <a:gdLst/>
              <a:ahLst/>
              <a:rect l="0" t="0" r="r" b="b"/>
              <a:pathLst>
                <a:path fill="none" w="2572" h="1544">
                  <a:moveTo>
                    <a:pt x="2572" y="1504"/>
                  </a:moveTo>
                  <a:lnTo>
                    <a:pt x="2431" y="1544"/>
                  </a:lnTo>
                  <a:lnTo>
                    <a:pt x="2370" y="1544"/>
                  </a:lnTo>
                  <a:lnTo>
                    <a:pt x="2334" y="1539"/>
                  </a:lnTo>
                  <a:lnTo>
                    <a:pt x="30" y="3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87600" y="5184720"/>
              <a:ext cx="479880" cy="111600"/>
            </a:xfrm>
            <a:custGeom>
              <a:avLst/>
              <a:gdLst/>
              <a:ahLst/>
              <a:rect l="0" t="0" r="r" b="b"/>
              <a:pathLst>
                <a:path w="1333" h="310">
                  <a:moveTo>
                    <a:pt x="0" y="270"/>
                  </a:moveTo>
                  <a:lnTo>
                    <a:pt x="1170" y="0"/>
                  </a:lnTo>
                  <a:lnTo>
                    <a:pt x="1205" y="39"/>
                  </a:lnTo>
                  <a:lnTo>
                    <a:pt x="1258" y="35"/>
                  </a:lnTo>
                  <a:lnTo>
                    <a:pt x="1267" y="35"/>
                  </a:lnTo>
                  <a:lnTo>
                    <a:pt x="1272" y="39"/>
                  </a:lnTo>
                  <a:lnTo>
                    <a:pt x="1280" y="44"/>
                  </a:lnTo>
                  <a:lnTo>
                    <a:pt x="1289" y="48"/>
                  </a:lnTo>
                  <a:lnTo>
                    <a:pt x="1294" y="52"/>
                  </a:lnTo>
                  <a:lnTo>
                    <a:pt x="1302" y="61"/>
                  </a:lnTo>
                  <a:lnTo>
                    <a:pt x="1307" y="66"/>
                  </a:lnTo>
                  <a:lnTo>
                    <a:pt x="1316" y="74"/>
                  </a:lnTo>
                  <a:lnTo>
                    <a:pt x="1316" y="84"/>
                  </a:lnTo>
                  <a:lnTo>
                    <a:pt x="1320" y="89"/>
                  </a:lnTo>
                  <a:lnTo>
                    <a:pt x="1320" y="98"/>
                  </a:lnTo>
                  <a:lnTo>
                    <a:pt x="1324" y="102"/>
                  </a:lnTo>
                  <a:lnTo>
                    <a:pt x="1329" y="111"/>
                  </a:lnTo>
                  <a:lnTo>
                    <a:pt x="1329" y="115"/>
                  </a:lnTo>
                  <a:lnTo>
                    <a:pt x="1329" y="124"/>
                  </a:lnTo>
                  <a:lnTo>
                    <a:pt x="1333" y="128"/>
                  </a:lnTo>
                  <a:lnTo>
                    <a:pt x="1333" y="137"/>
                  </a:lnTo>
                  <a:lnTo>
                    <a:pt x="1329" y="142"/>
                  </a:lnTo>
                  <a:lnTo>
                    <a:pt x="1329" y="146"/>
                  </a:lnTo>
                  <a:lnTo>
                    <a:pt x="1329" y="150"/>
                  </a:lnTo>
                  <a:lnTo>
                    <a:pt x="1329" y="146"/>
                  </a:lnTo>
                  <a:lnTo>
                    <a:pt x="1329" y="133"/>
                  </a:lnTo>
                  <a:lnTo>
                    <a:pt x="1329" y="124"/>
                  </a:lnTo>
                  <a:lnTo>
                    <a:pt x="1329" y="115"/>
                  </a:lnTo>
                  <a:lnTo>
                    <a:pt x="1324" y="106"/>
                  </a:lnTo>
                  <a:lnTo>
                    <a:pt x="1324" y="98"/>
                  </a:lnTo>
                  <a:lnTo>
                    <a:pt x="1320" y="89"/>
                  </a:lnTo>
                  <a:lnTo>
                    <a:pt x="1316" y="80"/>
                  </a:lnTo>
                  <a:lnTo>
                    <a:pt x="1311" y="74"/>
                  </a:lnTo>
                  <a:lnTo>
                    <a:pt x="1307" y="66"/>
                  </a:lnTo>
                  <a:lnTo>
                    <a:pt x="1298" y="61"/>
                  </a:lnTo>
                  <a:lnTo>
                    <a:pt x="1294" y="52"/>
                  </a:lnTo>
                  <a:lnTo>
                    <a:pt x="1285" y="48"/>
                  </a:lnTo>
                  <a:lnTo>
                    <a:pt x="1276" y="44"/>
                  </a:lnTo>
                  <a:lnTo>
                    <a:pt x="1267" y="35"/>
                  </a:lnTo>
                  <a:lnTo>
                    <a:pt x="1258" y="30"/>
                  </a:lnTo>
                  <a:lnTo>
                    <a:pt x="74" y="301"/>
                  </a:lnTo>
                  <a:lnTo>
                    <a:pt x="35" y="31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09760" y="5327640"/>
              <a:ext cx="240120" cy="68760"/>
            </a:xfrm>
            <a:custGeom>
              <a:avLst/>
              <a:gdLst/>
              <a:ahLst/>
              <a:rect l="0" t="0" r="r" b="b"/>
              <a:pathLst>
                <a:path w="667" h="191">
                  <a:moveTo>
                    <a:pt x="0" y="191"/>
                  </a:moveTo>
                  <a:lnTo>
                    <a:pt x="663" y="30"/>
                  </a:lnTo>
                  <a:lnTo>
                    <a:pt x="663" y="26"/>
                  </a:lnTo>
                  <a:lnTo>
                    <a:pt x="667" y="17"/>
                  </a:lnTo>
                  <a:lnTo>
                    <a:pt x="667" y="13"/>
                  </a:lnTo>
                  <a:lnTo>
                    <a:pt x="667" y="4"/>
                  </a:lnTo>
                  <a:lnTo>
                    <a:pt x="667" y="0"/>
                  </a:lnTo>
                  <a:lnTo>
                    <a:pt x="4" y="156"/>
                  </a:lnTo>
                  <a:lnTo>
                    <a:pt x="4" y="160"/>
                  </a:lnTo>
                  <a:lnTo>
                    <a:pt x="4" y="169"/>
                  </a:lnTo>
                  <a:lnTo>
                    <a:pt x="4" y="173"/>
                  </a:lnTo>
                  <a:lnTo>
                    <a:pt x="4" y="182"/>
                  </a:lnTo>
                  <a:lnTo>
                    <a:pt x="0" y="187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65320" y="5175360"/>
              <a:ext cx="219600" cy="65520"/>
            </a:xfrm>
            <a:custGeom>
              <a:avLst/>
              <a:gdLst/>
              <a:ahLst/>
              <a:rect l="0" t="0" r="r" b="b"/>
              <a:pathLst>
                <a:path w="610" h="182">
                  <a:moveTo>
                    <a:pt x="0" y="182"/>
                  </a:moveTo>
                  <a:lnTo>
                    <a:pt x="601" y="39"/>
                  </a:lnTo>
                  <a:lnTo>
                    <a:pt x="606" y="30"/>
                  </a:lnTo>
                  <a:lnTo>
                    <a:pt x="606" y="26"/>
                  </a:lnTo>
                  <a:lnTo>
                    <a:pt x="606" y="17"/>
                  </a:lnTo>
                  <a:lnTo>
                    <a:pt x="610" y="13"/>
                  </a:lnTo>
                  <a:lnTo>
                    <a:pt x="610" y="8"/>
                  </a:lnTo>
                  <a:lnTo>
                    <a:pt x="610" y="0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4" y="165"/>
                  </a:lnTo>
                  <a:lnTo>
                    <a:pt x="0" y="173"/>
                  </a:lnTo>
                  <a:lnTo>
                    <a:pt x="0" y="178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587600" y="5281560"/>
              <a:ext cx="62280" cy="57600"/>
            </a:xfrm>
            <a:custGeom>
              <a:avLst/>
              <a:gdLst/>
              <a:ahLst/>
              <a:rect l="0" t="0" r="r" b="b"/>
              <a:pathLst>
                <a:path fill="none" w="173" h="160">
                  <a:moveTo>
                    <a:pt x="0" y="0"/>
                  </a:moveTo>
                  <a:lnTo>
                    <a:pt x="35" y="39"/>
                  </a:lnTo>
                  <a:lnTo>
                    <a:pt x="84" y="30"/>
                  </a:lnTo>
                  <a:lnTo>
                    <a:pt x="89" y="30"/>
                  </a:lnTo>
                  <a:lnTo>
                    <a:pt x="106" y="39"/>
                  </a:lnTo>
                  <a:lnTo>
                    <a:pt x="115" y="45"/>
                  </a:lnTo>
                  <a:lnTo>
                    <a:pt x="128" y="49"/>
                  </a:lnTo>
                  <a:lnTo>
                    <a:pt x="134" y="58"/>
                  </a:lnTo>
                  <a:lnTo>
                    <a:pt x="143" y="67"/>
                  </a:lnTo>
                  <a:lnTo>
                    <a:pt x="151" y="71"/>
                  </a:lnTo>
                  <a:lnTo>
                    <a:pt x="156" y="80"/>
                  </a:lnTo>
                  <a:lnTo>
                    <a:pt x="160" y="89"/>
                  </a:lnTo>
                  <a:lnTo>
                    <a:pt x="165" y="102"/>
                  </a:lnTo>
                  <a:lnTo>
                    <a:pt x="169" y="111"/>
                  </a:lnTo>
                  <a:lnTo>
                    <a:pt x="169" y="121"/>
                  </a:lnTo>
                  <a:lnTo>
                    <a:pt x="173" y="129"/>
                  </a:lnTo>
                  <a:lnTo>
                    <a:pt x="173" y="143"/>
                  </a:lnTo>
                  <a:lnTo>
                    <a:pt x="169" y="151"/>
                  </a:lnTo>
                  <a:lnTo>
                    <a:pt x="169" y="1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27320" y="5135400"/>
              <a:ext cx="55800" cy="41760"/>
            </a:xfrm>
            <a:custGeom>
              <a:avLst/>
              <a:gdLst/>
              <a:ahLst/>
              <a:rect l="0" t="0" r="r" b="b"/>
              <a:pathLst>
                <a:path fill="none" w="155" h="116">
                  <a:moveTo>
                    <a:pt x="0" y="0"/>
                  </a:moveTo>
                  <a:lnTo>
                    <a:pt x="39" y="40"/>
                  </a:lnTo>
                  <a:lnTo>
                    <a:pt x="89" y="31"/>
                  </a:lnTo>
                  <a:lnTo>
                    <a:pt x="98" y="36"/>
                  </a:lnTo>
                  <a:lnTo>
                    <a:pt x="102" y="40"/>
                  </a:lnTo>
                  <a:lnTo>
                    <a:pt x="111" y="49"/>
                  </a:lnTo>
                  <a:lnTo>
                    <a:pt x="115" y="53"/>
                  </a:lnTo>
                  <a:lnTo>
                    <a:pt x="124" y="58"/>
                  </a:lnTo>
                  <a:lnTo>
                    <a:pt x="128" y="67"/>
                  </a:lnTo>
                  <a:lnTo>
                    <a:pt x="133" y="71"/>
                  </a:lnTo>
                  <a:lnTo>
                    <a:pt x="137" y="75"/>
                  </a:lnTo>
                  <a:lnTo>
                    <a:pt x="142" y="80"/>
                  </a:lnTo>
                  <a:lnTo>
                    <a:pt x="146" y="90"/>
                  </a:lnTo>
                  <a:lnTo>
                    <a:pt x="150" y="94"/>
                  </a:lnTo>
                  <a:lnTo>
                    <a:pt x="150" y="99"/>
                  </a:lnTo>
                  <a:lnTo>
                    <a:pt x="155" y="107"/>
                  </a:lnTo>
                  <a:lnTo>
                    <a:pt x="155" y="11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362240" y="5346720"/>
              <a:ext cx="49680" cy="36720"/>
            </a:xfrm>
            <a:custGeom>
              <a:avLst/>
              <a:gdLst/>
              <a:ahLst/>
              <a:rect l="0" t="0" r="r" b="b"/>
              <a:pathLst>
                <a:path fill="none" w="138" h="102">
                  <a:moveTo>
                    <a:pt x="0" y="8"/>
                  </a:moveTo>
                  <a:lnTo>
                    <a:pt x="45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7" y="4"/>
                  </a:lnTo>
                  <a:lnTo>
                    <a:pt x="75" y="8"/>
                  </a:lnTo>
                  <a:lnTo>
                    <a:pt x="84" y="13"/>
                  </a:lnTo>
                  <a:lnTo>
                    <a:pt x="89" y="17"/>
                  </a:lnTo>
                  <a:lnTo>
                    <a:pt x="98" y="22"/>
                  </a:lnTo>
                  <a:lnTo>
                    <a:pt x="102" y="30"/>
                  </a:lnTo>
                  <a:lnTo>
                    <a:pt x="112" y="35"/>
                  </a:lnTo>
                  <a:lnTo>
                    <a:pt x="116" y="44"/>
                  </a:lnTo>
                  <a:lnTo>
                    <a:pt x="125" y="53"/>
                  </a:lnTo>
                  <a:lnTo>
                    <a:pt x="129" y="62"/>
                  </a:lnTo>
                  <a:lnTo>
                    <a:pt x="134" y="71"/>
                  </a:lnTo>
                  <a:lnTo>
                    <a:pt x="134" y="80"/>
                  </a:lnTo>
                  <a:lnTo>
                    <a:pt x="138" y="89"/>
                  </a:lnTo>
                  <a:lnTo>
                    <a:pt x="138" y="10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22240" y="4405320"/>
              <a:ext cx="1418040" cy="871920"/>
            </a:xfrm>
            <a:custGeom>
              <a:avLst/>
              <a:gdLst/>
              <a:ahLst/>
              <a:rect l="0" t="0" r="r" b="b"/>
              <a:pathLst>
                <a:path w="3939" h="2422">
                  <a:moveTo>
                    <a:pt x="3939" y="1729"/>
                  </a:moveTo>
                  <a:lnTo>
                    <a:pt x="846" y="2422"/>
                  </a:lnTo>
                  <a:lnTo>
                    <a:pt x="0" y="564"/>
                  </a:lnTo>
                  <a:lnTo>
                    <a:pt x="3066" y="0"/>
                  </a:lnTo>
                  <a:lnTo>
                    <a:pt x="3939" y="1729"/>
                  </a:lnTo>
                  <a:close/>
                </a:path>
              </a:pathLst>
            </a:custGeom>
            <a:solidFill>
              <a:srgbClr val="063de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849240" y="5148360"/>
              <a:ext cx="34920" cy="7920"/>
            </a:xfrm>
            <a:prstGeom prst="line">
              <a:avLst/>
            </a:prstGeom>
            <a:ln w="12600">
              <a:solidFill>
                <a:srgbClr val="ababa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9880" y="4214880"/>
              <a:ext cx="1803600" cy="692640"/>
            </a:xfrm>
            <a:custGeom>
              <a:avLst/>
              <a:gdLst/>
              <a:ahLst/>
              <a:rect l="0" t="0" r="r" b="b"/>
              <a:pathLst>
                <a:path w="5010" h="1924">
                  <a:moveTo>
                    <a:pt x="5010" y="1924"/>
                  </a:moveTo>
                  <a:lnTo>
                    <a:pt x="5010" y="1739"/>
                  </a:lnTo>
                  <a:lnTo>
                    <a:pt x="4075" y="0"/>
                  </a:lnTo>
                  <a:lnTo>
                    <a:pt x="0" y="737"/>
                  </a:lnTo>
                  <a:lnTo>
                    <a:pt x="39" y="834"/>
                  </a:lnTo>
                  <a:lnTo>
                    <a:pt x="4005" y="110"/>
                  </a:lnTo>
                  <a:lnTo>
                    <a:pt x="5010" y="1924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79800" y="5602320"/>
              <a:ext cx="821160" cy="255960"/>
            </a:xfrm>
            <a:custGeom>
              <a:avLst/>
              <a:gdLst/>
              <a:ahLst/>
              <a:rect l="0" t="0" r="r" b="b"/>
              <a:pathLst>
                <a:path w="2281" h="711">
                  <a:moveTo>
                    <a:pt x="2250" y="0"/>
                  </a:moveTo>
                  <a:lnTo>
                    <a:pt x="2281" y="79"/>
                  </a:lnTo>
                  <a:lnTo>
                    <a:pt x="207" y="711"/>
                  </a:lnTo>
                  <a:lnTo>
                    <a:pt x="0" y="610"/>
                  </a:lnTo>
                  <a:lnTo>
                    <a:pt x="22" y="516"/>
                  </a:lnTo>
                  <a:lnTo>
                    <a:pt x="2250" y="0"/>
                  </a:lnTo>
                  <a:close/>
                </a:path>
              </a:pathLst>
            </a:custGeom>
            <a:solidFill>
              <a:srgbClr val="ababa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87720" y="5572080"/>
              <a:ext cx="802080" cy="262440"/>
            </a:xfrm>
            <a:custGeom>
              <a:avLst/>
              <a:gdLst/>
              <a:ahLst/>
              <a:rect l="0" t="0" r="r" b="b"/>
              <a:pathLst>
                <a:path w="2228" h="729">
                  <a:moveTo>
                    <a:pt x="2048" y="0"/>
                  </a:moveTo>
                  <a:lnTo>
                    <a:pt x="2228" y="83"/>
                  </a:lnTo>
                  <a:lnTo>
                    <a:pt x="198" y="685"/>
                  </a:lnTo>
                  <a:lnTo>
                    <a:pt x="194" y="729"/>
                  </a:lnTo>
                  <a:lnTo>
                    <a:pt x="180" y="681"/>
                  </a:lnTo>
                  <a:lnTo>
                    <a:pt x="0" y="601"/>
                  </a:lnTo>
                  <a:lnTo>
                    <a:pt x="20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1415880" y="5329080"/>
              <a:ext cx="1441800" cy="384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495440" y="5367240"/>
              <a:ext cx="1432080" cy="4003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584360" y="5411880"/>
              <a:ext cx="1431720" cy="399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666800" y="5446800"/>
              <a:ext cx="1444680" cy="4158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749600" y="5481720"/>
              <a:ext cx="1454040" cy="42552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1812960" y="5522760"/>
              <a:ext cx="1460520" cy="43524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33600" y="5681520"/>
              <a:ext cx="412560" cy="235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73280" y="5637240"/>
              <a:ext cx="412560" cy="2350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51120" y="5592600"/>
              <a:ext cx="396720" cy="228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003400" y="5560920"/>
              <a:ext cx="31428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46320" y="5519880"/>
              <a:ext cx="31428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5360" y="5472000"/>
              <a:ext cx="314640" cy="17460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48000" y="5433840"/>
              <a:ext cx="314280" cy="1749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97040" y="5398920"/>
              <a:ext cx="320760" cy="1684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36720" y="5364000"/>
              <a:ext cx="403200" cy="2001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51200" y="5322960"/>
              <a:ext cx="425520" cy="19368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19120" y="5716440"/>
              <a:ext cx="406440" cy="241560"/>
            </a:xfrm>
            <a:prstGeom prst="line">
              <a:avLst/>
            </a:prstGeom>
            <a:ln w="12600">
              <a:solidFill>
                <a:srgbClr val="081d5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1351080" y="5029200"/>
              <a:ext cx="731880" cy="163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09640" y="4548240"/>
              <a:ext cx="330480" cy="500400"/>
            </a:xfrm>
            <a:custGeom>
              <a:avLst/>
              <a:gdLst/>
              <a:ahLst/>
              <a:rect l="0" t="0" r="r" b="b"/>
              <a:pathLst>
                <a:path w="918" h="1390">
                  <a:moveTo>
                    <a:pt x="268" y="0"/>
                  </a:moveTo>
                  <a:lnTo>
                    <a:pt x="918" y="1328"/>
                  </a:lnTo>
                  <a:lnTo>
                    <a:pt x="658" y="1390"/>
                  </a:lnTo>
                  <a:lnTo>
                    <a:pt x="0" y="5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79001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73200" y="4645080"/>
              <a:ext cx="302040" cy="444960"/>
            </a:xfrm>
            <a:custGeom>
              <a:avLst/>
              <a:gdLst/>
              <a:ahLst/>
              <a:rect l="0" t="0" r="r" b="b"/>
              <a:pathLst>
                <a:path w="839" h="1236">
                  <a:moveTo>
                    <a:pt x="269" y="0"/>
                  </a:moveTo>
                  <a:lnTo>
                    <a:pt x="839" y="1174"/>
                  </a:lnTo>
                  <a:lnTo>
                    <a:pt x="578" y="1236"/>
                  </a:lnTo>
                  <a:lnTo>
                    <a:pt x="0" y="5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37c0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419120" y="4764240"/>
              <a:ext cx="273240" cy="365400"/>
            </a:xfrm>
            <a:custGeom>
              <a:avLst/>
              <a:gdLst/>
              <a:ahLst/>
              <a:rect l="0" t="0" r="r" b="b"/>
              <a:pathLst>
                <a:path w="759" h="1015">
                  <a:moveTo>
                    <a:pt x="286" y="0"/>
                  </a:moveTo>
                  <a:lnTo>
                    <a:pt x="759" y="944"/>
                  </a:lnTo>
                  <a:lnTo>
                    <a:pt x="490" y="1015"/>
                  </a:lnTo>
                  <a:lnTo>
                    <a:pt x="0" y="52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898b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289160" y="4923000"/>
              <a:ext cx="209880" cy="254520"/>
            </a:xfrm>
            <a:custGeom>
              <a:avLst/>
              <a:gdLst/>
              <a:ahLst/>
              <a:rect l="0" t="0" r="r" b="b"/>
              <a:pathLst>
                <a:path w="583" h="707">
                  <a:moveTo>
                    <a:pt x="300" y="0"/>
                  </a:moveTo>
                  <a:lnTo>
                    <a:pt x="583" y="637"/>
                  </a:lnTo>
                  <a:lnTo>
                    <a:pt x="318" y="707"/>
                  </a:lnTo>
                  <a:lnTo>
                    <a:pt x="0" y="70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695600" y="4567320"/>
              <a:ext cx="329040" cy="501840"/>
            </a:xfrm>
            <a:custGeom>
              <a:avLst/>
              <a:gdLst/>
              <a:ahLst/>
              <a:rect l="0" t="0" r="r" b="b"/>
              <a:pathLst>
                <a:path w="914" h="1394">
                  <a:moveTo>
                    <a:pt x="269" y="0"/>
                  </a:moveTo>
                  <a:lnTo>
                    <a:pt x="914" y="1332"/>
                  </a:lnTo>
                  <a:lnTo>
                    <a:pt x="653" y="1394"/>
                  </a:lnTo>
                  <a:lnTo>
                    <a:pt x="0" y="5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558800" y="4665600"/>
              <a:ext cx="300240" cy="441720"/>
            </a:xfrm>
            <a:custGeom>
              <a:avLst/>
              <a:gdLst/>
              <a:ahLst/>
              <a:rect l="0" t="0" r="r" b="b"/>
              <a:pathLst>
                <a:path w="834" h="1227">
                  <a:moveTo>
                    <a:pt x="264" y="0"/>
                  </a:moveTo>
                  <a:lnTo>
                    <a:pt x="834" y="1166"/>
                  </a:lnTo>
                  <a:lnTo>
                    <a:pt x="578" y="1227"/>
                  </a:lnTo>
                  <a:lnTo>
                    <a:pt x="0" y="52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3280" y="4781520"/>
              <a:ext cx="273240" cy="368640"/>
            </a:xfrm>
            <a:custGeom>
              <a:avLst/>
              <a:gdLst/>
              <a:ahLst/>
              <a:rect l="0" t="0" r="r" b="b"/>
              <a:pathLst>
                <a:path w="759" h="1024">
                  <a:moveTo>
                    <a:pt x="286" y="0"/>
                  </a:moveTo>
                  <a:lnTo>
                    <a:pt x="759" y="953"/>
                  </a:lnTo>
                  <a:lnTo>
                    <a:pt x="490" y="1024"/>
                  </a:lnTo>
                  <a:lnTo>
                    <a:pt x="0" y="52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79440" y="4937040"/>
              <a:ext cx="205200" cy="259200"/>
            </a:xfrm>
            <a:custGeom>
              <a:avLst/>
              <a:gdLst/>
              <a:ahLst/>
              <a:rect l="0" t="0" r="r" b="b"/>
              <a:pathLst>
                <a:path w="570" h="720">
                  <a:moveTo>
                    <a:pt x="269" y="0"/>
                  </a:moveTo>
                  <a:lnTo>
                    <a:pt x="570" y="645"/>
                  </a:lnTo>
                  <a:lnTo>
                    <a:pt x="300" y="720"/>
                  </a:lnTo>
                  <a:lnTo>
                    <a:pt x="0" y="66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890640" y="4481640"/>
              <a:ext cx="10350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900" spc="-1" strike="noStrike">
                  <a:solidFill>
                    <a:srgbClr val="fafd00"/>
                  </a:solidFill>
                  <a:latin typeface="Arial"/>
                  <a:ea typeface="Arial"/>
                </a:rPr>
                <a:t>Record Sa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981000" y="4729320"/>
              <a:ext cx="327240" cy="234720"/>
              <a:chOff x="981000" y="4729320"/>
              <a:chExt cx="327240" cy="234720"/>
            </a:xfrm>
          </p:grpSpPr>
          <p:sp>
            <p:nvSpPr>
              <p:cNvPr id="687" name=""/>
              <p:cNvSpPr/>
              <p:nvPr/>
            </p:nvSpPr>
            <p:spPr>
              <a:xfrm>
                <a:off x="981000" y="4761000"/>
                <a:ext cx="28440" cy="316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06560" y="4821120"/>
                <a:ext cx="28440" cy="3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31760" y="4878360"/>
                <a:ext cx="28440" cy="31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054080" y="4932360"/>
                <a:ext cx="28440" cy="3168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1035000" y="4729320"/>
                <a:ext cx="206280" cy="41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1060560" y="4782960"/>
                <a:ext cx="20628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1082520" y="4836960"/>
                <a:ext cx="20664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1101600" y="4890960"/>
                <a:ext cx="206640" cy="41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"/>
          <p:cNvSpPr/>
          <p:nvPr/>
        </p:nvSpPr>
        <p:spPr>
          <a:xfrm>
            <a:off x="3619440" y="2019240"/>
            <a:ext cx="1371960" cy="2876760"/>
          </a:xfrm>
          <a:custGeom>
            <a:avLst/>
            <a:gdLst/>
            <a:ahLst/>
            <a:rect l="0" t="0" r="r" b="b"/>
            <a:pathLst>
              <a:path w="3811" h="7991">
                <a:moveTo>
                  <a:pt x="145" y="1023"/>
                </a:moveTo>
                <a:lnTo>
                  <a:pt x="3811" y="0"/>
                </a:lnTo>
                <a:lnTo>
                  <a:pt x="3811" y="7991"/>
                </a:lnTo>
                <a:lnTo>
                  <a:pt x="0" y="1587"/>
                </a:lnTo>
                <a:lnTo>
                  <a:pt x="88" y="1270"/>
                </a:lnTo>
                <a:lnTo>
                  <a:pt x="145" y="102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4952880" y="2017800"/>
            <a:ext cx="3969000" cy="2898720"/>
            <a:chOff x="4952880" y="2017800"/>
            <a:chExt cx="3969000" cy="2898720"/>
          </a:xfrm>
        </p:grpSpPr>
        <p:sp>
          <p:nvSpPr>
            <p:cNvPr id="697" name=""/>
            <p:cNvSpPr/>
            <p:nvPr/>
          </p:nvSpPr>
          <p:spPr>
            <a:xfrm>
              <a:off x="4952880" y="2057400"/>
              <a:ext cx="3962520" cy="2819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4997520" y="2017800"/>
              <a:ext cx="3924360" cy="222120"/>
              <a:chOff x="4997520" y="2017800"/>
              <a:chExt cx="3924360" cy="222120"/>
            </a:xfrm>
          </p:grpSpPr>
          <p:sp>
            <p:nvSpPr>
              <p:cNvPr id="699" name=""/>
              <p:cNvSpPr/>
              <p:nvPr/>
            </p:nvSpPr>
            <p:spPr>
              <a:xfrm>
                <a:off x="4997520" y="2017800"/>
                <a:ext cx="3905280" cy="222120"/>
              </a:xfrm>
              <a:prstGeom prst="rect">
                <a:avLst/>
              </a:prstGeom>
              <a:gradFill rotWithShape="0">
                <a:gsLst>
                  <a:gs pos="0">
                    <a:srgbClr val="0000cd"/>
                  </a:gs>
                  <a:gs pos="50000">
                    <a:srgbClr val="ffffff"/>
                  </a:gs>
                  <a:gs pos="100000">
                    <a:srgbClr val="0000cd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4998960" y="2063880"/>
                <a:ext cx="3922920" cy="123840"/>
                <a:chOff x="4998960" y="2063880"/>
                <a:chExt cx="3922920" cy="123840"/>
              </a:xfrm>
            </p:grpSpPr>
            <p:sp>
              <p:nvSpPr>
                <p:cNvPr id="701" name=""/>
                <p:cNvSpPr/>
                <p:nvPr/>
              </p:nvSpPr>
              <p:spPr>
                <a:xfrm flipH="1">
                  <a:off x="4998960" y="2187720"/>
                  <a:ext cx="39211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H="1">
                  <a:off x="4998960" y="2104920"/>
                  <a:ext cx="39229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H="1">
                  <a:off x="4998960" y="2063880"/>
                  <a:ext cx="39229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H="1">
                  <a:off x="4998960" y="2146320"/>
                  <a:ext cx="392292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"/>
            <p:cNvGrpSpPr/>
            <p:nvPr/>
          </p:nvGrpSpPr>
          <p:grpSpPr>
            <a:xfrm>
              <a:off x="7927920" y="3933720"/>
              <a:ext cx="981000" cy="982800"/>
              <a:chOff x="7927920" y="3933720"/>
              <a:chExt cx="981000" cy="98280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7947000" y="3952800"/>
                <a:ext cx="940320" cy="941760"/>
                <a:chOff x="7947000" y="3952800"/>
                <a:chExt cx="940320" cy="9417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432640" y="4440240"/>
                  <a:ext cx="454320" cy="454320"/>
                </a:xfrm>
                <a:custGeom>
                  <a:avLst/>
                  <a:gdLst/>
                  <a:ahLst/>
                  <a:rect l="0" t="0" r="r" b="b"/>
                  <a:pathLst>
                    <a:path w="1262" h="1262">
                      <a:moveTo>
                        <a:pt x="1262" y="1262"/>
                      </a:moveTo>
                      <a:lnTo>
                        <a:pt x="1262" y="0"/>
                      </a:lnTo>
                      <a:lnTo>
                        <a:pt x="0" y="1262"/>
                      </a:lnTo>
                      <a:lnTo>
                        <a:pt x="1262" y="1262"/>
                      </a:lnTo>
                      <a:close/>
                    </a:path>
                  </a:pathLst>
                </a:custGeom>
                <a:solidFill>
                  <a:srgbClr val="0000c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8177040" y="4184640"/>
                  <a:ext cx="709920" cy="709920"/>
                </a:xfrm>
                <a:custGeom>
                  <a:avLst/>
                  <a:gdLst/>
                  <a:ahLst/>
                  <a:rect l="0" t="0" r="r" b="b"/>
                  <a:pathLst>
                    <a:path w="1972" h="1972">
                      <a:moveTo>
                        <a:pt x="1972" y="383"/>
                      </a:moveTo>
                      <a:lnTo>
                        <a:pt x="383" y="1972"/>
                      </a:lnTo>
                      <a:lnTo>
                        <a:pt x="0" y="1972"/>
                      </a:lnTo>
                      <a:lnTo>
                        <a:pt x="1972" y="0"/>
                      </a:lnTo>
                      <a:lnTo>
                        <a:pt x="1972" y="383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947000" y="3952800"/>
                  <a:ext cx="940320" cy="941760"/>
                </a:xfrm>
                <a:custGeom>
                  <a:avLst/>
                  <a:gdLst/>
                  <a:ahLst/>
                  <a:rect l="0" t="0" r="r" b="b"/>
                  <a:pathLst>
                    <a:path w="2612" h="2616">
                      <a:moveTo>
                        <a:pt x="2612" y="317"/>
                      </a:moveTo>
                      <a:lnTo>
                        <a:pt x="317" y="2616"/>
                      </a:lnTo>
                      <a:lnTo>
                        <a:pt x="0" y="2616"/>
                      </a:lnTo>
                      <a:lnTo>
                        <a:pt x="2612" y="0"/>
                      </a:lnTo>
                      <a:lnTo>
                        <a:pt x="2612" y="317"/>
                      </a:lnTo>
                      <a:close/>
                    </a:path>
                  </a:pathLst>
                </a:custGeom>
                <a:solidFill>
                  <a:srgbClr val="081d58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"/>
              <p:cNvSpPr/>
              <p:nvPr/>
            </p:nvSpPr>
            <p:spPr>
              <a:xfrm flipH="1">
                <a:off x="7927920" y="3933720"/>
                <a:ext cx="966960" cy="966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8151840" y="4159080"/>
                <a:ext cx="757080" cy="757440"/>
              </a:xfrm>
              <a:prstGeom prst="line">
                <a:avLst/>
              </a:prstGeom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8421840" y="4429080"/>
                <a:ext cx="473040" cy="473040"/>
              </a:xfrm>
              <a:prstGeom prst="line">
                <a:avLst/>
              </a:prstGeom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257800" y="2227320"/>
              <a:ext cx="2122560" cy="641160"/>
              <a:chOff x="5257800" y="2227320"/>
              <a:chExt cx="2122560" cy="641160"/>
            </a:xfrm>
          </p:grpSpPr>
          <p:sp>
            <p:nvSpPr>
              <p:cNvPr id="714" name=""/>
              <p:cNvSpPr txBox="1"/>
              <p:nvPr/>
            </p:nvSpPr>
            <p:spPr>
              <a:xfrm>
                <a:off x="5257800" y="2227320"/>
                <a:ext cx="212256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1900" spc="-1" strike="noStrike">
                    <a:solidFill>
                      <a:srgbClr val="fafd00"/>
                    </a:solidFill>
                    <a:latin typeface="Times New Roman"/>
                    <a:ea typeface="Times New Roman"/>
                  </a:rPr>
                  <a:t>Sales Performanc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 txBox="1"/>
              <p:nvPr/>
            </p:nvSpPr>
            <p:spPr>
              <a:xfrm>
                <a:off x="5257800" y="2487600"/>
                <a:ext cx="24444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 txBox="1"/>
              <p:nvPr/>
            </p:nvSpPr>
            <p:spPr>
              <a:xfrm>
                <a:off x="5318280" y="2602080"/>
                <a:ext cx="914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i="1" lang="en-US" sz="9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$ in Thousand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"/>
            <p:cNvSpPr/>
            <p:nvPr/>
          </p:nvSpPr>
          <p:spPr>
            <a:xfrm>
              <a:off x="5676840" y="3794040"/>
              <a:ext cx="2365560" cy="559080"/>
            </a:xfrm>
            <a:custGeom>
              <a:avLst/>
              <a:gdLst/>
              <a:ahLst/>
              <a:rect l="0" t="0" r="r" b="b"/>
              <a:pathLst>
                <a:path w="6571" h="1553">
                  <a:moveTo>
                    <a:pt x="6571" y="568"/>
                  </a:moveTo>
                  <a:lnTo>
                    <a:pt x="5901" y="1553"/>
                  </a:lnTo>
                  <a:lnTo>
                    <a:pt x="0" y="816"/>
                  </a:lnTo>
                  <a:lnTo>
                    <a:pt x="1292" y="0"/>
                  </a:lnTo>
                  <a:lnTo>
                    <a:pt x="6571" y="56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76840" y="3794040"/>
              <a:ext cx="2376720" cy="300240"/>
            </a:xfrm>
            <a:custGeom>
              <a:avLst/>
              <a:gdLst/>
              <a:ahLst/>
              <a:rect l="0" t="0" r="r" b="b"/>
              <a:pathLst>
                <a:path fill="none" w="6602" h="834">
                  <a:moveTo>
                    <a:pt x="0" y="834"/>
                  </a:moveTo>
                  <a:lnTo>
                    <a:pt x="1300" y="0"/>
                  </a:lnTo>
                  <a:lnTo>
                    <a:pt x="6602" y="58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67480" y="3610080"/>
              <a:ext cx="2394360" cy="276480"/>
            </a:xfrm>
            <a:custGeom>
              <a:avLst/>
              <a:gdLst/>
              <a:ahLst/>
              <a:rect l="0" t="0" r="r" b="b"/>
              <a:pathLst>
                <a:path fill="none" w="6651" h="768">
                  <a:moveTo>
                    <a:pt x="0" y="768"/>
                  </a:moveTo>
                  <a:lnTo>
                    <a:pt x="1314" y="0"/>
                  </a:lnTo>
                  <a:lnTo>
                    <a:pt x="6651" y="53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59560" y="3421080"/>
              <a:ext cx="2411640" cy="254520"/>
            </a:xfrm>
            <a:custGeom>
              <a:avLst/>
              <a:gdLst/>
              <a:ahLst/>
              <a:rect l="0" t="0" r="r" b="b"/>
              <a:pathLst>
                <a:path fill="none" w="6699" h="707">
                  <a:moveTo>
                    <a:pt x="0" y="707"/>
                  </a:moveTo>
                  <a:lnTo>
                    <a:pt x="1322" y="0"/>
                  </a:lnTo>
                  <a:lnTo>
                    <a:pt x="6699" y="49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49840" y="3230640"/>
              <a:ext cx="2429280" cy="230400"/>
            </a:xfrm>
            <a:custGeom>
              <a:avLst/>
              <a:gdLst/>
              <a:ahLst/>
              <a:rect l="0" t="0" r="r" b="b"/>
              <a:pathLst>
                <a:path fill="none" w="6748" h="640">
                  <a:moveTo>
                    <a:pt x="0" y="640"/>
                  </a:moveTo>
                  <a:lnTo>
                    <a:pt x="1336" y="0"/>
                  </a:lnTo>
                  <a:lnTo>
                    <a:pt x="6748" y="44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40480" y="3036960"/>
              <a:ext cx="2448360" cy="206640"/>
            </a:xfrm>
            <a:custGeom>
              <a:avLst/>
              <a:gdLst/>
              <a:ahLst/>
              <a:rect l="0" t="0" r="r" b="b"/>
              <a:pathLst>
                <a:path fill="none" w="6801" h="574">
                  <a:moveTo>
                    <a:pt x="0" y="574"/>
                  </a:moveTo>
                  <a:lnTo>
                    <a:pt x="1349" y="0"/>
                  </a:lnTo>
                  <a:lnTo>
                    <a:pt x="6801" y="39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30760" y="2840040"/>
              <a:ext cx="2465640" cy="182880"/>
            </a:xfrm>
            <a:custGeom>
              <a:avLst/>
              <a:gdLst/>
              <a:ahLst/>
              <a:rect l="0" t="0" r="r" b="b"/>
              <a:pathLst>
                <a:path fill="none" w="6849" h="508">
                  <a:moveTo>
                    <a:pt x="0" y="508"/>
                  </a:moveTo>
                  <a:lnTo>
                    <a:pt x="1362" y="0"/>
                  </a:lnTo>
                  <a:lnTo>
                    <a:pt x="6849" y="35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76840" y="3794040"/>
              <a:ext cx="2376720" cy="570240"/>
            </a:xfrm>
            <a:custGeom>
              <a:avLst/>
              <a:gdLst/>
              <a:ahLst/>
              <a:rect l="0" t="0" r="r" b="b"/>
              <a:pathLst>
                <a:path fill="none" w="6602" h="1584">
                  <a:moveTo>
                    <a:pt x="6602" y="582"/>
                  </a:moveTo>
                  <a:lnTo>
                    <a:pt x="5927" y="1584"/>
                  </a:lnTo>
                  <a:lnTo>
                    <a:pt x="0" y="834"/>
                  </a:lnTo>
                  <a:lnTo>
                    <a:pt x="1300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630760" y="2840040"/>
              <a:ext cx="514800" cy="1254600"/>
            </a:xfrm>
            <a:custGeom>
              <a:avLst/>
              <a:gdLst/>
              <a:ahLst/>
              <a:rect l="0" t="0" r="r" b="b"/>
              <a:pathLst>
                <a:path fill="none" w="1430" h="3485">
                  <a:moveTo>
                    <a:pt x="127" y="3485"/>
                  </a:moveTo>
                  <a:lnTo>
                    <a:pt x="0" y="507"/>
                  </a:lnTo>
                  <a:lnTo>
                    <a:pt x="1364" y="0"/>
                  </a:lnTo>
                  <a:lnTo>
                    <a:pt x="1430" y="26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21440" y="2840040"/>
              <a:ext cx="1975320" cy="1163880"/>
            </a:xfrm>
            <a:custGeom>
              <a:avLst/>
              <a:gdLst/>
              <a:ahLst/>
              <a:rect l="0" t="0" r="r" b="b"/>
              <a:pathLst>
                <a:path fill="none" w="5487" h="3233">
                  <a:moveTo>
                    <a:pt x="66" y="2651"/>
                  </a:moveTo>
                  <a:lnTo>
                    <a:pt x="0" y="0"/>
                  </a:lnTo>
                  <a:lnTo>
                    <a:pt x="5487" y="352"/>
                  </a:lnTo>
                  <a:lnTo>
                    <a:pt x="5368" y="323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76840" y="4094280"/>
              <a:ext cx="2139840" cy="269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70760" y="4157640"/>
              <a:ext cx="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89880" y="4222800"/>
              <a:ext cx="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36000" y="4292640"/>
              <a:ext cx="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810560" y="4363920"/>
              <a:ext cx="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5683320" y="4159080"/>
              <a:ext cx="5126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1st Qt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6172200" y="4222800"/>
              <a:ext cx="5461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2nd Qt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6715080" y="4290840"/>
              <a:ext cx="5238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rd Qt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7278840" y="4361040"/>
              <a:ext cx="517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4th Qt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810560" y="4003560"/>
              <a:ext cx="243000" cy="360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810560" y="436392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053560" y="4003560"/>
              <a:ext cx="29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353200" y="2960640"/>
              <a:ext cx="331920" cy="1255680"/>
              <a:chOff x="5353200" y="2960640"/>
              <a:chExt cx="331920" cy="1255680"/>
            </a:xfrm>
          </p:grpSpPr>
          <p:sp>
            <p:nvSpPr>
              <p:cNvPr id="740" name=""/>
              <p:cNvSpPr txBox="1"/>
              <p:nvPr/>
            </p:nvSpPr>
            <p:spPr>
              <a:xfrm>
                <a:off x="5353200" y="2960640"/>
                <a:ext cx="3319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5402160" y="3171960"/>
                <a:ext cx="282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5402160" y="3382920"/>
                <a:ext cx="282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5402160" y="3594240"/>
                <a:ext cx="282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 txBox="1"/>
              <p:nvPr/>
            </p:nvSpPr>
            <p:spPr>
              <a:xfrm>
                <a:off x="5402160" y="3807000"/>
                <a:ext cx="2826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 txBox="1"/>
              <p:nvPr/>
            </p:nvSpPr>
            <p:spPr>
              <a:xfrm>
                <a:off x="5450040" y="4017960"/>
                <a:ext cx="2332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6" name="" descr=""/>
            <p:cNvPicPr/>
            <p:nvPr/>
          </p:nvPicPr>
          <p:blipFill>
            <a:blip r:embed="rId4"/>
            <a:stretch/>
          </p:blipFill>
          <p:spPr>
            <a:xfrm>
              <a:off x="5840280" y="2914560"/>
              <a:ext cx="2036880" cy="13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"/>
          <p:cNvSpPr txBox="1"/>
          <p:nvPr/>
        </p:nvSpPr>
        <p:spPr>
          <a:xfrm>
            <a:off x="1352520" y="171360"/>
            <a:ext cx="64580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she gave the killer presentation of her lif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8" name=""/>
          <p:cNvGrpSpPr/>
          <p:nvPr/>
        </p:nvGrpSpPr>
        <p:grpSpPr>
          <a:xfrm>
            <a:off x="407880" y="3543120"/>
            <a:ext cx="1610280" cy="1254600"/>
            <a:chOff x="407880" y="3543120"/>
            <a:chExt cx="1610280" cy="1254600"/>
          </a:xfrm>
        </p:grpSpPr>
        <p:grpSp>
          <p:nvGrpSpPr>
            <p:cNvPr id="749" name=""/>
            <p:cNvGrpSpPr/>
            <p:nvPr/>
          </p:nvGrpSpPr>
          <p:grpSpPr>
            <a:xfrm>
              <a:off x="407880" y="3543120"/>
              <a:ext cx="1610280" cy="1254600"/>
              <a:chOff x="407880" y="3543120"/>
              <a:chExt cx="1610280" cy="1254600"/>
            </a:xfrm>
          </p:grpSpPr>
          <p:sp>
            <p:nvSpPr>
              <p:cNvPr id="750" name=""/>
              <p:cNvSpPr/>
              <p:nvPr/>
            </p:nvSpPr>
            <p:spPr>
              <a:xfrm>
                <a:off x="725400" y="4460760"/>
                <a:ext cx="1257840" cy="336960"/>
              </a:xfrm>
              <a:custGeom>
                <a:avLst/>
                <a:gdLst/>
                <a:ahLst/>
                <a:rect l="0" t="0" r="r" b="b"/>
                <a:pathLst>
                  <a:path w="3494" h="936">
                    <a:moveTo>
                      <a:pt x="0" y="848"/>
                    </a:moveTo>
                    <a:lnTo>
                      <a:pt x="44" y="936"/>
                    </a:lnTo>
                    <a:lnTo>
                      <a:pt x="3481" y="79"/>
                    </a:lnTo>
                    <a:lnTo>
                      <a:pt x="3494" y="0"/>
                    </a:lnTo>
                    <a:lnTo>
                      <a:pt x="0" y="848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346040" y="3556080"/>
                <a:ext cx="670320" cy="849600"/>
              </a:xfrm>
              <a:custGeom>
                <a:avLst/>
                <a:gdLst/>
                <a:ahLst/>
                <a:rect l="0" t="0" r="r" b="b"/>
                <a:pathLst>
                  <a:path w="1862" h="2360">
                    <a:moveTo>
                      <a:pt x="0" y="0"/>
                    </a:moveTo>
                    <a:lnTo>
                      <a:pt x="1381" y="2360"/>
                    </a:lnTo>
                    <a:lnTo>
                      <a:pt x="1862" y="2289"/>
                    </a:lnTo>
                    <a:lnTo>
                      <a:pt x="494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07880" y="3543120"/>
                <a:ext cx="1432440" cy="1152720"/>
              </a:xfrm>
              <a:custGeom>
                <a:avLst/>
                <a:gdLst/>
                <a:ahLst/>
                <a:rect l="0" t="0" r="r" b="b"/>
                <a:pathLst>
                  <a:path w="3979" h="3202">
                    <a:moveTo>
                      <a:pt x="2576" y="0"/>
                    </a:moveTo>
                    <a:lnTo>
                      <a:pt x="3979" y="2377"/>
                    </a:lnTo>
                    <a:lnTo>
                      <a:pt x="1385" y="3012"/>
                    </a:lnTo>
                    <a:lnTo>
                      <a:pt x="1363" y="3052"/>
                    </a:lnTo>
                    <a:lnTo>
                      <a:pt x="851" y="3202"/>
                    </a:lnTo>
                    <a:lnTo>
                      <a:pt x="0" y="780"/>
                    </a:lnTo>
                    <a:lnTo>
                      <a:pt x="379" y="493"/>
                    </a:lnTo>
                    <a:lnTo>
                      <a:pt x="379" y="467"/>
                    </a:lnTo>
                    <a:lnTo>
                      <a:pt x="2576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41440" y="3722760"/>
                <a:ext cx="358560" cy="919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349280" y="3556080"/>
                <a:ext cx="492120" cy="849240"/>
              </a:xfrm>
              <a:prstGeom prst="line">
                <a:avLst/>
              </a:prstGeom>
              <a:ln w="2556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69880" y="3552840"/>
                <a:ext cx="794160" cy="254520"/>
              </a:xfrm>
              <a:custGeom>
                <a:avLst/>
                <a:gdLst/>
                <a:ahLst/>
                <a:rect l="0" t="0" r="r" b="b"/>
                <a:pathLst>
                  <a:path fill="none" w="2206" h="707">
                    <a:moveTo>
                      <a:pt x="0" y="437"/>
                    </a:moveTo>
                    <a:lnTo>
                      <a:pt x="110" y="707"/>
                    </a:lnTo>
                    <a:lnTo>
                      <a:pt x="2206" y="265"/>
                    </a:lnTo>
                    <a:lnTo>
                      <a:pt x="2061" y="0"/>
                    </a:lnTo>
                  </a:path>
                </a:pathLst>
              </a:custGeom>
              <a:ln w="25560">
                <a:solidFill>
                  <a:srgbClr val="676767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906480" y="4435560"/>
                <a:ext cx="246600" cy="105120"/>
              </a:xfrm>
              <a:custGeom>
                <a:avLst/>
                <a:gdLst/>
                <a:ahLst/>
                <a:rect l="0" t="0" r="r" b="b"/>
                <a:pathLst>
                  <a:path w="685" h="292">
                    <a:moveTo>
                      <a:pt x="0" y="141"/>
                    </a:moveTo>
                    <a:lnTo>
                      <a:pt x="57" y="292"/>
                    </a:lnTo>
                    <a:lnTo>
                      <a:pt x="685" y="141"/>
                    </a:lnTo>
                    <a:lnTo>
                      <a:pt x="619" y="0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47640" y="3743280"/>
                <a:ext cx="776520" cy="194040"/>
              </a:xfrm>
              <a:custGeom>
                <a:avLst/>
                <a:gdLst/>
                <a:ahLst/>
                <a:rect l="0" t="0" r="r" b="b"/>
                <a:pathLst>
                  <a:path w="2157" h="539">
                    <a:moveTo>
                      <a:pt x="0" y="473"/>
                    </a:moveTo>
                    <a:lnTo>
                      <a:pt x="70" y="539"/>
                    </a:lnTo>
                    <a:lnTo>
                      <a:pt x="2126" y="92"/>
                    </a:lnTo>
                    <a:lnTo>
                      <a:pt x="2157" y="0"/>
                    </a:lnTo>
                    <a:lnTo>
                      <a:pt x="0" y="473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47640" y="3916440"/>
                <a:ext cx="174960" cy="405000"/>
              </a:xfrm>
              <a:custGeom>
                <a:avLst/>
                <a:gdLst/>
                <a:ahLst/>
                <a:rect l="0" t="0" r="r" b="b"/>
                <a:pathLst>
                  <a:path w="486" h="1125">
                    <a:moveTo>
                      <a:pt x="0" y="0"/>
                    </a:moveTo>
                    <a:lnTo>
                      <a:pt x="79" y="74"/>
                    </a:lnTo>
                    <a:lnTo>
                      <a:pt x="486" y="1112"/>
                    </a:lnTo>
                    <a:lnTo>
                      <a:pt x="43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415880" y="3747960"/>
                <a:ext cx="227520" cy="389160"/>
              </a:xfrm>
              <a:custGeom>
                <a:avLst/>
                <a:gdLst/>
                <a:ahLst/>
                <a:rect l="0" t="0" r="r" b="b"/>
                <a:pathLst>
                  <a:path w="632" h="1081">
                    <a:moveTo>
                      <a:pt x="30" y="0"/>
                    </a:moveTo>
                    <a:lnTo>
                      <a:pt x="0" y="92"/>
                    </a:lnTo>
                    <a:lnTo>
                      <a:pt x="566" y="1081"/>
                    </a:lnTo>
                    <a:lnTo>
                      <a:pt x="632" y="1054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74640" y="3774960"/>
                <a:ext cx="945000" cy="543240"/>
              </a:xfrm>
              <a:custGeom>
                <a:avLst/>
                <a:gdLst/>
                <a:ahLst/>
                <a:rect l="0" t="0" r="r" b="b"/>
                <a:pathLst>
                  <a:path w="2625" h="1509">
                    <a:moveTo>
                      <a:pt x="0" y="449"/>
                    </a:moveTo>
                    <a:lnTo>
                      <a:pt x="2056" y="0"/>
                    </a:lnTo>
                    <a:lnTo>
                      <a:pt x="2625" y="1006"/>
                    </a:lnTo>
                    <a:lnTo>
                      <a:pt x="418" y="1509"/>
                    </a:lnTo>
                    <a:lnTo>
                      <a:pt x="0" y="4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b760f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7480" y="4378320"/>
                <a:ext cx="1294200" cy="365400"/>
              </a:xfrm>
              <a:custGeom>
                <a:avLst/>
                <a:gdLst/>
                <a:ahLst/>
                <a:rect l="0" t="0" r="r" b="b"/>
                <a:pathLst>
                  <a:path w="3595" h="1015">
                    <a:moveTo>
                      <a:pt x="0" y="1015"/>
                    </a:moveTo>
                    <a:lnTo>
                      <a:pt x="0" y="878"/>
                    </a:lnTo>
                    <a:lnTo>
                      <a:pt x="511" y="728"/>
                    </a:lnTo>
                    <a:lnTo>
                      <a:pt x="529" y="693"/>
                    </a:lnTo>
                    <a:lnTo>
                      <a:pt x="3088" y="61"/>
                    </a:lnTo>
                    <a:lnTo>
                      <a:pt x="3132" y="74"/>
                    </a:lnTo>
                    <a:lnTo>
                      <a:pt x="3595" y="0"/>
                    </a:lnTo>
                    <a:lnTo>
                      <a:pt x="3595" y="123"/>
                    </a:lnTo>
                    <a:lnTo>
                      <a:pt x="0" y="1015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717480" y="4422600"/>
                <a:ext cx="1298520" cy="322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17480" y="4422600"/>
                <a:ext cx="1300680" cy="343440"/>
              </a:xfrm>
              <a:custGeom>
                <a:avLst/>
                <a:gdLst/>
                <a:ahLst/>
                <a:rect l="0" t="0" r="r" b="b"/>
                <a:pathLst>
                  <a:path w="3613" h="954">
                    <a:moveTo>
                      <a:pt x="0" y="897"/>
                    </a:moveTo>
                    <a:lnTo>
                      <a:pt x="13" y="954"/>
                    </a:lnTo>
                    <a:lnTo>
                      <a:pt x="3578" y="88"/>
                    </a:lnTo>
                    <a:lnTo>
                      <a:pt x="3613" y="0"/>
                    </a:lnTo>
                    <a:lnTo>
                      <a:pt x="0" y="897"/>
                    </a:lnTo>
                    <a:close/>
                  </a:path>
                </a:pathLst>
              </a:custGeom>
              <a:solidFill>
                <a:srgbClr val="adada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420920" y="4533840"/>
                <a:ext cx="49680" cy="52920"/>
              </a:xfrm>
              <a:custGeom>
                <a:avLst/>
                <a:gdLst/>
                <a:ahLst/>
                <a:rect l="0" t="0" r="r" b="b"/>
                <a:pathLst>
                  <a:path w="138" h="147">
                    <a:moveTo>
                      <a:pt x="0" y="35"/>
                    </a:moveTo>
                    <a:lnTo>
                      <a:pt x="0" y="147"/>
                    </a:lnTo>
                    <a:lnTo>
                      <a:pt x="138" y="112"/>
                    </a:lnTo>
                    <a:lnTo>
                      <a:pt x="138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adadad"/>
              </a:solidFill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949320" y="4510080"/>
                <a:ext cx="833760" cy="236880"/>
              </a:xfrm>
              <a:custGeom>
                <a:avLst/>
                <a:gdLst/>
                <a:ahLst/>
                <a:rect l="0" t="0" r="r" b="b"/>
                <a:pathLst>
                  <a:path w="2316" h="658">
                    <a:moveTo>
                      <a:pt x="0" y="574"/>
                    </a:moveTo>
                    <a:lnTo>
                      <a:pt x="0" y="658"/>
                    </a:lnTo>
                    <a:lnTo>
                      <a:pt x="2316" y="83"/>
                    </a:lnTo>
                    <a:lnTo>
                      <a:pt x="2316" y="0"/>
                    </a:lnTo>
                    <a:lnTo>
                      <a:pt x="0" y="574"/>
                    </a:lnTo>
                    <a:close/>
                  </a:path>
                </a:pathLst>
              </a:custGeom>
              <a:blipFill rotWithShape="0">
                <a:blip r:embed="rId1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395360" y="4211640"/>
                <a:ext cx="351360" cy="198720"/>
              </a:xfrm>
              <a:custGeom>
                <a:avLst/>
                <a:gdLst/>
                <a:ahLst/>
                <a:rect l="0" t="0" r="r" b="b"/>
                <a:pathLst>
                  <a:path w="976" h="552">
                    <a:moveTo>
                      <a:pt x="0" y="180"/>
                    </a:moveTo>
                    <a:lnTo>
                      <a:pt x="189" y="552"/>
                    </a:lnTo>
                    <a:lnTo>
                      <a:pt x="976" y="371"/>
                    </a:lnTo>
                    <a:lnTo>
                      <a:pt x="769" y="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627200" y="4237200"/>
                <a:ext cx="28440" cy="176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650960" y="4278240"/>
                <a:ext cx="30240" cy="190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674720" y="4319640"/>
                <a:ext cx="33480" cy="176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486080" y="4362480"/>
                <a:ext cx="31680" cy="176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1395360" y="4213080"/>
                <a:ext cx="27144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14360" y="3824280"/>
                <a:ext cx="308160" cy="949680"/>
              </a:xfrm>
              <a:custGeom>
                <a:avLst/>
                <a:gdLst/>
                <a:ahLst/>
                <a:rect l="0" t="0" r="r" b="b"/>
                <a:pathLst>
                  <a:path w="856" h="2638">
                    <a:moveTo>
                      <a:pt x="838" y="2430"/>
                    </a:moveTo>
                    <a:lnTo>
                      <a:pt x="838" y="2567"/>
                    </a:lnTo>
                    <a:lnTo>
                      <a:pt x="856" y="2638"/>
                    </a:lnTo>
                    <a:lnTo>
                      <a:pt x="0" y="167"/>
                    </a:lnTo>
                    <a:lnTo>
                      <a:pt x="0" y="0"/>
                    </a:lnTo>
                    <a:lnTo>
                      <a:pt x="838" y="24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87520" y="3556080"/>
                <a:ext cx="751320" cy="232200"/>
              </a:xfrm>
              <a:custGeom>
                <a:avLst/>
                <a:gdLst/>
                <a:ahLst/>
                <a:rect l="0" t="0" r="r" b="b"/>
                <a:pathLst>
                  <a:path w="2087" h="645">
                    <a:moveTo>
                      <a:pt x="0" y="411"/>
                    </a:moveTo>
                    <a:lnTo>
                      <a:pt x="1959" y="0"/>
                    </a:lnTo>
                    <a:lnTo>
                      <a:pt x="2087" y="225"/>
                    </a:lnTo>
                    <a:lnTo>
                      <a:pt x="97" y="645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80920" y="3724200"/>
                <a:ext cx="224280" cy="133560"/>
              </a:xfrm>
              <a:custGeom>
                <a:avLst/>
                <a:gdLst/>
                <a:ahLst/>
                <a:rect l="0" t="0" r="r" b="b"/>
                <a:pathLst>
                  <a:path w="623" h="371">
                    <a:moveTo>
                      <a:pt x="119" y="371"/>
                    </a:moveTo>
                    <a:lnTo>
                      <a:pt x="0" y="97"/>
                    </a:lnTo>
                    <a:lnTo>
                      <a:pt x="487" y="0"/>
                    </a:lnTo>
                    <a:lnTo>
                      <a:pt x="623" y="252"/>
                    </a:lnTo>
                    <a:lnTo>
                      <a:pt x="623" y="265"/>
                    </a:lnTo>
                    <a:lnTo>
                      <a:pt x="119" y="371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888840" y="3727440"/>
                <a:ext cx="219240" cy="133200"/>
                <a:chOff x="888840" y="3727440"/>
                <a:chExt cx="219240" cy="1332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888840" y="3767040"/>
                  <a:ext cx="44640" cy="93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944640" y="3754440"/>
                  <a:ext cx="48960" cy="95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004760" y="3741840"/>
                  <a:ext cx="47880" cy="968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062000" y="3727440"/>
                  <a:ext cx="46080" cy="968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0" name=""/>
              <p:cNvSpPr/>
              <p:nvPr/>
            </p:nvSpPr>
            <p:spPr>
              <a:xfrm>
                <a:off x="1112760" y="4216320"/>
                <a:ext cx="308160" cy="325800"/>
              </a:xfrm>
              <a:custGeom>
                <a:avLst/>
                <a:gdLst/>
                <a:ahLst/>
                <a:rect l="0" t="0" r="r" b="b"/>
                <a:pathLst>
                  <a:path w="856" h="905">
                    <a:moveTo>
                      <a:pt x="0" y="110"/>
                    </a:moveTo>
                    <a:lnTo>
                      <a:pt x="477" y="0"/>
                    </a:lnTo>
                    <a:lnTo>
                      <a:pt x="856" y="786"/>
                    </a:lnTo>
                    <a:lnTo>
                      <a:pt x="370" y="905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1106640" y="4216320"/>
                <a:ext cx="314280" cy="325440"/>
                <a:chOff x="1106640" y="4216320"/>
                <a:chExt cx="314280" cy="3254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1106640" y="4257720"/>
                  <a:ext cx="137880" cy="2840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1165320" y="4241880"/>
                  <a:ext cx="139680" cy="2858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1224000" y="4230720"/>
                  <a:ext cx="139680" cy="2793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1281240" y="4216320"/>
                  <a:ext cx="139680" cy="282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" name=""/>
              <p:cNvSpPr/>
              <p:nvPr/>
            </p:nvSpPr>
            <p:spPr>
              <a:xfrm flipV="1">
                <a:off x="888840" y="3727440"/>
                <a:ext cx="169920" cy="36360"/>
              </a:xfrm>
              <a:prstGeom prst="line">
                <a:avLst/>
              </a:prstGeom>
              <a:ln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627120" y="3559320"/>
                <a:ext cx="679320" cy="215640"/>
                <a:chOff x="627120" y="3559320"/>
                <a:chExt cx="679320" cy="2156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27120" y="3697200"/>
                  <a:ext cx="31680" cy="777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73200" y="3687840"/>
                  <a:ext cx="30240" cy="777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16040" y="3678120"/>
                  <a:ext cx="31680" cy="795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58880" y="3670200"/>
                  <a:ext cx="31680" cy="777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03160" y="3662280"/>
                  <a:ext cx="32040" cy="7632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44560" y="3652920"/>
                  <a:ext cx="33480" cy="759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932040" y="3632040"/>
                  <a:ext cx="34920" cy="795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973080" y="3619440"/>
                  <a:ext cx="33480" cy="8100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84160" y="3639960"/>
                  <a:ext cx="38160" cy="795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015920" y="3611520"/>
                  <a:ext cx="34920" cy="8100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058760" y="3602160"/>
                  <a:ext cx="33480" cy="7920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100160" y="3594240"/>
                  <a:ext cx="36360" cy="8100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143000" y="3584520"/>
                  <a:ext cx="38160" cy="777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1187280" y="3578400"/>
                  <a:ext cx="38160" cy="777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1225440" y="3567240"/>
                  <a:ext cx="39960" cy="7776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265400" y="3559320"/>
                  <a:ext cx="41040" cy="79200"/>
                </a:xfrm>
                <a:prstGeom prst="line">
                  <a:avLst/>
                </a:prstGeom>
                <a:ln w="12600">
                  <a:solidFill>
                    <a:srgbClr val="d8d8d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574640" y="4253040"/>
                <a:ext cx="38520" cy="57600"/>
              </a:xfrm>
              <a:custGeom>
                <a:avLst/>
                <a:gdLst/>
                <a:ahLst/>
                <a:rect l="0" t="0" r="r" b="b"/>
                <a:pathLst>
                  <a:path w="107" h="160">
                    <a:moveTo>
                      <a:pt x="45" y="0"/>
                    </a:moveTo>
                    <a:lnTo>
                      <a:pt x="103" y="129"/>
                    </a:lnTo>
                    <a:lnTo>
                      <a:pt x="107" y="147"/>
                    </a:lnTo>
                    <a:lnTo>
                      <a:pt x="94" y="160"/>
                    </a:lnTo>
                    <a:lnTo>
                      <a:pt x="71" y="160"/>
                    </a:lnTo>
                    <a:lnTo>
                      <a:pt x="49" y="151"/>
                    </a:lnTo>
                    <a:lnTo>
                      <a:pt x="0" y="35"/>
                    </a:lnTo>
                    <a:lnTo>
                      <a:pt x="13" y="8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515960" y="4265640"/>
                <a:ext cx="39960" cy="57600"/>
              </a:xfrm>
              <a:custGeom>
                <a:avLst/>
                <a:gdLst/>
                <a:ahLst/>
                <a:rect l="0" t="0" r="r" b="b"/>
                <a:pathLst>
                  <a:path w="111" h="160">
                    <a:moveTo>
                      <a:pt x="48" y="0"/>
                    </a:moveTo>
                    <a:lnTo>
                      <a:pt x="106" y="129"/>
                    </a:lnTo>
                    <a:lnTo>
                      <a:pt x="111" y="147"/>
                    </a:lnTo>
                    <a:lnTo>
                      <a:pt x="98" y="160"/>
                    </a:lnTo>
                    <a:lnTo>
                      <a:pt x="71" y="160"/>
                    </a:lnTo>
                    <a:lnTo>
                      <a:pt x="52" y="151"/>
                    </a:lnTo>
                    <a:lnTo>
                      <a:pt x="0" y="35"/>
                    </a:lnTo>
                    <a:lnTo>
                      <a:pt x="13" y="8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549440" y="4330800"/>
                <a:ext cx="92520" cy="39960"/>
              </a:xfrm>
              <a:custGeom>
                <a:avLst/>
                <a:gdLst/>
                <a:ahLst/>
                <a:rect l="0" t="0" r="r" b="b"/>
                <a:pathLst>
                  <a:path w="257" h="111">
                    <a:moveTo>
                      <a:pt x="30" y="44"/>
                    </a:moveTo>
                    <a:lnTo>
                      <a:pt x="213" y="0"/>
                    </a:lnTo>
                    <a:lnTo>
                      <a:pt x="240" y="0"/>
                    </a:lnTo>
                    <a:lnTo>
                      <a:pt x="257" y="17"/>
                    </a:lnTo>
                    <a:lnTo>
                      <a:pt x="253" y="48"/>
                    </a:lnTo>
                    <a:lnTo>
                      <a:pt x="240" y="62"/>
                    </a:lnTo>
                    <a:lnTo>
                      <a:pt x="44" y="111"/>
                    </a:lnTo>
                    <a:lnTo>
                      <a:pt x="22" y="111"/>
                    </a:lnTo>
                    <a:lnTo>
                      <a:pt x="0" y="93"/>
                    </a:lnTo>
                    <a:lnTo>
                      <a:pt x="0" y="67"/>
                    </a:lnTo>
                    <a:lnTo>
                      <a:pt x="30" y="44"/>
                    </a:lnTo>
                    <a:close/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413000" y="4268880"/>
                <a:ext cx="73440" cy="27360"/>
              </a:xfrm>
              <a:custGeom>
                <a:avLst/>
                <a:gdLst/>
                <a:ahLst/>
                <a:rect l="0" t="0" r="r" b="b"/>
                <a:pathLst>
                  <a:path w="204" h="76">
                    <a:moveTo>
                      <a:pt x="0" y="40"/>
                    </a:moveTo>
                    <a:lnTo>
                      <a:pt x="17" y="76"/>
                    </a:lnTo>
                    <a:lnTo>
                      <a:pt x="204" y="36"/>
                    </a:lnTo>
                    <a:lnTo>
                      <a:pt x="187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bbbbb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8" name=""/>
            <p:cNvSpPr txBox="1"/>
            <p:nvPr/>
          </p:nvSpPr>
          <p:spPr>
            <a:xfrm>
              <a:off x="900000" y="4438800"/>
              <a:ext cx="343080" cy="11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Focu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029280" y="409680"/>
            <a:ext cx="2188080" cy="1552680"/>
            <a:chOff x="6029280" y="409680"/>
            <a:chExt cx="2188080" cy="1552680"/>
          </a:xfrm>
        </p:grpSpPr>
        <p:grpSp>
          <p:nvGrpSpPr>
            <p:cNvPr id="810" name=""/>
            <p:cNvGrpSpPr/>
            <p:nvPr/>
          </p:nvGrpSpPr>
          <p:grpSpPr>
            <a:xfrm>
              <a:off x="6029280" y="409680"/>
              <a:ext cx="1851120" cy="1165680"/>
              <a:chOff x="6029280" y="409680"/>
              <a:chExt cx="1851120" cy="1165680"/>
            </a:xfrm>
          </p:grpSpPr>
          <p:sp>
            <p:nvSpPr>
              <p:cNvPr id="811" name=""/>
              <p:cNvSpPr/>
              <p:nvPr/>
            </p:nvSpPr>
            <p:spPr>
              <a:xfrm>
                <a:off x="6086520" y="409680"/>
                <a:ext cx="1730880" cy="929160"/>
              </a:xfrm>
              <a:custGeom>
                <a:avLst/>
                <a:gdLst/>
                <a:ahLst/>
                <a:rect l="0" t="0" r="r" b="b"/>
                <a:pathLst>
                  <a:path w="4808" h="2581">
                    <a:moveTo>
                      <a:pt x="0" y="887"/>
                    </a:moveTo>
                    <a:lnTo>
                      <a:pt x="3211" y="0"/>
                    </a:lnTo>
                    <a:lnTo>
                      <a:pt x="4808" y="1487"/>
                    </a:lnTo>
                    <a:lnTo>
                      <a:pt x="1315" y="2581"/>
                    </a:lnTo>
                    <a:lnTo>
                      <a:pt x="0" y="88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327720" y="530280"/>
                <a:ext cx="1452960" cy="754560"/>
              </a:xfrm>
              <a:custGeom>
                <a:avLst/>
                <a:gdLst/>
                <a:ahLst/>
                <a:rect l="0" t="0" r="r" b="b"/>
                <a:pathLst>
                  <a:path w="4036" h="2096">
                    <a:moveTo>
                      <a:pt x="0" y="777"/>
                    </a:moveTo>
                    <a:lnTo>
                      <a:pt x="2748" y="0"/>
                    </a:lnTo>
                    <a:lnTo>
                      <a:pt x="4036" y="1187"/>
                    </a:lnTo>
                    <a:lnTo>
                      <a:pt x="1085" y="2096"/>
                    </a:lnTo>
                    <a:lnTo>
                      <a:pt x="0" y="7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114ff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222960" y="422280"/>
                <a:ext cx="1070280" cy="363960"/>
              </a:xfrm>
              <a:custGeom>
                <a:avLst/>
                <a:gdLst/>
                <a:ahLst/>
                <a:rect l="0" t="0" r="r" b="b"/>
                <a:pathLst>
                  <a:path w="2973" h="1011">
                    <a:moveTo>
                      <a:pt x="0" y="750"/>
                    </a:moveTo>
                    <a:lnTo>
                      <a:pt x="211" y="1011"/>
                    </a:lnTo>
                    <a:lnTo>
                      <a:pt x="2973" y="220"/>
                    </a:lnTo>
                    <a:lnTo>
                      <a:pt x="2752" y="0"/>
                    </a:lnTo>
                    <a:lnTo>
                      <a:pt x="0" y="750"/>
                    </a:lnTo>
                    <a:close/>
                  </a:path>
                </a:pathLst>
              </a:custGeom>
              <a:blipFill rotWithShape="0">
                <a:blip r:embed="rId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049800" y="755640"/>
                <a:ext cx="520920" cy="616320"/>
              </a:xfrm>
              <a:custGeom>
                <a:avLst/>
                <a:gdLst/>
                <a:ahLst/>
                <a:rect l="0" t="0" r="r" b="b"/>
                <a:pathLst>
                  <a:path w="1447" h="1712">
                    <a:moveTo>
                      <a:pt x="149" y="0"/>
                    </a:moveTo>
                    <a:lnTo>
                      <a:pt x="0" y="48"/>
                    </a:lnTo>
                    <a:lnTo>
                      <a:pt x="1297" y="1712"/>
                    </a:lnTo>
                    <a:lnTo>
                      <a:pt x="1447" y="1664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07000" y="944640"/>
                <a:ext cx="1373400" cy="630720"/>
              </a:xfrm>
              <a:custGeom>
                <a:avLst/>
                <a:gdLst/>
                <a:ahLst/>
                <a:rect l="0" t="0" r="r" b="b"/>
                <a:pathLst>
                  <a:path w="3815" h="1752">
                    <a:moveTo>
                      <a:pt x="149" y="1147"/>
                    </a:moveTo>
                    <a:lnTo>
                      <a:pt x="39" y="1182"/>
                    </a:lnTo>
                    <a:lnTo>
                      <a:pt x="30" y="1316"/>
                    </a:lnTo>
                    <a:lnTo>
                      <a:pt x="0" y="1333"/>
                    </a:lnTo>
                    <a:lnTo>
                      <a:pt x="0" y="1642"/>
                    </a:lnTo>
                    <a:lnTo>
                      <a:pt x="79" y="1615"/>
                    </a:lnTo>
                    <a:lnTo>
                      <a:pt x="79" y="1752"/>
                    </a:lnTo>
                    <a:lnTo>
                      <a:pt x="3766" y="525"/>
                    </a:lnTo>
                    <a:lnTo>
                      <a:pt x="3766" y="348"/>
                    </a:lnTo>
                    <a:lnTo>
                      <a:pt x="3815" y="348"/>
                    </a:lnTo>
                    <a:lnTo>
                      <a:pt x="3815" y="127"/>
                    </a:lnTo>
                    <a:lnTo>
                      <a:pt x="3758" y="127"/>
                    </a:lnTo>
                    <a:lnTo>
                      <a:pt x="3766" y="0"/>
                    </a:lnTo>
                    <a:lnTo>
                      <a:pt x="3656" y="30"/>
                    </a:lnTo>
                    <a:lnTo>
                      <a:pt x="3643" y="0"/>
                    </a:lnTo>
                    <a:lnTo>
                      <a:pt x="158" y="1085"/>
                    </a:lnTo>
                    <a:lnTo>
                      <a:pt x="180" y="1156"/>
                    </a:lnTo>
                    <a:lnTo>
                      <a:pt x="149" y="114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049800" y="771480"/>
                <a:ext cx="470160" cy="655920"/>
              </a:xfrm>
              <a:custGeom>
                <a:avLst/>
                <a:gdLst/>
                <a:ahLst/>
                <a:rect l="0" t="0" r="r" b="b"/>
                <a:pathLst>
                  <a:path w="1306" h="1822">
                    <a:moveTo>
                      <a:pt x="0" y="0"/>
                    </a:moveTo>
                    <a:lnTo>
                      <a:pt x="0" y="119"/>
                    </a:lnTo>
                    <a:lnTo>
                      <a:pt x="1288" y="1822"/>
                    </a:lnTo>
                    <a:lnTo>
                      <a:pt x="1306" y="168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029280" y="814320"/>
                <a:ext cx="478080" cy="722520"/>
              </a:xfrm>
              <a:custGeom>
                <a:avLst/>
                <a:gdLst/>
                <a:ahLst/>
                <a:rect l="0" t="0" r="r" b="b"/>
                <a:pathLst>
                  <a:path w="1328" h="2007">
                    <a:moveTo>
                      <a:pt x="57" y="0"/>
                    </a:moveTo>
                    <a:lnTo>
                      <a:pt x="0" y="0"/>
                    </a:lnTo>
                    <a:lnTo>
                      <a:pt x="0" y="229"/>
                    </a:lnTo>
                    <a:lnTo>
                      <a:pt x="1328" y="2007"/>
                    </a:lnTo>
                    <a:lnTo>
                      <a:pt x="1328" y="1685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037200" y="865080"/>
                <a:ext cx="469800" cy="617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262640" y="417600"/>
                <a:ext cx="600480" cy="538560"/>
              </a:xfrm>
              <a:custGeom>
                <a:avLst/>
                <a:gdLst/>
                <a:ahLst/>
                <a:rect l="0" t="0" r="r" b="b"/>
                <a:pathLst>
                  <a:path w="1668" h="1496">
                    <a:moveTo>
                      <a:pt x="0" y="17"/>
                    </a:moveTo>
                    <a:lnTo>
                      <a:pt x="79" y="0"/>
                    </a:lnTo>
                    <a:lnTo>
                      <a:pt x="1668" y="1474"/>
                    </a:lnTo>
                    <a:lnTo>
                      <a:pt x="1549" y="149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721560" y="955800"/>
                <a:ext cx="1064160" cy="394200"/>
              </a:xfrm>
              <a:custGeom>
                <a:avLst/>
                <a:gdLst/>
                <a:ahLst/>
                <a:rect l="0" t="0" r="r" b="b"/>
                <a:pathLst>
                  <a:path fill="none" w="2956" h="1095">
                    <a:moveTo>
                      <a:pt x="0" y="919"/>
                    </a:moveTo>
                    <a:lnTo>
                      <a:pt x="0" y="1095"/>
                    </a:lnTo>
                    <a:lnTo>
                      <a:pt x="2956" y="189"/>
                    </a:lnTo>
                    <a:lnTo>
                      <a:pt x="2956" y="0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697800" y="934920"/>
                <a:ext cx="1080000" cy="349560"/>
              </a:xfrm>
              <a:custGeom>
                <a:avLst/>
                <a:gdLst/>
                <a:ahLst/>
                <a:rect l="0" t="0" r="r" b="b"/>
                <a:pathLst>
                  <a:path w="3000" h="971">
                    <a:moveTo>
                      <a:pt x="0" y="909"/>
                    </a:moveTo>
                    <a:lnTo>
                      <a:pt x="2943" y="0"/>
                    </a:lnTo>
                    <a:lnTo>
                      <a:pt x="3000" y="57"/>
                    </a:lnTo>
                    <a:lnTo>
                      <a:pt x="57" y="971"/>
                    </a:lnTo>
                    <a:lnTo>
                      <a:pt x="0" y="909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327720" y="530280"/>
                <a:ext cx="1430640" cy="730440"/>
              </a:xfrm>
              <a:custGeom>
                <a:avLst/>
                <a:gdLst/>
                <a:ahLst/>
                <a:rect l="0" t="0" r="r" b="b"/>
                <a:pathLst>
                  <a:path w="3974" h="2029">
                    <a:moveTo>
                      <a:pt x="2748" y="0"/>
                    </a:moveTo>
                    <a:lnTo>
                      <a:pt x="0" y="771"/>
                    </a:lnTo>
                    <a:lnTo>
                      <a:pt x="1027" y="2029"/>
                    </a:lnTo>
                    <a:lnTo>
                      <a:pt x="1195" y="1980"/>
                    </a:lnTo>
                    <a:lnTo>
                      <a:pt x="229" y="829"/>
                    </a:lnTo>
                    <a:lnTo>
                      <a:pt x="2739" y="119"/>
                    </a:lnTo>
                    <a:lnTo>
                      <a:pt x="3877" y="1160"/>
                    </a:lnTo>
                    <a:lnTo>
                      <a:pt x="3974" y="1129"/>
                    </a:lnTo>
                    <a:lnTo>
                      <a:pt x="27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19880" y="574560"/>
                <a:ext cx="1295640" cy="381240"/>
              </a:xfrm>
              <a:custGeom>
                <a:avLst/>
                <a:gdLst/>
                <a:ahLst/>
                <a:rect l="0" t="0" r="r" b="b"/>
                <a:pathLst>
                  <a:path w="3599" h="1059">
                    <a:moveTo>
                      <a:pt x="0" y="702"/>
                    </a:moveTo>
                    <a:lnTo>
                      <a:pt x="2474" y="0"/>
                    </a:lnTo>
                    <a:lnTo>
                      <a:pt x="3599" y="1028"/>
                    </a:lnTo>
                    <a:lnTo>
                      <a:pt x="3480" y="1059"/>
                    </a:lnTo>
                    <a:lnTo>
                      <a:pt x="2443" y="88"/>
                    </a:lnTo>
                    <a:lnTo>
                      <a:pt x="57" y="768"/>
                    </a:lnTo>
                    <a:lnTo>
                      <a:pt x="0" y="702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086520" y="731880"/>
                <a:ext cx="484560" cy="628920"/>
              </a:xfrm>
              <a:custGeom>
                <a:avLst/>
                <a:gdLst/>
                <a:ahLst/>
                <a:rect l="0" t="0" r="r" b="b"/>
                <a:pathLst>
                  <a:path w="1346" h="1747">
                    <a:moveTo>
                      <a:pt x="0" y="0"/>
                    </a:moveTo>
                    <a:lnTo>
                      <a:pt x="1346" y="1685"/>
                    </a:lnTo>
                    <a:lnTo>
                      <a:pt x="1346" y="1747"/>
                    </a:lnTo>
                    <a:lnTo>
                      <a:pt x="0" y="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5" name=""/>
              <p:cNvGrpSpPr/>
              <p:nvPr/>
            </p:nvGrpSpPr>
            <p:grpSpPr>
              <a:xfrm>
                <a:off x="6421320" y="1074600"/>
                <a:ext cx="218160" cy="192600"/>
                <a:chOff x="6421320" y="1074600"/>
                <a:chExt cx="218160" cy="192600"/>
              </a:xfrm>
            </p:grpSpPr>
            <p:sp>
              <p:nvSpPr>
                <p:cNvPr id="826" name=""/>
                <p:cNvSpPr/>
                <p:nvPr/>
              </p:nvSpPr>
              <p:spPr>
                <a:xfrm>
                  <a:off x="6423120" y="1087560"/>
                  <a:ext cx="216360" cy="179640"/>
                </a:xfrm>
                <a:custGeom>
                  <a:avLst/>
                  <a:gdLst/>
                  <a:ahLst/>
                  <a:rect l="0" t="0" r="r" b="b"/>
                  <a:pathLst>
                    <a:path w="601" h="499">
                      <a:moveTo>
                        <a:pt x="239" y="0"/>
                      </a:moveTo>
                      <a:lnTo>
                        <a:pt x="0" y="61"/>
                      </a:lnTo>
                      <a:lnTo>
                        <a:pt x="362" y="499"/>
                      </a:lnTo>
                      <a:lnTo>
                        <a:pt x="601" y="428"/>
                      </a:lnTo>
                      <a:lnTo>
                        <a:pt x="2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82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21320" y="1074600"/>
                  <a:ext cx="190440" cy="189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828" name=""/>
            <p:cNvGrpSpPr/>
            <p:nvPr/>
          </p:nvGrpSpPr>
          <p:grpSpPr>
            <a:xfrm>
              <a:off x="6254640" y="1033560"/>
              <a:ext cx="1962720" cy="928800"/>
              <a:chOff x="6254640" y="1033560"/>
              <a:chExt cx="1962720" cy="92880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254640" y="1557360"/>
                <a:ext cx="574920" cy="405000"/>
                <a:chOff x="6254640" y="1557360"/>
                <a:chExt cx="574920" cy="40500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6254640" y="1557360"/>
                  <a:ext cx="574920" cy="405000"/>
                </a:xfrm>
                <a:custGeom>
                  <a:avLst/>
                  <a:gdLst/>
                  <a:ahLst/>
                  <a:rect l="0" t="0" r="r" b="b"/>
                  <a:pathLst>
                    <a:path w="1597" h="1125">
                      <a:moveTo>
                        <a:pt x="988" y="0"/>
                      </a:moveTo>
                      <a:lnTo>
                        <a:pt x="0" y="299"/>
                      </a:lnTo>
                      <a:lnTo>
                        <a:pt x="568" y="1125"/>
                      </a:lnTo>
                      <a:lnTo>
                        <a:pt x="1597" y="799"/>
                      </a:lnTo>
                      <a:lnTo>
                        <a:pt x="9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276960" y="1611360"/>
                  <a:ext cx="430560" cy="308160"/>
                </a:xfrm>
                <a:custGeom>
                  <a:avLst/>
                  <a:gdLst/>
                  <a:ahLst/>
                  <a:rect l="0" t="0" r="r" b="b"/>
                  <a:pathLst>
                    <a:path w="1196" h="856">
                      <a:moveTo>
                        <a:pt x="0" y="229"/>
                      </a:moveTo>
                      <a:lnTo>
                        <a:pt x="750" y="0"/>
                      </a:lnTo>
                      <a:lnTo>
                        <a:pt x="1196" y="569"/>
                      </a:lnTo>
                      <a:lnTo>
                        <a:pt x="1187" y="609"/>
                      </a:lnTo>
                      <a:lnTo>
                        <a:pt x="436" y="856"/>
                      </a:lnTo>
                      <a:lnTo>
                        <a:pt x="0" y="229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610320" y="1619280"/>
                  <a:ext cx="163800" cy="165600"/>
                </a:xfrm>
                <a:custGeom>
                  <a:avLst/>
                  <a:gdLst/>
                  <a:ahLst/>
                  <a:rect l="0" t="0" r="r" b="b"/>
                  <a:pathLst>
                    <a:path w="455" h="460">
                      <a:moveTo>
                        <a:pt x="136" y="0"/>
                      </a:moveTo>
                      <a:lnTo>
                        <a:pt x="0" y="39"/>
                      </a:lnTo>
                      <a:lnTo>
                        <a:pt x="327" y="460"/>
                      </a:lnTo>
                      <a:lnTo>
                        <a:pt x="455" y="420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694560" y="1708200"/>
                  <a:ext cx="60840" cy="49680"/>
                </a:xfrm>
                <a:custGeom>
                  <a:avLst/>
                  <a:gdLst/>
                  <a:ahLst/>
                  <a:rect l="0" t="0" r="r" b="b"/>
                  <a:pathLst>
                    <a:path w="169" h="138">
                      <a:moveTo>
                        <a:pt x="80" y="0"/>
                      </a:moveTo>
                      <a:lnTo>
                        <a:pt x="0" y="22"/>
                      </a:lnTo>
                      <a:lnTo>
                        <a:pt x="89" y="138"/>
                      </a:lnTo>
                      <a:lnTo>
                        <a:pt x="169" y="112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6553080" y="1033560"/>
                <a:ext cx="1664280" cy="911520"/>
                <a:chOff x="6553080" y="1033560"/>
                <a:chExt cx="1664280" cy="91152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6553080" y="1449360"/>
                  <a:ext cx="290880" cy="411480"/>
                </a:xfrm>
                <a:custGeom>
                  <a:avLst/>
                  <a:gdLst/>
                  <a:ahLst/>
                  <a:rect l="0" t="0" r="r" b="b"/>
                  <a:pathLst>
                    <a:path w="808" h="1143">
                      <a:moveTo>
                        <a:pt x="0" y="0"/>
                      </a:moveTo>
                      <a:lnTo>
                        <a:pt x="808" y="1024"/>
                      </a:lnTo>
                      <a:lnTo>
                        <a:pt x="808" y="1143"/>
                      </a:lnTo>
                      <a:lnTo>
                        <a:pt x="0" y="10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946920" y="1047600"/>
                  <a:ext cx="1184760" cy="670320"/>
                </a:xfrm>
                <a:custGeom>
                  <a:avLst/>
                  <a:gdLst/>
                  <a:ahLst/>
                  <a:rect l="0" t="0" r="r" b="b"/>
                  <a:pathLst>
                    <a:path w="3291" h="1862">
                      <a:moveTo>
                        <a:pt x="0" y="1226"/>
                      </a:moveTo>
                      <a:lnTo>
                        <a:pt x="507" y="1862"/>
                      </a:lnTo>
                      <a:lnTo>
                        <a:pt x="3291" y="896"/>
                      </a:lnTo>
                      <a:lnTo>
                        <a:pt x="2351" y="0"/>
                      </a:lnTo>
                      <a:lnTo>
                        <a:pt x="2276" y="22"/>
                      </a:lnTo>
                      <a:lnTo>
                        <a:pt x="2665" y="379"/>
                      </a:lnTo>
                      <a:lnTo>
                        <a:pt x="0" y="122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843600" y="1341360"/>
                  <a:ext cx="1371960" cy="603720"/>
                </a:xfrm>
                <a:custGeom>
                  <a:avLst/>
                  <a:gdLst/>
                  <a:ahLst/>
                  <a:rect l="0" t="0" r="r" b="b"/>
                  <a:pathLst>
                    <a:path w="3811" h="1677">
                      <a:moveTo>
                        <a:pt x="0" y="1316"/>
                      </a:moveTo>
                      <a:lnTo>
                        <a:pt x="0" y="1677"/>
                      </a:lnTo>
                      <a:lnTo>
                        <a:pt x="3811" y="361"/>
                      </a:lnTo>
                      <a:lnTo>
                        <a:pt x="3811" y="0"/>
                      </a:lnTo>
                      <a:lnTo>
                        <a:pt x="0" y="1316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754680" y="1360440"/>
                  <a:ext cx="309960" cy="379800"/>
                </a:xfrm>
                <a:custGeom>
                  <a:avLst/>
                  <a:gdLst/>
                  <a:ahLst/>
                  <a:rect l="0" t="0" r="r" b="b"/>
                  <a:pathLst>
                    <a:path w="861" h="1055">
                      <a:moveTo>
                        <a:pt x="8" y="0"/>
                      </a:moveTo>
                      <a:lnTo>
                        <a:pt x="861" y="1033"/>
                      </a:lnTo>
                      <a:lnTo>
                        <a:pt x="800" y="1055"/>
                      </a:lnTo>
                      <a:lnTo>
                        <a:pt x="0" y="79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6553080" y="1387440"/>
                  <a:ext cx="492480" cy="427320"/>
                </a:xfrm>
                <a:custGeom>
                  <a:avLst/>
                  <a:gdLst/>
                  <a:ahLst/>
                  <a:rect l="0" t="0" r="r" b="b"/>
                  <a:pathLst>
                    <a:path w="1368" h="1187">
                      <a:moveTo>
                        <a:pt x="537" y="0"/>
                      </a:moveTo>
                      <a:lnTo>
                        <a:pt x="1368" y="997"/>
                      </a:lnTo>
                      <a:lnTo>
                        <a:pt x="799" y="1187"/>
                      </a:lnTo>
                      <a:lnTo>
                        <a:pt x="0" y="171"/>
                      </a:lnTo>
                      <a:lnTo>
                        <a:pt x="537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553080" y="1486080"/>
                  <a:ext cx="51120" cy="66960"/>
                </a:xfrm>
                <a:custGeom>
                  <a:avLst/>
                  <a:gdLst/>
                  <a:ahLst/>
                  <a:rect l="0" t="0" r="r" b="b"/>
                  <a:pathLst>
                    <a:path w="142" h="186">
                      <a:moveTo>
                        <a:pt x="0" y="0"/>
                      </a:moveTo>
                      <a:lnTo>
                        <a:pt x="142" y="186"/>
                      </a:lnTo>
                      <a:lnTo>
                        <a:pt x="0" y="18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756480" y="1341360"/>
                  <a:ext cx="373320" cy="397080"/>
                </a:xfrm>
                <a:custGeom>
                  <a:avLst/>
                  <a:gdLst/>
                  <a:ahLst/>
                  <a:rect l="0" t="0" r="r" b="b"/>
                  <a:pathLst>
                    <a:path w="1037" h="1103">
                      <a:moveTo>
                        <a:pt x="167" y="0"/>
                      </a:moveTo>
                      <a:lnTo>
                        <a:pt x="1037" y="1046"/>
                      </a:lnTo>
                      <a:lnTo>
                        <a:pt x="869" y="1103"/>
                      </a:lnTo>
                      <a:lnTo>
                        <a:pt x="0" y="48"/>
                      </a:lnTo>
                      <a:lnTo>
                        <a:pt x="167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785000" y="1033560"/>
                  <a:ext cx="370080" cy="319320"/>
                </a:xfrm>
                <a:custGeom>
                  <a:avLst/>
                  <a:gdLst/>
                  <a:ahLst/>
                  <a:rect l="0" t="0" r="r" b="b"/>
                  <a:pathLst>
                    <a:path w="1028" h="887">
                      <a:moveTo>
                        <a:pt x="97" y="0"/>
                      </a:moveTo>
                      <a:lnTo>
                        <a:pt x="1028" y="856"/>
                      </a:lnTo>
                      <a:lnTo>
                        <a:pt x="927" y="887"/>
                      </a:lnTo>
                      <a:lnTo>
                        <a:pt x="0" y="30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753240" y="1363680"/>
                  <a:ext cx="311400" cy="383040"/>
                </a:xfrm>
                <a:custGeom>
                  <a:avLst/>
                  <a:gdLst/>
                  <a:ahLst/>
                  <a:rect l="0" t="0" r="r" b="b"/>
                  <a:pathLst>
                    <a:path fill="none" w="865" h="1064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812" y="1064"/>
                      </a:lnTo>
                      <a:lnTo>
                        <a:pt x="865" y="1051"/>
                      </a:lnTo>
                      <a:lnTo>
                        <a:pt x="865" y="1020"/>
                      </a:lnTo>
                    </a:path>
                  </a:pathLst>
                </a:custGeom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4" name=""/>
                <p:cNvGrpSpPr/>
                <p:nvPr/>
              </p:nvGrpSpPr>
              <p:grpSpPr>
                <a:xfrm>
                  <a:off x="7515360" y="1214280"/>
                  <a:ext cx="528840" cy="282960"/>
                  <a:chOff x="7515360" y="1214280"/>
                  <a:chExt cx="528840" cy="28296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>
                    <a:off x="7932600" y="1239840"/>
                    <a:ext cx="103680" cy="108360"/>
                  </a:xfrm>
                  <a:custGeom>
                    <a:avLst/>
                    <a:gdLst/>
                    <a:ahLst/>
                    <a:rect l="0" t="0" r="r" b="b"/>
                    <a:pathLst>
                      <a:path w="288" h="301">
                        <a:moveTo>
                          <a:pt x="80" y="0"/>
                        </a:moveTo>
                        <a:lnTo>
                          <a:pt x="288" y="199"/>
                        </a:lnTo>
                        <a:lnTo>
                          <a:pt x="195" y="231"/>
                        </a:lnTo>
                        <a:lnTo>
                          <a:pt x="195" y="301"/>
                        </a:lnTo>
                        <a:lnTo>
                          <a:pt x="0" y="150"/>
                        </a:lnTo>
                        <a:lnTo>
                          <a:pt x="80" y="124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7518240" y="1214280"/>
                    <a:ext cx="387720" cy="151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77" h="420">
                        <a:moveTo>
                          <a:pt x="1020" y="0"/>
                        </a:moveTo>
                        <a:lnTo>
                          <a:pt x="0" y="323"/>
                        </a:lnTo>
                        <a:lnTo>
                          <a:pt x="88" y="420"/>
                        </a:lnTo>
                        <a:lnTo>
                          <a:pt x="1020" y="133"/>
                        </a:lnTo>
                        <a:lnTo>
                          <a:pt x="1077" y="172"/>
                        </a:lnTo>
                        <a:lnTo>
                          <a:pt x="1077" y="48"/>
                        </a:lnTo>
                        <a:lnTo>
                          <a:pt x="102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7905600" y="1231920"/>
                    <a:ext cx="25920" cy="5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60">
                        <a:moveTo>
                          <a:pt x="0" y="0"/>
                        </a:moveTo>
                        <a:lnTo>
                          <a:pt x="72" y="53"/>
                        </a:lnTo>
                        <a:lnTo>
                          <a:pt x="72" y="160"/>
                        </a:lnTo>
                        <a:lnTo>
                          <a:pt x="0" y="1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7926480" y="1241280"/>
                    <a:ext cx="3672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102" h="147">
                        <a:moveTo>
                          <a:pt x="0" y="30"/>
                        </a:moveTo>
                        <a:lnTo>
                          <a:pt x="102" y="0"/>
                        </a:lnTo>
                        <a:lnTo>
                          <a:pt x="102" y="116"/>
                        </a:lnTo>
                        <a:lnTo>
                          <a:pt x="0" y="147"/>
                        </a:lnTo>
                      </a:path>
                    </a:pathLst>
                  </a:custGeom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8002440" y="1325520"/>
                    <a:ext cx="41760" cy="59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64">
                        <a:moveTo>
                          <a:pt x="0" y="0"/>
                        </a:moveTo>
                        <a:lnTo>
                          <a:pt x="116" y="115"/>
                        </a:lnTo>
                        <a:lnTo>
                          <a:pt x="22" y="164"/>
                        </a:lnTo>
                        <a:lnTo>
                          <a:pt x="0" y="1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7515360" y="1260360"/>
                    <a:ext cx="503640" cy="23688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658">
                        <a:moveTo>
                          <a:pt x="1028" y="0"/>
                        </a:moveTo>
                        <a:lnTo>
                          <a:pt x="0" y="321"/>
                        </a:lnTo>
                        <a:lnTo>
                          <a:pt x="238" y="596"/>
                        </a:lnTo>
                        <a:lnTo>
                          <a:pt x="367" y="565"/>
                        </a:lnTo>
                        <a:lnTo>
                          <a:pt x="433" y="658"/>
                        </a:lnTo>
                        <a:lnTo>
                          <a:pt x="1399" y="326"/>
                        </a:lnTo>
                        <a:lnTo>
                          <a:pt x="1351" y="286"/>
                        </a:lnTo>
                        <a:lnTo>
                          <a:pt x="1351" y="251"/>
                        </a:lnTo>
                        <a:lnTo>
                          <a:pt x="1351" y="158"/>
                        </a:lnTo>
                        <a:lnTo>
                          <a:pt x="1241" y="66"/>
                        </a:lnTo>
                        <a:lnTo>
                          <a:pt x="1152" y="88"/>
                        </a:lnTo>
                        <a:lnTo>
                          <a:pt x="1028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"/>
                <p:cNvSpPr/>
                <p:nvPr/>
              </p:nvSpPr>
              <p:spPr>
                <a:xfrm>
                  <a:off x="7054920" y="1327320"/>
                  <a:ext cx="1162440" cy="411480"/>
                </a:xfrm>
                <a:custGeom>
                  <a:avLst/>
                  <a:gdLst/>
                  <a:ahLst/>
                  <a:rect l="0" t="0" r="r" b="b"/>
                  <a:pathLst>
                    <a:path w="3229" h="1143">
                      <a:moveTo>
                        <a:pt x="3229" y="39"/>
                      </a:moveTo>
                      <a:lnTo>
                        <a:pt x="3172" y="0"/>
                      </a:lnTo>
                      <a:lnTo>
                        <a:pt x="0" y="1094"/>
                      </a:lnTo>
                      <a:lnTo>
                        <a:pt x="44" y="1143"/>
                      </a:lnTo>
                      <a:lnTo>
                        <a:pt x="3229" y="3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505640" y="1547640"/>
                  <a:ext cx="97200" cy="97200"/>
                </a:xfrm>
                <a:custGeom>
                  <a:avLst/>
                  <a:gdLst/>
                  <a:ahLst/>
                  <a:rect l="0" t="0" r="r" b="b"/>
                  <a:pathLst>
                    <a:path w="270" h="270">
                      <a:moveTo>
                        <a:pt x="270" y="0"/>
                      </a:moveTo>
                      <a:lnTo>
                        <a:pt x="0" y="93"/>
                      </a:lnTo>
                      <a:lnTo>
                        <a:pt x="0" y="270"/>
                      </a:lnTo>
                      <a:lnTo>
                        <a:pt x="270" y="177"/>
                      </a:lnTo>
                      <a:lnTo>
                        <a:pt x="270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7507440" y="1611360"/>
                  <a:ext cx="95760" cy="136800"/>
                </a:xfrm>
                <a:custGeom>
                  <a:avLst/>
                  <a:gdLst/>
                  <a:ahLst/>
                  <a:rect l="0" t="0" r="r" b="b"/>
                  <a:pathLst>
                    <a:path w="266" h="380">
                      <a:moveTo>
                        <a:pt x="0" y="88"/>
                      </a:moveTo>
                      <a:lnTo>
                        <a:pt x="0" y="380"/>
                      </a:lnTo>
                      <a:lnTo>
                        <a:pt x="266" y="292"/>
                      </a:lnTo>
                      <a:lnTo>
                        <a:pt x="266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7523280" y="1611360"/>
                  <a:ext cx="60840" cy="90720"/>
                </a:xfrm>
                <a:custGeom>
                  <a:avLst/>
                  <a:gdLst/>
                  <a:ahLst/>
                  <a:rect l="0" t="0" r="r" b="b"/>
                  <a:pathLst>
                    <a:path w="169" h="252">
                      <a:moveTo>
                        <a:pt x="0" y="70"/>
                      </a:moveTo>
                      <a:lnTo>
                        <a:pt x="0" y="168"/>
                      </a:lnTo>
                      <a:lnTo>
                        <a:pt x="89" y="252"/>
                      </a:lnTo>
                      <a:lnTo>
                        <a:pt x="169" y="114"/>
                      </a:lnTo>
                      <a:lnTo>
                        <a:pt x="169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V="1">
                  <a:off x="7524720" y="1574640"/>
                  <a:ext cx="6048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7526160" y="1600200"/>
                  <a:ext cx="52560" cy="15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7008840" y="1822320"/>
                  <a:ext cx="44640" cy="33840"/>
                </a:xfrm>
                <a:custGeom>
                  <a:avLst/>
                  <a:gdLst/>
                  <a:ahLst/>
                  <a:rect l="0" t="0" r="r" b="b"/>
                  <a:pathLst>
                    <a:path w="124" h="94">
                      <a:moveTo>
                        <a:pt x="124" y="0"/>
                      </a:moveTo>
                      <a:lnTo>
                        <a:pt x="124" y="53"/>
                      </a:lnTo>
                      <a:lnTo>
                        <a:pt x="0" y="94"/>
                      </a:lnTo>
                      <a:lnTo>
                        <a:pt x="0" y="40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099200" y="1717560"/>
                  <a:ext cx="117720" cy="109800"/>
                </a:xfrm>
                <a:custGeom>
                  <a:avLst/>
                  <a:gdLst/>
                  <a:ahLst/>
                  <a:rect l="0" t="0" r="r" b="b"/>
                  <a:pathLst>
                    <a:path w="327" h="305">
                      <a:moveTo>
                        <a:pt x="327" y="0"/>
                      </a:moveTo>
                      <a:lnTo>
                        <a:pt x="0" y="110"/>
                      </a:lnTo>
                      <a:lnTo>
                        <a:pt x="0" y="305"/>
                      </a:lnTo>
                      <a:lnTo>
                        <a:pt x="327" y="203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6829560" y="1060560"/>
                  <a:ext cx="1082880" cy="437040"/>
                </a:xfrm>
                <a:custGeom>
                  <a:avLst/>
                  <a:gdLst/>
                  <a:ahLst/>
                  <a:rect l="0" t="0" r="r" b="b"/>
                  <a:pathLst>
                    <a:path w="3008" h="1214">
                      <a:moveTo>
                        <a:pt x="0" y="794"/>
                      </a:moveTo>
                      <a:lnTo>
                        <a:pt x="343" y="1214"/>
                      </a:lnTo>
                      <a:lnTo>
                        <a:pt x="3008" y="362"/>
                      </a:lnTo>
                      <a:lnTo>
                        <a:pt x="2638" y="0"/>
                      </a:lnTo>
                      <a:lnTo>
                        <a:pt x="0" y="7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942240" y="1844640"/>
                  <a:ext cx="41760" cy="33840"/>
                </a:xfrm>
                <a:custGeom>
                  <a:avLst/>
                  <a:gdLst/>
                  <a:ahLst/>
                  <a:rect l="0" t="0" r="r" b="b"/>
                  <a:pathLst>
                    <a:path w="116" h="94">
                      <a:moveTo>
                        <a:pt x="116" y="0"/>
                      </a:moveTo>
                      <a:lnTo>
                        <a:pt x="116" y="53"/>
                      </a:lnTo>
                      <a:lnTo>
                        <a:pt x="0" y="94"/>
                      </a:lnTo>
                      <a:lnTo>
                        <a:pt x="0" y="4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108920" y="1636560"/>
                  <a:ext cx="39600" cy="302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826320" y="1052640"/>
                  <a:ext cx="1019520" cy="359280"/>
                </a:xfrm>
                <a:custGeom>
                  <a:avLst/>
                  <a:gdLst/>
                  <a:ahLst/>
                  <a:rect l="0" t="0" r="r" b="b"/>
                  <a:pathLst>
                    <a:path w="2832" h="998">
                      <a:moveTo>
                        <a:pt x="0" y="817"/>
                      </a:moveTo>
                      <a:lnTo>
                        <a:pt x="154" y="998"/>
                      </a:lnTo>
                      <a:lnTo>
                        <a:pt x="2832" y="171"/>
                      </a:lnTo>
                      <a:lnTo>
                        <a:pt x="2642" y="0"/>
                      </a:lnTo>
                      <a:lnTo>
                        <a:pt x="0" y="817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7562880" y="1293840"/>
                <a:ext cx="400320" cy="178200"/>
                <a:chOff x="7562880" y="1293840"/>
                <a:chExt cx="400320" cy="17820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7562880" y="1293840"/>
                  <a:ext cx="400320" cy="178200"/>
                </a:xfrm>
                <a:custGeom>
                  <a:avLst/>
                  <a:gdLst/>
                  <a:ahLst/>
                  <a:rect l="0" t="0" r="r" b="b"/>
                  <a:pathLst>
                    <a:path w="1112" h="495">
                      <a:moveTo>
                        <a:pt x="904" y="0"/>
                      </a:moveTo>
                      <a:lnTo>
                        <a:pt x="1112" y="203"/>
                      </a:lnTo>
                      <a:lnTo>
                        <a:pt x="255" y="495"/>
                      </a:lnTo>
                      <a:lnTo>
                        <a:pt x="229" y="465"/>
                      </a:lnTo>
                      <a:lnTo>
                        <a:pt x="158" y="478"/>
                      </a:lnTo>
                      <a:lnTo>
                        <a:pt x="0" y="292"/>
                      </a:lnTo>
                      <a:lnTo>
                        <a:pt x="90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845480" y="1311120"/>
                  <a:ext cx="7452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791480" y="1327320"/>
                  <a:ext cx="71280" cy="74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731000" y="1347840"/>
                  <a:ext cx="69840" cy="73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7682040" y="1363680"/>
                  <a:ext cx="66600" cy="73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7623000" y="1384200"/>
                  <a:ext cx="71640" cy="71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7599240" y="1328760"/>
                  <a:ext cx="328680" cy="106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1" name=""/>
          <p:cNvGrpSpPr/>
          <p:nvPr/>
        </p:nvGrpSpPr>
        <p:grpSpPr>
          <a:xfrm>
            <a:off x="3600360" y="5016600"/>
            <a:ext cx="1958040" cy="1524240"/>
            <a:chOff x="3600360" y="5016600"/>
            <a:chExt cx="1958040" cy="1524240"/>
          </a:xfrm>
        </p:grpSpPr>
        <p:sp>
          <p:nvSpPr>
            <p:cNvPr id="872" name=""/>
            <p:cNvSpPr/>
            <p:nvPr/>
          </p:nvSpPr>
          <p:spPr>
            <a:xfrm>
              <a:off x="3986280" y="6129360"/>
              <a:ext cx="1532160" cy="411480"/>
            </a:xfrm>
            <a:custGeom>
              <a:avLst/>
              <a:gdLst/>
              <a:ahLst/>
              <a:rect l="0" t="0" r="r" b="b"/>
              <a:pathLst>
                <a:path w="4256" h="1143">
                  <a:moveTo>
                    <a:pt x="0" y="1032"/>
                  </a:moveTo>
                  <a:lnTo>
                    <a:pt x="57" y="1143"/>
                  </a:lnTo>
                  <a:lnTo>
                    <a:pt x="4238" y="97"/>
                  </a:lnTo>
                  <a:lnTo>
                    <a:pt x="4256" y="0"/>
                  </a:lnTo>
                  <a:lnTo>
                    <a:pt x="0" y="1032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41920" y="5032440"/>
              <a:ext cx="814680" cy="1032120"/>
            </a:xfrm>
            <a:custGeom>
              <a:avLst/>
              <a:gdLst/>
              <a:ahLst/>
              <a:rect l="0" t="0" r="r" b="b"/>
              <a:pathLst>
                <a:path w="2263" h="2867">
                  <a:moveTo>
                    <a:pt x="0" y="0"/>
                  </a:moveTo>
                  <a:lnTo>
                    <a:pt x="1676" y="2867"/>
                  </a:lnTo>
                  <a:lnTo>
                    <a:pt x="2263" y="2779"/>
                  </a:lnTo>
                  <a:lnTo>
                    <a:pt x="599" y="1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4848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600360" y="5016600"/>
              <a:ext cx="1741680" cy="1400400"/>
            </a:xfrm>
            <a:custGeom>
              <a:avLst/>
              <a:gdLst/>
              <a:ahLst/>
              <a:rect l="0" t="0" r="r" b="b"/>
              <a:pathLst>
                <a:path w="4838" h="3890">
                  <a:moveTo>
                    <a:pt x="3131" y="0"/>
                  </a:moveTo>
                  <a:lnTo>
                    <a:pt x="4838" y="2889"/>
                  </a:lnTo>
                  <a:lnTo>
                    <a:pt x="1680" y="3661"/>
                  </a:lnTo>
                  <a:lnTo>
                    <a:pt x="1658" y="3709"/>
                  </a:lnTo>
                  <a:lnTo>
                    <a:pt x="1031" y="3890"/>
                  </a:lnTo>
                  <a:lnTo>
                    <a:pt x="0" y="948"/>
                  </a:lnTo>
                  <a:lnTo>
                    <a:pt x="458" y="599"/>
                  </a:lnTo>
                  <a:lnTo>
                    <a:pt x="458" y="568"/>
                  </a:lnTo>
                  <a:lnTo>
                    <a:pt x="3131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762360" y="5232240"/>
              <a:ext cx="436680" cy="1117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45160" y="5032440"/>
              <a:ext cx="598320" cy="1031760"/>
            </a:xfrm>
            <a:prstGeom prst="line">
              <a:avLst/>
            </a:prstGeom>
            <a:ln w="25560">
              <a:solidFill>
                <a:srgbClr val="9d9d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206960" y="6099120"/>
              <a:ext cx="300240" cy="125640"/>
            </a:xfrm>
            <a:custGeom>
              <a:avLst/>
              <a:gdLst/>
              <a:ahLst/>
              <a:rect l="0" t="0" r="r" b="b"/>
              <a:pathLst>
                <a:path w="834" h="349">
                  <a:moveTo>
                    <a:pt x="0" y="167"/>
                  </a:moveTo>
                  <a:lnTo>
                    <a:pt x="66" y="349"/>
                  </a:lnTo>
                  <a:lnTo>
                    <a:pt x="834" y="167"/>
                  </a:lnTo>
                  <a:lnTo>
                    <a:pt x="755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90880" y="5262480"/>
              <a:ext cx="946440" cy="232200"/>
            </a:xfrm>
            <a:custGeom>
              <a:avLst/>
              <a:gdLst/>
              <a:ahLst/>
              <a:rect l="0" t="0" r="r" b="b"/>
              <a:pathLst>
                <a:path w="2629" h="645">
                  <a:moveTo>
                    <a:pt x="0" y="566"/>
                  </a:moveTo>
                  <a:lnTo>
                    <a:pt x="83" y="645"/>
                  </a:lnTo>
                  <a:lnTo>
                    <a:pt x="2593" y="110"/>
                  </a:lnTo>
                  <a:lnTo>
                    <a:pt x="2629" y="0"/>
                  </a:lnTo>
                  <a:lnTo>
                    <a:pt x="0" y="566"/>
                  </a:lnTo>
                  <a:close/>
                </a:path>
              </a:pathLst>
            </a:custGeom>
            <a:solidFill>
              <a:srgbClr val="9d9d9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890880" y="5468760"/>
              <a:ext cx="216360" cy="491040"/>
            </a:xfrm>
            <a:custGeom>
              <a:avLst/>
              <a:gdLst/>
              <a:ahLst/>
              <a:rect l="0" t="0" r="r" b="b"/>
              <a:pathLst>
                <a:path w="601" h="1364">
                  <a:moveTo>
                    <a:pt x="0" y="0"/>
                  </a:moveTo>
                  <a:lnTo>
                    <a:pt x="101" y="88"/>
                  </a:lnTo>
                  <a:lnTo>
                    <a:pt x="601" y="1346"/>
                  </a:lnTo>
                  <a:lnTo>
                    <a:pt x="535" y="13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27600" y="5262480"/>
              <a:ext cx="276480" cy="473400"/>
            </a:xfrm>
            <a:custGeom>
              <a:avLst/>
              <a:gdLst/>
              <a:ahLst/>
              <a:rect l="0" t="0" r="r" b="b"/>
              <a:pathLst>
                <a:path w="768" h="1315">
                  <a:moveTo>
                    <a:pt x="35" y="0"/>
                  </a:moveTo>
                  <a:lnTo>
                    <a:pt x="0" y="110"/>
                  </a:lnTo>
                  <a:lnTo>
                    <a:pt x="688" y="1315"/>
                  </a:lnTo>
                  <a:lnTo>
                    <a:pt x="768" y="128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24360" y="5297400"/>
              <a:ext cx="1149840" cy="659160"/>
            </a:xfrm>
            <a:custGeom>
              <a:avLst/>
              <a:gdLst/>
              <a:ahLst/>
              <a:rect l="0" t="0" r="r" b="b"/>
              <a:pathLst>
                <a:path w="3194" h="1831">
                  <a:moveTo>
                    <a:pt x="0" y="546"/>
                  </a:moveTo>
                  <a:lnTo>
                    <a:pt x="2502" y="0"/>
                  </a:lnTo>
                  <a:lnTo>
                    <a:pt x="3194" y="1218"/>
                  </a:lnTo>
                  <a:lnTo>
                    <a:pt x="511" y="1831"/>
                  </a:lnTo>
                  <a:lnTo>
                    <a:pt x="0" y="54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8901f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76560" y="6031080"/>
              <a:ext cx="1575000" cy="441720"/>
            </a:xfrm>
            <a:custGeom>
              <a:avLst/>
              <a:gdLst/>
              <a:ahLst/>
              <a:rect l="0" t="0" r="r" b="b"/>
              <a:pathLst>
                <a:path w="4375" h="1227">
                  <a:moveTo>
                    <a:pt x="0" y="1227"/>
                  </a:moveTo>
                  <a:lnTo>
                    <a:pt x="0" y="1060"/>
                  </a:lnTo>
                  <a:lnTo>
                    <a:pt x="621" y="882"/>
                  </a:lnTo>
                  <a:lnTo>
                    <a:pt x="648" y="834"/>
                  </a:lnTo>
                  <a:lnTo>
                    <a:pt x="3758" y="74"/>
                  </a:lnTo>
                  <a:lnTo>
                    <a:pt x="3811" y="88"/>
                  </a:lnTo>
                  <a:lnTo>
                    <a:pt x="4375" y="0"/>
                  </a:lnTo>
                  <a:lnTo>
                    <a:pt x="4375" y="149"/>
                  </a:lnTo>
                  <a:lnTo>
                    <a:pt x="0" y="1227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3976560" y="6086520"/>
              <a:ext cx="1579680" cy="38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78360" y="6086520"/>
              <a:ext cx="1580040" cy="416160"/>
            </a:xfrm>
            <a:custGeom>
              <a:avLst/>
              <a:gdLst/>
              <a:ahLst/>
              <a:rect l="0" t="0" r="r" b="b"/>
              <a:pathLst>
                <a:path w="4389" h="1156">
                  <a:moveTo>
                    <a:pt x="0" y="1085"/>
                  </a:moveTo>
                  <a:lnTo>
                    <a:pt x="17" y="1156"/>
                  </a:lnTo>
                  <a:lnTo>
                    <a:pt x="4349" y="105"/>
                  </a:lnTo>
                  <a:lnTo>
                    <a:pt x="4389" y="0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adad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29040" y="6219720"/>
              <a:ext cx="63720" cy="63720"/>
            </a:xfrm>
            <a:custGeom>
              <a:avLst/>
              <a:gdLst/>
              <a:ahLst/>
              <a:rect l="0" t="0" r="r" b="b"/>
              <a:pathLst>
                <a:path w="177" h="177">
                  <a:moveTo>
                    <a:pt x="0" y="44"/>
                  </a:moveTo>
                  <a:lnTo>
                    <a:pt x="0" y="177"/>
                  </a:lnTo>
                  <a:lnTo>
                    <a:pt x="177" y="133"/>
                  </a:lnTo>
                  <a:lnTo>
                    <a:pt x="177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adadad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59160" y="6189840"/>
              <a:ext cx="1014840" cy="289440"/>
            </a:xfrm>
            <a:custGeom>
              <a:avLst/>
              <a:gdLst/>
              <a:ahLst/>
              <a:rect l="0" t="0" r="r" b="b"/>
              <a:pathLst>
                <a:path w="2819" h="804">
                  <a:moveTo>
                    <a:pt x="0" y="703"/>
                  </a:moveTo>
                  <a:lnTo>
                    <a:pt x="0" y="804"/>
                  </a:lnTo>
                  <a:lnTo>
                    <a:pt x="2819" y="101"/>
                  </a:lnTo>
                  <a:lnTo>
                    <a:pt x="2819" y="0"/>
                  </a:lnTo>
                  <a:lnTo>
                    <a:pt x="0" y="703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03840" y="5827680"/>
              <a:ext cx="424080" cy="241560"/>
            </a:xfrm>
            <a:custGeom>
              <a:avLst/>
              <a:gdLst/>
              <a:ahLst/>
              <a:rect l="0" t="0" r="r" b="b"/>
              <a:pathLst>
                <a:path w="1178" h="671">
                  <a:moveTo>
                    <a:pt x="0" y="220"/>
                  </a:moveTo>
                  <a:lnTo>
                    <a:pt x="229" y="671"/>
                  </a:lnTo>
                  <a:lnTo>
                    <a:pt x="1178" y="450"/>
                  </a:lnTo>
                  <a:lnTo>
                    <a:pt x="927" y="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79797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83200" y="5857920"/>
              <a:ext cx="36360" cy="223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3440" y="5910120"/>
              <a:ext cx="36360" cy="223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41880" y="5958000"/>
              <a:ext cx="38160" cy="255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911840" y="6012000"/>
              <a:ext cx="36360" cy="223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676767"/>
              </a:solidFill>
              <a:round/>
            </a:ln>
          </p:spPr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800600" y="5829480"/>
              <a:ext cx="333360" cy="80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606840" y="5356080"/>
              <a:ext cx="378360" cy="1152720"/>
            </a:xfrm>
            <a:custGeom>
              <a:avLst/>
              <a:gdLst/>
              <a:ahLst/>
              <a:rect l="0" t="0" r="r" b="b"/>
              <a:pathLst>
                <a:path w="1051" h="3202">
                  <a:moveTo>
                    <a:pt x="1029" y="2951"/>
                  </a:moveTo>
                  <a:lnTo>
                    <a:pt x="1029" y="3118"/>
                  </a:lnTo>
                  <a:lnTo>
                    <a:pt x="1051" y="3202"/>
                  </a:lnTo>
                  <a:lnTo>
                    <a:pt x="0" y="202"/>
                  </a:lnTo>
                  <a:lnTo>
                    <a:pt x="0" y="0"/>
                  </a:lnTo>
                  <a:lnTo>
                    <a:pt x="1029" y="2951"/>
                  </a:lnTo>
                  <a:close/>
                </a:path>
              </a:pathLst>
            </a:custGeom>
            <a:solidFill>
              <a:srgbClr val="aaaa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17800" y="5030640"/>
              <a:ext cx="913320" cy="279720"/>
            </a:xfrm>
            <a:custGeom>
              <a:avLst/>
              <a:gdLst/>
              <a:ahLst/>
              <a:rect l="0" t="0" r="r" b="b"/>
              <a:pathLst>
                <a:path w="2537" h="777">
                  <a:moveTo>
                    <a:pt x="0" y="503"/>
                  </a:moveTo>
                  <a:lnTo>
                    <a:pt x="2383" y="0"/>
                  </a:lnTo>
                  <a:lnTo>
                    <a:pt x="2537" y="273"/>
                  </a:lnTo>
                  <a:lnTo>
                    <a:pt x="119" y="777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76720" y="5237280"/>
              <a:ext cx="271800" cy="157680"/>
            </a:xfrm>
            <a:custGeom>
              <a:avLst/>
              <a:gdLst/>
              <a:ahLst/>
              <a:rect l="0" t="0" r="r" b="b"/>
              <a:pathLst>
                <a:path w="755" h="438">
                  <a:moveTo>
                    <a:pt x="145" y="438"/>
                  </a:moveTo>
                  <a:lnTo>
                    <a:pt x="0" y="115"/>
                  </a:lnTo>
                  <a:lnTo>
                    <a:pt x="587" y="0"/>
                  </a:lnTo>
                  <a:lnTo>
                    <a:pt x="755" y="296"/>
                  </a:lnTo>
                  <a:lnTo>
                    <a:pt x="755" y="314"/>
                  </a:lnTo>
                  <a:lnTo>
                    <a:pt x="145" y="438"/>
                  </a:lnTo>
                  <a:close/>
                </a:path>
              </a:pathLst>
            </a:custGeom>
            <a:solidFill>
              <a:srgbClr val="79797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4184640" y="5240160"/>
              <a:ext cx="268200" cy="162000"/>
              <a:chOff x="4184640" y="5240160"/>
              <a:chExt cx="268200" cy="162000"/>
            </a:xfrm>
          </p:grpSpPr>
          <p:sp>
            <p:nvSpPr>
              <p:cNvPr id="897" name=""/>
              <p:cNvSpPr/>
              <p:nvPr/>
            </p:nvSpPr>
            <p:spPr>
              <a:xfrm>
                <a:off x="4184640" y="5288040"/>
                <a:ext cx="55440" cy="11412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254480" y="5273640"/>
                <a:ext cx="55440" cy="11448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329000" y="5254560"/>
                <a:ext cx="55800" cy="11916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394160" y="5240160"/>
                <a:ext cx="58680" cy="11916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"/>
            <p:cNvSpPr/>
            <p:nvPr/>
          </p:nvSpPr>
          <p:spPr>
            <a:xfrm>
              <a:off x="4454640" y="5834160"/>
              <a:ext cx="375120" cy="395640"/>
            </a:xfrm>
            <a:custGeom>
              <a:avLst/>
              <a:gdLst/>
              <a:ahLst/>
              <a:rect l="0" t="0" r="r" b="b"/>
              <a:pathLst>
                <a:path w="1042" h="1099">
                  <a:moveTo>
                    <a:pt x="0" y="132"/>
                  </a:moveTo>
                  <a:lnTo>
                    <a:pt x="578" y="0"/>
                  </a:lnTo>
                  <a:lnTo>
                    <a:pt x="1042" y="953"/>
                  </a:lnTo>
                  <a:lnTo>
                    <a:pt x="450" y="109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79797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4452840" y="5834160"/>
              <a:ext cx="376200" cy="393480"/>
              <a:chOff x="4452840" y="5834160"/>
              <a:chExt cx="376200" cy="393480"/>
            </a:xfrm>
          </p:grpSpPr>
          <p:sp>
            <p:nvSpPr>
              <p:cNvPr id="903" name=""/>
              <p:cNvSpPr/>
              <p:nvPr/>
            </p:nvSpPr>
            <p:spPr>
              <a:xfrm>
                <a:off x="4452840" y="5883120"/>
                <a:ext cx="163440" cy="34452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521240" y="5865840"/>
                <a:ext cx="168120" cy="34452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592520" y="5850000"/>
                <a:ext cx="168480" cy="34452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660920" y="5834160"/>
                <a:ext cx="168120" cy="342720"/>
              </a:xfrm>
              <a:prstGeom prst="line">
                <a:avLst/>
              </a:prstGeom>
              <a:ln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 flipV="1">
              <a:off x="4184640" y="5240160"/>
              <a:ext cx="208080" cy="44640"/>
            </a:xfrm>
            <a:prstGeom prst="line">
              <a:avLst/>
            </a:prstGeom>
            <a:ln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3865680" y="5037120"/>
              <a:ext cx="826920" cy="258840"/>
              <a:chOff x="3865680" y="5037120"/>
              <a:chExt cx="826920" cy="258840"/>
            </a:xfrm>
          </p:grpSpPr>
          <p:sp>
            <p:nvSpPr>
              <p:cNvPr id="909" name=""/>
              <p:cNvSpPr/>
              <p:nvPr/>
            </p:nvSpPr>
            <p:spPr>
              <a:xfrm>
                <a:off x="3865680" y="5202360"/>
                <a:ext cx="39600" cy="9360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924360" y="5192640"/>
                <a:ext cx="38160" cy="9360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975120" y="5181480"/>
                <a:ext cx="38160" cy="9396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027320" y="5170320"/>
                <a:ext cx="38160" cy="9216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079880" y="5160960"/>
                <a:ext cx="41400" cy="9216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132440" y="5148360"/>
                <a:ext cx="39600" cy="9180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237200" y="5124600"/>
                <a:ext cx="45720" cy="9360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287960" y="5110200"/>
                <a:ext cx="41040" cy="9684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179960" y="5132520"/>
                <a:ext cx="46080" cy="9828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338720" y="5099040"/>
                <a:ext cx="44280" cy="10008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392720" y="5087880"/>
                <a:ext cx="41040" cy="9684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443480" y="5076720"/>
                <a:ext cx="41040" cy="9864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494240" y="5064120"/>
                <a:ext cx="47520" cy="9828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7160" bIns="47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548240" y="5057640"/>
                <a:ext cx="47520" cy="9540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594320" y="5046840"/>
                <a:ext cx="47520" cy="9360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641840" y="5037120"/>
                <a:ext cx="50760" cy="93600"/>
              </a:xfrm>
              <a:prstGeom prst="line">
                <a:avLst/>
              </a:prstGeom>
              <a:ln w="12600">
                <a:solidFill>
                  <a:srgbClr val="79797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5018040" y="5877000"/>
              <a:ext cx="49680" cy="71640"/>
            </a:xfrm>
            <a:custGeom>
              <a:avLst/>
              <a:gdLst/>
              <a:ahLst/>
              <a:rect l="0" t="0" r="r" b="b"/>
              <a:pathLst>
                <a:path w="138" h="199">
                  <a:moveTo>
                    <a:pt x="58" y="0"/>
                  </a:moveTo>
                  <a:lnTo>
                    <a:pt x="134" y="159"/>
                  </a:lnTo>
                  <a:lnTo>
                    <a:pt x="138" y="186"/>
                  </a:lnTo>
                  <a:lnTo>
                    <a:pt x="121" y="199"/>
                  </a:lnTo>
                  <a:lnTo>
                    <a:pt x="89" y="199"/>
                  </a:lnTo>
                  <a:lnTo>
                    <a:pt x="67" y="186"/>
                  </a:lnTo>
                  <a:lnTo>
                    <a:pt x="0" y="44"/>
                  </a:lnTo>
                  <a:lnTo>
                    <a:pt x="13" y="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948200" y="5896080"/>
              <a:ext cx="49680" cy="70200"/>
            </a:xfrm>
            <a:custGeom>
              <a:avLst/>
              <a:gdLst/>
              <a:ahLst/>
              <a:rect l="0" t="0" r="r" b="b"/>
              <a:pathLst>
                <a:path w="138" h="195">
                  <a:moveTo>
                    <a:pt x="58" y="0"/>
                  </a:moveTo>
                  <a:lnTo>
                    <a:pt x="134" y="155"/>
                  </a:lnTo>
                  <a:lnTo>
                    <a:pt x="138" y="181"/>
                  </a:lnTo>
                  <a:lnTo>
                    <a:pt x="121" y="195"/>
                  </a:lnTo>
                  <a:lnTo>
                    <a:pt x="89" y="195"/>
                  </a:lnTo>
                  <a:lnTo>
                    <a:pt x="67" y="181"/>
                  </a:lnTo>
                  <a:lnTo>
                    <a:pt x="0" y="44"/>
                  </a:lnTo>
                  <a:lnTo>
                    <a:pt x="13" y="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89600" y="5972040"/>
              <a:ext cx="111600" cy="49680"/>
            </a:xfrm>
            <a:custGeom>
              <a:avLst/>
              <a:gdLst/>
              <a:ahLst/>
              <a:rect l="0" t="0" r="r" b="b"/>
              <a:pathLst>
                <a:path w="310" h="138">
                  <a:moveTo>
                    <a:pt x="35" y="53"/>
                  </a:moveTo>
                  <a:lnTo>
                    <a:pt x="257" y="0"/>
                  </a:lnTo>
                  <a:lnTo>
                    <a:pt x="288" y="0"/>
                  </a:lnTo>
                  <a:lnTo>
                    <a:pt x="310" y="22"/>
                  </a:lnTo>
                  <a:lnTo>
                    <a:pt x="306" y="58"/>
                  </a:lnTo>
                  <a:lnTo>
                    <a:pt x="293" y="75"/>
                  </a:lnTo>
                  <a:lnTo>
                    <a:pt x="52" y="138"/>
                  </a:lnTo>
                  <a:lnTo>
                    <a:pt x="26" y="138"/>
                  </a:lnTo>
                  <a:lnTo>
                    <a:pt x="0" y="116"/>
                  </a:lnTo>
                  <a:lnTo>
                    <a:pt x="0" y="84"/>
                  </a:lnTo>
                  <a:lnTo>
                    <a:pt x="3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822920" y="5896080"/>
              <a:ext cx="89280" cy="35280"/>
            </a:xfrm>
            <a:custGeom>
              <a:avLst/>
              <a:gdLst/>
              <a:ahLst/>
              <a:rect l="0" t="0" r="r" b="b"/>
              <a:pathLst>
                <a:path w="248" h="98">
                  <a:moveTo>
                    <a:pt x="0" y="53"/>
                  </a:moveTo>
                  <a:lnTo>
                    <a:pt x="17" y="98"/>
                  </a:lnTo>
                  <a:lnTo>
                    <a:pt x="248" y="44"/>
                  </a:lnTo>
                  <a:lnTo>
                    <a:pt x="226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 txBox="1"/>
            <p:nvPr/>
          </p:nvSpPr>
          <p:spPr>
            <a:xfrm>
              <a:off x="4205160" y="6113520"/>
              <a:ext cx="317520" cy="11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Focus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6711840" y="3138480"/>
            <a:ext cx="1703880" cy="1813320"/>
            <a:chOff x="6711840" y="3138480"/>
            <a:chExt cx="1703880" cy="1813320"/>
          </a:xfrm>
        </p:grpSpPr>
        <p:sp>
          <p:nvSpPr>
            <p:cNvPr id="931" name=""/>
            <p:cNvSpPr/>
            <p:nvPr/>
          </p:nvSpPr>
          <p:spPr>
            <a:xfrm>
              <a:off x="7707240" y="3987720"/>
              <a:ext cx="708480" cy="957600"/>
            </a:xfrm>
            <a:custGeom>
              <a:avLst/>
              <a:gdLst/>
              <a:ahLst/>
              <a:rect l="0" t="0" r="r" b="b"/>
              <a:pathLst>
                <a:path w="1968" h="2660">
                  <a:moveTo>
                    <a:pt x="1849" y="0"/>
                  </a:moveTo>
                  <a:lnTo>
                    <a:pt x="1660" y="0"/>
                  </a:lnTo>
                  <a:lnTo>
                    <a:pt x="1460" y="26"/>
                  </a:lnTo>
                  <a:lnTo>
                    <a:pt x="1178" y="83"/>
                  </a:lnTo>
                  <a:lnTo>
                    <a:pt x="834" y="149"/>
                  </a:lnTo>
                  <a:lnTo>
                    <a:pt x="583" y="211"/>
                  </a:lnTo>
                  <a:lnTo>
                    <a:pt x="260" y="304"/>
                  </a:lnTo>
                  <a:lnTo>
                    <a:pt x="0" y="396"/>
                  </a:lnTo>
                  <a:lnTo>
                    <a:pt x="110" y="1623"/>
                  </a:lnTo>
                  <a:lnTo>
                    <a:pt x="110" y="2223"/>
                  </a:lnTo>
                  <a:lnTo>
                    <a:pt x="343" y="2144"/>
                  </a:lnTo>
                  <a:lnTo>
                    <a:pt x="343" y="2633"/>
                  </a:lnTo>
                  <a:lnTo>
                    <a:pt x="445" y="2660"/>
                  </a:lnTo>
                  <a:lnTo>
                    <a:pt x="1739" y="2316"/>
                  </a:lnTo>
                  <a:lnTo>
                    <a:pt x="1787" y="2197"/>
                  </a:lnTo>
                  <a:lnTo>
                    <a:pt x="1898" y="2170"/>
                  </a:lnTo>
                  <a:lnTo>
                    <a:pt x="1898" y="1791"/>
                  </a:lnTo>
                  <a:lnTo>
                    <a:pt x="1959" y="1756"/>
                  </a:lnTo>
                  <a:lnTo>
                    <a:pt x="1968" y="1672"/>
                  </a:lnTo>
                  <a:lnTo>
                    <a:pt x="1849" y="0"/>
                  </a:lnTo>
                  <a:close/>
                </a:path>
              </a:pathLst>
            </a:custGeom>
            <a:solidFill>
              <a:srgbClr val="57575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891480" y="3343320"/>
              <a:ext cx="1484640" cy="794160"/>
            </a:xfrm>
            <a:custGeom>
              <a:avLst/>
              <a:gdLst/>
              <a:ahLst/>
              <a:rect l="0" t="0" r="r" b="b"/>
              <a:pathLst>
                <a:path w="4124" h="2206">
                  <a:moveTo>
                    <a:pt x="0" y="569"/>
                  </a:moveTo>
                  <a:lnTo>
                    <a:pt x="2920" y="0"/>
                  </a:lnTo>
                  <a:lnTo>
                    <a:pt x="3427" y="330"/>
                  </a:lnTo>
                  <a:lnTo>
                    <a:pt x="4124" y="1774"/>
                  </a:lnTo>
                  <a:lnTo>
                    <a:pt x="3881" y="1796"/>
                  </a:lnTo>
                  <a:lnTo>
                    <a:pt x="3590" y="1840"/>
                  </a:lnTo>
                  <a:lnTo>
                    <a:pt x="3299" y="1889"/>
                  </a:lnTo>
                  <a:lnTo>
                    <a:pt x="3017" y="1951"/>
                  </a:lnTo>
                  <a:lnTo>
                    <a:pt x="2735" y="2026"/>
                  </a:lnTo>
                  <a:lnTo>
                    <a:pt x="2470" y="2109"/>
                  </a:lnTo>
                  <a:lnTo>
                    <a:pt x="2267" y="2206"/>
                  </a:lnTo>
                  <a:lnTo>
                    <a:pt x="326" y="993"/>
                  </a:lnTo>
                  <a:lnTo>
                    <a:pt x="0" y="5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591320" y="3138480"/>
              <a:ext cx="302040" cy="232200"/>
            </a:xfrm>
            <a:custGeom>
              <a:avLst/>
              <a:gdLst/>
              <a:ahLst/>
              <a:rect l="0" t="0" r="r" b="b"/>
              <a:pathLst>
                <a:path w="839" h="645">
                  <a:moveTo>
                    <a:pt x="119" y="0"/>
                  </a:moveTo>
                  <a:lnTo>
                    <a:pt x="839" y="614"/>
                  </a:lnTo>
                  <a:lnTo>
                    <a:pt x="720" y="645"/>
                  </a:lnTo>
                  <a:lnTo>
                    <a:pt x="0" y="17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57575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596360" y="3146400"/>
              <a:ext cx="260640" cy="224280"/>
            </a:xfrm>
            <a:custGeom>
              <a:avLst/>
              <a:gdLst/>
              <a:ahLst/>
              <a:rect l="0" t="0" r="r" b="b"/>
              <a:pathLst>
                <a:path w="724" h="623">
                  <a:moveTo>
                    <a:pt x="0" y="0"/>
                  </a:moveTo>
                  <a:lnTo>
                    <a:pt x="724" y="614"/>
                  </a:lnTo>
                  <a:lnTo>
                    <a:pt x="662" y="623"/>
                  </a:lnTo>
                  <a:lnTo>
                    <a:pt x="0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767640" y="3309840"/>
              <a:ext cx="209880" cy="233640"/>
            </a:xfrm>
            <a:custGeom>
              <a:avLst/>
              <a:gdLst/>
              <a:ahLst/>
              <a:rect l="0" t="0" r="r" b="b"/>
              <a:pathLst>
                <a:path w="583" h="649">
                  <a:moveTo>
                    <a:pt x="0" y="0"/>
                  </a:moveTo>
                  <a:lnTo>
                    <a:pt x="583" y="649"/>
                  </a:lnTo>
                  <a:lnTo>
                    <a:pt x="0" y="2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711840" y="3392640"/>
              <a:ext cx="254520" cy="162360"/>
            </a:xfrm>
            <a:custGeom>
              <a:avLst/>
              <a:gdLst/>
              <a:ahLst/>
              <a:rect l="0" t="0" r="r" b="b"/>
              <a:pathLst>
                <a:path w="707" h="451">
                  <a:moveTo>
                    <a:pt x="167" y="0"/>
                  </a:moveTo>
                  <a:lnTo>
                    <a:pt x="0" y="35"/>
                  </a:lnTo>
                  <a:lnTo>
                    <a:pt x="490" y="451"/>
                  </a:lnTo>
                  <a:lnTo>
                    <a:pt x="707" y="41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551720" y="3205080"/>
              <a:ext cx="287640" cy="174960"/>
            </a:xfrm>
            <a:custGeom>
              <a:avLst/>
              <a:gdLst/>
              <a:ahLst/>
              <a:rect l="0" t="0" r="r" b="b"/>
              <a:pathLst>
                <a:path w="799" h="486">
                  <a:moveTo>
                    <a:pt x="127" y="0"/>
                  </a:moveTo>
                  <a:lnTo>
                    <a:pt x="0" y="26"/>
                  </a:lnTo>
                  <a:lnTo>
                    <a:pt x="596" y="486"/>
                  </a:lnTo>
                  <a:lnTo>
                    <a:pt x="799" y="44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767640" y="3162240"/>
              <a:ext cx="993960" cy="378360"/>
            </a:xfrm>
            <a:custGeom>
              <a:avLst/>
              <a:gdLst/>
              <a:ahLst/>
              <a:rect l="0" t="0" r="r" b="b"/>
              <a:pathLst>
                <a:path w="2761" h="1051">
                  <a:moveTo>
                    <a:pt x="361" y="336"/>
                  </a:moveTo>
                  <a:lnTo>
                    <a:pt x="0" y="406"/>
                  </a:lnTo>
                  <a:lnTo>
                    <a:pt x="551" y="1051"/>
                  </a:lnTo>
                  <a:lnTo>
                    <a:pt x="2761" y="609"/>
                  </a:lnTo>
                  <a:lnTo>
                    <a:pt x="1980" y="0"/>
                  </a:lnTo>
                  <a:lnTo>
                    <a:pt x="1901" y="13"/>
                  </a:lnTo>
                  <a:lnTo>
                    <a:pt x="1892" y="48"/>
                  </a:lnTo>
                  <a:lnTo>
                    <a:pt x="388" y="358"/>
                  </a:lnTo>
                  <a:lnTo>
                    <a:pt x="361" y="336"/>
                  </a:lnTo>
                  <a:close/>
                </a:path>
              </a:pathLst>
            </a:custGeom>
            <a:solidFill>
              <a:srgbClr val="57575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711840" y="3409920"/>
              <a:ext cx="309960" cy="881280"/>
            </a:xfrm>
            <a:custGeom>
              <a:avLst/>
              <a:gdLst/>
              <a:ahLst/>
              <a:rect l="0" t="0" r="r" b="b"/>
              <a:pathLst>
                <a:path w="861" h="2448">
                  <a:moveTo>
                    <a:pt x="0" y="0"/>
                  </a:moveTo>
                  <a:lnTo>
                    <a:pt x="512" y="423"/>
                  </a:lnTo>
                  <a:lnTo>
                    <a:pt x="861" y="824"/>
                  </a:lnTo>
                  <a:lnTo>
                    <a:pt x="861" y="2448"/>
                  </a:lnTo>
                  <a:lnTo>
                    <a:pt x="0" y="12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11840" y="3862440"/>
              <a:ext cx="313200" cy="555840"/>
            </a:xfrm>
            <a:custGeom>
              <a:avLst/>
              <a:gdLst/>
              <a:ahLst/>
              <a:rect l="0" t="0" r="r" b="b"/>
              <a:pathLst>
                <a:path w="870" h="1544">
                  <a:moveTo>
                    <a:pt x="870" y="1191"/>
                  </a:moveTo>
                  <a:lnTo>
                    <a:pt x="870" y="1544"/>
                  </a:lnTo>
                  <a:lnTo>
                    <a:pt x="0" y="304"/>
                  </a:lnTo>
                  <a:lnTo>
                    <a:pt x="0" y="0"/>
                  </a:lnTo>
                  <a:lnTo>
                    <a:pt x="870" y="1191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29360" y="3672000"/>
              <a:ext cx="597240" cy="324360"/>
            </a:xfrm>
            <a:custGeom>
              <a:avLst/>
              <a:gdLst/>
              <a:ahLst/>
              <a:rect l="0" t="0" r="r" b="b"/>
              <a:pathLst>
                <a:path w="1659" h="901">
                  <a:moveTo>
                    <a:pt x="0" y="88"/>
                  </a:moveTo>
                  <a:lnTo>
                    <a:pt x="317" y="0"/>
                  </a:lnTo>
                  <a:lnTo>
                    <a:pt x="1659" y="804"/>
                  </a:lnTo>
                  <a:lnTo>
                    <a:pt x="1297" y="901"/>
                  </a:lnTo>
                  <a:lnTo>
                    <a:pt x="0" y="88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94520" y="3470400"/>
              <a:ext cx="282960" cy="351360"/>
            </a:xfrm>
            <a:custGeom>
              <a:avLst/>
              <a:gdLst/>
              <a:ahLst/>
              <a:rect l="0" t="0" r="r" b="b"/>
              <a:pathLst>
                <a:path w="786" h="976">
                  <a:moveTo>
                    <a:pt x="331" y="0"/>
                  </a:moveTo>
                  <a:lnTo>
                    <a:pt x="0" y="35"/>
                  </a:lnTo>
                  <a:lnTo>
                    <a:pt x="437" y="976"/>
                  </a:lnTo>
                  <a:lnTo>
                    <a:pt x="786" y="941"/>
                  </a:lnTo>
                  <a:lnTo>
                    <a:pt x="331" y="0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21440" y="3710160"/>
              <a:ext cx="725760" cy="1062360"/>
            </a:xfrm>
            <a:custGeom>
              <a:avLst/>
              <a:gdLst/>
              <a:ahLst/>
              <a:rect l="0" t="0" r="r" b="b"/>
              <a:pathLst>
                <a:path w="2016" h="2951">
                  <a:moveTo>
                    <a:pt x="1345" y="806"/>
                  </a:moveTo>
                  <a:lnTo>
                    <a:pt x="1906" y="1172"/>
                  </a:lnTo>
                  <a:lnTo>
                    <a:pt x="2016" y="2399"/>
                  </a:lnTo>
                  <a:lnTo>
                    <a:pt x="2016" y="2951"/>
                  </a:lnTo>
                  <a:lnTo>
                    <a:pt x="0" y="1601"/>
                  </a:lnTo>
                  <a:lnTo>
                    <a:pt x="0" y="0"/>
                  </a:lnTo>
                  <a:lnTo>
                    <a:pt x="1345" y="80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21440" y="3705120"/>
              <a:ext cx="473400" cy="711720"/>
            </a:xfrm>
            <a:custGeom>
              <a:avLst/>
              <a:gdLst/>
              <a:ahLst/>
              <a:rect l="0" t="0" r="r" b="b"/>
              <a:pathLst>
                <a:path w="1315" h="1977">
                  <a:moveTo>
                    <a:pt x="1315" y="812"/>
                  </a:moveTo>
                  <a:lnTo>
                    <a:pt x="1231" y="1977"/>
                  </a:lnTo>
                  <a:lnTo>
                    <a:pt x="0" y="1160"/>
                  </a:lnTo>
                  <a:lnTo>
                    <a:pt x="0" y="0"/>
                  </a:lnTo>
                  <a:lnTo>
                    <a:pt x="1315" y="812"/>
                  </a:lnTo>
                  <a:close/>
                </a:path>
              </a:pathLst>
            </a:custGeom>
            <a:blipFill rotWithShape="0">
              <a:blip r:embed="rId7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24680" y="4287960"/>
              <a:ext cx="724320" cy="646560"/>
            </a:xfrm>
            <a:custGeom>
              <a:avLst/>
              <a:gdLst/>
              <a:ahLst/>
              <a:rect l="0" t="0" r="r" b="b"/>
              <a:pathLst>
                <a:path w="2012" h="1796">
                  <a:moveTo>
                    <a:pt x="0" y="0"/>
                  </a:moveTo>
                  <a:lnTo>
                    <a:pt x="2012" y="1355"/>
                  </a:lnTo>
                  <a:lnTo>
                    <a:pt x="2012" y="1796"/>
                  </a:lnTo>
                  <a:lnTo>
                    <a:pt x="0" y="35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46840" y="4749840"/>
              <a:ext cx="87840" cy="201960"/>
            </a:xfrm>
            <a:custGeom>
              <a:avLst/>
              <a:gdLst/>
              <a:ahLst/>
              <a:rect l="0" t="0" r="r" b="b"/>
              <a:pathLst>
                <a:path w="244" h="561">
                  <a:moveTo>
                    <a:pt x="244" y="0"/>
                  </a:moveTo>
                  <a:lnTo>
                    <a:pt x="0" y="92"/>
                  </a:lnTo>
                  <a:lnTo>
                    <a:pt x="0" y="534"/>
                  </a:lnTo>
                  <a:lnTo>
                    <a:pt x="75" y="561"/>
                  </a:lnTo>
                  <a:lnTo>
                    <a:pt x="244" y="516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7834320" y="4432320"/>
              <a:ext cx="525960" cy="513000"/>
              <a:chOff x="7834320" y="4432320"/>
              <a:chExt cx="525960" cy="513000"/>
            </a:xfrm>
          </p:grpSpPr>
          <p:sp>
            <p:nvSpPr>
              <p:cNvPr id="948" name=""/>
              <p:cNvSpPr/>
              <p:nvPr/>
            </p:nvSpPr>
            <p:spPr>
              <a:xfrm>
                <a:off x="7834320" y="4432320"/>
                <a:ext cx="525960" cy="513000"/>
              </a:xfrm>
              <a:custGeom>
                <a:avLst/>
                <a:gdLst/>
                <a:ahLst/>
                <a:rect l="0" t="0" r="r" b="b"/>
                <a:pathLst>
                  <a:path w="1461" h="1425">
                    <a:moveTo>
                      <a:pt x="0" y="887"/>
                    </a:moveTo>
                    <a:lnTo>
                      <a:pt x="0" y="361"/>
                    </a:lnTo>
                    <a:lnTo>
                      <a:pt x="446" y="251"/>
                    </a:lnTo>
                    <a:lnTo>
                      <a:pt x="600" y="251"/>
                    </a:lnTo>
                    <a:lnTo>
                      <a:pt x="772" y="202"/>
                    </a:lnTo>
                    <a:lnTo>
                      <a:pt x="918" y="141"/>
                    </a:lnTo>
                    <a:lnTo>
                      <a:pt x="1461" y="0"/>
                    </a:lnTo>
                    <a:lnTo>
                      <a:pt x="1461" y="940"/>
                    </a:lnTo>
                    <a:lnTo>
                      <a:pt x="1426" y="988"/>
                    </a:lnTo>
                    <a:lnTo>
                      <a:pt x="1408" y="1090"/>
                    </a:lnTo>
                    <a:lnTo>
                      <a:pt x="119" y="1425"/>
                    </a:lnTo>
                    <a:lnTo>
                      <a:pt x="0" y="1407"/>
                    </a:lnTo>
                    <a:lnTo>
                      <a:pt x="0" y="887"/>
                    </a:lnTo>
                    <a:close/>
                  </a:path>
                </a:pathLst>
              </a:custGeom>
              <a:solidFill>
                <a:srgbClr val="47474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893000" y="4476600"/>
                <a:ext cx="305280" cy="367200"/>
              </a:xfrm>
              <a:custGeom>
                <a:avLst/>
                <a:gdLst/>
                <a:ahLst/>
                <a:rect l="0" t="0" r="r" b="b"/>
                <a:pathLst>
                  <a:path fill="none" w="848" h="1020">
                    <a:moveTo>
                      <a:pt x="0" y="198"/>
                    </a:moveTo>
                    <a:lnTo>
                      <a:pt x="0" y="1020"/>
                    </a:lnTo>
                    <a:lnTo>
                      <a:pt x="848" y="804"/>
                    </a:lnTo>
                    <a:lnTo>
                      <a:pt x="848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191440" y="4462560"/>
                <a:ext cx="79560" cy="308160"/>
              </a:xfrm>
              <a:custGeom>
                <a:avLst/>
                <a:gdLst/>
                <a:ahLst/>
                <a:rect l="0" t="0" r="r" b="b"/>
                <a:pathLst>
                  <a:path fill="none" w="221" h="856">
                    <a:moveTo>
                      <a:pt x="221" y="0"/>
                    </a:moveTo>
                    <a:lnTo>
                      <a:pt x="221" y="803"/>
                    </a:lnTo>
                    <a:lnTo>
                      <a:pt x="0" y="85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6910560" y="3170160"/>
              <a:ext cx="545040" cy="122760"/>
              <a:chOff x="6910560" y="3170160"/>
              <a:chExt cx="545040" cy="122760"/>
            </a:xfrm>
          </p:grpSpPr>
          <p:sp>
            <p:nvSpPr>
              <p:cNvPr id="952" name=""/>
              <p:cNvSpPr/>
              <p:nvPr/>
            </p:nvSpPr>
            <p:spPr>
              <a:xfrm>
                <a:off x="6910560" y="3170160"/>
                <a:ext cx="545040" cy="122760"/>
              </a:xfrm>
              <a:custGeom>
                <a:avLst/>
                <a:gdLst/>
                <a:ahLst/>
                <a:rect l="0" t="0" r="r" b="b"/>
                <a:pathLst>
                  <a:path w="1514" h="341">
                    <a:moveTo>
                      <a:pt x="0" y="270"/>
                    </a:moveTo>
                    <a:lnTo>
                      <a:pt x="1435" y="0"/>
                    </a:lnTo>
                    <a:lnTo>
                      <a:pt x="1514" y="70"/>
                    </a:lnTo>
                    <a:lnTo>
                      <a:pt x="83" y="341"/>
                    </a:lnTo>
                    <a:lnTo>
                      <a:pt x="0" y="270"/>
                    </a:lnTo>
                    <a:close/>
                  </a:path>
                </a:pathLst>
              </a:custGeom>
              <a:blipFill rotWithShape="0">
                <a:blip r:embed="rId9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10560" y="326376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w="102" h="80">
                    <a:moveTo>
                      <a:pt x="0" y="0"/>
                    </a:moveTo>
                    <a:lnTo>
                      <a:pt x="102" y="80"/>
                    </a:lnTo>
                    <a:lnTo>
                      <a:pt x="0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>
              <a:off x="7986600" y="4511520"/>
              <a:ext cx="100440" cy="79560"/>
            </a:xfrm>
            <a:custGeom>
              <a:avLst/>
              <a:gdLst/>
              <a:ahLst/>
              <a:rect l="0" t="0" r="r" b="b"/>
              <a:pathLst>
                <a:path w="279" h="221">
                  <a:moveTo>
                    <a:pt x="0" y="52"/>
                  </a:moveTo>
                  <a:lnTo>
                    <a:pt x="0" y="221"/>
                  </a:lnTo>
                  <a:lnTo>
                    <a:pt x="279" y="164"/>
                  </a:lnTo>
                  <a:lnTo>
                    <a:pt x="279" y="0"/>
                  </a:lnTo>
                  <a:lnTo>
                    <a:pt x="0" y="5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76767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7783560" y="4040280"/>
              <a:ext cx="460440" cy="465120"/>
              <a:chOff x="7783560" y="4040280"/>
              <a:chExt cx="460440" cy="465120"/>
            </a:xfrm>
          </p:grpSpPr>
          <p:sp>
            <p:nvSpPr>
              <p:cNvPr id="956" name=""/>
              <p:cNvSpPr/>
              <p:nvPr/>
            </p:nvSpPr>
            <p:spPr>
              <a:xfrm>
                <a:off x="7821720" y="4049640"/>
                <a:ext cx="422280" cy="455760"/>
              </a:xfrm>
              <a:prstGeom prst="ellipse">
                <a:avLst/>
              </a:prstGeom>
              <a:solidFill>
                <a:srgbClr val="1c1c1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783560" y="4040280"/>
                <a:ext cx="319320" cy="392400"/>
              </a:xfrm>
              <a:custGeom>
                <a:avLst/>
                <a:gdLst/>
                <a:ahLst/>
                <a:rect l="0" t="0" r="r" b="b"/>
                <a:pathLst>
                  <a:path w="887" h="1090">
                    <a:moveTo>
                      <a:pt x="887" y="70"/>
                    </a:moveTo>
                    <a:lnTo>
                      <a:pt x="697" y="4"/>
                    </a:lnTo>
                    <a:lnTo>
                      <a:pt x="613" y="0"/>
                    </a:lnTo>
                    <a:lnTo>
                      <a:pt x="503" y="17"/>
                    </a:lnTo>
                    <a:lnTo>
                      <a:pt x="405" y="44"/>
                    </a:lnTo>
                    <a:lnTo>
                      <a:pt x="317" y="88"/>
                    </a:lnTo>
                    <a:lnTo>
                      <a:pt x="238" y="145"/>
                    </a:lnTo>
                    <a:lnTo>
                      <a:pt x="167" y="202"/>
                    </a:lnTo>
                    <a:lnTo>
                      <a:pt x="110" y="273"/>
                    </a:lnTo>
                    <a:lnTo>
                      <a:pt x="57" y="361"/>
                    </a:lnTo>
                    <a:lnTo>
                      <a:pt x="22" y="458"/>
                    </a:lnTo>
                    <a:lnTo>
                      <a:pt x="0" y="578"/>
                    </a:lnTo>
                    <a:lnTo>
                      <a:pt x="0" y="693"/>
                    </a:lnTo>
                    <a:lnTo>
                      <a:pt x="26" y="803"/>
                    </a:lnTo>
                    <a:lnTo>
                      <a:pt x="70" y="887"/>
                    </a:lnTo>
                    <a:lnTo>
                      <a:pt x="136" y="984"/>
                    </a:lnTo>
                    <a:lnTo>
                      <a:pt x="207" y="1037"/>
                    </a:lnTo>
                    <a:lnTo>
                      <a:pt x="286" y="1090"/>
                    </a:lnTo>
                    <a:lnTo>
                      <a:pt x="224" y="1002"/>
                    </a:lnTo>
                    <a:lnTo>
                      <a:pt x="176" y="878"/>
                    </a:lnTo>
                    <a:lnTo>
                      <a:pt x="154" y="737"/>
                    </a:lnTo>
                    <a:lnTo>
                      <a:pt x="154" y="627"/>
                    </a:lnTo>
                    <a:lnTo>
                      <a:pt x="185" y="502"/>
                    </a:lnTo>
                    <a:lnTo>
                      <a:pt x="216" y="405"/>
                    </a:lnTo>
                    <a:lnTo>
                      <a:pt x="264" y="321"/>
                    </a:lnTo>
                    <a:lnTo>
                      <a:pt x="335" y="220"/>
                    </a:lnTo>
                    <a:lnTo>
                      <a:pt x="414" y="154"/>
                    </a:lnTo>
                    <a:lnTo>
                      <a:pt x="512" y="105"/>
                    </a:lnTo>
                    <a:lnTo>
                      <a:pt x="600" y="79"/>
                    </a:lnTo>
                    <a:lnTo>
                      <a:pt x="680" y="61"/>
                    </a:lnTo>
                    <a:lnTo>
                      <a:pt x="772" y="66"/>
                    </a:lnTo>
                    <a:lnTo>
                      <a:pt x="887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834320" y="4049640"/>
                <a:ext cx="400320" cy="444960"/>
              </a:xfrm>
              <a:custGeom>
                <a:avLst/>
                <a:gdLst/>
                <a:ahLst/>
                <a:rect l="0" t="0" r="r" b="b"/>
                <a:pathLst>
                  <a:path w="1112" h="1236">
                    <a:moveTo>
                      <a:pt x="702" y="8"/>
                    </a:moveTo>
                    <a:lnTo>
                      <a:pt x="583" y="0"/>
                    </a:lnTo>
                    <a:lnTo>
                      <a:pt x="436" y="26"/>
                    </a:lnTo>
                    <a:lnTo>
                      <a:pt x="321" y="74"/>
                    </a:lnTo>
                    <a:lnTo>
                      <a:pt x="220" y="141"/>
                    </a:lnTo>
                    <a:lnTo>
                      <a:pt x="154" y="216"/>
                    </a:lnTo>
                    <a:lnTo>
                      <a:pt x="83" y="331"/>
                    </a:lnTo>
                    <a:lnTo>
                      <a:pt x="39" y="446"/>
                    </a:lnTo>
                    <a:lnTo>
                      <a:pt x="13" y="543"/>
                    </a:lnTo>
                    <a:lnTo>
                      <a:pt x="0" y="644"/>
                    </a:lnTo>
                    <a:lnTo>
                      <a:pt x="4" y="777"/>
                    </a:lnTo>
                    <a:lnTo>
                      <a:pt x="44" y="922"/>
                    </a:lnTo>
                    <a:lnTo>
                      <a:pt x="88" y="1025"/>
                    </a:lnTo>
                    <a:lnTo>
                      <a:pt x="149" y="1104"/>
                    </a:lnTo>
                    <a:lnTo>
                      <a:pt x="220" y="1166"/>
                    </a:lnTo>
                    <a:lnTo>
                      <a:pt x="330" y="1219"/>
                    </a:lnTo>
                    <a:lnTo>
                      <a:pt x="410" y="1236"/>
                    </a:lnTo>
                    <a:lnTo>
                      <a:pt x="537" y="1232"/>
                    </a:lnTo>
                    <a:lnTo>
                      <a:pt x="618" y="1223"/>
                    </a:lnTo>
                    <a:lnTo>
                      <a:pt x="710" y="1197"/>
                    </a:lnTo>
                    <a:lnTo>
                      <a:pt x="799" y="1170"/>
                    </a:lnTo>
                    <a:lnTo>
                      <a:pt x="874" y="1117"/>
                    </a:lnTo>
                    <a:lnTo>
                      <a:pt x="891" y="1064"/>
                    </a:lnTo>
                    <a:lnTo>
                      <a:pt x="944" y="1038"/>
                    </a:lnTo>
                    <a:lnTo>
                      <a:pt x="997" y="998"/>
                    </a:lnTo>
                    <a:lnTo>
                      <a:pt x="1015" y="941"/>
                    </a:lnTo>
                    <a:lnTo>
                      <a:pt x="1028" y="882"/>
                    </a:lnTo>
                    <a:lnTo>
                      <a:pt x="1037" y="838"/>
                    </a:lnTo>
                    <a:lnTo>
                      <a:pt x="1081" y="794"/>
                    </a:lnTo>
                    <a:lnTo>
                      <a:pt x="1103" y="741"/>
                    </a:lnTo>
                    <a:lnTo>
                      <a:pt x="1112" y="675"/>
                    </a:lnTo>
                    <a:lnTo>
                      <a:pt x="1103" y="618"/>
                    </a:lnTo>
                    <a:lnTo>
                      <a:pt x="1094" y="534"/>
                    </a:lnTo>
                    <a:lnTo>
                      <a:pt x="1094" y="455"/>
                    </a:lnTo>
                    <a:lnTo>
                      <a:pt x="1081" y="389"/>
                    </a:lnTo>
                    <a:lnTo>
                      <a:pt x="1059" y="304"/>
                    </a:lnTo>
                    <a:lnTo>
                      <a:pt x="1024" y="264"/>
                    </a:lnTo>
                    <a:lnTo>
                      <a:pt x="979" y="189"/>
                    </a:lnTo>
                    <a:lnTo>
                      <a:pt x="935" y="141"/>
                    </a:lnTo>
                    <a:lnTo>
                      <a:pt x="865" y="74"/>
                    </a:lnTo>
                    <a:lnTo>
                      <a:pt x="777" y="39"/>
                    </a:lnTo>
                    <a:lnTo>
                      <a:pt x="702" y="8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474747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9" name=""/>
              <p:cNvGrpSpPr/>
              <p:nvPr/>
            </p:nvGrpSpPr>
            <p:grpSpPr>
              <a:xfrm>
                <a:off x="7856640" y="4065480"/>
                <a:ext cx="304920" cy="403560"/>
                <a:chOff x="7856640" y="4065480"/>
                <a:chExt cx="304920" cy="40356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7910640" y="4106880"/>
                  <a:ext cx="65520" cy="63720"/>
                </a:xfrm>
                <a:custGeom>
                  <a:avLst/>
                  <a:gdLst/>
                  <a:ahLst/>
                  <a:rect l="0" t="0" r="r" b="b"/>
                  <a:pathLst>
                    <a:path w="182" h="177">
                      <a:moveTo>
                        <a:pt x="182" y="17"/>
                      </a:moveTo>
                      <a:lnTo>
                        <a:pt x="133" y="0"/>
                      </a:lnTo>
                      <a:lnTo>
                        <a:pt x="71" y="17"/>
                      </a:lnTo>
                      <a:lnTo>
                        <a:pt x="30" y="44"/>
                      </a:lnTo>
                      <a:lnTo>
                        <a:pt x="13" y="89"/>
                      </a:lnTo>
                      <a:lnTo>
                        <a:pt x="0" y="137"/>
                      </a:lnTo>
                      <a:lnTo>
                        <a:pt x="17" y="177"/>
                      </a:lnTo>
                      <a:lnTo>
                        <a:pt x="67" y="172"/>
                      </a:lnTo>
                      <a:lnTo>
                        <a:pt x="115" y="150"/>
                      </a:lnTo>
                      <a:lnTo>
                        <a:pt x="156" y="111"/>
                      </a:lnTo>
                      <a:lnTo>
                        <a:pt x="178" y="70"/>
                      </a:lnTo>
                      <a:lnTo>
                        <a:pt x="182" y="17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8004240" y="4065480"/>
                  <a:ext cx="62280" cy="41760"/>
                </a:xfrm>
                <a:custGeom>
                  <a:avLst/>
                  <a:gdLst/>
                  <a:ahLst/>
                  <a:rect l="0" t="0" r="r" b="b"/>
                  <a:pathLst>
                    <a:path w="173" h="116">
                      <a:moveTo>
                        <a:pt x="0" y="40"/>
                      </a:moveTo>
                      <a:lnTo>
                        <a:pt x="30" y="17"/>
                      </a:lnTo>
                      <a:lnTo>
                        <a:pt x="98" y="0"/>
                      </a:lnTo>
                      <a:lnTo>
                        <a:pt x="138" y="17"/>
                      </a:lnTo>
                      <a:lnTo>
                        <a:pt x="169" y="36"/>
                      </a:lnTo>
                      <a:lnTo>
                        <a:pt x="173" y="75"/>
                      </a:lnTo>
                      <a:lnTo>
                        <a:pt x="156" y="99"/>
                      </a:lnTo>
                      <a:lnTo>
                        <a:pt x="120" y="116"/>
                      </a:lnTo>
                      <a:lnTo>
                        <a:pt x="67" y="116"/>
                      </a:lnTo>
                      <a:lnTo>
                        <a:pt x="30" y="103"/>
                      </a:lnTo>
                      <a:lnTo>
                        <a:pt x="4" y="8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8105760" y="4073400"/>
                  <a:ext cx="55800" cy="36720"/>
                </a:xfrm>
                <a:custGeom>
                  <a:avLst/>
                  <a:gdLst/>
                  <a:ahLst/>
                  <a:rect l="0" t="0" r="r" b="b"/>
                  <a:pathLst>
                    <a:path w="155" h="102">
                      <a:moveTo>
                        <a:pt x="0" y="0"/>
                      </a:moveTo>
                      <a:lnTo>
                        <a:pt x="4" y="48"/>
                      </a:lnTo>
                      <a:lnTo>
                        <a:pt x="39" y="84"/>
                      </a:lnTo>
                      <a:lnTo>
                        <a:pt x="80" y="102"/>
                      </a:lnTo>
                      <a:lnTo>
                        <a:pt x="124" y="102"/>
                      </a:lnTo>
                      <a:lnTo>
                        <a:pt x="155" y="93"/>
                      </a:lnTo>
                      <a:lnTo>
                        <a:pt x="155" y="75"/>
                      </a:lnTo>
                      <a:lnTo>
                        <a:pt x="124" y="39"/>
                      </a:lnTo>
                      <a:lnTo>
                        <a:pt x="70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856640" y="4199040"/>
                  <a:ext cx="38520" cy="81360"/>
                </a:xfrm>
                <a:custGeom>
                  <a:avLst/>
                  <a:gdLst/>
                  <a:ahLst/>
                  <a:rect l="0" t="0" r="r" b="b"/>
                  <a:pathLst>
                    <a:path w="107" h="226">
                      <a:moveTo>
                        <a:pt x="81" y="0"/>
                      </a:moveTo>
                      <a:lnTo>
                        <a:pt x="107" y="35"/>
                      </a:lnTo>
                      <a:lnTo>
                        <a:pt x="107" y="93"/>
                      </a:lnTo>
                      <a:lnTo>
                        <a:pt x="103" y="142"/>
                      </a:lnTo>
                      <a:lnTo>
                        <a:pt x="85" y="187"/>
                      </a:lnTo>
                      <a:lnTo>
                        <a:pt x="45" y="226"/>
                      </a:lnTo>
                      <a:lnTo>
                        <a:pt x="8" y="222"/>
                      </a:lnTo>
                      <a:lnTo>
                        <a:pt x="0" y="164"/>
                      </a:lnTo>
                      <a:lnTo>
                        <a:pt x="0" y="102"/>
                      </a:lnTo>
                      <a:lnTo>
                        <a:pt x="26" y="44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7856640" y="4319640"/>
                  <a:ext cx="38520" cy="68760"/>
                </a:xfrm>
                <a:custGeom>
                  <a:avLst/>
                  <a:gdLst/>
                  <a:ahLst/>
                  <a:rect l="0" t="0" r="r" b="b"/>
                  <a:pathLst>
                    <a:path w="107" h="191">
                      <a:moveTo>
                        <a:pt x="40" y="0"/>
                      </a:moveTo>
                      <a:lnTo>
                        <a:pt x="81" y="22"/>
                      </a:lnTo>
                      <a:lnTo>
                        <a:pt x="99" y="67"/>
                      </a:lnTo>
                      <a:lnTo>
                        <a:pt x="107" y="128"/>
                      </a:lnTo>
                      <a:lnTo>
                        <a:pt x="99" y="165"/>
                      </a:lnTo>
                      <a:lnTo>
                        <a:pt x="67" y="191"/>
                      </a:lnTo>
                      <a:lnTo>
                        <a:pt x="40" y="187"/>
                      </a:lnTo>
                      <a:lnTo>
                        <a:pt x="0" y="115"/>
                      </a:lnTo>
                      <a:lnTo>
                        <a:pt x="0" y="58"/>
                      </a:lnTo>
                      <a:lnTo>
                        <a:pt x="13" y="1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904160" y="4432320"/>
                  <a:ext cx="52920" cy="36720"/>
                </a:xfrm>
                <a:custGeom>
                  <a:avLst/>
                  <a:gdLst/>
                  <a:ahLst/>
                  <a:rect l="0" t="0" r="r" b="b"/>
                  <a:pathLst>
                    <a:path w="147" h="102">
                      <a:moveTo>
                        <a:pt x="35" y="0"/>
                      </a:moveTo>
                      <a:lnTo>
                        <a:pt x="84" y="4"/>
                      </a:lnTo>
                      <a:lnTo>
                        <a:pt x="116" y="30"/>
                      </a:lnTo>
                      <a:lnTo>
                        <a:pt x="147" y="62"/>
                      </a:lnTo>
                      <a:lnTo>
                        <a:pt x="138" y="93"/>
                      </a:lnTo>
                      <a:lnTo>
                        <a:pt x="102" y="102"/>
                      </a:lnTo>
                      <a:lnTo>
                        <a:pt x="62" y="89"/>
                      </a:lnTo>
                      <a:lnTo>
                        <a:pt x="17" y="62"/>
                      </a:lnTo>
                      <a:lnTo>
                        <a:pt x="0" y="30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6" name=""/>
              <p:cNvSpPr/>
              <p:nvPr/>
            </p:nvSpPr>
            <p:spPr>
              <a:xfrm>
                <a:off x="7937640" y="4154400"/>
                <a:ext cx="236520" cy="26352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942320" y="4160880"/>
                <a:ext cx="198360" cy="219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42320" y="4170240"/>
                <a:ext cx="169920" cy="187200"/>
              </a:xfrm>
              <a:prstGeom prst="ellipse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945560" y="4187880"/>
                <a:ext cx="139680" cy="139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8004240" y="4127400"/>
                <a:ext cx="238680" cy="367200"/>
                <a:chOff x="8004240" y="4127400"/>
                <a:chExt cx="238680" cy="36720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8180280" y="4127400"/>
                  <a:ext cx="47880" cy="66960"/>
                </a:xfrm>
                <a:custGeom>
                  <a:avLst/>
                  <a:gdLst/>
                  <a:ahLst/>
                  <a:rect l="0" t="0" r="r" b="b"/>
                  <a:pathLst>
                    <a:path w="133" h="186">
                      <a:moveTo>
                        <a:pt x="22" y="0"/>
                      </a:moveTo>
                      <a:lnTo>
                        <a:pt x="0" y="48"/>
                      </a:lnTo>
                      <a:lnTo>
                        <a:pt x="0" y="102"/>
                      </a:lnTo>
                      <a:lnTo>
                        <a:pt x="17" y="146"/>
                      </a:lnTo>
                      <a:lnTo>
                        <a:pt x="57" y="177"/>
                      </a:lnTo>
                      <a:lnTo>
                        <a:pt x="111" y="186"/>
                      </a:lnTo>
                      <a:lnTo>
                        <a:pt x="133" y="155"/>
                      </a:lnTo>
                      <a:lnTo>
                        <a:pt x="102" y="88"/>
                      </a:lnTo>
                      <a:lnTo>
                        <a:pt x="75" y="57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8217000" y="4227480"/>
                  <a:ext cx="25920" cy="60840"/>
                </a:xfrm>
                <a:custGeom>
                  <a:avLst/>
                  <a:gdLst/>
                  <a:ahLst/>
                  <a:rect l="0" t="0" r="r" b="b"/>
                  <a:pathLst>
                    <a:path w="72" h="169">
                      <a:moveTo>
                        <a:pt x="39" y="0"/>
                      </a:moveTo>
                      <a:lnTo>
                        <a:pt x="6" y="22"/>
                      </a:lnTo>
                      <a:lnTo>
                        <a:pt x="0" y="71"/>
                      </a:lnTo>
                      <a:lnTo>
                        <a:pt x="0" y="98"/>
                      </a:lnTo>
                      <a:lnTo>
                        <a:pt x="12" y="134"/>
                      </a:lnTo>
                      <a:lnTo>
                        <a:pt x="72" y="169"/>
                      </a:lnTo>
                      <a:lnTo>
                        <a:pt x="39" y="62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8183520" y="4346640"/>
                  <a:ext cx="44640" cy="41760"/>
                </a:xfrm>
                <a:custGeom>
                  <a:avLst/>
                  <a:gdLst/>
                  <a:ahLst/>
                  <a:rect l="0" t="0" r="r" b="b"/>
                  <a:pathLst>
                    <a:path w="124" h="116">
                      <a:moveTo>
                        <a:pt x="124" y="4"/>
                      </a:moveTo>
                      <a:lnTo>
                        <a:pt x="48" y="0"/>
                      </a:lnTo>
                      <a:lnTo>
                        <a:pt x="13" y="40"/>
                      </a:lnTo>
                      <a:lnTo>
                        <a:pt x="0" y="94"/>
                      </a:lnTo>
                      <a:lnTo>
                        <a:pt x="44" y="116"/>
                      </a:lnTo>
                      <a:lnTo>
                        <a:pt x="48" y="75"/>
                      </a:lnTo>
                      <a:lnTo>
                        <a:pt x="80" y="45"/>
                      </a:lnTo>
                      <a:lnTo>
                        <a:pt x="124" y="4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8134200" y="4410000"/>
                  <a:ext cx="46440" cy="38520"/>
                </a:xfrm>
                <a:custGeom>
                  <a:avLst/>
                  <a:gdLst/>
                  <a:ahLst/>
                  <a:rect l="0" t="0" r="r" b="b"/>
                  <a:pathLst>
                    <a:path w="129" h="107">
                      <a:moveTo>
                        <a:pt x="129" y="8"/>
                      </a:moveTo>
                      <a:lnTo>
                        <a:pt x="75" y="0"/>
                      </a:lnTo>
                      <a:lnTo>
                        <a:pt x="40" y="22"/>
                      </a:lnTo>
                      <a:lnTo>
                        <a:pt x="13" y="45"/>
                      </a:lnTo>
                      <a:lnTo>
                        <a:pt x="0" y="71"/>
                      </a:lnTo>
                      <a:lnTo>
                        <a:pt x="0" y="90"/>
                      </a:lnTo>
                      <a:lnTo>
                        <a:pt x="17" y="107"/>
                      </a:lnTo>
                      <a:lnTo>
                        <a:pt x="49" y="90"/>
                      </a:lnTo>
                      <a:lnTo>
                        <a:pt x="58" y="53"/>
                      </a:lnTo>
                      <a:lnTo>
                        <a:pt x="93" y="40"/>
                      </a:lnTo>
                      <a:lnTo>
                        <a:pt x="129" y="8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8004240" y="4468680"/>
                  <a:ext cx="90720" cy="25920"/>
                </a:xfrm>
                <a:custGeom>
                  <a:avLst/>
                  <a:gdLst/>
                  <a:ahLst/>
                  <a:rect l="0" t="0" r="r" b="b"/>
                  <a:pathLst>
                    <a:path w="252" h="72">
                      <a:moveTo>
                        <a:pt x="252" y="49"/>
                      </a:moveTo>
                      <a:lnTo>
                        <a:pt x="186" y="0"/>
                      </a:lnTo>
                      <a:lnTo>
                        <a:pt x="110" y="0"/>
                      </a:lnTo>
                      <a:lnTo>
                        <a:pt x="57" y="23"/>
                      </a:lnTo>
                      <a:lnTo>
                        <a:pt x="0" y="72"/>
                      </a:lnTo>
                      <a:lnTo>
                        <a:pt x="119" y="72"/>
                      </a:lnTo>
                      <a:lnTo>
                        <a:pt x="252" y="49"/>
                      </a:lnTo>
                      <a:close/>
                    </a:path>
                  </a:pathLst>
                </a:custGeom>
                <a:solidFill>
                  <a:srgbClr val="1c1c1c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6" name=""/>
            <p:cNvGrpSpPr/>
            <p:nvPr/>
          </p:nvGrpSpPr>
          <p:grpSpPr>
            <a:xfrm>
              <a:off x="7508880" y="4071960"/>
              <a:ext cx="141480" cy="178200"/>
              <a:chOff x="7508880" y="4071960"/>
              <a:chExt cx="141480" cy="178200"/>
            </a:xfrm>
          </p:grpSpPr>
          <p:sp>
            <p:nvSpPr>
              <p:cNvPr id="977" name=""/>
              <p:cNvSpPr/>
              <p:nvPr/>
            </p:nvSpPr>
            <p:spPr>
              <a:xfrm>
                <a:off x="7508880" y="4071960"/>
                <a:ext cx="141480" cy="178200"/>
              </a:xfrm>
              <a:custGeom>
                <a:avLst/>
                <a:gdLst/>
                <a:ahLst/>
                <a:rect l="0" t="0" r="r" b="b"/>
                <a:pathLst>
                  <a:path w="393" h="495">
                    <a:moveTo>
                      <a:pt x="8" y="0"/>
                    </a:moveTo>
                    <a:lnTo>
                      <a:pt x="0" y="239"/>
                    </a:lnTo>
                    <a:lnTo>
                      <a:pt x="384" y="495"/>
                    </a:lnTo>
                    <a:lnTo>
                      <a:pt x="393" y="23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508880" y="4084560"/>
                <a:ext cx="131760" cy="13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79" name=""/>
          <p:cNvGrpSpPr/>
          <p:nvPr/>
        </p:nvGrpSpPr>
        <p:grpSpPr>
          <a:xfrm>
            <a:off x="863640" y="407880"/>
            <a:ext cx="2003400" cy="1240200"/>
            <a:chOff x="863640" y="407880"/>
            <a:chExt cx="2003400" cy="1240200"/>
          </a:xfrm>
        </p:grpSpPr>
        <p:grpSp>
          <p:nvGrpSpPr>
            <p:cNvPr id="980" name=""/>
            <p:cNvGrpSpPr/>
            <p:nvPr/>
          </p:nvGrpSpPr>
          <p:grpSpPr>
            <a:xfrm>
              <a:off x="863640" y="407880"/>
              <a:ext cx="2003400" cy="1240200"/>
              <a:chOff x="863640" y="407880"/>
              <a:chExt cx="2003400" cy="1240200"/>
            </a:xfrm>
          </p:grpSpPr>
          <p:sp>
            <p:nvSpPr>
              <p:cNvPr id="981" name=""/>
              <p:cNvSpPr/>
              <p:nvPr/>
            </p:nvSpPr>
            <p:spPr>
              <a:xfrm>
                <a:off x="938160" y="647640"/>
                <a:ext cx="1700640" cy="428760"/>
              </a:xfrm>
              <a:custGeom>
                <a:avLst/>
                <a:gdLst/>
                <a:ahLst/>
                <a:rect l="0" t="0" r="r" b="b"/>
                <a:pathLst>
                  <a:path w="4724" h="1191">
                    <a:moveTo>
                      <a:pt x="8" y="242"/>
                    </a:moveTo>
                    <a:lnTo>
                      <a:pt x="0" y="357"/>
                    </a:lnTo>
                    <a:lnTo>
                      <a:pt x="793" y="560"/>
                    </a:lnTo>
                    <a:lnTo>
                      <a:pt x="793" y="605"/>
                    </a:lnTo>
                    <a:lnTo>
                      <a:pt x="2267" y="979"/>
                    </a:lnTo>
                    <a:lnTo>
                      <a:pt x="2324" y="931"/>
                    </a:lnTo>
                    <a:lnTo>
                      <a:pt x="3361" y="1191"/>
                    </a:lnTo>
                    <a:lnTo>
                      <a:pt x="3422" y="1151"/>
                    </a:lnTo>
                    <a:lnTo>
                      <a:pt x="3617" y="1063"/>
                    </a:lnTo>
                    <a:lnTo>
                      <a:pt x="3737" y="935"/>
                    </a:lnTo>
                    <a:lnTo>
                      <a:pt x="3904" y="843"/>
                    </a:lnTo>
                    <a:lnTo>
                      <a:pt x="4045" y="750"/>
                    </a:lnTo>
                    <a:lnTo>
                      <a:pt x="4204" y="680"/>
                    </a:lnTo>
                    <a:lnTo>
                      <a:pt x="4314" y="577"/>
                    </a:lnTo>
                    <a:lnTo>
                      <a:pt x="4424" y="463"/>
                    </a:lnTo>
                    <a:lnTo>
                      <a:pt x="4464" y="383"/>
                    </a:lnTo>
                    <a:lnTo>
                      <a:pt x="4517" y="282"/>
                    </a:lnTo>
                    <a:lnTo>
                      <a:pt x="4592" y="198"/>
                    </a:lnTo>
                    <a:lnTo>
                      <a:pt x="4676" y="114"/>
                    </a:lnTo>
                    <a:lnTo>
                      <a:pt x="4724" y="70"/>
                    </a:lnTo>
                    <a:lnTo>
                      <a:pt x="4707" y="0"/>
                    </a:lnTo>
                    <a:lnTo>
                      <a:pt x="3361" y="1103"/>
                    </a:lnTo>
                    <a:lnTo>
                      <a:pt x="8" y="242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021040" y="1525680"/>
                <a:ext cx="198360" cy="12240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025720" y="1503360"/>
                <a:ext cx="181080" cy="112680"/>
              </a:xfrm>
              <a:prstGeom prst="ellipse">
                <a:avLst/>
              </a:prstGeom>
              <a:solidFill>
                <a:srgbClr val="67676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050920" y="681120"/>
                <a:ext cx="630720" cy="933840"/>
              </a:xfrm>
              <a:custGeom>
                <a:avLst/>
                <a:gdLst/>
                <a:ahLst/>
                <a:rect l="0" t="0" r="r" b="b"/>
                <a:pathLst>
                  <a:path w="1752" h="2594">
                    <a:moveTo>
                      <a:pt x="39" y="1182"/>
                    </a:moveTo>
                    <a:lnTo>
                      <a:pt x="8" y="1870"/>
                    </a:lnTo>
                    <a:lnTo>
                      <a:pt x="0" y="2555"/>
                    </a:lnTo>
                    <a:lnTo>
                      <a:pt x="145" y="2594"/>
                    </a:lnTo>
                    <a:lnTo>
                      <a:pt x="242" y="2555"/>
                    </a:lnTo>
                    <a:lnTo>
                      <a:pt x="361" y="2431"/>
                    </a:lnTo>
                    <a:lnTo>
                      <a:pt x="561" y="2273"/>
                    </a:lnTo>
                    <a:lnTo>
                      <a:pt x="693" y="2162"/>
                    </a:lnTo>
                    <a:lnTo>
                      <a:pt x="843" y="2048"/>
                    </a:lnTo>
                    <a:lnTo>
                      <a:pt x="1010" y="1946"/>
                    </a:lnTo>
                    <a:lnTo>
                      <a:pt x="1129" y="1861"/>
                    </a:lnTo>
                    <a:lnTo>
                      <a:pt x="1218" y="1786"/>
                    </a:lnTo>
                    <a:lnTo>
                      <a:pt x="1664" y="1412"/>
                    </a:lnTo>
                    <a:lnTo>
                      <a:pt x="1739" y="612"/>
                    </a:lnTo>
                    <a:lnTo>
                      <a:pt x="1748" y="370"/>
                    </a:lnTo>
                    <a:lnTo>
                      <a:pt x="1752" y="171"/>
                    </a:lnTo>
                    <a:lnTo>
                      <a:pt x="1735" y="17"/>
                    </a:lnTo>
                    <a:lnTo>
                      <a:pt x="1712" y="0"/>
                    </a:lnTo>
                    <a:lnTo>
                      <a:pt x="1660" y="66"/>
                    </a:lnTo>
                    <a:lnTo>
                      <a:pt x="1545" y="158"/>
                    </a:lnTo>
                    <a:lnTo>
                      <a:pt x="1488" y="211"/>
                    </a:lnTo>
                    <a:lnTo>
                      <a:pt x="1346" y="370"/>
                    </a:lnTo>
                    <a:lnTo>
                      <a:pt x="1218" y="551"/>
                    </a:lnTo>
                    <a:lnTo>
                      <a:pt x="1024" y="693"/>
                    </a:lnTo>
                    <a:lnTo>
                      <a:pt x="878" y="785"/>
                    </a:lnTo>
                    <a:lnTo>
                      <a:pt x="737" y="856"/>
                    </a:lnTo>
                    <a:lnTo>
                      <a:pt x="600" y="953"/>
                    </a:lnTo>
                    <a:lnTo>
                      <a:pt x="472" y="1046"/>
                    </a:lnTo>
                    <a:lnTo>
                      <a:pt x="335" y="1182"/>
                    </a:lnTo>
                    <a:lnTo>
                      <a:pt x="251" y="1226"/>
                    </a:lnTo>
                    <a:lnTo>
                      <a:pt x="145" y="1204"/>
                    </a:lnTo>
                    <a:lnTo>
                      <a:pt x="39" y="118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474747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203560" y="1319040"/>
                <a:ext cx="305280" cy="235440"/>
              </a:xfrm>
              <a:custGeom>
                <a:avLst/>
                <a:gdLst/>
                <a:ahLst/>
                <a:rect l="0" t="0" r="r" b="b"/>
                <a:pathLst>
                  <a:path w="848" h="654">
                    <a:moveTo>
                      <a:pt x="0" y="592"/>
                    </a:moveTo>
                    <a:lnTo>
                      <a:pt x="145" y="477"/>
                    </a:lnTo>
                    <a:lnTo>
                      <a:pt x="336" y="322"/>
                    </a:lnTo>
                    <a:lnTo>
                      <a:pt x="459" y="247"/>
                    </a:lnTo>
                    <a:lnTo>
                      <a:pt x="613" y="132"/>
                    </a:lnTo>
                    <a:lnTo>
                      <a:pt x="782" y="0"/>
                    </a:lnTo>
                    <a:lnTo>
                      <a:pt x="848" y="0"/>
                    </a:lnTo>
                    <a:lnTo>
                      <a:pt x="760" y="79"/>
                    </a:lnTo>
                    <a:lnTo>
                      <a:pt x="672" y="168"/>
                    </a:lnTo>
                    <a:lnTo>
                      <a:pt x="578" y="247"/>
                    </a:lnTo>
                    <a:lnTo>
                      <a:pt x="494" y="314"/>
                    </a:lnTo>
                    <a:lnTo>
                      <a:pt x="375" y="389"/>
                    </a:lnTo>
                    <a:lnTo>
                      <a:pt x="247" y="464"/>
                    </a:lnTo>
                    <a:lnTo>
                      <a:pt x="167" y="526"/>
                    </a:lnTo>
                    <a:lnTo>
                      <a:pt x="13" y="654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63640" y="789120"/>
                <a:ext cx="1224360" cy="816480"/>
              </a:xfrm>
              <a:custGeom>
                <a:avLst/>
                <a:gdLst/>
                <a:ahLst/>
                <a:rect l="0" t="0" r="r" b="b"/>
                <a:pathLst>
                  <a:path w="3401" h="2268">
                    <a:moveTo>
                      <a:pt x="17" y="0"/>
                    </a:moveTo>
                    <a:lnTo>
                      <a:pt x="896" y="251"/>
                    </a:lnTo>
                    <a:lnTo>
                      <a:pt x="988" y="185"/>
                    </a:lnTo>
                    <a:lnTo>
                      <a:pt x="2466" y="578"/>
                    </a:lnTo>
                    <a:lnTo>
                      <a:pt x="2382" y="644"/>
                    </a:lnTo>
                    <a:lnTo>
                      <a:pt x="3401" y="913"/>
                    </a:lnTo>
                    <a:lnTo>
                      <a:pt x="3331" y="1244"/>
                    </a:lnTo>
                    <a:lnTo>
                      <a:pt x="3300" y="1597"/>
                    </a:lnTo>
                    <a:lnTo>
                      <a:pt x="3300" y="2198"/>
                    </a:lnTo>
                    <a:lnTo>
                      <a:pt x="3300" y="2268"/>
                    </a:lnTo>
                    <a:lnTo>
                      <a:pt x="88" y="1328"/>
                    </a:lnTo>
                    <a:lnTo>
                      <a:pt x="0" y="69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57575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117880" y="1089000"/>
                <a:ext cx="540000" cy="524160"/>
              </a:xfrm>
              <a:custGeom>
                <a:avLst/>
                <a:gdLst/>
                <a:ahLst/>
                <a:rect l="0" t="0" r="r" b="b"/>
                <a:pathLst>
                  <a:path w="1500" h="1456">
                    <a:moveTo>
                      <a:pt x="13" y="1442"/>
                    </a:moveTo>
                    <a:lnTo>
                      <a:pt x="0" y="1315"/>
                    </a:lnTo>
                    <a:lnTo>
                      <a:pt x="17" y="1222"/>
                    </a:lnTo>
                    <a:lnTo>
                      <a:pt x="66" y="1129"/>
                    </a:lnTo>
                    <a:lnTo>
                      <a:pt x="242" y="962"/>
                    </a:lnTo>
                    <a:lnTo>
                      <a:pt x="374" y="830"/>
                    </a:lnTo>
                    <a:lnTo>
                      <a:pt x="507" y="718"/>
                    </a:lnTo>
                    <a:lnTo>
                      <a:pt x="639" y="635"/>
                    </a:lnTo>
                    <a:lnTo>
                      <a:pt x="794" y="537"/>
                    </a:lnTo>
                    <a:lnTo>
                      <a:pt x="1028" y="335"/>
                    </a:lnTo>
                    <a:lnTo>
                      <a:pt x="1500" y="0"/>
                    </a:lnTo>
                    <a:lnTo>
                      <a:pt x="1487" y="220"/>
                    </a:lnTo>
                    <a:lnTo>
                      <a:pt x="1019" y="665"/>
                    </a:lnTo>
                    <a:lnTo>
                      <a:pt x="821" y="821"/>
                    </a:lnTo>
                    <a:lnTo>
                      <a:pt x="674" y="909"/>
                    </a:lnTo>
                    <a:lnTo>
                      <a:pt x="511" y="1015"/>
                    </a:lnTo>
                    <a:lnTo>
                      <a:pt x="339" y="1165"/>
                    </a:lnTo>
                    <a:lnTo>
                      <a:pt x="207" y="1284"/>
                    </a:lnTo>
                    <a:lnTo>
                      <a:pt x="57" y="1456"/>
                    </a:lnTo>
                    <a:lnTo>
                      <a:pt x="13" y="1442"/>
                    </a:lnTo>
                    <a:close/>
                  </a:path>
                </a:pathLst>
              </a:custGeom>
              <a:solidFill>
                <a:srgbClr val="5d5d5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70120" y="1038240"/>
                <a:ext cx="1184760" cy="568800"/>
              </a:xfrm>
              <a:custGeom>
                <a:avLst/>
                <a:gdLst/>
                <a:ahLst/>
                <a:rect l="0" t="0" r="r" b="b"/>
                <a:pathLst>
                  <a:path w="3291" h="1580">
                    <a:moveTo>
                      <a:pt x="0" y="0"/>
                    </a:moveTo>
                    <a:lnTo>
                      <a:pt x="3291" y="887"/>
                    </a:lnTo>
                    <a:lnTo>
                      <a:pt x="3291" y="1580"/>
                    </a:lnTo>
                    <a:lnTo>
                      <a:pt x="79" y="6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6464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938160" y="407880"/>
                <a:ext cx="1692720" cy="640080"/>
              </a:xfrm>
              <a:custGeom>
                <a:avLst/>
                <a:gdLst/>
                <a:ahLst/>
                <a:rect l="0" t="0" r="r" b="b"/>
                <a:pathLst>
                  <a:path w="4702" h="1778">
                    <a:moveTo>
                      <a:pt x="295" y="727"/>
                    </a:moveTo>
                    <a:lnTo>
                      <a:pt x="493" y="621"/>
                    </a:lnTo>
                    <a:lnTo>
                      <a:pt x="657" y="542"/>
                    </a:lnTo>
                    <a:lnTo>
                      <a:pt x="864" y="410"/>
                    </a:lnTo>
                    <a:lnTo>
                      <a:pt x="1009" y="321"/>
                    </a:lnTo>
                    <a:lnTo>
                      <a:pt x="1191" y="242"/>
                    </a:lnTo>
                    <a:lnTo>
                      <a:pt x="1372" y="141"/>
                    </a:lnTo>
                    <a:lnTo>
                      <a:pt x="1553" y="48"/>
                    </a:lnTo>
                    <a:lnTo>
                      <a:pt x="1672" y="0"/>
                    </a:lnTo>
                    <a:lnTo>
                      <a:pt x="4693" y="648"/>
                    </a:lnTo>
                    <a:lnTo>
                      <a:pt x="4702" y="674"/>
                    </a:lnTo>
                    <a:lnTo>
                      <a:pt x="4641" y="723"/>
                    </a:lnTo>
                    <a:lnTo>
                      <a:pt x="4557" y="802"/>
                    </a:lnTo>
                    <a:lnTo>
                      <a:pt x="4473" y="913"/>
                    </a:lnTo>
                    <a:lnTo>
                      <a:pt x="4345" y="1090"/>
                    </a:lnTo>
                    <a:lnTo>
                      <a:pt x="4226" y="1209"/>
                    </a:lnTo>
                    <a:lnTo>
                      <a:pt x="4045" y="1323"/>
                    </a:lnTo>
                    <a:lnTo>
                      <a:pt x="3834" y="1442"/>
                    </a:lnTo>
                    <a:lnTo>
                      <a:pt x="3670" y="1548"/>
                    </a:lnTo>
                    <a:lnTo>
                      <a:pt x="3529" y="1650"/>
                    </a:lnTo>
                    <a:lnTo>
                      <a:pt x="3347" y="1778"/>
                    </a:lnTo>
                    <a:lnTo>
                      <a:pt x="0" y="918"/>
                    </a:lnTo>
                    <a:lnTo>
                      <a:pt x="295" y="7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76767"/>
                  </a:gs>
                  <a:gs pos="50000">
                    <a:srgbClr val="ffffff"/>
                  </a:gs>
                  <a:gs pos="100000">
                    <a:srgbClr val="676767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181160" y="600120"/>
                <a:ext cx="120960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0160" y="496800"/>
                <a:ext cx="1164960" cy="26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312920" y="784080"/>
                <a:ext cx="684720" cy="208440"/>
              </a:xfrm>
              <a:custGeom>
                <a:avLst/>
                <a:gdLst/>
                <a:ahLst/>
                <a:rect l="0" t="0" r="r" b="b"/>
                <a:pathLst>
                  <a:path w="1902" h="579">
                    <a:moveTo>
                      <a:pt x="0" y="150"/>
                    </a:moveTo>
                    <a:lnTo>
                      <a:pt x="264" y="0"/>
                    </a:lnTo>
                    <a:lnTo>
                      <a:pt x="1902" y="402"/>
                    </a:lnTo>
                    <a:lnTo>
                      <a:pt x="1695" y="579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797979"/>
              </a:solidFill>
              <a:ln w="12600">
                <a:solidFill>
                  <a:srgbClr val="79797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12920" y="838080"/>
                <a:ext cx="609840" cy="182880"/>
              </a:xfrm>
              <a:custGeom>
                <a:avLst/>
                <a:gdLst/>
                <a:ahLst/>
                <a:rect l="0" t="0" r="r" b="b"/>
                <a:pathLst>
                  <a:path w="1694" h="508">
                    <a:moveTo>
                      <a:pt x="0" y="0"/>
                    </a:moveTo>
                    <a:lnTo>
                      <a:pt x="4" y="79"/>
                    </a:lnTo>
                    <a:lnTo>
                      <a:pt x="1694" y="508"/>
                    </a:lnTo>
                    <a:lnTo>
                      <a:pt x="1685" y="4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1941480" y="665280"/>
                <a:ext cx="16668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1984320" y="677880"/>
                <a:ext cx="16668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2035080" y="689040"/>
                <a:ext cx="16524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2087640" y="700200"/>
                <a:ext cx="166680" cy="11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2138400" y="714240"/>
                <a:ext cx="165240" cy="11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2198520" y="720720"/>
                <a:ext cx="158760" cy="11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254320" y="739800"/>
                <a:ext cx="14616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098800" y="1281240"/>
                <a:ext cx="305280" cy="216360"/>
              </a:xfrm>
              <a:custGeom>
                <a:avLst/>
                <a:gdLst/>
                <a:ahLst/>
                <a:rect l="0" t="0" r="r" b="b"/>
                <a:pathLst>
                  <a:path fill="none" w="848" h="601">
                    <a:moveTo>
                      <a:pt x="848" y="0"/>
                    </a:moveTo>
                    <a:lnTo>
                      <a:pt x="591" y="155"/>
                    </a:lnTo>
                    <a:lnTo>
                      <a:pt x="397" y="305"/>
                    </a:lnTo>
                    <a:lnTo>
                      <a:pt x="243" y="437"/>
                    </a:lnTo>
                    <a:lnTo>
                      <a:pt x="127" y="553"/>
                    </a:lnTo>
                    <a:lnTo>
                      <a:pt x="57" y="597"/>
                    </a:lnTo>
                    <a:lnTo>
                      <a:pt x="0" y="601"/>
                    </a:lnTo>
                  </a:path>
                </a:pathLst>
              </a:custGeom>
              <a:ln w="12600">
                <a:solidFill>
                  <a:srgbClr val="79797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720800" y="987480"/>
                <a:ext cx="387720" cy="117720"/>
              </a:xfrm>
              <a:custGeom>
                <a:avLst/>
                <a:gdLst/>
                <a:ahLst/>
                <a:rect l="0" t="0" r="r" b="b"/>
                <a:pathLst>
                  <a:path w="1077" h="327">
                    <a:moveTo>
                      <a:pt x="0" y="92"/>
                    </a:moveTo>
                    <a:lnTo>
                      <a:pt x="145" y="0"/>
                    </a:lnTo>
                    <a:lnTo>
                      <a:pt x="1077" y="225"/>
                    </a:lnTo>
                    <a:lnTo>
                      <a:pt x="945" y="327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797979"/>
              </a:solidFill>
              <a:ln w="12600">
                <a:solidFill>
                  <a:srgbClr val="79797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057400" y="674640"/>
                <a:ext cx="616320" cy="444960"/>
              </a:xfrm>
              <a:custGeom>
                <a:avLst/>
                <a:gdLst/>
                <a:ahLst/>
                <a:rect l="0" t="0" r="r" b="b"/>
                <a:pathLst>
                  <a:path w="1712" h="1236">
                    <a:moveTo>
                      <a:pt x="0" y="1197"/>
                    </a:moveTo>
                    <a:lnTo>
                      <a:pt x="141" y="1104"/>
                    </a:lnTo>
                    <a:lnTo>
                      <a:pt x="198" y="1117"/>
                    </a:lnTo>
                    <a:lnTo>
                      <a:pt x="251" y="1113"/>
                    </a:lnTo>
                    <a:lnTo>
                      <a:pt x="366" y="1055"/>
                    </a:lnTo>
                    <a:lnTo>
                      <a:pt x="547" y="928"/>
                    </a:lnTo>
                    <a:lnTo>
                      <a:pt x="666" y="847"/>
                    </a:lnTo>
                    <a:lnTo>
                      <a:pt x="825" y="755"/>
                    </a:lnTo>
                    <a:lnTo>
                      <a:pt x="997" y="649"/>
                    </a:lnTo>
                    <a:lnTo>
                      <a:pt x="1138" y="552"/>
                    </a:lnTo>
                    <a:lnTo>
                      <a:pt x="1266" y="433"/>
                    </a:lnTo>
                    <a:lnTo>
                      <a:pt x="1373" y="291"/>
                    </a:lnTo>
                    <a:lnTo>
                      <a:pt x="1413" y="220"/>
                    </a:lnTo>
                    <a:lnTo>
                      <a:pt x="1492" y="114"/>
                    </a:lnTo>
                    <a:lnTo>
                      <a:pt x="1620" y="0"/>
                    </a:lnTo>
                    <a:lnTo>
                      <a:pt x="1664" y="0"/>
                    </a:lnTo>
                    <a:lnTo>
                      <a:pt x="1712" y="13"/>
                    </a:lnTo>
                    <a:lnTo>
                      <a:pt x="1651" y="70"/>
                    </a:lnTo>
                    <a:lnTo>
                      <a:pt x="1527" y="171"/>
                    </a:lnTo>
                    <a:lnTo>
                      <a:pt x="1448" y="260"/>
                    </a:lnTo>
                    <a:lnTo>
                      <a:pt x="1386" y="358"/>
                    </a:lnTo>
                    <a:lnTo>
                      <a:pt x="1307" y="459"/>
                    </a:lnTo>
                    <a:lnTo>
                      <a:pt x="1213" y="552"/>
                    </a:lnTo>
                    <a:lnTo>
                      <a:pt x="1094" y="649"/>
                    </a:lnTo>
                    <a:lnTo>
                      <a:pt x="984" y="719"/>
                    </a:lnTo>
                    <a:lnTo>
                      <a:pt x="865" y="794"/>
                    </a:lnTo>
                    <a:lnTo>
                      <a:pt x="750" y="847"/>
                    </a:lnTo>
                    <a:lnTo>
                      <a:pt x="627" y="936"/>
                    </a:lnTo>
                    <a:lnTo>
                      <a:pt x="494" y="1051"/>
                    </a:lnTo>
                    <a:lnTo>
                      <a:pt x="392" y="1135"/>
                    </a:lnTo>
                    <a:lnTo>
                      <a:pt x="282" y="1219"/>
                    </a:lnTo>
                    <a:lnTo>
                      <a:pt x="229" y="1236"/>
                    </a:lnTo>
                    <a:lnTo>
                      <a:pt x="132" y="1223"/>
                    </a:lnTo>
                    <a:lnTo>
                      <a:pt x="0" y="1197"/>
                    </a:lnTo>
                    <a:close/>
                  </a:path>
                </a:pathLst>
              </a:custGeom>
              <a:solidFill>
                <a:srgbClr val="797979"/>
              </a:solidFill>
              <a:ln w="12600">
                <a:solidFill>
                  <a:srgbClr val="797979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192320" y="1219320"/>
                <a:ext cx="744840" cy="356040"/>
              </a:xfrm>
              <a:custGeom>
                <a:avLst/>
                <a:gdLst/>
                <a:ahLst/>
                <a:rect l="0" t="0" r="r" b="b"/>
                <a:pathLst>
                  <a:path w="2069" h="989">
                    <a:moveTo>
                      <a:pt x="26" y="384"/>
                    </a:moveTo>
                    <a:lnTo>
                      <a:pt x="0" y="0"/>
                    </a:lnTo>
                    <a:lnTo>
                      <a:pt x="2069" y="578"/>
                    </a:lnTo>
                    <a:lnTo>
                      <a:pt x="2069" y="989"/>
                    </a:lnTo>
                    <a:lnTo>
                      <a:pt x="26" y="384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906480" y="1271520"/>
                <a:ext cx="322560" cy="119520"/>
              </a:xfrm>
              <a:custGeom>
                <a:avLst/>
                <a:gdLst/>
                <a:ahLst/>
                <a:rect l="0" t="0" r="r" b="b"/>
                <a:pathLst>
                  <a:path w="896" h="332">
                    <a:moveTo>
                      <a:pt x="816" y="239"/>
                    </a:moveTo>
                    <a:lnTo>
                      <a:pt x="0" y="0"/>
                    </a:lnTo>
                    <a:lnTo>
                      <a:pt x="26" y="106"/>
                    </a:lnTo>
                    <a:lnTo>
                      <a:pt x="246" y="172"/>
                    </a:lnTo>
                    <a:lnTo>
                      <a:pt x="273" y="159"/>
                    </a:lnTo>
                    <a:lnTo>
                      <a:pt x="843" y="332"/>
                    </a:lnTo>
                    <a:lnTo>
                      <a:pt x="896" y="293"/>
                    </a:lnTo>
                    <a:lnTo>
                      <a:pt x="816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042920" y="1103400"/>
                <a:ext cx="46080" cy="5724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919160" y="1343160"/>
                <a:ext cx="44280" cy="50760"/>
              </a:xfrm>
              <a:prstGeom prst="ellipse">
                <a:avLst/>
              </a:pr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762200" y="101124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46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102" y="13"/>
                    </a:lnTo>
                    <a:lnTo>
                      <a:pt x="53" y="57"/>
                    </a:lnTo>
                    <a:lnTo>
                      <a:pt x="58" y="164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98560" y="1019160"/>
                <a:ext cx="39960" cy="59040"/>
              </a:xfrm>
              <a:custGeom>
                <a:avLst/>
                <a:gdLst/>
                <a:ahLst/>
                <a:rect l="0" t="0" r="r" b="b"/>
                <a:pathLst>
                  <a:path w="111" h="164">
                    <a:moveTo>
                      <a:pt x="0" y="146"/>
                    </a:moveTo>
                    <a:lnTo>
                      <a:pt x="0" y="39"/>
                    </a:lnTo>
                    <a:lnTo>
                      <a:pt x="71" y="0"/>
                    </a:lnTo>
                    <a:lnTo>
                      <a:pt x="111" y="13"/>
                    </a:lnTo>
                    <a:lnTo>
                      <a:pt x="58" y="57"/>
                    </a:lnTo>
                    <a:lnTo>
                      <a:pt x="62" y="164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44640" y="1030320"/>
                <a:ext cx="38520" cy="59040"/>
              </a:xfrm>
              <a:custGeom>
                <a:avLst/>
                <a:gdLst/>
                <a:ahLst/>
                <a:rect l="0" t="0" r="r" b="b"/>
                <a:pathLst>
                  <a:path w="107" h="164">
                    <a:moveTo>
                      <a:pt x="0" y="146"/>
                    </a:moveTo>
                    <a:lnTo>
                      <a:pt x="0" y="39"/>
                    </a:lnTo>
                    <a:lnTo>
                      <a:pt x="67" y="0"/>
                    </a:lnTo>
                    <a:lnTo>
                      <a:pt x="107" y="13"/>
                    </a:lnTo>
                    <a:lnTo>
                      <a:pt x="53" y="57"/>
                    </a:lnTo>
                    <a:lnTo>
                      <a:pt x="58" y="164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84320" y="855720"/>
                <a:ext cx="313200" cy="170280"/>
              </a:xfrm>
              <a:custGeom>
                <a:avLst/>
                <a:gdLst/>
                <a:ahLst/>
                <a:rect l="0" t="0" r="r" b="b"/>
                <a:pathLst>
                  <a:path w="870" h="473">
                    <a:moveTo>
                      <a:pt x="481" y="0"/>
                    </a:moveTo>
                    <a:lnTo>
                      <a:pt x="870" y="79"/>
                    </a:lnTo>
                    <a:lnTo>
                      <a:pt x="411" y="473"/>
                    </a:lnTo>
                    <a:lnTo>
                      <a:pt x="0" y="372"/>
                    </a:lnTo>
                    <a:lnTo>
                      <a:pt x="481" y="0"/>
                    </a:lnTo>
                    <a:close/>
                  </a:path>
                </a:pathLst>
              </a:custGeom>
              <a:blipFill rotWithShape="0">
                <a:blip r:embed="rId11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351160" y="623880"/>
                <a:ext cx="228960" cy="106560"/>
              </a:xfrm>
              <a:custGeom>
                <a:avLst/>
                <a:gdLst/>
                <a:ahLst/>
                <a:rect l="0" t="0" r="r" b="b"/>
                <a:pathLst>
                  <a:path w="636" h="296">
                    <a:moveTo>
                      <a:pt x="255" y="0"/>
                    </a:moveTo>
                    <a:lnTo>
                      <a:pt x="636" y="88"/>
                    </a:lnTo>
                    <a:lnTo>
                      <a:pt x="375" y="296"/>
                    </a:lnTo>
                    <a:lnTo>
                      <a:pt x="0" y="208"/>
                    </a:lnTo>
                    <a:lnTo>
                      <a:pt x="255" y="0"/>
                    </a:lnTo>
                    <a:close/>
                  </a:path>
                </a:pathLst>
              </a:custGeom>
              <a:blipFill rotWithShape="0">
                <a:blip r:embed="rId12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51000" y="1441440"/>
                <a:ext cx="78120" cy="89280"/>
              </a:xfrm>
              <a:custGeom>
                <a:avLst/>
                <a:gdLst/>
                <a:ahLst/>
                <a:rect l="0" t="0" r="r" b="b"/>
                <a:pathLst>
                  <a:path w="217" h="248">
                    <a:moveTo>
                      <a:pt x="168" y="0"/>
                    </a:moveTo>
                    <a:lnTo>
                      <a:pt x="217" y="26"/>
                    </a:lnTo>
                    <a:lnTo>
                      <a:pt x="57" y="172"/>
                    </a:lnTo>
                    <a:lnTo>
                      <a:pt x="52" y="248"/>
                    </a:lnTo>
                    <a:lnTo>
                      <a:pt x="0" y="235"/>
                    </a:lnTo>
                    <a:lnTo>
                      <a:pt x="0" y="146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7b00e4"/>
              </a:solidFill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170080" y="1449360"/>
                <a:ext cx="62280" cy="84600"/>
              </a:xfrm>
              <a:custGeom>
                <a:avLst/>
                <a:gdLst/>
                <a:ahLst/>
                <a:rect l="0" t="0" r="r" b="b"/>
                <a:pathLst>
                  <a:path w="173" h="235">
                    <a:moveTo>
                      <a:pt x="0" y="142"/>
                    </a:moveTo>
                    <a:lnTo>
                      <a:pt x="0" y="235"/>
                    </a:lnTo>
                    <a:lnTo>
                      <a:pt x="102" y="182"/>
                    </a:lnTo>
                    <a:lnTo>
                      <a:pt x="173" y="102"/>
                    </a:lnTo>
                    <a:lnTo>
                      <a:pt x="173" y="0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b760f9"/>
              </a:solidFill>
              <a:ln w="0">
                <a:noFill/>
              </a:ln>
            </p:spPr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187280" y="860400"/>
                <a:ext cx="560880" cy="159120"/>
              </a:xfrm>
              <a:custGeom>
                <a:avLst/>
                <a:gdLst/>
                <a:ahLst/>
                <a:rect l="0" t="0" r="r" b="b"/>
                <a:pathLst>
                  <a:path w="1558" h="442">
                    <a:moveTo>
                      <a:pt x="70" y="0"/>
                    </a:moveTo>
                    <a:lnTo>
                      <a:pt x="0" y="57"/>
                    </a:lnTo>
                    <a:lnTo>
                      <a:pt x="1501" y="442"/>
                    </a:lnTo>
                    <a:lnTo>
                      <a:pt x="1558" y="39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8c8c8c"/>
              </a:solidFill>
              <a:ln w="12600">
                <a:solidFill>
                  <a:srgbClr val="8c8c8c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638440" y="758880"/>
                <a:ext cx="25920" cy="55800"/>
              </a:xfrm>
              <a:custGeom>
                <a:avLst/>
                <a:gdLst/>
                <a:ahLst/>
                <a:rect l="0" t="0" r="r" b="b"/>
                <a:pathLst>
                  <a:path w="72" h="155">
                    <a:moveTo>
                      <a:pt x="0" y="26"/>
                    </a:moveTo>
                    <a:lnTo>
                      <a:pt x="0" y="155"/>
                    </a:lnTo>
                    <a:lnTo>
                      <a:pt x="72" y="120"/>
                    </a:lnTo>
                    <a:lnTo>
                      <a:pt x="72" y="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7" name=""/>
              <p:cNvGrpSpPr/>
              <p:nvPr/>
            </p:nvGrpSpPr>
            <p:grpSpPr>
              <a:xfrm>
                <a:off x="2398680" y="879480"/>
                <a:ext cx="468360" cy="469440"/>
                <a:chOff x="2398680" y="879480"/>
                <a:chExt cx="468360" cy="46944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2398680" y="879480"/>
                  <a:ext cx="227520" cy="451080"/>
                </a:xfrm>
                <a:custGeom>
                  <a:avLst/>
                  <a:gdLst/>
                  <a:ahLst/>
                  <a:rect l="0" t="0" r="r" b="b"/>
                  <a:pathLst>
                    <a:path w="632" h="1253">
                      <a:moveTo>
                        <a:pt x="433" y="0"/>
                      </a:moveTo>
                      <a:lnTo>
                        <a:pt x="353" y="35"/>
                      </a:lnTo>
                      <a:lnTo>
                        <a:pt x="269" y="101"/>
                      </a:lnTo>
                      <a:lnTo>
                        <a:pt x="186" y="189"/>
                      </a:lnTo>
                      <a:lnTo>
                        <a:pt x="119" y="313"/>
                      </a:lnTo>
                      <a:lnTo>
                        <a:pt x="52" y="485"/>
                      </a:lnTo>
                      <a:lnTo>
                        <a:pt x="4" y="693"/>
                      </a:lnTo>
                      <a:lnTo>
                        <a:pt x="0" y="882"/>
                      </a:lnTo>
                      <a:lnTo>
                        <a:pt x="13" y="1041"/>
                      </a:lnTo>
                      <a:lnTo>
                        <a:pt x="52" y="1151"/>
                      </a:lnTo>
                      <a:lnTo>
                        <a:pt x="105" y="1209"/>
                      </a:lnTo>
                      <a:lnTo>
                        <a:pt x="234" y="1248"/>
                      </a:lnTo>
                      <a:lnTo>
                        <a:pt x="371" y="1253"/>
                      </a:lnTo>
                      <a:lnTo>
                        <a:pt x="305" y="1209"/>
                      </a:lnTo>
                      <a:lnTo>
                        <a:pt x="239" y="1076"/>
                      </a:lnTo>
                      <a:lnTo>
                        <a:pt x="221" y="975"/>
                      </a:lnTo>
                      <a:lnTo>
                        <a:pt x="221" y="838"/>
                      </a:lnTo>
                      <a:lnTo>
                        <a:pt x="225" y="666"/>
                      </a:lnTo>
                      <a:lnTo>
                        <a:pt x="278" y="520"/>
                      </a:lnTo>
                      <a:lnTo>
                        <a:pt x="322" y="405"/>
                      </a:lnTo>
                      <a:lnTo>
                        <a:pt x="411" y="238"/>
                      </a:lnTo>
                      <a:lnTo>
                        <a:pt x="487" y="136"/>
                      </a:lnTo>
                      <a:lnTo>
                        <a:pt x="562" y="70"/>
                      </a:lnTo>
                      <a:lnTo>
                        <a:pt x="632" y="39"/>
                      </a:lnTo>
                      <a:lnTo>
                        <a:pt x="4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2473200" y="893880"/>
                  <a:ext cx="184680" cy="437040"/>
                </a:xfrm>
                <a:custGeom>
                  <a:avLst/>
                  <a:gdLst/>
                  <a:ahLst/>
                  <a:rect l="0" t="0" r="r" b="b"/>
                  <a:pathLst>
                    <a:path w="513" h="1214">
                      <a:moveTo>
                        <a:pt x="513" y="66"/>
                      </a:moveTo>
                      <a:lnTo>
                        <a:pt x="478" y="30"/>
                      </a:lnTo>
                      <a:lnTo>
                        <a:pt x="425" y="0"/>
                      </a:lnTo>
                      <a:lnTo>
                        <a:pt x="340" y="35"/>
                      </a:lnTo>
                      <a:lnTo>
                        <a:pt x="265" y="110"/>
                      </a:lnTo>
                      <a:lnTo>
                        <a:pt x="203" y="194"/>
                      </a:lnTo>
                      <a:lnTo>
                        <a:pt x="133" y="309"/>
                      </a:lnTo>
                      <a:lnTo>
                        <a:pt x="70" y="455"/>
                      </a:lnTo>
                      <a:lnTo>
                        <a:pt x="35" y="569"/>
                      </a:lnTo>
                      <a:lnTo>
                        <a:pt x="4" y="741"/>
                      </a:lnTo>
                      <a:lnTo>
                        <a:pt x="0" y="878"/>
                      </a:lnTo>
                      <a:lnTo>
                        <a:pt x="26" y="1020"/>
                      </a:lnTo>
                      <a:lnTo>
                        <a:pt x="61" y="1144"/>
                      </a:lnTo>
                      <a:lnTo>
                        <a:pt x="123" y="1197"/>
                      </a:lnTo>
                      <a:lnTo>
                        <a:pt x="159" y="1214"/>
                      </a:lnTo>
                      <a:lnTo>
                        <a:pt x="239" y="1197"/>
                      </a:lnTo>
                      <a:lnTo>
                        <a:pt x="150" y="1108"/>
                      </a:lnTo>
                      <a:lnTo>
                        <a:pt x="101" y="1029"/>
                      </a:lnTo>
                      <a:lnTo>
                        <a:pt x="88" y="909"/>
                      </a:lnTo>
                      <a:lnTo>
                        <a:pt x="79" y="737"/>
                      </a:lnTo>
                      <a:lnTo>
                        <a:pt x="110" y="600"/>
                      </a:lnTo>
                      <a:lnTo>
                        <a:pt x="150" y="468"/>
                      </a:lnTo>
                      <a:lnTo>
                        <a:pt x="208" y="349"/>
                      </a:lnTo>
                      <a:lnTo>
                        <a:pt x="269" y="238"/>
                      </a:lnTo>
                      <a:lnTo>
                        <a:pt x="344" y="141"/>
                      </a:lnTo>
                      <a:lnTo>
                        <a:pt x="434" y="79"/>
                      </a:lnTo>
                      <a:lnTo>
                        <a:pt x="513" y="66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502000" y="914400"/>
                  <a:ext cx="236880" cy="421200"/>
                </a:xfrm>
                <a:custGeom>
                  <a:avLst/>
                  <a:gdLst/>
                  <a:ahLst/>
                  <a:rect l="0" t="0" r="r" b="b"/>
                  <a:pathLst>
                    <a:path w="658" h="1170">
                      <a:moveTo>
                        <a:pt x="433" y="0"/>
                      </a:moveTo>
                      <a:lnTo>
                        <a:pt x="658" y="70"/>
                      </a:lnTo>
                      <a:lnTo>
                        <a:pt x="583" y="97"/>
                      </a:lnTo>
                      <a:lnTo>
                        <a:pt x="508" y="154"/>
                      </a:lnTo>
                      <a:lnTo>
                        <a:pt x="419" y="300"/>
                      </a:lnTo>
                      <a:lnTo>
                        <a:pt x="358" y="441"/>
                      </a:lnTo>
                      <a:lnTo>
                        <a:pt x="299" y="600"/>
                      </a:lnTo>
                      <a:lnTo>
                        <a:pt x="277" y="759"/>
                      </a:lnTo>
                      <a:lnTo>
                        <a:pt x="273" y="910"/>
                      </a:lnTo>
                      <a:lnTo>
                        <a:pt x="282" y="1038"/>
                      </a:lnTo>
                      <a:lnTo>
                        <a:pt x="321" y="1139"/>
                      </a:lnTo>
                      <a:lnTo>
                        <a:pt x="353" y="1170"/>
                      </a:lnTo>
                      <a:lnTo>
                        <a:pt x="110" y="1122"/>
                      </a:lnTo>
                      <a:lnTo>
                        <a:pt x="48" y="1029"/>
                      </a:lnTo>
                      <a:lnTo>
                        <a:pt x="17" y="923"/>
                      </a:lnTo>
                      <a:lnTo>
                        <a:pt x="0" y="803"/>
                      </a:lnTo>
                      <a:lnTo>
                        <a:pt x="4" y="680"/>
                      </a:lnTo>
                      <a:lnTo>
                        <a:pt x="26" y="552"/>
                      </a:lnTo>
                      <a:lnTo>
                        <a:pt x="66" y="415"/>
                      </a:lnTo>
                      <a:lnTo>
                        <a:pt x="123" y="282"/>
                      </a:lnTo>
                      <a:lnTo>
                        <a:pt x="207" y="145"/>
                      </a:lnTo>
                      <a:lnTo>
                        <a:pt x="291" y="57"/>
                      </a:lnTo>
                      <a:lnTo>
                        <a:pt x="358" y="17"/>
                      </a:lnTo>
                      <a:lnTo>
                        <a:pt x="433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2598840" y="938160"/>
                  <a:ext cx="152640" cy="397080"/>
                </a:xfrm>
                <a:custGeom>
                  <a:avLst/>
                  <a:gdLst/>
                  <a:ahLst/>
                  <a:rect l="0" t="0" r="r" b="b"/>
                  <a:pathLst>
                    <a:path w="424" h="1103">
                      <a:moveTo>
                        <a:pt x="419" y="39"/>
                      </a:moveTo>
                      <a:lnTo>
                        <a:pt x="362" y="0"/>
                      </a:lnTo>
                      <a:lnTo>
                        <a:pt x="358" y="17"/>
                      </a:lnTo>
                      <a:lnTo>
                        <a:pt x="336" y="8"/>
                      </a:lnTo>
                      <a:lnTo>
                        <a:pt x="287" y="39"/>
                      </a:lnTo>
                      <a:lnTo>
                        <a:pt x="225" y="92"/>
                      </a:lnTo>
                      <a:lnTo>
                        <a:pt x="158" y="202"/>
                      </a:lnTo>
                      <a:lnTo>
                        <a:pt x="110" y="299"/>
                      </a:lnTo>
                      <a:lnTo>
                        <a:pt x="57" y="458"/>
                      </a:lnTo>
                      <a:lnTo>
                        <a:pt x="17" y="613"/>
                      </a:lnTo>
                      <a:lnTo>
                        <a:pt x="0" y="768"/>
                      </a:lnTo>
                      <a:lnTo>
                        <a:pt x="0" y="891"/>
                      </a:lnTo>
                      <a:lnTo>
                        <a:pt x="4" y="984"/>
                      </a:lnTo>
                      <a:lnTo>
                        <a:pt x="35" y="1054"/>
                      </a:lnTo>
                      <a:lnTo>
                        <a:pt x="70" y="1103"/>
                      </a:lnTo>
                      <a:lnTo>
                        <a:pt x="132" y="1090"/>
                      </a:lnTo>
                      <a:lnTo>
                        <a:pt x="154" y="1050"/>
                      </a:lnTo>
                      <a:lnTo>
                        <a:pt x="92" y="1015"/>
                      </a:lnTo>
                      <a:lnTo>
                        <a:pt x="66" y="922"/>
                      </a:lnTo>
                      <a:lnTo>
                        <a:pt x="52" y="746"/>
                      </a:lnTo>
                      <a:lnTo>
                        <a:pt x="79" y="583"/>
                      </a:lnTo>
                      <a:lnTo>
                        <a:pt x="110" y="449"/>
                      </a:lnTo>
                      <a:lnTo>
                        <a:pt x="154" y="343"/>
                      </a:lnTo>
                      <a:lnTo>
                        <a:pt x="207" y="220"/>
                      </a:lnTo>
                      <a:lnTo>
                        <a:pt x="269" y="119"/>
                      </a:lnTo>
                      <a:lnTo>
                        <a:pt x="353" y="57"/>
                      </a:lnTo>
                      <a:lnTo>
                        <a:pt x="424" y="66"/>
                      </a:lnTo>
                      <a:lnTo>
                        <a:pt x="419" y="39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2617920" y="958680"/>
                  <a:ext cx="217800" cy="389160"/>
                </a:xfrm>
                <a:custGeom>
                  <a:avLst/>
                  <a:gdLst/>
                  <a:ahLst/>
                  <a:rect l="0" t="0" r="r" b="b"/>
                  <a:pathLst>
                    <a:path w="605" h="1081">
                      <a:moveTo>
                        <a:pt x="327" y="0"/>
                      </a:moveTo>
                      <a:lnTo>
                        <a:pt x="605" y="79"/>
                      </a:lnTo>
                      <a:lnTo>
                        <a:pt x="477" y="167"/>
                      </a:lnTo>
                      <a:lnTo>
                        <a:pt x="411" y="326"/>
                      </a:lnTo>
                      <a:lnTo>
                        <a:pt x="353" y="493"/>
                      </a:lnTo>
                      <a:lnTo>
                        <a:pt x="318" y="671"/>
                      </a:lnTo>
                      <a:lnTo>
                        <a:pt x="286" y="847"/>
                      </a:lnTo>
                      <a:lnTo>
                        <a:pt x="305" y="993"/>
                      </a:lnTo>
                      <a:lnTo>
                        <a:pt x="353" y="1081"/>
                      </a:lnTo>
                      <a:lnTo>
                        <a:pt x="52" y="988"/>
                      </a:lnTo>
                      <a:lnTo>
                        <a:pt x="17" y="927"/>
                      </a:lnTo>
                      <a:lnTo>
                        <a:pt x="4" y="830"/>
                      </a:lnTo>
                      <a:lnTo>
                        <a:pt x="0" y="724"/>
                      </a:lnTo>
                      <a:lnTo>
                        <a:pt x="8" y="613"/>
                      </a:lnTo>
                      <a:lnTo>
                        <a:pt x="39" y="489"/>
                      </a:lnTo>
                      <a:lnTo>
                        <a:pt x="70" y="374"/>
                      </a:lnTo>
                      <a:lnTo>
                        <a:pt x="132" y="211"/>
                      </a:lnTo>
                      <a:lnTo>
                        <a:pt x="202" y="105"/>
                      </a:lnTo>
                      <a:lnTo>
                        <a:pt x="255" y="30"/>
                      </a:lnTo>
                      <a:lnTo>
                        <a:pt x="327" y="0"/>
                      </a:lnTo>
                      <a:close/>
                    </a:path>
                  </a:pathLst>
                </a:custGeom>
                <a:solidFill>
                  <a:srgbClr val="797979"/>
                </a:solidFill>
                <a:ln w="12600">
                  <a:solidFill>
                    <a:srgbClr val="797979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2718720" y="986040"/>
                  <a:ext cx="148320" cy="362880"/>
                </a:xfrm>
                <a:custGeom>
                  <a:avLst/>
                  <a:gdLst/>
                  <a:ahLst/>
                  <a:rect l="0" t="0" r="r" b="b"/>
                  <a:pathLst>
                    <a:path w="412" h="1008">
                      <a:moveTo>
                        <a:pt x="42" y="464"/>
                      </a:moveTo>
                      <a:lnTo>
                        <a:pt x="42" y="464"/>
                      </a:lnTo>
                      <a:cubicBezTo>
                        <a:pt x="20" y="552"/>
                        <a:pt x="6" y="641"/>
                        <a:pt x="1" y="720"/>
                      </a:cubicBezTo>
                      <a:cubicBezTo>
                        <a:pt x="-3" y="800"/>
                        <a:pt x="1" y="869"/>
                        <a:pt x="15" y="919"/>
                      </a:cubicBezTo>
                      <a:cubicBezTo>
                        <a:pt x="29" y="969"/>
                        <a:pt x="51" y="999"/>
                        <a:pt x="80" y="1007"/>
                      </a:cubicBezTo>
                      <a:cubicBezTo>
                        <a:pt x="109" y="1014"/>
                        <a:pt x="143" y="998"/>
                        <a:pt x="178" y="960"/>
                      </a:cubicBezTo>
                      <a:cubicBezTo>
                        <a:pt x="214" y="922"/>
                        <a:pt x="251" y="863"/>
                        <a:pt x="284" y="791"/>
                      </a:cubicBezTo>
                      <a:cubicBezTo>
                        <a:pt x="318" y="718"/>
                        <a:pt x="347" y="633"/>
                        <a:pt x="369" y="545"/>
                      </a:cubicBezTo>
                      <a:lnTo>
                        <a:pt x="369" y="545"/>
                      </a:lnTo>
                      <a:lnTo>
                        <a:pt x="369" y="545"/>
                      </a:lnTo>
                      <a:cubicBezTo>
                        <a:pt x="391" y="457"/>
                        <a:pt x="405" y="368"/>
                        <a:pt x="410" y="289"/>
                      </a:cubicBezTo>
                      <a:cubicBezTo>
                        <a:pt x="414" y="209"/>
                        <a:pt x="410" y="140"/>
                        <a:pt x="396" y="90"/>
                      </a:cubicBezTo>
                      <a:cubicBezTo>
                        <a:pt x="382" y="40"/>
                        <a:pt x="360" y="10"/>
                        <a:pt x="331" y="2"/>
                      </a:cubicBezTo>
                      <a:cubicBezTo>
                        <a:pt x="302" y="-5"/>
                        <a:pt x="268" y="11"/>
                        <a:pt x="233" y="49"/>
                      </a:cubicBezTo>
                      <a:cubicBezTo>
                        <a:pt x="197" y="87"/>
                        <a:pt x="160" y="146"/>
                        <a:pt x="127" y="218"/>
                      </a:cubicBezTo>
                      <a:cubicBezTo>
                        <a:pt x="93" y="291"/>
                        <a:pt x="64" y="376"/>
                        <a:pt x="42" y="464"/>
                      </a:cubicBez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2737080" y="1033920"/>
                  <a:ext cx="104040" cy="269280"/>
                </a:xfrm>
                <a:custGeom>
                  <a:avLst/>
                  <a:gdLst/>
                  <a:ahLst/>
                  <a:rect l="0" t="0" r="r" b="b"/>
                  <a:pathLst>
                    <a:path w="289" h="748">
                      <a:moveTo>
                        <a:pt x="34" y="346"/>
                      </a:moveTo>
                      <a:lnTo>
                        <a:pt x="34" y="346"/>
                      </a:lnTo>
                      <a:cubicBezTo>
                        <a:pt x="34" y="347"/>
                        <a:pt x="34" y="347"/>
                        <a:pt x="34" y="347"/>
                      </a:cubicBezTo>
                      <a:cubicBezTo>
                        <a:pt x="18" y="412"/>
                        <a:pt x="7" y="478"/>
                        <a:pt x="2" y="537"/>
                      </a:cubicBezTo>
                      <a:cubicBezTo>
                        <a:pt x="-2" y="596"/>
                        <a:pt x="0" y="647"/>
                        <a:pt x="8" y="683"/>
                      </a:cubicBezTo>
                      <a:cubicBezTo>
                        <a:pt x="17" y="720"/>
                        <a:pt x="32" y="742"/>
                        <a:pt x="51" y="747"/>
                      </a:cubicBezTo>
                      <a:cubicBezTo>
                        <a:pt x="70" y="752"/>
                        <a:pt x="94" y="739"/>
                        <a:pt x="119" y="711"/>
                      </a:cubicBezTo>
                      <a:cubicBezTo>
                        <a:pt x="144" y="682"/>
                        <a:pt x="169" y="639"/>
                        <a:pt x="193" y="584"/>
                      </a:cubicBezTo>
                      <a:cubicBezTo>
                        <a:pt x="217" y="530"/>
                        <a:pt x="238" y="467"/>
                        <a:pt x="255" y="402"/>
                      </a:cubicBezTo>
                      <a:lnTo>
                        <a:pt x="255" y="402"/>
                      </a:lnTo>
                      <a:cubicBezTo>
                        <a:pt x="255" y="401"/>
                        <a:pt x="255" y="401"/>
                        <a:pt x="255" y="401"/>
                      </a:cubicBezTo>
                      <a:cubicBezTo>
                        <a:pt x="271" y="336"/>
                        <a:pt x="282" y="270"/>
                        <a:pt x="287" y="211"/>
                      </a:cubicBezTo>
                      <a:cubicBezTo>
                        <a:pt x="291" y="152"/>
                        <a:pt x="289" y="101"/>
                        <a:pt x="281" y="65"/>
                      </a:cubicBezTo>
                      <a:cubicBezTo>
                        <a:pt x="272" y="28"/>
                        <a:pt x="257" y="6"/>
                        <a:pt x="238" y="1"/>
                      </a:cubicBezTo>
                      <a:cubicBezTo>
                        <a:pt x="219" y="-4"/>
                        <a:pt x="195" y="9"/>
                        <a:pt x="170" y="37"/>
                      </a:cubicBezTo>
                      <a:cubicBezTo>
                        <a:pt x="145" y="66"/>
                        <a:pt x="120" y="109"/>
                        <a:pt x="96" y="164"/>
                      </a:cubicBezTo>
                      <a:cubicBezTo>
                        <a:pt x="72" y="218"/>
                        <a:pt x="51" y="281"/>
                        <a:pt x="34" y="34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2752560" y="1073880"/>
                  <a:ext cx="55080" cy="171720"/>
                </a:xfrm>
                <a:custGeom>
                  <a:avLst/>
                  <a:gdLst/>
                  <a:ahLst/>
                  <a:rect l="0" t="0" r="r" b="b"/>
                  <a:pathLst>
                    <a:path w="153" h="477">
                      <a:moveTo>
                        <a:pt x="28" y="226"/>
                      </a:moveTo>
                      <a:lnTo>
                        <a:pt x="28" y="226"/>
                      </a:lnTo>
                      <a:cubicBezTo>
                        <a:pt x="18" y="268"/>
                        <a:pt x="10" y="309"/>
                        <a:pt x="5" y="347"/>
                      </a:cubicBezTo>
                      <a:cubicBezTo>
                        <a:pt x="0" y="384"/>
                        <a:pt x="-1" y="415"/>
                        <a:pt x="1" y="438"/>
                      </a:cubicBezTo>
                      <a:cubicBezTo>
                        <a:pt x="3" y="461"/>
                        <a:pt x="8" y="474"/>
                        <a:pt x="17" y="476"/>
                      </a:cubicBezTo>
                      <a:cubicBezTo>
                        <a:pt x="25" y="478"/>
                        <a:pt x="36" y="469"/>
                        <a:pt x="49" y="450"/>
                      </a:cubicBezTo>
                      <a:cubicBezTo>
                        <a:pt x="61" y="431"/>
                        <a:pt x="75" y="402"/>
                        <a:pt x="88" y="367"/>
                      </a:cubicBezTo>
                      <a:cubicBezTo>
                        <a:pt x="101" y="332"/>
                        <a:pt x="114" y="292"/>
                        <a:pt x="125" y="250"/>
                      </a:cubicBezTo>
                      <a:lnTo>
                        <a:pt x="125" y="250"/>
                      </a:lnTo>
                      <a:lnTo>
                        <a:pt x="125" y="250"/>
                      </a:lnTo>
                      <a:cubicBezTo>
                        <a:pt x="135" y="208"/>
                        <a:pt x="143" y="167"/>
                        <a:pt x="148" y="129"/>
                      </a:cubicBezTo>
                      <a:cubicBezTo>
                        <a:pt x="153" y="92"/>
                        <a:pt x="154" y="61"/>
                        <a:pt x="152" y="38"/>
                      </a:cubicBezTo>
                      <a:cubicBezTo>
                        <a:pt x="150" y="15"/>
                        <a:pt x="145" y="2"/>
                        <a:pt x="136" y="0"/>
                      </a:cubicBezTo>
                      <a:cubicBezTo>
                        <a:pt x="128" y="-2"/>
                        <a:pt x="117" y="7"/>
                        <a:pt x="104" y="26"/>
                      </a:cubicBezTo>
                      <a:cubicBezTo>
                        <a:pt x="92" y="45"/>
                        <a:pt x="78" y="74"/>
                        <a:pt x="65" y="109"/>
                      </a:cubicBezTo>
                      <a:cubicBezTo>
                        <a:pt x="52" y="144"/>
                        <a:pt x="39" y="184"/>
                        <a:pt x="28" y="226"/>
                      </a:cubicBez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6" name=""/>
              <p:cNvSpPr/>
              <p:nvPr/>
            </p:nvSpPr>
            <p:spPr>
              <a:xfrm>
                <a:off x="1940040" y="1563840"/>
                <a:ext cx="103680" cy="52920"/>
              </a:xfrm>
              <a:custGeom>
                <a:avLst/>
                <a:gdLst/>
                <a:ahLst/>
                <a:rect l="0" t="0" r="r" b="b"/>
                <a:pathLst>
                  <a:path w="288" h="147">
                    <a:moveTo>
                      <a:pt x="4" y="0"/>
                    </a:moveTo>
                    <a:lnTo>
                      <a:pt x="288" y="80"/>
                    </a:lnTo>
                    <a:lnTo>
                      <a:pt x="275" y="147"/>
                    </a:lnTo>
                    <a:lnTo>
                      <a:pt x="0" y="67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192320" y="888840"/>
                <a:ext cx="528840" cy="446400"/>
              </a:xfrm>
              <a:custGeom>
                <a:avLst/>
                <a:gdLst/>
                <a:ahLst/>
                <a:rect l="0" t="0" r="r" b="b"/>
                <a:pathLst>
                  <a:path w="1469" h="1240">
                    <a:moveTo>
                      <a:pt x="0" y="0"/>
                    </a:moveTo>
                    <a:lnTo>
                      <a:pt x="0" y="812"/>
                    </a:lnTo>
                    <a:lnTo>
                      <a:pt x="220" y="860"/>
                    </a:lnTo>
                    <a:lnTo>
                      <a:pt x="220" y="361"/>
                    </a:lnTo>
                    <a:lnTo>
                      <a:pt x="1240" y="627"/>
                    </a:lnTo>
                    <a:lnTo>
                      <a:pt x="1240" y="1187"/>
                    </a:lnTo>
                    <a:lnTo>
                      <a:pt x="1469" y="1240"/>
                    </a:lnTo>
                    <a:lnTo>
                      <a:pt x="1469" y="37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187280" y="853920"/>
                <a:ext cx="562320" cy="479880"/>
              </a:xfrm>
              <a:custGeom>
                <a:avLst/>
                <a:gdLst/>
                <a:ahLst/>
                <a:rect l="0" t="0" r="r" b="b"/>
                <a:pathLst>
                  <a:path fill="none" w="1562" h="1333">
                    <a:moveTo>
                      <a:pt x="97" y="0"/>
                    </a:moveTo>
                    <a:lnTo>
                      <a:pt x="0" y="74"/>
                    </a:lnTo>
                    <a:lnTo>
                      <a:pt x="4" y="913"/>
                    </a:lnTo>
                    <a:lnTo>
                      <a:pt x="224" y="966"/>
                    </a:lnTo>
                    <a:lnTo>
                      <a:pt x="224" y="455"/>
                    </a:lnTo>
                    <a:lnTo>
                      <a:pt x="1253" y="733"/>
                    </a:lnTo>
                    <a:lnTo>
                      <a:pt x="1253" y="1271"/>
                    </a:lnTo>
                    <a:lnTo>
                      <a:pt x="1473" y="1333"/>
                    </a:lnTo>
                    <a:lnTo>
                      <a:pt x="1473" y="464"/>
                    </a:lnTo>
                    <a:lnTo>
                      <a:pt x="1562" y="389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111400" y="958680"/>
                <a:ext cx="365040" cy="349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0" name=""/>
            <p:cNvSpPr/>
            <p:nvPr/>
          </p:nvSpPr>
          <p:spPr>
            <a:xfrm>
              <a:off x="870120" y="754200"/>
              <a:ext cx="351360" cy="122760"/>
            </a:xfrm>
            <a:custGeom>
              <a:avLst/>
              <a:gdLst/>
              <a:ahLst/>
              <a:rect l="0" t="0" r="r" b="b"/>
              <a:pathLst>
                <a:path w="976" h="341">
                  <a:moveTo>
                    <a:pt x="167" y="0"/>
                  </a:moveTo>
                  <a:lnTo>
                    <a:pt x="0" y="93"/>
                  </a:lnTo>
                  <a:lnTo>
                    <a:pt x="853" y="341"/>
                  </a:lnTo>
                  <a:lnTo>
                    <a:pt x="976" y="270"/>
                  </a:lnTo>
                  <a:lnTo>
                    <a:pt x="185" y="5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797979"/>
            </a:solidFill>
            <a:ln w="12600">
              <a:solidFill>
                <a:srgbClr val="79797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2449440" y="2017800"/>
            <a:ext cx="3905280" cy="1052640"/>
            <a:chOff x="2449440" y="2017800"/>
            <a:chExt cx="3905280" cy="1052640"/>
          </a:xfrm>
        </p:grpSpPr>
        <p:grpSp>
          <p:nvGrpSpPr>
            <p:cNvPr id="1032" name=""/>
            <p:cNvGrpSpPr/>
            <p:nvPr/>
          </p:nvGrpSpPr>
          <p:grpSpPr>
            <a:xfrm>
              <a:off x="2540160" y="2076480"/>
              <a:ext cx="3649680" cy="730800"/>
              <a:chOff x="2540160" y="2076480"/>
              <a:chExt cx="3649680" cy="730800"/>
            </a:xfrm>
          </p:grpSpPr>
          <p:sp>
            <p:nvSpPr>
              <p:cNvPr id="1033" name=""/>
              <p:cNvSpPr/>
              <p:nvPr/>
            </p:nvSpPr>
            <p:spPr>
              <a:xfrm>
                <a:off x="2540160" y="2076480"/>
                <a:ext cx="316440" cy="702000"/>
              </a:xfrm>
              <a:custGeom>
                <a:avLst/>
                <a:gdLst/>
                <a:ahLst/>
                <a:rect l="0" t="0" r="r" b="b"/>
                <a:pathLst>
                  <a:path w="879" h="1950">
                    <a:moveTo>
                      <a:pt x="292" y="0"/>
                    </a:moveTo>
                    <a:lnTo>
                      <a:pt x="879" y="0"/>
                    </a:lnTo>
                    <a:lnTo>
                      <a:pt x="591" y="1950"/>
                    </a:lnTo>
                    <a:lnTo>
                      <a:pt x="0" y="1950"/>
                    </a:lnTo>
                    <a:lnTo>
                      <a:pt x="2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809800" y="2211480"/>
                <a:ext cx="632160" cy="567000"/>
              </a:xfrm>
              <a:custGeom>
                <a:avLst/>
                <a:gdLst/>
                <a:ahLst/>
                <a:rect l="0" t="0" r="r" b="b"/>
                <a:pathLst>
                  <a:path w="1756" h="1575">
                    <a:moveTo>
                      <a:pt x="0" y="1575"/>
                    </a:moveTo>
                    <a:lnTo>
                      <a:pt x="220" y="52"/>
                    </a:lnTo>
                    <a:lnTo>
                      <a:pt x="802" y="52"/>
                    </a:lnTo>
                    <a:lnTo>
                      <a:pt x="767" y="229"/>
                    </a:lnTo>
                    <a:lnTo>
                      <a:pt x="846" y="158"/>
                    </a:lnTo>
                    <a:lnTo>
                      <a:pt x="922" y="101"/>
                    </a:lnTo>
                    <a:lnTo>
                      <a:pt x="1002" y="61"/>
                    </a:lnTo>
                    <a:lnTo>
                      <a:pt x="1107" y="26"/>
                    </a:lnTo>
                    <a:lnTo>
                      <a:pt x="1182" y="8"/>
                    </a:lnTo>
                    <a:lnTo>
                      <a:pt x="1279" y="0"/>
                    </a:lnTo>
                    <a:lnTo>
                      <a:pt x="1372" y="8"/>
                    </a:lnTo>
                    <a:lnTo>
                      <a:pt x="1465" y="39"/>
                    </a:lnTo>
                    <a:lnTo>
                      <a:pt x="1526" y="74"/>
                    </a:lnTo>
                    <a:lnTo>
                      <a:pt x="1606" y="127"/>
                    </a:lnTo>
                    <a:lnTo>
                      <a:pt x="1667" y="189"/>
                    </a:lnTo>
                    <a:lnTo>
                      <a:pt x="1716" y="273"/>
                    </a:lnTo>
                    <a:lnTo>
                      <a:pt x="1756" y="388"/>
                    </a:lnTo>
                    <a:lnTo>
                      <a:pt x="1756" y="520"/>
                    </a:lnTo>
                    <a:lnTo>
                      <a:pt x="1614" y="1575"/>
                    </a:lnTo>
                    <a:lnTo>
                      <a:pt x="1054" y="1575"/>
                    </a:lnTo>
                    <a:lnTo>
                      <a:pt x="1160" y="709"/>
                    </a:lnTo>
                    <a:lnTo>
                      <a:pt x="1169" y="608"/>
                    </a:lnTo>
                    <a:lnTo>
                      <a:pt x="1151" y="520"/>
                    </a:lnTo>
                    <a:lnTo>
                      <a:pt x="1099" y="476"/>
                    </a:lnTo>
                    <a:lnTo>
                      <a:pt x="1010" y="458"/>
                    </a:lnTo>
                    <a:lnTo>
                      <a:pt x="913" y="458"/>
                    </a:lnTo>
                    <a:lnTo>
                      <a:pt x="820" y="476"/>
                    </a:lnTo>
                    <a:lnTo>
                      <a:pt x="754" y="542"/>
                    </a:lnTo>
                    <a:lnTo>
                      <a:pt x="727" y="621"/>
                    </a:lnTo>
                    <a:lnTo>
                      <a:pt x="568" y="1575"/>
                    </a:lnTo>
                    <a:lnTo>
                      <a:pt x="0" y="15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500280" y="2076480"/>
                <a:ext cx="557640" cy="702000"/>
              </a:xfrm>
              <a:custGeom>
                <a:avLst/>
                <a:gdLst/>
                <a:ahLst/>
                <a:rect l="0" t="0" r="r" b="b"/>
                <a:pathLst>
                  <a:path w="1549" h="1950">
                    <a:moveTo>
                      <a:pt x="260" y="0"/>
                    </a:moveTo>
                    <a:lnTo>
                      <a:pt x="0" y="1950"/>
                    </a:lnTo>
                    <a:lnTo>
                      <a:pt x="583" y="1950"/>
                    </a:lnTo>
                    <a:lnTo>
                      <a:pt x="684" y="1253"/>
                    </a:lnTo>
                    <a:lnTo>
                      <a:pt x="1147" y="1253"/>
                    </a:lnTo>
                    <a:lnTo>
                      <a:pt x="1214" y="758"/>
                    </a:lnTo>
                    <a:lnTo>
                      <a:pt x="763" y="758"/>
                    </a:lnTo>
                    <a:lnTo>
                      <a:pt x="790" y="507"/>
                    </a:lnTo>
                    <a:lnTo>
                      <a:pt x="1474" y="507"/>
                    </a:lnTo>
                    <a:lnTo>
                      <a:pt x="1549" y="0"/>
                    </a:lnTo>
                    <a:lnTo>
                      <a:pt x="2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946680" y="2219400"/>
                <a:ext cx="1198800" cy="581400"/>
              </a:xfrm>
              <a:custGeom>
                <a:avLst/>
                <a:gdLst/>
                <a:ahLst/>
                <a:rect l="0" t="0" r="r" b="b"/>
                <a:pathLst>
                  <a:path w="3330" h="1615">
                    <a:moveTo>
                      <a:pt x="3330" y="561"/>
                    </a:moveTo>
                    <a:lnTo>
                      <a:pt x="3330" y="481"/>
                    </a:lnTo>
                    <a:lnTo>
                      <a:pt x="3308" y="406"/>
                    </a:lnTo>
                    <a:lnTo>
                      <a:pt x="3281" y="339"/>
                    </a:lnTo>
                    <a:lnTo>
                      <a:pt x="3228" y="277"/>
                    </a:lnTo>
                    <a:lnTo>
                      <a:pt x="3176" y="220"/>
                    </a:lnTo>
                    <a:lnTo>
                      <a:pt x="3087" y="154"/>
                    </a:lnTo>
                    <a:lnTo>
                      <a:pt x="2990" y="105"/>
                    </a:lnTo>
                    <a:lnTo>
                      <a:pt x="2911" y="70"/>
                    </a:lnTo>
                    <a:lnTo>
                      <a:pt x="2783" y="26"/>
                    </a:lnTo>
                    <a:lnTo>
                      <a:pt x="2646" y="13"/>
                    </a:lnTo>
                    <a:lnTo>
                      <a:pt x="2510" y="0"/>
                    </a:lnTo>
                    <a:lnTo>
                      <a:pt x="2355" y="22"/>
                    </a:lnTo>
                    <a:lnTo>
                      <a:pt x="2219" y="57"/>
                    </a:lnTo>
                    <a:lnTo>
                      <a:pt x="2108" y="119"/>
                    </a:lnTo>
                    <a:lnTo>
                      <a:pt x="2016" y="171"/>
                    </a:lnTo>
                    <a:lnTo>
                      <a:pt x="1936" y="233"/>
                    </a:lnTo>
                    <a:lnTo>
                      <a:pt x="1844" y="326"/>
                    </a:lnTo>
                    <a:lnTo>
                      <a:pt x="1786" y="419"/>
                    </a:lnTo>
                    <a:lnTo>
                      <a:pt x="1716" y="538"/>
                    </a:lnTo>
                    <a:lnTo>
                      <a:pt x="1658" y="396"/>
                    </a:lnTo>
                    <a:lnTo>
                      <a:pt x="1565" y="277"/>
                    </a:lnTo>
                    <a:lnTo>
                      <a:pt x="1486" y="207"/>
                    </a:lnTo>
                    <a:lnTo>
                      <a:pt x="1389" y="136"/>
                    </a:lnTo>
                    <a:lnTo>
                      <a:pt x="1252" y="79"/>
                    </a:lnTo>
                    <a:lnTo>
                      <a:pt x="1111" y="44"/>
                    </a:lnTo>
                    <a:lnTo>
                      <a:pt x="965" y="26"/>
                    </a:lnTo>
                    <a:lnTo>
                      <a:pt x="798" y="26"/>
                    </a:lnTo>
                    <a:lnTo>
                      <a:pt x="626" y="57"/>
                    </a:lnTo>
                    <a:lnTo>
                      <a:pt x="485" y="114"/>
                    </a:lnTo>
                    <a:lnTo>
                      <a:pt x="361" y="185"/>
                    </a:lnTo>
                    <a:lnTo>
                      <a:pt x="242" y="277"/>
                    </a:lnTo>
                    <a:lnTo>
                      <a:pt x="149" y="374"/>
                    </a:lnTo>
                    <a:lnTo>
                      <a:pt x="79" y="481"/>
                    </a:lnTo>
                    <a:lnTo>
                      <a:pt x="26" y="600"/>
                    </a:lnTo>
                    <a:lnTo>
                      <a:pt x="0" y="750"/>
                    </a:lnTo>
                    <a:lnTo>
                      <a:pt x="0" y="891"/>
                    </a:lnTo>
                    <a:lnTo>
                      <a:pt x="13" y="1006"/>
                    </a:lnTo>
                    <a:lnTo>
                      <a:pt x="48" y="1125"/>
                    </a:lnTo>
                    <a:lnTo>
                      <a:pt x="92" y="1227"/>
                    </a:lnTo>
                    <a:lnTo>
                      <a:pt x="163" y="1311"/>
                    </a:lnTo>
                    <a:lnTo>
                      <a:pt x="255" y="1404"/>
                    </a:lnTo>
                    <a:lnTo>
                      <a:pt x="339" y="1466"/>
                    </a:lnTo>
                    <a:lnTo>
                      <a:pt x="440" y="1532"/>
                    </a:lnTo>
                    <a:lnTo>
                      <a:pt x="560" y="1571"/>
                    </a:lnTo>
                    <a:lnTo>
                      <a:pt x="687" y="1593"/>
                    </a:lnTo>
                    <a:lnTo>
                      <a:pt x="811" y="1615"/>
                    </a:lnTo>
                    <a:lnTo>
                      <a:pt x="930" y="1607"/>
                    </a:lnTo>
                    <a:lnTo>
                      <a:pt x="1067" y="1593"/>
                    </a:lnTo>
                    <a:lnTo>
                      <a:pt x="1172" y="1567"/>
                    </a:lnTo>
                    <a:lnTo>
                      <a:pt x="1265" y="1532"/>
                    </a:lnTo>
                    <a:lnTo>
                      <a:pt x="1367" y="1474"/>
                    </a:lnTo>
                    <a:lnTo>
                      <a:pt x="1450" y="1417"/>
                    </a:lnTo>
                    <a:lnTo>
                      <a:pt x="1534" y="1333"/>
                    </a:lnTo>
                    <a:lnTo>
                      <a:pt x="1609" y="1227"/>
                    </a:lnTo>
                    <a:lnTo>
                      <a:pt x="1685" y="1112"/>
                    </a:lnTo>
                    <a:lnTo>
                      <a:pt x="1716" y="1112"/>
                    </a:lnTo>
                    <a:lnTo>
                      <a:pt x="1756" y="1214"/>
                    </a:lnTo>
                    <a:lnTo>
                      <a:pt x="1813" y="1298"/>
                    </a:lnTo>
                    <a:lnTo>
                      <a:pt x="1879" y="1369"/>
                    </a:lnTo>
                    <a:lnTo>
                      <a:pt x="1950" y="1439"/>
                    </a:lnTo>
                    <a:lnTo>
                      <a:pt x="2051" y="1501"/>
                    </a:lnTo>
                    <a:lnTo>
                      <a:pt x="2148" y="1554"/>
                    </a:lnTo>
                    <a:lnTo>
                      <a:pt x="2263" y="1580"/>
                    </a:lnTo>
                    <a:lnTo>
                      <a:pt x="2404" y="1593"/>
                    </a:lnTo>
                    <a:lnTo>
                      <a:pt x="2532" y="1602"/>
                    </a:lnTo>
                    <a:lnTo>
                      <a:pt x="2642" y="1602"/>
                    </a:lnTo>
                    <a:lnTo>
                      <a:pt x="2761" y="1593"/>
                    </a:lnTo>
                    <a:lnTo>
                      <a:pt x="2876" y="1558"/>
                    </a:lnTo>
                    <a:lnTo>
                      <a:pt x="2968" y="1518"/>
                    </a:lnTo>
                    <a:lnTo>
                      <a:pt x="3061" y="1466"/>
                    </a:lnTo>
                    <a:lnTo>
                      <a:pt x="3136" y="1408"/>
                    </a:lnTo>
                    <a:lnTo>
                      <a:pt x="3211" y="1338"/>
                    </a:lnTo>
                    <a:lnTo>
                      <a:pt x="3250" y="1254"/>
                    </a:lnTo>
                    <a:lnTo>
                      <a:pt x="3264" y="1182"/>
                    </a:lnTo>
                    <a:lnTo>
                      <a:pt x="3259" y="1125"/>
                    </a:lnTo>
                    <a:lnTo>
                      <a:pt x="2809" y="1032"/>
                    </a:lnTo>
                    <a:lnTo>
                      <a:pt x="2783" y="1085"/>
                    </a:lnTo>
                    <a:lnTo>
                      <a:pt x="2730" y="1138"/>
                    </a:lnTo>
                    <a:lnTo>
                      <a:pt x="2668" y="1173"/>
                    </a:lnTo>
                    <a:lnTo>
                      <a:pt x="2585" y="1191"/>
                    </a:lnTo>
                    <a:lnTo>
                      <a:pt x="2505" y="1191"/>
                    </a:lnTo>
                    <a:lnTo>
                      <a:pt x="2435" y="1173"/>
                    </a:lnTo>
                    <a:lnTo>
                      <a:pt x="2355" y="1138"/>
                    </a:lnTo>
                    <a:lnTo>
                      <a:pt x="2298" y="1099"/>
                    </a:lnTo>
                    <a:lnTo>
                      <a:pt x="2254" y="1050"/>
                    </a:lnTo>
                    <a:lnTo>
                      <a:pt x="2227" y="993"/>
                    </a:lnTo>
                    <a:lnTo>
                      <a:pt x="2214" y="922"/>
                    </a:lnTo>
                    <a:lnTo>
                      <a:pt x="1208" y="785"/>
                    </a:lnTo>
                    <a:lnTo>
                      <a:pt x="1203" y="922"/>
                    </a:lnTo>
                    <a:lnTo>
                      <a:pt x="1172" y="997"/>
                    </a:lnTo>
                    <a:lnTo>
                      <a:pt x="1137" y="1068"/>
                    </a:lnTo>
                    <a:lnTo>
                      <a:pt x="1089" y="1121"/>
                    </a:lnTo>
                    <a:lnTo>
                      <a:pt x="987" y="1169"/>
                    </a:lnTo>
                    <a:lnTo>
                      <a:pt x="895" y="1173"/>
                    </a:lnTo>
                    <a:lnTo>
                      <a:pt x="780" y="1169"/>
                    </a:lnTo>
                    <a:lnTo>
                      <a:pt x="696" y="1147"/>
                    </a:lnTo>
                    <a:lnTo>
                      <a:pt x="635" y="1112"/>
                    </a:lnTo>
                    <a:lnTo>
                      <a:pt x="582" y="1054"/>
                    </a:lnTo>
                    <a:lnTo>
                      <a:pt x="542" y="993"/>
                    </a:lnTo>
                    <a:lnTo>
                      <a:pt x="520" y="856"/>
                    </a:lnTo>
                    <a:lnTo>
                      <a:pt x="533" y="759"/>
                    </a:lnTo>
                    <a:lnTo>
                      <a:pt x="568" y="653"/>
                    </a:lnTo>
                    <a:lnTo>
                      <a:pt x="617" y="596"/>
                    </a:lnTo>
                    <a:lnTo>
                      <a:pt x="674" y="538"/>
                    </a:lnTo>
                    <a:lnTo>
                      <a:pt x="754" y="512"/>
                    </a:lnTo>
                    <a:lnTo>
                      <a:pt x="846" y="494"/>
                    </a:lnTo>
                    <a:lnTo>
                      <a:pt x="961" y="494"/>
                    </a:lnTo>
                    <a:lnTo>
                      <a:pt x="1067" y="525"/>
                    </a:lnTo>
                    <a:lnTo>
                      <a:pt x="1133" y="574"/>
                    </a:lnTo>
                    <a:lnTo>
                      <a:pt x="1168" y="618"/>
                    </a:lnTo>
                    <a:lnTo>
                      <a:pt x="1203" y="715"/>
                    </a:lnTo>
                    <a:lnTo>
                      <a:pt x="1217" y="799"/>
                    </a:lnTo>
                    <a:lnTo>
                      <a:pt x="2254" y="675"/>
                    </a:lnTo>
                    <a:lnTo>
                      <a:pt x="2298" y="609"/>
                    </a:lnTo>
                    <a:lnTo>
                      <a:pt x="2346" y="552"/>
                    </a:lnTo>
                    <a:lnTo>
                      <a:pt x="2421" y="503"/>
                    </a:lnTo>
                    <a:lnTo>
                      <a:pt x="2496" y="481"/>
                    </a:lnTo>
                    <a:lnTo>
                      <a:pt x="2589" y="481"/>
                    </a:lnTo>
                    <a:lnTo>
                      <a:pt x="2682" y="494"/>
                    </a:lnTo>
                    <a:lnTo>
                      <a:pt x="2748" y="538"/>
                    </a:lnTo>
                    <a:lnTo>
                      <a:pt x="2796" y="587"/>
                    </a:lnTo>
                    <a:lnTo>
                      <a:pt x="2809" y="631"/>
                    </a:lnTo>
                    <a:lnTo>
                      <a:pt x="3330" y="5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130720" y="2235240"/>
                <a:ext cx="597240" cy="572040"/>
              </a:xfrm>
              <a:custGeom>
                <a:avLst/>
                <a:gdLst/>
                <a:ahLst/>
                <a:rect l="0" t="0" r="r" b="b"/>
                <a:pathLst>
                  <a:path w="1659" h="1589">
                    <a:moveTo>
                      <a:pt x="132" y="0"/>
                    </a:moveTo>
                    <a:lnTo>
                      <a:pt x="670" y="0"/>
                    </a:lnTo>
                    <a:lnTo>
                      <a:pt x="568" y="896"/>
                    </a:lnTo>
                    <a:lnTo>
                      <a:pt x="568" y="953"/>
                    </a:lnTo>
                    <a:lnTo>
                      <a:pt x="582" y="1024"/>
                    </a:lnTo>
                    <a:lnTo>
                      <a:pt x="626" y="1063"/>
                    </a:lnTo>
                    <a:lnTo>
                      <a:pt x="692" y="1094"/>
                    </a:lnTo>
                    <a:lnTo>
                      <a:pt x="762" y="1107"/>
                    </a:lnTo>
                    <a:lnTo>
                      <a:pt x="852" y="1099"/>
                    </a:lnTo>
                    <a:lnTo>
                      <a:pt x="909" y="1076"/>
                    </a:lnTo>
                    <a:lnTo>
                      <a:pt x="957" y="1041"/>
                    </a:lnTo>
                    <a:lnTo>
                      <a:pt x="1006" y="953"/>
                    </a:lnTo>
                    <a:lnTo>
                      <a:pt x="1121" y="0"/>
                    </a:lnTo>
                    <a:lnTo>
                      <a:pt x="1659" y="0"/>
                    </a:lnTo>
                    <a:lnTo>
                      <a:pt x="1557" y="1010"/>
                    </a:lnTo>
                    <a:lnTo>
                      <a:pt x="1513" y="1173"/>
                    </a:lnTo>
                    <a:lnTo>
                      <a:pt x="1469" y="1254"/>
                    </a:lnTo>
                    <a:lnTo>
                      <a:pt x="1407" y="1355"/>
                    </a:lnTo>
                    <a:lnTo>
                      <a:pt x="1319" y="1426"/>
                    </a:lnTo>
                    <a:lnTo>
                      <a:pt x="1235" y="1483"/>
                    </a:lnTo>
                    <a:lnTo>
                      <a:pt x="1138" y="1532"/>
                    </a:lnTo>
                    <a:lnTo>
                      <a:pt x="1032" y="1558"/>
                    </a:lnTo>
                    <a:lnTo>
                      <a:pt x="918" y="1576"/>
                    </a:lnTo>
                    <a:lnTo>
                      <a:pt x="780" y="1589"/>
                    </a:lnTo>
                    <a:lnTo>
                      <a:pt x="635" y="1576"/>
                    </a:lnTo>
                    <a:lnTo>
                      <a:pt x="507" y="1563"/>
                    </a:lnTo>
                    <a:lnTo>
                      <a:pt x="392" y="1536"/>
                    </a:lnTo>
                    <a:lnTo>
                      <a:pt x="277" y="1483"/>
                    </a:lnTo>
                    <a:lnTo>
                      <a:pt x="158" y="1408"/>
                    </a:lnTo>
                    <a:lnTo>
                      <a:pt x="83" y="1316"/>
                    </a:lnTo>
                    <a:lnTo>
                      <a:pt x="22" y="1219"/>
                    </a:lnTo>
                    <a:lnTo>
                      <a:pt x="0" y="1028"/>
                    </a:lnTo>
                    <a:lnTo>
                      <a:pt x="119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681520" y="2228760"/>
                <a:ext cx="508320" cy="578160"/>
              </a:xfrm>
              <a:custGeom>
                <a:avLst/>
                <a:gdLst/>
                <a:ahLst/>
                <a:rect l="0" t="0" r="r" b="b"/>
                <a:pathLst>
                  <a:path w="1412" h="1606">
                    <a:moveTo>
                      <a:pt x="1248" y="560"/>
                    </a:moveTo>
                    <a:lnTo>
                      <a:pt x="1412" y="242"/>
                    </a:lnTo>
                    <a:lnTo>
                      <a:pt x="1332" y="171"/>
                    </a:lnTo>
                    <a:lnTo>
                      <a:pt x="1226" y="105"/>
                    </a:lnTo>
                    <a:lnTo>
                      <a:pt x="1094" y="57"/>
                    </a:lnTo>
                    <a:lnTo>
                      <a:pt x="966" y="26"/>
                    </a:lnTo>
                    <a:lnTo>
                      <a:pt x="860" y="8"/>
                    </a:lnTo>
                    <a:lnTo>
                      <a:pt x="724" y="0"/>
                    </a:lnTo>
                    <a:lnTo>
                      <a:pt x="608" y="35"/>
                    </a:lnTo>
                    <a:lnTo>
                      <a:pt x="489" y="79"/>
                    </a:lnTo>
                    <a:lnTo>
                      <a:pt x="396" y="149"/>
                    </a:lnTo>
                    <a:lnTo>
                      <a:pt x="335" y="211"/>
                    </a:lnTo>
                    <a:lnTo>
                      <a:pt x="277" y="304"/>
                    </a:lnTo>
                    <a:lnTo>
                      <a:pt x="233" y="410"/>
                    </a:lnTo>
                    <a:lnTo>
                      <a:pt x="220" y="511"/>
                    </a:lnTo>
                    <a:lnTo>
                      <a:pt x="220" y="612"/>
                    </a:lnTo>
                    <a:lnTo>
                      <a:pt x="242" y="687"/>
                    </a:lnTo>
                    <a:lnTo>
                      <a:pt x="282" y="767"/>
                    </a:lnTo>
                    <a:lnTo>
                      <a:pt x="335" y="816"/>
                    </a:lnTo>
                    <a:lnTo>
                      <a:pt x="388" y="865"/>
                    </a:lnTo>
                    <a:lnTo>
                      <a:pt x="454" y="904"/>
                    </a:lnTo>
                    <a:lnTo>
                      <a:pt x="537" y="940"/>
                    </a:lnTo>
                    <a:lnTo>
                      <a:pt x="626" y="957"/>
                    </a:lnTo>
                    <a:lnTo>
                      <a:pt x="830" y="1015"/>
                    </a:lnTo>
                    <a:lnTo>
                      <a:pt x="860" y="1068"/>
                    </a:lnTo>
                    <a:lnTo>
                      <a:pt x="843" y="1160"/>
                    </a:lnTo>
                    <a:lnTo>
                      <a:pt x="807" y="1187"/>
                    </a:lnTo>
                    <a:lnTo>
                      <a:pt x="759" y="1213"/>
                    </a:lnTo>
                    <a:lnTo>
                      <a:pt x="696" y="1222"/>
                    </a:lnTo>
                    <a:lnTo>
                      <a:pt x="595" y="1209"/>
                    </a:lnTo>
                    <a:lnTo>
                      <a:pt x="502" y="1173"/>
                    </a:lnTo>
                    <a:lnTo>
                      <a:pt x="405" y="1129"/>
                    </a:lnTo>
                    <a:lnTo>
                      <a:pt x="304" y="1059"/>
                    </a:lnTo>
                    <a:lnTo>
                      <a:pt x="211" y="979"/>
                    </a:lnTo>
                    <a:lnTo>
                      <a:pt x="0" y="1306"/>
                    </a:lnTo>
                    <a:lnTo>
                      <a:pt x="57" y="1376"/>
                    </a:lnTo>
                    <a:lnTo>
                      <a:pt x="127" y="1429"/>
                    </a:lnTo>
                    <a:lnTo>
                      <a:pt x="224" y="1487"/>
                    </a:lnTo>
                    <a:lnTo>
                      <a:pt x="326" y="1526"/>
                    </a:lnTo>
                    <a:lnTo>
                      <a:pt x="418" y="1562"/>
                    </a:lnTo>
                    <a:lnTo>
                      <a:pt x="551" y="1592"/>
                    </a:lnTo>
                    <a:lnTo>
                      <a:pt x="674" y="1606"/>
                    </a:lnTo>
                    <a:lnTo>
                      <a:pt x="803" y="1592"/>
                    </a:lnTo>
                    <a:lnTo>
                      <a:pt x="909" y="1579"/>
                    </a:lnTo>
                    <a:lnTo>
                      <a:pt x="1006" y="1548"/>
                    </a:lnTo>
                    <a:lnTo>
                      <a:pt x="1085" y="1513"/>
                    </a:lnTo>
                    <a:lnTo>
                      <a:pt x="1169" y="1465"/>
                    </a:lnTo>
                    <a:lnTo>
                      <a:pt x="1235" y="1416"/>
                    </a:lnTo>
                    <a:lnTo>
                      <a:pt x="1297" y="1337"/>
                    </a:lnTo>
                    <a:lnTo>
                      <a:pt x="1341" y="1257"/>
                    </a:lnTo>
                    <a:lnTo>
                      <a:pt x="1376" y="1160"/>
                    </a:lnTo>
                    <a:lnTo>
                      <a:pt x="1385" y="1068"/>
                    </a:lnTo>
                    <a:lnTo>
                      <a:pt x="1376" y="966"/>
                    </a:lnTo>
                    <a:lnTo>
                      <a:pt x="1341" y="874"/>
                    </a:lnTo>
                    <a:lnTo>
                      <a:pt x="1293" y="816"/>
                    </a:lnTo>
                    <a:lnTo>
                      <a:pt x="1222" y="754"/>
                    </a:lnTo>
                    <a:lnTo>
                      <a:pt x="1099" y="696"/>
                    </a:lnTo>
                    <a:lnTo>
                      <a:pt x="957" y="652"/>
                    </a:lnTo>
                    <a:lnTo>
                      <a:pt x="852" y="626"/>
                    </a:lnTo>
                    <a:lnTo>
                      <a:pt x="785" y="595"/>
                    </a:lnTo>
                    <a:lnTo>
                      <a:pt x="759" y="555"/>
                    </a:lnTo>
                    <a:lnTo>
                      <a:pt x="759" y="489"/>
                    </a:lnTo>
                    <a:lnTo>
                      <a:pt x="772" y="445"/>
                    </a:lnTo>
                    <a:lnTo>
                      <a:pt x="816" y="410"/>
                    </a:lnTo>
                    <a:lnTo>
                      <a:pt x="874" y="410"/>
                    </a:lnTo>
                    <a:lnTo>
                      <a:pt x="949" y="405"/>
                    </a:lnTo>
                    <a:lnTo>
                      <a:pt x="1037" y="427"/>
                    </a:lnTo>
                    <a:lnTo>
                      <a:pt x="1112" y="463"/>
                    </a:lnTo>
                    <a:lnTo>
                      <a:pt x="1191" y="502"/>
                    </a:lnTo>
                    <a:lnTo>
                      <a:pt x="1248" y="5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2482920" y="2017800"/>
              <a:ext cx="3648240" cy="730440"/>
              <a:chOff x="2482920" y="2017800"/>
              <a:chExt cx="3648240" cy="730440"/>
            </a:xfrm>
          </p:grpSpPr>
          <p:sp>
            <p:nvSpPr>
              <p:cNvPr id="1040" name=""/>
              <p:cNvSpPr/>
              <p:nvPr/>
            </p:nvSpPr>
            <p:spPr>
              <a:xfrm>
                <a:off x="2482920" y="2017800"/>
                <a:ext cx="314640" cy="703800"/>
              </a:xfrm>
              <a:custGeom>
                <a:avLst/>
                <a:gdLst/>
                <a:ahLst/>
                <a:rect l="0" t="0" r="r" b="b"/>
                <a:pathLst>
                  <a:path w="874" h="1955">
                    <a:moveTo>
                      <a:pt x="291" y="0"/>
                    </a:moveTo>
                    <a:lnTo>
                      <a:pt x="874" y="0"/>
                    </a:lnTo>
                    <a:lnTo>
                      <a:pt x="587" y="1955"/>
                    </a:lnTo>
                    <a:lnTo>
                      <a:pt x="0" y="1955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752560" y="2154240"/>
                <a:ext cx="628920" cy="567000"/>
              </a:xfrm>
              <a:custGeom>
                <a:avLst/>
                <a:gdLst/>
                <a:ahLst/>
                <a:rect l="0" t="0" r="r" b="b"/>
                <a:pathLst>
                  <a:path w="1747" h="1575">
                    <a:moveTo>
                      <a:pt x="0" y="1575"/>
                    </a:moveTo>
                    <a:lnTo>
                      <a:pt x="220" y="52"/>
                    </a:lnTo>
                    <a:lnTo>
                      <a:pt x="802" y="52"/>
                    </a:lnTo>
                    <a:lnTo>
                      <a:pt x="762" y="229"/>
                    </a:lnTo>
                    <a:lnTo>
                      <a:pt x="842" y="158"/>
                    </a:lnTo>
                    <a:lnTo>
                      <a:pt x="918" y="101"/>
                    </a:lnTo>
                    <a:lnTo>
                      <a:pt x="997" y="61"/>
                    </a:lnTo>
                    <a:lnTo>
                      <a:pt x="1103" y="26"/>
                    </a:lnTo>
                    <a:lnTo>
                      <a:pt x="1173" y="8"/>
                    </a:lnTo>
                    <a:lnTo>
                      <a:pt x="1271" y="0"/>
                    </a:lnTo>
                    <a:lnTo>
                      <a:pt x="1363" y="8"/>
                    </a:lnTo>
                    <a:lnTo>
                      <a:pt x="1456" y="39"/>
                    </a:lnTo>
                    <a:lnTo>
                      <a:pt x="1517" y="74"/>
                    </a:lnTo>
                    <a:lnTo>
                      <a:pt x="1597" y="127"/>
                    </a:lnTo>
                    <a:lnTo>
                      <a:pt x="1659" y="189"/>
                    </a:lnTo>
                    <a:lnTo>
                      <a:pt x="1707" y="273"/>
                    </a:lnTo>
                    <a:lnTo>
                      <a:pt x="1747" y="388"/>
                    </a:lnTo>
                    <a:lnTo>
                      <a:pt x="1747" y="520"/>
                    </a:lnTo>
                    <a:lnTo>
                      <a:pt x="1606" y="1575"/>
                    </a:lnTo>
                    <a:lnTo>
                      <a:pt x="1050" y="1575"/>
                    </a:lnTo>
                    <a:lnTo>
                      <a:pt x="1156" y="709"/>
                    </a:lnTo>
                    <a:lnTo>
                      <a:pt x="1165" y="608"/>
                    </a:lnTo>
                    <a:lnTo>
                      <a:pt x="1147" y="520"/>
                    </a:lnTo>
                    <a:lnTo>
                      <a:pt x="1094" y="476"/>
                    </a:lnTo>
                    <a:lnTo>
                      <a:pt x="1006" y="458"/>
                    </a:lnTo>
                    <a:lnTo>
                      <a:pt x="909" y="458"/>
                    </a:lnTo>
                    <a:lnTo>
                      <a:pt x="815" y="476"/>
                    </a:lnTo>
                    <a:lnTo>
                      <a:pt x="754" y="542"/>
                    </a:lnTo>
                    <a:lnTo>
                      <a:pt x="723" y="621"/>
                    </a:lnTo>
                    <a:lnTo>
                      <a:pt x="568" y="1575"/>
                    </a:lnTo>
                    <a:lnTo>
                      <a:pt x="0" y="15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41600" y="2017800"/>
                <a:ext cx="554400" cy="703800"/>
              </a:xfrm>
              <a:custGeom>
                <a:avLst/>
                <a:gdLst/>
                <a:ahLst/>
                <a:rect l="0" t="0" r="r" b="b"/>
                <a:pathLst>
                  <a:path w="1540" h="1955">
                    <a:moveTo>
                      <a:pt x="255" y="0"/>
                    </a:moveTo>
                    <a:lnTo>
                      <a:pt x="0" y="1955"/>
                    </a:lnTo>
                    <a:lnTo>
                      <a:pt x="578" y="1955"/>
                    </a:lnTo>
                    <a:lnTo>
                      <a:pt x="680" y="1253"/>
                    </a:lnTo>
                    <a:lnTo>
                      <a:pt x="1143" y="1253"/>
                    </a:lnTo>
                    <a:lnTo>
                      <a:pt x="1205" y="759"/>
                    </a:lnTo>
                    <a:lnTo>
                      <a:pt x="759" y="759"/>
                    </a:lnTo>
                    <a:lnTo>
                      <a:pt x="785" y="512"/>
                    </a:lnTo>
                    <a:lnTo>
                      <a:pt x="1466" y="512"/>
                    </a:lnTo>
                    <a:lnTo>
                      <a:pt x="1540" y="0"/>
                    </a:lnTo>
                    <a:lnTo>
                      <a:pt x="2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887640" y="2160720"/>
                <a:ext cx="1195920" cy="582840"/>
              </a:xfrm>
              <a:custGeom>
                <a:avLst/>
                <a:gdLst/>
                <a:ahLst/>
                <a:rect l="0" t="0" r="r" b="b"/>
                <a:pathLst>
                  <a:path w="3322" h="1619">
                    <a:moveTo>
                      <a:pt x="3322" y="560"/>
                    </a:moveTo>
                    <a:lnTo>
                      <a:pt x="3322" y="480"/>
                    </a:lnTo>
                    <a:lnTo>
                      <a:pt x="3300" y="405"/>
                    </a:lnTo>
                    <a:lnTo>
                      <a:pt x="3274" y="339"/>
                    </a:lnTo>
                    <a:lnTo>
                      <a:pt x="3221" y="277"/>
                    </a:lnTo>
                    <a:lnTo>
                      <a:pt x="3168" y="220"/>
                    </a:lnTo>
                    <a:lnTo>
                      <a:pt x="3079" y="154"/>
                    </a:lnTo>
                    <a:lnTo>
                      <a:pt x="2982" y="105"/>
                    </a:lnTo>
                    <a:lnTo>
                      <a:pt x="2903" y="70"/>
                    </a:lnTo>
                    <a:lnTo>
                      <a:pt x="2775" y="26"/>
                    </a:lnTo>
                    <a:lnTo>
                      <a:pt x="2643" y="13"/>
                    </a:lnTo>
                    <a:lnTo>
                      <a:pt x="2506" y="0"/>
                    </a:lnTo>
                    <a:lnTo>
                      <a:pt x="2351" y="22"/>
                    </a:lnTo>
                    <a:lnTo>
                      <a:pt x="2214" y="57"/>
                    </a:lnTo>
                    <a:lnTo>
                      <a:pt x="2100" y="119"/>
                    </a:lnTo>
                    <a:lnTo>
                      <a:pt x="2007" y="171"/>
                    </a:lnTo>
                    <a:lnTo>
                      <a:pt x="1932" y="233"/>
                    </a:lnTo>
                    <a:lnTo>
                      <a:pt x="1839" y="326"/>
                    </a:lnTo>
                    <a:lnTo>
                      <a:pt x="1782" y="418"/>
                    </a:lnTo>
                    <a:lnTo>
                      <a:pt x="1711" y="537"/>
                    </a:lnTo>
                    <a:lnTo>
                      <a:pt x="1654" y="396"/>
                    </a:lnTo>
                    <a:lnTo>
                      <a:pt x="1562" y="277"/>
                    </a:lnTo>
                    <a:lnTo>
                      <a:pt x="1482" y="207"/>
                    </a:lnTo>
                    <a:lnTo>
                      <a:pt x="1385" y="136"/>
                    </a:lnTo>
                    <a:lnTo>
                      <a:pt x="1248" y="79"/>
                    </a:lnTo>
                    <a:lnTo>
                      <a:pt x="1107" y="44"/>
                    </a:lnTo>
                    <a:lnTo>
                      <a:pt x="966" y="26"/>
                    </a:lnTo>
                    <a:lnTo>
                      <a:pt x="793" y="26"/>
                    </a:lnTo>
                    <a:lnTo>
                      <a:pt x="626" y="57"/>
                    </a:lnTo>
                    <a:lnTo>
                      <a:pt x="480" y="114"/>
                    </a:lnTo>
                    <a:lnTo>
                      <a:pt x="361" y="185"/>
                    </a:lnTo>
                    <a:lnTo>
                      <a:pt x="242" y="277"/>
                    </a:lnTo>
                    <a:lnTo>
                      <a:pt x="149" y="374"/>
                    </a:lnTo>
                    <a:lnTo>
                      <a:pt x="79" y="480"/>
                    </a:lnTo>
                    <a:lnTo>
                      <a:pt x="26" y="604"/>
                    </a:lnTo>
                    <a:lnTo>
                      <a:pt x="0" y="754"/>
                    </a:lnTo>
                    <a:lnTo>
                      <a:pt x="0" y="896"/>
                    </a:lnTo>
                    <a:lnTo>
                      <a:pt x="13" y="1010"/>
                    </a:lnTo>
                    <a:lnTo>
                      <a:pt x="48" y="1129"/>
                    </a:lnTo>
                    <a:lnTo>
                      <a:pt x="92" y="1226"/>
                    </a:lnTo>
                    <a:lnTo>
                      <a:pt x="163" y="1315"/>
                    </a:lnTo>
                    <a:lnTo>
                      <a:pt x="255" y="1407"/>
                    </a:lnTo>
                    <a:lnTo>
                      <a:pt x="339" y="1469"/>
                    </a:lnTo>
                    <a:lnTo>
                      <a:pt x="440" y="1535"/>
                    </a:lnTo>
                    <a:lnTo>
                      <a:pt x="560" y="1575"/>
                    </a:lnTo>
                    <a:lnTo>
                      <a:pt x="687" y="1597"/>
                    </a:lnTo>
                    <a:lnTo>
                      <a:pt x="806" y="1619"/>
                    </a:lnTo>
                    <a:lnTo>
                      <a:pt x="931" y="1610"/>
                    </a:lnTo>
                    <a:lnTo>
                      <a:pt x="1063" y="1597"/>
                    </a:lnTo>
                    <a:lnTo>
                      <a:pt x="1169" y="1570"/>
                    </a:lnTo>
                    <a:lnTo>
                      <a:pt x="1262" y="1535"/>
                    </a:lnTo>
                    <a:lnTo>
                      <a:pt x="1363" y="1478"/>
                    </a:lnTo>
                    <a:lnTo>
                      <a:pt x="1447" y="1420"/>
                    </a:lnTo>
                    <a:lnTo>
                      <a:pt x="1535" y="1337"/>
                    </a:lnTo>
                    <a:lnTo>
                      <a:pt x="1606" y="1226"/>
                    </a:lnTo>
                    <a:lnTo>
                      <a:pt x="1681" y="1116"/>
                    </a:lnTo>
                    <a:lnTo>
                      <a:pt x="1711" y="1116"/>
                    </a:lnTo>
                    <a:lnTo>
                      <a:pt x="1751" y="1213"/>
                    </a:lnTo>
                    <a:lnTo>
                      <a:pt x="1808" y="1301"/>
                    </a:lnTo>
                    <a:lnTo>
                      <a:pt x="1875" y="1372"/>
                    </a:lnTo>
                    <a:lnTo>
                      <a:pt x="1945" y="1442"/>
                    </a:lnTo>
                    <a:lnTo>
                      <a:pt x="2042" y="1504"/>
                    </a:lnTo>
                    <a:lnTo>
                      <a:pt x="2144" y="1557"/>
                    </a:lnTo>
                    <a:lnTo>
                      <a:pt x="2258" y="1584"/>
                    </a:lnTo>
                    <a:lnTo>
                      <a:pt x="2399" y="1597"/>
                    </a:lnTo>
                    <a:lnTo>
                      <a:pt x="2528" y="1606"/>
                    </a:lnTo>
                    <a:lnTo>
                      <a:pt x="2634" y="1606"/>
                    </a:lnTo>
                    <a:lnTo>
                      <a:pt x="2753" y="1597"/>
                    </a:lnTo>
                    <a:lnTo>
                      <a:pt x="2868" y="1562"/>
                    </a:lnTo>
                    <a:lnTo>
                      <a:pt x="2960" y="1517"/>
                    </a:lnTo>
                    <a:lnTo>
                      <a:pt x="3053" y="1469"/>
                    </a:lnTo>
                    <a:lnTo>
                      <a:pt x="3132" y="1412"/>
                    </a:lnTo>
                    <a:lnTo>
                      <a:pt x="3203" y="1341"/>
                    </a:lnTo>
                    <a:lnTo>
                      <a:pt x="3243" y="1257"/>
                    </a:lnTo>
                    <a:lnTo>
                      <a:pt x="3260" y="1187"/>
                    </a:lnTo>
                    <a:lnTo>
                      <a:pt x="3251" y="1129"/>
                    </a:lnTo>
                    <a:lnTo>
                      <a:pt x="2806" y="1037"/>
                    </a:lnTo>
                    <a:lnTo>
                      <a:pt x="2775" y="1085"/>
                    </a:lnTo>
                    <a:lnTo>
                      <a:pt x="2727" y="1143"/>
                    </a:lnTo>
                    <a:lnTo>
                      <a:pt x="2661" y="1178"/>
                    </a:lnTo>
                    <a:lnTo>
                      <a:pt x="2577" y="1191"/>
                    </a:lnTo>
                    <a:lnTo>
                      <a:pt x="2497" y="1191"/>
                    </a:lnTo>
                    <a:lnTo>
                      <a:pt x="2426" y="1178"/>
                    </a:lnTo>
                    <a:lnTo>
                      <a:pt x="2351" y="1143"/>
                    </a:lnTo>
                    <a:lnTo>
                      <a:pt x="2294" y="1099"/>
                    </a:lnTo>
                    <a:lnTo>
                      <a:pt x="2249" y="1050"/>
                    </a:lnTo>
                    <a:lnTo>
                      <a:pt x="2223" y="993"/>
                    </a:lnTo>
                    <a:lnTo>
                      <a:pt x="2205" y="922"/>
                    </a:lnTo>
                    <a:lnTo>
                      <a:pt x="1209" y="789"/>
                    </a:lnTo>
                    <a:lnTo>
                      <a:pt x="1200" y="922"/>
                    </a:lnTo>
                    <a:lnTo>
                      <a:pt x="1169" y="1002"/>
                    </a:lnTo>
                    <a:lnTo>
                      <a:pt x="1134" y="1072"/>
                    </a:lnTo>
                    <a:lnTo>
                      <a:pt x="1085" y="1121"/>
                    </a:lnTo>
                    <a:lnTo>
                      <a:pt x="988" y="1173"/>
                    </a:lnTo>
                    <a:lnTo>
                      <a:pt x="896" y="1178"/>
                    </a:lnTo>
                    <a:lnTo>
                      <a:pt x="780" y="1173"/>
                    </a:lnTo>
                    <a:lnTo>
                      <a:pt x="696" y="1151"/>
                    </a:lnTo>
                    <a:lnTo>
                      <a:pt x="630" y="1116"/>
                    </a:lnTo>
                    <a:lnTo>
                      <a:pt x="582" y="1059"/>
                    </a:lnTo>
                    <a:lnTo>
                      <a:pt x="537" y="993"/>
                    </a:lnTo>
                    <a:lnTo>
                      <a:pt x="515" y="860"/>
                    </a:lnTo>
                    <a:lnTo>
                      <a:pt x="533" y="758"/>
                    </a:lnTo>
                    <a:lnTo>
                      <a:pt x="568" y="652"/>
                    </a:lnTo>
                    <a:lnTo>
                      <a:pt x="617" y="595"/>
                    </a:lnTo>
                    <a:lnTo>
                      <a:pt x="674" y="537"/>
                    </a:lnTo>
                    <a:lnTo>
                      <a:pt x="754" y="511"/>
                    </a:lnTo>
                    <a:lnTo>
                      <a:pt x="843" y="498"/>
                    </a:lnTo>
                    <a:lnTo>
                      <a:pt x="957" y="498"/>
                    </a:lnTo>
                    <a:lnTo>
                      <a:pt x="1063" y="524"/>
                    </a:lnTo>
                    <a:lnTo>
                      <a:pt x="1129" y="573"/>
                    </a:lnTo>
                    <a:lnTo>
                      <a:pt x="1165" y="617"/>
                    </a:lnTo>
                    <a:lnTo>
                      <a:pt x="1200" y="718"/>
                    </a:lnTo>
                    <a:lnTo>
                      <a:pt x="1213" y="802"/>
                    </a:lnTo>
                    <a:lnTo>
                      <a:pt x="2249" y="674"/>
                    </a:lnTo>
                    <a:lnTo>
                      <a:pt x="2294" y="608"/>
                    </a:lnTo>
                    <a:lnTo>
                      <a:pt x="2342" y="555"/>
                    </a:lnTo>
                    <a:lnTo>
                      <a:pt x="2413" y="502"/>
                    </a:lnTo>
                    <a:lnTo>
                      <a:pt x="2493" y="480"/>
                    </a:lnTo>
                    <a:lnTo>
                      <a:pt x="2586" y="480"/>
                    </a:lnTo>
                    <a:lnTo>
                      <a:pt x="2678" y="498"/>
                    </a:lnTo>
                    <a:lnTo>
                      <a:pt x="2740" y="537"/>
                    </a:lnTo>
                    <a:lnTo>
                      <a:pt x="2788" y="590"/>
                    </a:lnTo>
                    <a:lnTo>
                      <a:pt x="2806" y="630"/>
                    </a:lnTo>
                    <a:lnTo>
                      <a:pt x="3322" y="5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070600" y="2178000"/>
                <a:ext cx="597240" cy="570240"/>
              </a:xfrm>
              <a:custGeom>
                <a:avLst/>
                <a:gdLst/>
                <a:ahLst/>
                <a:rect l="0" t="0" r="r" b="b"/>
                <a:pathLst>
                  <a:path w="1659" h="1584">
                    <a:moveTo>
                      <a:pt x="132" y="0"/>
                    </a:moveTo>
                    <a:lnTo>
                      <a:pt x="670" y="0"/>
                    </a:lnTo>
                    <a:lnTo>
                      <a:pt x="568" y="891"/>
                    </a:lnTo>
                    <a:lnTo>
                      <a:pt x="568" y="949"/>
                    </a:lnTo>
                    <a:lnTo>
                      <a:pt x="582" y="1019"/>
                    </a:lnTo>
                    <a:lnTo>
                      <a:pt x="626" y="1063"/>
                    </a:lnTo>
                    <a:lnTo>
                      <a:pt x="692" y="1090"/>
                    </a:lnTo>
                    <a:lnTo>
                      <a:pt x="762" y="1107"/>
                    </a:lnTo>
                    <a:lnTo>
                      <a:pt x="852" y="1099"/>
                    </a:lnTo>
                    <a:lnTo>
                      <a:pt x="909" y="1072"/>
                    </a:lnTo>
                    <a:lnTo>
                      <a:pt x="957" y="1037"/>
                    </a:lnTo>
                    <a:lnTo>
                      <a:pt x="1006" y="949"/>
                    </a:lnTo>
                    <a:lnTo>
                      <a:pt x="1121" y="0"/>
                    </a:lnTo>
                    <a:lnTo>
                      <a:pt x="1659" y="0"/>
                    </a:lnTo>
                    <a:lnTo>
                      <a:pt x="1557" y="1010"/>
                    </a:lnTo>
                    <a:lnTo>
                      <a:pt x="1513" y="1169"/>
                    </a:lnTo>
                    <a:lnTo>
                      <a:pt x="1469" y="1248"/>
                    </a:lnTo>
                    <a:lnTo>
                      <a:pt x="1407" y="1350"/>
                    </a:lnTo>
                    <a:lnTo>
                      <a:pt x="1319" y="1425"/>
                    </a:lnTo>
                    <a:lnTo>
                      <a:pt x="1235" y="1478"/>
                    </a:lnTo>
                    <a:lnTo>
                      <a:pt x="1138" y="1526"/>
                    </a:lnTo>
                    <a:lnTo>
                      <a:pt x="1032" y="1553"/>
                    </a:lnTo>
                    <a:lnTo>
                      <a:pt x="918" y="1570"/>
                    </a:lnTo>
                    <a:lnTo>
                      <a:pt x="780" y="1584"/>
                    </a:lnTo>
                    <a:lnTo>
                      <a:pt x="635" y="1570"/>
                    </a:lnTo>
                    <a:lnTo>
                      <a:pt x="507" y="1557"/>
                    </a:lnTo>
                    <a:lnTo>
                      <a:pt x="392" y="1531"/>
                    </a:lnTo>
                    <a:lnTo>
                      <a:pt x="277" y="1478"/>
                    </a:lnTo>
                    <a:lnTo>
                      <a:pt x="158" y="1403"/>
                    </a:lnTo>
                    <a:lnTo>
                      <a:pt x="83" y="1310"/>
                    </a:lnTo>
                    <a:lnTo>
                      <a:pt x="22" y="1213"/>
                    </a:lnTo>
                    <a:lnTo>
                      <a:pt x="0" y="1024"/>
                    </a:lnTo>
                    <a:lnTo>
                      <a:pt x="119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622840" y="2171520"/>
                <a:ext cx="508320" cy="576720"/>
              </a:xfrm>
              <a:custGeom>
                <a:avLst/>
                <a:gdLst/>
                <a:ahLst/>
                <a:rect l="0" t="0" r="r" b="b"/>
                <a:pathLst>
                  <a:path w="1412" h="1602">
                    <a:moveTo>
                      <a:pt x="1248" y="561"/>
                    </a:moveTo>
                    <a:lnTo>
                      <a:pt x="1412" y="242"/>
                    </a:lnTo>
                    <a:lnTo>
                      <a:pt x="1332" y="171"/>
                    </a:lnTo>
                    <a:lnTo>
                      <a:pt x="1226" y="105"/>
                    </a:lnTo>
                    <a:lnTo>
                      <a:pt x="1094" y="57"/>
                    </a:lnTo>
                    <a:lnTo>
                      <a:pt x="966" y="26"/>
                    </a:lnTo>
                    <a:lnTo>
                      <a:pt x="860" y="8"/>
                    </a:lnTo>
                    <a:lnTo>
                      <a:pt x="724" y="0"/>
                    </a:lnTo>
                    <a:lnTo>
                      <a:pt x="608" y="35"/>
                    </a:lnTo>
                    <a:lnTo>
                      <a:pt x="489" y="79"/>
                    </a:lnTo>
                    <a:lnTo>
                      <a:pt x="396" y="149"/>
                    </a:lnTo>
                    <a:lnTo>
                      <a:pt x="335" y="211"/>
                    </a:lnTo>
                    <a:lnTo>
                      <a:pt x="277" y="304"/>
                    </a:lnTo>
                    <a:lnTo>
                      <a:pt x="233" y="411"/>
                    </a:lnTo>
                    <a:lnTo>
                      <a:pt x="220" y="512"/>
                    </a:lnTo>
                    <a:lnTo>
                      <a:pt x="220" y="609"/>
                    </a:lnTo>
                    <a:lnTo>
                      <a:pt x="242" y="688"/>
                    </a:lnTo>
                    <a:lnTo>
                      <a:pt x="282" y="763"/>
                    </a:lnTo>
                    <a:lnTo>
                      <a:pt x="335" y="816"/>
                    </a:lnTo>
                    <a:lnTo>
                      <a:pt x="388" y="865"/>
                    </a:lnTo>
                    <a:lnTo>
                      <a:pt x="454" y="900"/>
                    </a:lnTo>
                    <a:lnTo>
                      <a:pt x="537" y="935"/>
                    </a:lnTo>
                    <a:lnTo>
                      <a:pt x="626" y="957"/>
                    </a:lnTo>
                    <a:lnTo>
                      <a:pt x="830" y="1015"/>
                    </a:lnTo>
                    <a:lnTo>
                      <a:pt x="860" y="1063"/>
                    </a:lnTo>
                    <a:lnTo>
                      <a:pt x="843" y="1156"/>
                    </a:lnTo>
                    <a:lnTo>
                      <a:pt x="807" y="1182"/>
                    </a:lnTo>
                    <a:lnTo>
                      <a:pt x="759" y="1214"/>
                    </a:lnTo>
                    <a:lnTo>
                      <a:pt x="696" y="1219"/>
                    </a:lnTo>
                    <a:lnTo>
                      <a:pt x="595" y="1205"/>
                    </a:lnTo>
                    <a:lnTo>
                      <a:pt x="502" y="1169"/>
                    </a:lnTo>
                    <a:lnTo>
                      <a:pt x="405" y="1125"/>
                    </a:lnTo>
                    <a:lnTo>
                      <a:pt x="304" y="1054"/>
                    </a:lnTo>
                    <a:lnTo>
                      <a:pt x="211" y="979"/>
                    </a:lnTo>
                    <a:lnTo>
                      <a:pt x="0" y="1307"/>
                    </a:lnTo>
                    <a:lnTo>
                      <a:pt x="57" y="1377"/>
                    </a:lnTo>
                    <a:lnTo>
                      <a:pt x="127" y="1426"/>
                    </a:lnTo>
                    <a:lnTo>
                      <a:pt x="224" y="1483"/>
                    </a:lnTo>
                    <a:lnTo>
                      <a:pt x="326" y="1523"/>
                    </a:lnTo>
                    <a:lnTo>
                      <a:pt x="418" y="1558"/>
                    </a:lnTo>
                    <a:lnTo>
                      <a:pt x="551" y="1589"/>
                    </a:lnTo>
                    <a:lnTo>
                      <a:pt x="674" y="1602"/>
                    </a:lnTo>
                    <a:lnTo>
                      <a:pt x="803" y="1589"/>
                    </a:lnTo>
                    <a:lnTo>
                      <a:pt x="909" y="1576"/>
                    </a:lnTo>
                    <a:lnTo>
                      <a:pt x="1006" y="1545"/>
                    </a:lnTo>
                    <a:lnTo>
                      <a:pt x="1085" y="1510"/>
                    </a:lnTo>
                    <a:lnTo>
                      <a:pt x="1169" y="1461"/>
                    </a:lnTo>
                    <a:lnTo>
                      <a:pt x="1235" y="1413"/>
                    </a:lnTo>
                    <a:lnTo>
                      <a:pt x="1297" y="1333"/>
                    </a:lnTo>
                    <a:lnTo>
                      <a:pt x="1341" y="1254"/>
                    </a:lnTo>
                    <a:lnTo>
                      <a:pt x="1376" y="1156"/>
                    </a:lnTo>
                    <a:lnTo>
                      <a:pt x="1385" y="1063"/>
                    </a:lnTo>
                    <a:lnTo>
                      <a:pt x="1376" y="962"/>
                    </a:lnTo>
                    <a:lnTo>
                      <a:pt x="1341" y="874"/>
                    </a:lnTo>
                    <a:lnTo>
                      <a:pt x="1293" y="816"/>
                    </a:lnTo>
                    <a:lnTo>
                      <a:pt x="1222" y="750"/>
                    </a:lnTo>
                    <a:lnTo>
                      <a:pt x="1099" y="693"/>
                    </a:lnTo>
                    <a:lnTo>
                      <a:pt x="957" y="653"/>
                    </a:lnTo>
                    <a:lnTo>
                      <a:pt x="852" y="622"/>
                    </a:lnTo>
                    <a:lnTo>
                      <a:pt x="785" y="596"/>
                    </a:lnTo>
                    <a:lnTo>
                      <a:pt x="759" y="552"/>
                    </a:lnTo>
                    <a:lnTo>
                      <a:pt x="759" y="490"/>
                    </a:lnTo>
                    <a:lnTo>
                      <a:pt x="772" y="446"/>
                    </a:lnTo>
                    <a:lnTo>
                      <a:pt x="816" y="411"/>
                    </a:lnTo>
                    <a:lnTo>
                      <a:pt x="874" y="411"/>
                    </a:lnTo>
                    <a:lnTo>
                      <a:pt x="949" y="406"/>
                    </a:lnTo>
                    <a:lnTo>
                      <a:pt x="1037" y="424"/>
                    </a:lnTo>
                    <a:lnTo>
                      <a:pt x="1112" y="459"/>
                    </a:lnTo>
                    <a:lnTo>
                      <a:pt x="1191" y="503"/>
                    </a:lnTo>
                    <a:lnTo>
                      <a:pt x="1248" y="5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"/>
            <p:cNvSpPr txBox="1"/>
            <p:nvPr/>
          </p:nvSpPr>
          <p:spPr>
            <a:xfrm>
              <a:off x="2449440" y="2816280"/>
              <a:ext cx="3691080" cy="2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         Y         S        T         E         M         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 txBox="1"/>
            <p:nvPr/>
          </p:nvSpPr>
          <p:spPr>
            <a:xfrm>
              <a:off x="6218280" y="2171520"/>
              <a:ext cx="136440" cy="13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"/>
          <p:cNvSpPr txBox="1"/>
          <p:nvPr/>
        </p:nvSpPr>
        <p:spPr>
          <a:xfrm>
            <a:off x="2244600" y="3170160"/>
            <a:ext cx="40957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eader i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CD Projection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 txBox="1"/>
          <p:nvPr/>
        </p:nvSpPr>
        <p:spPr>
          <a:xfrm>
            <a:off x="2340000" y="4092480"/>
            <a:ext cx="42577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1-800-790-4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514440" y="1904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ne in Your Nex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345960" y="2584440"/>
            <a:ext cx="3986280" cy="1073520"/>
            <a:chOff x="345960" y="2584440"/>
            <a:chExt cx="3986280" cy="1073520"/>
          </a:xfrm>
        </p:grpSpPr>
        <p:sp>
          <p:nvSpPr>
            <p:cNvPr id="1052" name=""/>
            <p:cNvSpPr txBox="1"/>
            <p:nvPr/>
          </p:nvSpPr>
          <p:spPr>
            <a:xfrm>
              <a:off x="1411200" y="2658960"/>
              <a:ext cx="29210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NIGRAPH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1411200" y="3171960"/>
              <a:ext cx="28288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 In Focus Systems Compa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 txBox="1"/>
            <p:nvPr/>
          </p:nvSpPr>
          <p:spPr>
            <a:xfrm>
              <a:off x="2986200" y="3176640"/>
              <a:ext cx="2588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3017880" y="314640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1550880" y="3102120"/>
              <a:ext cx="2599200" cy="54360"/>
              <a:chOff x="1550880" y="3102120"/>
              <a:chExt cx="2599200" cy="54360"/>
            </a:xfrm>
          </p:grpSpPr>
          <p:sp>
            <p:nvSpPr>
              <p:cNvPr id="1057" name=""/>
              <p:cNvSpPr/>
              <p:nvPr/>
            </p:nvSpPr>
            <p:spPr>
              <a:xfrm>
                <a:off x="1550880" y="3102120"/>
                <a:ext cx="41760" cy="46440"/>
              </a:xfrm>
              <a:custGeom>
                <a:avLst/>
                <a:gdLst/>
                <a:ahLst/>
                <a:rect l="0" t="0" r="r" b="b"/>
                <a:pathLst>
                  <a:path w="116" h="129">
                    <a:moveTo>
                      <a:pt x="53" y="0"/>
                    </a:moveTo>
                    <a:lnTo>
                      <a:pt x="0" y="67"/>
                    </a:lnTo>
                    <a:lnTo>
                      <a:pt x="53" y="129"/>
                    </a:lnTo>
                    <a:lnTo>
                      <a:pt x="116" y="67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676520" y="310212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798560" y="3102120"/>
                <a:ext cx="60840" cy="54360"/>
              </a:xfrm>
              <a:custGeom>
                <a:avLst/>
                <a:gdLst/>
                <a:ahLst/>
                <a:rect l="0" t="0" r="r" b="b"/>
                <a:pathLst>
                  <a:path w="169" h="151">
                    <a:moveTo>
                      <a:pt x="89" y="0"/>
                    </a:moveTo>
                    <a:lnTo>
                      <a:pt x="0" y="75"/>
                    </a:lnTo>
                    <a:lnTo>
                      <a:pt x="89" y="151"/>
                    </a:lnTo>
                    <a:lnTo>
                      <a:pt x="169" y="7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930320" y="310212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054160" y="310212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4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184480" y="310212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308320" y="310212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4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440080" y="3102120"/>
                <a:ext cx="49680" cy="54360"/>
              </a:xfrm>
              <a:custGeom>
                <a:avLst/>
                <a:gdLst/>
                <a:ahLst/>
                <a:rect l="0" t="0" r="r" b="b"/>
                <a:pathLst>
                  <a:path w="138" h="151">
                    <a:moveTo>
                      <a:pt x="67" y="0"/>
                    </a:moveTo>
                    <a:lnTo>
                      <a:pt x="0" y="75"/>
                    </a:lnTo>
                    <a:lnTo>
                      <a:pt x="67" y="151"/>
                    </a:lnTo>
                    <a:lnTo>
                      <a:pt x="138" y="75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558880" y="310212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4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689200" y="3102120"/>
                <a:ext cx="62280" cy="54360"/>
              </a:xfrm>
              <a:custGeom>
                <a:avLst/>
                <a:gdLst/>
                <a:ahLst/>
                <a:rect l="0" t="0" r="r" b="b"/>
                <a:pathLst>
                  <a:path w="173" h="151">
                    <a:moveTo>
                      <a:pt x="89" y="0"/>
                    </a:moveTo>
                    <a:lnTo>
                      <a:pt x="0" y="75"/>
                    </a:lnTo>
                    <a:lnTo>
                      <a:pt x="89" y="151"/>
                    </a:lnTo>
                    <a:lnTo>
                      <a:pt x="173" y="7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19520" y="3102120"/>
                <a:ext cx="51120" cy="54360"/>
              </a:xfrm>
              <a:custGeom>
                <a:avLst/>
                <a:gdLst/>
                <a:ahLst/>
                <a:rect l="0" t="0" r="r" b="b"/>
                <a:pathLst>
                  <a:path w="142" h="151">
                    <a:moveTo>
                      <a:pt x="70" y="0"/>
                    </a:moveTo>
                    <a:lnTo>
                      <a:pt x="0" y="75"/>
                    </a:lnTo>
                    <a:lnTo>
                      <a:pt x="70" y="151"/>
                    </a:lnTo>
                    <a:lnTo>
                      <a:pt x="142" y="7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1560" y="3102120"/>
                <a:ext cx="60840" cy="54360"/>
              </a:xfrm>
              <a:custGeom>
                <a:avLst/>
                <a:gdLst/>
                <a:ahLst/>
                <a:rect l="0" t="0" r="r" b="b"/>
                <a:pathLst>
                  <a:path w="169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9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081240" y="310212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70" y="0"/>
                    </a:moveTo>
                    <a:lnTo>
                      <a:pt x="0" y="75"/>
                    </a:lnTo>
                    <a:lnTo>
                      <a:pt x="70" y="151"/>
                    </a:lnTo>
                    <a:lnTo>
                      <a:pt x="155" y="7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205080" y="310212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335400" y="310212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4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465360" y="3102120"/>
                <a:ext cx="52920" cy="54360"/>
              </a:xfrm>
              <a:custGeom>
                <a:avLst/>
                <a:gdLst/>
                <a:ahLst/>
                <a:rect l="0" t="0" r="r" b="b"/>
                <a:pathLst>
                  <a:path w="147" h="151">
                    <a:moveTo>
                      <a:pt x="71" y="0"/>
                    </a:moveTo>
                    <a:lnTo>
                      <a:pt x="0" y="75"/>
                    </a:lnTo>
                    <a:lnTo>
                      <a:pt x="71" y="151"/>
                    </a:lnTo>
                    <a:lnTo>
                      <a:pt x="147" y="75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586320" y="310212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74" y="0"/>
                    </a:moveTo>
                    <a:lnTo>
                      <a:pt x="0" y="75"/>
                    </a:lnTo>
                    <a:lnTo>
                      <a:pt x="74" y="151"/>
                    </a:lnTo>
                    <a:lnTo>
                      <a:pt x="164" y="7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716280" y="3102120"/>
                <a:ext cx="51120" cy="54360"/>
              </a:xfrm>
              <a:custGeom>
                <a:avLst/>
                <a:gdLst/>
                <a:ahLst/>
                <a:rect l="0" t="0" r="r" b="b"/>
                <a:pathLst>
                  <a:path w="142" h="151">
                    <a:moveTo>
                      <a:pt x="70" y="0"/>
                    </a:moveTo>
                    <a:lnTo>
                      <a:pt x="0" y="75"/>
                    </a:lnTo>
                    <a:lnTo>
                      <a:pt x="70" y="151"/>
                    </a:lnTo>
                    <a:lnTo>
                      <a:pt x="142" y="7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843360" y="310212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970440" y="3102120"/>
                <a:ext cx="49680" cy="54360"/>
              </a:xfrm>
              <a:custGeom>
                <a:avLst/>
                <a:gdLst/>
                <a:ahLst/>
                <a:rect l="0" t="0" r="r" b="b"/>
                <a:pathLst>
                  <a:path w="138" h="151">
                    <a:moveTo>
                      <a:pt x="75" y="0"/>
                    </a:moveTo>
                    <a:lnTo>
                      <a:pt x="0" y="75"/>
                    </a:lnTo>
                    <a:lnTo>
                      <a:pt x="75" y="151"/>
                    </a:lnTo>
                    <a:lnTo>
                      <a:pt x="138" y="7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091040" y="310212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79" y="0"/>
                    </a:moveTo>
                    <a:lnTo>
                      <a:pt x="0" y="75"/>
                    </a:lnTo>
                    <a:lnTo>
                      <a:pt x="79" y="151"/>
                    </a:lnTo>
                    <a:lnTo>
                      <a:pt x="164" y="7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345960" y="2584440"/>
              <a:ext cx="1073160" cy="1073520"/>
              <a:chOff x="345960" y="2584440"/>
              <a:chExt cx="1073160" cy="1073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99960" y="3008160"/>
                <a:ext cx="594000" cy="595800"/>
              </a:xfrm>
              <a:custGeom>
                <a:avLst/>
                <a:gdLst/>
                <a:ahLst/>
                <a:rect l="0" t="0" r="r" b="b"/>
                <a:pathLst>
                  <a:path w="1650" h="1655">
                    <a:moveTo>
                      <a:pt x="149" y="0"/>
                    </a:moveTo>
                    <a:lnTo>
                      <a:pt x="0" y="149"/>
                    </a:lnTo>
                    <a:lnTo>
                      <a:pt x="1500" y="1655"/>
                    </a:lnTo>
                    <a:lnTo>
                      <a:pt x="1650" y="150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49280" y="2957400"/>
                <a:ext cx="594000" cy="597240"/>
              </a:xfrm>
              <a:custGeom>
                <a:avLst/>
                <a:gdLst/>
                <a:ahLst/>
                <a:rect l="0" t="0" r="r" b="b"/>
                <a:pathLst>
                  <a:path w="1650" h="1659">
                    <a:moveTo>
                      <a:pt x="0" y="154"/>
                    </a:moveTo>
                    <a:lnTo>
                      <a:pt x="149" y="0"/>
                    </a:lnTo>
                    <a:lnTo>
                      <a:pt x="1650" y="1504"/>
                    </a:lnTo>
                    <a:lnTo>
                      <a:pt x="1500" y="1659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90406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95360" y="2905200"/>
                <a:ext cx="594000" cy="595800"/>
              </a:xfrm>
              <a:custGeom>
                <a:avLst/>
                <a:gdLst/>
                <a:ahLst/>
                <a:rect l="0" t="0" r="r" b="b"/>
                <a:pathLst>
                  <a:path w="1650" h="1655">
                    <a:moveTo>
                      <a:pt x="0" y="149"/>
                    </a:moveTo>
                    <a:lnTo>
                      <a:pt x="149" y="0"/>
                    </a:lnTo>
                    <a:lnTo>
                      <a:pt x="1650" y="1505"/>
                    </a:lnTo>
                    <a:lnTo>
                      <a:pt x="1500" y="16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854b7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7280" y="2844720"/>
                <a:ext cx="590760" cy="597240"/>
              </a:xfrm>
              <a:custGeom>
                <a:avLst/>
                <a:gdLst/>
                <a:ahLst/>
                <a:rect l="0" t="0" r="r" b="b"/>
                <a:pathLst>
                  <a:path w="1641" h="1659">
                    <a:moveTo>
                      <a:pt x="0" y="154"/>
                    </a:moveTo>
                    <a:lnTo>
                      <a:pt x="145" y="0"/>
                    </a:lnTo>
                    <a:lnTo>
                      <a:pt x="1641" y="1509"/>
                    </a:lnTo>
                    <a:lnTo>
                      <a:pt x="1495" y="1659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7a557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46120" y="2857680"/>
                <a:ext cx="594000" cy="594000"/>
              </a:xfrm>
              <a:custGeom>
                <a:avLst/>
                <a:gdLst/>
                <a:ahLst/>
                <a:rect l="0" t="0" r="r" b="b"/>
                <a:pathLst>
                  <a:path w="1650" h="1650">
                    <a:moveTo>
                      <a:pt x="0" y="149"/>
                    </a:moveTo>
                    <a:lnTo>
                      <a:pt x="149" y="0"/>
                    </a:lnTo>
                    <a:lnTo>
                      <a:pt x="1650" y="1495"/>
                    </a:lnTo>
                    <a:lnTo>
                      <a:pt x="1500" y="165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6f60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98320" y="2801880"/>
                <a:ext cx="595800" cy="594000"/>
              </a:xfrm>
              <a:custGeom>
                <a:avLst/>
                <a:gdLst/>
                <a:ahLst/>
                <a:rect l="0" t="0" r="r" b="b"/>
                <a:pathLst>
                  <a:path w="1655" h="1650">
                    <a:moveTo>
                      <a:pt x="0" y="149"/>
                    </a:moveTo>
                    <a:lnTo>
                      <a:pt x="154" y="0"/>
                    </a:lnTo>
                    <a:lnTo>
                      <a:pt x="1655" y="1500"/>
                    </a:lnTo>
                    <a:lnTo>
                      <a:pt x="1505" y="165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636b9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54120" y="2746440"/>
                <a:ext cx="595800" cy="594000"/>
              </a:xfrm>
              <a:custGeom>
                <a:avLst/>
                <a:gdLst/>
                <a:ahLst/>
                <a:rect l="0" t="0" r="r" b="b"/>
                <a:pathLst>
                  <a:path w="1655" h="1650">
                    <a:moveTo>
                      <a:pt x="0" y="149"/>
                    </a:moveTo>
                    <a:lnTo>
                      <a:pt x="149" y="0"/>
                    </a:lnTo>
                    <a:lnTo>
                      <a:pt x="1655" y="1500"/>
                    </a:lnTo>
                    <a:lnTo>
                      <a:pt x="1501" y="165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5876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08120" y="2690640"/>
                <a:ext cx="595800" cy="595800"/>
              </a:xfrm>
              <a:custGeom>
                <a:avLst/>
                <a:gdLst/>
                <a:ahLst/>
                <a:rect l="0" t="0" r="r" b="b"/>
                <a:pathLst>
                  <a:path w="1655" h="1655">
                    <a:moveTo>
                      <a:pt x="0" y="154"/>
                    </a:moveTo>
                    <a:lnTo>
                      <a:pt x="149" y="0"/>
                    </a:lnTo>
                    <a:lnTo>
                      <a:pt x="1655" y="1505"/>
                    </a:lnTo>
                    <a:lnTo>
                      <a:pt x="1505" y="1655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4d80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60320" y="2639880"/>
                <a:ext cx="598680" cy="595800"/>
              </a:xfrm>
              <a:custGeom>
                <a:avLst/>
                <a:gdLst/>
                <a:ahLst/>
                <a:rect l="0" t="0" r="r" b="b"/>
                <a:pathLst>
                  <a:path w="1663" h="1655">
                    <a:moveTo>
                      <a:pt x="0" y="149"/>
                    </a:moveTo>
                    <a:lnTo>
                      <a:pt x="158" y="0"/>
                    </a:lnTo>
                    <a:lnTo>
                      <a:pt x="1663" y="1505"/>
                    </a:lnTo>
                    <a:lnTo>
                      <a:pt x="1509" y="16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428b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14320" y="2584440"/>
                <a:ext cx="594000" cy="595800"/>
              </a:xfrm>
              <a:custGeom>
                <a:avLst/>
                <a:gdLst/>
                <a:ahLst/>
                <a:rect l="0" t="0" r="r" b="b"/>
                <a:pathLst>
                  <a:path w="1650" h="1655">
                    <a:moveTo>
                      <a:pt x="0" y="149"/>
                    </a:moveTo>
                    <a:lnTo>
                      <a:pt x="149" y="0"/>
                    </a:lnTo>
                    <a:lnTo>
                      <a:pt x="1650" y="1501"/>
                    </a:lnTo>
                    <a:lnTo>
                      <a:pt x="1500" y="16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3796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876240" y="2584440"/>
                <a:ext cx="542880" cy="54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 txBox="1"/>
              <p:nvPr/>
            </p:nvSpPr>
            <p:spPr>
              <a:xfrm>
                <a:off x="1152360" y="3139920"/>
                <a:ext cx="219240" cy="17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®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45960" y="3062160"/>
                <a:ext cx="594000" cy="595800"/>
              </a:xfrm>
              <a:custGeom>
                <a:avLst/>
                <a:gdLst/>
                <a:ahLst/>
                <a:rect l="0" t="0" r="r" b="b"/>
                <a:pathLst>
                  <a:path w="1650" h="1655">
                    <a:moveTo>
                      <a:pt x="149" y="0"/>
                    </a:moveTo>
                    <a:lnTo>
                      <a:pt x="0" y="149"/>
                    </a:lnTo>
                    <a:lnTo>
                      <a:pt x="1500" y="1655"/>
                    </a:lnTo>
                    <a:lnTo>
                      <a:pt x="1650" y="150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39800" y="3111480"/>
                <a:ext cx="528840" cy="205200"/>
              </a:xfrm>
              <a:custGeom>
                <a:avLst/>
                <a:gdLst/>
                <a:ahLst/>
                <a:rect l="0" t="0" r="r" b="b"/>
                <a:pathLst>
                  <a:path w="1469" h="570">
                    <a:moveTo>
                      <a:pt x="0" y="0"/>
                    </a:moveTo>
                    <a:lnTo>
                      <a:pt x="1469" y="0"/>
                    </a:lnTo>
                    <a:lnTo>
                      <a:pt x="1469" y="26"/>
                    </a:lnTo>
                    <a:lnTo>
                      <a:pt x="1306" y="66"/>
                    </a:lnTo>
                    <a:lnTo>
                      <a:pt x="1160" y="141"/>
                    </a:lnTo>
                    <a:lnTo>
                      <a:pt x="1037" y="212"/>
                    </a:lnTo>
                    <a:lnTo>
                      <a:pt x="935" y="296"/>
                    </a:lnTo>
                    <a:lnTo>
                      <a:pt x="847" y="402"/>
                    </a:lnTo>
                    <a:lnTo>
                      <a:pt x="790" y="491"/>
                    </a:lnTo>
                    <a:lnTo>
                      <a:pt x="763" y="570"/>
                    </a:lnTo>
                    <a:lnTo>
                      <a:pt x="714" y="570"/>
                    </a:lnTo>
                    <a:lnTo>
                      <a:pt x="696" y="491"/>
                    </a:lnTo>
                    <a:lnTo>
                      <a:pt x="643" y="402"/>
                    </a:lnTo>
                    <a:lnTo>
                      <a:pt x="511" y="247"/>
                    </a:lnTo>
                    <a:lnTo>
                      <a:pt x="374" y="150"/>
                    </a:lnTo>
                    <a:lnTo>
                      <a:pt x="251" y="92"/>
                    </a:lnTo>
                    <a:lnTo>
                      <a:pt x="88" y="48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38200" y="2908440"/>
                <a:ext cx="471960" cy="432000"/>
              </a:xfrm>
              <a:custGeom>
                <a:avLst/>
                <a:gdLst/>
                <a:ahLst/>
                <a:rect l="0" t="0" r="r" b="b"/>
                <a:pathLst>
                  <a:path w="1311" h="1200">
                    <a:moveTo>
                      <a:pt x="1276" y="0"/>
                    </a:moveTo>
                    <a:lnTo>
                      <a:pt x="406" y="0"/>
                    </a:lnTo>
                    <a:lnTo>
                      <a:pt x="304" y="52"/>
                    </a:lnTo>
                    <a:lnTo>
                      <a:pt x="216" y="119"/>
                    </a:lnTo>
                    <a:lnTo>
                      <a:pt x="141" y="202"/>
                    </a:lnTo>
                    <a:lnTo>
                      <a:pt x="83" y="286"/>
                    </a:lnTo>
                    <a:lnTo>
                      <a:pt x="48" y="370"/>
                    </a:lnTo>
                    <a:lnTo>
                      <a:pt x="17" y="467"/>
                    </a:lnTo>
                    <a:lnTo>
                      <a:pt x="4" y="555"/>
                    </a:lnTo>
                    <a:lnTo>
                      <a:pt x="0" y="671"/>
                    </a:lnTo>
                    <a:lnTo>
                      <a:pt x="4" y="790"/>
                    </a:lnTo>
                    <a:lnTo>
                      <a:pt x="48" y="918"/>
                    </a:lnTo>
                    <a:lnTo>
                      <a:pt x="114" y="1006"/>
                    </a:lnTo>
                    <a:lnTo>
                      <a:pt x="189" y="1090"/>
                    </a:lnTo>
                    <a:lnTo>
                      <a:pt x="273" y="1156"/>
                    </a:lnTo>
                    <a:lnTo>
                      <a:pt x="375" y="1200"/>
                    </a:lnTo>
                    <a:lnTo>
                      <a:pt x="1311" y="1200"/>
                    </a:lnTo>
                    <a:lnTo>
                      <a:pt x="1311" y="1182"/>
                    </a:lnTo>
                    <a:lnTo>
                      <a:pt x="838" y="1182"/>
                    </a:lnTo>
                    <a:lnTo>
                      <a:pt x="772" y="1156"/>
                    </a:lnTo>
                    <a:lnTo>
                      <a:pt x="693" y="1107"/>
                    </a:lnTo>
                    <a:lnTo>
                      <a:pt x="609" y="1054"/>
                    </a:lnTo>
                    <a:lnTo>
                      <a:pt x="543" y="984"/>
                    </a:lnTo>
                    <a:lnTo>
                      <a:pt x="490" y="900"/>
                    </a:lnTo>
                    <a:lnTo>
                      <a:pt x="455" y="803"/>
                    </a:lnTo>
                    <a:lnTo>
                      <a:pt x="437" y="702"/>
                    </a:lnTo>
                    <a:lnTo>
                      <a:pt x="424" y="590"/>
                    </a:lnTo>
                    <a:lnTo>
                      <a:pt x="441" y="454"/>
                    </a:lnTo>
                    <a:lnTo>
                      <a:pt x="486" y="330"/>
                    </a:lnTo>
                    <a:lnTo>
                      <a:pt x="556" y="220"/>
                    </a:lnTo>
                    <a:lnTo>
                      <a:pt x="653" y="136"/>
                    </a:lnTo>
                    <a:lnTo>
                      <a:pt x="750" y="79"/>
                    </a:lnTo>
                    <a:lnTo>
                      <a:pt x="927" y="44"/>
                    </a:lnTo>
                    <a:lnTo>
                      <a:pt x="1082" y="48"/>
                    </a:lnTo>
                    <a:lnTo>
                      <a:pt x="1192" y="79"/>
                    </a:lnTo>
                    <a:lnTo>
                      <a:pt x="1276" y="145"/>
                    </a:lnTo>
                    <a:lnTo>
                      <a:pt x="12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4" name=""/>
          <p:cNvSpPr txBox="1"/>
          <p:nvPr/>
        </p:nvSpPr>
        <p:spPr>
          <a:xfrm>
            <a:off x="4435560" y="2739960"/>
            <a:ext cx="5144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  <a:ea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5421240" y="2670120"/>
            <a:ext cx="2635920" cy="527760"/>
            <a:chOff x="5421240" y="2670120"/>
            <a:chExt cx="2635920" cy="527760"/>
          </a:xfrm>
        </p:grpSpPr>
        <p:sp>
          <p:nvSpPr>
            <p:cNvPr id="1096" name=""/>
            <p:cNvSpPr/>
            <p:nvPr/>
          </p:nvSpPr>
          <p:spPr>
            <a:xfrm>
              <a:off x="5421240" y="2670120"/>
              <a:ext cx="228960" cy="506880"/>
            </a:xfrm>
            <a:custGeom>
              <a:avLst/>
              <a:gdLst/>
              <a:ahLst/>
              <a:rect l="0" t="0" r="r" b="b"/>
              <a:pathLst>
                <a:path w="636" h="1408">
                  <a:moveTo>
                    <a:pt x="211" y="0"/>
                  </a:moveTo>
                  <a:lnTo>
                    <a:pt x="636" y="0"/>
                  </a:lnTo>
                  <a:lnTo>
                    <a:pt x="428" y="1408"/>
                  </a:lnTo>
                  <a:lnTo>
                    <a:pt x="0" y="1408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616720" y="2766960"/>
              <a:ext cx="456120" cy="410040"/>
            </a:xfrm>
            <a:custGeom>
              <a:avLst/>
              <a:gdLst/>
              <a:ahLst/>
              <a:rect l="0" t="0" r="r" b="b"/>
              <a:pathLst>
                <a:path w="1267" h="1139">
                  <a:moveTo>
                    <a:pt x="0" y="1139"/>
                  </a:moveTo>
                  <a:lnTo>
                    <a:pt x="158" y="39"/>
                  </a:lnTo>
                  <a:lnTo>
                    <a:pt x="583" y="39"/>
                  </a:lnTo>
                  <a:lnTo>
                    <a:pt x="552" y="167"/>
                  </a:lnTo>
                  <a:lnTo>
                    <a:pt x="613" y="114"/>
                  </a:lnTo>
                  <a:lnTo>
                    <a:pt x="666" y="74"/>
                  </a:lnTo>
                  <a:lnTo>
                    <a:pt x="719" y="44"/>
                  </a:lnTo>
                  <a:lnTo>
                    <a:pt x="799" y="17"/>
                  </a:lnTo>
                  <a:lnTo>
                    <a:pt x="852" y="8"/>
                  </a:lnTo>
                  <a:lnTo>
                    <a:pt x="922" y="0"/>
                  </a:lnTo>
                  <a:lnTo>
                    <a:pt x="989" y="8"/>
                  </a:lnTo>
                  <a:lnTo>
                    <a:pt x="1055" y="26"/>
                  </a:lnTo>
                  <a:lnTo>
                    <a:pt x="1104" y="52"/>
                  </a:lnTo>
                  <a:lnTo>
                    <a:pt x="1157" y="92"/>
                  </a:lnTo>
                  <a:lnTo>
                    <a:pt x="1205" y="136"/>
                  </a:lnTo>
                  <a:lnTo>
                    <a:pt x="1241" y="198"/>
                  </a:lnTo>
                  <a:lnTo>
                    <a:pt x="1267" y="282"/>
                  </a:lnTo>
                  <a:lnTo>
                    <a:pt x="1267" y="375"/>
                  </a:lnTo>
                  <a:lnTo>
                    <a:pt x="1166" y="1139"/>
                  </a:lnTo>
                  <a:lnTo>
                    <a:pt x="759" y="1139"/>
                  </a:lnTo>
                  <a:lnTo>
                    <a:pt x="838" y="516"/>
                  </a:lnTo>
                  <a:lnTo>
                    <a:pt x="843" y="441"/>
                  </a:lnTo>
                  <a:lnTo>
                    <a:pt x="830" y="375"/>
                  </a:lnTo>
                  <a:lnTo>
                    <a:pt x="790" y="344"/>
                  </a:lnTo>
                  <a:lnTo>
                    <a:pt x="728" y="331"/>
                  </a:lnTo>
                  <a:lnTo>
                    <a:pt x="658" y="331"/>
                  </a:lnTo>
                  <a:lnTo>
                    <a:pt x="591" y="344"/>
                  </a:lnTo>
                  <a:lnTo>
                    <a:pt x="547" y="393"/>
                  </a:lnTo>
                  <a:lnTo>
                    <a:pt x="525" y="450"/>
                  </a:lnTo>
                  <a:lnTo>
                    <a:pt x="411" y="1139"/>
                  </a:lnTo>
                  <a:lnTo>
                    <a:pt x="0" y="1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114960" y="2670120"/>
              <a:ext cx="402120" cy="506880"/>
            </a:xfrm>
            <a:custGeom>
              <a:avLst/>
              <a:gdLst/>
              <a:ahLst/>
              <a:rect l="0" t="0" r="r" b="b"/>
              <a:pathLst>
                <a:path w="1117" h="1408">
                  <a:moveTo>
                    <a:pt x="185" y="0"/>
                  </a:moveTo>
                  <a:lnTo>
                    <a:pt x="0" y="1408"/>
                  </a:lnTo>
                  <a:lnTo>
                    <a:pt x="419" y="1408"/>
                  </a:lnTo>
                  <a:lnTo>
                    <a:pt x="494" y="904"/>
                  </a:lnTo>
                  <a:lnTo>
                    <a:pt x="830" y="904"/>
                  </a:lnTo>
                  <a:lnTo>
                    <a:pt x="875" y="547"/>
                  </a:lnTo>
                  <a:lnTo>
                    <a:pt x="552" y="547"/>
                  </a:lnTo>
                  <a:lnTo>
                    <a:pt x="569" y="367"/>
                  </a:lnTo>
                  <a:lnTo>
                    <a:pt x="1064" y="367"/>
                  </a:lnTo>
                  <a:lnTo>
                    <a:pt x="1117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437160" y="2773440"/>
              <a:ext cx="865440" cy="419400"/>
            </a:xfrm>
            <a:custGeom>
              <a:avLst/>
              <a:gdLst/>
              <a:ahLst/>
              <a:rect l="0" t="0" r="r" b="b"/>
              <a:pathLst>
                <a:path w="2404" h="1165">
                  <a:moveTo>
                    <a:pt x="2404" y="401"/>
                  </a:moveTo>
                  <a:lnTo>
                    <a:pt x="2404" y="348"/>
                  </a:lnTo>
                  <a:lnTo>
                    <a:pt x="2391" y="291"/>
                  </a:lnTo>
                  <a:lnTo>
                    <a:pt x="2369" y="246"/>
                  </a:lnTo>
                  <a:lnTo>
                    <a:pt x="2333" y="198"/>
                  </a:lnTo>
                  <a:lnTo>
                    <a:pt x="2289" y="158"/>
                  </a:lnTo>
                  <a:lnTo>
                    <a:pt x="2227" y="110"/>
                  </a:lnTo>
                  <a:lnTo>
                    <a:pt x="2157" y="74"/>
                  </a:lnTo>
                  <a:lnTo>
                    <a:pt x="2100" y="52"/>
                  </a:lnTo>
                  <a:lnTo>
                    <a:pt x="2007" y="22"/>
                  </a:lnTo>
                  <a:lnTo>
                    <a:pt x="1910" y="8"/>
                  </a:lnTo>
                  <a:lnTo>
                    <a:pt x="1813" y="0"/>
                  </a:lnTo>
                  <a:lnTo>
                    <a:pt x="1698" y="13"/>
                  </a:lnTo>
                  <a:lnTo>
                    <a:pt x="1601" y="39"/>
                  </a:lnTo>
                  <a:lnTo>
                    <a:pt x="1522" y="88"/>
                  </a:lnTo>
                  <a:lnTo>
                    <a:pt x="1456" y="123"/>
                  </a:lnTo>
                  <a:lnTo>
                    <a:pt x="1398" y="167"/>
                  </a:lnTo>
                  <a:lnTo>
                    <a:pt x="1332" y="233"/>
                  </a:lnTo>
                  <a:lnTo>
                    <a:pt x="1288" y="299"/>
                  </a:lnTo>
                  <a:lnTo>
                    <a:pt x="1240" y="388"/>
                  </a:lnTo>
                  <a:lnTo>
                    <a:pt x="1195" y="286"/>
                  </a:lnTo>
                  <a:lnTo>
                    <a:pt x="1128" y="198"/>
                  </a:lnTo>
                  <a:lnTo>
                    <a:pt x="1071" y="149"/>
                  </a:lnTo>
                  <a:lnTo>
                    <a:pt x="1001" y="97"/>
                  </a:lnTo>
                  <a:lnTo>
                    <a:pt x="903" y="57"/>
                  </a:lnTo>
                  <a:lnTo>
                    <a:pt x="802" y="30"/>
                  </a:lnTo>
                  <a:lnTo>
                    <a:pt x="696" y="22"/>
                  </a:lnTo>
                  <a:lnTo>
                    <a:pt x="573" y="22"/>
                  </a:lnTo>
                  <a:lnTo>
                    <a:pt x="449" y="39"/>
                  </a:lnTo>
                  <a:lnTo>
                    <a:pt x="348" y="83"/>
                  </a:lnTo>
                  <a:lnTo>
                    <a:pt x="260" y="132"/>
                  </a:lnTo>
                  <a:lnTo>
                    <a:pt x="176" y="198"/>
                  </a:lnTo>
                  <a:lnTo>
                    <a:pt x="105" y="268"/>
                  </a:lnTo>
                  <a:lnTo>
                    <a:pt x="57" y="348"/>
                  </a:lnTo>
                  <a:lnTo>
                    <a:pt x="22" y="432"/>
                  </a:lnTo>
                  <a:lnTo>
                    <a:pt x="0" y="542"/>
                  </a:lnTo>
                  <a:lnTo>
                    <a:pt x="0" y="644"/>
                  </a:lnTo>
                  <a:lnTo>
                    <a:pt x="8" y="724"/>
                  </a:lnTo>
                  <a:lnTo>
                    <a:pt x="35" y="812"/>
                  </a:lnTo>
                  <a:lnTo>
                    <a:pt x="66" y="882"/>
                  </a:lnTo>
                  <a:lnTo>
                    <a:pt x="119" y="944"/>
                  </a:lnTo>
                  <a:lnTo>
                    <a:pt x="185" y="1010"/>
                  </a:lnTo>
                  <a:lnTo>
                    <a:pt x="246" y="1059"/>
                  </a:lnTo>
                  <a:lnTo>
                    <a:pt x="317" y="1103"/>
                  </a:lnTo>
                  <a:lnTo>
                    <a:pt x="405" y="1134"/>
                  </a:lnTo>
                  <a:lnTo>
                    <a:pt x="498" y="1151"/>
                  </a:lnTo>
                  <a:lnTo>
                    <a:pt x="586" y="1165"/>
                  </a:lnTo>
                  <a:lnTo>
                    <a:pt x="674" y="1160"/>
                  </a:lnTo>
                  <a:lnTo>
                    <a:pt x="771" y="1151"/>
                  </a:lnTo>
                  <a:lnTo>
                    <a:pt x="846" y="1129"/>
                  </a:lnTo>
                  <a:lnTo>
                    <a:pt x="912" y="1103"/>
                  </a:lnTo>
                  <a:lnTo>
                    <a:pt x="987" y="1063"/>
                  </a:lnTo>
                  <a:lnTo>
                    <a:pt x="1049" y="1024"/>
                  </a:lnTo>
                  <a:lnTo>
                    <a:pt x="1111" y="962"/>
                  </a:lnTo>
                  <a:lnTo>
                    <a:pt x="1159" y="882"/>
                  </a:lnTo>
                  <a:lnTo>
                    <a:pt x="1218" y="803"/>
                  </a:lnTo>
                  <a:lnTo>
                    <a:pt x="1240" y="803"/>
                  </a:lnTo>
                  <a:lnTo>
                    <a:pt x="1271" y="874"/>
                  </a:lnTo>
                  <a:lnTo>
                    <a:pt x="1310" y="935"/>
                  </a:lnTo>
                  <a:lnTo>
                    <a:pt x="1354" y="984"/>
                  </a:lnTo>
                  <a:lnTo>
                    <a:pt x="1407" y="1037"/>
                  </a:lnTo>
                  <a:lnTo>
                    <a:pt x="1478" y="1081"/>
                  </a:lnTo>
                  <a:lnTo>
                    <a:pt x="1553" y="1121"/>
                  </a:lnTo>
                  <a:lnTo>
                    <a:pt x="1632" y="1138"/>
                  </a:lnTo>
                  <a:lnTo>
                    <a:pt x="1738" y="1151"/>
                  </a:lnTo>
                  <a:lnTo>
                    <a:pt x="1831" y="1156"/>
                  </a:lnTo>
                  <a:lnTo>
                    <a:pt x="1906" y="1156"/>
                  </a:lnTo>
                  <a:lnTo>
                    <a:pt x="1994" y="1151"/>
                  </a:lnTo>
                  <a:lnTo>
                    <a:pt x="2073" y="1125"/>
                  </a:lnTo>
                  <a:lnTo>
                    <a:pt x="2144" y="1094"/>
                  </a:lnTo>
                  <a:lnTo>
                    <a:pt x="2210" y="1059"/>
                  </a:lnTo>
                  <a:lnTo>
                    <a:pt x="2267" y="1015"/>
                  </a:lnTo>
                  <a:lnTo>
                    <a:pt x="2316" y="966"/>
                  </a:lnTo>
                  <a:lnTo>
                    <a:pt x="2346" y="904"/>
                  </a:lnTo>
                  <a:lnTo>
                    <a:pt x="2360" y="852"/>
                  </a:lnTo>
                  <a:lnTo>
                    <a:pt x="2351" y="812"/>
                  </a:lnTo>
                  <a:lnTo>
                    <a:pt x="2029" y="746"/>
                  </a:lnTo>
                  <a:lnTo>
                    <a:pt x="2007" y="781"/>
                  </a:lnTo>
                  <a:lnTo>
                    <a:pt x="1972" y="821"/>
                  </a:lnTo>
                  <a:lnTo>
                    <a:pt x="1928" y="847"/>
                  </a:lnTo>
                  <a:lnTo>
                    <a:pt x="1866" y="860"/>
                  </a:lnTo>
                  <a:lnTo>
                    <a:pt x="1808" y="860"/>
                  </a:lnTo>
                  <a:lnTo>
                    <a:pt x="1756" y="847"/>
                  </a:lnTo>
                  <a:lnTo>
                    <a:pt x="1698" y="821"/>
                  </a:lnTo>
                  <a:lnTo>
                    <a:pt x="1659" y="790"/>
                  </a:lnTo>
                  <a:lnTo>
                    <a:pt x="1628" y="755"/>
                  </a:lnTo>
                  <a:lnTo>
                    <a:pt x="1606" y="715"/>
                  </a:lnTo>
                  <a:lnTo>
                    <a:pt x="1597" y="666"/>
                  </a:lnTo>
                  <a:lnTo>
                    <a:pt x="873" y="568"/>
                  </a:lnTo>
                  <a:lnTo>
                    <a:pt x="868" y="666"/>
                  </a:lnTo>
                  <a:lnTo>
                    <a:pt x="846" y="719"/>
                  </a:lnTo>
                  <a:lnTo>
                    <a:pt x="820" y="772"/>
                  </a:lnTo>
                  <a:lnTo>
                    <a:pt x="784" y="807"/>
                  </a:lnTo>
                  <a:lnTo>
                    <a:pt x="714" y="843"/>
                  </a:lnTo>
                  <a:lnTo>
                    <a:pt x="648" y="847"/>
                  </a:lnTo>
                  <a:lnTo>
                    <a:pt x="564" y="843"/>
                  </a:lnTo>
                  <a:lnTo>
                    <a:pt x="502" y="830"/>
                  </a:lnTo>
                  <a:lnTo>
                    <a:pt x="458" y="803"/>
                  </a:lnTo>
                  <a:lnTo>
                    <a:pt x="418" y="763"/>
                  </a:lnTo>
                  <a:lnTo>
                    <a:pt x="392" y="715"/>
                  </a:lnTo>
                  <a:lnTo>
                    <a:pt x="374" y="618"/>
                  </a:lnTo>
                  <a:lnTo>
                    <a:pt x="383" y="546"/>
                  </a:lnTo>
                  <a:lnTo>
                    <a:pt x="410" y="471"/>
                  </a:lnTo>
                  <a:lnTo>
                    <a:pt x="445" y="427"/>
                  </a:lnTo>
                  <a:lnTo>
                    <a:pt x="489" y="388"/>
                  </a:lnTo>
                  <a:lnTo>
                    <a:pt x="542" y="366"/>
                  </a:lnTo>
                  <a:lnTo>
                    <a:pt x="612" y="357"/>
                  </a:lnTo>
                  <a:lnTo>
                    <a:pt x="692" y="357"/>
                  </a:lnTo>
                  <a:lnTo>
                    <a:pt x="771" y="379"/>
                  </a:lnTo>
                  <a:lnTo>
                    <a:pt x="815" y="414"/>
                  </a:lnTo>
                  <a:lnTo>
                    <a:pt x="842" y="445"/>
                  </a:lnTo>
                  <a:lnTo>
                    <a:pt x="868" y="515"/>
                  </a:lnTo>
                  <a:lnTo>
                    <a:pt x="877" y="577"/>
                  </a:lnTo>
                  <a:lnTo>
                    <a:pt x="1628" y="485"/>
                  </a:lnTo>
                  <a:lnTo>
                    <a:pt x="1659" y="440"/>
                  </a:lnTo>
                  <a:lnTo>
                    <a:pt x="1694" y="396"/>
                  </a:lnTo>
                  <a:lnTo>
                    <a:pt x="1747" y="361"/>
                  </a:lnTo>
                  <a:lnTo>
                    <a:pt x="1804" y="348"/>
                  </a:lnTo>
                  <a:lnTo>
                    <a:pt x="1870" y="348"/>
                  </a:lnTo>
                  <a:lnTo>
                    <a:pt x="1936" y="357"/>
                  </a:lnTo>
                  <a:lnTo>
                    <a:pt x="1985" y="388"/>
                  </a:lnTo>
                  <a:lnTo>
                    <a:pt x="2020" y="423"/>
                  </a:lnTo>
                  <a:lnTo>
                    <a:pt x="2029" y="454"/>
                  </a:lnTo>
                  <a:lnTo>
                    <a:pt x="2404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291440" y="2784600"/>
              <a:ext cx="432000" cy="413280"/>
            </a:xfrm>
            <a:custGeom>
              <a:avLst/>
              <a:gdLst/>
              <a:ahLst/>
              <a:rect l="0" t="0" r="r" b="b"/>
              <a:pathLst>
                <a:path w="1200" h="1148">
                  <a:moveTo>
                    <a:pt x="92" y="0"/>
                  </a:moveTo>
                  <a:lnTo>
                    <a:pt x="485" y="0"/>
                  </a:lnTo>
                  <a:lnTo>
                    <a:pt x="410" y="644"/>
                  </a:lnTo>
                  <a:lnTo>
                    <a:pt x="410" y="688"/>
                  </a:lnTo>
                  <a:lnTo>
                    <a:pt x="418" y="737"/>
                  </a:lnTo>
                  <a:lnTo>
                    <a:pt x="454" y="768"/>
                  </a:lnTo>
                  <a:lnTo>
                    <a:pt x="502" y="790"/>
                  </a:lnTo>
                  <a:lnTo>
                    <a:pt x="551" y="803"/>
                  </a:lnTo>
                  <a:lnTo>
                    <a:pt x="618" y="794"/>
                  </a:lnTo>
                  <a:lnTo>
                    <a:pt x="658" y="777"/>
                  </a:lnTo>
                  <a:lnTo>
                    <a:pt x="693" y="750"/>
                  </a:lnTo>
                  <a:lnTo>
                    <a:pt x="728" y="688"/>
                  </a:lnTo>
                  <a:lnTo>
                    <a:pt x="812" y="0"/>
                  </a:lnTo>
                  <a:lnTo>
                    <a:pt x="1200" y="0"/>
                  </a:lnTo>
                  <a:lnTo>
                    <a:pt x="1125" y="733"/>
                  </a:lnTo>
                  <a:lnTo>
                    <a:pt x="1094" y="847"/>
                  </a:lnTo>
                  <a:lnTo>
                    <a:pt x="1063" y="905"/>
                  </a:lnTo>
                  <a:lnTo>
                    <a:pt x="1019" y="980"/>
                  </a:lnTo>
                  <a:lnTo>
                    <a:pt x="953" y="1033"/>
                  </a:lnTo>
                  <a:lnTo>
                    <a:pt x="896" y="1069"/>
                  </a:lnTo>
                  <a:lnTo>
                    <a:pt x="825" y="1104"/>
                  </a:lnTo>
                  <a:lnTo>
                    <a:pt x="746" y="1126"/>
                  </a:lnTo>
                  <a:lnTo>
                    <a:pt x="662" y="1139"/>
                  </a:lnTo>
                  <a:lnTo>
                    <a:pt x="564" y="1148"/>
                  </a:lnTo>
                  <a:lnTo>
                    <a:pt x="458" y="1139"/>
                  </a:lnTo>
                  <a:lnTo>
                    <a:pt x="370" y="1130"/>
                  </a:lnTo>
                  <a:lnTo>
                    <a:pt x="282" y="1108"/>
                  </a:lnTo>
                  <a:lnTo>
                    <a:pt x="198" y="1069"/>
                  </a:lnTo>
                  <a:lnTo>
                    <a:pt x="114" y="1016"/>
                  </a:lnTo>
                  <a:lnTo>
                    <a:pt x="61" y="950"/>
                  </a:lnTo>
                  <a:lnTo>
                    <a:pt x="17" y="879"/>
                  </a:lnTo>
                  <a:lnTo>
                    <a:pt x="0" y="741"/>
                  </a:lnTo>
                  <a:lnTo>
                    <a:pt x="8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89960" y="2779560"/>
              <a:ext cx="367200" cy="417960"/>
            </a:xfrm>
            <a:custGeom>
              <a:avLst/>
              <a:gdLst/>
              <a:ahLst/>
              <a:rect l="0" t="0" r="r" b="b"/>
              <a:pathLst>
                <a:path w="1020" h="1161">
                  <a:moveTo>
                    <a:pt x="901" y="406"/>
                  </a:moveTo>
                  <a:lnTo>
                    <a:pt x="1020" y="176"/>
                  </a:lnTo>
                  <a:lnTo>
                    <a:pt x="963" y="123"/>
                  </a:lnTo>
                  <a:lnTo>
                    <a:pt x="888" y="74"/>
                  </a:lnTo>
                  <a:lnTo>
                    <a:pt x="791" y="39"/>
                  </a:lnTo>
                  <a:lnTo>
                    <a:pt x="697" y="22"/>
                  </a:lnTo>
                  <a:lnTo>
                    <a:pt x="618" y="4"/>
                  </a:lnTo>
                  <a:lnTo>
                    <a:pt x="521" y="0"/>
                  </a:lnTo>
                  <a:lnTo>
                    <a:pt x="441" y="26"/>
                  </a:lnTo>
                  <a:lnTo>
                    <a:pt x="353" y="57"/>
                  </a:lnTo>
                  <a:lnTo>
                    <a:pt x="287" y="105"/>
                  </a:lnTo>
                  <a:lnTo>
                    <a:pt x="242" y="154"/>
                  </a:lnTo>
                  <a:lnTo>
                    <a:pt x="198" y="220"/>
                  </a:lnTo>
                  <a:lnTo>
                    <a:pt x="167" y="296"/>
                  </a:lnTo>
                  <a:lnTo>
                    <a:pt x="158" y="371"/>
                  </a:lnTo>
                  <a:lnTo>
                    <a:pt x="158" y="441"/>
                  </a:lnTo>
                  <a:lnTo>
                    <a:pt x="171" y="499"/>
                  </a:lnTo>
                  <a:lnTo>
                    <a:pt x="202" y="556"/>
                  </a:lnTo>
                  <a:lnTo>
                    <a:pt x="242" y="591"/>
                  </a:lnTo>
                  <a:lnTo>
                    <a:pt x="283" y="627"/>
                  </a:lnTo>
                  <a:lnTo>
                    <a:pt x="327" y="653"/>
                  </a:lnTo>
                  <a:lnTo>
                    <a:pt x="389" y="680"/>
                  </a:lnTo>
                  <a:lnTo>
                    <a:pt x="450" y="693"/>
                  </a:lnTo>
                  <a:lnTo>
                    <a:pt x="600" y="733"/>
                  </a:lnTo>
                  <a:lnTo>
                    <a:pt x="618" y="772"/>
                  </a:lnTo>
                  <a:lnTo>
                    <a:pt x="609" y="838"/>
                  </a:lnTo>
                  <a:lnTo>
                    <a:pt x="583" y="856"/>
                  </a:lnTo>
                  <a:lnTo>
                    <a:pt x="547" y="879"/>
                  </a:lnTo>
                  <a:lnTo>
                    <a:pt x="503" y="883"/>
                  </a:lnTo>
                  <a:lnTo>
                    <a:pt x="433" y="875"/>
                  </a:lnTo>
                  <a:lnTo>
                    <a:pt x="362" y="847"/>
                  </a:lnTo>
                  <a:lnTo>
                    <a:pt x="292" y="816"/>
                  </a:lnTo>
                  <a:lnTo>
                    <a:pt x="220" y="763"/>
                  </a:lnTo>
                  <a:lnTo>
                    <a:pt x="154" y="710"/>
                  </a:lnTo>
                  <a:lnTo>
                    <a:pt x="0" y="945"/>
                  </a:lnTo>
                  <a:lnTo>
                    <a:pt x="39" y="998"/>
                  </a:lnTo>
                  <a:lnTo>
                    <a:pt x="92" y="1033"/>
                  </a:lnTo>
                  <a:lnTo>
                    <a:pt x="163" y="1073"/>
                  </a:lnTo>
                  <a:lnTo>
                    <a:pt x="233" y="1104"/>
                  </a:lnTo>
                  <a:lnTo>
                    <a:pt x="300" y="1130"/>
                  </a:lnTo>
                  <a:lnTo>
                    <a:pt x="402" y="1152"/>
                  </a:lnTo>
                  <a:lnTo>
                    <a:pt x="486" y="1161"/>
                  </a:lnTo>
                  <a:lnTo>
                    <a:pt x="578" y="1152"/>
                  </a:lnTo>
                  <a:lnTo>
                    <a:pt x="658" y="1139"/>
                  </a:lnTo>
                  <a:lnTo>
                    <a:pt x="728" y="1122"/>
                  </a:lnTo>
                  <a:lnTo>
                    <a:pt x="786" y="1095"/>
                  </a:lnTo>
                  <a:lnTo>
                    <a:pt x="848" y="1060"/>
                  </a:lnTo>
                  <a:lnTo>
                    <a:pt x="892" y="1025"/>
                  </a:lnTo>
                  <a:lnTo>
                    <a:pt x="936" y="967"/>
                  </a:lnTo>
                  <a:lnTo>
                    <a:pt x="967" y="910"/>
                  </a:lnTo>
                  <a:lnTo>
                    <a:pt x="994" y="838"/>
                  </a:lnTo>
                  <a:lnTo>
                    <a:pt x="998" y="772"/>
                  </a:lnTo>
                  <a:lnTo>
                    <a:pt x="994" y="697"/>
                  </a:lnTo>
                  <a:lnTo>
                    <a:pt x="967" y="631"/>
                  </a:lnTo>
                  <a:lnTo>
                    <a:pt x="932" y="591"/>
                  </a:lnTo>
                  <a:lnTo>
                    <a:pt x="883" y="543"/>
                  </a:lnTo>
                  <a:lnTo>
                    <a:pt x="795" y="503"/>
                  </a:lnTo>
                  <a:lnTo>
                    <a:pt x="693" y="472"/>
                  </a:lnTo>
                  <a:lnTo>
                    <a:pt x="613" y="450"/>
                  </a:lnTo>
                  <a:lnTo>
                    <a:pt x="569" y="433"/>
                  </a:lnTo>
                  <a:lnTo>
                    <a:pt x="547" y="402"/>
                  </a:lnTo>
                  <a:lnTo>
                    <a:pt x="547" y="353"/>
                  </a:lnTo>
                  <a:lnTo>
                    <a:pt x="561" y="322"/>
                  </a:lnTo>
                  <a:lnTo>
                    <a:pt x="587" y="296"/>
                  </a:lnTo>
                  <a:lnTo>
                    <a:pt x="631" y="296"/>
                  </a:lnTo>
                  <a:lnTo>
                    <a:pt x="688" y="292"/>
                  </a:lnTo>
                  <a:lnTo>
                    <a:pt x="746" y="309"/>
                  </a:lnTo>
                  <a:lnTo>
                    <a:pt x="804" y="336"/>
                  </a:lnTo>
                  <a:lnTo>
                    <a:pt x="861" y="367"/>
                  </a:lnTo>
                  <a:lnTo>
                    <a:pt x="901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5380200" y="2627280"/>
            <a:ext cx="2634120" cy="527400"/>
            <a:chOff x="5380200" y="2627280"/>
            <a:chExt cx="2634120" cy="527400"/>
          </a:xfrm>
        </p:grpSpPr>
        <p:sp>
          <p:nvSpPr>
            <p:cNvPr id="1103" name=""/>
            <p:cNvSpPr/>
            <p:nvPr/>
          </p:nvSpPr>
          <p:spPr>
            <a:xfrm>
              <a:off x="5380200" y="2627280"/>
              <a:ext cx="227520" cy="508320"/>
            </a:xfrm>
            <a:custGeom>
              <a:avLst/>
              <a:gdLst/>
              <a:ahLst/>
              <a:rect l="0" t="0" r="r" b="b"/>
              <a:pathLst>
                <a:path w="632" h="1412">
                  <a:moveTo>
                    <a:pt x="212" y="0"/>
                  </a:moveTo>
                  <a:lnTo>
                    <a:pt x="632" y="0"/>
                  </a:lnTo>
                  <a:lnTo>
                    <a:pt x="424" y="1412"/>
                  </a:lnTo>
                  <a:lnTo>
                    <a:pt x="0" y="1412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575320" y="2725560"/>
              <a:ext cx="454320" cy="410040"/>
            </a:xfrm>
            <a:custGeom>
              <a:avLst/>
              <a:gdLst/>
              <a:ahLst/>
              <a:rect l="0" t="0" r="r" b="b"/>
              <a:pathLst>
                <a:path w="1262" h="1139">
                  <a:moveTo>
                    <a:pt x="0" y="1139"/>
                  </a:moveTo>
                  <a:lnTo>
                    <a:pt x="158" y="39"/>
                  </a:lnTo>
                  <a:lnTo>
                    <a:pt x="577" y="39"/>
                  </a:lnTo>
                  <a:lnTo>
                    <a:pt x="551" y="167"/>
                  </a:lnTo>
                  <a:lnTo>
                    <a:pt x="608" y="114"/>
                  </a:lnTo>
                  <a:lnTo>
                    <a:pt x="662" y="74"/>
                  </a:lnTo>
                  <a:lnTo>
                    <a:pt x="719" y="44"/>
                  </a:lnTo>
                  <a:lnTo>
                    <a:pt x="794" y="17"/>
                  </a:lnTo>
                  <a:lnTo>
                    <a:pt x="847" y="8"/>
                  </a:lnTo>
                  <a:lnTo>
                    <a:pt x="918" y="0"/>
                  </a:lnTo>
                  <a:lnTo>
                    <a:pt x="984" y="8"/>
                  </a:lnTo>
                  <a:lnTo>
                    <a:pt x="1050" y="26"/>
                  </a:lnTo>
                  <a:lnTo>
                    <a:pt x="1099" y="52"/>
                  </a:lnTo>
                  <a:lnTo>
                    <a:pt x="1151" y="92"/>
                  </a:lnTo>
                  <a:lnTo>
                    <a:pt x="1200" y="136"/>
                  </a:lnTo>
                  <a:lnTo>
                    <a:pt x="1235" y="198"/>
                  </a:lnTo>
                  <a:lnTo>
                    <a:pt x="1262" y="282"/>
                  </a:lnTo>
                  <a:lnTo>
                    <a:pt x="1262" y="375"/>
                  </a:lnTo>
                  <a:lnTo>
                    <a:pt x="1160" y="1139"/>
                  </a:lnTo>
                  <a:lnTo>
                    <a:pt x="759" y="1139"/>
                  </a:lnTo>
                  <a:lnTo>
                    <a:pt x="834" y="516"/>
                  </a:lnTo>
                  <a:lnTo>
                    <a:pt x="843" y="441"/>
                  </a:lnTo>
                  <a:lnTo>
                    <a:pt x="825" y="375"/>
                  </a:lnTo>
                  <a:lnTo>
                    <a:pt x="790" y="344"/>
                  </a:lnTo>
                  <a:lnTo>
                    <a:pt x="724" y="331"/>
                  </a:lnTo>
                  <a:lnTo>
                    <a:pt x="658" y="331"/>
                  </a:lnTo>
                  <a:lnTo>
                    <a:pt x="586" y="344"/>
                  </a:lnTo>
                  <a:lnTo>
                    <a:pt x="542" y="393"/>
                  </a:lnTo>
                  <a:lnTo>
                    <a:pt x="520" y="450"/>
                  </a:lnTo>
                  <a:lnTo>
                    <a:pt x="410" y="1139"/>
                  </a:lnTo>
                  <a:lnTo>
                    <a:pt x="0" y="1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072120" y="2627280"/>
              <a:ext cx="400320" cy="508320"/>
            </a:xfrm>
            <a:custGeom>
              <a:avLst/>
              <a:gdLst/>
              <a:ahLst/>
              <a:rect l="0" t="0" r="r" b="b"/>
              <a:pathLst>
                <a:path w="1112" h="1412">
                  <a:moveTo>
                    <a:pt x="185" y="0"/>
                  </a:moveTo>
                  <a:lnTo>
                    <a:pt x="0" y="1412"/>
                  </a:lnTo>
                  <a:lnTo>
                    <a:pt x="418" y="1412"/>
                  </a:lnTo>
                  <a:lnTo>
                    <a:pt x="489" y="904"/>
                  </a:lnTo>
                  <a:lnTo>
                    <a:pt x="825" y="904"/>
                  </a:lnTo>
                  <a:lnTo>
                    <a:pt x="869" y="546"/>
                  </a:lnTo>
                  <a:lnTo>
                    <a:pt x="546" y="546"/>
                  </a:lnTo>
                  <a:lnTo>
                    <a:pt x="569" y="370"/>
                  </a:lnTo>
                  <a:lnTo>
                    <a:pt x="1059" y="370"/>
                  </a:lnTo>
                  <a:lnTo>
                    <a:pt x="1112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94320" y="2730600"/>
              <a:ext cx="864000" cy="421200"/>
            </a:xfrm>
            <a:custGeom>
              <a:avLst/>
              <a:gdLst/>
              <a:ahLst/>
              <a:rect l="0" t="0" r="r" b="b"/>
              <a:pathLst>
                <a:path w="2400" h="1170">
                  <a:moveTo>
                    <a:pt x="2400" y="406"/>
                  </a:moveTo>
                  <a:lnTo>
                    <a:pt x="2400" y="349"/>
                  </a:lnTo>
                  <a:lnTo>
                    <a:pt x="2387" y="291"/>
                  </a:lnTo>
                  <a:lnTo>
                    <a:pt x="2365" y="246"/>
                  </a:lnTo>
                  <a:lnTo>
                    <a:pt x="2330" y="198"/>
                  </a:lnTo>
                  <a:lnTo>
                    <a:pt x="2286" y="158"/>
                  </a:lnTo>
                  <a:lnTo>
                    <a:pt x="2224" y="114"/>
                  </a:lnTo>
                  <a:lnTo>
                    <a:pt x="2153" y="74"/>
                  </a:lnTo>
                  <a:lnTo>
                    <a:pt x="2096" y="52"/>
                  </a:lnTo>
                  <a:lnTo>
                    <a:pt x="2004" y="22"/>
                  </a:lnTo>
                  <a:lnTo>
                    <a:pt x="1907" y="8"/>
                  </a:lnTo>
                  <a:lnTo>
                    <a:pt x="1809" y="0"/>
                  </a:lnTo>
                  <a:lnTo>
                    <a:pt x="1698" y="13"/>
                  </a:lnTo>
                  <a:lnTo>
                    <a:pt x="1601" y="39"/>
                  </a:lnTo>
                  <a:lnTo>
                    <a:pt x="1517" y="88"/>
                  </a:lnTo>
                  <a:lnTo>
                    <a:pt x="1451" y="123"/>
                  </a:lnTo>
                  <a:lnTo>
                    <a:pt x="1394" y="167"/>
                  </a:lnTo>
                  <a:lnTo>
                    <a:pt x="1328" y="233"/>
                  </a:lnTo>
                  <a:lnTo>
                    <a:pt x="1288" y="305"/>
                  </a:lnTo>
                  <a:lnTo>
                    <a:pt x="1235" y="389"/>
                  </a:lnTo>
                  <a:lnTo>
                    <a:pt x="1196" y="286"/>
                  </a:lnTo>
                  <a:lnTo>
                    <a:pt x="1129" y="198"/>
                  </a:lnTo>
                  <a:lnTo>
                    <a:pt x="1072" y="149"/>
                  </a:lnTo>
                  <a:lnTo>
                    <a:pt x="1002" y="97"/>
                  </a:lnTo>
                  <a:lnTo>
                    <a:pt x="904" y="57"/>
                  </a:lnTo>
                  <a:lnTo>
                    <a:pt x="799" y="30"/>
                  </a:lnTo>
                  <a:lnTo>
                    <a:pt x="697" y="22"/>
                  </a:lnTo>
                  <a:lnTo>
                    <a:pt x="573" y="22"/>
                  </a:lnTo>
                  <a:lnTo>
                    <a:pt x="449" y="39"/>
                  </a:lnTo>
                  <a:lnTo>
                    <a:pt x="348" y="83"/>
                  </a:lnTo>
                  <a:lnTo>
                    <a:pt x="260" y="132"/>
                  </a:lnTo>
                  <a:lnTo>
                    <a:pt x="176" y="198"/>
                  </a:lnTo>
                  <a:lnTo>
                    <a:pt x="105" y="273"/>
                  </a:lnTo>
                  <a:lnTo>
                    <a:pt x="57" y="349"/>
                  </a:lnTo>
                  <a:lnTo>
                    <a:pt x="22" y="437"/>
                  </a:lnTo>
                  <a:lnTo>
                    <a:pt x="0" y="543"/>
                  </a:lnTo>
                  <a:lnTo>
                    <a:pt x="0" y="644"/>
                  </a:lnTo>
                  <a:lnTo>
                    <a:pt x="8" y="728"/>
                  </a:lnTo>
                  <a:lnTo>
                    <a:pt x="35" y="816"/>
                  </a:lnTo>
                  <a:lnTo>
                    <a:pt x="66" y="888"/>
                  </a:lnTo>
                  <a:lnTo>
                    <a:pt x="119" y="950"/>
                  </a:lnTo>
                  <a:lnTo>
                    <a:pt x="185" y="1016"/>
                  </a:lnTo>
                  <a:lnTo>
                    <a:pt x="246" y="1064"/>
                  </a:lnTo>
                  <a:lnTo>
                    <a:pt x="317" y="1108"/>
                  </a:lnTo>
                  <a:lnTo>
                    <a:pt x="405" y="1139"/>
                  </a:lnTo>
                  <a:lnTo>
                    <a:pt x="498" y="1157"/>
                  </a:lnTo>
                  <a:lnTo>
                    <a:pt x="586" y="1170"/>
                  </a:lnTo>
                  <a:lnTo>
                    <a:pt x="671" y="1166"/>
                  </a:lnTo>
                  <a:lnTo>
                    <a:pt x="768" y="1157"/>
                  </a:lnTo>
                  <a:lnTo>
                    <a:pt x="847" y="1135"/>
                  </a:lnTo>
                  <a:lnTo>
                    <a:pt x="913" y="1108"/>
                  </a:lnTo>
                  <a:lnTo>
                    <a:pt x="984" y="1069"/>
                  </a:lnTo>
                  <a:lnTo>
                    <a:pt x="1046" y="1025"/>
                  </a:lnTo>
                  <a:lnTo>
                    <a:pt x="1107" y="967"/>
                  </a:lnTo>
                  <a:lnTo>
                    <a:pt x="1160" y="888"/>
                  </a:lnTo>
                  <a:lnTo>
                    <a:pt x="1213" y="803"/>
                  </a:lnTo>
                  <a:lnTo>
                    <a:pt x="1235" y="803"/>
                  </a:lnTo>
                  <a:lnTo>
                    <a:pt x="1266" y="879"/>
                  </a:lnTo>
                  <a:lnTo>
                    <a:pt x="1306" y="941"/>
                  </a:lnTo>
                  <a:lnTo>
                    <a:pt x="1354" y="989"/>
                  </a:lnTo>
                  <a:lnTo>
                    <a:pt x="1403" y="1042"/>
                  </a:lnTo>
                  <a:lnTo>
                    <a:pt x="1478" y="1086"/>
                  </a:lnTo>
                  <a:lnTo>
                    <a:pt x="1548" y="1126"/>
                  </a:lnTo>
                  <a:lnTo>
                    <a:pt x="1632" y="1144"/>
                  </a:lnTo>
                  <a:lnTo>
                    <a:pt x="1734" y="1157"/>
                  </a:lnTo>
                  <a:lnTo>
                    <a:pt x="1827" y="1161"/>
                  </a:lnTo>
                  <a:lnTo>
                    <a:pt x="1902" y="1161"/>
                  </a:lnTo>
                  <a:lnTo>
                    <a:pt x="1990" y="1157"/>
                  </a:lnTo>
                  <a:lnTo>
                    <a:pt x="2074" y="1130"/>
                  </a:lnTo>
                  <a:lnTo>
                    <a:pt x="2140" y="1100"/>
                  </a:lnTo>
                  <a:lnTo>
                    <a:pt x="2206" y="1064"/>
                  </a:lnTo>
                  <a:lnTo>
                    <a:pt x="2264" y="1020"/>
                  </a:lnTo>
                  <a:lnTo>
                    <a:pt x="2312" y="972"/>
                  </a:lnTo>
                  <a:lnTo>
                    <a:pt x="2343" y="910"/>
                  </a:lnTo>
                  <a:lnTo>
                    <a:pt x="2356" y="856"/>
                  </a:lnTo>
                  <a:lnTo>
                    <a:pt x="2347" y="816"/>
                  </a:lnTo>
                  <a:lnTo>
                    <a:pt x="2026" y="750"/>
                  </a:lnTo>
                  <a:lnTo>
                    <a:pt x="2004" y="785"/>
                  </a:lnTo>
                  <a:lnTo>
                    <a:pt x="1968" y="825"/>
                  </a:lnTo>
                  <a:lnTo>
                    <a:pt x="1924" y="852"/>
                  </a:lnTo>
                  <a:lnTo>
                    <a:pt x="1862" y="860"/>
                  </a:lnTo>
                  <a:lnTo>
                    <a:pt x="1805" y="860"/>
                  </a:lnTo>
                  <a:lnTo>
                    <a:pt x="1756" y="852"/>
                  </a:lnTo>
                  <a:lnTo>
                    <a:pt x="1698" y="825"/>
                  </a:lnTo>
                  <a:lnTo>
                    <a:pt x="1654" y="794"/>
                  </a:lnTo>
                  <a:lnTo>
                    <a:pt x="1623" y="759"/>
                  </a:lnTo>
                  <a:lnTo>
                    <a:pt x="1606" y="719"/>
                  </a:lnTo>
                  <a:lnTo>
                    <a:pt x="1597" y="666"/>
                  </a:lnTo>
                  <a:lnTo>
                    <a:pt x="874" y="569"/>
                  </a:lnTo>
                  <a:lnTo>
                    <a:pt x="865" y="666"/>
                  </a:lnTo>
                  <a:lnTo>
                    <a:pt x="847" y="724"/>
                  </a:lnTo>
                  <a:lnTo>
                    <a:pt x="821" y="777"/>
                  </a:lnTo>
                  <a:lnTo>
                    <a:pt x="785" y="812"/>
                  </a:lnTo>
                  <a:lnTo>
                    <a:pt x="715" y="847"/>
                  </a:lnTo>
                  <a:lnTo>
                    <a:pt x="644" y="852"/>
                  </a:lnTo>
                  <a:lnTo>
                    <a:pt x="564" y="847"/>
                  </a:lnTo>
                  <a:lnTo>
                    <a:pt x="502" y="830"/>
                  </a:lnTo>
                  <a:lnTo>
                    <a:pt x="454" y="803"/>
                  </a:lnTo>
                  <a:lnTo>
                    <a:pt x="418" y="763"/>
                  </a:lnTo>
                  <a:lnTo>
                    <a:pt x="388" y="719"/>
                  </a:lnTo>
                  <a:lnTo>
                    <a:pt x="374" y="622"/>
                  </a:lnTo>
                  <a:lnTo>
                    <a:pt x="383" y="547"/>
                  </a:lnTo>
                  <a:lnTo>
                    <a:pt x="410" y="472"/>
                  </a:lnTo>
                  <a:lnTo>
                    <a:pt x="445" y="433"/>
                  </a:lnTo>
                  <a:lnTo>
                    <a:pt x="485" y="389"/>
                  </a:lnTo>
                  <a:lnTo>
                    <a:pt x="542" y="371"/>
                  </a:lnTo>
                  <a:lnTo>
                    <a:pt x="609" y="358"/>
                  </a:lnTo>
                  <a:lnTo>
                    <a:pt x="693" y="358"/>
                  </a:lnTo>
                  <a:lnTo>
                    <a:pt x="768" y="380"/>
                  </a:lnTo>
                  <a:lnTo>
                    <a:pt x="816" y="415"/>
                  </a:lnTo>
                  <a:lnTo>
                    <a:pt x="843" y="446"/>
                  </a:lnTo>
                  <a:lnTo>
                    <a:pt x="865" y="516"/>
                  </a:lnTo>
                  <a:lnTo>
                    <a:pt x="878" y="578"/>
                  </a:lnTo>
                  <a:lnTo>
                    <a:pt x="1623" y="486"/>
                  </a:lnTo>
                  <a:lnTo>
                    <a:pt x="1654" y="441"/>
                  </a:lnTo>
                  <a:lnTo>
                    <a:pt x="1694" y="402"/>
                  </a:lnTo>
                  <a:lnTo>
                    <a:pt x="1742" y="367"/>
                  </a:lnTo>
                  <a:lnTo>
                    <a:pt x="1801" y="349"/>
                  </a:lnTo>
                  <a:lnTo>
                    <a:pt x="1867" y="349"/>
                  </a:lnTo>
                  <a:lnTo>
                    <a:pt x="1933" y="358"/>
                  </a:lnTo>
                  <a:lnTo>
                    <a:pt x="1981" y="389"/>
                  </a:lnTo>
                  <a:lnTo>
                    <a:pt x="2017" y="424"/>
                  </a:lnTo>
                  <a:lnTo>
                    <a:pt x="2026" y="455"/>
                  </a:lnTo>
                  <a:lnTo>
                    <a:pt x="2400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48600" y="2743200"/>
              <a:ext cx="430560" cy="411480"/>
            </a:xfrm>
            <a:custGeom>
              <a:avLst/>
              <a:gdLst/>
              <a:ahLst/>
              <a:rect l="0" t="0" r="r" b="b"/>
              <a:pathLst>
                <a:path w="1196" h="1143">
                  <a:moveTo>
                    <a:pt x="92" y="0"/>
                  </a:moveTo>
                  <a:lnTo>
                    <a:pt x="480" y="0"/>
                  </a:lnTo>
                  <a:lnTo>
                    <a:pt x="410" y="644"/>
                  </a:lnTo>
                  <a:lnTo>
                    <a:pt x="410" y="684"/>
                  </a:lnTo>
                  <a:lnTo>
                    <a:pt x="418" y="737"/>
                  </a:lnTo>
                  <a:lnTo>
                    <a:pt x="449" y="768"/>
                  </a:lnTo>
                  <a:lnTo>
                    <a:pt x="498" y="790"/>
                  </a:lnTo>
                  <a:lnTo>
                    <a:pt x="546" y="799"/>
                  </a:lnTo>
                  <a:lnTo>
                    <a:pt x="613" y="790"/>
                  </a:lnTo>
                  <a:lnTo>
                    <a:pt x="653" y="772"/>
                  </a:lnTo>
                  <a:lnTo>
                    <a:pt x="688" y="750"/>
                  </a:lnTo>
                  <a:lnTo>
                    <a:pt x="724" y="684"/>
                  </a:lnTo>
                  <a:lnTo>
                    <a:pt x="807" y="0"/>
                  </a:lnTo>
                  <a:lnTo>
                    <a:pt x="1196" y="0"/>
                  </a:lnTo>
                  <a:lnTo>
                    <a:pt x="1121" y="728"/>
                  </a:lnTo>
                  <a:lnTo>
                    <a:pt x="1090" y="843"/>
                  </a:lnTo>
                  <a:lnTo>
                    <a:pt x="1059" y="900"/>
                  </a:lnTo>
                  <a:lnTo>
                    <a:pt x="1015" y="975"/>
                  </a:lnTo>
                  <a:lnTo>
                    <a:pt x="953" y="1028"/>
                  </a:lnTo>
                  <a:lnTo>
                    <a:pt x="891" y="1063"/>
                  </a:lnTo>
                  <a:lnTo>
                    <a:pt x="821" y="1099"/>
                  </a:lnTo>
                  <a:lnTo>
                    <a:pt x="746" y="1121"/>
                  </a:lnTo>
                  <a:lnTo>
                    <a:pt x="662" y="1134"/>
                  </a:lnTo>
                  <a:lnTo>
                    <a:pt x="564" y="1143"/>
                  </a:lnTo>
                  <a:lnTo>
                    <a:pt x="458" y="1134"/>
                  </a:lnTo>
                  <a:lnTo>
                    <a:pt x="366" y="1125"/>
                  </a:lnTo>
                  <a:lnTo>
                    <a:pt x="282" y="1103"/>
                  </a:lnTo>
                  <a:lnTo>
                    <a:pt x="198" y="1063"/>
                  </a:lnTo>
                  <a:lnTo>
                    <a:pt x="114" y="1015"/>
                  </a:lnTo>
                  <a:lnTo>
                    <a:pt x="57" y="944"/>
                  </a:lnTo>
                  <a:lnTo>
                    <a:pt x="17" y="874"/>
                  </a:lnTo>
                  <a:lnTo>
                    <a:pt x="0" y="737"/>
                  </a:lnTo>
                  <a:lnTo>
                    <a:pt x="8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647120" y="2738520"/>
              <a:ext cx="367200" cy="416160"/>
            </a:xfrm>
            <a:custGeom>
              <a:avLst/>
              <a:gdLst/>
              <a:ahLst/>
              <a:rect l="0" t="0" r="r" b="b"/>
              <a:pathLst>
                <a:path w="1020" h="1156">
                  <a:moveTo>
                    <a:pt x="901" y="405"/>
                  </a:moveTo>
                  <a:lnTo>
                    <a:pt x="1020" y="171"/>
                  </a:lnTo>
                  <a:lnTo>
                    <a:pt x="963" y="123"/>
                  </a:lnTo>
                  <a:lnTo>
                    <a:pt x="888" y="74"/>
                  </a:lnTo>
                  <a:lnTo>
                    <a:pt x="791" y="39"/>
                  </a:lnTo>
                  <a:lnTo>
                    <a:pt x="697" y="22"/>
                  </a:lnTo>
                  <a:lnTo>
                    <a:pt x="618" y="4"/>
                  </a:lnTo>
                  <a:lnTo>
                    <a:pt x="521" y="0"/>
                  </a:lnTo>
                  <a:lnTo>
                    <a:pt x="441" y="26"/>
                  </a:lnTo>
                  <a:lnTo>
                    <a:pt x="353" y="57"/>
                  </a:lnTo>
                  <a:lnTo>
                    <a:pt x="287" y="105"/>
                  </a:lnTo>
                  <a:lnTo>
                    <a:pt x="242" y="154"/>
                  </a:lnTo>
                  <a:lnTo>
                    <a:pt x="198" y="220"/>
                  </a:lnTo>
                  <a:lnTo>
                    <a:pt x="167" y="295"/>
                  </a:lnTo>
                  <a:lnTo>
                    <a:pt x="158" y="366"/>
                  </a:lnTo>
                  <a:lnTo>
                    <a:pt x="158" y="440"/>
                  </a:lnTo>
                  <a:lnTo>
                    <a:pt x="171" y="493"/>
                  </a:lnTo>
                  <a:lnTo>
                    <a:pt x="202" y="551"/>
                  </a:lnTo>
                  <a:lnTo>
                    <a:pt x="242" y="587"/>
                  </a:lnTo>
                  <a:lnTo>
                    <a:pt x="283" y="622"/>
                  </a:lnTo>
                  <a:lnTo>
                    <a:pt x="327" y="649"/>
                  </a:lnTo>
                  <a:lnTo>
                    <a:pt x="389" y="675"/>
                  </a:lnTo>
                  <a:lnTo>
                    <a:pt x="450" y="693"/>
                  </a:lnTo>
                  <a:lnTo>
                    <a:pt x="600" y="733"/>
                  </a:lnTo>
                  <a:lnTo>
                    <a:pt x="618" y="768"/>
                  </a:lnTo>
                  <a:lnTo>
                    <a:pt x="609" y="834"/>
                  </a:lnTo>
                  <a:lnTo>
                    <a:pt x="583" y="856"/>
                  </a:lnTo>
                  <a:lnTo>
                    <a:pt x="547" y="874"/>
                  </a:lnTo>
                  <a:lnTo>
                    <a:pt x="503" y="878"/>
                  </a:lnTo>
                  <a:lnTo>
                    <a:pt x="433" y="869"/>
                  </a:lnTo>
                  <a:lnTo>
                    <a:pt x="362" y="843"/>
                  </a:lnTo>
                  <a:lnTo>
                    <a:pt x="292" y="812"/>
                  </a:lnTo>
                  <a:lnTo>
                    <a:pt x="220" y="763"/>
                  </a:lnTo>
                  <a:lnTo>
                    <a:pt x="154" y="706"/>
                  </a:lnTo>
                  <a:lnTo>
                    <a:pt x="0" y="940"/>
                  </a:lnTo>
                  <a:lnTo>
                    <a:pt x="39" y="993"/>
                  </a:lnTo>
                  <a:lnTo>
                    <a:pt x="92" y="1028"/>
                  </a:lnTo>
                  <a:lnTo>
                    <a:pt x="163" y="1068"/>
                  </a:lnTo>
                  <a:lnTo>
                    <a:pt x="233" y="1099"/>
                  </a:lnTo>
                  <a:lnTo>
                    <a:pt x="300" y="1125"/>
                  </a:lnTo>
                  <a:lnTo>
                    <a:pt x="402" y="1147"/>
                  </a:lnTo>
                  <a:lnTo>
                    <a:pt x="486" y="1156"/>
                  </a:lnTo>
                  <a:lnTo>
                    <a:pt x="578" y="1147"/>
                  </a:lnTo>
                  <a:lnTo>
                    <a:pt x="658" y="1134"/>
                  </a:lnTo>
                  <a:lnTo>
                    <a:pt x="728" y="1116"/>
                  </a:lnTo>
                  <a:lnTo>
                    <a:pt x="786" y="1090"/>
                  </a:lnTo>
                  <a:lnTo>
                    <a:pt x="848" y="1054"/>
                  </a:lnTo>
                  <a:lnTo>
                    <a:pt x="892" y="1019"/>
                  </a:lnTo>
                  <a:lnTo>
                    <a:pt x="936" y="962"/>
                  </a:lnTo>
                  <a:lnTo>
                    <a:pt x="967" y="904"/>
                  </a:lnTo>
                  <a:lnTo>
                    <a:pt x="994" y="834"/>
                  </a:lnTo>
                  <a:lnTo>
                    <a:pt x="998" y="768"/>
                  </a:lnTo>
                  <a:lnTo>
                    <a:pt x="994" y="697"/>
                  </a:lnTo>
                  <a:lnTo>
                    <a:pt x="967" y="631"/>
                  </a:lnTo>
                  <a:lnTo>
                    <a:pt x="932" y="587"/>
                  </a:lnTo>
                  <a:lnTo>
                    <a:pt x="883" y="542"/>
                  </a:lnTo>
                  <a:lnTo>
                    <a:pt x="795" y="502"/>
                  </a:lnTo>
                  <a:lnTo>
                    <a:pt x="693" y="471"/>
                  </a:lnTo>
                  <a:lnTo>
                    <a:pt x="613" y="449"/>
                  </a:lnTo>
                  <a:lnTo>
                    <a:pt x="569" y="427"/>
                  </a:lnTo>
                  <a:lnTo>
                    <a:pt x="547" y="396"/>
                  </a:lnTo>
                  <a:lnTo>
                    <a:pt x="547" y="352"/>
                  </a:lnTo>
                  <a:lnTo>
                    <a:pt x="561" y="321"/>
                  </a:lnTo>
                  <a:lnTo>
                    <a:pt x="587" y="295"/>
                  </a:lnTo>
                  <a:lnTo>
                    <a:pt x="631" y="295"/>
                  </a:lnTo>
                  <a:lnTo>
                    <a:pt x="688" y="291"/>
                  </a:lnTo>
                  <a:lnTo>
                    <a:pt x="746" y="308"/>
                  </a:lnTo>
                  <a:lnTo>
                    <a:pt x="804" y="330"/>
                  </a:lnTo>
                  <a:lnTo>
                    <a:pt x="861" y="361"/>
                  </a:lnTo>
                  <a:lnTo>
                    <a:pt x="901" y="4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"/>
          <p:cNvSpPr txBox="1"/>
          <p:nvPr/>
        </p:nvSpPr>
        <p:spPr>
          <a:xfrm>
            <a:off x="5348160" y="3201840"/>
            <a:ext cx="267984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        Y        S       T        E        M        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8069400" y="2736720"/>
            <a:ext cx="13644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216240" y="6450120"/>
            <a:ext cx="230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18ffd"/>
                </a:solidFill>
                <a:latin typeface="Arial"/>
                <a:ea typeface="Arial"/>
              </a:rPr>
              <a:t>Click here to 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sp>
          <p:nvSpPr>
            <p:cNvPr id="1113" name=""/>
            <p:cNvSpPr/>
            <p:nvPr/>
          </p:nvSpPr>
          <p:spPr>
            <a:xfrm>
              <a:off x="0" y="4952880"/>
              <a:ext cx="9144360" cy="1892520"/>
            </a:xfrm>
            <a:custGeom>
              <a:avLst/>
              <a:gdLst/>
              <a:ahLst/>
              <a:rect l="0" t="0" r="r" b="b"/>
              <a:pathLst>
                <a:path w="25401" h="5257">
                  <a:moveTo>
                    <a:pt x="25401" y="0"/>
                  </a:moveTo>
                  <a:lnTo>
                    <a:pt x="0" y="5257"/>
                  </a:lnTo>
                  <a:lnTo>
                    <a:pt x="25365" y="5257"/>
                  </a:lnTo>
                  <a:lnTo>
                    <a:pt x="25401" y="0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0" y="6819840"/>
              <a:ext cx="9131400" cy="25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63de8"/>
                </a:gs>
              </a:gsLst>
              <a:lin ang="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0" y="0"/>
              <a:ext cx="5334480" cy="4800960"/>
            </a:xfrm>
            <a:custGeom>
              <a:avLst/>
              <a:gdLst/>
              <a:ahLst/>
              <a:rect l="0" t="0" r="r" b="b"/>
              <a:pathLst>
                <a:path w="14818" h="13336">
                  <a:moveTo>
                    <a:pt x="0" y="13336"/>
                  </a:moveTo>
                  <a:lnTo>
                    <a:pt x="14818" y="0"/>
                  </a:lnTo>
                  <a:lnTo>
                    <a:pt x="0" y="0"/>
                  </a:lnTo>
                  <a:lnTo>
                    <a:pt x="0" y="133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63de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62080" y="130320"/>
            <a:ext cx="8669160" cy="15224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12760" y="65160"/>
            <a:ext cx="8760240" cy="78120"/>
          </a:xfrm>
          <a:custGeom>
            <a:avLst/>
            <a:gdLst/>
            <a:ahLst/>
            <a:rect l="0" t="0" r="r" b="b"/>
            <a:pathLst>
              <a:path w="24334" h="217">
                <a:moveTo>
                  <a:pt x="97" y="177"/>
                </a:moveTo>
                <a:lnTo>
                  <a:pt x="0" y="8"/>
                </a:lnTo>
                <a:lnTo>
                  <a:pt x="24334" y="0"/>
                </a:lnTo>
                <a:lnTo>
                  <a:pt x="24242" y="217"/>
                </a:lnTo>
                <a:lnTo>
                  <a:pt x="97" y="177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20680" y="1671480"/>
            <a:ext cx="8741160" cy="86040"/>
          </a:xfrm>
          <a:custGeom>
            <a:avLst/>
            <a:gdLst/>
            <a:ahLst/>
            <a:rect l="0" t="0" r="r" b="b"/>
            <a:pathLst>
              <a:path w="24281" h="239">
                <a:moveTo>
                  <a:pt x="97" y="8"/>
                </a:moveTo>
                <a:lnTo>
                  <a:pt x="0" y="230"/>
                </a:lnTo>
                <a:lnTo>
                  <a:pt x="24281" y="239"/>
                </a:lnTo>
                <a:lnTo>
                  <a:pt x="24220" y="0"/>
                </a:lnTo>
                <a:lnTo>
                  <a:pt x="97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12760" y="65160"/>
            <a:ext cx="52920" cy="1705320"/>
          </a:xfrm>
          <a:custGeom>
            <a:avLst/>
            <a:gdLst/>
            <a:ahLst/>
            <a:rect l="0" t="0" r="r" b="b"/>
            <a:pathLst>
              <a:path w="147" h="4737">
                <a:moveTo>
                  <a:pt x="0" y="0"/>
                </a:moveTo>
                <a:lnTo>
                  <a:pt x="143" y="246"/>
                </a:lnTo>
                <a:lnTo>
                  <a:pt x="147" y="4397"/>
                </a:lnTo>
                <a:lnTo>
                  <a:pt x="0" y="4737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8934480" y="76320"/>
            <a:ext cx="38520" cy="1695960"/>
          </a:xfrm>
          <a:custGeom>
            <a:avLst/>
            <a:gdLst/>
            <a:ahLst/>
            <a:rect l="0" t="0" r="r" b="b"/>
            <a:pathLst>
              <a:path w="107" h="4711">
                <a:moveTo>
                  <a:pt x="107" y="0"/>
                </a:moveTo>
                <a:lnTo>
                  <a:pt x="0" y="202"/>
                </a:lnTo>
                <a:lnTo>
                  <a:pt x="0" y="4420"/>
                </a:lnTo>
                <a:lnTo>
                  <a:pt x="107" y="4711"/>
                </a:lnTo>
                <a:lnTo>
                  <a:pt x="107" y="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1360" y="196920"/>
            <a:ext cx="8724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stant Access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CD Projection Rental Pr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438200" y="2276640"/>
            <a:ext cx="6630840" cy="4161960"/>
            <a:chOff x="1438200" y="2276640"/>
            <a:chExt cx="6630840" cy="4161960"/>
          </a:xfrm>
        </p:grpSpPr>
        <p:pic>
          <p:nvPicPr>
            <p:cNvPr id="1123" name="" descr=""/>
            <p:cNvPicPr/>
            <p:nvPr/>
          </p:nvPicPr>
          <p:blipFill>
            <a:blip r:embed="rId1"/>
            <a:stretch/>
          </p:blipFill>
          <p:spPr>
            <a:xfrm>
              <a:off x="1523880" y="2341440"/>
              <a:ext cx="6545160" cy="40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2"/>
            <a:stretch/>
          </p:blipFill>
          <p:spPr>
            <a:xfrm>
              <a:off x="1438200" y="2276640"/>
              <a:ext cx="6545160" cy="4097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5" name=""/>
          <p:cNvGrpSpPr/>
          <p:nvPr/>
        </p:nvGrpSpPr>
        <p:grpSpPr>
          <a:xfrm>
            <a:off x="4470480" y="4743360"/>
            <a:ext cx="1435320" cy="1019520"/>
            <a:chOff x="4470480" y="4743360"/>
            <a:chExt cx="1435320" cy="1019520"/>
          </a:xfrm>
        </p:grpSpPr>
        <p:grpSp>
          <p:nvGrpSpPr>
            <p:cNvPr id="1126" name=""/>
            <p:cNvGrpSpPr/>
            <p:nvPr/>
          </p:nvGrpSpPr>
          <p:grpSpPr>
            <a:xfrm>
              <a:off x="4470480" y="4743360"/>
              <a:ext cx="1214640" cy="765720"/>
              <a:chOff x="4470480" y="4743360"/>
              <a:chExt cx="1214640" cy="765720"/>
            </a:xfrm>
          </p:grpSpPr>
          <p:sp>
            <p:nvSpPr>
              <p:cNvPr id="1127" name=""/>
              <p:cNvSpPr/>
              <p:nvPr/>
            </p:nvSpPr>
            <p:spPr>
              <a:xfrm>
                <a:off x="4508640" y="4743360"/>
                <a:ext cx="1135440" cy="609840"/>
              </a:xfrm>
              <a:custGeom>
                <a:avLst/>
                <a:gdLst/>
                <a:ahLst/>
                <a:rect l="0" t="0" r="r" b="b"/>
                <a:pathLst>
                  <a:path w="3154" h="1694">
                    <a:moveTo>
                      <a:pt x="0" y="582"/>
                    </a:moveTo>
                    <a:lnTo>
                      <a:pt x="2104" y="0"/>
                    </a:lnTo>
                    <a:lnTo>
                      <a:pt x="3154" y="975"/>
                    </a:lnTo>
                    <a:lnTo>
                      <a:pt x="860" y="1694"/>
                    </a:lnTo>
                    <a:lnTo>
                      <a:pt x="0" y="5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65600" y="4822920"/>
                <a:ext cx="954360" cy="495720"/>
              </a:xfrm>
              <a:custGeom>
                <a:avLst/>
                <a:gdLst/>
                <a:ahLst/>
                <a:rect l="0" t="0" r="r" b="b"/>
                <a:pathLst>
                  <a:path w="2651" h="1377">
                    <a:moveTo>
                      <a:pt x="0" y="508"/>
                    </a:moveTo>
                    <a:lnTo>
                      <a:pt x="1804" y="0"/>
                    </a:lnTo>
                    <a:lnTo>
                      <a:pt x="2651" y="781"/>
                    </a:lnTo>
                    <a:lnTo>
                      <a:pt x="709" y="1377"/>
                    </a:lnTo>
                    <a:lnTo>
                      <a:pt x="0" y="5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114ff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597560" y="4751280"/>
                <a:ext cx="702000" cy="238320"/>
              </a:xfrm>
              <a:custGeom>
                <a:avLst/>
                <a:gdLst/>
                <a:ahLst/>
                <a:rect l="0" t="0" r="r" b="b"/>
                <a:pathLst>
                  <a:path w="1950" h="662">
                    <a:moveTo>
                      <a:pt x="0" y="490"/>
                    </a:moveTo>
                    <a:lnTo>
                      <a:pt x="141" y="662"/>
                    </a:lnTo>
                    <a:lnTo>
                      <a:pt x="1950" y="145"/>
                    </a:lnTo>
                    <a:lnTo>
                      <a:pt x="1804" y="0"/>
                    </a:lnTo>
                    <a:lnTo>
                      <a:pt x="0" y="490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483080" y="4970520"/>
                <a:ext cx="343440" cy="405000"/>
              </a:xfrm>
              <a:custGeom>
                <a:avLst/>
                <a:gdLst/>
                <a:ahLst/>
                <a:rect l="0" t="0" r="r" b="b"/>
                <a:pathLst>
                  <a:path w="954" h="1125">
                    <a:moveTo>
                      <a:pt x="97" y="0"/>
                    </a:moveTo>
                    <a:lnTo>
                      <a:pt x="0" y="30"/>
                    </a:lnTo>
                    <a:lnTo>
                      <a:pt x="857" y="1125"/>
                    </a:lnTo>
                    <a:lnTo>
                      <a:pt x="954" y="1094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782960" y="5095800"/>
                <a:ext cx="902160" cy="413280"/>
              </a:xfrm>
              <a:custGeom>
                <a:avLst/>
                <a:gdLst/>
                <a:ahLst/>
                <a:rect l="0" t="0" r="r" b="b"/>
                <a:pathLst>
                  <a:path w="2506" h="1148">
                    <a:moveTo>
                      <a:pt x="97" y="755"/>
                    </a:moveTo>
                    <a:lnTo>
                      <a:pt x="26" y="772"/>
                    </a:lnTo>
                    <a:lnTo>
                      <a:pt x="22" y="860"/>
                    </a:lnTo>
                    <a:lnTo>
                      <a:pt x="0" y="875"/>
                    </a:lnTo>
                    <a:lnTo>
                      <a:pt x="0" y="1077"/>
                    </a:lnTo>
                    <a:lnTo>
                      <a:pt x="52" y="1060"/>
                    </a:lnTo>
                    <a:lnTo>
                      <a:pt x="52" y="1148"/>
                    </a:lnTo>
                    <a:lnTo>
                      <a:pt x="2475" y="344"/>
                    </a:lnTo>
                    <a:lnTo>
                      <a:pt x="2475" y="229"/>
                    </a:lnTo>
                    <a:lnTo>
                      <a:pt x="2506" y="229"/>
                    </a:lnTo>
                    <a:lnTo>
                      <a:pt x="2506" y="83"/>
                    </a:lnTo>
                    <a:lnTo>
                      <a:pt x="2471" y="83"/>
                    </a:lnTo>
                    <a:lnTo>
                      <a:pt x="2475" y="0"/>
                    </a:lnTo>
                    <a:lnTo>
                      <a:pt x="2400" y="22"/>
                    </a:lnTo>
                    <a:lnTo>
                      <a:pt x="2392" y="0"/>
                    </a:lnTo>
                    <a:lnTo>
                      <a:pt x="105" y="710"/>
                    </a:lnTo>
                    <a:lnTo>
                      <a:pt x="119" y="759"/>
                    </a:lnTo>
                    <a:lnTo>
                      <a:pt x="97" y="755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483080" y="4979880"/>
                <a:ext cx="308160" cy="430560"/>
              </a:xfrm>
              <a:custGeom>
                <a:avLst/>
                <a:gdLst/>
                <a:ahLst/>
                <a:rect l="0" t="0" r="r" b="b"/>
                <a:pathLst>
                  <a:path w="856" h="1196">
                    <a:moveTo>
                      <a:pt x="0" y="0"/>
                    </a:moveTo>
                    <a:lnTo>
                      <a:pt x="0" y="79"/>
                    </a:lnTo>
                    <a:lnTo>
                      <a:pt x="847" y="1196"/>
                    </a:lnTo>
                    <a:lnTo>
                      <a:pt x="856" y="11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470480" y="5008680"/>
                <a:ext cx="313200" cy="475200"/>
              </a:xfrm>
              <a:custGeom>
                <a:avLst/>
                <a:gdLst/>
                <a:ahLst/>
                <a:rect l="0" t="0" r="r" b="b"/>
                <a:pathLst>
                  <a:path w="870" h="1320">
                    <a:moveTo>
                      <a:pt x="35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870" y="1320"/>
                    </a:lnTo>
                    <a:lnTo>
                      <a:pt x="870" y="110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475160" y="5041800"/>
                <a:ext cx="307800" cy="406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280120" y="4748040"/>
                <a:ext cx="394200" cy="354240"/>
              </a:xfrm>
              <a:custGeom>
                <a:avLst/>
                <a:gdLst/>
                <a:ahLst/>
                <a:rect l="0" t="0" r="r" b="b"/>
                <a:pathLst>
                  <a:path w="1095" h="984">
                    <a:moveTo>
                      <a:pt x="0" y="8"/>
                    </a:moveTo>
                    <a:lnTo>
                      <a:pt x="52" y="0"/>
                    </a:lnTo>
                    <a:lnTo>
                      <a:pt x="1095" y="966"/>
                    </a:lnTo>
                    <a:lnTo>
                      <a:pt x="1016" y="98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924440" y="5102280"/>
                <a:ext cx="698760" cy="257400"/>
              </a:xfrm>
              <a:custGeom>
                <a:avLst/>
                <a:gdLst/>
                <a:ahLst/>
                <a:rect l="0" t="0" r="r" b="b"/>
                <a:pathLst>
                  <a:path fill="none" w="1941" h="715">
                    <a:moveTo>
                      <a:pt x="0" y="600"/>
                    </a:moveTo>
                    <a:lnTo>
                      <a:pt x="0" y="715"/>
                    </a:lnTo>
                    <a:lnTo>
                      <a:pt x="1941" y="123"/>
                    </a:lnTo>
                    <a:lnTo>
                      <a:pt x="1941" y="0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908600" y="5087880"/>
                <a:ext cx="708480" cy="230400"/>
              </a:xfrm>
              <a:custGeom>
                <a:avLst/>
                <a:gdLst/>
                <a:ahLst/>
                <a:rect l="0" t="0" r="r" b="b"/>
                <a:pathLst>
                  <a:path w="1968" h="640">
                    <a:moveTo>
                      <a:pt x="0" y="596"/>
                    </a:moveTo>
                    <a:lnTo>
                      <a:pt x="1933" y="0"/>
                    </a:lnTo>
                    <a:lnTo>
                      <a:pt x="1968" y="35"/>
                    </a:lnTo>
                    <a:lnTo>
                      <a:pt x="35" y="640"/>
                    </a:lnTo>
                    <a:lnTo>
                      <a:pt x="0" y="59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4665600" y="4822920"/>
                <a:ext cx="938520" cy="479880"/>
              </a:xfrm>
              <a:custGeom>
                <a:avLst/>
                <a:gdLst/>
                <a:ahLst/>
                <a:rect l="0" t="0" r="r" b="b"/>
                <a:pathLst>
                  <a:path w="2607" h="1333">
                    <a:moveTo>
                      <a:pt x="1804" y="0"/>
                    </a:moveTo>
                    <a:lnTo>
                      <a:pt x="0" y="508"/>
                    </a:lnTo>
                    <a:lnTo>
                      <a:pt x="674" y="1333"/>
                    </a:lnTo>
                    <a:lnTo>
                      <a:pt x="784" y="1302"/>
                    </a:lnTo>
                    <a:lnTo>
                      <a:pt x="149" y="543"/>
                    </a:lnTo>
                    <a:lnTo>
                      <a:pt x="1795" y="79"/>
                    </a:lnTo>
                    <a:lnTo>
                      <a:pt x="2545" y="763"/>
                    </a:lnTo>
                    <a:lnTo>
                      <a:pt x="2607" y="741"/>
                    </a:lnTo>
                    <a:lnTo>
                      <a:pt x="18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4726080" y="4851360"/>
                <a:ext cx="849600" cy="251280"/>
              </a:xfrm>
              <a:custGeom>
                <a:avLst/>
                <a:gdLst/>
                <a:ahLst/>
                <a:rect l="0" t="0" r="r" b="b"/>
                <a:pathLst>
                  <a:path w="2360" h="698">
                    <a:moveTo>
                      <a:pt x="0" y="464"/>
                    </a:moveTo>
                    <a:lnTo>
                      <a:pt x="1623" y="0"/>
                    </a:lnTo>
                    <a:lnTo>
                      <a:pt x="2360" y="676"/>
                    </a:lnTo>
                    <a:lnTo>
                      <a:pt x="2280" y="698"/>
                    </a:lnTo>
                    <a:lnTo>
                      <a:pt x="1601" y="57"/>
                    </a:lnTo>
                    <a:lnTo>
                      <a:pt x="35" y="503"/>
                    </a:lnTo>
                    <a:lnTo>
                      <a:pt x="0" y="46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4508640" y="4954680"/>
                <a:ext cx="317880" cy="413280"/>
              </a:xfrm>
              <a:custGeom>
                <a:avLst/>
                <a:gdLst/>
                <a:ahLst/>
                <a:rect l="0" t="0" r="r" b="b"/>
                <a:pathLst>
                  <a:path w="883" h="1148">
                    <a:moveTo>
                      <a:pt x="0" y="0"/>
                    </a:moveTo>
                    <a:lnTo>
                      <a:pt x="883" y="1108"/>
                    </a:lnTo>
                    <a:lnTo>
                      <a:pt x="883" y="1148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1" name=""/>
              <p:cNvGrpSpPr/>
              <p:nvPr/>
            </p:nvGrpSpPr>
            <p:grpSpPr>
              <a:xfrm>
                <a:off x="4727520" y="5180040"/>
                <a:ext cx="143280" cy="125640"/>
                <a:chOff x="4727520" y="5180040"/>
                <a:chExt cx="143280" cy="12564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4729320" y="5187960"/>
                  <a:ext cx="141480" cy="117720"/>
                </a:xfrm>
                <a:custGeom>
                  <a:avLst/>
                  <a:gdLst/>
                  <a:ahLst/>
                  <a:rect l="0" t="0" r="r" b="b"/>
                  <a:pathLst>
                    <a:path w="393" h="327">
                      <a:moveTo>
                        <a:pt x="154" y="0"/>
                      </a:moveTo>
                      <a:lnTo>
                        <a:pt x="0" y="39"/>
                      </a:lnTo>
                      <a:lnTo>
                        <a:pt x="239" y="327"/>
                      </a:lnTo>
                      <a:lnTo>
                        <a:pt x="393" y="278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14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727520" y="5180040"/>
                  <a:ext cx="12528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144" name=""/>
            <p:cNvGrpSpPr/>
            <p:nvPr/>
          </p:nvGrpSpPr>
          <p:grpSpPr>
            <a:xfrm>
              <a:off x="4618080" y="5153040"/>
              <a:ext cx="1287720" cy="609840"/>
              <a:chOff x="4618080" y="5153040"/>
              <a:chExt cx="1287720" cy="60984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4618080" y="5497560"/>
                <a:ext cx="378360" cy="265320"/>
                <a:chOff x="4618080" y="5497560"/>
                <a:chExt cx="378360" cy="26532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4618080" y="5497560"/>
                  <a:ext cx="378360" cy="265320"/>
                </a:xfrm>
                <a:custGeom>
                  <a:avLst/>
                  <a:gdLst/>
                  <a:ahLst/>
                  <a:rect l="0" t="0" r="r" b="b"/>
                  <a:pathLst>
                    <a:path w="1051" h="737">
                      <a:moveTo>
                        <a:pt x="649" y="0"/>
                      </a:moveTo>
                      <a:lnTo>
                        <a:pt x="0" y="198"/>
                      </a:lnTo>
                      <a:lnTo>
                        <a:pt x="375" y="737"/>
                      </a:lnTo>
                      <a:lnTo>
                        <a:pt x="1051" y="525"/>
                      </a:lnTo>
                      <a:lnTo>
                        <a:pt x="6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632480" y="5532480"/>
                  <a:ext cx="282960" cy="201960"/>
                </a:xfrm>
                <a:custGeom>
                  <a:avLst/>
                  <a:gdLst/>
                  <a:ahLst/>
                  <a:rect l="0" t="0" r="r" b="b"/>
                  <a:pathLst>
                    <a:path w="786" h="561">
                      <a:moveTo>
                        <a:pt x="0" y="149"/>
                      </a:moveTo>
                      <a:lnTo>
                        <a:pt x="494" y="0"/>
                      </a:lnTo>
                      <a:lnTo>
                        <a:pt x="786" y="375"/>
                      </a:lnTo>
                      <a:lnTo>
                        <a:pt x="782" y="402"/>
                      </a:lnTo>
                      <a:lnTo>
                        <a:pt x="287" y="561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851360" y="5537160"/>
                  <a:ext cx="108360" cy="108360"/>
                </a:xfrm>
                <a:custGeom>
                  <a:avLst/>
                  <a:gdLst/>
                  <a:ahLst/>
                  <a:rect l="0" t="0" r="r" b="b"/>
                  <a:pathLst>
                    <a:path w="301" h="301">
                      <a:moveTo>
                        <a:pt x="89" y="0"/>
                      </a:moveTo>
                      <a:lnTo>
                        <a:pt x="0" y="26"/>
                      </a:lnTo>
                      <a:lnTo>
                        <a:pt x="217" y="301"/>
                      </a:lnTo>
                      <a:lnTo>
                        <a:pt x="301" y="27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906800" y="5595840"/>
                  <a:ext cx="39960" cy="32040"/>
                </a:xfrm>
                <a:custGeom>
                  <a:avLst/>
                  <a:gdLst/>
                  <a:ahLst/>
                  <a:rect l="0" t="0" r="r" b="b"/>
                  <a:pathLst>
                    <a:path w="111" h="89">
                      <a:moveTo>
                        <a:pt x="52" y="0"/>
                      </a:moveTo>
                      <a:lnTo>
                        <a:pt x="0" y="13"/>
                      </a:lnTo>
                      <a:lnTo>
                        <a:pt x="58" y="89"/>
                      </a:lnTo>
                      <a:lnTo>
                        <a:pt x="111" y="7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0" name=""/>
              <p:cNvGrpSpPr/>
              <p:nvPr/>
            </p:nvGrpSpPr>
            <p:grpSpPr>
              <a:xfrm>
                <a:off x="4815000" y="5153040"/>
                <a:ext cx="1090800" cy="598680"/>
                <a:chOff x="4815000" y="5153040"/>
                <a:chExt cx="1090800" cy="59868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4815000" y="5425920"/>
                  <a:ext cx="190800" cy="270360"/>
                </a:xfrm>
                <a:custGeom>
                  <a:avLst/>
                  <a:gdLst/>
                  <a:ahLst/>
                  <a:rect l="0" t="0" r="r" b="b"/>
                  <a:pathLst>
                    <a:path w="530" h="751">
                      <a:moveTo>
                        <a:pt x="0" y="0"/>
                      </a:moveTo>
                      <a:lnTo>
                        <a:pt x="530" y="672"/>
                      </a:lnTo>
                      <a:lnTo>
                        <a:pt x="530" y="751"/>
                      </a:lnTo>
                      <a:lnTo>
                        <a:pt x="0" y="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5072040" y="5162400"/>
                  <a:ext cx="778320" cy="439920"/>
                </a:xfrm>
                <a:custGeom>
                  <a:avLst/>
                  <a:gdLst/>
                  <a:ahLst/>
                  <a:rect l="0" t="0" r="r" b="b"/>
                  <a:pathLst>
                    <a:path w="2162" h="1222">
                      <a:moveTo>
                        <a:pt x="0" y="807"/>
                      </a:moveTo>
                      <a:lnTo>
                        <a:pt x="330" y="1222"/>
                      </a:lnTo>
                      <a:lnTo>
                        <a:pt x="2162" y="586"/>
                      </a:lnTo>
                      <a:lnTo>
                        <a:pt x="1544" y="0"/>
                      </a:lnTo>
                      <a:lnTo>
                        <a:pt x="1495" y="13"/>
                      </a:lnTo>
                      <a:lnTo>
                        <a:pt x="1752" y="251"/>
                      </a:lnTo>
                      <a:lnTo>
                        <a:pt x="0" y="80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005440" y="5356080"/>
                  <a:ext cx="900360" cy="395640"/>
                </a:xfrm>
                <a:custGeom>
                  <a:avLst/>
                  <a:gdLst/>
                  <a:ahLst/>
                  <a:rect l="0" t="0" r="r" b="b"/>
                  <a:pathLst>
                    <a:path w="2501" h="1099">
                      <a:moveTo>
                        <a:pt x="0" y="860"/>
                      </a:moveTo>
                      <a:lnTo>
                        <a:pt x="0" y="1099"/>
                      </a:lnTo>
                      <a:lnTo>
                        <a:pt x="2501" y="238"/>
                      </a:lnTo>
                      <a:lnTo>
                        <a:pt x="2501" y="0"/>
                      </a:lnTo>
                      <a:lnTo>
                        <a:pt x="0" y="86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46760" y="5367240"/>
                  <a:ext cx="203400" cy="249480"/>
                </a:xfrm>
                <a:custGeom>
                  <a:avLst/>
                  <a:gdLst/>
                  <a:ahLst/>
                  <a:rect l="0" t="0" r="r" b="b"/>
                  <a:pathLst>
                    <a:path w="565" h="693">
                      <a:moveTo>
                        <a:pt x="4" y="0"/>
                      </a:moveTo>
                      <a:lnTo>
                        <a:pt x="565" y="675"/>
                      </a:lnTo>
                      <a:lnTo>
                        <a:pt x="525" y="693"/>
                      </a:lnTo>
                      <a:lnTo>
                        <a:pt x="0" y="5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815000" y="5384880"/>
                  <a:ext cx="322560" cy="281520"/>
                </a:xfrm>
                <a:custGeom>
                  <a:avLst/>
                  <a:gdLst/>
                  <a:ahLst/>
                  <a:rect l="0" t="0" r="r" b="b"/>
                  <a:pathLst>
                    <a:path w="896" h="782">
                      <a:moveTo>
                        <a:pt x="352" y="0"/>
                      </a:moveTo>
                      <a:lnTo>
                        <a:pt x="896" y="659"/>
                      </a:lnTo>
                      <a:lnTo>
                        <a:pt x="525" y="782"/>
                      </a:lnTo>
                      <a:lnTo>
                        <a:pt x="0" y="114"/>
                      </a:lnTo>
                      <a:lnTo>
                        <a:pt x="352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815000" y="5450040"/>
                  <a:ext cx="32040" cy="43200"/>
                </a:xfrm>
                <a:custGeom>
                  <a:avLst/>
                  <a:gdLst/>
                  <a:ahLst/>
                  <a:rect l="0" t="0" r="r" b="b"/>
                  <a:pathLst>
                    <a:path w="89" h="120">
                      <a:moveTo>
                        <a:pt x="0" y="0"/>
                      </a:moveTo>
                      <a:lnTo>
                        <a:pt x="89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948200" y="5356080"/>
                  <a:ext cx="244800" cy="259200"/>
                </a:xfrm>
                <a:custGeom>
                  <a:avLst/>
                  <a:gdLst/>
                  <a:ahLst/>
                  <a:rect l="0" t="0" r="r" b="b"/>
                  <a:pathLst>
                    <a:path w="680" h="720">
                      <a:moveTo>
                        <a:pt x="110" y="0"/>
                      </a:moveTo>
                      <a:lnTo>
                        <a:pt x="680" y="685"/>
                      </a:lnTo>
                      <a:lnTo>
                        <a:pt x="569" y="720"/>
                      </a:lnTo>
                      <a:lnTo>
                        <a:pt x="0" y="3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622840" y="5153040"/>
                  <a:ext cx="241560" cy="209880"/>
                </a:xfrm>
                <a:custGeom>
                  <a:avLst/>
                  <a:gdLst/>
                  <a:ahLst/>
                  <a:rect l="0" t="0" r="r" b="b"/>
                  <a:pathLst>
                    <a:path w="671" h="583">
                      <a:moveTo>
                        <a:pt x="61" y="0"/>
                      </a:moveTo>
                      <a:lnTo>
                        <a:pt x="671" y="561"/>
                      </a:lnTo>
                      <a:lnTo>
                        <a:pt x="605" y="583"/>
                      </a:lnTo>
                      <a:lnTo>
                        <a:pt x="0" y="22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944960" y="5370480"/>
                  <a:ext cx="203400" cy="251280"/>
                </a:xfrm>
                <a:custGeom>
                  <a:avLst/>
                  <a:gdLst/>
                  <a:ahLst/>
                  <a:rect l="0" t="0" r="r" b="b"/>
                  <a:pathLst>
                    <a:path fill="none" w="565" h="698">
                      <a:moveTo>
                        <a:pt x="0" y="0"/>
                      </a:moveTo>
                      <a:lnTo>
                        <a:pt x="0" y="57"/>
                      </a:lnTo>
                      <a:lnTo>
                        <a:pt x="530" y="698"/>
                      </a:lnTo>
                      <a:lnTo>
                        <a:pt x="565" y="689"/>
                      </a:lnTo>
                      <a:lnTo>
                        <a:pt x="565" y="667"/>
                      </a:lnTo>
                    </a:path>
                  </a:pathLst>
                </a:custGeom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0" name=""/>
                <p:cNvGrpSpPr/>
                <p:nvPr/>
              </p:nvGrpSpPr>
              <p:grpSpPr>
                <a:xfrm>
                  <a:off x="5445000" y="5272200"/>
                  <a:ext cx="346680" cy="185760"/>
                  <a:chOff x="5445000" y="5272200"/>
                  <a:chExt cx="346680" cy="185760"/>
                </a:xfrm>
              </p:grpSpPr>
              <p:sp>
                <p:nvSpPr>
                  <p:cNvPr id="1161" name=""/>
                  <p:cNvSpPr/>
                  <p:nvPr/>
                </p:nvSpPr>
                <p:spPr>
                  <a:xfrm>
                    <a:off x="5718240" y="5288040"/>
                    <a:ext cx="6876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199">
                        <a:moveTo>
                          <a:pt x="53" y="0"/>
                        </a:moveTo>
                        <a:lnTo>
                          <a:pt x="191" y="133"/>
                        </a:lnTo>
                        <a:lnTo>
                          <a:pt x="128" y="155"/>
                        </a:lnTo>
                        <a:lnTo>
                          <a:pt x="128" y="199"/>
                        </a:lnTo>
                        <a:lnTo>
                          <a:pt x="0" y="102"/>
                        </a:lnTo>
                        <a:lnTo>
                          <a:pt x="53" y="8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448240" y="5272200"/>
                    <a:ext cx="25272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702" h="274">
                        <a:moveTo>
                          <a:pt x="666" y="0"/>
                        </a:moveTo>
                        <a:lnTo>
                          <a:pt x="0" y="212"/>
                        </a:lnTo>
                        <a:lnTo>
                          <a:pt x="57" y="274"/>
                        </a:lnTo>
                        <a:lnTo>
                          <a:pt x="666" y="83"/>
                        </a:lnTo>
                        <a:lnTo>
                          <a:pt x="702" y="114"/>
                        </a:lnTo>
                        <a:lnTo>
                          <a:pt x="702" y="30"/>
                        </a:lnTo>
                        <a:lnTo>
                          <a:pt x="666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700600" y="528336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07">
                        <a:moveTo>
                          <a:pt x="0" y="0"/>
                        </a:moveTo>
                        <a:lnTo>
                          <a:pt x="72" y="36"/>
                        </a:lnTo>
                        <a:lnTo>
                          <a:pt x="72" y="107"/>
                        </a:lnTo>
                        <a:lnTo>
                          <a:pt x="0" y="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715000" y="5289480"/>
                    <a:ext cx="25920" cy="35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98">
                        <a:moveTo>
                          <a:pt x="0" y="22"/>
                        </a:moveTo>
                        <a:lnTo>
                          <a:pt x="72" y="0"/>
                        </a:lnTo>
                        <a:lnTo>
                          <a:pt x="72" y="75"/>
                        </a:lnTo>
                        <a:lnTo>
                          <a:pt x="0" y="98"/>
                        </a:lnTo>
                      </a:path>
                    </a:pathLst>
                  </a:custGeom>
                  <a:ln w="0">
                    <a:noFill/>
                  </a:ln>
                </p:spPr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64320" y="5345280"/>
                    <a:ext cx="273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07">
                        <a:moveTo>
                          <a:pt x="0" y="0"/>
                        </a:moveTo>
                        <a:lnTo>
                          <a:pt x="76" y="75"/>
                        </a:lnTo>
                        <a:lnTo>
                          <a:pt x="13" y="107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445000" y="5302080"/>
                    <a:ext cx="330480" cy="155880"/>
                  </a:xfrm>
                  <a:custGeom>
                    <a:avLst/>
                    <a:gdLst/>
                    <a:ahLst/>
                    <a:rect l="0" t="0" r="r" b="b"/>
                    <a:pathLst>
                      <a:path w="918" h="433">
                        <a:moveTo>
                          <a:pt x="675" y="0"/>
                        </a:moveTo>
                        <a:lnTo>
                          <a:pt x="0" y="211"/>
                        </a:lnTo>
                        <a:lnTo>
                          <a:pt x="158" y="393"/>
                        </a:lnTo>
                        <a:lnTo>
                          <a:pt x="238" y="371"/>
                        </a:lnTo>
                        <a:lnTo>
                          <a:pt x="282" y="433"/>
                        </a:lnTo>
                        <a:lnTo>
                          <a:pt x="918" y="217"/>
                        </a:lnTo>
                        <a:lnTo>
                          <a:pt x="887" y="189"/>
                        </a:lnTo>
                        <a:lnTo>
                          <a:pt x="887" y="163"/>
                        </a:lnTo>
                        <a:lnTo>
                          <a:pt x="887" y="105"/>
                        </a:lnTo>
                        <a:lnTo>
                          <a:pt x="812" y="44"/>
                        </a:lnTo>
                        <a:lnTo>
                          <a:pt x="759" y="57"/>
                        </a:lnTo>
                        <a:lnTo>
                          <a:pt x="67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7" name=""/>
                <p:cNvSpPr/>
                <p:nvPr/>
              </p:nvSpPr>
              <p:spPr>
                <a:xfrm>
                  <a:off x="5143320" y="5345280"/>
                  <a:ext cx="762480" cy="270360"/>
                </a:xfrm>
                <a:custGeom>
                  <a:avLst/>
                  <a:gdLst/>
                  <a:ahLst/>
                  <a:rect l="0" t="0" r="r" b="b"/>
                  <a:pathLst>
                    <a:path w="2118" h="751">
                      <a:moveTo>
                        <a:pt x="2118" y="26"/>
                      </a:moveTo>
                      <a:lnTo>
                        <a:pt x="2078" y="0"/>
                      </a:lnTo>
                      <a:lnTo>
                        <a:pt x="0" y="720"/>
                      </a:lnTo>
                      <a:lnTo>
                        <a:pt x="30" y="751"/>
                      </a:lnTo>
                      <a:lnTo>
                        <a:pt x="2118" y="2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438880" y="5491080"/>
                  <a:ext cx="63720" cy="63720"/>
                </a:xfrm>
                <a:custGeom>
                  <a:avLst/>
                  <a:gdLst/>
                  <a:ahLst/>
                  <a:rect l="0" t="0" r="r" b="b"/>
                  <a:pathLst>
                    <a:path w="177" h="177">
                      <a:moveTo>
                        <a:pt x="177" y="0"/>
                      </a:moveTo>
                      <a:lnTo>
                        <a:pt x="0" y="61"/>
                      </a:lnTo>
                      <a:lnTo>
                        <a:pt x="0" y="177"/>
                      </a:lnTo>
                      <a:lnTo>
                        <a:pt x="177" y="115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440320" y="5532480"/>
                  <a:ext cx="62280" cy="89280"/>
                </a:xfrm>
                <a:custGeom>
                  <a:avLst/>
                  <a:gdLst/>
                  <a:ahLst/>
                  <a:rect l="0" t="0" r="r" b="b"/>
                  <a:pathLst>
                    <a:path w="173" h="248">
                      <a:moveTo>
                        <a:pt x="0" y="57"/>
                      </a:moveTo>
                      <a:lnTo>
                        <a:pt x="0" y="248"/>
                      </a:lnTo>
                      <a:lnTo>
                        <a:pt x="173" y="191"/>
                      </a:lnTo>
                      <a:lnTo>
                        <a:pt x="173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450040" y="5532480"/>
                  <a:ext cx="39960" cy="59040"/>
                </a:xfrm>
                <a:custGeom>
                  <a:avLst/>
                  <a:gdLst/>
                  <a:ahLst/>
                  <a:rect l="0" t="0" r="r" b="b"/>
                  <a:pathLst>
                    <a:path w="111" h="164">
                      <a:moveTo>
                        <a:pt x="0" y="48"/>
                      </a:moveTo>
                      <a:lnTo>
                        <a:pt x="0" y="111"/>
                      </a:lnTo>
                      <a:lnTo>
                        <a:pt x="58" y="164"/>
                      </a:lnTo>
                      <a:lnTo>
                        <a:pt x="111" y="74"/>
                      </a:lnTo>
                      <a:lnTo>
                        <a:pt x="111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5451480" y="5508720"/>
                  <a:ext cx="3960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 flipV="1">
                  <a:off x="5452920" y="5524560"/>
                  <a:ext cx="3348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113440" y="5672160"/>
                  <a:ext cx="28800" cy="25920"/>
                </a:xfrm>
                <a:custGeom>
                  <a:avLst/>
                  <a:gdLst/>
                  <a:ahLst/>
                  <a:rect l="0" t="0" r="r" b="b"/>
                  <a:pathLst>
                    <a:path w="80" h="72">
                      <a:moveTo>
                        <a:pt x="80" y="0"/>
                      </a:moveTo>
                      <a:lnTo>
                        <a:pt x="80" y="44"/>
                      </a:lnTo>
                      <a:lnTo>
                        <a:pt x="0" y="72"/>
                      </a:lnTo>
                      <a:lnTo>
                        <a:pt x="0" y="28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172120" y="5602320"/>
                  <a:ext cx="78120" cy="71640"/>
                </a:xfrm>
                <a:custGeom>
                  <a:avLst/>
                  <a:gdLst/>
                  <a:ahLst/>
                  <a:rect l="0" t="0" r="r" b="b"/>
                  <a:pathLst>
                    <a:path w="217" h="199">
                      <a:moveTo>
                        <a:pt x="217" y="0"/>
                      </a:moveTo>
                      <a:lnTo>
                        <a:pt x="0" y="70"/>
                      </a:lnTo>
                      <a:lnTo>
                        <a:pt x="0" y="199"/>
                      </a:lnTo>
                      <a:lnTo>
                        <a:pt x="217" y="133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995720" y="5170320"/>
                  <a:ext cx="709920" cy="287640"/>
                </a:xfrm>
                <a:custGeom>
                  <a:avLst/>
                  <a:gdLst/>
                  <a:ahLst/>
                  <a:rect l="0" t="0" r="r" b="b"/>
                  <a:pathLst>
                    <a:path w="1972" h="799">
                      <a:moveTo>
                        <a:pt x="0" y="525"/>
                      </a:moveTo>
                      <a:lnTo>
                        <a:pt x="224" y="799"/>
                      </a:lnTo>
                      <a:lnTo>
                        <a:pt x="1972" y="238"/>
                      </a:lnTo>
                      <a:lnTo>
                        <a:pt x="1729" y="0"/>
                      </a:lnTo>
                      <a:lnTo>
                        <a:pt x="0" y="5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5068800" y="5684760"/>
                  <a:ext cx="27360" cy="25920"/>
                </a:xfrm>
                <a:custGeom>
                  <a:avLst/>
                  <a:gdLst/>
                  <a:ahLst/>
                  <a:rect l="0" t="0" r="r" b="b"/>
                  <a:pathLst>
                    <a:path w="76" h="72">
                      <a:moveTo>
                        <a:pt x="76" y="0"/>
                      </a:moveTo>
                      <a:lnTo>
                        <a:pt x="76" y="41"/>
                      </a:lnTo>
                      <a:lnTo>
                        <a:pt x="0" y="72"/>
                      </a:lnTo>
                      <a:lnTo>
                        <a:pt x="0" y="31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178600" y="5548320"/>
                  <a:ext cx="2556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994280" y="5165640"/>
                  <a:ext cx="668520" cy="236880"/>
                </a:xfrm>
                <a:custGeom>
                  <a:avLst/>
                  <a:gdLst/>
                  <a:ahLst/>
                  <a:rect l="0" t="0" r="r" b="b"/>
                  <a:pathLst>
                    <a:path w="1857" h="658">
                      <a:moveTo>
                        <a:pt x="0" y="538"/>
                      </a:moveTo>
                      <a:lnTo>
                        <a:pt x="101" y="658"/>
                      </a:lnTo>
                      <a:lnTo>
                        <a:pt x="1857" y="114"/>
                      </a:lnTo>
                      <a:lnTo>
                        <a:pt x="1734" y="0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5477040" y="5324400"/>
                <a:ext cx="262440" cy="116280"/>
                <a:chOff x="5477040" y="5324400"/>
                <a:chExt cx="262440" cy="11628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5477040" y="5324400"/>
                  <a:ext cx="262440" cy="116280"/>
                </a:xfrm>
                <a:custGeom>
                  <a:avLst/>
                  <a:gdLst/>
                  <a:ahLst/>
                  <a:rect l="0" t="0" r="r" b="b"/>
                  <a:pathLst>
                    <a:path w="729" h="323">
                      <a:moveTo>
                        <a:pt x="592" y="0"/>
                      </a:moveTo>
                      <a:lnTo>
                        <a:pt x="729" y="133"/>
                      </a:lnTo>
                      <a:lnTo>
                        <a:pt x="167" y="323"/>
                      </a:lnTo>
                      <a:lnTo>
                        <a:pt x="149" y="301"/>
                      </a:lnTo>
                      <a:lnTo>
                        <a:pt x="105" y="315"/>
                      </a:lnTo>
                      <a:lnTo>
                        <a:pt x="0" y="190"/>
                      </a:lnTo>
                      <a:lnTo>
                        <a:pt x="59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662440" y="5335560"/>
                  <a:ext cx="4788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5626080" y="5346720"/>
                  <a:ext cx="4752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586480" y="5359320"/>
                  <a:ext cx="4608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5554800" y="5370480"/>
                  <a:ext cx="4284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5514840" y="5383080"/>
                  <a:ext cx="4788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flipV="1">
                  <a:off x="5500800" y="5346720"/>
                  <a:ext cx="21564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87" name=""/>
          <p:cNvSpPr txBox="1"/>
          <p:nvPr/>
        </p:nvSpPr>
        <p:spPr>
          <a:xfrm>
            <a:off x="2092320" y="3932280"/>
            <a:ext cx="4924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nywhere in the United Sta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sp>
          <p:nvSpPr>
            <p:cNvPr id="1189" name=""/>
            <p:cNvSpPr/>
            <p:nvPr/>
          </p:nvSpPr>
          <p:spPr>
            <a:xfrm>
              <a:off x="0" y="4952880"/>
              <a:ext cx="9144360" cy="1892520"/>
            </a:xfrm>
            <a:custGeom>
              <a:avLst/>
              <a:gdLst/>
              <a:ahLst/>
              <a:rect l="0" t="0" r="r" b="b"/>
              <a:pathLst>
                <a:path w="25401" h="5257">
                  <a:moveTo>
                    <a:pt x="25401" y="0"/>
                  </a:moveTo>
                  <a:lnTo>
                    <a:pt x="0" y="5257"/>
                  </a:lnTo>
                  <a:lnTo>
                    <a:pt x="25365" y="5257"/>
                  </a:lnTo>
                  <a:lnTo>
                    <a:pt x="25401" y="0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0" y="6819840"/>
              <a:ext cx="9131400" cy="25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63de8"/>
                </a:gs>
              </a:gsLst>
              <a:lin ang="0"/>
            </a:gra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0" y="0"/>
              <a:ext cx="5334480" cy="4800960"/>
            </a:xfrm>
            <a:custGeom>
              <a:avLst/>
              <a:gdLst/>
              <a:ahLst/>
              <a:rect l="0" t="0" r="r" b="b"/>
              <a:pathLst>
                <a:path w="14818" h="13336">
                  <a:moveTo>
                    <a:pt x="0" y="13336"/>
                  </a:moveTo>
                  <a:lnTo>
                    <a:pt x="14818" y="0"/>
                  </a:lnTo>
                  <a:lnTo>
                    <a:pt x="0" y="0"/>
                  </a:lnTo>
                  <a:lnTo>
                    <a:pt x="0" y="133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63de8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"/>
          <p:cNvSpPr/>
          <p:nvPr/>
        </p:nvSpPr>
        <p:spPr>
          <a:xfrm>
            <a:off x="262080" y="130320"/>
            <a:ext cx="8669160" cy="15224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12760" y="65160"/>
            <a:ext cx="8760240" cy="78120"/>
          </a:xfrm>
          <a:custGeom>
            <a:avLst/>
            <a:gdLst/>
            <a:ahLst/>
            <a:rect l="0" t="0" r="r" b="b"/>
            <a:pathLst>
              <a:path w="24334" h="217">
                <a:moveTo>
                  <a:pt x="97" y="177"/>
                </a:moveTo>
                <a:lnTo>
                  <a:pt x="0" y="8"/>
                </a:lnTo>
                <a:lnTo>
                  <a:pt x="24334" y="0"/>
                </a:lnTo>
                <a:lnTo>
                  <a:pt x="24242" y="217"/>
                </a:lnTo>
                <a:lnTo>
                  <a:pt x="97" y="177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0680" y="1671480"/>
            <a:ext cx="8741160" cy="86040"/>
          </a:xfrm>
          <a:custGeom>
            <a:avLst/>
            <a:gdLst/>
            <a:ahLst/>
            <a:rect l="0" t="0" r="r" b="b"/>
            <a:pathLst>
              <a:path w="24281" h="239">
                <a:moveTo>
                  <a:pt x="97" y="8"/>
                </a:moveTo>
                <a:lnTo>
                  <a:pt x="0" y="230"/>
                </a:lnTo>
                <a:lnTo>
                  <a:pt x="24281" y="239"/>
                </a:lnTo>
                <a:lnTo>
                  <a:pt x="24220" y="0"/>
                </a:lnTo>
                <a:lnTo>
                  <a:pt x="97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12760" y="65160"/>
            <a:ext cx="52920" cy="1705320"/>
          </a:xfrm>
          <a:custGeom>
            <a:avLst/>
            <a:gdLst/>
            <a:ahLst/>
            <a:rect l="0" t="0" r="r" b="b"/>
            <a:pathLst>
              <a:path w="147" h="4737">
                <a:moveTo>
                  <a:pt x="0" y="0"/>
                </a:moveTo>
                <a:lnTo>
                  <a:pt x="143" y="246"/>
                </a:lnTo>
                <a:lnTo>
                  <a:pt x="147" y="4397"/>
                </a:lnTo>
                <a:lnTo>
                  <a:pt x="0" y="4737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8934480" y="76320"/>
            <a:ext cx="38520" cy="1695960"/>
          </a:xfrm>
          <a:custGeom>
            <a:avLst/>
            <a:gdLst/>
            <a:ahLst/>
            <a:rect l="0" t="0" r="r" b="b"/>
            <a:pathLst>
              <a:path w="107" h="4711">
                <a:moveTo>
                  <a:pt x="107" y="0"/>
                </a:moveTo>
                <a:lnTo>
                  <a:pt x="0" y="202"/>
                </a:lnTo>
                <a:lnTo>
                  <a:pt x="0" y="4420"/>
                </a:lnTo>
                <a:lnTo>
                  <a:pt x="107" y="4711"/>
                </a:lnTo>
                <a:lnTo>
                  <a:pt x="107" y="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71360" y="196920"/>
            <a:ext cx="87249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stant Access</a:t>
            </a: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3400"/>
            </a:br>
            <a:r>
              <a:rPr b="0" lang="en-US" sz="3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CD Projection Rental Pr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8" name=""/>
          <p:cNvGrpSpPr/>
          <p:nvPr/>
        </p:nvGrpSpPr>
        <p:grpSpPr>
          <a:xfrm>
            <a:off x="1438200" y="2276640"/>
            <a:ext cx="6630840" cy="4161960"/>
            <a:chOff x="1438200" y="2276640"/>
            <a:chExt cx="6630840" cy="4161960"/>
          </a:xfrm>
        </p:grpSpPr>
        <p:pic>
          <p:nvPicPr>
            <p:cNvPr id="1199" name="" descr=""/>
            <p:cNvPicPr/>
            <p:nvPr/>
          </p:nvPicPr>
          <p:blipFill>
            <a:blip r:embed="rId1"/>
            <a:stretch/>
          </p:blipFill>
          <p:spPr>
            <a:xfrm>
              <a:off x="1523880" y="2341440"/>
              <a:ext cx="6545160" cy="40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2"/>
            <a:stretch/>
          </p:blipFill>
          <p:spPr>
            <a:xfrm>
              <a:off x="1438200" y="2276640"/>
              <a:ext cx="6545160" cy="40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"/>
          <p:cNvSpPr/>
          <p:nvPr/>
        </p:nvSpPr>
        <p:spPr>
          <a:xfrm>
            <a:off x="5181480" y="4591080"/>
            <a:ext cx="1619640" cy="609840"/>
          </a:xfrm>
          <a:custGeom>
            <a:avLst/>
            <a:gdLst/>
            <a:ahLst/>
            <a:rect l="0" t="0" r="r" b="b"/>
            <a:pathLst>
              <a:path fill="none" w="4499" h="1694">
                <a:moveTo>
                  <a:pt x="0" y="1694"/>
                </a:moveTo>
                <a:lnTo>
                  <a:pt x="0" y="1694"/>
                </a:lnTo>
                <a:cubicBezTo>
                  <a:pt x="790" y="1694"/>
                  <a:pt x="1566" y="1616"/>
                  <a:pt x="2250" y="1467"/>
                </a:cubicBezTo>
                <a:cubicBezTo>
                  <a:pt x="2933" y="1318"/>
                  <a:pt x="3501" y="1105"/>
                  <a:pt x="3896" y="847"/>
                </a:cubicBezTo>
                <a:cubicBezTo>
                  <a:pt x="4291" y="589"/>
                  <a:pt x="4499" y="297"/>
                  <a:pt x="4499" y="0"/>
                </a:cubicBezTo>
              </a:path>
            </a:pathLst>
          </a:custGeom>
          <a:ln w="38160">
            <a:solidFill>
              <a:srgbClr val="063de8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4724280" y="3543120"/>
            <a:ext cx="1486440" cy="1352880"/>
          </a:xfrm>
          <a:custGeom>
            <a:avLst/>
            <a:gdLst/>
            <a:ahLst/>
            <a:rect l="0" t="0" r="r" b="b"/>
            <a:pathLst>
              <a:path fill="none" w="4129" h="3758">
                <a:moveTo>
                  <a:pt x="0" y="3758"/>
                </a:moveTo>
                <a:lnTo>
                  <a:pt x="0" y="3758"/>
                </a:lnTo>
                <a:cubicBezTo>
                  <a:pt x="725" y="3758"/>
                  <a:pt x="1437" y="3584"/>
                  <a:pt x="2065" y="3255"/>
                </a:cubicBezTo>
                <a:cubicBezTo>
                  <a:pt x="2692" y="2925"/>
                  <a:pt x="3213" y="2450"/>
                  <a:pt x="3576" y="1879"/>
                </a:cubicBezTo>
                <a:cubicBezTo>
                  <a:pt x="3938" y="1308"/>
                  <a:pt x="4129" y="660"/>
                  <a:pt x="4129" y="0"/>
                </a:cubicBezTo>
              </a:path>
            </a:pathLst>
          </a:custGeom>
          <a:ln w="38160">
            <a:solidFill>
              <a:srgbClr val="063de8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5029200" y="3162240"/>
            <a:ext cx="0" cy="1886040"/>
          </a:xfrm>
          <a:prstGeom prst="line">
            <a:avLst/>
          </a:prstGeom>
          <a:ln w="38160">
            <a:solidFill>
              <a:srgbClr val="063de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133720" y="4152960"/>
            <a:ext cx="2553120" cy="1238760"/>
          </a:xfrm>
          <a:custGeom>
            <a:avLst/>
            <a:gdLst/>
            <a:ahLst/>
            <a:rect l="0" t="0" r="r" b="b"/>
            <a:pathLst>
              <a:path fill="none" w="7092" h="3441">
                <a:moveTo>
                  <a:pt x="0" y="0"/>
                </a:moveTo>
                <a:lnTo>
                  <a:pt x="0" y="0"/>
                </a:lnTo>
                <a:cubicBezTo>
                  <a:pt x="0" y="604"/>
                  <a:pt x="328" y="1197"/>
                  <a:pt x="950" y="1721"/>
                </a:cubicBezTo>
                <a:cubicBezTo>
                  <a:pt x="1573" y="2244"/>
                  <a:pt x="2468" y="2678"/>
                  <a:pt x="3546" y="2980"/>
                </a:cubicBezTo>
                <a:cubicBezTo>
                  <a:pt x="4624" y="3282"/>
                  <a:pt x="5847" y="3441"/>
                  <a:pt x="7092" y="3441"/>
                </a:cubicBezTo>
              </a:path>
            </a:pathLst>
          </a:custGeom>
          <a:ln w="38160">
            <a:solidFill>
              <a:srgbClr val="063de8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381400" y="3048120"/>
            <a:ext cx="2457720" cy="1962360"/>
          </a:xfrm>
          <a:custGeom>
            <a:avLst/>
            <a:gdLst/>
            <a:ahLst/>
            <a:rect l="0" t="0" r="r" b="b"/>
            <a:pathLst>
              <a:path fill="none" w="6827" h="5451">
                <a:moveTo>
                  <a:pt x="0" y="0"/>
                </a:moveTo>
                <a:lnTo>
                  <a:pt x="0" y="0"/>
                </a:lnTo>
                <a:cubicBezTo>
                  <a:pt x="0" y="957"/>
                  <a:pt x="315" y="1897"/>
                  <a:pt x="915" y="2726"/>
                </a:cubicBezTo>
                <a:cubicBezTo>
                  <a:pt x="1514" y="3554"/>
                  <a:pt x="2376" y="4242"/>
                  <a:pt x="3414" y="4721"/>
                </a:cubicBezTo>
                <a:cubicBezTo>
                  <a:pt x="4451" y="5199"/>
                  <a:pt x="5629" y="5451"/>
                  <a:pt x="6827" y="5451"/>
                </a:cubicBezTo>
              </a:path>
            </a:pathLst>
          </a:custGeom>
          <a:ln w="38160">
            <a:solidFill>
              <a:srgbClr val="063de8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3695760" y="3200400"/>
            <a:ext cx="1467360" cy="2000520"/>
          </a:xfrm>
          <a:custGeom>
            <a:avLst/>
            <a:gdLst/>
            <a:ahLst/>
            <a:rect l="0" t="0" r="r" b="b"/>
            <a:pathLst>
              <a:path fill="none" w="4076" h="5557">
                <a:moveTo>
                  <a:pt x="0" y="0"/>
                </a:moveTo>
                <a:lnTo>
                  <a:pt x="0" y="0"/>
                </a:lnTo>
                <a:cubicBezTo>
                  <a:pt x="0" y="975"/>
                  <a:pt x="188" y="1934"/>
                  <a:pt x="546" y="2779"/>
                </a:cubicBezTo>
                <a:cubicBezTo>
                  <a:pt x="904" y="3623"/>
                  <a:pt x="1418" y="4325"/>
                  <a:pt x="2038" y="4813"/>
                </a:cubicBezTo>
                <a:cubicBezTo>
                  <a:pt x="2658" y="5300"/>
                  <a:pt x="3361" y="5557"/>
                  <a:pt x="4076" y="5557"/>
                </a:cubicBezTo>
              </a:path>
            </a:pathLst>
          </a:custGeom>
          <a:ln w="38160">
            <a:solidFill>
              <a:srgbClr val="063de8"/>
            </a:solidFill>
            <a:round/>
            <a:head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4260960" y="4705200"/>
            <a:ext cx="1435320" cy="1019520"/>
            <a:chOff x="4260960" y="4705200"/>
            <a:chExt cx="1435320" cy="1019520"/>
          </a:xfrm>
        </p:grpSpPr>
        <p:grpSp>
          <p:nvGrpSpPr>
            <p:cNvPr id="1208" name=""/>
            <p:cNvGrpSpPr/>
            <p:nvPr/>
          </p:nvGrpSpPr>
          <p:grpSpPr>
            <a:xfrm>
              <a:off x="4260960" y="4705200"/>
              <a:ext cx="1214640" cy="765720"/>
              <a:chOff x="4260960" y="4705200"/>
              <a:chExt cx="1214640" cy="765720"/>
            </a:xfrm>
          </p:grpSpPr>
          <p:sp>
            <p:nvSpPr>
              <p:cNvPr id="1209" name=""/>
              <p:cNvSpPr/>
              <p:nvPr/>
            </p:nvSpPr>
            <p:spPr>
              <a:xfrm>
                <a:off x="4299120" y="4705200"/>
                <a:ext cx="1135440" cy="609840"/>
              </a:xfrm>
              <a:custGeom>
                <a:avLst/>
                <a:gdLst/>
                <a:ahLst/>
                <a:rect l="0" t="0" r="r" b="b"/>
                <a:pathLst>
                  <a:path w="3154" h="1694">
                    <a:moveTo>
                      <a:pt x="0" y="582"/>
                    </a:moveTo>
                    <a:lnTo>
                      <a:pt x="2104" y="0"/>
                    </a:lnTo>
                    <a:lnTo>
                      <a:pt x="3154" y="975"/>
                    </a:lnTo>
                    <a:lnTo>
                      <a:pt x="860" y="1694"/>
                    </a:lnTo>
                    <a:lnTo>
                      <a:pt x="0" y="5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56080" y="4784760"/>
                <a:ext cx="954360" cy="495720"/>
              </a:xfrm>
              <a:custGeom>
                <a:avLst/>
                <a:gdLst/>
                <a:ahLst/>
                <a:rect l="0" t="0" r="r" b="b"/>
                <a:pathLst>
                  <a:path w="2651" h="1377">
                    <a:moveTo>
                      <a:pt x="0" y="508"/>
                    </a:moveTo>
                    <a:lnTo>
                      <a:pt x="1804" y="0"/>
                    </a:lnTo>
                    <a:lnTo>
                      <a:pt x="2651" y="781"/>
                    </a:lnTo>
                    <a:lnTo>
                      <a:pt x="709" y="1377"/>
                    </a:lnTo>
                    <a:lnTo>
                      <a:pt x="0" y="5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114ff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387680" y="4713120"/>
                <a:ext cx="702000" cy="238320"/>
              </a:xfrm>
              <a:custGeom>
                <a:avLst/>
                <a:gdLst/>
                <a:ahLst/>
                <a:rect l="0" t="0" r="r" b="b"/>
                <a:pathLst>
                  <a:path w="1950" h="662">
                    <a:moveTo>
                      <a:pt x="0" y="490"/>
                    </a:moveTo>
                    <a:lnTo>
                      <a:pt x="141" y="662"/>
                    </a:lnTo>
                    <a:lnTo>
                      <a:pt x="1950" y="145"/>
                    </a:lnTo>
                    <a:lnTo>
                      <a:pt x="1804" y="0"/>
                    </a:lnTo>
                    <a:lnTo>
                      <a:pt x="0" y="490"/>
                    </a:lnTo>
                    <a:close/>
                  </a:path>
                </a:pathLst>
              </a:custGeom>
              <a:blipFill rotWithShape="0">
                <a:blip r:embed="rId3"/>
                <a:tile tx="0" ty="0" sx="133018" sy="133018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273560" y="4932360"/>
                <a:ext cx="343440" cy="405000"/>
              </a:xfrm>
              <a:custGeom>
                <a:avLst/>
                <a:gdLst/>
                <a:ahLst/>
                <a:rect l="0" t="0" r="r" b="b"/>
                <a:pathLst>
                  <a:path w="954" h="1125">
                    <a:moveTo>
                      <a:pt x="97" y="0"/>
                    </a:moveTo>
                    <a:lnTo>
                      <a:pt x="0" y="30"/>
                    </a:lnTo>
                    <a:lnTo>
                      <a:pt x="857" y="1125"/>
                    </a:lnTo>
                    <a:lnTo>
                      <a:pt x="954" y="1094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573440" y="5057640"/>
                <a:ext cx="902160" cy="413280"/>
              </a:xfrm>
              <a:custGeom>
                <a:avLst/>
                <a:gdLst/>
                <a:ahLst/>
                <a:rect l="0" t="0" r="r" b="b"/>
                <a:pathLst>
                  <a:path w="2506" h="1148">
                    <a:moveTo>
                      <a:pt x="97" y="755"/>
                    </a:moveTo>
                    <a:lnTo>
                      <a:pt x="26" y="772"/>
                    </a:lnTo>
                    <a:lnTo>
                      <a:pt x="22" y="860"/>
                    </a:lnTo>
                    <a:lnTo>
                      <a:pt x="0" y="875"/>
                    </a:lnTo>
                    <a:lnTo>
                      <a:pt x="0" y="1077"/>
                    </a:lnTo>
                    <a:lnTo>
                      <a:pt x="52" y="1060"/>
                    </a:lnTo>
                    <a:lnTo>
                      <a:pt x="52" y="1148"/>
                    </a:lnTo>
                    <a:lnTo>
                      <a:pt x="2475" y="344"/>
                    </a:lnTo>
                    <a:lnTo>
                      <a:pt x="2475" y="229"/>
                    </a:lnTo>
                    <a:lnTo>
                      <a:pt x="2506" y="229"/>
                    </a:lnTo>
                    <a:lnTo>
                      <a:pt x="2506" y="83"/>
                    </a:lnTo>
                    <a:lnTo>
                      <a:pt x="2471" y="83"/>
                    </a:lnTo>
                    <a:lnTo>
                      <a:pt x="2475" y="0"/>
                    </a:lnTo>
                    <a:lnTo>
                      <a:pt x="2400" y="22"/>
                    </a:lnTo>
                    <a:lnTo>
                      <a:pt x="2392" y="0"/>
                    </a:lnTo>
                    <a:lnTo>
                      <a:pt x="105" y="710"/>
                    </a:lnTo>
                    <a:lnTo>
                      <a:pt x="119" y="759"/>
                    </a:lnTo>
                    <a:lnTo>
                      <a:pt x="97" y="755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273560" y="4941720"/>
                <a:ext cx="308160" cy="430560"/>
              </a:xfrm>
              <a:custGeom>
                <a:avLst/>
                <a:gdLst/>
                <a:ahLst/>
                <a:rect l="0" t="0" r="r" b="b"/>
                <a:pathLst>
                  <a:path w="856" h="1196">
                    <a:moveTo>
                      <a:pt x="0" y="0"/>
                    </a:moveTo>
                    <a:lnTo>
                      <a:pt x="0" y="79"/>
                    </a:lnTo>
                    <a:lnTo>
                      <a:pt x="847" y="1196"/>
                    </a:lnTo>
                    <a:lnTo>
                      <a:pt x="856" y="11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260960" y="4970520"/>
                <a:ext cx="313200" cy="475200"/>
              </a:xfrm>
              <a:custGeom>
                <a:avLst/>
                <a:gdLst/>
                <a:ahLst/>
                <a:rect l="0" t="0" r="r" b="b"/>
                <a:pathLst>
                  <a:path w="870" h="1320">
                    <a:moveTo>
                      <a:pt x="35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870" y="1320"/>
                    </a:lnTo>
                    <a:lnTo>
                      <a:pt x="870" y="110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265640" y="5003640"/>
                <a:ext cx="307800" cy="406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070600" y="4710240"/>
                <a:ext cx="394200" cy="354240"/>
              </a:xfrm>
              <a:custGeom>
                <a:avLst/>
                <a:gdLst/>
                <a:ahLst/>
                <a:rect l="0" t="0" r="r" b="b"/>
                <a:pathLst>
                  <a:path w="1095" h="984">
                    <a:moveTo>
                      <a:pt x="0" y="8"/>
                    </a:moveTo>
                    <a:lnTo>
                      <a:pt x="52" y="0"/>
                    </a:lnTo>
                    <a:lnTo>
                      <a:pt x="1095" y="966"/>
                    </a:lnTo>
                    <a:lnTo>
                      <a:pt x="1016" y="98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714920" y="5064120"/>
                <a:ext cx="698760" cy="257400"/>
              </a:xfrm>
              <a:custGeom>
                <a:avLst/>
                <a:gdLst/>
                <a:ahLst/>
                <a:rect l="0" t="0" r="r" b="b"/>
                <a:pathLst>
                  <a:path fill="none" w="1941" h="715">
                    <a:moveTo>
                      <a:pt x="0" y="600"/>
                    </a:moveTo>
                    <a:lnTo>
                      <a:pt x="0" y="715"/>
                    </a:lnTo>
                    <a:lnTo>
                      <a:pt x="1941" y="123"/>
                    </a:lnTo>
                    <a:lnTo>
                      <a:pt x="1941" y="0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99080" y="5049720"/>
                <a:ext cx="708480" cy="230400"/>
              </a:xfrm>
              <a:custGeom>
                <a:avLst/>
                <a:gdLst/>
                <a:ahLst/>
                <a:rect l="0" t="0" r="r" b="b"/>
                <a:pathLst>
                  <a:path w="1968" h="640">
                    <a:moveTo>
                      <a:pt x="0" y="596"/>
                    </a:moveTo>
                    <a:lnTo>
                      <a:pt x="1933" y="0"/>
                    </a:lnTo>
                    <a:lnTo>
                      <a:pt x="1968" y="35"/>
                    </a:lnTo>
                    <a:lnTo>
                      <a:pt x="35" y="640"/>
                    </a:lnTo>
                    <a:lnTo>
                      <a:pt x="0" y="59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456080" y="4784760"/>
                <a:ext cx="938520" cy="479880"/>
              </a:xfrm>
              <a:custGeom>
                <a:avLst/>
                <a:gdLst/>
                <a:ahLst/>
                <a:rect l="0" t="0" r="r" b="b"/>
                <a:pathLst>
                  <a:path w="2607" h="1333">
                    <a:moveTo>
                      <a:pt x="1804" y="0"/>
                    </a:moveTo>
                    <a:lnTo>
                      <a:pt x="0" y="508"/>
                    </a:lnTo>
                    <a:lnTo>
                      <a:pt x="674" y="1333"/>
                    </a:lnTo>
                    <a:lnTo>
                      <a:pt x="784" y="1302"/>
                    </a:lnTo>
                    <a:lnTo>
                      <a:pt x="149" y="543"/>
                    </a:lnTo>
                    <a:lnTo>
                      <a:pt x="1795" y="79"/>
                    </a:lnTo>
                    <a:lnTo>
                      <a:pt x="2545" y="763"/>
                    </a:lnTo>
                    <a:lnTo>
                      <a:pt x="2607" y="741"/>
                    </a:lnTo>
                    <a:lnTo>
                      <a:pt x="18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516560" y="4813200"/>
                <a:ext cx="849600" cy="251280"/>
              </a:xfrm>
              <a:custGeom>
                <a:avLst/>
                <a:gdLst/>
                <a:ahLst/>
                <a:rect l="0" t="0" r="r" b="b"/>
                <a:pathLst>
                  <a:path w="2360" h="698">
                    <a:moveTo>
                      <a:pt x="0" y="464"/>
                    </a:moveTo>
                    <a:lnTo>
                      <a:pt x="1623" y="0"/>
                    </a:lnTo>
                    <a:lnTo>
                      <a:pt x="2360" y="676"/>
                    </a:lnTo>
                    <a:lnTo>
                      <a:pt x="2280" y="698"/>
                    </a:lnTo>
                    <a:lnTo>
                      <a:pt x="1601" y="57"/>
                    </a:lnTo>
                    <a:lnTo>
                      <a:pt x="35" y="503"/>
                    </a:lnTo>
                    <a:lnTo>
                      <a:pt x="0" y="464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299120" y="4916520"/>
                <a:ext cx="317880" cy="413280"/>
              </a:xfrm>
              <a:custGeom>
                <a:avLst/>
                <a:gdLst/>
                <a:ahLst/>
                <a:rect l="0" t="0" r="r" b="b"/>
                <a:pathLst>
                  <a:path w="883" h="1148">
                    <a:moveTo>
                      <a:pt x="0" y="0"/>
                    </a:moveTo>
                    <a:lnTo>
                      <a:pt x="883" y="1108"/>
                    </a:lnTo>
                    <a:lnTo>
                      <a:pt x="883" y="1148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3" name=""/>
              <p:cNvGrpSpPr/>
              <p:nvPr/>
            </p:nvGrpSpPr>
            <p:grpSpPr>
              <a:xfrm>
                <a:off x="4518000" y="5141880"/>
                <a:ext cx="142920" cy="125640"/>
                <a:chOff x="4518000" y="5141880"/>
                <a:chExt cx="142920" cy="1256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4519440" y="5149800"/>
                  <a:ext cx="141480" cy="117720"/>
                </a:xfrm>
                <a:custGeom>
                  <a:avLst/>
                  <a:gdLst/>
                  <a:ahLst/>
                  <a:rect l="0" t="0" r="r" b="b"/>
                  <a:pathLst>
                    <a:path w="393" h="327">
                      <a:moveTo>
                        <a:pt x="154" y="0"/>
                      </a:moveTo>
                      <a:lnTo>
                        <a:pt x="0" y="39"/>
                      </a:lnTo>
                      <a:lnTo>
                        <a:pt x="239" y="327"/>
                      </a:lnTo>
                      <a:lnTo>
                        <a:pt x="393" y="278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22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518000" y="5141880"/>
                  <a:ext cx="12528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26" name=""/>
            <p:cNvGrpSpPr/>
            <p:nvPr/>
          </p:nvGrpSpPr>
          <p:grpSpPr>
            <a:xfrm>
              <a:off x="4408560" y="5114880"/>
              <a:ext cx="1287720" cy="609840"/>
              <a:chOff x="4408560" y="5114880"/>
              <a:chExt cx="1287720" cy="60984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4408560" y="5459400"/>
                <a:ext cx="378360" cy="265320"/>
                <a:chOff x="4408560" y="5459400"/>
                <a:chExt cx="378360" cy="26532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4408560" y="5459400"/>
                  <a:ext cx="378360" cy="265320"/>
                </a:xfrm>
                <a:custGeom>
                  <a:avLst/>
                  <a:gdLst/>
                  <a:ahLst/>
                  <a:rect l="0" t="0" r="r" b="b"/>
                  <a:pathLst>
                    <a:path w="1051" h="737">
                      <a:moveTo>
                        <a:pt x="649" y="0"/>
                      </a:moveTo>
                      <a:lnTo>
                        <a:pt x="0" y="198"/>
                      </a:lnTo>
                      <a:lnTo>
                        <a:pt x="375" y="737"/>
                      </a:lnTo>
                      <a:lnTo>
                        <a:pt x="1051" y="525"/>
                      </a:lnTo>
                      <a:lnTo>
                        <a:pt x="6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422600" y="5494320"/>
                  <a:ext cx="282960" cy="201960"/>
                </a:xfrm>
                <a:custGeom>
                  <a:avLst/>
                  <a:gdLst/>
                  <a:ahLst/>
                  <a:rect l="0" t="0" r="r" b="b"/>
                  <a:pathLst>
                    <a:path w="786" h="561">
                      <a:moveTo>
                        <a:pt x="0" y="149"/>
                      </a:moveTo>
                      <a:lnTo>
                        <a:pt x="494" y="0"/>
                      </a:lnTo>
                      <a:lnTo>
                        <a:pt x="786" y="375"/>
                      </a:lnTo>
                      <a:lnTo>
                        <a:pt x="782" y="402"/>
                      </a:lnTo>
                      <a:lnTo>
                        <a:pt x="287" y="561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4641840" y="5499000"/>
                  <a:ext cx="108360" cy="108360"/>
                </a:xfrm>
                <a:custGeom>
                  <a:avLst/>
                  <a:gdLst/>
                  <a:ahLst/>
                  <a:rect l="0" t="0" r="r" b="b"/>
                  <a:pathLst>
                    <a:path w="301" h="301">
                      <a:moveTo>
                        <a:pt x="89" y="0"/>
                      </a:moveTo>
                      <a:lnTo>
                        <a:pt x="0" y="26"/>
                      </a:lnTo>
                      <a:lnTo>
                        <a:pt x="217" y="301"/>
                      </a:lnTo>
                      <a:lnTo>
                        <a:pt x="301" y="275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697280" y="5557680"/>
                  <a:ext cx="39960" cy="32040"/>
                </a:xfrm>
                <a:custGeom>
                  <a:avLst/>
                  <a:gdLst/>
                  <a:ahLst/>
                  <a:rect l="0" t="0" r="r" b="b"/>
                  <a:pathLst>
                    <a:path w="111" h="89">
                      <a:moveTo>
                        <a:pt x="52" y="0"/>
                      </a:moveTo>
                      <a:lnTo>
                        <a:pt x="0" y="13"/>
                      </a:lnTo>
                      <a:lnTo>
                        <a:pt x="58" y="89"/>
                      </a:lnTo>
                      <a:lnTo>
                        <a:pt x="111" y="7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4605480" y="5114880"/>
                <a:ext cx="1090800" cy="599040"/>
                <a:chOff x="4605480" y="5114880"/>
                <a:chExt cx="1090800" cy="59904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4605480" y="5388120"/>
                  <a:ext cx="190800" cy="270360"/>
                </a:xfrm>
                <a:custGeom>
                  <a:avLst/>
                  <a:gdLst/>
                  <a:ahLst/>
                  <a:rect l="0" t="0" r="r" b="b"/>
                  <a:pathLst>
                    <a:path w="530" h="751">
                      <a:moveTo>
                        <a:pt x="0" y="0"/>
                      </a:moveTo>
                      <a:lnTo>
                        <a:pt x="530" y="672"/>
                      </a:lnTo>
                      <a:lnTo>
                        <a:pt x="530" y="751"/>
                      </a:lnTo>
                      <a:lnTo>
                        <a:pt x="0" y="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862520" y="5124600"/>
                  <a:ext cx="778320" cy="439920"/>
                </a:xfrm>
                <a:custGeom>
                  <a:avLst/>
                  <a:gdLst/>
                  <a:ahLst/>
                  <a:rect l="0" t="0" r="r" b="b"/>
                  <a:pathLst>
                    <a:path w="2162" h="1222">
                      <a:moveTo>
                        <a:pt x="0" y="807"/>
                      </a:moveTo>
                      <a:lnTo>
                        <a:pt x="330" y="1222"/>
                      </a:lnTo>
                      <a:lnTo>
                        <a:pt x="2162" y="586"/>
                      </a:lnTo>
                      <a:lnTo>
                        <a:pt x="1544" y="0"/>
                      </a:lnTo>
                      <a:lnTo>
                        <a:pt x="1495" y="13"/>
                      </a:lnTo>
                      <a:lnTo>
                        <a:pt x="1752" y="251"/>
                      </a:lnTo>
                      <a:lnTo>
                        <a:pt x="0" y="807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795920" y="5318280"/>
                  <a:ext cx="900360" cy="395640"/>
                </a:xfrm>
                <a:custGeom>
                  <a:avLst/>
                  <a:gdLst/>
                  <a:ahLst/>
                  <a:rect l="0" t="0" r="r" b="b"/>
                  <a:pathLst>
                    <a:path w="2501" h="1099">
                      <a:moveTo>
                        <a:pt x="0" y="860"/>
                      </a:moveTo>
                      <a:lnTo>
                        <a:pt x="0" y="1099"/>
                      </a:lnTo>
                      <a:lnTo>
                        <a:pt x="2501" y="238"/>
                      </a:lnTo>
                      <a:lnTo>
                        <a:pt x="2501" y="0"/>
                      </a:lnTo>
                      <a:lnTo>
                        <a:pt x="0" y="86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737240" y="5329080"/>
                  <a:ext cx="203400" cy="249480"/>
                </a:xfrm>
                <a:custGeom>
                  <a:avLst/>
                  <a:gdLst/>
                  <a:ahLst/>
                  <a:rect l="0" t="0" r="r" b="b"/>
                  <a:pathLst>
                    <a:path w="565" h="693">
                      <a:moveTo>
                        <a:pt x="4" y="0"/>
                      </a:moveTo>
                      <a:lnTo>
                        <a:pt x="565" y="675"/>
                      </a:lnTo>
                      <a:lnTo>
                        <a:pt x="525" y="693"/>
                      </a:lnTo>
                      <a:lnTo>
                        <a:pt x="0" y="5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605480" y="5346720"/>
                  <a:ext cx="322560" cy="281520"/>
                </a:xfrm>
                <a:custGeom>
                  <a:avLst/>
                  <a:gdLst/>
                  <a:ahLst/>
                  <a:rect l="0" t="0" r="r" b="b"/>
                  <a:pathLst>
                    <a:path w="896" h="782">
                      <a:moveTo>
                        <a:pt x="352" y="0"/>
                      </a:moveTo>
                      <a:lnTo>
                        <a:pt x="896" y="659"/>
                      </a:lnTo>
                      <a:lnTo>
                        <a:pt x="525" y="782"/>
                      </a:lnTo>
                      <a:lnTo>
                        <a:pt x="0" y="114"/>
                      </a:lnTo>
                      <a:lnTo>
                        <a:pt x="352" y="0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605480" y="5411880"/>
                  <a:ext cx="32040" cy="43200"/>
                </a:xfrm>
                <a:custGeom>
                  <a:avLst/>
                  <a:gdLst/>
                  <a:ahLst/>
                  <a:rect l="0" t="0" r="r" b="b"/>
                  <a:pathLst>
                    <a:path w="89" h="120">
                      <a:moveTo>
                        <a:pt x="0" y="0"/>
                      </a:moveTo>
                      <a:lnTo>
                        <a:pt x="89" y="120"/>
                      </a:lnTo>
                      <a:lnTo>
                        <a:pt x="0" y="1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738680" y="5318280"/>
                  <a:ext cx="244800" cy="259200"/>
                </a:xfrm>
                <a:custGeom>
                  <a:avLst/>
                  <a:gdLst/>
                  <a:ahLst/>
                  <a:rect l="0" t="0" r="r" b="b"/>
                  <a:pathLst>
                    <a:path w="680" h="720">
                      <a:moveTo>
                        <a:pt x="110" y="0"/>
                      </a:moveTo>
                      <a:lnTo>
                        <a:pt x="680" y="685"/>
                      </a:lnTo>
                      <a:lnTo>
                        <a:pt x="569" y="720"/>
                      </a:lnTo>
                      <a:lnTo>
                        <a:pt x="0" y="3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413320" y="5114880"/>
                  <a:ext cx="241560" cy="209880"/>
                </a:xfrm>
                <a:custGeom>
                  <a:avLst/>
                  <a:gdLst/>
                  <a:ahLst/>
                  <a:rect l="0" t="0" r="r" b="b"/>
                  <a:pathLst>
                    <a:path w="671" h="583">
                      <a:moveTo>
                        <a:pt x="61" y="0"/>
                      </a:moveTo>
                      <a:lnTo>
                        <a:pt x="671" y="561"/>
                      </a:lnTo>
                      <a:lnTo>
                        <a:pt x="605" y="583"/>
                      </a:lnTo>
                      <a:lnTo>
                        <a:pt x="0" y="22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735440" y="5332320"/>
                  <a:ext cx="203400" cy="251280"/>
                </a:xfrm>
                <a:custGeom>
                  <a:avLst/>
                  <a:gdLst/>
                  <a:ahLst/>
                  <a:rect l="0" t="0" r="r" b="b"/>
                  <a:pathLst>
                    <a:path fill="none" w="565" h="698">
                      <a:moveTo>
                        <a:pt x="0" y="0"/>
                      </a:moveTo>
                      <a:lnTo>
                        <a:pt x="0" y="57"/>
                      </a:lnTo>
                      <a:lnTo>
                        <a:pt x="530" y="698"/>
                      </a:lnTo>
                      <a:lnTo>
                        <a:pt x="565" y="689"/>
                      </a:lnTo>
                      <a:lnTo>
                        <a:pt x="565" y="667"/>
                      </a:lnTo>
                    </a:path>
                  </a:pathLst>
                </a:custGeom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2" name=""/>
                <p:cNvGrpSpPr/>
                <p:nvPr/>
              </p:nvGrpSpPr>
              <p:grpSpPr>
                <a:xfrm>
                  <a:off x="5235480" y="5234040"/>
                  <a:ext cx="346680" cy="186120"/>
                  <a:chOff x="5235480" y="5234040"/>
                  <a:chExt cx="346680" cy="186120"/>
                </a:xfrm>
              </p:grpSpPr>
              <p:sp>
                <p:nvSpPr>
                  <p:cNvPr id="1243" name=""/>
                  <p:cNvSpPr/>
                  <p:nvPr/>
                </p:nvSpPr>
                <p:spPr>
                  <a:xfrm>
                    <a:off x="5508720" y="5249880"/>
                    <a:ext cx="6876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199">
                        <a:moveTo>
                          <a:pt x="53" y="0"/>
                        </a:moveTo>
                        <a:lnTo>
                          <a:pt x="191" y="133"/>
                        </a:lnTo>
                        <a:lnTo>
                          <a:pt x="128" y="155"/>
                        </a:lnTo>
                        <a:lnTo>
                          <a:pt x="128" y="199"/>
                        </a:lnTo>
                        <a:lnTo>
                          <a:pt x="0" y="102"/>
                        </a:lnTo>
                        <a:lnTo>
                          <a:pt x="53" y="8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5238720" y="5234040"/>
                    <a:ext cx="252720" cy="98640"/>
                  </a:xfrm>
                  <a:custGeom>
                    <a:avLst/>
                    <a:gdLst/>
                    <a:ahLst/>
                    <a:rect l="0" t="0" r="r" b="b"/>
                    <a:pathLst>
                      <a:path w="702" h="274">
                        <a:moveTo>
                          <a:pt x="666" y="0"/>
                        </a:moveTo>
                        <a:lnTo>
                          <a:pt x="0" y="212"/>
                        </a:lnTo>
                        <a:lnTo>
                          <a:pt x="57" y="274"/>
                        </a:lnTo>
                        <a:lnTo>
                          <a:pt x="666" y="83"/>
                        </a:lnTo>
                        <a:lnTo>
                          <a:pt x="702" y="114"/>
                        </a:lnTo>
                        <a:lnTo>
                          <a:pt x="702" y="30"/>
                        </a:lnTo>
                        <a:lnTo>
                          <a:pt x="666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5491080" y="5245200"/>
                    <a:ext cx="2592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07">
                        <a:moveTo>
                          <a:pt x="0" y="0"/>
                        </a:moveTo>
                        <a:lnTo>
                          <a:pt x="72" y="36"/>
                        </a:lnTo>
                        <a:lnTo>
                          <a:pt x="72" y="107"/>
                        </a:lnTo>
                        <a:lnTo>
                          <a:pt x="0" y="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5505480" y="5251320"/>
                    <a:ext cx="25920" cy="352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72" h="98">
                        <a:moveTo>
                          <a:pt x="0" y="22"/>
                        </a:moveTo>
                        <a:lnTo>
                          <a:pt x="72" y="0"/>
                        </a:lnTo>
                        <a:lnTo>
                          <a:pt x="72" y="75"/>
                        </a:lnTo>
                        <a:lnTo>
                          <a:pt x="0" y="98"/>
                        </a:lnTo>
                      </a:path>
                    </a:pathLst>
                  </a:custGeom>
                  <a:ln w="0">
                    <a:noFill/>
                  </a:ln>
                </p:spPr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5554800" y="5307120"/>
                    <a:ext cx="27360" cy="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07">
                        <a:moveTo>
                          <a:pt x="0" y="0"/>
                        </a:moveTo>
                        <a:lnTo>
                          <a:pt x="76" y="75"/>
                        </a:lnTo>
                        <a:lnTo>
                          <a:pt x="13" y="107"/>
                        </a:lnTo>
                        <a:lnTo>
                          <a:pt x="0" y="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0">
                    <a:noFill/>
                  </a:ln>
                </p:spPr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5235480" y="5264280"/>
                    <a:ext cx="330480" cy="155880"/>
                  </a:xfrm>
                  <a:custGeom>
                    <a:avLst/>
                    <a:gdLst/>
                    <a:ahLst/>
                    <a:rect l="0" t="0" r="r" b="b"/>
                    <a:pathLst>
                      <a:path w="918" h="433">
                        <a:moveTo>
                          <a:pt x="675" y="0"/>
                        </a:moveTo>
                        <a:lnTo>
                          <a:pt x="0" y="211"/>
                        </a:lnTo>
                        <a:lnTo>
                          <a:pt x="158" y="393"/>
                        </a:lnTo>
                        <a:lnTo>
                          <a:pt x="238" y="371"/>
                        </a:lnTo>
                        <a:lnTo>
                          <a:pt x="282" y="433"/>
                        </a:lnTo>
                        <a:lnTo>
                          <a:pt x="918" y="217"/>
                        </a:lnTo>
                        <a:lnTo>
                          <a:pt x="887" y="189"/>
                        </a:lnTo>
                        <a:lnTo>
                          <a:pt x="887" y="163"/>
                        </a:lnTo>
                        <a:lnTo>
                          <a:pt x="887" y="105"/>
                        </a:lnTo>
                        <a:lnTo>
                          <a:pt x="812" y="44"/>
                        </a:lnTo>
                        <a:lnTo>
                          <a:pt x="759" y="57"/>
                        </a:lnTo>
                        <a:lnTo>
                          <a:pt x="675" y="0"/>
                        </a:lnTo>
                        <a:close/>
                      </a:path>
                    </a:pathLst>
                  </a:custGeom>
                  <a:solidFill>
                    <a:srgbClr val="47474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9" name=""/>
                <p:cNvSpPr/>
                <p:nvPr/>
              </p:nvSpPr>
              <p:spPr>
                <a:xfrm>
                  <a:off x="4933800" y="5307120"/>
                  <a:ext cx="762480" cy="270360"/>
                </a:xfrm>
                <a:custGeom>
                  <a:avLst/>
                  <a:gdLst/>
                  <a:ahLst/>
                  <a:rect l="0" t="0" r="r" b="b"/>
                  <a:pathLst>
                    <a:path w="2118" h="751">
                      <a:moveTo>
                        <a:pt x="2118" y="26"/>
                      </a:moveTo>
                      <a:lnTo>
                        <a:pt x="2078" y="0"/>
                      </a:lnTo>
                      <a:lnTo>
                        <a:pt x="0" y="720"/>
                      </a:lnTo>
                      <a:lnTo>
                        <a:pt x="30" y="751"/>
                      </a:lnTo>
                      <a:lnTo>
                        <a:pt x="2118" y="2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229360" y="5452920"/>
                  <a:ext cx="63720" cy="63720"/>
                </a:xfrm>
                <a:custGeom>
                  <a:avLst/>
                  <a:gdLst/>
                  <a:ahLst/>
                  <a:rect l="0" t="0" r="r" b="b"/>
                  <a:pathLst>
                    <a:path w="177" h="177">
                      <a:moveTo>
                        <a:pt x="177" y="0"/>
                      </a:moveTo>
                      <a:lnTo>
                        <a:pt x="0" y="61"/>
                      </a:lnTo>
                      <a:lnTo>
                        <a:pt x="0" y="177"/>
                      </a:lnTo>
                      <a:lnTo>
                        <a:pt x="177" y="115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230800" y="5494320"/>
                  <a:ext cx="62280" cy="89280"/>
                </a:xfrm>
                <a:custGeom>
                  <a:avLst/>
                  <a:gdLst/>
                  <a:ahLst/>
                  <a:rect l="0" t="0" r="r" b="b"/>
                  <a:pathLst>
                    <a:path w="173" h="248">
                      <a:moveTo>
                        <a:pt x="0" y="57"/>
                      </a:moveTo>
                      <a:lnTo>
                        <a:pt x="0" y="248"/>
                      </a:lnTo>
                      <a:lnTo>
                        <a:pt x="173" y="191"/>
                      </a:lnTo>
                      <a:lnTo>
                        <a:pt x="173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240160" y="5494320"/>
                  <a:ext cx="39960" cy="59040"/>
                </a:xfrm>
                <a:custGeom>
                  <a:avLst/>
                  <a:gdLst/>
                  <a:ahLst/>
                  <a:rect l="0" t="0" r="r" b="b"/>
                  <a:pathLst>
                    <a:path w="111" h="164">
                      <a:moveTo>
                        <a:pt x="0" y="48"/>
                      </a:moveTo>
                      <a:lnTo>
                        <a:pt x="0" y="111"/>
                      </a:lnTo>
                      <a:lnTo>
                        <a:pt x="58" y="164"/>
                      </a:lnTo>
                      <a:lnTo>
                        <a:pt x="111" y="74"/>
                      </a:lnTo>
                      <a:lnTo>
                        <a:pt x="111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V="1">
                  <a:off x="5241960" y="5470560"/>
                  <a:ext cx="3960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V="1">
                  <a:off x="5243400" y="5486400"/>
                  <a:ext cx="33480" cy="111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4903920" y="5634000"/>
                  <a:ext cx="28800" cy="25920"/>
                </a:xfrm>
                <a:custGeom>
                  <a:avLst/>
                  <a:gdLst/>
                  <a:ahLst/>
                  <a:rect l="0" t="0" r="r" b="b"/>
                  <a:pathLst>
                    <a:path w="80" h="72">
                      <a:moveTo>
                        <a:pt x="80" y="0"/>
                      </a:moveTo>
                      <a:lnTo>
                        <a:pt x="80" y="44"/>
                      </a:lnTo>
                      <a:lnTo>
                        <a:pt x="0" y="72"/>
                      </a:lnTo>
                      <a:lnTo>
                        <a:pt x="0" y="28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962600" y="5564160"/>
                  <a:ext cx="78120" cy="71640"/>
                </a:xfrm>
                <a:custGeom>
                  <a:avLst/>
                  <a:gdLst/>
                  <a:ahLst/>
                  <a:rect l="0" t="0" r="r" b="b"/>
                  <a:pathLst>
                    <a:path w="217" h="199">
                      <a:moveTo>
                        <a:pt x="217" y="0"/>
                      </a:moveTo>
                      <a:lnTo>
                        <a:pt x="0" y="70"/>
                      </a:lnTo>
                      <a:lnTo>
                        <a:pt x="0" y="199"/>
                      </a:lnTo>
                      <a:lnTo>
                        <a:pt x="217" y="133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4786200" y="5132520"/>
                  <a:ext cx="709920" cy="287640"/>
                </a:xfrm>
                <a:custGeom>
                  <a:avLst/>
                  <a:gdLst/>
                  <a:ahLst/>
                  <a:rect l="0" t="0" r="r" b="b"/>
                  <a:pathLst>
                    <a:path w="1972" h="799">
                      <a:moveTo>
                        <a:pt x="0" y="525"/>
                      </a:moveTo>
                      <a:lnTo>
                        <a:pt x="224" y="799"/>
                      </a:lnTo>
                      <a:lnTo>
                        <a:pt x="1972" y="238"/>
                      </a:lnTo>
                      <a:lnTo>
                        <a:pt x="1729" y="0"/>
                      </a:lnTo>
                      <a:lnTo>
                        <a:pt x="0" y="5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4859280" y="5646600"/>
                  <a:ext cx="27360" cy="25920"/>
                </a:xfrm>
                <a:custGeom>
                  <a:avLst/>
                  <a:gdLst/>
                  <a:ahLst/>
                  <a:rect l="0" t="0" r="r" b="b"/>
                  <a:pathLst>
                    <a:path w="76" h="72">
                      <a:moveTo>
                        <a:pt x="76" y="0"/>
                      </a:moveTo>
                      <a:lnTo>
                        <a:pt x="76" y="41"/>
                      </a:lnTo>
                      <a:lnTo>
                        <a:pt x="0" y="72"/>
                      </a:lnTo>
                      <a:lnTo>
                        <a:pt x="0" y="31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4968720" y="5510160"/>
                  <a:ext cx="25560" cy="20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4784760" y="5127480"/>
                  <a:ext cx="668520" cy="236880"/>
                </a:xfrm>
                <a:custGeom>
                  <a:avLst/>
                  <a:gdLst/>
                  <a:ahLst/>
                  <a:rect l="0" t="0" r="r" b="b"/>
                  <a:pathLst>
                    <a:path w="1857" h="658">
                      <a:moveTo>
                        <a:pt x="0" y="538"/>
                      </a:moveTo>
                      <a:lnTo>
                        <a:pt x="101" y="658"/>
                      </a:lnTo>
                      <a:lnTo>
                        <a:pt x="1857" y="114"/>
                      </a:lnTo>
                      <a:lnTo>
                        <a:pt x="1734" y="0"/>
                      </a:lnTo>
                      <a:lnTo>
                        <a:pt x="0" y="538"/>
                      </a:lnTo>
                      <a:close/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1" name=""/>
              <p:cNvGrpSpPr/>
              <p:nvPr/>
            </p:nvGrpSpPr>
            <p:grpSpPr>
              <a:xfrm>
                <a:off x="5267160" y="5286240"/>
                <a:ext cx="262440" cy="116280"/>
                <a:chOff x="5267160" y="5286240"/>
                <a:chExt cx="262440" cy="116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5267160" y="5286240"/>
                  <a:ext cx="262440" cy="116280"/>
                </a:xfrm>
                <a:custGeom>
                  <a:avLst/>
                  <a:gdLst/>
                  <a:ahLst/>
                  <a:rect l="0" t="0" r="r" b="b"/>
                  <a:pathLst>
                    <a:path w="729" h="323">
                      <a:moveTo>
                        <a:pt x="592" y="0"/>
                      </a:moveTo>
                      <a:lnTo>
                        <a:pt x="729" y="133"/>
                      </a:lnTo>
                      <a:lnTo>
                        <a:pt x="167" y="323"/>
                      </a:lnTo>
                      <a:lnTo>
                        <a:pt x="149" y="301"/>
                      </a:lnTo>
                      <a:lnTo>
                        <a:pt x="105" y="315"/>
                      </a:lnTo>
                      <a:lnTo>
                        <a:pt x="0" y="190"/>
                      </a:lnTo>
                      <a:lnTo>
                        <a:pt x="592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452920" y="5297400"/>
                  <a:ext cx="47880" cy="46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416560" y="5308560"/>
                  <a:ext cx="4752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376960" y="5321160"/>
                  <a:ext cx="4608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345280" y="5332320"/>
                  <a:ext cx="42840" cy="47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305320" y="5345280"/>
                  <a:ext cx="47880" cy="475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V="1">
                  <a:off x="5291280" y="5308560"/>
                  <a:ext cx="215640" cy="698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d Dunzer</dc:creator>
  <dc:description/>
  <dc:language>en-US</dc:language>
  <cp:lastModifiedBy>Brad Dunzer</cp:lastModifiedBy>
  <cp:revision>0</cp:revision>
  <dc:subject/>
  <dc:title>And how did Pickford deliver that presentation anyhow?</dc:title>
</cp:coreProperties>
</file>