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3de8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360" cy="6845400"/>
            <a:chOff x="0" y="0"/>
            <a:chExt cx="9144360" cy="6845400"/>
          </a:xfrm>
        </p:grpSpPr>
        <p:grpSp>
          <p:nvGrpSpPr>
            <p:cNvPr id="2" name=""/>
            <p:cNvGrpSpPr/>
            <p:nvPr/>
          </p:nvGrpSpPr>
          <p:grpSpPr>
            <a:xfrm>
              <a:off x="0" y="0"/>
              <a:ext cx="9144360" cy="6845400"/>
              <a:chOff x="0" y="0"/>
              <a:chExt cx="9144360" cy="684540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4952880"/>
                <a:ext cx="9144360" cy="1892520"/>
              </a:xfrm>
              <a:custGeom>
                <a:avLst/>
                <a:gdLst/>
                <a:ahLst/>
                <a:rect l="0" t="0" r="r" b="b"/>
                <a:pathLst>
                  <a:path w="25401" h="5257">
                    <a:moveTo>
                      <a:pt x="25401" y="0"/>
                    </a:moveTo>
                    <a:lnTo>
                      <a:pt x="0" y="5257"/>
                    </a:lnTo>
                    <a:lnTo>
                      <a:pt x="25365" y="5257"/>
                    </a:lnTo>
                    <a:lnTo>
                      <a:pt x="2540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819840"/>
                <a:ext cx="9131400" cy="25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5334480" cy="4800960"/>
              </a:xfrm>
              <a:custGeom>
                <a:avLst/>
                <a:gdLst/>
                <a:ahLst/>
                <a:rect l="0" t="0" r="r" b="b"/>
                <a:pathLst>
                  <a:path w="14818" h="13336">
                    <a:moveTo>
                      <a:pt x="0" y="13336"/>
                    </a:moveTo>
                    <a:lnTo>
                      <a:pt x="14818" y="0"/>
                    </a:lnTo>
                    <a:lnTo>
                      <a:pt x="0" y="0"/>
                    </a:lnTo>
                    <a:lnTo>
                      <a:pt x="0" y="133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262080" y="117360"/>
              <a:ext cx="8669160" cy="123336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12760" y="65160"/>
              <a:ext cx="8760240" cy="63720"/>
            </a:xfrm>
            <a:custGeom>
              <a:avLst/>
              <a:gdLst/>
              <a:ahLst/>
              <a:rect l="0" t="0" r="r" b="b"/>
              <a:pathLst>
                <a:path w="24334" h="177">
                  <a:moveTo>
                    <a:pt x="97" y="146"/>
                  </a:moveTo>
                  <a:lnTo>
                    <a:pt x="0" y="4"/>
                  </a:lnTo>
                  <a:lnTo>
                    <a:pt x="24334" y="0"/>
                  </a:lnTo>
                  <a:lnTo>
                    <a:pt x="24242" y="177"/>
                  </a:lnTo>
                  <a:lnTo>
                    <a:pt x="97" y="146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0680" y="1366920"/>
              <a:ext cx="8741160" cy="70200"/>
            </a:xfrm>
            <a:custGeom>
              <a:avLst/>
              <a:gdLst/>
              <a:ahLst/>
              <a:rect l="0" t="0" r="r" b="b"/>
              <a:pathLst>
                <a:path w="24281" h="195">
                  <a:moveTo>
                    <a:pt x="97" y="8"/>
                  </a:moveTo>
                  <a:lnTo>
                    <a:pt x="0" y="186"/>
                  </a:lnTo>
                  <a:lnTo>
                    <a:pt x="24281" y="195"/>
                  </a:lnTo>
                  <a:lnTo>
                    <a:pt x="24220" y="0"/>
                  </a:lnTo>
                  <a:lnTo>
                    <a:pt x="97" y="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12760" y="65160"/>
              <a:ext cx="52920" cy="1381320"/>
            </a:xfrm>
            <a:custGeom>
              <a:avLst/>
              <a:gdLst/>
              <a:ahLst/>
              <a:rect l="0" t="0" r="r" b="b"/>
              <a:pathLst>
                <a:path w="147" h="3837">
                  <a:moveTo>
                    <a:pt x="0" y="0"/>
                  </a:moveTo>
                  <a:lnTo>
                    <a:pt x="143" y="198"/>
                  </a:lnTo>
                  <a:lnTo>
                    <a:pt x="147" y="3564"/>
                  </a:lnTo>
                  <a:lnTo>
                    <a:pt x="0" y="38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34480" y="74520"/>
              <a:ext cx="38520" cy="1373400"/>
            </a:xfrm>
            <a:custGeom>
              <a:avLst/>
              <a:gdLst/>
              <a:ahLst/>
              <a:rect l="0" t="0" r="r" b="b"/>
              <a:pathLst>
                <a:path w="107" h="3815">
                  <a:moveTo>
                    <a:pt x="107" y="0"/>
                  </a:moveTo>
                  <a:lnTo>
                    <a:pt x="0" y="167"/>
                  </a:lnTo>
                  <a:lnTo>
                    <a:pt x="0" y="3581"/>
                  </a:lnTo>
                  <a:lnTo>
                    <a:pt x="107" y="381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873760" y="5986440"/>
            <a:ext cx="3166920" cy="859320"/>
            <a:chOff x="5873760" y="5986440"/>
            <a:chExt cx="3166920" cy="859320"/>
          </a:xfrm>
        </p:grpSpPr>
        <p:sp>
          <p:nvSpPr>
            <p:cNvPr id="12" name=""/>
            <p:cNvSpPr txBox="1"/>
            <p:nvPr/>
          </p:nvSpPr>
          <p:spPr>
            <a:xfrm>
              <a:off x="6742080" y="6067440"/>
              <a:ext cx="2298600" cy="40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NIGRAPHIC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6742080" y="6472080"/>
              <a:ext cx="2230560" cy="25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 In Focus Systems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 txBox="1"/>
            <p:nvPr/>
          </p:nvSpPr>
          <p:spPr>
            <a:xfrm>
              <a:off x="8001000" y="6480000"/>
              <a:ext cx="20304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 txBox="1"/>
            <p:nvPr/>
          </p:nvSpPr>
          <p:spPr>
            <a:xfrm>
              <a:off x="8026560" y="6456240"/>
              <a:ext cx="19044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" name=""/>
            <p:cNvGrpSpPr/>
            <p:nvPr/>
          </p:nvGrpSpPr>
          <p:grpSpPr>
            <a:xfrm>
              <a:off x="6837480" y="6400800"/>
              <a:ext cx="2079720" cy="43200"/>
              <a:chOff x="6837480" y="6400800"/>
              <a:chExt cx="2079720" cy="43200"/>
            </a:xfrm>
          </p:grpSpPr>
          <p:sp>
            <p:nvSpPr>
              <p:cNvPr id="17" name=""/>
              <p:cNvSpPr/>
              <p:nvPr/>
            </p:nvSpPr>
            <p:spPr>
              <a:xfrm>
                <a:off x="6837480" y="6400800"/>
                <a:ext cx="33840" cy="36720"/>
              </a:xfrm>
              <a:custGeom>
                <a:avLst/>
                <a:gdLst/>
                <a:ahLst/>
                <a:rect l="0" t="0" r="r" b="b"/>
                <a:pathLst>
                  <a:path w="94" h="102">
                    <a:moveTo>
                      <a:pt x="45" y="0"/>
                    </a:moveTo>
                    <a:lnTo>
                      <a:pt x="0" y="53"/>
                    </a:lnTo>
                    <a:lnTo>
                      <a:pt x="45" y="102"/>
                    </a:lnTo>
                    <a:lnTo>
                      <a:pt x="94" y="5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937200" y="6400800"/>
                <a:ext cx="44640" cy="43200"/>
              </a:xfrm>
              <a:custGeom>
                <a:avLst/>
                <a:gdLst/>
                <a:ahLst/>
                <a:rect l="0" t="0" r="r" b="b"/>
                <a:pathLst>
                  <a:path w="124" h="120">
                    <a:moveTo>
                      <a:pt x="61" y="0"/>
                    </a:moveTo>
                    <a:lnTo>
                      <a:pt x="0" y="62"/>
                    </a:lnTo>
                    <a:lnTo>
                      <a:pt x="61" y="120"/>
                    </a:lnTo>
                    <a:lnTo>
                      <a:pt x="124" y="62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035840" y="640080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71" y="0"/>
                    </a:moveTo>
                    <a:lnTo>
                      <a:pt x="0" y="62"/>
                    </a:lnTo>
                    <a:lnTo>
                      <a:pt x="71" y="120"/>
                    </a:lnTo>
                    <a:lnTo>
                      <a:pt x="133" y="62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140600" y="6400800"/>
                <a:ext cx="44640" cy="43200"/>
              </a:xfrm>
              <a:custGeom>
                <a:avLst/>
                <a:gdLst/>
                <a:ahLst/>
                <a:rect l="0" t="0" r="r" b="b"/>
                <a:pathLst>
                  <a:path w="124" h="120">
                    <a:moveTo>
                      <a:pt x="61" y="0"/>
                    </a:moveTo>
                    <a:lnTo>
                      <a:pt x="0" y="62"/>
                    </a:lnTo>
                    <a:lnTo>
                      <a:pt x="61" y="120"/>
                    </a:lnTo>
                    <a:lnTo>
                      <a:pt x="124" y="62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240680" y="6400800"/>
                <a:ext cx="46440" cy="43200"/>
              </a:xfrm>
              <a:custGeom>
                <a:avLst/>
                <a:gdLst/>
                <a:ahLst/>
                <a:rect l="0" t="0" r="r" b="b"/>
                <a:pathLst>
                  <a:path w="129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29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343640" y="6400800"/>
                <a:ext cx="44640" cy="43200"/>
              </a:xfrm>
              <a:custGeom>
                <a:avLst/>
                <a:gdLst/>
                <a:ahLst/>
                <a:rect l="0" t="0" r="r" b="b"/>
                <a:pathLst>
                  <a:path w="124" h="120">
                    <a:moveTo>
                      <a:pt x="61" y="0"/>
                    </a:moveTo>
                    <a:lnTo>
                      <a:pt x="0" y="62"/>
                    </a:lnTo>
                    <a:lnTo>
                      <a:pt x="61" y="120"/>
                    </a:lnTo>
                    <a:lnTo>
                      <a:pt x="124" y="62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443720" y="6400800"/>
                <a:ext cx="46440" cy="43200"/>
              </a:xfrm>
              <a:custGeom>
                <a:avLst/>
                <a:gdLst/>
                <a:ahLst/>
                <a:rect l="0" t="0" r="r" b="b"/>
                <a:pathLst>
                  <a:path w="129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29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548480" y="6400800"/>
                <a:ext cx="39960" cy="43200"/>
              </a:xfrm>
              <a:custGeom>
                <a:avLst/>
                <a:gdLst/>
                <a:ahLst/>
                <a:rect l="0" t="0" r="r" b="b"/>
                <a:pathLst>
                  <a:path w="111" h="120">
                    <a:moveTo>
                      <a:pt x="52" y="0"/>
                    </a:moveTo>
                    <a:lnTo>
                      <a:pt x="0" y="62"/>
                    </a:lnTo>
                    <a:lnTo>
                      <a:pt x="52" y="120"/>
                    </a:lnTo>
                    <a:lnTo>
                      <a:pt x="111" y="62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43880" y="640080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33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748640" y="6400800"/>
                <a:ext cx="49680" cy="43200"/>
              </a:xfrm>
              <a:custGeom>
                <a:avLst/>
                <a:gdLst/>
                <a:ahLst/>
                <a:rect l="0" t="0" r="r" b="b"/>
                <a:pathLst>
                  <a:path w="138" h="120">
                    <a:moveTo>
                      <a:pt x="71" y="0"/>
                    </a:moveTo>
                    <a:lnTo>
                      <a:pt x="0" y="62"/>
                    </a:lnTo>
                    <a:lnTo>
                      <a:pt x="71" y="120"/>
                    </a:lnTo>
                    <a:lnTo>
                      <a:pt x="138" y="62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851600" y="6400800"/>
                <a:ext cx="41760" cy="43200"/>
              </a:xfrm>
              <a:custGeom>
                <a:avLst/>
                <a:gdLst/>
                <a:ahLst/>
                <a:rect l="0" t="0" r="r" b="b"/>
                <a:pathLst>
                  <a:path w="116" h="120">
                    <a:moveTo>
                      <a:pt x="58" y="0"/>
                    </a:moveTo>
                    <a:lnTo>
                      <a:pt x="0" y="62"/>
                    </a:lnTo>
                    <a:lnTo>
                      <a:pt x="58" y="120"/>
                    </a:lnTo>
                    <a:lnTo>
                      <a:pt x="116" y="62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950240" y="640080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33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061480" y="6400800"/>
                <a:ext cx="44640" cy="43200"/>
              </a:xfrm>
              <a:custGeom>
                <a:avLst/>
                <a:gdLst/>
                <a:ahLst/>
                <a:rect l="0" t="0" r="r" b="b"/>
                <a:pathLst>
                  <a:path w="124" h="120">
                    <a:moveTo>
                      <a:pt x="57" y="0"/>
                    </a:moveTo>
                    <a:lnTo>
                      <a:pt x="0" y="62"/>
                    </a:lnTo>
                    <a:lnTo>
                      <a:pt x="57" y="120"/>
                    </a:lnTo>
                    <a:lnTo>
                      <a:pt x="124" y="6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161200" y="6400800"/>
                <a:ext cx="44640" cy="43200"/>
              </a:xfrm>
              <a:custGeom>
                <a:avLst/>
                <a:gdLst/>
                <a:ahLst/>
                <a:rect l="0" t="0" r="r" b="b"/>
                <a:pathLst>
                  <a:path w="124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24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264520" y="640080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33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69280" y="6400800"/>
                <a:ext cx="41760" cy="43200"/>
              </a:xfrm>
              <a:custGeom>
                <a:avLst/>
                <a:gdLst/>
                <a:ahLst/>
                <a:rect l="0" t="0" r="r" b="b"/>
                <a:pathLst>
                  <a:path w="116" h="120">
                    <a:moveTo>
                      <a:pt x="58" y="0"/>
                    </a:moveTo>
                    <a:lnTo>
                      <a:pt x="0" y="62"/>
                    </a:lnTo>
                    <a:lnTo>
                      <a:pt x="58" y="120"/>
                    </a:lnTo>
                    <a:lnTo>
                      <a:pt x="116" y="62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466120" y="6400800"/>
                <a:ext cx="46440" cy="43200"/>
              </a:xfrm>
              <a:custGeom>
                <a:avLst/>
                <a:gdLst/>
                <a:ahLst/>
                <a:rect l="0" t="0" r="r" b="b"/>
                <a:pathLst>
                  <a:path w="129" h="120">
                    <a:moveTo>
                      <a:pt x="62" y="0"/>
                    </a:moveTo>
                    <a:lnTo>
                      <a:pt x="0" y="62"/>
                    </a:lnTo>
                    <a:lnTo>
                      <a:pt x="62" y="120"/>
                    </a:lnTo>
                    <a:lnTo>
                      <a:pt x="129" y="6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569440" y="6400800"/>
                <a:ext cx="41760" cy="43200"/>
              </a:xfrm>
              <a:custGeom>
                <a:avLst/>
                <a:gdLst/>
                <a:ahLst/>
                <a:rect l="0" t="0" r="r" b="b"/>
                <a:pathLst>
                  <a:path w="116" h="120">
                    <a:moveTo>
                      <a:pt x="58" y="0"/>
                    </a:moveTo>
                    <a:lnTo>
                      <a:pt x="0" y="62"/>
                    </a:lnTo>
                    <a:lnTo>
                      <a:pt x="58" y="120"/>
                    </a:lnTo>
                    <a:lnTo>
                      <a:pt x="116" y="62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670960" y="6400800"/>
                <a:ext cx="44640" cy="43200"/>
              </a:xfrm>
              <a:custGeom>
                <a:avLst/>
                <a:gdLst/>
                <a:ahLst/>
                <a:rect l="0" t="0" r="r" b="b"/>
                <a:pathLst>
                  <a:path w="124" h="120">
                    <a:moveTo>
                      <a:pt x="61" y="0"/>
                    </a:moveTo>
                    <a:lnTo>
                      <a:pt x="0" y="62"/>
                    </a:lnTo>
                    <a:lnTo>
                      <a:pt x="61" y="120"/>
                    </a:lnTo>
                    <a:lnTo>
                      <a:pt x="124" y="62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772480" y="6400800"/>
                <a:ext cx="39960" cy="43200"/>
              </a:xfrm>
              <a:custGeom>
                <a:avLst/>
                <a:gdLst/>
                <a:ahLst/>
                <a:rect l="0" t="0" r="r" b="b"/>
                <a:pathLst>
                  <a:path w="111" h="120">
                    <a:moveTo>
                      <a:pt x="62" y="0"/>
                    </a:moveTo>
                    <a:lnTo>
                      <a:pt x="0" y="62"/>
                    </a:lnTo>
                    <a:lnTo>
                      <a:pt x="62" y="120"/>
                    </a:lnTo>
                    <a:lnTo>
                      <a:pt x="111" y="6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869320" y="640080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33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"/>
            <p:cNvGrpSpPr/>
            <p:nvPr/>
          </p:nvGrpSpPr>
          <p:grpSpPr>
            <a:xfrm>
              <a:off x="5873760" y="5986440"/>
              <a:ext cx="858960" cy="859320"/>
              <a:chOff x="5873760" y="5986440"/>
              <a:chExt cx="858960" cy="859320"/>
            </a:xfrm>
          </p:grpSpPr>
          <p:sp>
            <p:nvSpPr>
              <p:cNvPr id="39" name=""/>
              <p:cNvSpPr/>
              <p:nvPr/>
            </p:nvSpPr>
            <p:spPr>
              <a:xfrm>
                <a:off x="5916600" y="6326280"/>
                <a:ext cx="475200" cy="476640"/>
              </a:xfrm>
              <a:custGeom>
                <a:avLst/>
                <a:gdLst/>
                <a:ahLst/>
                <a:rect l="0" t="0" r="r" b="b"/>
                <a:pathLst>
                  <a:path w="1320" h="1324">
                    <a:moveTo>
                      <a:pt x="119" y="0"/>
                    </a:moveTo>
                    <a:lnTo>
                      <a:pt x="0" y="119"/>
                    </a:lnTo>
                    <a:lnTo>
                      <a:pt x="1201" y="1324"/>
                    </a:lnTo>
                    <a:lnTo>
                      <a:pt x="1320" y="1205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9b355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956200" y="6284880"/>
                <a:ext cx="475200" cy="478080"/>
              </a:xfrm>
              <a:custGeom>
                <a:avLst/>
                <a:gdLst/>
                <a:ahLst/>
                <a:rect l="0" t="0" r="r" b="b"/>
                <a:pathLst>
                  <a:path w="1320" h="1328">
                    <a:moveTo>
                      <a:pt x="0" y="123"/>
                    </a:moveTo>
                    <a:lnTo>
                      <a:pt x="119" y="0"/>
                    </a:lnTo>
                    <a:lnTo>
                      <a:pt x="1320" y="1204"/>
                    </a:lnTo>
                    <a:lnTo>
                      <a:pt x="1197" y="13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90406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992920" y="6243480"/>
                <a:ext cx="475200" cy="476640"/>
              </a:xfrm>
              <a:custGeom>
                <a:avLst/>
                <a:gdLst/>
                <a:ahLst/>
                <a:rect l="0" t="0" r="r" b="b"/>
                <a:pathLst>
                  <a:path w="1320" h="1324">
                    <a:moveTo>
                      <a:pt x="0" y="119"/>
                    </a:moveTo>
                    <a:lnTo>
                      <a:pt x="123" y="0"/>
                    </a:lnTo>
                    <a:lnTo>
                      <a:pt x="1320" y="1205"/>
                    </a:lnTo>
                    <a:lnTo>
                      <a:pt x="1201" y="1324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854b7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041880" y="6194520"/>
                <a:ext cx="473400" cy="478080"/>
              </a:xfrm>
              <a:custGeom>
                <a:avLst/>
                <a:gdLst/>
                <a:ahLst/>
                <a:rect l="0" t="0" r="r" b="b"/>
                <a:pathLst>
                  <a:path w="1315" h="1328">
                    <a:moveTo>
                      <a:pt x="0" y="123"/>
                    </a:moveTo>
                    <a:lnTo>
                      <a:pt x="119" y="0"/>
                    </a:lnTo>
                    <a:lnTo>
                      <a:pt x="1315" y="1209"/>
                    </a:lnTo>
                    <a:lnTo>
                      <a:pt x="1196" y="13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7a557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033960" y="6205680"/>
                <a:ext cx="475200" cy="475200"/>
              </a:xfrm>
              <a:custGeom>
                <a:avLst/>
                <a:gdLst/>
                <a:ahLst/>
                <a:rect l="0" t="0" r="r" b="b"/>
                <a:pathLst>
                  <a:path w="1320" h="1320">
                    <a:moveTo>
                      <a:pt x="0" y="119"/>
                    </a:moveTo>
                    <a:lnTo>
                      <a:pt x="119" y="0"/>
                    </a:lnTo>
                    <a:lnTo>
                      <a:pt x="1320" y="1197"/>
                    </a:lnTo>
                    <a:lnTo>
                      <a:pt x="1197" y="1320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6f608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75360" y="6161040"/>
                <a:ext cx="476640" cy="475200"/>
              </a:xfrm>
              <a:custGeom>
                <a:avLst/>
                <a:gdLst/>
                <a:ahLst/>
                <a:rect l="0" t="0" r="r" b="b"/>
                <a:pathLst>
                  <a:path w="1324" h="1320">
                    <a:moveTo>
                      <a:pt x="0" y="119"/>
                    </a:moveTo>
                    <a:lnTo>
                      <a:pt x="123" y="0"/>
                    </a:lnTo>
                    <a:lnTo>
                      <a:pt x="1324" y="1201"/>
                    </a:lnTo>
                    <a:lnTo>
                      <a:pt x="1205" y="1320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636b9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119640" y="6116760"/>
                <a:ext cx="476640" cy="475200"/>
              </a:xfrm>
              <a:custGeom>
                <a:avLst/>
                <a:gdLst/>
                <a:ahLst/>
                <a:rect l="0" t="0" r="r" b="b"/>
                <a:pathLst>
                  <a:path w="1324" h="1320">
                    <a:moveTo>
                      <a:pt x="0" y="123"/>
                    </a:moveTo>
                    <a:lnTo>
                      <a:pt x="119" y="0"/>
                    </a:lnTo>
                    <a:lnTo>
                      <a:pt x="1324" y="1197"/>
                    </a:lnTo>
                    <a:lnTo>
                      <a:pt x="1201" y="132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5876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162840" y="6072120"/>
                <a:ext cx="476640" cy="476640"/>
              </a:xfrm>
              <a:custGeom>
                <a:avLst/>
                <a:gdLst/>
                <a:ahLst/>
                <a:rect l="0" t="0" r="r" b="b"/>
                <a:pathLst>
                  <a:path w="1324" h="1324">
                    <a:moveTo>
                      <a:pt x="0" y="123"/>
                    </a:moveTo>
                    <a:lnTo>
                      <a:pt x="119" y="0"/>
                    </a:lnTo>
                    <a:lnTo>
                      <a:pt x="1324" y="1205"/>
                    </a:lnTo>
                    <a:lnTo>
                      <a:pt x="1205" y="1324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4d80a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205680" y="6031080"/>
                <a:ext cx="478080" cy="476640"/>
              </a:xfrm>
              <a:custGeom>
                <a:avLst/>
                <a:gdLst/>
                <a:ahLst/>
                <a:rect l="0" t="0" r="r" b="b"/>
                <a:pathLst>
                  <a:path w="1328" h="1324">
                    <a:moveTo>
                      <a:pt x="0" y="119"/>
                    </a:moveTo>
                    <a:lnTo>
                      <a:pt x="123" y="0"/>
                    </a:lnTo>
                    <a:lnTo>
                      <a:pt x="1328" y="1205"/>
                    </a:lnTo>
                    <a:lnTo>
                      <a:pt x="1204" y="1324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428bb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248520" y="5986440"/>
                <a:ext cx="475200" cy="476640"/>
              </a:xfrm>
              <a:custGeom>
                <a:avLst/>
                <a:gdLst/>
                <a:ahLst/>
                <a:rect l="0" t="0" r="r" b="b"/>
                <a:pathLst>
                  <a:path w="1320" h="1324">
                    <a:moveTo>
                      <a:pt x="0" y="119"/>
                    </a:moveTo>
                    <a:lnTo>
                      <a:pt x="119" y="0"/>
                    </a:lnTo>
                    <a:lnTo>
                      <a:pt x="1320" y="1201"/>
                    </a:lnTo>
                    <a:lnTo>
                      <a:pt x="1201" y="1324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3796c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97480" y="5986440"/>
                <a:ext cx="435240" cy="4366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 txBox="1"/>
              <p:nvPr/>
            </p:nvSpPr>
            <p:spPr>
              <a:xfrm>
                <a:off x="6534000" y="6445080"/>
                <a:ext cx="17784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®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73760" y="6369120"/>
                <a:ext cx="475200" cy="476640"/>
              </a:xfrm>
              <a:custGeom>
                <a:avLst/>
                <a:gdLst/>
                <a:ahLst/>
                <a:rect l="0" t="0" r="r" b="b"/>
                <a:pathLst>
                  <a:path w="1320" h="1324">
                    <a:moveTo>
                      <a:pt x="119" y="0"/>
                    </a:moveTo>
                    <a:lnTo>
                      <a:pt x="0" y="119"/>
                    </a:lnTo>
                    <a:lnTo>
                      <a:pt x="1201" y="1324"/>
                    </a:lnTo>
                    <a:lnTo>
                      <a:pt x="1320" y="1205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9b355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188040" y="6408720"/>
                <a:ext cx="424080" cy="163800"/>
              </a:xfrm>
              <a:custGeom>
                <a:avLst/>
                <a:gdLst/>
                <a:ahLst/>
                <a:rect l="0" t="0" r="r" b="b"/>
                <a:pathLst>
                  <a:path w="1178" h="455">
                    <a:moveTo>
                      <a:pt x="0" y="0"/>
                    </a:moveTo>
                    <a:lnTo>
                      <a:pt x="1178" y="0"/>
                    </a:lnTo>
                    <a:lnTo>
                      <a:pt x="1178" y="22"/>
                    </a:lnTo>
                    <a:lnTo>
                      <a:pt x="1046" y="52"/>
                    </a:lnTo>
                    <a:lnTo>
                      <a:pt x="927" y="110"/>
                    </a:lnTo>
                    <a:lnTo>
                      <a:pt x="834" y="167"/>
                    </a:lnTo>
                    <a:lnTo>
                      <a:pt x="750" y="239"/>
                    </a:lnTo>
                    <a:lnTo>
                      <a:pt x="680" y="318"/>
                    </a:lnTo>
                    <a:lnTo>
                      <a:pt x="631" y="393"/>
                    </a:lnTo>
                    <a:lnTo>
                      <a:pt x="609" y="455"/>
                    </a:lnTo>
                    <a:lnTo>
                      <a:pt x="573" y="455"/>
                    </a:lnTo>
                    <a:lnTo>
                      <a:pt x="555" y="393"/>
                    </a:lnTo>
                    <a:lnTo>
                      <a:pt x="515" y="318"/>
                    </a:lnTo>
                    <a:lnTo>
                      <a:pt x="410" y="194"/>
                    </a:lnTo>
                    <a:lnTo>
                      <a:pt x="299" y="119"/>
                    </a:lnTo>
                    <a:lnTo>
                      <a:pt x="202" y="70"/>
                    </a:lnTo>
                    <a:lnTo>
                      <a:pt x="70" y="39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27840" y="6245280"/>
                <a:ext cx="376560" cy="346320"/>
              </a:xfrm>
              <a:custGeom>
                <a:avLst/>
                <a:gdLst/>
                <a:ahLst/>
                <a:rect l="0" t="0" r="r" b="b"/>
                <a:pathLst>
                  <a:path w="1046" h="962">
                    <a:moveTo>
                      <a:pt x="1019" y="0"/>
                    </a:moveTo>
                    <a:lnTo>
                      <a:pt x="321" y="0"/>
                    </a:lnTo>
                    <a:lnTo>
                      <a:pt x="242" y="44"/>
                    </a:lnTo>
                    <a:lnTo>
                      <a:pt x="171" y="97"/>
                    </a:lnTo>
                    <a:lnTo>
                      <a:pt x="110" y="163"/>
                    </a:lnTo>
                    <a:lnTo>
                      <a:pt x="66" y="229"/>
                    </a:lnTo>
                    <a:lnTo>
                      <a:pt x="39" y="295"/>
                    </a:lnTo>
                    <a:lnTo>
                      <a:pt x="13" y="374"/>
                    </a:lnTo>
                    <a:lnTo>
                      <a:pt x="4" y="445"/>
                    </a:lnTo>
                    <a:lnTo>
                      <a:pt x="0" y="538"/>
                    </a:lnTo>
                    <a:lnTo>
                      <a:pt x="4" y="631"/>
                    </a:lnTo>
                    <a:lnTo>
                      <a:pt x="39" y="733"/>
                    </a:lnTo>
                    <a:lnTo>
                      <a:pt x="88" y="807"/>
                    </a:lnTo>
                    <a:lnTo>
                      <a:pt x="154" y="874"/>
                    </a:lnTo>
                    <a:lnTo>
                      <a:pt x="216" y="927"/>
                    </a:lnTo>
                    <a:lnTo>
                      <a:pt x="299" y="962"/>
                    </a:lnTo>
                    <a:lnTo>
                      <a:pt x="1046" y="962"/>
                    </a:lnTo>
                    <a:lnTo>
                      <a:pt x="1046" y="949"/>
                    </a:lnTo>
                    <a:lnTo>
                      <a:pt x="671" y="949"/>
                    </a:lnTo>
                    <a:lnTo>
                      <a:pt x="618" y="927"/>
                    </a:lnTo>
                    <a:lnTo>
                      <a:pt x="556" y="887"/>
                    </a:lnTo>
                    <a:lnTo>
                      <a:pt x="485" y="843"/>
                    </a:lnTo>
                    <a:lnTo>
                      <a:pt x="432" y="785"/>
                    </a:lnTo>
                    <a:lnTo>
                      <a:pt x="392" y="724"/>
                    </a:lnTo>
                    <a:lnTo>
                      <a:pt x="361" y="644"/>
                    </a:lnTo>
                    <a:lnTo>
                      <a:pt x="348" y="565"/>
                    </a:lnTo>
                    <a:lnTo>
                      <a:pt x="339" y="471"/>
                    </a:lnTo>
                    <a:lnTo>
                      <a:pt x="352" y="366"/>
                    </a:lnTo>
                    <a:lnTo>
                      <a:pt x="383" y="264"/>
                    </a:lnTo>
                    <a:lnTo>
                      <a:pt x="445" y="176"/>
                    </a:lnTo>
                    <a:lnTo>
                      <a:pt x="520" y="110"/>
                    </a:lnTo>
                    <a:lnTo>
                      <a:pt x="596" y="66"/>
                    </a:lnTo>
                    <a:lnTo>
                      <a:pt x="741" y="35"/>
                    </a:lnTo>
                    <a:lnTo>
                      <a:pt x="860" y="35"/>
                    </a:lnTo>
                    <a:lnTo>
                      <a:pt x="949" y="66"/>
                    </a:lnTo>
                    <a:lnTo>
                      <a:pt x="1019" y="119"/>
                    </a:lnTo>
                    <a:lnTo>
                      <a:pt x="10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0120" y="316080"/>
            <a:ext cx="7756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338640" y="3021120"/>
            <a:ext cx="245268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49200" y="1712880"/>
            <a:ext cx="852156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th a properly configured PC, Genigraphics brings multimedia effects like Digital Sound &amp; Digital Video to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00120" y="237960"/>
            <a:ext cx="7756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73160" y="5199120"/>
            <a:ext cx="6675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we’ll show you just how easy it 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44480" y="3371760"/>
            <a:ext cx="2395440" cy="1353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039000" y="3600360"/>
            <a:ext cx="1633680" cy="968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562200" y="3486240"/>
            <a:ext cx="1727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00120" y="237960"/>
            <a:ext cx="7756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91960" y="1636560"/>
            <a:ext cx="8559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ust send your VHS, SVHS or 8mm video tape to Geni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59120" y="2952720"/>
            <a:ext cx="2998800" cy="1695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44600" y="4875120"/>
            <a:ext cx="8559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will convert those to a Windows compatible .avi file and return to you on disks or CD R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590400" y="2857680"/>
            <a:ext cx="7772400" cy="24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Genigraphic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help unleash the power of multimedia &amp;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owerPoint 95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 your next presen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-800-790-4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19200" y="485640"/>
            <a:ext cx="7756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rom Geni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869080" y="4495680"/>
            <a:ext cx="239544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3de8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0"/>
            <a:ext cx="9144360" cy="6845400"/>
            <a:chOff x="0" y="0"/>
            <a:chExt cx="9144360" cy="6845400"/>
          </a:xfrm>
        </p:grpSpPr>
        <p:grpSp>
          <p:nvGrpSpPr>
            <p:cNvPr id="182" name=""/>
            <p:cNvGrpSpPr/>
            <p:nvPr/>
          </p:nvGrpSpPr>
          <p:grpSpPr>
            <a:xfrm>
              <a:off x="0" y="0"/>
              <a:ext cx="9144360" cy="6845400"/>
              <a:chOff x="0" y="0"/>
              <a:chExt cx="9144360" cy="684540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4952880"/>
                <a:ext cx="9144360" cy="1892520"/>
              </a:xfrm>
              <a:custGeom>
                <a:avLst/>
                <a:gdLst/>
                <a:ahLst/>
                <a:rect l="0" t="0" r="r" b="b"/>
                <a:pathLst>
                  <a:path w="25401" h="5257">
                    <a:moveTo>
                      <a:pt x="25401" y="0"/>
                    </a:moveTo>
                    <a:lnTo>
                      <a:pt x="0" y="5257"/>
                    </a:lnTo>
                    <a:lnTo>
                      <a:pt x="25365" y="5257"/>
                    </a:lnTo>
                    <a:lnTo>
                      <a:pt x="2540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6819840"/>
                <a:ext cx="9131400" cy="25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0"/>
                <a:ext cx="5334480" cy="4800960"/>
              </a:xfrm>
              <a:custGeom>
                <a:avLst/>
                <a:gdLst/>
                <a:ahLst/>
                <a:rect l="0" t="0" r="r" b="b"/>
                <a:pathLst>
                  <a:path w="14818" h="13336">
                    <a:moveTo>
                      <a:pt x="0" y="13336"/>
                    </a:moveTo>
                    <a:lnTo>
                      <a:pt x="14818" y="0"/>
                    </a:lnTo>
                    <a:lnTo>
                      <a:pt x="0" y="0"/>
                    </a:lnTo>
                    <a:lnTo>
                      <a:pt x="0" y="133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262080" y="117360"/>
              <a:ext cx="8669160" cy="123336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760" y="65160"/>
              <a:ext cx="8760240" cy="63720"/>
            </a:xfrm>
            <a:custGeom>
              <a:avLst/>
              <a:gdLst/>
              <a:ahLst/>
              <a:rect l="0" t="0" r="r" b="b"/>
              <a:pathLst>
                <a:path w="24334" h="177">
                  <a:moveTo>
                    <a:pt x="97" y="146"/>
                  </a:moveTo>
                  <a:lnTo>
                    <a:pt x="0" y="4"/>
                  </a:lnTo>
                  <a:lnTo>
                    <a:pt x="24334" y="0"/>
                  </a:lnTo>
                  <a:lnTo>
                    <a:pt x="24242" y="177"/>
                  </a:lnTo>
                  <a:lnTo>
                    <a:pt x="97" y="146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0680" y="1366920"/>
              <a:ext cx="8741160" cy="70200"/>
            </a:xfrm>
            <a:custGeom>
              <a:avLst/>
              <a:gdLst/>
              <a:ahLst/>
              <a:rect l="0" t="0" r="r" b="b"/>
              <a:pathLst>
                <a:path w="24281" h="195">
                  <a:moveTo>
                    <a:pt x="97" y="8"/>
                  </a:moveTo>
                  <a:lnTo>
                    <a:pt x="0" y="186"/>
                  </a:lnTo>
                  <a:lnTo>
                    <a:pt x="24281" y="195"/>
                  </a:lnTo>
                  <a:lnTo>
                    <a:pt x="24220" y="0"/>
                  </a:lnTo>
                  <a:lnTo>
                    <a:pt x="97" y="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60" y="65160"/>
              <a:ext cx="52920" cy="1381320"/>
            </a:xfrm>
            <a:custGeom>
              <a:avLst/>
              <a:gdLst/>
              <a:ahLst/>
              <a:rect l="0" t="0" r="r" b="b"/>
              <a:pathLst>
                <a:path w="147" h="3837">
                  <a:moveTo>
                    <a:pt x="0" y="0"/>
                  </a:moveTo>
                  <a:lnTo>
                    <a:pt x="143" y="198"/>
                  </a:lnTo>
                  <a:lnTo>
                    <a:pt x="147" y="3564"/>
                  </a:lnTo>
                  <a:lnTo>
                    <a:pt x="0" y="38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934480" y="74520"/>
              <a:ext cx="38520" cy="1373400"/>
            </a:xfrm>
            <a:custGeom>
              <a:avLst/>
              <a:gdLst/>
              <a:ahLst/>
              <a:rect l="0" t="0" r="r" b="b"/>
              <a:pathLst>
                <a:path w="107" h="3815">
                  <a:moveTo>
                    <a:pt x="107" y="0"/>
                  </a:moveTo>
                  <a:lnTo>
                    <a:pt x="0" y="167"/>
                  </a:lnTo>
                  <a:lnTo>
                    <a:pt x="0" y="3581"/>
                  </a:lnTo>
                  <a:lnTo>
                    <a:pt x="107" y="381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"/>
          <p:cNvSpPr txBox="1"/>
          <p:nvPr/>
        </p:nvSpPr>
        <p:spPr>
          <a:xfrm>
            <a:off x="514440" y="1904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hone in Your Next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360" y="1638360"/>
            <a:ext cx="830592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’s no mystery to good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8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8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Let Genigraphics &amp; In Focus Systems partner with you in your next presentation.  Congratulations on solving this mystery. You’ll receive 3 pieces of animated clipart, fre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8000"/>
              </a:lnSpc>
              <a:spcBef>
                <a:spcPts val="720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8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ust call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-800-790-4001 </a:t>
            </a: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 register with the Genigraphic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ZARD inside PowerPoint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14240" y="5619600"/>
            <a:ext cx="805176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8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ll now and get 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EE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nimated cli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910120" y="3924360"/>
            <a:ext cx="824040" cy="819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988320" y="3981600"/>
            <a:ext cx="1027080" cy="792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562800" y="4809960"/>
            <a:ext cx="793800" cy="790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3228840" y="6462720"/>
            <a:ext cx="2305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18ffd"/>
                </a:solidFill>
                <a:latin typeface="Arial"/>
                <a:ea typeface="Arial"/>
              </a:rPr>
              <a:t>Click here to conti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00120" y="237960"/>
            <a:ext cx="7756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49200" y="1770120"/>
            <a:ext cx="8559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you think Digital Video is out of reach...  just wat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35440" y="3371760"/>
            <a:ext cx="29988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00120" y="237960"/>
            <a:ext cx="7756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16000" y="3103560"/>
            <a:ext cx="5683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py the .avi to your hard disk an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llow these instructio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59120" y="4000680"/>
            <a:ext cx="2998800" cy="1695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1581120"/>
            <a:ext cx="91440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0120" y="237960"/>
            <a:ext cx="7756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9120" y="5345280"/>
            <a:ext cx="1969920" cy="1112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235400" y="4970520"/>
            <a:ext cx="3722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ect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rt -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1581120"/>
            <a:ext cx="9144000" cy="1297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573200" y="1805040"/>
            <a:ext cx="23162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00120" y="237960"/>
            <a:ext cx="7756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44600" y="5656320"/>
            <a:ext cx="47610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ect  a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vie C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press the Inser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581120"/>
            <a:ext cx="9144000" cy="1297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5520" y="123840"/>
            <a:ext cx="88455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0120" y="237960"/>
            <a:ext cx="7756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502240" y="3220920"/>
            <a:ext cx="363996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ect the inserted movie and selec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ols - Animation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581120"/>
            <a:ext cx="9144000" cy="1297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814480" y="1785960"/>
            <a:ext cx="25192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00120" y="237960"/>
            <a:ext cx="7756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072040" y="2981160"/>
            <a:ext cx="34844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dialog box will ap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094360" y="4254480"/>
            <a:ext cx="28972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trigger its playback select… and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581120"/>
            <a:ext cx="9144000" cy="1297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90360" y="2212920"/>
            <a:ext cx="4906800" cy="4452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>
            <a:off x="1989000" y="5433840"/>
            <a:ext cx="3146400" cy="72252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297320" y="5853240"/>
            <a:ext cx="852480" cy="27468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0120" y="237960"/>
            <a:ext cx="7756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581120"/>
            <a:ext cx="9144000" cy="1297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09440" y="2211480"/>
            <a:ext cx="4906800" cy="4435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5398920" y="3692520"/>
            <a:ext cx="368136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oose th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d to Start your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vie and select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943280" y="3219480"/>
            <a:ext cx="3524040" cy="62856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6672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20"/>
              </a:spcBef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’ve been using slides and overhead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a long tim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 presentations just get lost in the crow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you regain the edge over your competit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0120" y="237960"/>
            <a:ext cx="7756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d Dunzer</dc:creator>
  <dc:description/>
  <dc:language>en-US</dc:language>
  <cp:lastModifiedBy>Brad Dunzer</cp:lastModifiedBy>
  <cp:revision>0</cp:revision>
  <dc:subject/>
  <dc:title>No Slide Title</dc:title>
</cp:coreProperties>
</file>