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371600" y="0"/>
            <a:ext cx="45720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96633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419720" y="533520"/>
            <a:ext cx="1981080" cy="7621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457200"/>
            <a:ext cx="6097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ll About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Artbeat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Tex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81080" y="243828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is presentation is designed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 help you learn about textures,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d how to use them in Power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you like great backgrounds and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ecial effects, you’ll also want to learn about a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special offer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rom Artbeats, developers of the textures found in PowerPoin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614960" cy="6878880"/>
          </a:xfrm>
          <a:custGeom>
            <a:avLst/>
            <a:gdLst/>
            <a:ahLst/>
            <a:rect l="0" t="0" r="r" b="b"/>
            <a:pathLst>
              <a:path w="4486" h="19108">
                <a:moveTo>
                  <a:pt x="0" y="0"/>
                </a:moveTo>
                <a:lnTo>
                  <a:pt x="4235" y="0"/>
                </a:lnTo>
                <a:lnTo>
                  <a:pt x="4301" y="101"/>
                </a:lnTo>
                <a:lnTo>
                  <a:pt x="4301" y="238"/>
                </a:lnTo>
                <a:lnTo>
                  <a:pt x="4301" y="429"/>
                </a:lnTo>
                <a:lnTo>
                  <a:pt x="4301" y="614"/>
                </a:lnTo>
                <a:lnTo>
                  <a:pt x="4301" y="800"/>
                </a:lnTo>
                <a:lnTo>
                  <a:pt x="4301" y="937"/>
                </a:lnTo>
                <a:lnTo>
                  <a:pt x="4447" y="1486"/>
                </a:lnTo>
                <a:lnTo>
                  <a:pt x="4447" y="1698"/>
                </a:lnTo>
                <a:lnTo>
                  <a:pt x="4447" y="2335"/>
                </a:lnTo>
                <a:lnTo>
                  <a:pt x="4301" y="2614"/>
                </a:lnTo>
                <a:lnTo>
                  <a:pt x="4235" y="3185"/>
                </a:lnTo>
                <a:lnTo>
                  <a:pt x="4301" y="3733"/>
                </a:lnTo>
                <a:lnTo>
                  <a:pt x="4301" y="4012"/>
                </a:lnTo>
                <a:lnTo>
                  <a:pt x="4142" y="4499"/>
                </a:lnTo>
                <a:lnTo>
                  <a:pt x="4257" y="5410"/>
                </a:lnTo>
                <a:lnTo>
                  <a:pt x="4407" y="6742"/>
                </a:lnTo>
                <a:lnTo>
                  <a:pt x="4314" y="6981"/>
                </a:lnTo>
                <a:lnTo>
                  <a:pt x="4257" y="7180"/>
                </a:lnTo>
                <a:lnTo>
                  <a:pt x="4257" y="7644"/>
                </a:lnTo>
                <a:lnTo>
                  <a:pt x="4257" y="7927"/>
                </a:lnTo>
                <a:lnTo>
                  <a:pt x="4301" y="8064"/>
                </a:lnTo>
                <a:lnTo>
                  <a:pt x="4394" y="8436"/>
                </a:lnTo>
                <a:lnTo>
                  <a:pt x="4442" y="8715"/>
                </a:lnTo>
                <a:lnTo>
                  <a:pt x="4486" y="8856"/>
                </a:lnTo>
                <a:lnTo>
                  <a:pt x="4486" y="9228"/>
                </a:lnTo>
                <a:lnTo>
                  <a:pt x="4486" y="9414"/>
                </a:lnTo>
                <a:lnTo>
                  <a:pt x="4486" y="9605"/>
                </a:lnTo>
                <a:lnTo>
                  <a:pt x="4442" y="9977"/>
                </a:lnTo>
                <a:lnTo>
                  <a:pt x="4394" y="10255"/>
                </a:lnTo>
                <a:lnTo>
                  <a:pt x="4394" y="10534"/>
                </a:lnTo>
                <a:lnTo>
                  <a:pt x="4301" y="10676"/>
                </a:lnTo>
                <a:lnTo>
                  <a:pt x="4257" y="10954"/>
                </a:lnTo>
                <a:lnTo>
                  <a:pt x="4208" y="11092"/>
                </a:lnTo>
                <a:lnTo>
                  <a:pt x="4208" y="11468"/>
                </a:lnTo>
                <a:lnTo>
                  <a:pt x="4208" y="11605"/>
                </a:lnTo>
                <a:lnTo>
                  <a:pt x="4208" y="11976"/>
                </a:lnTo>
                <a:lnTo>
                  <a:pt x="4208" y="12259"/>
                </a:lnTo>
                <a:lnTo>
                  <a:pt x="4208" y="12631"/>
                </a:lnTo>
                <a:lnTo>
                  <a:pt x="4257" y="12910"/>
                </a:lnTo>
                <a:lnTo>
                  <a:pt x="4257" y="13096"/>
                </a:lnTo>
                <a:lnTo>
                  <a:pt x="4257" y="13467"/>
                </a:lnTo>
                <a:lnTo>
                  <a:pt x="4257" y="13653"/>
                </a:lnTo>
                <a:lnTo>
                  <a:pt x="4257" y="13936"/>
                </a:lnTo>
                <a:lnTo>
                  <a:pt x="4208" y="14259"/>
                </a:lnTo>
                <a:lnTo>
                  <a:pt x="4164" y="14445"/>
                </a:lnTo>
                <a:lnTo>
                  <a:pt x="4116" y="14772"/>
                </a:lnTo>
                <a:lnTo>
                  <a:pt x="4072" y="14958"/>
                </a:lnTo>
                <a:lnTo>
                  <a:pt x="4072" y="15330"/>
                </a:lnTo>
                <a:lnTo>
                  <a:pt x="4072" y="15706"/>
                </a:lnTo>
                <a:lnTo>
                  <a:pt x="4072" y="16029"/>
                </a:lnTo>
                <a:lnTo>
                  <a:pt x="4072" y="16312"/>
                </a:lnTo>
                <a:lnTo>
                  <a:pt x="4116" y="16449"/>
                </a:lnTo>
                <a:lnTo>
                  <a:pt x="4208" y="16591"/>
                </a:lnTo>
                <a:lnTo>
                  <a:pt x="4208" y="16728"/>
                </a:lnTo>
                <a:lnTo>
                  <a:pt x="4208" y="16914"/>
                </a:lnTo>
                <a:lnTo>
                  <a:pt x="4208" y="17055"/>
                </a:lnTo>
                <a:lnTo>
                  <a:pt x="4208" y="17197"/>
                </a:lnTo>
                <a:lnTo>
                  <a:pt x="4208" y="17382"/>
                </a:lnTo>
                <a:lnTo>
                  <a:pt x="4164" y="17520"/>
                </a:lnTo>
                <a:lnTo>
                  <a:pt x="4116" y="17661"/>
                </a:lnTo>
                <a:lnTo>
                  <a:pt x="4023" y="17798"/>
                </a:lnTo>
                <a:lnTo>
                  <a:pt x="4023" y="17896"/>
                </a:lnTo>
                <a:lnTo>
                  <a:pt x="3979" y="18033"/>
                </a:lnTo>
                <a:lnTo>
                  <a:pt x="3979" y="18219"/>
                </a:lnTo>
                <a:lnTo>
                  <a:pt x="3979" y="18404"/>
                </a:lnTo>
                <a:lnTo>
                  <a:pt x="3979" y="18732"/>
                </a:lnTo>
                <a:lnTo>
                  <a:pt x="4023" y="18873"/>
                </a:lnTo>
                <a:lnTo>
                  <a:pt x="4116" y="19010"/>
                </a:lnTo>
                <a:lnTo>
                  <a:pt x="4116" y="19108"/>
                </a:lnTo>
                <a:lnTo>
                  <a:pt x="4023" y="19108"/>
                </a:lnTo>
                <a:lnTo>
                  <a:pt x="0" y="1910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tile tx="0" ty="0" sx="533175" sy="53317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3160" y="419040"/>
            <a:ext cx="1731600" cy="1714680"/>
            <a:chOff x="173160" y="419040"/>
            <a:chExt cx="1731600" cy="1714680"/>
          </a:xfrm>
        </p:grpSpPr>
        <p:sp>
          <p:nvSpPr>
            <p:cNvPr id="46" name=""/>
            <p:cNvSpPr/>
            <p:nvPr/>
          </p:nvSpPr>
          <p:spPr>
            <a:xfrm>
              <a:off x="311040" y="565200"/>
              <a:ext cx="1593720" cy="156852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3160" y="419040"/>
              <a:ext cx="1592280" cy="1568520"/>
            </a:xfrm>
            <a:prstGeom prst="rect">
              <a:avLst/>
            </a:prstGeom>
            <a:blipFill rotWithShape="0">
              <a:blip r:embed="rId2"/>
              <a:tile tx="0" ty="0" sx="533175" sy="533175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477120" y="0"/>
            <a:ext cx="2665800" cy="2972160"/>
            <a:chOff x="6477120" y="0"/>
            <a:chExt cx="2665800" cy="2972160"/>
          </a:xfrm>
        </p:grpSpPr>
        <p:sp>
          <p:nvSpPr>
            <p:cNvPr id="49" name=""/>
            <p:cNvSpPr/>
            <p:nvPr/>
          </p:nvSpPr>
          <p:spPr>
            <a:xfrm>
              <a:off x="6477120" y="1600200"/>
              <a:ext cx="2591280" cy="1371960"/>
            </a:xfrm>
            <a:custGeom>
              <a:avLst/>
              <a:gdLst/>
              <a:ahLst/>
              <a:rect l="0" t="0" r="r" b="b"/>
              <a:pathLst>
                <a:path w="7198" h="3811">
                  <a:moveTo>
                    <a:pt x="5928" y="0"/>
                  </a:moveTo>
                  <a:lnTo>
                    <a:pt x="0" y="2329"/>
                  </a:lnTo>
                  <a:lnTo>
                    <a:pt x="52" y="2483"/>
                  </a:lnTo>
                  <a:lnTo>
                    <a:pt x="4869" y="3811"/>
                  </a:lnTo>
                  <a:lnTo>
                    <a:pt x="7198" y="211"/>
                  </a:lnTo>
                  <a:lnTo>
                    <a:pt x="592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77120" y="0"/>
              <a:ext cx="2665800" cy="2895840"/>
            </a:xfrm>
            <a:custGeom>
              <a:avLst/>
              <a:gdLst/>
              <a:ahLst/>
              <a:rect l="0" t="0" r="r" b="b"/>
              <a:pathLst>
                <a:path w="7405" h="8044">
                  <a:moveTo>
                    <a:pt x="4869" y="8044"/>
                  </a:moveTo>
                  <a:lnTo>
                    <a:pt x="0" y="6139"/>
                  </a:lnTo>
                  <a:lnTo>
                    <a:pt x="2117" y="0"/>
                  </a:lnTo>
                  <a:lnTo>
                    <a:pt x="7405" y="0"/>
                  </a:lnTo>
                  <a:lnTo>
                    <a:pt x="7405" y="2116"/>
                  </a:lnTo>
                  <a:lnTo>
                    <a:pt x="4869" y="8044"/>
                  </a:lnTo>
                  <a:close/>
                </a:path>
              </a:pathLst>
            </a:custGeom>
            <a:blipFill rotWithShape="0">
              <a:blip r:embed="rId3"/>
              <a:tile tx="0" ty="0" sx="533175" sy="53317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533175" sy="53317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95640" cy="6878880"/>
          </a:xfrm>
          <a:custGeom>
            <a:avLst/>
            <a:gdLst/>
            <a:ahLst/>
            <a:rect l="0" t="0" r="r" b="b"/>
            <a:pathLst>
              <a:path w="3599" h="19108">
                <a:moveTo>
                  <a:pt x="0" y="0"/>
                </a:moveTo>
                <a:lnTo>
                  <a:pt x="3397" y="0"/>
                </a:lnTo>
                <a:lnTo>
                  <a:pt x="3450" y="101"/>
                </a:lnTo>
                <a:lnTo>
                  <a:pt x="3450" y="238"/>
                </a:lnTo>
                <a:lnTo>
                  <a:pt x="3450" y="429"/>
                </a:lnTo>
                <a:lnTo>
                  <a:pt x="3450" y="614"/>
                </a:lnTo>
                <a:lnTo>
                  <a:pt x="3450" y="800"/>
                </a:lnTo>
                <a:lnTo>
                  <a:pt x="3450" y="937"/>
                </a:lnTo>
                <a:lnTo>
                  <a:pt x="3567" y="1486"/>
                </a:lnTo>
                <a:lnTo>
                  <a:pt x="3567" y="1698"/>
                </a:lnTo>
                <a:lnTo>
                  <a:pt x="3567" y="2335"/>
                </a:lnTo>
                <a:lnTo>
                  <a:pt x="3450" y="2614"/>
                </a:lnTo>
                <a:lnTo>
                  <a:pt x="3397" y="3185"/>
                </a:lnTo>
                <a:lnTo>
                  <a:pt x="3450" y="3733"/>
                </a:lnTo>
                <a:lnTo>
                  <a:pt x="3450" y="4012"/>
                </a:lnTo>
                <a:lnTo>
                  <a:pt x="3323" y="4499"/>
                </a:lnTo>
                <a:lnTo>
                  <a:pt x="3415" y="5410"/>
                </a:lnTo>
                <a:lnTo>
                  <a:pt x="3535" y="6742"/>
                </a:lnTo>
                <a:lnTo>
                  <a:pt x="3461" y="6981"/>
                </a:lnTo>
                <a:lnTo>
                  <a:pt x="3415" y="7180"/>
                </a:lnTo>
                <a:lnTo>
                  <a:pt x="3415" y="7644"/>
                </a:lnTo>
                <a:lnTo>
                  <a:pt x="3415" y="7927"/>
                </a:lnTo>
                <a:lnTo>
                  <a:pt x="3450" y="8064"/>
                </a:lnTo>
                <a:lnTo>
                  <a:pt x="3525" y="8436"/>
                </a:lnTo>
                <a:lnTo>
                  <a:pt x="3563" y="8715"/>
                </a:lnTo>
                <a:lnTo>
                  <a:pt x="3599" y="8856"/>
                </a:lnTo>
                <a:lnTo>
                  <a:pt x="3599" y="9228"/>
                </a:lnTo>
                <a:lnTo>
                  <a:pt x="3599" y="9414"/>
                </a:lnTo>
                <a:lnTo>
                  <a:pt x="3599" y="9605"/>
                </a:lnTo>
                <a:lnTo>
                  <a:pt x="3563" y="9977"/>
                </a:lnTo>
                <a:lnTo>
                  <a:pt x="3525" y="10255"/>
                </a:lnTo>
                <a:lnTo>
                  <a:pt x="3525" y="10534"/>
                </a:lnTo>
                <a:lnTo>
                  <a:pt x="3450" y="10676"/>
                </a:lnTo>
                <a:lnTo>
                  <a:pt x="3415" y="10954"/>
                </a:lnTo>
                <a:lnTo>
                  <a:pt x="3376" y="11092"/>
                </a:lnTo>
                <a:lnTo>
                  <a:pt x="3376" y="11468"/>
                </a:lnTo>
                <a:lnTo>
                  <a:pt x="3376" y="11605"/>
                </a:lnTo>
                <a:lnTo>
                  <a:pt x="3376" y="11976"/>
                </a:lnTo>
                <a:lnTo>
                  <a:pt x="3376" y="12259"/>
                </a:lnTo>
                <a:lnTo>
                  <a:pt x="3376" y="12631"/>
                </a:lnTo>
                <a:lnTo>
                  <a:pt x="3415" y="12910"/>
                </a:lnTo>
                <a:lnTo>
                  <a:pt x="3415" y="13096"/>
                </a:lnTo>
                <a:lnTo>
                  <a:pt x="3415" y="13467"/>
                </a:lnTo>
                <a:lnTo>
                  <a:pt x="3415" y="13653"/>
                </a:lnTo>
                <a:lnTo>
                  <a:pt x="3415" y="13936"/>
                </a:lnTo>
                <a:lnTo>
                  <a:pt x="3376" y="14259"/>
                </a:lnTo>
                <a:lnTo>
                  <a:pt x="3341" y="14445"/>
                </a:lnTo>
                <a:lnTo>
                  <a:pt x="3302" y="14772"/>
                </a:lnTo>
                <a:lnTo>
                  <a:pt x="3266" y="14958"/>
                </a:lnTo>
                <a:lnTo>
                  <a:pt x="3266" y="15330"/>
                </a:lnTo>
                <a:lnTo>
                  <a:pt x="3266" y="15706"/>
                </a:lnTo>
                <a:lnTo>
                  <a:pt x="3266" y="16029"/>
                </a:lnTo>
                <a:lnTo>
                  <a:pt x="3266" y="16312"/>
                </a:lnTo>
                <a:lnTo>
                  <a:pt x="3302" y="16449"/>
                </a:lnTo>
                <a:lnTo>
                  <a:pt x="3376" y="16591"/>
                </a:lnTo>
                <a:lnTo>
                  <a:pt x="3376" y="16728"/>
                </a:lnTo>
                <a:lnTo>
                  <a:pt x="3376" y="16914"/>
                </a:lnTo>
                <a:lnTo>
                  <a:pt x="3376" y="17055"/>
                </a:lnTo>
                <a:lnTo>
                  <a:pt x="3376" y="17197"/>
                </a:lnTo>
                <a:lnTo>
                  <a:pt x="3376" y="17382"/>
                </a:lnTo>
                <a:lnTo>
                  <a:pt x="3341" y="17520"/>
                </a:lnTo>
                <a:lnTo>
                  <a:pt x="3302" y="17661"/>
                </a:lnTo>
                <a:lnTo>
                  <a:pt x="3227" y="17798"/>
                </a:lnTo>
                <a:lnTo>
                  <a:pt x="3227" y="17896"/>
                </a:lnTo>
                <a:lnTo>
                  <a:pt x="3192" y="18033"/>
                </a:lnTo>
                <a:lnTo>
                  <a:pt x="3192" y="18219"/>
                </a:lnTo>
                <a:lnTo>
                  <a:pt x="3192" y="18404"/>
                </a:lnTo>
                <a:lnTo>
                  <a:pt x="3192" y="18732"/>
                </a:lnTo>
                <a:lnTo>
                  <a:pt x="3227" y="18873"/>
                </a:lnTo>
                <a:lnTo>
                  <a:pt x="3302" y="19010"/>
                </a:lnTo>
                <a:lnTo>
                  <a:pt x="3302" y="19108"/>
                </a:lnTo>
                <a:lnTo>
                  <a:pt x="3227" y="19108"/>
                </a:lnTo>
                <a:lnTo>
                  <a:pt x="0" y="1910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tile tx="0" ty="0" sx="533175" sy="53317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905120"/>
            <a:ext cx="4419720" cy="42670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743200"/>
            <a:ext cx="5869080" cy="1523880"/>
          </a:xfrm>
          <a:prstGeom prst="rect">
            <a:avLst/>
          </a:prstGeom>
          <a:solidFill>
            <a:srgbClr val="cccccc"/>
          </a:solidFill>
          <a:ln w="12600">
            <a:solidFill>
              <a:srgbClr val="77777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828800" y="762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What Are</a:t>
            </a:r>
            <a:r>
              <a:rPr b="0" lang="en-US" sz="44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666633"/>
                </a:solidFill>
                <a:latin typeface="Arial"/>
                <a:ea typeface="Arial"/>
              </a:rPr>
              <a:t>Textur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38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1080"/>
              </a:spcBef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Textures are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  <a:ea typeface="Arial"/>
              </a:rPr>
              <a:t>seamless</a:t>
            </a:r>
            <a:r>
              <a:rPr b="0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images that can be repeated </a:t>
            </a:r>
            <a:br>
              <a:rPr sz="3200"/>
            </a:br>
            <a:r>
              <a:rPr b="0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cross </a:t>
            </a:r>
            <a:br>
              <a:rPr sz="3200"/>
            </a:br>
            <a:r>
              <a:rPr b="0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n area </a:t>
            </a:r>
            <a:br>
              <a:rPr sz="3200"/>
            </a:br>
            <a:r>
              <a:rPr b="0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to create a textured fil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80"/>
              </a:spcBef>
            </a:pPr>
            <a:r>
              <a:rPr b="0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They produce nice effects and keep your document size 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  <a:ea typeface="Arial"/>
              </a:rPr>
              <a:t>small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2640" y="2819520"/>
            <a:ext cx="5716440" cy="1371600"/>
          </a:xfrm>
          <a:prstGeom prst="rect">
            <a:avLst/>
          </a:prstGeom>
          <a:blipFill rotWithShape="0">
            <a:blip r:embed="rId3"/>
            <a:tile tx="0" ty="0" sx="533175" sy="53317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2819520"/>
            <a:ext cx="0" cy="1371600"/>
          </a:xfrm>
          <a:prstGeom prst="line">
            <a:avLst/>
          </a:prstGeom>
          <a:ln w="381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2819520"/>
            <a:ext cx="0" cy="1371600"/>
          </a:xfrm>
          <a:prstGeom prst="line">
            <a:avLst/>
          </a:prstGeom>
          <a:ln w="381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2819520"/>
            <a:ext cx="0" cy="1371600"/>
          </a:xfrm>
          <a:prstGeom prst="line">
            <a:avLst/>
          </a:prstGeom>
          <a:ln w="381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66680" y="0"/>
            <a:ext cx="8075520" cy="6856560"/>
          </a:xfrm>
          <a:prstGeom prst="rect">
            <a:avLst/>
          </a:prstGeom>
          <a:solidFill>
            <a:srgbClr val="00996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3429000"/>
            <a:ext cx="4875120" cy="3427560"/>
          </a:xfrm>
          <a:prstGeom prst="rect">
            <a:avLst/>
          </a:prstGeom>
          <a:blipFill rotWithShape="0">
            <a:blip r:embed="rId1"/>
            <a:tile tx="0" ty="0" sx="533175" sy="53317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0"/>
            <a:ext cx="45720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66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600200" y="228600"/>
            <a:ext cx="7161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Using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extures in 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1143000"/>
            <a:ext cx="2438280" cy="5257800"/>
          </a:xfrm>
          <a:prstGeom prst="rect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627960" y="1143000"/>
            <a:ext cx="251460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839"/>
              </a:spcBef>
              <a:spcAft>
                <a:spcPts val="1080"/>
              </a:spcAf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elect an object, then use the Fill options to select “Textured”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croll through 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he patterns </a:t>
            </a:r>
            <a:br>
              <a:rPr sz="2800"/>
            </a:b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or use the “Other...’ button to add m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1295640" cy="6878880"/>
          </a:xfrm>
          <a:custGeom>
            <a:avLst/>
            <a:gdLst/>
            <a:ahLst/>
            <a:rect l="0" t="0" r="r" b="b"/>
            <a:pathLst>
              <a:path w="3599" h="19108">
                <a:moveTo>
                  <a:pt x="0" y="0"/>
                </a:moveTo>
                <a:lnTo>
                  <a:pt x="3397" y="0"/>
                </a:lnTo>
                <a:lnTo>
                  <a:pt x="3450" y="101"/>
                </a:lnTo>
                <a:lnTo>
                  <a:pt x="3450" y="238"/>
                </a:lnTo>
                <a:lnTo>
                  <a:pt x="3450" y="429"/>
                </a:lnTo>
                <a:lnTo>
                  <a:pt x="3450" y="614"/>
                </a:lnTo>
                <a:lnTo>
                  <a:pt x="3450" y="800"/>
                </a:lnTo>
                <a:lnTo>
                  <a:pt x="3450" y="937"/>
                </a:lnTo>
                <a:lnTo>
                  <a:pt x="3567" y="1486"/>
                </a:lnTo>
                <a:lnTo>
                  <a:pt x="3567" y="1698"/>
                </a:lnTo>
                <a:lnTo>
                  <a:pt x="3567" y="2335"/>
                </a:lnTo>
                <a:lnTo>
                  <a:pt x="3450" y="2614"/>
                </a:lnTo>
                <a:lnTo>
                  <a:pt x="3397" y="3185"/>
                </a:lnTo>
                <a:lnTo>
                  <a:pt x="3450" y="3733"/>
                </a:lnTo>
                <a:lnTo>
                  <a:pt x="3450" y="4012"/>
                </a:lnTo>
                <a:lnTo>
                  <a:pt x="3323" y="4499"/>
                </a:lnTo>
                <a:lnTo>
                  <a:pt x="3415" y="5410"/>
                </a:lnTo>
                <a:lnTo>
                  <a:pt x="3535" y="6742"/>
                </a:lnTo>
                <a:lnTo>
                  <a:pt x="3461" y="6981"/>
                </a:lnTo>
                <a:lnTo>
                  <a:pt x="3415" y="7180"/>
                </a:lnTo>
                <a:lnTo>
                  <a:pt x="3415" y="7644"/>
                </a:lnTo>
                <a:lnTo>
                  <a:pt x="3415" y="7927"/>
                </a:lnTo>
                <a:lnTo>
                  <a:pt x="3450" y="8064"/>
                </a:lnTo>
                <a:lnTo>
                  <a:pt x="3525" y="8436"/>
                </a:lnTo>
                <a:lnTo>
                  <a:pt x="3563" y="8715"/>
                </a:lnTo>
                <a:lnTo>
                  <a:pt x="3599" y="8856"/>
                </a:lnTo>
                <a:lnTo>
                  <a:pt x="3599" y="9228"/>
                </a:lnTo>
                <a:lnTo>
                  <a:pt x="3599" y="9414"/>
                </a:lnTo>
                <a:lnTo>
                  <a:pt x="3599" y="9605"/>
                </a:lnTo>
                <a:lnTo>
                  <a:pt x="3563" y="9977"/>
                </a:lnTo>
                <a:lnTo>
                  <a:pt x="3525" y="10255"/>
                </a:lnTo>
                <a:lnTo>
                  <a:pt x="3525" y="10534"/>
                </a:lnTo>
                <a:lnTo>
                  <a:pt x="3450" y="10676"/>
                </a:lnTo>
                <a:lnTo>
                  <a:pt x="3415" y="10954"/>
                </a:lnTo>
                <a:lnTo>
                  <a:pt x="3376" y="11092"/>
                </a:lnTo>
                <a:lnTo>
                  <a:pt x="3376" y="11468"/>
                </a:lnTo>
                <a:lnTo>
                  <a:pt x="3376" y="11605"/>
                </a:lnTo>
                <a:lnTo>
                  <a:pt x="3376" y="11976"/>
                </a:lnTo>
                <a:lnTo>
                  <a:pt x="3376" y="12259"/>
                </a:lnTo>
                <a:lnTo>
                  <a:pt x="3376" y="12631"/>
                </a:lnTo>
                <a:lnTo>
                  <a:pt x="3415" y="12910"/>
                </a:lnTo>
                <a:lnTo>
                  <a:pt x="3415" y="13096"/>
                </a:lnTo>
                <a:lnTo>
                  <a:pt x="3415" y="13467"/>
                </a:lnTo>
                <a:lnTo>
                  <a:pt x="3415" y="13653"/>
                </a:lnTo>
                <a:lnTo>
                  <a:pt x="3415" y="13936"/>
                </a:lnTo>
                <a:lnTo>
                  <a:pt x="3376" y="14259"/>
                </a:lnTo>
                <a:lnTo>
                  <a:pt x="3341" y="14445"/>
                </a:lnTo>
                <a:lnTo>
                  <a:pt x="3302" y="14772"/>
                </a:lnTo>
                <a:lnTo>
                  <a:pt x="3266" y="14958"/>
                </a:lnTo>
                <a:lnTo>
                  <a:pt x="3266" y="15330"/>
                </a:lnTo>
                <a:lnTo>
                  <a:pt x="3266" y="15706"/>
                </a:lnTo>
                <a:lnTo>
                  <a:pt x="3266" y="16029"/>
                </a:lnTo>
                <a:lnTo>
                  <a:pt x="3266" y="16312"/>
                </a:lnTo>
                <a:lnTo>
                  <a:pt x="3302" y="16449"/>
                </a:lnTo>
                <a:lnTo>
                  <a:pt x="3376" y="16591"/>
                </a:lnTo>
                <a:lnTo>
                  <a:pt x="3376" y="16728"/>
                </a:lnTo>
                <a:lnTo>
                  <a:pt x="3376" y="16914"/>
                </a:lnTo>
                <a:lnTo>
                  <a:pt x="3376" y="17055"/>
                </a:lnTo>
                <a:lnTo>
                  <a:pt x="3376" y="17197"/>
                </a:lnTo>
                <a:lnTo>
                  <a:pt x="3376" y="17382"/>
                </a:lnTo>
                <a:lnTo>
                  <a:pt x="3341" y="17520"/>
                </a:lnTo>
                <a:lnTo>
                  <a:pt x="3302" y="17661"/>
                </a:lnTo>
                <a:lnTo>
                  <a:pt x="3227" y="17798"/>
                </a:lnTo>
                <a:lnTo>
                  <a:pt x="3227" y="17896"/>
                </a:lnTo>
                <a:lnTo>
                  <a:pt x="3192" y="18033"/>
                </a:lnTo>
                <a:lnTo>
                  <a:pt x="3192" y="18219"/>
                </a:lnTo>
                <a:lnTo>
                  <a:pt x="3192" y="18404"/>
                </a:lnTo>
                <a:lnTo>
                  <a:pt x="3192" y="18732"/>
                </a:lnTo>
                <a:lnTo>
                  <a:pt x="3227" y="18873"/>
                </a:lnTo>
                <a:lnTo>
                  <a:pt x="3302" y="19010"/>
                </a:lnTo>
                <a:lnTo>
                  <a:pt x="3302" y="19108"/>
                </a:lnTo>
                <a:lnTo>
                  <a:pt x="3227" y="19108"/>
                </a:lnTo>
                <a:lnTo>
                  <a:pt x="0" y="1910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tile tx="0" ty="0" sx="533175" sy="53317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31800" y="1758960"/>
            <a:ext cx="1343160" cy="3228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6320" y="1758960"/>
            <a:ext cx="468360" cy="1413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1963800"/>
            <a:ext cx="609480" cy="609480"/>
          </a:xfrm>
          <a:prstGeom prst="ellipse">
            <a:avLst/>
          </a:prstGeom>
          <a:noFill/>
          <a:ln w="38160">
            <a:solidFill>
              <a:srgbClr val="ffff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033640" y="1758960"/>
            <a:ext cx="46116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533175" sy="53317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5486400"/>
            <a:ext cx="2438280" cy="1370160"/>
          </a:xfrm>
          <a:prstGeom prst="rect">
            <a:avLst/>
          </a:prstGeom>
          <a:solidFill>
            <a:srgbClr val="99ffff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5120" y="533520"/>
            <a:ext cx="7161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How About </a:t>
            </a:r>
            <a:r>
              <a:rPr b="1" lang="en-US" sz="4400" spc="-1" strike="noStrike">
                <a:solidFill>
                  <a:srgbClr val="6666ff"/>
                </a:solidFill>
                <a:latin typeface="Arial"/>
                <a:ea typeface="Arial"/>
              </a:rPr>
              <a:t>125 More</a:t>
            </a:r>
            <a:r>
              <a:rPr b="0" lang="en-US" sz="4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1295640" cy="6878880"/>
          </a:xfrm>
          <a:custGeom>
            <a:avLst/>
            <a:gdLst/>
            <a:ahLst/>
            <a:rect l="0" t="0" r="r" b="b"/>
            <a:pathLst>
              <a:path w="3599" h="19108">
                <a:moveTo>
                  <a:pt x="0" y="0"/>
                </a:moveTo>
                <a:lnTo>
                  <a:pt x="3397" y="0"/>
                </a:lnTo>
                <a:lnTo>
                  <a:pt x="3450" y="101"/>
                </a:lnTo>
                <a:lnTo>
                  <a:pt x="3450" y="238"/>
                </a:lnTo>
                <a:lnTo>
                  <a:pt x="3450" y="429"/>
                </a:lnTo>
                <a:lnTo>
                  <a:pt x="3450" y="614"/>
                </a:lnTo>
                <a:lnTo>
                  <a:pt x="3450" y="800"/>
                </a:lnTo>
                <a:lnTo>
                  <a:pt x="3450" y="937"/>
                </a:lnTo>
                <a:lnTo>
                  <a:pt x="3567" y="1486"/>
                </a:lnTo>
                <a:lnTo>
                  <a:pt x="3567" y="1698"/>
                </a:lnTo>
                <a:lnTo>
                  <a:pt x="3567" y="2335"/>
                </a:lnTo>
                <a:lnTo>
                  <a:pt x="3450" y="2614"/>
                </a:lnTo>
                <a:lnTo>
                  <a:pt x="3397" y="3185"/>
                </a:lnTo>
                <a:lnTo>
                  <a:pt x="3450" y="3733"/>
                </a:lnTo>
                <a:lnTo>
                  <a:pt x="3450" y="4012"/>
                </a:lnTo>
                <a:lnTo>
                  <a:pt x="3323" y="4499"/>
                </a:lnTo>
                <a:lnTo>
                  <a:pt x="3415" y="5410"/>
                </a:lnTo>
                <a:lnTo>
                  <a:pt x="3535" y="6742"/>
                </a:lnTo>
                <a:lnTo>
                  <a:pt x="3461" y="6981"/>
                </a:lnTo>
                <a:lnTo>
                  <a:pt x="3415" y="7180"/>
                </a:lnTo>
                <a:lnTo>
                  <a:pt x="3415" y="7644"/>
                </a:lnTo>
                <a:lnTo>
                  <a:pt x="3415" y="7927"/>
                </a:lnTo>
                <a:lnTo>
                  <a:pt x="3450" y="8064"/>
                </a:lnTo>
                <a:lnTo>
                  <a:pt x="3525" y="8436"/>
                </a:lnTo>
                <a:lnTo>
                  <a:pt x="3563" y="8715"/>
                </a:lnTo>
                <a:lnTo>
                  <a:pt x="3599" y="8856"/>
                </a:lnTo>
                <a:lnTo>
                  <a:pt x="3599" y="9228"/>
                </a:lnTo>
                <a:lnTo>
                  <a:pt x="3599" y="9414"/>
                </a:lnTo>
                <a:lnTo>
                  <a:pt x="3599" y="9605"/>
                </a:lnTo>
                <a:lnTo>
                  <a:pt x="3563" y="9977"/>
                </a:lnTo>
                <a:lnTo>
                  <a:pt x="3525" y="10255"/>
                </a:lnTo>
                <a:lnTo>
                  <a:pt x="3525" y="10534"/>
                </a:lnTo>
                <a:lnTo>
                  <a:pt x="3450" y="10676"/>
                </a:lnTo>
                <a:lnTo>
                  <a:pt x="3415" y="10954"/>
                </a:lnTo>
                <a:lnTo>
                  <a:pt x="3376" y="11092"/>
                </a:lnTo>
                <a:lnTo>
                  <a:pt x="3376" y="11468"/>
                </a:lnTo>
                <a:lnTo>
                  <a:pt x="3376" y="11605"/>
                </a:lnTo>
                <a:lnTo>
                  <a:pt x="3376" y="11976"/>
                </a:lnTo>
                <a:lnTo>
                  <a:pt x="3376" y="12259"/>
                </a:lnTo>
                <a:lnTo>
                  <a:pt x="3376" y="12631"/>
                </a:lnTo>
                <a:lnTo>
                  <a:pt x="3415" y="12910"/>
                </a:lnTo>
                <a:lnTo>
                  <a:pt x="3415" y="13096"/>
                </a:lnTo>
                <a:lnTo>
                  <a:pt x="3415" y="13467"/>
                </a:lnTo>
                <a:lnTo>
                  <a:pt x="3415" y="13653"/>
                </a:lnTo>
                <a:lnTo>
                  <a:pt x="3415" y="13936"/>
                </a:lnTo>
                <a:lnTo>
                  <a:pt x="3376" y="14259"/>
                </a:lnTo>
                <a:lnTo>
                  <a:pt x="3341" y="14445"/>
                </a:lnTo>
                <a:lnTo>
                  <a:pt x="3302" y="14772"/>
                </a:lnTo>
                <a:lnTo>
                  <a:pt x="3266" y="14958"/>
                </a:lnTo>
                <a:lnTo>
                  <a:pt x="3266" y="15330"/>
                </a:lnTo>
                <a:lnTo>
                  <a:pt x="3266" y="15706"/>
                </a:lnTo>
                <a:lnTo>
                  <a:pt x="3266" y="16029"/>
                </a:lnTo>
                <a:lnTo>
                  <a:pt x="3266" y="16312"/>
                </a:lnTo>
                <a:lnTo>
                  <a:pt x="3302" y="16449"/>
                </a:lnTo>
                <a:lnTo>
                  <a:pt x="3376" y="16591"/>
                </a:lnTo>
                <a:lnTo>
                  <a:pt x="3376" y="16728"/>
                </a:lnTo>
                <a:lnTo>
                  <a:pt x="3376" y="16914"/>
                </a:lnTo>
                <a:lnTo>
                  <a:pt x="3376" y="17055"/>
                </a:lnTo>
                <a:lnTo>
                  <a:pt x="3376" y="17197"/>
                </a:lnTo>
                <a:lnTo>
                  <a:pt x="3376" y="17382"/>
                </a:lnTo>
                <a:lnTo>
                  <a:pt x="3341" y="17520"/>
                </a:lnTo>
                <a:lnTo>
                  <a:pt x="3302" y="17661"/>
                </a:lnTo>
                <a:lnTo>
                  <a:pt x="3227" y="17798"/>
                </a:lnTo>
                <a:lnTo>
                  <a:pt x="3227" y="17896"/>
                </a:lnTo>
                <a:lnTo>
                  <a:pt x="3192" y="18033"/>
                </a:lnTo>
                <a:lnTo>
                  <a:pt x="3192" y="18219"/>
                </a:lnTo>
                <a:lnTo>
                  <a:pt x="3192" y="18404"/>
                </a:lnTo>
                <a:lnTo>
                  <a:pt x="3192" y="18732"/>
                </a:lnTo>
                <a:lnTo>
                  <a:pt x="3227" y="18873"/>
                </a:lnTo>
                <a:lnTo>
                  <a:pt x="3302" y="19010"/>
                </a:lnTo>
                <a:lnTo>
                  <a:pt x="3302" y="19108"/>
                </a:lnTo>
                <a:lnTo>
                  <a:pt x="3227" y="19108"/>
                </a:lnTo>
                <a:lnTo>
                  <a:pt x="0" y="1910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tile tx="0" ty="0" sx="533175" sy="53317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752480"/>
            <a:ext cx="8763120" cy="228600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523880" y="1981080"/>
            <a:ext cx="7161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  <a:spcAft>
                <a:spcPts val="720"/>
              </a:spcAft>
            </a:pPr>
            <a:r>
              <a:rPr b="0" lang="en-US" sz="32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Artbeats is proud to announce their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  <a:ea typeface="Arial"/>
              </a:rPr>
              <a:t>TextureTiles</a:t>
            </a:r>
            <a:r>
              <a:rPr b="0" lang="en-US" sz="32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collection: </a:t>
            </a:r>
            <a:br>
              <a:rPr sz="3200"/>
            </a:br>
            <a:r>
              <a:rPr b="0" lang="en-US" sz="32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125 of their hottest tiles,</a:t>
            </a:r>
            <a:br>
              <a:rPr sz="1800"/>
            </a:br>
            <a:r>
              <a:rPr b="0" lang="en-US" sz="32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optimized for use with 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2560" indent="792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Your presentations can now include any of 125 stunning marble, granite, wood, paper, marbled paper and other multimedia effects, for</a:t>
            </a:r>
            <a:r>
              <a:rPr b="0" lang="en-US" sz="28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6666ff"/>
                </a:solidFill>
                <a:latin typeface="Arial"/>
                <a:ea typeface="Arial"/>
              </a:rPr>
              <a:t>only $19.95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26720" y="621720"/>
            <a:ext cx="2080800" cy="3063960"/>
            <a:chOff x="126720" y="621720"/>
            <a:chExt cx="2080800" cy="3063960"/>
          </a:xfrm>
        </p:grpSpPr>
        <p:sp>
          <p:nvSpPr>
            <p:cNvPr id="82" name=""/>
            <p:cNvSpPr/>
            <p:nvPr/>
          </p:nvSpPr>
          <p:spPr>
            <a:xfrm>
              <a:off x="163440" y="621720"/>
              <a:ext cx="2032560" cy="1957320"/>
            </a:xfrm>
            <a:custGeom>
              <a:avLst/>
              <a:gdLst/>
              <a:ahLst/>
              <a:rect l="0" t="0" r="r" b="b"/>
              <a:pathLst>
                <a:path w="5646" h="5437">
                  <a:moveTo>
                    <a:pt x="3253" y="5437"/>
                  </a:moveTo>
                  <a:lnTo>
                    <a:pt x="5646" y="2271"/>
                  </a:lnTo>
                  <a:lnTo>
                    <a:pt x="2392" y="0"/>
                  </a:lnTo>
                  <a:lnTo>
                    <a:pt x="0" y="3165"/>
                  </a:lnTo>
                  <a:lnTo>
                    <a:pt x="3253" y="5437"/>
                  </a:lnTo>
                  <a:close/>
                </a:path>
              </a:pathLst>
            </a:custGeom>
            <a:blipFill rotWithShape="0">
              <a:blip r:embed="rId3"/>
              <a:tile tx="0" ty="0" sx="533175" sy="53317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4800" y="1221480"/>
              <a:ext cx="2052720" cy="1976760"/>
            </a:xfrm>
            <a:custGeom>
              <a:avLst/>
              <a:gdLst/>
              <a:ahLst/>
              <a:rect l="0" t="0" r="r" b="b"/>
              <a:pathLst>
                <a:path w="5702" h="5491">
                  <a:moveTo>
                    <a:pt x="2658" y="5491"/>
                  </a:moveTo>
                  <a:lnTo>
                    <a:pt x="5702" y="2945"/>
                  </a:lnTo>
                  <a:lnTo>
                    <a:pt x="3043" y="0"/>
                  </a:lnTo>
                  <a:lnTo>
                    <a:pt x="0" y="2546"/>
                  </a:lnTo>
                  <a:lnTo>
                    <a:pt x="2658" y="5491"/>
                  </a:lnTo>
                  <a:close/>
                </a:path>
              </a:pathLst>
            </a:custGeom>
            <a:blipFill rotWithShape="0">
              <a:blip r:embed="rId4"/>
              <a:tile tx="0" ty="0" sx="533175" sy="53317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6720" y="1801080"/>
              <a:ext cx="1956960" cy="1884600"/>
            </a:xfrm>
            <a:custGeom>
              <a:avLst/>
              <a:gdLst/>
              <a:ahLst/>
              <a:rect l="0" t="0" r="r" b="b"/>
              <a:pathLst>
                <a:path w="5436" h="5235">
                  <a:moveTo>
                    <a:pt x="1867" y="5235"/>
                  </a:moveTo>
                  <a:lnTo>
                    <a:pt x="5436" y="3501"/>
                  </a:lnTo>
                  <a:lnTo>
                    <a:pt x="3568" y="0"/>
                  </a:lnTo>
                  <a:lnTo>
                    <a:pt x="0" y="1734"/>
                  </a:lnTo>
                  <a:lnTo>
                    <a:pt x="1867" y="5235"/>
                  </a:lnTo>
                  <a:close/>
                </a:path>
              </a:pathLst>
            </a:custGeom>
            <a:blipFill rotWithShape="0">
              <a:blip r:embed="rId5"/>
              <a:tile tx="0" ty="0" sx="533175" sy="533175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533175" sy="53317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95680" y="457200"/>
            <a:ext cx="3429000" cy="685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1676520"/>
            <a:ext cx="6172200" cy="4191120"/>
          </a:xfrm>
          <a:prstGeom prst="rect">
            <a:avLst/>
          </a:prstGeom>
          <a:solidFill>
            <a:srgbClr val="cccccc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71600" y="304920"/>
            <a:ext cx="7161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o Order Texture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46680" y="1676520"/>
            <a:ext cx="1600200" cy="895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1828800"/>
            <a:ext cx="7161120" cy="196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tbeat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800 - 444 - 939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503 - 863 - 442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429000" y="4267080"/>
            <a:ext cx="38862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beats Software In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Box 70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rtle Creek, OR  974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503-863-45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1295640" cy="6878880"/>
          </a:xfrm>
          <a:custGeom>
            <a:avLst/>
            <a:gdLst/>
            <a:ahLst/>
            <a:rect l="0" t="0" r="r" b="b"/>
            <a:pathLst>
              <a:path w="3599" h="19108">
                <a:moveTo>
                  <a:pt x="0" y="0"/>
                </a:moveTo>
                <a:lnTo>
                  <a:pt x="3397" y="0"/>
                </a:lnTo>
                <a:lnTo>
                  <a:pt x="3450" y="101"/>
                </a:lnTo>
                <a:lnTo>
                  <a:pt x="3450" y="238"/>
                </a:lnTo>
                <a:lnTo>
                  <a:pt x="3450" y="429"/>
                </a:lnTo>
                <a:lnTo>
                  <a:pt x="3450" y="614"/>
                </a:lnTo>
                <a:lnTo>
                  <a:pt x="3450" y="800"/>
                </a:lnTo>
                <a:lnTo>
                  <a:pt x="3450" y="937"/>
                </a:lnTo>
                <a:lnTo>
                  <a:pt x="3567" y="1486"/>
                </a:lnTo>
                <a:lnTo>
                  <a:pt x="3567" y="1698"/>
                </a:lnTo>
                <a:lnTo>
                  <a:pt x="3567" y="2335"/>
                </a:lnTo>
                <a:lnTo>
                  <a:pt x="3450" y="2614"/>
                </a:lnTo>
                <a:lnTo>
                  <a:pt x="3397" y="3185"/>
                </a:lnTo>
                <a:lnTo>
                  <a:pt x="3450" y="3733"/>
                </a:lnTo>
                <a:lnTo>
                  <a:pt x="3450" y="4012"/>
                </a:lnTo>
                <a:lnTo>
                  <a:pt x="3323" y="4499"/>
                </a:lnTo>
                <a:lnTo>
                  <a:pt x="3415" y="5410"/>
                </a:lnTo>
                <a:lnTo>
                  <a:pt x="3535" y="6742"/>
                </a:lnTo>
                <a:lnTo>
                  <a:pt x="3461" y="6981"/>
                </a:lnTo>
                <a:lnTo>
                  <a:pt x="3415" y="7180"/>
                </a:lnTo>
                <a:lnTo>
                  <a:pt x="3415" y="7644"/>
                </a:lnTo>
                <a:lnTo>
                  <a:pt x="3415" y="7927"/>
                </a:lnTo>
                <a:lnTo>
                  <a:pt x="3450" y="8064"/>
                </a:lnTo>
                <a:lnTo>
                  <a:pt x="3525" y="8436"/>
                </a:lnTo>
                <a:lnTo>
                  <a:pt x="3563" y="8715"/>
                </a:lnTo>
                <a:lnTo>
                  <a:pt x="3599" y="8856"/>
                </a:lnTo>
                <a:lnTo>
                  <a:pt x="3599" y="9228"/>
                </a:lnTo>
                <a:lnTo>
                  <a:pt x="3599" y="9414"/>
                </a:lnTo>
                <a:lnTo>
                  <a:pt x="3599" y="9605"/>
                </a:lnTo>
                <a:lnTo>
                  <a:pt x="3563" y="9977"/>
                </a:lnTo>
                <a:lnTo>
                  <a:pt x="3525" y="10255"/>
                </a:lnTo>
                <a:lnTo>
                  <a:pt x="3525" y="10534"/>
                </a:lnTo>
                <a:lnTo>
                  <a:pt x="3450" y="10676"/>
                </a:lnTo>
                <a:lnTo>
                  <a:pt x="3415" y="10954"/>
                </a:lnTo>
                <a:lnTo>
                  <a:pt x="3376" y="11092"/>
                </a:lnTo>
                <a:lnTo>
                  <a:pt x="3376" y="11468"/>
                </a:lnTo>
                <a:lnTo>
                  <a:pt x="3376" y="11605"/>
                </a:lnTo>
                <a:lnTo>
                  <a:pt x="3376" y="11976"/>
                </a:lnTo>
                <a:lnTo>
                  <a:pt x="3376" y="12259"/>
                </a:lnTo>
                <a:lnTo>
                  <a:pt x="3376" y="12631"/>
                </a:lnTo>
                <a:lnTo>
                  <a:pt x="3415" y="12910"/>
                </a:lnTo>
                <a:lnTo>
                  <a:pt x="3415" y="13096"/>
                </a:lnTo>
                <a:lnTo>
                  <a:pt x="3415" y="13467"/>
                </a:lnTo>
                <a:lnTo>
                  <a:pt x="3415" y="13653"/>
                </a:lnTo>
                <a:lnTo>
                  <a:pt x="3415" y="13936"/>
                </a:lnTo>
                <a:lnTo>
                  <a:pt x="3376" y="14259"/>
                </a:lnTo>
                <a:lnTo>
                  <a:pt x="3341" y="14445"/>
                </a:lnTo>
                <a:lnTo>
                  <a:pt x="3302" y="14772"/>
                </a:lnTo>
                <a:lnTo>
                  <a:pt x="3266" y="14958"/>
                </a:lnTo>
                <a:lnTo>
                  <a:pt x="3266" y="15330"/>
                </a:lnTo>
                <a:lnTo>
                  <a:pt x="3266" y="15706"/>
                </a:lnTo>
                <a:lnTo>
                  <a:pt x="3266" y="16029"/>
                </a:lnTo>
                <a:lnTo>
                  <a:pt x="3266" y="16312"/>
                </a:lnTo>
                <a:lnTo>
                  <a:pt x="3302" y="16449"/>
                </a:lnTo>
                <a:lnTo>
                  <a:pt x="3376" y="16591"/>
                </a:lnTo>
                <a:lnTo>
                  <a:pt x="3376" y="16728"/>
                </a:lnTo>
                <a:lnTo>
                  <a:pt x="3376" y="16914"/>
                </a:lnTo>
                <a:lnTo>
                  <a:pt x="3376" y="17055"/>
                </a:lnTo>
                <a:lnTo>
                  <a:pt x="3376" y="17197"/>
                </a:lnTo>
                <a:lnTo>
                  <a:pt x="3376" y="17382"/>
                </a:lnTo>
                <a:lnTo>
                  <a:pt x="3341" y="17520"/>
                </a:lnTo>
                <a:lnTo>
                  <a:pt x="3302" y="17661"/>
                </a:lnTo>
                <a:lnTo>
                  <a:pt x="3227" y="17798"/>
                </a:lnTo>
                <a:lnTo>
                  <a:pt x="3227" y="17896"/>
                </a:lnTo>
                <a:lnTo>
                  <a:pt x="3192" y="18033"/>
                </a:lnTo>
                <a:lnTo>
                  <a:pt x="3192" y="18219"/>
                </a:lnTo>
                <a:lnTo>
                  <a:pt x="3192" y="18404"/>
                </a:lnTo>
                <a:lnTo>
                  <a:pt x="3192" y="18732"/>
                </a:lnTo>
                <a:lnTo>
                  <a:pt x="3227" y="18873"/>
                </a:lnTo>
                <a:lnTo>
                  <a:pt x="3302" y="19010"/>
                </a:lnTo>
                <a:lnTo>
                  <a:pt x="3302" y="19108"/>
                </a:lnTo>
                <a:lnTo>
                  <a:pt x="3227" y="19108"/>
                </a:lnTo>
                <a:lnTo>
                  <a:pt x="0" y="1910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tile tx="0" ty="0" sx="533175" sy="53317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6248520"/>
            <a:ext cx="8532720" cy="457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of the textures used in this presentation are from the TextureTiles Col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nny Kessil, Artbeats</dc:creator>
  <dc:description>This presentation designed byA Bit Better Corporation, Los Altos CA.</dc:description>
  <dc:language>en-US</dc:language>
  <cp:lastModifiedBy>Lenny Kessil, Artbeats</cp:lastModifiedBy>
  <cp:revision>0</cp:revision>
  <dc:subject>TextureTiles Promotion</dc:subject>
  <dc:title>All About Artbeats Textures</dc:title>
</cp:coreProperties>
</file>