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bmp" ContentType="image/bmp"/>
  <Override PartName="/ppt/media/image9.bmp" ContentType="image/bmp"/>
  <Override PartName="/ppt/media/image12.bmp" ContentType="image/bmp"/>
  <Override PartName="/ppt/media/image7.bmp" ContentType="image/bmp"/>
  <Override PartName="/ppt/media/image11.bmp" ContentType="image/bmp"/>
  <Override PartName="/ppt/media/image6.bmp" ContentType="image/bmp"/>
  <Override PartName="/ppt/media/image13.bmp" ContentType="image/bmp"/>
  <Override PartName="/ppt/media/image8.bmp" ContentType="image/bmp"/>
  <Override PartName="/ppt/media/image5.wmf" ContentType="image/x-wmf"/>
  <Override PartName="/ppt/media/image28.wmf" ContentType="image/x-wmf"/>
  <Override PartName="/ppt/media/image4.bmp" ContentType="image/bmp"/>
  <Override PartName="/ppt/media/image27.wmf" ContentType="image/x-wmf"/>
  <Override PartName="/ppt/media/image3.bmp" ContentType="image/bmp"/>
  <Override PartName="/ppt/media/image26.bmp" ContentType="image/bmp"/>
  <Override PartName="/ppt/media/image23.bmp" ContentType="image/bmp"/>
  <Override PartName="/ppt/media/image22.bmp" ContentType="image/bmp"/>
  <Override PartName="/ppt/media/image21.bmp" ContentType="image/bmp"/>
  <Override PartName="/ppt/media/image19.bmp" ContentType="image/bmp"/>
  <Override PartName="/ppt/media/image20.bmp" ContentType="image/bmp"/>
  <Override PartName="/ppt/media/image18.bmp" ContentType="image/bmp"/>
  <Override PartName="/ppt/media/image17.bmp" ContentType="image/bmp"/>
  <Override PartName="/ppt/media/image16.bmp" ContentType="image/bmp"/>
  <Override PartName="/ppt/media/image15.bmp" ContentType="image/bmp"/>
  <Override PartName="/ppt/media/image14.bmp" ContentType="image/bmp"/>
  <Override PartName="/ppt/media/image1.bmp" ContentType="image/bmp"/>
  <Override PartName="/ppt/media/image24.bmp" ContentType="image/bmp"/>
  <Override PartName="/ppt/media/image2.bmp" ContentType="image/bmp"/>
  <Override PartName="/ppt/media/image25.bmp" ContentType="image/bmp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bmp"/><Relationship Id="rId2" Type="http://schemas.openxmlformats.org/officeDocument/2006/relationships/image" Target="../media/image2.bmp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bmp"/><Relationship Id="rId2" Type="http://schemas.openxmlformats.org/officeDocument/2006/relationships/image" Target="../media/image2.bmp"/><Relationship Id="rId3" Type="http://schemas.openxmlformats.org/officeDocument/2006/relationships/image" Target="../media/image2.bmp"/><Relationship Id="rId4" Type="http://schemas.openxmlformats.org/officeDocument/2006/relationships/image" Target="../media/image9.bmp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bmp"/><Relationship Id="rId2" Type="http://schemas.openxmlformats.org/officeDocument/2006/relationships/image" Target="../media/image6.bmp"/><Relationship Id="rId3" Type="http://schemas.openxmlformats.org/officeDocument/2006/relationships/image" Target="../media/image6.bmp"/><Relationship Id="rId4" Type="http://schemas.openxmlformats.org/officeDocument/2006/relationships/image" Target="../media/image9.bmp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bmp"/><Relationship Id="rId2" Type="http://schemas.openxmlformats.org/officeDocument/2006/relationships/image" Target="../media/image19.bmp"/><Relationship Id="rId3" Type="http://schemas.openxmlformats.org/officeDocument/2006/relationships/image" Target="../media/image19.bmp"/><Relationship Id="rId4" Type="http://schemas.openxmlformats.org/officeDocument/2006/relationships/image" Target="../media/image9.bmp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bmp"/><Relationship Id="rId2" Type="http://schemas.openxmlformats.org/officeDocument/2006/relationships/image" Target="../media/image4.bmp"/><Relationship Id="rId3" Type="http://schemas.openxmlformats.org/officeDocument/2006/relationships/image" Target="../media/image4.bmp"/><Relationship Id="rId4" Type="http://schemas.openxmlformats.org/officeDocument/2006/relationships/image" Target="../media/image9.bmp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bmp"/><Relationship Id="rId2" Type="http://schemas.openxmlformats.org/officeDocument/2006/relationships/image" Target="../media/image22.bmp"/><Relationship Id="rId3" Type="http://schemas.openxmlformats.org/officeDocument/2006/relationships/image" Target="../media/image22.bmp"/><Relationship Id="rId4" Type="http://schemas.openxmlformats.org/officeDocument/2006/relationships/image" Target="../media/image9.bmp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bmp"/><Relationship Id="rId2" Type="http://schemas.openxmlformats.org/officeDocument/2006/relationships/image" Target="../media/image24.bmp"/><Relationship Id="rId3" Type="http://schemas.openxmlformats.org/officeDocument/2006/relationships/image" Target="../media/image24.bmp"/><Relationship Id="rId4" Type="http://schemas.openxmlformats.org/officeDocument/2006/relationships/image" Target="../media/image9.bmp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bmp"/><Relationship Id="rId2" Type="http://schemas.openxmlformats.org/officeDocument/2006/relationships/image" Target="../media/image26.bmp"/><Relationship Id="rId3" Type="http://schemas.openxmlformats.org/officeDocument/2006/relationships/image" Target="../media/image26.bmp"/><Relationship Id="rId4" Type="http://schemas.openxmlformats.org/officeDocument/2006/relationships/image" Target="../media/image9.bmp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bmp"/><Relationship Id="rId2" Type="http://schemas.openxmlformats.org/officeDocument/2006/relationships/image" Target="../media/image7.bmp"/><Relationship Id="rId3" Type="http://schemas.openxmlformats.org/officeDocument/2006/relationships/image" Target="../media/image10.bmp"/><Relationship Id="rId4" Type="http://schemas.openxmlformats.org/officeDocument/2006/relationships/image" Target="../media/image12.bmp"/><Relationship Id="rId5" Type="http://schemas.openxmlformats.org/officeDocument/2006/relationships/image" Target="../media/image14.bmp"/><Relationship Id="rId6" Type="http://schemas.openxmlformats.org/officeDocument/2006/relationships/image" Target="../media/image16.bmp"/><Relationship Id="rId7" Type="http://schemas.openxmlformats.org/officeDocument/2006/relationships/image" Target="../media/image1.bmp"/><Relationship Id="rId8" Type="http://schemas.openxmlformats.org/officeDocument/2006/relationships/image" Target="../media/image3.bmp"/><Relationship Id="rId9" Type="http://schemas.openxmlformats.org/officeDocument/2006/relationships/image" Target="../media/image18.bmp"/><Relationship Id="rId10" Type="http://schemas.openxmlformats.org/officeDocument/2006/relationships/image" Target="../media/image20.bmp"/><Relationship Id="rId11" Type="http://schemas.openxmlformats.org/officeDocument/2006/relationships/image" Target="../media/image21.bmp"/><Relationship Id="rId12" Type="http://schemas.openxmlformats.org/officeDocument/2006/relationships/image" Target="../media/image23.bmp"/><Relationship Id="rId13" Type="http://schemas.openxmlformats.org/officeDocument/2006/relationships/image" Target="../media/image25.bmp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bmp"/><Relationship Id="rId2" Type="http://schemas.openxmlformats.org/officeDocument/2006/relationships/image" Target="../media/image8.bmp"/><Relationship Id="rId3" Type="http://schemas.openxmlformats.org/officeDocument/2006/relationships/image" Target="../media/image11.bmp"/><Relationship Id="rId4" Type="http://schemas.openxmlformats.org/officeDocument/2006/relationships/image" Target="../media/image13.bmp"/><Relationship Id="rId5" Type="http://schemas.openxmlformats.org/officeDocument/2006/relationships/image" Target="../media/image15.bmp"/><Relationship Id="rId6" Type="http://schemas.openxmlformats.org/officeDocument/2006/relationships/image" Target="../media/image17.bmp"/><Relationship Id="rId7" Type="http://schemas.openxmlformats.org/officeDocument/2006/relationships/image" Target="../media/image2.bmp"/><Relationship Id="rId8" Type="http://schemas.openxmlformats.org/officeDocument/2006/relationships/image" Target="../media/image6.bmp"/><Relationship Id="rId9" Type="http://schemas.openxmlformats.org/officeDocument/2006/relationships/image" Target="../media/image19.bmp"/><Relationship Id="rId10" Type="http://schemas.openxmlformats.org/officeDocument/2006/relationships/image" Target="../media/image4.bmp"/><Relationship Id="rId11" Type="http://schemas.openxmlformats.org/officeDocument/2006/relationships/image" Target="../media/image22.bmp"/><Relationship Id="rId12" Type="http://schemas.openxmlformats.org/officeDocument/2006/relationships/image" Target="../media/image24.bmp"/><Relationship Id="rId13" Type="http://schemas.openxmlformats.org/officeDocument/2006/relationships/image" Target="../media/image26.bmp"/><Relationship Id="rId1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bmp"/><Relationship Id="rId2" Type="http://schemas.openxmlformats.org/officeDocument/2006/relationships/image" Target="../media/image3.bmp"/><Relationship Id="rId3" Type="http://schemas.openxmlformats.org/officeDocument/2006/relationships/image" Target="../media/image3.bmp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bmp"/><Relationship Id="rId2" Type="http://schemas.openxmlformats.org/officeDocument/2006/relationships/image" Target="../media/image2.bmp"/><Relationship Id="rId3" Type="http://schemas.openxmlformats.org/officeDocument/2006/relationships/image" Target="../media/image3.bmp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bmp"/><Relationship Id="rId2" Type="http://schemas.openxmlformats.org/officeDocument/2006/relationships/image" Target="../media/image12.bmp"/><Relationship Id="rId3" Type="http://schemas.openxmlformats.org/officeDocument/2006/relationships/image" Target="../media/image12.bmp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bmp"/><Relationship Id="rId2" Type="http://schemas.openxmlformats.org/officeDocument/2006/relationships/image" Target="../media/image20.bmp"/><Relationship Id="rId3" Type="http://schemas.openxmlformats.org/officeDocument/2006/relationships/image" Target="../media/image20.bmp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bmp"/><Relationship Id="rId2" Type="http://schemas.openxmlformats.org/officeDocument/2006/relationships/image" Target="../media/image10.bmp"/><Relationship Id="rId3" Type="http://schemas.openxmlformats.org/officeDocument/2006/relationships/image" Target="../media/image10.bmp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bmp"/><Relationship Id="rId2" Type="http://schemas.openxmlformats.org/officeDocument/2006/relationships/image" Target="../media/image1.bmp"/><Relationship Id="rId3" Type="http://schemas.openxmlformats.org/officeDocument/2006/relationships/image" Target="../media/image2.bmp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bmp"/><Relationship Id="rId2" Type="http://schemas.openxmlformats.org/officeDocument/2006/relationships/image" Target="../media/image6.bmp"/><Relationship Id="rId3" Type="http://schemas.openxmlformats.org/officeDocument/2006/relationships/image" Target="../media/image6.bmp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bmp"/><Relationship Id="rId2" Type="http://schemas.openxmlformats.org/officeDocument/2006/relationships/image" Target="../media/image8.bmp"/><Relationship Id="rId3" Type="http://schemas.openxmlformats.org/officeDocument/2006/relationships/image" Target="../media/image8.bmp"/><Relationship Id="rId4" Type="http://schemas.openxmlformats.org/officeDocument/2006/relationships/image" Target="../media/image9.bmp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bmp"/><Relationship Id="rId2" Type="http://schemas.openxmlformats.org/officeDocument/2006/relationships/image" Target="../media/image11.bmp"/><Relationship Id="rId3" Type="http://schemas.openxmlformats.org/officeDocument/2006/relationships/image" Target="../media/image11.bmp"/><Relationship Id="rId4" Type="http://schemas.openxmlformats.org/officeDocument/2006/relationships/image" Target="../media/image9.bmp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bmp"/><Relationship Id="rId2" Type="http://schemas.openxmlformats.org/officeDocument/2006/relationships/image" Target="../media/image13.bmp"/><Relationship Id="rId3" Type="http://schemas.openxmlformats.org/officeDocument/2006/relationships/image" Target="../media/image13.bmp"/><Relationship Id="rId4" Type="http://schemas.openxmlformats.org/officeDocument/2006/relationships/image" Target="../media/image9.bmp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bmp"/><Relationship Id="rId2" Type="http://schemas.openxmlformats.org/officeDocument/2006/relationships/image" Target="../media/image15.bmp"/><Relationship Id="rId3" Type="http://schemas.openxmlformats.org/officeDocument/2006/relationships/image" Target="../media/image15.bmp"/><Relationship Id="rId4" Type="http://schemas.openxmlformats.org/officeDocument/2006/relationships/image" Target="../media/image9.bmp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bmp"/><Relationship Id="rId2" Type="http://schemas.openxmlformats.org/officeDocument/2006/relationships/image" Target="../media/image17.bmp"/><Relationship Id="rId3" Type="http://schemas.openxmlformats.org/officeDocument/2006/relationships/image" Target="../media/image17.bmp"/><Relationship Id="rId4" Type="http://schemas.openxmlformats.org/officeDocument/2006/relationships/image" Target="../media/image9.bmp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9142560" cy="2887560"/>
          </a:xfrm>
          <a:prstGeom prst="rect">
            <a:avLst/>
          </a:prstGeom>
          <a:blipFill rotWithShape="0">
            <a:blip r:embed="rId2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57320" y="809640"/>
            <a:ext cx="8985240" cy="9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</a:pPr>
            <a:r>
              <a:rPr b="0" lang="en-US" sz="5400" spc="-1" strike="noStrike">
                <a:solidFill>
                  <a:srgbClr val="000000"/>
                </a:solidFill>
                <a:latin typeface="Arial MT Black"/>
                <a:ea typeface="Arial MT Black"/>
              </a:rPr>
              <a:t>THREE </a:t>
            </a:r>
            <a:r>
              <a:rPr b="0" lang="en-US" sz="6600" spc="-1" strike="noStrike">
                <a:solidFill>
                  <a:srgbClr val="000000"/>
                </a:solidFill>
                <a:latin typeface="Arial MT Black"/>
                <a:ea typeface="Arial MT Black"/>
              </a:rPr>
              <a:t>|</a:t>
            </a:r>
            <a:r>
              <a:rPr b="0" lang="en-US" sz="5400" spc="-1" strike="noStrike">
                <a:solidFill>
                  <a:srgbClr val="000000"/>
                </a:solidFill>
                <a:latin typeface="Arial MT Black"/>
                <a:ea typeface="Arial MT Black"/>
              </a:rPr>
              <a:t>D</a:t>
            </a:r>
            <a:r>
              <a:rPr b="0" lang="en-US" sz="6600" spc="-1" strike="noStrike">
                <a:solidFill>
                  <a:srgbClr val="000000"/>
                </a:solidFill>
                <a:latin typeface="Arial MT Black"/>
                <a:ea typeface="Arial MT Black"/>
              </a:rPr>
              <a:t>|</a:t>
            </a:r>
            <a:r>
              <a:rPr b="0" lang="en-US" sz="5400" spc="-1" strike="noStrike">
                <a:solidFill>
                  <a:srgbClr val="000000"/>
                </a:solidFill>
                <a:latin typeface="Arial MT Black"/>
                <a:ea typeface="Arial MT Black"/>
              </a:rPr>
              <a:t> GRAPHIC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7320" y="1846440"/>
            <a:ext cx="8985240" cy="4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P     R     E     S     E     N     T    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blipFill rotWithShape="0">
            <a:blip r:embed="rId2"/>
            <a:tile tx="0" ty="0" sx="3528125" sy="3528125" algn="ctr"/>
          </a:blip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en Mar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blipFill rotWithShape="0">
            <a:blip r:embed="rId3"/>
            <a:tile tx="0" ty="0" sx="3528125" sy="3528125" algn="ctr"/>
          </a:blip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A dark green marble with delicate v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and a corporate l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Look for grnmrbld.bmp &amp; grnmrbll.b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81320" y="5313240"/>
            <a:ext cx="1067040" cy="1356120"/>
          </a:xfrm>
          <a:custGeom>
            <a:avLst/>
            <a:gdLst/>
            <a:ahLst/>
            <a:rect l="0" t="0" r="r" b="b"/>
            <a:pathLst>
              <a:path w="2964" h="3767">
                <a:moveTo>
                  <a:pt x="1031" y="0"/>
                </a:moveTo>
                <a:lnTo>
                  <a:pt x="0" y="3767"/>
                </a:lnTo>
                <a:lnTo>
                  <a:pt x="2964" y="3344"/>
                </a:lnTo>
                <a:lnTo>
                  <a:pt x="2157" y="449"/>
                </a:lnTo>
                <a:lnTo>
                  <a:pt x="1031" y="0"/>
                </a:lnTo>
                <a:close/>
              </a:path>
            </a:pathLst>
          </a:cu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398840" y="5791320"/>
            <a:ext cx="609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blipFill rotWithShape="0">
            <a:blip r:embed="rId2"/>
            <a:tile tx="0" ty="0" sx="3528125" sy="3528125" algn="ctr"/>
          </a:blip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um W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blipFill rotWithShape="0">
            <a:blip r:embed="rId3"/>
            <a:tile tx="0" ty="0" sx="3528125" sy="3528125" algn="ctr"/>
          </a:blip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lex, turbu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od pattern with fine g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 for medwoodd.bmp &amp; medwoodl.b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41920" y="5456160"/>
            <a:ext cx="1418040" cy="1033920"/>
          </a:xfrm>
          <a:custGeom>
            <a:avLst/>
            <a:gdLst/>
            <a:ahLst/>
            <a:rect l="0" t="0" r="r" b="b"/>
            <a:pathLst>
              <a:path w="3939" h="2872">
                <a:moveTo>
                  <a:pt x="0" y="2533"/>
                </a:moveTo>
                <a:lnTo>
                  <a:pt x="3265" y="2872"/>
                </a:lnTo>
                <a:lnTo>
                  <a:pt x="3939" y="1632"/>
                </a:lnTo>
                <a:lnTo>
                  <a:pt x="2254" y="0"/>
                </a:lnTo>
                <a:lnTo>
                  <a:pt x="0" y="2533"/>
                </a:lnTo>
                <a:close/>
              </a:path>
            </a:pathLst>
          </a:cu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419720" y="5791320"/>
            <a:ext cx="609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blipFill rotWithShape="0">
            <a:blip r:embed="rId2"/>
            <a:tile tx="0" ty="0" sx="3528125" sy="3528125" algn="ctr"/>
          </a:blip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quid Me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blipFill rotWithShape="0">
            <a:blip r:embed="rId3"/>
            <a:tile tx="0" ty="0" sx="3528125" sy="3528125" algn="ctr"/>
          </a:blip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 flowing, distorted metal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with blue and yellow highl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Look for liqmetld.bmp &amp; liqmetll.b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86360" y="5678640"/>
            <a:ext cx="1256040" cy="933840"/>
          </a:xfrm>
          <a:custGeom>
            <a:avLst/>
            <a:gdLst/>
            <a:ahLst/>
            <a:rect l="0" t="0" r="r" b="b"/>
            <a:pathLst>
              <a:path w="3489" h="2594">
                <a:moveTo>
                  <a:pt x="0" y="0"/>
                </a:moveTo>
                <a:lnTo>
                  <a:pt x="392" y="2030"/>
                </a:lnTo>
                <a:lnTo>
                  <a:pt x="3489" y="2594"/>
                </a:lnTo>
                <a:lnTo>
                  <a:pt x="2421" y="61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419720" y="5791320"/>
            <a:ext cx="609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blipFill rotWithShape="0">
            <a:blip r:embed="rId2"/>
            <a:tile tx="0" ty="0" sx="3528125" sy="3528125" algn="ctr"/>
          </a:blip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ght W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blipFill rotWithShape="0">
            <a:blip r:embed="rId3"/>
            <a:tile tx="0" ty="0" sx="3528125" sy="3528125" algn="ctr"/>
          </a:blip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icate veins of turbulence deco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golden-brown w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 for ltewoodd.bmp &amp; ltewoodl.b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59360" y="5506920"/>
            <a:ext cx="1067040" cy="1143360"/>
          </a:xfrm>
          <a:custGeom>
            <a:avLst/>
            <a:gdLst/>
            <a:ahLst/>
            <a:rect l="0" t="0" r="r" b="b"/>
            <a:pathLst>
              <a:path w="2964" h="3176">
                <a:moveTo>
                  <a:pt x="683" y="2902"/>
                </a:moveTo>
                <a:lnTo>
                  <a:pt x="0" y="0"/>
                </a:lnTo>
                <a:lnTo>
                  <a:pt x="2964" y="423"/>
                </a:lnTo>
                <a:lnTo>
                  <a:pt x="2541" y="3176"/>
                </a:lnTo>
                <a:lnTo>
                  <a:pt x="683" y="2902"/>
                </a:lnTo>
                <a:close/>
              </a:path>
            </a:pathLst>
          </a:cu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419720" y="5791320"/>
            <a:ext cx="609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blipFill rotWithShape="0">
            <a:blip r:embed="rId2"/>
            <a:tile tx="0" ty="0" sx="3528125" sy="3528125" algn="ctr"/>
          </a:blip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le Mar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blipFill rotWithShape="0">
            <a:blip r:embed="rId3"/>
            <a:tile tx="0" ty="0" sx="3528125" sy="3528125" algn="ctr"/>
          </a:blip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razy purple and pink mar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tern that is not of this Ear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 for pplmrbld.bmp &amp; pplmrbll.b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44880" y="5540400"/>
            <a:ext cx="1384560" cy="1134000"/>
          </a:xfrm>
          <a:custGeom>
            <a:avLst/>
            <a:gdLst/>
            <a:ahLst/>
            <a:rect l="0" t="0" r="r" b="b"/>
            <a:pathLst>
              <a:path w="3846" h="3150">
                <a:moveTo>
                  <a:pt x="0" y="1906"/>
                </a:moveTo>
                <a:lnTo>
                  <a:pt x="2426" y="3150"/>
                </a:lnTo>
                <a:lnTo>
                  <a:pt x="3846" y="1054"/>
                </a:lnTo>
                <a:lnTo>
                  <a:pt x="1270" y="0"/>
                </a:lnTo>
                <a:lnTo>
                  <a:pt x="0" y="1906"/>
                </a:lnTo>
                <a:close/>
              </a:path>
            </a:pathLst>
          </a:cu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95880" y="5791320"/>
            <a:ext cx="8618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blipFill rotWithShape="0">
            <a:blip r:embed="rId2"/>
            <a:tile tx="0" ty="0" sx="3528125" sy="3528125" algn="ctr"/>
          </a:blip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udy S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blipFill rotWithShape="0">
            <a:blip r:embed="rId3"/>
            <a:tile tx="0" ty="0" sx="3528125" sy="3528125" algn="ctr"/>
          </a:blip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mage of light clou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in the evening and during th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 for cldyskyd.bmp &amp; cldyskyl.b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5416560"/>
            <a:ext cx="1359360" cy="1297440"/>
          </a:xfrm>
          <a:custGeom>
            <a:avLst/>
            <a:gdLst/>
            <a:ahLst/>
            <a:rect l="0" t="0" r="r" b="b"/>
            <a:pathLst>
              <a:path w="3776" h="3604">
                <a:moveTo>
                  <a:pt x="0" y="2819"/>
                </a:moveTo>
                <a:lnTo>
                  <a:pt x="2704" y="3604"/>
                </a:lnTo>
                <a:lnTo>
                  <a:pt x="3776" y="560"/>
                </a:lnTo>
                <a:lnTo>
                  <a:pt x="2421" y="0"/>
                </a:lnTo>
                <a:lnTo>
                  <a:pt x="0" y="2819"/>
                </a:lnTo>
                <a:close/>
              </a:path>
            </a:pathLst>
          </a:cu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419720" y="5791320"/>
            <a:ext cx="1044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blipFill rotWithShape="0">
            <a:blip r:embed="rId2"/>
            <a:tile tx="0" ty="0" sx="3528125" sy="3528125" algn="ctr"/>
          </a:blip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ue St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blipFill rotWithShape="0">
            <a:blip r:embed="rId3"/>
            <a:tile tx="0" ty="0" sx="3528125" sy="3528125" algn="ctr"/>
          </a:blip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arse, organic bu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 blue granite-like patte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 for blustnd.bmp &amp; blustnl.b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06960" y="5253120"/>
            <a:ext cx="1114920" cy="1257840"/>
          </a:xfrm>
          <a:custGeom>
            <a:avLst/>
            <a:gdLst/>
            <a:ahLst/>
            <a:rect l="0" t="0" r="r" b="b"/>
            <a:pathLst>
              <a:path w="3097" h="3494">
                <a:moveTo>
                  <a:pt x="0" y="2029"/>
                </a:moveTo>
                <a:lnTo>
                  <a:pt x="617" y="3494"/>
                </a:lnTo>
                <a:lnTo>
                  <a:pt x="2383" y="3459"/>
                </a:lnTo>
                <a:lnTo>
                  <a:pt x="3097" y="0"/>
                </a:lnTo>
                <a:lnTo>
                  <a:pt x="0" y="2029"/>
                </a:lnTo>
                <a:close/>
              </a:path>
            </a:pathLst>
          </a:cu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419720" y="5791320"/>
            <a:ext cx="9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5228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ark Texture Gallery</a:t>
            </a:r>
            <a:br>
              <a:rPr sz="1800"/>
            </a:br>
            <a:br>
              <a:rPr sz="1800"/>
            </a:br>
            <a:r>
              <a:rPr b="0" lang="en-US" sz="1000" spc="-1" strike="noStrike">
                <a:solidFill>
                  <a:srgbClr val="86868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their higher contrasts, these textures are ideal for filling objects. All of the dark tiles end in the letter“d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90720" y="2286000"/>
            <a:ext cx="1998720" cy="838080"/>
          </a:xfrm>
          <a:prstGeom prst="rect">
            <a:avLst/>
          </a:prstGeom>
          <a:blipFill rotWithShape="0">
            <a:blip r:embed="rId2"/>
            <a:tile tx="0" ty="0" sx="3528125" sy="3528125" algn="ctr"/>
          </a:blip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ue Mar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33760" y="2286000"/>
            <a:ext cx="2000160" cy="838080"/>
          </a:xfrm>
          <a:prstGeom prst="rect">
            <a:avLst/>
          </a:prstGeom>
          <a:blipFill rotWithShape="0">
            <a:blip r:embed="rId3"/>
            <a:tile tx="0" ty="0" sx="3528125" sy="3528125" algn="ctr"/>
          </a:blip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ssil Sandst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78600" y="2286000"/>
            <a:ext cx="1998720" cy="8380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n Sandst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90720" y="3352680"/>
            <a:ext cx="1998720" cy="83808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n S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33760" y="3352680"/>
            <a:ext cx="2000160" cy="83808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en Limest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78600" y="3352680"/>
            <a:ext cx="1998720" cy="838080"/>
          </a:xfrm>
          <a:prstGeom prst="rect">
            <a:avLst/>
          </a:prstGeom>
          <a:blipFill rotWithShape="0">
            <a:blip r:embed="rId7"/>
            <a:tile tx="0" ty="0" sx="3528125" sy="3528125" algn="ctr"/>
          </a:blip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en Mar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90720" y="4419720"/>
            <a:ext cx="1998720" cy="838080"/>
          </a:xfrm>
          <a:prstGeom prst="rect">
            <a:avLst/>
          </a:prstGeom>
          <a:blipFill rotWithShape="0">
            <a:blip r:embed="rId8"/>
            <a:tile tx="0" ty="0" sx="3528125" sy="3528125" algn="ctr"/>
          </a:blip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um W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33760" y="4419720"/>
            <a:ext cx="2000160" cy="838080"/>
          </a:xfrm>
          <a:prstGeom prst="rect">
            <a:avLst/>
          </a:prstGeom>
          <a:blipFill rotWithShape="0">
            <a:blip r:embed="rId9"/>
            <a:tile tx="0" ty="0" sx="3528125" sy="3528125" algn="ctr"/>
          </a:blip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quid Me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078600" y="4419720"/>
            <a:ext cx="1998720" cy="838080"/>
          </a:xfrm>
          <a:prstGeom prst="rect">
            <a:avLst/>
          </a:prstGeom>
          <a:blipFill rotWithShape="0">
            <a:blip r:embed="rId10"/>
            <a:tile tx="0" ty="0" sx="3528125" sy="3528125" algn="ctr"/>
          </a:blip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ght W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90720" y="5486400"/>
            <a:ext cx="1998720" cy="838080"/>
          </a:xfrm>
          <a:prstGeom prst="rect">
            <a:avLst/>
          </a:prstGeom>
          <a:blipFill rotWithShape="0">
            <a:blip r:embed="rId11"/>
            <a:tile tx="0" ty="0" sx="3528125" sy="3528125" algn="ctr"/>
          </a:blip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rple Mar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33760" y="5486400"/>
            <a:ext cx="2000160" cy="838080"/>
          </a:xfrm>
          <a:prstGeom prst="rect">
            <a:avLst/>
          </a:prstGeom>
          <a:blipFill rotWithShape="0">
            <a:blip r:embed="rId12"/>
            <a:tile tx="0" ty="0" sx="3528125" sy="3528125" algn="ctr"/>
          </a:blip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udy 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078600" y="5486400"/>
            <a:ext cx="1998720" cy="838080"/>
          </a:xfrm>
          <a:prstGeom prst="rect">
            <a:avLst/>
          </a:prstGeom>
          <a:blipFill rotWithShape="0">
            <a:blip r:embed="rId13"/>
            <a:tile tx="0" ty="0" sx="3528125" sy="3528125" algn="ctr"/>
          </a:blip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ue St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25520" y="152280"/>
            <a:ext cx="8236080" cy="17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ight Texture Gallery</a:t>
            </a:r>
            <a:br>
              <a:rPr sz="1800"/>
            </a:br>
            <a:br>
              <a:rPr sz="1800"/>
            </a:br>
            <a:r>
              <a:rPr b="0" lang="en-US" sz="1000" spc="-1" strike="noStrike">
                <a:solidFill>
                  <a:srgbClr val="86868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shed-out saturation and light colors make these textures look great behind text. All of the light tiles end in the letter “l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90720" y="2286000"/>
            <a:ext cx="1998720" cy="838080"/>
          </a:xfrm>
          <a:prstGeom prst="rect">
            <a:avLst/>
          </a:prstGeom>
          <a:blipFill rotWithShape="0">
            <a:blip r:embed="rId2"/>
            <a:tile tx="0" ty="0" sx="3528125" sy="3528125" algn="ctr"/>
          </a:blip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 Mar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33760" y="2286000"/>
            <a:ext cx="2000160" cy="838080"/>
          </a:xfrm>
          <a:prstGeom prst="rect">
            <a:avLst/>
          </a:prstGeom>
          <a:blipFill rotWithShape="0">
            <a:blip r:embed="rId3"/>
            <a:tile tx="0" ty="0" sx="3528125" sy="3528125" algn="ctr"/>
          </a:blip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ssil Sandst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078600" y="2286000"/>
            <a:ext cx="1998720" cy="8380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wn Sandst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90720" y="3352680"/>
            <a:ext cx="1998720" cy="83808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wn S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33760" y="3352680"/>
            <a:ext cx="2000160" cy="83808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n Limest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78600" y="3352680"/>
            <a:ext cx="1998720" cy="838080"/>
          </a:xfrm>
          <a:prstGeom prst="rect">
            <a:avLst/>
          </a:prstGeom>
          <a:blipFill rotWithShape="0">
            <a:blip r:embed="rId7"/>
            <a:tile tx="0" ty="0" sx="3528125" sy="3528125" algn="ctr"/>
          </a:blip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n Mar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90720" y="4419720"/>
            <a:ext cx="1998720" cy="838080"/>
          </a:xfrm>
          <a:prstGeom prst="rect">
            <a:avLst/>
          </a:prstGeom>
          <a:blipFill rotWithShape="0">
            <a:blip r:embed="rId8"/>
            <a:tile tx="0" ty="0" sx="3528125" sy="3528125" algn="ctr"/>
          </a:blip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um W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33760" y="4419720"/>
            <a:ext cx="2000160" cy="838080"/>
          </a:xfrm>
          <a:prstGeom prst="rect">
            <a:avLst/>
          </a:prstGeom>
          <a:blipFill rotWithShape="0">
            <a:blip r:embed="rId9"/>
            <a:tile tx="0" ty="0" sx="3528125" sy="3528125" algn="ctr"/>
          </a:blip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quid Me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078600" y="4419720"/>
            <a:ext cx="1998720" cy="838080"/>
          </a:xfrm>
          <a:prstGeom prst="rect">
            <a:avLst/>
          </a:prstGeom>
          <a:blipFill rotWithShape="0">
            <a:blip r:embed="rId10"/>
            <a:tile tx="0" ty="0" sx="3528125" sy="3528125" algn="ctr"/>
          </a:blip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 W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90720" y="5486400"/>
            <a:ext cx="1998720" cy="838080"/>
          </a:xfrm>
          <a:prstGeom prst="rect">
            <a:avLst/>
          </a:prstGeom>
          <a:blipFill rotWithShape="0">
            <a:blip r:embed="rId11"/>
            <a:tile tx="0" ty="0" sx="3528125" sy="3528125" algn="ctr"/>
          </a:blip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le Mar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33760" y="5486400"/>
            <a:ext cx="2000160" cy="838080"/>
          </a:xfrm>
          <a:prstGeom prst="rect">
            <a:avLst/>
          </a:prstGeom>
          <a:blipFill rotWithShape="0">
            <a:blip r:embed="rId12"/>
            <a:tile tx="0" ty="0" sx="3528125" sy="3528125" algn="ctr"/>
          </a:blip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udy S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078600" y="5486400"/>
            <a:ext cx="1998720" cy="838080"/>
          </a:xfrm>
          <a:prstGeom prst="rect">
            <a:avLst/>
          </a:prstGeom>
          <a:blipFill rotWithShape="0">
            <a:blip r:embed="rId13"/>
            <a:tile tx="0" ty="0" sx="3528125" sy="3528125" algn="ctr"/>
          </a:blip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 St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0" y="0"/>
            <a:ext cx="9142920" cy="2800800"/>
            <a:chOff x="0" y="0"/>
            <a:chExt cx="9142920" cy="2800800"/>
          </a:xfrm>
        </p:grpSpPr>
        <p:sp>
          <p:nvSpPr>
            <p:cNvPr id="150" name=""/>
            <p:cNvSpPr/>
            <p:nvPr/>
          </p:nvSpPr>
          <p:spPr>
            <a:xfrm>
              <a:off x="0" y="0"/>
              <a:ext cx="9142920" cy="2800800"/>
            </a:xfrm>
            <a:custGeom>
              <a:avLst/>
              <a:gdLst/>
              <a:ahLst/>
              <a:rect l="0" t="0" r="r" b="b"/>
              <a:pathLst>
                <a:path w="25397" h="7780">
                  <a:moveTo>
                    <a:pt x="0" y="0"/>
                  </a:moveTo>
                  <a:lnTo>
                    <a:pt x="25397" y="0"/>
                  </a:lnTo>
                  <a:lnTo>
                    <a:pt x="25397" y="5014"/>
                  </a:lnTo>
                  <a:lnTo>
                    <a:pt x="8" y="7780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tile tx="0" ty="0" sx="3528125" sy="3528125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0" y="1695600"/>
              <a:ext cx="9142920" cy="1105200"/>
            </a:xfrm>
            <a:custGeom>
              <a:avLst/>
              <a:gdLst/>
              <a:ahLst/>
              <a:rect l="0" t="0" r="r" b="b"/>
              <a:pathLst>
                <a:path w="25397" h="3070">
                  <a:moveTo>
                    <a:pt x="0" y="3070"/>
                  </a:moveTo>
                  <a:lnTo>
                    <a:pt x="25397" y="295"/>
                  </a:lnTo>
                  <a:lnTo>
                    <a:pt x="25397" y="0"/>
                  </a:lnTo>
                  <a:lnTo>
                    <a:pt x="0" y="2726"/>
                  </a:lnTo>
                  <a:lnTo>
                    <a:pt x="0" y="307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"/>
          <p:cNvSpPr txBox="1"/>
          <p:nvPr/>
        </p:nvSpPr>
        <p:spPr>
          <a:xfrm>
            <a:off x="479520" y="109440"/>
            <a:ext cx="4330800" cy="21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ition Sound</a:t>
            </a:r>
            <a:br>
              <a:rPr sz="4400"/>
            </a:b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her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23800" y="3425760"/>
            <a:ext cx="793440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sound works well for transitions between slid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4883040"/>
            <a:ext cx="9142920" cy="1973520"/>
          </a:xfrm>
          <a:custGeom>
            <a:avLst/>
            <a:gdLst/>
            <a:ahLst/>
            <a:rect l="0" t="0" r="r" b="b"/>
            <a:pathLst>
              <a:path w="25397" h="5482">
                <a:moveTo>
                  <a:pt x="25397" y="5482"/>
                </a:moveTo>
                <a:lnTo>
                  <a:pt x="0" y="5482"/>
                </a:lnTo>
                <a:lnTo>
                  <a:pt x="0" y="2765"/>
                </a:lnTo>
                <a:lnTo>
                  <a:pt x="25388" y="0"/>
                </a:lnTo>
                <a:lnTo>
                  <a:pt x="25397" y="5460"/>
                </a:lnTo>
                <a:lnTo>
                  <a:pt x="25397" y="5482"/>
                </a:lnTo>
                <a:close/>
              </a:path>
            </a:pathLst>
          </a:custGeom>
          <a:blipFill rotWithShape="0">
            <a:blip r:embed="rId3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881600"/>
            <a:ext cx="9142920" cy="1086120"/>
          </a:xfrm>
          <a:custGeom>
            <a:avLst/>
            <a:gdLst/>
            <a:ahLst/>
            <a:rect l="0" t="0" r="r" b="b"/>
            <a:pathLst>
              <a:path w="25397" h="3017">
                <a:moveTo>
                  <a:pt x="25397" y="0"/>
                </a:moveTo>
                <a:lnTo>
                  <a:pt x="0" y="2765"/>
                </a:lnTo>
                <a:lnTo>
                  <a:pt x="0" y="3017"/>
                </a:lnTo>
                <a:lnTo>
                  <a:pt x="25397" y="291"/>
                </a:lnTo>
                <a:lnTo>
                  <a:pt x="25397" y="0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7647120" y="5681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2560" cy="2887560"/>
          </a:xfrm>
          <a:prstGeom prst="rect">
            <a:avLst/>
          </a:prstGeom>
          <a:blipFill rotWithShape="0">
            <a:blip r:embed="rId2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blipFill rotWithShape="0">
            <a:blip r:embed="rId3"/>
            <a:tile tx="0" ty="0" sx="3528125" sy="3528125" algn="ctr"/>
          </a:blip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dre For PowerPoint</a:t>
            </a:r>
            <a:r>
              <a:rPr b="0" lang="en-US" sz="2400" spc="-1" strike="noStrike" baseline="70000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9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Professional Textures, Buttons, Sounds and Temp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92200" y="406728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2920" cy="2800800"/>
          </a:xfrm>
          <a:custGeom>
            <a:avLst/>
            <a:gdLst/>
            <a:ahLst/>
            <a:rect l="0" t="0" r="r" b="b"/>
            <a:pathLst>
              <a:path w="25397" h="7780">
                <a:moveTo>
                  <a:pt x="0" y="0"/>
                </a:moveTo>
                <a:lnTo>
                  <a:pt x="25397" y="0"/>
                </a:lnTo>
                <a:lnTo>
                  <a:pt x="25397" y="5014"/>
                </a:lnTo>
                <a:lnTo>
                  <a:pt x="8" y="778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695600"/>
            <a:ext cx="9142920" cy="1105200"/>
          </a:xfrm>
          <a:custGeom>
            <a:avLst/>
            <a:gdLst/>
            <a:ahLst/>
            <a:rect l="0" t="0" r="r" b="b"/>
            <a:pathLst>
              <a:path w="25397" h="3070">
                <a:moveTo>
                  <a:pt x="0" y="3070"/>
                </a:moveTo>
                <a:lnTo>
                  <a:pt x="25397" y="295"/>
                </a:lnTo>
                <a:lnTo>
                  <a:pt x="25397" y="0"/>
                </a:lnTo>
                <a:lnTo>
                  <a:pt x="0" y="2726"/>
                </a:lnTo>
                <a:lnTo>
                  <a:pt x="0" y="307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66640" y="109440"/>
            <a:ext cx="4937040" cy="21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tion Sound</a:t>
            </a:r>
            <a:br>
              <a:rPr sz="4400"/>
            </a:b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lim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23800" y="3425760"/>
            <a:ext cx="793440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sound works well for introdu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lide with a new topi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4883040"/>
            <a:ext cx="9142920" cy="1973520"/>
          </a:xfrm>
          <a:custGeom>
            <a:avLst/>
            <a:gdLst/>
            <a:ahLst/>
            <a:rect l="0" t="0" r="r" b="b"/>
            <a:pathLst>
              <a:path w="25397" h="5482">
                <a:moveTo>
                  <a:pt x="25397" y="5482"/>
                </a:moveTo>
                <a:lnTo>
                  <a:pt x="0" y="5482"/>
                </a:lnTo>
                <a:lnTo>
                  <a:pt x="0" y="2765"/>
                </a:lnTo>
                <a:lnTo>
                  <a:pt x="25388" y="0"/>
                </a:lnTo>
                <a:lnTo>
                  <a:pt x="25397" y="5460"/>
                </a:lnTo>
                <a:lnTo>
                  <a:pt x="25397" y="5482"/>
                </a:lnTo>
                <a:close/>
              </a:path>
            </a:pathLst>
          </a:custGeom>
          <a:blipFill rotWithShape="0">
            <a:blip r:embed="rId3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881600"/>
            <a:ext cx="9142920" cy="1086120"/>
          </a:xfrm>
          <a:custGeom>
            <a:avLst/>
            <a:gdLst/>
            <a:ahLst/>
            <a:rect l="0" t="0" r="r" b="b"/>
            <a:pathLst>
              <a:path w="25397" h="3017">
                <a:moveTo>
                  <a:pt x="25397" y="0"/>
                </a:moveTo>
                <a:lnTo>
                  <a:pt x="0" y="2765"/>
                </a:lnTo>
                <a:lnTo>
                  <a:pt x="0" y="3017"/>
                </a:lnTo>
                <a:lnTo>
                  <a:pt x="25397" y="291"/>
                </a:lnTo>
                <a:lnTo>
                  <a:pt x="25397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7647120" y="5681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2920" cy="2800800"/>
          </a:xfrm>
          <a:custGeom>
            <a:avLst/>
            <a:gdLst/>
            <a:ahLst/>
            <a:rect l="0" t="0" r="r" b="b"/>
            <a:pathLst>
              <a:path w="25397" h="7780">
                <a:moveTo>
                  <a:pt x="0" y="0"/>
                </a:moveTo>
                <a:lnTo>
                  <a:pt x="25397" y="0"/>
                </a:lnTo>
                <a:lnTo>
                  <a:pt x="25397" y="5014"/>
                </a:lnTo>
                <a:lnTo>
                  <a:pt x="8" y="778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695600"/>
            <a:ext cx="9142920" cy="1105200"/>
          </a:xfrm>
          <a:custGeom>
            <a:avLst/>
            <a:gdLst/>
            <a:ahLst/>
            <a:rect l="0" t="0" r="r" b="b"/>
            <a:pathLst>
              <a:path w="25397" h="3070">
                <a:moveTo>
                  <a:pt x="0" y="3070"/>
                </a:moveTo>
                <a:lnTo>
                  <a:pt x="25397" y="295"/>
                </a:lnTo>
                <a:lnTo>
                  <a:pt x="25397" y="0"/>
                </a:lnTo>
                <a:lnTo>
                  <a:pt x="0" y="2726"/>
                </a:lnTo>
                <a:lnTo>
                  <a:pt x="0" y="307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79520" y="152280"/>
            <a:ext cx="4330800" cy="21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ton Sound</a:t>
            </a:r>
            <a:br>
              <a:rPr sz="4400"/>
            </a:b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ickc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23800" y="3425760"/>
            <a:ext cx="7934400" cy="12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ed to an interactive button, sounds like this provide feedback to us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4883040"/>
            <a:ext cx="9142920" cy="1973520"/>
          </a:xfrm>
          <a:custGeom>
            <a:avLst/>
            <a:gdLst/>
            <a:ahLst/>
            <a:rect l="0" t="0" r="r" b="b"/>
            <a:pathLst>
              <a:path w="25397" h="5482">
                <a:moveTo>
                  <a:pt x="25397" y="5482"/>
                </a:moveTo>
                <a:lnTo>
                  <a:pt x="0" y="5482"/>
                </a:lnTo>
                <a:lnTo>
                  <a:pt x="0" y="2765"/>
                </a:lnTo>
                <a:lnTo>
                  <a:pt x="25388" y="0"/>
                </a:lnTo>
                <a:lnTo>
                  <a:pt x="25397" y="5460"/>
                </a:lnTo>
                <a:lnTo>
                  <a:pt x="25397" y="5482"/>
                </a:lnTo>
                <a:close/>
              </a:path>
            </a:pathLst>
          </a:custGeom>
          <a:blipFill rotWithShape="0">
            <a:blip r:embed="rId3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4881600"/>
            <a:ext cx="9142920" cy="1086120"/>
          </a:xfrm>
          <a:custGeom>
            <a:avLst/>
            <a:gdLst/>
            <a:ahLst/>
            <a:rect l="0" t="0" r="r" b="b"/>
            <a:pathLst>
              <a:path w="25397" h="3017">
                <a:moveTo>
                  <a:pt x="25397" y="0"/>
                </a:moveTo>
                <a:lnTo>
                  <a:pt x="0" y="2765"/>
                </a:lnTo>
                <a:lnTo>
                  <a:pt x="0" y="3017"/>
                </a:lnTo>
                <a:lnTo>
                  <a:pt x="25397" y="291"/>
                </a:lnTo>
                <a:lnTo>
                  <a:pt x="25397" y="0"/>
                </a:lnTo>
                <a:close/>
              </a:path>
            </a:pathLst>
          </a:custGeom>
          <a:solidFill>
            <a:srgbClr val="ff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647120" y="5681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2920" cy="2800800"/>
          </a:xfrm>
          <a:custGeom>
            <a:avLst/>
            <a:gdLst/>
            <a:ahLst/>
            <a:rect l="0" t="0" r="r" b="b"/>
            <a:pathLst>
              <a:path w="25397" h="7780">
                <a:moveTo>
                  <a:pt x="0" y="0"/>
                </a:moveTo>
                <a:lnTo>
                  <a:pt x="25397" y="0"/>
                </a:lnTo>
                <a:lnTo>
                  <a:pt x="25397" y="5014"/>
                </a:lnTo>
                <a:lnTo>
                  <a:pt x="8" y="778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695600"/>
            <a:ext cx="9142920" cy="1105200"/>
          </a:xfrm>
          <a:custGeom>
            <a:avLst/>
            <a:gdLst/>
            <a:ahLst/>
            <a:rect l="0" t="0" r="r" b="b"/>
            <a:pathLst>
              <a:path w="25397" h="3070">
                <a:moveTo>
                  <a:pt x="0" y="3070"/>
                </a:moveTo>
                <a:lnTo>
                  <a:pt x="25397" y="295"/>
                </a:lnTo>
                <a:lnTo>
                  <a:pt x="25397" y="0"/>
                </a:lnTo>
                <a:lnTo>
                  <a:pt x="0" y="2726"/>
                </a:lnTo>
                <a:lnTo>
                  <a:pt x="0" y="307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93840" y="109440"/>
            <a:ext cx="4330800" cy="21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ground Loop</a:t>
            </a:r>
            <a:br>
              <a:rPr sz="4400"/>
            </a:b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23800" y="3070080"/>
            <a:ext cx="7934400" cy="17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ping a sound so that it plays in the background while your slide is up creates atmospher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883040"/>
            <a:ext cx="9142920" cy="1973520"/>
          </a:xfrm>
          <a:custGeom>
            <a:avLst/>
            <a:gdLst/>
            <a:ahLst/>
            <a:rect l="0" t="0" r="r" b="b"/>
            <a:pathLst>
              <a:path w="25397" h="5482">
                <a:moveTo>
                  <a:pt x="25397" y="5482"/>
                </a:moveTo>
                <a:lnTo>
                  <a:pt x="0" y="5482"/>
                </a:lnTo>
                <a:lnTo>
                  <a:pt x="0" y="2765"/>
                </a:lnTo>
                <a:lnTo>
                  <a:pt x="25388" y="0"/>
                </a:lnTo>
                <a:lnTo>
                  <a:pt x="25397" y="5460"/>
                </a:lnTo>
                <a:lnTo>
                  <a:pt x="25397" y="5482"/>
                </a:lnTo>
                <a:close/>
              </a:path>
            </a:pathLst>
          </a:custGeom>
          <a:blipFill rotWithShape="0">
            <a:blip r:embed="rId3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4881600"/>
            <a:ext cx="9142920" cy="1086120"/>
          </a:xfrm>
          <a:custGeom>
            <a:avLst/>
            <a:gdLst/>
            <a:ahLst/>
            <a:rect l="0" t="0" r="r" b="b"/>
            <a:pathLst>
              <a:path w="25397" h="3017">
                <a:moveTo>
                  <a:pt x="25397" y="0"/>
                </a:moveTo>
                <a:lnTo>
                  <a:pt x="0" y="2765"/>
                </a:lnTo>
                <a:lnTo>
                  <a:pt x="0" y="3017"/>
                </a:lnTo>
                <a:lnTo>
                  <a:pt x="25397" y="291"/>
                </a:lnTo>
                <a:lnTo>
                  <a:pt x="25397" y="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adre CD-R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38080" y="2548080"/>
            <a:ext cx="7543800" cy="12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393939"/>
                </a:solidFill>
                <a:latin typeface="Times New Roman"/>
                <a:ea typeface="Times New Roman"/>
              </a:rPr>
              <a:t>This slide’s background is one of over 150 full-screen hand-designed presentation backgrounds that are available on the Compadre for PowerPoint 95 CD-ROM. Also, you 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934920" y="3906720"/>
            <a:ext cx="7361280" cy="21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7960" indent="-23796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Over 100 tiling textures like the ones in this pres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Over 100 useful sounds in many categ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Hundreds of beveled buttons for interactive presen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Design Templates which make it easy to spice up your sli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7960" indent="-23796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And much mor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6443640"/>
            <a:ext cx="9142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lick for ordering informatio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adre CD-R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838080" y="2316240"/>
            <a:ext cx="754380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’re interested in ordering the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dre for PowerPoint 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, give us a call 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913-0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side U.S.A: (213) 459-79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e D 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60 Via de la P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ific Palisades, California  90272 U.S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(310) 459-58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: 3dgraph@netcom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27160"/>
            <a:ext cx="9142560" cy="69840"/>
          </a:xfrm>
          <a:prstGeom prst="rect">
            <a:avLst/>
          </a:prstGeom>
          <a:blipFill rotWithShape="0">
            <a:blip r:embed="rId2"/>
            <a:tile tx="0" ty="0" sx="3528125" sy="3528125" algn="ctr"/>
          </a:blipFill>
          <a:ln w="0">
            <a:noFill/>
          </a:ln>
        </p:spPr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0"/>
            <a:ext cx="9142560" cy="1111320"/>
          </a:xfrm>
          <a:prstGeom prst="rect">
            <a:avLst/>
          </a:prstGeom>
          <a:blipFill rotWithShape="0">
            <a:blip r:embed="rId3"/>
            <a:tile tx="0" ty="0" sx="3528125" sy="3528125" algn="ctr"/>
          </a:blip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71520" y="1482840"/>
            <a:ext cx="84661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come to our sample presentation, done using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dre for PowerPoint 9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a CD-ROM full of multimedia resources for high quality presentations. Here you’ll find a small sample of the pictures and sounds i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d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ry them in your own presentations! In the same directory as this PowerPoint document, you’ll fi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50760" y="3205080"/>
            <a:ext cx="775188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4 Tiling Textur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may be applied to objects by choos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ured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de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ny color menu, and then clicking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tton. You may then choose any bitmap to use as a tiling pattt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 Soun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are useful for transitions, buttons, builds, or anywhere else you need to punctuate a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 Butt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different sizes. Use these to take advantage of PowerPoint 95’s interactive features and forge links between your slid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 Full-Screen Backgrou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While not as flexible as tiling textures, full-screen background images can look much sharp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41440" y="32385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541440" y="4375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541440" y="52005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541440" y="605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blipFill rotWithShape="0">
            <a:blip r:embed="rId2"/>
            <a:tile tx="0" ty="0" sx="3528125" sy="3528125" algn="ctr"/>
          </a:blip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gh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&amp;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868686"/>
                </a:solidFill>
                <a:latin typeface="Times New Roman"/>
                <a:ea typeface="Times New Roman"/>
              </a:rPr>
              <a:t>D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blipFill rotWithShape="0">
            <a:blip r:embed="rId3"/>
            <a:tile tx="0" ty="0" sx="3528125" sy="3528125" algn="ctr"/>
          </a:blip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tiling texture comes in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rsion (like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’s background) and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rsion (lik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 of these text boxe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resents a coherant juxtaposition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ground and background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next 12 slides demonstrate the use of each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extures in turn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blipFill rotWithShape="0">
            <a:blip r:embed="rId2"/>
            <a:tile tx="0" ty="0" sx="3528125" sy="3528125" algn="ctr"/>
          </a:blip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 Mar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blipFill rotWithShape="0">
            <a:blip r:embed="rId3"/>
            <a:tile tx="0" ty="0" sx="3528125" sy="3528125" algn="ctr"/>
          </a:blip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light blue veiny mar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tern viewed from underwater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 for blumrbld.bmp and blumrbll.b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59360" y="5486400"/>
            <a:ext cx="1067040" cy="1143360"/>
          </a:xfrm>
          <a:custGeom>
            <a:avLst/>
            <a:gdLst/>
            <a:ahLst/>
            <a:rect l="0" t="0" r="r" b="b"/>
            <a:pathLst>
              <a:path w="2964" h="3176">
                <a:moveTo>
                  <a:pt x="683" y="273"/>
                </a:moveTo>
                <a:lnTo>
                  <a:pt x="0" y="3176"/>
                </a:lnTo>
                <a:lnTo>
                  <a:pt x="2964" y="2752"/>
                </a:lnTo>
                <a:lnTo>
                  <a:pt x="2541" y="0"/>
                </a:lnTo>
                <a:lnTo>
                  <a:pt x="683" y="273"/>
                </a:lnTo>
                <a:close/>
              </a:path>
            </a:pathLst>
          </a:cu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419720" y="5791320"/>
            <a:ext cx="609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blipFill rotWithShape="0">
            <a:blip r:embed="rId2"/>
            <a:tile tx="0" ty="0" sx="3528125" sy="3528125" algn="ctr"/>
          </a:blip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ssil Sandst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blipFill rotWithShape="0">
            <a:blip r:embed="rId3"/>
            <a:tile tx="0" ty="0" sx="3528125" sy="3528125" algn="ctr"/>
          </a:blip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reyish sandstone with tight, veiny coloration and a “noisy” l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 for sandstnd.bmp &amp; sandstnl.b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46400" y="5506920"/>
            <a:ext cx="1045080" cy="1219680"/>
          </a:xfrm>
          <a:custGeom>
            <a:avLst/>
            <a:gdLst/>
            <a:ahLst/>
            <a:rect l="0" t="0" r="r" b="b"/>
            <a:pathLst>
              <a:path w="2903" h="3388">
                <a:moveTo>
                  <a:pt x="0" y="590"/>
                </a:moveTo>
                <a:lnTo>
                  <a:pt x="361" y="3388"/>
                </a:lnTo>
                <a:lnTo>
                  <a:pt x="2903" y="2117"/>
                </a:lnTo>
                <a:lnTo>
                  <a:pt x="2903" y="0"/>
                </a:lnTo>
                <a:lnTo>
                  <a:pt x="0" y="590"/>
                </a:lnTo>
                <a:close/>
              </a:path>
            </a:pathLst>
          </a:cu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378320" y="5791320"/>
            <a:ext cx="609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blipFill rotWithShape="0">
            <a:blip r:embed="rId2"/>
            <a:tile tx="0" ty="0" sx="3528125" sy="3528125" algn="ctr"/>
          </a:blip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Brown Sandst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blipFill rotWithShape="0">
            <a:blip r:embed="rId3"/>
            <a:tile tx="0" ty="0" sx="3528125" sy="3528125" algn="ctr"/>
          </a:blip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brown sandstone with st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 for brnstnd.bmp &amp; brnstnl.b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5500800"/>
            <a:ext cx="1121040" cy="1170360"/>
          </a:xfrm>
          <a:custGeom>
            <a:avLst/>
            <a:gdLst/>
            <a:ahLst/>
            <a:rect l="0" t="0" r="r" b="b"/>
            <a:pathLst>
              <a:path w="3114" h="3251">
                <a:moveTo>
                  <a:pt x="0" y="0"/>
                </a:moveTo>
                <a:lnTo>
                  <a:pt x="957" y="3251"/>
                </a:lnTo>
                <a:lnTo>
                  <a:pt x="2635" y="3001"/>
                </a:lnTo>
                <a:lnTo>
                  <a:pt x="3114" y="499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405320" y="5791320"/>
            <a:ext cx="609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blipFill rotWithShape="0">
            <a:blip r:embed="rId2"/>
            <a:tile tx="0" ty="0" sx="3528125" sy="3528125" algn="ctr"/>
          </a:blip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n S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blipFill rotWithShape="0">
            <a:blip r:embed="rId3"/>
            <a:tile tx="0" ty="0" sx="3528125" sy="3528125" algn="ctr"/>
          </a:blip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A organic-looking brown slate sto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similar to river r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Look for brnsltd.bmp and brnsltl.b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00600" y="5424480"/>
            <a:ext cx="1276560" cy="1144800"/>
          </a:xfrm>
          <a:custGeom>
            <a:avLst/>
            <a:gdLst/>
            <a:ahLst/>
            <a:rect l="0" t="0" r="r" b="b"/>
            <a:pathLst>
              <a:path w="3546" h="3180">
                <a:moveTo>
                  <a:pt x="0" y="1265"/>
                </a:moveTo>
                <a:lnTo>
                  <a:pt x="1353" y="3180"/>
                </a:lnTo>
                <a:lnTo>
                  <a:pt x="3546" y="3016"/>
                </a:lnTo>
                <a:lnTo>
                  <a:pt x="3036" y="0"/>
                </a:lnTo>
                <a:lnTo>
                  <a:pt x="0" y="1265"/>
                </a:lnTo>
                <a:close/>
              </a:path>
            </a:pathLst>
          </a:cu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378320" y="5791320"/>
            <a:ext cx="609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blipFill rotWithShape="0">
            <a:blip r:embed="rId2"/>
            <a:tile tx="0" ty="0" sx="3528125" sy="3528125" algn="ctr"/>
          </a:blip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n Limest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blipFill rotWithShape="0">
            <a:blip r:embed="rId3"/>
            <a:tile tx="0" ty="0" sx="3528125" sy="3528125" algn="ctr"/>
          </a:blip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reen s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delicate ve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 for grnstnd.bmp and grnstnl.b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48000" y="5232240"/>
            <a:ext cx="932400" cy="1317960"/>
          </a:xfrm>
          <a:custGeom>
            <a:avLst/>
            <a:gdLst/>
            <a:ahLst/>
            <a:rect l="0" t="0" r="r" b="b"/>
            <a:pathLst>
              <a:path w="2590" h="3661">
                <a:moveTo>
                  <a:pt x="0" y="1746"/>
                </a:moveTo>
                <a:lnTo>
                  <a:pt x="58" y="3548"/>
                </a:lnTo>
                <a:lnTo>
                  <a:pt x="2590" y="3661"/>
                </a:lnTo>
                <a:lnTo>
                  <a:pt x="1915" y="0"/>
                </a:lnTo>
                <a:lnTo>
                  <a:pt x="0" y="1746"/>
                </a:lnTo>
                <a:close/>
              </a:path>
            </a:pathLst>
          </a:cu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481640" y="5749920"/>
            <a:ext cx="609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yan &amp; Lisa Gibson-Winge</dc:creator>
  <dc:description>For more information, contact:Three D Graphics860 Via de la Paz #D3Pacific Palisades, CA  90272(310) 459-7949</dc:description>
  <dc:language>en-US</dc:language>
  <cp:lastModifiedBy>Bryan &amp; Lisa Gibson-Winge</cp:lastModifiedBy>
  <cp:revision>0</cp:revision>
  <dc:subject>Sample Presentation for PowerPoint 95</dc:subject>
  <dc:title>Compadre for PowerPoint 95 Sampler</dc:title>
</cp:coreProperties>
</file>