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bmp" ContentType="image/bmp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bmp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445000"/>
            <a:ext cx="9128160" cy="23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85200" y="111240"/>
            <a:ext cx="239760" cy="5438880"/>
          </a:xfrm>
          <a:prstGeom prst="rect">
            <a:avLst/>
          </a:prstGeom>
          <a:gradFill rotWithShape="0">
            <a:gsLst>
              <a:gs pos="0">
                <a:srgbClr val="1015a3"/>
              </a:gs>
              <a:gs pos="50000">
                <a:srgbClr val="618ffd"/>
              </a:gs>
              <a:gs pos="100000">
                <a:srgbClr val="1015a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713800" y="111240"/>
            <a:ext cx="239760" cy="5438880"/>
          </a:xfrm>
          <a:prstGeom prst="rect">
            <a:avLst/>
          </a:prstGeom>
          <a:gradFill rotWithShape="0">
            <a:gsLst>
              <a:gs pos="0">
                <a:srgbClr val="1015a3"/>
              </a:gs>
              <a:gs pos="50000">
                <a:srgbClr val="618ffd"/>
              </a:gs>
              <a:gs pos="100000">
                <a:srgbClr val="1015a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1120" y="92160"/>
            <a:ext cx="239760" cy="5438880"/>
          </a:xfrm>
          <a:prstGeom prst="rect">
            <a:avLst/>
          </a:prstGeom>
          <a:gradFill rotWithShape="0">
            <a:gsLst>
              <a:gs pos="0">
                <a:srgbClr val="1015a3"/>
              </a:gs>
              <a:gs pos="50000">
                <a:srgbClr val="618ffd"/>
              </a:gs>
              <a:gs pos="100000">
                <a:srgbClr val="1015a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9720" y="92160"/>
            <a:ext cx="239760" cy="5438880"/>
          </a:xfrm>
          <a:prstGeom prst="rect">
            <a:avLst/>
          </a:prstGeom>
          <a:gradFill rotWithShape="0">
            <a:gsLst>
              <a:gs pos="0">
                <a:srgbClr val="1015a3"/>
              </a:gs>
              <a:gs pos="50000">
                <a:srgbClr val="618ffd"/>
              </a:gs>
              <a:gs pos="100000">
                <a:srgbClr val="1015a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240" y="5789520"/>
            <a:ext cx="9128160" cy="10555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680080"/>
            <a:ext cx="9128160" cy="1778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5872320"/>
            <a:ext cx="9128160" cy="763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169920" y="601560"/>
            <a:ext cx="8764560" cy="158760"/>
            <a:chOff x="169920" y="601560"/>
            <a:chExt cx="8764560" cy="158760"/>
          </a:xfrm>
        </p:grpSpPr>
        <p:sp>
          <p:nvSpPr>
            <p:cNvPr id="10" name=""/>
            <p:cNvSpPr/>
            <p:nvPr/>
          </p:nvSpPr>
          <p:spPr>
            <a:xfrm>
              <a:off x="169920" y="601560"/>
              <a:ext cx="461880" cy="158760"/>
            </a:xfrm>
            <a:prstGeom prst="rect">
              <a:avLst/>
            </a:prstGeom>
            <a:solidFill>
              <a:srgbClr val="1015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72600" y="601560"/>
              <a:ext cx="461880" cy="158760"/>
            </a:xfrm>
            <a:prstGeom prst="rect">
              <a:avLst/>
            </a:prstGeom>
            <a:solidFill>
              <a:srgbClr val="1015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141120" y="115920"/>
            <a:ext cx="8850600" cy="620640"/>
            <a:chOff x="141120" y="115920"/>
            <a:chExt cx="8850600" cy="620640"/>
          </a:xfrm>
        </p:grpSpPr>
        <p:grpSp>
          <p:nvGrpSpPr>
            <p:cNvPr id="13" name=""/>
            <p:cNvGrpSpPr/>
            <p:nvPr/>
          </p:nvGrpSpPr>
          <p:grpSpPr>
            <a:xfrm>
              <a:off x="141120" y="115920"/>
              <a:ext cx="2973240" cy="620640"/>
              <a:chOff x="141120" y="115920"/>
              <a:chExt cx="2973240" cy="620640"/>
            </a:xfrm>
          </p:grpSpPr>
          <p:grpSp>
            <p:nvGrpSpPr>
              <p:cNvPr id="14" name=""/>
              <p:cNvGrpSpPr/>
              <p:nvPr/>
            </p:nvGrpSpPr>
            <p:grpSpPr>
              <a:xfrm>
                <a:off x="141120" y="115920"/>
                <a:ext cx="1487520" cy="620640"/>
                <a:chOff x="141120" y="115920"/>
                <a:chExt cx="1487520" cy="62064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1411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6397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113508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" name=""/>
              <p:cNvGrpSpPr/>
              <p:nvPr/>
            </p:nvGrpSpPr>
            <p:grpSpPr>
              <a:xfrm>
                <a:off x="1627200" y="115920"/>
                <a:ext cx="1487160" cy="620640"/>
                <a:chOff x="1627200" y="115920"/>
                <a:chExt cx="1487160" cy="62064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16272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21258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6208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" name=""/>
            <p:cNvGrpSpPr/>
            <p:nvPr/>
          </p:nvGrpSpPr>
          <p:grpSpPr>
            <a:xfrm>
              <a:off x="3112920" y="115920"/>
              <a:ext cx="2973240" cy="620640"/>
              <a:chOff x="3112920" y="115920"/>
              <a:chExt cx="2973240" cy="620640"/>
            </a:xfrm>
          </p:grpSpPr>
          <p:grpSp>
            <p:nvGrpSpPr>
              <p:cNvPr id="23" name=""/>
              <p:cNvGrpSpPr/>
              <p:nvPr/>
            </p:nvGrpSpPr>
            <p:grpSpPr>
              <a:xfrm>
                <a:off x="3112920" y="115920"/>
                <a:ext cx="1487520" cy="620640"/>
                <a:chOff x="3112920" y="115920"/>
                <a:chExt cx="1487520" cy="62064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31129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36115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410688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"/>
              <p:cNvGrpSpPr/>
              <p:nvPr/>
            </p:nvGrpSpPr>
            <p:grpSpPr>
              <a:xfrm>
                <a:off x="4599000" y="115920"/>
                <a:ext cx="1487160" cy="620640"/>
                <a:chOff x="4599000" y="115920"/>
                <a:chExt cx="1487160" cy="620640"/>
              </a:xfrm>
            </p:grpSpPr>
            <p:sp>
              <p:nvSpPr>
                <p:cNvPr id="28" name=""/>
                <p:cNvSpPr/>
                <p:nvPr/>
              </p:nvSpPr>
              <p:spPr>
                <a:xfrm>
                  <a:off x="45990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50976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55926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6086520" y="115920"/>
              <a:ext cx="2905200" cy="620640"/>
              <a:chOff x="6086520" y="115920"/>
              <a:chExt cx="2905200" cy="620640"/>
            </a:xfrm>
          </p:grpSpPr>
          <p:grpSp>
            <p:nvGrpSpPr>
              <p:cNvPr id="32" name=""/>
              <p:cNvGrpSpPr/>
              <p:nvPr/>
            </p:nvGrpSpPr>
            <p:grpSpPr>
              <a:xfrm>
                <a:off x="6086520" y="115920"/>
                <a:ext cx="1452600" cy="620640"/>
                <a:chOff x="6086520" y="115920"/>
                <a:chExt cx="1452600" cy="620640"/>
              </a:xfrm>
            </p:grpSpPr>
            <p:sp>
              <p:nvSpPr>
                <p:cNvPr id="33" name=""/>
                <p:cNvSpPr/>
                <p:nvPr/>
              </p:nvSpPr>
              <p:spPr>
                <a:xfrm>
                  <a:off x="608652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65739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7058160" y="115920"/>
                  <a:ext cx="4809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7539120" y="115920"/>
                <a:ext cx="1452600" cy="620640"/>
                <a:chOff x="7539120" y="115920"/>
                <a:chExt cx="1452600" cy="62064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7539120" y="115920"/>
                  <a:ext cx="4809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80247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85089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" name=""/>
          <p:cNvGrpSpPr/>
          <p:nvPr/>
        </p:nvGrpSpPr>
        <p:grpSpPr>
          <a:xfrm>
            <a:off x="0" y="5535720"/>
            <a:ext cx="9131760" cy="1321200"/>
            <a:chOff x="0" y="5535720"/>
            <a:chExt cx="9131760" cy="1321200"/>
          </a:xfrm>
        </p:grpSpPr>
        <p:sp>
          <p:nvSpPr>
            <p:cNvPr id="41" name=""/>
            <p:cNvSpPr/>
            <p:nvPr/>
          </p:nvSpPr>
          <p:spPr>
            <a:xfrm>
              <a:off x="7956720" y="5734080"/>
              <a:ext cx="871920" cy="891000"/>
            </a:xfrm>
            <a:custGeom>
              <a:avLst/>
              <a:gdLst/>
              <a:ahLst/>
              <a:rect l="0" t="0" r="r" b="b"/>
              <a:pathLst>
                <a:path w="2422" h="2475">
                  <a:moveTo>
                    <a:pt x="790" y="102"/>
                  </a:moveTo>
                  <a:lnTo>
                    <a:pt x="573" y="225"/>
                  </a:lnTo>
                  <a:lnTo>
                    <a:pt x="463" y="405"/>
                  </a:lnTo>
                  <a:lnTo>
                    <a:pt x="352" y="606"/>
                  </a:lnTo>
                  <a:lnTo>
                    <a:pt x="299" y="680"/>
                  </a:lnTo>
                  <a:lnTo>
                    <a:pt x="299" y="807"/>
                  </a:lnTo>
                  <a:lnTo>
                    <a:pt x="352" y="934"/>
                  </a:lnTo>
                  <a:lnTo>
                    <a:pt x="246" y="1037"/>
                  </a:lnTo>
                  <a:lnTo>
                    <a:pt x="83" y="1287"/>
                  </a:lnTo>
                  <a:lnTo>
                    <a:pt x="0" y="1438"/>
                  </a:lnTo>
                  <a:lnTo>
                    <a:pt x="0" y="1491"/>
                  </a:lnTo>
                  <a:lnTo>
                    <a:pt x="0" y="1541"/>
                  </a:lnTo>
                  <a:lnTo>
                    <a:pt x="83" y="1541"/>
                  </a:lnTo>
                  <a:lnTo>
                    <a:pt x="189" y="1541"/>
                  </a:lnTo>
                  <a:lnTo>
                    <a:pt x="246" y="1565"/>
                  </a:lnTo>
                  <a:lnTo>
                    <a:pt x="246" y="1667"/>
                  </a:lnTo>
                  <a:lnTo>
                    <a:pt x="216" y="1794"/>
                  </a:lnTo>
                  <a:lnTo>
                    <a:pt x="273" y="1869"/>
                  </a:lnTo>
                  <a:lnTo>
                    <a:pt x="246" y="1972"/>
                  </a:lnTo>
                  <a:lnTo>
                    <a:pt x="299" y="2021"/>
                  </a:lnTo>
                  <a:lnTo>
                    <a:pt x="352" y="2197"/>
                  </a:lnTo>
                  <a:lnTo>
                    <a:pt x="436" y="2221"/>
                  </a:lnTo>
                  <a:lnTo>
                    <a:pt x="542" y="2221"/>
                  </a:lnTo>
                  <a:lnTo>
                    <a:pt x="706" y="2221"/>
                  </a:lnTo>
                  <a:lnTo>
                    <a:pt x="869" y="2197"/>
                  </a:lnTo>
                  <a:lnTo>
                    <a:pt x="869" y="2475"/>
                  </a:lnTo>
                  <a:lnTo>
                    <a:pt x="2123" y="2336"/>
                  </a:lnTo>
                  <a:lnTo>
                    <a:pt x="2043" y="1869"/>
                  </a:lnTo>
                  <a:lnTo>
                    <a:pt x="2070" y="1692"/>
                  </a:lnTo>
                  <a:lnTo>
                    <a:pt x="2422" y="1364"/>
                  </a:lnTo>
                  <a:lnTo>
                    <a:pt x="2422" y="479"/>
                  </a:lnTo>
                  <a:lnTo>
                    <a:pt x="2206" y="253"/>
                  </a:lnTo>
                  <a:lnTo>
                    <a:pt x="1907" y="126"/>
                  </a:lnTo>
                  <a:lnTo>
                    <a:pt x="1579" y="0"/>
                  </a:lnTo>
                  <a:lnTo>
                    <a:pt x="1169" y="73"/>
                  </a:lnTo>
                  <a:lnTo>
                    <a:pt x="790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004240" y="6269040"/>
              <a:ext cx="41040" cy="0"/>
            </a:xfrm>
            <a:custGeom>
              <a:avLst/>
              <a:gdLst/>
              <a:ahLst/>
              <a:rect l="0" t="0" r="r" b="b"/>
              <a:pathLst>
                <a:path w="114" h="0">
                  <a:moveTo>
                    <a:pt x="0" y="0"/>
                  </a:moveTo>
                  <a:lnTo>
                    <a:pt x="22" y="0"/>
                  </a:lnTo>
                  <a:lnTo>
                    <a:pt x="70" y="0"/>
                  </a:lnTo>
                  <a:lnTo>
                    <a:pt x="92" y="0"/>
                  </a:lnTo>
                  <a:lnTo>
                    <a:pt x="114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045280" y="623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2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83440" y="6124680"/>
              <a:ext cx="25920" cy="65520"/>
            </a:xfrm>
            <a:custGeom>
              <a:avLst/>
              <a:gdLst/>
              <a:ahLst/>
              <a:rect l="0" t="0" r="r" b="b"/>
              <a:pathLst>
                <a:path w="72" h="182">
                  <a:moveTo>
                    <a:pt x="72" y="0"/>
                  </a:moveTo>
                  <a:lnTo>
                    <a:pt x="0" y="116"/>
                  </a:lnTo>
                  <a:lnTo>
                    <a:pt x="0" y="182"/>
                  </a:lnTo>
                  <a:lnTo>
                    <a:pt x="36" y="13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104320" y="6060960"/>
              <a:ext cx="78120" cy="44640"/>
            </a:xfrm>
            <a:custGeom>
              <a:avLst/>
              <a:gdLst/>
              <a:ahLst/>
              <a:rect l="0" t="0" r="r" b="b"/>
              <a:pathLst>
                <a:path w="217" h="124">
                  <a:moveTo>
                    <a:pt x="0" y="0"/>
                  </a:moveTo>
                  <a:lnTo>
                    <a:pt x="48" y="83"/>
                  </a:lnTo>
                  <a:lnTo>
                    <a:pt x="22" y="103"/>
                  </a:lnTo>
                  <a:lnTo>
                    <a:pt x="22" y="124"/>
                  </a:lnTo>
                  <a:lnTo>
                    <a:pt x="48" y="83"/>
                  </a:lnTo>
                  <a:lnTo>
                    <a:pt x="97" y="83"/>
                  </a:lnTo>
                  <a:lnTo>
                    <a:pt x="146" y="83"/>
                  </a:lnTo>
                  <a:lnTo>
                    <a:pt x="217" y="61"/>
                  </a:lnTo>
                  <a:lnTo>
                    <a:pt x="146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74080" y="5979960"/>
              <a:ext cx="157680" cy="44640"/>
            </a:xfrm>
            <a:custGeom>
              <a:avLst/>
              <a:gdLst/>
              <a:ahLst/>
              <a:rect l="0" t="0" r="r" b="b"/>
              <a:pathLst>
                <a:path w="438" h="124">
                  <a:moveTo>
                    <a:pt x="0" y="61"/>
                  </a:moveTo>
                  <a:lnTo>
                    <a:pt x="26" y="103"/>
                  </a:lnTo>
                  <a:lnTo>
                    <a:pt x="74" y="124"/>
                  </a:lnTo>
                  <a:lnTo>
                    <a:pt x="128" y="83"/>
                  </a:lnTo>
                  <a:lnTo>
                    <a:pt x="230" y="61"/>
                  </a:lnTo>
                  <a:lnTo>
                    <a:pt x="363" y="61"/>
                  </a:lnTo>
                  <a:lnTo>
                    <a:pt x="438" y="61"/>
                  </a:lnTo>
                  <a:lnTo>
                    <a:pt x="309" y="41"/>
                  </a:lnTo>
                  <a:lnTo>
                    <a:pt x="256" y="20"/>
                  </a:lnTo>
                  <a:lnTo>
                    <a:pt x="256" y="0"/>
                  </a:lnTo>
                  <a:lnTo>
                    <a:pt x="181" y="20"/>
                  </a:lnTo>
                  <a:lnTo>
                    <a:pt x="181" y="0"/>
                  </a:lnTo>
                  <a:lnTo>
                    <a:pt x="128" y="41"/>
                  </a:lnTo>
                  <a:lnTo>
                    <a:pt x="74" y="4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35880" y="605160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0" y="94"/>
                  </a:moveTo>
                  <a:lnTo>
                    <a:pt x="70" y="24"/>
                  </a:lnTo>
                  <a:lnTo>
                    <a:pt x="146" y="49"/>
                  </a:lnTo>
                  <a:lnTo>
                    <a:pt x="195" y="119"/>
                  </a:lnTo>
                  <a:lnTo>
                    <a:pt x="217" y="240"/>
                  </a:lnTo>
                  <a:lnTo>
                    <a:pt x="195" y="310"/>
                  </a:lnTo>
                  <a:lnTo>
                    <a:pt x="168" y="385"/>
                  </a:lnTo>
                  <a:lnTo>
                    <a:pt x="120" y="265"/>
                  </a:lnTo>
                  <a:lnTo>
                    <a:pt x="97" y="214"/>
                  </a:lnTo>
                  <a:lnTo>
                    <a:pt x="22" y="169"/>
                  </a:lnTo>
                  <a:lnTo>
                    <a:pt x="70" y="265"/>
                  </a:lnTo>
                  <a:lnTo>
                    <a:pt x="146" y="335"/>
                  </a:lnTo>
                  <a:lnTo>
                    <a:pt x="146" y="385"/>
                  </a:lnTo>
                  <a:lnTo>
                    <a:pt x="120" y="455"/>
                  </a:lnTo>
                  <a:lnTo>
                    <a:pt x="70" y="455"/>
                  </a:lnTo>
                  <a:lnTo>
                    <a:pt x="168" y="455"/>
                  </a:lnTo>
                  <a:lnTo>
                    <a:pt x="217" y="335"/>
                  </a:lnTo>
                  <a:lnTo>
                    <a:pt x="217" y="214"/>
                  </a:lnTo>
                  <a:lnTo>
                    <a:pt x="217" y="94"/>
                  </a:lnTo>
                  <a:lnTo>
                    <a:pt x="168" y="24"/>
                  </a:lnTo>
                  <a:lnTo>
                    <a:pt x="97" y="0"/>
                  </a:lnTo>
                  <a:lnTo>
                    <a:pt x="22" y="2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07440" y="6024600"/>
              <a:ext cx="146520" cy="227520"/>
            </a:xfrm>
            <a:custGeom>
              <a:avLst/>
              <a:gdLst/>
              <a:ahLst/>
              <a:rect l="0" t="0" r="r" b="b"/>
              <a:pathLst>
                <a:path w="407" h="632">
                  <a:moveTo>
                    <a:pt x="0" y="147"/>
                  </a:moveTo>
                  <a:lnTo>
                    <a:pt x="74" y="49"/>
                  </a:lnTo>
                  <a:lnTo>
                    <a:pt x="177" y="24"/>
                  </a:lnTo>
                  <a:lnTo>
                    <a:pt x="306" y="49"/>
                  </a:lnTo>
                  <a:lnTo>
                    <a:pt x="332" y="98"/>
                  </a:lnTo>
                  <a:lnTo>
                    <a:pt x="381" y="193"/>
                  </a:lnTo>
                  <a:lnTo>
                    <a:pt x="381" y="267"/>
                  </a:lnTo>
                  <a:lnTo>
                    <a:pt x="359" y="340"/>
                  </a:lnTo>
                  <a:lnTo>
                    <a:pt x="359" y="414"/>
                  </a:lnTo>
                  <a:lnTo>
                    <a:pt x="332" y="485"/>
                  </a:lnTo>
                  <a:lnTo>
                    <a:pt x="256" y="583"/>
                  </a:lnTo>
                  <a:lnTo>
                    <a:pt x="203" y="583"/>
                  </a:lnTo>
                  <a:lnTo>
                    <a:pt x="128" y="583"/>
                  </a:lnTo>
                  <a:lnTo>
                    <a:pt x="128" y="608"/>
                  </a:lnTo>
                  <a:lnTo>
                    <a:pt x="177" y="632"/>
                  </a:lnTo>
                  <a:lnTo>
                    <a:pt x="230" y="632"/>
                  </a:lnTo>
                  <a:lnTo>
                    <a:pt x="306" y="583"/>
                  </a:lnTo>
                  <a:lnTo>
                    <a:pt x="381" y="509"/>
                  </a:lnTo>
                  <a:lnTo>
                    <a:pt x="381" y="365"/>
                  </a:lnTo>
                  <a:lnTo>
                    <a:pt x="407" y="267"/>
                  </a:lnTo>
                  <a:lnTo>
                    <a:pt x="407" y="168"/>
                  </a:lnTo>
                  <a:lnTo>
                    <a:pt x="359" y="98"/>
                  </a:lnTo>
                  <a:lnTo>
                    <a:pt x="332" y="24"/>
                  </a:lnTo>
                  <a:lnTo>
                    <a:pt x="230" y="0"/>
                  </a:lnTo>
                  <a:lnTo>
                    <a:pt x="74" y="24"/>
                  </a:lnTo>
                  <a:lnTo>
                    <a:pt x="26" y="4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29680" y="6280200"/>
              <a:ext cx="135360" cy="189360"/>
            </a:xfrm>
            <a:custGeom>
              <a:avLst/>
              <a:gdLst/>
              <a:ahLst/>
              <a:rect l="0" t="0" r="r" b="b"/>
              <a:pathLst>
                <a:path w="376" h="526">
                  <a:moveTo>
                    <a:pt x="376" y="0"/>
                  </a:moveTo>
                  <a:lnTo>
                    <a:pt x="328" y="117"/>
                  </a:lnTo>
                  <a:lnTo>
                    <a:pt x="252" y="241"/>
                  </a:lnTo>
                  <a:lnTo>
                    <a:pt x="177" y="334"/>
                  </a:lnTo>
                  <a:lnTo>
                    <a:pt x="48" y="477"/>
                  </a:lnTo>
                  <a:lnTo>
                    <a:pt x="0" y="526"/>
                  </a:lnTo>
                  <a:lnTo>
                    <a:pt x="124" y="453"/>
                  </a:lnTo>
                  <a:lnTo>
                    <a:pt x="225" y="334"/>
                  </a:lnTo>
                  <a:lnTo>
                    <a:pt x="301" y="19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04320" y="5616720"/>
              <a:ext cx="783000" cy="725760"/>
            </a:xfrm>
            <a:custGeom>
              <a:avLst/>
              <a:gdLst/>
              <a:ahLst/>
              <a:rect l="0" t="0" r="r" b="b"/>
              <a:pathLst>
                <a:path w="2175" h="2016">
                  <a:moveTo>
                    <a:pt x="163" y="570"/>
                  </a:moveTo>
                  <a:lnTo>
                    <a:pt x="511" y="521"/>
                  </a:lnTo>
                  <a:lnTo>
                    <a:pt x="724" y="545"/>
                  </a:lnTo>
                  <a:lnTo>
                    <a:pt x="860" y="697"/>
                  </a:lnTo>
                  <a:lnTo>
                    <a:pt x="781" y="870"/>
                  </a:lnTo>
                  <a:lnTo>
                    <a:pt x="671" y="919"/>
                  </a:lnTo>
                  <a:lnTo>
                    <a:pt x="644" y="1096"/>
                  </a:lnTo>
                  <a:lnTo>
                    <a:pt x="697" y="1195"/>
                  </a:lnTo>
                  <a:lnTo>
                    <a:pt x="644" y="1343"/>
                  </a:lnTo>
                  <a:lnTo>
                    <a:pt x="781" y="1343"/>
                  </a:lnTo>
                  <a:lnTo>
                    <a:pt x="834" y="1170"/>
                  </a:lnTo>
                  <a:lnTo>
                    <a:pt x="913" y="1096"/>
                  </a:lnTo>
                  <a:lnTo>
                    <a:pt x="1072" y="1096"/>
                  </a:lnTo>
                  <a:lnTo>
                    <a:pt x="1235" y="1121"/>
                  </a:lnTo>
                  <a:lnTo>
                    <a:pt x="1262" y="1244"/>
                  </a:lnTo>
                  <a:lnTo>
                    <a:pt x="1288" y="1421"/>
                  </a:lnTo>
                  <a:lnTo>
                    <a:pt x="1262" y="1544"/>
                  </a:lnTo>
                  <a:lnTo>
                    <a:pt x="1262" y="1642"/>
                  </a:lnTo>
                  <a:lnTo>
                    <a:pt x="1288" y="1741"/>
                  </a:lnTo>
                  <a:lnTo>
                    <a:pt x="1394" y="1843"/>
                  </a:lnTo>
                  <a:lnTo>
                    <a:pt x="1451" y="1893"/>
                  </a:lnTo>
                  <a:lnTo>
                    <a:pt x="1664" y="2016"/>
                  </a:lnTo>
                  <a:lnTo>
                    <a:pt x="2012" y="1667"/>
                  </a:lnTo>
                  <a:lnTo>
                    <a:pt x="2123" y="1392"/>
                  </a:lnTo>
                  <a:lnTo>
                    <a:pt x="2149" y="944"/>
                  </a:lnTo>
                  <a:lnTo>
                    <a:pt x="2175" y="648"/>
                  </a:lnTo>
                  <a:lnTo>
                    <a:pt x="2149" y="324"/>
                  </a:lnTo>
                  <a:lnTo>
                    <a:pt x="2043" y="172"/>
                  </a:lnTo>
                  <a:lnTo>
                    <a:pt x="1827" y="49"/>
                  </a:lnTo>
                  <a:lnTo>
                    <a:pt x="1638" y="24"/>
                  </a:lnTo>
                  <a:lnTo>
                    <a:pt x="1235" y="0"/>
                  </a:lnTo>
                  <a:lnTo>
                    <a:pt x="887" y="0"/>
                  </a:lnTo>
                  <a:lnTo>
                    <a:pt x="401" y="73"/>
                  </a:lnTo>
                  <a:lnTo>
                    <a:pt x="216" y="172"/>
                  </a:lnTo>
                  <a:lnTo>
                    <a:pt x="105" y="274"/>
                  </a:lnTo>
                  <a:lnTo>
                    <a:pt x="0" y="422"/>
                  </a:lnTo>
                  <a:lnTo>
                    <a:pt x="26" y="496"/>
                  </a:lnTo>
                  <a:lnTo>
                    <a:pt x="163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121600" y="5624640"/>
              <a:ext cx="744840" cy="692640"/>
            </a:xfrm>
            <a:custGeom>
              <a:avLst/>
              <a:gdLst/>
              <a:ahLst/>
              <a:rect l="0" t="0" r="r" b="b"/>
              <a:pathLst>
                <a:path w="2069" h="1924">
                  <a:moveTo>
                    <a:pt x="348" y="122"/>
                  </a:moveTo>
                  <a:lnTo>
                    <a:pt x="163" y="176"/>
                  </a:lnTo>
                  <a:lnTo>
                    <a:pt x="79" y="274"/>
                  </a:lnTo>
                  <a:lnTo>
                    <a:pt x="26" y="348"/>
                  </a:lnTo>
                  <a:lnTo>
                    <a:pt x="0" y="397"/>
                  </a:lnTo>
                  <a:lnTo>
                    <a:pt x="52" y="450"/>
                  </a:lnTo>
                  <a:lnTo>
                    <a:pt x="132" y="501"/>
                  </a:lnTo>
                  <a:lnTo>
                    <a:pt x="348" y="475"/>
                  </a:lnTo>
                  <a:lnTo>
                    <a:pt x="511" y="475"/>
                  </a:lnTo>
                  <a:lnTo>
                    <a:pt x="643" y="426"/>
                  </a:lnTo>
                  <a:lnTo>
                    <a:pt x="806" y="373"/>
                  </a:lnTo>
                  <a:lnTo>
                    <a:pt x="939" y="373"/>
                  </a:lnTo>
                  <a:lnTo>
                    <a:pt x="1129" y="373"/>
                  </a:lnTo>
                  <a:lnTo>
                    <a:pt x="859" y="397"/>
                  </a:lnTo>
                  <a:lnTo>
                    <a:pt x="754" y="426"/>
                  </a:lnTo>
                  <a:lnTo>
                    <a:pt x="643" y="475"/>
                  </a:lnTo>
                  <a:lnTo>
                    <a:pt x="696" y="501"/>
                  </a:lnTo>
                  <a:lnTo>
                    <a:pt x="754" y="550"/>
                  </a:lnTo>
                  <a:lnTo>
                    <a:pt x="833" y="501"/>
                  </a:lnTo>
                  <a:lnTo>
                    <a:pt x="912" y="475"/>
                  </a:lnTo>
                  <a:lnTo>
                    <a:pt x="1050" y="450"/>
                  </a:lnTo>
                  <a:lnTo>
                    <a:pt x="1103" y="450"/>
                  </a:lnTo>
                  <a:lnTo>
                    <a:pt x="965" y="501"/>
                  </a:lnTo>
                  <a:lnTo>
                    <a:pt x="833" y="550"/>
                  </a:lnTo>
                  <a:lnTo>
                    <a:pt x="780" y="599"/>
                  </a:lnTo>
                  <a:lnTo>
                    <a:pt x="833" y="648"/>
                  </a:lnTo>
                  <a:lnTo>
                    <a:pt x="965" y="599"/>
                  </a:lnTo>
                  <a:lnTo>
                    <a:pt x="1050" y="599"/>
                  </a:lnTo>
                  <a:lnTo>
                    <a:pt x="859" y="673"/>
                  </a:lnTo>
                  <a:lnTo>
                    <a:pt x="806" y="726"/>
                  </a:lnTo>
                  <a:lnTo>
                    <a:pt x="780" y="800"/>
                  </a:lnTo>
                  <a:lnTo>
                    <a:pt x="754" y="824"/>
                  </a:lnTo>
                  <a:lnTo>
                    <a:pt x="859" y="775"/>
                  </a:lnTo>
                  <a:lnTo>
                    <a:pt x="965" y="775"/>
                  </a:lnTo>
                  <a:lnTo>
                    <a:pt x="1129" y="751"/>
                  </a:lnTo>
                  <a:lnTo>
                    <a:pt x="886" y="824"/>
                  </a:lnTo>
                  <a:lnTo>
                    <a:pt x="723" y="874"/>
                  </a:lnTo>
                  <a:lnTo>
                    <a:pt x="643" y="923"/>
                  </a:lnTo>
                  <a:lnTo>
                    <a:pt x="617" y="1001"/>
                  </a:lnTo>
                  <a:lnTo>
                    <a:pt x="754" y="947"/>
                  </a:lnTo>
                  <a:lnTo>
                    <a:pt x="912" y="898"/>
                  </a:lnTo>
                  <a:lnTo>
                    <a:pt x="992" y="898"/>
                  </a:lnTo>
                  <a:lnTo>
                    <a:pt x="806" y="947"/>
                  </a:lnTo>
                  <a:lnTo>
                    <a:pt x="670" y="1001"/>
                  </a:lnTo>
                  <a:lnTo>
                    <a:pt x="617" y="1050"/>
                  </a:lnTo>
                  <a:lnTo>
                    <a:pt x="643" y="1099"/>
                  </a:lnTo>
                  <a:lnTo>
                    <a:pt x="754" y="1075"/>
                  </a:lnTo>
                  <a:lnTo>
                    <a:pt x="859" y="1025"/>
                  </a:lnTo>
                  <a:lnTo>
                    <a:pt x="1076" y="1025"/>
                  </a:lnTo>
                  <a:lnTo>
                    <a:pt x="1156" y="1025"/>
                  </a:lnTo>
                  <a:lnTo>
                    <a:pt x="1345" y="1050"/>
                  </a:lnTo>
                  <a:lnTo>
                    <a:pt x="1584" y="1001"/>
                  </a:lnTo>
                  <a:lnTo>
                    <a:pt x="1451" y="1050"/>
                  </a:lnTo>
                  <a:lnTo>
                    <a:pt x="1209" y="1099"/>
                  </a:lnTo>
                  <a:lnTo>
                    <a:pt x="1262" y="1173"/>
                  </a:lnTo>
                  <a:lnTo>
                    <a:pt x="1425" y="1124"/>
                  </a:lnTo>
                  <a:lnTo>
                    <a:pt x="1610" y="1075"/>
                  </a:lnTo>
                  <a:lnTo>
                    <a:pt x="1720" y="1025"/>
                  </a:lnTo>
                  <a:lnTo>
                    <a:pt x="1504" y="1173"/>
                  </a:lnTo>
                  <a:lnTo>
                    <a:pt x="1372" y="1222"/>
                  </a:lnTo>
                  <a:lnTo>
                    <a:pt x="1262" y="1251"/>
                  </a:lnTo>
                  <a:lnTo>
                    <a:pt x="1262" y="1325"/>
                  </a:lnTo>
                  <a:lnTo>
                    <a:pt x="1425" y="1300"/>
                  </a:lnTo>
                  <a:lnTo>
                    <a:pt x="1557" y="1275"/>
                  </a:lnTo>
                  <a:lnTo>
                    <a:pt x="1478" y="1325"/>
                  </a:lnTo>
                  <a:lnTo>
                    <a:pt x="1345" y="1349"/>
                  </a:lnTo>
                  <a:lnTo>
                    <a:pt x="1262" y="1374"/>
                  </a:lnTo>
                  <a:lnTo>
                    <a:pt x="1262" y="1526"/>
                  </a:lnTo>
                  <a:lnTo>
                    <a:pt x="1425" y="1473"/>
                  </a:lnTo>
                  <a:lnTo>
                    <a:pt x="1531" y="1423"/>
                  </a:lnTo>
                  <a:lnTo>
                    <a:pt x="1398" y="1526"/>
                  </a:lnTo>
                  <a:lnTo>
                    <a:pt x="1235" y="1600"/>
                  </a:lnTo>
                  <a:lnTo>
                    <a:pt x="1262" y="1674"/>
                  </a:lnTo>
                  <a:lnTo>
                    <a:pt x="1345" y="1748"/>
                  </a:lnTo>
                  <a:lnTo>
                    <a:pt x="1425" y="1649"/>
                  </a:lnTo>
                  <a:lnTo>
                    <a:pt x="1531" y="1526"/>
                  </a:lnTo>
                  <a:lnTo>
                    <a:pt x="1610" y="1423"/>
                  </a:lnTo>
                  <a:lnTo>
                    <a:pt x="1531" y="1600"/>
                  </a:lnTo>
                  <a:lnTo>
                    <a:pt x="1478" y="1674"/>
                  </a:lnTo>
                  <a:lnTo>
                    <a:pt x="1372" y="1801"/>
                  </a:lnTo>
                  <a:lnTo>
                    <a:pt x="1451" y="1900"/>
                  </a:lnTo>
                  <a:lnTo>
                    <a:pt x="1584" y="1772"/>
                  </a:lnTo>
                  <a:lnTo>
                    <a:pt x="1667" y="1649"/>
                  </a:lnTo>
                  <a:lnTo>
                    <a:pt x="1773" y="1526"/>
                  </a:lnTo>
                  <a:lnTo>
                    <a:pt x="1694" y="1723"/>
                  </a:lnTo>
                  <a:lnTo>
                    <a:pt x="1610" y="1801"/>
                  </a:lnTo>
                  <a:lnTo>
                    <a:pt x="1504" y="1900"/>
                  </a:lnTo>
                  <a:lnTo>
                    <a:pt x="1584" y="1924"/>
                  </a:lnTo>
                  <a:lnTo>
                    <a:pt x="1773" y="1801"/>
                  </a:lnTo>
                  <a:lnTo>
                    <a:pt x="1906" y="1600"/>
                  </a:lnTo>
                  <a:lnTo>
                    <a:pt x="1989" y="1423"/>
                  </a:lnTo>
                  <a:lnTo>
                    <a:pt x="2016" y="1148"/>
                  </a:lnTo>
                  <a:lnTo>
                    <a:pt x="2042" y="947"/>
                  </a:lnTo>
                  <a:lnTo>
                    <a:pt x="2069" y="726"/>
                  </a:lnTo>
                  <a:lnTo>
                    <a:pt x="1906" y="751"/>
                  </a:lnTo>
                  <a:lnTo>
                    <a:pt x="1694" y="824"/>
                  </a:lnTo>
                  <a:lnTo>
                    <a:pt x="1398" y="874"/>
                  </a:lnTo>
                  <a:lnTo>
                    <a:pt x="1667" y="800"/>
                  </a:lnTo>
                  <a:lnTo>
                    <a:pt x="1773" y="751"/>
                  </a:lnTo>
                  <a:lnTo>
                    <a:pt x="1963" y="673"/>
                  </a:lnTo>
                  <a:lnTo>
                    <a:pt x="2042" y="673"/>
                  </a:lnTo>
                  <a:lnTo>
                    <a:pt x="2042" y="550"/>
                  </a:lnTo>
                  <a:lnTo>
                    <a:pt x="2042" y="373"/>
                  </a:lnTo>
                  <a:lnTo>
                    <a:pt x="1800" y="426"/>
                  </a:lnTo>
                  <a:lnTo>
                    <a:pt x="1641" y="450"/>
                  </a:lnTo>
                  <a:lnTo>
                    <a:pt x="1451" y="550"/>
                  </a:lnTo>
                  <a:lnTo>
                    <a:pt x="1641" y="426"/>
                  </a:lnTo>
                  <a:lnTo>
                    <a:pt x="1826" y="373"/>
                  </a:lnTo>
                  <a:lnTo>
                    <a:pt x="2016" y="323"/>
                  </a:lnTo>
                  <a:lnTo>
                    <a:pt x="1989" y="200"/>
                  </a:lnTo>
                  <a:lnTo>
                    <a:pt x="1906" y="122"/>
                  </a:lnTo>
                  <a:lnTo>
                    <a:pt x="1747" y="73"/>
                  </a:lnTo>
                  <a:lnTo>
                    <a:pt x="1557" y="122"/>
                  </a:lnTo>
                  <a:lnTo>
                    <a:pt x="1398" y="225"/>
                  </a:lnTo>
                  <a:lnTo>
                    <a:pt x="1504" y="98"/>
                  </a:lnTo>
                  <a:lnTo>
                    <a:pt x="1694" y="24"/>
                  </a:lnTo>
                  <a:lnTo>
                    <a:pt x="1504" y="0"/>
                  </a:lnTo>
                  <a:lnTo>
                    <a:pt x="1372" y="0"/>
                  </a:lnTo>
                  <a:lnTo>
                    <a:pt x="1182" y="24"/>
                  </a:lnTo>
                  <a:lnTo>
                    <a:pt x="1050" y="98"/>
                  </a:lnTo>
                  <a:lnTo>
                    <a:pt x="833" y="151"/>
                  </a:lnTo>
                  <a:lnTo>
                    <a:pt x="965" y="73"/>
                  </a:lnTo>
                  <a:lnTo>
                    <a:pt x="1076" y="24"/>
                  </a:lnTo>
                  <a:lnTo>
                    <a:pt x="1129" y="0"/>
                  </a:lnTo>
                  <a:lnTo>
                    <a:pt x="939" y="0"/>
                  </a:lnTo>
                  <a:lnTo>
                    <a:pt x="754" y="0"/>
                  </a:lnTo>
                  <a:lnTo>
                    <a:pt x="643" y="49"/>
                  </a:lnTo>
                  <a:lnTo>
                    <a:pt x="537" y="151"/>
                  </a:lnTo>
                  <a:lnTo>
                    <a:pt x="458" y="274"/>
                  </a:lnTo>
                  <a:lnTo>
                    <a:pt x="485" y="122"/>
                  </a:lnTo>
                  <a:lnTo>
                    <a:pt x="590" y="24"/>
                  </a:lnTo>
                  <a:lnTo>
                    <a:pt x="348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80320" y="6551640"/>
              <a:ext cx="1351440" cy="294120"/>
            </a:xfrm>
            <a:custGeom>
              <a:avLst/>
              <a:gdLst/>
              <a:ahLst/>
              <a:rect l="0" t="0" r="r" b="b"/>
              <a:pathLst>
                <a:path w="3754" h="817">
                  <a:moveTo>
                    <a:pt x="3754" y="817"/>
                  </a:moveTo>
                  <a:lnTo>
                    <a:pt x="3737" y="707"/>
                  </a:lnTo>
                  <a:lnTo>
                    <a:pt x="3644" y="707"/>
                  </a:lnTo>
                  <a:lnTo>
                    <a:pt x="3556" y="625"/>
                  </a:lnTo>
                  <a:lnTo>
                    <a:pt x="3419" y="542"/>
                  </a:lnTo>
                  <a:lnTo>
                    <a:pt x="3375" y="456"/>
                  </a:lnTo>
                  <a:lnTo>
                    <a:pt x="3282" y="374"/>
                  </a:lnTo>
                  <a:lnTo>
                    <a:pt x="3194" y="292"/>
                  </a:lnTo>
                  <a:lnTo>
                    <a:pt x="3102" y="251"/>
                  </a:lnTo>
                  <a:lnTo>
                    <a:pt x="3057" y="163"/>
                  </a:lnTo>
                  <a:lnTo>
                    <a:pt x="2965" y="163"/>
                  </a:lnTo>
                  <a:lnTo>
                    <a:pt x="2872" y="163"/>
                  </a:lnTo>
                  <a:lnTo>
                    <a:pt x="2739" y="81"/>
                  </a:lnTo>
                  <a:lnTo>
                    <a:pt x="2602" y="40"/>
                  </a:lnTo>
                  <a:lnTo>
                    <a:pt x="2466" y="0"/>
                  </a:lnTo>
                  <a:lnTo>
                    <a:pt x="2329" y="0"/>
                  </a:lnTo>
                  <a:lnTo>
                    <a:pt x="2192" y="0"/>
                  </a:lnTo>
                  <a:lnTo>
                    <a:pt x="2055" y="0"/>
                  </a:lnTo>
                  <a:lnTo>
                    <a:pt x="1923" y="0"/>
                  </a:lnTo>
                  <a:lnTo>
                    <a:pt x="1786" y="0"/>
                  </a:lnTo>
                  <a:lnTo>
                    <a:pt x="1650" y="0"/>
                  </a:lnTo>
                  <a:lnTo>
                    <a:pt x="1513" y="0"/>
                  </a:lnTo>
                  <a:lnTo>
                    <a:pt x="1376" y="40"/>
                  </a:lnTo>
                  <a:lnTo>
                    <a:pt x="1240" y="81"/>
                  </a:lnTo>
                  <a:lnTo>
                    <a:pt x="1107" y="122"/>
                  </a:lnTo>
                  <a:lnTo>
                    <a:pt x="971" y="163"/>
                  </a:lnTo>
                  <a:lnTo>
                    <a:pt x="833" y="163"/>
                  </a:lnTo>
                  <a:lnTo>
                    <a:pt x="745" y="251"/>
                  </a:lnTo>
                  <a:lnTo>
                    <a:pt x="652" y="251"/>
                  </a:lnTo>
                  <a:lnTo>
                    <a:pt x="560" y="292"/>
                  </a:lnTo>
                  <a:lnTo>
                    <a:pt x="515" y="374"/>
                  </a:lnTo>
                  <a:lnTo>
                    <a:pt x="423" y="415"/>
                  </a:lnTo>
                  <a:lnTo>
                    <a:pt x="335" y="501"/>
                  </a:lnTo>
                  <a:lnTo>
                    <a:pt x="246" y="542"/>
                  </a:lnTo>
                  <a:lnTo>
                    <a:pt x="154" y="583"/>
                  </a:lnTo>
                  <a:lnTo>
                    <a:pt x="110" y="666"/>
                  </a:lnTo>
                  <a:lnTo>
                    <a:pt x="17" y="666"/>
                  </a:lnTo>
                  <a:lnTo>
                    <a:pt x="0" y="817"/>
                  </a:lnTo>
                  <a:lnTo>
                    <a:pt x="3754" y="8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162000" y="5616720"/>
              <a:ext cx="849600" cy="879840"/>
              <a:chOff x="162000" y="5616720"/>
              <a:chExt cx="849600" cy="87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64960" y="5710320"/>
                <a:ext cx="684720" cy="725760"/>
              </a:xfrm>
              <a:custGeom>
                <a:avLst/>
                <a:gdLst/>
                <a:ahLst/>
                <a:rect l="0" t="0" r="r" b="b"/>
                <a:pathLst>
                  <a:path w="1902" h="2016">
                    <a:moveTo>
                      <a:pt x="321" y="1856"/>
                    </a:moveTo>
                    <a:lnTo>
                      <a:pt x="321" y="1717"/>
                    </a:lnTo>
                    <a:lnTo>
                      <a:pt x="167" y="1520"/>
                    </a:lnTo>
                    <a:lnTo>
                      <a:pt x="92" y="1352"/>
                    </a:lnTo>
                    <a:lnTo>
                      <a:pt x="8" y="1102"/>
                    </a:lnTo>
                    <a:lnTo>
                      <a:pt x="0" y="876"/>
                    </a:lnTo>
                    <a:lnTo>
                      <a:pt x="8" y="704"/>
                    </a:lnTo>
                    <a:lnTo>
                      <a:pt x="44" y="520"/>
                    </a:lnTo>
                    <a:lnTo>
                      <a:pt x="185" y="348"/>
                    </a:lnTo>
                    <a:lnTo>
                      <a:pt x="343" y="176"/>
                    </a:lnTo>
                    <a:lnTo>
                      <a:pt x="596" y="49"/>
                    </a:lnTo>
                    <a:lnTo>
                      <a:pt x="935" y="0"/>
                    </a:lnTo>
                    <a:lnTo>
                      <a:pt x="1297" y="53"/>
                    </a:lnTo>
                    <a:lnTo>
                      <a:pt x="1523" y="139"/>
                    </a:lnTo>
                    <a:lnTo>
                      <a:pt x="1699" y="266"/>
                    </a:lnTo>
                    <a:lnTo>
                      <a:pt x="1765" y="466"/>
                    </a:lnTo>
                    <a:lnTo>
                      <a:pt x="1823" y="667"/>
                    </a:lnTo>
                    <a:lnTo>
                      <a:pt x="1792" y="933"/>
                    </a:lnTo>
                    <a:lnTo>
                      <a:pt x="1858" y="1086"/>
                    </a:lnTo>
                    <a:lnTo>
                      <a:pt x="1893" y="1151"/>
                    </a:lnTo>
                    <a:lnTo>
                      <a:pt x="1902" y="1237"/>
                    </a:lnTo>
                    <a:lnTo>
                      <a:pt x="1836" y="1487"/>
                    </a:lnTo>
                    <a:lnTo>
                      <a:pt x="1792" y="1594"/>
                    </a:lnTo>
                    <a:lnTo>
                      <a:pt x="1783" y="1709"/>
                    </a:lnTo>
                    <a:lnTo>
                      <a:pt x="1739" y="1750"/>
                    </a:lnTo>
                    <a:lnTo>
                      <a:pt x="1726" y="1786"/>
                    </a:lnTo>
                    <a:lnTo>
                      <a:pt x="1708" y="1819"/>
                    </a:lnTo>
                    <a:lnTo>
                      <a:pt x="1686" y="1831"/>
                    </a:lnTo>
                    <a:lnTo>
                      <a:pt x="1598" y="1836"/>
                    </a:lnTo>
                    <a:lnTo>
                      <a:pt x="1540" y="1856"/>
                    </a:lnTo>
                    <a:lnTo>
                      <a:pt x="1518" y="1868"/>
                    </a:lnTo>
                    <a:lnTo>
                      <a:pt x="1430" y="2016"/>
                    </a:lnTo>
                    <a:lnTo>
                      <a:pt x="321" y="185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68240" y="6237360"/>
                <a:ext cx="102600" cy="104760"/>
              </a:xfrm>
              <a:custGeom>
                <a:avLst/>
                <a:gdLst/>
                <a:ahLst/>
                <a:rect l="0" t="0" r="r" b="b"/>
                <a:pathLst>
                  <a:path w="285" h="291">
                    <a:moveTo>
                      <a:pt x="12" y="201"/>
                    </a:moveTo>
                    <a:lnTo>
                      <a:pt x="12" y="201"/>
                    </a:lnTo>
                    <a:lnTo>
                      <a:pt x="12" y="202"/>
                    </a:lnTo>
                    <a:cubicBezTo>
                      <a:pt x="22" y="225"/>
                      <a:pt x="38" y="246"/>
                      <a:pt x="58" y="261"/>
                    </a:cubicBezTo>
                    <a:cubicBezTo>
                      <a:pt x="78" y="277"/>
                      <a:pt x="102" y="287"/>
                      <a:pt x="127" y="290"/>
                    </a:cubicBezTo>
                    <a:cubicBezTo>
                      <a:pt x="151" y="294"/>
                      <a:pt x="177" y="290"/>
                      <a:pt x="199" y="281"/>
                    </a:cubicBezTo>
                    <a:cubicBezTo>
                      <a:pt x="222" y="271"/>
                      <a:pt x="242" y="255"/>
                      <a:pt x="257" y="235"/>
                    </a:cubicBezTo>
                    <a:cubicBezTo>
                      <a:pt x="272" y="214"/>
                      <a:pt x="281" y="191"/>
                      <a:pt x="284" y="165"/>
                    </a:cubicBezTo>
                    <a:cubicBezTo>
                      <a:pt x="287" y="140"/>
                      <a:pt x="283" y="114"/>
                      <a:pt x="273" y="91"/>
                    </a:cubicBezTo>
                    <a:lnTo>
                      <a:pt x="273" y="91"/>
                    </a:lnTo>
                    <a:lnTo>
                      <a:pt x="273" y="90"/>
                    </a:lnTo>
                    <a:cubicBezTo>
                      <a:pt x="263" y="67"/>
                      <a:pt x="247" y="46"/>
                      <a:pt x="227" y="31"/>
                    </a:cubicBezTo>
                    <a:cubicBezTo>
                      <a:pt x="207" y="15"/>
                      <a:pt x="183" y="5"/>
                      <a:pt x="158" y="2"/>
                    </a:cubicBezTo>
                    <a:cubicBezTo>
                      <a:pt x="134" y="-2"/>
                      <a:pt x="108" y="2"/>
                      <a:pt x="86" y="11"/>
                    </a:cubicBezTo>
                    <a:cubicBezTo>
                      <a:pt x="63" y="21"/>
                      <a:pt x="43" y="37"/>
                      <a:pt x="28" y="57"/>
                    </a:cubicBezTo>
                    <a:cubicBezTo>
                      <a:pt x="13" y="77"/>
                      <a:pt x="4" y="101"/>
                      <a:pt x="1" y="127"/>
                    </a:cubicBezTo>
                    <a:cubicBezTo>
                      <a:pt x="-2" y="152"/>
                      <a:pt x="2" y="178"/>
                      <a:pt x="12" y="201"/>
                    </a:cubicBez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7480" y="6180120"/>
                <a:ext cx="130680" cy="113040"/>
              </a:xfrm>
              <a:custGeom>
                <a:avLst/>
                <a:gdLst/>
                <a:ahLst/>
                <a:rect l="0" t="0" r="r" b="b"/>
                <a:pathLst>
                  <a:path w="363" h="314">
                    <a:moveTo>
                      <a:pt x="0" y="0"/>
                    </a:moveTo>
                    <a:lnTo>
                      <a:pt x="22" y="49"/>
                    </a:lnTo>
                    <a:lnTo>
                      <a:pt x="44" y="94"/>
                    </a:lnTo>
                    <a:lnTo>
                      <a:pt x="137" y="235"/>
                    </a:lnTo>
                    <a:lnTo>
                      <a:pt x="234" y="314"/>
                    </a:lnTo>
                    <a:lnTo>
                      <a:pt x="319" y="305"/>
                    </a:lnTo>
                    <a:lnTo>
                      <a:pt x="363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8040" y="6329520"/>
                <a:ext cx="479880" cy="167040"/>
              </a:xfrm>
              <a:custGeom>
                <a:avLst/>
                <a:gdLst/>
                <a:ahLst/>
                <a:rect l="0" t="0" r="r" b="b"/>
                <a:pathLst>
                  <a:path w="1333" h="464">
                    <a:moveTo>
                      <a:pt x="149" y="0"/>
                    </a:moveTo>
                    <a:lnTo>
                      <a:pt x="733" y="20"/>
                    </a:lnTo>
                    <a:lnTo>
                      <a:pt x="949" y="40"/>
                    </a:lnTo>
                    <a:lnTo>
                      <a:pt x="1086" y="73"/>
                    </a:lnTo>
                    <a:lnTo>
                      <a:pt x="1197" y="110"/>
                    </a:lnTo>
                    <a:lnTo>
                      <a:pt x="1236" y="151"/>
                    </a:lnTo>
                    <a:lnTo>
                      <a:pt x="1311" y="176"/>
                    </a:lnTo>
                    <a:lnTo>
                      <a:pt x="1333" y="225"/>
                    </a:lnTo>
                    <a:lnTo>
                      <a:pt x="1289" y="464"/>
                    </a:lnTo>
                    <a:lnTo>
                      <a:pt x="0" y="196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62000" y="5616720"/>
                <a:ext cx="849600" cy="743400"/>
                <a:chOff x="162000" y="5616720"/>
                <a:chExt cx="849600" cy="7434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62000" y="5616720"/>
                  <a:ext cx="849600" cy="743400"/>
                </a:xfrm>
                <a:custGeom>
                  <a:avLst/>
                  <a:gdLst/>
                  <a:ahLst/>
                  <a:rect l="0" t="0" r="r" b="b"/>
                  <a:pathLst>
                    <a:path w="2360" h="2065">
                      <a:moveTo>
                        <a:pt x="643" y="110"/>
                      </a:moveTo>
                      <a:lnTo>
                        <a:pt x="714" y="0"/>
                      </a:lnTo>
                      <a:lnTo>
                        <a:pt x="939" y="24"/>
                      </a:lnTo>
                      <a:lnTo>
                        <a:pt x="1275" y="28"/>
                      </a:lnTo>
                      <a:lnTo>
                        <a:pt x="2060" y="402"/>
                      </a:lnTo>
                      <a:lnTo>
                        <a:pt x="2205" y="459"/>
                      </a:lnTo>
                      <a:lnTo>
                        <a:pt x="2263" y="522"/>
                      </a:lnTo>
                      <a:lnTo>
                        <a:pt x="2307" y="616"/>
                      </a:lnTo>
                      <a:lnTo>
                        <a:pt x="2351" y="714"/>
                      </a:lnTo>
                      <a:lnTo>
                        <a:pt x="2360" y="792"/>
                      </a:lnTo>
                      <a:lnTo>
                        <a:pt x="2338" y="887"/>
                      </a:lnTo>
                      <a:lnTo>
                        <a:pt x="2311" y="956"/>
                      </a:lnTo>
                      <a:lnTo>
                        <a:pt x="2117" y="1203"/>
                      </a:lnTo>
                      <a:lnTo>
                        <a:pt x="2055" y="1256"/>
                      </a:lnTo>
                      <a:lnTo>
                        <a:pt x="1976" y="1285"/>
                      </a:lnTo>
                      <a:lnTo>
                        <a:pt x="1901" y="1395"/>
                      </a:lnTo>
                      <a:lnTo>
                        <a:pt x="1729" y="1498"/>
                      </a:lnTo>
                      <a:lnTo>
                        <a:pt x="1681" y="1514"/>
                      </a:lnTo>
                      <a:lnTo>
                        <a:pt x="1632" y="1478"/>
                      </a:lnTo>
                      <a:lnTo>
                        <a:pt x="1544" y="1486"/>
                      </a:lnTo>
                      <a:lnTo>
                        <a:pt x="1504" y="1527"/>
                      </a:lnTo>
                      <a:lnTo>
                        <a:pt x="1491" y="1565"/>
                      </a:lnTo>
                      <a:lnTo>
                        <a:pt x="1491" y="1622"/>
                      </a:lnTo>
                      <a:lnTo>
                        <a:pt x="1526" y="1634"/>
                      </a:lnTo>
                      <a:lnTo>
                        <a:pt x="1429" y="1700"/>
                      </a:lnTo>
                      <a:lnTo>
                        <a:pt x="1345" y="1790"/>
                      </a:lnTo>
                      <a:lnTo>
                        <a:pt x="1218" y="1840"/>
                      </a:lnTo>
                      <a:lnTo>
                        <a:pt x="1084" y="1950"/>
                      </a:lnTo>
                      <a:lnTo>
                        <a:pt x="903" y="2020"/>
                      </a:lnTo>
                      <a:lnTo>
                        <a:pt x="648" y="2065"/>
                      </a:lnTo>
                      <a:lnTo>
                        <a:pt x="436" y="2061"/>
                      </a:lnTo>
                      <a:lnTo>
                        <a:pt x="388" y="2024"/>
                      </a:lnTo>
                      <a:lnTo>
                        <a:pt x="330" y="1967"/>
                      </a:lnTo>
                      <a:lnTo>
                        <a:pt x="260" y="1881"/>
                      </a:lnTo>
                      <a:lnTo>
                        <a:pt x="119" y="1704"/>
                      </a:lnTo>
                      <a:lnTo>
                        <a:pt x="79" y="1614"/>
                      </a:lnTo>
                      <a:lnTo>
                        <a:pt x="30" y="1514"/>
                      </a:lnTo>
                      <a:lnTo>
                        <a:pt x="0" y="1445"/>
                      </a:lnTo>
                      <a:lnTo>
                        <a:pt x="8" y="1330"/>
                      </a:lnTo>
                      <a:lnTo>
                        <a:pt x="8" y="1186"/>
                      </a:lnTo>
                      <a:lnTo>
                        <a:pt x="30" y="973"/>
                      </a:lnTo>
                      <a:lnTo>
                        <a:pt x="114" y="686"/>
                      </a:lnTo>
                      <a:lnTo>
                        <a:pt x="229" y="475"/>
                      </a:lnTo>
                      <a:lnTo>
                        <a:pt x="405" y="262"/>
                      </a:lnTo>
                      <a:lnTo>
                        <a:pt x="551" y="176"/>
                      </a:lnTo>
                      <a:lnTo>
                        <a:pt x="64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892080" y="6006960"/>
                  <a:ext cx="109800" cy="135360"/>
                </a:xfrm>
                <a:custGeom>
                  <a:avLst/>
                  <a:gdLst/>
                  <a:ahLst/>
                  <a:rect l="0" t="0" r="r" b="b"/>
                  <a:pathLst>
                    <a:path w="305" h="376">
                      <a:moveTo>
                        <a:pt x="17" y="112"/>
                      </a:moveTo>
                      <a:lnTo>
                        <a:pt x="212" y="32"/>
                      </a:lnTo>
                      <a:lnTo>
                        <a:pt x="172" y="20"/>
                      </a:lnTo>
                      <a:lnTo>
                        <a:pt x="225" y="0"/>
                      </a:lnTo>
                      <a:lnTo>
                        <a:pt x="283" y="4"/>
                      </a:lnTo>
                      <a:lnTo>
                        <a:pt x="305" y="49"/>
                      </a:lnTo>
                      <a:lnTo>
                        <a:pt x="256" y="70"/>
                      </a:lnTo>
                      <a:lnTo>
                        <a:pt x="278" y="116"/>
                      </a:lnTo>
                      <a:lnTo>
                        <a:pt x="274" y="169"/>
                      </a:lnTo>
                      <a:lnTo>
                        <a:pt x="296" y="215"/>
                      </a:lnTo>
                      <a:lnTo>
                        <a:pt x="278" y="248"/>
                      </a:lnTo>
                      <a:lnTo>
                        <a:pt x="265" y="276"/>
                      </a:lnTo>
                      <a:lnTo>
                        <a:pt x="252" y="315"/>
                      </a:lnTo>
                      <a:lnTo>
                        <a:pt x="225" y="323"/>
                      </a:lnTo>
                      <a:lnTo>
                        <a:pt x="212" y="356"/>
                      </a:lnTo>
                      <a:lnTo>
                        <a:pt x="190" y="368"/>
                      </a:lnTo>
                      <a:lnTo>
                        <a:pt x="168" y="376"/>
                      </a:lnTo>
                      <a:lnTo>
                        <a:pt x="181" y="343"/>
                      </a:lnTo>
                      <a:lnTo>
                        <a:pt x="190" y="310"/>
                      </a:lnTo>
                      <a:lnTo>
                        <a:pt x="243" y="290"/>
                      </a:lnTo>
                      <a:lnTo>
                        <a:pt x="256" y="256"/>
                      </a:lnTo>
                      <a:lnTo>
                        <a:pt x="243" y="231"/>
                      </a:lnTo>
                      <a:lnTo>
                        <a:pt x="256" y="206"/>
                      </a:lnTo>
                      <a:lnTo>
                        <a:pt x="243" y="182"/>
                      </a:lnTo>
                      <a:lnTo>
                        <a:pt x="256" y="124"/>
                      </a:lnTo>
                      <a:lnTo>
                        <a:pt x="234" y="82"/>
                      </a:lnTo>
                      <a:lnTo>
                        <a:pt x="0" y="198"/>
                      </a:lnTo>
                      <a:lnTo>
                        <a:pt x="1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" name=""/>
            <p:cNvGrpSpPr/>
            <p:nvPr/>
          </p:nvGrpSpPr>
          <p:grpSpPr>
            <a:xfrm>
              <a:off x="1371600" y="5808600"/>
              <a:ext cx="870120" cy="932400"/>
              <a:chOff x="1371600" y="5808600"/>
              <a:chExt cx="870120" cy="9324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71600" y="5808600"/>
                <a:ext cx="829080" cy="932400"/>
                <a:chOff x="1371600" y="5808600"/>
                <a:chExt cx="829080" cy="9324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433520" y="5857920"/>
                  <a:ext cx="767160" cy="883080"/>
                </a:xfrm>
                <a:custGeom>
                  <a:avLst/>
                  <a:gdLst/>
                  <a:ahLst/>
                  <a:rect l="0" t="0" r="r" b="b"/>
                  <a:pathLst>
                    <a:path w="2131" h="2453">
                      <a:moveTo>
                        <a:pt x="1849" y="340"/>
                      </a:moveTo>
                      <a:lnTo>
                        <a:pt x="1990" y="706"/>
                      </a:lnTo>
                      <a:lnTo>
                        <a:pt x="1990" y="808"/>
                      </a:lnTo>
                      <a:lnTo>
                        <a:pt x="1964" y="939"/>
                      </a:lnTo>
                      <a:lnTo>
                        <a:pt x="1990" y="1095"/>
                      </a:lnTo>
                      <a:lnTo>
                        <a:pt x="2131" y="1382"/>
                      </a:lnTo>
                      <a:lnTo>
                        <a:pt x="2021" y="1513"/>
                      </a:lnTo>
                      <a:lnTo>
                        <a:pt x="2074" y="1567"/>
                      </a:lnTo>
                      <a:lnTo>
                        <a:pt x="2048" y="1723"/>
                      </a:lnTo>
                      <a:lnTo>
                        <a:pt x="2021" y="1855"/>
                      </a:lnTo>
                      <a:lnTo>
                        <a:pt x="1990" y="1957"/>
                      </a:lnTo>
                      <a:lnTo>
                        <a:pt x="2021" y="2064"/>
                      </a:lnTo>
                      <a:lnTo>
                        <a:pt x="1964" y="2166"/>
                      </a:lnTo>
                      <a:lnTo>
                        <a:pt x="1880" y="2220"/>
                      </a:lnTo>
                      <a:lnTo>
                        <a:pt x="1739" y="2244"/>
                      </a:lnTo>
                      <a:lnTo>
                        <a:pt x="1319" y="2453"/>
                      </a:lnTo>
                      <a:lnTo>
                        <a:pt x="141" y="1776"/>
                      </a:lnTo>
                      <a:lnTo>
                        <a:pt x="141" y="1513"/>
                      </a:lnTo>
                      <a:lnTo>
                        <a:pt x="57" y="1304"/>
                      </a:lnTo>
                      <a:lnTo>
                        <a:pt x="26" y="1173"/>
                      </a:lnTo>
                      <a:lnTo>
                        <a:pt x="0" y="1017"/>
                      </a:lnTo>
                      <a:lnTo>
                        <a:pt x="26" y="784"/>
                      </a:lnTo>
                      <a:lnTo>
                        <a:pt x="110" y="549"/>
                      </a:lnTo>
                      <a:lnTo>
                        <a:pt x="167" y="389"/>
                      </a:lnTo>
                      <a:lnTo>
                        <a:pt x="308" y="262"/>
                      </a:lnTo>
                      <a:lnTo>
                        <a:pt x="449" y="131"/>
                      </a:lnTo>
                      <a:lnTo>
                        <a:pt x="644" y="53"/>
                      </a:lnTo>
                      <a:lnTo>
                        <a:pt x="869" y="0"/>
                      </a:lnTo>
                      <a:lnTo>
                        <a:pt x="1068" y="0"/>
                      </a:lnTo>
                      <a:lnTo>
                        <a:pt x="1262" y="0"/>
                      </a:lnTo>
                      <a:lnTo>
                        <a:pt x="1513" y="53"/>
                      </a:lnTo>
                      <a:lnTo>
                        <a:pt x="1682" y="155"/>
                      </a:lnTo>
                      <a:lnTo>
                        <a:pt x="184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71600" y="5808600"/>
                  <a:ext cx="789480" cy="751320"/>
                </a:xfrm>
                <a:custGeom>
                  <a:avLst/>
                  <a:gdLst/>
                  <a:ahLst/>
                  <a:rect l="0" t="0" r="r" b="b"/>
                  <a:pathLst>
                    <a:path w="2193" h="2087">
                      <a:moveTo>
                        <a:pt x="198" y="1854"/>
                      </a:moveTo>
                      <a:lnTo>
                        <a:pt x="141" y="1591"/>
                      </a:lnTo>
                      <a:lnTo>
                        <a:pt x="110" y="1488"/>
                      </a:lnTo>
                      <a:lnTo>
                        <a:pt x="26" y="1304"/>
                      </a:lnTo>
                      <a:lnTo>
                        <a:pt x="0" y="1172"/>
                      </a:lnTo>
                      <a:lnTo>
                        <a:pt x="0" y="1017"/>
                      </a:lnTo>
                      <a:lnTo>
                        <a:pt x="26" y="808"/>
                      </a:lnTo>
                      <a:lnTo>
                        <a:pt x="110" y="574"/>
                      </a:lnTo>
                      <a:lnTo>
                        <a:pt x="224" y="389"/>
                      </a:lnTo>
                      <a:lnTo>
                        <a:pt x="366" y="233"/>
                      </a:lnTo>
                      <a:lnTo>
                        <a:pt x="476" y="131"/>
                      </a:lnTo>
                      <a:lnTo>
                        <a:pt x="649" y="53"/>
                      </a:lnTo>
                      <a:lnTo>
                        <a:pt x="843" y="0"/>
                      </a:lnTo>
                      <a:lnTo>
                        <a:pt x="1125" y="0"/>
                      </a:lnTo>
                      <a:lnTo>
                        <a:pt x="1407" y="53"/>
                      </a:lnTo>
                      <a:lnTo>
                        <a:pt x="1632" y="53"/>
                      </a:lnTo>
                      <a:lnTo>
                        <a:pt x="1827" y="53"/>
                      </a:lnTo>
                      <a:lnTo>
                        <a:pt x="1911" y="77"/>
                      </a:lnTo>
                      <a:lnTo>
                        <a:pt x="1995" y="131"/>
                      </a:lnTo>
                      <a:lnTo>
                        <a:pt x="2083" y="262"/>
                      </a:lnTo>
                      <a:lnTo>
                        <a:pt x="2109" y="364"/>
                      </a:lnTo>
                      <a:lnTo>
                        <a:pt x="2193" y="442"/>
                      </a:lnTo>
                      <a:lnTo>
                        <a:pt x="2136" y="599"/>
                      </a:lnTo>
                      <a:lnTo>
                        <a:pt x="2083" y="730"/>
                      </a:lnTo>
                      <a:lnTo>
                        <a:pt x="2083" y="808"/>
                      </a:lnTo>
                      <a:lnTo>
                        <a:pt x="2052" y="886"/>
                      </a:lnTo>
                      <a:lnTo>
                        <a:pt x="2026" y="992"/>
                      </a:lnTo>
                      <a:lnTo>
                        <a:pt x="1968" y="1045"/>
                      </a:lnTo>
                      <a:lnTo>
                        <a:pt x="1942" y="1381"/>
                      </a:lnTo>
                      <a:lnTo>
                        <a:pt x="1858" y="1435"/>
                      </a:lnTo>
                      <a:lnTo>
                        <a:pt x="1801" y="1435"/>
                      </a:lnTo>
                      <a:lnTo>
                        <a:pt x="1770" y="1357"/>
                      </a:lnTo>
                      <a:lnTo>
                        <a:pt x="1686" y="1250"/>
                      </a:lnTo>
                      <a:lnTo>
                        <a:pt x="1601" y="1250"/>
                      </a:lnTo>
                      <a:lnTo>
                        <a:pt x="1575" y="1381"/>
                      </a:lnTo>
                      <a:lnTo>
                        <a:pt x="1544" y="1537"/>
                      </a:lnTo>
                      <a:lnTo>
                        <a:pt x="1575" y="1669"/>
                      </a:lnTo>
                      <a:lnTo>
                        <a:pt x="1601" y="1747"/>
                      </a:lnTo>
                      <a:lnTo>
                        <a:pt x="1660" y="1825"/>
                      </a:lnTo>
                      <a:lnTo>
                        <a:pt x="1770" y="1878"/>
                      </a:lnTo>
                      <a:lnTo>
                        <a:pt x="1601" y="1854"/>
                      </a:lnTo>
                      <a:lnTo>
                        <a:pt x="1517" y="1854"/>
                      </a:lnTo>
                      <a:lnTo>
                        <a:pt x="1517" y="1878"/>
                      </a:lnTo>
                      <a:lnTo>
                        <a:pt x="1376" y="2009"/>
                      </a:lnTo>
                      <a:lnTo>
                        <a:pt x="1293" y="2034"/>
                      </a:lnTo>
                      <a:lnTo>
                        <a:pt x="1182" y="2063"/>
                      </a:lnTo>
                      <a:lnTo>
                        <a:pt x="1125" y="2087"/>
                      </a:lnTo>
                      <a:lnTo>
                        <a:pt x="785" y="2063"/>
                      </a:lnTo>
                      <a:lnTo>
                        <a:pt x="618" y="2034"/>
                      </a:lnTo>
                      <a:lnTo>
                        <a:pt x="618" y="2009"/>
                      </a:lnTo>
                      <a:lnTo>
                        <a:pt x="423" y="1932"/>
                      </a:lnTo>
                      <a:lnTo>
                        <a:pt x="308" y="1932"/>
                      </a:lnTo>
                      <a:lnTo>
                        <a:pt x="198" y="18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2046240" y="6130800"/>
                <a:ext cx="195480" cy="219600"/>
              </a:xfrm>
              <a:custGeom>
                <a:avLst/>
                <a:gdLst/>
                <a:ahLst/>
                <a:rect l="0" t="0" r="r" b="b"/>
                <a:pathLst>
                  <a:path w="543" h="610">
                    <a:moveTo>
                      <a:pt x="52" y="176"/>
                    </a:moveTo>
                    <a:lnTo>
                      <a:pt x="406" y="24"/>
                    </a:lnTo>
                    <a:lnTo>
                      <a:pt x="300" y="24"/>
                    </a:lnTo>
                    <a:lnTo>
                      <a:pt x="300" y="0"/>
                    </a:lnTo>
                    <a:lnTo>
                      <a:pt x="543" y="0"/>
                    </a:lnTo>
                    <a:lnTo>
                      <a:pt x="543" y="24"/>
                    </a:lnTo>
                    <a:lnTo>
                      <a:pt x="516" y="102"/>
                    </a:lnTo>
                    <a:lnTo>
                      <a:pt x="516" y="205"/>
                    </a:lnTo>
                    <a:lnTo>
                      <a:pt x="516" y="331"/>
                    </a:lnTo>
                    <a:lnTo>
                      <a:pt x="516" y="405"/>
                    </a:lnTo>
                    <a:lnTo>
                      <a:pt x="490" y="483"/>
                    </a:lnTo>
                    <a:lnTo>
                      <a:pt x="464" y="532"/>
                    </a:lnTo>
                    <a:lnTo>
                      <a:pt x="406" y="586"/>
                    </a:lnTo>
                    <a:lnTo>
                      <a:pt x="353" y="586"/>
                    </a:lnTo>
                    <a:lnTo>
                      <a:pt x="300" y="610"/>
                    </a:lnTo>
                    <a:lnTo>
                      <a:pt x="300" y="561"/>
                    </a:lnTo>
                    <a:lnTo>
                      <a:pt x="380" y="532"/>
                    </a:lnTo>
                    <a:lnTo>
                      <a:pt x="433" y="483"/>
                    </a:lnTo>
                    <a:lnTo>
                      <a:pt x="464" y="356"/>
                    </a:lnTo>
                    <a:lnTo>
                      <a:pt x="490" y="254"/>
                    </a:lnTo>
                    <a:lnTo>
                      <a:pt x="464" y="151"/>
                    </a:lnTo>
                    <a:lnTo>
                      <a:pt x="0" y="380"/>
                    </a:lnTo>
                    <a:lnTo>
                      <a:pt x="52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538360" y="5722920"/>
              <a:ext cx="770400" cy="970200"/>
              <a:chOff x="2538360" y="5722920"/>
              <a:chExt cx="770400" cy="970200"/>
            </a:xfrm>
          </p:grpSpPr>
          <p:sp>
            <p:nvSpPr>
              <p:cNvPr id="67" name=""/>
              <p:cNvSpPr/>
              <p:nvPr/>
            </p:nvSpPr>
            <p:spPr>
              <a:xfrm>
                <a:off x="2538360" y="5759280"/>
                <a:ext cx="725760" cy="933840"/>
              </a:xfrm>
              <a:custGeom>
                <a:avLst/>
                <a:gdLst/>
                <a:ahLst/>
                <a:rect l="0" t="0" r="r" b="b"/>
                <a:pathLst>
                  <a:path w="2016" h="2594">
                    <a:moveTo>
                      <a:pt x="194" y="657"/>
                    </a:moveTo>
                    <a:lnTo>
                      <a:pt x="110" y="997"/>
                    </a:lnTo>
                    <a:lnTo>
                      <a:pt x="83" y="1178"/>
                    </a:lnTo>
                    <a:lnTo>
                      <a:pt x="26" y="1387"/>
                    </a:lnTo>
                    <a:lnTo>
                      <a:pt x="0" y="1596"/>
                    </a:lnTo>
                    <a:lnTo>
                      <a:pt x="26" y="1756"/>
                    </a:lnTo>
                    <a:lnTo>
                      <a:pt x="57" y="1859"/>
                    </a:lnTo>
                    <a:lnTo>
                      <a:pt x="83" y="2020"/>
                    </a:lnTo>
                    <a:lnTo>
                      <a:pt x="167" y="2123"/>
                    </a:lnTo>
                    <a:lnTo>
                      <a:pt x="251" y="2254"/>
                    </a:lnTo>
                    <a:lnTo>
                      <a:pt x="418" y="2594"/>
                    </a:lnTo>
                    <a:lnTo>
                      <a:pt x="1848" y="2307"/>
                    </a:lnTo>
                    <a:lnTo>
                      <a:pt x="1764" y="2069"/>
                    </a:lnTo>
                    <a:lnTo>
                      <a:pt x="1875" y="1859"/>
                    </a:lnTo>
                    <a:lnTo>
                      <a:pt x="1958" y="1572"/>
                    </a:lnTo>
                    <a:lnTo>
                      <a:pt x="2016" y="1256"/>
                    </a:lnTo>
                    <a:lnTo>
                      <a:pt x="2016" y="969"/>
                    </a:lnTo>
                    <a:lnTo>
                      <a:pt x="1989" y="682"/>
                    </a:lnTo>
                    <a:lnTo>
                      <a:pt x="1906" y="471"/>
                    </a:lnTo>
                    <a:lnTo>
                      <a:pt x="1707" y="233"/>
                    </a:lnTo>
                    <a:lnTo>
                      <a:pt x="1539" y="106"/>
                    </a:lnTo>
                    <a:lnTo>
                      <a:pt x="1372" y="53"/>
                    </a:lnTo>
                    <a:lnTo>
                      <a:pt x="1147" y="24"/>
                    </a:lnTo>
                    <a:lnTo>
                      <a:pt x="895" y="0"/>
                    </a:lnTo>
                    <a:lnTo>
                      <a:pt x="701" y="53"/>
                    </a:lnTo>
                    <a:lnTo>
                      <a:pt x="533" y="131"/>
                    </a:lnTo>
                    <a:lnTo>
                      <a:pt x="392" y="262"/>
                    </a:lnTo>
                    <a:lnTo>
                      <a:pt x="308" y="365"/>
                    </a:lnTo>
                    <a:lnTo>
                      <a:pt x="224" y="525"/>
                    </a:lnTo>
                    <a:lnTo>
                      <a:pt x="19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538360" y="5722920"/>
                <a:ext cx="770400" cy="844920"/>
              </a:xfrm>
              <a:custGeom>
                <a:avLst/>
                <a:gdLst/>
                <a:ahLst/>
                <a:rect l="0" t="0" r="r" b="b"/>
                <a:pathLst>
                  <a:path w="2140" h="2347">
                    <a:moveTo>
                      <a:pt x="282" y="467"/>
                    </a:moveTo>
                    <a:lnTo>
                      <a:pt x="308" y="311"/>
                    </a:lnTo>
                    <a:lnTo>
                      <a:pt x="392" y="155"/>
                    </a:lnTo>
                    <a:lnTo>
                      <a:pt x="507" y="102"/>
                    </a:lnTo>
                    <a:lnTo>
                      <a:pt x="618" y="53"/>
                    </a:lnTo>
                    <a:lnTo>
                      <a:pt x="843" y="0"/>
                    </a:lnTo>
                    <a:lnTo>
                      <a:pt x="984" y="0"/>
                    </a:lnTo>
                    <a:lnTo>
                      <a:pt x="1182" y="0"/>
                    </a:lnTo>
                    <a:lnTo>
                      <a:pt x="1350" y="53"/>
                    </a:lnTo>
                    <a:lnTo>
                      <a:pt x="1465" y="77"/>
                    </a:lnTo>
                    <a:lnTo>
                      <a:pt x="1548" y="131"/>
                    </a:lnTo>
                    <a:lnTo>
                      <a:pt x="1664" y="209"/>
                    </a:lnTo>
                    <a:lnTo>
                      <a:pt x="1774" y="311"/>
                    </a:lnTo>
                    <a:lnTo>
                      <a:pt x="1858" y="365"/>
                    </a:lnTo>
                    <a:lnTo>
                      <a:pt x="1942" y="467"/>
                    </a:lnTo>
                    <a:lnTo>
                      <a:pt x="2026" y="599"/>
                    </a:lnTo>
                    <a:lnTo>
                      <a:pt x="2056" y="755"/>
                    </a:lnTo>
                    <a:lnTo>
                      <a:pt x="2114" y="940"/>
                    </a:lnTo>
                    <a:lnTo>
                      <a:pt x="2140" y="1096"/>
                    </a:lnTo>
                    <a:lnTo>
                      <a:pt x="2114" y="1276"/>
                    </a:lnTo>
                    <a:lnTo>
                      <a:pt x="2114" y="1436"/>
                    </a:lnTo>
                    <a:lnTo>
                      <a:pt x="2056" y="1616"/>
                    </a:lnTo>
                    <a:lnTo>
                      <a:pt x="1999" y="1827"/>
                    </a:lnTo>
                    <a:lnTo>
                      <a:pt x="1973" y="2007"/>
                    </a:lnTo>
                    <a:lnTo>
                      <a:pt x="1889" y="2138"/>
                    </a:lnTo>
                    <a:lnTo>
                      <a:pt x="1774" y="2192"/>
                    </a:lnTo>
                    <a:lnTo>
                      <a:pt x="1664" y="2245"/>
                    </a:lnTo>
                    <a:lnTo>
                      <a:pt x="1548" y="2294"/>
                    </a:lnTo>
                    <a:lnTo>
                      <a:pt x="1465" y="2323"/>
                    </a:lnTo>
                    <a:lnTo>
                      <a:pt x="1350" y="2347"/>
                    </a:lnTo>
                    <a:lnTo>
                      <a:pt x="1240" y="2347"/>
                    </a:lnTo>
                    <a:lnTo>
                      <a:pt x="1072" y="2294"/>
                    </a:lnTo>
                    <a:lnTo>
                      <a:pt x="957" y="2294"/>
                    </a:lnTo>
                    <a:lnTo>
                      <a:pt x="900" y="2270"/>
                    </a:lnTo>
                    <a:lnTo>
                      <a:pt x="900" y="2323"/>
                    </a:lnTo>
                    <a:lnTo>
                      <a:pt x="533" y="2270"/>
                    </a:lnTo>
                    <a:lnTo>
                      <a:pt x="591" y="2138"/>
                    </a:lnTo>
                    <a:lnTo>
                      <a:pt x="591" y="2085"/>
                    </a:lnTo>
                    <a:lnTo>
                      <a:pt x="565" y="2036"/>
                    </a:lnTo>
                    <a:lnTo>
                      <a:pt x="565" y="1982"/>
                    </a:lnTo>
                    <a:lnTo>
                      <a:pt x="533" y="1929"/>
                    </a:lnTo>
                    <a:lnTo>
                      <a:pt x="507" y="1905"/>
                    </a:lnTo>
                    <a:lnTo>
                      <a:pt x="565" y="1851"/>
                    </a:lnTo>
                    <a:lnTo>
                      <a:pt x="591" y="1802"/>
                    </a:lnTo>
                    <a:lnTo>
                      <a:pt x="591" y="1748"/>
                    </a:lnTo>
                    <a:lnTo>
                      <a:pt x="565" y="1641"/>
                    </a:lnTo>
                    <a:lnTo>
                      <a:pt x="565" y="1485"/>
                    </a:lnTo>
                    <a:lnTo>
                      <a:pt x="476" y="1407"/>
                    </a:lnTo>
                    <a:lnTo>
                      <a:pt x="392" y="1383"/>
                    </a:lnTo>
                    <a:lnTo>
                      <a:pt x="282" y="1276"/>
                    </a:lnTo>
                    <a:lnTo>
                      <a:pt x="198" y="1276"/>
                    </a:lnTo>
                    <a:lnTo>
                      <a:pt x="141" y="1383"/>
                    </a:lnTo>
                    <a:lnTo>
                      <a:pt x="141" y="1485"/>
                    </a:lnTo>
                    <a:lnTo>
                      <a:pt x="198" y="1592"/>
                    </a:lnTo>
                    <a:lnTo>
                      <a:pt x="198" y="1719"/>
                    </a:lnTo>
                    <a:lnTo>
                      <a:pt x="167" y="1694"/>
                    </a:lnTo>
                    <a:lnTo>
                      <a:pt x="114" y="1670"/>
                    </a:lnTo>
                    <a:lnTo>
                      <a:pt x="83" y="1383"/>
                    </a:lnTo>
                    <a:lnTo>
                      <a:pt x="0" y="1173"/>
                    </a:lnTo>
                    <a:lnTo>
                      <a:pt x="57" y="1018"/>
                    </a:lnTo>
                    <a:lnTo>
                      <a:pt x="83" y="862"/>
                    </a:lnTo>
                    <a:lnTo>
                      <a:pt x="114" y="677"/>
                    </a:lnTo>
                    <a:lnTo>
                      <a:pt x="114" y="574"/>
                    </a:lnTo>
                    <a:lnTo>
                      <a:pt x="282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454040" y="6454800"/>
              <a:ext cx="532080" cy="221040"/>
            </a:xfrm>
            <a:custGeom>
              <a:avLst/>
              <a:gdLst/>
              <a:ahLst/>
              <a:rect l="0" t="0" r="r" b="b"/>
              <a:pathLst>
                <a:path w="1478" h="614">
                  <a:moveTo>
                    <a:pt x="0" y="78"/>
                  </a:moveTo>
                  <a:lnTo>
                    <a:pt x="26" y="0"/>
                  </a:lnTo>
                  <a:lnTo>
                    <a:pt x="224" y="24"/>
                  </a:lnTo>
                  <a:lnTo>
                    <a:pt x="418" y="49"/>
                  </a:lnTo>
                  <a:lnTo>
                    <a:pt x="723" y="152"/>
                  </a:lnTo>
                  <a:lnTo>
                    <a:pt x="865" y="206"/>
                  </a:lnTo>
                  <a:lnTo>
                    <a:pt x="1032" y="280"/>
                  </a:lnTo>
                  <a:lnTo>
                    <a:pt x="1226" y="358"/>
                  </a:lnTo>
                  <a:lnTo>
                    <a:pt x="1394" y="437"/>
                  </a:lnTo>
                  <a:lnTo>
                    <a:pt x="1451" y="487"/>
                  </a:lnTo>
                  <a:lnTo>
                    <a:pt x="1478" y="614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6397560"/>
              <a:ext cx="3472200" cy="459000"/>
            </a:xfrm>
            <a:custGeom>
              <a:avLst/>
              <a:gdLst/>
              <a:ahLst/>
              <a:rect l="0" t="0" r="r" b="b"/>
              <a:pathLst>
                <a:path w="9645" h="1275">
                  <a:moveTo>
                    <a:pt x="26" y="886"/>
                  </a:moveTo>
                  <a:lnTo>
                    <a:pt x="383" y="442"/>
                  </a:lnTo>
                  <a:lnTo>
                    <a:pt x="604" y="258"/>
                  </a:lnTo>
                  <a:lnTo>
                    <a:pt x="798" y="102"/>
                  </a:lnTo>
                  <a:lnTo>
                    <a:pt x="912" y="4"/>
                  </a:lnTo>
                  <a:lnTo>
                    <a:pt x="1353" y="0"/>
                  </a:lnTo>
                  <a:lnTo>
                    <a:pt x="2165" y="196"/>
                  </a:lnTo>
                  <a:lnTo>
                    <a:pt x="2226" y="389"/>
                  </a:lnTo>
                  <a:lnTo>
                    <a:pt x="2363" y="573"/>
                  </a:lnTo>
                  <a:lnTo>
                    <a:pt x="2526" y="754"/>
                  </a:lnTo>
                  <a:lnTo>
                    <a:pt x="2610" y="886"/>
                  </a:lnTo>
                  <a:lnTo>
                    <a:pt x="3130" y="598"/>
                  </a:lnTo>
                  <a:lnTo>
                    <a:pt x="3351" y="495"/>
                  </a:lnTo>
                  <a:lnTo>
                    <a:pt x="3655" y="389"/>
                  </a:lnTo>
                  <a:lnTo>
                    <a:pt x="3902" y="180"/>
                  </a:lnTo>
                  <a:lnTo>
                    <a:pt x="4286" y="286"/>
                  </a:lnTo>
                  <a:lnTo>
                    <a:pt x="4616" y="417"/>
                  </a:lnTo>
                  <a:lnTo>
                    <a:pt x="4948" y="545"/>
                  </a:lnTo>
                  <a:lnTo>
                    <a:pt x="5001" y="573"/>
                  </a:lnTo>
                  <a:lnTo>
                    <a:pt x="5248" y="598"/>
                  </a:lnTo>
                  <a:lnTo>
                    <a:pt x="5495" y="886"/>
                  </a:lnTo>
                  <a:lnTo>
                    <a:pt x="5663" y="1041"/>
                  </a:lnTo>
                  <a:lnTo>
                    <a:pt x="5989" y="1197"/>
                  </a:lnTo>
                  <a:lnTo>
                    <a:pt x="6981" y="701"/>
                  </a:lnTo>
                  <a:lnTo>
                    <a:pt x="8436" y="389"/>
                  </a:lnTo>
                  <a:lnTo>
                    <a:pt x="8957" y="573"/>
                  </a:lnTo>
                  <a:lnTo>
                    <a:pt x="9481" y="886"/>
                  </a:lnTo>
                  <a:lnTo>
                    <a:pt x="9645" y="1275"/>
                  </a:lnTo>
                  <a:lnTo>
                    <a:pt x="0" y="1275"/>
                  </a:lnTo>
                  <a:lnTo>
                    <a:pt x="26" y="8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800" y="6472080"/>
              <a:ext cx="439920" cy="295560"/>
            </a:xfrm>
            <a:custGeom>
              <a:avLst/>
              <a:gdLst/>
              <a:ahLst/>
              <a:rect l="0" t="0" r="r" b="b"/>
              <a:pathLst>
                <a:path w="1222" h="821">
                  <a:moveTo>
                    <a:pt x="0" y="0"/>
                  </a:moveTo>
                  <a:lnTo>
                    <a:pt x="582" y="127"/>
                  </a:lnTo>
                  <a:lnTo>
                    <a:pt x="807" y="205"/>
                  </a:lnTo>
                  <a:lnTo>
                    <a:pt x="918" y="258"/>
                  </a:lnTo>
                  <a:lnTo>
                    <a:pt x="1028" y="360"/>
                  </a:lnTo>
                  <a:lnTo>
                    <a:pt x="1112" y="464"/>
                  </a:lnTo>
                  <a:lnTo>
                    <a:pt x="1165" y="566"/>
                  </a:lnTo>
                  <a:lnTo>
                    <a:pt x="1222" y="694"/>
                  </a:lnTo>
                  <a:lnTo>
                    <a:pt x="1138" y="821"/>
                  </a:lnTo>
                  <a:lnTo>
                    <a:pt x="1085" y="694"/>
                  </a:lnTo>
                  <a:lnTo>
                    <a:pt x="1002" y="566"/>
                  </a:lnTo>
                  <a:lnTo>
                    <a:pt x="944" y="464"/>
                  </a:lnTo>
                  <a:lnTo>
                    <a:pt x="860" y="411"/>
                  </a:lnTo>
                  <a:lnTo>
                    <a:pt x="750" y="332"/>
                  </a:lnTo>
                  <a:lnTo>
                    <a:pt x="613" y="282"/>
                  </a:lnTo>
                  <a:lnTo>
                    <a:pt x="414" y="205"/>
                  </a:lnTo>
                  <a:lnTo>
                    <a:pt x="22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583240" y="5535720"/>
              <a:ext cx="1286280" cy="1321200"/>
              <a:chOff x="5583240" y="5535720"/>
              <a:chExt cx="1286280" cy="1321200"/>
            </a:xfrm>
          </p:grpSpPr>
          <p:sp>
            <p:nvSpPr>
              <p:cNvPr id="73" name=""/>
              <p:cNvSpPr/>
              <p:nvPr/>
            </p:nvSpPr>
            <p:spPr>
              <a:xfrm>
                <a:off x="5848200" y="5535720"/>
                <a:ext cx="797400" cy="787680"/>
              </a:xfrm>
              <a:custGeom>
                <a:avLst/>
                <a:gdLst/>
                <a:ahLst/>
                <a:rect l="0" t="0" r="r" b="b"/>
                <a:pathLst>
                  <a:path w="2215" h="2188">
                    <a:moveTo>
                      <a:pt x="1204" y="0"/>
                    </a:moveTo>
                    <a:lnTo>
                      <a:pt x="1010" y="45"/>
                    </a:lnTo>
                    <a:lnTo>
                      <a:pt x="821" y="45"/>
                    </a:lnTo>
                    <a:lnTo>
                      <a:pt x="627" y="135"/>
                    </a:lnTo>
                    <a:lnTo>
                      <a:pt x="432" y="180"/>
                    </a:lnTo>
                    <a:lnTo>
                      <a:pt x="286" y="266"/>
                    </a:lnTo>
                    <a:lnTo>
                      <a:pt x="194" y="401"/>
                    </a:lnTo>
                    <a:lnTo>
                      <a:pt x="145" y="536"/>
                    </a:lnTo>
                    <a:lnTo>
                      <a:pt x="145" y="667"/>
                    </a:lnTo>
                    <a:lnTo>
                      <a:pt x="194" y="802"/>
                    </a:lnTo>
                    <a:lnTo>
                      <a:pt x="97" y="983"/>
                    </a:lnTo>
                    <a:lnTo>
                      <a:pt x="48" y="1115"/>
                    </a:lnTo>
                    <a:lnTo>
                      <a:pt x="0" y="1250"/>
                    </a:lnTo>
                    <a:lnTo>
                      <a:pt x="48" y="1430"/>
                    </a:lnTo>
                    <a:lnTo>
                      <a:pt x="145" y="1520"/>
                    </a:lnTo>
                    <a:lnTo>
                      <a:pt x="286" y="1606"/>
                    </a:lnTo>
                    <a:lnTo>
                      <a:pt x="335" y="1651"/>
                    </a:lnTo>
                    <a:lnTo>
                      <a:pt x="383" y="1741"/>
                    </a:lnTo>
                    <a:lnTo>
                      <a:pt x="335" y="1831"/>
                    </a:lnTo>
                    <a:lnTo>
                      <a:pt x="286" y="1921"/>
                    </a:lnTo>
                    <a:lnTo>
                      <a:pt x="194" y="2053"/>
                    </a:lnTo>
                    <a:lnTo>
                      <a:pt x="286" y="2053"/>
                    </a:lnTo>
                    <a:lnTo>
                      <a:pt x="335" y="2098"/>
                    </a:lnTo>
                    <a:lnTo>
                      <a:pt x="432" y="2098"/>
                    </a:lnTo>
                    <a:lnTo>
                      <a:pt x="480" y="2143"/>
                    </a:lnTo>
                    <a:lnTo>
                      <a:pt x="529" y="2143"/>
                    </a:lnTo>
                    <a:lnTo>
                      <a:pt x="675" y="2188"/>
                    </a:lnTo>
                    <a:lnTo>
                      <a:pt x="1491" y="2143"/>
                    </a:lnTo>
                    <a:lnTo>
                      <a:pt x="1637" y="2143"/>
                    </a:lnTo>
                    <a:lnTo>
                      <a:pt x="1686" y="2098"/>
                    </a:lnTo>
                    <a:lnTo>
                      <a:pt x="1735" y="2098"/>
                    </a:lnTo>
                    <a:lnTo>
                      <a:pt x="1783" y="2053"/>
                    </a:lnTo>
                    <a:lnTo>
                      <a:pt x="1880" y="2098"/>
                    </a:lnTo>
                    <a:lnTo>
                      <a:pt x="1880" y="2053"/>
                    </a:lnTo>
                    <a:lnTo>
                      <a:pt x="1973" y="2053"/>
                    </a:lnTo>
                    <a:lnTo>
                      <a:pt x="2070" y="2008"/>
                    </a:lnTo>
                    <a:lnTo>
                      <a:pt x="1929" y="1967"/>
                    </a:lnTo>
                    <a:lnTo>
                      <a:pt x="1880" y="1876"/>
                    </a:lnTo>
                    <a:lnTo>
                      <a:pt x="1783" y="1741"/>
                    </a:lnTo>
                    <a:lnTo>
                      <a:pt x="1880" y="1696"/>
                    </a:lnTo>
                    <a:lnTo>
                      <a:pt x="2021" y="1606"/>
                    </a:lnTo>
                    <a:lnTo>
                      <a:pt x="2118" y="1520"/>
                    </a:lnTo>
                    <a:lnTo>
                      <a:pt x="2167" y="1385"/>
                    </a:lnTo>
                    <a:lnTo>
                      <a:pt x="2167" y="1115"/>
                    </a:lnTo>
                    <a:lnTo>
                      <a:pt x="2215" y="937"/>
                    </a:lnTo>
                    <a:lnTo>
                      <a:pt x="2167" y="712"/>
                    </a:lnTo>
                    <a:lnTo>
                      <a:pt x="2070" y="581"/>
                    </a:lnTo>
                    <a:lnTo>
                      <a:pt x="1973" y="401"/>
                    </a:lnTo>
                    <a:lnTo>
                      <a:pt x="1783" y="221"/>
                    </a:lnTo>
                    <a:lnTo>
                      <a:pt x="1637" y="135"/>
                    </a:lnTo>
                    <a:lnTo>
                      <a:pt x="1442" y="45"/>
                    </a:lnTo>
                    <a:lnTo>
                      <a:pt x="1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91200" y="6242040"/>
                <a:ext cx="332280" cy="417960"/>
              </a:xfrm>
              <a:custGeom>
                <a:avLst/>
                <a:gdLst/>
                <a:ahLst/>
                <a:rect l="0" t="0" r="r" b="b"/>
                <a:pathLst>
                  <a:path w="923" h="1161">
                    <a:moveTo>
                      <a:pt x="0" y="221"/>
                    </a:moveTo>
                    <a:lnTo>
                      <a:pt x="48" y="357"/>
                    </a:lnTo>
                    <a:lnTo>
                      <a:pt x="0" y="447"/>
                    </a:lnTo>
                    <a:lnTo>
                      <a:pt x="0" y="668"/>
                    </a:lnTo>
                    <a:lnTo>
                      <a:pt x="0" y="759"/>
                    </a:lnTo>
                    <a:lnTo>
                      <a:pt x="48" y="849"/>
                    </a:lnTo>
                    <a:lnTo>
                      <a:pt x="194" y="1026"/>
                    </a:lnTo>
                    <a:lnTo>
                      <a:pt x="340" y="1161"/>
                    </a:lnTo>
                    <a:lnTo>
                      <a:pt x="534" y="1161"/>
                    </a:lnTo>
                    <a:lnTo>
                      <a:pt x="631" y="1116"/>
                    </a:lnTo>
                    <a:lnTo>
                      <a:pt x="729" y="1026"/>
                    </a:lnTo>
                    <a:lnTo>
                      <a:pt x="826" y="895"/>
                    </a:lnTo>
                    <a:lnTo>
                      <a:pt x="923" y="759"/>
                    </a:lnTo>
                    <a:lnTo>
                      <a:pt x="923" y="714"/>
                    </a:lnTo>
                    <a:lnTo>
                      <a:pt x="875" y="623"/>
                    </a:lnTo>
                    <a:lnTo>
                      <a:pt x="826" y="447"/>
                    </a:lnTo>
                    <a:lnTo>
                      <a:pt x="826" y="357"/>
                    </a:lnTo>
                    <a:lnTo>
                      <a:pt x="826" y="221"/>
                    </a:lnTo>
                    <a:lnTo>
                      <a:pt x="826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005520" y="5826240"/>
                <a:ext cx="446400" cy="562320"/>
              </a:xfrm>
              <a:custGeom>
                <a:avLst/>
                <a:gdLst/>
                <a:ahLst/>
                <a:rect l="0" t="0" r="r" b="b"/>
                <a:pathLst>
                  <a:path w="1240" h="1562">
                    <a:moveTo>
                      <a:pt x="48" y="180"/>
                    </a:moveTo>
                    <a:lnTo>
                      <a:pt x="97" y="266"/>
                    </a:lnTo>
                    <a:lnTo>
                      <a:pt x="48" y="401"/>
                    </a:lnTo>
                    <a:lnTo>
                      <a:pt x="48" y="622"/>
                    </a:lnTo>
                    <a:lnTo>
                      <a:pt x="0" y="757"/>
                    </a:lnTo>
                    <a:lnTo>
                      <a:pt x="48" y="849"/>
                    </a:lnTo>
                    <a:lnTo>
                      <a:pt x="48" y="939"/>
                    </a:lnTo>
                    <a:lnTo>
                      <a:pt x="48" y="1025"/>
                    </a:lnTo>
                    <a:lnTo>
                      <a:pt x="97" y="1070"/>
                    </a:lnTo>
                    <a:lnTo>
                      <a:pt x="97" y="1160"/>
                    </a:lnTo>
                    <a:lnTo>
                      <a:pt x="97" y="1205"/>
                    </a:lnTo>
                    <a:lnTo>
                      <a:pt x="141" y="1295"/>
                    </a:lnTo>
                    <a:lnTo>
                      <a:pt x="238" y="1340"/>
                    </a:lnTo>
                    <a:lnTo>
                      <a:pt x="286" y="1426"/>
                    </a:lnTo>
                    <a:lnTo>
                      <a:pt x="335" y="1471"/>
                    </a:lnTo>
                    <a:lnTo>
                      <a:pt x="427" y="1516"/>
                    </a:lnTo>
                    <a:lnTo>
                      <a:pt x="476" y="1562"/>
                    </a:lnTo>
                    <a:lnTo>
                      <a:pt x="573" y="1562"/>
                    </a:lnTo>
                    <a:lnTo>
                      <a:pt x="666" y="1562"/>
                    </a:lnTo>
                    <a:lnTo>
                      <a:pt x="763" y="1516"/>
                    </a:lnTo>
                    <a:lnTo>
                      <a:pt x="812" y="1471"/>
                    </a:lnTo>
                    <a:lnTo>
                      <a:pt x="904" y="1426"/>
                    </a:lnTo>
                    <a:lnTo>
                      <a:pt x="953" y="1340"/>
                    </a:lnTo>
                    <a:lnTo>
                      <a:pt x="1002" y="1295"/>
                    </a:lnTo>
                    <a:lnTo>
                      <a:pt x="1050" y="1250"/>
                    </a:lnTo>
                    <a:lnTo>
                      <a:pt x="1099" y="1205"/>
                    </a:lnTo>
                    <a:lnTo>
                      <a:pt x="1143" y="1070"/>
                    </a:lnTo>
                    <a:lnTo>
                      <a:pt x="1143" y="980"/>
                    </a:lnTo>
                    <a:lnTo>
                      <a:pt x="1191" y="849"/>
                    </a:lnTo>
                    <a:lnTo>
                      <a:pt x="1240" y="667"/>
                    </a:lnTo>
                    <a:lnTo>
                      <a:pt x="1240" y="536"/>
                    </a:lnTo>
                    <a:lnTo>
                      <a:pt x="1240" y="401"/>
                    </a:lnTo>
                    <a:lnTo>
                      <a:pt x="1240" y="311"/>
                    </a:lnTo>
                    <a:lnTo>
                      <a:pt x="1143" y="356"/>
                    </a:lnTo>
                    <a:lnTo>
                      <a:pt x="1240" y="180"/>
                    </a:lnTo>
                    <a:lnTo>
                      <a:pt x="1050" y="221"/>
                    </a:lnTo>
                    <a:lnTo>
                      <a:pt x="1191" y="90"/>
                    </a:lnTo>
                    <a:lnTo>
                      <a:pt x="1143" y="0"/>
                    </a:lnTo>
                    <a:lnTo>
                      <a:pt x="1002" y="180"/>
                    </a:lnTo>
                    <a:lnTo>
                      <a:pt x="763" y="221"/>
                    </a:lnTo>
                    <a:lnTo>
                      <a:pt x="860" y="135"/>
                    </a:lnTo>
                    <a:lnTo>
                      <a:pt x="1002" y="0"/>
                    </a:lnTo>
                    <a:lnTo>
                      <a:pt x="763" y="135"/>
                    </a:lnTo>
                    <a:lnTo>
                      <a:pt x="622" y="221"/>
                    </a:lnTo>
                    <a:lnTo>
                      <a:pt x="286" y="266"/>
                    </a:lnTo>
                    <a:lnTo>
                      <a:pt x="476" y="221"/>
                    </a:lnTo>
                    <a:lnTo>
                      <a:pt x="622" y="135"/>
                    </a:lnTo>
                    <a:lnTo>
                      <a:pt x="286" y="180"/>
                    </a:lnTo>
                    <a:lnTo>
                      <a:pt x="189" y="221"/>
                    </a:lnTo>
                    <a:lnTo>
                      <a:pt x="427" y="45"/>
                    </a:lnTo>
                    <a:lnTo>
                      <a:pt x="189" y="135"/>
                    </a:lnTo>
                    <a:lnTo>
                      <a:pt x="48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91200" y="6018120"/>
                <a:ext cx="70200" cy="25920"/>
              </a:xfrm>
              <a:custGeom>
                <a:avLst/>
                <a:gdLst/>
                <a:ahLst/>
                <a:rect l="0" t="0" r="r" b="b"/>
                <a:pathLst>
                  <a:path w="195" h="72">
                    <a:moveTo>
                      <a:pt x="0" y="36"/>
                    </a:moveTo>
                    <a:lnTo>
                      <a:pt x="0" y="72"/>
                    </a:lnTo>
                    <a:lnTo>
                      <a:pt x="39" y="72"/>
                    </a:lnTo>
                    <a:lnTo>
                      <a:pt x="79" y="72"/>
                    </a:lnTo>
                    <a:lnTo>
                      <a:pt x="155" y="72"/>
                    </a:lnTo>
                    <a:lnTo>
                      <a:pt x="195" y="72"/>
                    </a:lnTo>
                    <a:lnTo>
                      <a:pt x="155" y="36"/>
                    </a:lnTo>
                    <a:lnTo>
                      <a:pt x="115" y="0"/>
                    </a:lnTo>
                    <a:lnTo>
                      <a:pt x="3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278400" y="6032520"/>
                <a:ext cx="71640" cy="25920"/>
              </a:xfrm>
              <a:custGeom>
                <a:avLst/>
                <a:gdLst/>
                <a:ahLst/>
                <a:rect l="0" t="0" r="r" b="b"/>
                <a:pathLst>
                  <a:path w="199" h="72">
                    <a:moveTo>
                      <a:pt x="0" y="36"/>
                    </a:moveTo>
                    <a:lnTo>
                      <a:pt x="0" y="36"/>
                    </a:lnTo>
                    <a:lnTo>
                      <a:pt x="39" y="72"/>
                    </a:lnTo>
                    <a:lnTo>
                      <a:pt x="79" y="72"/>
                    </a:lnTo>
                    <a:lnTo>
                      <a:pt x="120" y="72"/>
                    </a:lnTo>
                    <a:lnTo>
                      <a:pt x="159" y="36"/>
                    </a:lnTo>
                    <a:lnTo>
                      <a:pt x="199" y="36"/>
                    </a:lnTo>
                    <a:lnTo>
                      <a:pt x="120" y="0"/>
                    </a:lnTo>
                    <a:lnTo>
                      <a:pt x="79" y="0"/>
                    </a:lnTo>
                    <a:lnTo>
                      <a:pt x="3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161040" y="6178680"/>
                <a:ext cx="84600" cy="25920"/>
              </a:xfrm>
              <a:custGeom>
                <a:avLst/>
                <a:gdLst/>
                <a:ahLst/>
                <a:rect l="0" t="0" r="r" b="b"/>
                <a:pathLst>
                  <a:path w="235" h="72">
                    <a:moveTo>
                      <a:pt x="0" y="0"/>
                    </a:moveTo>
                    <a:lnTo>
                      <a:pt x="39" y="0"/>
                    </a:lnTo>
                    <a:lnTo>
                      <a:pt x="80" y="0"/>
                    </a:lnTo>
                    <a:lnTo>
                      <a:pt x="120" y="36"/>
                    </a:lnTo>
                    <a:lnTo>
                      <a:pt x="155" y="0"/>
                    </a:lnTo>
                    <a:lnTo>
                      <a:pt x="235" y="0"/>
                    </a:lnTo>
                    <a:lnTo>
                      <a:pt x="196" y="36"/>
                    </a:lnTo>
                    <a:lnTo>
                      <a:pt x="155" y="72"/>
                    </a:lnTo>
                    <a:lnTo>
                      <a:pt x="80" y="72"/>
                    </a:lnTo>
                    <a:lnTo>
                      <a:pt x="80" y="36"/>
                    </a:lnTo>
                    <a:lnTo>
                      <a:pt x="39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26120" y="6242040"/>
                <a:ext cx="152640" cy="25920"/>
              </a:xfrm>
              <a:custGeom>
                <a:avLst/>
                <a:gdLst/>
                <a:ahLst/>
                <a:rect l="0" t="0" r="r" b="b"/>
                <a:pathLst>
                  <a:path w="424" h="72">
                    <a:moveTo>
                      <a:pt x="0" y="72"/>
                    </a:moveTo>
                    <a:lnTo>
                      <a:pt x="0" y="0"/>
                    </a:lnTo>
                    <a:lnTo>
                      <a:pt x="44" y="40"/>
                    </a:lnTo>
                    <a:lnTo>
                      <a:pt x="83" y="40"/>
                    </a:lnTo>
                    <a:lnTo>
                      <a:pt x="167" y="40"/>
                    </a:lnTo>
                    <a:lnTo>
                      <a:pt x="211" y="40"/>
                    </a:lnTo>
                    <a:lnTo>
                      <a:pt x="256" y="40"/>
                    </a:lnTo>
                    <a:lnTo>
                      <a:pt x="296" y="40"/>
                    </a:lnTo>
                    <a:lnTo>
                      <a:pt x="340" y="40"/>
                    </a:lnTo>
                    <a:lnTo>
                      <a:pt x="424" y="40"/>
                    </a:lnTo>
                    <a:lnTo>
                      <a:pt x="424" y="72"/>
                    </a:lnTo>
                    <a:lnTo>
                      <a:pt x="380" y="72"/>
                    </a:lnTo>
                    <a:lnTo>
                      <a:pt x="211" y="72"/>
                    </a:lnTo>
                    <a:lnTo>
                      <a:pt x="127" y="72"/>
                    </a:lnTo>
                    <a:lnTo>
                      <a:pt x="44" y="4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161040" y="62881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0"/>
                    </a:moveTo>
                    <a:lnTo>
                      <a:pt x="35" y="39"/>
                    </a:lnTo>
                    <a:lnTo>
                      <a:pt x="111" y="39"/>
                    </a:lnTo>
                    <a:lnTo>
                      <a:pt x="150" y="39"/>
                    </a:lnTo>
                    <a:lnTo>
                      <a:pt x="186" y="39"/>
                    </a:lnTo>
                    <a:lnTo>
                      <a:pt x="111" y="39"/>
                    </a:lnTo>
                    <a:lnTo>
                      <a:pt x="74" y="72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73920" y="598644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80" y="36"/>
                    </a:lnTo>
                    <a:lnTo>
                      <a:pt x="164" y="36"/>
                    </a:lnTo>
                    <a:lnTo>
                      <a:pt x="244" y="72"/>
                    </a:lnTo>
                    <a:lnTo>
                      <a:pt x="244" y="0"/>
                    </a:lnTo>
                    <a:lnTo>
                      <a:pt x="204" y="0"/>
                    </a:lnTo>
                    <a:lnTo>
                      <a:pt x="164" y="0"/>
                    </a:lnTo>
                    <a:lnTo>
                      <a:pt x="124" y="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264360" y="5986440"/>
                <a:ext cx="120960" cy="25920"/>
              </a:xfrm>
              <a:custGeom>
                <a:avLst/>
                <a:gdLst/>
                <a:ahLst/>
                <a:rect l="0" t="0" r="r" b="b"/>
                <a:pathLst>
                  <a:path w="336" h="72">
                    <a:moveTo>
                      <a:pt x="0" y="72"/>
                    </a:moveTo>
                    <a:lnTo>
                      <a:pt x="83" y="72"/>
                    </a:lnTo>
                    <a:lnTo>
                      <a:pt x="167" y="36"/>
                    </a:lnTo>
                    <a:lnTo>
                      <a:pt x="336" y="72"/>
                    </a:lnTo>
                    <a:lnTo>
                      <a:pt x="212" y="36"/>
                    </a:lnTo>
                    <a:lnTo>
                      <a:pt x="167" y="36"/>
                    </a:lnTo>
                    <a:lnTo>
                      <a:pt x="127" y="36"/>
                    </a:lnTo>
                    <a:lnTo>
                      <a:pt x="83" y="0"/>
                    </a:lnTo>
                    <a:lnTo>
                      <a:pt x="44" y="3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143760" y="60325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332400" y="60498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67280" y="5554800"/>
                <a:ext cx="555840" cy="384480"/>
              </a:xfrm>
              <a:custGeom>
                <a:avLst/>
                <a:gdLst/>
                <a:ahLst/>
                <a:rect l="0" t="0" r="r" b="b"/>
                <a:pathLst>
                  <a:path w="1544" h="1068">
                    <a:moveTo>
                      <a:pt x="374" y="682"/>
                    </a:moveTo>
                    <a:lnTo>
                      <a:pt x="560" y="727"/>
                    </a:lnTo>
                    <a:lnTo>
                      <a:pt x="749" y="727"/>
                    </a:lnTo>
                    <a:lnTo>
                      <a:pt x="935" y="682"/>
                    </a:lnTo>
                    <a:lnTo>
                      <a:pt x="1125" y="555"/>
                    </a:lnTo>
                    <a:lnTo>
                      <a:pt x="1310" y="426"/>
                    </a:lnTo>
                    <a:lnTo>
                      <a:pt x="1495" y="299"/>
                    </a:lnTo>
                    <a:lnTo>
                      <a:pt x="1544" y="127"/>
                    </a:lnTo>
                    <a:lnTo>
                      <a:pt x="1451" y="86"/>
                    </a:lnTo>
                    <a:lnTo>
                      <a:pt x="1262" y="0"/>
                    </a:lnTo>
                    <a:lnTo>
                      <a:pt x="984" y="0"/>
                    </a:lnTo>
                    <a:lnTo>
                      <a:pt x="843" y="86"/>
                    </a:lnTo>
                    <a:lnTo>
                      <a:pt x="749" y="213"/>
                    </a:lnTo>
                    <a:lnTo>
                      <a:pt x="560" y="254"/>
                    </a:lnTo>
                    <a:lnTo>
                      <a:pt x="467" y="254"/>
                    </a:lnTo>
                    <a:lnTo>
                      <a:pt x="652" y="213"/>
                    </a:lnTo>
                    <a:lnTo>
                      <a:pt x="794" y="127"/>
                    </a:lnTo>
                    <a:lnTo>
                      <a:pt x="935" y="0"/>
                    </a:lnTo>
                    <a:lnTo>
                      <a:pt x="749" y="41"/>
                    </a:lnTo>
                    <a:lnTo>
                      <a:pt x="418" y="127"/>
                    </a:lnTo>
                    <a:lnTo>
                      <a:pt x="282" y="213"/>
                    </a:lnTo>
                    <a:lnTo>
                      <a:pt x="185" y="340"/>
                    </a:lnTo>
                    <a:lnTo>
                      <a:pt x="141" y="467"/>
                    </a:lnTo>
                    <a:lnTo>
                      <a:pt x="141" y="513"/>
                    </a:lnTo>
                    <a:lnTo>
                      <a:pt x="141" y="641"/>
                    </a:lnTo>
                    <a:lnTo>
                      <a:pt x="141" y="727"/>
                    </a:lnTo>
                    <a:lnTo>
                      <a:pt x="92" y="813"/>
                    </a:lnTo>
                    <a:lnTo>
                      <a:pt x="48" y="895"/>
                    </a:lnTo>
                    <a:lnTo>
                      <a:pt x="0" y="981"/>
                    </a:lnTo>
                    <a:lnTo>
                      <a:pt x="0" y="1068"/>
                    </a:lnTo>
                    <a:lnTo>
                      <a:pt x="0" y="1027"/>
                    </a:lnTo>
                    <a:lnTo>
                      <a:pt x="92" y="895"/>
                    </a:lnTo>
                    <a:lnTo>
                      <a:pt x="185" y="768"/>
                    </a:lnTo>
                    <a:lnTo>
                      <a:pt x="185" y="682"/>
                    </a:lnTo>
                    <a:lnTo>
                      <a:pt x="185" y="600"/>
                    </a:lnTo>
                    <a:lnTo>
                      <a:pt x="233" y="555"/>
                    </a:lnTo>
                    <a:lnTo>
                      <a:pt x="326" y="555"/>
                    </a:lnTo>
                    <a:lnTo>
                      <a:pt x="418" y="555"/>
                    </a:lnTo>
                    <a:lnTo>
                      <a:pt x="608" y="555"/>
                    </a:lnTo>
                    <a:lnTo>
                      <a:pt x="794" y="426"/>
                    </a:lnTo>
                    <a:lnTo>
                      <a:pt x="843" y="340"/>
                    </a:lnTo>
                    <a:lnTo>
                      <a:pt x="749" y="426"/>
                    </a:lnTo>
                    <a:lnTo>
                      <a:pt x="560" y="513"/>
                    </a:lnTo>
                    <a:lnTo>
                      <a:pt x="467" y="513"/>
                    </a:lnTo>
                    <a:lnTo>
                      <a:pt x="374" y="513"/>
                    </a:lnTo>
                    <a:lnTo>
                      <a:pt x="560" y="513"/>
                    </a:lnTo>
                    <a:lnTo>
                      <a:pt x="701" y="426"/>
                    </a:lnTo>
                    <a:lnTo>
                      <a:pt x="794" y="385"/>
                    </a:lnTo>
                    <a:lnTo>
                      <a:pt x="891" y="299"/>
                    </a:lnTo>
                    <a:lnTo>
                      <a:pt x="891" y="385"/>
                    </a:lnTo>
                    <a:lnTo>
                      <a:pt x="749" y="513"/>
                    </a:lnTo>
                    <a:lnTo>
                      <a:pt x="608" y="600"/>
                    </a:lnTo>
                    <a:lnTo>
                      <a:pt x="467" y="641"/>
                    </a:lnTo>
                    <a:lnTo>
                      <a:pt x="374" y="68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245280" y="5584680"/>
                <a:ext cx="363960" cy="448200"/>
              </a:xfrm>
              <a:custGeom>
                <a:avLst/>
                <a:gdLst/>
                <a:ahLst/>
                <a:rect l="0" t="0" r="r" b="b"/>
                <a:pathLst>
                  <a:path w="1011" h="1245">
                    <a:moveTo>
                      <a:pt x="229" y="471"/>
                    </a:moveTo>
                    <a:lnTo>
                      <a:pt x="136" y="557"/>
                    </a:lnTo>
                    <a:lnTo>
                      <a:pt x="0" y="688"/>
                    </a:lnTo>
                    <a:lnTo>
                      <a:pt x="136" y="643"/>
                    </a:lnTo>
                    <a:lnTo>
                      <a:pt x="322" y="602"/>
                    </a:lnTo>
                    <a:lnTo>
                      <a:pt x="415" y="557"/>
                    </a:lnTo>
                    <a:lnTo>
                      <a:pt x="322" y="688"/>
                    </a:lnTo>
                    <a:lnTo>
                      <a:pt x="229" y="729"/>
                    </a:lnTo>
                    <a:lnTo>
                      <a:pt x="415" y="643"/>
                    </a:lnTo>
                    <a:lnTo>
                      <a:pt x="508" y="602"/>
                    </a:lnTo>
                    <a:lnTo>
                      <a:pt x="688" y="471"/>
                    </a:lnTo>
                    <a:lnTo>
                      <a:pt x="596" y="643"/>
                    </a:lnTo>
                    <a:lnTo>
                      <a:pt x="508" y="729"/>
                    </a:lnTo>
                    <a:lnTo>
                      <a:pt x="415" y="774"/>
                    </a:lnTo>
                    <a:lnTo>
                      <a:pt x="552" y="774"/>
                    </a:lnTo>
                    <a:lnTo>
                      <a:pt x="644" y="729"/>
                    </a:lnTo>
                    <a:lnTo>
                      <a:pt x="737" y="688"/>
                    </a:lnTo>
                    <a:lnTo>
                      <a:pt x="644" y="774"/>
                    </a:lnTo>
                    <a:lnTo>
                      <a:pt x="596" y="860"/>
                    </a:lnTo>
                    <a:lnTo>
                      <a:pt x="508" y="900"/>
                    </a:lnTo>
                    <a:lnTo>
                      <a:pt x="596" y="900"/>
                    </a:lnTo>
                    <a:lnTo>
                      <a:pt x="737" y="860"/>
                    </a:lnTo>
                    <a:lnTo>
                      <a:pt x="688" y="900"/>
                    </a:lnTo>
                    <a:lnTo>
                      <a:pt x="644" y="987"/>
                    </a:lnTo>
                    <a:lnTo>
                      <a:pt x="737" y="900"/>
                    </a:lnTo>
                    <a:lnTo>
                      <a:pt x="737" y="946"/>
                    </a:lnTo>
                    <a:lnTo>
                      <a:pt x="688" y="1073"/>
                    </a:lnTo>
                    <a:lnTo>
                      <a:pt x="596" y="1159"/>
                    </a:lnTo>
                    <a:lnTo>
                      <a:pt x="782" y="1032"/>
                    </a:lnTo>
                    <a:lnTo>
                      <a:pt x="875" y="946"/>
                    </a:lnTo>
                    <a:lnTo>
                      <a:pt x="826" y="1118"/>
                    </a:lnTo>
                    <a:lnTo>
                      <a:pt x="737" y="1159"/>
                    </a:lnTo>
                    <a:lnTo>
                      <a:pt x="644" y="1245"/>
                    </a:lnTo>
                    <a:lnTo>
                      <a:pt x="919" y="1118"/>
                    </a:lnTo>
                    <a:lnTo>
                      <a:pt x="1011" y="946"/>
                    </a:lnTo>
                    <a:lnTo>
                      <a:pt x="1011" y="774"/>
                    </a:lnTo>
                    <a:lnTo>
                      <a:pt x="967" y="602"/>
                    </a:lnTo>
                    <a:lnTo>
                      <a:pt x="919" y="430"/>
                    </a:lnTo>
                    <a:lnTo>
                      <a:pt x="875" y="298"/>
                    </a:lnTo>
                    <a:lnTo>
                      <a:pt x="875" y="385"/>
                    </a:lnTo>
                    <a:lnTo>
                      <a:pt x="782" y="516"/>
                    </a:lnTo>
                    <a:lnTo>
                      <a:pt x="826" y="385"/>
                    </a:lnTo>
                    <a:lnTo>
                      <a:pt x="826" y="257"/>
                    </a:lnTo>
                    <a:lnTo>
                      <a:pt x="782" y="212"/>
                    </a:lnTo>
                    <a:lnTo>
                      <a:pt x="688" y="126"/>
                    </a:lnTo>
                    <a:lnTo>
                      <a:pt x="688" y="257"/>
                    </a:lnTo>
                    <a:lnTo>
                      <a:pt x="644" y="385"/>
                    </a:lnTo>
                    <a:lnTo>
                      <a:pt x="552" y="516"/>
                    </a:lnTo>
                    <a:lnTo>
                      <a:pt x="644" y="344"/>
                    </a:lnTo>
                    <a:lnTo>
                      <a:pt x="644" y="257"/>
                    </a:lnTo>
                    <a:lnTo>
                      <a:pt x="644" y="126"/>
                    </a:lnTo>
                    <a:lnTo>
                      <a:pt x="596" y="85"/>
                    </a:lnTo>
                    <a:lnTo>
                      <a:pt x="552" y="40"/>
                    </a:lnTo>
                    <a:lnTo>
                      <a:pt x="508" y="40"/>
                    </a:lnTo>
                    <a:lnTo>
                      <a:pt x="459" y="0"/>
                    </a:lnTo>
                    <a:lnTo>
                      <a:pt x="459" y="126"/>
                    </a:lnTo>
                    <a:lnTo>
                      <a:pt x="459" y="257"/>
                    </a:lnTo>
                    <a:lnTo>
                      <a:pt x="322" y="430"/>
                    </a:lnTo>
                    <a:lnTo>
                      <a:pt x="229" y="4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48200" y="5808600"/>
                <a:ext cx="157680" cy="303480"/>
              </a:xfrm>
              <a:custGeom>
                <a:avLst/>
                <a:gdLst/>
                <a:ahLst/>
                <a:rect l="0" t="0" r="r" b="b"/>
                <a:pathLst>
                  <a:path w="438" h="843">
                    <a:moveTo>
                      <a:pt x="438" y="126"/>
                    </a:moveTo>
                    <a:lnTo>
                      <a:pt x="350" y="126"/>
                    </a:lnTo>
                    <a:lnTo>
                      <a:pt x="261" y="85"/>
                    </a:lnTo>
                    <a:lnTo>
                      <a:pt x="177" y="40"/>
                    </a:lnTo>
                    <a:lnTo>
                      <a:pt x="221" y="126"/>
                    </a:lnTo>
                    <a:lnTo>
                      <a:pt x="305" y="212"/>
                    </a:lnTo>
                    <a:lnTo>
                      <a:pt x="350" y="212"/>
                    </a:lnTo>
                    <a:lnTo>
                      <a:pt x="305" y="212"/>
                    </a:lnTo>
                    <a:lnTo>
                      <a:pt x="177" y="212"/>
                    </a:lnTo>
                    <a:lnTo>
                      <a:pt x="133" y="167"/>
                    </a:lnTo>
                    <a:lnTo>
                      <a:pt x="221" y="253"/>
                    </a:lnTo>
                    <a:lnTo>
                      <a:pt x="305" y="253"/>
                    </a:lnTo>
                    <a:lnTo>
                      <a:pt x="350" y="253"/>
                    </a:lnTo>
                    <a:lnTo>
                      <a:pt x="305" y="294"/>
                    </a:lnTo>
                    <a:lnTo>
                      <a:pt x="221" y="294"/>
                    </a:lnTo>
                    <a:lnTo>
                      <a:pt x="133" y="253"/>
                    </a:lnTo>
                    <a:lnTo>
                      <a:pt x="221" y="294"/>
                    </a:lnTo>
                    <a:lnTo>
                      <a:pt x="305" y="335"/>
                    </a:lnTo>
                    <a:lnTo>
                      <a:pt x="438" y="294"/>
                    </a:lnTo>
                    <a:lnTo>
                      <a:pt x="350" y="380"/>
                    </a:lnTo>
                    <a:lnTo>
                      <a:pt x="261" y="463"/>
                    </a:lnTo>
                    <a:lnTo>
                      <a:pt x="133" y="463"/>
                    </a:lnTo>
                    <a:lnTo>
                      <a:pt x="221" y="463"/>
                    </a:lnTo>
                    <a:lnTo>
                      <a:pt x="261" y="463"/>
                    </a:lnTo>
                    <a:lnTo>
                      <a:pt x="394" y="421"/>
                    </a:lnTo>
                    <a:lnTo>
                      <a:pt x="438" y="380"/>
                    </a:lnTo>
                    <a:lnTo>
                      <a:pt x="350" y="507"/>
                    </a:lnTo>
                    <a:lnTo>
                      <a:pt x="261" y="507"/>
                    </a:lnTo>
                    <a:lnTo>
                      <a:pt x="221" y="548"/>
                    </a:lnTo>
                    <a:lnTo>
                      <a:pt x="88" y="548"/>
                    </a:lnTo>
                    <a:lnTo>
                      <a:pt x="221" y="589"/>
                    </a:lnTo>
                    <a:lnTo>
                      <a:pt x="350" y="548"/>
                    </a:lnTo>
                    <a:lnTo>
                      <a:pt x="438" y="507"/>
                    </a:lnTo>
                    <a:lnTo>
                      <a:pt x="394" y="589"/>
                    </a:lnTo>
                    <a:lnTo>
                      <a:pt x="305" y="675"/>
                    </a:lnTo>
                    <a:lnTo>
                      <a:pt x="261" y="675"/>
                    </a:lnTo>
                    <a:lnTo>
                      <a:pt x="350" y="634"/>
                    </a:lnTo>
                    <a:lnTo>
                      <a:pt x="438" y="634"/>
                    </a:lnTo>
                    <a:lnTo>
                      <a:pt x="394" y="716"/>
                    </a:lnTo>
                    <a:lnTo>
                      <a:pt x="305" y="757"/>
                    </a:lnTo>
                    <a:lnTo>
                      <a:pt x="261" y="757"/>
                    </a:lnTo>
                    <a:lnTo>
                      <a:pt x="394" y="757"/>
                    </a:lnTo>
                    <a:lnTo>
                      <a:pt x="350" y="843"/>
                    </a:lnTo>
                    <a:lnTo>
                      <a:pt x="261" y="802"/>
                    </a:lnTo>
                    <a:lnTo>
                      <a:pt x="221" y="757"/>
                    </a:lnTo>
                    <a:lnTo>
                      <a:pt x="88" y="675"/>
                    </a:lnTo>
                    <a:lnTo>
                      <a:pt x="177" y="634"/>
                    </a:lnTo>
                    <a:lnTo>
                      <a:pt x="221" y="634"/>
                    </a:lnTo>
                    <a:lnTo>
                      <a:pt x="133" y="634"/>
                    </a:lnTo>
                    <a:lnTo>
                      <a:pt x="44" y="634"/>
                    </a:lnTo>
                    <a:lnTo>
                      <a:pt x="44" y="589"/>
                    </a:lnTo>
                    <a:lnTo>
                      <a:pt x="44" y="548"/>
                    </a:lnTo>
                    <a:lnTo>
                      <a:pt x="0" y="507"/>
                    </a:lnTo>
                    <a:lnTo>
                      <a:pt x="44" y="380"/>
                    </a:lnTo>
                    <a:lnTo>
                      <a:pt x="44" y="335"/>
                    </a:lnTo>
                    <a:lnTo>
                      <a:pt x="88" y="294"/>
                    </a:lnTo>
                    <a:lnTo>
                      <a:pt x="177" y="335"/>
                    </a:lnTo>
                    <a:lnTo>
                      <a:pt x="133" y="294"/>
                    </a:lnTo>
                    <a:lnTo>
                      <a:pt x="88" y="253"/>
                    </a:lnTo>
                    <a:lnTo>
                      <a:pt x="88" y="167"/>
                    </a:lnTo>
                    <a:lnTo>
                      <a:pt x="133" y="126"/>
                    </a:lnTo>
                    <a:lnTo>
                      <a:pt x="133" y="85"/>
                    </a:lnTo>
                    <a:lnTo>
                      <a:pt x="221" y="0"/>
                    </a:lnTo>
                    <a:lnTo>
                      <a:pt x="261" y="40"/>
                    </a:lnTo>
                    <a:lnTo>
                      <a:pt x="305" y="85"/>
                    </a:lnTo>
                    <a:lnTo>
                      <a:pt x="438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423120" y="5986440"/>
                <a:ext cx="170280" cy="192600"/>
              </a:xfrm>
              <a:custGeom>
                <a:avLst/>
                <a:gdLst/>
                <a:ahLst/>
                <a:rect l="0" t="0" r="r" b="b"/>
                <a:pathLst>
                  <a:path w="473" h="535">
                    <a:moveTo>
                      <a:pt x="473" y="0"/>
                    </a:moveTo>
                    <a:lnTo>
                      <a:pt x="344" y="122"/>
                    </a:lnTo>
                    <a:lnTo>
                      <a:pt x="217" y="204"/>
                    </a:lnTo>
                    <a:lnTo>
                      <a:pt x="128" y="204"/>
                    </a:lnTo>
                    <a:lnTo>
                      <a:pt x="217" y="204"/>
                    </a:lnTo>
                    <a:lnTo>
                      <a:pt x="344" y="204"/>
                    </a:lnTo>
                    <a:lnTo>
                      <a:pt x="256" y="245"/>
                    </a:lnTo>
                    <a:lnTo>
                      <a:pt x="172" y="245"/>
                    </a:lnTo>
                    <a:lnTo>
                      <a:pt x="83" y="290"/>
                    </a:lnTo>
                    <a:lnTo>
                      <a:pt x="128" y="290"/>
                    </a:lnTo>
                    <a:lnTo>
                      <a:pt x="217" y="290"/>
                    </a:lnTo>
                    <a:lnTo>
                      <a:pt x="300" y="245"/>
                    </a:lnTo>
                    <a:lnTo>
                      <a:pt x="256" y="290"/>
                    </a:lnTo>
                    <a:lnTo>
                      <a:pt x="128" y="371"/>
                    </a:lnTo>
                    <a:lnTo>
                      <a:pt x="44" y="371"/>
                    </a:lnTo>
                    <a:lnTo>
                      <a:pt x="128" y="371"/>
                    </a:lnTo>
                    <a:lnTo>
                      <a:pt x="256" y="371"/>
                    </a:lnTo>
                    <a:lnTo>
                      <a:pt x="172" y="413"/>
                    </a:lnTo>
                    <a:lnTo>
                      <a:pt x="83" y="413"/>
                    </a:lnTo>
                    <a:lnTo>
                      <a:pt x="44" y="454"/>
                    </a:lnTo>
                    <a:lnTo>
                      <a:pt x="128" y="454"/>
                    </a:lnTo>
                    <a:lnTo>
                      <a:pt x="217" y="413"/>
                    </a:lnTo>
                    <a:lnTo>
                      <a:pt x="44" y="494"/>
                    </a:lnTo>
                    <a:lnTo>
                      <a:pt x="0" y="535"/>
                    </a:lnTo>
                    <a:lnTo>
                      <a:pt x="128" y="494"/>
                    </a:lnTo>
                    <a:lnTo>
                      <a:pt x="217" y="454"/>
                    </a:lnTo>
                    <a:lnTo>
                      <a:pt x="344" y="371"/>
                    </a:lnTo>
                    <a:lnTo>
                      <a:pt x="473" y="245"/>
                    </a:lnTo>
                    <a:lnTo>
                      <a:pt x="429" y="290"/>
                    </a:lnTo>
                    <a:lnTo>
                      <a:pt x="300" y="330"/>
                    </a:lnTo>
                    <a:lnTo>
                      <a:pt x="390" y="290"/>
                    </a:lnTo>
                    <a:lnTo>
                      <a:pt x="473" y="204"/>
                    </a:lnTo>
                    <a:lnTo>
                      <a:pt x="473" y="163"/>
                    </a:lnTo>
                    <a:lnTo>
                      <a:pt x="429" y="204"/>
                    </a:lnTo>
                    <a:lnTo>
                      <a:pt x="390" y="245"/>
                    </a:lnTo>
                    <a:lnTo>
                      <a:pt x="429" y="204"/>
                    </a:lnTo>
                    <a:lnTo>
                      <a:pt x="473" y="122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86480" y="6194520"/>
                <a:ext cx="54360" cy="47880"/>
              </a:xfrm>
              <a:custGeom>
                <a:avLst/>
                <a:gdLst/>
                <a:ahLst/>
                <a:rect l="0" t="0" r="r" b="b"/>
                <a:pathLst>
                  <a:path w="151" h="133">
                    <a:moveTo>
                      <a:pt x="0" y="0"/>
                    </a:moveTo>
                    <a:lnTo>
                      <a:pt x="40" y="69"/>
                    </a:lnTo>
                    <a:lnTo>
                      <a:pt x="75" y="101"/>
                    </a:lnTo>
                    <a:lnTo>
                      <a:pt x="151" y="133"/>
                    </a:lnTo>
                    <a:lnTo>
                      <a:pt x="75" y="101"/>
                    </a:lnTo>
                    <a:lnTo>
                      <a:pt x="4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73880" y="6211800"/>
                <a:ext cx="32040" cy="44640"/>
              </a:xfrm>
              <a:custGeom>
                <a:avLst/>
                <a:gdLst/>
                <a:ahLst/>
                <a:rect l="0" t="0" r="r" b="b"/>
                <a:pathLst>
                  <a:path w="89" h="124">
                    <a:moveTo>
                      <a:pt x="0" y="0"/>
                    </a:moveTo>
                    <a:lnTo>
                      <a:pt x="0" y="61"/>
                    </a:lnTo>
                    <a:lnTo>
                      <a:pt x="58" y="95"/>
                    </a:lnTo>
                    <a:lnTo>
                      <a:pt x="89" y="124"/>
                    </a:lnTo>
                    <a:lnTo>
                      <a:pt x="30" y="95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7160" y="622620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w="72" h="85">
                    <a:moveTo>
                      <a:pt x="40" y="0"/>
                    </a:moveTo>
                    <a:lnTo>
                      <a:pt x="40" y="55"/>
                    </a:lnTo>
                    <a:lnTo>
                      <a:pt x="72" y="85"/>
                    </a:lnTo>
                    <a:lnTo>
                      <a:pt x="0" y="5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02240" y="6211800"/>
                <a:ext cx="25920" cy="76680"/>
              </a:xfrm>
              <a:custGeom>
                <a:avLst/>
                <a:gdLst/>
                <a:ahLst/>
                <a:rect l="0" t="0" r="r" b="b"/>
                <a:pathLst>
                  <a:path w="72" h="213">
                    <a:moveTo>
                      <a:pt x="72" y="0"/>
                    </a:moveTo>
                    <a:lnTo>
                      <a:pt x="38" y="70"/>
                    </a:lnTo>
                    <a:lnTo>
                      <a:pt x="38" y="177"/>
                    </a:lnTo>
                    <a:lnTo>
                      <a:pt x="38" y="213"/>
                    </a:lnTo>
                    <a:lnTo>
                      <a:pt x="0" y="177"/>
                    </a:lnTo>
                    <a:lnTo>
                      <a:pt x="0" y="106"/>
                    </a:lnTo>
                    <a:lnTo>
                      <a:pt x="38" y="7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935680" y="6129360"/>
                <a:ext cx="33840" cy="127440"/>
              </a:xfrm>
              <a:custGeom>
                <a:avLst/>
                <a:gdLst/>
                <a:ahLst/>
                <a:rect l="0" t="0" r="r" b="b"/>
                <a:pathLst>
                  <a:path w="94" h="354">
                    <a:moveTo>
                      <a:pt x="94" y="0"/>
                    </a:moveTo>
                    <a:lnTo>
                      <a:pt x="94" y="77"/>
                    </a:lnTo>
                    <a:lnTo>
                      <a:pt x="62" y="156"/>
                    </a:lnTo>
                    <a:lnTo>
                      <a:pt x="62" y="276"/>
                    </a:lnTo>
                    <a:lnTo>
                      <a:pt x="0" y="354"/>
                    </a:lnTo>
                    <a:lnTo>
                      <a:pt x="62" y="276"/>
                    </a:lnTo>
                    <a:lnTo>
                      <a:pt x="94" y="197"/>
                    </a:lnTo>
                    <a:lnTo>
                      <a:pt x="94" y="119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969160" y="6129360"/>
                <a:ext cx="36720" cy="127440"/>
              </a:xfrm>
              <a:custGeom>
                <a:avLst/>
                <a:gdLst/>
                <a:ahLst/>
                <a:rect l="0" t="0" r="r" b="b"/>
                <a:pathLst>
                  <a:path w="102" h="354">
                    <a:moveTo>
                      <a:pt x="67" y="0"/>
                    </a:moveTo>
                    <a:lnTo>
                      <a:pt x="67" y="119"/>
                    </a:lnTo>
                    <a:lnTo>
                      <a:pt x="67" y="234"/>
                    </a:lnTo>
                    <a:lnTo>
                      <a:pt x="35" y="276"/>
                    </a:lnTo>
                    <a:lnTo>
                      <a:pt x="0" y="354"/>
                    </a:lnTo>
                    <a:lnTo>
                      <a:pt x="67" y="313"/>
                    </a:lnTo>
                    <a:lnTo>
                      <a:pt x="102" y="197"/>
                    </a:lnTo>
                    <a:lnTo>
                      <a:pt x="102" y="11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005520" y="6211800"/>
                <a:ext cx="25920" cy="63720"/>
              </a:xfrm>
              <a:custGeom>
                <a:avLst/>
                <a:gdLst/>
                <a:ahLst/>
                <a:rect l="0" t="0" r="r" b="b"/>
                <a:pathLst>
                  <a:path w="72" h="177">
                    <a:moveTo>
                      <a:pt x="0" y="177"/>
                    </a:moveTo>
                    <a:lnTo>
                      <a:pt x="36" y="107"/>
                    </a:lnTo>
                    <a:lnTo>
                      <a:pt x="36" y="36"/>
                    </a:lnTo>
                    <a:lnTo>
                      <a:pt x="36" y="0"/>
                    </a:lnTo>
                    <a:lnTo>
                      <a:pt x="72" y="107"/>
                    </a:lnTo>
                    <a:lnTo>
                      <a:pt x="72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935680" y="6095880"/>
                <a:ext cx="69840" cy="63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23120" y="6111720"/>
                <a:ext cx="63360" cy="66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583240" y="6419880"/>
                <a:ext cx="1286280" cy="437040"/>
              </a:xfrm>
              <a:custGeom>
                <a:avLst/>
                <a:gdLst/>
                <a:ahLst/>
                <a:rect l="0" t="0" r="r" b="b"/>
                <a:pathLst>
                  <a:path w="3573" h="1214">
                    <a:moveTo>
                      <a:pt x="0" y="1214"/>
                    </a:moveTo>
                    <a:lnTo>
                      <a:pt x="13" y="1190"/>
                    </a:lnTo>
                    <a:lnTo>
                      <a:pt x="39" y="1165"/>
                    </a:lnTo>
                    <a:lnTo>
                      <a:pt x="39" y="1140"/>
                    </a:lnTo>
                    <a:lnTo>
                      <a:pt x="39" y="1120"/>
                    </a:lnTo>
                    <a:lnTo>
                      <a:pt x="39" y="1095"/>
                    </a:lnTo>
                    <a:lnTo>
                      <a:pt x="39" y="1071"/>
                    </a:lnTo>
                    <a:lnTo>
                      <a:pt x="39" y="1046"/>
                    </a:lnTo>
                    <a:lnTo>
                      <a:pt x="39" y="1022"/>
                    </a:lnTo>
                    <a:lnTo>
                      <a:pt x="52" y="997"/>
                    </a:lnTo>
                    <a:lnTo>
                      <a:pt x="66" y="972"/>
                    </a:lnTo>
                    <a:lnTo>
                      <a:pt x="66" y="952"/>
                    </a:lnTo>
                    <a:lnTo>
                      <a:pt x="79" y="927"/>
                    </a:lnTo>
                    <a:lnTo>
                      <a:pt x="79" y="902"/>
                    </a:lnTo>
                    <a:lnTo>
                      <a:pt x="79" y="877"/>
                    </a:lnTo>
                    <a:lnTo>
                      <a:pt x="66" y="853"/>
                    </a:lnTo>
                    <a:lnTo>
                      <a:pt x="66" y="828"/>
                    </a:lnTo>
                    <a:lnTo>
                      <a:pt x="79" y="803"/>
                    </a:lnTo>
                    <a:lnTo>
                      <a:pt x="79" y="779"/>
                    </a:lnTo>
                    <a:lnTo>
                      <a:pt x="79" y="758"/>
                    </a:lnTo>
                    <a:lnTo>
                      <a:pt x="79" y="734"/>
                    </a:lnTo>
                    <a:lnTo>
                      <a:pt x="92" y="709"/>
                    </a:lnTo>
                    <a:lnTo>
                      <a:pt x="105" y="685"/>
                    </a:lnTo>
                    <a:lnTo>
                      <a:pt x="119" y="660"/>
                    </a:lnTo>
                    <a:lnTo>
                      <a:pt x="141" y="648"/>
                    </a:lnTo>
                    <a:lnTo>
                      <a:pt x="154" y="623"/>
                    </a:lnTo>
                    <a:lnTo>
                      <a:pt x="180" y="611"/>
                    </a:lnTo>
                    <a:lnTo>
                      <a:pt x="180" y="590"/>
                    </a:lnTo>
                    <a:lnTo>
                      <a:pt x="194" y="566"/>
                    </a:lnTo>
                    <a:lnTo>
                      <a:pt x="207" y="541"/>
                    </a:lnTo>
                    <a:lnTo>
                      <a:pt x="233" y="529"/>
                    </a:lnTo>
                    <a:lnTo>
                      <a:pt x="260" y="517"/>
                    </a:lnTo>
                    <a:lnTo>
                      <a:pt x="273" y="492"/>
                    </a:lnTo>
                    <a:lnTo>
                      <a:pt x="299" y="492"/>
                    </a:lnTo>
                    <a:lnTo>
                      <a:pt x="326" y="480"/>
                    </a:lnTo>
                    <a:lnTo>
                      <a:pt x="352" y="468"/>
                    </a:lnTo>
                    <a:lnTo>
                      <a:pt x="374" y="455"/>
                    </a:lnTo>
                    <a:lnTo>
                      <a:pt x="401" y="443"/>
                    </a:lnTo>
                    <a:lnTo>
                      <a:pt x="440" y="443"/>
                    </a:lnTo>
                    <a:lnTo>
                      <a:pt x="467" y="435"/>
                    </a:lnTo>
                    <a:lnTo>
                      <a:pt x="493" y="435"/>
                    </a:lnTo>
                    <a:lnTo>
                      <a:pt x="520" y="422"/>
                    </a:lnTo>
                    <a:lnTo>
                      <a:pt x="546" y="422"/>
                    </a:lnTo>
                    <a:lnTo>
                      <a:pt x="573" y="422"/>
                    </a:lnTo>
                    <a:lnTo>
                      <a:pt x="595" y="410"/>
                    </a:lnTo>
                    <a:lnTo>
                      <a:pt x="621" y="398"/>
                    </a:lnTo>
                    <a:lnTo>
                      <a:pt x="648" y="386"/>
                    </a:lnTo>
                    <a:lnTo>
                      <a:pt x="674" y="386"/>
                    </a:lnTo>
                    <a:lnTo>
                      <a:pt x="701" y="373"/>
                    </a:lnTo>
                    <a:lnTo>
                      <a:pt x="727" y="373"/>
                    </a:lnTo>
                    <a:lnTo>
                      <a:pt x="754" y="361"/>
                    </a:lnTo>
                    <a:lnTo>
                      <a:pt x="780" y="361"/>
                    </a:lnTo>
                    <a:lnTo>
                      <a:pt x="820" y="349"/>
                    </a:lnTo>
                    <a:lnTo>
                      <a:pt x="842" y="349"/>
                    </a:lnTo>
                    <a:lnTo>
                      <a:pt x="868" y="336"/>
                    </a:lnTo>
                    <a:lnTo>
                      <a:pt x="896" y="336"/>
                    </a:lnTo>
                    <a:lnTo>
                      <a:pt x="935" y="324"/>
                    </a:lnTo>
                    <a:lnTo>
                      <a:pt x="962" y="312"/>
                    </a:lnTo>
                    <a:lnTo>
                      <a:pt x="988" y="312"/>
                    </a:lnTo>
                    <a:lnTo>
                      <a:pt x="1015" y="299"/>
                    </a:lnTo>
                    <a:lnTo>
                      <a:pt x="1041" y="299"/>
                    </a:lnTo>
                    <a:lnTo>
                      <a:pt x="1068" y="286"/>
                    </a:lnTo>
                    <a:lnTo>
                      <a:pt x="1090" y="274"/>
                    </a:lnTo>
                    <a:lnTo>
                      <a:pt x="1116" y="262"/>
                    </a:lnTo>
                    <a:lnTo>
                      <a:pt x="1143" y="254"/>
                    </a:lnTo>
                    <a:lnTo>
                      <a:pt x="1169" y="241"/>
                    </a:lnTo>
                    <a:lnTo>
                      <a:pt x="1182" y="217"/>
                    </a:lnTo>
                    <a:lnTo>
                      <a:pt x="1209" y="204"/>
                    </a:lnTo>
                    <a:lnTo>
                      <a:pt x="1235" y="192"/>
                    </a:lnTo>
                    <a:lnTo>
                      <a:pt x="1248" y="167"/>
                    </a:lnTo>
                    <a:lnTo>
                      <a:pt x="1275" y="155"/>
                    </a:lnTo>
                    <a:lnTo>
                      <a:pt x="1288" y="131"/>
                    </a:lnTo>
                    <a:lnTo>
                      <a:pt x="1310" y="118"/>
                    </a:lnTo>
                    <a:lnTo>
                      <a:pt x="1323" y="94"/>
                    </a:lnTo>
                    <a:lnTo>
                      <a:pt x="1337" y="73"/>
                    </a:lnTo>
                    <a:lnTo>
                      <a:pt x="1363" y="61"/>
                    </a:lnTo>
                    <a:lnTo>
                      <a:pt x="1376" y="36"/>
                    </a:lnTo>
                    <a:lnTo>
                      <a:pt x="1403" y="36"/>
                    </a:lnTo>
                    <a:lnTo>
                      <a:pt x="2091" y="0"/>
                    </a:lnTo>
                    <a:lnTo>
                      <a:pt x="2117" y="12"/>
                    </a:lnTo>
                    <a:lnTo>
                      <a:pt x="2144" y="12"/>
                    </a:lnTo>
                    <a:lnTo>
                      <a:pt x="2170" y="24"/>
                    </a:lnTo>
                    <a:lnTo>
                      <a:pt x="2197" y="36"/>
                    </a:lnTo>
                    <a:lnTo>
                      <a:pt x="2223" y="61"/>
                    </a:lnTo>
                    <a:lnTo>
                      <a:pt x="2236" y="86"/>
                    </a:lnTo>
                    <a:lnTo>
                      <a:pt x="2263" y="94"/>
                    </a:lnTo>
                    <a:lnTo>
                      <a:pt x="2272" y="118"/>
                    </a:lnTo>
                    <a:lnTo>
                      <a:pt x="2298" y="131"/>
                    </a:lnTo>
                    <a:lnTo>
                      <a:pt x="2311" y="155"/>
                    </a:lnTo>
                    <a:lnTo>
                      <a:pt x="2338" y="167"/>
                    </a:lnTo>
                    <a:lnTo>
                      <a:pt x="2364" y="192"/>
                    </a:lnTo>
                    <a:lnTo>
                      <a:pt x="2391" y="192"/>
                    </a:lnTo>
                    <a:lnTo>
                      <a:pt x="2404" y="217"/>
                    </a:lnTo>
                    <a:lnTo>
                      <a:pt x="2430" y="217"/>
                    </a:lnTo>
                    <a:lnTo>
                      <a:pt x="2470" y="241"/>
                    </a:lnTo>
                    <a:lnTo>
                      <a:pt x="2496" y="254"/>
                    </a:lnTo>
                    <a:lnTo>
                      <a:pt x="2518" y="262"/>
                    </a:lnTo>
                    <a:lnTo>
                      <a:pt x="2545" y="262"/>
                    </a:lnTo>
                    <a:lnTo>
                      <a:pt x="2571" y="262"/>
                    </a:lnTo>
                    <a:lnTo>
                      <a:pt x="2598" y="274"/>
                    </a:lnTo>
                    <a:lnTo>
                      <a:pt x="2624" y="286"/>
                    </a:lnTo>
                    <a:lnTo>
                      <a:pt x="2651" y="299"/>
                    </a:lnTo>
                    <a:lnTo>
                      <a:pt x="2677" y="312"/>
                    </a:lnTo>
                    <a:lnTo>
                      <a:pt x="2705" y="312"/>
                    </a:lnTo>
                    <a:lnTo>
                      <a:pt x="2731" y="324"/>
                    </a:lnTo>
                    <a:lnTo>
                      <a:pt x="2753" y="336"/>
                    </a:lnTo>
                    <a:lnTo>
                      <a:pt x="2780" y="336"/>
                    </a:lnTo>
                    <a:lnTo>
                      <a:pt x="2833" y="349"/>
                    </a:lnTo>
                    <a:lnTo>
                      <a:pt x="2872" y="361"/>
                    </a:lnTo>
                    <a:lnTo>
                      <a:pt x="2912" y="373"/>
                    </a:lnTo>
                    <a:lnTo>
                      <a:pt x="2938" y="373"/>
                    </a:lnTo>
                    <a:lnTo>
                      <a:pt x="2965" y="373"/>
                    </a:lnTo>
                    <a:lnTo>
                      <a:pt x="2987" y="373"/>
                    </a:lnTo>
                    <a:lnTo>
                      <a:pt x="3013" y="373"/>
                    </a:lnTo>
                    <a:lnTo>
                      <a:pt x="3066" y="386"/>
                    </a:lnTo>
                    <a:lnTo>
                      <a:pt x="3093" y="386"/>
                    </a:lnTo>
                    <a:lnTo>
                      <a:pt x="3132" y="398"/>
                    </a:lnTo>
                    <a:lnTo>
                      <a:pt x="3159" y="398"/>
                    </a:lnTo>
                    <a:lnTo>
                      <a:pt x="3185" y="386"/>
                    </a:lnTo>
                    <a:lnTo>
                      <a:pt x="3221" y="386"/>
                    </a:lnTo>
                    <a:lnTo>
                      <a:pt x="3260" y="386"/>
                    </a:lnTo>
                    <a:lnTo>
                      <a:pt x="3287" y="398"/>
                    </a:lnTo>
                    <a:lnTo>
                      <a:pt x="3313" y="410"/>
                    </a:lnTo>
                    <a:lnTo>
                      <a:pt x="3340" y="410"/>
                    </a:lnTo>
                    <a:lnTo>
                      <a:pt x="3353" y="435"/>
                    </a:lnTo>
                    <a:lnTo>
                      <a:pt x="3366" y="455"/>
                    </a:lnTo>
                    <a:lnTo>
                      <a:pt x="3379" y="480"/>
                    </a:lnTo>
                    <a:lnTo>
                      <a:pt x="3406" y="492"/>
                    </a:lnTo>
                    <a:lnTo>
                      <a:pt x="3406" y="517"/>
                    </a:lnTo>
                    <a:lnTo>
                      <a:pt x="3432" y="541"/>
                    </a:lnTo>
                    <a:lnTo>
                      <a:pt x="3445" y="566"/>
                    </a:lnTo>
                    <a:lnTo>
                      <a:pt x="3445" y="590"/>
                    </a:lnTo>
                    <a:lnTo>
                      <a:pt x="3454" y="611"/>
                    </a:lnTo>
                    <a:lnTo>
                      <a:pt x="3454" y="648"/>
                    </a:lnTo>
                    <a:lnTo>
                      <a:pt x="3468" y="672"/>
                    </a:lnTo>
                    <a:lnTo>
                      <a:pt x="3468" y="709"/>
                    </a:lnTo>
                    <a:lnTo>
                      <a:pt x="3468" y="734"/>
                    </a:lnTo>
                    <a:lnTo>
                      <a:pt x="3468" y="771"/>
                    </a:lnTo>
                    <a:lnTo>
                      <a:pt x="3468" y="791"/>
                    </a:lnTo>
                    <a:lnTo>
                      <a:pt x="3481" y="816"/>
                    </a:lnTo>
                    <a:lnTo>
                      <a:pt x="3481" y="840"/>
                    </a:lnTo>
                    <a:lnTo>
                      <a:pt x="3481" y="865"/>
                    </a:lnTo>
                    <a:lnTo>
                      <a:pt x="3481" y="890"/>
                    </a:lnTo>
                    <a:lnTo>
                      <a:pt x="3494" y="915"/>
                    </a:lnTo>
                    <a:lnTo>
                      <a:pt x="3494" y="940"/>
                    </a:lnTo>
                    <a:lnTo>
                      <a:pt x="3507" y="960"/>
                    </a:lnTo>
                    <a:lnTo>
                      <a:pt x="3520" y="985"/>
                    </a:lnTo>
                    <a:lnTo>
                      <a:pt x="3520" y="1034"/>
                    </a:lnTo>
                    <a:lnTo>
                      <a:pt x="3534" y="1071"/>
                    </a:lnTo>
                    <a:lnTo>
                      <a:pt x="3547" y="1095"/>
                    </a:lnTo>
                    <a:lnTo>
                      <a:pt x="3560" y="1120"/>
                    </a:lnTo>
                    <a:lnTo>
                      <a:pt x="3573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926400" y="5645160"/>
              <a:ext cx="810000" cy="1189440"/>
              <a:chOff x="6926400" y="5645160"/>
              <a:chExt cx="810000" cy="1189440"/>
            </a:xfrm>
          </p:grpSpPr>
          <p:sp>
            <p:nvSpPr>
              <p:cNvPr id="100" name=""/>
              <p:cNvSpPr/>
              <p:nvPr/>
            </p:nvSpPr>
            <p:spPr>
              <a:xfrm>
                <a:off x="6945480" y="5662440"/>
                <a:ext cx="748080" cy="1172160"/>
              </a:xfrm>
              <a:custGeom>
                <a:avLst/>
                <a:gdLst/>
                <a:ahLst/>
                <a:rect l="0" t="0" r="r" b="b"/>
                <a:pathLst>
                  <a:path w="2078" h="3256">
                    <a:moveTo>
                      <a:pt x="61" y="1226"/>
                    </a:moveTo>
                    <a:lnTo>
                      <a:pt x="74" y="1353"/>
                    </a:lnTo>
                    <a:lnTo>
                      <a:pt x="0" y="1353"/>
                    </a:lnTo>
                    <a:lnTo>
                      <a:pt x="0" y="1492"/>
                    </a:lnTo>
                    <a:lnTo>
                      <a:pt x="44" y="1550"/>
                    </a:lnTo>
                    <a:lnTo>
                      <a:pt x="74" y="1632"/>
                    </a:lnTo>
                    <a:lnTo>
                      <a:pt x="74" y="1693"/>
                    </a:lnTo>
                    <a:lnTo>
                      <a:pt x="119" y="1792"/>
                    </a:lnTo>
                    <a:lnTo>
                      <a:pt x="141" y="1833"/>
                    </a:lnTo>
                    <a:lnTo>
                      <a:pt x="194" y="1820"/>
                    </a:lnTo>
                    <a:lnTo>
                      <a:pt x="211" y="1804"/>
                    </a:lnTo>
                    <a:lnTo>
                      <a:pt x="246" y="1882"/>
                    </a:lnTo>
                    <a:lnTo>
                      <a:pt x="255" y="2062"/>
                    </a:lnTo>
                    <a:lnTo>
                      <a:pt x="268" y="2111"/>
                    </a:lnTo>
                    <a:lnTo>
                      <a:pt x="291" y="2169"/>
                    </a:lnTo>
                    <a:lnTo>
                      <a:pt x="383" y="2279"/>
                    </a:lnTo>
                    <a:lnTo>
                      <a:pt x="427" y="2361"/>
                    </a:lnTo>
                    <a:lnTo>
                      <a:pt x="449" y="2510"/>
                    </a:lnTo>
                    <a:lnTo>
                      <a:pt x="515" y="2735"/>
                    </a:lnTo>
                    <a:lnTo>
                      <a:pt x="556" y="2809"/>
                    </a:lnTo>
                    <a:lnTo>
                      <a:pt x="587" y="2858"/>
                    </a:lnTo>
                    <a:lnTo>
                      <a:pt x="653" y="2899"/>
                    </a:lnTo>
                    <a:lnTo>
                      <a:pt x="816" y="2965"/>
                    </a:lnTo>
                    <a:lnTo>
                      <a:pt x="1041" y="3084"/>
                    </a:lnTo>
                    <a:lnTo>
                      <a:pt x="1156" y="3256"/>
                    </a:lnTo>
                    <a:lnTo>
                      <a:pt x="1288" y="3067"/>
                    </a:lnTo>
                    <a:lnTo>
                      <a:pt x="1509" y="2875"/>
                    </a:lnTo>
                    <a:lnTo>
                      <a:pt x="1704" y="2678"/>
                    </a:lnTo>
                    <a:lnTo>
                      <a:pt x="1704" y="2386"/>
                    </a:lnTo>
                    <a:lnTo>
                      <a:pt x="1867" y="2218"/>
                    </a:lnTo>
                    <a:lnTo>
                      <a:pt x="1884" y="2161"/>
                    </a:lnTo>
                    <a:lnTo>
                      <a:pt x="1907" y="2091"/>
                    </a:lnTo>
                    <a:lnTo>
                      <a:pt x="1920" y="2001"/>
                    </a:lnTo>
                    <a:lnTo>
                      <a:pt x="1937" y="1804"/>
                    </a:lnTo>
                    <a:lnTo>
                      <a:pt x="1990" y="1820"/>
                    </a:lnTo>
                    <a:lnTo>
                      <a:pt x="2026" y="1792"/>
                    </a:lnTo>
                    <a:lnTo>
                      <a:pt x="2026" y="1763"/>
                    </a:lnTo>
                    <a:lnTo>
                      <a:pt x="2034" y="1640"/>
                    </a:lnTo>
                    <a:lnTo>
                      <a:pt x="2043" y="1583"/>
                    </a:lnTo>
                    <a:lnTo>
                      <a:pt x="2078" y="1423"/>
                    </a:lnTo>
                    <a:lnTo>
                      <a:pt x="2043" y="1353"/>
                    </a:lnTo>
                    <a:lnTo>
                      <a:pt x="2017" y="1324"/>
                    </a:lnTo>
                    <a:lnTo>
                      <a:pt x="1990" y="1316"/>
                    </a:lnTo>
                    <a:lnTo>
                      <a:pt x="2026" y="1165"/>
                    </a:lnTo>
                    <a:lnTo>
                      <a:pt x="2034" y="1046"/>
                    </a:lnTo>
                    <a:lnTo>
                      <a:pt x="2056" y="927"/>
                    </a:lnTo>
                    <a:lnTo>
                      <a:pt x="2078" y="803"/>
                    </a:lnTo>
                    <a:lnTo>
                      <a:pt x="2070" y="676"/>
                    </a:lnTo>
                    <a:lnTo>
                      <a:pt x="2034" y="545"/>
                    </a:lnTo>
                    <a:lnTo>
                      <a:pt x="1990" y="430"/>
                    </a:lnTo>
                    <a:lnTo>
                      <a:pt x="1937" y="348"/>
                    </a:lnTo>
                    <a:lnTo>
                      <a:pt x="1809" y="237"/>
                    </a:lnTo>
                    <a:lnTo>
                      <a:pt x="1673" y="147"/>
                    </a:lnTo>
                    <a:lnTo>
                      <a:pt x="1456" y="57"/>
                    </a:lnTo>
                    <a:lnTo>
                      <a:pt x="1231" y="20"/>
                    </a:lnTo>
                    <a:lnTo>
                      <a:pt x="1041" y="0"/>
                    </a:lnTo>
                    <a:lnTo>
                      <a:pt x="878" y="8"/>
                    </a:lnTo>
                    <a:lnTo>
                      <a:pt x="697" y="40"/>
                    </a:lnTo>
                    <a:lnTo>
                      <a:pt x="471" y="139"/>
                    </a:lnTo>
                    <a:lnTo>
                      <a:pt x="321" y="229"/>
                    </a:lnTo>
                    <a:lnTo>
                      <a:pt x="194" y="356"/>
                    </a:lnTo>
                    <a:lnTo>
                      <a:pt x="119" y="487"/>
                    </a:lnTo>
                    <a:lnTo>
                      <a:pt x="88" y="598"/>
                    </a:lnTo>
                    <a:lnTo>
                      <a:pt x="52" y="786"/>
                    </a:lnTo>
                    <a:lnTo>
                      <a:pt x="52" y="947"/>
                    </a:lnTo>
                    <a:lnTo>
                      <a:pt x="61" y="122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6926400" y="5645160"/>
                <a:ext cx="810000" cy="938520"/>
                <a:chOff x="6926400" y="5645160"/>
                <a:chExt cx="810000" cy="938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388280" y="6049800"/>
                  <a:ext cx="198720" cy="32040"/>
                </a:xfrm>
                <a:custGeom>
                  <a:avLst/>
                  <a:gdLst/>
                  <a:ahLst/>
                  <a:rect l="0" t="0" r="r" b="b"/>
                  <a:pathLst>
                    <a:path w="552" h="89">
                      <a:moveTo>
                        <a:pt x="17" y="12"/>
                      </a:moveTo>
                      <a:lnTo>
                        <a:pt x="145" y="8"/>
                      </a:lnTo>
                      <a:lnTo>
                        <a:pt x="194" y="0"/>
                      </a:lnTo>
                      <a:lnTo>
                        <a:pt x="246" y="0"/>
                      </a:lnTo>
                      <a:lnTo>
                        <a:pt x="367" y="29"/>
                      </a:lnTo>
                      <a:lnTo>
                        <a:pt x="552" y="89"/>
                      </a:lnTo>
                      <a:lnTo>
                        <a:pt x="490" y="80"/>
                      </a:lnTo>
                      <a:lnTo>
                        <a:pt x="428" y="51"/>
                      </a:lnTo>
                      <a:lnTo>
                        <a:pt x="375" y="47"/>
                      </a:lnTo>
                      <a:lnTo>
                        <a:pt x="340" y="37"/>
                      </a:lnTo>
                      <a:lnTo>
                        <a:pt x="305" y="29"/>
                      </a:lnTo>
                      <a:lnTo>
                        <a:pt x="255" y="29"/>
                      </a:lnTo>
                      <a:lnTo>
                        <a:pt x="211" y="29"/>
                      </a:lnTo>
                      <a:lnTo>
                        <a:pt x="185" y="29"/>
                      </a:lnTo>
                      <a:lnTo>
                        <a:pt x="145" y="37"/>
                      </a:lnTo>
                      <a:lnTo>
                        <a:pt x="39" y="51"/>
                      </a:lnTo>
                      <a:lnTo>
                        <a:pt x="8" y="47"/>
                      </a:lnTo>
                      <a:lnTo>
                        <a:pt x="0" y="37"/>
                      </a:lnTo>
                      <a:lnTo>
                        <a:pt x="8" y="29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926400" y="5645160"/>
                  <a:ext cx="810000" cy="530640"/>
                </a:xfrm>
                <a:custGeom>
                  <a:avLst/>
                  <a:gdLst/>
                  <a:ahLst/>
                  <a:rect l="0" t="0" r="r" b="b"/>
                  <a:pathLst>
                    <a:path w="2250" h="1474">
                      <a:moveTo>
                        <a:pt x="52" y="1474"/>
                      </a:moveTo>
                      <a:lnTo>
                        <a:pt x="44" y="1397"/>
                      </a:lnTo>
                      <a:lnTo>
                        <a:pt x="44" y="1253"/>
                      </a:lnTo>
                      <a:lnTo>
                        <a:pt x="30" y="1135"/>
                      </a:lnTo>
                      <a:lnTo>
                        <a:pt x="8" y="999"/>
                      </a:lnTo>
                      <a:lnTo>
                        <a:pt x="0" y="901"/>
                      </a:lnTo>
                      <a:lnTo>
                        <a:pt x="0" y="802"/>
                      </a:lnTo>
                      <a:lnTo>
                        <a:pt x="0" y="655"/>
                      </a:lnTo>
                      <a:lnTo>
                        <a:pt x="8" y="586"/>
                      </a:lnTo>
                      <a:lnTo>
                        <a:pt x="17" y="520"/>
                      </a:lnTo>
                      <a:lnTo>
                        <a:pt x="30" y="479"/>
                      </a:lnTo>
                      <a:lnTo>
                        <a:pt x="44" y="451"/>
                      </a:lnTo>
                      <a:lnTo>
                        <a:pt x="61" y="414"/>
                      </a:lnTo>
                      <a:lnTo>
                        <a:pt x="83" y="381"/>
                      </a:lnTo>
                      <a:lnTo>
                        <a:pt x="105" y="351"/>
                      </a:lnTo>
                      <a:lnTo>
                        <a:pt x="149" y="315"/>
                      </a:lnTo>
                      <a:lnTo>
                        <a:pt x="180" y="282"/>
                      </a:lnTo>
                      <a:lnTo>
                        <a:pt x="233" y="245"/>
                      </a:lnTo>
                      <a:lnTo>
                        <a:pt x="295" y="204"/>
                      </a:lnTo>
                      <a:lnTo>
                        <a:pt x="348" y="167"/>
                      </a:lnTo>
                      <a:lnTo>
                        <a:pt x="432" y="139"/>
                      </a:lnTo>
                      <a:lnTo>
                        <a:pt x="551" y="90"/>
                      </a:lnTo>
                      <a:lnTo>
                        <a:pt x="631" y="57"/>
                      </a:lnTo>
                      <a:lnTo>
                        <a:pt x="728" y="40"/>
                      </a:lnTo>
                      <a:lnTo>
                        <a:pt x="825" y="20"/>
                      </a:lnTo>
                      <a:lnTo>
                        <a:pt x="887" y="8"/>
                      </a:lnTo>
                      <a:lnTo>
                        <a:pt x="962" y="0"/>
                      </a:lnTo>
                      <a:lnTo>
                        <a:pt x="1032" y="0"/>
                      </a:lnTo>
                      <a:lnTo>
                        <a:pt x="1121" y="0"/>
                      </a:lnTo>
                      <a:lnTo>
                        <a:pt x="1257" y="0"/>
                      </a:lnTo>
                      <a:lnTo>
                        <a:pt x="1385" y="8"/>
                      </a:lnTo>
                      <a:lnTo>
                        <a:pt x="1513" y="28"/>
                      </a:lnTo>
                      <a:lnTo>
                        <a:pt x="1566" y="49"/>
                      </a:lnTo>
                      <a:lnTo>
                        <a:pt x="1628" y="69"/>
                      </a:lnTo>
                      <a:lnTo>
                        <a:pt x="1699" y="90"/>
                      </a:lnTo>
                      <a:lnTo>
                        <a:pt x="1752" y="118"/>
                      </a:lnTo>
                      <a:lnTo>
                        <a:pt x="1805" y="155"/>
                      </a:lnTo>
                      <a:lnTo>
                        <a:pt x="1871" y="204"/>
                      </a:lnTo>
                      <a:lnTo>
                        <a:pt x="1902" y="253"/>
                      </a:lnTo>
                      <a:lnTo>
                        <a:pt x="1933" y="323"/>
                      </a:lnTo>
                      <a:lnTo>
                        <a:pt x="2048" y="381"/>
                      </a:lnTo>
                      <a:lnTo>
                        <a:pt x="2083" y="414"/>
                      </a:lnTo>
                      <a:lnTo>
                        <a:pt x="2145" y="463"/>
                      </a:lnTo>
                      <a:lnTo>
                        <a:pt x="2189" y="557"/>
                      </a:lnTo>
                      <a:lnTo>
                        <a:pt x="2198" y="626"/>
                      </a:lnTo>
                      <a:lnTo>
                        <a:pt x="2220" y="725"/>
                      </a:lnTo>
                      <a:lnTo>
                        <a:pt x="2242" y="888"/>
                      </a:lnTo>
                      <a:lnTo>
                        <a:pt x="2250" y="986"/>
                      </a:lnTo>
                      <a:lnTo>
                        <a:pt x="2242" y="1097"/>
                      </a:lnTo>
                      <a:lnTo>
                        <a:pt x="2233" y="1163"/>
                      </a:lnTo>
                      <a:lnTo>
                        <a:pt x="2220" y="1221"/>
                      </a:lnTo>
                      <a:lnTo>
                        <a:pt x="2198" y="1262"/>
                      </a:lnTo>
                      <a:lnTo>
                        <a:pt x="2153" y="1311"/>
                      </a:lnTo>
                      <a:lnTo>
                        <a:pt x="2083" y="1376"/>
                      </a:lnTo>
                      <a:lnTo>
                        <a:pt x="2048" y="1348"/>
                      </a:lnTo>
                      <a:lnTo>
                        <a:pt x="2017" y="1360"/>
                      </a:lnTo>
                      <a:lnTo>
                        <a:pt x="2008" y="1397"/>
                      </a:lnTo>
                      <a:lnTo>
                        <a:pt x="1999" y="1409"/>
                      </a:lnTo>
                      <a:lnTo>
                        <a:pt x="2030" y="1229"/>
                      </a:lnTo>
                      <a:lnTo>
                        <a:pt x="2048" y="1123"/>
                      </a:lnTo>
                      <a:lnTo>
                        <a:pt x="2048" y="1023"/>
                      </a:lnTo>
                      <a:lnTo>
                        <a:pt x="2092" y="888"/>
                      </a:lnTo>
                      <a:lnTo>
                        <a:pt x="2083" y="725"/>
                      </a:lnTo>
                      <a:lnTo>
                        <a:pt x="2061" y="655"/>
                      </a:lnTo>
                      <a:lnTo>
                        <a:pt x="2017" y="594"/>
                      </a:lnTo>
                      <a:lnTo>
                        <a:pt x="1986" y="536"/>
                      </a:lnTo>
                      <a:lnTo>
                        <a:pt x="1964" y="496"/>
                      </a:lnTo>
                      <a:lnTo>
                        <a:pt x="1946" y="463"/>
                      </a:lnTo>
                      <a:lnTo>
                        <a:pt x="1933" y="430"/>
                      </a:lnTo>
                      <a:lnTo>
                        <a:pt x="1924" y="381"/>
                      </a:lnTo>
                      <a:lnTo>
                        <a:pt x="1902" y="381"/>
                      </a:lnTo>
                      <a:lnTo>
                        <a:pt x="1858" y="331"/>
                      </a:lnTo>
                      <a:lnTo>
                        <a:pt x="1805" y="331"/>
                      </a:lnTo>
                      <a:lnTo>
                        <a:pt x="1752" y="339"/>
                      </a:lnTo>
                      <a:lnTo>
                        <a:pt x="1699" y="339"/>
                      </a:lnTo>
                      <a:lnTo>
                        <a:pt x="1645" y="364"/>
                      </a:lnTo>
                      <a:lnTo>
                        <a:pt x="1606" y="373"/>
                      </a:lnTo>
                      <a:lnTo>
                        <a:pt x="1553" y="389"/>
                      </a:lnTo>
                      <a:lnTo>
                        <a:pt x="1500" y="414"/>
                      </a:lnTo>
                      <a:lnTo>
                        <a:pt x="1447" y="438"/>
                      </a:lnTo>
                      <a:lnTo>
                        <a:pt x="1394" y="479"/>
                      </a:lnTo>
                      <a:lnTo>
                        <a:pt x="1341" y="508"/>
                      </a:lnTo>
                      <a:lnTo>
                        <a:pt x="1279" y="545"/>
                      </a:lnTo>
                      <a:lnTo>
                        <a:pt x="1204" y="577"/>
                      </a:lnTo>
                      <a:lnTo>
                        <a:pt x="1173" y="577"/>
                      </a:lnTo>
                      <a:lnTo>
                        <a:pt x="1129" y="586"/>
                      </a:lnTo>
                      <a:lnTo>
                        <a:pt x="1085" y="594"/>
                      </a:lnTo>
                      <a:lnTo>
                        <a:pt x="1032" y="606"/>
                      </a:lnTo>
                      <a:lnTo>
                        <a:pt x="962" y="618"/>
                      </a:lnTo>
                      <a:lnTo>
                        <a:pt x="900" y="626"/>
                      </a:lnTo>
                      <a:lnTo>
                        <a:pt x="847" y="626"/>
                      </a:lnTo>
                      <a:lnTo>
                        <a:pt x="781" y="618"/>
                      </a:lnTo>
                      <a:lnTo>
                        <a:pt x="772" y="606"/>
                      </a:lnTo>
                      <a:lnTo>
                        <a:pt x="684" y="577"/>
                      </a:lnTo>
                      <a:lnTo>
                        <a:pt x="605" y="536"/>
                      </a:lnTo>
                      <a:lnTo>
                        <a:pt x="537" y="496"/>
                      </a:lnTo>
                      <a:lnTo>
                        <a:pt x="454" y="463"/>
                      </a:lnTo>
                      <a:lnTo>
                        <a:pt x="401" y="471"/>
                      </a:lnTo>
                      <a:lnTo>
                        <a:pt x="392" y="471"/>
                      </a:lnTo>
                      <a:lnTo>
                        <a:pt x="370" y="496"/>
                      </a:lnTo>
                      <a:lnTo>
                        <a:pt x="339" y="545"/>
                      </a:lnTo>
                      <a:lnTo>
                        <a:pt x="326" y="618"/>
                      </a:lnTo>
                      <a:lnTo>
                        <a:pt x="295" y="684"/>
                      </a:lnTo>
                      <a:lnTo>
                        <a:pt x="273" y="774"/>
                      </a:lnTo>
                      <a:lnTo>
                        <a:pt x="251" y="790"/>
                      </a:lnTo>
                      <a:lnTo>
                        <a:pt x="211" y="851"/>
                      </a:lnTo>
                      <a:lnTo>
                        <a:pt x="202" y="958"/>
                      </a:lnTo>
                      <a:lnTo>
                        <a:pt x="202" y="1056"/>
                      </a:lnTo>
                      <a:lnTo>
                        <a:pt x="202" y="1147"/>
                      </a:lnTo>
                      <a:lnTo>
                        <a:pt x="211" y="1192"/>
                      </a:lnTo>
                      <a:lnTo>
                        <a:pt x="220" y="1270"/>
                      </a:lnTo>
                      <a:lnTo>
                        <a:pt x="211" y="1311"/>
                      </a:lnTo>
                      <a:lnTo>
                        <a:pt x="189" y="1348"/>
                      </a:lnTo>
                      <a:lnTo>
                        <a:pt x="114" y="1388"/>
                      </a:lnTo>
                      <a:lnTo>
                        <a:pt x="97" y="1397"/>
                      </a:lnTo>
                      <a:lnTo>
                        <a:pt x="83" y="1425"/>
                      </a:lnTo>
                      <a:lnTo>
                        <a:pt x="52" y="14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042320" y="6039000"/>
                  <a:ext cx="197280" cy="25920"/>
                </a:xfrm>
                <a:custGeom>
                  <a:avLst/>
                  <a:gdLst/>
                  <a:ahLst/>
                  <a:rect l="0" t="0" r="r" b="b"/>
                  <a:pathLst>
                    <a:path w="548" h="72">
                      <a:moveTo>
                        <a:pt x="0" y="72"/>
                      </a:moveTo>
                      <a:lnTo>
                        <a:pt x="70" y="45"/>
                      </a:lnTo>
                      <a:lnTo>
                        <a:pt x="132" y="27"/>
                      </a:lnTo>
                      <a:lnTo>
                        <a:pt x="203" y="8"/>
                      </a:lnTo>
                      <a:lnTo>
                        <a:pt x="252" y="0"/>
                      </a:lnTo>
                      <a:lnTo>
                        <a:pt x="296" y="0"/>
                      </a:lnTo>
                      <a:lnTo>
                        <a:pt x="344" y="8"/>
                      </a:lnTo>
                      <a:lnTo>
                        <a:pt x="406" y="17"/>
                      </a:lnTo>
                      <a:lnTo>
                        <a:pt x="447" y="27"/>
                      </a:lnTo>
                      <a:lnTo>
                        <a:pt x="500" y="31"/>
                      </a:lnTo>
                      <a:lnTo>
                        <a:pt x="539" y="40"/>
                      </a:lnTo>
                      <a:lnTo>
                        <a:pt x="548" y="45"/>
                      </a:lnTo>
                      <a:lnTo>
                        <a:pt x="539" y="63"/>
                      </a:lnTo>
                      <a:lnTo>
                        <a:pt x="522" y="63"/>
                      </a:lnTo>
                      <a:lnTo>
                        <a:pt x="447" y="59"/>
                      </a:lnTo>
                      <a:lnTo>
                        <a:pt x="344" y="45"/>
                      </a:lnTo>
                      <a:lnTo>
                        <a:pt x="305" y="40"/>
                      </a:lnTo>
                      <a:lnTo>
                        <a:pt x="274" y="31"/>
                      </a:lnTo>
                      <a:lnTo>
                        <a:pt x="234" y="31"/>
                      </a:lnTo>
                      <a:lnTo>
                        <a:pt x="172" y="40"/>
                      </a:lnTo>
                      <a:lnTo>
                        <a:pt x="110" y="59"/>
                      </a:lnTo>
                      <a:lnTo>
                        <a:pt x="70" y="63"/>
                      </a:lnTo>
                      <a:lnTo>
                        <a:pt x="39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7093080" y="6259680"/>
                  <a:ext cx="376560" cy="324000"/>
                  <a:chOff x="7093080" y="6259680"/>
                  <a:chExt cx="376560" cy="324000"/>
                </a:xfrm>
              </p:grpSpPr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7192800" y="6259680"/>
                    <a:ext cx="259200" cy="187560"/>
                    <a:chOff x="7192800" y="6259680"/>
                    <a:chExt cx="259200" cy="187560"/>
                  </a:xfrm>
                </p:grpSpPr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7229520" y="6259680"/>
                      <a:ext cx="197280" cy="76320"/>
                      <a:chOff x="7229520" y="6259680"/>
                      <a:chExt cx="197280" cy="76320"/>
                    </a:xfrm>
                  </p:grpSpPr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7229520" y="6264360"/>
                        <a:ext cx="16380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55" h="199">
                            <a:moveTo>
                              <a:pt x="35" y="0"/>
                            </a:moveTo>
                            <a:lnTo>
                              <a:pt x="13" y="33"/>
                            </a:lnTo>
                            <a:lnTo>
                              <a:pt x="0" y="49"/>
                            </a:lnTo>
                            <a:lnTo>
                              <a:pt x="0" y="82"/>
                            </a:lnTo>
                            <a:lnTo>
                              <a:pt x="13" y="99"/>
                            </a:lnTo>
                            <a:lnTo>
                              <a:pt x="35" y="120"/>
                            </a:lnTo>
                            <a:lnTo>
                              <a:pt x="66" y="133"/>
                            </a:lnTo>
                            <a:lnTo>
                              <a:pt x="97" y="133"/>
                            </a:lnTo>
                            <a:lnTo>
                              <a:pt x="132" y="141"/>
                            </a:lnTo>
                            <a:lnTo>
                              <a:pt x="176" y="170"/>
                            </a:lnTo>
                            <a:lnTo>
                              <a:pt x="207" y="191"/>
                            </a:lnTo>
                            <a:lnTo>
                              <a:pt x="247" y="199"/>
                            </a:lnTo>
                            <a:lnTo>
                              <a:pt x="292" y="199"/>
                            </a:lnTo>
                            <a:lnTo>
                              <a:pt x="349" y="191"/>
                            </a:lnTo>
                            <a:lnTo>
                              <a:pt x="367" y="170"/>
                            </a:lnTo>
                            <a:lnTo>
                              <a:pt x="402" y="149"/>
                            </a:lnTo>
                            <a:lnTo>
                              <a:pt x="411" y="133"/>
                            </a:lnTo>
                            <a:lnTo>
                              <a:pt x="455" y="133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7400880" y="6259680"/>
                        <a:ext cx="259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94">
                            <a:moveTo>
                              <a:pt x="0" y="0"/>
                            </a:moveTo>
                            <a:lnTo>
                              <a:pt x="48" y="30"/>
                            </a:lnTo>
                            <a:lnTo>
                              <a:pt x="72" y="51"/>
                            </a:lnTo>
                            <a:lnTo>
                              <a:pt x="72" y="81"/>
                            </a:lnTo>
                            <a:lnTo>
                              <a:pt x="48" y="9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" name=""/>
                    <p:cNvGrpSpPr/>
                    <p:nvPr/>
                  </p:nvGrpSpPr>
                  <p:grpSpPr>
                    <a:xfrm>
                      <a:off x="7192800" y="6350040"/>
                      <a:ext cx="259200" cy="97200"/>
                      <a:chOff x="7192800" y="6350040"/>
                      <a:chExt cx="259200" cy="97200"/>
                    </a:xfrm>
                  </p:grpSpPr>
                  <p:grpSp>
                    <p:nvGrpSpPr>
                      <p:cNvPr id="111" name=""/>
                      <p:cNvGrpSpPr/>
                      <p:nvPr/>
                    </p:nvGrpSpPr>
                    <p:grpSpPr>
                      <a:xfrm>
                        <a:off x="7192800" y="6350040"/>
                        <a:ext cx="259200" cy="56160"/>
                        <a:chOff x="7192800" y="6350040"/>
                        <a:chExt cx="259200" cy="56160"/>
                      </a:xfrm>
                    </p:grpSpPr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>
                          <a:off x="7192800" y="6350040"/>
                          <a:ext cx="259200" cy="43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0" h="120">
                              <a:moveTo>
                                <a:pt x="52" y="49"/>
                              </a:moveTo>
                              <a:lnTo>
                                <a:pt x="0" y="0"/>
                              </a:lnTo>
                              <a:lnTo>
                                <a:pt x="35" y="8"/>
                              </a:lnTo>
                              <a:lnTo>
                                <a:pt x="74" y="8"/>
                              </a:lnTo>
                              <a:lnTo>
                                <a:pt x="119" y="8"/>
                              </a:lnTo>
                              <a:lnTo>
                                <a:pt x="158" y="8"/>
                              </a:lnTo>
                              <a:lnTo>
                                <a:pt x="195" y="20"/>
                              </a:lnTo>
                              <a:lnTo>
                                <a:pt x="239" y="28"/>
                              </a:lnTo>
                              <a:lnTo>
                                <a:pt x="269" y="41"/>
                              </a:lnTo>
                              <a:lnTo>
                                <a:pt x="300" y="49"/>
                              </a:lnTo>
                              <a:lnTo>
                                <a:pt x="336" y="49"/>
                              </a:lnTo>
                              <a:lnTo>
                                <a:pt x="375" y="62"/>
                              </a:lnTo>
                              <a:lnTo>
                                <a:pt x="419" y="49"/>
                              </a:lnTo>
                              <a:lnTo>
                                <a:pt x="441" y="41"/>
                              </a:lnTo>
                              <a:lnTo>
                                <a:pt x="486" y="41"/>
                              </a:lnTo>
                              <a:lnTo>
                                <a:pt x="525" y="41"/>
                              </a:lnTo>
                              <a:lnTo>
                                <a:pt x="592" y="49"/>
                              </a:lnTo>
                              <a:lnTo>
                                <a:pt x="645" y="62"/>
                              </a:lnTo>
                              <a:lnTo>
                                <a:pt x="685" y="70"/>
                              </a:lnTo>
                              <a:lnTo>
                                <a:pt x="720" y="70"/>
                              </a:lnTo>
                              <a:lnTo>
                                <a:pt x="685" y="79"/>
                              </a:lnTo>
                              <a:lnTo>
                                <a:pt x="667" y="91"/>
                              </a:lnTo>
                              <a:lnTo>
                                <a:pt x="645" y="111"/>
                              </a:lnTo>
                              <a:lnTo>
                                <a:pt x="623" y="120"/>
                              </a:lnTo>
                              <a:lnTo>
                                <a:pt x="52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7920" bIns="-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>
                          <a:off x="7229520" y="6380280"/>
                          <a:ext cx="174960" cy="25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486" h="72">
                              <a:moveTo>
                                <a:pt x="0" y="0"/>
                              </a:moveTo>
                              <a:lnTo>
                                <a:pt x="44" y="28"/>
                              </a:lnTo>
                              <a:lnTo>
                                <a:pt x="88" y="44"/>
                              </a:lnTo>
                              <a:lnTo>
                                <a:pt x="132" y="64"/>
                              </a:lnTo>
                              <a:lnTo>
                                <a:pt x="158" y="72"/>
                              </a:lnTo>
                              <a:lnTo>
                                <a:pt x="229" y="72"/>
                              </a:lnTo>
                              <a:lnTo>
                                <a:pt x="269" y="72"/>
                              </a:lnTo>
                              <a:lnTo>
                                <a:pt x="327" y="72"/>
                              </a:lnTo>
                              <a:lnTo>
                                <a:pt x="367" y="72"/>
                              </a:lnTo>
                              <a:lnTo>
                                <a:pt x="397" y="72"/>
                              </a:lnTo>
                              <a:lnTo>
                                <a:pt x="441" y="64"/>
                              </a:lnTo>
                              <a:lnTo>
                                <a:pt x="472" y="56"/>
                              </a:lnTo>
                              <a:lnTo>
                                <a:pt x="486" y="4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7243920" y="6421320"/>
                        <a:ext cx="1335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72">
                            <a:moveTo>
                              <a:pt x="0" y="0"/>
                            </a:moveTo>
                            <a:lnTo>
                              <a:pt x="35" y="17"/>
                            </a:lnTo>
                            <a:lnTo>
                              <a:pt x="61" y="40"/>
                            </a:lnTo>
                            <a:lnTo>
                              <a:pt x="97" y="53"/>
                            </a:lnTo>
                            <a:lnTo>
                              <a:pt x="149" y="63"/>
                            </a:lnTo>
                            <a:lnTo>
                              <a:pt x="203" y="72"/>
                            </a:lnTo>
                            <a:lnTo>
                              <a:pt x="265" y="72"/>
                            </a:lnTo>
                            <a:lnTo>
                              <a:pt x="318" y="72"/>
                            </a:lnTo>
                            <a:lnTo>
                              <a:pt x="371" y="6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5" name=""/>
                  <p:cNvSpPr/>
                  <p:nvPr/>
                </p:nvSpPr>
                <p:spPr>
                  <a:xfrm>
                    <a:off x="7093080" y="6486480"/>
                    <a:ext cx="376560" cy="97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46" h="270">
                        <a:moveTo>
                          <a:pt x="0" y="0"/>
                        </a:moveTo>
                        <a:lnTo>
                          <a:pt x="74" y="48"/>
                        </a:lnTo>
                        <a:lnTo>
                          <a:pt x="141" y="86"/>
                        </a:lnTo>
                        <a:lnTo>
                          <a:pt x="211" y="127"/>
                        </a:lnTo>
                        <a:lnTo>
                          <a:pt x="277" y="176"/>
                        </a:lnTo>
                        <a:lnTo>
                          <a:pt x="352" y="205"/>
                        </a:lnTo>
                        <a:lnTo>
                          <a:pt x="449" y="230"/>
                        </a:lnTo>
                        <a:lnTo>
                          <a:pt x="534" y="254"/>
                        </a:lnTo>
                        <a:lnTo>
                          <a:pt x="640" y="262"/>
                        </a:lnTo>
                        <a:lnTo>
                          <a:pt x="759" y="270"/>
                        </a:lnTo>
                        <a:lnTo>
                          <a:pt x="843" y="270"/>
                        </a:lnTo>
                        <a:lnTo>
                          <a:pt x="957" y="254"/>
                        </a:lnTo>
                        <a:lnTo>
                          <a:pt x="1046" y="2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" name=""/>
              <p:cNvGrpSpPr/>
              <p:nvPr/>
            </p:nvGrpSpPr>
            <p:grpSpPr>
              <a:xfrm>
                <a:off x="7102440" y="6089760"/>
                <a:ext cx="451440" cy="58680"/>
                <a:chOff x="7102440" y="6089760"/>
                <a:chExt cx="451440" cy="5868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7396200" y="6099120"/>
                  <a:ext cx="157680" cy="49320"/>
                  <a:chOff x="7396200" y="6099120"/>
                  <a:chExt cx="157680" cy="4932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7396200" y="6103800"/>
                    <a:ext cx="13860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111">
                        <a:moveTo>
                          <a:pt x="0" y="86"/>
                        </a:moveTo>
                        <a:lnTo>
                          <a:pt x="8" y="70"/>
                        </a:lnTo>
                        <a:lnTo>
                          <a:pt x="30" y="53"/>
                        </a:lnTo>
                        <a:lnTo>
                          <a:pt x="48" y="44"/>
                        </a:lnTo>
                        <a:lnTo>
                          <a:pt x="88" y="32"/>
                        </a:lnTo>
                        <a:lnTo>
                          <a:pt x="137" y="8"/>
                        </a:lnTo>
                        <a:lnTo>
                          <a:pt x="168" y="0"/>
                        </a:lnTo>
                        <a:lnTo>
                          <a:pt x="217" y="0"/>
                        </a:lnTo>
                        <a:lnTo>
                          <a:pt x="269" y="8"/>
                        </a:lnTo>
                        <a:lnTo>
                          <a:pt x="297" y="20"/>
                        </a:lnTo>
                        <a:lnTo>
                          <a:pt x="328" y="40"/>
                        </a:lnTo>
                        <a:lnTo>
                          <a:pt x="359" y="53"/>
                        </a:lnTo>
                        <a:lnTo>
                          <a:pt x="385" y="78"/>
                        </a:lnTo>
                        <a:lnTo>
                          <a:pt x="345" y="94"/>
                        </a:lnTo>
                        <a:lnTo>
                          <a:pt x="319" y="103"/>
                        </a:lnTo>
                        <a:lnTo>
                          <a:pt x="278" y="111"/>
                        </a:lnTo>
                        <a:lnTo>
                          <a:pt x="217" y="111"/>
                        </a:lnTo>
                        <a:lnTo>
                          <a:pt x="168" y="111"/>
                        </a:lnTo>
                        <a:lnTo>
                          <a:pt x="120" y="103"/>
                        </a:lnTo>
                        <a:lnTo>
                          <a:pt x="70" y="94"/>
                        </a:lnTo>
                        <a:lnTo>
                          <a:pt x="8" y="94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437600" y="6099120"/>
                    <a:ext cx="60480" cy="49320"/>
                    <a:chOff x="7437600" y="6099120"/>
                    <a:chExt cx="60480" cy="4932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437600" y="6099120"/>
                      <a:ext cx="60480" cy="4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446960" y="6103800"/>
                      <a:ext cx="42840" cy="44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453440" y="6110280"/>
                      <a:ext cx="30240" cy="30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" name=""/>
                  <p:cNvSpPr/>
                  <p:nvPr/>
                </p:nvSpPr>
                <p:spPr>
                  <a:xfrm>
                    <a:off x="7396200" y="6103800"/>
                    <a:ext cx="15768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w="438" h="98">
                        <a:moveTo>
                          <a:pt x="0" y="98"/>
                        </a:moveTo>
                        <a:lnTo>
                          <a:pt x="22" y="89"/>
                        </a:lnTo>
                        <a:lnTo>
                          <a:pt x="44" y="69"/>
                        </a:lnTo>
                        <a:lnTo>
                          <a:pt x="74" y="48"/>
                        </a:lnTo>
                        <a:lnTo>
                          <a:pt x="97" y="28"/>
                        </a:lnTo>
                        <a:lnTo>
                          <a:pt x="128" y="20"/>
                        </a:lnTo>
                        <a:lnTo>
                          <a:pt x="181" y="0"/>
                        </a:lnTo>
                        <a:lnTo>
                          <a:pt x="212" y="0"/>
                        </a:lnTo>
                        <a:lnTo>
                          <a:pt x="247" y="0"/>
                        </a:lnTo>
                        <a:lnTo>
                          <a:pt x="287" y="8"/>
                        </a:lnTo>
                        <a:lnTo>
                          <a:pt x="318" y="28"/>
                        </a:lnTo>
                        <a:lnTo>
                          <a:pt x="363" y="48"/>
                        </a:lnTo>
                        <a:lnTo>
                          <a:pt x="394" y="77"/>
                        </a:lnTo>
                        <a:lnTo>
                          <a:pt x="416" y="89"/>
                        </a:lnTo>
                        <a:lnTo>
                          <a:pt x="438" y="98"/>
                        </a:lnTo>
                        <a:lnTo>
                          <a:pt x="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102440" y="6089760"/>
                  <a:ext cx="159120" cy="42840"/>
                  <a:chOff x="7102440" y="6089760"/>
                  <a:chExt cx="159120" cy="4284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7112160" y="6089760"/>
                    <a:ext cx="1400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16">
                        <a:moveTo>
                          <a:pt x="389" y="92"/>
                        </a:moveTo>
                        <a:lnTo>
                          <a:pt x="380" y="74"/>
                        </a:lnTo>
                        <a:lnTo>
                          <a:pt x="358" y="66"/>
                        </a:lnTo>
                        <a:lnTo>
                          <a:pt x="340" y="50"/>
                        </a:lnTo>
                        <a:lnTo>
                          <a:pt x="309" y="33"/>
                        </a:lnTo>
                        <a:lnTo>
                          <a:pt x="247" y="16"/>
                        </a:lnTo>
                        <a:lnTo>
                          <a:pt x="217" y="8"/>
                        </a:lnTo>
                        <a:lnTo>
                          <a:pt x="167" y="0"/>
                        </a:lnTo>
                        <a:lnTo>
                          <a:pt x="119" y="8"/>
                        </a:lnTo>
                        <a:lnTo>
                          <a:pt x="88" y="24"/>
                        </a:lnTo>
                        <a:lnTo>
                          <a:pt x="57" y="41"/>
                        </a:lnTo>
                        <a:lnTo>
                          <a:pt x="30" y="66"/>
                        </a:lnTo>
                        <a:lnTo>
                          <a:pt x="0" y="82"/>
                        </a:lnTo>
                        <a:lnTo>
                          <a:pt x="39" y="100"/>
                        </a:lnTo>
                        <a:lnTo>
                          <a:pt x="66" y="108"/>
                        </a:lnTo>
                        <a:lnTo>
                          <a:pt x="110" y="116"/>
                        </a:lnTo>
                        <a:lnTo>
                          <a:pt x="167" y="116"/>
                        </a:lnTo>
                        <a:lnTo>
                          <a:pt x="217" y="116"/>
                        </a:lnTo>
                        <a:lnTo>
                          <a:pt x="278" y="116"/>
                        </a:lnTo>
                        <a:lnTo>
                          <a:pt x="331" y="100"/>
                        </a:lnTo>
                        <a:lnTo>
                          <a:pt x="380" y="100"/>
                        </a:lnTo>
                        <a:lnTo>
                          <a:pt x="389" y="9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7151760" y="6089760"/>
                    <a:ext cx="54000" cy="42840"/>
                    <a:chOff x="7151760" y="6089760"/>
                    <a:chExt cx="54000" cy="4284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7151760" y="6089760"/>
                      <a:ext cx="54000" cy="42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7156440" y="6091200"/>
                      <a:ext cx="44280" cy="41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159680" y="6094440"/>
                      <a:ext cx="34920" cy="3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" name=""/>
                  <p:cNvSpPr/>
                  <p:nvPr/>
                </p:nvSpPr>
                <p:spPr>
                  <a:xfrm>
                    <a:off x="7102440" y="6089760"/>
                    <a:ext cx="1591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442" h="107">
                        <a:moveTo>
                          <a:pt x="442" y="107"/>
                        </a:moveTo>
                        <a:lnTo>
                          <a:pt x="434" y="91"/>
                        </a:lnTo>
                        <a:lnTo>
                          <a:pt x="398" y="66"/>
                        </a:lnTo>
                        <a:lnTo>
                          <a:pt x="376" y="49"/>
                        </a:lnTo>
                        <a:lnTo>
                          <a:pt x="345" y="29"/>
                        </a:lnTo>
                        <a:lnTo>
                          <a:pt x="309" y="16"/>
                        </a:lnTo>
                        <a:lnTo>
                          <a:pt x="256" y="8"/>
                        </a:lnTo>
                        <a:lnTo>
                          <a:pt x="225" y="0"/>
                        </a:lnTo>
                        <a:lnTo>
                          <a:pt x="195" y="0"/>
                        </a:lnTo>
                        <a:lnTo>
                          <a:pt x="150" y="8"/>
                        </a:lnTo>
                        <a:lnTo>
                          <a:pt x="120" y="29"/>
                        </a:lnTo>
                        <a:lnTo>
                          <a:pt x="83" y="49"/>
                        </a:lnTo>
                        <a:lnTo>
                          <a:pt x="39" y="78"/>
                        </a:lnTo>
                        <a:lnTo>
                          <a:pt x="22" y="99"/>
                        </a:lnTo>
                        <a:lnTo>
                          <a:pt x="0" y="99"/>
                        </a:lnTo>
                        <a:lnTo>
                          <a:pt x="442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31" name=""/>
            <p:cNvSpPr/>
            <p:nvPr/>
          </p:nvSpPr>
          <p:spPr>
            <a:xfrm>
              <a:off x="6692760" y="6611760"/>
              <a:ext cx="1262520" cy="236880"/>
            </a:xfrm>
            <a:custGeom>
              <a:avLst/>
              <a:gdLst/>
              <a:ahLst/>
              <a:rect l="0" t="0" r="r" b="b"/>
              <a:pathLst>
                <a:path w="3507" h="658">
                  <a:moveTo>
                    <a:pt x="0" y="658"/>
                  </a:moveTo>
                  <a:lnTo>
                    <a:pt x="97" y="564"/>
                  </a:lnTo>
                  <a:lnTo>
                    <a:pt x="189" y="470"/>
                  </a:lnTo>
                  <a:lnTo>
                    <a:pt x="238" y="376"/>
                  </a:lnTo>
                  <a:lnTo>
                    <a:pt x="335" y="331"/>
                  </a:lnTo>
                  <a:lnTo>
                    <a:pt x="379" y="236"/>
                  </a:lnTo>
                  <a:lnTo>
                    <a:pt x="476" y="187"/>
                  </a:lnTo>
                  <a:lnTo>
                    <a:pt x="568" y="93"/>
                  </a:lnTo>
                  <a:lnTo>
                    <a:pt x="665" y="93"/>
                  </a:lnTo>
                  <a:lnTo>
                    <a:pt x="758" y="48"/>
                  </a:lnTo>
                  <a:lnTo>
                    <a:pt x="904" y="0"/>
                  </a:lnTo>
                  <a:lnTo>
                    <a:pt x="1046" y="0"/>
                  </a:lnTo>
                  <a:lnTo>
                    <a:pt x="1187" y="0"/>
                  </a:lnTo>
                  <a:lnTo>
                    <a:pt x="1328" y="0"/>
                  </a:lnTo>
                  <a:lnTo>
                    <a:pt x="1469" y="0"/>
                  </a:lnTo>
                  <a:lnTo>
                    <a:pt x="1614" y="48"/>
                  </a:lnTo>
                  <a:lnTo>
                    <a:pt x="1756" y="48"/>
                  </a:lnTo>
                  <a:lnTo>
                    <a:pt x="1897" y="48"/>
                  </a:lnTo>
                  <a:lnTo>
                    <a:pt x="2038" y="48"/>
                  </a:lnTo>
                  <a:lnTo>
                    <a:pt x="2183" y="0"/>
                  </a:lnTo>
                  <a:lnTo>
                    <a:pt x="2324" y="0"/>
                  </a:lnTo>
                  <a:lnTo>
                    <a:pt x="2466" y="0"/>
                  </a:lnTo>
                  <a:lnTo>
                    <a:pt x="2607" y="0"/>
                  </a:lnTo>
                  <a:lnTo>
                    <a:pt x="2749" y="48"/>
                  </a:lnTo>
                  <a:lnTo>
                    <a:pt x="2894" y="93"/>
                  </a:lnTo>
                  <a:lnTo>
                    <a:pt x="3035" y="138"/>
                  </a:lnTo>
                  <a:lnTo>
                    <a:pt x="3177" y="187"/>
                  </a:lnTo>
                  <a:lnTo>
                    <a:pt x="3225" y="331"/>
                  </a:lnTo>
                  <a:lnTo>
                    <a:pt x="3318" y="331"/>
                  </a:lnTo>
                  <a:lnTo>
                    <a:pt x="3410" y="470"/>
                  </a:lnTo>
                  <a:lnTo>
                    <a:pt x="3507" y="564"/>
                  </a:lnTo>
                  <a:lnTo>
                    <a:pt x="3507" y="658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640400" y="5667480"/>
              <a:ext cx="954360" cy="973440"/>
              <a:chOff x="4640400" y="5667480"/>
              <a:chExt cx="954360" cy="973440"/>
            </a:xfrm>
          </p:grpSpPr>
          <p:sp>
            <p:nvSpPr>
              <p:cNvPr id="133" name=""/>
              <p:cNvSpPr/>
              <p:nvPr/>
            </p:nvSpPr>
            <p:spPr>
              <a:xfrm>
                <a:off x="4807080" y="5810400"/>
                <a:ext cx="530640" cy="830520"/>
              </a:xfrm>
              <a:custGeom>
                <a:avLst/>
                <a:gdLst/>
                <a:ahLst/>
                <a:rect l="0" t="0" r="r" b="b"/>
                <a:pathLst>
                  <a:path w="1474" h="2307">
                    <a:moveTo>
                      <a:pt x="26" y="811"/>
                    </a:moveTo>
                    <a:lnTo>
                      <a:pt x="39" y="778"/>
                    </a:lnTo>
                    <a:lnTo>
                      <a:pt x="39" y="491"/>
                    </a:lnTo>
                    <a:lnTo>
                      <a:pt x="52" y="368"/>
                    </a:lnTo>
                    <a:lnTo>
                      <a:pt x="79" y="274"/>
                    </a:lnTo>
                    <a:lnTo>
                      <a:pt x="114" y="204"/>
                    </a:lnTo>
                    <a:lnTo>
                      <a:pt x="207" y="131"/>
                    </a:lnTo>
                    <a:lnTo>
                      <a:pt x="295" y="73"/>
                    </a:lnTo>
                    <a:lnTo>
                      <a:pt x="389" y="12"/>
                    </a:lnTo>
                    <a:lnTo>
                      <a:pt x="490" y="0"/>
                    </a:lnTo>
                    <a:lnTo>
                      <a:pt x="658" y="0"/>
                    </a:lnTo>
                    <a:lnTo>
                      <a:pt x="803" y="36"/>
                    </a:lnTo>
                    <a:lnTo>
                      <a:pt x="1010" y="61"/>
                    </a:lnTo>
                    <a:lnTo>
                      <a:pt x="1113" y="106"/>
                    </a:lnTo>
                    <a:lnTo>
                      <a:pt x="1241" y="143"/>
                    </a:lnTo>
                    <a:lnTo>
                      <a:pt x="1320" y="204"/>
                    </a:lnTo>
                    <a:lnTo>
                      <a:pt x="1346" y="348"/>
                    </a:lnTo>
                    <a:lnTo>
                      <a:pt x="1333" y="634"/>
                    </a:lnTo>
                    <a:lnTo>
                      <a:pt x="1307" y="778"/>
                    </a:lnTo>
                    <a:lnTo>
                      <a:pt x="1382" y="897"/>
                    </a:lnTo>
                    <a:lnTo>
                      <a:pt x="1421" y="1040"/>
                    </a:lnTo>
                    <a:lnTo>
                      <a:pt x="1461" y="1085"/>
                    </a:lnTo>
                    <a:lnTo>
                      <a:pt x="1474" y="1160"/>
                    </a:lnTo>
                    <a:lnTo>
                      <a:pt x="1435" y="1254"/>
                    </a:lnTo>
                    <a:lnTo>
                      <a:pt x="1421" y="1352"/>
                    </a:lnTo>
                    <a:lnTo>
                      <a:pt x="1408" y="1516"/>
                    </a:lnTo>
                    <a:lnTo>
                      <a:pt x="1373" y="1614"/>
                    </a:lnTo>
                    <a:lnTo>
                      <a:pt x="1307" y="1660"/>
                    </a:lnTo>
                    <a:lnTo>
                      <a:pt x="1254" y="1672"/>
                    </a:lnTo>
                    <a:lnTo>
                      <a:pt x="1307" y="1733"/>
                    </a:lnTo>
                    <a:lnTo>
                      <a:pt x="1320" y="1852"/>
                    </a:lnTo>
                    <a:lnTo>
                      <a:pt x="1307" y="1926"/>
                    </a:lnTo>
                    <a:lnTo>
                      <a:pt x="1241" y="2020"/>
                    </a:lnTo>
                    <a:lnTo>
                      <a:pt x="1166" y="2102"/>
                    </a:lnTo>
                    <a:lnTo>
                      <a:pt x="1072" y="2188"/>
                    </a:lnTo>
                    <a:lnTo>
                      <a:pt x="931" y="2258"/>
                    </a:lnTo>
                    <a:lnTo>
                      <a:pt x="777" y="2307"/>
                    </a:lnTo>
                    <a:lnTo>
                      <a:pt x="556" y="2127"/>
                    </a:lnTo>
                    <a:lnTo>
                      <a:pt x="543" y="2008"/>
                    </a:lnTo>
                    <a:lnTo>
                      <a:pt x="516" y="1946"/>
                    </a:lnTo>
                    <a:lnTo>
                      <a:pt x="464" y="1914"/>
                    </a:lnTo>
                    <a:lnTo>
                      <a:pt x="402" y="1758"/>
                    </a:lnTo>
                    <a:lnTo>
                      <a:pt x="295" y="1578"/>
                    </a:lnTo>
                    <a:lnTo>
                      <a:pt x="180" y="1447"/>
                    </a:lnTo>
                    <a:lnTo>
                      <a:pt x="141" y="1422"/>
                    </a:lnTo>
                    <a:lnTo>
                      <a:pt x="127" y="1373"/>
                    </a:lnTo>
                    <a:lnTo>
                      <a:pt x="114" y="1340"/>
                    </a:lnTo>
                    <a:lnTo>
                      <a:pt x="101" y="1266"/>
                    </a:lnTo>
                    <a:lnTo>
                      <a:pt x="92" y="1172"/>
                    </a:lnTo>
                    <a:lnTo>
                      <a:pt x="66" y="1134"/>
                    </a:lnTo>
                    <a:lnTo>
                      <a:pt x="52" y="1097"/>
                    </a:lnTo>
                    <a:lnTo>
                      <a:pt x="26" y="1028"/>
                    </a:lnTo>
                    <a:lnTo>
                      <a:pt x="13" y="991"/>
                    </a:lnTo>
                    <a:lnTo>
                      <a:pt x="0" y="942"/>
                    </a:lnTo>
                    <a:lnTo>
                      <a:pt x="0" y="909"/>
                    </a:lnTo>
                    <a:lnTo>
                      <a:pt x="13" y="884"/>
                    </a:lnTo>
                    <a:lnTo>
                      <a:pt x="13" y="872"/>
                    </a:lnTo>
                    <a:lnTo>
                      <a:pt x="13" y="847"/>
                    </a:lnTo>
                    <a:lnTo>
                      <a:pt x="26" y="835"/>
                    </a:lnTo>
                    <a:lnTo>
                      <a:pt x="26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4640400" y="5667480"/>
                <a:ext cx="954360" cy="860760"/>
                <a:chOff x="4640400" y="5667480"/>
                <a:chExt cx="954360" cy="860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640400" y="5667480"/>
                  <a:ext cx="954360" cy="860760"/>
                </a:xfrm>
                <a:custGeom>
                  <a:avLst/>
                  <a:gdLst/>
                  <a:ahLst/>
                  <a:rect l="0" t="0" r="r" b="b"/>
                  <a:pathLst>
                    <a:path w="2651" h="2391">
                      <a:moveTo>
                        <a:pt x="308" y="323"/>
                      </a:moveTo>
                      <a:lnTo>
                        <a:pt x="388" y="250"/>
                      </a:lnTo>
                      <a:lnTo>
                        <a:pt x="463" y="192"/>
                      </a:lnTo>
                      <a:lnTo>
                        <a:pt x="529" y="155"/>
                      </a:lnTo>
                      <a:lnTo>
                        <a:pt x="577" y="118"/>
                      </a:lnTo>
                      <a:lnTo>
                        <a:pt x="630" y="81"/>
                      </a:lnTo>
                      <a:lnTo>
                        <a:pt x="718" y="61"/>
                      </a:lnTo>
                      <a:lnTo>
                        <a:pt x="811" y="49"/>
                      </a:lnTo>
                      <a:lnTo>
                        <a:pt x="926" y="49"/>
                      </a:lnTo>
                      <a:lnTo>
                        <a:pt x="1040" y="49"/>
                      </a:lnTo>
                      <a:lnTo>
                        <a:pt x="1146" y="12"/>
                      </a:lnTo>
                      <a:lnTo>
                        <a:pt x="1274" y="0"/>
                      </a:lnTo>
                      <a:lnTo>
                        <a:pt x="1416" y="12"/>
                      </a:lnTo>
                      <a:lnTo>
                        <a:pt x="1544" y="36"/>
                      </a:lnTo>
                      <a:lnTo>
                        <a:pt x="1685" y="69"/>
                      </a:lnTo>
                      <a:lnTo>
                        <a:pt x="1826" y="131"/>
                      </a:lnTo>
                      <a:lnTo>
                        <a:pt x="1954" y="204"/>
                      </a:lnTo>
                      <a:lnTo>
                        <a:pt x="2047" y="274"/>
                      </a:lnTo>
                      <a:lnTo>
                        <a:pt x="2122" y="348"/>
                      </a:lnTo>
                      <a:lnTo>
                        <a:pt x="2254" y="537"/>
                      </a:lnTo>
                      <a:lnTo>
                        <a:pt x="2329" y="631"/>
                      </a:lnTo>
                      <a:lnTo>
                        <a:pt x="2395" y="811"/>
                      </a:lnTo>
                      <a:lnTo>
                        <a:pt x="2443" y="1041"/>
                      </a:lnTo>
                      <a:lnTo>
                        <a:pt x="2470" y="1218"/>
                      </a:lnTo>
                      <a:lnTo>
                        <a:pt x="2483" y="1374"/>
                      </a:lnTo>
                      <a:lnTo>
                        <a:pt x="2536" y="1493"/>
                      </a:lnTo>
                      <a:lnTo>
                        <a:pt x="2598" y="1636"/>
                      </a:lnTo>
                      <a:lnTo>
                        <a:pt x="2638" y="1759"/>
                      </a:lnTo>
                      <a:lnTo>
                        <a:pt x="2651" y="1866"/>
                      </a:lnTo>
                      <a:lnTo>
                        <a:pt x="2624" y="1997"/>
                      </a:lnTo>
                      <a:lnTo>
                        <a:pt x="2598" y="2091"/>
                      </a:lnTo>
                      <a:lnTo>
                        <a:pt x="2571" y="2140"/>
                      </a:lnTo>
                      <a:lnTo>
                        <a:pt x="2536" y="2198"/>
                      </a:lnTo>
                      <a:lnTo>
                        <a:pt x="2510" y="2235"/>
                      </a:lnTo>
                      <a:lnTo>
                        <a:pt x="2470" y="2272"/>
                      </a:lnTo>
                      <a:lnTo>
                        <a:pt x="2430" y="2309"/>
                      </a:lnTo>
                      <a:lnTo>
                        <a:pt x="2395" y="2329"/>
                      </a:lnTo>
                      <a:lnTo>
                        <a:pt x="2355" y="2341"/>
                      </a:lnTo>
                      <a:lnTo>
                        <a:pt x="2302" y="2354"/>
                      </a:lnTo>
                      <a:lnTo>
                        <a:pt x="2254" y="2366"/>
                      </a:lnTo>
                      <a:lnTo>
                        <a:pt x="2188" y="2378"/>
                      </a:lnTo>
                      <a:lnTo>
                        <a:pt x="2100" y="2391"/>
                      </a:lnTo>
                      <a:lnTo>
                        <a:pt x="2047" y="2378"/>
                      </a:lnTo>
                      <a:lnTo>
                        <a:pt x="1994" y="2378"/>
                      </a:lnTo>
                      <a:lnTo>
                        <a:pt x="1954" y="2366"/>
                      </a:lnTo>
                      <a:lnTo>
                        <a:pt x="1906" y="2341"/>
                      </a:lnTo>
                      <a:lnTo>
                        <a:pt x="1866" y="2329"/>
                      </a:lnTo>
                      <a:lnTo>
                        <a:pt x="1826" y="2309"/>
                      </a:lnTo>
                      <a:lnTo>
                        <a:pt x="1791" y="2259"/>
                      </a:lnTo>
                      <a:lnTo>
                        <a:pt x="1764" y="2222"/>
                      </a:lnTo>
                      <a:lnTo>
                        <a:pt x="1738" y="2165"/>
                      </a:lnTo>
                      <a:lnTo>
                        <a:pt x="1725" y="2128"/>
                      </a:lnTo>
                      <a:lnTo>
                        <a:pt x="1698" y="2104"/>
                      </a:lnTo>
                      <a:lnTo>
                        <a:pt x="1672" y="2091"/>
                      </a:lnTo>
                      <a:lnTo>
                        <a:pt x="1659" y="2079"/>
                      </a:lnTo>
                      <a:lnTo>
                        <a:pt x="1610" y="2091"/>
                      </a:lnTo>
                      <a:lnTo>
                        <a:pt x="1637" y="2079"/>
                      </a:lnTo>
                      <a:lnTo>
                        <a:pt x="1645" y="2054"/>
                      </a:lnTo>
                      <a:lnTo>
                        <a:pt x="1672" y="2042"/>
                      </a:lnTo>
                      <a:lnTo>
                        <a:pt x="1685" y="2034"/>
                      </a:lnTo>
                      <a:lnTo>
                        <a:pt x="1711" y="2022"/>
                      </a:lnTo>
                      <a:lnTo>
                        <a:pt x="1738" y="2022"/>
                      </a:lnTo>
                      <a:lnTo>
                        <a:pt x="1764" y="2022"/>
                      </a:lnTo>
                      <a:lnTo>
                        <a:pt x="1800" y="1985"/>
                      </a:lnTo>
                      <a:lnTo>
                        <a:pt x="1826" y="1899"/>
                      </a:lnTo>
                      <a:lnTo>
                        <a:pt x="1839" y="1866"/>
                      </a:lnTo>
                      <a:lnTo>
                        <a:pt x="1839" y="1722"/>
                      </a:lnTo>
                      <a:lnTo>
                        <a:pt x="1853" y="1661"/>
                      </a:lnTo>
                      <a:lnTo>
                        <a:pt x="1866" y="1616"/>
                      </a:lnTo>
                      <a:lnTo>
                        <a:pt x="1879" y="1579"/>
                      </a:lnTo>
                      <a:lnTo>
                        <a:pt x="1906" y="1542"/>
                      </a:lnTo>
                      <a:lnTo>
                        <a:pt x="1892" y="1493"/>
                      </a:lnTo>
                      <a:lnTo>
                        <a:pt x="1879" y="1423"/>
                      </a:lnTo>
                      <a:lnTo>
                        <a:pt x="1791" y="1304"/>
                      </a:lnTo>
                      <a:lnTo>
                        <a:pt x="1778" y="1255"/>
                      </a:lnTo>
                      <a:lnTo>
                        <a:pt x="1778" y="1172"/>
                      </a:lnTo>
                      <a:lnTo>
                        <a:pt x="1764" y="1074"/>
                      </a:lnTo>
                      <a:lnTo>
                        <a:pt x="1778" y="918"/>
                      </a:lnTo>
                      <a:lnTo>
                        <a:pt x="1778" y="680"/>
                      </a:lnTo>
                      <a:lnTo>
                        <a:pt x="1778" y="655"/>
                      </a:lnTo>
                      <a:lnTo>
                        <a:pt x="1751" y="623"/>
                      </a:lnTo>
                      <a:lnTo>
                        <a:pt x="1725" y="586"/>
                      </a:lnTo>
                      <a:lnTo>
                        <a:pt x="1637" y="524"/>
                      </a:lnTo>
                      <a:lnTo>
                        <a:pt x="1531" y="491"/>
                      </a:lnTo>
                      <a:lnTo>
                        <a:pt x="1429" y="467"/>
                      </a:lnTo>
                      <a:lnTo>
                        <a:pt x="1274" y="430"/>
                      </a:lnTo>
                      <a:lnTo>
                        <a:pt x="1159" y="418"/>
                      </a:lnTo>
                      <a:lnTo>
                        <a:pt x="1093" y="405"/>
                      </a:lnTo>
                      <a:lnTo>
                        <a:pt x="926" y="393"/>
                      </a:lnTo>
                      <a:lnTo>
                        <a:pt x="851" y="418"/>
                      </a:lnTo>
                      <a:lnTo>
                        <a:pt x="798" y="442"/>
                      </a:lnTo>
                      <a:lnTo>
                        <a:pt x="745" y="479"/>
                      </a:lnTo>
                      <a:lnTo>
                        <a:pt x="683" y="512"/>
                      </a:lnTo>
                      <a:lnTo>
                        <a:pt x="630" y="549"/>
                      </a:lnTo>
                      <a:lnTo>
                        <a:pt x="577" y="598"/>
                      </a:lnTo>
                      <a:lnTo>
                        <a:pt x="551" y="655"/>
                      </a:lnTo>
                      <a:lnTo>
                        <a:pt x="529" y="729"/>
                      </a:lnTo>
                      <a:lnTo>
                        <a:pt x="515" y="799"/>
                      </a:lnTo>
                      <a:lnTo>
                        <a:pt x="502" y="967"/>
                      </a:lnTo>
                      <a:lnTo>
                        <a:pt x="502" y="1160"/>
                      </a:lnTo>
                      <a:lnTo>
                        <a:pt x="463" y="1280"/>
                      </a:lnTo>
                      <a:lnTo>
                        <a:pt x="463" y="1329"/>
                      </a:lnTo>
                      <a:lnTo>
                        <a:pt x="476" y="1374"/>
                      </a:lnTo>
                      <a:lnTo>
                        <a:pt x="489" y="1448"/>
                      </a:lnTo>
                      <a:lnTo>
                        <a:pt x="542" y="1530"/>
                      </a:lnTo>
                      <a:lnTo>
                        <a:pt x="551" y="1579"/>
                      </a:lnTo>
                      <a:lnTo>
                        <a:pt x="564" y="1624"/>
                      </a:lnTo>
                      <a:lnTo>
                        <a:pt x="577" y="1685"/>
                      </a:lnTo>
                      <a:lnTo>
                        <a:pt x="590" y="1747"/>
                      </a:lnTo>
                      <a:lnTo>
                        <a:pt x="617" y="1792"/>
                      </a:lnTo>
                      <a:lnTo>
                        <a:pt x="643" y="1829"/>
                      </a:lnTo>
                      <a:lnTo>
                        <a:pt x="670" y="1854"/>
                      </a:lnTo>
                      <a:lnTo>
                        <a:pt x="718" y="1890"/>
                      </a:lnTo>
                      <a:lnTo>
                        <a:pt x="758" y="1923"/>
                      </a:lnTo>
                      <a:lnTo>
                        <a:pt x="784" y="1960"/>
                      </a:lnTo>
                      <a:lnTo>
                        <a:pt x="824" y="2034"/>
                      </a:lnTo>
                      <a:lnTo>
                        <a:pt x="859" y="2116"/>
                      </a:lnTo>
                      <a:lnTo>
                        <a:pt x="886" y="2198"/>
                      </a:lnTo>
                      <a:lnTo>
                        <a:pt x="912" y="2272"/>
                      </a:lnTo>
                      <a:lnTo>
                        <a:pt x="952" y="2309"/>
                      </a:lnTo>
                      <a:lnTo>
                        <a:pt x="811" y="2309"/>
                      </a:lnTo>
                      <a:lnTo>
                        <a:pt x="705" y="2296"/>
                      </a:lnTo>
                      <a:lnTo>
                        <a:pt x="604" y="2284"/>
                      </a:lnTo>
                      <a:lnTo>
                        <a:pt x="529" y="2259"/>
                      </a:lnTo>
                      <a:lnTo>
                        <a:pt x="436" y="2222"/>
                      </a:lnTo>
                      <a:lnTo>
                        <a:pt x="321" y="2177"/>
                      </a:lnTo>
                      <a:lnTo>
                        <a:pt x="268" y="2140"/>
                      </a:lnTo>
                      <a:lnTo>
                        <a:pt x="207" y="2104"/>
                      </a:lnTo>
                      <a:lnTo>
                        <a:pt x="167" y="2067"/>
                      </a:lnTo>
                      <a:lnTo>
                        <a:pt x="127" y="2034"/>
                      </a:lnTo>
                      <a:lnTo>
                        <a:pt x="88" y="1985"/>
                      </a:lnTo>
                      <a:lnTo>
                        <a:pt x="66" y="1948"/>
                      </a:lnTo>
                      <a:lnTo>
                        <a:pt x="39" y="1890"/>
                      </a:lnTo>
                      <a:lnTo>
                        <a:pt x="26" y="1854"/>
                      </a:lnTo>
                      <a:lnTo>
                        <a:pt x="13" y="1804"/>
                      </a:lnTo>
                      <a:lnTo>
                        <a:pt x="0" y="1747"/>
                      </a:lnTo>
                      <a:lnTo>
                        <a:pt x="0" y="1685"/>
                      </a:lnTo>
                      <a:lnTo>
                        <a:pt x="0" y="1624"/>
                      </a:lnTo>
                      <a:lnTo>
                        <a:pt x="13" y="1542"/>
                      </a:lnTo>
                      <a:lnTo>
                        <a:pt x="26" y="1493"/>
                      </a:lnTo>
                      <a:lnTo>
                        <a:pt x="52" y="1362"/>
                      </a:lnTo>
                      <a:lnTo>
                        <a:pt x="101" y="1255"/>
                      </a:lnTo>
                      <a:lnTo>
                        <a:pt x="101" y="1184"/>
                      </a:lnTo>
                      <a:lnTo>
                        <a:pt x="127" y="1098"/>
                      </a:lnTo>
                      <a:lnTo>
                        <a:pt x="114" y="1016"/>
                      </a:lnTo>
                      <a:lnTo>
                        <a:pt x="88" y="824"/>
                      </a:lnTo>
                      <a:lnTo>
                        <a:pt x="101" y="729"/>
                      </a:lnTo>
                      <a:lnTo>
                        <a:pt x="114" y="610"/>
                      </a:lnTo>
                      <a:lnTo>
                        <a:pt x="154" y="500"/>
                      </a:lnTo>
                      <a:lnTo>
                        <a:pt x="233" y="393"/>
                      </a:lnTo>
                      <a:lnTo>
                        <a:pt x="308" y="3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4770360" y="5678640"/>
                  <a:ext cx="724320" cy="790920"/>
                  <a:chOff x="4770360" y="5678640"/>
                  <a:chExt cx="724320" cy="7909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4770360" y="6140520"/>
                    <a:ext cx="15912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442" h="826">
                        <a:moveTo>
                          <a:pt x="105" y="0"/>
                        </a:moveTo>
                        <a:lnTo>
                          <a:pt x="66" y="94"/>
                        </a:lnTo>
                        <a:lnTo>
                          <a:pt x="26" y="180"/>
                        </a:lnTo>
                        <a:lnTo>
                          <a:pt x="0" y="238"/>
                        </a:lnTo>
                        <a:lnTo>
                          <a:pt x="0" y="312"/>
                        </a:lnTo>
                        <a:lnTo>
                          <a:pt x="0" y="357"/>
                        </a:lnTo>
                        <a:lnTo>
                          <a:pt x="13" y="407"/>
                        </a:lnTo>
                        <a:lnTo>
                          <a:pt x="39" y="468"/>
                        </a:lnTo>
                        <a:lnTo>
                          <a:pt x="92" y="513"/>
                        </a:lnTo>
                        <a:lnTo>
                          <a:pt x="168" y="563"/>
                        </a:lnTo>
                        <a:lnTo>
                          <a:pt x="274" y="612"/>
                        </a:lnTo>
                        <a:lnTo>
                          <a:pt x="350" y="633"/>
                        </a:lnTo>
                        <a:lnTo>
                          <a:pt x="390" y="670"/>
                        </a:lnTo>
                        <a:lnTo>
                          <a:pt x="416" y="707"/>
                        </a:lnTo>
                        <a:lnTo>
                          <a:pt x="429" y="744"/>
                        </a:lnTo>
                        <a:lnTo>
                          <a:pt x="442" y="765"/>
                        </a:lnTo>
                        <a:lnTo>
                          <a:pt x="416" y="802"/>
                        </a:lnTo>
                        <a:lnTo>
                          <a:pt x="363" y="826"/>
                        </a:lnTo>
                        <a:lnTo>
                          <a:pt x="287" y="789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5291280" y="6110280"/>
                    <a:ext cx="203400" cy="359280"/>
                    <a:chOff x="5291280" y="6110280"/>
                    <a:chExt cx="203400" cy="35928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5359320" y="6110280"/>
                      <a:ext cx="105120" cy="316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2" h="879">
                          <a:moveTo>
                            <a:pt x="0" y="0"/>
                          </a:moveTo>
                          <a:lnTo>
                            <a:pt x="13" y="94"/>
                          </a:lnTo>
                          <a:lnTo>
                            <a:pt x="26" y="143"/>
                          </a:lnTo>
                          <a:lnTo>
                            <a:pt x="39" y="192"/>
                          </a:lnTo>
                          <a:lnTo>
                            <a:pt x="61" y="242"/>
                          </a:lnTo>
                          <a:lnTo>
                            <a:pt x="88" y="288"/>
                          </a:lnTo>
                          <a:lnTo>
                            <a:pt x="127" y="337"/>
                          </a:lnTo>
                          <a:lnTo>
                            <a:pt x="177" y="361"/>
                          </a:lnTo>
                          <a:lnTo>
                            <a:pt x="217" y="398"/>
                          </a:lnTo>
                          <a:lnTo>
                            <a:pt x="252" y="435"/>
                          </a:lnTo>
                          <a:lnTo>
                            <a:pt x="278" y="505"/>
                          </a:lnTo>
                          <a:lnTo>
                            <a:pt x="278" y="542"/>
                          </a:lnTo>
                          <a:lnTo>
                            <a:pt x="292" y="591"/>
                          </a:lnTo>
                          <a:lnTo>
                            <a:pt x="278" y="636"/>
                          </a:lnTo>
                          <a:lnTo>
                            <a:pt x="252" y="699"/>
                          </a:lnTo>
                          <a:lnTo>
                            <a:pt x="203" y="785"/>
                          </a:lnTo>
                          <a:lnTo>
                            <a:pt x="164" y="818"/>
                          </a:lnTo>
                          <a:lnTo>
                            <a:pt x="88" y="87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5291280" y="6286680"/>
                      <a:ext cx="203400" cy="182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65" h="508">
                          <a:moveTo>
                            <a:pt x="525" y="0"/>
                          </a:moveTo>
                          <a:lnTo>
                            <a:pt x="552" y="37"/>
                          </a:lnTo>
                          <a:lnTo>
                            <a:pt x="565" y="86"/>
                          </a:lnTo>
                          <a:lnTo>
                            <a:pt x="565" y="131"/>
                          </a:lnTo>
                          <a:lnTo>
                            <a:pt x="565" y="206"/>
                          </a:lnTo>
                          <a:lnTo>
                            <a:pt x="538" y="277"/>
                          </a:lnTo>
                          <a:lnTo>
                            <a:pt x="499" y="351"/>
                          </a:lnTo>
                          <a:lnTo>
                            <a:pt x="464" y="400"/>
                          </a:lnTo>
                          <a:lnTo>
                            <a:pt x="424" y="433"/>
                          </a:lnTo>
                          <a:lnTo>
                            <a:pt x="358" y="471"/>
                          </a:lnTo>
                          <a:lnTo>
                            <a:pt x="283" y="495"/>
                          </a:lnTo>
                          <a:lnTo>
                            <a:pt x="216" y="508"/>
                          </a:lnTo>
                          <a:lnTo>
                            <a:pt x="154" y="495"/>
                          </a:lnTo>
                          <a:lnTo>
                            <a:pt x="101" y="471"/>
                          </a:lnTo>
                          <a:lnTo>
                            <a:pt x="39" y="363"/>
                          </a:lnTo>
                          <a:lnTo>
                            <a:pt x="0" y="339"/>
                          </a:lnTo>
                          <a:lnTo>
                            <a:pt x="52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"/>
                  <p:cNvGrpSpPr/>
                  <p:nvPr/>
                </p:nvGrpSpPr>
                <p:grpSpPr>
                  <a:xfrm>
                    <a:off x="4829040" y="5678640"/>
                    <a:ext cx="354600" cy="169920"/>
                    <a:chOff x="4829040" y="5678640"/>
                    <a:chExt cx="354600" cy="169920"/>
                  </a:xfrm>
                </p:grpSpPr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4829040" y="5778360"/>
                      <a:ext cx="90720" cy="70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195">
                          <a:moveTo>
                            <a:pt x="0" y="0"/>
                          </a:moveTo>
                          <a:lnTo>
                            <a:pt x="105" y="12"/>
                          </a:lnTo>
                          <a:lnTo>
                            <a:pt x="186" y="49"/>
                          </a:lnTo>
                          <a:lnTo>
                            <a:pt x="239" y="74"/>
                          </a:lnTo>
                          <a:lnTo>
                            <a:pt x="252" y="100"/>
                          </a:lnTo>
                          <a:lnTo>
                            <a:pt x="212" y="157"/>
                          </a:lnTo>
                          <a:lnTo>
                            <a:pt x="172" y="19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978440" y="5678640"/>
                      <a:ext cx="62280" cy="93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73" h="261">
                          <a:moveTo>
                            <a:pt x="173" y="0"/>
                          </a:moveTo>
                          <a:lnTo>
                            <a:pt x="93" y="99"/>
                          </a:lnTo>
                          <a:lnTo>
                            <a:pt x="39" y="174"/>
                          </a:lnTo>
                          <a:lnTo>
                            <a:pt x="13" y="236"/>
                          </a:lnTo>
                          <a:lnTo>
                            <a:pt x="0" y="261"/>
                          </a:lnTo>
                          <a:lnTo>
                            <a:pt x="17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42840" bIns="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4997520" y="5716440"/>
                      <a:ext cx="106560" cy="82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6" h="230">
                          <a:moveTo>
                            <a:pt x="296" y="0"/>
                          </a:moveTo>
                          <a:lnTo>
                            <a:pt x="230" y="73"/>
                          </a:lnTo>
                          <a:lnTo>
                            <a:pt x="181" y="132"/>
                          </a:lnTo>
                          <a:lnTo>
                            <a:pt x="101" y="181"/>
                          </a:lnTo>
                          <a:lnTo>
                            <a:pt x="0" y="230"/>
                          </a:lnTo>
                          <a:lnTo>
                            <a:pt x="29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5062680" y="5722920"/>
                      <a:ext cx="120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213">
                          <a:moveTo>
                            <a:pt x="336" y="0"/>
                          </a:moveTo>
                          <a:lnTo>
                            <a:pt x="269" y="48"/>
                          </a:lnTo>
                          <a:lnTo>
                            <a:pt x="181" y="94"/>
                          </a:lnTo>
                          <a:lnTo>
                            <a:pt x="88" y="143"/>
                          </a:lnTo>
                          <a:lnTo>
                            <a:pt x="0" y="201"/>
                          </a:lnTo>
                          <a:lnTo>
                            <a:pt x="0" y="213"/>
                          </a:lnTo>
                          <a:lnTo>
                            <a:pt x="3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6" name=""/>
              <p:cNvSpPr/>
              <p:nvPr/>
            </p:nvSpPr>
            <p:spPr>
              <a:xfrm>
                <a:off x="5275440" y="621180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129" y="0"/>
                    </a:moveTo>
                    <a:lnTo>
                      <a:pt x="129" y="24"/>
                    </a:lnTo>
                    <a:lnTo>
                      <a:pt x="116" y="37"/>
                    </a:lnTo>
                    <a:lnTo>
                      <a:pt x="103" y="49"/>
                    </a:lnTo>
                    <a:lnTo>
                      <a:pt x="89" y="70"/>
                    </a:lnTo>
                    <a:lnTo>
                      <a:pt x="75" y="95"/>
                    </a:lnTo>
                    <a:lnTo>
                      <a:pt x="53" y="95"/>
                    </a:lnTo>
                    <a:lnTo>
                      <a:pt x="26" y="95"/>
                    </a:lnTo>
                    <a:lnTo>
                      <a:pt x="0" y="83"/>
                    </a:lnTo>
                    <a:lnTo>
                      <a:pt x="13" y="10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826160" y="5999040"/>
                <a:ext cx="449640" cy="438840"/>
                <a:chOff x="4826160" y="5999040"/>
                <a:chExt cx="449640" cy="438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900680" y="6275520"/>
                  <a:ext cx="375120" cy="162360"/>
                </a:xfrm>
                <a:custGeom>
                  <a:avLst/>
                  <a:gdLst/>
                  <a:ahLst/>
                  <a:rect l="0" t="0" r="r" b="b"/>
                  <a:pathLst>
                    <a:path w="1042" h="451">
                      <a:moveTo>
                        <a:pt x="0" y="213"/>
                      </a:moveTo>
                      <a:lnTo>
                        <a:pt x="66" y="283"/>
                      </a:lnTo>
                      <a:lnTo>
                        <a:pt x="114" y="345"/>
                      </a:lnTo>
                      <a:lnTo>
                        <a:pt x="141" y="394"/>
                      </a:lnTo>
                      <a:lnTo>
                        <a:pt x="194" y="414"/>
                      </a:lnTo>
                      <a:lnTo>
                        <a:pt x="269" y="439"/>
                      </a:lnTo>
                      <a:lnTo>
                        <a:pt x="362" y="439"/>
                      </a:lnTo>
                      <a:lnTo>
                        <a:pt x="450" y="451"/>
                      </a:lnTo>
                      <a:lnTo>
                        <a:pt x="525" y="439"/>
                      </a:lnTo>
                      <a:lnTo>
                        <a:pt x="591" y="402"/>
                      </a:lnTo>
                      <a:lnTo>
                        <a:pt x="644" y="370"/>
                      </a:lnTo>
                      <a:lnTo>
                        <a:pt x="706" y="319"/>
                      </a:lnTo>
                      <a:lnTo>
                        <a:pt x="786" y="250"/>
                      </a:lnTo>
                      <a:lnTo>
                        <a:pt x="875" y="189"/>
                      </a:lnTo>
                      <a:lnTo>
                        <a:pt x="928" y="168"/>
                      </a:lnTo>
                      <a:lnTo>
                        <a:pt x="976" y="119"/>
                      </a:lnTo>
                      <a:lnTo>
                        <a:pt x="1003" y="81"/>
                      </a:lnTo>
                      <a:lnTo>
                        <a:pt x="1029" y="36"/>
                      </a:lnTo>
                      <a:lnTo>
                        <a:pt x="1042" y="0"/>
                      </a:lnTo>
                      <a:lnTo>
                        <a:pt x="0" y="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4826160" y="5999040"/>
                  <a:ext cx="408240" cy="348480"/>
                  <a:chOff x="4826160" y="5999040"/>
                  <a:chExt cx="408240" cy="348480"/>
                </a:xfrm>
              </p:grpSpPr>
              <p:grpSp>
                <p:nvGrpSpPr>
                  <p:cNvPr id="150" name=""/>
                  <p:cNvGrpSpPr/>
                  <p:nvPr/>
                </p:nvGrpSpPr>
                <p:grpSpPr>
                  <a:xfrm>
                    <a:off x="4923000" y="6154560"/>
                    <a:ext cx="219600" cy="192960"/>
                    <a:chOff x="4923000" y="6154560"/>
                    <a:chExt cx="219600" cy="192960"/>
                  </a:xfrm>
                </p:grpSpPr>
                <p:grpSp>
                  <p:nvGrpSpPr>
                    <p:cNvPr id="151" name=""/>
                    <p:cNvGrpSpPr/>
                    <p:nvPr/>
                  </p:nvGrpSpPr>
                  <p:grpSpPr>
                    <a:xfrm>
                      <a:off x="4965840" y="6154560"/>
                      <a:ext cx="130680" cy="77040"/>
                      <a:chOff x="4965840" y="6154560"/>
                      <a:chExt cx="130680" cy="77040"/>
                    </a:xfrm>
                  </p:grpSpPr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4965840" y="6154560"/>
                        <a:ext cx="5112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99">
                            <a:moveTo>
                              <a:pt x="13" y="0"/>
                            </a:moveTo>
                            <a:lnTo>
                              <a:pt x="26" y="36"/>
                            </a:lnTo>
                            <a:lnTo>
                              <a:pt x="13" y="68"/>
                            </a:lnTo>
                            <a:lnTo>
                              <a:pt x="0" y="93"/>
                            </a:lnTo>
                            <a:lnTo>
                              <a:pt x="0" y="118"/>
                            </a:lnTo>
                            <a:lnTo>
                              <a:pt x="0" y="142"/>
                            </a:lnTo>
                            <a:lnTo>
                              <a:pt x="13" y="162"/>
                            </a:lnTo>
                            <a:lnTo>
                              <a:pt x="39" y="175"/>
                            </a:lnTo>
                            <a:lnTo>
                              <a:pt x="66" y="187"/>
                            </a:lnTo>
                            <a:lnTo>
                              <a:pt x="89" y="187"/>
                            </a:lnTo>
                            <a:lnTo>
                              <a:pt x="142" y="199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5025960" y="6205680"/>
                        <a:ext cx="399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" h="72">
                            <a:moveTo>
                              <a:pt x="0" y="72"/>
                            </a:moveTo>
                            <a:lnTo>
                              <a:pt x="48" y="27"/>
                            </a:lnTo>
                            <a:lnTo>
                              <a:pt x="84" y="0"/>
                            </a:lnTo>
                            <a:lnTo>
                              <a:pt x="98" y="0"/>
                            </a:lnTo>
                            <a:lnTo>
                              <a:pt x="111" y="27"/>
                            </a:lnTo>
                            <a:lnTo>
                              <a:pt x="75" y="4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5070600" y="6178680"/>
                        <a:ext cx="25920" cy="38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07">
                            <a:moveTo>
                              <a:pt x="56" y="0"/>
                            </a:moveTo>
                            <a:lnTo>
                              <a:pt x="56" y="24"/>
                            </a:lnTo>
                            <a:lnTo>
                              <a:pt x="56" y="37"/>
                            </a:lnTo>
                            <a:lnTo>
                              <a:pt x="72" y="57"/>
                            </a:lnTo>
                            <a:lnTo>
                              <a:pt x="56" y="83"/>
                            </a:lnTo>
                            <a:lnTo>
                              <a:pt x="38" y="95"/>
                            </a:lnTo>
                            <a:lnTo>
                              <a:pt x="16" y="95"/>
                            </a:lnTo>
                            <a:lnTo>
                              <a:pt x="0" y="107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923000" y="6259680"/>
                      <a:ext cx="219600" cy="87840"/>
                      <a:chOff x="4923000" y="6259680"/>
                      <a:chExt cx="219600" cy="87840"/>
                    </a:xfrm>
                  </p:grpSpPr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4975200" y="6321600"/>
                        <a:ext cx="1209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72">
                            <a:moveTo>
                              <a:pt x="0" y="39"/>
                            </a:moveTo>
                            <a:lnTo>
                              <a:pt x="26" y="52"/>
                            </a:lnTo>
                            <a:lnTo>
                              <a:pt x="66" y="72"/>
                            </a:lnTo>
                            <a:lnTo>
                              <a:pt x="114" y="72"/>
                            </a:lnTo>
                            <a:lnTo>
                              <a:pt x="167" y="72"/>
                            </a:lnTo>
                            <a:lnTo>
                              <a:pt x="208" y="72"/>
                            </a:lnTo>
                            <a:lnTo>
                              <a:pt x="247" y="52"/>
                            </a:lnTo>
                            <a:lnTo>
                              <a:pt x="283" y="20"/>
                            </a:lnTo>
                            <a:lnTo>
                              <a:pt x="322" y="0"/>
                            </a:lnTo>
                            <a:lnTo>
                              <a:pt x="336" y="0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57" name=""/>
                      <p:cNvGrpSpPr/>
                      <p:nvPr/>
                    </p:nvGrpSpPr>
                    <p:grpSpPr>
                      <a:xfrm>
                        <a:off x="4923000" y="6259680"/>
                        <a:ext cx="219600" cy="62280"/>
                        <a:chOff x="4923000" y="6259680"/>
                        <a:chExt cx="219600" cy="62280"/>
                      </a:xfrm>
                    </p:grpSpPr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934880" y="6269760"/>
                          <a:ext cx="184680" cy="3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13" h="84">
                              <a:moveTo>
                                <a:pt x="256" y="0"/>
                              </a:moveTo>
                              <a:lnTo>
                                <a:pt x="0" y="11"/>
                              </a:lnTo>
                              <a:lnTo>
                                <a:pt x="0" y="11"/>
                              </a:lnTo>
                              <a:cubicBezTo>
                                <a:pt x="4" y="22"/>
                                <a:pt x="15" y="33"/>
                                <a:pt x="33" y="43"/>
                              </a:cubicBezTo>
                              <a:cubicBezTo>
                                <a:pt x="55" y="55"/>
                                <a:pt x="88" y="66"/>
                                <a:pt x="127" y="73"/>
                              </a:cubicBezTo>
                              <a:cubicBezTo>
                                <a:pt x="166" y="81"/>
                                <a:pt x="211" y="84"/>
                                <a:pt x="256" y="84"/>
                              </a:cubicBezTo>
                              <a:cubicBezTo>
                                <a:pt x="301" y="84"/>
                                <a:pt x="346" y="81"/>
                                <a:pt x="385" y="73"/>
                              </a:cubicBezTo>
                              <a:cubicBezTo>
                                <a:pt x="424" y="66"/>
                                <a:pt x="457" y="55"/>
                                <a:pt x="480" y="43"/>
                              </a:cubicBezTo>
                              <a:cubicBezTo>
                                <a:pt x="498" y="33"/>
                                <a:pt x="509" y="21"/>
                                <a:pt x="513" y="9"/>
                              </a:cubicBezTo>
                              <a:lnTo>
                                <a:pt x="2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59" name=""/>
                        <p:cNvGrpSpPr/>
                        <p:nvPr/>
                      </p:nvGrpSpPr>
                      <p:grpSpPr>
                        <a:xfrm>
                          <a:off x="4923000" y="6259680"/>
                          <a:ext cx="219600" cy="62280"/>
                          <a:chOff x="4923000" y="6259680"/>
                          <a:chExt cx="219600" cy="62280"/>
                        </a:xfrm>
                      </p:grpSpPr>
                      <p:sp>
                        <p:nvSpPr>
                          <p:cNvPr id="160" name=""/>
                          <p:cNvSpPr/>
                          <p:nvPr/>
                        </p:nvSpPr>
                        <p:spPr>
                          <a:xfrm>
                            <a:off x="4929120" y="6269040"/>
                            <a:ext cx="20844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79" h="147">
                                <a:moveTo>
                                  <a:pt x="0" y="0"/>
                                </a:moveTo>
                                <a:lnTo>
                                  <a:pt x="13" y="24"/>
                                </a:lnTo>
                                <a:lnTo>
                                  <a:pt x="39" y="49"/>
                                </a:lnTo>
                                <a:lnTo>
                                  <a:pt x="52" y="73"/>
                                </a:lnTo>
                                <a:lnTo>
                                  <a:pt x="74" y="85"/>
                                </a:lnTo>
                                <a:lnTo>
                                  <a:pt x="101" y="111"/>
                                </a:lnTo>
                                <a:lnTo>
                                  <a:pt x="141" y="123"/>
                                </a:lnTo>
                                <a:lnTo>
                                  <a:pt x="181" y="135"/>
                                </a:lnTo>
                                <a:lnTo>
                                  <a:pt x="208" y="147"/>
                                </a:lnTo>
                                <a:lnTo>
                                  <a:pt x="256" y="147"/>
                                </a:lnTo>
                                <a:lnTo>
                                  <a:pt x="296" y="135"/>
                                </a:lnTo>
                                <a:lnTo>
                                  <a:pt x="336" y="135"/>
                                </a:lnTo>
                                <a:lnTo>
                                  <a:pt x="371" y="123"/>
                                </a:lnTo>
                                <a:lnTo>
                                  <a:pt x="411" y="111"/>
                                </a:lnTo>
                                <a:lnTo>
                                  <a:pt x="438" y="98"/>
                                </a:lnTo>
                                <a:lnTo>
                                  <a:pt x="478" y="85"/>
                                </a:lnTo>
                                <a:lnTo>
                                  <a:pt x="504" y="73"/>
                                </a:lnTo>
                                <a:lnTo>
                                  <a:pt x="539" y="49"/>
                                </a:lnTo>
                                <a:lnTo>
                                  <a:pt x="553" y="24"/>
                                </a:lnTo>
                                <a:lnTo>
                                  <a:pt x="579" y="0"/>
                                </a:lnTo>
                                <a:lnTo>
                                  <a:pt x="539" y="12"/>
                                </a:lnTo>
                                <a:lnTo>
                                  <a:pt x="513" y="24"/>
                                </a:lnTo>
                                <a:lnTo>
                                  <a:pt x="491" y="24"/>
                                </a:lnTo>
                                <a:lnTo>
                                  <a:pt x="451" y="36"/>
                                </a:lnTo>
                                <a:lnTo>
                                  <a:pt x="424" y="49"/>
                                </a:lnTo>
                                <a:lnTo>
                                  <a:pt x="384" y="49"/>
                                </a:lnTo>
                                <a:lnTo>
                                  <a:pt x="349" y="61"/>
                                </a:lnTo>
                                <a:lnTo>
                                  <a:pt x="322" y="61"/>
                                </a:lnTo>
                                <a:lnTo>
                                  <a:pt x="269" y="73"/>
                                </a:lnTo>
                                <a:lnTo>
                                  <a:pt x="230" y="73"/>
                                </a:lnTo>
                                <a:lnTo>
                                  <a:pt x="195" y="61"/>
                                </a:lnTo>
                                <a:lnTo>
                                  <a:pt x="155" y="61"/>
                                </a:lnTo>
                                <a:lnTo>
                                  <a:pt x="101" y="49"/>
                                </a:lnTo>
                                <a:lnTo>
                                  <a:pt x="66" y="36"/>
                                </a:lnTo>
                                <a:lnTo>
                                  <a:pt x="39" y="12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1800" bIns="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61" name=""/>
                          <p:cNvSpPr/>
                          <p:nvPr/>
                        </p:nvSpPr>
                        <p:spPr>
                          <a:xfrm>
                            <a:off x="4923000" y="6259680"/>
                            <a:ext cx="219600" cy="27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610" h="76">
                                <a:moveTo>
                                  <a:pt x="0" y="25"/>
                                </a:moveTo>
                                <a:lnTo>
                                  <a:pt x="39" y="12"/>
                                </a:lnTo>
                                <a:lnTo>
                                  <a:pt x="79" y="12"/>
                                </a:lnTo>
                                <a:lnTo>
                                  <a:pt x="127" y="12"/>
                                </a:lnTo>
                                <a:lnTo>
                                  <a:pt x="181" y="0"/>
                                </a:lnTo>
                                <a:lnTo>
                                  <a:pt x="208" y="12"/>
                                </a:lnTo>
                                <a:lnTo>
                                  <a:pt x="234" y="12"/>
                                </a:lnTo>
                                <a:lnTo>
                                  <a:pt x="247" y="12"/>
                                </a:lnTo>
                                <a:lnTo>
                                  <a:pt x="287" y="0"/>
                                </a:lnTo>
                                <a:lnTo>
                                  <a:pt x="402" y="12"/>
                                </a:lnTo>
                                <a:lnTo>
                                  <a:pt x="469" y="12"/>
                                </a:lnTo>
                                <a:lnTo>
                                  <a:pt x="544" y="25"/>
                                </a:lnTo>
                                <a:lnTo>
                                  <a:pt x="610" y="25"/>
                                </a:lnTo>
                                <a:lnTo>
                                  <a:pt x="570" y="38"/>
                                </a:lnTo>
                                <a:lnTo>
                                  <a:pt x="544" y="50"/>
                                </a:lnTo>
                                <a:lnTo>
                                  <a:pt x="531" y="50"/>
                                </a:lnTo>
                                <a:lnTo>
                                  <a:pt x="469" y="50"/>
                                </a:lnTo>
                                <a:lnTo>
                                  <a:pt x="415" y="50"/>
                                </a:lnTo>
                                <a:lnTo>
                                  <a:pt x="322" y="64"/>
                                </a:lnTo>
                                <a:lnTo>
                                  <a:pt x="287" y="64"/>
                                </a:lnTo>
                                <a:lnTo>
                                  <a:pt x="247" y="76"/>
                                </a:lnTo>
                                <a:lnTo>
                                  <a:pt x="181" y="64"/>
                                </a:lnTo>
                                <a:lnTo>
                                  <a:pt x="155" y="50"/>
                                </a:lnTo>
                                <a:lnTo>
                                  <a:pt x="101" y="50"/>
                                </a:lnTo>
                                <a:lnTo>
                                  <a:pt x="39" y="38"/>
                                </a:lnTo>
                                <a:lnTo>
                                  <a:pt x="0" y="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3760" bIns="-23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4826160" y="5999040"/>
                    <a:ext cx="408240" cy="105120"/>
                    <a:chOff x="4826160" y="5999040"/>
                    <a:chExt cx="408240" cy="105120"/>
                  </a:xfrm>
                </p:grpSpPr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4826160" y="5999040"/>
                      <a:ext cx="408240" cy="51120"/>
                      <a:chOff x="4826160" y="5999040"/>
                      <a:chExt cx="408240" cy="5112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5062680" y="5999040"/>
                        <a:ext cx="1717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77" h="94">
                            <a:moveTo>
                              <a:pt x="0" y="82"/>
                            </a:moveTo>
                            <a:lnTo>
                              <a:pt x="13" y="94"/>
                            </a:lnTo>
                            <a:lnTo>
                              <a:pt x="39" y="94"/>
                            </a:lnTo>
                            <a:lnTo>
                              <a:pt x="48" y="94"/>
                            </a:lnTo>
                            <a:lnTo>
                              <a:pt x="61" y="74"/>
                            </a:lnTo>
                            <a:lnTo>
                              <a:pt x="114" y="53"/>
                            </a:lnTo>
                            <a:lnTo>
                              <a:pt x="136" y="41"/>
                            </a:lnTo>
                            <a:lnTo>
                              <a:pt x="198" y="33"/>
                            </a:lnTo>
                            <a:lnTo>
                              <a:pt x="239" y="33"/>
                            </a:lnTo>
                            <a:lnTo>
                              <a:pt x="287" y="33"/>
                            </a:lnTo>
                            <a:lnTo>
                              <a:pt x="353" y="41"/>
                            </a:lnTo>
                            <a:lnTo>
                              <a:pt x="375" y="41"/>
                            </a:lnTo>
                            <a:lnTo>
                              <a:pt x="415" y="61"/>
                            </a:lnTo>
                            <a:lnTo>
                              <a:pt x="450" y="74"/>
                            </a:lnTo>
                            <a:lnTo>
                              <a:pt x="477" y="74"/>
                            </a:lnTo>
                            <a:lnTo>
                              <a:pt x="428" y="53"/>
                            </a:lnTo>
                            <a:lnTo>
                              <a:pt x="389" y="33"/>
                            </a:lnTo>
                            <a:lnTo>
                              <a:pt x="362" y="20"/>
                            </a:lnTo>
                            <a:lnTo>
                              <a:pt x="327" y="0"/>
                            </a:lnTo>
                            <a:lnTo>
                              <a:pt x="300" y="0"/>
                            </a:lnTo>
                            <a:lnTo>
                              <a:pt x="265" y="0"/>
                            </a:lnTo>
                            <a:lnTo>
                              <a:pt x="211" y="0"/>
                            </a:lnTo>
                            <a:lnTo>
                              <a:pt x="189" y="0"/>
                            </a:lnTo>
                            <a:lnTo>
                              <a:pt x="114" y="12"/>
                            </a:lnTo>
                            <a:lnTo>
                              <a:pt x="74" y="20"/>
                            </a:lnTo>
                            <a:lnTo>
                              <a:pt x="48" y="33"/>
                            </a:lnTo>
                            <a:lnTo>
                              <a:pt x="39" y="41"/>
                            </a:lnTo>
                            <a:lnTo>
                              <a:pt x="13" y="61"/>
                            </a:lnTo>
                            <a:lnTo>
                              <a:pt x="0" y="8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4826160" y="6006960"/>
                        <a:ext cx="125640" cy="43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120">
                            <a:moveTo>
                              <a:pt x="0" y="120"/>
                            </a:moveTo>
                            <a:lnTo>
                              <a:pt x="26" y="74"/>
                            </a:lnTo>
                            <a:lnTo>
                              <a:pt x="48" y="53"/>
                            </a:lnTo>
                            <a:lnTo>
                              <a:pt x="61" y="32"/>
                            </a:lnTo>
                            <a:lnTo>
                              <a:pt x="88" y="12"/>
                            </a:lnTo>
                            <a:lnTo>
                              <a:pt x="110" y="0"/>
                            </a:lnTo>
                            <a:lnTo>
                              <a:pt x="149" y="0"/>
                            </a:lnTo>
                            <a:lnTo>
                              <a:pt x="186" y="12"/>
                            </a:lnTo>
                            <a:lnTo>
                              <a:pt x="212" y="20"/>
                            </a:lnTo>
                            <a:lnTo>
                              <a:pt x="239" y="20"/>
                            </a:lnTo>
                            <a:lnTo>
                              <a:pt x="287" y="20"/>
                            </a:lnTo>
                            <a:lnTo>
                              <a:pt x="314" y="45"/>
                            </a:lnTo>
                            <a:lnTo>
                              <a:pt x="322" y="53"/>
                            </a:lnTo>
                            <a:lnTo>
                              <a:pt x="349" y="66"/>
                            </a:lnTo>
                            <a:lnTo>
                              <a:pt x="336" y="74"/>
                            </a:lnTo>
                            <a:lnTo>
                              <a:pt x="322" y="87"/>
                            </a:lnTo>
                            <a:lnTo>
                              <a:pt x="314" y="87"/>
                            </a:lnTo>
                            <a:lnTo>
                              <a:pt x="287" y="87"/>
                            </a:lnTo>
                            <a:lnTo>
                              <a:pt x="274" y="87"/>
                            </a:lnTo>
                            <a:lnTo>
                              <a:pt x="239" y="74"/>
                            </a:lnTo>
                            <a:lnTo>
                              <a:pt x="186" y="66"/>
                            </a:lnTo>
                            <a:lnTo>
                              <a:pt x="149" y="45"/>
                            </a:lnTo>
                            <a:lnTo>
                              <a:pt x="110" y="45"/>
                            </a:lnTo>
                            <a:lnTo>
                              <a:pt x="101" y="45"/>
                            </a:lnTo>
                            <a:lnTo>
                              <a:pt x="61" y="53"/>
                            </a:lnTo>
                            <a:lnTo>
                              <a:pt x="48" y="66"/>
                            </a:lnTo>
                            <a:lnTo>
                              <a:pt x="26" y="87"/>
                            </a:lnTo>
                            <a:lnTo>
                              <a:pt x="13" y="99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7920" bIns="-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6" name=""/>
                    <p:cNvGrpSpPr/>
                    <p:nvPr/>
                  </p:nvGrpSpPr>
                  <p:grpSpPr>
                    <a:xfrm>
                      <a:off x="5076720" y="6041880"/>
                      <a:ext cx="119520" cy="51120"/>
                      <a:chOff x="5076720" y="6041880"/>
                      <a:chExt cx="119520" cy="51120"/>
                    </a:xfrm>
                  </p:grpSpPr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5076720" y="6041880"/>
                        <a:ext cx="119520" cy="51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2" h="142">
                            <a:moveTo>
                              <a:pt x="332" y="93"/>
                            </a:moveTo>
                            <a:lnTo>
                              <a:pt x="319" y="81"/>
                            </a:lnTo>
                            <a:lnTo>
                              <a:pt x="306" y="60"/>
                            </a:lnTo>
                            <a:lnTo>
                              <a:pt x="279" y="48"/>
                            </a:lnTo>
                            <a:lnTo>
                              <a:pt x="257" y="24"/>
                            </a:lnTo>
                            <a:lnTo>
                              <a:pt x="230" y="12"/>
                            </a:lnTo>
                            <a:lnTo>
                              <a:pt x="203" y="0"/>
                            </a:lnTo>
                            <a:lnTo>
                              <a:pt x="177" y="0"/>
                            </a:lnTo>
                            <a:lnTo>
                              <a:pt x="142" y="0"/>
                            </a:lnTo>
                            <a:lnTo>
                              <a:pt x="115" y="12"/>
                            </a:lnTo>
                            <a:lnTo>
                              <a:pt x="74" y="24"/>
                            </a:lnTo>
                            <a:lnTo>
                              <a:pt x="61" y="36"/>
                            </a:lnTo>
                            <a:lnTo>
                              <a:pt x="39" y="48"/>
                            </a:lnTo>
                            <a:lnTo>
                              <a:pt x="13" y="81"/>
                            </a:lnTo>
                            <a:lnTo>
                              <a:pt x="0" y="93"/>
                            </a:lnTo>
                            <a:lnTo>
                              <a:pt x="13" y="105"/>
                            </a:lnTo>
                            <a:lnTo>
                              <a:pt x="52" y="117"/>
                            </a:lnTo>
                            <a:lnTo>
                              <a:pt x="89" y="130"/>
                            </a:lnTo>
                            <a:lnTo>
                              <a:pt x="128" y="142"/>
                            </a:lnTo>
                            <a:lnTo>
                              <a:pt x="177" y="142"/>
                            </a:lnTo>
                            <a:lnTo>
                              <a:pt x="203" y="142"/>
                            </a:lnTo>
                            <a:lnTo>
                              <a:pt x="243" y="130"/>
                            </a:lnTo>
                            <a:lnTo>
                              <a:pt x="270" y="130"/>
                            </a:lnTo>
                            <a:lnTo>
                              <a:pt x="306" y="105"/>
                            </a:lnTo>
                            <a:lnTo>
                              <a:pt x="332" y="9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5108400" y="6049800"/>
                        <a:ext cx="52560" cy="42840"/>
                        <a:chOff x="5108400" y="6049800"/>
                        <a:chExt cx="52560" cy="42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5108400" y="6049800"/>
                          <a:ext cx="52560" cy="428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8280" bIns="-8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5119560" y="6049800"/>
                          <a:ext cx="31680" cy="396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5076720" y="6041880"/>
                        <a:ext cx="119520" cy="38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2" h="107">
                            <a:moveTo>
                              <a:pt x="332" y="95"/>
                            </a:moveTo>
                            <a:lnTo>
                              <a:pt x="306" y="57"/>
                            </a:lnTo>
                            <a:lnTo>
                              <a:pt x="279" y="37"/>
                            </a:lnTo>
                            <a:lnTo>
                              <a:pt x="257" y="24"/>
                            </a:lnTo>
                            <a:lnTo>
                              <a:pt x="230" y="12"/>
                            </a:lnTo>
                            <a:lnTo>
                              <a:pt x="190" y="0"/>
                            </a:lnTo>
                            <a:lnTo>
                              <a:pt x="168" y="0"/>
                            </a:lnTo>
                            <a:lnTo>
                              <a:pt x="142" y="0"/>
                            </a:lnTo>
                            <a:lnTo>
                              <a:pt x="102" y="12"/>
                            </a:lnTo>
                            <a:lnTo>
                              <a:pt x="61" y="37"/>
                            </a:lnTo>
                            <a:lnTo>
                              <a:pt x="39" y="49"/>
                            </a:lnTo>
                            <a:lnTo>
                              <a:pt x="0" y="107"/>
                            </a:lnTo>
                            <a:lnTo>
                              <a:pt x="26" y="95"/>
                            </a:lnTo>
                            <a:lnTo>
                              <a:pt x="61" y="70"/>
                            </a:lnTo>
                            <a:lnTo>
                              <a:pt x="102" y="57"/>
                            </a:lnTo>
                            <a:lnTo>
                              <a:pt x="142" y="37"/>
                            </a:lnTo>
                            <a:lnTo>
                              <a:pt x="168" y="37"/>
                            </a:lnTo>
                            <a:lnTo>
                              <a:pt x="203" y="37"/>
                            </a:lnTo>
                            <a:lnTo>
                              <a:pt x="243" y="37"/>
                            </a:lnTo>
                            <a:lnTo>
                              <a:pt x="270" y="49"/>
                            </a:lnTo>
                            <a:lnTo>
                              <a:pt x="293" y="57"/>
                            </a:lnTo>
                            <a:lnTo>
                              <a:pt x="332" y="9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4848120" y="6046920"/>
                      <a:ext cx="348480" cy="57240"/>
                      <a:chOff x="4848120" y="6046920"/>
                      <a:chExt cx="348480" cy="5724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>
                        <a:off x="4848120" y="6064200"/>
                        <a:ext cx="1130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4" h="72">
                            <a:moveTo>
                              <a:pt x="0" y="58"/>
                            </a:moveTo>
                            <a:lnTo>
                              <a:pt x="26" y="43"/>
                            </a:lnTo>
                            <a:lnTo>
                              <a:pt x="52" y="29"/>
                            </a:lnTo>
                            <a:lnTo>
                              <a:pt x="79" y="0"/>
                            </a:lnTo>
                            <a:lnTo>
                              <a:pt x="119" y="0"/>
                            </a:lnTo>
                            <a:lnTo>
                              <a:pt x="145" y="0"/>
                            </a:lnTo>
                            <a:lnTo>
                              <a:pt x="168" y="0"/>
                            </a:lnTo>
                            <a:lnTo>
                              <a:pt x="208" y="0"/>
                            </a:lnTo>
                            <a:lnTo>
                              <a:pt x="247" y="29"/>
                            </a:lnTo>
                            <a:lnTo>
                              <a:pt x="274" y="43"/>
                            </a:lnTo>
                            <a:lnTo>
                              <a:pt x="300" y="58"/>
                            </a:lnTo>
                            <a:lnTo>
                              <a:pt x="314" y="72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>
                        <a:off x="5081760" y="6054840"/>
                        <a:ext cx="1148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9" h="72">
                            <a:moveTo>
                              <a:pt x="319" y="60"/>
                            </a:moveTo>
                            <a:lnTo>
                              <a:pt x="293" y="38"/>
                            </a:lnTo>
                            <a:lnTo>
                              <a:pt x="266" y="25"/>
                            </a:lnTo>
                            <a:lnTo>
                              <a:pt x="244" y="12"/>
                            </a:lnTo>
                            <a:lnTo>
                              <a:pt x="203" y="0"/>
                            </a:lnTo>
                            <a:lnTo>
                              <a:pt x="177" y="0"/>
                            </a:lnTo>
                            <a:lnTo>
                              <a:pt x="155" y="0"/>
                            </a:lnTo>
                            <a:lnTo>
                              <a:pt x="115" y="0"/>
                            </a:lnTo>
                            <a:lnTo>
                              <a:pt x="74" y="25"/>
                            </a:lnTo>
                            <a:lnTo>
                              <a:pt x="52" y="38"/>
                            </a:lnTo>
                            <a:lnTo>
                              <a:pt x="26" y="60"/>
                            </a:lnTo>
                            <a:lnTo>
                              <a:pt x="0" y="72"/>
                            </a:lnTo>
                            <a:lnTo>
                              <a:pt x="319" y="6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5" name=""/>
                      <p:cNvGrpSpPr/>
                      <p:nvPr/>
                    </p:nvGrpSpPr>
                    <p:grpSpPr>
                      <a:xfrm>
                        <a:off x="4848120" y="6046920"/>
                        <a:ext cx="122760" cy="57240"/>
                        <a:chOff x="4848120" y="6046920"/>
                        <a:chExt cx="122760" cy="57240"/>
                      </a:xfrm>
                    </p:grpSpPr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848120" y="6049800"/>
                          <a:ext cx="122760" cy="54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1" h="151">
                              <a:moveTo>
                                <a:pt x="0" y="100"/>
                              </a:moveTo>
                              <a:lnTo>
                                <a:pt x="13" y="75"/>
                              </a:lnTo>
                              <a:lnTo>
                                <a:pt x="26" y="63"/>
                              </a:lnTo>
                              <a:lnTo>
                                <a:pt x="52" y="37"/>
                              </a:lnTo>
                              <a:lnTo>
                                <a:pt x="79" y="24"/>
                              </a:lnTo>
                              <a:lnTo>
                                <a:pt x="106" y="12"/>
                              </a:lnTo>
                              <a:lnTo>
                                <a:pt x="133" y="0"/>
                              </a:lnTo>
                              <a:lnTo>
                                <a:pt x="159" y="0"/>
                              </a:lnTo>
                              <a:lnTo>
                                <a:pt x="195" y="0"/>
                              </a:lnTo>
                              <a:lnTo>
                                <a:pt x="221" y="12"/>
                              </a:lnTo>
                              <a:lnTo>
                                <a:pt x="247" y="12"/>
                              </a:lnTo>
                              <a:lnTo>
                                <a:pt x="275" y="37"/>
                              </a:lnTo>
                              <a:lnTo>
                                <a:pt x="301" y="50"/>
                              </a:lnTo>
                              <a:lnTo>
                                <a:pt x="328" y="75"/>
                              </a:lnTo>
                              <a:lnTo>
                                <a:pt x="341" y="100"/>
                              </a:lnTo>
                              <a:lnTo>
                                <a:pt x="315" y="114"/>
                              </a:lnTo>
                              <a:lnTo>
                                <a:pt x="288" y="126"/>
                              </a:lnTo>
                              <a:lnTo>
                                <a:pt x="247" y="139"/>
                              </a:lnTo>
                              <a:lnTo>
                                <a:pt x="208" y="151"/>
                              </a:lnTo>
                              <a:lnTo>
                                <a:pt x="159" y="151"/>
                              </a:lnTo>
                              <a:lnTo>
                                <a:pt x="133" y="151"/>
                              </a:lnTo>
                              <a:lnTo>
                                <a:pt x="93" y="139"/>
                              </a:lnTo>
                              <a:lnTo>
                                <a:pt x="66" y="126"/>
                              </a:lnTo>
                              <a:lnTo>
                                <a:pt x="26" y="114"/>
                              </a:lnTo>
                              <a:lnTo>
                                <a:pt x="0" y="1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240" bIns="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77" name=""/>
                        <p:cNvGrpSpPr/>
                        <p:nvPr/>
                      </p:nvGrpSpPr>
                      <p:grpSpPr>
                        <a:xfrm>
                          <a:off x="4878360" y="6057720"/>
                          <a:ext cx="55440" cy="46080"/>
                          <a:chOff x="4878360" y="6057720"/>
                          <a:chExt cx="55440" cy="46080"/>
                        </a:xfrm>
                      </p:grpSpPr>
                      <p:sp>
                        <p:nvSpPr>
                          <p:cNvPr id="178" name=""/>
                          <p:cNvSpPr/>
                          <p:nvPr/>
                        </p:nvSpPr>
                        <p:spPr>
                          <a:xfrm>
                            <a:off x="4878360" y="6057720"/>
                            <a:ext cx="55440" cy="460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5040" bIns="-5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"/>
                          <p:cNvSpPr/>
                          <p:nvPr/>
                        </p:nvSpPr>
                        <p:spPr>
                          <a:xfrm>
                            <a:off x="4892760" y="6057720"/>
                            <a:ext cx="30240" cy="381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12960" bIns="-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848120" y="6046920"/>
                          <a:ext cx="122760" cy="43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1" h="120">
                              <a:moveTo>
                                <a:pt x="0" y="95"/>
                              </a:moveTo>
                              <a:lnTo>
                                <a:pt x="26" y="70"/>
                              </a:lnTo>
                              <a:lnTo>
                                <a:pt x="52" y="49"/>
                              </a:lnTo>
                              <a:lnTo>
                                <a:pt x="79" y="36"/>
                              </a:lnTo>
                              <a:lnTo>
                                <a:pt x="106" y="12"/>
                              </a:lnTo>
                              <a:lnTo>
                                <a:pt x="146" y="12"/>
                              </a:lnTo>
                              <a:lnTo>
                                <a:pt x="172" y="0"/>
                              </a:lnTo>
                              <a:lnTo>
                                <a:pt x="195" y="12"/>
                              </a:lnTo>
                              <a:lnTo>
                                <a:pt x="234" y="24"/>
                              </a:lnTo>
                              <a:lnTo>
                                <a:pt x="262" y="36"/>
                              </a:lnTo>
                              <a:lnTo>
                                <a:pt x="301" y="62"/>
                              </a:lnTo>
                              <a:lnTo>
                                <a:pt x="341" y="107"/>
                              </a:lnTo>
                              <a:lnTo>
                                <a:pt x="328" y="120"/>
                              </a:lnTo>
                              <a:lnTo>
                                <a:pt x="301" y="107"/>
                              </a:lnTo>
                              <a:lnTo>
                                <a:pt x="275" y="83"/>
                              </a:lnTo>
                              <a:lnTo>
                                <a:pt x="234" y="62"/>
                              </a:lnTo>
                              <a:lnTo>
                                <a:pt x="195" y="49"/>
                              </a:lnTo>
                              <a:lnTo>
                                <a:pt x="172" y="49"/>
                              </a:lnTo>
                              <a:lnTo>
                                <a:pt x="133" y="49"/>
                              </a:lnTo>
                              <a:lnTo>
                                <a:pt x="93" y="49"/>
                              </a:lnTo>
                              <a:lnTo>
                                <a:pt x="66" y="62"/>
                              </a:lnTo>
                              <a:lnTo>
                                <a:pt x="39" y="70"/>
                              </a:lnTo>
                              <a:lnTo>
                                <a:pt x="0" y="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7920" bIns="-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181" name=""/>
            <p:cNvSpPr/>
            <p:nvPr/>
          </p:nvSpPr>
          <p:spPr>
            <a:xfrm>
              <a:off x="4481640" y="6541920"/>
              <a:ext cx="1073520" cy="306720"/>
            </a:xfrm>
            <a:custGeom>
              <a:avLst/>
              <a:gdLst/>
              <a:ahLst/>
              <a:rect l="0" t="0" r="r" b="b"/>
              <a:pathLst>
                <a:path w="2982" h="852">
                  <a:moveTo>
                    <a:pt x="52" y="852"/>
                  </a:moveTo>
                  <a:lnTo>
                    <a:pt x="0" y="667"/>
                  </a:lnTo>
                  <a:lnTo>
                    <a:pt x="105" y="549"/>
                  </a:lnTo>
                  <a:lnTo>
                    <a:pt x="211" y="425"/>
                  </a:lnTo>
                  <a:lnTo>
                    <a:pt x="317" y="364"/>
                  </a:lnTo>
                  <a:lnTo>
                    <a:pt x="370" y="241"/>
                  </a:lnTo>
                  <a:lnTo>
                    <a:pt x="480" y="241"/>
                  </a:lnTo>
                  <a:lnTo>
                    <a:pt x="586" y="241"/>
                  </a:lnTo>
                  <a:lnTo>
                    <a:pt x="746" y="241"/>
                  </a:lnTo>
                  <a:lnTo>
                    <a:pt x="904" y="184"/>
                  </a:lnTo>
                  <a:lnTo>
                    <a:pt x="1068" y="184"/>
                  </a:lnTo>
                  <a:lnTo>
                    <a:pt x="1226" y="118"/>
                  </a:lnTo>
                  <a:lnTo>
                    <a:pt x="1385" y="61"/>
                  </a:lnTo>
                  <a:lnTo>
                    <a:pt x="1544" y="61"/>
                  </a:lnTo>
                  <a:lnTo>
                    <a:pt x="1703" y="118"/>
                  </a:lnTo>
                  <a:lnTo>
                    <a:pt x="1853" y="69"/>
                  </a:lnTo>
                  <a:lnTo>
                    <a:pt x="2011" y="0"/>
                  </a:lnTo>
                  <a:lnTo>
                    <a:pt x="2205" y="118"/>
                  </a:lnTo>
                  <a:lnTo>
                    <a:pt x="2343" y="184"/>
                  </a:lnTo>
                  <a:lnTo>
                    <a:pt x="2502" y="241"/>
                  </a:lnTo>
                  <a:lnTo>
                    <a:pt x="2665" y="302"/>
                  </a:lnTo>
                  <a:lnTo>
                    <a:pt x="2766" y="425"/>
                  </a:lnTo>
                  <a:lnTo>
                    <a:pt x="2877" y="487"/>
                  </a:lnTo>
                  <a:lnTo>
                    <a:pt x="2925" y="610"/>
                  </a:lnTo>
                  <a:lnTo>
                    <a:pt x="2982" y="852"/>
                  </a:lnTo>
                  <a:lnTo>
                    <a:pt x="52" y="8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554280" y="5597640"/>
              <a:ext cx="844920" cy="1124280"/>
              <a:chOff x="3554280" y="5597640"/>
              <a:chExt cx="844920" cy="1124280"/>
            </a:xfrm>
          </p:grpSpPr>
          <p:sp>
            <p:nvSpPr>
              <p:cNvPr id="183" name=""/>
              <p:cNvSpPr/>
              <p:nvPr/>
            </p:nvSpPr>
            <p:spPr>
              <a:xfrm>
                <a:off x="3645000" y="5789520"/>
                <a:ext cx="640080" cy="763920"/>
              </a:xfrm>
              <a:custGeom>
                <a:avLst/>
                <a:gdLst/>
                <a:ahLst/>
                <a:rect l="0" t="0" r="r" b="b"/>
                <a:pathLst>
                  <a:path w="1778" h="2122">
                    <a:moveTo>
                      <a:pt x="0" y="1317"/>
                    </a:moveTo>
                    <a:lnTo>
                      <a:pt x="123" y="1490"/>
                    </a:lnTo>
                    <a:lnTo>
                      <a:pt x="185" y="1662"/>
                    </a:lnTo>
                    <a:lnTo>
                      <a:pt x="246" y="1777"/>
                    </a:lnTo>
                    <a:lnTo>
                      <a:pt x="304" y="1892"/>
                    </a:lnTo>
                    <a:lnTo>
                      <a:pt x="489" y="2007"/>
                    </a:lnTo>
                    <a:lnTo>
                      <a:pt x="674" y="2122"/>
                    </a:lnTo>
                    <a:lnTo>
                      <a:pt x="859" y="2122"/>
                    </a:lnTo>
                    <a:lnTo>
                      <a:pt x="1103" y="2122"/>
                    </a:lnTo>
                    <a:lnTo>
                      <a:pt x="1226" y="2007"/>
                    </a:lnTo>
                    <a:lnTo>
                      <a:pt x="1473" y="1834"/>
                    </a:lnTo>
                    <a:lnTo>
                      <a:pt x="1592" y="1662"/>
                    </a:lnTo>
                    <a:lnTo>
                      <a:pt x="1716" y="1547"/>
                    </a:lnTo>
                    <a:lnTo>
                      <a:pt x="1778" y="1432"/>
                    </a:lnTo>
                    <a:lnTo>
                      <a:pt x="1778" y="1260"/>
                    </a:lnTo>
                    <a:lnTo>
                      <a:pt x="1778" y="1088"/>
                    </a:lnTo>
                    <a:lnTo>
                      <a:pt x="1654" y="861"/>
                    </a:lnTo>
                    <a:lnTo>
                      <a:pt x="1592" y="689"/>
                    </a:lnTo>
                    <a:lnTo>
                      <a:pt x="1531" y="402"/>
                    </a:lnTo>
                    <a:lnTo>
                      <a:pt x="1473" y="114"/>
                    </a:lnTo>
                    <a:lnTo>
                      <a:pt x="1412" y="0"/>
                    </a:lnTo>
                    <a:lnTo>
                      <a:pt x="1350" y="172"/>
                    </a:lnTo>
                    <a:lnTo>
                      <a:pt x="1165" y="344"/>
                    </a:lnTo>
                    <a:lnTo>
                      <a:pt x="918" y="344"/>
                    </a:lnTo>
                    <a:lnTo>
                      <a:pt x="798" y="402"/>
                    </a:lnTo>
                    <a:lnTo>
                      <a:pt x="612" y="402"/>
                    </a:lnTo>
                    <a:lnTo>
                      <a:pt x="736" y="344"/>
                    </a:lnTo>
                    <a:lnTo>
                      <a:pt x="366" y="344"/>
                    </a:lnTo>
                    <a:lnTo>
                      <a:pt x="185" y="402"/>
                    </a:lnTo>
                    <a:lnTo>
                      <a:pt x="61" y="459"/>
                    </a:lnTo>
                    <a:lnTo>
                      <a:pt x="61" y="1033"/>
                    </a:lnTo>
                    <a:lnTo>
                      <a:pt x="0" y="1145"/>
                    </a:lnTo>
                    <a:lnTo>
                      <a:pt x="0" y="1260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714840" y="6361200"/>
                <a:ext cx="547920" cy="360720"/>
              </a:xfrm>
              <a:custGeom>
                <a:avLst/>
                <a:gdLst/>
                <a:ahLst/>
                <a:rect l="0" t="0" r="r" b="b"/>
                <a:pathLst>
                  <a:path w="1522" h="1002">
                    <a:moveTo>
                      <a:pt x="123" y="220"/>
                    </a:moveTo>
                    <a:lnTo>
                      <a:pt x="61" y="388"/>
                    </a:lnTo>
                    <a:lnTo>
                      <a:pt x="0" y="556"/>
                    </a:lnTo>
                    <a:lnTo>
                      <a:pt x="304" y="781"/>
                    </a:lnTo>
                    <a:lnTo>
                      <a:pt x="427" y="891"/>
                    </a:lnTo>
                    <a:lnTo>
                      <a:pt x="608" y="944"/>
                    </a:lnTo>
                    <a:lnTo>
                      <a:pt x="732" y="1002"/>
                    </a:lnTo>
                    <a:lnTo>
                      <a:pt x="1037" y="891"/>
                    </a:lnTo>
                    <a:lnTo>
                      <a:pt x="1279" y="724"/>
                    </a:lnTo>
                    <a:lnTo>
                      <a:pt x="1522" y="503"/>
                    </a:lnTo>
                    <a:lnTo>
                      <a:pt x="1460" y="0"/>
                    </a:lnTo>
                    <a:lnTo>
                      <a:pt x="123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3624120" y="5873760"/>
                <a:ext cx="638640" cy="848160"/>
                <a:chOff x="3624120" y="5873760"/>
                <a:chExt cx="638640" cy="8481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3624120" y="5873760"/>
                  <a:ext cx="638640" cy="848160"/>
                  <a:chOff x="3624120" y="5873760"/>
                  <a:chExt cx="638640" cy="8481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3624120" y="5873760"/>
                    <a:ext cx="614880" cy="848160"/>
                  </a:xfrm>
                  <a:custGeom>
                    <a:avLst/>
                    <a:gdLst/>
                    <a:ahLst/>
                    <a:rect l="0" t="0" r="r" b="b"/>
                    <a:pathLst>
                      <a:path w="1708" h="2356">
                        <a:moveTo>
                          <a:pt x="1279" y="0"/>
                        </a:moveTo>
                        <a:lnTo>
                          <a:pt x="1279" y="57"/>
                        </a:lnTo>
                        <a:lnTo>
                          <a:pt x="1218" y="172"/>
                        </a:lnTo>
                        <a:lnTo>
                          <a:pt x="1160" y="286"/>
                        </a:lnTo>
                        <a:lnTo>
                          <a:pt x="1037" y="344"/>
                        </a:lnTo>
                        <a:lnTo>
                          <a:pt x="913" y="344"/>
                        </a:lnTo>
                        <a:lnTo>
                          <a:pt x="794" y="286"/>
                        </a:lnTo>
                        <a:lnTo>
                          <a:pt x="671" y="286"/>
                        </a:lnTo>
                        <a:lnTo>
                          <a:pt x="609" y="286"/>
                        </a:lnTo>
                        <a:lnTo>
                          <a:pt x="428" y="286"/>
                        </a:lnTo>
                        <a:lnTo>
                          <a:pt x="366" y="286"/>
                        </a:lnTo>
                        <a:lnTo>
                          <a:pt x="180" y="286"/>
                        </a:lnTo>
                        <a:lnTo>
                          <a:pt x="242" y="344"/>
                        </a:lnTo>
                        <a:lnTo>
                          <a:pt x="242" y="458"/>
                        </a:lnTo>
                        <a:lnTo>
                          <a:pt x="180" y="516"/>
                        </a:lnTo>
                        <a:lnTo>
                          <a:pt x="123" y="573"/>
                        </a:lnTo>
                        <a:lnTo>
                          <a:pt x="242" y="573"/>
                        </a:lnTo>
                        <a:lnTo>
                          <a:pt x="366" y="573"/>
                        </a:lnTo>
                        <a:lnTo>
                          <a:pt x="490" y="573"/>
                        </a:lnTo>
                        <a:lnTo>
                          <a:pt x="547" y="573"/>
                        </a:lnTo>
                        <a:lnTo>
                          <a:pt x="671" y="573"/>
                        </a:lnTo>
                        <a:lnTo>
                          <a:pt x="671" y="516"/>
                        </a:lnTo>
                        <a:lnTo>
                          <a:pt x="671" y="746"/>
                        </a:lnTo>
                        <a:lnTo>
                          <a:pt x="671" y="1033"/>
                        </a:lnTo>
                        <a:lnTo>
                          <a:pt x="671" y="1090"/>
                        </a:lnTo>
                        <a:lnTo>
                          <a:pt x="733" y="1090"/>
                        </a:lnTo>
                        <a:lnTo>
                          <a:pt x="856" y="1090"/>
                        </a:lnTo>
                        <a:lnTo>
                          <a:pt x="975" y="1090"/>
                        </a:lnTo>
                        <a:lnTo>
                          <a:pt x="856" y="1147"/>
                        </a:lnTo>
                        <a:lnTo>
                          <a:pt x="794" y="1209"/>
                        </a:lnTo>
                        <a:lnTo>
                          <a:pt x="794" y="1323"/>
                        </a:lnTo>
                        <a:lnTo>
                          <a:pt x="1099" y="1323"/>
                        </a:lnTo>
                        <a:lnTo>
                          <a:pt x="1099" y="1381"/>
                        </a:lnTo>
                        <a:lnTo>
                          <a:pt x="1037" y="1381"/>
                        </a:lnTo>
                        <a:lnTo>
                          <a:pt x="671" y="1381"/>
                        </a:lnTo>
                        <a:lnTo>
                          <a:pt x="733" y="1381"/>
                        </a:lnTo>
                        <a:lnTo>
                          <a:pt x="794" y="1438"/>
                        </a:lnTo>
                        <a:lnTo>
                          <a:pt x="913" y="1438"/>
                        </a:lnTo>
                        <a:lnTo>
                          <a:pt x="1037" y="1495"/>
                        </a:lnTo>
                        <a:lnTo>
                          <a:pt x="856" y="1553"/>
                        </a:lnTo>
                        <a:lnTo>
                          <a:pt x="733" y="1553"/>
                        </a:lnTo>
                        <a:lnTo>
                          <a:pt x="856" y="1667"/>
                        </a:lnTo>
                        <a:lnTo>
                          <a:pt x="733" y="1667"/>
                        </a:lnTo>
                        <a:lnTo>
                          <a:pt x="733" y="1553"/>
                        </a:lnTo>
                        <a:lnTo>
                          <a:pt x="609" y="1495"/>
                        </a:lnTo>
                        <a:lnTo>
                          <a:pt x="490" y="1381"/>
                        </a:lnTo>
                        <a:lnTo>
                          <a:pt x="609" y="1266"/>
                        </a:lnTo>
                        <a:lnTo>
                          <a:pt x="733" y="1209"/>
                        </a:lnTo>
                        <a:lnTo>
                          <a:pt x="609" y="1147"/>
                        </a:lnTo>
                        <a:lnTo>
                          <a:pt x="547" y="1147"/>
                        </a:lnTo>
                        <a:lnTo>
                          <a:pt x="609" y="861"/>
                        </a:lnTo>
                        <a:lnTo>
                          <a:pt x="609" y="746"/>
                        </a:lnTo>
                        <a:lnTo>
                          <a:pt x="490" y="803"/>
                        </a:lnTo>
                        <a:lnTo>
                          <a:pt x="366" y="803"/>
                        </a:lnTo>
                        <a:lnTo>
                          <a:pt x="180" y="746"/>
                        </a:lnTo>
                        <a:lnTo>
                          <a:pt x="180" y="861"/>
                        </a:lnTo>
                        <a:lnTo>
                          <a:pt x="123" y="975"/>
                        </a:lnTo>
                        <a:lnTo>
                          <a:pt x="123" y="1033"/>
                        </a:lnTo>
                        <a:lnTo>
                          <a:pt x="180" y="1147"/>
                        </a:lnTo>
                        <a:lnTo>
                          <a:pt x="242" y="1147"/>
                        </a:lnTo>
                        <a:lnTo>
                          <a:pt x="304" y="1090"/>
                        </a:lnTo>
                        <a:lnTo>
                          <a:pt x="304" y="1209"/>
                        </a:lnTo>
                        <a:lnTo>
                          <a:pt x="304" y="1323"/>
                        </a:lnTo>
                        <a:lnTo>
                          <a:pt x="304" y="1438"/>
                        </a:lnTo>
                        <a:lnTo>
                          <a:pt x="366" y="1553"/>
                        </a:lnTo>
                        <a:lnTo>
                          <a:pt x="428" y="1610"/>
                        </a:lnTo>
                        <a:lnTo>
                          <a:pt x="547" y="1725"/>
                        </a:lnTo>
                        <a:lnTo>
                          <a:pt x="856" y="1783"/>
                        </a:lnTo>
                        <a:lnTo>
                          <a:pt x="856" y="1667"/>
                        </a:lnTo>
                        <a:lnTo>
                          <a:pt x="975" y="1667"/>
                        </a:lnTo>
                        <a:lnTo>
                          <a:pt x="1037" y="1783"/>
                        </a:lnTo>
                        <a:lnTo>
                          <a:pt x="913" y="1840"/>
                        </a:lnTo>
                        <a:lnTo>
                          <a:pt x="1037" y="1840"/>
                        </a:lnTo>
                        <a:lnTo>
                          <a:pt x="1218" y="1840"/>
                        </a:lnTo>
                        <a:lnTo>
                          <a:pt x="1404" y="1667"/>
                        </a:lnTo>
                        <a:lnTo>
                          <a:pt x="1585" y="1495"/>
                        </a:lnTo>
                        <a:lnTo>
                          <a:pt x="1708" y="1381"/>
                        </a:lnTo>
                        <a:lnTo>
                          <a:pt x="1708" y="1495"/>
                        </a:lnTo>
                        <a:lnTo>
                          <a:pt x="1404" y="1783"/>
                        </a:lnTo>
                        <a:lnTo>
                          <a:pt x="1342" y="2184"/>
                        </a:lnTo>
                        <a:lnTo>
                          <a:pt x="975" y="2356"/>
                        </a:lnTo>
                        <a:lnTo>
                          <a:pt x="794" y="2299"/>
                        </a:lnTo>
                        <a:lnTo>
                          <a:pt x="609" y="2184"/>
                        </a:lnTo>
                        <a:lnTo>
                          <a:pt x="242" y="1898"/>
                        </a:lnTo>
                        <a:lnTo>
                          <a:pt x="304" y="1667"/>
                        </a:lnTo>
                        <a:lnTo>
                          <a:pt x="242" y="1553"/>
                        </a:lnTo>
                        <a:lnTo>
                          <a:pt x="180" y="1438"/>
                        </a:lnTo>
                        <a:lnTo>
                          <a:pt x="61" y="1147"/>
                        </a:lnTo>
                        <a:lnTo>
                          <a:pt x="61" y="861"/>
                        </a:lnTo>
                        <a:lnTo>
                          <a:pt x="0" y="229"/>
                        </a:lnTo>
                        <a:lnTo>
                          <a:pt x="490" y="0"/>
                        </a:lnTo>
                        <a:lnTo>
                          <a:pt x="975" y="57"/>
                        </a:lnTo>
                        <a:lnTo>
                          <a:pt x="127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4146480" y="5894280"/>
                    <a:ext cx="116280" cy="53208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1478">
                        <a:moveTo>
                          <a:pt x="217" y="57"/>
                        </a:moveTo>
                        <a:lnTo>
                          <a:pt x="52" y="0"/>
                        </a:lnTo>
                        <a:lnTo>
                          <a:pt x="106" y="172"/>
                        </a:lnTo>
                        <a:lnTo>
                          <a:pt x="106" y="340"/>
                        </a:lnTo>
                        <a:lnTo>
                          <a:pt x="52" y="455"/>
                        </a:lnTo>
                        <a:lnTo>
                          <a:pt x="0" y="455"/>
                        </a:lnTo>
                        <a:lnTo>
                          <a:pt x="52" y="512"/>
                        </a:lnTo>
                        <a:lnTo>
                          <a:pt x="106" y="566"/>
                        </a:lnTo>
                        <a:lnTo>
                          <a:pt x="106" y="681"/>
                        </a:lnTo>
                        <a:lnTo>
                          <a:pt x="106" y="738"/>
                        </a:lnTo>
                        <a:lnTo>
                          <a:pt x="106" y="854"/>
                        </a:lnTo>
                        <a:lnTo>
                          <a:pt x="52" y="911"/>
                        </a:lnTo>
                        <a:lnTo>
                          <a:pt x="52" y="965"/>
                        </a:lnTo>
                        <a:lnTo>
                          <a:pt x="106" y="965"/>
                        </a:lnTo>
                        <a:lnTo>
                          <a:pt x="164" y="1022"/>
                        </a:lnTo>
                        <a:lnTo>
                          <a:pt x="164" y="1080"/>
                        </a:lnTo>
                        <a:lnTo>
                          <a:pt x="164" y="1195"/>
                        </a:lnTo>
                        <a:lnTo>
                          <a:pt x="106" y="1363"/>
                        </a:lnTo>
                        <a:lnTo>
                          <a:pt x="52" y="1478"/>
                        </a:lnTo>
                        <a:lnTo>
                          <a:pt x="217" y="1195"/>
                        </a:lnTo>
                        <a:lnTo>
                          <a:pt x="323" y="1137"/>
                        </a:lnTo>
                        <a:lnTo>
                          <a:pt x="323" y="965"/>
                        </a:lnTo>
                        <a:lnTo>
                          <a:pt x="270" y="911"/>
                        </a:lnTo>
                        <a:lnTo>
                          <a:pt x="270" y="854"/>
                        </a:lnTo>
                        <a:lnTo>
                          <a:pt x="270" y="738"/>
                        </a:lnTo>
                        <a:lnTo>
                          <a:pt x="164" y="623"/>
                        </a:lnTo>
                        <a:lnTo>
                          <a:pt x="270" y="512"/>
                        </a:lnTo>
                        <a:lnTo>
                          <a:pt x="217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3965400" y="6086520"/>
                  <a:ext cx="181440" cy="43200"/>
                </a:xfrm>
                <a:custGeom>
                  <a:avLst/>
                  <a:gdLst/>
                  <a:ahLst/>
                  <a:rect l="0" t="0" r="r" b="b"/>
                  <a:pathLst>
                    <a:path w="504" h="120">
                      <a:moveTo>
                        <a:pt x="0" y="0"/>
                      </a:moveTo>
                      <a:lnTo>
                        <a:pt x="0" y="79"/>
                      </a:lnTo>
                      <a:lnTo>
                        <a:pt x="57" y="120"/>
                      </a:lnTo>
                      <a:lnTo>
                        <a:pt x="168" y="79"/>
                      </a:lnTo>
                      <a:lnTo>
                        <a:pt x="278" y="79"/>
                      </a:lnTo>
                      <a:lnTo>
                        <a:pt x="394" y="79"/>
                      </a:lnTo>
                      <a:lnTo>
                        <a:pt x="504" y="79"/>
                      </a:lnTo>
                      <a:lnTo>
                        <a:pt x="394" y="41"/>
                      </a:lnTo>
                      <a:lnTo>
                        <a:pt x="336" y="0"/>
                      </a:lnTo>
                      <a:lnTo>
                        <a:pt x="225" y="0"/>
                      </a:lnTo>
                      <a:lnTo>
                        <a:pt x="1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691080" y="6021360"/>
                <a:ext cx="455760" cy="111240"/>
                <a:chOff x="3691080" y="6021360"/>
                <a:chExt cx="455760" cy="111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3714840" y="6086520"/>
                  <a:ext cx="387720" cy="46080"/>
                  <a:chOff x="3714840" y="6086520"/>
                  <a:chExt cx="387720" cy="46080"/>
                </a:xfrm>
              </p:grpSpPr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3987720" y="6086520"/>
                    <a:ext cx="114840" cy="46080"/>
                    <a:chOff x="3987720" y="6086520"/>
                    <a:chExt cx="114840" cy="4608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987720" y="6086520"/>
                      <a:ext cx="114840" cy="43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9" h="120">
                          <a:moveTo>
                            <a:pt x="319" y="79"/>
                          </a:moveTo>
                          <a:lnTo>
                            <a:pt x="266" y="41"/>
                          </a:lnTo>
                          <a:lnTo>
                            <a:pt x="159" y="0"/>
                          </a:lnTo>
                          <a:lnTo>
                            <a:pt x="106" y="41"/>
                          </a:lnTo>
                          <a:lnTo>
                            <a:pt x="52" y="79"/>
                          </a:lnTo>
                          <a:lnTo>
                            <a:pt x="0" y="120"/>
                          </a:lnTo>
                          <a:lnTo>
                            <a:pt x="159" y="120"/>
                          </a:lnTo>
                          <a:lnTo>
                            <a:pt x="266" y="120"/>
                          </a:lnTo>
                          <a:lnTo>
                            <a:pt x="319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033800" y="6107040"/>
                      <a:ext cx="25560" cy="25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3714840" y="6086520"/>
                    <a:ext cx="113040" cy="46080"/>
                    <a:chOff x="3714840" y="6086520"/>
                    <a:chExt cx="113040" cy="460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3714840" y="6086520"/>
                      <a:ext cx="113040" cy="43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4" h="120">
                          <a:moveTo>
                            <a:pt x="0" y="79"/>
                          </a:moveTo>
                          <a:lnTo>
                            <a:pt x="105" y="41"/>
                          </a:lnTo>
                          <a:lnTo>
                            <a:pt x="159" y="0"/>
                          </a:lnTo>
                          <a:lnTo>
                            <a:pt x="208" y="41"/>
                          </a:lnTo>
                          <a:lnTo>
                            <a:pt x="314" y="79"/>
                          </a:lnTo>
                          <a:lnTo>
                            <a:pt x="314" y="120"/>
                          </a:lnTo>
                          <a:lnTo>
                            <a:pt x="208" y="120"/>
                          </a:lnTo>
                          <a:lnTo>
                            <a:pt x="105" y="120"/>
                          </a:lnTo>
                          <a:lnTo>
                            <a:pt x="0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3760920" y="6107040"/>
                      <a:ext cx="25560" cy="25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3691080" y="6021360"/>
                  <a:ext cx="455760" cy="25920"/>
                  <a:chOff x="3691080" y="6021360"/>
                  <a:chExt cx="455760" cy="2592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3965400" y="6021360"/>
                    <a:ext cx="181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04" h="72">
                        <a:moveTo>
                          <a:pt x="57" y="38"/>
                        </a:moveTo>
                        <a:lnTo>
                          <a:pt x="110" y="0"/>
                        </a:lnTo>
                        <a:lnTo>
                          <a:pt x="168" y="0"/>
                        </a:lnTo>
                        <a:lnTo>
                          <a:pt x="225" y="0"/>
                        </a:lnTo>
                        <a:lnTo>
                          <a:pt x="278" y="0"/>
                        </a:lnTo>
                        <a:lnTo>
                          <a:pt x="336" y="0"/>
                        </a:lnTo>
                        <a:lnTo>
                          <a:pt x="394" y="38"/>
                        </a:lnTo>
                        <a:lnTo>
                          <a:pt x="504" y="72"/>
                        </a:lnTo>
                        <a:lnTo>
                          <a:pt x="447" y="38"/>
                        </a:lnTo>
                        <a:lnTo>
                          <a:pt x="394" y="38"/>
                        </a:lnTo>
                        <a:lnTo>
                          <a:pt x="278" y="38"/>
                        </a:lnTo>
                        <a:lnTo>
                          <a:pt x="225" y="38"/>
                        </a:lnTo>
                        <a:lnTo>
                          <a:pt x="110" y="38"/>
                        </a:lnTo>
                        <a:lnTo>
                          <a:pt x="57" y="38"/>
                        </a:lnTo>
                        <a:lnTo>
                          <a:pt x="57" y="72"/>
                        </a:lnTo>
                        <a:lnTo>
                          <a:pt x="0" y="72"/>
                        </a:lnTo>
                        <a:lnTo>
                          <a:pt x="5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691080" y="6043680"/>
                    <a:ext cx="182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07" h="0">
                        <a:moveTo>
                          <a:pt x="449" y="0"/>
                        </a:moveTo>
                        <a:lnTo>
                          <a:pt x="392" y="0"/>
                        </a:lnTo>
                        <a:lnTo>
                          <a:pt x="339" y="0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114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lnTo>
                          <a:pt x="57" y="0"/>
                        </a:lnTo>
                        <a:lnTo>
                          <a:pt x="114" y="0"/>
                        </a:lnTo>
                        <a:lnTo>
                          <a:pt x="224" y="0"/>
                        </a:lnTo>
                        <a:lnTo>
                          <a:pt x="282" y="0"/>
                        </a:lnTo>
                        <a:lnTo>
                          <a:pt x="339" y="0"/>
                        </a:lnTo>
                        <a:lnTo>
                          <a:pt x="392" y="0"/>
                        </a:lnTo>
                        <a:lnTo>
                          <a:pt x="449" y="0"/>
                        </a:lnTo>
                        <a:lnTo>
                          <a:pt x="507" y="0"/>
                        </a:lnTo>
                        <a:lnTo>
                          <a:pt x="4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-64080" bIns="-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3554280" y="5597640"/>
                <a:ext cx="844920" cy="659160"/>
                <a:chOff x="3554280" y="5597640"/>
                <a:chExt cx="844920" cy="659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54280" y="5597640"/>
                  <a:ext cx="844920" cy="659160"/>
                </a:xfrm>
                <a:custGeom>
                  <a:avLst/>
                  <a:gdLst/>
                  <a:ahLst/>
                  <a:rect l="0" t="0" r="r" b="b"/>
                  <a:pathLst>
                    <a:path w="2347" h="1831">
                      <a:moveTo>
                        <a:pt x="308" y="1831"/>
                      </a:moveTo>
                      <a:lnTo>
                        <a:pt x="185" y="1773"/>
                      </a:lnTo>
                      <a:lnTo>
                        <a:pt x="123" y="1658"/>
                      </a:lnTo>
                      <a:lnTo>
                        <a:pt x="61" y="1543"/>
                      </a:lnTo>
                      <a:lnTo>
                        <a:pt x="0" y="1428"/>
                      </a:lnTo>
                      <a:lnTo>
                        <a:pt x="0" y="1375"/>
                      </a:lnTo>
                      <a:lnTo>
                        <a:pt x="0" y="1088"/>
                      </a:lnTo>
                      <a:lnTo>
                        <a:pt x="0" y="916"/>
                      </a:lnTo>
                      <a:lnTo>
                        <a:pt x="0" y="742"/>
                      </a:lnTo>
                      <a:lnTo>
                        <a:pt x="61" y="570"/>
                      </a:lnTo>
                      <a:lnTo>
                        <a:pt x="185" y="402"/>
                      </a:lnTo>
                      <a:lnTo>
                        <a:pt x="370" y="229"/>
                      </a:lnTo>
                      <a:lnTo>
                        <a:pt x="555" y="114"/>
                      </a:lnTo>
                      <a:lnTo>
                        <a:pt x="803" y="57"/>
                      </a:lnTo>
                      <a:lnTo>
                        <a:pt x="1050" y="0"/>
                      </a:lnTo>
                      <a:lnTo>
                        <a:pt x="1235" y="0"/>
                      </a:lnTo>
                      <a:lnTo>
                        <a:pt x="1482" y="0"/>
                      </a:lnTo>
                      <a:lnTo>
                        <a:pt x="1544" y="0"/>
                      </a:lnTo>
                      <a:lnTo>
                        <a:pt x="1667" y="0"/>
                      </a:lnTo>
                      <a:lnTo>
                        <a:pt x="1854" y="114"/>
                      </a:lnTo>
                      <a:lnTo>
                        <a:pt x="1915" y="172"/>
                      </a:lnTo>
                      <a:lnTo>
                        <a:pt x="2039" y="287"/>
                      </a:lnTo>
                      <a:lnTo>
                        <a:pt x="2162" y="402"/>
                      </a:lnTo>
                      <a:lnTo>
                        <a:pt x="2224" y="512"/>
                      </a:lnTo>
                      <a:lnTo>
                        <a:pt x="2286" y="627"/>
                      </a:lnTo>
                      <a:lnTo>
                        <a:pt x="2286" y="800"/>
                      </a:lnTo>
                      <a:lnTo>
                        <a:pt x="2286" y="973"/>
                      </a:lnTo>
                      <a:lnTo>
                        <a:pt x="2286" y="1030"/>
                      </a:lnTo>
                      <a:lnTo>
                        <a:pt x="2347" y="1088"/>
                      </a:lnTo>
                      <a:lnTo>
                        <a:pt x="2347" y="1203"/>
                      </a:lnTo>
                      <a:lnTo>
                        <a:pt x="2347" y="1260"/>
                      </a:lnTo>
                      <a:lnTo>
                        <a:pt x="2347" y="1318"/>
                      </a:lnTo>
                      <a:lnTo>
                        <a:pt x="2286" y="1428"/>
                      </a:lnTo>
                      <a:lnTo>
                        <a:pt x="2286" y="1543"/>
                      </a:lnTo>
                      <a:lnTo>
                        <a:pt x="2224" y="1601"/>
                      </a:lnTo>
                      <a:lnTo>
                        <a:pt x="2039" y="1831"/>
                      </a:lnTo>
                      <a:lnTo>
                        <a:pt x="2039" y="1601"/>
                      </a:lnTo>
                      <a:lnTo>
                        <a:pt x="1977" y="1486"/>
                      </a:lnTo>
                      <a:lnTo>
                        <a:pt x="1915" y="1375"/>
                      </a:lnTo>
                      <a:lnTo>
                        <a:pt x="1915" y="1543"/>
                      </a:lnTo>
                      <a:lnTo>
                        <a:pt x="1854" y="1428"/>
                      </a:lnTo>
                      <a:lnTo>
                        <a:pt x="1854" y="1203"/>
                      </a:lnTo>
                      <a:lnTo>
                        <a:pt x="1792" y="916"/>
                      </a:lnTo>
                      <a:lnTo>
                        <a:pt x="1729" y="742"/>
                      </a:lnTo>
                      <a:lnTo>
                        <a:pt x="1792" y="627"/>
                      </a:lnTo>
                      <a:lnTo>
                        <a:pt x="1667" y="512"/>
                      </a:lnTo>
                      <a:lnTo>
                        <a:pt x="1606" y="627"/>
                      </a:lnTo>
                      <a:lnTo>
                        <a:pt x="1544" y="742"/>
                      </a:lnTo>
                      <a:lnTo>
                        <a:pt x="1420" y="800"/>
                      </a:lnTo>
                      <a:lnTo>
                        <a:pt x="1359" y="916"/>
                      </a:lnTo>
                      <a:lnTo>
                        <a:pt x="1235" y="916"/>
                      </a:lnTo>
                      <a:lnTo>
                        <a:pt x="1112" y="916"/>
                      </a:lnTo>
                      <a:lnTo>
                        <a:pt x="988" y="916"/>
                      </a:lnTo>
                      <a:lnTo>
                        <a:pt x="865" y="916"/>
                      </a:lnTo>
                      <a:lnTo>
                        <a:pt x="803" y="916"/>
                      </a:lnTo>
                      <a:lnTo>
                        <a:pt x="865" y="916"/>
                      </a:lnTo>
                      <a:lnTo>
                        <a:pt x="927" y="857"/>
                      </a:lnTo>
                      <a:lnTo>
                        <a:pt x="927" y="800"/>
                      </a:lnTo>
                      <a:lnTo>
                        <a:pt x="741" y="857"/>
                      </a:lnTo>
                      <a:lnTo>
                        <a:pt x="618" y="857"/>
                      </a:lnTo>
                      <a:lnTo>
                        <a:pt x="432" y="916"/>
                      </a:lnTo>
                      <a:lnTo>
                        <a:pt x="370" y="916"/>
                      </a:lnTo>
                      <a:lnTo>
                        <a:pt x="308" y="973"/>
                      </a:lnTo>
                      <a:lnTo>
                        <a:pt x="308" y="1375"/>
                      </a:lnTo>
                      <a:lnTo>
                        <a:pt x="308" y="1543"/>
                      </a:lnTo>
                      <a:lnTo>
                        <a:pt x="246" y="1601"/>
                      </a:lnTo>
                      <a:lnTo>
                        <a:pt x="246" y="1716"/>
                      </a:lnTo>
                      <a:lnTo>
                        <a:pt x="246" y="1773"/>
                      </a:lnTo>
                      <a:lnTo>
                        <a:pt x="308" y="1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54280" y="5703840"/>
                  <a:ext cx="844920" cy="552960"/>
                </a:xfrm>
                <a:custGeom>
                  <a:avLst/>
                  <a:gdLst/>
                  <a:ahLst/>
                  <a:rect l="0" t="0" r="r" b="b"/>
                  <a:pathLst>
                    <a:path w="2347" h="1536">
                      <a:moveTo>
                        <a:pt x="246" y="114"/>
                      </a:moveTo>
                      <a:lnTo>
                        <a:pt x="123" y="340"/>
                      </a:lnTo>
                      <a:lnTo>
                        <a:pt x="432" y="172"/>
                      </a:lnTo>
                      <a:lnTo>
                        <a:pt x="493" y="225"/>
                      </a:lnTo>
                      <a:lnTo>
                        <a:pt x="618" y="225"/>
                      </a:lnTo>
                      <a:lnTo>
                        <a:pt x="370" y="399"/>
                      </a:lnTo>
                      <a:lnTo>
                        <a:pt x="618" y="399"/>
                      </a:lnTo>
                      <a:lnTo>
                        <a:pt x="803" y="399"/>
                      </a:lnTo>
                      <a:lnTo>
                        <a:pt x="988" y="340"/>
                      </a:lnTo>
                      <a:lnTo>
                        <a:pt x="1050" y="283"/>
                      </a:lnTo>
                      <a:lnTo>
                        <a:pt x="988" y="225"/>
                      </a:lnTo>
                      <a:lnTo>
                        <a:pt x="1297" y="114"/>
                      </a:lnTo>
                      <a:lnTo>
                        <a:pt x="1235" y="283"/>
                      </a:lnTo>
                      <a:lnTo>
                        <a:pt x="1420" y="225"/>
                      </a:lnTo>
                      <a:lnTo>
                        <a:pt x="1606" y="114"/>
                      </a:lnTo>
                      <a:lnTo>
                        <a:pt x="1792" y="0"/>
                      </a:lnTo>
                      <a:lnTo>
                        <a:pt x="1729" y="114"/>
                      </a:lnTo>
                      <a:lnTo>
                        <a:pt x="1792" y="225"/>
                      </a:lnTo>
                      <a:lnTo>
                        <a:pt x="1977" y="399"/>
                      </a:lnTo>
                      <a:lnTo>
                        <a:pt x="1977" y="513"/>
                      </a:lnTo>
                      <a:lnTo>
                        <a:pt x="1977" y="624"/>
                      </a:lnTo>
                      <a:lnTo>
                        <a:pt x="2162" y="571"/>
                      </a:lnTo>
                      <a:lnTo>
                        <a:pt x="2162" y="624"/>
                      </a:lnTo>
                      <a:lnTo>
                        <a:pt x="2347" y="797"/>
                      </a:lnTo>
                      <a:lnTo>
                        <a:pt x="2286" y="965"/>
                      </a:lnTo>
                      <a:lnTo>
                        <a:pt x="2286" y="1080"/>
                      </a:lnTo>
                      <a:lnTo>
                        <a:pt x="2224" y="1310"/>
                      </a:lnTo>
                      <a:lnTo>
                        <a:pt x="2039" y="1536"/>
                      </a:lnTo>
                      <a:lnTo>
                        <a:pt x="2039" y="1421"/>
                      </a:lnTo>
                      <a:lnTo>
                        <a:pt x="2039" y="1310"/>
                      </a:lnTo>
                      <a:lnTo>
                        <a:pt x="1915" y="1080"/>
                      </a:lnTo>
                      <a:lnTo>
                        <a:pt x="1915" y="1253"/>
                      </a:lnTo>
                      <a:lnTo>
                        <a:pt x="1854" y="1137"/>
                      </a:lnTo>
                      <a:lnTo>
                        <a:pt x="1854" y="1080"/>
                      </a:lnTo>
                      <a:lnTo>
                        <a:pt x="1792" y="911"/>
                      </a:lnTo>
                      <a:lnTo>
                        <a:pt x="1792" y="682"/>
                      </a:lnTo>
                      <a:lnTo>
                        <a:pt x="1729" y="513"/>
                      </a:lnTo>
                      <a:lnTo>
                        <a:pt x="1792" y="340"/>
                      </a:lnTo>
                      <a:lnTo>
                        <a:pt x="1667" y="225"/>
                      </a:lnTo>
                      <a:lnTo>
                        <a:pt x="1606" y="399"/>
                      </a:lnTo>
                      <a:lnTo>
                        <a:pt x="1420" y="571"/>
                      </a:lnTo>
                      <a:lnTo>
                        <a:pt x="1359" y="571"/>
                      </a:lnTo>
                      <a:lnTo>
                        <a:pt x="1235" y="624"/>
                      </a:lnTo>
                      <a:lnTo>
                        <a:pt x="1050" y="624"/>
                      </a:lnTo>
                      <a:lnTo>
                        <a:pt x="803" y="624"/>
                      </a:lnTo>
                      <a:lnTo>
                        <a:pt x="927" y="571"/>
                      </a:lnTo>
                      <a:lnTo>
                        <a:pt x="865" y="513"/>
                      </a:lnTo>
                      <a:lnTo>
                        <a:pt x="680" y="571"/>
                      </a:lnTo>
                      <a:lnTo>
                        <a:pt x="493" y="571"/>
                      </a:lnTo>
                      <a:lnTo>
                        <a:pt x="246" y="682"/>
                      </a:lnTo>
                      <a:lnTo>
                        <a:pt x="308" y="739"/>
                      </a:lnTo>
                      <a:lnTo>
                        <a:pt x="308" y="1253"/>
                      </a:lnTo>
                      <a:lnTo>
                        <a:pt x="246" y="1310"/>
                      </a:lnTo>
                      <a:lnTo>
                        <a:pt x="246" y="1421"/>
                      </a:lnTo>
                      <a:lnTo>
                        <a:pt x="308" y="1536"/>
                      </a:lnTo>
                      <a:lnTo>
                        <a:pt x="61" y="1364"/>
                      </a:lnTo>
                      <a:lnTo>
                        <a:pt x="0" y="1196"/>
                      </a:lnTo>
                      <a:lnTo>
                        <a:pt x="0" y="1080"/>
                      </a:lnTo>
                      <a:lnTo>
                        <a:pt x="0" y="739"/>
                      </a:lnTo>
                      <a:lnTo>
                        <a:pt x="0" y="456"/>
                      </a:lnTo>
                      <a:lnTo>
                        <a:pt x="61" y="340"/>
                      </a:lnTo>
                      <a:lnTo>
                        <a:pt x="24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416400" y="6615000"/>
              <a:ext cx="1111680" cy="225720"/>
            </a:xfrm>
            <a:custGeom>
              <a:avLst/>
              <a:gdLst/>
              <a:ahLst/>
              <a:rect l="0" t="0" r="r" b="b"/>
              <a:pathLst>
                <a:path w="3088" h="627">
                  <a:moveTo>
                    <a:pt x="0" y="627"/>
                  </a:moveTo>
                  <a:lnTo>
                    <a:pt x="35" y="610"/>
                  </a:lnTo>
                  <a:lnTo>
                    <a:pt x="52" y="577"/>
                  </a:lnTo>
                  <a:lnTo>
                    <a:pt x="88" y="561"/>
                  </a:lnTo>
                  <a:lnTo>
                    <a:pt x="88" y="528"/>
                  </a:lnTo>
                  <a:lnTo>
                    <a:pt x="123" y="511"/>
                  </a:lnTo>
                  <a:lnTo>
                    <a:pt x="158" y="478"/>
                  </a:lnTo>
                  <a:lnTo>
                    <a:pt x="194" y="445"/>
                  </a:lnTo>
                  <a:lnTo>
                    <a:pt x="229" y="412"/>
                  </a:lnTo>
                  <a:lnTo>
                    <a:pt x="282" y="380"/>
                  </a:lnTo>
                  <a:lnTo>
                    <a:pt x="317" y="347"/>
                  </a:lnTo>
                  <a:lnTo>
                    <a:pt x="352" y="314"/>
                  </a:lnTo>
                  <a:lnTo>
                    <a:pt x="370" y="280"/>
                  </a:lnTo>
                  <a:lnTo>
                    <a:pt x="388" y="247"/>
                  </a:lnTo>
                  <a:lnTo>
                    <a:pt x="423" y="247"/>
                  </a:lnTo>
                  <a:lnTo>
                    <a:pt x="458" y="214"/>
                  </a:lnTo>
                  <a:lnTo>
                    <a:pt x="493" y="197"/>
                  </a:lnTo>
                  <a:lnTo>
                    <a:pt x="529" y="181"/>
                  </a:lnTo>
                  <a:lnTo>
                    <a:pt x="546" y="148"/>
                  </a:lnTo>
                  <a:lnTo>
                    <a:pt x="582" y="131"/>
                  </a:lnTo>
                  <a:lnTo>
                    <a:pt x="617" y="115"/>
                  </a:lnTo>
                  <a:lnTo>
                    <a:pt x="652" y="98"/>
                  </a:lnTo>
                  <a:lnTo>
                    <a:pt x="687" y="98"/>
                  </a:lnTo>
                  <a:lnTo>
                    <a:pt x="723" y="98"/>
                  </a:lnTo>
                  <a:lnTo>
                    <a:pt x="758" y="82"/>
                  </a:lnTo>
                  <a:lnTo>
                    <a:pt x="812" y="65"/>
                  </a:lnTo>
                  <a:lnTo>
                    <a:pt x="847" y="65"/>
                  </a:lnTo>
                  <a:lnTo>
                    <a:pt x="882" y="49"/>
                  </a:lnTo>
                  <a:lnTo>
                    <a:pt x="918" y="32"/>
                  </a:lnTo>
                  <a:lnTo>
                    <a:pt x="953" y="32"/>
                  </a:lnTo>
                  <a:lnTo>
                    <a:pt x="988" y="16"/>
                  </a:lnTo>
                  <a:lnTo>
                    <a:pt x="1024" y="0"/>
                  </a:lnTo>
                  <a:lnTo>
                    <a:pt x="1059" y="0"/>
                  </a:lnTo>
                  <a:lnTo>
                    <a:pt x="1094" y="0"/>
                  </a:lnTo>
                  <a:lnTo>
                    <a:pt x="1129" y="0"/>
                  </a:lnTo>
                  <a:lnTo>
                    <a:pt x="1182" y="16"/>
                  </a:lnTo>
                  <a:lnTo>
                    <a:pt x="1235" y="16"/>
                  </a:lnTo>
                  <a:lnTo>
                    <a:pt x="1270" y="32"/>
                  </a:lnTo>
                  <a:lnTo>
                    <a:pt x="1323" y="32"/>
                  </a:lnTo>
                  <a:lnTo>
                    <a:pt x="1376" y="32"/>
                  </a:lnTo>
                  <a:lnTo>
                    <a:pt x="1412" y="32"/>
                  </a:lnTo>
                  <a:lnTo>
                    <a:pt x="1447" y="32"/>
                  </a:lnTo>
                  <a:lnTo>
                    <a:pt x="1482" y="32"/>
                  </a:lnTo>
                  <a:lnTo>
                    <a:pt x="1517" y="32"/>
                  </a:lnTo>
                  <a:lnTo>
                    <a:pt x="1570" y="32"/>
                  </a:lnTo>
                  <a:lnTo>
                    <a:pt x="1606" y="32"/>
                  </a:lnTo>
                  <a:lnTo>
                    <a:pt x="1641" y="32"/>
                  </a:lnTo>
                  <a:lnTo>
                    <a:pt x="1676" y="32"/>
                  </a:lnTo>
                  <a:lnTo>
                    <a:pt x="1711" y="32"/>
                  </a:lnTo>
                  <a:lnTo>
                    <a:pt x="1747" y="32"/>
                  </a:lnTo>
                  <a:lnTo>
                    <a:pt x="1782" y="32"/>
                  </a:lnTo>
                  <a:lnTo>
                    <a:pt x="1817" y="32"/>
                  </a:lnTo>
                  <a:lnTo>
                    <a:pt x="1853" y="32"/>
                  </a:lnTo>
                  <a:lnTo>
                    <a:pt x="1888" y="32"/>
                  </a:lnTo>
                  <a:lnTo>
                    <a:pt x="1923" y="32"/>
                  </a:lnTo>
                  <a:lnTo>
                    <a:pt x="1958" y="32"/>
                  </a:lnTo>
                  <a:lnTo>
                    <a:pt x="1994" y="32"/>
                  </a:lnTo>
                  <a:lnTo>
                    <a:pt x="2029" y="32"/>
                  </a:lnTo>
                  <a:lnTo>
                    <a:pt x="2082" y="49"/>
                  </a:lnTo>
                  <a:lnTo>
                    <a:pt x="2117" y="65"/>
                  </a:lnTo>
                  <a:lnTo>
                    <a:pt x="2152" y="65"/>
                  </a:lnTo>
                  <a:lnTo>
                    <a:pt x="2188" y="49"/>
                  </a:lnTo>
                  <a:lnTo>
                    <a:pt x="2223" y="49"/>
                  </a:lnTo>
                  <a:lnTo>
                    <a:pt x="2258" y="49"/>
                  </a:lnTo>
                  <a:lnTo>
                    <a:pt x="2294" y="49"/>
                  </a:lnTo>
                  <a:lnTo>
                    <a:pt x="2330" y="49"/>
                  </a:lnTo>
                  <a:lnTo>
                    <a:pt x="2365" y="65"/>
                  </a:lnTo>
                  <a:lnTo>
                    <a:pt x="2400" y="82"/>
                  </a:lnTo>
                  <a:lnTo>
                    <a:pt x="2489" y="115"/>
                  </a:lnTo>
                  <a:lnTo>
                    <a:pt x="2524" y="115"/>
                  </a:lnTo>
                  <a:lnTo>
                    <a:pt x="2559" y="131"/>
                  </a:lnTo>
                  <a:lnTo>
                    <a:pt x="2594" y="148"/>
                  </a:lnTo>
                  <a:lnTo>
                    <a:pt x="2630" y="148"/>
                  </a:lnTo>
                  <a:lnTo>
                    <a:pt x="2665" y="164"/>
                  </a:lnTo>
                  <a:lnTo>
                    <a:pt x="2700" y="181"/>
                  </a:lnTo>
                  <a:lnTo>
                    <a:pt x="2753" y="214"/>
                  </a:lnTo>
                  <a:lnTo>
                    <a:pt x="2788" y="230"/>
                  </a:lnTo>
                  <a:lnTo>
                    <a:pt x="2841" y="263"/>
                  </a:lnTo>
                  <a:lnTo>
                    <a:pt x="2877" y="280"/>
                  </a:lnTo>
                  <a:lnTo>
                    <a:pt x="2894" y="314"/>
                  </a:lnTo>
                  <a:lnTo>
                    <a:pt x="2930" y="330"/>
                  </a:lnTo>
                  <a:lnTo>
                    <a:pt x="2930" y="363"/>
                  </a:lnTo>
                  <a:lnTo>
                    <a:pt x="2947" y="396"/>
                  </a:lnTo>
                  <a:lnTo>
                    <a:pt x="2947" y="429"/>
                  </a:lnTo>
                  <a:lnTo>
                    <a:pt x="2965" y="462"/>
                  </a:lnTo>
                  <a:lnTo>
                    <a:pt x="2965" y="511"/>
                  </a:lnTo>
                  <a:lnTo>
                    <a:pt x="2965" y="544"/>
                  </a:lnTo>
                  <a:lnTo>
                    <a:pt x="2982" y="577"/>
                  </a:lnTo>
                  <a:lnTo>
                    <a:pt x="3018" y="610"/>
                  </a:lnTo>
                  <a:lnTo>
                    <a:pt x="3053" y="627"/>
                  </a:lnTo>
                  <a:lnTo>
                    <a:pt x="3088" y="627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2920" cy="5539320"/>
          </a:xfrm>
          <a:custGeom>
            <a:avLst/>
            <a:gdLst/>
            <a:ahLst/>
            <a:rect l="0" t="0" r="r" b="b"/>
            <a:pathLst>
              <a:path w="25397" h="15387">
                <a:moveTo>
                  <a:pt x="392" y="15378"/>
                </a:moveTo>
                <a:lnTo>
                  <a:pt x="392" y="427"/>
                </a:lnTo>
                <a:lnTo>
                  <a:pt x="24969" y="427"/>
                </a:lnTo>
                <a:lnTo>
                  <a:pt x="24991" y="15387"/>
                </a:lnTo>
                <a:lnTo>
                  <a:pt x="25397" y="15387"/>
                </a:lnTo>
                <a:lnTo>
                  <a:pt x="25397" y="0"/>
                </a:lnTo>
                <a:lnTo>
                  <a:pt x="0" y="0"/>
                </a:lnTo>
                <a:lnTo>
                  <a:pt x="0" y="15361"/>
                </a:lnTo>
                <a:lnTo>
                  <a:pt x="392" y="15378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5920" y="154080"/>
            <a:ext cx="8878680" cy="5383080"/>
            <a:chOff x="115920" y="154080"/>
            <a:chExt cx="8878680" cy="5383080"/>
          </a:xfrm>
        </p:grpSpPr>
        <p:sp>
          <p:nvSpPr>
            <p:cNvPr id="207" name=""/>
            <p:cNvSpPr/>
            <p:nvPr/>
          </p:nvSpPr>
          <p:spPr>
            <a:xfrm flipV="1">
              <a:off x="139680" y="154080"/>
              <a:ext cx="1440" cy="537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8975880" y="158760"/>
              <a:ext cx="0" cy="5378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5920" y="168120"/>
              <a:ext cx="8878680" cy="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0840" bIns="-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5445000"/>
            <a:ext cx="9128160" cy="233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ef9100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1120" y="115920"/>
            <a:ext cx="4364280" cy="5438880"/>
            <a:chOff x="141120" y="115920"/>
            <a:chExt cx="4364280" cy="5438880"/>
          </a:xfrm>
        </p:grpSpPr>
        <p:sp>
          <p:nvSpPr>
            <p:cNvPr id="288" name=""/>
            <p:cNvSpPr/>
            <p:nvPr/>
          </p:nvSpPr>
          <p:spPr>
            <a:xfrm>
              <a:off x="141120" y="115920"/>
              <a:ext cx="37296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360" y="115920"/>
              <a:ext cx="60156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31840" y="115920"/>
              <a:ext cx="48744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7200" y="115920"/>
              <a:ext cx="73512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70240" y="115920"/>
              <a:ext cx="33480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12960" y="115920"/>
              <a:ext cx="33480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56040" y="115920"/>
              <a:ext cx="65880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22760" y="115920"/>
              <a:ext cx="78264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43560" y="115920"/>
            <a:ext cx="4429080" cy="5438880"/>
            <a:chOff x="4543560" y="115920"/>
            <a:chExt cx="4429080" cy="5438880"/>
          </a:xfrm>
        </p:grpSpPr>
        <p:sp>
          <p:nvSpPr>
            <p:cNvPr id="297" name=""/>
            <p:cNvSpPr/>
            <p:nvPr/>
          </p:nvSpPr>
          <p:spPr>
            <a:xfrm>
              <a:off x="4543560" y="115920"/>
              <a:ext cx="37800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29120" y="115920"/>
              <a:ext cx="61128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48320" y="115920"/>
              <a:ext cx="49536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51600" y="115920"/>
              <a:ext cx="74628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5440" y="115920"/>
              <a:ext cx="33984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53200" y="115920"/>
              <a:ext cx="33984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00960" y="115920"/>
              <a:ext cx="66996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8840" y="115920"/>
              <a:ext cx="793800" cy="5438880"/>
            </a:xfrm>
            <a:prstGeom prst="rect">
              <a:avLst/>
            </a:prstGeom>
            <a:gradFill rotWithShape="0">
              <a:gsLst>
                <a:gs pos="0">
                  <a:srgbClr val="1015a3"/>
                </a:gs>
                <a:gs pos="50000">
                  <a:srgbClr val="618ffd"/>
                </a:gs>
                <a:gs pos="100000">
                  <a:srgbClr val="1015a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240" y="5789520"/>
            <a:ext cx="9128160" cy="10555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5680080"/>
            <a:ext cx="9128160" cy="1778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872320"/>
            <a:ext cx="9128160" cy="763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5520" y="601560"/>
            <a:ext cx="8774280" cy="158760"/>
          </a:xfrm>
          <a:prstGeom prst="rect">
            <a:avLst/>
          </a:prstGeom>
          <a:solidFill>
            <a:srgbClr val="1015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41120" y="115920"/>
            <a:ext cx="8850600" cy="620640"/>
            <a:chOff x="141120" y="115920"/>
            <a:chExt cx="8850600" cy="620640"/>
          </a:xfrm>
        </p:grpSpPr>
        <p:grpSp>
          <p:nvGrpSpPr>
            <p:cNvPr id="310" name=""/>
            <p:cNvGrpSpPr/>
            <p:nvPr/>
          </p:nvGrpSpPr>
          <p:grpSpPr>
            <a:xfrm>
              <a:off x="141120" y="115920"/>
              <a:ext cx="2973240" cy="620640"/>
              <a:chOff x="141120" y="115920"/>
              <a:chExt cx="2973240" cy="62064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141120" y="115920"/>
                <a:ext cx="1487520" cy="620640"/>
                <a:chOff x="141120" y="115920"/>
                <a:chExt cx="1487520" cy="62064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1411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397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13508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627200" y="115920"/>
                <a:ext cx="1487160" cy="620640"/>
                <a:chOff x="1627200" y="115920"/>
                <a:chExt cx="1487160" cy="6206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6272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1258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6208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3112920" y="115920"/>
              <a:ext cx="2973240" cy="620640"/>
              <a:chOff x="3112920" y="115920"/>
              <a:chExt cx="2973240" cy="62064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3112920" y="115920"/>
                <a:ext cx="1487520" cy="620640"/>
                <a:chOff x="3112920" y="115920"/>
                <a:chExt cx="1487520" cy="6206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31129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1152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10688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4599000" y="115920"/>
                <a:ext cx="1487160" cy="620640"/>
                <a:chOff x="4599000" y="115920"/>
                <a:chExt cx="1487160" cy="620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5990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0976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592600" y="115920"/>
                  <a:ext cx="4935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8" name=""/>
            <p:cNvGrpSpPr/>
            <p:nvPr/>
          </p:nvGrpSpPr>
          <p:grpSpPr>
            <a:xfrm>
              <a:off x="6086520" y="115920"/>
              <a:ext cx="2905200" cy="620640"/>
              <a:chOff x="6086520" y="115920"/>
              <a:chExt cx="2905200" cy="62064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6086520" y="115920"/>
                <a:ext cx="1452600" cy="620640"/>
                <a:chOff x="6086520" y="115920"/>
                <a:chExt cx="1452600" cy="6206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08652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5739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058160" y="115920"/>
                  <a:ext cx="4809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539120" y="115920"/>
                <a:ext cx="1452600" cy="620640"/>
                <a:chOff x="7539120" y="115920"/>
                <a:chExt cx="1452600" cy="620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7539120" y="115920"/>
                  <a:ext cx="4809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80247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8508960" y="115920"/>
                  <a:ext cx="482760" cy="620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015a3"/>
                    </a:gs>
                    <a:gs pos="50000">
                      <a:srgbClr val="063de8"/>
                    </a:gs>
                    <a:gs pos="100000">
                      <a:srgbClr val="1015a3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0" y="5535720"/>
            <a:ext cx="9131760" cy="1321200"/>
            <a:chOff x="0" y="5535720"/>
            <a:chExt cx="9131760" cy="1321200"/>
          </a:xfrm>
        </p:grpSpPr>
        <p:sp>
          <p:nvSpPr>
            <p:cNvPr id="338" name=""/>
            <p:cNvSpPr/>
            <p:nvPr/>
          </p:nvSpPr>
          <p:spPr>
            <a:xfrm>
              <a:off x="7956720" y="5734080"/>
              <a:ext cx="871920" cy="891000"/>
            </a:xfrm>
            <a:custGeom>
              <a:avLst/>
              <a:gdLst/>
              <a:ahLst/>
              <a:rect l="0" t="0" r="r" b="b"/>
              <a:pathLst>
                <a:path w="2422" h="2475">
                  <a:moveTo>
                    <a:pt x="790" y="102"/>
                  </a:moveTo>
                  <a:lnTo>
                    <a:pt x="573" y="225"/>
                  </a:lnTo>
                  <a:lnTo>
                    <a:pt x="463" y="405"/>
                  </a:lnTo>
                  <a:lnTo>
                    <a:pt x="352" y="606"/>
                  </a:lnTo>
                  <a:lnTo>
                    <a:pt x="299" y="680"/>
                  </a:lnTo>
                  <a:lnTo>
                    <a:pt x="299" y="807"/>
                  </a:lnTo>
                  <a:lnTo>
                    <a:pt x="352" y="934"/>
                  </a:lnTo>
                  <a:lnTo>
                    <a:pt x="246" y="1037"/>
                  </a:lnTo>
                  <a:lnTo>
                    <a:pt x="83" y="1287"/>
                  </a:lnTo>
                  <a:lnTo>
                    <a:pt x="0" y="1438"/>
                  </a:lnTo>
                  <a:lnTo>
                    <a:pt x="0" y="1491"/>
                  </a:lnTo>
                  <a:lnTo>
                    <a:pt x="0" y="1541"/>
                  </a:lnTo>
                  <a:lnTo>
                    <a:pt x="83" y="1541"/>
                  </a:lnTo>
                  <a:lnTo>
                    <a:pt x="189" y="1541"/>
                  </a:lnTo>
                  <a:lnTo>
                    <a:pt x="246" y="1565"/>
                  </a:lnTo>
                  <a:lnTo>
                    <a:pt x="246" y="1667"/>
                  </a:lnTo>
                  <a:lnTo>
                    <a:pt x="216" y="1794"/>
                  </a:lnTo>
                  <a:lnTo>
                    <a:pt x="273" y="1869"/>
                  </a:lnTo>
                  <a:lnTo>
                    <a:pt x="246" y="1972"/>
                  </a:lnTo>
                  <a:lnTo>
                    <a:pt x="299" y="2021"/>
                  </a:lnTo>
                  <a:lnTo>
                    <a:pt x="352" y="2197"/>
                  </a:lnTo>
                  <a:lnTo>
                    <a:pt x="436" y="2221"/>
                  </a:lnTo>
                  <a:lnTo>
                    <a:pt x="542" y="2221"/>
                  </a:lnTo>
                  <a:lnTo>
                    <a:pt x="706" y="2221"/>
                  </a:lnTo>
                  <a:lnTo>
                    <a:pt x="869" y="2197"/>
                  </a:lnTo>
                  <a:lnTo>
                    <a:pt x="869" y="2475"/>
                  </a:lnTo>
                  <a:lnTo>
                    <a:pt x="2123" y="2336"/>
                  </a:lnTo>
                  <a:lnTo>
                    <a:pt x="2043" y="1869"/>
                  </a:lnTo>
                  <a:lnTo>
                    <a:pt x="2070" y="1692"/>
                  </a:lnTo>
                  <a:lnTo>
                    <a:pt x="2422" y="1364"/>
                  </a:lnTo>
                  <a:lnTo>
                    <a:pt x="2422" y="479"/>
                  </a:lnTo>
                  <a:lnTo>
                    <a:pt x="2206" y="253"/>
                  </a:lnTo>
                  <a:lnTo>
                    <a:pt x="1907" y="126"/>
                  </a:lnTo>
                  <a:lnTo>
                    <a:pt x="1579" y="0"/>
                  </a:lnTo>
                  <a:lnTo>
                    <a:pt x="1169" y="73"/>
                  </a:lnTo>
                  <a:lnTo>
                    <a:pt x="790" y="10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402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4240" y="6269040"/>
              <a:ext cx="41040" cy="0"/>
            </a:xfrm>
            <a:custGeom>
              <a:avLst/>
              <a:gdLst/>
              <a:ahLst/>
              <a:rect l="0" t="0" r="r" b="b"/>
              <a:pathLst>
                <a:path w="114" h="0">
                  <a:moveTo>
                    <a:pt x="0" y="0"/>
                  </a:moveTo>
                  <a:lnTo>
                    <a:pt x="22" y="0"/>
                  </a:lnTo>
                  <a:lnTo>
                    <a:pt x="70" y="0"/>
                  </a:lnTo>
                  <a:lnTo>
                    <a:pt x="92" y="0"/>
                  </a:lnTo>
                  <a:lnTo>
                    <a:pt x="114" y="0"/>
                  </a:lnTo>
                  <a:lnTo>
                    <a:pt x="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5280" y="623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2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72" y="36"/>
                  </a:lnTo>
                  <a:lnTo>
                    <a:pt x="7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83440" y="6124680"/>
              <a:ext cx="25920" cy="65520"/>
            </a:xfrm>
            <a:custGeom>
              <a:avLst/>
              <a:gdLst/>
              <a:ahLst/>
              <a:rect l="0" t="0" r="r" b="b"/>
              <a:pathLst>
                <a:path w="72" h="182">
                  <a:moveTo>
                    <a:pt x="72" y="0"/>
                  </a:moveTo>
                  <a:lnTo>
                    <a:pt x="0" y="116"/>
                  </a:lnTo>
                  <a:lnTo>
                    <a:pt x="0" y="182"/>
                  </a:lnTo>
                  <a:lnTo>
                    <a:pt x="36" y="13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104320" y="6060960"/>
              <a:ext cx="78120" cy="44640"/>
            </a:xfrm>
            <a:custGeom>
              <a:avLst/>
              <a:gdLst/>
              <a:ahLst/>
              <a:rect l="0" t="0" r="r" b="b"/>
              <a:pathLst>
                <a:path w="217" h="124">
                  <a:moveTo>
                    <a:pt x="0" y="0"/>
                  </a:moveTo>
                  <a:lnTo>
                    <a:pt x="48" y="83"/>
                  </a:lnTo>
                  <a:lnTo>
                    <a:pt x="22" y="103"/>
                  </a:lnTo>
                  <a:lnTo>
                    <a:pt x="22" y="124"/>
                  </a:lnTo>
                  <a:lnTo>
                    <a:pt x="48" y="83"/>
                  </a:lnTo>
                  <a:lnTo>
                    <a:pt x="97" y="83"/>
                  </a:lnTo>
                  <a:lnTo>
                    <a:pt x="146" y="83"/>
                  </a:lnTo>
                  <a:lnTo>
                    <a:pt x="217" y="61"/>
                  </a:lnTo>
                  <a:lnTo>
                    <a:pt x="146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74080" y="5979960"/>
              <a:ext cx="157680" cy="44640"/>
            </a:xfrm>
            <a:custGeom>
              <a:avLst/>
              <a:gdLst/>
              <a:ahLst/>
              <a:rect l="0" t="0" r="r" b="b"/>
              <a:pathLst>
                <a:path w="438" h="124">
                  <a:moveTo>
                    <a:pt x="0" y="61"/>
                  </a:moveTo>
                  <a:lnTo>
                    <a:pt x="26" y="103"/>
                  </a:lnTo>
                  <a:lnTo>
                    <a:pt x="74" y="124"/>
                  </a:lnTo>
                  <a:lnTo>
                    <a:pt x="128" y="83"/>
                  </a:lnTo>
                  <a:lnTo>
                    <a:pt x="230" y="61"/>
                  </a:lnTo>
                  <a:lnTo>
                    <a:pt x="363" y="61"/>
                  </a:lnTo>
                  <a:lnTo>
                    <a:pt x="438" y="61"/>
                  </a:lnTo>
                  <a:lnTo>
                    <a:pt x="309" y="41"/>
                  </a:lnTo>
                  <a:lnTo>
                    <a:pt x="256" y="20"/>
                  </a:lnTo>
                  <a:lnTo>
                    <a:pt x="256" y="0"/>
                  </a:lnTo>
                  <a:lnTo>
                    <a:pt x="181" y="20"/>
                  </a:lnTo>
                  <a:lnTo>
                    <a:pt x="181" y="0"/>
                  </a:lnTo>
                  <a:lnTo>
                    <a:pt x="128" y="41"/>
                  </a:lnTo>
                  <a:lnTo>
                    <a:pt x="74" y="4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5880" y="6051600"/>
              <a:ext cx="78120" cy="163800"/>
            </a:xfrm>
            <a:custGeom>
              <a:avLst/>
              <a:gdLst/>
              <a:ahLst/>
              <a:rect l="0" t="0" r="r" b="b"/>
              <a:pathLst>
                <a:path w="217" h="455">
                  <a:moveTo>
                    <a:pt x="0" y="94"/>
                  </a:moveTo>
                  <a:lnTo>
                    <a:pt x="70" y="24"/>
                  </a:lnTo>
                  <a:lnTo>
                    <a:pt x="146" y="49"/>
                  </a:lnTo>
                  <a:lnTo>
                    <a:pt x="195" y="119"/>
                  </a:lnTo>
                  <a:lnTo>
                    <a:pt x="217" y="240"/>
                  </a:lnTo>
                  <a:lnTo>
                    <a:pt x="195" y="310"/>
                  </a:lnTo>
                  <a:lnTo>
                    <a:pt x="168" y="385"/>
                  </a:lnTo>
                  <a:lnTo>
                    <a:pt x="120" y="265"/>
                  </a:lnTo>
                  <a:lnTo>
                    <a:pt x="97" y="214"/>
                  </a:lnTo>
                  <a:lnTo>
                    <a:pt x="22" y="169"/>
                  </a:lnTo>
                  <a:lnTo>
                    <a:pt x="70" y="265"/>
                  </a:lnTo>
                  <a:lnTo>
                    <a:pt x="146" y="335"/>
                  </a:lnTo>
                  <a:lnTo>
                    <a:pt x="146" y="385"/>
                  </a:lnTo>
                  <a:lnTo>
                    <a:pt x="120" y="455"/>
                  </a:lnTo>
                  <a:lnTo>
                    <a:pt x="70" y="455"/>
                  </a:lnTo>
                  <a:lnTo>
                    <a:pt x="168" y="455"/>
                  </a:lnTo>
                  <a:lnTo>
                    <a:pt x="217" y="335"/>
                  </a:lnTo>
                  <a:lnTo>
                    <a:pt x="217" y="214"/>
                  </a:lnTo>
                  <a:lnTo>
                    <a:pt x="217" y="94"/>
                  </a:lnTo>
                  <a:lnTo>
                    <a:pt x="168" y="24"/>
                  </a:lnTo>
                  <a:lnTo>
                    <a:pt x="97" y="0"/>
                  </a:lnTo>
                  <a:lnTo>
                    <a:pt x="22" y="2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07440" y="6024600"/>
              <a:ext cx="146520" cy="227520"/>
            </a:xfrm>
            <a:custGeom>
              <a:avLst/>
              <a:gdLst/>
              <a:ahLst/>
              <a:rect l="0" t="0" r="r" b="b"/>
              <a:pathLst>
                <a:path w="407" h="632">
                  <a:moveTo>
                    <a:pt x="0" y="147"/>
                  </a:moveTo>
                  <a:lnTo>
                    <a:pt x="74" y="49"/>
                  </a:lnTo>
                  <a:lnTo>
                    <a:pt x="177" y="24"/>
                  </a:lnTo>
                  <a:lnTo>
                    <a:pt x="306" y="49"/>
                  </a:lnTo>
                  <a:lnTo>
                    <a:pt x="332" y="98"/>
                  </a:lnTo>
                  <a:lnTo>
                    <a:pt x="381" y="193"/>
                  </a:lnTo>
                  <a:lnTo>
                    <a:pt x="381" y="267"/>
                  </a:lnTo>
                  <a:lnTo>
                    <a:pt x="359" y="340"/>
                  </a:lnTo>
                  <a:lnTo>
                    <a:pt x="359" y="414"/>
                  </a:lnTo>
                  <a:lnTo>
                    <a:pt x="332" y="485"/>
                  </a:lnTo>
                  <a:lnTo>
                    <a:pt x="256" y="583"/>
                  </a:lnTo>
                  <a:lnTo>
                    <a:pt x="203" y="583"/>
                  </a:lnTo>
                  <a:lnTo>
                    <a:pt x="128" y="583"/>
                  </a:lnTo>
                  <a:lnTo>
                    <a:pt x="128" y="608"/>
                  </a:lnTo>
                  <a:lnTo>
                    <a:pt x="177" y="632"/>
                  </a:lnTo>
                  <a:lnTo>
                    <a:pt x="230" y="632"/>
                  </a:lnTo>
                  <a:lnTo>
                    <a:pt x="306" y="583"/>
                  </a:lnTo>
                  <a:lnTo>
                    <a:pt x="381" y="509"/>
                  </a:lnTo>
                  <a:lnTo>
                    <a:pt x="381" y="365"/>
                  </a:lnTo>
                  <a:lnTo>
                    <a:pt x="407" y="267"/>
                  </a:lnTo>
                  <a:lnTo>
                    <a:pt x="407" y="168"/>
                  </a:lnTo>
                  <a:lnTo>
                    <a:pt x="359" y="98"/>
                  </a:lnTo>
                  <a:lnTo>
                    <a:pt x="332" y="24"/>
                  </a:lnTo>
                  <a:lnTo>
                    <a:pt x="230" y="0"/>
                  </a:lnTo>
                  <a:lnTo>
                    <a:pt x="74" y="24"/>
                  </a:lnTo>
                  <a:lnTo>
                    <a:pt x="26" y="4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29680" y="6280200"/>
              <a:ext cx="135360" cy="189360"/>
            </a:xfrm>
            <a:custGeom>
              <a:avLst/>
              <a:gdLst/>
              <a:ahLst/>
              <a:rect l="0" t="0" r="r" b="b"/>
              <a:pathLst>
                <a:path w="376" h="526">
                  <a:moveTo>
                    <a:pt x="376" y="0"/>
                  </a:moveTo>
                  <a:lnTo>
                    <a:pt x="328" y="117"/>
                  </a:lnTo>
                  <a:lnTo>
                    <a:pt x="252" y="241"/>
                  </a:lnTo>
                  <a:lnTo>
                    <a:pt x="177" y="334"/>
                  </a:lnTo>
                  <a:lnTo>
                    <a:pt x="48" y="477"/>
                  </a:lnTo>
                  <a:lnTo>
                    <a:pt x="0" y="526"/>
                  </a:lnTo>
                  <a:lnTo>
                    <a:pt x="124" y="453"/>
                  </a:lnTo>
                  <a:lnTo>
                    <a:pt x="225" y="334"/>
                  </a:lnTo>
                  <a:lnTo>
                    <a:pt x="301" y="192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04320" y="5616720"/>
              <a:ext cx="783000" cy="725760"/>
            </a:xfrm>
            <a:custGeom>
              <a:avLst/>
              <a:gdLst/>
              <a:ahLst/>
              <a:rect l="0" t="0" r="r" b="b"/>
              <a:pathLst>
                <a:path w="2175" h="2016">
                  <a:moveTo>
                    <a:pt x="163" y="570"/>
                  </a:moveTo>
                  <a:lnTo>
                    <a:pt x="511" y="521"/>
                  </a:lnTo>
                  <a:lnTo>
                    <a:pt x="724" y="545"/>
                  </a:lnTo>
                  <a:lnTo>
                    <a:pt x="860" y="697"/>
                  </a:lnTo>
                  <a:lnTo>
                    <a:pt x="781" y="870"/>
                  </a:lnTo>
                  <a:lnTo>
                    <a:pt x="671" y="919"/>
                  </a:lnTo>
                  <a:lnTo>
                    <a:pt x="644" y="1096"/>
                  </a:lnTo>
                  <a:lnTo>
                    <a:pt x="697" y="1195"/>
                  </a:lnTo>
                  <a:lnTo>
                    <a:pt x="644" y="1343"/>
                  </a:lnTo>
                  <a:lnTo>
                    <a:pt x="781" y="1343"/>
                  </a:lnTo>
                  <a:lnTo>
                    <a:pt x="834" y="1170"/>
                  </a:lnTo>
                  <a:lnTo>
                    <a:pt x="913" y="1096"/>
                  </a:lnTo>
                  <a:lnTo>
                    <a:pt x="1072" y="1096"/>
                  </a:lnTo>
                  <a:lnTo>
                    <a:pt x="1235" y="1121"/>
                  </a:lnTo>
                  <a:lnTo>
                    <a:pt x="1262" y="1244"/>
                  </a:lnTo>
                  <a:lnTo>
                    <a:pt x="1288" y="1421"/>
                  </a:lnTo>
                  <a:lnTo>
                    <a:pt x="1262" y="1544"/>
                  </a:lnTo>
                  <a:lnTo>
                    <a:pt x="1262" y="1642"/>
                  </a:lnTo>
                  <a:lnTo>
                    <a:pt x="1288" y="1741"/>
                  </a:lnTo>
                  <a:lnTo>
                    <a:pt x="1394" y="1843"/>
                  </a:lnTo>
                  <a:lnTo>
                    <a:pt x="1451" y="1893"/>
                  </a:lnTo>
                  <a:lnTo>
                    <a:pt x="1664" y="2016"/>
                  </a:lnTo>
                  <a:lnTo>
                    <a:pt x="2012" y="1667"/>
                  </a:lnTo>
                  <a:lnTo>
                    <a:pt x="2123" y="1392"/>
                  </a:lnTo>
                  <a:lnTo>
                    <a:pt x="2149" y="944"/>
                  </a:lnTo>
                  <a:lnTo>
                    <a:pt x="2175" y="648"/>
                  </a:lnTo>
                  <a:lnTo>
                    <a:pt x="2149" y="324"/>
                  </a:lnTo>
                  <a:lnTo>
                    <a:pt x="2043" y="172"/>
                  </a:lnTo>
                  <a:lnTo>
                    <a:pt x="1827" y="49"/>
                  </a:lnTo>
                  <a:lnTo>
                    <a:pt x="1638" y="24"/>
                  </a:lnTo>
                  <a:lnTo>
                    <a:pt x="1235" y="0"/>
                  </a:lnTo>
                  <a:lnTo>
                    <a:pt x="887" y="0"/>
                  </a:lnTo>
                  <a:lnTo>
                    <a:pt x="401" y="73"/>
                  </a:lnTo>
                  <a:lnTo>
                    <a:pt x="216" y="172"/>
                  </a:lnTo>
                  <a:lnTo>
                    <a:pt x="105" y="274"/>
                  </a:lnTo>
                  <a:lnTo>
                    <a:pt x="0" y="422"/>
                  </a:lnTo>
                  <a:lnTo>
                    <a:pt x="26" y="496"/>
                  </a:lnTo>
                  <a:lnTo>
                    <a:pt x="163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121600" y="5624640"/>
              <a:ext cx="744840" cy="692640"/>
            </a:xfrm>
            <a:custGeom>
              <a:avLst/>
              <a:gdLst/>
              <a:ahLst/>
              <a:rect l="0" t="0" r="r" b="b"/>
              <a:pathLst>
                <a:path w="2069" h="1924">
                  <a:moveTo>
                    <a:pt x="348" y="122"/>
                  </a:moveTo>
                  <a:lnTo>
                    <a:pt x="163" y="176"/>
                  </a:lnTo>
                  <a:lnTo>
                    <a:pt x="79" y="274"/>
                  </a:lnTo>
                  <a:lnTo>
                    <a:pt x="26" y="348"/>
                  </a:lnTo>
                  <a:lnTo>
                    <a:pt x="0" y="397"/>
                  </a:lnTo>
                  <a:lnTo>
                    <a:pt x="52" y="450"/>
                  </a:lnTo>
                  <a:lnTo>
                    <a:pt x="132" y="501"/>
                  </a:lnTo>
                  <a:lnTo>
                    <a:pt x="348" y="475"/>
                  </a:lnTo>
                  <a:lnTo>
                    <a:pt x="511" y="475"/>
                  </a:lnTo>
                  <a:lnTo>
                    <a:pt x="643" y="426"/>
                  </a:lnTo>
                  <a:lnTo>
                    <a:pt x="806" y="373"/>
                  </a:lnTo>
                  <a:lnTo>
                    <a:pt x="939" y="373"/>
                  </a:lnTo>
                  <a:lnTo>
                    <a:pt x="1129" y="373"/>
                  </a:lnTo>
                  <a:lnTo>
                    <a:pt x="859" y="397"/>
                  </a:lnTo>
                  <a:lnTo>
                    <a:pt x="754" y="426"/>
                  </a:lnTo>
                  <a:lnTo>
                    <a:pt x="643" y="475"/>
                  </a:lnTo>
                  <a:lnTo>
                    <a:pt x="696" y="501"/>
                  </a:lnTo>
                  <a:lnTo>
                    <a:pt x="754" y="550"/>
                  </a:lnTo>
                  <a:lnTo>
                    <a:pt x="833" y="501"/>
                  </a:lnTo>
                  <a:lnTo>
                    <a:pt x="912" y="475"/>
                  </a:lnTo>
                  <a:lnTo>
                    <a:pt x="1050" y="450"/>
                  </a:lnTo>
                  <a:lnTo>
                    <a:pt x="1103" y="450"/>
                  </a:lnTo>
                  <a:lnTo>
                    <a:pt x="965" y="501"/>
                  </a:lnTo>
                  <a:lnTo>
                    <a:pt x="833" y="550"/>
                  </a:lnTo>
                  <a:lnTo>
                    <a:pt x="780" y="599"/>
                  </a:lnTo>
                  <a:lnTo>
                    <a:pt x="833" y="648"/>
                  </a:lnTo>
                  <a:lnTo>
                    <a:pt x="965" y="599"/>
                  </a:lnTo>
                  <a:lnTo>
                    <a:pt x="1050" y="599"/>
                  </a:lnTo>
                  <a:lnTo>
                    <a:pt x="859" y="673"/>
                  </a:lnTo>
                  <a:lnTo>
                    <a:pt x="806" y="726"/>
                  </a:lnTo>
                  <a:lnTo>
                    <a:pt x="780" y="800"/>
                  </a:lnTo>
                  <a:lnTo>
                    <a:pt x="754" y="824"/>
                  </a:lnTo>
                  <a:lnTo>
                    <a:pt x="859" y="775"/>
                  </a:lnTo>
                  <a:lnTo>
                    <a:pt x="965" y="775"/>
                  </a:lnTo>
                  <a:lnTo>
                    <a:pt x="1129" y="751"/>
                  </a:lnTo>
                  <a:lnTo>
                    <a:pt x="886" y="824"/>
                  </a:lnTo>
                  <a:lnTo>
                    <a:pt x="723" y="874"/>
                  </a:lnTo>
                  <a:lnTo>
                    <a:pt x="643" y="923"/>
                  </a:lnTo>
                  <a:lnTo>
                    <a:pt x="617" y="1001"/>
                  </a:lnTo>
                  <a:lnTo>
                    <a:pt x="754" y="947"/>
                  </a:lnTo>
                  <a:lnTo>
                    <a:pt x="912" y="898"/>
                  </a:lnTo>
                  <a:lnTo>
                    <a:pt x="992" y="898"/>
                  </a:lnTo>
                  <a:lnTo>
                    <a:pt x="806" y="947"/>
                  </a:lnTo>
                  <a:lnTo>
                    <a:pt x="670" y="1001"/>
                  </a:lnTo>
                  <a:lnTo>
                    <a:pt x="617" y="1050"/>
                  </a:lnTo>
                  <a:lnTo>
                    <a:pt x="643" y="1099"/>
                  </a:lnTo>
                  <a:lnTo>
                    <a:pt x="754" y="1075"/>
                  </a:lnTo>
                  <a:lnTo>
                    <a:pt x="859" y="1025"/>
                  </a:lnTo>
                  <a:lnTo>
                    <a:pt x="1076" y="1025"/>
                  </a:lnTo>
                  <a:lnTo>
                    <a:pt x="1156" y="1025"/>
                  </a:lnTo>
                  <a:lnTo>
                    <a:pt x="1345" y="1050"/>
                  </a:lnTo>
                  <a:lnTo>
                    <a:pt x="1584" y="1001"/>
                  </a:lnTo>
                  <a:lnTo>
                    <a:pt x="1451" y="1050"/>
                  </a:lnTo>
                  <a:lnTo>
                    <a:pt x="1209" y="1099"/>
                  </a:lnTo>
                  <a:lnTo>
                    <a:pt x="1262" y="1173"/>
                  </a:lnTo>
                  <a:lnTo>
                    <a:pt x="1425" y="1124"/>
                  </a:lnTo>
                  <a:lnTo>
                    <a:pt x="1610" y="1075"/>
                  </a:lnTo>
                  <a:lnTo>
                    <a:pt x="1720" y="1025"/>
                  </a:lnTo>
                  <a:lnTo>
                    <a:pt x="1504" y="1173"/>
                  </a:lnTo>
                  <a:lnTo>
                    <a:pt x="1372" y="1222"/>
                  </a:lnTo>
                  <a:lnTo>
                    <a:pt x="1262" y="1251"/>
                  </a:lnTo>
                  <a:lnTo>
                    <a:pt x="1262" y="1325"/>
                  </a:lnTo>
                  <a:lnTo>
                    <a:pt x="1425" y="1300"/>
                  </a:lnTo>
                  <a:lnTo>
                    <a:pt x="1557" y="1275"/>
                  </a:lnTo>
                  <a:lnTo>
                    <a:pt x="1478" y="1325"/>
                  </a:lnTo>
                  <a:lnTo>
                    <a:pt x="1345" y="1349"/>
                  </a:lnTo>
                  <a:lnTo>
                    <a:pt x="1262" y="1374"/>
                  </a:lnTo>
                  <a:lnTo>
                    <a:pt x="1262" y="1526"/>
                  </a:lnTo>
                  <a:lnTo>
                    <a:pt x="1425" y="1473"/>
                  </a:lnTo>
                  <a:lnTo>
                    <a:pt x="1531" y="1423"/>
                  </a:lnTo>
                  <a:lnTo>
                    <a:pt x="1398" y="1526"/>
                  </a:lnTo>
                  <a:lnTo>
                    <a:pt x="1235" y="1600"/>
                  </a:lnTo>
                  <a:lnTo>
                    <a:pt x="1262" y="1674"/>
                  </a:lnTo>
                  <a:lnTo>
                    <a:pt x="1345" y="1748"/>
                  </a:lnTo>
                  <a:lnTo>
                    <a:pt x="1425" y="1649"/>
                  </a:lnTo>
                  <a:lnTo>
                    <a:pt x="1531" y="1526"/>
                  </a:lnTo>
                  <a:lnTo>
                    <a:pt x="1610" y="1423"/>
                  </a:lnTo>
                  <a:lnTo>
                    <a:pt x="1531" y="1600"/>
                  </a:lnTo>
                  <a:lnTo>
                    <a:pt x="1478" y="1674"/>
                  </a:lnTo>
                  <a:lnTo>
                    <a:pt x="1372" y="1801"/>
                  </a:lnTo>
                  <a:lnTo>
                    <a:pt x="1451" y="1900"/>
                  </a:lnTo>
                  <a:lnTo>
                    <a:pt x="1584" y="1772"/>
                  </a:lnTo>
                  <a:lnTo>
                    <a:pt x="1667" y="1649"/>
                  </a:lnTo>
                  <a:lnTo>
                    <a:pt x="1773" y="1526"/>
                  </a:lnTo>
                  <a:lnTo>
                    <a:pt x="1694" y="1723"/>
                  </a:lnTo>
                  <a:lnTo>
                    <a:pt x="1610" y="1801"/>
                  </a:lnTo>
                  <a:lnTo>
                    <a:pt x="1504" y="1900"/>
                  </a:lnTo>
                  <a:lnTo>
                    <a:pt x="1584" y="1924"/>
                  </a:lnTo>
                  <a:lnTo>
                    <a:pt x="1773" y="1801"/>
                  </a:lnTo>
                  <a:lnTo>
                    <a:pt x="1906" y="1600"/>
                  </a:lnTo>
                  <a:lnTo>
                    <a:pt x="1989" y="1423"/>
                  </a:lnTo>
                  <a:lnTo>
                    <a:pt x="2016" y="1148"/>
                  </a:lnTo>
                  <a:lnTo>
                    <a:pt x="2042" y="947"/>
                  </a:lnTo>
                  <a:lnTo>
                    <a:pt x="2069" y="726"/>
                  </a:lnTo>
                  <a:lnTo>
                    <a:pt x="1906" y="751"/>
                  </a:lnTo>
                  <a:lnTo>
                    <a:pt x="1694" y="824"/>
                  </a:lnTo>
                  <a:lnTo>
                    <a:pt x="1398" y="874"/>
                  </a:lnTo>
                  <a:lnTo>
                    <a:pt x="1667" y="800"/>
                  </a:lnTo>
                  <a:lnTo>
                    <a:pt x="1773" y="751"/>
                  </a:lnTo>
                  <a:lnTo>
                    <a:pt x="1963" y="673"/>
                  </a:lnTo>
                  <a:lnTo>
                    <a:pt x="2042" y="673"/>
                  </a:lnTo>
                  <a:lnTo>
                    <a:pt x="2042" y="550"/>
                  </a:lnTo>
                  <a:lnTo>
                    <a:pt x="2042" y="373"/>
                  </a:lnTo>
                  <a:lnTo>
                    <a:pt x="1800" y="426"/>
                  </a:lnTo>
                  <a:lnTo>
                    <a:pt x="1641" y="450"/>
                  </a:lnTo>
                  <a:lnTo>
                    <a:pt x="1451" y="550"/>
                  </a:lnTo>
                  <a:lnTo>
                    <a:pt x="1641" y="426"/>
                  </a:lnTo>
                  <a:lnTo>
                    <a:pt x="1826" y="373"/>
                  </a:lnTo>
                  <a:lnTo>
                    <a:pt x="2016" y="323"/>
                  </a:lnTo>
                  <a:lnTo>
                    <a:pt x="1989" y="200"/>
                  </a:lnTo>
                  <a:lnTo>
                    <a:pt x="1906" y="122"/>
                  </a:lnTo>
                  <a:lnTo>
                    <a:pt x="1747" y="73"/>
                  </a:lnTo>
                  <a:lnTo>
                    <a:pt x="1557" y="122"/>
                  </a:lnTo>
                  <a:lnTo>
                    <a:pt x="1398" y="225"/>
                  </a:lnTo>
                  <a:lnTo>
                    <a:pt x="1504" y="98"/>
                  </a:lnTo>
                  <a:lnTo>
                    <a:pt x="1694" y="24"/>
                  </a:lnTo>
                  <a:lnTo>
                    <a:pt x="1504" y="0"/>
                  </a:lnTo>
                  <a:lnTo>
                    <a:pt x="1372" y="0"/>
                  </a:lnTo>
                  <a:lnTo>
                    <a:pt x="1182" y="24"/>
                  </a:lnTo>
                  <a:lnTo>
                    <a:pt x="1050" y="98"/>
                  </a:lnTo>
                  <a:lnTo>
                    <a:pt x="833" y="151"/>
                  </a:lnTo>
                  <a:lnTo>
                    <a:pt x="965" y="73"/>
                  </a:lnTo>
                  <a:lnTo>
                    <a:pt x="1076" y="24"/>
                  </a:lnTo>
                  <a:lnTo>
                    <a:pt x="1129" y="0"/>
                  </a:lnTo>
                  <a:lnTo>
                    <a:pt x="939" y="0"/>
                  </a:lnTo>
                  <a:lnTo>
                    <a:pt x="754" y="0"/>
                  </a:lnTo>
                  <a:lnTo>
                    <a:pt x="643" y="49"/>
                  </a:lnTo>
                  <a:lnTo>
                    <a:pt x="537" y="151"/>
                  </a:lnTo>
                  <a:lnTo>
                    <a:pt x="458" y="274"/>
                  </a:lnTo>
                  <a:lnTo>
                    <a:pt x="485" y="122"/>
                  </a:lnTo>
                  <a:lnTo>
                    <a:pt x="590" y="24"/>
                  </a:lnTo>
                  <a:lnTo>
                    <a:pt x="348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80320" y="6551640"/>
              <a:ext cx="1351440" cy="294120"/>
            </a:xfrm>
            <a:custGeom>
              <a:avLst/>
              <a:gdLst/>
              <a:ahLst/>
              <a:rect l="0" t="0" r="r" b="b"/>
              <a:pathLst>
                <a:path w="3754" h="817">
                  <a:moveTo>
                    <a:pt x="3754" y="817"/>
                  </a:moveTo>
                  <a:lnTo>
                    <a:pt x="3737" y="707"/>
                  </a:lnTo>
                  <a:lnTo>
                    <a:pt x="3644" y="707"/>
                  </a:lnTo>
                  <a:lnTo>
                    <a:pt x="3556" y="625"/>
                  </a:lnTo>
                  <a:lnTo>
                    <a:pt x="3419" y="542"/>
                  </a:lnTo>
                  <a:lnTo>
                    <a:pt x="3375" y="456"/>
                  </a:lnTo>
                  <a:lnTo>
                    <a:pt x="3282" y="374"/>
                  </a:lnTo>
                  <a:lnTo>
                    <a:pt x="3194" y="292"/>
                  </a:lnTo>
                  <a:lnTo>
                    <a:pt x="3102" y="251"/>
                  </a:lnTo>
                  <a:lnTo>
                    <a:pt x="3057" y="163"/>
                  </a:lnTo>
                  <a:lnTo>
                    <a:pt x="2965" y="163"/>
                  </a:lnTo>
                  <a:lnTo>
                    <a:pt x="2872" y="163"/>
                  </a:lnTo>
                  <a:lnTo>
                    <a:pt x="2739" y="81"/>
                  </a:lnTo>
                  <a:lnTo>
                    <a:pt x="2602" y="40"/>
                  </a:lnTo>
                  <a:lnTo>
                    <a:pt x="2466" y="0"/>
                  </a:lnTo>
                  <a:lnTo>
                    <a:pt x="2329" y="0"/>
                  </a:lnTo>
                  <a:lnTo>
                    <a:pt x="2192" y="0"/>
                  </a:lnTo>
                  <a:lnTo>
                    <a:pt x="2055" y="0"/>
                  </a:lnTo>
                  <a:lnTo>
                    <a:pt x="1923" y="0"/>
                  </a:lnTo>
                  <a:lnTo>
                    <a:pt x="1786" y="0"/>
                  </a:lnTo>
                  <a:lnTo>
                    <a:pt x="1650" y="0"/>
                  </a:lnTo>
                  <a:lnTo>
                    <a:pt x="1513" y="0"/>
                  </a:lnTo>
                  <a:lnTo>
                    <a:pt x="1376" y="40"/>
                  </a:lnTo>
                  <a:lnTo>
                    <a:pt x="1240" y="81"/>
                  </a:lnTo>
                  <a:lnTo>
                    <a:pt x="1107" y="122"/>
                  </a:lnTo>
                  <a:lnTo>
                    <a:pt x="971" y="163"/>
                  </a:lnTo>
                  <a:lnTo>
                    <a:pt x="833" y="163"/>
                  </a:lnTo>
                  <a:lnTo>
                    <a:pt x="745" y="251"/>
                  </a:lnTo>
                  <a:lnTo>
                    <a:pt x="652" y="251"/>
                  </a:lnTo>
                  <a:lnTo>
                    <a:pt x="560" y="292"/>
                  </a:lnTo>
                  <a:lnTo>
                    <a:pt x="515" y="374"/>
                  </a:lnTo>
                  <a:lnTo>
                    <a:pt x="423" y="415"/>
                  </a:lnTo>
                  <a:lnTo>
                    <a:pt x="335" y="501"/>
                  </a:lnTo>
                  <a:lnTo>
                    <a:pt x="246" y="542"/>
                  </a:lnTo>
                  <a:lnTo>
                    <a:pt x="154" y="583"/>
                  </a:lnTo>
                  <a:lnTo>
                    <a:pt x="110" y="666"/>
                  </a:lnTo>
                  <a:lnTo>
                    <a:pt x="17" y="666"/>
                  </a:lnTo>
                  <a:lnTo>
                    <a:pt x="0" y="817"/>
                  </a:lnTo>
                  <a:lnTo>
                    <a:pt x="3754" y="81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62000" y="5616720"/>
              <a:ext cx="849600" cy="879840"/>
              <a:chOff x="162000" y="5616720"/>
              <a:chExt cx="849600" cy="879840"/>
            </a:xfrm>
          </p:grpSpPr>
          <p:sp>
            <p:nvSpPr>
              <p:cNvPr id="351" name=""/>
              <p:cNvSpPr/>
              <p:nvPr/>
            </p:nvSpPr>
            <p:spPr>
              <a:xfrm>
                <a:off x="264960" y="5710320"/>
                <a:ext cx="684720" cy="725760"/>
              </a:xfrm>
              <a:custGeom>
                <a:avLst/>
                <a:gdLst/>
                <a:ahLst/>
                <a:rect l="0" t="0" r="r" b="b"/>
                <a:pathLst>
                  <a:path w="1902" h="2016">
                    <a:moveTo>
                      <a:pt x="321" y="1856"/>
                    </a:moveTo>
                    <a:lnTo>
                      <a:pt x="321" y="1717"/>
                    </a:lnTo>
                    <a:lnTo>
                      <a:pt x="167" y="1520"/>
                    </a:lnTo>
                    <a:lnTo>
                      <a:pt x="92" y="1352"/>
                    </a:lnTo>
                    <a:lnTo>
                      <a:pt x="8" y="1102"/>
                    </a:lnTo>
                    <a:lnTo>
                      <a:pt x="0" y="876"/>
                    </a:lnTo>
                    <a:lnTo>
                      <a:pt x="8" y="704"/>
                    </a:lnTo>
                    <a:lnTo>
                      <a:pt x="44" y="520"/>
                    </a:lnTo>
                    <a:lnTo>
                      <a:pt x="185" y="348"/>
                    </a:lnTo>
                    <a:lnTo>
                      <a:pt x="343" y="176"/>
                    </a:lnTo>
                    <a:lnTo>
                      <a:pt x="596" y="49"/>
                    </a:lnTo>
                    <a:lnTo>
                      <a:pt x="935" y="0"/>
                    </a:lnTo>
                    <a:lnTo>
                      <a:pt x="1297" y="53"/>
                    </a:lnTo>
                    <a:lnTo>
                      <a:pt x="1523" y="139"/>
                    </a:lnTo>
                    <a:lnTo>
                      <a:pt x="1699" y="266"/>
                    </a:lnTo>
                    <a:lnTo>
                      <a:pt x="1765" y="466"/>
                    </a:lnTo>
                    <a:lnTo>
                      <a:pt x="1823" y="667"/>
                    </a:lnTo>
                    <a:lnTo>
                      <a:pt x="1792" y="933"/>
                    </a:lnTo>
                    <a:lnTo>
                      <a:pt x="1858" y="1086"/>
                    </a:lnTo>
                    <a:lnTo>
                      <a:pt x="1893" y="1151"/>
                    </a:lnTo>
                    <a:lnTo>
                      <a:pt x="1902" y="1237"/>
                    </a:lnTo>
                    <a:lnTo>
                      <a:pt x="1836" y="1487"/>
                    </a:lnTo>
                    <a:lnTo>
                      <a:pt x="1792" y="1594"/>
                    </a:lnTo>
                    <a:lnTo>
                      <a:pt x="1783" y="1709"/>
                    </a:lnTo>
                    <a:lnTo>
                      <a:pt x="1739" y="1750"/>
                    </a:lnTo>
                    <a:lnTo>
                      <a:pt x="1726" y="1786"/>
                    </a:lnTo>
                    <a:lnTo>
                      <a:pt x="1708" y="1819"/>
                    </a:lnTo>
                    <a:lnTo>
                      <a:pt x="1686" y="1831"/>
                    </a:lnTo>
                    <a:lnTo>
                      <a:pt x="1598" y="1836"/>
                    </a:lnTo>
                    <a:lnTo>
                      <a:pt x="1540" y="1856"/>
                    </a:lnTo>
                    <a:lnTo>
                      <a:pt x="1518" y="1868"/>
                    </a:lnTo>
                    <a:lnTo>
                      <a:pt x="1430" y="2016"/>
                    </a:lnTo>
                    <a:lnTo>
                      <a:pt x="321" y="185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8240" y="6237360"/>
                <a:ext cx="102600" cy="104760"/>
              </a:xfrm>
              <a:custGeom>
                <a:avLst/>
                <a:gdLst/>
                <a:ahLst/>
                <a:rect l="0" t="0" r="r" b="b"/>
                <a:pathLst>
                  <a:path w="285" h="291">
                    <a:moveTo>
                      <a:pt x="12" y="201"/>
                    </a:moveTo>
                    <a:lnTo>
                      <a:pt x="12" y="201"/>
                    </a:lnTo>
                    <a:lnTo>
                      <a:pt x="12" y="202"/>
                    </a:lnTo>
                    <a:cubicBezTo>
                      <a:pt x="22" y="225"/>
                      <a:pt x="38" y="246"/>
                      <a:pt x="58" y="261"/>
                    </a:cubicBezTo>
                    <a:cubicBezTo>
                      <a:pt x="78" y="277"/>
                      <a:pt x="102" y="287"/>
                      <a:pt x="127" y="290"/>
                    </a:cubicBezTo>
                    <a:cubicBezTo>
                      <a:pt x="151" y="294"/>
                      <a:pt x="177" y="290"/>
                      <a:pt x="199" y="281"/>
                    </a:cubicBezTo>
                    <a:cubicBezTo>
                      <a:pt x="222" y="271"/>
                      <a:pt x="242" y="255"/>
                      <a:pt x="257" y="235"/>
                    </a:cubicBezTo>
                    <a:cubicBezTo>
                      <a:pt x="272" y="214"/>
                      <a:pt x="281" y="191"/>
                      <a:pt x="284" y="165"/>
                    </a:cubicBezTo>
                    <a:cubicBezTo>
                      <a:pt x="287" y="140"/>
                      <a:pt x="283" y="114"/>
                      <a:pt x="273" y="91"/>
                    </a:cubicBezTo>
                    <a:lnTo>
                      <a:pt x="273" y="91"/>
                    </a:lnTo>
                    <a:lnTo>
                      <a:pt x="273" y="90"/>
                    </a:lnTo>
                    <a:cubicBezTo>
                      <a:pt x="263" y="67"/>
                      <a:pt x="247" y="46"/>
                      <a:pt x="227" y="31"/>
                    </a:cubicBezTo>
                    <a:cubicBezTo>
                      <a:pt x="207" y="15"/>
                      <a:pt x="183" y="5"/>
                      <a:pt x="158" y="2"/>
                    </a:cubicBezTo>
                    <a:cubicBezTo>
                      <a:pt x="134" y="-2"/>
                      <a:pt x="108" y="2"/>
                      <a:pt x="86" y="11"/>
                    </a:cubicBezTo>
                    <a:cubicBezTo>
                      <a:pt x="63" y="21"/>
                      <a:pt x="43" y="37"/>
                      <a:pt x="28" y="57"/>
                    </a:cubicBezTo>
                    <a:cubicBezTo>
                      <a:pt x="13" y="77"/>
                      <a:pt x="4" y="101"/>
                      <a:pt x="1" y="127"/>
                    </a:cubicBezTo>
                    <a:cubicBezTo>
                      <a:pt x="-2" y="152"/>
                      <a:pt x="2" y="178"/>
                      <a:pt x="12" y="201"/>
                    </a:cubicBez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47160" bIns="47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17480" y="6180120"/>
                <a:ext cx="130680" cy="113040"/>
              </a:xfrm>
              <a:custGeom>
                <a:avLst/>
                <a:gdLst/>
                <a:ahLst/>
                <a:rect l="0" t="0" r="r" b="b"/>
                <a:pathLst>
                  <a:path w="363" h="314">
                    <a:moveTo>
                      <a:pt x="0" y="0"/>
                    </a:moveTo>
                    <a:lnTo>
                      <a:pt x="22" y="49"/>
                    </a:lnTo>
                    <a:lnTo>
                      <a:pt x="44" y="94"/>
                    </a:lnTo>
                    <a:lnTo>
                      <a:pt x="137" y="235"/>
                    </a:lnTo>
                    <a:lnTo>
                      <a:pt x="234" y="314"/>
                    </a:lnTo>
                    <a:lnTo>
                      <a:pt x="319" y="305"/>
                    </a:lnTo>
                    <a:lnTo>
                      <a:pt x="363" y="2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8040" y="6329520"/>
                <a:ext cx="479880" cy="167040"/>
              </a:xfrm>
              <a:custGeom>
                <a:avLst/>
                <a:gdLst/>
                <a:ahLst/>
                <a:rect l="0" t="0" r="r" b="b"/>
                <a:pathLst>
                  <a:path w="1333" h="464">
                    <a:moveTo>
                      <a:pt x="149" y="0"/>
                    </a:moveTo>
                    <a:lnTo>
                      <a:pt x="733" y="20"/>
                    </a:lnTo>
                    <a:lnTo>
                      <a:pt x="949" y="40"/>
                    </a:lnTo>
                    <a:lnTo>
                      <a:pt x="1086" y="73"/>
                    </a:lnTo>
                    <a:lnTo>
                      <a:pt x="1197" y="110"/>
                    </a:lnTo>
                    <a:lnTo>
                      <a:pt x="1236" y="151"/>
                    </a:lnTo>
                    <a:lnTo>
                      <a:pt x="1311" y="176"/>
                    </a:lnTo>
                    <a:lnTo>
                      <a:pt x="1333" y="225"/>
                    </a:lnTo>
                    <a:lnTo>
                      <a:pt x="1289" y="464"/>
                    </a:lnTo>
                    <a:lnTo>
                      <a:pt x="0" y="196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5" name=""/>
              <p:cNvGrpSpPr/>
              <p:nvPr/>
            </p:nvGrpSpPr>
            <p:grpSpPr>
              <a:xfrm>
                <a:off x="162000" y="5616720"/>
                <a:ext cx="849600" cy="743400"/>
                <a:chOff x="162000" y="5616720"/>
                <a:chExt cx="849600" cy="74340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62000" y="5616720"/>
                  <a:ext cx="849600" cy="743400"/>
                </a:xfrm>
                <a:custGeom>
                  <a:avLst/>
                  <a:gdLst/>
                  <a:ahLst/>
                  <a:rect l="0" t="0" r="r" b="b"/>
                  <a:pathLst>
                    <a:path w="2360" h="2065">
                      <a:moveTo>
                        <a:pt x="643" y="110"/>
                      </a:moveTo>
                      <a:lnTo>
                        <a:pt x="714" y="0"/>
                      </a:lnTo>
                      <a:lnTo>
                        <a:pt x="939" y="24"/>
                      </a:lnTo>
                      <a:lnTo>
                        <a:pt x="1275" y="28"/>
                      </a:lnTo>
                      <a:lnTo>
                        <a:pt x="2060" y="402"/>
                      </a:lnTo>
                      <a:lnTo>
                        <a:pt x="2205" y="459"/>
                      </a:lnTo>
                      <a:lnTo>
                        <a:pt x="2263" y="522"/>
                      </a:lnTo>
                      <a:lnTo>
                        <a:pt x="2307" y="616"/>
                      </a:lnTo>
                      <a:lnTo>
                        <a:pt x="2351" y="714"/>
                      </a:lnTo>
                      <a:lnTo>
                        <a:pt x="2360" y="792"/>
                      </a:lnTo>
                      <a:lnTo>
                        <a:pt x="2338" y="887"/>
                      </a:lnTo>
                      <a:lnTo>
                        <a:pt x="2311" y="956"/>
                      </a:lnTo>
                      <a:lnTo>
                        <a:pt x="2117" y="1203"/>
                      </a:lnTo>
                      <a:lnTo>
                        <a:pt x="2055" y="1256"/>
                      </a:lnTo>
                      <a:lnTo>
                        <a:pt x="1976" y="1285"/>
                      </a:lnTo>
                      <a:lnTo>
                        <a:pt x="1901" y="1395"/>
                      </a:lnTo>
                      <a:lnTo>
                        <a:pt x="1729" y="1498"/>
                      </a:lnTo>
                      <a:lnTo>
                        <a:pt x="1681" y="1514"/>
                      </a:lnTo>
                      <a:lnTo>
                        <a:pt x="1632" y="1478"/>
                      </a:lnTo>
                      <a:lnTo>
                        <a:pt x="1544" y="1486"/>
                      </a:lnTo>
                      <a:lnTo>
                        <a:pt x="1504" y="1527"/>
                      </a:lnTo>
                      <a:lnTo>
                        <a:pt x="1491" y="1565"/>
                      </a:lnTo>
                      <a:lnTo>
                        <a:pt x="1491" y="1622"/>
                      </a:lnTo>
                      <a:lnTo>
                        <a:pt x="1526" y="1634"/>
                      </a:lnTo>
                      <a:lnTo>
                        <a:pt x="1429" y="1700"/>
                      </a:lnTo>
                      <a:lnTo>
                        <a:pt x="1345" y="1790"/>
                      </a:lnTo>
                      <a:lnTo>
                        <a:pt x="1218" y="1840"/>
                      </a:lnTo>
                      <a:lnTo>
                        <a:pt x="1084" y="1950"/>
                      </a:lnTo>
                      <a:lnTo>
                        <a:pt x="903" y="2020"/>
                      </a:lnTo>
                      <a:lnTo>
                        <a:pt x="648" y="2065"/>
                      </a:lnTo>
                      <a:lnTo>
                        <a:pt x="436" y="2061"/>
                      </a:lnTo>
                      <a:lnTo>
                        <a:pt x="388" y="2024"/>
                      </a:lnTo>
                      <a:lnTo>
                        <a:pt x="330" y="1967"/>
                      </a:lnTo>
                      <a:lnTo>
                        <a:pt x="260" y="1881"/>
                      </a:lnTo>
                      <a:lnTo>
                        <a:pt x="119" y="1704"/>
                      </a:lnTo>
                      <a:lnTo>
                        <a:pt x="79" y="1614"/>
                      </a:lnTo>
                      <a:lnTo>
                        <a:pt x="30" y="1514"/>
                      </a:lnTo>
                      <a:lnTo>
                        <a:pt x="0" y="1445"/>
                      </a:lnTo>
                      <a:lnTo>
                        <a:pt x="8" y="1330"/>
                      </a:lnTo>
                      <a:lnTo>
                        <a:pt x="8" y="1186"/>
                      </a:lnTo>
                      <a:lnTo>
                        <a:pt x="30" y="973"/>
                      </a:lnTo>
                      <a:lnTo>
                        <a:pt x="114" y="686"/>
                      </a:lnTo>
                      <a:lnTo>
                        <a:pt x="229" y="475"/>
                      </a:lnTo>
                      <a:lnTo>
                        <a:pt x="405" y="262"/>
                      </a:lnTo>
                      <a:lnTo>
                        <a:pt x="551" y="176"/>
                      </a:lnTo>
                      <a:lnTo>
                        <a:pt x="64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92080" y="6006960"/>
                  <a:ext cx="109800" cy="135360"/>
                </a:xfrm>
                <a:custGeom>
                  <a:avLst/>
                  <a:gdLst/>
                  <a:ahLst/>
                  <a:rect l="0" t="0" r="r" b="b"/>
                  <a:pathLst>
                    <a:path w="305" h="376">
                      <a:moveTo>
                        <a:pt x="17" y="112"/>
                      </a:moveTo>
                      <a:lnTo>
                        <a:pt x="212" y="32"/>
                      </a:lnTo>
                      <a:lnTo>
                        <a:pt x="172" y="20"/>
                      </a:lnTo>
                      <a:lnTo>
                        <a:pt x="225" y="0"/>
                      </a:lnTo>
                      <a:lnTo>
                        <a:pt x="283" y="4"/>
                      </a:lnTo>
                      <a:lnTo>
                        <a:pt x="305" y="49"/>
                      </a:lnTo>
                      <a:lnTo>
                        <a:pt x="256" y="70"/>
                      </a:lnTo>
                      <a:lnTo>
                        <a:pt x="278" y="116"/>
                      </a:lnTo>
                      <a:lnTo>
                        <a:pt x="274" y="169"/>
                      </a:lnTo>
                      <a:lnTo>
                        <a:pt x="296" y="215"/>
                      </a:lnTo>
                      <a:lnTo>
                        <a:pt x="278" y="248"/>
                      </a:lnTo>
                      <a:lnTo>
                        <a:pt x="265" y="276"/>
                      </a:lnTo>
                      <a:lnTo>
                        <a:pt x="252" y="315"/>
                      </a:lnTo>
                      <a:lnTo>
                        <a:pt x="225" y="323"/>
                      </a:lnTo>
                      <a:lnTo>
                        <a:pt x="212" y="356"/>
                      </a:lnTo>
                      <a:lnTo>
                        <a:pt x="190" y="368"/>
                      </a:lnTo>
                      <a:lnTo>
                        <a:pt x="168" y="376"/>
                      </a:lnTo>
                      <a:lnTo>
                        <a:pt x="181" y="343"/>
                      </a:lnTo>
                      <a:lnTo>
                        <a:pt x="190" y="310"/>
                      </a:lnTo>
                      <a:lnTo>
                        <a:pt x="243" y="290"/>
                      </a:lnTo>
                      <a:lnTo>
                        <a:pt x="256" y="256"/>
                      </a:lnTo>
                      <a:lnTo>
                        <a:pt x="243" y="231"/>
                      </a:lnTo>
                      <a:lnTo>
                        <a:pt x="256" y="206"/>
                      </a:lnTo>
                      <a:lnTo>
                        <a:pt x="243" y="182"/>
                      </a:lnTo>
                      <a:lnTo>
                        <a:pt x="256" y="124"/>
                      </a:lnTo>
                      <a:lnTo>
                        <a:pt x="234" y="82"/>
                      </a:lnTo>
                      <a:lnTo>
                        <a:pt x="0" y="198"/>
                      </a:lnTo>
                      <a:lnTo>
                        <a:pt x="17" y="1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8" name=""/>
            <p:cNvGrpSpPr/>
            <p:nvPr/>
          </p:nvGrpSpPr>
          <p:grpSpPr>
            <a:xfrm>
              <a:off x="1371600" y="5808600"/>
              <a:ext cx="870120" cy="932400"/>
              <a:chOff x="1371600" y="5808600"/>
              <a:chExt cx="870120" cy="932400"/>
            </a:xfrm>
          </p:grpSpPr>
          <p:grpSp>
            <p:nvGrpSpPr>
              <p:cNvPr id="359" name=""/>
              <p:cNvGrpSpPr/>
              <p:nvPr/>
            </p:nvGrpSpPr>
            <p:grpSpPr>
              <a:xfrm>
                <a:off x="1371600" y="5808600"/>
                <a:ext cx="829080" cy="932400"/>
                <a:chOff x="1371600" y="5808600"/>
                <a:chExt cx="829080" cy="9324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1433520" y="5857920"/>
                  <a:ext cx="767160" cy="883080"/>
                </a:xfrm>
                <a:custGeom>
                  <a:avLst/>
                  <a:gdLst/>
                  <a:ahLst/>
                  <a:rect l="0" t="0" r="r" b="b"/>
                  <a:pathLst>
                    <a:path w="2131" h="2453">
                      <a:moveTo>
                        <a:pt x="1849" y="340"/>
                      </a:moveTo>
                      <a:lnTo>
                        <a:pt x="1990" y="706"/>
                      </a:lnTo>
                      <a:lnTo>
                        <a:pt x="1990" y="808"/>
                      </a:lnTo>
                      <a:lnTo>
                        <a:pt x="1964" y="939"/>
                      </a:lnTo>
                      <a:lnTo>
                        <a:pt x="1990" y="1095"/>
                      </a:lnTo>
                      <a:lnTo>
                        <a:pt x="2131" y="1382"/>
                      </a:lnTo>
                      <a:lnTo>
                        <a:pt x="2021" y="1513"/>
                      </a:lnTo>
                      <a:lnTo>
                        <a:pt x="2074" y="1567"/>
                      </a:lnTo>
                      <a:lnTo>
                        <a:pt x="2048" y="1723"/>
                      </a:lnTo>
                      <a:lnTo>
                        <a:pt x="2021" y="1855"/>
                      </a:lnTo>
                      <a:lnTo>
                        <a:pt x="1990" y="1957"/>
                      </a:lnTo>
                      <a:lnTo>
                        <a:pt x="2021" y="2064"/>
                      </a:lnTo>
                      <a:lnTo>
                        <a:pt x="1964" y="2166"/>
                      </a:lnTo>
                      <a:lnTo>
                        <a:pt x="1880" y="2220"/>
                      </a:lnTo>
                      <a:lnTo>
                        <a:pt x="1739" y="2244"/>
                      </a:lnTo>
                      <a:lnTo>
                        <a:pt x="1319" y="2453"/>
                      </a:lnTo>
                      <a:lnTo>
                        <a:pt x="141" y="1776"/>
                      </a:lnTo>
                      <a:lnTo>
                        <a:pt x="141" y="1513"/>
                      </a:lnTo>
                      <a:lnTo>
                        <a:pt x="57" y="1304"/>
                      </a:lnTo>
                      <a:lnTo>
                        <a:pt x="26" y="1173"/>
                      </a:lnTo>
                      <a:lnTo>
                        <a:pt x="0" y="1017"/>
                      </a:lnTo>
                      <a:lnTo>
                        <a:pt x="26" y="784"/>
                      </a:lnTo>
                      <a:lnTo>
                        <a:pt x="110" y="549"/>
                      </a:lnTo>
                      <a:lnTo>
                        <a:pt x="167" y="389"/>
                      </a:lnTo>
                      <a:lnTo>
                        <a:pt x="308" y="262"/>
                      </a:lnTo>
                      <a:lnTo>
                        <a:pt x="449" y="131"/>
                      </a:lnTo>
                      <a:lnTo>
                        <a:pt x="644" y="53"/>
                      </a:lnTo>
                      <a:lnTo>
                        <a:pt x="869" y="0"/>
                      </a:lnTo>
                      <a:lnTo>
                        <a:pt x="1068" y="0"/>
                      </a:lnTo>
                      <a:lnTo>
                        <a:pt x="1262" y="0"/>
                      </a:lnTo>
                      <a:lnTo>
                        <a:pt x="1513" y="53"/>
                      </a:lnTo>
                      <a:lnTo>
                        <a:pt x="1682" y="155"/>
                      </a:lnTo>
                      <a:lnTo>
                        <a:pt x="1849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371600" y="5808600"/>
                  <a:ext cx="789480" cy="751320"/>
                </a:xfrm>
                <a:custGeom>
                  <a:avLst/>
                  <a:gdLst/>
                  <a:ahLst/>
                  <a:rect l="0" t="0" r="r" b="b"/>
                  <a:pathLst>
                    <a:path w="2193" h="2087">
                      <a:moveTo>
                        <a:pt x="198" y="1854"/>
                      </a:moveTo>
                      <a:lnTo>
                        <a:pt x="141" y="1591"/>
                      </a:lnTo>
                      <a:lnTo>
                        <a:pt x="110" y="1488"/>
                      </a:lnTo>
                      <a:lnTo>
                        <a:pt x="26" y="1304"/>
                      </a:lnTo>
                      <a:lnTo>
                        <a:pt x="0" y="1172"/>
                      </a:lnTo>
                      <a:lnTo>
                        <a:pt x="0" y="1017"/>
                      </a:lnTo>
                      <a:lnTo>
                        <a:pt x="26" y="808"/>
                      </a:lnTo>
                      <a:lnTo>
                        <a:pt x="110" y="574"/>
                      </a:lnTo>
                      <a:lnTo>
                        <a:pt x="224" y="389"/>
                      </a:lnTo>
                      <a:lnTo>
                        <a:pt x="366" y="233"/>
                      </a:lnTo>
                      <a:lnTo>
                        <a:pt x="476" y="131"/>
                      </a:lnTo>
                      <a:lnTo>
                        <a:pt x="649" y="53"/>
                      </a:lnTo>
                      <a:lnTo>
                        <a:pt x="843" y="0"/>
                      </a:lnTo>
                      <a:lnTo>
                        <a:pt x="1125" y="0"/>
                      </a:lnTo>
                      <a:lnTo>
                        <a:pt x="1407" y="53"/>
                      </a:lnTo>
                      <a:lnTo>
                        <a:pt x="1632" y="53"/>
                      </a:lnTo>
                      <a:lnTo>
                        <a:pt x="1827" y="53"/>
                      </a:lnTo>
                      <a:lnTo>
                        <a:pt x="1911" y="77"/>
                      </a:lnTo>
                      <a:lnTo>
                        <a:pt x="1995" y="131"/>
                      </a:lnTo>
                      <a:lnTo>
                        <a:pt x="2083" y="262"/>
                      </a:lnTo>
                      <a:lnTo>
                        <a:pt x="2109" y="364"/>
                      </a:lnTo>
                      <a:lnTo>
                        <a:pt x="2193" y="442"/>
                      </a:lnTo>
                      <a:lnTo>
                        <a:pt x="2136" y="599"/>
                      </a:lnTo>
                      <a:lnTo>
                        <a:pt x="2083" y="730"/>
                      </a:lnTo>
                      <a:lnTo>
                        <a:pt x="2083" y="808"/>
                      </a:lnTo>
                      <a:lnTo>
                        <a:pt x="2052" y="886"/>
                      </a:lnTo>
                      <a:lnTo>
                        <a:pt x="2026" y="992"/>
                      </a:lnTo>
                      <a:lnTo>
                        <a:pt x="1968" y="1045"/>
                      </a:lnTo>
                      <a:lnTo>
                        <a:pt x="1942" y="1381"/>
                      </a:lnTo>
                      <a:lnTo>
                        <a:pt x="1858" y="1435"/>
                      </a:lnTo>
                      <a:lnTo>
                        <a:pt x="1801" y="1435"/>
                      </a:lnTo>
                      <a:lnTo>
                        <a:pt x="1770" y="1357"/>
                      </a:lnTo>
                      <a:lnTo>
                        <a:pt x="1686" y="1250"/>
                      </a:lnTo>
                      <a:lnTo>
                        <a:pt x="1601" y="1250"/>
                      </a:lnTo>
                      <a:lnTo>
                        <a:pt x="1575" y="1381"/>
                      </a:lnTo>
                      <a:lnTo>
                        <a:pt x="1544" y="1537"/>
                      </a:lnTo>
                      <a:lnTo>
                        <a:pt x="1575" y="1669"/>
                      </a:lnTo>
                      <a:lnTo>
                        <a:pt x="1601" y="1747"/>
                      </a:lnTo>
                      <a:lnTo>
                        <a:pt x="1660" y="1825"/>
                      </a:lnTo>
                      <a:lnTo>
                        <a:pt x="1770" y="1878"/>
                      </a:lnTo>
                      <a:lnTo>
                        <a:pt x="1601" y="1854"/>
                      </a:lnTo>
                      <a:lnTo>
                        <a:pt x="1517" y="1854"/>
                      </a:lnTo>
                      <a:lnTo>
                        <a:pt x="1517" y="1878"/>
                      </a:lnTo>
                      <a:lnTo>
                        <a:pt x="1376" y="2009"/>
                      </a:lnTo>
                      <a:lnTo>
                        <a:pt x="1293" y="2034"/>
                      </a:lnTo>
                      <a:lnTo>
                        <a:pt x="1182" y="2063"/>
                      </a:lnTo>
                      <a:lnTo>
                        <a:pt x="1125" y="2087"/>
                      </a:lnTo>
                      <a:lnTo>
                        <a:pt x="785" y="2063"/>
                      </a:lnTo>
                      <a:lnTo>
                        <a:pt x="618" y="2034"/>
                      </a:lnTo>
                      <a:lnTo>
                        <a:pt x="618" y="2009"/>
                      </a:lnTo>
                      <a:lnTo>
                        <a:pt x="423" y="1932"/>
                      </a:lnTo>
                      <a:lnTo>
                        <a:pt x="308" y="1932"/>
                      </a:lnTo>
                      <a:lnTo>
                        <a:pt x="198" y="185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2046240" y="6130800"/>
                <a:ext cx="195480" cy="219600"/>
              </a:xfrm>
              <a:custGeom>
                <a:avLst/>
                <a:gdLst/>
                <a:ahLst/>
                <a:rect l="0" t="0" r="r" b="b"/>
                <a:pathLst>
                  <a:path w="543" h="610">
                    <a:moveTo>
                      <a:pt x="52" y="176"/>
                    </a:moveTo>
                    <a:lnTo>
                      <a:pt x="406" y="24"/>
                    </a:lnTo>
                    <a:lnTo>
                      <a:pt x="300" y="24"/>
                    </a:lnTo>
                    <a:lnTo>
                      <a:pt x="300" y="0"/>
                    </a:lnTo>
                    <a:lnTo>
                      <a:pt x="543" y="0"/>
                    </a:lnTo>
                    <a:lnTo>
                      <a:pt x="543" y="24"/>
                    </a:lnTo>
                    <a:lnTo>
                      <a:pt x="516" y="102"/>
                    </a:lnTo>
                    <a:lnTo>
                      <a:pt x="516" y="205"/>
                    </a:lnTo>
                    <a:lnTo>
                      <a:pt x="516" y="331"/>
                    </a:lnTo>
                    <a:lnTo>
                      <a:pt x="516" y="405"/>
                    </a:lnTo>
                    <a:lnTo>
                      <a:pt x="490" y="483"/>
                    </a:lnTo>
                    <a:lnTo>
                      <a:pt x="464" y="532"/>
                    </a:lnTo>
                    <a:lnTo>
                      <a:pt x="406" y="586"/>
                    </a:lnTo>
                    <a:lnTo>
                      <a:pt x="353" y="586"/>
                    </a:lnTo>
                    <a:lnTo>
                      <a:pt x="300" y="610"/>
                    </a:lnTo>
                    <a:lnTo>
                      <a:pt x="300" y="561"/>
                    </a:lnTo>
                    <a:lnTo>
                      <a:pt x="380" y="532"/>
                    </a:lnTo>
                    <a:lnTo>
                      <a:pt x="433" y="483"/>
                    </a:lnTo>
                    <a:lnTo>
                      <a:pt x="464" y="356"/>
                    </a:lnTo>
                    <a:lnTo>
                      <a:pt x="490" y="254"/>
                    </a:lnTo>
                    <a:lnTo>
                      <a:pt x="464" y="151"/>
                    </a:lnTo>
                    <a:lnTo>
                      <a:pt x="0" y="380"/>
                    </a:lnTo>
                    <a:lnTo>
                      <a:pt x="52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2538360" y="5722920"/>
              <a:ext cx="770400" cy="970200"/>
              <a:chOff x="2538360" y="5722920"/>
              <a:chExt cx="770400" cy="970200"/>
            </a:xfrm>
          </p:grpSpPr>
          <p:sp>
            <p:nvSpPr>
              <p:cNvPr id="364" name=""/>
              <p:cNvSpPr/>
              <p:nvPr/>
            </p:nvSpPr>
            <p:spPr>
              <a:xfrm>
                <a:off x="2538360" y="5759280"/>
                <a:ext cx="725760" cy="933840"/>
              </a:xfrm>
              <a:custGeom>
                <a:avLst/>
                <a:gdLst/>
                <a:ahLst/>
                <a:rect l="0" t="0" r="r" b="b"/>
                <a:pathLst>
                  <a:path w="2016" h="2594">
                    <a:moveTo>
                      <a:pt x="194" y="657"/>
                    </a:moveTo>
                    <a:lnTo>
                      <a:pt x="110" y="997"/>
                    </a:lnTo>
                    <a:lnTo>
                      <a:pt x="83" y="1178"/>
                    </a:lnTo>
                    <a:lnTo>
                      <a:pt x="26" y="1387"/>
                    </a:lnTo>
                    <a:lnTo>
                      <a:pt x="0" y="1596"/>
                    </a:lnTo>
                    <a:lnTo>
                      <a:pt x="26" y="1756"/>
                    </a:lnTo>
                    <a:lnTo>
                      <a:pt x="57" y="1859"/>
                    </a:lnTo>
                    <a:lnTo>
                      <a:pt x="83" y="2020"/>
                    </a:lnTo>
                    <a:lnTo>
                      <a:pt x="167" y="2123"/>
                    </a:lnTo>
                    <a:lnTo>
                      <a:pt x="251" y="2254"/>
                    </a:lnTo>
                    <a:lnTo>
                      <a:pt x="418" y="2594"/>
                    </a:lnTo>
                    <a:lnTo>
                      <a:pt x="1848" y="2307"/>
                    </a:lnTo>
                    <a:lnTo>
                      <a:pt x="1764" y="2069"/>
                    </a:lnTo>
                    <a:lnTo>
                      <a:pt x="1875" y="1859"/>
                    </a:lnTo>
                    <a:lnTo>
                      <a:pt x="1958" y="1572"/>
                    </a:lnTo>
                    <a:lnTo>
                      <a:pt x="2016" y="1256"/>
                    </a:lnTo>
                    <a:lnTo>
                      <a:pt x="2016" y="969"/>
                    </a:lnTo>
                    <a:lnTo>
                      <a:pt x="1989" y="682"/>
                    </a:lnTo>
                    <a:lnTo>
                      <a:pt x="1906" y="471"/>
                    </a:lnTo>
                    <a:lnTo>
                      <a:pt x="1707" y="233"/>
                    </a:lnTo>
                    <a:lnTo>
                      <a:pt x="1539" y="106"/>
                    </a:lnTo>
                    <a:lnTo>
                      <a:pt x="1372" y="53"/>
                    </a:lnTo>
                    <a:lnTo>
                      <a:pt x="1147" y="24"/>
                    </a:lnTo>
                    <a:lnTo>
                      <a:pt x="895" y="0"/>
                    </a:lnTo>
                    <a:lnTo>
                      <a:pt x="701" y="53"/>
                    </a:lnTo>
                    <a:lnTo>
                      <a:pt x="533" y="131"/>
                    </a:lnTo>
                    <a:lnTo>
                      <a:pt x="392" y="262"/>
                    </a:lnTo>
                    <a:lnTo>
                      <a:pt x="308" y="365"/>
                    </a:lnTo>
                    <a:lnTo>
                      <a:pt x="224" y="525"/>
                    </a:lnTo>
                    <a:lnTo>
                      <a:pt x="194" y="65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538360" y="5722920"/>
                <a:ext cx="770400" cy="844920"/>
              </a:xfrm>
              <a:custGeom>
                <a:avLst/>
                <a:gdLst/>
                <a:ahLst/>
                <a:rect l="0" t="0" r="r" b="b"/>
                <a:pathLst>
                  <a:path w="2140" h="2347">
                    <a:moveTo>
                      <a:pt x="282" y="467"/>
                    </a:moveTo>
                    <a:lnTo>
                      <a:pt x="308" y="311"/>
                    </a:lnTo>
                    <a:lnTo>
                      <a:pt x="392" y="155"/>
                    </a:lnTo>
                    <a:lnTo>
                      <a:pt x="507" y="102"/>
                    </a:lnTo>
                    <a:lnTo>
                      <a:pt x="618" y="53"/>
                    </a:lnTo>
                    <a:lnTo>
                      <a:pt x="843" y="0"/>
                    </a:lnTo>
                    <a:lnTo>
                      <a:pt x="984" y="0"/>
                    </a:lnTo>
                    <a:lnTo>
                      <a:pt x="1182" y="0"/>
                    </a:lnTo>
                    <a:lnTo>
                      <a:pt x="1350" y="53"/>
                    </a:lnTo>
                    <a:lnTo>
                      <a:pt x="1465" y="77"/>
                    </a:lnTo>
                    <a:lnTo>
                      <a:pt x="1548" y="131"/>
                    </a:lnTo>
                    <a:lnTo>
                      <a:pt x="1664" y="209"/>
                    </a:lnTo>
                    <a:lnTo>
                      <a:pt x="1774" y="311"/>
                    </a:lnTo>
                    <a:lnTo>
                      <a:pt x="1858" y="365"/>
                    </a:lnTo>
                    <a:lnTo>
                      <a:pt x="1942" y="467"/>
                    </a:lnTo>
                    <a:lnTo>
                      <a:pt x="2026" y="599"/>
                    </a:lnTo>
                    <a:lnTo>
                      <a:pt x="2056" y="755"/>
                    </a:lnTo>
                    <a:lnTo>
                      <a:pt x="2114" y="940"/>
                    </a:lnTo>
                    <a:lnTo>
                      <a:pt x="2140" y="1096"/>
                    </a:lnTo>
                    <a:lnTo>
                      <a:pt x="2114" y="1276"/>
                    </a:lnTo>
                    <a:lnTo>
                      <a:pt x="2114" y="1436"/>
                    </a:lnTo>
                    <a:lnTo>
                      <a:pt x="2056" y="1616"/>
                    </a:lnTo>
                    <a:lnTo>
                      <a:pt x="1999" y="1827"/>
                    </a:lnTo>
                    <a:lnTo>
                      <a:pt x="1973" y="2007"/>
                    </a:lnTo>
                    <a:lnTo>
                      <a:pt x="1889" y="2138"/>
                    </a:lnTo>
                    <a:lnTo>
                      <a:pt x="1774" y="2192"/>
                    </a:lnTo>
                    <a:lnTo>
                      <a:pt x="1664" y="2245"/>
                    </a:lnTo>
                    <a:lnTo>
                      <a:pt x="1548" y="2294"/>
                    </a:lnTo>
                    <a:lnTo>
                      <a:pt x="1465" y="2323"/>
                    </a:lnTo>
                    <a:lnTo>
                      <a:pt x="1350" y="2347"/>
                    </a:lnTo>
                    <a:lnTo>
                      <a:pt x="1240" y="2347"/>
                    </a:lnTo>
                    <a:lnTo>
                      <a:pt x="1072" y="2294"/>
                    </a:lnTo>
                    <a:lnTo>
                      <a:pt x="957" y="2294"/>
                    </a:lnTo>
                    <a:lnTo>
                      <a:pt x="900" y="2270"/>
                    </a:lnTo>
                    <a:lnTo>
                      <a:pt x="900" y="2323"/>
                    </a:lnTo>
                    <a:lnTo>
                      <a:pt x="533" y="2270"/>
                    </a:lnTo>
                    <a:lnTo>
                      <a:pt x="591" y="2138"/>
                    </a:lnTo>
                    <a:lnTo>
                      <a:pt x="591" y="2085"/>
                    </a:lnTo>
                    <a:lnTo>
                      <a:pt x="565" y="2036"/>
                    </a:lnTo>
                    <a:lnTo>
                      <a:pt x="565" y="1982"/>
                    </a:lnTo>
                    <a:lnTo>
                      <a:pt x="533" y="1929"/>
                    </a:lnTo>
                    <a:lnTo>
                      <a:pt x="507" y="1905"/>
                    </a:lnTo>
                    <a:lnTo>
                      <a:pt x="565" y="1851"/>
                    </a:lnTo>
                    <a:lnTo>
                      <a:pt x="591" y="1802"/>
                    </a:lnTo>
                    <a:lnTo>
                      <a:pt x="591" y="1748"/>
                    </a:lnTo>
                    <a:lnTo>
                      <a:pt x="565" y="1641"/>
                    </a:lnTo>
                    <a:lnTo>
                      <a:pt x="565" y="1485"/>
                    </a:lnTo>
                    <a:lnTo>
                      <a:pt x="476" y="1407"/>
                    </a:lnTo>
                    <a:lnTo>
                      <a:pt x="392" y="1383"/>
                    </a:lnTo>
                    <a:lnTo>
                      <a:pt x="282" y="1276"/>
                    </a:lnTo>
                    <a:lnTo>
                      <a:pt x="198" y="1276"/>
                    </a:lnTo>
                    <a:lnTo>
                      <a:pt x="141" y="1383"/>
                    </a:lnTo>
                    <a:lnTo>
                      <a:pt x="141" y="1485"/>
                    </a:lnTo>
                    <a:lnTo>
                      <a:pt x="198" y="1592"/>
                    </a:lnTo>
                    <a:lnTo>
                      <a:pt x="198" y="1719"/>
                    </a:lnTo>
                    <a:lnTo>
                      <a:pt x="167" y="1694"/>
                    </a:lnTo>
                    <a:lnTo>
                      <a:pt x="114" y="1670"/>
                    </a:lnTo>
                    <a:lnTo>
                      <a:pt x="83" y="1383"/>
                    </a:lnTo>
                    <a:lnTo>
                      <a:pt x="0" y="1173"/>
                    </a:lnTo>
                    <a:lnTo>
                      <a:pt x="57" y="1018"/>
                    </a:lnTo>
                    <a:lnTo>
                      <a:pt x="83" y="862"/>
                    </a:lnTo>
                    <a:lnTo>
                      <a:pt x="114" y="677"/>
                    </a:lnTo>
                    <a:lnTo>
                      <a:pt x="114" y="574"/>
                    </a:lnTo>
                    <a:lnTo>
                      <a:pt x="282" y="4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1454040" y="6454800"/>
              <a:ext cx="532080" cy="221040"/>
            </a:xfrm>
            <a:custGeom>
              <a:avLst/>
              <a:gdLst/>
              <a:ahLst/>
              <a:rect l="0" t="0" r="r" b="b"/>
              <a:pathLst>
                <a:path w="1478" h="614">
                  <a:moveTo>
                    <a:pt x="0" y="78"/>
                  </a:moveTo>
                  <a:lnTo>
                    <a:pt x="26" y="0"/>
                  </a:lnTo>
                  <a:lnTo>
                    <a:pt x="224" y="24"/>
                  </a:lnTo>
                  <a:lnTo>
                    <a:pt x="418" y="49"/>
                  </a:lnTo>
                  <a:lnTo>
                    <a:pt x="723" y="152"/>
                  </a:lnTo>
                  <a:lnTo>
                    <a:pt x="865" y="206"/>
                  </a:lnTo>
                  <a:lnTo>
                    <a:pt x="1032" y="280"/>
                  </a:lnTo>
                  <a:lnTo>
                    <a:pt x="1226" y="358"/>
                  </a:lnTo>
                  <a:lnTo>
                    <a:pt x="1394" y="437"/>
                  </a:lnTo>
                  <a:lnTo>
                    <a:pt x="1451" y="487"/>
                  </a:lnTo>
                  <a:lnTo>
                    <a:pt x="1478" y="614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6397560"/>
              <a:ext cx="3472200" cy="459000"/>
            </a:xfrm>
            <a:custGeom>
              <a:avLst/>
              <a:gdLst/>
              <a:ahLst/>
              <a:rect l="0" t="0" r="r" b="b"/>
              <a:pathLst>
                <a:path w="9645" h="1275">
                  <a:moveTo>
                    <a:pt x="26" y="886"/>
                  </a:moveTo>
                  <a:lnTo>
                    <a:pt x="383" y="442"/>
                  </a:lnTo>
                  <a:lnTo>
                    <a:pt x="604" y="258"/>
                  </a:lnTo>
                  <a:lnTo>
                    <a:pt x="798" y="102"/>
                  </a:lnTo>
                  <a:lnTo>
                    <a:pt x="912" y="4"/>
                  </a:lnTo>
                  <a:lnTo>
                    <a:pt x="1353" y="0"/>
                  </a:lnTo>
                  <a:lnTo>
                    <a:pt x="2165" y="196"/>
                  </a:lnTo>
                  <a:lnTo>
                    <a:pt x="2226" y="389"/>
                  </a:lnTo>
                  <a:lnTo>
                    <a:pt x="2363" y="573"/>
                  </a:lnTo>
                  <a:lnTo>
                    <a:pt x="2526" y="754"/>
                  </a:lnTo>
                  <a:lnTo>
                    <a:pt x="2610" y="886"/>
                  </a:lnTo>
                  <a:lnTo>
                    <a:pt x="3130" y="598"/>
                  </a:lnTo>
                  <a:lnTo>
                    <a:pt x="3351" y="495"/>
                  </a:lnTo>
                  <a:lnTo>
                    <a:pt x="3655" y="389"/>
                  </a:lnTo>
                  <a:lnTo>
                    <a:pt x="3902" y="180"/>
                  </a:lnTo>
                  <a:lnTo>
                    <a:pt x="4286" y="286"/>
                  </a:lnTo>
                  <a:lnTo>
                    <a:pt x="4616" y="417"/>
                  </a:lnTo>
                  <a:lnTo>
                    <a:pt x="4948" y="545"/>
                  </a:lnTo>
                  <a:lnTo>
                    <a:pt x="5001" y="573"/>
                  </a:lnTo>
                  <a:lnTo>
                    <a:pt x="5248" y="598"/>
                  </a:lnTo>
                  <a:lnTo>
                    <a:pt x="5495" y="886"/>
                  </a:lnTo>
                  <a:lnTo>
                    <a:pt x="5663" y="1041"/>
                  </a:lnTo>
                  <a:lnTo>
                    <a:pt x="5989" y="1197"/>
                  </a:lnTo>
                  <a:lnTo>
                    <a:pt x="6981" y="701"/>
                  </a:lnTo>
                  <a:lnTo>
                    <a:pt x="8436" y="389"/>
                  </a:lnTo>
                  <a:lnTo>
                    <a:pt x="8957" y="573"/>
                  </a:lnTo>
                  <a:lnTo>
                    <a:pt x="9481" y="886"/>
                  </a:lnTo>
                  <a:lnTo>
                    <a:pt x="9645" y="1275"/>
                  </a:lnTo>
                  <a:lnTo>
                    <a:pt x="0" y="1275"/>
                  </a:lnTo>
                  <a:lnTo>
                    <a:pt x="26" y="88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88800" y="6472080"/>
              <a:ext cx="439920" cy="295560"/>
            </a:xfrm>
            <a:custGeom>
              <a:avLst/>
              <a:gdLst/>
              <a:ahLst/>
              <a:rect l="0" t="0" r="r" b="b"/>
              <a:pathLst>
                <a:path w="1222" h="821">
                  <a:moveTo>
                    <a:pt x="0" y="0"/>
                  </a:moveTo>
                  <a:lnTo>
                    <a:pt x="582" y="127"/>
                  </a:lnTo>
                  <a:lnTo>
                    <a:pt x="807" y="205"/>
                  </a:lnTo>
                  <a:lnTo>
                    <a:pt x="918" y="258"/>
                  </a:lnTo>
                  <a:lnTo>
                    <a:pt x="1028" y="360"/>
                  </a:lnTo>
                  <a:lnTo>
                    <a:pt x="1112" y="464"/>
                  </a:lnTo>
                  <a:lnTo>
                    <a:pt x="1165" y="566"/>
                  </a:lnTo>
                  <a:lnTo>
                    <a:pt x="1222" y="694"/>
                  </a:lnTo>
                  <a:lnTo>
                    <a:pt x="1138" y="821"/>
                  </a:lnTo>
                  <a:lnTo>
                    <a:pt x="1085" y="694"/>
                  </a:lnTo>
                  <a:lnTo>
                    <a:pt x="1002" y="566"/>
                  </a:lnTo>
                  <a:lnTo>
                    <a:pt x="944" y="464"/>
                  </a:lnTo>
                  <a:lnTo>
                    <a:pt x="860" y="411"/>
                  </a:lnTo>
                  <a:lnTo>
                    <a:pt x="750" y="332"/>
                  </a:lnTo>
                  <a:lnTo>
                    <a:pt x="613" y="282"/>
                  </a:lnTo>
                  <a:lnTo>
                    <a:pt x="414" y="205"/>
                  </a:lnTo>
                  <a:lnTo>
                    <a:pt x="22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83240" y="5535720"/>
              <a:ext cx="1286280" cy="1321200"/>
              <a:chOff x="5583240" y="5535720"/>
              <a:chExt cx="1286280" cy="1321200"/>
            </a:xfrm>
          </p:grpSpPr>
          <p:sp>
            <p:nvSpPr>
              <p:cNvPr id="370" name=""/>
              <p:cNvSpPr/>
              <p:nvPr/>
            </p:nvSpPr>
            <p:spPr>
              <a:xfrm>
                <a:off x="5848200" y="5535720"/>
                <a:ext cx="797400" cy="787680"/>
              </a:xfrm>
              <a:custGeom>
                <a:avLst/>
                <a:gdLst/>
                <a:ahLst/>
                <a:rect l="0" t="0" r="r" b="b"/>
                <a:pathLst>
                  <a:path w="2215" h="2188">
                    <a:moveTo>
                      <a:pt x="1204" y="0"/>
                    </a:moveTo>
                    <a:lnTo>
                      <a:pt x="1010" y="45"/>
                    </a:lnTo>
                    <a:lnTo>
                      <a:pt x="821" y="45"/>
                    </a:lnTo>
                    <a:lnTo>
                      <a:pt x="627" y="135"/>
                    </a:lnTo>
                    <a:lnTo>
                      <a:pt x="432" y="180"/>
                    </a:lnTo>
                    <a:lnTo>
                      <a:pt x="286" y="266"/>
                    </a:lnTo>
                    <a:lnTo>
                      <a:pt x="194" y="401"/>
                    </a:lnTo>
                    <a:lnTo>
                      <a:pt x="145" y="536"/>
                    </a:lnTo>
                    <a:lnTo>
                      <a:pt x="145" y="667"/>
                    </a:lnTo>
                    <a:lnTo>
                      <a:pt x="194" y="802"/>
                    </a:lnTo>
                    <a:lnTo>
                      <a:pt x="97" y="983"/>
                    </a:lnTo>
                    <a:lnTo>
                      <a:pt x="48" y="1115"/>
                    </a:lnTo>
                    <a:lnTo>
                      <a:pt x="0" y="1250"/>
                    </a:lnTo>
                    <a:lnTo>
                      <a:pt x="48" y="1430"/>
                    </a:lnTo>
                    <a:lnTo>
                      <a:pt x="145" y="1520"/>
                    </a:lnTo>
                    <a:lnTo>
                      <a:pt x="286" y="1606"/>
                    </a:lnTo>
                    <a:lnTo>
                      <a:pt x="335" y="1651"/>
                    </a:lnTo>
                    <a:lnTo>
                      <a:pt x="383" y="1741"/>
                    </a:lnTo>
                    <a:lnTo>
                      <a:pt x="335" y="1831"/>
                    </a:lnTo>
                    <a:lnTo>
                      <a:pt x="286" y="1921"/>
                    </a:lnTo>
                    <a:lnTo>
                      <a:pt x="194" y="2053"/>
                    </a:lnTo>
                    <a:lnTo>
                      <a:pt x="286" y="2053"/>
                    </a:lnTo>
                    <a:lnTo>
                      <a:pt x="335" y="2098"/>
                    </a:lnTo>
                    <a:lnTo>
                      <a:pt x="432" y="2098"/>
                    </a:lnTo>
                    <a:lnTo>
                      <a:pt x="480" y="2143"/>
                    </a:lnTo>
                    <a:lnTo>
                      <a:pt x="529" y="2143"/>
                    </a:lnTo>
                    <a:lnTo>
                      <a:pt x="675" y="2188"/>
                    </a:lnTo>
                    <a:lnTo>
                      <a:pt x="1491" y="2143"/>
                    </a:lnTo>
                    <a:lnTo>
                      <a:pt x="1637" y="2143"/>
                    </a:lnTo>
                    <a:lnTo>
                      <a:pt x="1686" y="2098"/>
                    </a:lnTo>
                    <a:lnTo>
                      <a:pt x="1735" y="2098"/>
                    </a:lnTo>
                    <a:lnTo>
                      <a:pt x="1783" y="2053"/>
                    </a:lnTo>
                    <a:lnTo>
                      <a:pt x="1880" y="2098"/>
                    </a:lnTo>
                    <a:lnTo>
                      <a:pt x="1880" y="2053"/>
                    </a:lnTo>
                    <a:lnTo>
                      <a:pt x="1973" y="2053"/>
                    </a:lnTo>
                    <a:lnTo>
                      <a:pt x="2070" y="2008"/>
                    </a:lnTo>
                    <a:lnTo>
                      <a:pt x="1929" y="1967"/>
                    </a:lnTo>
                    <a:lnTo>
                      <a:pt x="1880" y="1876"/>
                    </a:lnTo>
                    <a:lnTo>
                      <a:pt x="1783" y="1741"/>
                    </a:lnTo>
                    <a:lnTo>
                      <a:pt x="1880" y="1696"/>
                    </a:lnTo>
                    <a:lnTo>
                      <a:pt x="2021" y="1606"/>
                    </a:lnTo>
                    <a:lnTo>
                      <a:pt x="2118" y="1520"/>
                    </a:lnTo>
                    <a:lnTo>
                      <a:pt x="2167" y="1385"/>
                    </a:lnTo>
                    <a:lnTo>
                      <a:pt x="2167" y="1115"/>
                    </a:lnTo>
                    <a:lnTo>
                      <a:pt x="2215" y="937"/>
                    </a:lnTo>
                    <a:lnTo>
                      <a:pt x="2167" y="712"/>
                    </a:lnTo>
                    <a:lnTo>
                      <a:pt x="2070" y="581"/>
                    </a:lnTo>
                    <a:lnTo>
                      <a:pt x="1973" y="401"/>
                    </a:lnTo>
                    <a:lnTo>
                      <a:pt x="1783" y="221"/>
                    </a:lnTo>
                    <a:lnTo>
                      <a:pt x="1637" y="135"/>
                    </a:lnTo>
                    <a:lnTo>
                      <a:pt x="1442" y="45"/>
                    </a:lnTo>
                    <a:lnTo>
                      <a:pt x="12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091200" y="6242040"/>
                <a:ext cx="332280" cy="417960"/>
              </a:xfrm>
              <a:custGeom>
                <a:avLst/>
                <a:gdLst/>
                <a:ahLst/>
                <a:rect l="0" t="0" r="r" b="b"/>
                <a:pathLst>
                  <a:path w="923" h="1161">
                    <a:moveTo>
                      <a:pt x="0" y="221"/>
                    </a:moveTo>
                    <a:lnTo>
                      <a:pt x="48" y="357"/>
                    </a:lnTo>
                    <a:lnTo>
                      <a:pt x="0" y="447"/>
                    </a:lnTo>
                    <a:lnTo>
                      <a:pt x="0" y="668"/>
                    </a:lnTo>
                    <a:lnTo>
                      <a:pt x="0" y="759"/>
                    </a:lnTo>
                    <a:lnTo>
                      <a:pt x="48" y="849"/>
                    </a:lnTo>
                    <a:lnTo>
                      <a:pt x="194" y="1026"/>
                    </a:lnTo>
                    <a:lnTo>
                      <a:pt x="340" y="1161"/>
                    </a:lnTo>
                    <a:lnTo>
                      <a:pt x="534" y="1161"/>
                    </a:lnTo>
                    <a:lnTo>
                      <a:pt x="631" y="1116"/>
                    </a:lnTo>
                    <a:lnTo>
                      <a:pt x="729" y="1026"/>
                    </a:lnTo>
                    <a:lnTo>
                      <a:pt x="826" y="895"/>
                    </a:lnTo>
                    <a:lnTo>
                      <a:pt x="923" y="759"/>
                    </a:lnTo>
                    <a:lnTo>
                      <a:pt x="923" y="714"/>
                    </a:lnTo>
                    <a:lnTo>
                      <a:pt x="875" y="623"/>
                    </a:lnTo>
                    <a:lnTo>
                      <a:pt x="826" y="447"/>
                    </a:lnTo>
                    <a:lnTo>
                      <a:pt x="826" y="357"/>
                    </a:lnTo>
                    <a:lnTo>
                      <a:pt x="826" y="221"/>
                    </a:lnTo>
                    <a:lnTo>
                      <a:pt x="826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005520" y="5826240"/>
                <a:ext cx="446400" cy="562320"/>
              </a:xfrm>
              <a:custGeom>
                <a:avLst/>
                <a:gdLst/>
                <a:ahLst/>
                <a:rect l="0" t="0" r="r" b="b"/>
                <a:pathLst>
                  <a:path w="1240" h="1562">
                    <a:moveTo>
                      <a:pt x="48" y="180"/>
                    </a:moveTo>
                    <a:lnTo>
                      <a:pt x="97" y="266"/>
                    </a:lnTo>
                    <a:lnTo>
                      <a:pt x="48" y="401"/>
                    </a:lnTo>
                    <a:lnTo>
                      <a:pt x="48" y="622"/>
                    </a:lnTo>
                    <a:lnTo>
                      <a:pt x="0" y="757"/>
                    </a:lnTo>
                    <a:lnTo>
                      <a:pt x="48" y="849"/>
                    </a:lnTo>
                    <a:lnTo>
                      <a:pt x="48" y="939"/>
                    </a:lnTo>
                    <a:lnTo>
                      <a:pt x="48" y="1025"/>
                    </a:lnTo>
                    <a:lnTo>
                      <a:pt x="97" y="1070"/>
                    </a:lnTo>
                    <a:lnTo>
                      <a:pt x="97" y="1160"/>
                    </a:lnTo>
                    <a:lnTo>
                      <a:pt x="97" y="1205"/>
                    </a:lnTo>
                    <a:lnTo>
                      <a:pt x="141" y="1295"/>
                    </a:lnTo>
                    <a:lnTo>
                      <a:pt x="238" y="1340"/>
                    </a:lnTo>
                    <a:lnTo>
                      <a:pt x="286" y="1426"/>
                    </a:lnTo>
                    <a:lnTo>
                      <a:pt x="335" y="1471"/>
                    </a:lnTo>
                    <a:lnTo>
                      <a:pt x="427" y="1516"/>
                    </a:lnTo>
                    <a:lnTo>
                      <a:pt x="476" y="1562"/>
                    </a:lnTo>
                    <a:lnTo>
                      <a:pt x="573" y="1562"/>
                    </a:lnTo>
                    <a:lnTo>
                      <a:pt x="666" y="1562"/>
                    </a:lnTo>
                    <a:lnTo>
                      <a:pt x="763" y="1516"/>
                    </a:lnTo>
                    <a:lnTo>
                      <a:pt x="812" y="1471"/>
                    </a:lnTo>
                    <a:lnTo>
                      <a:pt x="904" y="1426"/>
                    </a:lnTo>
                    <a:lnTo>
                      <a:pt x="953" y="1340"/>
                    </a:lnTo>
                    <a:lnTo>
                      <a:pt x="1002" y="1295"/>
                    </a:lnTo>
                    <a:lnTo>
                      <a:pt x="1050" y="1250"/>
                    </a:lnTo>
                    <a:lnTo>
                      <a:pt x="1099" y="1205"/>
                    </a:lnTo>
                    <a:lnTo>
                      <a:pt x="1143" y="1070"/>
                    </a:lnTo>
                    <a:lnTo>
                      <a:pt x="1143" y="980"/>
                    </a:lnTo>
                    <a:lnTo>
                      <a:pt x="1191" y="849"/>
                    </a:lnTo>
                    <a:lnTo>
                      <a:pt x="1240" y="667"/>
                    </a:lnTo>
                    <a:lnTo>
                      <a:pt x="1240" y="536"/>
                    </a:lnTo>
                    <a:lnTo>
                      <a:pt x="1240" y="401"/>
                    </a:lnTo>
                    <a:lnTo>
                      <a:pt x="1240" y="311"/>
                    </a:lnTo>
                    <a:lnTo>
                      <a:pt x="1143" y="356"/>
                    </a:lnTo>
                    <a:lnTo>
                      <a:pt x="1240" y="180"/>
                    </a:lnTo>
                    <a:lnTo>
                      <a:pt x="1050" y="221"/>
                    </a:lnTo>
                    <a:lnTo>
                      <a:pt x="1191" y="90"/>
                    </a:lnTo>
                    <a:lnTo>
                      <a:pt x="1143" y="0"/>
                    </a:lnTo>
                    <a:lnTo>
                      <a:pt x="1002" y="180"/>
                    </a:lnTo>
                    <a:lnTo>
                      <a:pt x="763" y="221"/>
                    </a:lnTo>
                    <a:lnTo>
                      <a:pt x="860" y="135"/>
                    </a:lnTo>
                    <a:lnTo>
                      <a:pt x="1002" y="0"/>
                    </a:lnTo>
                    <a:lnTo>
                      <a:pt x="763" y="135"/>
                    </a:lnTo>
                    <a:lnTo>
                      <a:pt x="622" y="221"/>
                    </a:lnTo>
                    <a:lnTo>
                      <a:pt x="286" y="266"/>
                    </a:lnTo>
                    <a:lnTo>
                      <a:pt x="476" y="221"/>
                    </a:lnTo>
                    <a:lnTo>
                      <a:pt x="622" y="135"/>
                    </a:lnTo>
                    <a:lnTo>
                      <a:pt x="286" y="180"/>
                    </a:lnTo>
                    <a:lnTo>
                      <a:pt x="189" y="221"/>
                    </a:lnTo>
                    <a:lnTo>
                      <a:pt x="427" y="45"/>
                    </a:lnTo>
                    <a:lnTo>
                      <a:pt x="189" y="135"/>
                    </a:lnTo>
                    <a:lnTo>
                      <a:pt x="48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091200" y="6018120"/>
                <a:ext cx="70200" cy="25920"/>
              </a:xfrm>
              <a:custGeom>
                <a:avLst/>
                <a:gdLst/>
                <a:ahLst/>
                <a:rect l="0" t="0" r="r" b="b"/>
                <a:pathLst>
                  <a:path w="195" h="72">
                    <a:moveTo>
                      <a:pt x="0" y="36"/>
                    </a:moveTo>
                    <a:lnTo>
                      <a:pt x="0" y="72"/>
                    </a:lnTo>
                    <a:lnTo>
                      <a:pt x="39" y="72"/>
                    </a:lnTo>
                    <a:lnTo>
                      <a:pt x="79" y="72"/>
                    </a:lnTo>
                    <a:lnTo>
                      <a:pt x="155" y="72"/>
                    </a:lnTo>
                    <a:lnTo>
                      <a:pt x="195" y="72"/>
                    </a:lnTo>
                    <a:lnTo>
                      <a:pt x="155" y="36"/>
                    </a:lnTo>
                    <a:lnTo>
                      <a:pt x="115" y="0"/>
                    </a:lnTo>
                    <a:lnTo>
                      <a:pt x="3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78400" y="6032520"/>
                <a:ext cx="71640" cy="25920"/>
              </a:xfrm>
              <a:custGeom>
                <a:avLst/>
                <a:gdLst/>
                <a:ahLst/>
                <a:rect l="0" t="0" r="r" b="b"/>
                <a:pathLst>
                  <a:path w="199" h="72">
                    <a:moveTo>
                      <a:pt x="0" y="36"/>
                    </a:moveTo>
                    <a:lnTo>
                      <a:pt x="0" y="36"/>
                    </a:lnTo>
                    <a:lnTo>
                      <a:pt x="39" y="72"/>
                    </a:lnTo>
                    <a:lnTo>
                      <a:pt x="79" y="72"/>
                    </a:lnTo>
                    <a:lnTo>
                      <a:pt x="120" y="72"/>
                    </a:lnTo>
                    <a:lnTo>
                      <a:pt x="159" y="36"/>
                    </a:lnTo>
                    <a:lnTo>
                      <a:pt x="199" y="36"/>
                    </a:lnTo>
                    <a:lnTo>
                      <a:pt x="120" y="0"/>
                    </a:lnTo>
                    <a:lnTo>
                      <a:pt x="79" y="0"/>
                    </a:lnTo>
                    <a:lnTo>
                      <a:pt x="3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161040" y="6178680"/>
                <a:ext cx="84600" cy="25920"/>
              </a:xfrm>
              <a:custGeom>
                <a:avLst/>
                <a:gdLst/>
                <a:ahLst/>
                <a:rect l="0" t="0" r="r" b="b"/>
                <a:pathLst>
                  <a:path w="235" h="72">
                    <a:moveTo>
                      <a:pt x="0" y="0"/>
                    </a:moveTo>
                    <a:lnTo>
                      <a:pt x="39" y="0"/>
                    </a:lnTo>
                    <a:lnTo>
                      <a:pt x="80" y="0"/>
                    </a:lnTo>
                    <a:lnTo>
                      <a:pt x="120" y="36"/>
                    </a:lnTo>
                    <a:lnTo>
                      <a:pt x="155" y="0"/>
                    </a:lnTo>
                    <a:lnTo>
                      <a:pt x="235" y="0"/>
                    </a:lnTo>
                    <a:lnTo>
                      <a:pt x="196" y="36"/>
                    </a:lnTo>
                    <a:lnTo>
                      <a:pt x="155" y="72"/>
                    </a:lnTo>
                    <a:lnTo>
                      <a:pt x="80" y="72"/>
                    </a:lnTo>
                    <a:lnTo>
                      <a:pt x="80" y="36"/>
                    </a:lnTo>
                    <a:lnTo>
                      <a:pt x="39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126120" y="6242040"/>
                <a:ext cx="152640" cy="25920"/>
              </a:xfrm>
              <a:custGeom>
                <a:avLst/>
                <a:gdLst/>
                <a:ahLst/>
                <a:rect l="0" t="0" r="r" b="b"/>
                <a:pathLst>
                  <a:path w="424" h="72">
                    <a:moveTo>
                      <a:pt x="0" y="72"/>
                    </a:moveTo>
                    <a:lnTo>
                      <a:pt x="0" y="0"/>
                    </a:lnTo>
                    <a:lnTo>
                      <a:pt x="44" y="40"/>
                    </a:lnTo>
                    <a:lnTo>
                      <a:pt x="83" y="40"/>
                    </a:lnTo>
                    <a:lnTo>
                      <a:pt x="167" y="40"/>
                    </a:lnTo>
                    <a:lnTo>
                      <a:pt x="211" y="40"/>
                    </a:lnTo>
                    <a:lnTo>
                      <a:pt x="256" y="40"/>
                    </a:lnTo>
                    <a:lnTo>
                      <a:pt x="296" y="40"/>
                    </a:lnTo>
                    <a:lnTo>
                      <a:pt x="340" y="40"/>
                    </a:lnTo>
                    <a:lnTo>
                      <a:pt x="424" y="40"/>
                    </a:lnTo>
                    <a:lnTo>
                      <a:pt x="424" y="72"/>
                    </a:lnTo>
                    <a:lnTo>
                      <a:pt x="380" y="72"/>
                    </a:lnTo>
                    <a:lnTo>
                      <a:pt x="211" y="72"/>
                    </a:lnTo>
                    <a:lnTo>
                      <a:pt x="127" y="72"/>
                    </a:lnTo>
                    <a:lnTo>
                      <a:pt x="44" y="4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61040" y="62881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0"/>
                    </a:moveTo>
                    <a:lnTo>
                      <a:pt x="35" y="39"/>
                    </a:lnTo>
                    <a:lnTo>
                      <a:pt x="111" y="39"/>
                    </a:lnTo>
                    <a:lnTo>
                      <a:pt x="150" y="39"/>
                    </a:lnTo>
                    <a:lnTo>
                      <a:pt x="186" y="39"/>
                    </a:lnTo>
                    <a:lnTo>
                      <a:pt x="111" y="39"/>
                    </a:lnTo>
                    <a:lnTo>
                      <a:pt x="74" y="72"/>
                    </a:lnTo>
                    <a:lnTo>
                      <a:pt x="0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73920" y="5986440"/>
                <a:ext cx="87840" cy="25920"/>
              </a:xfrm>
              <a:custGeom>
                <a:avLst/>
                <a:gdLst/>
                <a:ahLst/>
                <a:rect l="0" t="0" r="r" b="b"/>
                <a:pathLst>
                  <a:path w="244" h="72">
                    <a:moveTo>
                      <a:pt x="0" y="0"/>
                    </a:moveTo>
                    <a:lnTo>
                      <a:pt x="80" y="36"/>
                    </a:lnTo>
                    <a:lnTo>
                      <a:pt x="164" y="36"/>
                    </a:lnTo>
                    <a:lnTo>
                      <a:pt x="244" y="72"/>
                    </a:lnTo>
                    <a:lnTo>
                      <a:pt x="244" y="0"/>
                    </a:lnTo>
                    <a:lnTo>
                      <a:pt x="204" y="0"/>
                    </a:lnTo>
                    <a:lnTo>
                      <a:pt x="164" y="0"/>
                    </a:lnTo>
                    <a:lnTo>
                      <a:pt x="124" y="0"/>
                    </a:lnTo>
                    <a:lnTo>
                      <a:pt x="8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264360" y="5986440"/>
                <a:ext cx="120960" cy="25920"/>
              </a:xfrm>
              <a:custGeom>
                <a:avLst/>
                <a:gdLst/>
                <a:ahLst/>
                <a:rect l="0" t="0" r="r" b="b"/>
                <a:pathLst>
                  <a:path w="336" h="72">
                    <a:moveTo>
                      <a:pt x="0" y="72"/>
                    </a:moveTo>
                    <a:lnTo>
                      <a:pt x="83" y="72"/>
                    </a:lnTo>
                    <a:lnTo>
                      <a:pt x="167" y="36"/>
                    </a:lnTo>
                    <a:lnTo>
                      <a:pt x="336" y="72"/>
                    </a:lnTo>
                    <a:lnTo>
                      <a:pt x="212" y="36"/>
                    </a:lnTo>
                    <a:lnTo>
                      <a:pt x="167" y="36"/>
                    </a:lnTo>
                    <a:lnTo>
                      <a:pt x="127" y="36"/>
                    </a:lnTo>
                    <a:lnTo>
                      <a:pt x="83" y="0"/>
                    </a:lnTo>
                    <a:lnTo>
                      <a:pt x="44" y="3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43760" y="603252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332400" y="6049800"/>
                <a:ext cx="0" cy="0"/>
              </a:xfrm>
              <a:custGeom>
                <a:avLst/>
                <a:gdLst/>
                <a:ahLst/>
                <a:rect l="0" t="0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7280" y="5554800"/>
                <a:ext cx="555840" cy="384480"/>
              </a:xfrm>
              <a:custGeom>
                <a:avLst/>
                <a:gdLst/>
                <a:ahLst/>
                <a:rect l="0" t="0" r="r" b="b"/>
                <a:pathLst>
                  <a:path w="1544" h="1068">
                    <a:moveTo>
                      <a:pt x="374" y="682"/>
                    </a:moveTo>
                    <a:lnTo>
                      <a:pt x="560" y="727"/>
                    </a:lnTo>
                    <a:lnTo>
                      <a:pt x="749" y="727"/>
                    </a:lnTo>
                    <a:lnTo>
                      <a:pt x="935" y="682"/>
                    </a:lnTo>
                    <a:lnTo>
                      <a:pt x="1125" y="555"/>
                    </a:lnTo>
                    <a:lnTo>
                      <a:pt x="1310" y="426"/>
                    </a:lnTo>
                    <a:lnTo>
                      <a:pt x="1495" y="299"/>
                    </a:lnTo>
                    <a:lnTo>
                      <a:pt x="1544" y="127"/>
                    </a:lnTo>
                    <a:lnTo>
                      <a:pt x="1451" y="86"/>
                    </a:lnTo>
                    <a:lnTo>
                      <a:pt x="1262" y="0"/>
                    </a:lnTo>
                    <a:lnTo>
                      <a:pt x="984" y="0"/>
                    </a:lnTo>
                    <a:lnTo>
                      <a:pt x="843" y="86"/>
                    </a:lnTo>
                    <a:lnTo>
                      <a:pt x="749" y="213"/>
                    </a:lnTo>
                    <a:lnTo>
                      <a:pt x="560" y="254"/>
                    </a:lnTo>
                    <a:lnTo>
                      <a:pt x="467" y="254"/>
                    </a:lnTo>
                    <a:lnTo>
                      <a:pt x="652" y="213"/>
                    </a:lnTo>
                    <a:lnTo>
                      <a:pt x="794" y="127"/>
                    </a:lnTo>
                    <a:lnTo>
                      <a:pt x="935" y="0"/>
                    </a:lnTo>
                    <a:lnTo>
                      <a:pt x="749" y="41"/>
                    </a:lnTo>
                    <a:lnTo>
                      <a:pt x="418" y="127"/>
                    </a:lnTo>
                    <a:lnTo>
                      <a:pt x="282" y="213"/>
                    </a:lnTo>
                    <a:lnTo>
                      <a:pt x="185" y="340"/>
                    </a:lnTo>
                    <a:lnTo>
                      <a:pt x="141" y="467"/>
                    </a:lnTo>
                    <a:lnTo>
                      <a:pt x="141" y="513"/>
                    </a:lnTo>
                    <a:lnTo>
                      <a:pt x="141" y="641"/>
                    </a:lnTo>
                    <a:lnTo>
                      <a:pt x="141" y="727"/>
                    </a:lnTo>
                    <a:lnTo>
                      <a:pt x="92" y="813"/>
                    </a:lnTo>
                    <a:lnTo>
                      <a:pt x="48" y="895"/>
                    </a:lnTo>
                    <a:lnTo>
                      <a:pt x="0" y="981"/>
                    </a:lnTo>
                    <a:lnTo>
                      <a:pt x="0" y="1068"/>
                    </a:lnTo>
                    <a:lnTo>
                      <a:pt x="0" y="1027"/>
                    </a:lnTo>
                    <a:lnTo>
                      <a:pt x="92" y="895"/>
                    </a:lnTo>
                    <a:lnTo>
                      <a:pt x="185" y="768"/>
                    </a:lnTo>
                    <a:lnTo>
                      <a:pt x="185" y="682"/>
                    </a:lnTo>
                    <a:lnTo>
                      <a:pt x="185" y="600"/>
                    </a:lnTo>
                    <a:lnTo>
                      <a:pt x="233" y="555"/>
                    </a:lnTo>
                    <a:lnTo>
                      <a:pt x="326" y="555"/>
                    </a:lnTo>
                    <a:lnTo>
                      <a:pt x="418" y="555"/>
                    </a:lnTo>
                    <a:lnTo>
                      <a:pt x="608" y="555"/>
                    </a:lnTo>
                    <a:lnTo>
                      <a:pt x="794" y="426"/>
                    </a:lnTo>
                    <a:lnTo>
                      <a:pt x="843" y="340"/>
                    </a:lnTo>
                    <a:lnTo>
                      <a:pt x="749" y="426"/>
                    </a:lnTo>
                    <a:lnTo>
                      <a:pt x="560" y="513"/>
                    </a:lnTo>
                    <a:lnTo>
                      <a:pt x="467" y="513"/>
                    </a:lnTo>
                    <a:lnTo>
                      <a:pt x="374" y="513"/>
                    </a:lnTo>
                    <a:lnTo>
                      <a:pt x="560" y="513"/>
                    </a:lnTo>
                    <a:lnTo>
                      <a:pt x="701" y="426"/>
                    </a:lnTo>
                    <a:lnTo>
                      <a:pt x="794" y="385"/>
                    </a:lnTo>
                    <a:lnTo>
                      <a:pt x="891" y="299"/>
                    </a:lnTo>
                    <a:lnTo>
                      <a:pt x="891" y="385"/>
                    </a:lnTo>
                    <a:lnTo>
                      <a:pt x="749" y="513"/>
                    </a:lnTo>
                    <a:lnTo>
                      <a:pt x="608" y="600"/>
                    </a:lnTo>
                    <a:lnTo>
                      <a:pt x="467" y="641"/>
                    </a:lnTo>
                    <a:lnTo>
                      <a:pt x="374" y="68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5280" y="5584680"/>
                <a:ext cx="363960" cy="448200"/>
              </a:xfrm>
              <a:custGeom>
                <a:avLst/>
                <a:gdLst/>
                <a:ahLst/>
                <a:rect l="0" t="0" r="r" b="b"/>
                <a:pathLst>
                  <a:path w="1011" h="1245">
                    <a:moveTo>
                      <a:pt x="229" y="471"/>
                    </a:moveTo>
                    <a:lnTo>
                      <a:pt x="136" y="557"/>
                    </a:lnTo>
                    <a:lnTo>
                      <a:pt x="0" y="688"/>
                    </a:lnTo>
                    <a:lnTo>
                      <a:pt x="136" y="643"/>
                    </a:lnTo>
                    <a:lnTo>
                      <a:pt x="322" y="602"/>
                    </a:lnTo>
                    <a:lnTo>
                      <a:pt x="415" y="557"/>
                    </a:lnTo>
                    <a:lnTo>
                      <a:pt x="322" y="688"/>
                    </a:lnTo>
                    <a:lnTo>
                      <a:pt x="229" y="729"/>
                    </a:lnTo>
                    <a:lnTo>
                      <a:pt x="415" y="643"/>
                    </a:lnTo>
                    <a:lnTo>
                      <a:pt x="508" y="602"/>
                    </a:lnTo>
                    <a:lnTo>
                      <a:pt x="688" y="471"/>
                    </a:lnTo>
                    <a:lnTo>
                      <a:pt x="596" y="643"/>
                    </a:lnTo>
                    <a:lnTo>
                      <a:pt x="508" y="729"/>
                    </a:lnTo>
                    <a:lnTo>
                      <a:pt x="415" y="774"/>
                    </a:lnTo>
                    <a:lnTo>
                      <a:pt x="552" y="774"/>
                    </a:lnTo>
                    <a:lnTo>
                      <a:pt x="644" y="729"/>
                    </a:lnTo>
                    <a:lnTo>
                      <a:pt x="737" y="688"/>
                    </a:lnTo>
                    <a:lnTo>
                      <a:pt x="644" y="774"/>
                    </a:lnTo>
                    <a:lnTo>
                      <a:pt x="596" y="860"/>
                    </a:lnTo>
                    <a:lnTo>
                      <a:pt x="508" y="900"/>
                    </a:lnTo>
                    <a:lnTo>
                      <a:pt x="596" y="900"/>
                    </a:lnTo>
                    <a:lnTo>
                      <a:pt x="737" y="860"/>
                    </a:lnTo>
                    <a:lnTo>
                      <a:pt x="688" y="900"/>
                    </a:lnTo>
                    <a:lnTo>
                      <a:pt x="644" y="987"/>
                    </a:lnTo>
                    <a:lnTo>
                      <a:pt x="737" y="900"/>
                    </a:lnTo>
                    <a:lnTo>
                      <a:pt x="737" y="946"/>
                    </a:lnTo>
                    <a:lnTo>
                      <a:pt x="688" y="1073"/>
                    </a:lnTo>
                    <a:lnTo>
                      <a:pt x="596" y="1159"/>
                    </a:lnTo>
                    <a:lnTo>
                      <a:pt x="782" y="1032"/>
                    </a:lnTo>
                    <a:lnTo>
                      <a:pt x="875" y="946"/>
                    </a:lnTo>
                    <a:lnTo>
                      <a:pt x="826" y="1118"/>
                    </a:lnTo>
                    <a:lnTo>
                      <a:pt x="737" y="1159"/>
                    </a:lnTo>
                    <a:lnTo>
                      <a:pt x="644" y="1245"/>
                    </a:lnTo>
                    <a:lnTo>
                      <a:pt x="919" y="1118"/>
                    </a:lnTo>
                    <a:lnTo>
                      <a:pt x="1011" y="946"/>
                    </a:lnTo>
                    <a:lnTo>
                      <a:pt x="1011" y="774"/>
                    </a:lnTo>
                    <a:lnTo>
                      <a:pt x="967" y="602"/>
                    </a:lnTo>
                    <a:lnTo>
                      <a:pt x="919" y="430"/>
                    </a:lnTo>
                    <a:lnTo>
                      <a:pt x="875" y="298"/>
                    </a:lnTo>
                    <a:lnTo>
                      <a:pt x="875" y="385"/>
                    </a:lnTo>
                    <a:lnTo>
                      <a:pt x="782" y="516"/>
                    </a:lnTo>
                    <a:lnTo>
                      <a:pt x="826" y="385"/>
                    </a:lnTo>
                    <a:lnTo>
                      <a:pt x="826" y="257"/>
                    </a:lnTo>
                    <a:lnTo>
                      <a:pt x="782" y="212"/>
                    </a:lnTo>
                    <a:lnTo>
                      <a:pt x="688" y="126"/>
                    </a:lnTo>
                    <a:lnTo>
                      <a:pt x="688" y="257"/>
                    </a:lnTo>
                    <a:lnTo>
                      <a:pt x="644" y="385"/>
                    </a:lnTo>
                    <a:lnTo>
                      <a:pt x="552" y="516"/>
                    </a:lnTo>
                    <a:lnTo>
                      <a:pt x="644" y="344"/>
                    </a:lnTo>
                    <a:lnTo>
                      <a:pt x="644" y="257"/>
                    </a:lnTo>
                    <a:lnTo>
                      <a:pt x="644" y="126"/>
                    </a:lnTo>
                    <a:lnTo>
                      <a:pt x="596" y="85"/>
                    </a:lnTo>
                    <a:lnTo>
                      <a:pt x="552" y="40"/>
                    </a:lnTo>
                    <a:lnTo>
                      <a:pt x="508" y="40"/>
                    </a:lnTo>
                    <a:lnTo>
                      <a:pt x="459" y="0"/>
                    </a:lnTo>
                    <a:lnTo>
                      <a:pt x="459" y="126"/>
                    </a:lnTo>
                    <a:lnTo>
                      <a:pt x="459" y="257"/>
                    </a:lnTo>
                    <a:lnTo>
                      <a:pt x="322" y="430"/>
                    </a:lnTo>
                    <a:lnTo>
                      <a:pt x="229" y="47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48200" y="5808600"/>
                <a:ext cx="157680" cy="303480"/>
              </a:xfrm>
              <a:custGeom>
                <a:avLst/>
                <a:gdLst/>
                <a:ahLst/>
                <a:rect l="0" t="0" r="r" b="b"/>
                <a:pathLst>
                  <a:path w="438" h="843">
                    <a:moveTo>
                      <a:pt x="438" y="126"/>
                    </a:moveTo>
                    <a:lnTo>
                      <a:pt x="350" y="126"/>
                    </a:lnTo>
                    <a:lnTo>
                      <a:pt x="261" y="85"/>
                    </a:lnTo>
                    <a:lnTo>
                      <a:pt x="177" y="40"/>
                    </a:lnTo>
                    <a:lnTo>
                      <a:pt x="221" y="126"/>
                    </a:lnTo>
                    <a:lnTo>
                      <a:pt x="305" y="212"/>
                    </a:lnTo>
                    <a:lnTo>
                      <a:pt x="350" y="212"/>
                    </a:lnTo>
                    <a:lnTo>
                      <a:pt x="305" y="212"/>
                    </a:lnTo>
                    <a:lnTo>
                      <a:pt x="177" y="212"/>
                    </a:lnTo>
                    <a:lnTo>
                      <a:pt x="133" y="167"/>
                    </a:lnTo>
                    <a:lnTo>
                      <a:pt x="221" y="253"/>
                    </a:lnTo>
                    <a:lnTo>
                      <a:pt x="305" y="253"/>
                    </a:lnTo>
                    <a:lnTo>
                      <a:pt x="350" y="253"/>
                    </a:lnTo>
                    <a:lnTo>
                      <a:pt x="305" y="294"/>
                    </a:lnTo>
                    <a:lnTo>
                      <a:pt x="221" y="294"/>
                    </a:lnTo>
                    <a:lnTo>
                      <a:pt x="133" y="253"/>
                    </a:lnTo>
                    <a:lnTo>
                      <a:pt x="221" y="294"/>
                    </a:lnTo>
                    <a:lnTo>
                      <a:pt x="305" y="335"/>
                    </a:lnTo>
                    <a:lnTo>
                      <a:pt x="438" y="294"/>
                    </a:lnTo>
                    <a:lnTo>
                      <a:pt x="350" y="380"/>
                    </a:lnTo>
                    <a:lnTo>
                      <a:pt x="261" y="463"/>
                    </a:lnTo>
                    <a:lnTo>
                      <a:pt x="133" y="463"/>
                    </a:lnTo>
                    <a:lnTo>
                      <a:pt x="221" y="463"/>
                    </a:lnTo>
                    <a:lnTo>
                      <a:pt x="261" y="463"/>
                    </a:lnTo>
                    <a:lnTo>
                      <a:pt x="394" y="421"/>
                    </a:lnTo>
                    <a:lnTo>
                      <a:pt x="438" y="380"/>
                    </a:lnTo>
                    <a:lnTo>
                      <a:pt x="350" y="507"/>
                    </a:lnTo>
                    <a:lnTo>
                      <a:pt x="261" y="507"/>
                    </a:lnTo>
                    <a:lnTo>
                      <a:pt x="221" y="548"/>
                    </a:lnTo>
                    <a:lnTo>
                      <a:pt x="88" y="548"/>
                    </a:lnTo>
                    <a:lnTo>
                      <a:pt x="221" y="589"/>
                    </a:lnTo>
                    <a:lnTo>
                      <a:pt x="350" y="548"/>
                    </a:lnTo>
                    <a:lnTo>
                      <a:pt x="438" y="507"/>
                    </a:lnTo>
                    <a:lnTo>
                      <a:pt x="394" y="589"/>
                    </a:lnTo>
                    <a:lnTo>
                      <a:pt x="305" y="675"/>
                    </a:lnTo>
                    <a:lnTo>
                      <a:pt x="261" y="675"/>
                    </a:lnTo>
                    <a:lnTo>
                      <a:pt x="350" y="634"/>
                    </a:lnTo>
                    <a:lnTo>
                      <a:pt x="438" y="634"/>
                    </a:lnTo>
                    <a:lnTo>
                      <a:pt x="394" y="716"/>
                    </a:lnTo>
                    <a:lnTo>
                      <a:pt x="305" y="757"/>
                    </a:lnTo>
                    <a:lnTo>
                      <a:pt x="261" y="757"/>
                    </a:lnTo>
                    <a:lnTo>
                      <a:pt x="394" y="757"/>
                    </a:lnTo>
                    <a:lnTo>
                      <a:pt x="350" y="843"/>
                    </a:lnTo>
                    <a:lnTo>
                      <a:pt x="261" y="802"/>
                    </a:lnTo>
                    <a:lnTo>
                      <a:pt x="221" y="757"/>
                    </a:lnTo>
                    <a:lnTo>
                      <a:pt x="88" y="675"/>
                    </a:lnTo>
                    <a:lnTo>
                      <a:pt x="177" y="634"/>
                    </a:lnTo>
                    <a:lnTo>
                      <a:pt x="221" y="634"/>
                    </a:lnTo>
                    <a:lnTo>
                      <a:pt x="133" y="634"/>
                    </a:lnTo>
                    <a:lnTo>
                      <a:pt x="44" y="634"/>
                    </a:lnTo>
                    <a:lnTo>
                      <a:pt x="44" y="589"/>
                    </a:lnTo>
                    <a:lnTo>
                      <a:pt x="44" y="548"/>
                    </a:lnTo>
                    <a:lnTo>
                      <a:pt x="0" y="507"/>
                    </a:lnTo>
                    <a:lnTo>
                      <a:pt x="44" y="380"/>
                    </a:lnTo>
                    <a:lnTo>
                      <a:pt x="44" y="335"/>
                    </a:lnTo>
                    <a:lnTo>
                      <a:pt x="88" y="294"/>
                    </a:lnTo>
                    <a:lnTo>
                      <a:pt x="177" y="335"/>
                    </a:lnTo>
                    <a:lnTo>
                      <a:pt x="133" y="294"/>
                    </a:lnTo>
                    <a:lnTo>
                      <a:pt x="88" y="253"/>
                    </a:lnTo>
                    <a:lnTo>
                      <a:pt x="88" y="167"/>
                    </a:lnTo>
                    <a:lnTo>
                      <a:pt x="133" y="126"/>
                    </a:lnTo>
                    <a:lnTo>
                      <a:pt x="133" y="85"/>
                    </a:lnTo>
                    <a:lnTo>
                      <a:pt x="221" y="0"/>
                    </a:lnTo>
                    <a:lnTo>
                      <a:pt x="261" y="40"/>
                    </a:lnTo>
                    <a:lnTo>
                      <a:pt x="305" y="85"/>
                    </a:lnTo>
                    <a:lnTo>
                      <a:pt x="438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23120" y="5986440"/>
                <a:ext cx="170280" cy="192600"/>
              </a:xfrm>
              <a:custGeom>
                <a:avLst/>
                <a:gdLst/>
                <a:ahLst/>
                <a:rect l="0" t="0" r="r" b="b"/>
                <a:pathLst>
                  <a:path w="473" h="535">
                    <a:moveTo>
                      <a:pt x="473" y="0"/>
                    </a:moveTo>
                    <a:lnTo>
                      <a:pt x="344" y="122"/>
                    </a:lnTo>
                    <a:lnTo>
                      <a:pt x="217" y="204"/>
                    </a:lnTo>
                    <a:lnTo>
                      <a:pt x="128" y="204"/>
                    </a:lnTo>
                    <a:lnTo>
                      <a:pt x="217" y="204"/>
                    </a:lnTo>
                    <a:lnTo>
                      <a:pt x="344" y="204"/>
                    </a:lnTo>
                    <a:lnTo>
                      <a:pt x="256" y="245"/>
                    </a:lnTo>
                    <a:lnTo>
                      <a:pt x="172" y="245"/>
                    </a:lnTo>
                    <a:lnTo>
                      <a:pt x="83" y="290"/>
                    </a:lnTo>
                    <a:lnTo>
                      <a:pt x="128" y="290"/>
                    </a:lnTo>
                    <a:lnTo>
                      <a:pt x="217" y="290"/>
                    </a:lnTo>
                    <a:lnTo>
                      <a:pt x="300" y="245"/>
                    </a:lnTo>
                    <a:lnTo>
                      <a:pt x="256" y="290"/>
                    </a:lnTo>
                    <a:lnTo>
                      <a:pt x="128" y="371"/>
                    </a:lnTo>
                    <a:lnTo>
                      <a:pt x="44" y="371"/>
                    </a:lnTo>
                    <a:lnTo>
                      <a:pt x="128" y="371"/>
                    </a:lnTo>
                    <a:lnTo>
                      <a:pt x="256" y="371"/>
                    </a:lnTo>
                    <a:lnTo>
                      <a:pt x="172" y="413"/>
                    </a:lnTo>
                    <a:lnTo>
                      <a:pt x="83" y="413"/>
                    </a:lnTo>
                    <a:lnTo>
                      <a:pt x="44" y="454"/>
                    </a:lnTo>
                    <a:lnTo>
                      <a:pt x="128" y="454"/>
                    </a:lnTo>
                    <a:lnTo>
                      <a:pt x="217" y="413"/>
                    </a:lnTo>
                    <a:lnTo>
                      <a:pt x="44" y="494"/>
                    </a:lnTo>
                    <a:lnTo>
                      <a:pt x="0" y="535"/>
                    </a:lnTo>
                    <a:lnTo>
                      <a:pt x="128" y="494"/>
                    </a:lnTo>
                    <a:lnTo>
                      <a:pt x="217" y="454"/>
                    </a:lnTo>
                    <a:lnTo>
                      <a:pt x="344" y="371"/>
                    </a:lnTo>
                    <a:lnTo>
                      <a:pt x="473" y="245"/>
                    </a:lnTo>
                    <a:lnTo>
                      <a:pt x="429" y="290"/>
                    </a:lnTo>
                    <a:lnTo>
                      <a:pt x="300" y="330"/>
                    </a:lnTo>
                    <a:lnTo>
                      <a:pt x="390" y="290"/>
                    </a:lnTo>
                    <a:lnTo>
                      <a:pt x="473" y="204"/>
                    </a:lnTo>
                    <a:lnTo>
                      <a:pt x="473" y="163"/>
                    </a:lnTo>
                    <a:lnTo>
                      <a:pt x="429" y="204"/>
                    </a:lnTo>
                    <a:lnTo>
                      <a:pt x="390" y="245"/>
                    </a:lnTo>
                    <a:lnTo>
                      <a:pt x="429" y="204"/>
                    </a:lnTo>
                    <a:lnTo>
                      <a:pt x="473" y="122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86480" y="6194520"/>
                <a:ext cx="54360" cy="47880"/>
              </a:xfrm>
              <a:custGeom>
                <a:avLst/>
                <a:gdLst/>
                <a:ahLst/>
                <a:rect l="0" t="0" r="r" b="b"/>
                <a:pathLst>
                  <a:path w="151" h="133">
                    <a:moveTo>
                      <a:pt x="0" y="0"/>
                    </a:moveTo>
                    <a:lnTo>
                      <a:pt x="40" y="69"/>
                    </a:lnTo>
                    <a:lnTo>
                      <a:pt x="75" y="101"/>
                    </a:lnTo>
                    <a:lnTo>
                      <a:pt x="151" y="133"/>
                    </a:lnTo>
                    <a:lnTo>
                      <a:pt x="75" y="101"/>
                    </a:lnTo>
                    <a:lnTo>
                      <a:pt x="40" y="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473880" y="6211800"/>
                <a:ext cx="32040" cy="44640"/>
              </a:xfrm>
              <a:custGeom>
                <a:avLst/>
                <a:gdLst/>
                <a:ahLst/>
                <a:rect l="0" t="0" r="r" b="b"/>
                <a:pathLst>
                  <a:path w="89" h="124">
                    <a:moveTo>
                      <a:pt x="0" y="0"/>
                    </a:moveTo>
                    <a:lnTo>
                      <a:pt x="0" y="61"/>
                    </a:lnTo>
                    <a:lnTo>
                      <a:pt x="58" y="95"/>
                    </a:lnTo>
                    <a:lnTo>
                      <a:pt x="89" y="124"/>
                    </a:lnTo>
                    <a:lnTo>
                      <a:pt x="30" y="95"/>
                    </a:lnTo>
                    <a:lnTo>
                      <a:pt x="0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37160" y="6226200"/>
                <a:ext cx="25920" cy="30600"/>
              </a:xfrm>
              <a:custGeom>
                <a:avLst/>
                <a:gdLst/>
                <a:ahLst/>
                <a:rect l="0" t="0" r="r" b="b"/>
                <a:pathLst>
                  <a:path w="72" h="85">
                    <a:moveTo>
                      <a:pt x="40" y="0"/>
                    </a:moveTo>
                    <a:lnTo>
                      <a:pt x="40" y="55"/>
                    </a:lnTo>
                    <a:lnTo>
                      <a:pt x="72" y="85"/>
                    </a:lnTo>
                    <a:lnTo>
                      <a:pt x="0" y="55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02240" y="6211800"/>
                <a:ext cx="25920" cy="76680"/>
              </a:xfrm>
              <a:custGeom>
                <a:avLst/>
                <a:gdLst/>
                <a:ahLst/>
                <a:rect l="0" t="0" r="r" b="b"/>
                <a:pathLst>
                  <a:path w="72" h="213">
                    <a:moveTo>
                      <a:pt x="72" y="0"/>
                    </a:moveTo>
                    <a:lnTo>
                      <a:pt x="38" y="70"/>
                    </a:lnTo>
                    <a:lnTo>
                      <a:pt x="38" y="177"/>
                    </a:lnTo>
                    <a:lnTo>
                      <a:pt x="38" y="213"/>
                    </a:lnTo>
                    <a:lnTo>
                      <a:pt x="0" y="177"/>
                    </a:lnTo>
                    <a:lnTo>
                      <a:pt x="0" y="106"/>
                    </a:lnTo>
                    <a:lnTo>
                      <a:pt x="38" y="7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5560" bIns="25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935680" y="6129360"/>
                <a:ext cx="33840" cy="127440"/>
              </a:xfrm>
              <a:custGeom>
                <a:avLst/>
                <a:gdLst/>
                <a:ahLst/>
                <a:rect l="0" t="0" r="r" b="b"/>
                <a:pathLst>
                  <a:path w="94" h="354">
                    <a:moveTo>
                      <a:pt x="94" y="0"/>
                    </a:moveTo>
                    <a:lnTo>
                      <a:pt x="94" y="77"/>
                    </a:lnTo>
                    <a:lnTo>
                      <a:pt x="62" y="156"/>
                    </a:lnTo>
                    <a:lnTo>
                      <a:pt x="62" y="276"/>
                    </a:lnTo>
                    <a:lnTo>
                      <a:pt x="0" y="354"/>
                    </a:lnTo>
                    <a:lnTo>
                      <a:pt x="62" y="276"/>
                    </a:lnTo>
                    <a:lnTo>
                      <a:pt x="94" y="197"/>
                    </a:lnTo>
                    <a:lnTo>
                      <a:pt x="94" y="119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69160" y="6129360"/>
                <a:ext cx="36720" cy="127440"/>
              </a:xfrm>
              <a:custGeom>
                <a:avLst/>
                <a:gdLst/>
                <a:ahLst/>
                <a:rect l="0" t="0" r="r" b="b"/>
                <a:pathLst>
                  <a:path w="102" h="354">
                    <a:moveTo>
                      <a:pt x="67" y="0"/>
                    </a:moveTo>
                    <a:lnTo>
                      <a:pt x="67" y="119"/>
                    </a:lnTo>
                    <a:lnTo>
                      <a:pt x="67" y="234"/>
                    </a:lnTo>
                    <a:lnTo>
                      <a:pt x="35" y="276"/>
                    </a:lnTo>
                    <a:lnTo>
                      <a:pt x="0" y="354"/>
                    </a:lnTo>
                    <a:lnTo>
                      <a:pt x="67" y="313"/>
                    </a:lnTo>
                    <a:lnTo>
                      <a:pt x="102" y="197"/>
                    </a:lnTo>
                    <a:lnTo>
                      <a:pt x="102" y="119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005520" y="6211800"/>
                <a:ext cx="25920" cy="63720"/>
              </a:xfrm>
              <a:custGeom>
                <a:avLst/>
                <a:gdLst/>
                <a:ahLst/>
                <a:rect l="0" t="0" r="r" b="b"/>
                <a:pathLst>
                  <a:path w="72" h="177">
                    <a:moveTo>
                      <a:pt x="0" y="177"/>
                    </a:moveTo>
                    <a:lnTo>
                      <a:pt x="36" y="107"/>
                    </a:lnTo>
                    <a:lnTo>
                      <a:pt x="36" y="36"/>
                    </a:lnTo>
                    <a:lnTo>
                      <a:pt x="36" y="0"/>
                    </a:lnTo>
                    <a:lnTo>
                      <a:pt x="72" y="107"/>
                    </a:lnTo>
                    <a:lnTo>
                      <a:pt x="72" y="177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935680" y="6095880"/>
                <a:ext cx="69840" cy="63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423120" y="6111720"/>
                <a:ext cx="63360" cy="66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583240" y="6419880"/>
                <a:ext cx="1286280" cy="437040"/>
              </a:xfrm>
              <a:custGeom>
                <a:avLst/>
                <a:gdLst/>
                <a:ahLst/>
                <a:rect l="0" t="0" r="r" b="b"/>
                <a:pathLst>
                  <a:path w="3573" h="1214">
                    <a:moveTo>
                      <a:pt x="0" y="1214"/>
                    </a:moveTo>
                    <a:lnTo>
                      <a:pt x="13" y="1190"/>
                    </a:lnTo>
                    <a:lnTo>
                      <a:pt x="39" y="1165"/>
                    </a:lnTo>
                    <a:lnTo>
                      <a:pt x="39" y="1140"/>
                    </a:lnTo>
                    <a:lnTo>
                      <a:pt x="39" y="1120"/>
                    </a:lnTo>
                    <a:lnTo>
                      <a:pt x="39" y="1095"/>
                    </a:lnTo>
                    <a:lnTo>
                      <a:pt x="39" y="1071"/>
                    </a:lnTo>
                    <a:lnTo>
                      <a:pt x="39" y="1046"/>
                    </a:lnTo>
                    <a:lnTo>
                      <a:pt x="39" y="1022"/>
                    </a:lnTo>
                    <a:lnTo>
                      <a:pt x="52" y="997"/>
                    </a:lnTo>
                    <a:lnTo>
                      <a:pt x="66" y="972"/>
                    </a:lnTo>
                    <a:lnTo>
                      <a:pt x="66" y="952"/>
                    </a:lnTo>
                    <a:lnTo>
                      <a:pt x="79" y="927"/>
                    </a:lnTo>
                    <a:lnTo>
                      <a:pt x="79" y="902"/>
                    </a:lnTo>
                    <a:lnTo>
                      <a:pt x="79" y="877"/>
                    </a:lnTo>
                    <a:lnTo>
                      <a:pt x="66" y="853"/>
                    </a:lnTo>
                    <a:lnTo>
                      <a:pt x="66" y="828"/>
                    </a:lnTo>
                    <a:lnTo>
                      <a:pt x="79" y="803"/>
                    </a:lnTo>
                    <a:lnTo>
                      <a:pt x="79" y="779"/>
                    </a:lnTo>
                    <a:lnTo>
                      <a:pt x="79" y="758"/>
                    </a:lnTo>
                    <a:lnTo>
                      <a:pt x="79" y="734"/>
                    </a:lnTo>
                    <a:lnTo>
                      <a:pt x="92" y="709"/>
                    </a:lnTo>
                    <a:lnTo>
                      <a:pt x="105" y="685"/>
                    </a:lnTo>
                    <a:lnTo>
                      <a:pt x="119" y="660"/>
                    </a:lnTo>
                    <a:lnTo>
                      <a:pt x="141" y="648"/>
                    </a:lnTo>
                    <a:lnTo>
                      <a:pt x="154" y="623"/>
                    </a:lnTo>
                    <a:lnTo>
                      <a:pt x="180" y="611"/>
                    </a:lnTo>
                    <a:lnTo>
                      <a:pt x="180" y="590"/>
                    </a:lnTo>
                    <a:lnTo>
                      <a:pt x="194" y="566"/>
                    </a:lnTo>
                    <a:lnTo>
                      <a:pt x="207" y="541"/>
                    </a:lnTo>
                    <a:lnTo>
                      <a:pt x="233" y="529"/>
                    </a:lnTo>
                    <a:lnTo>
                      <a:pt x="260" y="517"/>
                    </a:lnTo>
                    <a:lnTo>
                      <a:pt x="273" y="492"/>
                    </a:lnTo>
                    <a:lnTo>
                      <a:pt x="299" y="492"/>
                    </a:lnTo>
                    <a:lnTo>
                      <a:pt x="326" y="480"/>
                    </a:lnTo>
                    <a:lnTo>
                      <a:pt x="352" y="468"/>
                    </a:lnTo>
                    <a:lnTo>
                      <a:pt x="374" y="455"/>
                    </a:lnTo>
                    <a:lnTo>
                      <a:pt x="401" y="443"/>
                    </a:lnTo>
                    <a:lnTo>
                      <a:pt x="440" y="443"/>
                    </a:lnTo>
                    <a:lnTo>
                      <a:pt x="467" y="435"/>
                    </a:lnTo>
                    <a:lnTo>
                      <a:pt x="493" y="435"/>
                    </a:lnTo>
                    <a:lnTo>
                      <a:pt x="520" y="422"/>
                    </a:lnTo>
                    <a:lnTo>
                      <a:pt x="546" y="422"/>
                    </a:lnTo>
                    <a:lnTo>
                      <a:pt x="573" y="422"/>
                    </a:lnTo>
                    <a:lnTo>
                      <a:pt x="595" y="410"/>
                    </a:lnTo>
                    <a:lnTo>
                      <a:pt x="621" y="398"/>
                    </a:lnTo>
                    <a:lnTo>
                      <a:pt x="648" y="386"/>
                    </a:lnTo>
                    <a:lnTo>
                      <a:pt x="674" y="386"/>
                    </a:lnTo>
                    <a:lnTo>
                      <a:pt x="701" y="373"/>
                    </a:lnTo>
                    <a:lnTo>
                      <a:pt x="727" y="373"/>
                    </a:lnTo>
                    <a:lnTo>
                      <a:pt x="754" y="361"/>
                    </a:lnTo>
                    <a:lnTo>
                      <a:pt x="780" y="361"/>
                    </a:lnTo>
                    <a:lnTo>
                      <a:pt x="820" y="349"/>
                    </a:lnTo>
                    <a:lnTo>
                      <a:pt x="842" y="349"/>
                    </a:lnTo>
                    <a:lnTo>
                      <a:pt x="868" y="336"/>
                    </a:lnTo>
                    <a:lnTo>
                      <a:pt x="896" y="336"/>
                    </a:lnTo>
                    <a:lnTo>
                      <a:pt x="935" y="324"/>
                    </a:lnTo>
                    <a:lnTo>
                      <a:pt x="962" y="312"/>
                    </a:lnTo>
                    <a:lnTo>
                      <a:pt x="988" y="312"/>
                    </a:lnTo>
                    <a:lnTo>
                      <a:pt x="1015" y="299"/>
                    </a:lnTo>
                    <a:lnTo>
                      <a:pt x="1041" y="299"/>
                    </a:lnTo>
                    <a:lnTo>
                      <a:pt x="1068" y="286"/>
                    </a:lnTo>
                    <a:lnTo>
                      <a:pt x="1090" y="274"/>
                    </a:lnTo>
                    <a:lnTo>
                      <a:pt x="1116" y="262"/>
                    </a:lnTo>
                    <a:lnTo>
                      <a:pt x="1143" y="254"/>
                    </a:lnTo>
                    <a:lnTo>
                      <a:pt x="1169" y="241"/>
                    </a:lnTo>
                    <a:lnTo>
                      <a:pt x="1182" y="217"/>
                    </a:lnTo>
                    <a:lnTo>
                      <a:pt x="1209" y="204"/>
                    </a:lnTo>
                    <a:lnTo>
                      <a:pt x="1235" y="192"/>
                    </a:lnTo>
                    <a:lnTo>
                      <a:pt x="1248" y="167"/>
                    </a:lnTo>
                    <a:lnTo>
                      <a:pt x="1275" y="155"/>
                    </a:lnTo>
                    <a:lnTo>
                      <a:pt x="1288" y="131"/>
                    </a:lnTo>
                    <a:lnTo>
                      <a:pt x="1310" y="118"/>
                    </a:lnTo>
                    <a:lnTo>
                      <a:pt x="1323" y="94"/>
                    </a:lnTo>
                    <a:lnTo>
                      <a:pt x="1337" y="73"/>
                    </a:lnTo>
                    <a:lnTo>
                      <a:pt x="1363" y="61"/>
                    </a:lnTo>
                    <a:lnTo>
                      <a:pt x="1376" y="36"/>
                    </a:lnTo>
                    <a:lnTo>
                      <a:pt x="1403" y="36"/>
                    </a:lnTo>
                    <a:lnTo>
                      <a:pt x="2091" y="0"/>
                    </a:lnTo>
                    <a:lnTo>
                      <a:pt x="2117" y="12"/>
                    </a:lnTo>
                    <a:lnTo>
                      <a:pt x="2144" y="12"/>
                    </a:lnTo>
                    <a:lnTo>
                      <a:pt x="2170" y="24"/>
                    </a:lnTo>
                    <a:lnTo>
                      <a:pt x="2197" y="36"/>
                    </a:lnTo>
                    <a:lnTo>
                      <a:pt x="2223" y="61"/>
                    </a:lnTo>
                    <a:lnTo>
                      <a:pt x="2236" y="86"/>
                    </a:lnTo>
                    <a:lnTo>
                      <a:pt x="2263" y="94"/>
                    </a:lnTo>
                    <a:lnTo>
                      <a:pt x="2272" y="118"/>
                    </a:lnTo>
                    <a:lnTo>
                      <a:pt x="2298" y="131"/>
                    </a:lnTo>
                    <a:lnTo>
                      <a:pt x="2311" y="155"/>
                    </a:lnTo>
                    <a:lnTo>
                      <a:pt x="2338" y="167"/>
                    </a:lnTo>
                    <a:lnTo>
                      <a:pt x="2364" y="192"/>
                    </a:lnTo>
                    <a:lnTo>
                      <a:pt x="2391" y="192"/>
                    </a:lnTo>
                    <a:lnTo>
                      <a:pt x="2404" y="217"/>
                    </a:lnTo>
                    <a:lnTo>
                      <a:pt x="2430" y="217"/>
                    </a:lnTo>
                    <a:lnTo>
                      <a:pt x="2470" y="241"/>
                    </a:lnTo>
                    <a:lnTo>
                      <a:pt x="2496" y="254"/>
                    </a:lnTo>
                    <a:lnTo>
                      <a:pt x="2518" y="262"/>
                    </a:lnTo>
                    <a:lnTo>
                      <a:pt x="2545" y="262"/>
                    </a:lnTo>
                    <a:lnTo>
                      <a:pt x="2571" y="262"/>
                    </a:lnTo>
                    <a:lnTo>
                      <a:pt x="2598" y="274"/>
                    </a:lnTo>
                    <a:lnTo>
                      <a:pt x="2624" y="286"/>
                    </a:lnTo>
                    <a:lnTo>
                      <a:pt x="2651" y="299"/>
                    </a:lnTo>
                    <a:lnTo>
                      <a:pt x="2677" y="312"/>
                    </a:lnTo>
                    <a:lnTo>
                      <a:pt x="2705" y="312"/>
                    </a:lnTo>
                    <a:lnTo>
                      <a:pt x="2731" y="324"/>
                    </a:lnTo>
                    <a:lnTo>
                      <a:pt x="2753" y="336"/>
                    </a:lnTo>
                    <a:lnTo>
                      <a:pt x="2780" y="336"/>
                    </a:lnTo>
                    <a:lnTo>
                      <a:pt x="2833" y="349"/>
                    </a:lnTo>
                    <a:lnTo>
                      <a:pt x="2872" y="361"/>
                    </a:lnTo>
                    <a:lnTo>
                      <a:pt x="2912" y="373"/>
                    </a:lnTo>
                    <a:lnTo>
                      <a:pt x="2938" y="373"/>
                    </a:lnTo>
                    <a:lnTo>
                      <a:pt x="2965" y="373"/>
                    </a:lnTo>
                    <a:lnTo>
                      <a:pt x="2987" y="373"/>
                    </a:lnTo>
                    <a:lnTo>
                      <a:pt x="3013" y="373"/>
                    </a:lnTo>
                    <a:lnTo>
                      <a:pt x="3066" y="386"/>
                    </a:lnTo>
                    <a:lnTo>
                      <a:pt x="3093" y="386"/>
                    </a:lnTo>
                    <a:lnTo>
                      <a:pt x="3132" y="398"/>
                    </a:lnTo>
                    <a:lnTo>
                      <a:pt x="3159" y="398"/>
                    </a:lnTo>
                    <a:lnTo>
                      <a:pt x="3185" y="386"/>
                    </a:lnTo>
                    <a:lnTo>
                      <a:pt x="3221" y="386"/>
                    </a:lnTo>
                    <a:lnTo>
                      <a:pt x="3260" y="386"/>
                    </a:lnTo>
                    <a:lnTo>
                      <a:pt x="3287" y="398"/>
                    </a:lnTo>
                    <a:lnTo>
                      <a:pt x="3313" y="410"/>
                    </a:lnTo>
                    <a:lnTo>
                      <a:pt x="3340" y="410"/>
                    </a:lnTo>
                    <a:lnTo>
                      <a:pt x="3353" y="435"/>
                    </a:lnTo>
                    <a:lnTo>
                      <a:pt x="3366" y="455"/>
                    </a:lnTo>
                    <a:lnTo>
                      <a:pt x="3379" y="480"/>
                    </a:lnTo>
                    <a:lnTo>
                      <a:pt x="3406" y="492"/>
                    </a:lnTo>
                    <a:lnTo>
                      <a:pt x="3406" y="517"/>
                    </a:lnTo>
                    <a:lnTo>
                      <a:pt x="3432" y="541"/>
                    </a:lnTo>
                    <a:lnTo>
                      <a:pt x="3445" y="566"/>
                    </a:lnTo>
                    <a:lnTo>
                      <a:pt x="3445" y="590"/>
                    </a:lnTo>
                    <a:lnTo>
                      <a:pt x="3454" y="611"/>
                    </a:lnTo>
                    <a:lnTo>
                      <a:pt x="3454" y="648"/>
                    </a:lnTo>
                    <a:lnTo>
                      <a:pt x="3468" y="672"/>
                    </a:lnTo>
                    <a:lnTo>
                      <a:pt x="3468" y="709"/>
                    </a:lnTo>
                    <a:lnTo>
                      <a:pt x="3468" y="734"/>
                    </a:lnTo>
                    <a:lnTo>
                      <a:pt x="3468" y="771"/>
                    </a:lnTo>
                    <a:lnTo>
                      <a:pt x="3468" y="791"/>
                    </a:lnTo>
                    <a:lnTo>
                      <a:pt x="3481" y="816"/>
                    </a:lnTo>
                    <a:lnTo>
                      <a:pt x="3481" y="840"/>
                    </a:lnTo>
                    <a:lnTo>
                      <a:pt x="3481" y="865"/>
                    </a:lnTo>
                    <a:lnTo>
                      <a:pt x="3481" y="890"/>
                    </a:lnTo>
                    <a:lnTo>
                      <a:pt x="3494" y="915"/>
                    </a:lnTo>
                    <a:lnTo>
                      <a:pt x="3494" y="940"/>
                    </a:lnTo>
                    <a:lnTo>
                      <a:pt x="3507" y="960"/>
                    </a:lnTo>
                    <a:lnTo>
                      <a:pt x="3520" y="985"/>
                    </a:lnTo>
                    <a:lnTo>
                      <a:pt x="3520" y="1034"/>
                    </a:lnTo>
                    <a:lnTo>
                      <a:pt x="3534" y="1071"/>
                    </a:lnTo>
                    <a:lnTo>
                      <a:pt x="3547" y="1095"/>
                    </a:lnTo>
                    <a:lnTo>
                      <a:pt x="3560" y="1120"/>
                    </a:lnTo>
                    <a:lnTo>
                      <a:pt x="3573" y="1214"/>
                    </a:lnTo>
                    <a:lnTo>
                      <a:pt x="0" y="121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926400" y="5645160"/>
              <a:ext cx="810000" cy="1189440"/>
              <a:chOff x="6926400" y="5645160"/>
              <a:chExt cx="810000" cy="1189440"/>
            </a:xfrm>
          </p:grpSpPr>
          <p:sp>
            <p:nvSpPr>
              <p:cNvPr id="397" name=""/>
              <p:cNvSpPr/>
              <p:nvPr/>
            </p:nvSpPr>
            <p:spPr>
              <a:xfrm>
                <a:off x="6945480" y="5662440"/>
                <a:ext cx="748080" cy="1172160"/>
              </a:xfrm>
              <a:custGeom>
                <a:avLst/>
                <a:gdLst/>
                <a:ahLst/>
                <a:rect l="0" t="0" r="r" b="b"/>
                <a:pathLst>
                  <a:path w="2078" h="3256">
                    <a:moveTo>
                      <a:pt x="61" y="1226"/>
                    </a:moveTo>
                    <a:lnTo>
                      <a:pt x="74" y="1353"/>
                    </a:lnTo>
                    <a:lnTo>
                      <a:pt x="0" y="1353"/>
                    </a:lnTo>
                    <a:lnTo>
                      <a:pt x="0" y="1492"/>
                    </a:lnTo>
                    <a:lnTo>
                      <a:pt x="44" y="1550"/>
                    </a:lnTo>
                    <a:lnTo>
                      <a:pt x="74" y="1632"/>
                    </a:lnTo>
                    <a:lnTo>
                      <a:pt x="74" y="1693"/>
                    </a:lnTo>
                    <a:lnTo>
                      <a:pt x="119" y="1792"/>
                    </a:lnTo>
                    <a:lnTo>
                      <a:pt x="141" y="1833"/>
                    </a:lnTo>
                    <a:lnTo>
                      <a:pt x="194" y="1820"/>
                    </a:lnTo>
                    <a:lnTo>
                      <a:pt x="211" y="1804"/>
                    </a:lnTo>
                    <a:lnTo>
                      <a:pt x="246" y="1882"/>
                    </a:lnTo>
                    <a:lnTo>
                      <a:pt x="255" y="2062"/>
                    </a:lnTo>
                    <a:lnTo>
                      <a:pt x="268" y="2111"/>
                    </a:lnTo>
                    <a:lnTo>
                      <a:pt x="291" y="2169"/>
                    </a:lnTo>
                    <a:lnTo>
                      <a:pt x="383" y="2279"/>
                    </a:lnTo>
                    <a:lnTo>
                      <a:pt x="427" y="2361"/>
                    </a:lnTo>
                    <a:lnTo>
                      <a:pt x="449" y="2510"/>
                    </a:lnTo>
                    <a:lnTo>
                      <a:pt x="515" y="2735"/>
                    </a:lnTo>
                    <a:lnTo>
                      <a:pt x="556" y="2809"/>
                    </a:lnTo>
                    <a:lnTo>
                      <a:pt x="587" y="2858"/>
                    </a:lnTo>
                    <a:lnTo>
                      <a:pt x="653" y="2899"/>
                    </a:lnTo>
                    <a:lnTo>
                      <a:pt x="816" y="2965"/>
                    </a:lnTo>
                    <a:lnTo>
                      <a:pt x="1041" y="3084"/>
                    </a:lnTo>
                    <a:lnTo>
                      <a:pt x="1156" y="3256"/>
                    </a:lnTo>
                    <a:lnTo>
                      <a:pt x="1288" y="3067"/>
                    </a:lnTo>
                    <a:lnTo>
                      <a:pt x="1509" y="2875"/>
                    </a:lnTo>
                    <a:lnTo>
                      <a:pt x="1704" y="2678"/>
                    </a:lnTo>
                    <a:lnTo>
                      <a:pt x="1704" y="2386"/>
                    </a:lnTo>
                    <a:lnTo>
                      <a:pt x="1867" y="2218"/>
                    </a:lnTo>
                    <a:lnTo>
                      <a:pt x="1884" y="2161"/>
                    </a:lnTo>
                    <a:lnTo>
                      <a:pt x="1907" y="2091"/>
                    </a:lnTo>
                    <a:lnTo>
                      <a:pt x="1920" y="2001"/>
                    </a:lnTo>
                    <a:lnTo>
                      <a:pt x="1937" y="1804"/>
                    </a:lnTo>
                    <a:lnTo>
                      <a:pt x="1990" y="1820"/>
                    </a:lnTo>
                    <a:lnTo>
                      <a:pt x="2026" y="1792"/>
                    </a:lnTo>
                    <a:lnTo>
                      <a:pt x="2026" y="1763"/>
                    </a:lnTo>
                    <a:lnTo>
                      <a:pt x="2034" y="1640"/>
                    </a:lnTo>
                    <a:lnTo>
                      <a:pt x="2043" y="1583"/>
                    </a:lnTo>
                    <a:lnTo>
                      <a:pt x="2078" y="1423"/>
                    </a:lnTo>
                    <a:lnTo>
                      <a:pt x="2043" y="1353"/>
                    </a:lnTo>
                    <a:lnTo>
                      <a:pt x="2017" y="1324"/>
                    </a:lnTo>
                    <a:lnTo>
                      <a:pt x="1990" y="1316"/>
                    </a:lnTo>
                    <a:lnTo>
                      <a:pt x="2026" y="1165"/>
                    </a:lnTo>
                    <a:lnTo>
                      <a:pt x="2034" y="1046"/>
                    </a:lnTo>
                    <a:lnTo>
                      <a:pt x="2056" y="927"/>
                    </a:lnTo>
                    <a:lnTo>
                      <a:pt x="2078" y="803"/>
                    </a:lnTo>
                    <a:lnTo>
                      <a:pt x="2070" y="676"/>
                    </a:lnTo>
                    <a:lnTo>
                      <a:pt x="2034" y="545"/>
                    </a:lnTo>
                    <a:lnTo>
                      <a:pt x="1990" y="430"/>
                    </a:lnTo>
                    <a:lnTo>
                      <a:pt x="1937" y="348"/>
                    </a:lnTo>
                    <a:lnTo>
                      <a:pt x="1809" y="237"/>
                    </a:lnTo>
                    <a:lnTo>
                      <a:pt x="1673" y="147"/>
                    </a:lnTo>
                    <a:lnTo>
                      <a:pt x="1456" y="57"/>
                    </a:lnTo>
                    <a:lnTo>
                      <a:pt x="1231" y="20"/>
                    </a:lnTo>
                    <a:lnTo>
                      <a:pt x="1041" y="0"/>
                    </a:lnTo>
                    <a:lnTo>
                      <a:pt x="878" y="8"/>
                    </a:lnTo>
                    <a:lnTo>
                      <a:pt x="697" y="40"/>
                    </a:lnTo>
                    <a:lnTo>
                      <a:pt x="471" y="139"/>
                    </a:lnTo>
                    <a:lnTo>
                      <a:pt x="321" y="229"/>
                    </a:lnTo>
                    <a:lnTo>
                      <a:pt x="194" y="356"/>
                    </a:lnTo>
                    <a:lnTo>
                      <a:pt x="119" y="487"/>
                    </a:lnTo>
                    <a:lnTo>
                      <a:pt x="88" y="598"/>
                    </a:lnTo>
                    <a:lnTo>
                      <a:pt x="52" y="786"/>
                    </a:lnTo>
                    <a:lnTo>
                      <a:pt x="52" y="947"/>
                    </a:lnTo>
                    <a:lnTo>
                      <a:pt x="61" y="1226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6926400" y="5645160"/>
                <a:ext cx="810000" cy="938520"/>
                <a:chOff x="6926400" y="5645160"/>
                <a:chExt cx="810000" cy="93852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388280" y="6049800"/>
                  <a:ext cx="198720" cy="32040"/>
                </a:xfrm>
                <a:custGeom>
                  <a:avLst/>
                  <a:gdLst/>
                  <a:ahLst/>
                  <a:rect l="0" t="0" r="r" b="b"/>
                  <a:pathLst>
                    <a:path w="552" h="89">
                      <a:moveTo>
                        <a:pt x="17" y="12"/>
                      </a:moveTo>
                      <a:lnTo>
                        <a:pt x="145" y="8"/>
                      </a:lnTo>
                      <a:lnTo>
                        <a:pt x="194" y="0"/>
                      </a:lnTo>
                      <a:lnTo>
                        <a:pt x="246" y="0"/>
                      </a:lnTo>
                      <a:lnTo>
                        <a:pt x="367" y="29"/>
                      </a:lnTo>
                      <a:lnTo>
                        <a:pt x="552" y="89"/>
                      </a:lnTo>
                      <a:lnTo>
                        <a:pt x="490" y="80"/>
                      </a:lnTo>
                      <a:lnTo>
                        <a:pt x="428" y="51"/>
                      </a:lnTo>
                      <a:lnTo>
                        <a:pt x="375" y="47"/>
                      </a:lnTo>
                      <a:lnTo>
                        <a:pt x="340" y="37"/>
                      </a:lnTo>
                      <a:lnTo>
                        <a:pt x="305" y="29"/>
                      </a:lnTo>
                      <a:lnTo>
                        <a:pt x="255" y="29"/>
                      </a:lnTo>
                      <a:lnTo>
                        <a:pt x="211" y="29"/>
                      </a:lnTo>
                      <a:lnTo>
                        <a:pt x="185" y="29"/>
                      </a:lnTo>
                      <a:lnTo>
                        <a:pt x="145" y="37"/>
                      </a:lnTo>
                      <a:lnTo>
                        <a:pt x="39" y="51"/>
                      </a:lnTo>
                      <a:lnTo>
                        <a:pt x="8" y="47"/>
                      </a:lnTo>
                      <a:lnTo>
                        <a:pt x="0" y="37"/>
                      </a:lnTo>
                      <a:lnTo>
                        <a:pt x="8" y="29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926400" y="5645160"/>
                  <a:ext cx="810000" cy="530640"/>
                </a:xfrm>
                <a:custGeom>
                  <a:avLst/>
                  <a:gdLst/>
                  <a:ahLst/>
                  <a:rect l="0" t="0" r="r" b="b"/>
                  <a:pathLst>
                    <a:path w="2250" h="1474">
                      <a:moveTo>
                        <a:pt x="52" y="1474"/>
                      </a:moveTo>
                      <a:lnTo>
                        <a:pt x="44" y="1397"/>
                      </a:lnTo>
                      <a:lnTo>
                        <a:pt x="44" y="1253"/>
                      </a:lnTo>
                      <a:lnTo>
                        <a:pt x="30" y="1135"/>
                      </a:lnTo>
                      <a:lnTo>
                        <a:pt x="8" y="999"/>
                      </a:lnTo>
                      <a:lnTo>
                        <a:pt x="0" y="901"/>
                      </a:lnTo>
                      <a:lnTo>
                        <a:pt x="0" y="802"/>
                      </a:lnTo>
                      <a:lnTo>
                        <a:pt x="0" y="655"/>
                      </a:lnTo>
                      <a:lnTo>
                        <a:pt x="8" y="586"/>
                      </a:lnTo>
                      <a:lnTo>
                        <a:pt x="17" y="520"/>
                      </a:lnTo>
                      <a:lnTo>
                        <a:pt x="30" y="479"/>
                      </a:lnTo>
                      <a:lnTo>
                        <a:pt x="44" y="451"/>
                      </a:lnTo>
                      <a:lnTo>
                        <a:pt x="61" y="414"/>
                      </a:lnTo>
                      <a:lnTo>
                        <a:pt x="83" y="381"/>
                      </a:lnTo>
                      <a:lnTo>
                        <a:pt x="105" y="351"/>
                      </a:lnTo>
                      <a:lnTo>
                        <a:pt x="149" y="315"/>
                      </a:lnTo>
                      <a:lnTo>
                        <a:pt x="180" y="282"/>
                      </a:lnTo>
                      <a:lnTo>
                        <a:pt x="233" y="245"/>
                      </a:lnTo>
                      <a:lnTo>
                        <a:pt x="295" y="204"/>
                      </a:lnTo>
                      <a:lnTo>
                        <a:pt x="348" y="167"/>
                      </a:lnTo>
                      <a:lnTo>
                        <a:pt x="432" y="139"/>
                      </a:lnTo>
                      <a:lnTo>
                        <a:pt x="551" y="90"/>
                      </a:lnTo>
                      <a:lnTo>
                        <a:pt x="631" y="57"/>
                      </a:lnTo>
                      <a:lnTo>
                        <a:pt x="728" y="40"/>
                      </a:lnTo>
                      <a:lnTo>
                        <a:pt x="825" y="20"/>
                      </a:lnTo>
                      <a:lnTo>
                        <a:pt x="887" y="8"/>
                      </a:lnTo>
                      <a:lnTo>
                        <a:pt x="962" y="0"/>
                      </a:lnTo>
                      <a:lnTo>
                        <a:pt x="1032" y="0"/>
                      </a:lnTo>
                      <a:lnTo>
                        <a:pt x="1121" y="0"/>
                      </a:lnTo>
                      <a:lnTo>
                        <a:pt x="1257" y="0"/>
                      </a:lnTo>
                      <a:lnTo>
                        <a:pt x="1385" y="8"/>
                      </a:lnTo>
                      <a:lnTo>
                        <a:pt x="1513" y="28"/>
                      </a:lnTo>
                      <a:lnTo>
                        <a:pt x="1566" y="49"/>
                      </a:lnTo>
                      <a:lnTo>
                        <a:pt x="1628" y="69"/>
                      </a:lnTo>
                      <a:lnTo>
                        <a:pt x="1699" y="90"/>
                      </a:lnTo>
                      <a:lnTo>
                        <a:pt x="1752" y="118"/>
                      </a:lnTo>
                      <a:lnTo>
                        <a:pt x="1805" y="155"/>
                      </a:lnTo>
                      <a:lnTo>
                        <a:pt x="1871" y="204"/>
                      </a:lnTo>
                      <a:lnTo>
                        <a:pt x="1902" y="253"/>
                      </a:lnTo>
                      <a:lnTo>
                        <a:pt x="1933" y="323"/>
                      </a:lnTo>
                      <a:lnTo>
                        <a:pt x="2048" y="381"/>
                      </a:lnTo>
                      <a:lnTo>
                        <a:pt x="2083" y="414"/>
                      </a:lnTo>
                      <a:lnTo>
                        <a:pt x="2145" y="463"/>
                      </a:lnTo>
                      <a:lnTo>
                        <a:pt x="2189" y="557"/>
                      </a:lnTo>
                      <a:lnTo>
                        <a:pt x="2198" y="626"/>
                      </a:lnTo>
                      <a:lnTo>
                        <a:pt x="2220" y="725"/>
                      </a:lnTo>
                      <a:lnTo>
                        <a:pt x="2242" y="888"/>
                      </a:lnTo>
                      <a:lnTo>
                        <a:pt x="2250" y="986"/>
                      </a:lnTo>
                      <a:lnTo>
                        <a:pt x="2242" y="1097"/>
                      </a:lnTo>
                      <a:lnTo>
                        <a:pt x="2233" y="1163"/>
                      </a:lnTo>
                      <a:lnTo>
                        <a:pt x="2220" y="1221"/>
                      </a:lnTo>
                      <a:lnTo>
                        <a:pt x="2198" y="1262"/>
                      </a:lnTo>
                      <a:lnTo>
                        <a:pt x="2153" y="1311"/>
                      </a:lnTo>
                      <a:lnTo>
                        <a:pt x="2083" y="1376"/>
                      </a:lnTo>
                      <a:lnTo>
                        <a:pt x="2048" y="1348"/>
                      </a:lnTo>
                      <a:lnTo>
                        <a:pt x="2017" y="1360"/>
                      </a:lnTo>
                      <a:lnTo>
                        <a:pt x="2008" y="1397"/>
                      </a:lnTo>
                      <a:lnTo>
                        <a:pt x="1999" y="1409"/>
                      </a:lnTo>
                      <a:lnTo>
                        <a:pt x="2030" y="1229"/>
                      </a:lnTo>
                      <a:lnTo>
                        <a:pt x="2048" y="1123"/>
                      </a:lnTo>
                      <a:lnTo>
                        <a:pt x="2048" y="1023"/>
                      </a:lnTo>
                      <a:lnTo>
                        <a:pt x="2092" y="888"/>
                      </a:lnTo>
                      <a:lnTo>
                        <a:pt x="2083" y="725"/>
                      </a:lnTo>
                      <a:lnTo>
                        <a:pt x="2061" y="655"/>
                      </a:lnTo>
                      <a:lnTo>
                        <a:pt x="2017" y="594"/>
                      </a:lnTo>
                      <a:lnTo>
                        <a:pt x="1986" y="536"/>
                      </a:lnTo>
                      <a:lnTo>
                        <a:pt x="1964" y="496"/>
                      </a:lnTo>
                      <a:lnTo>
                        <a:pt x="1946" y="463"/>
                      </a:lnTo>
                      <a:lnTo>
                        <a:pt x="1933" y="430"/>
                      </a:lnTo>
                      <a:lnTo>
                        <a:pt x="1924" y="381"/>
                      </a:lnTo>
                      <a:lnTo>
                        <a:pt x="1902" y="381"/>
                      </a:lnTo>
                      <a:lnTo>
                        <a:pt x="1858" y="331"/>
                      </a:lnTo>
                      <a:lnTo>
                        <a:pt x="1805" y="331"/>
                      </a:lnTo>
                      <a:lnTo>
                        <a:pt x="1752" y="339"/>
                      </a:lnTo>
                      <a:lnTo>
                        <a:pt x="1699" y="339"/>
                      </a:lnTo>
                      <a:lnTo>
                        <a:pt x="1645" y="364"/>
                      </a:lnTo>
                      <a:lnTo>
                        <a:pt x="1606" y="373"/>
                      </a:lnTo>
                      <a:lnTo>
                        <a:pt x="1553" y="389"/>
                      </a:lnTo>
                      <a:lnTo>
                        <a:pt x="1500" y="414"/>
                      </a:lnTo>
                      <a:lnTo>
                        <a:pt x="1447" y="438"/>
                      </a:lnTo>
                      <a:lnTo>
                        <a:pt x="1394" y="479"/>
                      </a:lnTo>
                      <a:lnTo>
                        <a:pt x="1341" y="508"/>
                      </a:lnTo>
                      <a:lnTo>
                        <a:pt x="1279" y="545"/>
                      </a:lnTo>
                      <a:lnTo>
                        <a:pt x="1204" y="577"/>
                      </a:lnTo>
                      <a:lnTo>
                        <a:pt x="1173" y="577"/>
                      </a:lnTo>
                      <a:lnTo>
                        <a:pt x="1129" y="586"/>
                      </a:lnTo>
                      <a:lnTo>
                        <a:pt x="1085" y="594"/>
                      </a:lnTo>
                      <a:lnTo>
                        <a:pt x="1032" y="606"/>
                      </a:lnTo>
                      <a:lnTo>
                        <a:pt x="962" y="618"/>
                      </a:lnTo>
                      <a:lnTo>
                        <a:pt x="900" y="626"/>
                      </a:lnTo>
                      <a:lnTo>
                        <a:pt x="847" y="626"/>
                      </a:lnTo>
                      <a:lnTo>
                        <a:pt x="781" y="618"/>
                      </a:lnTo>
                      <a:lnTo>
                        <a:pt x="772" y="606"/>
                      </a:lnTo>
                      <a:lnTo>
                        <a:pt x="684" y="577"/>
                      </a:lnTo>
                      <a:lnTo>
                        <a:pt x="605" y="536"/>
                      </a:lnTo>
                      <a:lnTo>
                        <a:pt x="537" y="496"/>
                      </a:lnTo>
                      <a:lnTo>
                        <a:pt x="454" y="463"/>
                      </a:lnTo>
                      <a:lnTo>
                        <a:pt x="401" y="471"/>
                      </a:lnTo>
                      <a:lnTo>
                        <a:pt x="392" y="471"/>
                      </a:lnTo>
                      <a:lnTo>
                        <a:pt x="370" y="496"/>
                      </a:lnTo>
                      <a:lnTo>
                        <a:pt x="339" y="545"/>
                      </a:lnTo>
                      <a:lnTo>
                        <a:pt x="326" y="618"/>
                      </a:lnTo>
                      <a:lnTo>
                        <a:pt x="295" y="684"/>
                      </a:lnTo>
                      <a:lnTo>
                        <a:pt x="273" y="774"/>
                      </a:lnTo>
                      <a:lnTo>
                        <a:pt x="251" y="790"/>
                      </a:lnTo>
                      <a:lnTo>
                        <a:pt x="211" y="851"/>
                      </a:lnTo>
                      <a:lnTo>
                        <a:pt x="202" y="958"/>
                      </a:lnTo>
                      <a:lnTo>
                        <a:pt x="202" y="1056"/>
                      </a:lnTo>
                      <a:lnTo>
                        <a:pt x="202" y="1147"/>
                      </a:lnTo>
                      <a:lnTo>
                        <a:pt x="211" y="1192"/>
                      </a:lnTo>
                      <a:lnTo>
                        <a:pt x="220" y="1270"/>
                      </a:lnTo>
                      <a:lnTo>
                        <a:pt x="211" y="1311"/>
                      </a:lnTo>
                      <a:lnTo>
                        <a:pt x="189" y="1348"/>
                      </a:lnTo>
                      <a:lnTo>
                        <a:pt x="114" y="1388"/>
                      </a:lnTo>
                      <a:lnTo>
                        <a:pt x="97" y="1397"/>
                      </a:lnTo>
                      <a:lnTo>
                        <a:pt x="83" y="1425"/>
                      </a:lnTo>
                      <a:lnTo>
                        <a:pt x="52" y="14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042320" y="6039000"/>
                  <a:ext cx="197280" cy="25920"/>
                </a:xfrm>
                <a:custGeom>
                  <a:avLst/>
                  <a:gdLst/>
                  <a:ahLst/>
                  <a:rect l="0" t="0" r="r" b="b"/>
                  <a:pathLst>
                    <a:path w="548" h="72">
                      <a:moveTo>
                        <a:pt x="0" y="72"/>
                      </a:moveTo>
                      <a:lnTo>
                        <a:pt x="70" y="45"/>
                      </a:lnTo>
                      <a:lnTo>
                        <a:pt x="132" y="27"/>
                      </a:lnTo>
                      <a:lnTo>
                        <a:pt x="203" y="8"/>
                      </a:lnTo>
                      <a:lnTo>
                        <a:pt x="252" y="0"/>
                      </a:lnTo>
                      <a:lnTo>
                        <a:pt x="296" y="0"/>
                      </a:lnTo>
                      <a:lnTo>
                        <a:pt x="344" y="8"/>
                      </a:lnTo>
                      <a:lnTo>
                        <a:pt x="406" y="17"/>
                      </a:lnTo>
                      <a:lnTo>
                        <a:pt x="447" y="27"/>
                      </a:lnTo>
                      <a:lnTo>
                        <a:pt x="500" y="31"/>
                      </a:lnTo>
                      <a:lnTo>
                        <a:pt x="539" y="40"/>
                      </a:lnTo>
                      <a:lnTo>
                        <a:pt x="548" y="45"/>
                      </a:lnTo>
                      <a:lnTo>
                        <a:pt x="539" y="63"/>
                      </a:lnTo>
                      <a:lnTo>
                        <a:pt x="522" y="63"/>
                      </a:lnTo>
                      <a:lnTo>
                        <a:pt x="447" y="59"/>
                      </a:lnTo>
                      <a:lnTo>
                        <a:pt x="344" y="45"/>
                      </a:lnTo>
                      <a:lnTo>
                        <a:pt x="305" y="40"/>
                      </a:lnTo>
                      <a:lnTo>
                        <a:pt x="274" y="31"/>
                      </a:lnTo>
                      <a:lnTo>
                        <a:pt x="234" y="31"/>
                      </a:lnTo>
                      <a:lnTo>
                        <a:pt x="172" y="40"/>
                      </a:lnTo>
                      <a:lnTo>
                        <a:pt x="110" y="59"/>
                      </a:lnTo>
                      <a:lnTo>
                        <a:pt x="70" y="63"/>
                      </a:lnTo>
                      <a:lnTo>
                        <a:pt x="39" y="72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7093080" y="6259680"/>
                  <a:ext cx="376560" cy="324000"/>
                  <a:chOff x="7093080" y="6259680"/>
                  <a:chExt cx="376560" cy="324000"/>
                </a:xfrm>
              </p:grpSpPr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7192800" y="6259680"/>
                    <a:ext cx="259200" cy="187560"/>
                    <a:chOff x="7192800" y="6259680"/>
                    <a:chExt cx="259200" cy="187560"/>
                  </a:xfrm>
                </p:grpSpPr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229520" y="6259680"/>
                      <a:ext cx="197280" cy="76320"/>
                      <a:chOff x="7229520" y="6259680"/>
                      <a:chExt cx="197280" cy="76320"/>
                    </a:xfrm>
                  </p:grpSpPr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7229520" y="6264360"/>
                        <a:ext cx="16380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55" h="199">
                            <a:moveTo>
                              <a:pt x="35" y="0"/>
                            </a:moveTo>
                            <a:lnTo>
                              <a:pt x="13" y="33"/>
                            </a:lnTo>
                            <a:lnTo>
                              <a:pt x="0" y="49"/>
                            </a:lnTo>
                            <a:lnTo>
                              <a:pt x="0" y="82"/>
                            </a:lnTo>
                            <a:lnTo>
                              <a:pt x="13" y="99"/>
                            </a:lnTo>
                            <a:lnTo>
                              <a:pt x="35" y="120"/>
                            </a:lnTo>
                            <a:lnTo>
                              <a:pt x="66" y="133"/>
                            </a:lnTo>
                            <a:lnTo>
                              <a:pt x="97" y="133"/>
                            </a:lnTo>
                            <a:lnTo>
                              <a:pt x="132" y="141"/>
                            </a:lnTo>
                            <a:lnTo>
                              <a:pt x="176" y="170"/>
                            </a:lnTo>
                            <a:lnTo>
                              <a:pt x="207" y="191"/>
                            </a:lnTo>
                            <a:lnTo>
                              <a:pt x="247" y="199"/>
                            </a:lnTo>
                            <a:lnTo>
                              <a:pt x="292" y="199"/>
                            </a:lnTo>
                            <a:lnTo>
                              <a:pt x="349" y="191"/>
                            </a:lnTo>
                            <a:lnTo>
                              <a:pt x="367" y="170"/>
                            </a:lnTo>
                            <a:lnTo>
                              <a:pt x="402" y="149"/>
                            </a:lnTo>
                            <a:lnTo>
                              <a:pt x="411" y="133"/>
                            </a:lnTo>
                            <a:lnTo>
                              <a:pt x="455" y="133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7400880" y="6259680"/>
                        <a:ext cx="259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94">
                            <a:moveTo>
                              <a:pt x="0" y="0"/>
                            </a:moveTo>
                            <a:lnTo>
                              <a:pt x="48" y="30"/>
                            </a:lnTo>
                            <a:lnTo>
                              <a:pt x="72" y="51"/>
                            </a:lnTo>
                            <a:lnTo>
                              <a:pt x="72" y="81"/>
                            </a:lnTo>
                            <a:lnTo>
                              <a:pt x="48" y="9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7192800" y="6350040"/>
                      <a:ext cx="259200" cy="97200"/>
                      <a:chOff x="7192800" y="6350040"/>
                      <a:chExt cx="259200" cy="97200"/>
                    </a:xfrm>
                  </p:grpSpPr>
                  <p:grpSp>
                    <p:nvGrpSpPr>
                      <p:cNvPr id="408" name=""/>
                      <p:cNvGrpSpPr/>
                      <p:nvPr/>
                    </p:nvGrpSpPr>
                    <p:grpSpPr>
                      <a:xfrm>
                        <a:off x="7192800" y="6350040"/>
                        <a:ext cx="259200" cy="56160"/>
                        <a:chOff x="7192800" y="6350040"/>
                        <a:chExt cx="259200" cy="56160"/>
                      </a:xfrm>
                    </p:grpSpPr>
                    <p:sp>
                      <p:nvSpPr>
                        <p:cNvPr id="409" name=""/>
                        <p:cNvSpPr/>
                        <p:nvPr/>
                      </p:nvSpPr>
                      <p:spPr>
                        <a:xfrm>
                          <a:off x="7192800" y="6350040"/>
                          <a:ext cx="259200" cy="43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720" h="120">
                              <a:moveTo>
                                <a:pt x="52" y="49"/>
                              </a:moveTo>
                              <a:lnTo>
                                <a:pt x="0" y="0"/>
                              </a:lnTo>
                              <a:lnTo>
                                <a:pt x="35" y="8"/>
                              </a:lnTo>
                              <a:lnTo>
                                <a:pt x="74" y="8"/>
                              </a:lnTo>
                              <a:lnTo>
                                <a:pt x="119" y="8"/>
                              </a:lnTo>
                              <a:lnTo>
                                <a:pt x="158" y="8"/>
                              </a:lnTo>
                              <a:lnTo>
                                <a:pt x="195" y="20"/>
                              </a:lnTo>
                              <a:lnTo>
                                <a:pt x="239" y="28"/>
                              </a:lnTo>
                              <a:lnTo>
                                <a:pt x="269" y="41"/>
                              </a:lnTo>
                              <a:lnTo>
                                <a:pt x="300" y="49"/>
                              </a:lnTo>
                              <a:lnTo>
                                <a:pt x="336" y="49"/>
                              </a:lnTo>
                              <a:lnTo>
                                <a:pt x="375" y="62"/>
                              </a:lnTo>
                              <a:lnTo>
                                <a:pt x="419" y="49"/>
                              </a:lnTo>
                              <a:lnTo>
                                <a:pt x="441" y="41"/>
                              </a:lnTo>
                              <a:lnTo>
                                <a:pt x="486" y="41"/>
                              </a:lnTo>
                              <a:lnTo>
                                <a:pt x="525" y="41"/>
                              </a:lnTo>
                              <a:lnTo>
                                <a:pt x="592" y="49"/>
                              </a:lnTo>
                              <a:lnTo>
                                <a:pt x="645" y="62"/>
                              </a:lnTo>
                              <a:lnTo>
                                <a:pt x="685" y="70"/>
                              </a:lnTo>
                              <a:lnTo>
                                <a:pt x="720" y="70"/>
                              </a:lnTo>
                              <a:lnTo>
                                <a:pt x="685" y="79"/>
                              </a:lnTo>
                              <a:lnTo>
                                <a:pt x="667" y="91"/>
                              </a:lnTo>
                              <a:lnTo>
                                <a:pt x="645" y="111"/>
                              </a:lnTo>
                              <a:lnTo>
                                <a:pt x="623" y="120"/>
                              </a:lnTo>
                              <a:lnTo>
                                <a:pt x="52" y="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7920" bIns="-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0" name=""/>
                        <p:cNvSpPr/>
                        <p:nvPr/>
                      </p:nvSpPr>
                      <p:spPr>
                        <a:xfrm>
                          <a:off x="7229520" y="6380280"/>
                          <a:ext cx="174960" cy="2592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486" h="72">
                              <a:moveTo>
                                <a:pt x="0" y="0"/>
                              </a:moveTo>
                              <a:lnTo>
                                <a:pt x="44" y="28"/>
                              </a:lnTo>
                              <a:lnTo>
                                <a:pt x="88" y="44"/>
                              </a:lnTo>
                              <a:lnTo>
                                <a:pt x="132" y="64"/>
                              </a:lnTo>
                              <a:lnTo>
                                <a:pt x="158" y="72"/>
                              </a:lnTo>
                              <a:lnTo>
                                <a:pt x="229" y="72"/>
                              </a:lnTo>
                              <a:lnTo>
                                <a:pt x="269" y="72"/>
                              </a:lnTo>
                              <a:lnTo>
                                <a:pt x="327" y="72"/>
                              </a:lnTo>
                              <a:lnTo>
                                <a:pt x="367" y="72"/>
                              </a:lnTo>
                              <a:lnTo>
                                <a:pt x="397" y="72"/>
                              </a:lnTo>
                              <a:lnTo>
                                <a:pt x="441" y="64"/>
                              </a:lnTo>
                              <a:lnTo>
                                <a:pt x="472" y="56"/>
                              </a:lnTo>
                              <a:lnTo>
                                <a:pt x="486" y="4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5200" bIns="-25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7243920" y="6421320"/>
                        <a:ext cx="1335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71" h="72">
                            <a:moveTo>
                              <a:pt x="0" y="0"/>
                            </a:moveTo>
                            <a:lnTo>
                              <a:pt x="35" y="17"/>
                            </a:lnTo>
                            <a:lnTo>
                              <a:pt x="61" y="40"/>
                            </a:lnTo>
                            <a:lnTo>
                              <a:pt x="97" y="53"/>
                            </a:lnTo>
                            <a:lnTo>
                              <a:pt x="149" y="63"/>
                            </a:lnTo>
                            <a:lnTo>
                              <a:pt x="203" y="72"/>
                            </a:lnTo>
                            <a:lnTo>
                              <a:pt x="265" y="72"/>
                            </a:lnTo>
                            <a:lnTo>
                              <a:pt x="318" y="72"/>
                            </a:lnTo>
                            <a:lnTo>
                              <a:pt x="371" y="6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12" name=""/>
                  <p:cNvSpPr/>
                  <p:nvPr/>
                </p:nvSpPr>
                <p:spPr>
                  <a:xfrm>
                    <a:off x="7093080" y="6486480"/>
                    <a:ext cx="376560" cy="97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46" h="270">
                        <a:moveTo>
                          <a:pt x="0" y="0"/>
                        </a:moveTo>
                        <a:lnTo>
                          <a:pt x="74" y="48"/>
                        </a:lnTo>
                        <a:lnTo>
                          <a:pt x="141" y="86"/>
                        </a:lnTo>
                        <a:lnTo>
                          <a:pt x="211" y="127"/>
                        </a:lnTo>
                        <a:lnTo>
                          <a:pt x="277" y="176"/>
                        </a:lnTo>
                        <a:lnTo>
                          <a:pt x="352" y="205"/>
                        </a:lnTo>
                        <a:lnTo>
                          <a:pt x="449" y="230"/>
                        </a:lnTo>
                        <a:lnTo>
                          <a:pt x="534" y="254"/>
                        </a:lnTo>
                        <a:lnTo>
                          <a:pt x="640" y="262"/>
                        </a:lnTo>
                        <a:lnTo>
                          <a:pt x="759" y="270"/>
                        </a:lnTo>
                        <a:lnTo>
                          <a:pt x="843" y="270"/>
                        </a:lnTo>
                        <a:lnTo>
                          <a:pt x="957" y="254"/>
                        </a:lnTo>
                        <a:lnTo>
                          <a:pt x="1046" y="20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7102440" y="6089760"/>
                <a:ext cx="451440" cy="58680"/>
                <a:chOff x="7102440" y="6089760"/>
                <a:chExt cx="451440" cy="58680"/>
              </a:xfrm>
            </p:grpSpPr>
            <p:grpSp>
              <p:nvGrpSpPr>
                <p:cNvPr id="414" name=""/>
                <p:cNvGrpSpPr/>
                <p:nvPr/>
              </p:nvGrpSpPr>
              <p:grpSpPr>
                <a:xfrm>
                  <a:off x="7396200" y="6099120"/>
                  <a:ext cx="157680" cy="49320"/>
                  <a:chOff x="7396200" y="6099120"/>
                  <a:chExt cx="157680" cy="493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7396200" y="6103800"/>
                    <a:ext cx="13860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111">
                        <a:moveTo>
                          <a:pt x="0" y="86"/>
                        </a:moveTo>
                        <a:lnTo>
                          <a:pt x="8" y="70"/>
                        </a:lnTo>
                        <a:lnTo>
                          <a:pt x="30" y="53"/>
                        </a:lnTo>
                        <a:lnTo>
                          <a:pt x="48" y="44"/>
                        </a:lnTo>
                        <a:lnTo>
                          <a:pt x="88" y="32"/>
                        </a:lnTo>
                        <a:lnTo>
                          <a:pt x="137" y="8"/>
                        </a:lnTo>
                        <a:lnTo>
                          <a:pt x="168" y="0"/>
                        </a:lnTo>
                        <a:lnTo>
                          <a:pt x="217" y="0"/>
                        </a:lnTo>
                        <a:lnTo>
                          <a:pt x="269" y="8"/>
                        </a:lnTo>
                        <a:lnTo>
                          <a:pt x="297" y="20"/>
                        </a:lnTo>
                        <a:lnTo>
                          <a:pt x="328" y="40"/>
                        </a:lnTo>
                        <a:lnTo>
                          <a:pt x="359" y="53"/>
                        </a:lnTo>
                        <a:lnTo>
                          <a:pt x="385" y="78"/>
                        </a:lnTo>
                        <a:lnTo>
                          <a:pt x="345" y="94"/>
                        </a:lnTo>
                        <a:lnTo>
                          <a:pt x="319" y="103"/>
                        </a:lnTo>
                        <a:lnTo>
                          <a:pt x="278" y="111"/>
                        </a:lnTo>
                        <a:lnTo>
                          <a:pt x="217" y="111"/>
                        </a:lnTo>
                        <a:lnTo>
                          <a:pt x="168" y="111"/>
                        </a:lnTo>
                        <a:lnTo>
                          <a:pt x="120" y="103"/>
                        </a:lnTo>
                        <a:lnTo>
                          <a:pt x="70" y="94"/>
                        </a:lnTo>
                        <a:lnTo>
                          <a:pt x="8" y="94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1160" bIns="-11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7437600" y="6099120"/>
                    <a:ext cx="60480" cy="49320"/>
                    <a:chOff x="7437600" y="6099120"/>
                    <a:chExt cx="60480" cy="4932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7437600" y="6099120"/>
                      <a:ext cx="60480" cy="49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7446960" y="6103800"/>
                      <a:ext cx="42840" cy="44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7453440" y="6110280"/>
                      <a:ext cx="30240" cy="30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0" name=""/>
                  <p:cNvSpPr/>
                  <p:nvPr/>
                </p:nvSpPr>
                <p:spPr>
                  <a:xfrm>
                    <a:off x="7396200" y="6103800"/>
                    <a:ext cx="15768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w="438" h="98">
                        <a:moveTo>
                          <a:pt x="0" y="98"/>
                        </a:moveTo>
                        <a:lnTo>
                          <a:pt x="22" y="89"/>
                        </a:lnTo>
                        <a:lnTo>
                          <a:pt x="44" y="69"/>
                        </a:lnTo>
                        <a:lnTo>
                          <a:pt x="74" y="48"/>
                        </a:lnTo>
                        <a:lnTo>
                          <a:pt x="97" y="28"/>
                        </a:lnTo>
                        <a:lnTo>
                          <a:pt x="128" y="20"/>
                        </a:lnTo>
                        <a:lnTo>
                          <a:pt x="181" y="0"/>
                        </a:lnTo>
                        <a:lnTo>
                          <a:pt x="212" y="0"/>
                        </a:lnTo>
                        <a:lnTo>
                          <a:pt x="247" y="0"/>
                        </a:lnTo>
                        <a:lnTo>
                          <a:pt x="287" y="8"/>
                        </a:lnTo>
                        <a:lnTo>
                          <a:pt x="318" y="28"/>
                        </a:lnTo>
                        <a:lnTo>
                          <a:pt x="363" y="48"/>
                        </a:lnTo>
                        <a:lnTo>
                          <a:pt x="394" y="77"/>
                        </a:lnTo>
                        <a:lnTo>
                          <a:pt x="416" y="89"/>
                        </a:lnTo>
                        <a:lnTo>
                          <a:pt x="438" y="98"/>
                        </a:lnTo>
                        <a:lnTo>
                          <a:pt x="0" y="9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7102440" y="6089760"/>
                  <a:ext cx="159120" cy="42840"/>
                  <a:chOff x="7102440" y="6089760"/>
                  <a:chExt cx="159120" cy="428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7112160" y="6089760"/>
                    <a:ext cx="14004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16">
                        <a:moveTo>
                          <a:pt x="389" y="92"/>
                        </a:moveTo>
                        <a:lnTo>
                          <a:pt x="380" y="74"/>
                        </a:lnTo>
                        <a:lnTo>
                          <a:pt x="358" y="66"/>
                        </a:lnTo>
                        <a:lnTo>
                          <a:pt x="340" y="50"/>
                        </a:lnTo>
                        <a:lnTo>
                          <a:pt x="309" y="33"/>
                        </a:lnTo>
                        <a:lnTo>
                          <a:pt x="247" y="16"/>
                        </a:lnTo>
                        <a:lnTo>
                          <a:pt x="217" y="8"/>
                        </a:lnTo>
                        <a:lnTo>
                          <a:pt x="167" y="0"/>
                        </a:lnTo>
                        <a:lnTo>
                          <a:pt x="119" y="8"/>
                        </a:lnTo>
                        <a:lnTo>
                          <a:pt x="88" y="24"/>
                        </a:lnTo>
                        <a:lnTo>
                          <a:pt x="57" y="41"/>
                        </a:lnTo>
                        <a:lnTo>
                          <a:pt x="30" y="66"/>
                        </a:lnTo>
                        <a:lnTo>
                          <a:pt x="0" y="82"/>
                        </a:lnTo>
                        <a:lnTo>
                          <a:pt x="39" y="100"/>
                        </a:lnTo>
                        <a:lnTo>
                          <a:pt x="66" y="108"/>
                        </a:lnTo>
                        <a:lnTo>
                          <a:pt x="110" y="116"/>
                        </a:lnTo>
                        <a:lnTo>
                          <a:pt x="167" y="116"/>
                        </a:lnTo>
                        <a:lnTo>
                          <a:pt x="217" y="116"/>
                        </a:lnTo>
                        <a:lnTo>
                          <a:pt x="278" y="116"/>
                        </a:lnTo>
                        <a:lnTo>
                          <a:pt x="331" y="100"/>
                        </a:lnTo>
                        <a:lnTo>
                          <a:pt x="380" y="100"/>
                        </a:lnTo>
                        <a:lnTo>
                          <a:pt x="389" y="9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9360" bIns="-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7151760" y="6089760"/>
                    <a:ext cx="54000" cy="42840"/>
                    <a:chOff x="7151760" y="6089760"/>
                    <a:chExt cx="54000" cy="4284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7151760" y="6089760"/>
                      <a:ext cx="54000" cy="428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156440" y="6091200"/>
                      <a:ext cx="44280" cy="414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7159680" y="6094440"/>
                      <a:ext cx="34920" cy="3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7" name=""/>
                  <p:cNvSpPr/>
                  <p:nvPr/>
                </p:nvSpPr>
                <p:spPr>
                  <a:xfrm>
                    <a:off x="7102440" y="6089760"/>
                    <a:ext cx="1591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442" h="107">
                        <a:moveTo>
                          <a:pt x="442" y="107"/>
                        </a:moveTo>
                        <a:lnTo>
                          <a:pt x="434" y="91"/>
                        </a:lnTo>
                        <a:lnTo>
                          <a:pt x="398" y="66"/>
                        </a:lnTo>
                        <a:lnTo>
                          <a:pt x="376" y="49"/>
                        </a:lnTo>
                        <a:lnTo>
                          <a:pt x="345" y="29"/>
                        </a:lnTo>
                        <a:lnTo>
                          <a:pt x="309" y="16"/>
                        </a:lnTo>
                        <a:lnTo>
                          <a:pt x="256" y="8"/>
                        </a:lnTo>
                        <a:lnTo>
                          <a:pt x="225" y="0"/>
                        </a:lnTo>
                        <a:lnTo>
                          <a:pt x="195" y="0"/>
                        </a:lnTo>
                        <a:lnTo>
                          <a:pt x="150" y="8"/>
                        </a:lnTo>
                        <a:lnTo>
                          <a:pt x="120" y="29"/>
                        </a:lnTo>
                        <a:lnTo>
                          <a:pt x="83" y="49"/>
                        </a:lnTo>
                        <a:lnTo>
                          <a:pt x="39" y="78"/>
                        </a:lnTo>
                        <a:lnTo>
                          <a:pt x="22" y="99"/>
                        </a:lnTo>
                        <a:lnTo>
                          <a:pt x="0" y="99"/>
                        </a:lnTo>
                        <a:lnTo>
                          <a:pt x="442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8" name=""/>
            <p:cNvSpPr/>
            <p:nvPr/>
          </p:nvSpPr>
          <p:spPr>
            <a:xfrm>
              <a:off x="6692760" y="6611760"/>
              <a:ext cx="1262520" cy="236880"/>
            </a:xfrm>
            <a:custGeom>
              <a:avLst/>
              <a:gdLst/>
              <a:ahLst/>
              <a:rect l="0" t="0" r="r" b="b"/>
              <a:pathLst>
                <a:path w="3507" h="658">
                  <a:moveTo>
                    <a:pt x="0" y="658"/>
                  </a:moveTo>
                  <a:lnTo>
                    <a:pt x="97" y="564"/>
                  </a:lnTo>
                  <a:lnTo>
                    <a:pt x="189" y="470"/>
                  </a:lnTo>
                  <a:lnTo>
                    <a:pt x="238" y="376"/>
                  </a:lnTo>
                  <a:lnTo>
                    <a:pt x="335" y="331"/>
                  </a:lnTo>
                  <a:lnTo>
                    <a:pt x="379" y="236"/>
                  </a:lnTo>
                  <a:lnTo>
                    <a:pt x="476" y="187"/>
                  </a:lnTo>
                  <a:lnTo>
                    <a:pt x="568" y="93"/>
                  </a:lnTo>
                  <a:lnTo>
                    <a:pt x="665" y="93"/>
                  </a:lnTo>
                  <a:lnTo>
                    <a:pt x="758" y="48"/>
                  </a:lnTo>
                  <a:lnTo>
                    <a:pt x="904" y="0"/>
                  </a:lnTo>
                  <a:lnTo>
                    <a:pt x="1046" y="0"/>
                  </a:lnTo>
                  <a:lnTo>
                    <a:pt x="1187" y="0"/>
                  </a:lnTo>
                  <a:lnTo>
                    <a:pt x="1328" y="0"/>
                  </a:lnTo>
                  <a:lnTo>
                    <a:pt x="1469" y="0"/>
                  </a:lnTo>
                  <a:lnTo>
                    <a:pt x="1614" y="48"/>
                  </a:lnTo>
                  <a:lnTo>
                    <a:pt x="1756" y="48"/>
                  </a:lnTo>
                  <a:lnTo>
                    <a:pt x="1897" y="48"/>
                  </a:lnTo>
                  <a:lnTo>
                    <a:pt x="2038" y="48"/>
                  </a:lnTo>
                  <a:lnTo>
                    <a:pt x="2183" y="0"/>
                  </a:lnTo>
                  <a:lnTo>
                    <a:pt x="2324" y="0"/>
                  </a:lnTo>
                  <a:lnTo>
                    <a:pt x="2466" y="0"/>
                  </a:lnTo>
                  <a:lnTo>
                    <a:pt x="2607" y="0"/>
                  </a:lnTo>
                  <a:lnTo>
                    <a:pt x="2749" y="48"/>
                  </a:lnTo>
                  <a:lnTo>
                    <a:pt x="2894" y="93"/>
                  </a:lnTo>
                  <a:lnTo>
                    <a:pt x="3035" y="138"/>
                  </a:lnTo>
                  <a:lnTo>
                    <a:pt x="3177" y="187"/>
                  </a:lnTo>
                  <a:lnTo>
                    <a:pt x="3225" y="331"/>
                  </a:lnTo>
                  <a:lnTo>
                    <a:pt x="3318" y="331"/>
                  </a:lnTo>
                  <a:lnTo>
                    <a:pt x="3410" y="470"/>
                  </a:lnTo>
                  <a:lnTo>
                    <a:pt x="3507" y="564"/>
                  </a:lnTo>
                  <a:lnTo>
                    <a:pt x="3507" y="658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4640400" y="5667480"/>
              <a:ext cx="954360" cy="973440"/>
              <a:chOff x="4640400" y="5667480"/>
              <a:chExt cx="954360" cy="973440"/>
            </a:xfrm>
          </p:grpSpPr>
          <p:sp>
            <p:nvSpPr>
              <p:cNvPr id="430" name=""/>
              <p:cNvSpPr/>
              <p:nvPr/>
            </p:nvSpPr>
            <p:spPr>
              <a:xfrm>
                <a:off x="4807080" y="5810400"/>
                <a:ext cx="530640" cy="830520"/>
              </a:xfrm>
              <a:custGeom>
                <a:avLst/>
                <a:gdLst/>
                <a:ahLst/>
                <a:rect l="0" t="0" r="r" b="b"/>
                <a:pathLst>
                  <a:path w="1474" h="2307">
                    <a:moveTo>
                      <a:pt x="26" y="811"/>
                    </a:moveTo>
                    <a:lnTo>
                      <a:pt x="39" y="778"/>
                    </a:lnTo>
                    <a:lnTo>
                      <a:pt x="39" y="491"/>
                    </a:lnTo>
                    <a:lnTo>
                      <a:pt x="52" y="368"/>
                    </a:lnTo>
                    <a:lnTo>
                      <a:pt x="79" y="274"/>
                    </a:lnTo>
                    <a:lnTo>
                      <a:pt x="114" y="204"/>
                    </a:lnTo>
                    <a:lnTo>
                      <a:pt x="207" y="131"/>
                    </a:lnTo>
                    <a:lnTo>
                      <a:pt x="295" y="73"/>
                    </a:lnTo>
                    <a:lnTo>
                      <a:pt x="389" y="12"/>
                    </a:lnTo>
                    <a:lnTo>
                      <a:pt x="490" y="0"/>
                    </a:lnTo>
                    <a:lnTo>
                      <a:pt x="658" y="0"/>
                    </a:lnTo>
                    <a:lnTo>
                      <a:pt x="803" y="36"/>
                    </a:lnTo>
                    <a:lnTo>
                      <a:pt x="1010" y="61"/>
                    </a:lnTo>
                    <a:lnTo>
                      <a:pt x="1113" y="106"/>
                    </a:lnTo>
                    <a:lnTo>
                      <a:pt x="1241" y="143"/>
                    </a:lnTo>
                    <a:lnTo>
                      <a:pt x="1320" y="204"/>
                    </a:lnTo>
                    <a:lnTo>
                      <a:pt x="1346" y="348"/>
                    </a:lnTo>
                    <a:lnTo>
                      <a:pt x="1333" y="634"/>
                    </a:lnTo>
                    <a:lnTo>
                      <a:pt x="1307" y="778"/>
                    </a:lnTo>
                    <a:lnTo>
                      <a:pt x="1382" y="897"/>
                    </a:lnTo>
                    <a:lnTo>
                      <a:pt x="1421" y="1040"/>
                    </a:lnTo>
                    <a:lnTo>
                      <a:pt x="1461" y="1085"/>
                    </a:lnTo>
                    <a:lnTo>
                      <a:pt x="1474" y="1160"/>
                    </a:lnTo>
                    <a:lnTo>
                      <a:pt x="1435" y="1254"/>
                    </a:lnTo>
                    <a:lnTo>
                      <a:pt x="1421" y="1352"/>
                    </a:lnTo>
                    <a:lnTo>
                      <a:pt x="1408" y="1516"/>
                    </a:lnTo>
                    <a:lnTo>
                      <a:pt x="1373" y="1614"/>
                    </a:lnTo>
                    <a:lnTo>
                      <a:pt x="1307" y="1660"/>
                    </a:lnTo>
                    <a:lnTo>
                      <a:pt x="1254" y="1672"/>
                    </a:lnTo>
                    <a:lnTo>
                      <a:pt x="1307" y="1733"/>
                    </a:lnTo>
                    <a:lnTo>
                      <a:pt x="1320" y="1852"/>
                    </a:lnTo>
                    <a:lnTo>
                      <a:pt x="1307" y="1926"/>
                    </a:lnTo>
                    <a:lnTo>
                      <a:pt x="1241" y="2020"/>
                    </a:lnTo>
                    <a:lnTo>
                      <a:pt x="1166" y="2102"/>
                    </a:lnTo>
                    <a:lnTo>
                      <a:pt x="1072" y="2188"/>
                    </a:lnTo>
                    <a:lnTo>
                      <a:pt x="931" y="2258"/>
                    </a:lnTo>
                    <a:lnTo>
                      <a:pt x="777" y="2307"/>
                    </a:lnTo>
                    <a:lnTo>
                      <a:pt x="556" y="2127"/>
                    </a:lnTo>
                    <a:lnTo>
                      <a:pt x="543" y="2008"/>
                    </a:lnTo>
                    <a:lnTo>
                      <a:pt x="516" y="1946"/>
                    </a:lnTo>
                    <a:lnTo>
                      <a:pt x="464" y="1914"/>
                    </a:lnTo>
                    <a:lnTo>
                      <a:pt x="402" y="1758"/>
                    </a:lnTo>
                    <a:lnTo>
                      <a:pt x="295" y="1578"/>
                    </a:lnTo>
                    <a:lnTo>
                      <a:pt x="180" y="1447"/>
                    </a:lnTo>
                    <a:lnTo>
                      <a:pt x="141" y="1422"/>
                    </a:lnTo>
                    <a:lnTo>
                      <a:pt x="127" y="1373"/>
                    </a:lnTo>
                    <a:lnTo>
                      <a:pt x="114" y="1340"/>
                    </a:lnTo>
                    <a:lnTo>
                      <a:pt x="101" y="1266"/>
                    </a:lnTo>
                    <a:lnTo>
                      <a:pt x="92" y="1172"/>
                    </a:lnTo>
                    <a:lnTo>
                      <a:pt x="66" y="1134"/>
                    </a:lnTo>
                    <a:lnTo>
                      <a:pt x="52" y="1097"/>
                    </a:lnTo>
                    <a:lnTo>
                      <a:pt x="26" y="1028"/>
                    </a:lnTo>
                    <a:lnTo>
                      <a:pt x="13" y="991"/>
                    </a:lnTo>
                    <a:lnTo>
                      <a:pt x="0" y="942"/>
                    </a:lnTo>
                    <a:lnTo>
                      <a:pt x="0" y="909"/>
                    </a:lnTo>
                    <a:lnTo>
                      <a:pt x="13" y="884"/>
                    </a:lnTo>
                    <a:lnTo>
                      <a:pt x="13" y="872"/>
                    </a:lnTo>
                    <a:lnTo>
                      <a:pt x="13" y="847"/>
                    </a:lnTo>
                    <a:lnTo>
                      <a:pt x="26" y="835"/>
                    </a:lnTo>
                    <a:lnTo>
                      <a:pt x="26" y="811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4640400" y="5667480"/>
                <a:ext cx="954360" cy="860760"/>
                <a:chOff x="4640400" y="5667480"/>
                <a:chExt cx="954360" cy="8607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40400" y="5667480"/>
                  <a:ext cx="954360" cy="860760"/>
                </a:xfrm>
                <a:custGeom>
                  <a:avLst/>
                  <a:gdLst/>
                  <a:ahLst/>
                  <a:rect l="0" t="0" r="r" b="b"/>
                  <a:pathLst>
                    <a:path w="2651" h="2391">
                      <a:moveTo>
                        <a:pt x="308" y="323"/>
                      </a:moveTo>
                      <a:lnTo>
                        <a:pt x="388" y="250"/>
                      </a:lnTo>
                      <a:lnTo>
                        <a:pt x="463" y="192"/>
                      </a:lnTo>
                      <a:lnTo>
                        <a:pt x="529" y="155"/>
                      </a:lnTo>
                      <a:lnTo>
                        <a:pt x="577" y="118"/>
                      </a:lnTo>
                      <a:lnTo>
                        <a:pt x="630" y="81"/>
                      </a:lnTo>
                      <a:lnTo>
                        <a:pt x="718" y="61"/>
                      </a:lnTo>
                      <a:lnTo>
                        <a:pt x="811" y="49"/>
                      </a:lnTo>
                      <a:lnTo>
                        <a:pt x="926" y="49"/>
                      </a:lnTo>
                      <a:lnTo>
                        <a:pt x="1040" y="49"/>
                      </a:lnTo>
                      <a:lnTo>
                        <a:pt x="1146" y="12"/>
                      </a:lnTo>
                      <a:lnTo>
                        <a:pt x="1274" y="0"/>
                      </a:lnTo>
                      <a:lnTo>
                        <a:pt x="1416" y="12"/>
                      </a:lnTo>
                      <a:lnTo>
                        <a:pt x="1544" y="36"/>
                      </a:lnTo>
                      <a:lnTo>
                        <a:pt x="1685" y="69"/>
                      </a:lnTo>
                      <a:lnTo>
                        <a:pt x="1826" y="131"/>
                      </a:lnTo>
                      <a:lnTo>
                        <a:pt x="1954" y="204"/>
                      </a:lnTo>
                      <a:lnTo>
                        <a:pt x="2047" y="274"/>
                      </a:lnTo>
                      <a:lnTo>
                        <a:pt x="2122" y="348"/>
                      </a:lnTo>
                      <a:lnTo>
                        <a:pt x="2254" y="537"/>
                      </a:lnTo>
                      <a:lnTo>
                        <a:pt x="2329" y="631"/>
                      </a:lnTo>
                      <a:lnTo>
                        <a:pt x="2395" y="811"/>
                      </a:lnTo>
                      <a:lnTo>
                        <a:pt x="2443" y="1041"/>
                      </a:lnTo>
                      <a:lnTo>
                        <a:pt x="2470" y="1218"/>
                      </a:lnTo>
                      <a:lnTo>
                        <a:pt x="2483" y="1374"/>
                      </a:lnTo>
                      <a:lnTo>
                        <a:pt x="2536" y="1493"/>
                      </a:lnTo>
                      <a:lnTo>
                        <a:pt x="2598" y="1636"/>
                      </a:lnTo>
                      <a:lnTo>
                        <a:pt x="2638" y="1759"/>
                      </a:lnTo>
                      <a:lnTo>
                        <a:pt x="2651" y="1866"/>
                      </a:lnTo>
                      <a:lnTo>
                        <a:pt x="2624" y="1997"/>
                      </a:lnTo>
                      <a:lnTo>
                        <a:pt x="2598" y="2091"/>
                      </a:lnTo>
                      <a:lnTo>
                        <a:pt x="2571" y="2140"/>
                      </a:lnTo>
                      <a:lnTo>
                        <a:pt x="2536" y="2198"/>
                      </a:lnTo>
                      <a:lnTo>
                        <a:pt x="2510" y="2235"/>
                      </a:lnTo>
                      <a:lnTo>
                        <a:pt x="2470" y="2272"/>
                      </a:lnTo>
                      <a:lnTo>
                        <a:pt x="2430" y="2309"/>
                      </a:lnTo>
                      <a:lnTo>
                        <a:pt x="2395" y="2329"/>
                      </a:lnTo>
                      <a:lnTo>
                        <a:pt x="2355" y="2341"/>
                      </a:lnTo>
                      <a:lnTo>
                        <a:pt x="2302" y="2354"/>
                      </a:lnTo>
                      <a:lnTo>
                        <a:pt x="2254" y="2366"/>
                      </a:lnTo>
                      <a:lnTo>
                        <a:pt x="2188" y="2378"/>
                      </a:lnTo>
                      <a:lnTo>
                        <a:pt x="2100" y="2391"/>
                      </a:lnTo>
                      <a:lnTo>
                        <a:pt x="2047" y="2378"/>
                      </a:lnTo>
                      <a:lnTo>
                        <a:pt x="1994" y="2378"/>
                      </a:lnTo>
                      <a:lnTo>
                        <a:pt x="1954" y="2366"/>
                      </a:lnTo>
                      <a:lnTo>
                        <a:pt x="1906" y="2341"/>
                      </a:lnTo>
                      <a:lnTo>
                        <a:pt x="1866" y="2329"/>
                      </a:lnTo>
                      <a:lnTo>
                        <a:pt x="1826" y="2309"/>
                      </a:lnTo>
                      <a:lnTo>
                        <a:pt x="1791" y="2259"/>
                      </a:lnTo>
                      <a:lnTo>
                        <a:pt x="1764" y="2222"/>
                      </a:lnTo>
                      <a:lnTo>
                        <a:pt x="1738" y="2165"/>
                      </a:lnTo>
                      <a:lnTo>
                        <a:pt x="1725" y="2128"/>
                      </a:lnTo>
                      <a:lnTo>
                        <a:pt x="1698" y="2104"/>
                      </a:lnTo>
                      <a:lnTo>
                        <a:pt x="1672" y="2091"/>
                      </a:lnTo>
                      <a:lnTo>
                        <a:pt x="1659" y="2079"/>
                      </a:lnTo>
                      <a:lnTo>
                        <a:pt x="1610" y="2091"/>
                      </a:lnTo>
                      <a:lnTo>
                        <a:pt x="1637" y="2079"/>
                      </a:lnTo>
                      <a:lnTo>
                        <a:pt x="1645" y="2054"/>
                      </a:lnTo>
                      <a:lnTo>
                        <a:pt x="1672" y="2042"/>
                      </a:lnTo>
                      <a:lnTo>
                        <a:pt x="1685" y="2034"/>
                      </a:lnTo>
                      <a:lnTo>
                        <a:pt x="1711" y="2022"/>
                      </a:lnTo>
                      <a:lnTo>
                        <a:pt x="1738" y="2022"/>
                      </a:lnTo>
                      <a:lnTo>
                        <a:pt x="1764" y="2022"/>
                      </a:lnTo>
                      <a:lnTo>
                        <a:pt x="1800" y="1985"/>
                      </a:lnTo>
                      <a:lnTo>
                        <a:pt x="1826" y="1899"/>
                      </a:lnTo>
                      <a:lnTo>
                        <a:pt x="1839" y="1866"/>
                      </a:lnTo>
                      <a:lnTo>
                        <a:pt x="1839" y="1722"/>
                      </a:lnTo>
                      <a:lnTo>
                        <a:pt x="1853" y="1661"/>
                      </a:lnTo>
                      <a:lnTo>
                        <a:pt x="1866" y="1616"/>
                      </a:lnTo>
                      <a:lnTo>
                        <a:pt x="1879" y="1579"/>
                      </a:lnTo>
                      <a:lnTo>
                        <a:pt x="1906" y="1542"/>
                      </a:lnTo>
                      <a:lnTo>
                        <a:pt x="1892" y="1493"/>
                      </a:lnTo>
                      <a:lnTo>
                        <a:pt x="1879" y="1423"/>
                      </a:lnTo>
                      <a:lnTo>
                        <a:pt x="1791" y="1304"/>
                      </a:lnTo>
                      <a:lnTo>
                        <a:pt x="1778" y="1255"/>
                      </a:lnTo>
                      <a:lnTo>
                        <a:pt x="1778" y="1172"/>
                      </a:lnTo>
                      <a:lnTo>
                        <a:pt x="1764" y="1074"/>
                      </a:lnTo>
                      <a:lnTo>
                        <a:pt x="1778" y="918"/>
                      </a:lnTo>
                      <a:lnTo>
                        <a:pt x="1778" y="680"/>
                      </a:lnTo>
                      <a:lnTo>
                        <a:pt x="1778" y="655"/>
                      </a:lnTo>
                      <a:lnTo>
                        <a:pt x="1751" y="623"/>
                      </a:lnTo>
                      <a:lnTo>
                        <a:pt x="1725" y="586"/>
                      </a:lnTo>
                      <a:lnTo>
                        <a:pt x="1637" y="524"/>
                      </a:lnTo>
                      <a:lnTo>
                        <a:pt x="1531" y="491"/>
                      </a:lnTo>
                      <a:lnTo>
                        <a:pt x="1429" y="467"/>
                      </a:lnTo>
                      <a:lnTo>
                        <a:pt x="1274" y="430"/>
                      </a:lnTo>
                      <a:lnTo>
                        <a:pt x="1159" y="418"/>
                      </a:lnTo>
                      <a:lnTo>
                        <a:pt x="1093" y="405"/>
                      </a:lnTo>
                      <a:lnTo>
                        <a:pt x="926" y="393"/>
                      </a:lnTo>
                      <a:lnTo>
                        <a:pt x="851" y="418"/>
                      </a:lnTo>
                      <a:lnTo>
                        <a:pt x="798" y="442"/>
                      </a:lnTo>
                      <a:lnTo>
                        <a:pt x="745" y="479"/>
                      </a:lnTo>
                      <a:lnTo>
                        <a:pt x="683" y="512"/>
                      </a:lnTo>
                      <a:lnTo>
                        <a:pt x="630" y="549"/>
                      </a:lnTo>
                      <a:lnTo>
                        <a:pt x="577" y="598"/>
                      </a:lnTo>
                      <a:lnTo>
                        <a:pt x="551" y="655"/>
                      </a:lnTo>
                      <a:lnTo>
                        <a:pt x="529" y="729"/>
                      </a:lnTo>
                      <a:lnTo>
                        <a:pt x="515" y="799"/>
                      </a:lnTo>
                      <a:lnTo>
                        <a:pt x="502" y="967"/>
                      </a:lnTo>
                      <a:lnTo>
                        <a:pt x="502" y="1160"/>
                      </a:lnTo>
                      <a:lnTo>
                        <a:pt x="463" y="1280"/>
                      </a:lnTo>
                      <a:lnTo>
                        <a:pt x="463" y="1329"/>
                      </a:lnTo>
                      <a:lnTo>
                        <a:pt x="476" y="1374"/>
                      </a:lnTo>
                      <a:lnTo>
                        <a:pt x="489" y="1448"/>
                      </a:lnTo>
                      <a:lnTo>
                        <a:pt x="542" y="1530"/>
                      </a:lnTo>
                      <a:lnTo>
                        <a:pt x="551" y="1579"/>
                      </a:lnTo>
                      <a:lnTo>
                        <a:pt x="564" y="1624"/>
                      </a:lnTo>
                      <a:lnTo>
                        <a:pt x="577" y="1685"/>
                      </a:lnTo>
                      <a:lnTo>
                        <a:pt x="590" y="1747"/>
                      </a:lnTo>
                      <a:lnTo>
                        <a:pt x="617" y="1792"/>
                      </a:lnTo>
                      <a:lnTo>
                        <a:pt x="643" y="1829"/>
                      </a:lnTo>
                      <a:lnTo>
                        <a:pt x="670" y="1854"/>
                      </a:lnTo>
                      <a:lnTo>
                        <a:pt x="718" y="1890"/>
                      </a:lnTo>
                      <a:lnTo>
                        <a:pt x="758" y="1923"/>
                      </a:lnTo>
                      <a:lnTo>
                        <a:pt x="784" y="1960"/>
                      </a:lnTo>
                      <a:lnTo>
                        <a:pt x="824" y="2034"/>
                      </a:lnTo>
                      <a:lnTo>
                        <a:pt x="859" y="2116"/>
                      </a:lnTo>
                      <a:lnTo>
                        <a:pt x="886" y="2198"/>
                      </a:lnTo>
                      <a:lnTo>
                        <a:pt x="912" y="2272"/>
                      </a:lnTo>
                      <a:lnTo>
                        <a:pt x="952" y="2309"/>
                      </a:lnTo>
                      <a:lnTo>
                        <a:pt x="811" y="2309"/>
                      </a:lnTo>
                      <a:lnTo>
                        <a:pt x="705" y="2296"/>
                      </a:lnTo>
                      <a:lnTo>
                        <a:pt x="604" y="2284"/>
                      </a:lnTo>
                      <a:lnTo>
                        <a:pt x="529" y="2259"/>
                      </a:lnTo>
                      <a:lnTo>
                        <a:pt x="436" y="2222"/>
                      </a:lnTo>
                      <a:lnTo>
                        <a:pt x="321" y="2177"/>
                      </a:lnTo>
                      <a:lnTo>
                        <a:pt x="268" y="2140"/>
                      </a:lnTo>
                      <a:lnTo>
                        <a:pt x="207" y="2104"/>
                      </a:lnTo>
                      <a:lnTo>
                        <a:pt x="167" y="2067"/>
                      </a:lnTo>
                      <a:lnTo>
                        <a:pt x="127" y="2034"/>
                      </a:lnTo>
                      <a:lnTo>
                        <a:pt x="88" y="1985"/>
                      </a:lnTo>
                      <a:lnTo>
                        <a:pt x="66" y="1948"/>
                      </a:lnTo>
                      <a:lnTo>
                        <a:pt x="39" y="1890"/>
                      </a:lnTo>
                      <a:lnTo>
                        <a:pt x="26" y="1854"/>
                      </a:lnTo>
                      <a:lnTo>
                        <a:pt x="13" y="1804"/>
                      </a:lnTo>
                      <a:lnTo>
                        <a:pt x="0" y="1747"/>
                      </a:lnTo>
                      <a:lnTo>
                        <a:pt x="0" y="1685"/>
                      </a:lnTo>
                      <a:lnTo>
                        <a:pt x="0" y="1624"/>
                      </a:lnTo>
                      <a:lnTo>
                        <a:pt x="13" y="1542"/>
                      </a:lnTo>
                      <a:lnTo>
                        <a:pt x="26" y="1493"/>
                      </a:lnTo>
                      <a:lnTo>
                        <a:pt x="52" y="1362"/>
                      </a:lnTo>
                      <a:lnTo>
                        <a:pt x="101" y="1255"/>
                      </a:lnTo>
                      <a:lnTo>
                        <a:pt x="101" y="1184"/>
                      </a:lnTo>
                      <a:lnTo>
                        <a:pt x="127" y="1098"/>
                      </a:lnTo>
                      <a:lnTo>
                        <a:pt x="114" y="1016"/>
                      </a:lnTo>
                      <a:lnTo>
                        <a:pt x="88" y="824"/>
                      </a:lnTo>
                      <a:lnTo>
                        <a:pt x="101" y="729"/>
                      </a:lnTo>
                      <a:lnTo>
                        <a:pt x="114" y="610"/>
                      </a:lnTo>
                      <a:lnTo>
                        <a:pt x="154" y="500"/>
                      </a:lnTo>
                      <a:lnTo>
                        <a:pt x="233" y="393"/>
                      </a:lnTo>
                      <a:lnTo>
                        <a:pt x="308" y="3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70360" y="5678640"/>
                  <a:ext cx="724320" cy="790920"/>
                  <a:chOff x="4770360" y="5678640"/>
                  <a:chExt cx="724320" cy="79092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70360" y="6140520"/>
                    <a:ext cx="15912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442" h="826">
                        <a:moveTo>
                          <a:pt x="105" y="0"/>
                        </a:moveTo>
                        <a:lnTo>
                          <a:pt x="66" y="94"/>
                        </a:lnTo>
                        <a:lnTo>
                          <a:pt x="26" y="180"/>
                        </a:lnTo>
                        <a:lnTo>
                          <a:pt x="0" y="238"/>
                        </a:lnTo>
                        <a:lnTo>
                          <a:pt x="0" y="312"/>
                        </a:lnTo>
                        <a:lnTo>
                          <a:pt x="0" y="357"/>
                        </a:lnTo>
                        <a:lnTo>
                          <a:pt x="13" y="407"/>
                        </a:lnTo>
                        <a:lnTo>
                          <a:pt x="39" y="468"/>
                        </a:lnTo>
                        <a:lnTo>
                          <a:pt x="92" y="513"/>
                        </a:lnTo>
                        <a:lnTo>
                          <a:pt x="168" y="563"/>
                        </a:lnTo>
                        <a:lnTo>
                          <a:pt x="274" y="612"/>
                        </a:lnTo>
                        <a:lnTo>
                          <a:pt x="350" y="633"/>
                        </a:lnTo>
                        <a:lnTo>
                          <a:pt x="390" y="670"/>
                        </a:lnTo>
                        <a:lnTo>
                          <a:pt x="416" y="707"/>
                        </a:lnTo>
                        <a:lnTo>
                          <a:pt x="429" y="744"/>
                        </a:lnTo>
                        <a:lnTo>
                          <a:pt x="442" y="765"/>
                        </a:lnTo>
                        <a:lnTo>
                          <a:pt x="416" y="802"/>
                        </a:lnTo>
                        <a:lnTo>
                          <a:pt x="363" y="826"/>
                        </a:lnTo>
                        <a:lnTo>
                          <a:pt x="287" y="789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5291280" y="6110280"/>
                    <a:ext cx="203400" cy="359280"/>
                    <a:chOff x="5291280" y="6110280"/>
                    <a:chExt cx="203400" cy="35928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5359320" y="6110280"/>
                      <a:ext cx="105120" cy="316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2" h="879">
                          <a:moveTo>
                            <a:pt x="0" y="0"/>
                          </a:moveTo>
                          <a:lnTo>
                            <a:pt x="13" y="94"/>
                          </a:lnTo>
                          <a:lnTo>
                            <a:pt x="26" y="143"/>
                          </a:lnTo>
                          <a:lnTo>
                            <a:pt x="39" y="192"/>
                          </a:lnTo>
                          <a:lnTo>
                            <a:pt x="61" y="242"/>
                          </a:lnTo>
                          <a:lnTo>
                            <a:pt x="88" y="288"/>
                          </a:lnTo>
                          <a:lnTo>
                            <a:pt x="127" y="337"/>
                          </a:lnTo>
                          <a:lnTo>
                            <a:pt x="177" y="361"/>
                          </a:lnTo>
                          <a:lnTo>
                            <a:pt x="217" y="398"/>
                          </a:lnTo>
                          <a:lnTo>
                            <a:pt x="252" y="435"/>
                          </a:lnTo>
                          <a:lnTo>
                            <a:pt x="278" y="505"/>
                          </a:lnTo>
                          <a:lnTo>
                            <a:pt x="278" y="542"/>
                          </a:lnTo>
                          <a:lnTo>
                            <a:pt x="292" y="591"/>
                          </a:lnTo>
                          <a:lnTo>
                            <a:pt x="278" y="636"/>
                          </a:lnTo>
                          <a:lnTo>
                            <a:pt x="252" y="699"/>
                          </a:lnTo>
                          <a:lnTo>
                            <a:pt x="203" y="785"/>
                          </a:lnTo>
                          <a:lnTo>
                            <a:pt x="164" y="818"/>
                          </a:lnTo>
                          <a:lnTo>
                            <a:pt x="88" y="87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5291280" y="6286680"/>
                      <a:ext cx="203400" cy="1828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65" h="508">
                          <a:moveTo>
                            <a:pt x="525" y="0"/>
                          </a:moveTo>
                          <a:lnTo>
                            <a:pt x="552" y="37"/>
                          </a:lnTo>
                          <a:lnTo>
                            <a:pt x="565" y="86"/>
                          </a:lnTo>
                          <a:lnTo>
                            <a:pt x="565" y="131"/>
                          </a:lnTo>
                          <a:lnTo>
                            <a:pt x="565" y="206"/>
                          </a:lnTo>
                          <a:lnTo>
                            <a:pt x="538" y="277"/>
                          </a:lnTo>
                          <a:lnTo>
                            <a:pt x="499" y="351"/>
                          </a:lnTo>
                          <a:lnTo>
                            <a:pt x="464" y="400"/>
                          </a:lnTo>
                          <a:lnTo>
                            <a:pt x="424" y="433"/>
                          </a:lnTo>
                          <a:lnTo>
                            <a:pt x="358" y="471"/>
                          </a:lnTo>
                          <a:lnTo>
                            <a:pt x="283" y="495"/>
                          </a:lnTo>
                          <a:lnTo>
                            <a:pt x="216" y="508"/>
                          </a:lnTo>
                          <a:lnTo>
                            <a:pt x="154" y="495"/>
                          </a:lnTo>
                          <a:lnTo>
                            <a:pt x="101" y="471"/>
                          </a:lnTo>
                          <a:lnTo>
                            <a:pt x="39" y="363"/>
                          </a:lnTo>
                          <a:lnTo>
                            <a:pt x="0" y="339"/>
                          </a:lnTo>
                          <a:lnTo>
                            <a:pt x="525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4829040" y="5678640"/>
                    <a:ext cx="354600" cy="169920"/>
                    <a:chOff x="4829040" y="5678640"/>
                    <a:chExt cx="354600" cy="16992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4829040" y="5778360"/>
                      <a:ext cx="90720" cy="70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52" h="195">
                          <a:moveTo>
                            <a:pt x="0" y="0"/>
                          </a:moveTo>
                          <a:lnTo>
                            <a:pt x="105" y="12"/>
                          </a:lnTo>
                          <a:lnTo>
                            <a:pt x="186" y="49"/>
                          </a:lnTo>
                          <a:lnTo>
                            <a:pt x="239" y="74"/>
                          </a:lnTo>
                          <a:lnTo>
                            <a:pt x="252" y="100"/>
                          </a:lnTo>
                          <a:lnTo>
                            <a:pt x="212" y="157"/>
                          </a:lnTo>
                          <a:lnTo>
                            <a:pt x="172" y="19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4978440" y="5678640"/>
                      <a:ext cx="62280" cy="939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73" h="261">
                          <a:moveTo>
                            <a:pt x="173" y="0"/>
                          </a:moveTo>
                          <a:lnTo>
                            <a:pt x="93" y="99"/>
                          </a:lnTo>
                          <a:lnTo>
                            <a:pt x="39" y="174"/>
                          </a:lnTo>
                          <a:lnTo>
                            <a:pt x="13" y="236"/>
                          </a:lnTo>
                          <a:lnTo>
                            <a:pt x="0" y="261"/>
                          </a:lnTo>
                          <a:lnTo>
                            <a:pt x="173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42840" bIns="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4997520" y="5716440"/>
                      <a:ext cx="106560" cy="82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296" h="230">
                          <a:moveTo>
                            <a:pt x="296" y="0"/>
                          </a:moveTo>
                          <a:lnTo>
                            <a:pt x="230" y="73"/>
                          </a:lnTo>
                          <a:lnTo>
                            <a:pt x="181" y="132"/>
                          </a:lnTo>
                          <a:lnTo>
                            <a:pt x="101" y="181"/>
                          </a:lnTo>
                          <a:lnTo>
                            <a:pt x="0" y="230"/>
                          </a:lnTo>
                          <a:lnTo>
                            <a:pt x="29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31680" bIns="31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062680" y="5722920"/>
                      <a:ext cx="120960" cy="7668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36" h="213">
                          <a:moveTo>
                            <a:pt x="336" y="0"/>
                          </a:moveTo>
                          <a:lnTo>
                            <a:pt x="269" y="48"/>
                          </a:lnTo>
                          <a:lnTo>
                            <a:pt x="181" y="94"/>
                          </a:lnTo>
                          <a:lnTo>
                            <a:pt x="88" y="143"/>
                          </a:lnTo>
                          <a:lnTo>
                            <a:pt x="0" y="201"/>
                          </a:lnTo>
                          <a:lnTo>
                            <a:pt x="0" y="213"/>
                          </a:lnTo>
                          <a:lnTo>
                            <a:pt x="33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25560" bIns="25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43" name=""/>
              <p:cNvSpPr/>
              <p:nvPr/>
            </p:nvSpPr>
            <p:spPr>
              <a:xfrm>
                <a:off x="5275440" y="6211800"/>
                <a:ext cx="46440" cy="38520"/>
              </a:xfrm>
              <a:custGeom>
                <a:avLst/>
                <a:gdLst/>
                <a:ahLst/>
                <a:rect l="0" t="0" r="r" b="b"/>
                <a:pathLst>
                  <a:path w="129" h="107">
                    <a:moveTo>
                      <a:pt x="129" y="0"/>
                    </a:moveTo>
                    <a:lnTo>
                      <a:pt x="129" y="24"/>
                    </a:lnTo>
                    <a:lnTo>
                      <a:pt x="116" y="37"/>
                    </a:lnTo>
                    <a:lnTo>
                      <a:pt x="103" y="49"/>
                    </a:lnTo>
                    <a:lnTo>
                      <a:pt x="89" y="70"/>
                    </a:lnTo>
                    <a:lnTo>
                      <a:pt x="75" y="95"/>
                    </a:lnTo>
                    <a:lnTo>
                      <a:pt x="53" y="95"/>
                    </a:lnTo>
                    <a:lnTo>
                      <a:pt x="26" y="95"/>
                    </a:lnTo>
                    <a:lnTo>
                      <a:pt x="0" y="83"/>
                    </a:lnTo>
                    <a:lnTo>
                      <a:pt x="13" y="107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4" name=""/>
              <p:cNvGrpSpPr/>
              <p:nvPr/>
            </p:nvGrpSpPr>
            <p:grpSpPr>
              <a:xfrm>
                <a:off x="4826160" y="5999040"/>
                <a:ext cx="449640" cy="438840"/>
                <a:chOff x="4826160" y="5999040"/>
                <a:chExt cx="449640" cy="4388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900680" y="6275520"/>
                  <a:ext cx="375120" cy="162360"/>
                </a:xfrm>
                <a:custGeom>
                  <a:avLst/>
                  <a:gdLst/>
                  <a:ahLst/>
                  <a:rect l="0" t="0" r="r" b="b"/>
                  <a:pathLst>
                    <a:path w="1042" h="451">
                      <a:moveTo>
                        <a:pt x="0" y="213"/>
                      </a:moveTo>
                      <a:lnTo>
                        <a:pt x="66" y="283"/>
                      </a:lnTo>
                      <a:lnTo>
                        <a:pt x="114" y="345"/>
                      </a:lnTo>
                      <a:lnTo>
                        <a:pt x="141" y="394"/>
                      </a:lnTo>
                      <a:lnTo>
                        <a:pt x="194" y="414"/>
                      </a:lnTo>
                      <a:lnTo>
                        <a:pt x="269" y="439"/>
                      </a:lnTo>
                      <a:lnTo>
                        <a:pt x="362" y="439"/>
                      </a:lnTo>
                      <a:lnTo>
                        <a:pt x="450" y="451"/>
                      </a:lnTo>
                      <a:lnTo>
                        <a:pt x="525" y="439"/>
                      </a:lnTo>
                      <a:lnTo>
                        <a:pt x="591" y="402"/>
                      </a:lnTo>
                      <a:lnTo>
                        <a:pt x="644" y="370"/>
                      </a:lnTo>
                      <a:lnTo>
                        <a:pt x="706" y="319"/>
                      </a:lnTo>
                      <a:lnTo>
                        <a:pt x="786" y="250"/>
                      </a:lnTo>
                      <a:lnTo>
                        <a:pt x="875" y="189"/>
                      </a:lnTo>
                      <a:lnTo>
                        <a:pt x="928" y="168"/>
                      </a:lnTo>
                      <a:lnTo>
                        <a:pt x="976" y="119"/>
                      </a:lnTo>
                      <a:lnTo>
                        <a:pt x="1003" y="81"/>
                      </a:lnTo>
                      <a:lnTo>
                        <a:pt x="1029" y="36"/>
                      </a:lnTo>
                      <a:lnTo>
                        <a:pt x="1042" y="0"/>
                      </a:lnTo>
                      <a:lnTo>
                        <a:pt x="0" y="2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4826160" y="5999040"/>
                  <a:ext cx="408240" cy="348480"/>
                  <a:chOff x="4826160" y="5999040"/>
                  <a:chExt cx="408240" cy="34848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4923000" y="6154560"/>
                    <a:ext cx="219600" cy="192960"/>
                    <a:chOff x="4923000" y="6154560"/>
                    <a:chExt cx="219600" cy="192960"/>
                  </a:xfrm>
                </p:grpSpPr>
                <p:grpSp>
                  <p:nvGrpSpPr>
                    <p:cNvPr id="448" name=""/>
                    <p:cNvGrpSpPr/>
                    <p:nvPr/>
                  </p:nvGrpSpPr>
                  <p:grpSpPr>
                    <a:xfrm>
                      <a:off x="4965840" y="6154560"/>
                      <a:ext cx="130680" cy="77040"/>
                      <a:chOff x="4965840" y="6154560"/>
                      <a:chExt cx="130680" cy="77040"/>
                    </a:xfrm>
                  </p:grpSpPr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4965840" y="6154560"/>
                        <a:ext cx="51120" cy="716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42" h="199">
                            <a:moveTo>
                              <a:pt x="13" y="0"/>
                            </a:moveTo>
                            <a:lnTo>
                              <a:pt x="26" y="36"/>
                            </a:lnTo>
                            <a:lnTo>
                              <a:pt x="13" y="68"/>
                            </a:lnTo>
                            <a:lnTo>
                              <a:pt x="0" y="93"/>
                            </a:lnTo>
                            <a:lnTo>
                              <a:pt x="0" y="118"/>
                            </a:lnTo>
                            <a:lnTo>
                              <a:pt x="0" y="142"/>
                            </a:lnTo>
                            <a:lnTo>
                              <a:pt x="13" y="162"/>
                            </a:lnTo>
                            <a:lnTo>
                              <a:pt x="39" y="175"/>
                            </a:lnTo>
                            <a:lnTo>
                              <a:pt x="66" y="187"/>
                            </a:lnTo>
                            <a:lnTo>
                              <a:pt x="89" y="187"/>
                            </a:lnTo>
                            <a:lnTo>
                              <a:pt x="142" y="199"/>
                            </a:lnTo>
                            <a:lnTo>
                              <a:pt x="13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5025960" y="6205680"/>
                        <a:ext cx="399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" h="72">
                            <a:moveTo>
                              <a:pt x="0" y="72"/>
                            </a:moveTo>
                            <a:lnTo>
                              <a:pt x="48" y="27"/>
                            </a:lnTo>
                            <a:lnTo>
                              <a:pt x="84" y="0"/>
                            </a:lnTo>
                            <a:lnTo>
                              <a:pt x="98" y="0"/>
                            </a:lnTo>
                            <a:lnTo>
                              <a:pt x="111" y="27"/>
                            </a:lnTo>
                            <a:lnTo>
                              <a:pt x="75" y="45"/>
                            </a:lnTo>
                            <a:lnTo>
                              <a:pt x="0" y="7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5070600" y="6178680"/>
                        <a:ext cx="25920" cy="38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72" h="107">
                            <a:moveTo>
                              <a:pt x="56" y="0"/>
                            </a:moveTo>
                            <a:lnTo>
                              <a:pt x="56" y="24"/>
                            </a:lnTo>
                            <a:lnTo>
                              <a:pt x="56" y="37"/>
                            </a:lnTo>
                            <a:lnTo>
                              <a:pt x="72" y="57"/>
                            </a:lnTo>
                            <a:lnTo>
                              <a:pt x="56" y="83"/>
                            </a:lnTo>
                            <a:lnTo>
                              <a:pt x="38" y="95"/>
                            </a:lnTo>
                            <a:lnTo>
                              <a:pt x="16" y="95"/>
                            </a:lnTo>
                            <a:lnTo>
                              <a:pt x="0" y="107"/>
                            </a:lnTo>
                            <a:lnTo>
                              <a:pt x="5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4923000" y="6259680"/>
                      <a:ext cx="219600" cy="87840"/>
                      <a:chOff x="4923000" y="6259680"/>
                      <a:chExt cx="219600" cy="8784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4975200" y="6321600"/>
                        <a:ext cx="12096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6" h="72">
                            <a:moveTo>
                              <a:pt x="0" y="39"/>
                            </a:moveTo>
                            <a:lnTo>
                              <a:pt x="26" y="52"/>
                            </a:lnTo>
                            <a:lnTo>
                              <a:pt x="66" y="72"/>
                            </a:lnTo>
                            <a:lnTo>
                              <a:pt x="114" y="72"/>
                            </a:lnTo>
                            <a:lnTo>
                              <a:pt x="167" y="72"/>
                            </a:lnTo>
                            <a:lnTo>
                              <a:pt x="208" y="72"/>
                            </a:lnTo>
                            <a:lnTo>
                              <a:pt x="247" y="52"/>
                            </a:lnTo>
                            <a:lnTo>
                              <a:pt x="283" y="20"/>
                            </a:lnTo>
                            <a:lnTo>
                              <a:pt x="322" y="0"/>
                            </a:lnTo>
                            <a:lnTo>
                              <a:pt x="336" y="0"/>
                            </a:lnTo>
                            <a:lnTo>
                              <a:pt x="0" y="39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54" name=""/>
                      <p:cNvGrpSpPr/>
                      <p:nvPr/>
                    </p:nvGrpSpPr>
                    <p:grpSpPr>
                      <a:xfrm>
                        <a:off x="4923000" y="6259680"/>
                        <a:ext cx="219600" cy="62280"/>
                        <a:chOff x="4923000" y="6259680"/>
                        <a:chExt cx="219600" cy="62280"/>
                      </a:xfrm>
                    </p:grpSpPr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4934880" y="6269760"/>
                          <a:ext cx="184680" cy="3024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513" h="84">
                              <a:moveTo>
                                <a:pt x="256" y="0"/>
                              </a:moveTo>
                              <a:lnTo>
                                <a:pt x="0" y="11"/>
                              </a:lnTo>
                              <a:lnTo>
                                <a:pt x="0" y="11"/>
                              </a:lnTo>
                              <a:cubicBezTo>
                                <a:pt x="4" y="22"/>
                                <a:pt x="15" y="33"/>
                                <a:pt x="33" y="43"/>
                              </a:cubicBezTo>
                              <a:cubicBezTo>
                                <a:pt x="55" y="55"/>
                                <a:pt x="88" y="66"/>
                                <a:pt x="127" y="73"/>
                              </a:cubicBezTo>
                              <a:cubicBezTo>
                                <a:pt x="166" y="81"/>
                                <a:pt x="211" y="84"/>
                                <a:pt x="256" y="84"/>
                              </a:cubicBezTo>
                              <a:cubicBezTo>
                                <a:pt x="301" y="84"/>
                                <a:pt x="346" y="81"/>
                                <a:pt x="385" y="73"/>
                              </a:cubicBezTo>
                              <a:cubicBezTo>
                                <a:pt x="424" y="66"/>
                                <a:pt x="457" y="55"/>
                                <a:pt x="480" y="43"/>
                              </a:cubicBezTo>
                              <a:cubicBezTo>
                                <a:pt x="498" y="33"/>
                                <a:pt x="509" y="21"/>
                                <a:pt x="513" y="9"/>
                              </a:cubicBezTo>
                              <a:lnTo>
                                <a:pt x="2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20880" bIns="-20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56" name=""/>
                        <p:cNvGrpSpPr/>
                        <p:nvPr/>
                      </p:nvGrpSpPr>
                      <p:grpSpPr>
                        <a:xfrm>
                          <a:off x="4923000" y="6259680"/>
                          <a:ext cx="219600" cy="62280"/>
                          <a:chOff x="4923000" y="6259680"/>
                          <a:chExt cx="219600" cy="62280"/>
                        </a:xfrm>
                      </p:grpSpPr>
                      <p:sp>
                        <p:nvSpPr>
                          <p:cNvPr id="457" name=""/>
                          <p:cNvSpPr/>
                          <p:nvPr/>
                        </p:nvSpPr>
                        <p:spPr>
                          <a:xfrm>
                            <a:off x="4929120" y="6269040"/>
                            <a:ext cx="208440" cy="5292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579" h="147">
                                <a:moveTo>
                                  <a:pt x="0" y="0"/>
                                </a:moveTo>
                                <a:lnTo>
                                  <a:pt x="13" y="24"/>
                                </a:lnTo>
                                <a:lnTo>
                                  <a:pt x="39" y="49"/>
                                </a:lnTo>
                                <a:lnTo>
                                  <a:pt x="52" y="73"/>
                                </a:lnTo>
                                <a:lnTo>
                                  <a:pt x="74" y="85"/>
                                </a:lnTo>
                                <a:lnTo>
                                  <a:pt x="101" y="111"/>
                                </a:lnTo>
                                <a:lnTo>
                                  <a:pt x="141" y="123"/>
                                </a:lnTo>
                                <a:lnTo>
                                  <a:pt x="181" y="135"/>
                                </a:lnTo>
                                <a:lnTo>
                                  <a:pt x="208" y="147"/>
                                </a:lnTo>
                                <a:lnTo>
                                  <a:pt x="256" y="147"/>
                                </a:lnTo>
                                <a:lnTo>
                                  <a:pt x="296" y="135"/>
                                </a:lnTo>
                                <a:lnTo>
                                  <a:pt x="336" y="135"/>
                                </a:lnTo>
                                <a:lnTo>
                                  <a:pt x="371" y="123"/>
                                </a:lnTo>
                                <a:lnTo>
                                  <a:pt x="411" y="111"/>
                                </a:lnTo>
                                <a:lnTo>
                                  <a:pt x="438" y="98"/>
                                </a:lnTo>
                                <a:lnTo>
                                  <a:pt x="478" y="85"/>
                                </a:lnTo>
                                <a:lnTo>
                                  <a:pt x="504" y="73"/>
                                </a:lnTo>
                                <a:lnTo>
                                  <a:pt x="539" y="49"/>
                                </a:lnTo>
                                <a:lnTo>
                                  <a:pt x="553" y="24"/>
                                </a:lnTo>
                                <a:lnTo>
                                  <a:pt x="579" y="0"/>
                                </a:lnTo>
                                <a:lnTo>
                                  <a:pt x="539" y="12"/>
                                </a:lnTo>
                                <a:lnTo>
                                  <a:pt x="513" y="24"/>
                                </a:lnTo>
                                <a:lnTo>
                                  <a:pt x="491" y="24"/>
                                </a:lnTo>
                                <a:lnTo>
                                  <a:pt x="451" y="36"/>
                                </a:lnTo>
                                <a:lnTo>
                                  <a:pt x="424" y="49"/>
                                </a:lnTo>
                                <a:lnTo>
                                  <a:pt x="384" y="49"/>
                                </a:lnTo>
                                <a:lnTo>
                                  <a:pt x="349" y="61"/>
                                </a:lnTo>
                                <a:lnTo>
                                  <a:pt x="322" y="61"/>
                                </a:lnTo>
                                <a:lnTo>
                                  <a:pt x="269" y="73"/>
                                </a:lnTo>
                                <a:lnTo>
                                  <a:pt x="230" y="73"/>
                                </a:lnTo>
                                <a:lnTo>
                                  <a:pt x="195" y="61"/>
                                </a:lnTo>
                                <a:lnTo>
                                  <a:pt x="155" y="61"/>
                                </a:lnTo>
                                <a:lnTo>
                                  <a:pt x="101" y="49"/>
                                </a:lnTo>
                                <a:lnTo>
                                  <a:pt x="66" y="36"/>
                                </a:lnTo>
                                <a:lnTo>
                                  <a:pt x="39" y="12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1800" bIns="1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" name=""/>
                          <p:cNvSpPr/>
                          <p:nvPr/>
                        </p:nvSpPr>
                        <p:spPr>
                          <a:xfrm>
                            <a:off x="4923000" y="6259680"/>
                            <a:ext cx="219600" cy="27360"/>
                          </a:xfrm>
                          <a:custGeom>
                            <a:avLst/>
                            <a:gdLst/>
                            <a:ahLst/>
                            <a:rect l="0" t="0" r="r" b="b"/>
                            <a:pathLst>
                              <a:path w="610" h="76">
                                <a:moveTo>
                                  <a:pt x="0" y="25"/>
                                </a:moveTo>
                                <a:lnTo>
                                  <a:pt x="39" y="12"/>
                                </a:lnTo>
                                <a:lnTo>
                                  <a:pt x="79" y="12"/>
                                </a:lnTo>
                                <a:lnTo>
                                  <a:pt x="127" y="12"/>
                                </a:lnTo>
                                <a:lnTo>
                                  <a:pt x="181" y="0"/>
                                </a:lnTo>
                                <a:lnTo>
                                  <a:pt x="208" y="12"/>
                                </a:lnTo>
                                <a:lnTo>
                                  <a:pt x="234" y="12"/>
                                </a:lnTo>
                                <a:lnTo>
                                  <a:pt x="247" y="12"/>
                                </a:lnTo>
                                <a:lnTo>
                                  <a:pt x="287" y="0"/>
                                </a:lnTo>
                                <a:lnTo>
                                  <a:pt x="402" y="12"/>
                                </a:lnTo>
                                <a:lnTo>
                                  <a:pt x="469" y="12"/>
                                </a:lnTo>
                                <a:lnTo>
                                  <a:pt x="544" y="25"/>
                                </a:lnTo>
                                <a:lnTo>
                                  <a:pt x="610" y="25"/>
                                </a:lnTo>
                                <a:lnTo>
                                  <a:pt x="570" y="38"/>
                                </a:lnTo>
                                <a:lnTo>
                                  <a:pt x="544" y="50"/>
                                </a:lnTo>
                                <a:lnTo>
                                  <a:pt x="531" y="50"/>
                                </a:lnTo>
                                <a:lnTo>
                                  <a:pt x="469" y="50"/>
                                </a:lnTo>
                                <a:lnTo>
                                  <a:pt x="415" y="50"/>
                                </a:lnTo>
                                <a:lnTo>
                                  <a:pt x="322" y="64"/>
                                </a:lnTo>
                                <a:lnTo>
                                  <a:pt x="287" y="64"/>
                                </a:lnTo>
                                <a:lnTo>
                                  <a:pt x="247" y="76"/>
                                </a:lnTo>
                                <a:lnTo>
                                  <a:pt x="181" y="64"/>
                                </a:lnTo>
                                <a:lnTo>
                                  <a:pt x="155" y="50"/>
                                </a:lnTo>
                                <a:lnTo>
                                  <a:pt x="101" y="50"/>
                                </a:lnTo>
                                <a:lnTo>
                                  <a:pt x="39" y="38"/>
                                </a:lnTo>
                                <a:lnTo>
                                  <a:pt x="0" y="2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23760" bIns="-23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459" name=""/>
                  <p:cNvGrpSpPr/>
                  <p:nvPr/>
                </p:nvGrpSpPr>
                <p:grpSpPr>
                  <a:xfrm>
                    <a:off x="4826160" y="5999040"/>
                    <a:ext cx="408240" cy="105120"/>
                    <a:chOff x="4826160" y="5999040"/>
                    <a:chExt cx="408240" cy="105120"/>
                  </a:xfrm>
                </p:grpSpPr>
                <p:grpSp>
                  <p:nvGrpSpPr>
                    <p:cNvPr id="460" name=""/>
                    <p:cNvGrpSpPr/>
                    <p:nvPr/>
                  </p:nvGrpSpPr>
                  <p:grpSpPr>
                    <a:xfrm>
                      <a:off x="4826160" y="5999040"/>
                      <a:ext cx="408240" cy="51120"/>
                      <a:chOff x="4826160" y="5999040"/>
                      <a:chExt cx="408240" cy="51120"/>
                    </a:xfrm>
                  </p:grpSpPr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5062680" y="5999040"/>
                        <a:ext cx="171720" cy="338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477" h="94">
                            <a:moveTo>
                              <a:pt x="0" y="82"/>
                            </a:moveTo>
                            <a:lnTo>
                              <a:pt x="13" y="94"/>
                            </a:lnTo>
                            <a:lnTo>
                              <a:pt x="39" y="94"/>
                            </a:lnTo>
                            <a:lnTo>
                              <a:pt x="48" y="94"/>
                            </a:lnTo>
                            <a:lnTo>
                              <a:pt x="61" y="74"/>
                            </a:lnTo>
                            <a:lnTo>
                              <a:pt x="114" y="53"/>
                            </a:lnTo>
                            <a:lnTo>
                              <a:pt x="136" y="41"/>
                            </a:lnTo>
                            <a:lnTo>
                              <a:pt x="198" y="33"/>
                            </a:lnTo>
                            <a:lnTo>
                              <a:pt x="239" y="33"/>
                            </a:lnTo>
                            <a:lnTo>
                              <a:pt x="287" y="33"/>
                            </a:lnTo>
                            <a:lnTo>
                              <a:pt x="353" y="41"/>
                            </a:lnTo>
                            <a:lnTo>
                              <a:pt x="375" y="41"/>
                            </a:lnTo>
                            <a:lnTo>
                              <a:pt x="415" y="61"/>
                            </a:lnTo>
                            <a:lnTo>
                              <a:pt x="450" y="74"/>
                            </a:lnTo>
                            <a:lnTo>
                              <a:pt x="477" y="74"/>
                            </a:lnTo>
                            <a:lnTo>
                              <a:pt x="428" y="53"/>
                            </a:lnTo>
                            <a:lnTo>
                              <a:pt x="389" y="33"/>
                            </a:lnTo>
                            <a:lnTo>
                              <a:pt x="362" y="20"/>
                            </a:lnTo>
                            <a:lnTo>
                              <a:pt x="327" y="0"/>
                            </a:lnTo>
                            <a:lnTo>
                              <a:pt x="300" y="0"/>
                            </a:lnTo>
                            <a:lnTo>
                              <a:pt x="265" y="0"/>
                            </a:lnTo>
                            <a:lnTo>
                              <a:pt x="211" y="0"/>
                            </a:lnTo>
                            <a:lnTo>
                              <a:pt x="189" y="0"/>
                            </a:lnTo>
                            <a:lnTo>
                              <a:pt x="114" y="12"/>
                            </a:lnTo>
                            <a:lnTo>
                              <a:pt x="74" y="20"/>
                            </a:lnTo>
                            <a:lnTo>
                              <a:pt x="48" y="33"/>
                            </a:lnTo>
                            <a:lnTo>
                              <a:pt x="39" y="41"/>
                            </a:lnTo>
                            <a:lnTo>
                              <a:pt x="13" y="61"/>
                            </a:lnTo>
                            <a:lnTo>
                              <a:pt x="0" y="8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7280" bIns="-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4826160" y="6006960"/>
                        <a:ext cx="125640" cy="432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49" h="120">
                            <a:moveTo>
                              <a:pt x="0" y="120"/>
                            </a:moveTo>
                            <a:lnTo>
                              <a:pt x="26" y="74"/>
                            </a:lnTo>
                            <a:lnTo>
                              <a:pt x="48" y="53"/>
                            </a:lnTo>
                            <a:lnTo>
                              <a:pt x="61" y="32"/>
                            </a:lnTo>
                            <a:lnTo>
                              <a:pt x="88" y="12"/>
                            </a:lnTo>
                            <a:lnTo>
                              <a:pt x="110" y="0"/>
                            </a:lnTo>
                            <a:lnTo>
                              <a:pt x="149" y="0"/>
                            </a:lnTo>
                            <a:lnTo>
                              <a:pt x="186" y="12"/>
                            </a:lnTo>
                            <a:lnTo>
                              <a:pt x="212" y="20"/>
                            </a:lnTo>
                            <a:lnTo>
                              <a:pt x="239" y="20"/>
                            </a:lnTo>
                            <a:lnTo>
                              <a:pt x="287" y="20"/>
                            </a:lnTo>
                            <a:lnTo>
                              <a:pt x="314" y="45"/>
                            </a:lnTo>
                            <a:lnTo>
                              <a:pt x="322" y="53"/>
                            </a:lnTo>
                            <a:lnTo>
                              <a:pt x="349" y="66"/>
                            </a:lnTo>
                            <a:lnTo>
                              <a:pt x="336" y="74"/>
                            </a:lnTo>
                            <a:lnTo>
                              <a:pt x="322" y="87"/>
                            </a:lnTo>
                            <a:lnTo>
                              <a:pt x="314" y="87"/>
                            </a:lnTo>
                            <a:lnTo>
                              <a:pt x="287" y="87"/>
                            </a:lnTo>
                            <a:lnTo>
                              <a:pt x="274" y="87"/>
                            </a:lnTo>
                            <a:lnTo>
                              <a:pt x="239" y="74"/>
                            </a:lnTo>
                            <a:lnTo>
                              <a:pt x="186" y="66"/>
                            </a:lnTo>
                            <a:lnTo>
                              <a:pt x="149" y="45"/>
                            </a:lnTo>
                            <a:lnTo>
                              <a:pt x="110" y="45"/>
                            </a:lnTo>
                            <a:lnTo>
                              <a:pt x="101" y="45"/>
                            </a:lnTo>
                            <a:lnTo>
                              <a:pt x="61" y="53"/>
                            </a:lnTo>
                            <a:lnTo>
                              <a:pt x="48" y="66"/>
                            </a:lnTo>
                            <a:lnTo>
                              <a:pt x="26" y="87"/>
                            </a:lnTo>
                            <a:lnTo>
                              <a:pt x="13" y="99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7920" bIns="-7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3" name=""/>
                    <p:cNvGrpSpPr/>
                    <p:nvPr/>
                  </p:nvGrpSpPr>
                  <p:grpSpPr>
                    <a:xfrm>
                      <a:off x="5076720" y="6041880"/>
                      <a:ext cx="119520" cy="51120"/>
                      <a:chOff x="5076720" y="6041880"/>
                      <a:chExt cx="119520" cy="51120"/>
                    </a:xfrm>
                  </p:grpSpPr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5076720" y="6041880"/>
                        <a:ext cx="119520" cy="511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2" h="142">
                            <a:moveTo>
                              <a:pt x="332" y="93"/>
                            </a:moveTo>
                            <a:lnTo>
                              <a:pt x="319" y="81"/>
                            </a:lnTo>
                            <a:lnTo>
                              <a:pt x="306" y="60"/>
                            </a:lnTo>
                            <a:lnTo>
                              <a:pt x="279" y="48"/>
                            </a:lnTo>
                            <a:lnTo>
                              <a:pt x="257" y="24"/>
                            </a:lnTo>
                            <a:lnTo>
                              <a:pt x="230" y="12"/>
                            </a:lnTo>
                            <a:lnTo>
                              <a:pt x="203" y="0"/>
                            </a:lnTo>
                            <a:lnTo>
                              <a:pt x="177" y="0"/>
                            </a:lnTo>
                            <a:lnTo>
                              <a:pt x="142" y="0"/>
                            </a:lnTo>
                            <a:lnTo>
                              <a:pt x="115" y="12"/>
                            </a:lnTo>
                            <a:lnTo>
                              <a:pt x="74" y="24"/>
                            </a:lnTo>
                            <a:lnTo>
                              <a:pt x="61" y="36"/>
                            </a:lnTo>
                            <a:lnTo>
                              <a:pt x="39" y="48"/>
                            </a:lnTo>
                            <a:lnTo>
                              <a:pt x="13" y="81"/>
                            </a:lnTo>
                            <a:lnTo>
                              <a:pt x="0" y="93"/>
                            </a:lnTo>
                            <a:lnTo>
                              <a:pt x="13" y="105"/>
                            </a:lnTo>
                            <a:lnTo>
                              <a:pt x="52" y="117"/>
                            </a:lnTo>
                            <a:lnTo>
                              <a:pt x="89" y="130"/>
                            </a:lnTo>
                            <a:lnTo>
                              <a:pt x="128" y="142"/>
                            </a:lnTo>
                            <a:lnTo>
                              <a:pt x="177" y="142"/>
                            </a:lnTo>
                            <a:lnTo>
                              <a:pt x="203" y="142"/>
                            </a:lnTo>
                            <a:lnTo>
                              <a:pt x="243" y="130"/>
                            </a:lnTo>
                            <a:lnTo>
                              <a:pt x="270" y="130"/>
                            </a:lnTo>
                            <a:lnTo>
                              <a:pt x="306" y="105"/>
                            </a:lnTo>
                            <a:lnTo>
                              <a:pt x="332" y="9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0" bIns="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5" name=""/>
                      <p:cNvGrpSpPr/>
                      <p:nvPr/>
                    </p:nvGrpSpPr>
                    <p:grpSpPr>
                      <a:xfrm>
                        <a:off x="5108400" y="6049800"/>
                        <a:ext cx="52560" cy="42840"/>
                        <a:chOff x="5108400" y="6049800"/>
                        <a:chExt cx="52560" cy="42840"/>
                      </a:xfrm>
                    </p:grpSpPr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5108400" y="6049800"/>
                          <a:ext cx="52560" cy="4284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8280" bIns="-8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5119560" y="6049800"/>
                          <a:ext cx="31680" cy="3960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11520" bIns="-11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5076720" y="6041880"/>
                        <a:ext cx="119520" cy="385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32" h="107">
                            <a:moveTo>
                              <a:pt x="332" y="95"/>
                            </a:moveTo>
                            <a:lnTo>
                              <a:pt x="306" y="57"/>
                            </a:lnTo>
                            <a:lnTo>
                              <a:pt x="279" y="37"/>
                            </a:lnTo>
                            <a:lnTo>
                              <a:pt x="257" y="24"/>
                            </a:lnTo>
                            <a:lnTo>
                              <a:pt x="230" y="12"/>
                            </a:lnTo>
                            <a:lnTo>
                              <a:pt x="190" y="0"/>
                            </a:lnTo>
                            <a:lnTo>
                              <a:pt x="168" y="0"/>
                            </a:lnTo>
                            <a:lnTo>
                              <a:pt x="142" y="0"/>
                            </a:lnTo>
                            <a:lnTo>
                              <a:pt x="102" y="12"/>
                            </a:lnTo>
                            <a:lnTo>
                              <a:pt x="61" y="37"/>
                            </a:lnTo>
                            <a:lnTo>
                              <a:pt x="39" y="49"/>
                            </a:lnTo>
                            <a:lnTo>
                              <a:pt x="0" y="107"/>
                            </a:lnTo>
                            <a:lnTo>
                              <a:pt x="26" y="95"/>
                            </a:lnTo>
                            <a:lnTo>
                              <a:pt x="61" y="70"/>
                            </a:lnTo>
                            <a:lnTo>
                              <a:pt x="102" y="57"/>
                            </a:lnTo>
                            <a:lnTo>
                              <a:pt x="142" y="37"/>
                            </a:lnTo>
                            <a:lnTo>
                              <a:pt x="168" y="37"/>
                            </a:lnTo>
                            <a:lnTo>
                              <a:pt x="203" y="37"/>
                            </a:lnTo>
                            <a:lnTo>
                              <a:pt x="243" y="37"/>
                            </a:lnTo>
                            <a:lnTo>
                              <a:pt x="270" y="49"/>
                            </a:lnTo>
                            <a:lnTo>
                              <a:pt x="293" y="57"/>
                            </a:lnTo>
                            <a:lnTo>
                              <a:pt x="332" y="9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12600" bIns="-12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9" name=""/>
                    <p:cNvGrpSpPr/>
                    <p:nvPr/>
                  </p:nvGrpSpPr>
                  <p:grpSpPr>
                    <a:xfrm>
                      <a:off x="4848120" y="6046920"/>
                      <a:ext cx="348480" cy="57240"/>
                      <a:chOff x="4848120" y="6046920"/>
                      <a:chExt cx="348480" cy="57240"/>
                    </a:xfrm>
                  </p:grpSpPr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4848120" y="6064200"/>
                        <a:ext cx="1130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4" h="72">
                            <a:moveTo>
                              <a:pt x="0" y="58"/>
                            </a:moveTo>
                            <a:lnTo>
                              <a:pt x="26" y="43"/>
                            </a:lnTo>
                            <a:lnTo>
                              <a:pt x="52" y="29"/>
                            </a:lnTo>
                            <a:lnTo>
                              <a:pt x="79" y="0"/>
                            </a:lnTo>
                            <a:lnTo>
                              <a:pt x="119" y="0"/>
                            </a:lnTo>
                            <a:lnTo>
                              <a:pt x="145" y="0"/>
                            </a:lnTo>
                            <a:lnTo>
                              <a:pt x="168" y="0"/>
                            </a:lnTo>
                            <a:lnTo>
                              <a:pt x="208" y="0"/>
                            </a:lnTo>
                            <a:lnTo>
                              <a:pt x="247" y="29"/>
                            </a:lnTo>
                            <a:lnTo>
                              <a:pt x="274" y="43"/>
                            </a:lnTo>
                            <a:lnTo>
                              <a:pt x="300" y="58"/>
                            </a:lnTo>
                            <a:lnTo>
                              <a:pt x="314" y="72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5081760" y="6054840"/>
                        <a:ext cx="114840" cy="2592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319" h="72">
                            <a:moveTo>
                              <a:pt x="319" y="60"/>
                            </a:moveTo>
                            <a:lnTo>
                              <a:pt x="293" y="38"/>
                            </a:lnTo>
                            <a:lnTo>
                              <a:pt x="266" y="25"/>
                            </a:lnTo>
                            <a:lnTo>
                              <a:pt x="244" y="12"/>
                            </a:lnTo>
                            <a:lnTo>
                              <a:pt x="203" y="0"/>
                            </a:lnTo>
                            <a:lnTo>
                              <a:pt x="177" y="0"/>
                            </a:lnTo>
                            <a:lnTo>
                              <a:pt x="155" y="0"/>
                            </a:lnTo>
                            <a:lnTo>
                              <a:pt x="115" y="0"/>
                            </a:lnTo>
                            <a:lnTo>
                              <a:pt x="74" y="25"/>
                            </a:lnTo>
                            <a:lnTo>
                              <a:pt x="52" y="38"/>
                            </a:lnTo>
                            <a:lnTo>
                              <a:pt x="26" y="60"/>
                            </a:lnTo>
                            <a:lnTo>
                              <a:pt x="0" y="72"/>
                            </a:lnTo>
                            <a:lnTo>
                              <a:pt x="319" y="6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-25200" bIns="-25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72" name=""/>
                      <p:cNvGrpSpPr/>
                      <p:nvPr/>
                    </p:nvGrpSpPr>
                    <p:grpSpPr>
                      <a:xfrm>
                        <a:off x="4848120" y="6046920"/>
                        <a:ext cx="122760" cy="57240"/>
                        <a:chOff x="4848120" y="6046920"/>
                        <a:chExt cx="122760" cy="57240"/>
                      </a:xfrm>
                    </p:grpSpPr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>
                          <a:off x="4848120" y="6049800"/>
                          <a:ext cx="122760" cy="5436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1" h="151">
                              <a:moveTo>
                                <a:pt x="0" y="100"/>
                              </a:moveTo>
                              <a:lnTo>
                                <a:pt x="13" y="75"/>
                              </a:lnTo>
                              <a:lnTo>
                                <a:pt x="26" y="63"/>
                              </a:lnTo>
                              <a:lnTo>
                                <a:pt x="52" y="37"/>
                              </a:lnTo>
                              <a:lnTo>
                                <a:pt x="79" y="24"/>
                              </a:lnTo>
                              <a:lnTo>
                                <a:pt x="106" y="12"/>
                              </a:lnTo>
                              <a:lnTo>
                                <a:pt x="133" y="0"/>
                              </a:lnTo>
                              <a:lnTo>
                                <a:pt x="159" y="0"/>
                              </a:lnTo>
                              <a:lnTo>
                                <a:pt x="195" y="0"/>
                              </a:lnTo>
                              <a:lnTo>
                                <a:pt x="221" y="12"/>
                              </a:lnTo>
                              <a:lnTo>
                                <a:pt x="247" y="12"/>
                              </a:lnTo>
                              <a:lnTo>
                                <a:pt x="275" y="37"/>
                              </a:lnTo>
                              <a:lnTo>
                                <a:pt x="301" y="50"/>
                              </a:lnTo>
                              <a:lnTo>
                                <a:pt x="328" y="75"/>
                              </a:lnTo>
                              <a:lnTo>
                                <a:pt x="341" y="100"/>
                              </a:lnTo>
                              <a:lnTo>
                                <a:pt x="315" y="114"/>
                              </a:lnTo>
                              <a:lnTo>
                                <a:pt x="288" y="126"/>
                              </a:lnTo>
                              <a:lnTo>
                                <a:pt x="247" y="139"/>
                              </a:lnTo>
                              <a:lnTo>
                                <a:pt x="208" y="151"/>
                              </a:lnTo>
                              <a:lnTo>
                                <a:pt x="159" y="151"/>
                              </a:lnTo>
                              <a:lnTo>
                                <a:pt x="133" y="151"/>
                              </a:lnTo>
                              <a:lnTo>
                                <a:pt x="93" y="139"/>
                              </a:lnTo>
                              <a:lnTo>
                                <a:pt x="66" y="126"/>
                              </a:lnTo>
                              <a:lnTo>
                                <a:pt x="26" y="114"/>
                              </a:lnTo>
                              <a:lnTo>
                                <a:pt x="0" y="10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3240" bIns="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4" name=""/>
                        <p:cNvGrpSpPr/>
                        <p:nvPr/>
                      </p:nvGrpSpPr>
                      <p:grpSpPr>
                        <a:xfrm>
                          <a:off x="4878360" y="6057720"/>
                          <a:ext cx="55440" cy="46080"/>
                          <a:chOff x="4878360" y="6057720"/>
                          <a:chExt cx="55440" cy="46080"/>
                        </a:xfrm>
                      </p:grpSpPr>
                      <p:sp>
                        <p:nvSpPr>
                          <p:cNvPr id="475" name=""/>
                          <p:cNvSpPr/>
                          <p:nvPr/>
                        </p:nvSpPr>
                        <p:spPr>
                          <a:xfrm>
                            <a:off x="4878360" y="6057720"/>
                            <a:ext cx="55440" cy="4608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5040" bIns="-5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"/>
                          <p:cNvSpPr/>
                          <p:nvPr/>
                        </p:nvSpPr>
                        <p:spPr>
                          <a:xfrm>
                            <a:off x="4892760" y="6057720"/>
                            <a:ext cx="30240" cy="38160"/>
                          </a:xfrm>
                          <a:prstGeom prst="ellipse">
                            <a:avLst/>
                          </a:prstGeom>
                          <a:solidFill>
                            <a:srgbClr val="000000"/>
                          </a:solidFill>
                          <a:ln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txBody>
                          <a:bodyPr lIns="96120" rIns="96120" tIns="-12960" bIns="-12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4848120" y="6046920"/>
                          <a:ext cx="122760" cy="43200"/>
                        </a:xfrm>
                        <a:custGeom>
                          <a:avLst/>
                          <a:gdLst/>
                          <a:ahLst/>
                          <a:rect l="0" t="0" r="r" b="b"/>
                          <a:pathLst>
                            <a:path w="341" h="120">
                              <a:moveTo>
                                <a:pt x="0" y="95"/>
                              </a:moveTo>
                              <a:lnTo>
                                <a:pt x="26" y="70"/>
                              </a:lnTo>
                              <a:lnTo>
                                <a:pt x="52" y="49"/>
                              </a:lnTo>
                              <a:lnTo>
                                <a:pt x="79" y="36"/>
                              </a:lnTo>
                              <a:lnTo>
                                <a:pt x="106" y="12"/>
                              </a:lnTo>
                              <a:lnTo>
                                <a:pt x="146" y="12"/>
                              </a:lnTo>
                              <a:lnTo>
                                <a:pt x="172" y="0"/>
                              </a:lnTo>
                              <a:lnTo>
                                <a:pt x="195" y="12"/>
                              </a:lnTo>
                              <a:lnTo>
                                <a:pt x="234" y="24"/>
                              </a:lnTo>
                              <a:lnTo>
                                <a:pt x="262" y="36"/>
                              </a:lnTo>
                              <a:lnTo>
                                <a:pt x="301" y="62"/>
                              </a:lnTo>
                              <a:lnTo>
                                <a:pt x="341" y="107"/>
                              </a:lnTo>
                              <a:lnTo>
                                <a:pt x="328" y="120"/>
                              </a:lnTo>
                              <a:lnTo>
                                <a:pt x="301" y="107"/>
                              </a:lnTo>
                              <a:lnTo>
                                <a:pt x="275" y="83"/>
                              </a:lnTo>
                              <a:lnTo>
                                <a:pt x="234" y="62"/>
                              </a:lnTo>
                              <a:lnTo>
                                <a:pt x="195" y="49"/>
                              </a:lnTo>
                              <a:lnTo>
                                <a:pt x="172" y="49"/>
                              </a:lnTo>
                              <a:lnTo>
                                <a:pt x="133" y="49"/>
                              </a:lnTo>
                              <a:lnTo>
                                <a:pt x="93" y="49"/>
                              </a:lnTo>
                              <a:lnTo>
                                <a:pt x="66" y="62"/>
                              </a:lnTo>
                              <a:lnTo>
                                <a:pt x="39" y="70"/>
                              </a:lnTo>
                              <a:lnTo>
                                <a:pt x="0" y="9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txBody>
                        <a:bodyPr lIns="96120" rIns="96120" tIns="-7920" bIns="-7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  <p:sp>
          <p:nvSpPr>
            <p:cNvPr id="478" name=""/>
            <p:cNvSpPr/>
            <p:nvPr/>
          </p:nvSpPr>
          <p:spPr>
            <a:xfrm>
              <a:off x="4481640" y="6541920"/>
              <a:ext cx="1073520" cy="306720"/>
            </a:xfrm>
            <a:custGeom>
              <a:avLst/>
              <a:gdLst/>
              <a:ahLst/>
              <a:rect l="0" t="0" r="r" b="b"/>
              <a:pathLst>
                <a:path w="2982" h="852">
                  <a:moveTo>
                    <a:pt x="52" y="852"/>
                  </a:moveTo>
                  <a:lnTo>
                    <a:pt x="0" y="667"/>
                  </a:lnTo>
                  <a:lnTo>
                    <a:pt x="105" y="549"/>
                  </a:lnTo>
                  <a:lnTo>
                    <a:pt x="211" y="425"/>
                  </a:lnTo>
                  <a:lnTo>
                    <a:pt x="317" y="364"/>
                  </a:lnTo>
                  <a:lnTo>
                    <a:pt x="370" y="241"/>
                  </a:lnTo>
                  <a:lnTo>
                    <a:pt x="480" y="241"/>
                  </a:lnTo>
                  <a:lnTo>
                    <a:pt x="586" y="241"/>
                  </a:lnTo>
                  <a:lnTo>
                    <a:pt x="746" y="241"/>
                  </a:lnTo>
                  <a:lnTo>
                    <a:pt x="904" y="184"/>
                  </a:lnTo>
                  <a:lnTo>
                    <a:pt x="1068" y="184"/>
                  </a:lnTo>
                  <a:lnTo>
                    <a:pt x="1226" y="118"/>
                  </a:lnTo>
                  <a:lnTo>
                    <a:pt x="1385" y="61"/>
                  </a:lnTo>
                  <a:lnTo>
                    <a:pt x="1544" y="61"/>
                  </a:lnTo>
                  <a:lnTo>
                    <a:pt x="1703" y="118"/>
                  </a:lnTo>
                  <a:lnTo>
                    <a:pt x="1853" y="69"/>
                  </a:lnTo>
                  <a:lnTo>
                    <a:pt x="2011" y="0"/>
                  </a:lnTo>
                  <a:lnTo>
                    <a:pt x="2205" y="118"/>
                  </a:lnTo>
                  <a:lnTo>
                    <a:pt x="2343" y="184"/>
                  </a:lnTo>
                  <a:lnTo>
                    <a:pt x="2502" y="241"/>
                  </a:lnTo>
                  <a:lnTo>
                    <a:pt x="2665" y="302"/>
                  </a:lnTo>
                  <a:lnTo>
                    <a:pt x="2766" y="425"/>
                  </a:lnTo>
                  <a:lnTo>
                    <a:pt x="2877" y="487"/>
                  </a:lnTo>
                  <a:lnTo>
                    <a:pt x="2925" y="610"/>
                  </a:lnTo>
                  <a:lnTo>
                    <a:pt x="2982" y="852"/>
                  </a:lnTo>
                  <a:lnTo>
                    <a:pt x="52" y="85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3554280" y="5597640"/>
              <a:ext cx="844920" cy="1124280"/>
              <a:chOff x="3554280" y="5597640"/>
              <a:chExt cx="844920" cy="1124280"/>
            </a:xfrm>
          </p:grpSpPr>
          <p:sp>
            <p:nvSpPr>
              <p:cNvPr id="480" name=""/>
              <p:cNvSpPr/>
              <p:nvPr/>
            </p:nvSpPr>
            <p:spPr>
              <a:xfrm>
                <a:off x="3645000" y="5789520"/>
                <a:ext cx="640080" cy="763920"/>
              </a:xfrm>
              <a:custGeom>
                <a:avLst/>
                <a:gdLst/>
                <a:ahLst/>
                <a:rect l="0" t="0" r="r" b="b"/>
                <a:pathLst>
                  <a:path w="1778" h="2122">
                    <a:moveTo>
                      <a:pt x="0" y="1317"/>
                    </a:moveTo>
                    <a:lnTo>
                      <a:pt x="123" y="1490"/>
                    </a:lnTo>
                    <a:lnTo>
                      <a:pt x="185" y="1662"/>
                    </a:lnTo>
                    <a:lnTo>
                      <a:pt x="246" y="1777"/>
                    </a:lnTo>
                    <a:lnTo>
                      <a:pt x="304" y="1892"/>
                    </a:lnTo>
                    <a:lnTo>
                      <a:pt x="489" y="2007"/>
                    </a:lnTo>
                    <a:lnTo>
                      <a:pt x="674" y="2122"/>
                    </a:lnTo>
                    <a:lnTo>
                      <a:pt x="859" y="2122"/>
                    </a:lnTo>
                    <a:lnTo>
                      <a:pt x="1103" y="2122"/>
                    </a:lnTo>
                    <a:lnTo>
                      <a:pt x="1226" y="2007"/>
                    </a:lnTo>
                    <a:lnTo>
                      <a:pt x="1473" y="1834"/>
                    </a:lnTo>
                    <a:lnTo>
                      <a:pt x="1592" y="1662"/>
                    </a:lnTo>
                    <a:lnTo>
                      <a:pt x="1716" y="1547"/>
                    </a:lnTo>
                    <a:lnTo>
                      <a:pt x="1778" y="1432"/>
                    </a:lnTo>
                    <a:lnTo>
                      <a:pt x="1778" y="1260"/>
                    </a:lnTo>
                    <a:lnTo>
                      <a:pt x="1778" y="1088"/>
                    </a:lnTo>
                    <a:lnTo>
                      <a:pt x="1654" y="861"/>
                    </a:lnTo>
                    <a:lnTo>
                      <a:pt x="1592" y="689"/>
                    </a:lnTo>
                    <a:lnTo>
                      <a:pt x="1531" y="402"/>
                    </a:lnTo>
                    <a:lnTo>
                      <a:pt x="1473" y="114"/>
                    </a:lnTo>
                    <a:lnTo>
                      <a:pt x="1412" y="0"/>
                    </a:lnTo>
                    <a:lnTo>
                      <a:pt x="1350" y="172"/>
                    </a:lnTo>
                    <a:lnTo>
                      <a:pt x="1165" y="344"/>
                    </a:lnTo>
                    <a:lnTo>
                      <a:pt x="918" y="344"/>
                    </a:lnTo>
                    <a:lnTo>
                      <a:pt x="798" y="402"/>
                    </a:lnTo>
                    <a:lnTo>
                      <a:pt x="612" y="402"/>
                    </a:lnTo>
                    <a:lnTo>
                      <a:pt x="736" y="344"/>
                    </a:lnTo>
                    <a:lnTo>
                      <a:pt x="366" y="344"/>
                    </a:lnTo>
                    <a:lnTo>
                      <a:pt x="185" y="402"/>
                    </a:lnTo>
                    <a:lnTo>
                      <a:pt x="61" y="459"/>
                    </a:lnTo>
                    <a:lnTo>
                      <a:pt x="61" y="1033"/>
                    </a:lnTo>
                    <a:lnTo>
                      <a:pt x="0" y="1145"/>
                    </a:lnTo>
                    <a:lnTo>
                      <a:pt x="0" y="1260"/>
                    </a:lnTo>
                    <a:lnTo>
                      <a:pt x="0" y="1317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714840" y="6361200"/>
                <a:ext cx="547920" cy="360720"/>
              </a:xfrm>
              <a:custGeom>
                <a:avLst/>
                <a:gdLst/>
                <a:ahLst/>
                <a:rect l="0" t="0" r="r" b="b"/>
                <a:pathLst>
                  <a:path w="1522" h="1002">
                    <a:moveTo>
                      <a:pt x="123" y="220"/>
                    </a:moveTo>
                    <a:lnTo>
                      <a:pt x="61" y="388"/>
                    </a:lnTo>
                    <a:lnTo>
                      <a:pt x="0" y="556"/>
                    </a:lnTo>
                    <a:lnTo>
                      <a:pt x="304" y="781"/>
                    </a:lnTo>
                    <a:lnTo>
                      <a:pt x="427" y="891"/>
                    </a:lnTo>
                    <a:lnTo>
                      <a:pt x="608" y="944"/>
                    </a:lnTo>
                    <a:lnTo>
                      <a:pt x="732" y="1002"/>
                    </a:lnTo>
                    <a:lnTo>
                      <a:pt x="1037" y="891"/>
                    </a:lnTo>
                    <a:lnTo>
                      <a:pt x="1279" y="724"/>
                    </a:lnTo>
                    <a:lnTo>
                      <a:pt x="1522" y="503"/>
                    </a:lnTo>
                    <a:lnTo>
                      <a:pt x="1460" y="0"/>
                    </a:lnTo>
                    <a:lnTo>
                      <a:pt x="123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00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3624120" y="5873760"/>
                <a:ext cx="638640" cy="848160"/>
                <a:chOff x="3624120" y="5873760"/>
                <a:chExt cx="638640" cy="84816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3624120" y="5873760"/>
                  <a:ext cx="638640" cy="848160"/>
                  <a:chOff x="3624120" y="5873760"/>
                  <a:chExt cx="638640" cy="8481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3624120" y="5873760"/>
                    <a:ext cx="614880" cy="848160"/>
                  </a:xfrm>
                  <a:custGeom>
                    <a:avLst/>
                    <a:gdLst/>
                    <a:ahLst/>
                    <a:rect l="0" t="0" r="r" b="b"/>
                    <a:pathLst>
                      <a:path w="1708" h="2356">
                        <a:moveTo>
                          <a:pt x="1279" y="0"/>
                        </a:moveTo>
                        <a:lnTo>
                          <a:pt x="1279" y="57"/>
                        </a:lnTo>
                        <a:lnTo>
                          <a:pt x="1218" y="172"/>
                        </a:lnTo>
                        <a:lnTo>
                          <a:pt x="1160" y="286"/>
                        </a:lnTo>
                        <a:lnTo>
                          <a:pt x="1037" y="344"/>
                        </a:lnTo>
                        <a:lnTo>
                          <a:pt x="913" y="344"/>
                        </a:lnTo>
                        <a:lnTo>
                          <a:pt x="794" y="286"/>
                        </a:lnTo>
                        <a:lnTo>
                          <a:pt x="671" y="286"/>
                        </a:lnTo>
                        <a:lnTo>
                          <a:pt x="609" y="286"/>
                        </a:lnTo>
                        <a:lnTo>
                          <a:pt x="428" y="286"/>
                        </a:lnTo>
                        <a:lnTo>
                          <a:pt x="366" y="286"/>
                        </a:lnTo>
                        <a:lnTo>
                          <a:pt x="180" y="286"/>
                        </a:lnTo>
                        <a:lnTo>
                          <a:pt x="242" y="344"/>
                        </a:lnTo>
                        <a:lnTo>
                          <a:pt x="242" y="458"/>
                        </a:lnTo>
                        <a:lnTo>
                          <a:pt x="180" y="516"/>
                        </a:lnTo>
                        <a:lnTo>
                          <a:pt x="123" y="573"/>
                        </a:lnTo>
                        <a:lnTo>
                          <a:pt x="242" y="573"/>
                        </a:lnTo>
                        <a:lnTo>
                          <a:pt x="366" y="573"/>
                        </a:lnTo>
                        <a:lnTo>
                          <a:pt x="490" y="573"/>
                        </a:lnTo>
                        <a:lnTo>
                          <a:pt x="547" y="573"/>
                        </a:lnTo>
                        <a:lnTo>
                          <a:pt x="671" y="573"/>
                        </a:lnTo>
                        <a:lnTo>
                          <a:pt x="671" y="516"/>
                        </a:lnTo>
                        <a:lnTo>
                          <a:pt x="671" y="746"/>
                        </a:lnTo>
                        <a:lnTo>
                          <a:pt x="671" y="1033"/>
                        </a:lnTo>
                        <a:lnTo>
                          <a:pt x="671" y="1090"/>
                        </a:lnTo>
                        <a:lnTo>
                          <a:pt x="733" y="1090"/>
                        </a:lnTo>
                        <a:lnTo>
                          <a:pt x="856" y="1090"/>
                        </a:lnTo>
                        <a:lnTo>
                          <a:pt x="975" y="1090"/>
                        </a:lnTo>
                        <a:lnTo>
                          <a:pt x="856" y="1147"/>
                        </a:lnTo>
                        <a:lnTo>
                          <a:pt x="794" y="1209"/>
                        </a:lnTo>
                        <a:lnTo>
                          <a:pt x="794" y="1323"/>
                        </a:lnTo>
                        <a:lnTo>
                          <a:pt x="1099" y="1323"/>
                        </a:lnTo>
                        <a:lnTo>
                          <a:pt x="1099" y="1381"/>
                        </a:lnTo>
                        <a:lnTo>
                          <a:pt x="1037" y="1381"/>
                        </a:lnTo>
                        <a:lnTo>
                          <a:pt x="671" y="1381"/>
                        </a:lnTo>
                        <a:lnTo>
                          <a:pt x="733" y="1381"/>
                        </a:lnTo>
                        <a:lnTo>
                          <a:pt x="794" y="1438"/>
                        </a:lnTo>
                        <a:lnTo>
                          <a:pt x="913" y="1438"/>
                        </a:lnTo>
                        <a:lnTo>
                          <a:pt x="1037" y="1495"/>
                        </a:lnTo>
                        <a:lnTo>
                          <a:pt x="856" y="1553"/>
                        </a:lnTo>
                        <a:lnTo>
                          <a:pt x="733" y="1553"/>
                        </a:lnTo>
                        <a:lnTo>
                          <a:pt x="856" y="1667"/>
                        </a:lnTo>
                        <a:lnTo>
                          <a:pt x="733" y="1667"/>
                        </a:lnTo>
                        <a:lnTo>
                          <a:pt x="733" y="1553"/>
                        </a:lnTo>
                        <a:lnTo>
                          <a:pt x="609" y="1495"/>
                        </a:lnTo>
                        <a:lnTo>
                          <a:pt x="490" y="1381"/>
                        </a:lnTo>
                        <a:lnTo>
                          <a:pt x="609" y="1266"/>
                        </a:lnTo>
                        <a:lnTo>
                          <a:pt x="733" y="1209"/>
                        </a:lnTo>
                        <a:lnTo>
                          <a:pt x="609" y="1147"/>
                        </a:lnTo>
                        <a:lnTo>
                          <a:pt x="547" y="1147"/>
                        </a:lnTo>
                        <a:lnTo>
                          <a:pt x="609" y="861"/>
                        </a:lnTo>
                        <a:lnTo>
                          <a:pt x="609" y="746"/>
                        </a:lnTo>
                        <a:lnTo>
                          <a:pt x="490" y="803"/>
                        </a:lnTo>
                        <a:lnTo>
                          <a:pt x="366" y="803"/>
                        </a:lnTo>
                        <a:lnTo>
                          <a:pt x="180" y="746"/>
                        </a:lnTo>
                        <a:lnTo>
                          <a:pt x="180" y="861"/>
                        </a:lnTo>
                        <a:lnTo>
                          <a:pt x="123" y="975"/>
                        </a:lnTo>
                        <a:lnTo>
                          <a:pt x="123" y="1033"/>
                        </a:lnTo>
                        <a:lnTo>
                          <a:pt x="180" y="1147"/>
                        </a:lnTo>
                        <a:lnTo>
                          <a:pt x="242" y="1147"/>
                        </a:lnTo>
                        <a:lnTo>
                          <a:pt x="304" y="1090"/>
                        </a:lnTo>
                        <a:lnTo>
                          <a:pt x="304" y="1209"/>
                        </a:lnTo>
                        <a:lnTo>
                          <a:pt x="304" y="1323"/>
                        </a:lnTo>
                        <a:lnTo>
                          <a:pt x="304" y="1438"/>
                        </a:lnTo>
                        <a:lnTo>
                          <a:pt x="366" y="1553"/>
                        </a:lnTo>
                        <a:lnTo>
                          <a:pt x="428" y="1610"/>
                        </a:lnTo>
                        <a:lnTo>
                          <a:pt x="547" y="1725"/>
                        </a:lnTo>
                        <a:lnTo>
                          <a:pt x="856" y="1783"/>
                        </a:lnTo>
                        <a:lnTo>
                          <a:pt x="856" y="1667"/>
                        </a:lnTo>
                        <a:lnTo>
                          <a:pt x="975" y="1667"/>
                        </a:lnTo>
                        <a:lnTo>
                          <a:pt x="1037" y="1783"/>
                        </a:lnTo>
                        <a:lnTo>
                          <a:pt x="913" y="1840"/>
                        </a:lnTo>
                        <a:lnTo>
                          <a:pt x="1037" y="1840"/>
                        </a:lnTo>
                        <a:lnTo>
                          <a:pt x="1218" y="1840"/>
                        </a:lnTo>
                        <a:lnTo>
                          <a:pt x="1404" y="1667"/>
                        </a:lnTo>
                        <a:lnTo>
                          <a:pt x="1585" y="1495"/>
                        </a:lnTo>
                        <a:lnTo>
                          <a:pt x="1708" y="1381"/>
                        </a:lnTo>
                        <a:lnTo>
                          <a:pt x="1708" y="1495"/>
                        </a:lnTo>
                        <a:lnTo>
                          <a:pt x="1404" y="1783"/>
                        </a:lnTo>
                        <a:lnTo>
                          <a:pt x="1342" y="2184"/>
                        </a:lnTo>
                        <a:lnTo>
                          <a:pt x="975" y="2356"/>
                        </a:lnTo>
                        <a:lnTo>
                          <a:pt x="794" y="2299"/>
                        </a:lnTo>
                        <a:lnTo>
                          <a:pt x="609" y="2184"/>
                        </a:lnTo>
                        <a:lnTo>
                          <a:pt x="242" y="1898"/>
                        </a:lnTo>
                        <a:lnTo>
                          <a:pt x="304" y="1667"/>
                        </a:lnTo>
                        <a:lnTo>
                          <a:pt x="242" y="1553"/>
                        </a:lnTo>
                        <a:lnTo>
                          <a:pt x="180" y="1438"/>
                        </a:lnTo>
                        <a:lnTo>
                          <a:pt x="61" y="1147"/>
                        </a:lnTo>
                        <a:lnTo>
                          <a:pt x="61" y="861"/>
                        </a:lnTo>
                        <a:lnTo>
                          <a:pt x="0" y="229"/>
                        </a:lnTo>
                        <a:lnTo>
                          <a:pt x="490" y="0"/>
                        </a:lnTo>
                        <a:lnTo>
                          <a:pt x="975" y="57"/>
                        </a:lnTo>
                        <a:lnTo>
                          <a:pt x="127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4146480" y="5894280"/>
                    <a:ext cx="116280" cy="53208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1478">
                        <a:moveTo>
                          <a:pt x="217" y="57"/>
                        </a:moveTo>
                        <a:lnTo>
                          <a:pt x="52" y="0"/>
                        </a:lnTo>
                        <a:lnTo>
                          <a:pt x="106" y="172"/>
                        </a:lnTo>
                        <a:lnTo>
                          <a:pt x="106" y="340"/>
                        </a:lnTo>
                        <a:lnTo>
                          <a:pt x="52" y="455"/>
                        </a:lnTo>
                        <a:lnTo>
                          <a:pt x="0" y="455"/>
                        </a:lnTo>
                        <a:lnTo>
                          <a:pt x="52" y="512"/>
                        </a:lnTo>
                        <a:lnTo>
                          <a:pt x="106" y="566"/>
                        </a:lnTo>
                        <a:lnTo>
                          <a:pt x="106" y="681"/>
                        </a:lnTo>
                        <a:lnTo>
                          <a:pt x="106" y="738"/>
                        </a:lnTo>
                        <a:lnTo>
                          <a:pt x="106" y="854"/>
                        </a:lnTo>
                        <a:lnTo>
                          <a:pt x="52" y="911"/>
                        </a:lnTo>
                        <a:lnTo>
                          <a:pt x="52" y="965"/>
                        </a:lnTo>
                        <a:lnTo>
                          <a:pt x="106" y="965"/>
                        </a:lnTo>
                        <a:lnTo>
                          <a:pt x="164" y="1022"/>
                        </a:lnTo>
                        <a:lnTo>
                          <a:pt x="164" y="1080"/>
                        </a:lnTo>
                        <a:lnTo>
                          <a:pt x="164" y="1195"/>
                        </a:lnTo>
                        <a:lnTo>
                          <a:pt x="106" y="1363"/>
                        </a:lnTo>
                        <a:lnTo>
                          <a:pt x="52" y="1478"/>
                        </a:lnTo>
                        <a:lnTo>
                          <a:pt x="217" y="1195"/>
                        </a:lnTo>
                        <a:lnTo>
                          <a:pt x="323" y="1137"/>
                        </a:lnTo>
                        <a:lnTo>
                          <a:pt x="323" y="965"/>
                        </a:lnTo>
                        <a:lnTo>
                          <a:pt x="270" y="911"/>
                        </a:lnTo>
                        <a:lnTo>
                          <a:pt x="270" y="854"/>
                        </a:lnTo>
                        <a:lnTo>
                          <a:pt x="270" y="738"/>
                        </a:lnTo>
                        <a:lnTo>
                          <a:pt x="164" y="623"/>
                        </a:lnTo>
                        <a:lnTo>
                          <a:pt x="270" y="512"/>
                        </a:lnTo>
                        <a:lnTo>
                          <a:pt x="217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64080" bIns="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6" name=""/>
                <p:cNvSpPr/>
                <p:nvPr/>
              </p:nvSpPr>
              <p:spPr>
                <a:xfrm>
                  <a:off x="3965400" y="6086520"/>
                  <a:ext cx="181440" cy="43200"/>
                </a:xfrm>
                <a:custGeom>
                  <a:avLst/>
                  <a:gdLst/>
                  <a:ahLst/>
                  <a:rect l="0" t="0" r="r" b="b"/>
                  <a:pathLst>
                    <a:path w="504" h="120">
                      <a:moveTo>
                        <a:pt x="0" y="0"/>
                      </a:moveTo>
                      <a:lnTo>
                        <a:pt x="0" y="79"/>
                      </a:lnTo>
                      <a:lnTo>
                        <a:pt x="57" y="120"/>
                      </a:lnTo>
                      <a:lnTo>
                        <a:pt x="168" y="79"/>
                      </a:lnTo>
                      <a:lnTo>
                        <a:pt x="278" y="79"/>
                      </a:lnTo>
                      <a:lnTo>
                        <a:pt x="394" y="79"/>
                      </a:lnTo>
                      <a:lnTo>
                        <a:pt x="504" y="79"/>
                      </a:lnTo>
                      <a:lnTo>
                        <a:pt x="394" y="41"/>
                      </a:lnTo>
                      <a:lnTo>
                        <a:pt x="336" y="0"/>
                      </a:lnTo>
                      <a:lnTo>
                        <a:pt x="225" y="0"/>
                      </a:lnTo>
                      <a:lnTo>
                        <a:pt x="16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691080" y="6021360"/>
                <a:ext cx="455760" cy="111240"/>
                <a:chOff x="3691080" y="6021360"/>
                <a:chExt cx="455760" cy="11124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3714840" y="6086520"/>
                  <a:ext cx="387720" cy="46080"/>
                  <a:chOff x="3714840" y="6086520"/>
                  <a:chExt cx="387720" cy="4608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3987720" y="6086520"/>
                    <a:ext cx="114840" cy="46080"/>
                    <a:chOff x="3987720" y="6086520"/>
                    <a:chExt cx="114840" cy="4608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>
                      <a:off x="3987720" y="6086520"/>
                      <a:ext cx="114840" cy="43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9" h="120">
                          <a:moveTo>
                            <a:pt x="319" y="79"/>
                          </a:moveTo>
                          <a:lnTo>
                            <a:pt x="266" y="41"/>
                          </a:lnTo>
                          <a:lnTo>
                            <a:pt x="159" y="0"/>
                          </a:lnTo>
                          <a:lnTo>
                            <a:pt x="106" y="41"/>
                          </a:lnTo>
                          <a:lnTo>
                            <a:pt x="52" y="79"/>
                          </a:lnTo>
                          <a:lnTo>
                            <a:pt x="0" y="120"/>
                          </a:lnTo>
                          <a:lnTo>
                            <a:pt x="159" y="120"/>
                          </a:lnTo>
                          <a:lnTo>
                            <a:pt x="266" y="120"/>
                          </a:lnTo>
                          <a:lnTo>
                            <a:pt x="319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4033800" y="6107040"/>
                      <a:ext cx="25560" cy="25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2" name=""/>
                  <p:cNvGrpSpPr/>
                  <p:nvPr/>
                </p:nvGrpSpPr>
                <p:grpSpPr>
                  <a:xfrm>
                    <a:off x="3714840" y="6086520"/>
                    <a:ext cx="113040" cy="46080"/>
                    <a:chOff x="3714840" y="6086520"/>
                    <a:chExt cx="113040" cy="46080"/>
                  </a:xfrm>
                </p:grpSpPr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714840" y="6086520"/>
                      <a:ext cx="113040" cy="432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14" h="120">
                          <a:moveTo>
                            <a:pt x="0" y="79"/>
                          </a:moveTo>
                          <a:lnTo>
                            <a:pt x="105" y="41"/>
                          </a:lnTo>
                          <a:lnTo>
                            <a:pt x="159" y="0"/>
                          </a:lnTo>
                          <a:lnTo>
                            <a:pt x="208" y="41"/>
                          </a:lnTo>
                          <a:lnTo>
                            <a:pt x="314" y="79"/>
                          </a:lnTo>
                          <a:lnTo>
                            <a:pt x="314" y="120"/>
                          </a:lnTo>
                          <a:lnTo>
                            <a:pt x="208" y="120"/>
                          </a:lnTo>
                          <a:lnTo>
                            <a:pt x="105" y="120"/>
                          </a:lnTo>
                          <a:lnTo>
                            <a:pt x="0" y="7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3760920" y="6107040"/>
                      <a:ext cx="25560" cy="25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109080" rIns="10908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3691080" y="6021360"/>
                  <a:ext cx="455760" cy="25920"/>
                  <a:chOff x="3691080" y="6021360"/>
                  <a:chExt cx="455760" cy="2592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3965400" y="6021360"/>
                    <a:ext cx="181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04" h="72">
                        <a:moveTo>
                          <a:pt x="57" y="38"/>
                        </a:moveTo>
                        <a:lnTo>
                          <a:pt x="110" y="0"/>
                        </a:lnTo>
                        <a:lnTo>
                          <a:pt x="168" y="0"/>
                        </a:lnTo>
                        <a:lnTo>
                          <a:pt x="225" y="0"/>
                        </a:lnTo>
                        <a:lnTo>
                          <a:pt x="278" y="0"/>
                        </a:lnTo>
                        <a:lnTo>
                          <a:pt x="336" y="0"/>
                        </a:lnTo>
                        <a:lnTo>
                          <a:pt x="394" y="38"/>
                        </a:lnTo>
                        <a:lnTo>
                          <a:pt x="504" y="72"/>
                        </a:lnTo>
                        <a:lnTo>
                          <a:pt x="447" y="38"/>
                        </a:lnTo>
                        <a:lnTo>
                          <a:pt x="394" y="38"/>
                        </a:lnTo>
                        <a:lnTo>
                          <a:pt x="278" y="38"/>
                        </a:lnTo>
                        <a:lnTo>
                          <a:pt x="225" y="38"/>
                        </a:lnTo>
                        <a:lnTo>
                          <a:pt x="110" y="38"/>
                        </a:lnTo>
                        <a:lnTo>
                          <a:pt x="57" y="38"/>
                        </a:lnTo>
                        <a:lnTo>
                          <a:pt x="57" y="72"/>
                        </a:lnTo>
                        <a:lnTo>
                          <a:pt x="0" y="72"/>
                        </a:lnTo>
                        <a:lnTo>
                          <a:pt x="57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3691080" y="6043680"/>
                    <a:ext cx="182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07" h="0">
                        <a:moveTo>
                          <a:pt x="449" y="0"/>
                        </a:moveTo>
                        <a:lnTo>
                          <a:pt x="392" y="0"/>
                        </a:lnTo>
                        <a:lnTo>
                          <a:pt x="339" y="0"/>
                        </a:lnTo>
                        <a:lnTo>
                          <a:pt x="282" y="0"/>
                        </a:lnTo>
                        <a:lnTo>
                          <a:pt x="224" y="0"/>
                        </a:lnTo>
                        <a:lnTo>
                          <a:pt x="114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lnTo>
                          <a:pt x="57" y="0"/>
                        </a:lnTo>
                        <a:lnTo>
                          <a:pt x="114" y="0"/>
                        </a:lnTo>
                        <a:lnTo>
                          <a:pt x="224" y="0"/>
                        </a:lnTo>
                        <a:lnTo>
                          <a:pt x="282" y="0"/>
                        </a:lnTo>
                        <a:lnTo>
                          <a:pt x="339" y="0"/>
                        </a:lnTo>
                        <a:lnTo>
                          <a:pt x="392" y="0"/>
                        </a:lnTo>
                        <a:lnTo>
                          <a:pt x="449" y="0"/>
                        </a:lnTo>
                        <a:lnTo>
                          <a:pt x="507" y="0"/>
                        </a:lnTo>
                        <a:lnTo>
                          <a:pt x="44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txBody>
                  <a:bodyPr lIns="109080" rIns="109080" tIns="-64080" bIns="-64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3554280" y="5597640"/>
                <a:ext cx="844920" cy="659160"/>
                <a:chOff x="3554280" y="5597640"/>
                <a:chExt cx="844920" cy="6591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554280" y="5597640"/>
                  <a:ext cx="844920" cy="659160"/>
                </a:xfrm>
                <a:custGeom>
                  <a:avLst/>
                  <a:gdLst/>
                  <a:ahLst/>
                  <a:rect l="0" t="0" r="r" b="b"/>
                  <a:pathLst>
                    <a:path w="2347" h="1831">
                      <a:moveTo>
                        <a:pt x="308" y="1831"/>
                      </a:moveTo>
                      <a:lnTo>
                        <a:pt x="185" y="1773"/>
                      </a:lnTo>
                      <a:lnTo>
                        <a:pt x="123" y="1658"/>
                      </a:lnTo>
                      <a:lnTo>
                        <a:pt x="61" y="1543"/>
                      </a:lnTo>
                      <a:lnTo>
                        <a:pt x="0" y="1428"/>
                      </a:lnTo>
                      <a:lnTo>
                        <a:pt x="0" y="1375"/>
                      </a:lnTo>
                      <a:lnTo>
                        <a:pt x="0" y="1088"/>
                      </a:lnTo>
                      <a:lnTo>
                        <a:pt x="0" y="916"/>
                      </a:lnTo>
                      <a:lnTo>
                        <a:pt x="0" y="742"/>
                      </a:lnTo>
                      <a:lnTo>
                        <a:pt x="61" y="570"/>
                      </a:lnTo>
                      <a:lnTo>
                        <a:pt x="185" y="402"/>
                      </a:lnTo>
                      <a:lnTo>
                        <a:pt x="370" y="229"/>
                      </a:lnTo>
                      <a:lnTo>
                        <a:pt x="555" y="114"/>
                      </a:lnTo>
                      <a:lnTo>
                        <a:pt x="803" y="57"/>
                      </a:lnTo>
                      <a:lnTo>
                        <a:pt x="1050" y="0"/>
                      </a:lnTo>
                      <a:lnTo>
                        <a:pt x="1235" y="0"/>
                      </a:lnTo>
                      <a:lnTo>
                        <a:pt x="1482" y="0"/>
                      </a:lnTo>
                      <a:lnTo>
                        <a:pt x="1544" y="0"/>
                      </a:lnTo>
                      <a:lnTo>
                        <a:pt x="1667" y="0"/>
                      </a:lnTo>
                      <a:lnTo>
                        <a:pt x="1854" y="114"/>
                      </a:lnTo>
                      <a:lnTo>
                        <a:pt x="1915" y="172"/>
                      </a:lnTo>
                      <a:lnTo>
                        <a:pt x="2039" y="287"/>
                      </a:lnTo>
                      <a:lnTo>
                        <a:pt x="2162" y="402"/>
                      </a:lnTo>
                      <a:lnTo>
                        <a:pt x="2224" y="512"/>
                      </a:lnTo>
                      <a:lnTo>
                        <a:pt x="2286" y="627"/>
                      </a:lnTo>
                      <a:lnTo>
                        <a:pt x="2286" y="800"/>
                      </a:lnTo>
                      <a:lnTo>
                        <a:pt x="2286" y="973"/>
                      </a:lnTo>
                      <a:lnTo>
                        <a:pt x="2286" y="1030"/>
                      </a:lnTo>
                      <a:lnTo>
                        <a:pt x="2347" y="1088"/>
                      </a:lnTo>
                      <a:lnTo>
                        <a:pt x="2347" y="1203"/>
                      </a:lnTo>
                      <a:lnTo>
                        <a:pt x="2347" y="1260"/>
                      </a:lnTo>
                      <a:lnTo>
                        <a:pt x="2347" y="1318"/>
                      </a:lnTo>
                      <a:lnTo>
                        <a:pt x="2286" y="1428"/>
                      </a:lnTo>
                      <a:lnTo>
                        <a:pt x="2286" y="1543"/>
                      </a:lnTo>
                      <a:lnTo>
                        <a:pt x="2224" y="1601"/>
                      </a:lnTo>
                      <a:lnTo>
                        <a:pt x="2039" y="1831"/>
                      </a:lnTo>
                      <a:lnTo>
                        <a:pt x="2039" y="1601"/>
                      </a:lnTo>
                      <a:lnTo>
                        <a:pt x="1977" y="1486"/>
                      </a:lnTo>
                      <a:lnTo>
                        <a:pt x="1915" y="1375"/>
                      </a:lnTo>
                      <a:lnTo>
                        <a:pt x="1915" y="1543"/>
                      </a:lnTo>
                      <a:lnTo>
                        <a:pt x="1854" y="1428"/>
                      </a:lnTo>
                      <a:lnTo>
                        <a:pt x="1854" y="1203"/>
                      </a:lnTo>
                      <a:lnTo>
                        <a:pt x="1792" y="916"/>
                      </a:lnTo>
                      <a:lnTo>
                        <a:pt x="1729" y="742"/>
                      </a:lnTo>
                      <a:lnTo>
                        <a:pt x="1792" y="627"/>
                      </a:lnTo>
                      <a:lnTo>
                        <a:pt x="1667" y="512"/>
                      </a:lnTo>
                      <a:lnTo>
                        <a:pt x="1606" y="627"/>
                      </a:lnTo>
                      <a:lnTo>
                        <a:pt x="1544" y="742"/>
                      </a:lnTo>
                      <a:lnTo>
                        <a:pt x="1420" y="800"/>
                      </a:lnTo>
                      <a:lnTo>
                        <a:pt x="1359" y="916"/>
                      </a:lnTo>
                      <a:lnTo>
                        <a:pt x="1235" y="916"/>
                      </a:lnTo>
                      <a:lnTo>
                        <a:pt x="1112" y="916"/>
                      </a:lnTo>
                      <a:lnTo>
                        <a:pt x="988" y="916"/>
                      </a:lnTo>
                      <a:lnTo>
                        <a:pt x="865" y="916"/>
                      </a:lnTo>
                      <a:lnTo>
                        <a:pt x="803" y="916"/>
                      </a:lnTo>
                      <a:lnTo>
                        <a:pt x="865" y="916"/>
                      </a:lnTo>
                      <a:lnTo>
                        <a:pt x="927" y="857"/>
                      </a:lnTo>
                      <a:lnTo>
                        <a:pt x="927" y="800"/>
                      </a:lnTo>
                      <a:lnTo>
                        <a:pt x="741" y="857"/>
                      </a:lnTo>
                      <a:lnTo>
                        <a:pt x="618" y="857"/>
                      </a:lnTo>
                      <a:lnTo>
                        <a:pt x="432" y="916"/>
                      </a:lnTo>
                      <a:lnTo>
                        <a:pt x="370" y="916"/>
                      </a:lnTo>
                      <a:lnTo>
                        <a:pt x="308" y="973"/>
                      </a:lnTo>
                      <a:lnTo>
                        <a:pt x="308" y="1375"/>
                      </a:lnTo>
                      <a:lnTo>
                        <a:pt x="308" y="1543"/>
                      </a:lnTo>
                      <a:lnTo>
                        <a:pt x="246" y="1601"/>
                      </a:lnTo>
                      <a:lnTo>
                        <a:pt x="246" y="1716"/>
                      </a:lnTo>
                      <a:lnTo>
                        <a:pt x="246" y="1773"/>
                      </a:lnTo>
                      <a:lnTo>
                        <a:pt x="308" y="18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554280" y="5703840"/>
                  <a:ext cx="844920" cy="552960"/>
                </a:xfrm>
                <a:custGeom>
                  <a:avLst/>
                  <a:gdLst/>
                  <a:ahLst/>
                  <a:rect l="0" t="0" r="r" b="b"/>
                  <a:pathLst>
                    <a:path w="2347" h="1536">
                      <a:moveTo>
                        <a:pt x="246" y="114"/>
                      </a:moveTo>
                      <a:lnTo>
                        <a:pt x="123" y="340"/>
                      </a:lnTo>
                      <a:lnTo>
                        <a:pt x="432" y="172"/>
                      </a:lnTo>
                      <a:lnTo>
                        <a:pt x="493" y="225"/>
                      </a:lnTo>
                      <a:lnTo>
                        <a:pt x="618" y="225"/>
                      </a:lnTo>
                      <a:lnTo>
                        <a:pt x="370" y="399"/>
                      </a:lnTo>
                      <a:lnTo>
                        <a:pt x="618" y="399"/>
                      </a:lnTo>
                      <a:lnTo>
                        <a:pt x="803" y="399"/>
                      </a:lnTo>
                      <a:lnTo>
                        <a:pt x="988" y="340"/>
                      </a:lnTo>
                      <a:lnTo>
                        <a:pt x="1050" y="283"/>
                      </a:lnTo>
                      <a:lnTo>
                        <a:pt x="988" y="225"/>
                      </a:lnTo>
                      <a:lnTo>
                        <a:pt x="1297" y="114"/>
                      </a:lnTo>
                      <a:lnTo>
                        <a:pt x="1235" y="283"/>
                      </a:lnTo>
                      <a:lnTo>
                        <a:pt x="1420" y="225"/>
                      </a:lnTo>
                      <a:lnTo>
                        <a:pt x="1606" y="114"/>
                      </a:lnTo>
                      <a:lnTo>
                        <a:pt x="1792" y="0"/>
                      </a:lnTo>
                      <a:lnTo>
                        <a:pt x="1729" y="114"/>
                      </a:lnTo>
                      <a:lnTo>
                        <a:pt x="1792" y="225"/>
                      </a:lnTo>
                      <a:lnTo>
                        <a:pt x="1977" y="399"/>
                      </a:lnTo>
                      <a:lnTo>
                        <a:pt x="1977" y="513"/>
                      </a:lnTo>
                      <a:lnTo>
                        <a:pt x="1977" y="624"/>
                      </a:lnTo>
                      <a:lnTo>
                        <a:pt x="2162" y="571"/>
                      </a:lnTo>
                      <a:lnTo>
                        <a:pt x="2162" y="624"/>
                      </a:lnTo>
                      <a:lnTo>
                        <a:pt x="2347" y="797"/>
                      </a:lnTo>
                      <a:lnTo>
                        <a:pt x="2286" y="965"/>
                      </a:lnTo>
                      <a:lnTo>
                        <a:pt x="2286" y="1080"/>
                      </a:lnTo>
                      <a:lnTo>
                        <a:pt x="2224" y="1310"/>
                      </a:lnTo>
                      <a:lnTo>
                        <a:pt x="2039" y="1536"/>
                      </a:lnTo>
                      <a:lnTo>
                        <a:pt x="2039" y="1421"/>
                      </a:lnTo>
                      <a:lnTo>
                        <a:pt x="2039" y="1310"/>
                      </a:lnTo>
                      <a:lnTo>
                        <a:pt x="1915" y="1080"/>
                      </a:lnTo>
                      <a:lnTo>
                        <a:pt x="1915" y="1253"/>
                      </a:lnTo>
                      <a:lnTo>
                        <a:pt x="1854" y="1137"/>
                      </a:lnTo>
                      <a:lnTo>
                        <a:pt x="1854" y="1080"/>
                      </a:lnTo>
                      <a:lnTo>
                        <a:pt x="1792" y="911"/>
                      </a:lnTo>
                      <a:lnTo>
                        <a:pt x="1792" y="682"/>
                      </a:lnTo>
                      <a:lnTo>
                        <a:pt x="1729" y="513"/>
                      </a:lnTo>
                      <a:lnTo>
                        <a:pt x="1792" y="340"/>
                      </a:lnTo>
                      <a:lnTo>
                        <a:pt x="1667" y="225"/>
                      </a:lnTo>
                      <a:lnTo>
                        <a:pt x="1606" y="399"/>
                      </a:lnTo>
                      <a:lnTo>
                        <a:pt x="1420" y="571"/>
                      </a:lnTo>
                      <a:lnTo>
                        <a:pt x="1359" y="571"/>
                      </a:lnTo>
                      <a:lnTo>
                        <a:pt x="1235" y="624"/>
                      </a:lnTo>
                      <a:lnTo>
                        <a:pt x="1050" y="624"/>
                      </a:lnTo>
                      <a:lnTo>
                        <a:pt x="803" y="624"/>
                      </a:lnTo>
                      <a:lnTo>
                        <a:pt x="927" y="571"/>
                      </a:lnTo>
                      <a:lnTo>
                        <a:pt x="865" y="513"/>
                      </a:lnTo>
                      <a:lnTo>
                        <a:pt x="680" y="571"/>
                      </a:lnTo>
                      <a:lnTo>
                        <a:pt x="493" y="571"/>
                      </a:lnTo>
                      <a:lnTo>
                        <a:pt x="246" y="682"/>
                      </a:lnTo>
                      <a:lnTo>
                        <a:pt x="308" y="739"/>
                      </a:lnTo>
                      <a:lnTo>
                        <a:pt x="308" y="1253"/>
                      </a:lnTo>
                      <a:lnTo>
                        <a:pt x="246" y="1310"/>
                      </a:lnTo>
                      <a:lnTo>
                        <a:pt x="246" y="1421"/>
                      </a:lnTo>
                      <a:lnTo>
                        <a:pt x="308" y="1536"/>
                      </a:lnTo>
                      <a:lnTo>
                        <a:pt x="61" y="1364"/>
                      </a:lnTo>
                      <a:lnTo>
                        <a:pt x="0" y="1196"/>
                      </a:lnTo>
                      <a:lnTo>
                        <a:pt x="0" y="1080"/>
                      </a:lnTo>
                      <a:lnTo>
                        <a:pt x="0" y="739"/>
                      </a:lnTo>
                      <a:lnTo>
                        <a:pt x="0" y="456"/>
                      </a:lnTo>
                      <a:lnTo>
                        <a:pt x="61" y="340"/>
                      </a:lnTo>
                      <a:lnTo>
                        <a:pt x="246" y="1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38160">
                  <a:solidFill>
                    <a:srgbClr val="000000"/>
                  </a:solidFill>
                  <a:round/>
                </a:ln>
              </p:spPr>
              <p:txBody>
                <a:bodyPr lIns="109080" rIns="109080" tIns="64080" bIns="64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1" name=""/>
            <p:cNvSpPr/>
            <p:nvPr/>
          </p:nvSpPr>
          <p:spPr>
            <a:xfrm>
              <a:off x="3416400" y="6615000"/>
              <a:ext cx="1111680" cy="225720"/>
            </a:xfrm>
            <a:custGeom>
              <a:avLst/>
              <a:gdLst/>
              <a:ahLst/>
              <a:rect l="0" t="0" r="r" b="b"/>
              <a:pathLst>
                <a:path w="3088" h="627">
                  <a:moveTo>
                    <a:pt x="0" y="627"/>
                  </a:moveTo>
                  <a:lnTo>
                    <a:pt x="35" y="610"/>
                  </a:lnTo>
                  <a:lnTo>
                    <a:pt x="52" y="577"/>
                  </a:lnTo>
                  <a:lnTo>
                    <a:pt x="88" y="561"/>
                  </a:lnTo>
                  <a:lnTo>
                    <a:pt x="88" y="528"/>
                  </a:lnTo>
                  <a:lnTo>
                    <a:pt x="123" y="511"/>
                  </a:lnTo>
                  <a:lnTo>
                    <a:pt x="158" y="478"/>
                  </a:lnTo>
                  <a:lnTo>
                    <a:pt x="194" y="445"/>
                  </a:lnTo>
                  <a:lnTo>
                    <a:pt x="229" y="412"/>
                  </a:lnTo>
                  <a:lnTo>
                    <a:pt x="282" y="380"/>
                  </a:lnTo>
                  <a:lnTo>
                    <a:pt x="317" y="347"/>
                  </a:lnTo>
                  <a:lnTo>
                    <a:pt x="352" y="314"/>
                  </a:lnTo>
                  <a:lnTo>
                    <a:pt x="370" y="280"/>
                  </a:lnTo>
                  <a:lnTo>
                    <a:pt x="388" y="247"/>
                  </a:lnTo>
                  <a:lnTo>
                    <a:pt x="423" y="247"/>
                  </a:lnTo>
                  <a:lnTo>
                    <a:pt x="458" y="214"/>
                  </a:lnTo>
                  <a:lnTo>
                    <a:pt x="493" y="197"/>
                  </a:lnTo>
                  <a:lnTo>
                    <a:pt x="529" y="181"/>
                  </a:lnTo>
                  <a:lnTo>
                    <a:pt x="546" y="148"/>
                  </a:lnTo>
                  <a:lnTo>
                    <a:pt x="582" y="131"/>
                  </a:lnTo>
                  <a:lnTo>
                    <a:pt x="617" y="115"/>
                  </a:lnTo>
                  <a:lnTo>
                    <a:pt x="652" y="98"/>
                  </a:lnTo>
                  <a:lnTo>
                    <a:pt x="687" y="98"/>
                  </a:lnTo>
                  <a:lnTo>
                    <a:pt x="723" y="98"/>
                  </a:lnTo>
                  <a:lnTo>
                    <a:pt x="758" y="82"/>
                  </a:lnTo>
                  <a:lnTo>
                    <a:pt x="812" y="65"/>
                  </a:lnTo>
                  <a:lnTo>
                    <a:pt x="847" y="65"/>
                  </a:lnTo>
                  <a:lnTo>
                    <a:pt x="882" y="49"/>
                  </a:lnTo>
                  <a:lnTo>
                    <a:pt x="918" y="32"/>
                  </a:lnTo>
                  <a:lnTo>
                    <a:pt x="953" y="32"/>
                  </a:lnTo>
                  <a:lnTo>
                    <a:pt x="988" y="16"/>
                  </a:lnTo>
                  <a:lnTo>
                    <a:pt x="1024" y="0"/>
                  </a:lnTo>
                  <a:lnTo>
                    <a:pt x="1059" y="0"/>
                  </a:lnTo>
                  <a:lnTo>
                    <a:pt x="1094" y="0"/>
                  </a:lnTo>
                  <a:lnTo>
                    <a:pt x="1129" y="0"/>
                  </a:lnTo>
                  <a:lnTo>
                    <a:pt x="1182" y="16"/>
                  </a:lnTo>
                  <a:lnTo>
                    <a:pt x="1235" y="16"/>
                  </a:lnTo>
                  <a:lnTo>
                    <a:pt x="1270" y="32"/>
                  </a:lnTo>
                  <a:lnTo>
                    <a:pt x="1323" y="32"/>
                  </a:lnTo>
                  <a:lnTo>
                    <a:pt x="1376" y="32"/>
                  </a:lnTo>
                  <a:lnTo>
                    <a:pt x="1412" y="32"/>
                  </a:lnTo>
                  <a:lnTo>
                    <a:pt x="1447" y="32"/>
                  </a:lnTo>
                  <a:lnTo>
                    <a:pt x="1482" y="32"/>
                  </a:lnTo>
                  <a:lnTo>
                    <a:pt x="1517" y="32"/>
                  </a:lnTo>
                  <a:lnTo>
                    <a:pt x="1570" y="32"/>
                  </a:lnTo>
                  <a:lnTo>
                    <a:pt x="1606" y="32"/>
                  </a:lnTo>
                  <a:lnTo>
                    <a:pt x="1641" y="32"/>
                  </a:lnTo>
                  <a:lnTo>
                    <a:pt x="1676" y="32"/>
                  </a:lnTo>
                  <a:lnTo>
                    <a:pt x="1711" y="32"/>
                  </a:lnTo>
                  <a:lnTo>
                    <a:pt x="1747" y="32"/>
                  </a:lnTo>
                  <a:lnTo>
                    <a:pt x="1782" y="32"/>
                  </a:lnTo>
                  <a:lnTo>
                    <a:pt x="1817" y="32"/>
                  </a:lnTo>
                  <a:lnTo>
                    <a:pt x="1853" y="32"/>
                  </a:lnTo>
                  <a:lnTo>
                    <a:pt x="1888" y="32"/>
                  </a:lnTo>
                  <a:lnTo>
                    <a:pt x="1923" y="32"/>
                  </a:lnTo>
                  <a:lnTo>
                    <a:pt x="1958" y="32"/>
                  </a:lnTo>
                  <a:lnTo>
                    <a:pt x="1994" y="32"/>
                  </a:lnTo>
                  <a:lnTo>
                    <a:pt x="2029" y="32"/>
                  </a:lnTo>
                  <a:lnTo>
                    <a:pt x="2082" y="49"/>
                  </a:lnTo>
                  <a:lnTo>
                    <a:pt x="2117" y="65"/>
                  </a:lnTo>
                  <a:lnTo>
                    <a:pt x="2152" y="65"/>
                  </a:lnTo>
                  <a:lnTo>
                    <a:pt x="2188" y="49"/>
                  </a:lnTo>
                  <a:lnTo>
                    <a:pt x="2223" y="49"/>
                  </a:lnTo>
                  <a:lnTo>
                    <a:pt x="2258" y="49"/>
                  </a:lnTo>
                  <a:lnTo>
                    <a:pt x="2294" y="49"/>
                  </a:lnTo>
                  <a:lnTo>
                    <a:pt x="2330" y="49"/>
                  </a:lnTo>
                  <a:lnTo>
                    <a:pt x="2365" y="65"/>
                  </a:lnTo>
                  <a:lnTo>
                    <a:pt x="2400" y="82"/>
                  </a:lnTo>
                  <a:lnTo>
                    <a:pt x="2489" y="115"/>
                  </a:lnTo>
                  <a:lnTo>
                    <a:pt x="2524" y="115"/>
                  </a:lnTo>
                  <a:lnTo>
                    <a:pt x="2559" y="131"/>
                  </a:lnTo>
                  <a:lnTo>
                    <a:pt x="2594" y="148"/>
                  </a:lnTo>
                  <a:lnTo>
                    <a:pt x="2630" y="148"/>
                  </a:lnTo>
                  <a:lnTo>
                    <a:pt x="2665" y="164"/>
                  </a:lnTo>
                  <a:lnTo>
                    <a:pt x="2700" y="181"/>
                  </a:lnTo>
                  <a:lnTo>
                    <a:pt x="2753" y="214"/>
                  </a:lnTo>
                  <a:lnTo>
                    <a:pt x="2788" y="230"/>
                  </a:lnTo>
                  <a:lnTo>
                    <a:pt x="2841" y="263"/>
                  </a:lnTo>
                  <a:lnTo>
                    <a:pt x="2877" y="280"/>
                  </a:lnTo>
                  <a:lnTo>
                    <a:pt x="2894" y="314"/>
                  </a:lnTo>
                  <a:lnTo>
                    <a:pt x="2930" y="330"/>
                  </a:lnTo>
                  <a:lnTo>
                    <a:pt x="2930" y="363"/>
                  </a:lnTo>
                  <a:lnTo>
                    <a:pt x="2947" y="396"/>
                  </a:lnTo>
                  <a:lnTo>
                    <a:pt x="2947" y="429"/>
                  </a:lnTo>
                  <a:lnTo>
                    <a:pt x="2965" y="462"/>
                  </a:lnTo>
                  <a:lnTo>
                    <a:pt x="2965" y="511"/>
                  </a:lnTo>
                  <a:lnTo>
                    <a:pt x="2965" y="544"/>
                  </a:lnTo>
                  <a:lnTo>
                    <a:pt x="2982" y="577"/>
                  </a:lnTo>
                  <a:lnTo>
                    <a:pt x="3018" y="610"/>
                  </a:lnTo>
                  <a:lnTo>
                    <a:pt x="3053" y="627"/>
                  </a:lnTo>
                  <a:lnTo>
                    <a:pt x="3088" y="627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0" y="0"/>
            <a:ext cx="9142920" cy="5539320"/>
          </a:xfrm>
          <a:custGeom>
            <a:avLst/>
            <a:gdLst/>
            <a:ahLst/>
            <a:rect l="0" t="0" r="r" b="b"/>
            <a:pathLst>
              <a:path w="25397" h="15387">
                <a:moveTo>
                  <a:pt x="392" y="15378"/>
                </a:moveTo>
                <a:lnTo>
                  <a:pt x="392" y="427"/>
                </a:lnTo>
                <a:lnTo>
                  <a:pt x="24969" y="427"/>
                </a:lnTo>
                <a:lnTo>
                  <a:pt x="24991" y="15387"/>
                </a:lnTo>
                <a:lnTo>
                  <a:pt x="25397" y="15387"/>
                </a:lnTo>
                <a:lnTo>
                  <a:pt x="25397" y="0"/>
                </a:lnTo>
                <a:lnTo>
                  <a:pt x="0" y="0"/>
                </a:lnTo>
                <a:lnTo>
                  <a:pt x="0" y="15361"/>
                </a:lnTo>
                <a:lnTo>
                  <a:pt x="392" y="15378"/>
                </a:lnTo>
                <a:close/>
              </a:path>
            </a:pathLst>
          </a:cu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5920" y="154080"/>
            <a:ext cx="8878680" cy="5383080"/>
            <a:chOff x="115920" y="154080"/>
            <a:chExt cx="8878680" cy="5383080"/>
          </a:xfrm>
        </p:grpSpPr>
        <p:sp>
          <p:nvSpPr>
            <p:cNvPr id="504" name=""/>
            <p:cNvSpPr/>
            <p:nvPr/>
          </p:nvSpPr>
          <p:spPr>
            <a:xfrm flipV="1">
              <a:off x="139680" y="154080"/>
              <a:ext cx="1440" cy="53798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8975880" y="158760"/>
              <a:ext cx="0" cy="53784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920" y="168120"/>
              <a:ext cx="8878680" cy="32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0840" bIns="-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1050840" y="2039760"/>
            <a:ext cx="708516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Now the new age of electronic screenshows has dawned and with it the introduction of a revolutionary new product 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57520" y="3733920"/>
            <a:ext cx="539604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600" spc="-1" strike="noStrike">
                <a:solidFill>
                  <a:srgbClr val="990033"/>
                </a:solidFill>
                <a:latin typeface="Arial Narrow"/>
                <a:ea typeface="Arial Narrow"/>
              </a:rPr>
              <a:t>SHOWBIZ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609480" y="200160"/>
            <a:ext cx="7923600" cy="5222880"/>
            <a:chOff x="609480" y="200160"/>
            <a:chExt cx="7923600" cy="5222880"/>
          </a:xfrm>
        </p:grpSpPr>
        <p:sp>
          <p:nvSpPr>
            <p:cNvPr id="524" name=""/>
            <p:cNvSpPr/>
            <p:nvPr/>
          </p:nvSpPr>
          <p:spPr>
            <a:xfrm>
              <a:off x="4240080" y="200160"/>
              <a:ext cx="4293000" cy="4032720"/>
            </a:xfrm>
            <a:custGeom>
              <a:avLst/>
              <a:gdLst/>
              <a:ahLst/>
              <a:rect l="0" t="0" r="r" b="b"/>
              <a:pathLst>
                <a:path w="11925" h="11202">
                  <a:moveTo>
                    <a:pt x="11925" y="0"/>
                  </a:moveTo>
                  <a:lnTo>
                    <a:pt x="8935" y="11163"/>
                  </a:lnTo>
                  <a:lnTo>
                    <a:pt x="0" y="11202"/>
                  </a:lnTo>
                  <a:lnTo>
                    <a:pt x="11542" y="0"/>
                  </a:lnTo>
                  <a:lnTo>
                    <a:pt x="11925" y="0"/>
                  </a:lnTo>
                  <a:close/>
                </a:path>
              </a:pathLst>
            </a:custGeom>
            <a:gradFill rotWithShape="0">
              <a:gsLst>
                <a:gs pos="0">
                  <a:srgbClr val="fcfeb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480" y="214200"/>
              <a:ext cx="4293000" cy="4032720"/>
            </a:xfrm>
            <a:custGeom>
              <a:avLst/>
              <a:gdLst/>
              <a:ahLst/>
              <a:rect l="0" t="0" r="r" b="b"/>
              <a:pathLst>
                <a:path w="11925" h="11202">
                  <a:moveTo>
                    <a:pt x="0" y="0"/>
                  </a:moveTo>
                  <a:lnTo>
                    <a:pt x="2990" y="11163"/>
                  </a:lnTo>
                  <a:lnTo>
                    <a:pt x="11925" y="11202"/>
                  </a:lnTo>
                  <a:lnTo>
                    <a:pt x="38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cfeb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 txBox="1"/>
            <p:nvPr/>
          </p:nvSpPr>
          <p:spPr>
            <a:xfrm>
              <a:off x="1733400" y="3695760"/>
              <a:ext cx="5396040" cy="170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600" spc="-1" strike="noStrike">
                  <a:solidFill>
                    <a:srgbClr val="eaec5e"/>
                  </a:solidFill>
                  <a:latin typeface="Arial Narrow"/>
                  <a:ea typeface="Arial Narrow"/>
                </a:rPr>
                <a:t>SHOWBIZ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1738440" y="3714840"/>
              <a:ext cx="5396040" cy="170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600" spc="-1" strike="noStrike">
                  <a:solidFill>
                    <a:srgbClr val="ff0066"/>
                  </a:solidFill>
                  <a:latin typeface="Arial Narrow"/>
                  <a:ea typeface="Arial Narrow"/>
                </a:rPr>
                <a:t>SHOWBIZ</a:t>
              </a:r>
              <a:endParaRPr b="0" lang="en-US" sz="10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240080" y="200160"/>
            <a:ext cx="4293000" cy="4032720"/>
          </a:xfrm>
          <a:custGeom>
            <a:avLst/>
            <a:gdLst/>
            <a:ahLst/>
            <a:rect l="0" t="0" r="r" b="b"/>
            <a:pathLst>
              <a:path w="11925" h="11202">
                <a:moveTo>
                  <a:pt x="11925" y="0"/>
                </a:moveTo>
                <a:lnTo>
                  <a:pt x="8935" y="11163"/>
                </a:lnTo>
                <a:lnTo>
                  <a:pt x="0" y="11202"/>
                </a:lnTo>
                <a:lnTo>
                  <a:pt x="11542" y="0"/>
                </a:lnTo>
                <a:lnTo>
                  <a:pt x="11925" y="0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214200"/>
            <a:ext cx="4293000" cy="4032720"/>
          </a:xfrm>
          <a:custGeom>
            <a:avLst/>
            <a:gdLst/>
            <a:ahLst/>
            <a:rect l="0" t="0" r="r" b="b"/>
            <a:pathLst>
              <a:path w="11925" h="11202">
                <a:moveTo>
                  <a:pt x="0" y="0"/>
                </a:moveTo>
                <a:lnTo>
                  <a:pt x="2990" y="11163"/>
                </a:lnTo>
                <a:lnTo>
                  <a:pt x="11925" y="11202"/>
                </a:lnTo>
                <a:lnTo>
                  <a:pt x="383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733400" y="3695760"/>
            <a:ext cx="539604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600" spc="-1" strike="noStrike">
                <a:solidFill>
                  <a:srgbClr val="eaec5e"/>
                </a:solidFill>
                <a:latin typeface="Arial Narrow"/>
                <a:ea typeface="Arial Narrow"/>
              </a:rPr>
              <a:t>SHOWBIZ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38440" y="3714840"/>
            <a:ext cx="539604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600" spc="-1" strike="noStrike">
                <a:solidFill>
                  <a:srgbClr val="ff0066"/>
                </a:solidFill>
                <a:latin typeface="Arial Narrow"/>
                <a:ea typeface="Arial Narrow"/>
              </a:rPr>
              <a:t>SHOWBIZ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028960" y="4915080"/>
            <a:ext cx="49482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600" spc="-1" strike="noStrike">
                <a:solidFill>
                  <a:srgbClr val="fcfeb9"/>
                </a:solidFill>
                <a:latin typeface="Arial Narrow"/>
                <a:ea typeface="Arial Narrow"/>
              </a:rPr>
              <a:t>ANIMATED CLIP AR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117440" y="189396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e logical progression from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‘static’ Clip A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1212840" y="1741320"/>
            <a:ext cx="67914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Like ordinary Clip Art, </a:t>
            </a:r>
            <a:r>
              <a:rPr b="1" lang="en-US" sz="3600" spc="-1" strike="noStrike">
                <a:solidFill>
                  <a:srgbClr val="eaec5e"/>
                </a:solidFill>
                <a:latin typeface="Arial"/>
                <a:ea typeface="Arial"/>
              </a:rPr>
              <a:t>SHOWBIZ</a:t>
            </a:r>
            <a:br>
              <a:rPr sz="3600"/>
            </a:b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s easy to use, uncompressed, and small in file size.   But </a:t>
            </a:r>
            <a:r>
              <a:rPr b="1" lang="en-US" sz="3600" spc="-1" strike="noStrike">
                <a:solidFill>
                  <a:srgbClr val="eaec5e"/>
                </a:solidFill>
                <a:latin typeface="Arial"/>
                <a:ea typeface="Arial"/>
              </a:rPr>
              <a:t>SHOWBIZ</a:t>
            </a: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 adds impact and </a:t>
            </a:r>
            <a:r>
              <a:rPr b="0" lang="en-US" sz="3600" spc="-1" strike="noStrike" u="sng">
                <a:solidFill>
                  <a:srgbClr val="eaec5e"/>
                </a:solidFill>
                <a:uFillTx/>
                <a:latin typeface="Times New Roman"/>
                <a:ea typeface="Times New Roman"/>
              </a:rPr>
              <a:t>movement</a:t>
            </a: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 to your electronic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838080" y="1309680"/>
            <a:ext cx="75438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eaec5e"/>
                </a:solidFill>
                <a:latin typeface="Arial"/>
                <a:ea typeface="Arial"/>
              </a:rPr>
              <a:t>SHOWBIZ</a:t>
            </a: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 is a series of CD’s. </a:t>
            </a:r>
            <a:br>
              <a:rPr sz="2800"/>
            </a:br>
            <a:r>
              <a:rPr b="0" i="1" lang="en-US" sz="2800" spc="-1" strike="noStrike">
                <a:solidFill>
                  <a:srgbClr val="eaec5e"/>
                </a:solidFill>
                <a:latin typeface="Arial"/>
                <a:ea typeface="Arial"/>
              </a:rPr>
              <a:t>REEL 1 </a:t>
            </a: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contains a library of 120 fully animated images ready for you to import into your next electronic presentation and is available</a:t>
            </a:r>
            <a:br>
              <a:rPr sz="2800"/>
            </a:b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3809880" y="3591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262160" y="3987720"/>
            <a:ext cx="6791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e World is your oyst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825480" y="1084320"/>
            <a:ext cx="746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Now let’s meet some of the cast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190520" y="3203640"/>
            <a:ext cx="3278160" cy="18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He can whisk you off to far away places.  Illustrating such points as travel, holidays, and incentive sche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101680" y="911160"/>
            <a:ext cx="4978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first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Peter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773600" y="319104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262160" y="109872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second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Wanda World-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46080" y="2933640"/>
            <a:ext cx="2284560" cy="22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Wander the continents and show your audience the scope of your busines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348000" y="2803680"/>
            <a:ext cx="4724280" cy="247644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811160" y="3373560"/>
            <a:ext cx="220968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he’ll tip the balance in all of your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3880" y="1098720"/>
            <a:ext cx="62485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third performer is Suzy 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454640" y="316224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858960" y="785880"/>
            <a:ext cx="74311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Ladies and Gentlemen …. please take your seats while we tell you the story of how a brand new concept in clip art came to be. There’s no need to click as we have done everything for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Just sit back and watch the tale unf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o give a warm welcome</a:t>
            </a:r>
            <a:br>
              <a:rPr sz="1800"/>
            </a:b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o a new stage production from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1965240" y="3333600"/>
            <a:ext cx="5299200" cy="1704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1870200" y="3639960"/>
            <a:ext cx="5553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e Multi-media expe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3733920" y="4508640"/>
            <a:ext cx="47242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2057400" y="3257640"/>
            <a:ext cx="304812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he’ll turn you upside down within seconds with her shapely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1262160" y="109872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fourth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Annabel HourG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5257800" y="3079800"/>
            <a:ext cx="2041560" cy="19843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2417760" y="3635280"/>
            <a:ext cx="2243160" cy="8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He’ll help you see the poi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262160" y="109872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fifth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Freddy Fi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4983120" y="3073320"/>
            <a:ext cx="2043000" cy="19861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2416320" y="3402000"/>
            <a:ext cx="262404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His aim is to make sure that your message gets a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262160" y="109872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sixth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Chris Cr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5068800" y="3243240"/>
            <a:ext cx="1955880" cy="19018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2259000" y="3122640"/>
            <a:ext cx="211788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28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He’ll give your audience a warm wel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62160" y="1098720"/>
            <a:ext cx="67914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ur last performer is</a:t>
            </a:r>
            <a:br>
              <a:rPr sz="4400"/>
            </a:b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Harry Handsh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4338720" y="3151080"/>
            <a:ext cx="2687760" cy="1959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189240" y="3782880"/>
            <a:ext cx="2956320" cy="1903680"/>
          </a:xfrm>
          <a:custGeom>
            <a:avLst/>
            <a:gdLst/>
            <a:ahLst/>
            <a:rect l="0" t="0" r="r" b="b"/>
            <a:pathLst>
              <a:path w="8212" h="5288">
                <a:moveTo>
                  <a:pt x="0" y="528"/>
                </a:moveTo>
                <a:lnTo>
                  <a:pt x="0" y="4230"/>
                </a:lnTo>
                <a:lnTo>
                  <a:pt x="821" y="4759"/>
                </a:lnTo>
                <a:lnTo>
                  <a:pt x="1642" y="4759"/>
                </a:lnTo>
                <a:lnTo>
                  <a:pt x="821" y="5288"/>
                </a:lnTo>
                <a:lnTo>
                  <a:pt x="2464" y="4759"/>
                </a:lnTo>
                <a:lnTo>
                  <a:pt x="7391" y="4759"/>
                </a:lnTo>
                <a:lnTo>
                  <a:pt x="8212" y="4230"/>
                </a:lnTo>
                <a:lnTo>
                  <a:pt x="8212" y="528"/>
                </a:lnTo>
                <a:lnTo>
                  <a:pt x="7391" y="0"/>
                </a:lnTo>
                <a:lnTo>
                  <a:pt x="821" y="0"/>
                </a:lnTo>
                <a:lnTo>
                  <a:pt x="0" y="528"/>
                </a:lnTo>
                <a:close/>
              </a:path>
            </a:pathLst>
          </a:custGeom>
          <a:solidFill>
            <a:srgbClr val="fcfeb9"/>
          </a:solidFill>
          <a:ln w="25560">
            <a:solidFill>
              <a:srgbClr val="7144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270240" y="3908520"/>
            <a:ext cx="2824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’re grea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how easy is it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BI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im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726120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4794120" y="2451240"/>
            <a:ext cx="3086280" cy="2086200"/>
          </a:xfrm>
          <a:custGeom>
            <a:avLst/>
            <a:gdLst/>
            <a:ahLst/>
            <a:rect l="0" t="0" r="r" b="b"/>
            <a:pathLst>
              <a:path w="8573" h="5795">
                <a:moveTo>
                  <a:pt x="8573" y="579"/>
                </a:moveTo>
                <a:lnTo>
                  <a:pt x="8573" y="4636"/>
                </a:lnTo>
                <a:lnTo>
                  <a:pt x="7716" y="5215"/>
                </a:lnTo>
                <a:lnTo>
                  <a:pt x="6859" y="5215"/>
                </a:lnTo>
                <a:lnTo>
                  <a:pt x="7716" y="5795"/>
                </a:lnTo>
                <a:lnTo>
                  <a:pt x="6001" y="5215"/>
                </a:lnTo>
                <a:lnTo>
                  <a:pt x="857" y="5215"/>
                </a:lnTo>
                <a:lnTo>
                  <a:pt x="0" y="4636"/>
                </a:lnTo>
                <a:lnTo>
                  <a:pt x="0" y="579"/>
                </a:lnTo>
                <a:lnTo>
                  <a:pt x="857" y="0"/>
                </a:lnTo>
                <a:lnTo>
                  <a:pt x="7716" y="0"/>
                </a:lnTo>
                <a:lnTo>
                  <a:pt x="8573" y="579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897440" y="3090960"/>
            <a:ext cx="285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very easy 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185840" y="1554120"/>
            <a:ext cx="679140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....but before we go onto the tips and tricks let’s meet some more members of the c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1135080" y="1000080"/>
            <a:ext cx="68007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892080" y="2779560"/>
            <a:ext cx="7326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Now how about those tips and tric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726120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467240" y="2249640"/>
            <a:ext cx="3468960" cy="2291040"/>
          </a:xfrm>
          <a:custGeom>
            <a:avLst/>
            <a:gdLst/>
            <a:ahLst/>
            <a:rect l="0" t="0" r="r" b="b"/>
            <a:pathLst>
              <a:path w="9636" h="6364">
                <a:moveTo>
                  <a:pt x="9636" y="636"/>
                </a:moveTo>
                <a:lnTo>
                  <a:pt x="9636" y="5091"/>
                </a:lnTo>
                <a:lnTo>
                  <a:pt x="8672" y="5727"/>
                </a:lnTo>
                <a:lnTo>
                  <a:pt x="7709" y="5727"/>
                </a:lnTo>
                <a:lnTo>
                  <a:pt x="8672" y="6364"/>
                </a:lnTo>
                <a:lnTo>
                  <a:pt x="6745" y="5727"/>
                </a:lnTo>
                <a:lnTo>
                  <a:pt x="963" y="5727"/>
                </a:lnTo>
                <a:lnTo>
                  <a:pt x="0" y="5091"/>
                </a:lnTo>
                <a:lnTo>
                  <a:pt x="0" y="636"/>
                </a:lnTo>
                <a:lnTo>
                  <a:pt x="963" y="0"/>
                </a:lnTo>
                <a:lnTo>
                  <a:pt x="8672" y="0"/>
                </a:lnTo>
                <a:lnTo>
                  <a:pt x="9636" y="636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462560" y="2352600"/>
            <a:ext cx="350532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one in the audience asked about importing the animations. Here’s the answer to that and other questions you may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1447920" y="2265480"/>
            <a:ext cx="6278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nce Upon a Time.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1720" y="1246320"/>
            <a:ext cx="750744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mport animations just go to ‘Movie’ und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‘Insert’ menu and select the animation you requir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ant to play just part of an animation you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this in four easy step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Under the ‘Edit’ menu select ‘Video Clip Object’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Choose ‘Open’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Shift-select the required area for pla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Select ‘Update’ under ‘File’ and ‘Exi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801720" y="1246320"/>
            <a:ext cx="75074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movies take a few seconds to load before pla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you may want to include some text for the audienc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ead meanwh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ifferent effects try using the ‘Build’ function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‘Hide while not playing’ to play several animations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one sl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ee a different still frame that represents the anim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‘Open’ it and move the slide-bar to the required fram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hen ‘Update’ the animation before exiting MediaPla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979640" y="3686040"/>
            <a:ext cx="3454920" cy="1972080"/>
          </a:xfrm>
          <a:custGeom>
            <a:avLst/>
            <a:gdLst/>
            <a:ahLst/>
            <a:rect l="0" t="0" r="r" b="b"/>
            <a:pathLst>
              <a:path w="9597" h="5478">
                <a:moveTo>
                  <a:pt x="0" y="547"/>
                </a:moveTo>
                <a:lnTo>
                  <a:pt x="0" y="4383"/>
                </a:lnTo>
                <a:lnTo>
                  <a:pt x="959" y="4931"/>
                </a:lnTo>
                <a:lnTo>
                  <a:pt x="1919" y="4931"/>
                </a:lnTo>
                <a:lnTo>
                  <a:pt x="959" y="5478"/>
                </a:lnTo>
                <a:lnTo>
                  <a:pt x="2879" y="4931"/>
                </a:lnTo>
                <a:lnTo>
                  <a:pt x="8637" y="4931"/>
                </a:lnTo>
                <a:lnTo>
                  <a:pt x="9597" y="4383"/>
                </a:lnTo>
                <a:lnTo>
                  <a:pt x="9597" y="547"/>
                </a:lnTo>
                <a:lnTo>
                  <a:pt x="8637" y="0"/>
                </a:lnTo>
                <a:lnTo>
                  <a:pt x="959" y="0"/>
                </a:lnTo>
                <a:lnTo>
                  <a:pt x="0" y="547"/>
                </a:lnTo>
                <a:close/>
              </a:path>
            </a:pathLst>
          </a:custGeom>
          <a:solidFill>
            <a:srgbClr val="fcfeb9"/>
          </a:solidFill>
          <a:ln w="25560">
            <a:solidFill>
              <a:srgbClr val="7144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30320" y="3957480"/>
            <a:ext cx="350532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both the Windows and Macintosh platforms. Is it available on b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26120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4414680" y="2286000"/>
            <a:ext cx="3551760" cy="2254680"/>
          </a:xfrm>
          <a:custGeom>
            <a:avLst/>
            <a:gdLst/>
            <a:ahLst/>
            <a:rect l="0" t="0" r="r" b="b"/>
            <a:pathLst>
              <a:path w="9866" h="6263">
                <a:moveTo>
                  <a:pt x="9866" y="626"/>
                </a:moveTo>
                <a:lnTo>
                  <a:pt x="9866" y="5011"/>
                </a:lnTo>
                <a:lnTo>
                  <a:pt x="8880" y="5637"/>
                </a:lnTo>
                <a:lnTo>
                  <a:pt x="7893" y="5637"/>
                </a:lnTo>
                <a:lnTo>
                  <a:pt x="8880" y="6263"/>
                </a:lnTo>
                <a:lnTo>
                  <a:pt x="6906" y="5637"/>
                </a:lnTo>
                <a:lnTo>
                  <a:pt x="986" y="5637"/>
                </a:lnTo>
                <a:lnTo>
                  <a:pt x="0" y="5011"/>
                </a:lnTo>
                <a:lnTo>
                  <a:pt x="0" y="626"/>
                </a:lnTo>
                <a:lnTo>
                  <a:pt x="986" y="0"/>
                </a:lnTo>
                <a:lnTo>
                  <a:pt x="8880" y="0"/>
                </a:lnTo>
                <a:lnTo>
                  <a:pt x="9866" y="626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13240" y="2451240"/>
            <a:ext cx="354348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WBI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vailable in Windows, Windows ‘95 or Macintosh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94040" y="3849840"/>
            <a:ext cx="2797560" cy="1721160"/>
          </a:xfrm>
          <a:custGeom>
            <a:avLst/>
            <a:gdLst/>
            <a:ahLst/>
            <a:rect l="0" t="0" r="r" b="b"/>
            <a:pathLst>
              <a:path w="7771" h="4781">
                <a:moveTo>
                  <a:pt x="0" y="478"/>
                </a:moveTo>
                <a:lnTo>
                  <a:pt x="0" y="3825"/>
                </a:lnTo>
                <a:lnTo>
                  <a:pt x="776" y="4303"/>
                </a:lnTo>
                <a:lnTo>
                  <a:pt x="1553" y="4303"/>
                </a:lnTo>
                <a:lnTo>
                  <a:pt x="776" y="4781"/>
                </a:lnTo>
                <a:lnTo>
                  <a:pt x="2331" y="4303"/>
                </a:lnTo>
                <a:lnTo>
                  <a:pt x="6994" y="4303"/>
                </a:lnTo>
                <a:lnTo>
                  <a:pt x="7771" y="3825"/>
                </a:lnTo>
                <a:lnTo>
                  <a:pt x="7771" y="478"/>
                </a:lnTo>
                <a:lnTo>
                  <a:pt x="6994" y="0"/>
                </a:lnTo>
                <a:lnTo>
                  <a:pt x="776" y="0"/>
                </a:lnTo>
                <a:lnTo>
                  <a:pt x="0" y="478"/>
                </a:lnTo>
                <a:close/>
              </a:path>
            </a:pathLst>
          </a:custGeom>
          <a:solidFill>
            <a:srgbClr val="fcfeb9"/>
          </a:solidFill>
          <a:ln w="25560">
            <a:solidFill>
              <a:srgbClr val="7144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108160" y="3905280"/>
            <a:ext cx="2505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 great product and looks really easy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create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726120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4216320" y="1957320"/>
            <a:ext cx="4083480" cy="2629080"/>
          </a:xfrm>
          <a:custGeom>
            <a:avLst/>
            <a:gdLst/>
            <a:ahLst/>
            <a:rect l="0" t="0" r="r" b="b"/>
            <a:pathLst>
              <a:path w="11343" h="7303">
                <a:moveTo>
                  <a:pt x="11343" y="730"/>
                </a:moveTo>
                <a:lnTo>
                  <a:pt x="11343" y="5843"/>
                </a:lnTo>
                <a:lnTo>
                  <a:pt x="10209" y="6573"/>
                </a:lnTo>
                <a:lnTo>
                  <a:pt x="9075" y="6573"/>
                </a:lnTo>
                <a:lnTo>
                  <a:pt x="10209" y="7303"/>
                </a:lnTo>
                <a:lnTo>
                  <a:pt x="7940" y="6573"/>
                </a:lnTo>
                <a:lnTo>
                  <a:pt x="1134" y="6573"/>
                </a:lnTo>
                <a:lnTo>
                  <a:pt x="0" y="5843"/>
                </a:lnTo>
                <a:lnTo>
                  <a:pt x="0" y="730"/>
                </a:lnTo>
                <a:lnTo>
                  <a:pt x="1134" y="0"/>
                </a:lnTo>
                <a:lnTo>
                  <a:pt x="10209" y="0"/>
                </a:lnTo>
                <a:lnTo>
                  <a:pt x="11343" y="730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448160" y="2030400"/>
            <a:ext cx="36860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 Visual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are an English company specialising in Multi-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services includ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26120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 txBox="1"/>
          <p:nvPr/>
        </p:nvSpPr>
        <p:spPr>
          <a:xfrm>
            <a:off x="700200" y="1397160"/>
            <a:ext cx="40258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reating bespok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anim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active sh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hanced busin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graphics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93720" y="4924440"/>
            <a:ext cx="73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fact, ALL forms of Multi-media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16320" y="1957320"/>
            <a:ext cx="4083480" cy="2629080"/>
          </a:xfrm>
          <a:custGeom>
            <a:avLst/>
            <a:gdLst/>
            <a:ahLst/>
            <a:rect l="0" t="0" r="r" b="b"/>
            <a:pathLst>
              <a:path w="11343" h="7303">
                <a:moveTo>
                  <a:pt x="11343" y="730"/>
                </a:moveTo>
                <a:lnTo>
                  <a:pt x="11343" y="5843"/>
                </a:lnTo>
                <a:lnTo>
                  <a:pt x="10209" y="6573"/>
                </a:lnTo>
                <a:lnTo>
                  <a:pt x="9075" y="6573"/>
                </a:lnTo>
                <a:lnTo>
                  <a:pt x="10209" y="7303"/>
                </a:lnTo>
                <a:lnTo>
                  <a:pt x="7940" y="6573"/>
                </a:lnTo>
                <a:lnTo>
                  <a:pt x="1134" y="6573"/>
                </a:lnTo>
                <a:lnTo>
                  <a:pt x="0" y="5843"/>
                </a:lnTo>
                <a:lnTo>
                  <a:pt x="0" y="730"/>
                </a:lnTo>
                <a:lnTo>
                  <a:pt x="1134" y="0"/>
                </a:lnTo>
                <a:lnTo>
                  <a:pt x="10209" y="0"/>
                </a:lnTo>
                <a:lnTo>
                  <a:pt x="11343" y="730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48160" y="2030400"/>
            <a:ext cx="368604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 Visual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are an English company specialising in Multi-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services include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835280" y="3616200"/>
            <a:ext cx="3310200" cy="1926000"/>
          </a:xfrm>
          <a:custGeom>
            <a:avLst/>
            <a:gdLst/>
            <a:ahLst/>
            <a:rect l="0" t="0" r="r" b="b"/>
            <a:pathLst>
              <a:path w="9195" h="5350">
                <a:moveTo>
                  <a:pt x="0" y="534"/>
                </a:moveTo>
                <a:lnTo>
                  <a:pt x="0" y="4281"/>
                </a:lnTo>
                <a:lnTo>
                  <a:pt x="919" y="4816"/>
                </a:lnTo>
                <a:lnTo>
                  <a:pt x="1838" y="4816"/>
                </a:lnTo>
                <a:lnTo>
                  <a:pt x="919" y="5350"/>
                </a:lnTo>
                <a:lnTo>
                  <a:pt x="2758" y="4816"/>
                </a:lnTo>
                <a:lnTo>
                  <a:pt x="8275" y="4816"/>
                </a:lnTo>
                <a:lnTo>
                  <a:pt x="9195" y="4281"/>
                </a:lnTo>
                <a:lnTo>
                  <a:pt x="9195" y="534"/>
                </a:lnTo>
                <a:lnTo>
                  <a:pt x="8275" y="0"/>
                </a:lnTo>
                <a:lnTo>
                  <a:pt x="919" y="0"/>
                </a:lnTo>
                <a:lnTo>
                  <a:pt x="0" y="534"/>
                </a:lnTo>
                <a:close/>
              </a:path>
            </a:pathLst>
          </a:custGeom>
          <a:solidFill>
            <a:srgbClr val="fcfeb9"/>
          </a:solidFill>
          <a:ln w="25560">
            <a:solidFill>
              <a:srgbClr val="7144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933560" y="3949560"/>
            <a:ext cx="314640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’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!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w can I buy a cop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B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043520" y="4081320"/>
            <a:ext cx="1163520" cy="13716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906480" y="1438200"/>
            <a:ext cx="3689640" cy="3075480"/>
          </a:xfrm>
          <a:custGeom>
            <a:avLst/>
            <a:gdLst/>
            <a:ahLst/>
            <a:rect l="0" t="0" r="r" b="b"/>
            <a:pathLst>
              <a:path w="10249" h="8543">
                <a:moveTo>
                  <a:pt x="10249" y="854"/>
                </a:moveTo>
                <a:lnTo>
                  <a:pt x="10249" y="6835"/>
                </a:lnTo>
                <a:lnTo>
                  <a:pt x="9224" y="7689"/>
                </a:lnTo>
                <a:lnTo>
                  <a:pt x="8199" y="7689"/>
                </a:lnTo>
                <a:lnTo>
                  <a:pt x="9224" y="8543"/>
                </a:lnTo>
                <a:lnTo>
                  <a:pt x="7174" y="7689"/>
                </a:lnTo>
                <a:lnTo>
                  <a:pt x="1024" y="7689"/>
                </a:lnTo>
                <a:lnTo>
                  <a:pt x="0" y="6835"/>
                </a:lnTo>
                <a:lnTo>
                  <a:pt x="0" y="854"/>
                </a:lnTo>
                <a:lnTo>
                  <a:pt x="1024" y="0"/>
                </a:lnTo>
                <a:lnTo>
                  <a:pt x="9224" y="0"/>
                </a:lnTo>
                <a:lnTo>
                  <a:pt x="10249" y="854"/>
                </a:lnTo>
                <a:close/>
              </a:path>
            </a:pathLst>
          </a:custGeom>
          <a:solidFill>
            <a:srgbClr val="063de8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996840" y="1638360"/>
            <a:ext cx="3525840" cy="21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, either click the ‘Information’ button to find out further details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for a fax form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click the Fax ‘Page’ icon opposi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6138720" y="1430280"/>
            <a:ext cx="1640160" cy="522360"/>
            <a:chOff x="6138720" y="1430280"/>
            <a:chExt cx="1640160" cy="522360"/>
          </a:xfrm>
        </p:grpSpPr>
        <p:sp>
          <p:nvSpPr>
            <p:cNvPr id="620" name=""/>
            <p:cNvSpPr/>
            <p:nvPr/>
          </p:nvSpPr>
          <p:spPr>
            <a:xfrm>
              <a:off x="6143760" y="1430280"/>
              <a:ext cx="1635120" cy="52236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6138720" y="1471680"/>
              <a:ext cx="1639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6288120" y="2365200"/>
            <a:ext cx="1353960" cy="1528920"/>
          </a:xfrm>
          <a:prstGeom prst="roundRect">
            <a:avLst/>
          </a:prstGeom>
          <a:solidFill>
            <a:srgbClr val="fcfeb9"/>
          </a:solidFill>
          <a:ln w="38160">
            <a:solidFill>
              <a:srgbClr val="618ffd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6280200" y="4268880"/>
            <a:ext cx="1353960" cy="522360"/>
            <a:chOff x="6280200" y="4268880"/>
            <a:chExt cx="1353960" cy="522360"/>
          </a:xfrm>
        </p:grpSpPr>
        <p:sp>
          <p:nvSpPr>
            <p:cNvPr id="624" name=""/>
            <p:cNvSpPr/>
            <p:nvPr/>
          </p:nvSpPr>
          <p:spPr>
            <a:xfrm>
              <a:off x="6280200" y="4268880"/>
              <a:ext cx="1353960" cy="52236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6370560" y="4309920"/>
              <a:ext cx="1165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5556240" y="2573280"/>
            <a:ext cx="27147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6350040" y="3341520"/>
            <a:ext cx="1158840" cy="468720"/>
            <a:chOff x="6350040" y="3341520"/>
            <a:chExt cx="1158840" cy="468720"/>
          </a:xfrm>
        </p:grpSpPr>
        <p:sp>
          <p:nvSpPr>
            <p:cNvPr id="628" name=""/>
            <p:cNvSpPr/>
            <p:nvPr/>
          </p:nvSpPr>
          <p:spPr>
            <a:xfrm>
              <a:off x="6350040" y="3381480"/>
              <a:ext cx="1158840" cy="42876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6632640" y="334152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a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806400" y="903240"/>
            <a:ext cx="74883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receive information on any of the following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ease leave your details in our E.Mai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: TC Vi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D: 100575,16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via our Internet addre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575.1642@compuserv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846000" y="4621320"/>
            <a:ext cx="1206360" cy="666720"/>
            <a:chOff x="846000" y="4621320"/>
            <a:chExt cx="1206360" cy="666720"/>
          </a:xfrm>
        </p:grpSpPr>
        <p:sp>
          <p:nvSpPr>
            <p:cNvPr id="632" name=""/>
            <p:cNvSpPr/>
            <p:nvPr/>
          </p:nvSpPr>
          <p:spPr>
            <a:xfrm>
              <a:off x="873000" y="4621320"/>
              <a:ext cx="1158840" cy="64944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846000" y="4646520"/>
              <a:ext cx="1206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o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‘Fax’ I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3560" y="4665600"/>
            <a:ext cx="1353960" cy="522360"/>
            <a:chOff x="6883560" y="4665600"/>
            <a:chExt cx="1353960" cy="522360"/>
          </a:xfrm>
        </p:grpSpPr>
        <p:sp>
          <p:nvSpPr>
            <p:cNvPr id="635" name=""/>
            <p:cNvSpPr/>
            <p:nvPr/>
          </p:nvSpPr>
          <p:spPr>
            <a:xfrm>
              <a:off x="6883560" y="4665600"/>
              <a:ext cx="1353960" cy="52236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6973920" y="4707000"/>
              <a:ext cx="1165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>
            <a:off x="835200" y="1598760"/>
            <a:ext cx="7488360" cy="16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4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Worldwide distributors of </a:t>
            </a: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SHOWB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Future re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1333440" y="2265480"/>
            <a:ext cx="6507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a long long time ago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3506760" y="1023840"/>
            <a:ext cx="228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 fol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920880" y="1581120"/>
            <a:ext cx="745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TC Visu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rs and publishers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WB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imated 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593800" y="2654280"/>
            <a:ext cx="3959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entirely on location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 Visual’s 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3506760" y="181080"/>
            <a:ext cx="195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 Narrow"/>
                <a:ea typeface="Arial Narrow"/>
              </a:rPr>
              <a:t>SHOW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789120" y="4803840"/>
            <a:ext cx="1751040" cy="522360"/>
            <a:chOff x="789120" y="4803840"/>
            <a:chExt cx="1751040" cy="522360"/>
          </a:xfrm>
        </p:grpSpPr>
        <p:sp>
          <p:nvSpPr>
            <p:cNvPr id="644" name=""/>
            <p:cNvSpPr/>
            <p:nvPr/>
          </p:nvSpPr>
          <p:spPr>
            <a:xfrm>
              <a:off x="816120" y="4803840"/>
              <a:ext cx="1703520" cy="52236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789120" y="4861080"/>
              <a:ext cx="1751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-run sh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365640" y="4809960"/>
            <a:ext cx="2317680" cy="523800"/>
            <a:chOff x="3365640" y="4809960"/>
            <a:chExt cx="2317680" cy="523800"/>
          </a:xfrm>
        </p:grpSpPr>
        <p:sp>
          <p:nvSpPr>
            <p:cNvPr id="647" name=""/>
            <p:cNvSpPr/>
            <p:nvPr/>
          </p:nvSpPr>
          <p:spPr>
            <a:xfrm>
              <a:off x="3365640" y="4809960"/>
              <a:ext cx="2317680" cy="52380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 txBox="1"/>
            <p:nvPr/>
          </p:nvSpPr>
          <p:spPr>
            <a:xfrm>
              <a:off x="3443400" y="4884840"/>
              <a:ext cx="2133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turn To ‘Fax’ Ic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591240" y="4832280"/>
            <a:ext cx="1703520" cy="522360"/>
            <a:chOff x="6591240" y="4832280"/>
            <a:chExt cx="1703520" cy="522360"/>
          </a:xfrm>
        </p:grpSpPr>
        <p:sp>
          <p:nvSpPr>
            <p:cNvPr id="650" name=""/>
            <p:cNvSpPr/>
            <p:nvPr/>
          </p:nvSpPr>
          <p:spPr>
            <a:xfrm>
              <a:off x="6591240" y="4832280"/>
              <a:ext cx="1703520" cy="522360"/>
            </a:xfrm>
            <a:prstGeom prst="roundRect">
              <a:avLst/>
            </a:prstGeom>
            <a:solidFill>
              <a:srgbClr val="fcfeb9"/>
            </a:solidFill>
            <a:ln w="38160">
              <a:solidFill>
                <a:srgbClr val="618ffd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 txBox="1"/>
            <p:nvPr/>
          </p:nvSpPr>
          <p:spPr>
            <a:xfrm>
              <a:off x="7078680" y="4889520"/>
              <a:ext cx="72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"/>
          <p:cNvSpPr txBox="1"/>
          <p:nvPr/>
        </p:nvSpPr>
        <p:spPr>
          <a:xfrm>
            <a:off x="3506760" y="1023840"/>
            <a:ext cx="228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 you fol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20880" y="1581120"/>
            <a:ext cx="745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TC Visual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rs and publishers of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HOWB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imated Clip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593800" y="2654280"/>
            <a:ext cx="3959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 entirely on location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 Visual’s Stu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ksh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795240" y="2301840"/>
            <a:ext cx="758196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o add impact to your presentations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795240" y="1165320"/>
            <a:ext cx="758196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33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artists had to be commissioned to create new graphics for each presentation. </a:t>
            </a:r>
            <a:br>
              <a:rPr sz="3300"/>
            </a:br>
            <a:r>
              <a:rPr b="0" lang="en-US" sz="33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is was time consuming and expensive 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3276720" y="2592360"/>
            <a:ext cx="2590920" cy="28576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863640" y="1120680"/>
            <a:ext cx="7532640" cy="150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952560" y="2838600"/>
            <a:ext cx="7269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en there was Clip Art.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2070000" y="2038320"/>
            <a:ext cx="499104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1204920" y="1554120"/>
            <a:ext cx="679140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Libraries of standard pictures and icons that could be added quickly and easily to any standard presentation to make it humourous, colourful and more 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1135080" y="1635120"/>
            <a:ext cx="6902280" cy="25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36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o ... Clip Art was easy to use, uncompressed, small in file size and was widely used as the perfect enhancement to 35mm and overhead 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ayne Phelan</dc:creator>
  <dc:description/>
  <dc:language>en-US</dc:language>
  <cp:lastModifiedBy>Wayne Phelan</cp:lastModifiedBy>
  <cp:revision>0</cp:revision>
  <dc:subject>PowerPoint Enhancement</dc:subject>
  <dc:title>SHOWBIZ - Animated Clip Art</dc:title>
</cp:coreProperties>
</file>